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158413" cy="8164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09840" y="1142640"/>
            <a:ext cx="38383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7E00-39C9-4F99-8F58-E3A86F456B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509840" y="1143000"/>
            <a:ext cx="3838320" cy="3086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89AF-53C2-41D6-B268-CFE38650CF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509840" y="1143000"/>
            <a:ext cx="3838320" cy="30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038E-E6CE-4FC2-AC4F-3E5A5BF926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509840" y="1143000"/>
            <a:ext cx="3838320" cy="308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2527-E426-49BC-AF06-9DE2E4CD00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51F-FB79-4339-802E-27CB4467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487944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FD7-F607-4206-8B9F-A1B8411D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487944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87944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C71F-B74C-4D32-92B3-149CDD27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1200" y="21729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000" y="217296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487944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1200" y="487944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000" y="4879440"/>
            <a:ext cx="2821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946-639A-4495-98E6-A02F5F2E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2172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B79-9768-466E-975F-36C02B61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8A1-703B-4D35-99DB-4C7A06BD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A28-A9B3-4EA3-B681-8CDD9D18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92E-9AB3-405C-858B-CFC59D41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8400" y="434880"/>
            <a:ext cx="8763120" cy="73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36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1F6-DB50-4DC8-B03F-A4C56829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487944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CF4-EE40-4B2B-B017-E91E71A8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87944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F72-B59B-4F1A-95D3-FC55CF31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2172960"/>
            <a:ext cx="4276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4879440"/>
            <a:ext cx="8763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F3E-C26B-4BD5-BC34-2A7CEA74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434880"/>
            <a:ext cx="8763120" cy="15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2172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400" y="7569360"/>
            <a:ext cx="22860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5280" y="7569360"/>
            <a:ext cx="34290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5520" y="7569360"/>
            <a:ext cx="22860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5E18-9B51-4CD7-98A8-3FD00C7109F2}" type="slidenum">
              <a:rPr b="0" lang="en-GB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"/>
          <p:cNvSpPr/>
          <p:nvPr/>
        </p:nvSpPr>
        <p:spPr>
          <a:xfrm>
            <a:off x="1477800" y="1504800"/>
            <a:ext cx="752796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oethe FF Clan"/>
              </a:rPr>
              <a:t>© Goethe-Institut London 20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THIS POWERPOINT IS PART OF THE TEACHING RESOURCES “DEUTSCH MIT FELIX &amp; FRANZI” DEVELOPED BY THE GOETHE-INSTITUT LONDON. THE LESSON PLANS AND ALL ACCOMPANYING MATERIALS ARE PRODUCED FOR PRIMARY SCHOOL TEACHERS OF GERMAN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WW.GOETHE.DE/FELIXUNDFRANZ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E THANK THE AUTHORS KATJA NEUMANN, NIGEL PEARSON AND EMMA WHITTLE FOR THEIR CONTRIBUTION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A THANK YOU TO BRITTA SCHELLENS AND NAOMI SCHÖNHAGEN FOR THEIR WORK WITH THE WHITEBOARD APPS AND POWERPOI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PROJECT MANAGEMENT: ROMA FRANZISKA SCHULTZ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SELECTED ILLUSTRATIONS: FRIEDERIKE SCHUHMAN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2" descr=""/>
          <p:cNvPicPr/>
          <p:nvPr/>
        </p:nvPicPr>
        <p:blipFill>
          <a:blip r:embed="rId1"/>
          <a:stretch/>
        </p:blipFill>
        <p:spPr>
          <a:xfrm>
            <a:off x="1219320" y="5418000"/>
            <a:ext cx="568008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ffd4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239760" y="100080"/>
            <a:ext cx="966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Felix and Franzi want to know how many words you can remember from last year. Say the word in German and then in English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045120" y="4241880"/>
            <a:ext cx="197352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537320" y="2984400"/>
            <a:ext cx="26258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35120" y="4344840"/>
            <a:ext cx="2363760" cy="357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243920" y="4089240"/>
            <a:ext cx="2793960" cy="3822840"/>
          </a:xfrm>
          <a:prstGeom prst="rect">
            <a:avLst/>
          </a:prstGeom>
          <a:ln w="0">
            <a:noFill/>
          </a:ln>
        </p:spPr>
      </p:pic>
      <p:sp>
        <p:nvSpPr>
          <p:cNvPr id="55" name="TextBox 9"/>
          <p:cNvSpPr/>
          <p:nvPr/>
        </p:nvSpPr>
        <p:spPr>
          <a:xfrm>
            <a:off x="136440" y="135000"/>
            <a:ext cx="1005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1717"/>
                </a:solidFill>
                <a:latin typeface="Verdana"/>
                <a:ea typeface="Verdana"/>
              </a:rPr>
              <a:t>Felix and Franzi are greeting each other. Can you guess what they are saying?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81717"/>
                </a:solidFill>
                <a:latin typeface="Verdana"/>
                <a:ea typeface="Verdana"/>
              </a:rPr>
              <a:t>Start with Franz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2209680" y="2136600"/>
            <a:ext cx="140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Calibri"/>
              </a:rPr>
              <a:t>Hallo, Kinder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5640120" y="1698480"/>
            <a:ext cx="3444840" cy="2922840"/>
            <a:chOff x="5640120" y="1698480"/>
            <a:chExt cx="3444840" cy="2922840"/>
          </a:xfrm>
        </p:grpSpPr>
        <p:sp>
          <p:nvSpPr>
            <p:cNvPr id="58" name="Freeform 43"/>
            <p:cNvSpPr/>
            <p:nvPr/>
          </p:nvSpPr>
          <p:spPr>
            <a:xfrm flipH="1">
              <a:off x="5639760" y="1698480"/>
              <a:ext cx="3444840" cy="2922840"/>
            </a:xfrm>
            <a:custGeom>
              <a:avLst/>
              <a:gdLst>
                <a:gd name="textAreaLeft" fmla="*/ -360 w 3444840"/>
                <a:gd name="textAreaRight" fmla="*/ 3444840 w 3444840"/>
                <a:gd name="textAreaTop" fmla="*/ 0 h 2922840"/>
                <a:gd name="textAreaBottom" fmla="*/ 2923200 h 2922840"/>
              </a:gdLst>
              <a:ahLst/>
              <a:rect l="textAreaLeft" t="textAreaTop" r="textAreaRight" b="textAreaBottom"/>
              <a:pathLst>
                <a:path w="2792731" h="2846071">
                  <a:moveTo>
                    <a:pt x="1660779" y="1143"/>
                  </a:moveTo>
                  <a:lnTo>
                    <a:pt x="1733169" y="4445"/>
                  </a:lnTo>
                  <a:lnTo>
                    <a:pt x="1804035" y="10795"/>
                  </a:lnTo>
                  <a:lnTo>
                    <a:pt x="1871345" y="19177"/>
                  </a:lnTo>
                  <a:lnTo>
                    <a:pt x="1936496" y="29464"/>
                  </a:lnTo>
                  <a:lnTo>
                    <a:pt x="1999234" y="42418"/>
                  </a:lnTo>
                  <a:lnTo>
                    <a:pt x="2059178" y="57150"/>
                  </a:lnTo>
                  <a:lnTo>
                    <a:pt x="2116455" y="73533"/>
                  </a:lnTo>
                  <a:lnTo>
                    <a:pt x="2171319" y="92202"/>
                  </a:lnTo>
                  <a:lnTo>
                    <a:pt x="2224024" y="113157"/>
                  </a:lnTo>
                  <a:lnTo>
                    <a:pt x="2273808" y="135128"/>
                  </a:lnTo>
                  <a:lnTo>
                    <a:pt x="2321941" y="159004"/>
                  </a:lnTo>
                  <a:lnTo>
                    <a:pt x="2366518" y="184404"/>
                  </a:lnTo>
                  <a:lnTo>
                    <a:pt x="2409698" y="211074"/>
                  </a:lnTo>
                  <a:lnTo>
                    <a:pt x="2449830" y="239395"/>
                  </a:lnTo>
                  <a:lnTo>
                    <a:pt x="2488311" y="269367"/>
                  </a:lnTo>
                  <a:lnTo>
                    <a:pt x="2523998" y="299847"/>
                  </a:lnTo>
                  <a:lnTo>
                    <a:pt x="2557399" y="332232"/>
                  </a:lnTo>
                  <a:lnTo>
                    <a:pt x="2588514" y="365633"/>
                  </a:lnTo>
                  <a:lnTo>
                    <a:pt x="2617470" y="399415"/>
                  </a:lnTo>
                  <a:lnTo>
                    <a:pt x="2643886" y="435102"/>
                  </a:lnTo>
                  <a:lnTo>
                    <a:pt x="2668270" y="470789"/>
                  </a:lnTo>
                  <a:lnTo>
                    <a:pt x="2710307" y="545338"/>
                  </a:lnTo>
                  <a:lnTo>
                    <a:pt x="2743708" y="622300"/>
                  </a:lnTo>
                  <a:lnTo>
                    <a:pt x="2768473" y="701040"/>
                  </a:lnTo>
                  <a:lnTo>
                    <a:pt x="2784856" y="781431"/>
                  </a:lnTo>
                  <a:lnTo>
                    <a:pt x="2792730" y="862330"/>
                  </a:lnTo>
                  <a:lnTo>
                    <a:pt x="2792730" y="942721"/>
                  </a:lnTo>
                  <a:lnTo>
                    <a:pt x="2784856" y="1022985"/>
                  </a:lnTo>
                  <a:lnTo>
                    <a:pt x="2769108" y="1101725"/>
                  </a:lnTo>
                  <a:lnTo>
                    <a:pt x="2745867" y="1178687"/>
                  </a:lnTo>
                  <a:lnTo>
                    <a:pt x="2715387" y="1253363"/>
                  </a:lnTo>
                  <a:lnTo>
                    <a:pt x="2677287" y="1324610"/>
                  </a:lnTo>
                  <a:lnTo>
                    <a:pt x="2632075" y="1391920"/>
                  </a:lnTo>
                  <a:lnTo>
                    <a:pt x="2580005" y="1454658"/>
                  </a:lnTo>
                  <a:lnTo>
                    <a:pt x="2520569" y="1512951"/>
                  </a:lnTo>
                  <a:lnTo>
                    <a:pt x="2488946" y="1539621"/>
                  </a:lnTo>
                  <a:lnTo>
                    <a:pt x="2454910" y="1565021"/>
                  </a:lnTo>
                  <a:lnTo>
                    <a:pt x="2419858" y="1588897"/>
                  </a:lnTo>
                  <a:lnTo>
                    <a:pt x="2383028" y="1611503"/>
                  </a:lnTo>
                  <a:lnTo>
                    <a:pt x="2344547" y="1631823"/>
                  </a:lnTo>
                  <a:lnTo>
                    <a:pt x="2304415" y="1650492"/>
                  </a:lnTo>
                  <a:lnTo>
                    <a:pt x="2263013" y="1666875"/>
                  </a:lnTo>
                  <a:lnTo>
                    <a:pt x="2220087" y="1681607"/>
                  </a:lnTo>
                  <a:lnTo>
                    <a:pt x="2175256" y="1694688"/>
                  </a:lnTo>
                  <a:lnTo>
                    <a:pt x="2128901" y="1704848"/>
                  </a:lnTo>
                  <a:lnTo>
                    <a:pt x="2081403" y="1713230"/>
                  </a:lnTo>
                  <a:lnTo>
                    <a:pt x="2032635" y="1719580"/>
                  </a:lnTo>
                  <a:lnTo>
                    <a:pt x="1982216" y="1723009"/>
                  </a:lnTo>
                  <a:lnTo>
                    <a:pt x="1930146" y="1724660"/>
                  </a:lnTo>
                  <a:lnTo>
                    <a:pt x="1935226" y="1806067"/>
                  </a:lnTo>
                  <a:lnTo>
                    <a:pt x="1931289" y="1889252"/>
                  </a:lnTo>
                  <a:lnTo>
                    <a:pt x="1919478" y="1973580"/>
                  </a:lnTo>
                  <a:lnTo>
                    <a:pt x="1900174" y="2057273"/>
                  </a:lnTo>
                  <a:lnTo>
                    <a:pt x="1874139" y="2141093"/>
                  </a:lnTo>
                  <a:lnTo>
                    <a:pt x="1841373" y="2223770"/>
                  </a:lnTo>
                  <a:lnTo>
                    <a:pt x="1802892" y="2304034"/>
                  </a:lnTo>
                  <a:lnTo>
                    <a:pt x="1759204" y="2382139"/>
                  </a:lnTo>
                  <a:lnTo>
                    <a:pt x="1710563" y="2457323"/>
                  </a:lnTo>
                  <a:lnTo>
                    <a:pt x="1658493" y="2529205"/>
                  </a:lnTo>
                  <a:lnTo>
                    <a:pt x="1602486" y="2596515"/>
                  </a:lnTo>
                  <a:lnTo>
                    <a:pt x="1543558" y="2658745"/>
                  </a:lnTo>
                  <a:lnTo>
                    <a:pt x="1482471" y="2715387"/>
                  </a:lnTo>
                  <a:lnTo>
                    <a:pt x="1419606" y="2765679"/>
                  </a:lnTo>
                  <a:lnTo>
                    <a:pt x="1355598" y="2809875"/>
                  </a:lnTo>
                  <a:lnTo>
                    <a:pt x="1291082" y="2846070"/>
                  </a:lnTo>
                  <a:lnTo>
                    <a:pt x="1352804" y="2752217"/>
                  </a:lnTo>
                  <a:lnTo>
                    <a:pt x="1408430" y="2663317"/>
                  </a:lnTo>
                  <a:lnTo>
                    <a:pt x="1458087" y="2580259"/>
                  </a:lnTo>
                  <a:lnTo>
                    <a:pt x="1501648" y="2500884"/>
                  </a:lnTo>
                  <a:lnTo>
                    <a:pt x="1539748" y="2426335"/>
                  </a:lnTo>
                  <a:lnTo>
                    <a:pt x="1571879" y="2354834"/>
                  </a:lnTo>
                  <a:lnTo>
                    <a:pt x="1597914" y="2286508"/>
                  </a:lnTo>
                  <a:lnTo>
                    <a:pt x="1618996" y="2220849"/>
                  </a:lnTo>
                  <a:lnTo>
                    <a:pt x="1633601" y="2156968"/>
                  </a:lnTo>
                  <a:lnTo>
                    <a:pt x="1643253" y="2094738"/>
                  </a:lnTo>
                  <a:lnTo>
                    <a:pt x="1647190" y="2033651"/>
                  </a:lnTo>
                  <a:lnTo>
                    <a:pt x="1645412" y="1972437"/>
                  </a:lnTo>
                  <a:lnTo>
                    <a:pt x="1638681" y="1911858"/>
                  </a:lnTo>
                  <a:lnTo>
                    <a:pt x="1626235" y="1850771"/>
                  </a:lnTo>
                  <a:lnTo>
                    <a:pt x="1608201" y="1787906"/>
                  </a:lnTo>
                  <a:lnTo>
                    <a:pt x="1584960" y="1724660"/>
                  </a:lnTo>
                  <a:lnTo>
                    <a:pt x="1485773" y="1723009"/>
                  </a:lnTo>
                  <a:lnTo>
                    <a:pt x="1389634" y="1719580"/>
                  </a:lnTo>
                  <a:lnTo>
                    <a:pt x="1296797" y="1713230"/>
                  </a:lnTo>
                  <a:lnTo>
                    <a:pt x="1206754" y="1704848"/>
                  </a:lnTo>
                  <a:lnTo>
                    <a:pt x="1120775" y="1694688"/>
                  </a:lnTo>
                  <a:lnTo>
                    <a:pt x="1037590" y="1681607"/>
                  </a:lnTo>
                  <a:lnTo>
                    <a:pt x="957707" y="1666875"/>
                  </a:lnTo>
                  <a:lnTo>
                    <a:pt x="880745" y="1650492"/>
                  </a:lnTo>
                  <a:lnTo>
                    <a:pt x="807847" y="1631823"/>
                  </a:lnTo>
                  <a:lnTo>
                    <a:pt x="737616" y="1611503"/>
                  </a:lnTo>
                  <a:lnTo>
                    <a:pt x="670814" y="1588897"/>
                  </a:lnTo>
                  <a:lnTo>
                    <a:pt x="606806" y="1565021"/>
                  </a:lnTo>
                  <a:lnTo>
                    <a:pt x="546227" y="1539621"/>
                  </a:lnTo>
                  <a:lnTo>
                    <a:pt x="489077" y="1512951"/>
                  </a:lnTo>
                  <a:lnTo>
                    <a:pt x="434721" y="1484630"/>
                  </a:lnTo>
                  <a:lnTo>
                    <a:pt x="384302" y="1454658"/>
                  </a:lnTo>
                  <a:lnTo>
                    <a:pt x="336169" y="1424178"/>
                  </a:lnTo>
                  <a:lnTo>
                    <a:pt x="291973" y="1391920"/>
                  </a:lnTo>
                  <a:lnTo>
                    <a:pt x="250825" y="1358646"/>
                  </a:lnTo>
                  <a:lnTo>
                    <a:pt x="212344" y="1324610"/>
                  </a:lnTo>
                  <a:lnTo>
                    <a:pt x="177165" y="1288923"/>
                  </a:lnTo>
                  <a:lnTo>
                    <a:pt x="145542" y="1253363"/>
                  </a:lnTo>
                  <a:lnTo>
                    <a:pt x="117221" y="1216533"/>
                  </a:lnTo>
                  <a:lnTo>
                    <a:pt x="91694" y="1178687"/>
                  </a:lnTo>
                  <a:lnTo>
                    <a:pt x="69088" y="1140714"/>
                  </a:lnTo>
                  <a:lnTo>
                    <a:pt x="49911" y="1101725"/>
                  </a:lnTo>
                  <a:lnTo>
                    <a:pt x="34036" y="1062609"/>
                  </a:lnTo>
                  <a:lnTo>
                    <a:pt x="20955" y="1022985"/>
                  </a:lnTo>
                  <a:lnTo>
                    <a:pt x="10795" y="982853"/>
                  </a:lnTo>
                  <a:lnTo>
                    <a:pt x="4064" y="942721"/>
                  </a:lnTo>
                  <a:lnTo>
                    <a:pt x="635" y="902462"/>
                  </a:lnTo>
                  <a:lnTo>
                    <a:pt x="0" y="862330"/>
                  </a:lnTo>
                  <a:lnTo>
                    <a:pt x="2286" y="821563"/>
                  </a:lnTo>
                  <a:lnTo>
                    <a:pt x="7874" y="781431"/>
                  </a:lnTo>
                  <a:lnTo>
                    <a:pt x="17018" y="741172"/>
                  </a:lnTo>
                  <a:lnTo>
                    <a:pt x="28956" y="701040"/>
                  </a:lnTo>
                  <a:lnTo>
                    <a:pt x="43561" y="661416"/>
                  </a:lnTo>
                  <a:lnTo>
                    <a:pt x="61722" y="622300"/>
                  </a:lnTo>
                  <a:lnTo>
                    <a:pt x="82677" y="583438"/>
                  </a:lnTo>
                  <a:lnTo>
                    <a:pt x="106426" y="545338"/>
                  </a:lnTo>
                  <a:lnTo>
                    <a:pt x="133604" y="508127"/>
                  </a:lnTo>
                  <a:lnTo>
                    <a:pt x="164084" y="470789"/>
                  </a:lnTo>
                  <a:lnTo>
                    <a:pt x="196977" y="435102"/>
                  </a:lnTo>
                  <a:lnTo>
                    <a:pt x="233172" y="399415"/>
                  </a:lnTo>
                  <a:lnTo>
                    <a:pt x="272288" y="365633"/>
                  </a:lnTo>
                  <a:lnTo>
                    <a:pt x="314833" y="332232"/>
                  </a:lnTo>
                  <a:lnTo>
                    <a:pt x="360045" y="299847"/>
                  </a:lnTo>
                  <a:lnTo>
                    <a:pt x="408051" y="269367"/>
                  </a:lnTo>
                  <a:lnTo>
                    <a:pt x="459613" y="239395"/>
                  </a:lnTo>
                  <a:lnTo>
                    <a:pt x="513969" y="211074"/>
                  </a:lnTo>
                  <a:lnTo>
                    <a:pt x="571246" y="184404"/>
                  </a:lnTo>
                  <a:lnTo>
                    <a:pt x="631698" y="159004"/>
                  </a:lnTo>
                  <a:lnTo>
                    <a:pt x="694563" y="135128"/>
                  </a:lnTo>
                  <a:lnTo>
                    <a:pt x="760730" y="113157"/>
                  </a:lnTo>
                  <a:lnTo>
                    <a:pt x="829818" y="92202"/>
                  </a:lnTo>
                  <a:lnTo>
                    <a:pt x="902335" y="73533"/>
                  </a:lnTo>
                  <a:lnTo>
                    <a:pt x="977519" y="57150"/>
                  </a:lnTo>
                  <a:lnTo>
                    <a:pt x="1055116" y="42418"/>
                  </a:lnTo>
                  <a:lnTo>
                    <a:pt x="1136142" y="29464"/>
                  </a:lnTo>
                  <a:lnTo>
                    <a:pt x="1220470" y="19177"/>
                  </a:lnTo>
                  <a:lnTo>
                    <a:pt x="1306957" y="10795"/>
                  </a:lnTo>
                  <a:lnTo>
                    <a:pt x="1397000" y="4445"/>
                  </a:lnTo>
                  <a:lnTo>
                    <a:pt x="1489202" y="1143"/>
                  </a:lnTo>
                  <a:lnTo>
                    <a:pt x="1584960" y="0"/>
                  </a:lnTo>
                  <a:lnTo>
                    <a:pt x="1660779" y="11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 flipH="1">
              <a:off x="5639760" y="1698480"/>
              <a:ext cx="3444840" cy="2922840"/>
            </a:xfrm>
            <a:custGeom>
              <a:avLst/>
              <a:gdLst>
                <a:gd name="textAreaLeft" fmla="*/ -360 w 3444840"/>
                <a:gd name="textAreaRight" fmla="*/ 3444840 w 3444840"/>
                <a:gd name="textAreaTop" fmla="*/ 0 h 2922840"/>
                <a:gd name="textAreaBottom" fmla="*/ 2923200 h 2922840"/>
              </a:gdLst>
              <a:ahLst/>
              <a:rect l="textAreaLeft" t="textAreaTop" r="textAreaRight" b="textAreaBottom"/>
              <a:pathLst>
                <a:path w="2793085" h="2845935">
                  <a:moveTo>
                    <a:pt x="1584495" y="0"/>
                  </a:moveTo>
                  <a:lnTo>
                    <a:pt x="1488647" y="1497"/>
                  </a:lnTo>
                  <a:lnTo>
                    <a:pt x="1397291" y="4491"/>
                  </a:lnTo>
                  <a:lnTo>
                    <a:pt x="1307433" y="10480"/>
                  </a:lnTo>
                  <a:lnTo>
                    <a:pt x="1220570" y="19462"/>
                  </a:lnTo>
                  <a:lnTo>
                    <a:pt x="1136703" y="29942"/>
                  </a:lnTo>
                  <a:lnTo>
                    <a:pt x="1055831" y="41918"/>
                  </a:lnTo>
                  <a:lnTo>
                    <a:pt x="977954" y="56889"/>
                  </a:lnTo>
                  <a:lnTo>
                    <a:pt x="903072" y="73357"/>
                  </a:lnTo>
                  <a:lnTo>
                    <a:pt x="829689" y="92819"/>
                  </a:lnTo>
                  <a:lnTo>
                    <a:pt x="760797" y="113778"/>
                  </a:lnTo>
                  <a:lnTo>
                    <a:pt x="694902" y="134737"/>
                  </a:lnTo>
                  <a:lnTo>
                    <a:pt x="632001" y="158690"/>
                  </a:lnTo>
                  <a:lnTo>
                    <a:pt x="570598" y="184140"/>
                  </a:lnTo>
                  <a:lnTo>
                    <a:pt x="513688" y="211087"/>
                  </a:lnTo>
                  <a:lnTo>
                    <a:pt x="459773" y="239532"/>
                  </a:lnTo>
                  <a:lnTo>
                    <a:pt x="408854" y="269473"/>
                  </a:lnTo>
                  <a:lnTo>
                    <a:pt x="359432" y="299414"/>
                  </a:lnTo>
                  <a:lnTo>
                    <a:pt x="314503" y="332350"/>
                  </a:lnTo>
                  <a:lnTo>
                    <a:pt x="272569" y="365286"/>
                  </a:lnTo>
                  <a:lnTo>
                    <a:pt x="233631" y="399718"/>
                  </a:lnTo>
                  <a:lnTo>
                    <a:pt x="197687" y="435648"/>
                  </a:lnTo>
                  <a:lnTo>
                    <a:pt x="164739" y="471578"/>
                  </a:lnTo>
                  <a:lnTo>
                    <a:pt x="133289" y="507508"/>
                  </a:lnTo>
                  <a:lnTo>
                    <a:pt x="106331" y="544934"/>
                  </a:lnTo>
                  <a:lnTo>
                    <a:pt x="82370" y="583858"/>
                  </a:lnTo>
                  <a:lnTo>
                    <a:pt x="61402" y="622782"/>
                  </a:lnTo>
                  <a:lnTo>
                    <a:pt x="43431" y="661706"/>
                  </a:lnTo>
                  <a:lnTo>
                    <a:pt x="28455" y="700630"/>
                  </a:lnTo>
                  <a:lnTo>
                    <a:pt x="16473" y="741051"/>
                  </a:lnTo>
                  <a:lnTo>
                    <a:pt x="7488" y="781471"/>
                  </a:lnTo>
                  <a:lnTo>
                    <a:pt x="2995" y="821893"/>
                  </a:lnTo>
                  <a:lnTo>
                    <a:pt x="0" y="862313"/>
                  </a:lnTo>
                  <a:lnTo>
                    <a:pt x="0" y="902735"/>
                  </a:lnTo>
                  <a:lnTo>
                    <a:pt x="4493" y="943155"/>
                  </a:lnTo>
                  <a:lnTo>
                    <a:pt x="10483" y="983576"/>
                  </a:lnTo>
                  <a:lnTo>
                    <a:pt x="20967" y="1022500"/>
                  </a:lnTo>
                  <a:lnTo>
                    <a:pt x="34446" y="1062921"/>
                  </a:lnTo>
                  <a:lnTo>
                    <a:pt x="49422" y="1101845"/>
                  </a:lnTo>
                  <a:lnTo>
                    <a:pt x="68891" y="1140769"/>
                  </a:lnTo>
                  <a:lnTo>
                    <a:pt x="91356" y="1178196"/>
                  </a:lnTo>
                  <a:lnTo>
                    <a:pt x="116815" y="1217120"/>
                  </a:lnTo>
                  <a:lnTo>
                    <a:pt x="145270" y="1253049"/>
                  </a:lnTo>
                  <a:lnTo>
                    <a:pt x="176721" y="1288979"/>
                  </a:lnTo>
                  <a:lnTo>
                    <a:pt x="212664" y="1324909"/>
                  </a:lnTo>
                  <a:lnTo>
                    <a:pt x="251602" y="1359342"/>
                  </a:lnTo>
                  <a:lnTo>
                    <a:pt x="292038" y="1392277"/>
                  </a:lnTo>
                  <a:lnTo>
                    <a:pt x="336967" y="1423716"/>
                  </a:lnTo>
                  <a:lnTo>
                    <a:pt x="384891" y="1455154"/>
                  </a:lnTo>
                  <a:lnTo>
                    <a:pt x="434313" y="1485095"/>
                  </a:lnTo>
                  <a:lnTo>
                    <a:pt x="489726" y="1513540"/>
                  </a:lnTo>
                  <a:lnTo>
                    <a:pt x="546636" y="1538990"/>
                  </a:lnTo>
                  <a:lnTo>
                    <a:pt x="606541" y="1564440"/>
                  </a:lnTo>
                  <a:lnTo>
                    <a:pt x="670939" y="1588394"/>
                  </a:lnTo>
                  <a:lnTo>
                    <a:pt x="738333" y="1610850"/>
                  </a:lnTo>
                  <a:lnTo>
                    <a:pt x="807224" y="1631809"/>
                  </a:lnTo>
                  <a:lnTo>
                    <a:pt x="880608" y="1651270"/>
                  </a:lnTo>
                  <a:lnTo>
                    <a:pt x="958485" y="1666241"/>
                  </a:lnTo>
                  <a:lnTo>
                    <a:pt x="1037859" y="1681212"/>
                  </a:lnTo>
                  <a:lnTo>
                    <a:pt x="1120229" y="1694686"/>
                  </a:lnTo>
                  <a:lnTo>
                    <a:pt x="1207092" y="1705165"/>
                  </a:lnTo>
                  <a:lnTo>
                    <a:pt x="1296949" y="1712650"/>
                  </a:lnTo>
                  <a:lnTo>
                    <a:pt x="1389803" y="1720136"/>
                  </a:lnTo>
                  <a:lnTo>
                    <a:pt x="1485651" y="1723130"/>
                  </a:lnTo>
                  <a:lnTo>
                    <a:pt x="1584495" y="1724627"/>
                  </a:lnTo>
                  <a:lnTo>
                    <a:pt x="1608457" y="1787504"/>
                  </a:lnTo>
                  <a:lnTo>
                    <a:pt x="1626429" y="1850381"/>
                  </a:lnTo>
                  <a:lnTo>
                    <a:pt x="1638410" y="1911761"/>
                  </a:lnTo>
                  <a:lnTo>
                    <a:pt x="1645898" y="1973141"/>
                  </a:lnTo>
                  <a:lnTo>
                    <a:pt x="1647395" y="2033024"/>
                  </a:lnTo>
                  <a:lnTo>
                    <a:pt x="1642903" y="2094404"/>
                  </a:lnTo>
                  <a:lnTo>
                    <a:pt x="1633917" y="2157281"/>
                  </a:lnTo>
                  <a:lnTo>
                    <a:pt x="1618941" y="2221655"/>
                  </a:lnTo>
                  <a:lnTo>
                    <a:pt x="1597974" y="2286029"/>
                  </a:lnTo>
                  <a:lnTo>
                    <a:pt x="1572514" y="2354894"/>
                  </a:lnTo>
                  <a:lnTo>
                    <a:pt x="1539566" y="2426754"/>
                  </a:lnTo>
                  <a:lnTo>
                    <a:pt x="1502125" y="2501608"/>
                  </a:lnTo>
                  <a:lnTo>
                    <a:pt x="1458694" y="2580952"/>
                  </a:lnTo>
                  <a:lnTo>
                    <a:pt x="1407774" y="2663291"/>
                  </a:lnTo>
                  <a:lnTo>
                    <a:pt x="1352362" y="2751618"/>
                  </a:lnTo>
                  <a:lnTo>
                    <a:pt x="1290959" y="2845934"/>
                  </a:lnTo>
                  <a:lnTo>
                    <a:pt x="1355357" y="2810004"/>
                  </a:lnTo>
                  <a:lnTo>
                    <a:pt x="1419755" y="2765092"/>
                  </a:lnTo>
                  <a:lnTo>
                    <a:pt x="1482656" y="2715688"/>
                  </a:lnTo>
                  <a:lnTo>
                    <a:pt x="1544059" y="2658800"/>
                  </a:lnTo>
                  <a:lnTo>
                    <a:pt x="1602466" y="2595923"/>
                  </a:lnTo>
                  <a:lnTo>
                    <a:pt x="1657879" y="2528554"/>
                  </a:lnTo>
                  <a:lnTo>
                    <a:pt x="1710296" y="2456695"/>
                  </a:lnTo>
                  <a:lnTo>
                    <a:pt x="1759718" y="2381842"/>
                  </a:lnTo>
                  <a:lnTo>
                    <a:pt x="1803150" y="2303994"/>
                  </a:lnTo>
                  <a:lnTo>
                    <a:pt x="1842087" y="2223152"/>
                  </a:lnTo>
                  <a:lnTo>
                    <a:pt x="1873538" y="2140813"/>
                  </a:lnTo>
                  <a:lnTo>
                    <a:pt x="1900496" y="2056977"/>
                  </a:lnTo>
                  <a:lnTo>
                    <a:pt x="1919965" y="1973141"/>
                  </a:lnTo>
                  <a:lnTo>
                    <a:pt x="1931946" y="1889305"/>
                  </a:lnTo>
                  <a:lnTo>
                    <a:pt x="1934941" y="1805469"/>
                  </a:lnTo>
                  <a:lnTo>
                    <a:pt x="1930448" y="1724627"/>
                  </a:lnTo>
                  <a:lnTo>
                    <a:pt x="1982865" y="1723130"/>
                  </a:lnTo>
                  <a:lnTo>
                    <a:pt x="2032287" y="1720136"/>
                  </a:lnTo>
                  <a:lnTo>
                    <a:pt x="2081709" y="1712650"/>
                  </a:lnTo>
                  <a:lnTo>
                    <a:pt x="2128136" y="1705165"/>
                  </a:lnTo>
                  <a:lnTo>
                    <a:pt x="2176060" y="1694686"/>
                  </a:lnTo>
                  <a:lnTo>
                    <a:pt x="2219491" y="1681212"/>
                  </a:lnTo>
                  <a:lnTo>
                    <a:pt x="2262922" y="1666241"/>
                  </a:lnTo>
                  <a:lnTo>
                    <a:pt x="2304856" y="1651270"/>
                  </a:lnTo>
                  <a:lnTo>
                    <a:pt x="2343795" y="1631809"/>
                  </a:lnTo>
                  <a:lnTo>
                    <a:pt x="2382734" y="1610850"/>
                  </a:lnTo>
                  <a:lnTo>
                    <a:pt x="2420174" y="1588394"/>
                  </a:lnTo>
                  <a:lnTo>
                    <a:pt x="2454619" y="1564440"/>
                  </a:lnTo>
                  <a:lnTo>
                    <a:pt x="2489065" y="1538990"/>
                  </a:lnTo>
                  <a:lnTo>
                    <a:pt x="2520516" y="1513540"/>
                  </a:lnTo>
                  <a:lnTo>
                    <a:pt x="2580421" y="1455154"/>
                  </a:lnTo>
                  <a:lnTo>
                    <a:pt x="2632838" y="1392277"/>
                  </a:lnTo>
                  <a:lnTo>
                    <a:pt x="2677767" y="1324909"/>
                  </a:lnTo>
                  <a:lnTo>
                    <a:pt x="2715208" y="1253049"/>
                  </a:lnTo>
                  <a:lnTo>
                    <a:pt x="2745160" y="1178196"/>
                  </a:lnTo>
                  <a:lnTo>
                    <a:pt x="2769122" y="1101845"/>
                  </a:lnTo>
                  <a:lnTo>
                    <a:pt x="2784098" y="1022500"/>
                  </a:lnTo>
                  <a:lnTo>
                    <a:pt x="2793084" y="943155"/>
                  </a:lnTo>
                  <a:lnTo>
                    <a:pt x="2793084" y="862313"/>
                  </a:lnTo>
                  <a:lnTo>
                    <a:pt x="2784098" y="781471"/>
                  </a:lnTo>
                  <a:lnTo>
                    <a:pt x="2769122" y="700630"/>
                  </a:lnTo>
                  <a:lnTo>
                    <a:pt x="2743663" y="622782"/>
                  </a:lnTo>
                  <a:lnTo>
                    <a:pt x="2710715" y="544934"/>
                  </a:lnTo>
                  <a:lnTo>
                    <a:pt x="2668781" y="471578"/>
                  </a:lnTo>
                  <a:lnTo>
                    <a:pt x="2643321" y="435648"/>
                  </a:lnTo>
                  <a:lnTo>
                    <a:pt x="2617862" y="399718"/>
                  </a:lnTo>
                  <a:lnTo>
                    <a:pt x="2587909" y="365286"/>
                  </a:lnTo>
                  <a:lnTo>
                    <a:pt x="2557956" y="332350"/>
                  </a:lnTo>
                  <a:lnTo>
                    <a:pt x="2523511" y="299414"/>
                  </a:lnTo>
                  <a:lnTo>
                    <a:pt x="2487567" y="269473"/>
                  </a:lnTo>
                  <a:lnTo>
                    <a:pt x="2450126" y="239532"/>
                  </a:lnTo>
                  <a:lnTo>
                    <a:pt x="2409690" y="211087"/>
                  </a:lnTo>
                  <a:lnTo>
                    <a:pt x="2366259" y="184140"/>
                  </a:lnTo>
                  <a:lnTo>
                    <a:pt x="2321330" y="158690"/>
                  </a:lnTo>
                  <a:lnTo>
                    <a:pt x="2273406" y="134737"/>
                  </a:lnTo>
                  <a:lnTo>
                    <a:pt x="2223984" y="113778"/>
                  </a:lnTo>
                  <a:lnTo>
                    <a:pt x="2171567" y="92819"/>
                  </a:lnTo>
                  <a:lnTo>
                    <a:pt x="2116154" y="73357"/>
                  </a:lnTo>
                  <a:lnTo>
                    <a:pt x="2059245" y="56889"/>
                  </a:lnTo>
                  <a:lnTo>
                    <a:pt x="1999339" y="41918"/>
                  </a:lnTo>
                  <a:lnTo>
                    <a:pt x="1936438" y="29942"/>
                  </a:lnTo>
                  <a:lnTo>
                    <a:pt x="1872041" y="19462"/>
                  </a:lnTo>
                  <a:lnTo>
                    <a:pt x="1804647" y="10480"/>
                  </a:lnTo>
                  <a:lnTo>
                    <a:pt x="1732761" y="4491"/>
                  </a:lnTo>
                  <a:lnTo>
                    <a:pt x="1660875" y="1497"/>
                  </a:lnTo>
                  <a:lnTo>
                    <a:pt x="1584495" y="0"/>
                  </a:lnTo>
                  <a:close/>
                </a:path>
              </a:pathLst>
            </a:custGeom>
            <a:noFill/>
            <a:ln w="298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1855800" y="2014560"/>
            <a:ext cx="3335400" cy="3552840"/>
            <a:chOff x="1855800" y="2014560"/>
            <a:chExt cx="3335400" cy="3552840"/>
          </a:xfrm>
        </p:grpSpPr>
        <p:sp>
          <p:nvSpPr>
            <p:cNvPr id="61" name="Freeform 40"/>
            <p:cNvSpPr/>
            <p:nvPr/>
          </p:nvSpPr>
          <p:spPr>
            <a:xfrm>
              <a:off x="1855800" y="2014560"/>
              <a:ext cx="3335400" cy="3552840"/>
            </a:xfrm>
            <a:custGeom>
              <a:avLst/>
              <a:gdLst>
                <a:gd name="textAreaLeft" fmla="*/ 0 w 3335400"/>
                <a:gd name="textAreaRight" fmla="*/ 3335760 w 3335400"/>
                <a:gd name="textAreaTop" fmla="*/ 0 h 3552840"/>
                <a:gd name="textAreaBottom" fmla="*/ 3553200 h 3552840"/>
              </a:gdLst>
              <a:ahLst/>
              <a:rect l="textAreaLeft" t="textAreaTop" r="textAreaRight" b="textAreaBottom"/>
              <a:pathLst>
                <a:path w="2792731" h="2846071">
                  <a:moveTo>
                    <a:pt x="1660779" y="1143"/>
                  </a:moveTo>
                  <a:lnTo>
                    <a:pt x="1733169" y="4445"/>
                  </a:lnTo>
                  <a:lnTo>
                    <a:pt x="1804035" y="10795"/>
                  </a:lnTo>
                  <a:lnTo>
                    <a:pt x="1871345" y="19177"/>
                  </a:lnTo>
                  <a:lnTo>
                    <a:pt x="1936496" y="29464"/>
                  </a:lnTo>
                  <a:lnTo>
                    <a:pt x="1999234" y="42418"/>
                  </a:lnTo>
                  <a:lnTo>
                    <a:pt x="2059178" y="57150"/>
                  </a:lnTo>
                  <a:lnTo>
                    <a:pt x="2116455" y="73533"/>
                  </a:lnTo>
                  <a:lnTo>
                    <a:pt x="2171319" y="92202"/>
                  </a:lnTo>
                  <a:lnTo>
                    <a:pt x="2224024" y="113157"/>
                  </a:lnTo>
                  <a:lnTo>
                    <a:pt x="2273808" y="135128"/>
                  </a:lnTo>
                  <a:lnTo>
                    <a:pt x="2321941" y="159004"/>
                  </a:lnTo>
                  <a:lnTo>
                    <a:pt x="2366518" y="184404"/>
                  </a:lnTo>
                  <a:lnTo>
                    <a:pt x="2409698" y="211074"/>
                  </a:lnTo>
                  <a:lnTo>
                    <a:pt x="2449830" y="239395"/>
                  </a:lnTo>
                  <a:lnTo>
                    <a:pt x="2488311" y="269367"/>
                  </a:lnTo>
                  <a:lnTo>
                    <a:pt x="2523998" y="299847"/>
                  </a:lnTo>
                  <a:lnTo>
                    <a:pt x="2557399" y="332232"/>
                  </a:lnTo>
                  <a:lnTo>
                    <a:pt x="2588514" y="365633"/>
                  </a:lnTo>
                  <a:lnTo>
                    <a:pt x="2617470" y="399415"/>
                  </a:lnTo>
                  <a:lnTo>
                    <a:pt x="2643886" y="435102"/>
                  </a:lnTo>
                  <a:lnTo>
                    <a:pt x="2668270" y="470789"/>
                  </a:lnTo>
                  <a:lnTo>
                    <a:pt x="2710307" y="545338"/>
                  </a:lnTo>
                  <a:lnTo>
                    <a:pt x="2743708" y="622300"/>
                  </a:lnTo>
                  <a:lnTo>
                    <a:pt x="2768473" y="701040"/>
                  </a:lnTo>
                  <a:lnTo>
                    <a:pt x="2784856" y="781431"/>
                  </a:lnTo>
                  <a:lnTo>
                    <a:pt x="2792730" y="862330"/>
                  </a:lnTo>
                  <a:lnTo>
                    <a:pt x="2792730" y="942721"/>
                  </a:lnTo>
                  <a:lnTo>
                    <a:pt x="2784856" y="1022985"/>
                  </a:lnTo>
                  <a:lnTo>
                    <a:pt x="2769108" y="1101725"/>
                  </a:lnTo>
                  <a:lnTo>
                    <a:pt x="2745867" y="1178687"/>
                  </a:lnTo>
                  <a:lnTo>
                    <a:pt x="2715387" y="1253363"/>
                  </a:lnTo>
                  <a:lnTo>
                    <a:pt x="2677287" y="1324610"/>
                  </a:lnTo>
                  <a:lnTo>
                    <a:pt x="2632075" y="1391920"/>
                  </a:lnTo>
                  <a:lnTo>
                    <a:pt x="2580005" y="1454658"/>
                  </a:lnTo>
                  <a:lnTo>
                    <a:pt x="2520569" y="1512951"/>
                  </a:lnTo>
                  <a:lnTo>
                    <a:pt x="2488946" y="1539621"/>
                  </a:lnTo>
                  <a:lnTo>
                    <a:pt x="2454910" y="1565021"/>
                  </a:lnTo>
                  <a:lnTo>
                    <a:pt x="2419858" y="1588897"/>
                  </a:lnTo>
                  <a:lnTo>
                    <a:pt x="2383028" y="1611503"/>
                  </a:lnTo>
                  <a:lnTo>
                    <a:pt x="2344547" y="1631823"/>
                  </a:lnTo>
                  <a:lnTo>
                    <a:pt x="2304415" y="1650492"/>
                  </a:lnTo>
                  <a:lnTo>
                    <a:pt x="2263013" y="1666875"/>
                  </a:lnTo>
                  <a:lnTo>
                    <a:pt x="2220087" y="1681607"/>
                  </a:lnTo>
                  <a:lnTo>
                    <a:pt x="2175256" y="1694688"/>
                  </a:lnTo>
                  <a:lnTo>
                    <a:pt x="2128901" y="1704848"/>
                  </a:lnTo>
                  <a:lnTo>
                    <a:pt x="2081403" y="1713230"/>
                  </a:lnTo>
                  <a:lnTo>
                    <a:pt x="2032635" y="1719580"/>
                  </a:lnTo>
                  <a:lnTo>
                    <a:pt x="1982216" y="1723009"/>
                  </a:lnTo>
                  <a:lnTo>
                    <a:pt x="1930146" y="1724660"/>
                  </a:lnTo>
                  <a:lnTo>
                    <a:pt x="1935226" y="1806067"/>
                  </a:lnTo>
                  <a:lnTo>
                    <a:pt x="1931289" y="1889252"/>
                  </a:lnTo>
                  <a:lnTo>
                    <a:pt x="1919478" y="1973580"/>
                  </a:lnTo>
                  <a:lnTo>
                    <a:pt x="1900174" y="2057273"/>
                  </a:lnTo>
                  <a:lnTo>
                    <a:pt x="1874139" y="2141093"/>
                  </a:lnTo>
                  <a:lnTo>
                    <a:pt x="1841373" y="2223770"/>
                  </a:lnTo>
                  <a:lnTo>
                    <a:pt x="1802892" y="2304034"/>
                  </a:lnTo>
                  <a:lnTo>
                    <a:pt x="1759204" y="2382139"/>
                  </a:lnTo>
                  <a:lnTo>
                    <a:pt x="1710563" y="2457323"/>
                  </a:lnTo>
                  <a:lnTo>
                    <a:pt x="1658493" y="2529205"/>
                  </a:lnTo>
                  <a:lnTo>
                    <a:pt x="1602486" y="2596515"/>
                  </a:lnTo>
                  <a:lnTo>
                    <a:pt x="1543558" y="2658745"/>
                  </a:lnTo>
                  <a:lnTo>
                    <a:pt x="1482471" y="2715387"/>
                  </a:lnTo>
                  <a:lnTo>
                    <a:pt x="1419606" y="2765679"/>
                  </a:lnTo>
                  <a:lnTo>
                    <a:pt x="1355598" y="2809875"/>
                  </a:lnTo>
                  <a:lnTo>
                    <a:pt x="1291082" y="2846070"/>
                  </a:lnTo>
                  <a:lnTo>
                    <a:pt x="1352804" y="2752217"/>
                  </a:lnTo>
                  <a:lnTo>
                    <a:pt x="1408430" y="2663317"/>
                  </a:lnTo>
                  <a:lnTo>
                    <a:pt x="1458087" y="2580259"/>
                  </a:lnTo>
                  <a:lnTo>
                    <a:pt x="1501648" y="2500884"/>
                  </a:lnTo>
                  <a:lnTo>
                    <a:pt x="1539748" y="2426335"/>
                  </a:lnTo>
                  <a:lnTo>
                    <a:pt x="1571879" y="2354834"/>
                  </a:lnTo>
                  <a:lnTo>
                    <a:pt x="1597914" y="2286508"/>
                  </a:lnTo>
                  <a:lnTo>
                    <a:pt x="1618996" y="2220849"/>
                  </a:lnTo>
                  <a:lnTo>
                    <a:pt x="1633601" y="2156968"/>
                  </a:lnTo>
                  <a:lnTo>
                    <a:pt x="1643253" y="2094738"/>
                  </a:lnTo>
                  <a:lnTo>
                    <a:pt x="1647190" y="2033651"/>
                  </a:lnTo>
                  <a:lnTo>
                    <a:pt x="1645412" y="1972437"/>
                  </a:lnTo>
                  <a:lnTo>
                    <a:pt x="1638681" y="1911858"/>
                  </a:lnTo>
                  <a:lnTo>
                    <a:pt x="1626235" y="1850771"/>
                  </a:lnTo>
                  <a:lnTo>
                    <a:pt x="1608201" y="1787906"/>
                  </a:lnTo>
                  <a:lnTo>
                    <a:pt x="1584960" y="1724660"/>
                  </a:lnTo>
                  <a:lnTo>
                    <a:pt x="1485773" y="1723009"/>
                  </a:lnTo>
                  <a:lnTo>
                    <a:pt x="1389634" y="1719580"/>
                  </a:lnTo>
                  <a:lnTo>
                    <a:pt x="1296797" y="1713230"/>
                  </a:lnTo>
                  <a:lnTo>
                    <a:pt x="1206754" y="1704848"/>
                  </a:lnTo>
                  <a:lnTo>
                    <a:pt x="1120775" y="1694688"/>
                  </a:lnTo>
                  <a:lnTo>
                    <a:pt x="1037590" y="1681607"/>
                  </a:lnTo>
                  <a:lnTo>
                    <a:pt x="957707" y="1666875"/>
                  </a:lnTo>
                  <a:lnTo>
                    <a:pt x="880745" y="1650492"/>
                  </a:lnTo>
                  <a:lnTo>
                    <a:pt x="807847" y="1631823"/>
                  </a:lnTo>
                  <a:lnTo>
                    <a:pt x="737616" y="1611503"/>
                  </a:lnTo>
                  <a:lnTo>
                    <a:pt x="670814" y="1588897"/>
                  </a:lnTo>
                  <a:lnTo>
                    <a:pt x="606806" y="1565021"/>
                  </a:lnTo>
                  <a:lnTo>
                    <a:pt x="546227" y="1539621"/>
                  </a:lnTo>
                  <a:lnTo>
                    <a:pt x="489077" y="1512951"/>
                  </a:lnTo>
                  <a:lnTo>
                    <a:pt x="434721" y="1484630"/>
                  </a:lnTo>
                  <a:lnTo>
                    <a:pt x="384302" y="1454658"/>
                  </a:lnTo>
                  <a:lnTo>
                    <a:pt x="336169" y="1424178"/>
                  </a:lnTo>
                  <a:lnTo>
                    <a:pt x="291973" y="1391920"/>
                  </a:lnTo>
                  <a:lnTo>
                    <a:pt x="250825" y="1358646"/>
                  </a:lnTo>
                  <a:lnTo>
                    <a:pt x="212344" y="1324610"/>
                  </a:lnTo>
                  <a:lnTo>
                    <a:pt x="177165" y="1288923"/>
                  </a:lnTo>
                  <a:lnTo>
                    <a:pt x="145542" y="1253363"/>
                  </a:lnTo>
                  <a:lnTo>
                    <a:pt x="117221" y="1216533"/>
                  </a:lnTo>
                  <a:lnTo>
                    <a:pt x="91694" y="1178687"/>
                  </a:lnTo>
                  <a:lnTo>
                    <a:pt x="69088" y="1140714"/>
                  </a:lnTo>
                  <a:lnTo>
                    <a:pt x="49911" y="1101725"/>
                  </a:lnTo>
                  <a:lnTo>
                    <a:pt x="34036" y="1062609"/>
                  </a:lnTo>
                  <a:lnTo>
                    <a:pt x="20955" y="1022985"/>
                  </a:lnTo>
                  <a:lnTo>
                    <a:pt x="10795" y="982853"/>
                  </a:lnTo>
                  <a:lnTo>
                    <a:pt x="4064" y="942721"/>
                  </a:lnTo>
                  <a:lnTo>
                    <a:pt x="635" y="902462"/>
                  </a:lnTo>
                  <a:lnTo>
                    <a:pt x="0" y="862330"/>
                  </a:lnTo>
                  <a:lnTo>
                    <a:pt x="2286" y="821563"/>
                  </a:lnTo>
                  <a:lnTo>
                    <a:pt x="7874" y="781431"/>
                  </a:lnTo>
                  <a:lnTo>
                    <a:pt x="17018" y="741172"/>
                  </a:lnTo>
                  <a:lnTo>
                    <a:pt x="28956" y="701040"/>
                  </a:lnTo>
                  <a:lnTo>
                    <a:pt x="43561" y="661416"/>
                  </a:lnTo>
                  <a:lnTo>
                    <a:pt x="61722" y="622300"/>
                  </a:lnTo>
                  <a:lnTo>
                    <a:pt x="82677" y="583438"/>
                  </a:lnTo>
                  <a:lnTo>
                    <a:pt x="106426" y="545338"/>
                  </a:lnTo>
                  <a:lnTo>
                    <a:pt x="133604" y="508127"/>
                  </a:lnTo>
                  <a:lnTo>
                    <a:pt x="164084" y="470789"/>
                  </a:lnTo>
                  <a:lnTo>
                    <a:pt x="196977" y="435102"/>
                  </a:lnTo>
                  <a:lnTo>
                    <a:pt x="233172" y="399415"/>
                  </a:lnTo>
                  <a:lnTo>
                    <a:pt x="272288" y="365633"/>
                  </a:lnTo>
                  <a:lnTo>
                    <a:pt x="314833" y="332232"/>
                  </a:lnTo>
                  <a:lnTo>
                    <a:pt x="360045" y="299847"/>
                  </a:lnTo>
                  <a:lnTo>
                    <a:pt x="408051" y="269367"/>
                  </a:lnTo>
                  <a:lnTo>
                    <a:pt x="459613" y="239395"/>
                  </a:lnTo>
                  <a:lnTo>
                    <a:pt x="513969" y="211074"/>
                  </a:lnTo>
                  <a:lnTo>
                    <a:pt x="571246" y="184404"/>
                  </a:lnTo>
                  <a:lnTo>
                    <a:pt x="631698" y="159004"/>
                  </a:lnTo>
                  <a:lnTo>
                    <a:pt x="694563" y="135128"/>
                  </a:lnTo>
                  <a:lnTo>
                    <a:pt x="760730" y="113157"/>
                  </a:lnTo>
                  <a:lnTo>
                    <a:pt x="829818" y="92202"/>
                  </a:lnTo>
                  <a:lnTo>
                    <a:pt x="902335" y="73533"/>
                  </a:lnTo>
                  <a:lnTo>
                    <a:pt x="977519" y="57150"/>
                  </a:lnTo>
                  <a:lnTo>
                    <a:pt x="1055116" y="42418"/>
                  </a:lnTo>
                  <a:lnTo>
                    <a:pt x="1136142" y="29464"/>
                  </a:lnTo>
                  <a:lnTo>
                    <a:pt x="1220470" y="19177"/>
                  </a:lnTo>
                  <a:lnTo>
                    <a:pt x="1306957" y="10795"/>
                  </a:lnTo>
                  <a:lnTo>
                    <a:pt x="1397000" y="4445"/>
                  </a:lnTo>
                  <a:lnTo>
                    <a:pt x="1489202" y="1143"/>
                  </a:lnTo>
                  <a:lnTo>
                    <a:pt x="1584960" y="0"/>
                  </a:lnTo>
                  <a:lnTo>
                    <a:pt x="1660779" y="11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41"/>
            <p:cNvSpPr/>
            <p:nvPr/>
          </p:nvSpPr>
          <p:spPr>
            <a:xfrm>
              <a:off x="1855800" y="2014560"/>
              <a:ext cx="3335400" cy="3552840"/>
            </a:xfrm>
            <a:custGeom>
              <a:avLst/>
              <a:gdLst>
                <a:gd name="textAreaLeft" fmla="*/ 0 w 3335400"/>
                <a:gd name="textAreaRight" fmla="*/ 3335760 w 3335400"/>
                <a:gd name="textAreaTop" fmla="*/ 0 h 3552840"/>
                <a:gd name="textAreaBottom" fmla="*/ 3553200 h 3552840"/>
              </a:gdLst>
              <a:ahLst/>
              <a:rect l="textAreaLeft" t="textAreaTop" r="textAreaRight" b="textAreaBottom"/>
              <a:pathLst>
                <a:path w="2793085" h="2845935">
                  <a:moveTo>
                    <a:pt x="1584495" y="0"/>
                  </a:moveTo>
                  <a:lnTo>
                    <a:pt x="1488647" y="1497"/>
                  </a:lnTo>
                  <a:lnTo>
                    <a:pt x="1397291" y="4491"/>
                  </a:lnTo>
                  <a:lnTo>
                    <a:pt x="1307433" y="10480"/>
                  </a:lnTo>
                  <a:lnTo>
                    <a:pt x="1220570" y="19462"/>
                  </a:lnTo>
                  <a:lnTo>
                    <a:pt x="1136703" y="29942"/>
                  </a:lnTo>
                  <a:lnTo>
                    <a:pt x="1055831" y="41918"/>
                  </a:lnTo>
                  <a:lnTo>
                    <a:pt x="977954" y="56889"/>
                  </a:lnTo>
                  <a:lnTo>
                    <a:pt x="903072" y="73357"/>
                  </a:lnTo>
                  <a:lnTo>
                    <a:pt x="829688" y="92819"/>
                  </a:lnTo>
                  <a:lnTo>
                    <a:pt x="760797" y="113778"/>
                  </a:lnTo>
                  <a:lnTo>
                    <a:pt x="694901" y="134737"/>
                  </a:lnTo>
                  <a:lnTo>
                    <a:pt x="632001" y="158690"/>
                  </a:lnTo>
                  <a:lnTo>
                    <a:pt x="570598" y="184140"/>
                  </a:lnTo>
                  <a:lnTo>
                    <a:pt x="513688" y="211087"/>
                  </a:lnTo>
                  <a:lnTo>
                    <a:pt x="459773" y="239532"/>
                  </a:lnTo>
                  <a:lnTo>
                    <a:pt x="408854" y="269473"/>
                  </a:lnTo>
                  <a:lnTo>
                    <a:pt x="359432" y="299414"/>
                  </a:lnTo>
                  <a:lnTo>
                    <a:pt x="314503" y="332350"/>
                  </a:lnTo>
                  <a:lnTo>
                    <a:pt x="272569" y="365286"/>
                  </a:lnTo>
                  <a:lnTo>
                    <a:pt x="233631" y="399718"/>
                  </a:lnTo>
                  <a:lnTo>
                    <a:pt x="197687" y="435648"/>
                  </a:lnTo>
                  <a:lnTo>
                    <a:pt x="164739" y="471578"/>
                  </a:lnTo>
                  <a:lnTo>
                    <a:pt x="133289" y="507508"/>
                  </a:lnTo>
                  <a:lnTo>
                    <a:pt x="106332" y="544934"/>
                  </a:lnTo>
                  <a:lnTo>
                    <a:pt x="82370" y="583858"/>
                  </a:lnTo>
                  <a:lnTo>
                    <a:pt x="61403" y="622782"/>
                  </a:lnTo>
                  <a:lnTo>
                    <a:pt x="43431" y="661706"/>
                  </a:lnTo>
                  <a:lnTo>
                    <a:pt x="28455" y="700630"/>
                  </a:lnTo>
                  <a:lnTo>
                    <a:pt x="16474" y="741051"/>
                  </a:lnTo>
                  <a:lnTo>
                    <a:pt x="7488" y="781472"/>
                  </a:lnTo>
                  <a:lnTo>
                    <a:pt x="2995" y="821893"/>
                  </a:lnTo>
                  <a:lnTo>
                    <a:pt x="0" y="862313"/>
                  </a:lnTo>
                  <a:lnTo>
                    <a:pt x="0" y="902735"/>
                  </a:lnTo>
                  <a:lnTo>
                    <a:pt x="4493" y="943155"/>
                  </a:lnTo>
                  <a:lnTo>
                    <a:pt x="10483" y="983576"/>
                  </a:lnTo>
                  <a:lnTo>
                    <a:pt x="20967" y="1022500"/>
                  </a:lnTo>
                  <a:lnTo>
                    <a:pt x="34445" y="1062921"/>
                  </a:lnTo>
                  <a:lnTo>
                    <a:pt x="49422" y="1101845"/>
                  </a:lnTo>
                  <a:lnTo>
                    <a:pt x="68891" y="1140769"/>
                  </a:lnTo>
                  <a:lnTo>
                    <a:pt x="91356" y="1178196"/>
                  </a:lnTo>
                  <a:lnTo>
                    <a:pt x="116815" y="1217120"/>
                  </a:lnTo>
                  <a:lnTo>
                    <a:pt x="145270" y="1253049"/>
                  </a:lnTo>
                  <a:lnTo>
                    <a:pt x="176721" y="1288979"/>
                  </a:lnTo>
                  <a:lnTo>
                    <a:pt x="212664" y="1324909"/>
                  </a:lnTo>
                  <a:lnTo>
                    <a:pt x="251602" y="1359342"/>
                  </a:lnTo>
                  <a:lnTo>
                    <a:pt x="292038" y="1392277"/>
                  </a:lnTo>
                  <a:lnTo>
                    <a:pt x="336967" y="1423716"/>
                  </a:lnTo>
                  <a:lnTo>
                    <a:pt x="384892" y="1455154"/>
                  </a:lnTo>
                  <a:lnTo>
                    <a:pt x="434313" y="1485095"/>
                  </a:lnTo>
                  <a:lnTo>
                    <a:pt x="489726" y="1513540"/>
                  </a:lnTo>
                  <a:lnTo>
                    <a:pt x="546636" y="1538990"/>
                  </a:lnTo>
                  <a:lnTo>
                    <a:pt x="606541" y="1564440"/>
                  </a:lnTo>
                  <a:lnTo>
                    <a:pt x="670939" y="1588394"/>
                  </a:lnTo>
                  <a:lnTo>
                    <a:pt x="738333" y="1610850"/>
                  </a:lnTo>
                  <a:lnTo>
                    <a:pt x="807224" y="1631809"/>
                  </a:lnTo>
                  <a:lnTo>
                    <a:pt x="880608" y="1651270"/>
                  </a:lnTo>
                  <a:lnTo>
                    <a:pt x="958485" y="1666241"/>
                  </a:lnTo>
                  <a:lnTo>
                    <a:pt x="1037859" y="1681212"/>
                  </a:lnTo>
                  <a:lnTo>
                    <a:pt x="1120229" y="1694686"/>
                  </a:lnTo>
                  <a:lnTo>
                    <a:pt x="1207092" y="1705165"/>
                  </a:lnTo>
                  <a:lnTo>
                    <a:pt x="1296949" y="1712650"/>
                  </a:lnTo>
                  <a:lnTo>
                    <a:pt x="1389803" y="1720136"/>
                  </a:lnTo>
                  <a:lnTo>
                    <a:pt x="1485651" y="1723130"/>
                  </a:lnTo>
                  <a:lnTo>
                    <a:pt x="1584495" y="1724627"/>
                  </a:lnTo>
                  <a:lnTo>
                    <a:pt x="1608457" y="1787504"/>
                  </a:lnTo>
                  <a:lnTo>
                    <a:pt x="1626429" y="1850381"/>
                  </a:lnTo>
                  <a:lnTo>
                    <a:pt x="1638410" y="1911761"/>
                  </a:lnTo>
                  <a:lnTo>
                    <a:pt x="1645898" y="1973141"/>
                  </a:lnTo>
                  <a:lnTo>
                    <a:pt x="1647395" y="2033024"/>
                  </a:lnTo>
                  <a:lnTo>
                    <a:pt x="1642903" y="2094404"/>
                  </a:lnTo>
                  <a:lnTo>
                    <a:pt x="1633917" y="2157281"/>
                  </a:lnTo>
                  <a:lnTo>
                    <a:pt x="1618941" y="2221655"/>
                  </a:lnTo>
                  <a:lnTo>
                    <a:pt x="1597974" y="2286029"/>
                  </a:lnTo>
                  <a:lnTo>
                    <a:pt x="1572514" y="2354894"/>
                  </a:lnTo>
                  <a:lnTo>
                    <a:pt x="1539566" y="2426754"/>
                  </a:lnTo>
                  <a:lnTo>
                    <a:pt x="1502125" y="2501608"/>
                  </a:lnTo>
                  <a:lnTo>
                    <a:pt x="1458694" y="2580952"/>
                  </a:lnTo>
                  <a:lnTo>
                    <a:pt x="1407774" y="2663291"/>
                  </a:lnTo>
                  <a:lnTo>
                    <a:pt x="1352362" y="2751618"/>
                  </a:lnTo>
                  <a:lnTo>
                    <a:pt x="1290959" y="2845934"/>
                  </a:lnTo>
                  <a:lnTo>
                    <a:pt x="1355357" y="2810004"/>
                  </a:lnTo>
                  <a:lnTo>
                    <a:pt x="1419756" y="2765092"/>
                  </a:lnTo>
                  <a:lnTo>
                    <a:pt x="1482656" y="2715688"/>
                  </a:lnTo>
                  <a:lnTo>
                    <a:pt x="1544059" y="2658800"/>
                  </a:lnTo>
                  <a:lnTo>
                    <a:pt x="1602466" y="2595923"/>
                  </a:lnTo>
                  <a:lnTo>
                    <a:pt x="1657879" y="2528554"/>
                  </a:lnTo>
                  <a:lnTo>
                    <a:pt x="1710296" y="2456695"/>
                  </a:lnTo>
                  <a:lnTo>
                    <a:pt x="1759718" y="2381842"/>
                  </a:lnTo>
                  <a:lnTo>
                    <a:pt x="1803150" y="2303994"/>
                  </a:lnTo>
                  <a:lnTo>
                    <a:pt x="1842088" y="2223152"/>
                  </a:lnTo>
                  <a:lnTo>
                    <a:pt x="1873538" y="2140813"/>
                  </a:lnTo>
                  <a:lnTo>
                    <a:pt x="1900496" y="2056977"/>
                  </a:lnTo>
                  <a:lnTo>
                    <a:pt x="1919965" y="1973141"/>
                  </a:lnTo>
                  <a:lnTo>
                    <a:pt x="1931946" y="1889305"/>
                  </a:lnTo>
                  <a:lnTo>
                    <a:pt x="1934941" y="1805469"/>
                  </a:lnTo>
                  <a:lnTo>
                    <a:pt x="1930448" y="1724627"/>
                  </a:lnTo>
                  <a:lnTo>
                    <a:pt x="1982865" y="1723130"/>
                  </a:lnTo>
                  <a:lnTo>
                    <a:pt x="2032287" y="1720136"/>
                  </a:lnTo>
                  <a:lnTo>
                    <a:pt x="2081709" y="1712650"/>
                  </a:lnTo>
                  <a:lnTo>
                    <a:pt x="2128136" y="1705165"/>
                  </a:lnTo>
                  <a:lnTo>
                    <a:pt x="2176060" y="1694686"/>
                  </a:lnTo>
                  <a:lnTo>
                    <a:pt x="2219491" y="1681212"/>
                  </a:lnTo>
                  <a:lnTo>
                    <a:pt x="2262923" y="1666241"/>
                  </a:lnTo>
                  <a:lnTo>
                    <a:pt x="2304856" y="1651270"/>
                  </a:lnTo>
                  <a:lnTo>
                    <a:pt x="2343795" y="1631809"/>
                  </a:lnTo>
                  <a:lnTo>
                    <a:pt x="2382734" y="1610850"/>
                  </a:lnTo>
                  <a:lnTo>
                    <a:pt x="2420174" y="1588394"/>
                  </a:lnTo>
                  <a:lnTo>
                    <a:pt x="2454619" y="1564440"/>
                  </a:lnTo>
                  <a:lnTo>
                    <a:pt x="2489065" y="1538990"/>
                  </a:lnTo>
                  <a:lnTo>
                    <a:pt x="2520515" y="1513540"/>
                  </a:lnTo>
                  <a:lnTo>
                    <a:pt x="2580421" y="1455154"/>
                  </a:lnTo>
                  <a:lnTo>
                    <a:pt x="2632838" y="1392277"/>
                  </a:lnTo>
                  <a:lnTo>
                    <a:pt x="2677767" y="1324909"/>
                  </a:lnTo>
                  <a:lnTo>
                    <a:pt x="2715208" y="1253049"/>
                  </a:lnTo>
                  <a:lnTo>
                    <a:pt x="2745160" y="1178196"/>
                  </a:lnTo>
                  <a:lnTo>
                    <a:pt x="2769122" y="1101845"/>
                  </a:lnTo>
                  <a:lnTo>
                    <a:pt x="2784098" y="1022500"/>
                  </a:lnTo>
                  <a:lnTo>
                    <a:pt x="2793084" y="943155"/>
                  </a:lnTo>
                  <a:lnTo>
                    <a:pt x="2793084" y="862313"/>
                  </a:lnTo>
                  <a:lnTo>
                    <a:pt x="2784098" y="781472"/>
                  </a:lnTo>
                  <a:lnTo>
                    <a:pt x="2769122" y="700630"/>
                  </a:lnTo>
                  <a:lnTo>
                    <a:pt x="2743663" y="622782"/>
                  </a:lnTo>
                  <a:lnTo>
                    <a:pt x="2710715" y="544934"/>
                  </a:lnTo>
                  <a:lnTo>
                    <a:pt x="2668781" y="471578"/>
                  </a:lnTo>
                  <a:lnTo>
                    <a:pt x="2643321" y="435648"/>
                  </a:lnTo>
                  <a:lnTo>
                    <a:pt x="2617861" y="399718"/>
                  </a:lnTo>
                  <a:lnTo>
                    <a:pt x="2587909" y="365286"/>
                  </a:lnTo>
                  <a:lnTo>
                    <a:pt x="2557956" y="332350"/>
                  </a:lnTo>
                  <a:lnTo>
                    <a:pt x="2523511" y="299414"/>
                  </a:lnTo>
                  <a:lnTo>
                    <a:pt x="2487567" y="269473"/>
                  </a:lnTo>
                  <a:lnTo>
                    <a:pt x="2450127" y="239532"/>
                  </a:lnTo>
                  <a:lnTo>
                    <a:pt x="2409690" y="211087"/>
                  </a:lnTo>
                  <a:lnTo>
                    <a:pt x="2366259" y="184140"/>
                  </a:lnTo>
                  <a:lnTo>
                    <a:pt x="2321330" y="158690"/>
                  </a:lnTo>
                  <a:lnTo>
                    <a:pt x="2273406" y="134737"/>
                  </a:lnTo>
                  <a:lnTo>
                    <a:pt x="2223984" y="113778"/>
                  </a:lnTo>
                  <a:lnTo>
                    <a:pt x="2171567" y="92819"/>
                  </a:lnTo>
                  <a:lnTo>
                    <a:pt x="2116154" y="73357"/>
                  </a:lnTo>
                  <a:lnTo>
                    <a:pt x="2059245" y="56889"/>
                  </a:lnTo>
                  <a:lnTo>
                    <a:pt x="1999339" y="41918"/>
                  </a:lnTo>
                  <a:lnTo>
                    <a:pt x="1936439" y="29942"/>
                  </a:lnTo>
                  <a:lnTo>
                    <a:pt x="1872041" y="19462"/>
                  </a:lnTo>
                  <a:lnTo>
                    <a:pt x="1804647" y="10480"/>
                  </a:lnTo>
                  <a:lnTo>
                    <a:pt x="1732761" y="4491"/>
                  </a:lnTo>
                  <a:lnTo>
                    <a:pt x="1660875" y="1497"/>
                  </a:lnTo>
                  <a:lnTo>
                    <a:pt x="1584495" y="0"/>
                  </a:lnTo>
                  <a:close/>
                </a:path>
              </a:pathLst>
            </a:custGeom>
            <a:noFill/>
            <a:ln w="298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7"/>
          <p:cNvSpPr/>
          <p:nvPr/>
        </p:nvSpPr>
        <p:spPr>
          <a:xfrm>
            <a:off x="5921280" y="2516040"/>
            <a:ext cx="30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1717"/>
                </a:solidFill>
                <a:latin typeface="Calibri"/>
              </a:rPr>
              <a:t>Hallo, grüß dich Felix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2376360" y="2690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Guten Tag, Franzi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6067440" y="25160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1717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181717"/>
                </a:solidFill>
                <a:latin typeface="Calibri"/>
              </a:rPr>
              <a:t>Wie geht’s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006640" y="2668680"/>
            <a:ext cx="33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Calibri"/>
              </a:rPr>
              <a:t>Es geht mir wunderbar!     Und di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6318360" y="249408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22a35"/>
                </a:solidFill>
                <a:latin typeface="Calibri"/>
              </a:rPr>
              <a:t>Danke, g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5"/>
          <p:cNvSpPr/>
          <p:nvPr/>
        </p:nvSpPr>
        <p:spPr>
          <a:xfrm>
            <a:off x="2550960" y="267984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Calibri"/>
              </a:rPr>
              <a:t>Tschüs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6"/>
          <p:cNvSpPr/>
          <p:nvPr/>
        </p:nvSpPr>
        <p:spPr>
          <a:xfrm>
            <a:off x="5867280" y="2478240"/>
            <a:ext cx="32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22a35"/>
                </a:solidFill>
                <a:latin typeface="Calibri"/>
              </a:rPr>
              <a:t>Tschüss, Felix. Bis bal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27"/>
          <p:cNvGrpSpPr/>
          <p:nvPr/>
        </p:nvGrpSpPr>
        <p:grpSpPr>
          <a:xfrm>
            <a:off x="90360" y="725400"/>
            <a:ext cx="1951200" cy="2024280"/>
            <a:chOff x="90360" y="725400"/>
            <a:chExt cx="1951200" cy="2024280"/>
          </a:xfrm>
        </p:grpSpPr>
        <p:sp>
          <p:nvSpPr>
            <p:cNvPr id="71" name="Freeform 16"/>
            <p:cNvSpPr/>
            <p:nvPr/>
          </p:nvSpPr>
          <p:spPr>
            <a:xfrm>
              <a:off x="1227240" y="1025280"/>
              <a:ext cx="446040" cy="5047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485903" h="551435">
                  <a:moveTo>
                    <a:pt x="0" y="382651"/>
                  </a:moveTo>
                  <a:lnTo>
                    <a:pt x="485902" y="0"/>
                  </a:lnTo>
                  <a:lnTo>
                    <a:pt x="168656" y="551434"/>
                  </a:lnTo>
                  <a:lnTo>
                    <a:pt x="0" y="38265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750600" y="828360"/>
              <a:ext cx="293760" cy="5763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322200" h="629540">
                  <a:moveTo>
                    <a:pt x="103124" y="629539"/>
                  </a:moveTo>
                  <a:lnTo>
                    <a:pt x="0" y="0"/>
                  </a:lnTo>
                  <a:lnTo>
                    <a:pt x="322199" y="531368"/>
                  </a:lnTo>
                  <a:lnTo>
                    <a:pt x="103124" y="629539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274320" y="1282680"/>
              <a:ext cx="558720" cy="3207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609347" h="350013">
                  <a:moveTo>
                    <a:pt x="533908" y="350012"/>
                  </a:moveTo>
                  <a:lnTo>
                    <a:pt x="0" y="0"/>
                  </a:lnTo>
                  <a:lnTo>
                    <a:pt x="609346" y="125984"/>
                  </a:lnTo>
                  <a:lnTo>
                    <a:pt x="533908" y="350012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404640" y="954000"/>
              <a:ext cx="485640" cy="5526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531242" h="604267">
                  <a:moveTo>
                    <a:pt x="347472" y="604266"/>
                  </a:moveTo>
                  <a:lnTo>
                    <a:pt x="0" y="0"/>
                  </a:lnTo>
                  <a:lnTo>
                    <a:pt x="531241" y="420497"/>
                  </a:lnTo>
                  <a:lnTo>
                    <a:pt x="347472" y="604266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90360" y="1485720"/>
              <a:ext cx="617400" cy="2491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74879" h="271908">
                  <a:moveTo>
                    <a:pt x="639572" y="271907"/>
                  </a:moveTo>
                  <a:lnTo>
                    <a:pt x="0" y="0"/>
                  </a:lnTo>
                  <a:lnTo>
                    <a:pt x="674878" y="14986"/>
                  </a:lnTo>
                  <a:lnTo>
                    <a:pt x="639572" y="271907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1424160" y="1493640"/>
              <a:ext cx="617400" cy="24768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74752" h="271908">
                  <a:moveTo>
                    <a:pt x="0" y="15113"/>
                  </a:moveTo>
                  <a:lnTo>
                    <a:pt x="674751" y="0"/>
                  </a:lnTo>
                  <a:lnTo>
                    <a:pt x="35179" y="271907"/>
                  </a:lnTo>
                  <a:lnTo>
                    <a:pt x="0" y="15113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950760" y="725400"/>
              <a:ext cx="236520" cy="6224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59335" h="679832">
                  <a:moveTo>
                    <a:pt x="0" y="679831"/>
                  </a:moveTo>
                  <a:lnTo>
                    <a:pt x="146050" y="0"/>
                  </a:lnTo>
                  <a:lnTo>
                    <a:pt x="259334" y="667258"/>
                  </a:lnTo>
                  <a:lnTo>
                    <a:pt x="0" y="67983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04640" y="1968480"/>
              <a:ext cx="485640" cy="5508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531242" h="601854">
                  <a:moveTo>
                    <a:pt x="531241" y="183769"/>
                  </a:moveTo>
                  <a:lnTo>
                    <a:pt x="0" y="601853"/>
                  </a:lnTo>
                  <a:lnTo>
                    <a:pt x="347472" y="0"/>
                  </a:lnTo>
                  <a:lnTo>
                    <a:pt x="531241" y="183769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90360" y="1739880"/>
              <a:ext cx="617400" cy="2491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74879" h="271908">
                  <a:moveTo>
                    <a:pt x="674878" y="256794"/>
                  </a:moveTo>
                  <a:lnTo>
                    <a:pt x="0" y="271907"/>
                  </a:lnTo>
                  <a:lnTo>
                    <a:pt x="639572" y="0"/>
                  </a:lnTo>
                  <a:lnTo>
                    <a:pt x="674878" y="256794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1241280" y="1960560"/>
              <a:ext cx="485640" cy="5540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54040"/>
                <a:gd name="textAreaBottom" fmla="*/ 554040 h 554040"/>
              </a:gdLst>
              <a:ahLst/>
              <a:rect l="textAreaLeft" t="textAreaTop" r="textAreaRight" b="textAreaBottom"/>
              <a:pathLst>
                <a:path w="531369" h="604267">
                  <a:moveTo>
                    <a:pt x="183896" y="0"/>
                  </a:moveTo>
                  <a:lnTo>
                    <a:pt x="531368" y="604266"/>
                  </a:lnTo>
                  <a:lnTo>
                    <a:pt x="0" y="183769"/>
                  </a:lnTo>
                  <a:lnTo>
                    <a:pt x="183896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1424160" y="1733400"/>
              <a:ext cx="617400" cy="24768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74752" h="271908">
                  <a:moveTo>
                    <a:pt x="35179" y="0"/>
                  </a:moveTo>
                  <a:lnTo>
                    <a:pt x="674751" y="271907"/>
                  </a:lnTo>
                  <a:lnTo>
                    <a:pt x="0" y="256794"/>
                  </a:lnTo>
                  <a:lnTo>
                    <a:pt x="35179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7"/>
            <p:cNvSpPr/>
            <p:nvPr/>
          </p:nvSpPr>
          <p:spPr>
            <a:xfrm>
              <a:off x="950760" y="2127240"/>
              <a:ext cx="236520" cy="62244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59335" h="679832">
                  <a:moveTo>
                    <a:pt x="259334" y="12700"/>
                  </a:moveTo>
                  <a:lnTo>
                    <a:pt x="146050" y="679831"/>
                  </a:lnTo>
                  <a:lnTo>
                    <a:pt x="0" y="0"/>
                  </a:lnTo>
                  <a:lnTo>
                    <a:pt x="259334" y="1270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1368360" y="1218960"/>
              <a:ext cx="590400" cy="40464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644526" h="443104">
                  <a:moveTo>
                    <a:pt x="0" y="206502"/>
                  </a:moveTo>
                  <a:lnTo>
                    <a:pt x="644525" y="0"/>
                  </a:lnTo>
                  <a:lnTo>
                    <a:pt x="108204" y="443103"/>
                  </a:lnTo>
                  <a:lnTo>
                    <a:pt x="0" y="206502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425600" y="1638360"/>
              <a:ext cx="569880" cy="21888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22047" h="239269">
                  <a:moveTo>
                    <a:pt x="5080" y="0"/>
                  </a:moveTo>
                  <a:lnTo>
                    <a:pt x="622046" y="85725"/>
                  </a:lnTo>
                  <a:lnTo>
                    <a:pt x="0" y="239268"/>
                  </a:lnTo>
                  <a:lnTo>
                    <a:pt x="5080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1093680" y="852120"/>
              <a:ext cx="315720" cy="55728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345060" h="609220">
                  <a:moveTo>
                    <a:pt x="0" y="536321"/>
                  </a:moveTo>
                  <a:lnTo>
                    <a:pt x="345059" y="0"/>
                  </a:lnTo>
                  <a:lnTo>
                    <a:pt x="226695" y="609219"/>
                  </a:lnTo>
                  <a:lnTo>
                    <a:pt x="0" y="53632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244080" y="1801800"/>
              <a:ext cx="542880" cy="3715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591694" h="405385">
                  <a:moveTo>
                    <a:pt x="591693" y="216535"/>
                  </a:moveTo>
                  <a:lnTo>
                    <a:pt x="0" y="405384"/>
                  </a:lnTo>
                  <a:lnTo>
                    <a:pt x="493395" y="0"/>
                  </a:lnTo>
                  <a:lnTo>
                    <a:pt x="591693" y="216535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41120" y="1595520"/>
              <a:ext cx="565200" cy="21744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16840" h="239142">
                  <a:moveTo>
                    <a:pt x="614299" y="239141"/>
                  </a:moveTo>
                  <a:lnTo>
                    <a:pt x="0" y="166116"/>
                  </a:lnTo>
                  <a:lnTo>
                    <a:pt x="616839" y="0"/>
                  </a:lnTo>
                  <a:lnTo>
                    <a:pt x="614299" y="23914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1089000" y="2019240"/>
              <a:ext cx="293760" cy="577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19787" h="632080">
                  <a:moveTo>
                    <a:pt x="216535" y="0"/>
                  </a:moveTo>
                  <a:lnTo>
                    <a:pt x="319786" y="632079"/>
                  </a:lnTo>
                  <a:lnTo>
                    <a:pt x="0" y="98171"/>
                  </a:lnTo>
                  <a:lnTo>
                    <a:pt x="216535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1298520" y="1836720"/>
              <a:ext cx="525600" cy="40644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574041" h="443231">
                  <a:moveTo>
                    <a:pt x="113284" y="0"/>
                  </a:moveTo>
                  <a:lnTo>
                    <a:pt x="574040" y="443230"/>
                  </a:lnTo>
                  <a:lnTo>
                    <a:pt x="0" y="209042"/>
                  </a:lnTo>
                  <a:lnTo>
                    <a:pt x="113284" y="0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752400" y="2011320"/>
              <a:ext cx="288720" cy="579600"/>
            </a:xfrm>
            <a:custGeom>
              <a:avLst/>
              <a:gdLst/>
              <a:ahLst/>
              <a:rect l="l" t="t" r="r" b="b"/>
              <a:pathLst>
                <a:path w="314834" h="631953">
                  <a:moveTo>
                    <a:pt x="314833" y="95631"/>
                  </a:moveTo>
                  <a:lnTo>
                    <a:pt x="0" y="631952"/>
                  </a:lnTo>
                  <a:lnTo>
                    <a:pt x="95758" y="0"/>
                  </a:lnTo>
                  <a:lnTo>
                    <a:pt x="314833" y="95631"/>
                  </a:lnTo>
                  <a:close/>
                </a:path>
              </a:pathLst>
            </a:custGeom>
            <a:solidFill>
              <a:srgbClr val="fffa4e"/>
            </a:solidFill>
            <a:ln w="12600">
              <a:solidFill>
                <a:srgbClr val="ffc2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30000" y="1276200"/>
              <a:ext cx="881280" cy="882720"/>
            </a:xfrm>
            <a:custGeom>
              <a:avLst/>
              <a:gdLst>
                <a:gd name="textAreaLeft" fmla="*/ 0 w 881280"/>
                <a:gd name="textAreaRight" fmla="*/ 881640 w 88128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961899" h="964312">
                  <a:moveTo>
                    <a:pt x="959358" y="531241"/>
                  </a:moveTo>
                  <a:lnTo>
                    <a:pt x="951738" y="579120"/>
                  </a:lnTo>
                  <a:lnTo>
                    <a:pt x="939292" y="624459"/>
                  </a:lnTo>
                  <a:lnTo>
                    <a:pt x="924179" y="669671"/>
                  </a:lnTo>
                  <a:lnTo>
                    <a:pt x="903986" y="712470"/>
                  </a:lnTo>
                  <a:lnTo>
                    <a:pt x="878840" y="750189"/>
                  </a:lnTo>
                  <a:lnTo>
                    <a:pt x="851154" y="788035"/>
                  </a:lnTo>
                  <a:lnTo>
                    <a:pt x="820928" y="823341"/>
                  </a:lnTo>
                  <a:lnTo>
                    <a:pt x="785622" y="853567"/>
                  </a:lnTo>
                  <a:lnTo>
                    <a:pt x="750443" y="881253"/>
                  </a:lnTo>
                  <a:lnTo>
                    <a:pt x="710057" y="906399"/>
                  </a:lnTo>
                  <a:lnTo>
                    <a:pt x="667258" y="926592"/>
                  </a:lnTo>
                  <a:lnTo>
                    <a:pt x="624459" y="941705"/>
                  </a:lnTo>
                  <a:lnTo>
                    <a:pt x="576707" y="954151"/>
                  </a:lnTo>
                  <a:lnTo>
                    <a:pt x="528828" y="961771"/>
                  </a:lnTo>
                  <a:lnTo>
                    <a:pt x="480949" y="964311"/>
                  </a:lnTo>
                  <a:lnTo>
                    <a:pt x="430530" y="961771"/>
                  </a:lnTo>
                  <a:lnTo>
                    <a:pt x="382778" y="954151"/>
                  </a:lnTo>
                  <a:lnTo>
                    <a:pt x="337439" y="941705"/>
                  </a:lnTo>
                  <a:lnTo>
                    <a:pt x="292100" y="926592"/>
                  </a:lnTo>
                  <a:lnTo>
                    <a:pt x="251841" y="906399"/>
                  </a:lnTo>
                  <a:lnTo>
                    <a:pt x="211582" y="881253"/>
                  </a:lnTo>
                  <a:lnTo>
                    <a:pt x="173736" y="853567"/>
                  </a:lnTo>
                  <a:lnTo>
                    <a:pt x="108331" y="788035"/>
                  </a:lnTo>
                  <a:lnTo>
                    <a:pt x="80645" y="750189"/>
                  </a:lnTo>
                  <a:lnTo>
                    <a:pt x="57912" y="712470"/>
                  </a:lnTo>
                  <a:lnTo>
                    <a:pt x="37846" y="669671"/>
                  </a:lnTo>
                  <a:lnTo>
                    <a:pt x="20193" y="624459"/>
                  </a:lnTo>
                  <a:lnTo>
                    <a:pt x="10160" y="579120"/>
                  </a:lnTo>
                  <a:lnTo>
                    <a:pt x="2540" y="531241"/>
                  </a:lnTo>
                  <a:lnTo>
                    <a:pt x="0" y="483362"/>
                  </a:lnTo>
                  <a:lnTo>
                    <a:pt x="2540" y="432943"/>
                  </a:lnTo>
                  <a:lnTo>
                    <a:pt x="10160" y="385191"/>
                  </a:lnTo>
                  <a:lnTo>
                    <a:pt x="20193" y="339852"/>
                  </a:lnTo>
                  <a:lnTo>
                    <a:pt x="37846" y="294513"/>
                  </a:lnTo>
                  <a:lnTo>
                    <a:pt x="57912" y="251714"/>
                  </a:lnTo>
                  <a:lnTo>
                    <a:pt x="80645" y="213995"/>
                  </a:lnTo>
                  <a:lnTo>
                    <a:pt x="108331" y="176149"/>
                  </a:lnTo>
                  <a:lnTo>
                    <a:pt x="173736" y="110744"/>
                  </a:lnTo>
                  <a:lnTo>
                    <a:pt x="211582" y="83058"/>
                  </a:lnTo>
                  <a:lnTo>
                    <a:pt x="292100" y="37719"/>
                  </a:lnTo>
                  <a:lnTo>
                    <a:pt x="337439" y="22606"/>
                  </a:lnTo>
                  <a:lnTo>
                    <a:pt x="382778" y="10033"/>
                  </a:lnTo>
                  <a:lnTo>
                    <a:pt x="430530" y="2413"/>
                  </a:lnTo>
                  <a:lnTo>
                    <a:pt x="480949" y="0"/>
                  </a:lnTo>
                  <a:lnTo>
                    <a:pt x="528828" y="2413"/>
                  </a:lnTo>
                  <a:lnTo>
                    <a:pt x="576707" y="10033"/>
                  </a:lnTo>
                  <a:lnTo>
                    <a:pt x="624459" y="22606"/>
                  </a:lnTo>
                  <a:lnTo>
                    <a:pt x="667258" y="37719"/>
                  </a:lnTo>
                  <a:lnTo>
                    <a:pt x="710057" y="60325"/>
                  </a:lnTo>
                  <a:lnTo>
                    <a:pt x="750443" y="83058"/>
                  </a:lnTo>
                  <a:lnTo>
                    <a:pt x="785622" y="110744"/>
                  </a:lnTo>
                  <a:lnTo>
                    <a:pt x="820928" y="140970"/>
                  </a:lnTo>
                  <a:lnTo>
                    <a:pt x="851154" y="176149"/>
                  </a:lnTo>
                  <a:lnTo>
                    <a:pt x="878840" y="213995"/>
                  </a:lnTo>
                  <a:lnTo>
                    <a:pt x="903986" y="251714"/>
                  </a:lnTo>
                  <a:lnTo>
                    <a:pt x="924179" y="294513"/>
                  </a:lnTo>
                  <a:lnTo>
                    <a:pt x="939292" y="339852"/>
                  </a:lnTo>
                  <a:lnTo>
                    <a:pt x="951738" y="385191"/>
                  </a:lnTo>
                  <a:lnTo>
                    <a:pt x="959358" y="432943"/>
                  </a:lnTo>
                  <a:lnTo>
                    <a:pt x="961898" y="483362"/>
                  </a:lnTo>
                  <a:lnTo>
                    <a:pt x="959358" y="531241"/>
                  </a:lnTo>
                  <a:close/>
                </a:path>
              </a:pathLst>
            </a:custGeom>
            <a:solidFill>
              <a:srgbClr val="fec045"/>
            </a:solidFill>
            <a:ln w="12600">
              <a:solidFill>
                <a:srgbClr val="ff7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Box 49"/>
          <p:cNvSpPr/>
          <p:nvPr/>
        </p:nvSpPr>
        <p:spPr>
          <a:xfrm>
            <a:off x="2079720" y="2786040"/>
            <a:ext cx="33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Calibri"/>
              </a:rPr>
              <a:t>Schön dich zu seh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ffd4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225360" y="3475080"/>
            <a:ext cx="2506680" cy="2333520"/>
            <a:chOff x="225360" y="3475080"/>
            <a:chExt cx="2506680" cy="2333520"/>
          </a:xfrm>
        </p:grpSpPr>
        <p:pic>
          <p:nvPicPr>
            <p:cNvPr id="94" name="Picture 2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225360" y="3475080"/>
              <a:ext cx="2506680" cy="23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" descr="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>
              <a:off x="2034000" y="4019400"/>
              <a:ext cx="666360" cy="89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TextBox 5"/>
          <p:cNvSpPr/>
          <p:nvPr/>
        </p:nvSpPr>
        <p:spPr>
          <a:xfrm>
            <a:off x="25560" y="50760"/>
            <a:ext cx="94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Verdana"/>
                <a:ea typeface="Verdana"/>
              </a:rPr>
              <a:t>Felix and Franzi are excited about getting their new phone. Franzi especially likes the calculator function. Felix wants to work out the sums in his head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Verdana"/>
                <a:ea typeface="Verdana"/>
              </a:rPr>
              <a:t>Can you solve the sums in German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7529400" y="2825640"/>
            <a:ext cx="1697040" cy="31957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3"/>
          <p:cNvGrpSpPr/>
          <p:nvPr/>
        </p:nvGrpSpPr>
        <p:grpSpPr>
          <a:xfrm>
            <a:off x="5351040" y="923760"/>
            <a:ext cx="3729240" cy="2694240"/>
            <a:chOff x="5351040" y="923760"/>
            <a:chExt cx="3729240" cy="2694240"/>
          </a:xfrm>
        </p:grpSpPr>
        <p:sp>
          <p:nvSpPr>
            <p:cNvPr id="99" name="Freeform: Shape 8"/>
            <p:cNvSpPr/>
            <p:nvPr/>
          </p:nvSpPr>
          <p:spPr>
            <a:xfrm flipH="1">
              <a:off x="5350680" y="923760"/>
              <a:ext cx="3729240" cy="2694240"/>
            </a:xfrm>
            <a:custGeom>
              <a:avLst/>
              <a:gdLst>
                <a:gd name="textAreaLeft" fmla="*/ -360 w 3729240"/>
                <a:gd name="textAreaRight" fmla="*/ 3729240 w 3729240"/>
                <a:gd name="textAreaTop" fmla="*/ 0 h 2694240"/>
                <a:gd name="textAreaBottom" fmla="*/ 2694600 h 2694240"/>
              </a:gdLst>
              <a:ahLst/>
              <a:rect l="textAreaLeft" t="textAreaTop" r="textAreaRight" b="textAreaBottom"/>
              <a:pathLst>
                <a:path w="2925954" h="3329560">
                  <a:moveTo>
                    <a:pt x="107823" y="641604"/>
                  </a:moveTo>
                  <a:lnTo>
                    <a:pt x="200025" y="507111"/>
                  </a:lnTo>
                  <a:lnTo>
                    <a:pt x="335153" y="380238"/>
                  </a:lnTo>
                  <a:lnTo>
                    <a:pt x="521970" y="250190"/>
                  </a:lnTo>
                  <a:lnTo>
                    <a:pt x="747141" y="148717"/>
                  </a:lnTo>
                  <a:lnTo>
                    <a:pt x="953897" y="84836"/>
                  </a:lnTo>
                  <a:lnTo>
                    <a:pt x="1206119" y="29845"/>
                  </a:lnTo>
                  <a:lnTo>
                    <a:pt x="1466215" y="2159"/>
                  </a:lnTo>
                  <a:lnTo>
                    <a:pt x="1674622" y="0"/>
                  </a:lnTo>
                  <a:lnTo>
                    <a:pt x="1942846" y="16002"/>
                  </a:lnTo>
                  <a:lnTo>
                    <a:pt x="2138807" y="62103"/>
                  </a:lnTo>
                  <a:lnTo>
                    <a:pt x="2365375" y="146177"/>
                  </a:lnTo>
                  <a:lnTo>
                    <a:pt x="2591308" y="300228"/>
                  </a:lnTo>
                  <a:lnTo>
                    <a:pt x="2697226" y="407543"/>
                  </a:lnTo>
                  <a:lnTo>
                    <a:pt x="2781300" y="519684"/>
                  </a:lnTo>
                  <a:lnTo>
                    <a:pt x="2848229" y="650621"/>
                  </a:lnTo>
                  <a:lnTo>
                    <a:pt x="2898775" y="800735"/>
                  </a:lnTo>
                  <a:lnTo>
                    <a:pt x="2925953" y="1009396"/>
                  </a:lnTo>
                  <a:lnTo>
                    <a:pt x="2918841" y="1180465"/>
                  </a:lnTo>
                  <a:lnTo>
                    <a:pt x="2879090" y="1386078"/>
                  </a:lnTo>
                  <a:lnTo>
                    <a:pt x="2813812" y="1535430"/>
                  </a:lnTo>
                  <a:lnTo>
                    <a:pt x="2732786" y="1663573"/>
                  </a:lnTo>
                  <a:lnTo>
                    <a:pt x="2641854" y="1765935"/>
                  </a:lnTo>
                  <a:lnTo>
                    <a:pt x="2516124" y="1878965"/>
                  </a:lnTo>
                  <a:lnTo>
                    <a:pt x="2360168" y="1955800"/>
                  </a:lnTo>
                  <a:lnTo>
                    <a:pt x="2198624" y="2001520"/>
                  </a:lnTo>
                  <a:lnTo>
                    <a:pt x="2022475" y="2018919"/>
                  </a:lnTo>
                  <a:lnTo>
                    <a:pt x="2027809" y="2202942"/>
                  </a:lnTo>
                  <a:lnTo>
                    <a:pt x="1993011" y="2390140"/>
                  </a:lnTo>
                  <a:lnTo>
                    <a:pt x="1932432" y="2596642"/>
                  </a:lnTo>
                  <a:lnTo>
                    <a:pt x="1848231" y="2772791"/>
                  </a:lnTo>
                  <a:lnTo>
                    <a:pt x="1718818" y="2986786"/>
                  </a:lnTo>
                  <a:lnTo>
                    <a:pt x="1618488" y="3109087"/>
                  </a:lnTo>
                  <a:lnTo>
                    <a:pt x="1495806" y="3226308"/>
                  </a:lnTo>
                  <a:lnTo>
                    <a:pt x="1352804" y="3329559"/>
                  </a:lnTo>
                  <a:lnTo>
                    <a:pt x="1485519" y="3097022"/>
                  </a:lnTo>
                  <a:lnTo>
                    <a:pt x="1633347" y="2793746"/>
                  </a:lnTo>
                  <a:lnTo>
                    <a:pt x="1688719" y="2622550"/>
                  </a:lnTo>
                  <a:lnTo>
                    <a:pt x="1722374" y="2442083"/>
                  </a:lnTo>
                  <a:lnTo>
                    <a:pt x="1726438" y="2293747"/>
                  </a:lnTo>
                  <a:lnTo>
                    <a:pt x="1705229" y="2162683"/>
                  </a:lnTo>
                  <a:lnTo>
                    <a:pt x="1659763" y="2019681"/>
                  </a:lnTo>
                  <a:lnTo>
                    <a:pt x="1358011" y="2004060"/>
                  </a:lnTo>
                  <a:lnTo>
                    <a:pt x="1122299" y="1973834"/>
                  </a:lnTo>
                  <a:lnTo>
                    <a:pt x="897128" y="1924558"/>
                  </a:lnTo>
                  <a:lnTo>
                    <a:pt x="738632" y="1872234"/>
                  </a:lnTo>
                  <a:lnTo>
                    <a:pt x="564769" y="1793621"/>
                  </a:lnTo>
                  <a:lnTo>
                    <a:pt x="430784" y="1725676"/>
                  </a:lnTo>
                  <a:lnTo>
                    <a:pt x="283083" y="1610360"/>
                  </a:lnTo>
                  <a:lnTo>
                    <a:pt x="129794" y="1435227"/>
                  </a:lnTo>
                  <a:lnTo>
                    <a:pt x="71755" y="1352931"/>
                  </a:lnTo>
                  <a:lnTo>
                    <a:pt x="29210" y="1261491"/>
                  </a:lnTo>
                  <a:lnTo>
                    <a:pt x="0" y="1146175"/>
                  </a:lnTo>
                  <a:lnTo>
                    <a:pt x="2794" y="1001014"/>
                  </a:lnTo>
                  <a:lnTo>
                    <a:pt x="10160" y="889762"/>
                  </a:lnTo>
                  <a:lnTo>
                    <a:pt x="52070" y="756031"/>
                  </a:lnTo>
                  <a:lnTo>
                    <a:pt x="107823" y="641604"/>
                  </a:lnTo>
                  <a:close/>
                </a:path>
              </a:pathLst>
            </a:custGeom>
            <a:solidFill>
              <a:srgbClr val="4472c4">
                <a:alpha val="1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Box 9"/>
            <p:cNvSpPr/>
            <p:nvPr/>
          </p:nvSpPr>
          <p:spPr>
            <a:xfrm>
              <a:off x="6005520" y="1550880"/>
              <a:ext cx="22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Calibri"/>
                </a:rPr>
                <a:t>Ich bin schneller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Freeform: Shape 10"/>
          <p:cNvSpPr/>
          <p:nvPr/>
        </p:nvSpPr>
        <p:spPr>
          <a:xfrm>
            <a:off x="588960" y="1487520"/>
            <a:ext cx="4011480" cy="2367000"/>
          </a:xfrm>
          <a:custGeom>
            <a:avLst/>
            <a:gdLst>
              <a:gd name="textAreaLeft" fmla="*/ 0 w 4011480"/>
              <a:gd name="textAreaRight" fmla="*/ 4011840 w 4011480"/>
              <a:gd name="textAreaTop" fmla="*/ 0 h 2367000"/>
              <a:gd name="textAreaBottom" fmla="*/ 2367360 h 2367000"/>
            </a:gdLst>
            <a:ahLst/>
            <a:rect l="textAreaLeft" t="textAreaTop" r="textAreaRight" b="textAreaBottom"/>
            <a:pathLst>
              <a:path w="3801365" h="3026157">
                <a:moveTo>
                  <a:pt x="139954" y="583311"/>
                </a:moveTo>
                <a:lnTo>
                  <a:pt x="259715" y="461137"/>
                </a:lnTo>
                <a:lnTo>
                  <a:pt x="435356" y="345694"/>
                </a:lnTo>
                <a:lnTo>
                  <a:pt x="677926" y="227457"/>
                </a:lnTo>
                <a:lnTo>
                  <a:pt x="970661" y="135255"/>
                </a:lnTo>
                <a:lnTo>
                  <a:pt x="1239393" y="77216"/>
                </a:lnTo>
                <a:lnTo>
                  <a:pt x="1566926" y="27305"/>
                </a:lnTo>
                <a:lnTo>
                  <a:pt x="1904873" y="2032"/>
                </a:lnTo>
                <a:lnTo>
                  <a:pt x="2175637" y="0"/>
                </a:lnTo>
                <a:lnTo>
                  <a:pt x="2523998" y="14732"/>
                </a:lnTo>
                <a:lnTo>
                  <a:pt x="2778633" y="56515"/>
                </a:lnTo>
                <a:lnTo>
                  <a:pt x="3072765" y="132969"/>
                </a:lnTo>
                <a:lnTo>
                  <a:pt x="3366643" y="272923"/>
                </a:lnTo>
                <a:lnTo>
                  <a:pt x="3503930" y="370586"/>
                </a:lnTo>
                <a:lnTo>
                  <a:pt x="3613277" y="472313"/>
                </a:lnTo>
                <a:lnTo>
                  <a:pt x="3700399" y="591312"/>
                </a:lnTo>
                <a:lnTo>
                  <a:pt x="3765931" y="727964"/>
                </a:lnTo>
                <a:lnTo>
                  <a:pt x="3801364" y="917448"/>
                </a:lnTo>
                <a:lnTo>
                  <a:pt x="3791966" y="1073023"/>
                </a:lnTo>
                <a:lnTo>
                  <a:pt x="3740404" y="1259840"/>
                </a:lnTo>
                <a:lnTo>
                  <a:pt x="3655568" y="1395603"/>
                </a:lnTo>
                <a:lnTo>
                  <a:pt x="3550412" y="1512062"/>
                </a:lnTo>
                <a:lnTo>
                  <a:pt x="3432302" y="1605153"/>
                </a:lnTo>
                <a:lnTo>
                  <a:pt x="3268599" y="1707769"/>
                </a:lnTo>
                <a:lnTo>
                  <a:pt x="3066161" y="1777746"/>
                </a:lnTo>
                <a:lnTo>
                  <a:pt x="2856230" y="1819021"/>
                </a:lnTo>
                <a:lnTo>
                  <a:pt x="2627630" y="1835023"/>
                </a:lnTo>
                <a:lnTo>
                  <a:pt x="2634361" y="2002155"/>
                </a:lnTo>
                <a:lnTo>
                  <a:pt x="2589149" y="2172335"/>
                </a:lnTo>
                <a:lnTo>
                  <a:pt x="2510409" y="2360168"/>
                </a:lnTo>
                <a:lnTo>
                  <a:pt x="2401062" y="2520061"/>
                </a:lnTo>
                <a:lnTo>
                  <a:pt x="2232914" y="2714625"/>
                </a:lnTo>
                <a:lnTo>
                  <a:pt x="2102739" y="2825877"/>
                </a:lnTo>
                <a:lnTo>
                  <a:pt x="1943354" y="2932430"/>
                </a:lnTo>
                <a:lnTo>
                  <a:pt x="1757426" y="3026156"/>
                </a:lnTo>
                <a:lnTo>
                  <a:pt x="1929892" y="2814828"/>
                </a:lnTo>
                <a:lnTo>
                  <a:pt x="2121916" y="2539111"/>
                </a:lnTo>
                <a:lnTo>
                  <a:pt x="2193798" y="2383663"/>
                </a:lnTo>
                <a:lnTo>
                  <a:pt x="2237613" y="2219452"/>
                </a:lnTo>
                <a:lnTo>
                  <a:pt x="2242693" y="2084705"/>
                </a:lnTo>
                <a:lnTo>
                  <a:pt x="2215261" y="1965706"/>
                </a:lnTo>
                <a:lnTo>
                  <a:pt x="2156333" y="1835785"/>
                </a:lnTo>
                <a:lnTo>
                  <a:pt x="1764284" y="1821561"/>
                </a:lnTo>
                <a:lnTo>
                  <a:pt x="1458087" y="1794002"/>
                </a:lnTo>
                <a:lnTo>
                  <a:pt x="1165352" y="1749171"/>
                </a:lnTo>
                <a:lnTo>
                  <a:pt x="959739" y="1701800"/>
                </a:lnTo>
                <a:lnTo>
                  <a:pt x="733679" y="1630299"/>
                </a:lnTo>
                <a:lnTo>
                  <a:pt x="559689" y="1568577"/>
                </a:lnTo>
                <a:lnTo>
                  <a:pt x="367665" y="1463675"/>
                </a:lnTo>
                <a:lnTo>
                  <a:pt x="168656" y="1304544"/>
                </a:lnTo>
                <a:lnTo>
                  <a:pt x="93218" y="1229868"/>
                </a:lnTo>
                <a:lnTo>
                  <a:pt x="38100" y="1146429"/>
                </a:lnTo>
                <a:lnTo>
                  <a:pt x="0" y="1041654"/>
                </a:lnTo>
                <a:lnTo>
                  <a:pt x="3683" y="909828"/>
                </a:lnTo>
                <a:lnTo>
                  <a:pt x="12954" y="808609"/>
                </a:lnTo>
                <a:lnTo>
                  <a:pt x="67691" y="687197"/>
                </a:lnTo>
                <a:lnTo>
                  <a:pt x="139954" y="583311"/>
                </a:lnTo>
                <a:close/>
              </a:path>
            </a:pathLst>
          </a:custGeom>
          <a:solidFill>
            <a:srgbClr val="4472c4">
              <a:alpha val="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974880" y="1743120"/>
            <a:ext cx="33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ix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as 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Handy ist sehr schnell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 flipH="1">
            <a:off x="1160640" y="5896080"/>
            <a:ext cx="136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725560" y="6410160"/>
            <a:ext cx="1563840" cy="43992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PLUS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03800" y="6421320"/>
          <a:ext cx="1822680" cy="517680"/>
        </p:xfrm>
        <a:graphic>
          <a:graphicData uri="http://schemas.openxmlformats.org/drawingml/2006/table">
            <a:tbl>
              <a:tblPr/>
              <a:tblGrid>
                <a:gridCol w="1822680"/>
              </a:tblGrid>
              <a:tr h="517680">
                <a:tc>
                  <a:txBody>
                    <a:bodyPr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44"/>
          <p:cNvSpPr/>
          <p:nvPr/>
        </p:nvSpPr>
        <p:spPr>
          <a:xfrm flipH="1">
            <a:off x="4682520" y="586908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5"/>
          <p:cNvSpPr/>
          <p:nvPr/>
        </p:nvSpPr>
        <p:spPr>
          <a:xfrm flipH="1">
            <a:off x="8018640" y="5886360"/>
            <a:ext cx="136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7"/>
          <p:cNvSpPr/>
          <p:nvPr/>
        </p:nvSpPr>
        <p:spPr>
          <a:xfrm flipH="1">
            <a:off x="1166040" y="591660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8"/>
          <p:cNvSpPr/>
          <p:nvPr/>
        </p:nvSpPr>
        <p:spPr>
          <a:xfrm>
            <a:off x="2732040" y="6432480"/>
            <a:ext cx="1563840" cy="43812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Minus (-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3000" y="6424560"/>
          <a:ext cx="1823760" cy="519120"/>
        </p:xfrm>
        <a:graphic>
          <a:graphicData uri="http://schemas.openxmlformats.org/drawingml/2006/table">
            <a:tbl>
              <a:tblPr/>
              <a:tblGrid>
                <a:gridCol w="18237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11" name="TextBox 50"/>
          <p:cNvSpPr/>
          <p:nvPr/>
        </p:nvSpPr>
        <p:spPr>
          <a:xfrm flipH="1">
            <a:off x="4690440" y="5889600"/>
            <a:ext cx="13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1"/>
          <p:cNvSpPr/>
          <p:nvPr/>
        </p:nvSpPr>
        <p:spPr>
          <a:xfrm flipH="1">
            <a:off x="8024040" y="590868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1"/>
          <p:cNvSpPr/>
          <p:nvPr/>
        </p:nvSpPr>
        <p:spPr>
          <a:xfrm flipH="1">
            <a:off x="1139040" y="59259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2705040" y="6442200"/>
            <a:ext cx="1563840" cy="43812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Minus (-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83280" y="6434280"/>
          <a:ext cx="1824120" cy="519120"/>
        </p:xfrm>
        <a:graphic>
          <a:graphicData uri="http://schemas.openxmlformats.org/drawingml/2006/table">
            <a:tbl>
              <a:tblPr/>
              <a:tblGrid>
                <a:gridCol w="18241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16" name="TextBox 34"/>
          <p:cNvSpPr/>
          <p:nvPr/>
        </p:nvSpPr>
        <p:spPr>
          <a:xfrm flipH="1">
            <a:off x="4663440" y="5899320"/>
            <a:ext cx="13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5"/>
          <p:cNvSpPr/>
          <p:nvPr/>
        </p:nvSpPr>
        <p:spPr>
          <a:xfrm flipH="1">
            <a:off x="7997040" y="591804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1"/>
          <p:cNvSpPr/>
          <p:nvPr/>
        </p:nvSpPr>
        <p:spPr>
          <a:xfrm flipH="1">
            <a:off x="1085040" y="590724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2651040" y="6423120"/>
            <a:ext cx="1563840" cy="43812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Plus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83280" y="6432480"/>
          <a:ext cx="1824120" cy="519120"/>
        </p:xfrm>
        <a:graphic>
          <a:graphicData uri="http://schemas.openxmlformats.org/drawingml/2006/table">
            <a:tbl>
              <a:tblPr/>
              <a:tblGrid>
                <a:gridCol w="182412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21" name="TextBox 46"/>
          <p:cNvSpPr/>
          <p:nvPr/>
        </p:nvSpPr>
        <p:spPr>
          <a:xfrm flipH="1">
            <a:off x="4609440" y="5880240"/>
            <a:ext cx="136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2"/>
          <p:cNvSpPr/>
          <p:nvPr/>
        </p:nvSpPr>
        <p:spPr>
          <a:xfrm flipH="1">
            <a:off x="7943040" y="5899320"/>
            <a:ext cx="21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53"/>
          <p:cNvSpPr/>
          <p:nvPr/>
        </p:nvSpPr>
        <p:spPr>
          <a:xfrm flipH="1">
            <a:off x="618480" y="5889600"/>
            <a:ext cx="206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4"/>
          <p:cNvSpPr/>
          <p:nvPr/>
        </p:nvSpPr>
        <p:spPr>
          <a:xfrm>
            <a:off x="2657520" y="6405480"/>
            <a:ext cx="1861920" cy="430200"/>
          </a:xfrm>
          <a:prstGeom prst="rect">
            <a:avLst/>
          </a:prstGeom>
          <a:solidFill>
            <a:srgbClr val="ffd966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0d0d"/>
                </a:solidFill>
                <a:latin typeface="Calibri"/>
              </a:rPr>
              <a:t>Plus (+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75360" y="6369120"/>
          <a:ext cx="1814400" cy="565200"/>
        </p:xfrm>
        <a:graphic>
          <a:graphicData uri="http://schemas.openxmlformats.org/drawingml/2006/table">
            <a:tbl>
              <a:tblPr/>
              <a:tblGrid>
                <a:gridCol w="1814400"/>
              </a:tblGrid>
              <a:tr h="565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760320"/>
                          <a:tab algn="l" pos="1521000"/>
                          <a:tab algn="l" pos="2281320"/>
                          <a:tab algn="l" pos="3041640"/>
                          <a:tab algn="l" pos="3801960"/>
                          <a:tab algn="l" pos="4562640"/>
                          <a:tab algn="l" pos="5322960"/>
                          <a:tab algn="l" pos="6083280"/>
                          <a:tab algn="l" pos="6843600"/>
                          <a:tab algn="l" pos="7604280"/>
                          <a:tab algn="l" pos="8364600"/>
                          <a:tab algn="l" pos="9124920"/>
                          <a:tab algn="l" pos="9885240"/>
                          <a:tab algn="l" pos="10645920"/>
                        </a:tabLst>
                      </a:pPr>
                      <a:r>
                        <a:rPr b="1" lang="en-GB" sz="2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56"/>
          <p:cNvSpPr/>
          <p:nvPr/>
        </p:nvSpPr>
        <p:spPr>
          <a:xfrm flipH="1">
            <a:off x="4688640" y="5862600"/>
            <a:ext cx="16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7"/>
          <p:cNvSpPr/>
          <p:nvPr/>
        </p:nvSpPr>
        <p:spPr>
          <a:xfrm flipH="1">
            <a:off x="8148600" y="5881680"/>
            <a:ext cx="175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98440" y="6126120"/>
            <a:ext cx="36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Calibri"/>
              </a:rPr>
              <a:t>Hallo, hallo, hallo, Franzi h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5560920" y="5689440"/>
            <a:ext cx="43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it-IT" sz="1800" spc="-1" strike="noStrike">
                <a:solidFill>
                  <a:srgbClr val="0000ff"/>
                </a:solidFill>
                <a:latin typeface="Calibri"/>
              </a:rPr>
              <a:t>Hallo, hallo, hallo, Arno Monster ist dr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800680" y="64389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</a:rPr>
              <a:t>Mir geht's sup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</a:rPr>
              <a:t>Mann-oh-Man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17360" y="5048280"/>
            <a:ext cx="27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80"/>
                </a:solidFill>
                <a:latin typeface="Calibri"/>
              </a:rPr>
              <a:t>Sag mir doch, wie geht es dir?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88920" y="5683320"/>
            <a:ext cx="43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800080"/>
                </a:solidFill>
                <a:latin typeface="Calibri"/>
              </a:rPr>
              <a:t>Ich habe ein neues Handy, Arno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797440" y="46990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</a:rPr>
              <a:t>Ein neues Handy? Wow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5862600" y="5283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</a:rPr>
              <a:t>Bis bald, Franz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106200" y="4514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80"/>
                </a:solidFill>
                <a:latin typeface="Calibri"/>
              </a:rPr>
              <a:t>Bis bald, Arno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3080" y="1033560"/>
            <a:ext cx="2606760" cy="327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2">
            <a:alphaModFix amt="0"/>
          </a:blip>
          <a:stretch/>
        </p:blipFill>
        <p:spPr>
          <a:xfrm flipH="1" rot="21220200">
            <a:off x="624600" y="2334960"/>
            <a:ext cx="398520" cy="7714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7"/>
          <p:cNvSpPr/>
          <p:nvPr/>
        </p:nvSpPr>
        <p:spPr>
          <a:xfrm>
            <a:off x="203040" y="203040"/>
            <a:ext cx="98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Franzi is talking to Arno on the phone, but the text of their conversation is all mixed up. Can you put it in the right order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17"/>
          <p:cNvSpPr/>
          <p:nvPr/>
        </p:nvSpPr>
        <p:spPr>
          <a:xfrm>
            <a:off x="5506920" y="577800"/>
            <a:ext cx="0" cy="644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7643880" y="1738440"/>
            <a:ext cx="2471760" cy="2762280"/>
            <a:chOff x="7643880" y="1738440"/>
            <a:chExt cx="2471760" cy="2762280"/>
          </a:xfrm>
        </p:grpSpPr>
        <p:pic>
          <p:nvPicPr>
            <p:cNvPr id="141" name="Picture 3" descr=""/>
            <p:cNvPicPr/>
            <p:nvPr/>
          </p:nvPicPr>
          <p:blipFill>
            <a:blip r:embed="rId3"/>
            <a:stretch/>
          </p:blipFill>
          <p:spPr>
            <a:xfrm>
              <a:off x="7643880" y="1738440"/>
              <a:ext cx="2471760" cy="276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2" descr=""/>
            <p:cNvPicPr/>
            <p:nvPr/>
          </p:nvPicPr>
          <p:blipFill>
            <a:blip r:embed="rId4">
              <a:alphaModFix amt="0"/>
            </a:blip>
            <a:stretch/>
          </p:blipFill>
          <p:spPr>
            <a:xfrm flipH="1" rot="21217800">
              <a:off x="7770600" y="2641320"/>
              <a:ext cx="444600" cy="85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Rechteck 16"/>
          <p:cNvSpPr/>
          <p:nvPr/>
        </p:nvSpPr>
        <p:spPr>
          <a:xfrm>
            <a:off x="271440" y="7311960"/>
            <a:ext cx="82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Now perform the dialogue with a partner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63453E-006 L 0.22266 -0.62772 E">
                                      <p:cBhvr>
                                        <p:cTn id="44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25 4.52566E-006 L -0.01703 -0.6147 E">
                                      <p:cBhvr>
                                        <p:cTn id="45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4.71229E-006 L 0.18406 -0.47979 E">
                                      <p:cBhvr>
                                        <p:cTn id="45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25 -0.17419 L -0.01609 -0.4238 E">
                                      <p:cBhvr>
                                        <p:cTn id="46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6 -0.10556 L 0.27188 -0.33943 E">
                                      <p:cBhvr>
                                        <p:cTn id="46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09 -0.25058 L -0.01797 -0.55773 E">
                                      <p:cBhvr>
                                        <p:cTn id="46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7 -0.15786 L 0.075 -0.1979 C 0.08891 -0.20685 0.11 -0.2119 0.13203 -0.2119 C 0.15703 -0.2119 0.17703 -0.20685 0.19094 -0.1979 L 0.25797 -0.15786 E">
                                      <p:cBhvr>
                                        <p:cTn id="47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25 -0.06124 L -0.0225 -0.31124 E">
                                      <p:cBhvr>
                                        <p:cTn id="47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0T21:40:38Z</dcterms:created>
  <dc:creator>Vikas</dc:creator>
  <dc:description/>
  <dc:language>en-US</dc:language>
  <cp:lastModifiedBy>Caroline</cp:lastModifiedBy>
  <dcterms:modified xsi:type="dcterms:W3CDTF">2018-02-27T12:53:02Z</dcterms:modified>
  <cp:revision>63</cp:revision>
  <dc:subject/>
  <dc:title>PowerPoint Presentation</dc:title>
</cp:coreProperties>
</file>