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12484100" cy="101584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533600" y="1142640"/>
            <a:ext cx="3790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DC8B2-9D9A-4571-BE58-2F784555843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ldImg"/>
          </p:nvPr>
        </p:nvSpPr>
        <p:spPr>
          <a:xfrm>
            <a:off x="1533600" y="1143000"/>
            <a:ext cx="3790800" cy="3086280"/>
          </a:xfrm>
          <a:prstGeom prst="rect">
            <a:avLst/>
          </a:prstGeom>
          <a:ln w="0">
            <a:noFill/>
          </a:ln>
        </p:spPr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69B6C-4CAB-4119-A24D-D09D1B66B17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sldImg"/>
          </p:nvPr>
        </p:nvSpPr>
        <p:spPr>
          <a:xfrm>
            <a:off x="1533600" y="1143000"/>
            <a:ext cx="3790800" cy="3086280"/>
          </a:xfrm>
          <a:prstGeom prst="rect">
            <a:avLst/>
          </a:prstGeom>
          <a:ln w="0">
            <a:noFill/>
          </a:ln>
        </p:spPr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987DC-6030-4565-930C-9040B1B027B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sldImg"/>
          </p:nvPr>
        </p:nvSpPr>
        <p:spPr>
          <a:xfrm>
            <a:off x="1533600" y="1143000"/>
            <a:ext cx="3790800" cy="3086280"/>
          </a:xfrm>
          <a:prstGeom prst="rect">
            <a:avLst/>
          </a:prstGeom>
          <a:ln w="0">
            <a:noFill/>
          </a:ln>
        </p:spPr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LEASE CHANGE THE MOU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77BC3-1828-441A-9252-DDCFDA660B0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ldImg"/>
          </p:nvPr>
        </p:nvSpPr>
        <p:spPr>
          <a:xfrm>
            <a:off x="1533600" y="1143000"/>
            <a:ext cx="3790800" cy="3086280"/>
          </a:xfrm>
          <a:prstGeom prst="rect">
            <a:avLst/>
          </a:prstGeom>
          <a:ln w="0">
            <a:noFill/>
          </a:ln>
        </p:spPr>
      </p:sp>
      <p:sp>
        <p:nvSpPr>
          <p:cNvPr id="64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B3085-B540-4510-8203-48FFB95206C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1492A-4423-44AB-893B-D80FF97DF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3880" y="406080"/>
            <a:ext cx="1123632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3880" y="2370240"/>
            <a:ext cx="112363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3880" y="5872680"/>
            <a:ext cx="112363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66334-4D2D-4B60-ACA7-4A14D4415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3880" y="406080"/>
            <a:ext cx="1123632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3880" y="2370240"/>
            <a:ext cx="548316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381720" y="2370240"/>
            <a:ext cx="548316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3880" y="5872680"/>
            <a:ext cx="548316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381720" y="5872680"/>
            <a:ext cx="548316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7D9BC-E8AF-4D03-9540-3FCB227A5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3880" y="406080"/>
            <a:ext cx="1123632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3880" y="2370240"/>
            <a:ext cx="36180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423320" y="2370240"/>
            <a:ext cx="36180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222400" y="2370240"/>
            <a:ext cx="36180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3880" y="5872680"/>
            <a:ext cx="36180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423320" y="5872680"/>
            <a:ext cx="36180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222400" y="5872680"/>
            <a:ext cx="36180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265E3-33B6-480A-BA36-4148DE6B2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3880" y="406080"/>
            <a:ext cx="1123632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3880" y="2370240"/>
            <a:ext cx="11236320" cy="67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977D9-E01E-4FC3-B1C4-6615D007E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3880" y="406080"/>
            <a:ext cx="1123632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3880" y="2370240"/>
            <a:ext cx="1123632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5B719-6DA1-40E2-A9AC-55544256F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3880" y="406080"/>
            <a:ext cx="1123632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3880" y="2370240"/>
            <a:ext cx="548316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381720" y="2370240"/>
            <a:ext cx="548316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2C6EB-21A0-4A19-ACF8-F6F0ED247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3880" y="406080"/>
            <a:ext cx="1123632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8F14A-0A38-43E3-BFB6-102C1D13F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3880" y="406080"/>
            <a:ext cx="11236320" cy="78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D75A1-21BB-4299-B352-86075A934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3880" y="406080"/>
            <a:ext cx="1123632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3880" y="2370240"/>
            <a:ext cx="548316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381720" y="2370240"/>
            <a:ext cx="548316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3880" y="5872680"/>
            <a:ext cx="548316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B48A3-631B-46E6-B375-64BCDE2D9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3880" y="406080"/>
            <a:ext cx="1123632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3880" y="2370240"/>
            <a:ext cx="548316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381720" y="2370240"/>
            <a:ext cx="548316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381720" y="5872680"/>
            <a:ext cx="548316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14705-71E4-41E8-8E1E-FE1491430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3880" y="406080"/>
            <a:ext cx="1123632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3880" y="2370240"/>
            <a:ext cx="548316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381720" y="2370240"/>
            <a:ext cx="548316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3880" y="5872680"/>
            <a:ext cx="112363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55AC4-A4B1-456A-B853-174B14BD3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3880" y="406080"/>
            <a:ext cx="1123632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3880" y="2370240"/>
            <a:ext cx="1123632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3880" y="9416880"/>
            <a:ext cx="2913120" cy="5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265640" y="9416880"/>
            <a:ext cx="3952800" cy="5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947080" y="9416880"/>
            <a:ext cx="2913120" cy="5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A66D5-D9B9-4AE4-9980-618FDC6871D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hteck 1"/>
          <p:cNvSpPr/>
          <p:nvPr/>
        </p:nvSpPr>
        <p:spPr>
          <a:xfrm>
            <a:off x="1816200" y="1913040"/>
            <a:ext cx="9250200" cy="55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oethe FF Clan"/>
                <a:ea typeface="Arial"/>
              </a:rPr>
              <a:t>© Goethe-Institut London 20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oethe FF Clan"/>
                <a:ea typeface="Arial"/>
              </a:rPr>
              <a:t>THIS POWERPOINT IS PART OF THE TEACHING RESOURCES “DEUTSCH MIT FELIX &amp; FRANZI” DEVELOPED BY THE GOETHE-INSTITUT LONDON. THE LESSON PLANS AND ALL ACCOMPANYING MATERIALS ARE PRODUCED FOR PRIMARY SCHOOL TEACHERS OF GERMAN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oethe FF Clan"/>
                <a:ea typeface="Arial"/>
              </a:rPr>
              <a:t>WWW.GOETHE.DE/FELIXUNDFRANZ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oethe FF Clan"/>
                <a:ea typeface="Arial"/>
              </a:rPr>
              <a:t>WE THANK THE AUTHORS KATJA NEUMANN, NIGEL PEARSON AND EMMA WHITTLE FOR THEIR CONTRIBUTION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oethe FF Clan"/>
                <a:ea typeface="Arial"/>
              </a:rPr>
              <a:t>A THANK YOU TO BRITTA SCHELLENS AND NAOMI SCHÖNHAGEN FOR THEIR WORK WITH THE WHITEBOARD APPS AND POWERPOIN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oethe FF Clan"/>
                <a:ea typeface="Arial"/>
              </a:rPr>
              <a:t>PROJECT MANAGEMENT: ROMA FRANZISKA SCHULT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oethe FF Clan"/>
                <a:ea typeface="Arial"/>
              </a:rPr>
              <a:t>SELECTED ILLUSTRATIONS: FRIEDERIKE SCHUHMAN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oethe FF Clan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Grafik 2" descr=""/>
          <p:cNvPicPr/>
          <p:nvPr/>
        </p:nvPicPr>
        <p:blipFill>
          <a:blip r:embed="rId1"/>
          <a:stretch/>
        </p:blipFill>
        <p:spPr>
          <a:xfrm>
            <a:off x="1498680" y="6719760"/>
            <a:ext cx="6978600" cy="14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ffff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3" name="Gruppieren 53"/>
          <p:cNvGrpSpPr/>
          <p:nvPr/>
        </p:nvGrpSpPr>
        <p:grpSpPr>
          <a:xfrm>
            <a:off x="912600" y="326880"/>
            <a:ext cx="2894040" cy="1679760"/>
            <a:chOff x="912600" y="326880"/>
            <a:chExt cx="2894040" cy="1679760"/>
          </a:xfrm>
        </p:grpSpPr>
        <p:grpSp>
          <p:nvGrpSpPr>
            <p:cNvPr id="624" name="Gruppieren 30"/>
            <p:cNvGrpSpPr/>
            <p:nvPr/>
          </p:nvGrpSpPr>
          <p:grpSpPr>
            <a:xfrm>
              <a:off x="912600" y="326880"/>
              <a:ext cx="2894040" cy="1679760"/>
              <a:chOff x="912600" y="326880"/>
              <a:chExt cx="2894040" cy="1679760"/>
            </a:xfrm>
          </p:grpSpPr>
          <p:sp>
            <p:nvSpPr>
              <p:cNvPr id="625" name="Freihandform 28"/>
              <p:cNvSpPr/>
              <p:nvPr/>
            </p:nvSpPr>
            <p:spPr>
              <a:xfrm flipH="1">
                <a:off x="912240" y="326880"/>
                <a:ext cx="2894040" cy="1679760"/>
              </a:xfrm>
              <a:custGeom>
                <a:avLst/>
                <a:gdLst>
                  <a:gd name="textAreaLeft" fmla="*/ -360 w 2894040"/>
                  <a:gd name="textAreaRight" fmla="*/ 2894040 w 2894040"/>
                  <a:gd name="textAreaTop" fmla="*/ 0 h 1679760"/>
                  <a:gd name="textAreaBottom" fmla="*/ 1680120 h 1679760"/>
                </a:gdLst>
                <a:ahLst/>
                <a:rect l="textAreaLeft" t="textAreaTop" r="textAreaRight" b="textAreaBottom"/>
                <a:pathLst>
                  <a:path w="1066927" h="1090931">
                    <a:moveTo>
                      <a:pt x="634492" y="381"/>
                    </a:moveTo>
                    <a:lnTo>
                      <a:pt x="662177" y="1650"/>
                    </a:lnTo>
                    <a:lnTo>
                      <a:pt x="689229" y="4063"/>
                    </a:lnTo>
                    <a:lnTo>
                      <a:pt x="714882" y="7238"/>
                    </a:lnTo>
                    <a:lnTo>
                      <a:pt x="739775" y="11302"/>
                    </a:lnTo>
                    <a:lnTo>
                      <a:pt x="763777" y="16129"/>
                    </a:lnTo>
                    <a:lnTo>
                      <a:pt x="786764" y="21844"/>
                    </a:lnTo>
                    <a:lnTo>
                      <a:pt x="808608" y="28067"/>
                    </a:lnTo>
                    <a:lnTo>
                      <a:pt x="829563" y="35306"/>
                    </a:lnTo>
                    <a:lnTo>
                      <a:pt x="849630" y="43307"/>
                    </a:lnTo>
                    <a:lnTo>
                      <a:pt x="868680" y="51815"/>
                    </a:lnTo>
                    <a:lnTo>
                      <a:pt x="887094" y="60833"/>
                    </a:lnTo>
                    <a:lnTo>
                      <a:pt x="904113" y="70611"/>
                    </a:lnTo>
                    <a:lnTo>
                      <a:pt x="920623" y="80898"/>
                    </a:lnTo>
                    <a:lnTo>
                      <a:pt x="935989" y="91694"/>
                    </a:lnTo>
                    <a:lnTo>
                      <a:pt x="950594" y="103250"/>
                    </a:lnTo>
                    <a:lnTo>
                      <a:pt x="964311" y="114935"/>
                    </a:lnTo>
                    <a:lnTo>
                      <a:pt x="977011" y="127254"/>
                    </a:lnTo>
                    <a:lnTo>
                      <a:pt x="988949" y="140081"/>
                    </a:lnTo>
                    <a:lnTo>
                      <a:pt x="999998" y="153035"/>
                    </a:lnTo>
                    <a:lnTo>
                      <a:pt x="1010157" y="166750"/>
                    </a:lnTo>
                    <a:lnTo>
                      <a:pt x="1019429" y="180467"/>
                    </a:lnTo>
                    <a:lnTo>
                      <a:pt x="1035431" y="209042"/>
                    </a:lnTo>
                    <a:lnTo>
                      <a:pt x="1048257" y="238506"/>
                    </a:lnTo>
                    <a:lnTo>
                      <a:pt x="1057656" y="268732"/>
                    </a:lnTo>
                    <a:lnTo>
                      <a:pt x="1064006" y="299465"/>
                    </a:lnTo>
                    <a:lnTo>
                      <a:pt x="1066926" y="330454"/>
                    </a:lnTo>
                    <a:lnTo>
                      <a:pt x="1066926" y="361314"/>
                    </a:lnTo>
                    <a:lnTo>
                      <a:pt x="1064006" y="392048"/>
                    </a:lnTo>
                    <a:lnTo>
                      <a:pt x="1057909" y="422274"/>
                    </a:lnTo>
                    <a:lnTo>
                      <a:pt x="1049019" y="451738"/>
                    </a:lnTo>
                    <a:lnTo>
                      <a:pt x="1037463" y="480440"/>
                    </a:lnTo>
                    <a:lnTo>
                      <a:pt x="1022857" y="507746"/>
                    </a:lnTo>
                    <a:lnTo>
                      <a:pt x="1005586" y="533526"/>
                    </a:lnTo>
                    <a:lnTo>
                      <a:pt x="985646" y="557657"/>
                    </a:lnTo>
                    <a:lnTo>
                      <a:pt x="962913" y="579882"/>
                    </a:lnTo>
                    <a:lnTo>
                      <a:pt x="950849" y="590169"/>
                    </a:lnTo>
                    <a:lnTo>
                      <a:pt x="937894" y="599947"/>
                    </a:lnTo>
                    <a:lnTo>
                      <a:pt x="924559" y="608964"/>
                    </a:lnTo>
                    <a:lnTo>
                      <a:pt x="910463" y="617727"/>
                    </a:lnTo>
                    <a:lnTo>
                      <a:pt x="895731" y="625474"/>
                    </a:lnTo>
                    <a:lnTo>
                      <a:pt x="880363" y="632713"/>
                    </a:lnTo>
                    <a:lnTo>
                      <a:pt x="864615" y="638936"/>
                    </a:lnTo>
                    <a:lnTo>
                      <a:pt x="848232" y="644651"/>
                    </a:lnTo>
                    <a:lnTo>
                      <a:pt x="831088" y="649605"/>
                    </a:lnTo>
                    <a:lnTo>
                      <a:pt x="813307" y="653542"/>
                    </a:lnTo>
                    <a:lnTo>
                      <a:pt x="795146" y="656717"/>
                    </a:lnTo>
                    <a:lnTo>
                      <a:pt x="776477" y="659130"/>
                    </a:lnTo>
                    <a:lnTo>
                      <a:pt x="757300" y="660399"/>
                    </a:lnTo>
                    <a:lnTo>
                      <a:pt x="737362" y="661035"/>
                    </a:lnTo>
                    <a:lnTo>
                      <a:pt x="739394" y="692276"/>
                    </a:lnTo>
                    <a:lnTo>
                      <a:pt x="737869" y="724154"/>
                    </a:lnTo>
                    <a:lnTo>
                      <a:pt x="733298" y="756538"/>
                    </a:lnTo>
                    <a:lnTo>
                      <a:pt x="725932" y="788543"/>
                    </a:lnTo>
                    <a:lnTo>
                      <a:pt x="716025" y="820673"/>
                    </a:lnTo>
                    <a:lnTo>
                      <a:pt x="703452" y="852423"/>
                    </a:lnTo>
                    <a:lnTo>
                      <a:pt x="688720" y="883158"/>
                    </a:lnTo>
                    <a:lnTo>
                      <a:pt x="672083" y="913130"/>
                    </a:lnTo>
                    <a:lnTo>
                      <a:pt x="653542" y="941959"/>
                    </a:lnTo>
                    <a:lnTo>
                      <a:pt x="633602" y="969518"/>
                    </a:lnTo>
                    <a:lnTo>
                      <a:pt x="612139" y="995298"/>
                    </a:lnTo>
                    <a:lnTo>
                      <a:pt x="589661" y="1019174"/>
                    </a:lnTo>
                    <a:lnTo>
                      <a:pt x="566419" y="1040892"/>
                    </a:lnTo>
                    <a:lnTo>
                      <a:pt x="542289" y="1060196"/>
                    </a:lnTo>
                    <a:lnTo>
                      <a:pt x="517906" y="1077086"/>
                    </a:lnTo>
                    <a:lnTo>
                      <a:pt x="493268" y="1090930"/>
                    </a:lnTo>
                    <a:lnTo>
                      <a:pt x="516763" y="1054988"/>
                    </a:lnTo>
                    <a:lnTo>
                      <a:pt x="538099" y="1020952"/>
                    </a:lnTo>
                    <a:lnTo>
                      <a:pt x="557021" y="989075"/>
                    </a:lnTo>
                    <a:lnTo>
                      <a:pt x="573658" y="958596"/>
                    </a:lnTo>
                    <a:lnTo>
                      <a:pt x="588263" y="930021"/>
                    </a:lnTo>
                    <a:lnTo>
                      <a:pt x="600582" y="902715"/>
                    </a:lnTo>
                    <a:lnTo>
                      <a:pt x="610488" y="876426"/>
                    </a:lnTo>
                    <a:lnTo>
                      <a:pt x="618489" y="851281"/>
                    </a:lnTo>
                    <a:lnTo>
                      <a:pt x="624077" y="826770"/>
                    </a:lnTo>
                    <a:lnTo>
                      <a:pt x="627761" y="802894"/>
                    </a:lnTo>
                    <a:lnTo>
                      <a:pt x="629284" y="779525"/>
                    </a:lnTo>
                    <a:lnTo>
                      <a:pt x="628650" y="756031"/>
                    </a:lnTo>
                    <a:lnTo>
                      <a:pt x="625982" y="732917"/>
                    </a:lnTo>
                    <a:lnTo>
                      <a:pt x="621283" y="709422"/>
                    </a:lnTo>
                    <a:lnTo>
                      <a:pt x="614425" y="685292"/>
                    </a:lnTo>
                    <a:lnTo>
                      <a:pt x="605536" y="661035"/>
                    </a:lnTo>
                    <a:lnTo>
                      <a:pt x="567563" y="660399"/>
                    </a:lnTo>
                    <a:lnTo>
                      <a:pt x="530859" y="659130"/>
                    </a:lnTo>
                    <a:lnTo>
                      <a:pt x="495426" y="656717"/>
                    </a:lnTo>
                    <a:lnTo>
                      <a:pt x="461009" y="653542"/>
                    </a:lnTo>
                    <a:lnTo>
                      <a:pt x="428117" y="649605"/>
                    </a:lnTo>
                    <a:lnTo>
                      <a:pt x="396367" y="644651"/>
                    </a:lnTo>
                    <a:lnTo>
                      <a:pt x="365887" y="638936"/>
                    </a:lnTo>
                    <a:lnTo>
                      <a:pt x="336423" y="632713"/>
                    </a:lnTo>
                    <a:lnTo>
                      <a:pt x="308609" y="625474"/>
                    </a:lnTo>
                    <a:lnTo>
                      <a:pt x="281813" y="617727"/>
                    </a:lnTo>
                    <a:lnTo>
                      <a:pt x="256286" y="608964"/>
                    </a:lnTo>
                    <a:lnTo>
                      <a:pt x="231775" y="599947"/>
                    </a:lnTo>
                    <a:lnTo>
                      <a:pt x="208661" y="590169"/>
                    </a:lnTo>
                    <a:lnTo>
                      <a:pt x="186817" y="579882"/>
                    </a:lnTo>
                    <a:lnTo>
                      <a:pt x="165988" y="569086"/>
                    </a:lnTo>
                    <a:lnTo>
                      <a:pt x="146812" y="557657"/>
                    </a:lnTo>
                    <a:lnTo>
                      <a:pt x="128396" y="545846"/>
                    </a:lnTo>
                    <a:lnTo>
                      <a:pt x="111506" y="533526"/>
                    </a:lnTo>
                    <a:lnTo>
                      <a:pt x="95757" y="520699"/>
                    </a:lnTo>
                    <a:lnTo>
                      <a:pt x="81025" y="507746"/>
                    </a:lnTo>
                    <a:lnTo>
                      <a:pt x="67690" y="494030"/>
                    </a:lnTo>
                    <a:lnTo>
                      <a:pt x="55499" y="480440"/>
                    </a:lnTo>
                    <a:lnTo>
                      <a:pt x="44704" y="466344"/>
                    </a:lnTo>
                    <a:lnTo>
                      <a:pt x="34925" y="451738"/>
                    </a:lnTo>
                    <a:lnTo>
                      <a:pt x="26288" y="437260"/>
                    </a:lnTo>
                    <a:lnTo>
                      <a:pt x="19050" y="422274"/>
                    </a:lnTo>
                    <a:lnTo>
                      <a:pt x="12954" y="407288"/>
                    </a:lnTo>
                    <a:lnTo>
                      <a:pt x="8000" y="392048"/>
                    </a:lnTo>
                    <a:lnTo>
                      <a:pt x="4063" y="376682"/>
                    </a:lnTo>
                    <a:lnTo>
                      <a:pt x="1524" y="361314"/>
                    </a:lnTo>
                    <a:lnTo>
                      <a:pt x="126" y="345947"/>
                    </a:lnTo>
                    <a:lnTo>
                      <a:pt x="0" y="330454"/>
                    </a:lnTo>
                    <a:lnTo>
                      <a:pt x="762" y="314960"/>
                    </a:lnTo>
                    <a:lnTo>
                      <a:pt x="2920" y="299465"/>
                    </a:lnTo>
                    <a:lnTo>
                      <a:pt x="6476" y="284098"/>
                    </a:lnTo>
                    <a:lnTo>
                      <a:pt x="10921" y="268732"/>
                    </a:lnTo>
                    <a:lnTo>
                      <a:pt x="16637" y="253492"/>
                    </a:lnTo>
                    <a:lnTo>
                      <a:pt x="23494" y="238506"/>
                    </a:lnTo>
                    <a:lnTo>
                      <a:pt x="31495" y="223647"/>
                    </a:lnTo>
                    <a:lnTo>
                      <a:pt x="40639" y="209042"/>
                    </a:lnTo>
                    <a:lnTo>
                      <a:pt x="50926" y="194690"/>
                    </a:lnTo>
                    <a:lnTo>
                      <a:pt x="62611" y="180467"/>
                    </a:lnTo>
                    <a:lnTo>
                      <a:pt x="75183" y="166750"/>
                    </a:lnTo>
                    <a:lnTo>
                      <a:pt x="89026" y="153035"/>
                    </a:lnTo>
                    <a:lnTo>
                      <a:pt x="104013" y="140081"/>
                    </a:lnTo>
                    <a:lnTo>
                      <a:pt x="120269" y="127254"/>
                    </a:lnTo>
                    <a:lnTo>
                      <a:pt x="137540" y="114935"/>
                    </a:lnTo>
                    <a:lnTo>
                      <a:pt x="155829" y="103250"/>
                    </a:lnTo>
                    <a:lnTo>
                      <a:pt x="175513" y="91694"/>
                    </a:lnTo>
                    <a:lnTo>
                      <a:pt x="196342" y="80898"/>
                    </a:lnTo>
                    <a:lnTo>
                      <a:pt x="218186" y="70611"/>
                    </a:lnTo>
                    <a:lnTo>
                      <a:pt x="241300" y="60833"/>
                    </a:lnTo>
                    <a:lnTo>
                      <a:pt x="265302" y="51815"/>
                    </a:lnTo>
                    <a:lnTo>
                      <a:pt x="290575" y="43307"/>
                    </a:lnTo>
                    <a:lnTo>
                      <a:pt x="316992" y="35306"/>
                    </a:lnTo>
                    <a:lnTo>
                      <a:pt x="344677" y="28067"/>
                    </a:lnTo>
                    <a:lnTo>
                      <a:pt x="373380" y="21844"/>
                    </a:lnTo>
                    <a:lnTo>
                      <a:pt x="403098" y="16129"/>
                    </a:lnTo>
                    <a:lnTo>
                      <a:pt x="433958" y="11302"/>
                    </a:lnTo>
                    <a:lnTo>
                      <a:pt x="466217" y="7238"/>
                    </a:lnTo>
                    <a:lnTo>
                      <a:pt x="499363" y="4063"/>
                    </a:lnTo>
                    <a:lnTo>
                      <a:pt x="533654" y="1650"/>
                    </a:lnTo>
                    <a:lnTo>
                      <a:pt x="568959" y="381"/>
                    </a:lnTo>
                    <a:lnTo>
                      <a:pt x="605536" y="0"/>
                    </a:lnTo>
                    <a:lnTo>
                      <a:pt x="634492" y="38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Freihandform 29"/>
              <p:cNvSpPr/>
              <p:nvPr/>
            </p:nvSpPr>
            <p:spPr>
              <a:xfrm flipH="1">
                <a:off x="912240" y="326880"/>
                <a:ext cx="2894040" cy="1679760"/>
              </a:xfrm>
              <a:custGeom>
                <a:avLst/>
                <a:gdLst>
                  <a:gd name="textAreaLeft" fmla="*/ -360 w 2894040"/>
                  <a:gd name="textAreaRight" fmla="*/ 2894040 w 2894040"/>
                  <a:gd name="textAreaTop" fmla="*/ 0 h 1679760"/>
                  <a:gd name="textAreaBottom" fmla="*/ 1680120 h 1679760"/>
                </a:gdLst>
                <a:ahLst/>
                <a:rect l="textAreaLeft" t="textAreaTop" r="textAreaRight" b="textAreaBottom"/>
                <a:pathLst>
                  <a:path w="1067156" h="1090973">
                    <a:moveTo>
                      <a:pt x="605389" y="0"/>
                    </a:moveTo>
                    <a:lnTo>
                      <a:pt x="568768" y="574"/>
                    </a:lnTo>
                    <a:lnTo>
                      <a:pt x="533863" y="1722"/>
                    </a:lnTo>
                    <a:lnTo>
                      <a:pt x="499531" y="4017"/>
                    </a:lnTo>
                    <a:lnTo>
                      <a:pt x="466344" y="7461"/>
                    </a:lnTo>
                    <a:lnTo>
                      <a:pt x="434301" y="11478"/>
                    </a:lnTo>
                    <a:lnTo>
                      <a:pt x="403402" y="16069"/>
                    </a:lnTo>
                    <a:lnTo>
                      <a:pt x="373647" y="21808"/>
                    </a:lnTo>
                    <a:lnTo>
                      <a:pt x="345037" y="28121"/>
                    </a:lnTo>
                    <a:lnTo>
                      <a:pt x="316999" y="35582"/>
                    </a:lnTo>
                    <a:lnTo>
                      <a:pt x="290678" y="43616"/>
                    </a:lnTo>
                    <a:lnTo>
                      <a:pt x="265501" y="51650"/>
                    </a:lnTo>
                    <a:lnTo>
                      <a:pt x="241469" y="60833"/>
                    </a:lnTo>
                    <a:lnTo>
                      <a:pt x="218008" y="70589"/>
                    </a:lnTo>
                    <a:lnTo>
                      <a:pt x="196265" y="80919"/>
                    </a:lnTo>
                    <a:lnTo>
                      <a:pt x="175666" y="91823"/>
                    </a:lnTo>
                    <a:lnTo>
                      <a:pt x="156211" y="103301"/>
                    </a:lnTo>
                    <a:lnTo>
                      <a:pt x="137328" y="114779"/>
                    </a:lnTo>
                    <a:lnTo>
                      <a:pt x="120162" y="127405"/>
                    </a:lnTo>
                    <a:lnTo>
                      <a:pt x="104140" y="140030"/>
                    </a:lnTo>
                    <a:lnTo>
                      <a:pt x="89263" y="153229"/>
                    </a:lnTo>
                    <a:lnTo>
                      <a:pt x="75530" y="167003"/>
                    </a:lnTo>
                    <a:lnTo>
                      <a:pt x="62942" y="180777"/>
                    </a:lnTo>
                    <a:lnTo>
                      <a:pt x="50926" y="194550"/>
                    </a:lnTo>
                    <a:lnTo>
                      <a:pt x="40626" y="208897"/>
                    </a:lnTo>
                    <a:lnTo>
                      <a:pt x="31471" y="223819"/>
                    </a:lnTo>
                    <a:lnTo>
                      <a:pt x="23460" y="238740"/>
                    </a:lnTo>
                    <a:lnTo>
                      <a:pt x="16594" y="253661"/>
                    </a:lnTo>
                    <a:lnTo>
                      <a:pt x="10871" y="268582"/>
                    </a:lnTo>
                    <a:lnTo>
                      <a:pt x="6294" y="284077"/>
                    </a:lnTo>
                    <a:lnTo>
                      <a:pt x="2861" y="299573"/>
                    </a:lnTo>
                    <a:lnTo>
                      <a:pt x="1144" y="315068"/>
                    </a:lnTo>
                    <a:lnTo>
                      <a:pt x="0" y="330563"/>
                    </a:lnTo>
                    <a:lnTo>
                      <a:pt x="0" y="346058"/>
                    </a:lnTo>
                    <a:lnTo>
                      <a:pt x="1716" y="361553"/>
                    </a:lnTo>
                    <a:lnTo>
                      <a:pt x="4005" y="377048"/>
                    </a:lnTo>
                    <a:lnTo>
                      <a:pt x="8010" y="391970"/>
                    </a:lnTo>
                    <a:lnTo>
                      <a:pt x="13160" y="407464"/>
                    </a:lnTo>
                    <a:lnTo>
                      <a:pt x="18882" y="422386"/>
                    </a:lnTo>
                    <a:lnTo>
                      <a:pt x="26321" y="437308"/>
                    </a:lnTo>
                    <a:lnTo>
                      <a:pt x="34904" y="451655"/>
                    </a:lnTo>
                    <a:lnTo>
                      <a:pt x="44631" y="466575"/>
                    </a:lnTo>
                    <a:lnTo>
                      <a:pt x="55503" y="480349"/>
                    </a:lnTo>
                    <a:lnTo>
                      <a:pt x="67519" y="494123"/>
                    </a:lnTo>
                    <a:lnTo>
                      <a:pt x="81252" y="507896"/>
                    </a:lnTo>
                    <a:lnTo>
                      <a:pt x="96129" y="521095"/>
                    </a:lnTo>
                    <a:lnTo>
                      <a:pt x="111579" y="533721"/>
                    </a:lnTo>
                    <a:lnTo>
                      <a:pt x="128745" y="545773"/>
                    </a:lnTo>
                    <a:lnTo>
                      <a:pt x="147055" y="557825"/>
                    </a:lnTo>
                    <a:lnTo>
                      <a:pt x="165938" y="569303"/>
                    </a:lnTo>
                    <a:lnTo>
                      <a:pt x="187109" y="580207"/>
                    </a:lnTo>
                    <a:lnTo>
                      <a:pt x="208853" y="589963"/>
                    </a:lnTo>
                    <a:lnTo>
                      <a:pt x="231741" y="599719"/>
                    </a:lnTo>
                    <a:lnTo>
                      <a:pt x="256346" y="608902"/>
                    </a:lnTo>
                    <a:lnTo>
                      <a:pt x="282095" y="617510"/>
                    </a:lnTo>
                    <a:lnTo>
                      <a:pt x="308416" y="625544"/>
                    </a:lnTo>
                    <a:lnTo>
                      <a:pt x="336454" y="633005"/>
                    </a:lnTo>
                    <a:lnTo>
                      <a:pt x="366209" y="638744"/>
                    </a:lnTo>
                    <a:lnTo>
                      <a:pt x="396535" y="644483"/>
                    </a:lnTo>
                    <a:lnTo>
                      <a:pt x="428006" y="649648"/>
                    </a:lnTo>
                    <a:lnTo>
                      <a:pt x="461194" y="653665"/>
                    </a:lnTo>
                    <a:lnTo>
                      <a:pt x="495526" y="656534"/>
                    </a:lnTo>
                    <a:lnTo>
                      <a:pt x="531002" y="659404"/>
                    </a:lnTo>
                    <a:lnTo>
                      <a:pt x="567623" y="660552"/>
                    </a:lnTo>
                    <a:lnTo>
                      <a:pt x="605389" y="661126"/>
                    </a:lnTo>
                    <a:lnTo>
                      <a:pt x="614544" y="685230"/>
                    </a:lnTo>
                    <a:lnTo>
                      <a:pt x="621410" y="709333"/>
                    </a:lnTo>
                    <a:lnTo>
                      <a:pt x="625988" y="732862"/>
                    </a:lnTo>
                    <a:lnTo>
                      <a:pt x="628849" y="756392"/>
                    </a:lnTo>
                    <a:lnTo>
                      <a:pt x="629421" y="779348"/>
                    </a:lnTo>
                    <a:lnTo>
                      <a:pt x="627705" y="802877"/>
                    </a:lnTo>
                    <a:lnTo>
                      <a:pt x="624272" y="826981"/>
                    </a:lnTo>
                    <a:lnTo>
                      <a:pt x="618549" y="851658"/>
                    </a:lnTo>
                    <a:lnTo>
                      <a:pt x="610539" y="876336"/>
                    </a:lnTo>
                    <a:lnTo>
                      <a:pt x="600811" y="902735"/>
                    </a:lnTo>
                    <a:lnTo>
                      <a:pt x="588223" y="930282"/>
                    </a:lnTo>
                    <a:lnTo>
                      <a:pt x="573918" y="958976"/>
                    </a:lnTo>
                    <a:lnTo>
                      <a:pt x="557324" y="989393"/>
                    </a:lnTo>
                    <a:lnTo>
                      <a:pt x="537869" y="1020957"/>
                    </a:lnTo>
                    <a:lnTo>
                      <a:pt x="516697" y="1054817"/>
                    </a:lnTo>
                    <a:lnTo>
                      <a:pt x="493237" y="1090972"/>
                    </a:lnTo>
                    <a:lnTo>
                      <a:pt x="517842" y="1077199"/>
                    </a:lnTo>
                    <a:lnTo>
                      <a:pt x="542447" y="1059982"/>
                    </a:lnTo>
                    <a:lnTo>
                      <a:pt x="566479" y="1041044"/>
                    </a:lnTo>
                    <a:lnTo>
                      <a:pt x="589939" y="1019236"/>
                    </a:lnTo>
                    <a:lnTo>
                      <a:pt x="612255" y="995132"/>
                    </a:lnTo>
                    <a:lnTo>
                      <a:pt x="633427" y="969307"/>
                    </a:lnTo>
                    <a:lnTo>
                      <a:pt x="653453" y="941760"/>
                    </a:lnTo>
                    <a:lnTo>
                      <a:pt x="672336" y="913065"/>
                    </a:lnTo>
                    <a:lnTo>
                      <a:pt x="688930" y="883223"/>
                    </a:lnTo>
                    <a:lnTo>
                      <a:pt x="703807" y="852233"/>
                    </a:lnTo>
                    <a:lnTo>
                      <a:pt x="715824" y="820668"/>
                    </a:lnTo>
                    <a:lnTo>
                      <a:pt x="726123" y="788530"/>
                    </a:lnTo>
                    <a:lnTo>
                      <a:pt x="733562" y="756392"/>
                    </a:lnTo>
                    <a:lnTo>
                      <a:pt x="738139" y="724254"/>
                    </a:lnTo>
                    <a:lnTo>
                      <a:pt x="739284" y="692116"/>
                    </a:lnTo>
                    <a:lnTo>
                      <a:pt x="737567" y="661126"/>
                    </a:lnTo>
                    <a:lnTo>
                      <a:pt x="757594" y="660552"/>
                    </a:lnTo>
                    <a:lnTo>
                      <a:pt x="776477" y="659404"/>
                    </a:lnTo>
                    <a:lnTo>
                      <a:pt x="795360" y="656534"/>
                    </a:lnTo>
                    <a:lnTo>
                      <a:pt x="813098" y="653665"/>
                    </a:lnTo>
                    <a:lnTo>
                      <a:pt x="831409" y="649648"/>
                    </a:lnTo>
                    <a:lnTo>
                      <a:pt x="848002" y="644483"/>
                    </a:lnTo>
                    <a:lnTo>
                      <a:pt x="864596" y="638744"/>
                    </a:lnTo>
                    <a:lnTo>
                      <a:pt x="880618" y="633005"/>
                    </a:lnTo>
                    <a:lnTo>
                      <a:pt x="895495" y="625544"/>
                    </a:lnTo>
                    <a:lnTo>
                      <a:pt x="910372" y="617510"/>
                    </a:lnTo>
                    <a:lnTo>
                      <a:pt x="924677" y="608902"/>
                    </a:lnTo>
                    <a:lnTo>
                      <a:pt x="937838" y="599719"/>
                    </a:lnTo>
                    <a:lnTo>
                      <a:pt x="950998" y="589963"/>
                    </a:lnTo>
                    <a:lnTo>
                      <a:pt x="963015" y="580207"/>
                    </a:lnTo>
                    <a:lnTo>
                      <a:pt x="985903" y="557825"/>
                    </a:lnTo>
                    <a:lnTo>
                      <a:pt x="1005930" y="533721"/>
                    </a:lnTo>
                    <a:lnTo>
                      <a:pt x="1023096" y="507896"/>
                    </a:lnTo>
                    <a:lnTo>
                      <a:pt x="1037401" y="480349"/>
                    </a:lnTo>
                    <a:lnTo>
                      <a:pt x="1048845" y="451655"/>
                    </a:lnTo>
                    <a:lnTo>
                      <a:pt x="1058000" y="422386"/>
                    </a:lnTo>
                    <a:lnTo>
                      <a:pt x="1063722" y="391970"/>
                    </a:lnTo>
                    <a:lnTo>
                      <a:pt x="1067155" y="361553"/>
                    </a:lnTo>
                    <a:lnTo>
                      <a:pt x="1067155" y="330563"/>
                    </a:lnTo>
                    <a:lnTo>
                      <a:pt x="1063722" y="299573"/>
                    </a:lnTo>
                    <a:lnTo>
                      <a:pt x="1058000" y="268582"/>
                    </a:lnTo>
                    <a:lnTo>
                      <a:pt x="1048273" y="238740"/>
                    </a:lnTo>
                    <a:lnTo>
                      <a:pt x="1035684" y="208897"/>
                    </a:lnTo>
                    <a:lnTo>
                      <a:pt x="1019663" y="180777"/>
                    </a:lnTo>
                    <a:lnTo>
                      <a:pt x="1009935" y="167003"/>
                    </a:lnTo>
                    <a:lnTo>
                      <a:pt x="1000208" y="153229"/>
                    </a:lnTo>
                    <a:lnTo>
                      <a:pt x="988764" y="140030"/>
                    </a:lnTo>
                    <a:lnTo>
                      <a:pt x="977320" y="127405"/>
                    </a:lnTo>
                    <a:lnTo>
                      <a:pt x="964159" y="114779"/>
                    </a:lnTo>
                    <a:lnTo>
                      <a:pt x="950426" y="103301"/>
                    </a:lnTo>
                    <a:lnTo>
                      <a:pt x="936121" y="91823"/>
                    </a:lnTo>
                    <a:lnTo>
                      <a:pt x="920672" y="80919"/>
                    </a:lnTo>
                    <a:lnTo>
                      <a:pt x="904078" y="70589"/>
                    </a:lnTo>
                    <a:lnTo>
                      <a:pt x="886912" y="60833"/>
                    </a:lnTo>
                    <a:lnTo>
                      <a:pt x="868602" y="51650"/>
                    </a:lnTo>
                    <a:lnTo>
                      <a:pt x="849719" y="43616"/>
                    </a:lnTo>
                    <a:lnTo>
                      <a:pt x="829692" y="35582"/>
                    </a:lnTo>
                    <a:lnTo>
                      <a:pt x="808520" y="28121"/>
                    </a:lnTo>
                    <a:lnTo>
                      <a:pt x="786777" y="21808"/>
                    </a:lnTo>
                    <a:lnTo>
                      <a:pt x="763889" y="16069"/>
                    </a:lnTo>
                    <a:lnTo>
                      <a:pt x="739856" y="11478"/>
                    </a:lnTo>
                    <a:lnTo>
                      <a:pt x="715251" y="7461"/>
                    </a:lnTo>
                    <a:lnTo>
                      <a:pt x="689502" y="4017"/>
                    </a:lnTo>
                    <a:lnTo>
                      <a:pt x="662037" y="1722"/>
                    </a:lnTo>
                    <a:lnTo>
                      <a:pt x="634571" y="574"/>
                    </a:lnTo>
                    <a:lnTo>
                      <a:pt x="605389" y="0"/>
                    </a:lnTo>
                    <a:close/>
                  </a:path>
                </a:pathLst>
              </a:custGeom>
              <a:noFill/>
              <a:ln w="11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7" name="Textfeld 31"/>
            <p:cNvSpPr/>
            <p:nvPr/>
          </p:nvSpPr>
          <p:spPr>
            <a:xfrm>
              <a:off x="1344960" y="398880"/>
              <a:ext cx="1872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Wie heißt das auf Englisch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28" name="Picture 2" descr="F:\Felix und Franzi Clipart\Clipart Sammlung Friede\Cliparts Felix+Franzi Positionen\Franzi Purzelbaum Kopie.gif"/>
          <p:cNvPicPr/>
          <p:nvPr/>
        </p:nvPicPr>
        <p:blipFill>
          <a:blip r:embed="rId1"/>
          <a:stretch/>
        </p:blipFill>
        <p:spPr>
          <a:xfrm rot="18851400">
            <a:off x="1363680" y="1875960"/>
            <a:ext cx="1477800" cy="1459080"/>
          </a:xfrm>
          <a:prstGeom prst="rect">
            <a:avLst/>
          </a:prstGeom>
          <a:ln w="0">
            <a:noFill/>
          </a:ln>
        </p:spPr>
      </p:pic>
      <p:sp>
        <p:nvSpPr>
          <p:cNvPr id="629" name="Rechteck 58"/>
          <p:cNvSpPr/>
          <p:nvPr/>
        </p:nvSpPr>
        <p:spPr>
          <a:xfrm>
            <a:off x="409680" y="4071960"/>
            <a:ext cx="72723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  <a:ea typeface="Arial"/>
              </a:rPr>
              <a:t>Franzi fragt Felix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  <a:ea typeface="Arial"/>
              </a:rPr>
              <a:t>Fressen freche Frös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  <a:ea typeface="Arial"/>
              </a:rPr>
              <a:t>frische Früchte gern zum Frühstü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  <a:ea typeface="Arial"/>
              </a:rPr>
              <a:t>wenn sie Hunger habe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  <a:ea typeface="Arial"/>
              </a:rPr>
              <a:t>Ja, sagt Felix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  <a:ea typeface="Arial"/>
              </a:rPr>
              <a:t>morgens früh am Freita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  <a:ea typeface="Arial"/>
              </a:rPr>
              <a:t>machen frische Frücht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  <a:ea typeface="Arial"/>
              </a:rPr>
              <a:t>viele freche Frösche fröhlic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Rechteck 59"/>
          <p:cNvSpPr/>
          <p:nvPr/>
        </p:nvSpPr>
        <p:spPr>
          <a:xfrm>
            <a:off x="7034040" y="3989520"/>
            <a:ext cx="68407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70c0"/>
                </a:solidFill>
                <a:latin typeface="Verdana"/>
                <a:ea typeface="Arial"/>
              </a:rPr>
              <a:t>Franzi asks Felix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70c0"/>
                </a:solidFill>
                <a:latin typeface="Verdana"/>
                <a:ea typeface="Arial"/>
              </a:rPr>
              <a:t>Do cheeky frogs like to e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70c0"/>
                </a:solidFill>
                <a:latin typeface="Verdana"/>
                <a:ea typeface="Arial"/>
              </a:rPr>
              <a:t>fresh fruit for breakf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70c0"/>
                </a:solidFill>
                <a:latin typeface="Verdana"/>
                <a:ea typeface="Arial"/>
              </a:rPr>
              <a:t>when they are hungr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70c0"/>
                </a:solidFill>
                <a:latin typeface="Verdana"/>
                <a:ea typeface="Arial"/>
              </a:rPr>
              <a:t>Yes, says Felix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70c0"/>
                </a:solidFill>
                <a:latin typeface="Verdana"/>
                <a:ea typeface="Arial"/>
              </a:rPr>
              <a:t>on Friday morning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70c0"/>
                </a:solidFill>
                <a:latin typeface="Verdana"/>
                <a:ea typeface="Arial"/>
              </a:rPr>
              <a:t>fresh frui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70c0"/>
                </a:solidFill>
                <a:latin typeface="Verdana"/>
                <a:ea typeface="Arial"/>
              </a:rPr>
              <a:t>is fun for a lot of frog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4" dur="500"/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9" dur="500"/>
                                        <p:tgtEl>
                                          <p:spTgt spid="6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4" dur="500"/>
                                        <p:tgtEl>
                                          <p:spTgt spid="6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9" dur="500"/>
                                        <p:tgtEl>
                                          <p:spTgt spid="6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4" dur="500"/>
                                        <p:tgtEl>
                                          <p:spTgt spid="6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9" dur="500"/>
                                        <p:tgtEl>
                                          <p:spTgt spid="6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4" dur="500"/>
                                        <p:tgtEl>
                                          <p:spTgt spid="6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9" dur="500"/>
                                        <p:tgtEl>
                                          <p:spTgt spid="6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3a2c7"/>
            </a:gs>
            <a:gs pos="100000">
              <a:srgbClr val="ffff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Ellipse 16"/>
          <p:cNvSpPr/>
          <p:nvPr/>
        </p:nvSpPr>
        <p:spPr>
          <a:xfrm>
            <a:off x="480960" y="984240"/>
            <a:ext cx="2613240" cy="265572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Ellipse 17"/>
          <p:cNvSpPr/>
          <p:nvPr/>
        </p:nvSpPr>
        <p:spPr>
          <a:xfrm>
            <a:off x="4824360" y="758880"/>
            <a:ext cx="2578320" cy="276372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Ellipse 18"/>
          <p:cNvSpPr/>
          <p:nvPr/>
        </p:nvSpPr>
        <p:spPr>
          <a:xfrm>
            <a:off x="8845560" y="830160"/>
            <a:ext cx="2685960" cy="2657520"/>
          </a:xfrm>
          <a:prstGeom prst="ellipse">
            <a:avLst/>
          </a:prstGeom>
          <a:solidFill>
            <a:srgbClr val="ffc0cb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feld 19"/>
          <p:cNvSpPr/>
          <p:nvPr/>
        </p:nvSpPr>
        <p:spPr>
          <a:xfrm>
            <a:off x="841320" y="1550880"/>
            <a:ext cx="2166840" cy="11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6900" spc="-1" strike="noStrike">
                <a:solidFill>
                  <a:srgbClr val="000000"/>
                </a:solidFill>
                <a:latin typeface="Verdana"/>
                <a:ea typeface="Arial"/>
              </a:rPr>
              <a:t>sch</a:t>
            </a:r>
            <a:endParaRPr b="0" lang="en-US" sz="6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feld 20"/>
          <p:cNvSpPr/>
          <p:nvPr/>
        </p:nvSpPr>
        <p:spPr>
          <a:xfrm>
            <a:off x="9534600" y="1509840"/>
            <a:ext cx="1262160" cy="12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300" spc="-1" strike="noStrike">
                <a:solidFill>
                  <a:srgbClr val="000000"/>
                </a:solidFill>
                <a:latin typeface="Verdana"/>
                <a:ea typeface="Arial"/>
              </a:rPr>
              <a:t>st</a:t>
            </a: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feld 21"/>
          <p:cNvSpPr/>
          <p:nvPr/>
        </p:nvSpPr>
        <p:spPr>
          <a:xfrm>
            <a:off x="5383080" y="1384200"/>
            <a:ext cx="1650960" cy="12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500" spc="-1" strike="noStrike">
                <a:solidFill>
                  <a:srgbClr val="000000"/>
                </a:solidFill>
                <a:latin typeface="Verdana"/>
                <a:ea typeface="Arial"/>
              </a:rPr>
              <a:t>sp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Gerade Verbindung 22"/>
          <p:cNvSpPr/>
          <p:nvPr/>
        </p:nvSpPr>
        <p:spPr>
          <a:xfrm>
            <a:off x="6113520" y="3535200"/>
            <a:ext cx="0" cy="2138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Gerade Verbindung 23"/>
          <p:cNvSpPr/>
          <p:nvPr/>
        </p:nvSpPr>
        <p:spPr>
          <a:xfrm>
            <a:off x="10293480" y="3503520"/>
            <a:ext cx="0" cy="1943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feld 54"/>
          <p:cNvSpPr/>
          <p:nvPr/>
        </p:nvSpPr>
        <p:spPr>
          <a:xfrm>
            <a:off x="233280" y="135000"/>
            <a:ext cx="120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  <a:ea typeface="Arial"/>
              </a:rPr>
              <a:t>Read the words loud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Gerade Verbindung 61"/>
          <p:cNvSpPr/>
          <p:nvPr/>
        </p:nvSpPr>
        <p:spPr>
          <a:xfrm>
            <a:off x="1793880" y="3639960"/>
            <a:ext cx="0" cy="1256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62"/>
          <p:cNvSpPr/>
          <p:nvPr/>
        </p:nvSpPr>
        <p:spPr>
          <a:xfrm>
            <a:off x="9407520" y="5440320"/>
            <a:ext cx="1874880" cy="33116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  <a:ea typeface="Verdana"/>
              </a:rPr>
              <a:t>Stein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Verdana"/>
                <a:ea typeface="Verdana"/>
              </a:rPr>
              <a:t>Sti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  <a:ea typeface="Verdana"/>
              </a:rPr>
              <a:t>Stiefel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  <a:ea typeface="Verdana"/>
              </a:rPr>
              <a:t>sta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  <a:ea typeface="Verdana"/>
              </a:rPr>
              <a:t>Stu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  <a:ea typeface="Verdana"/>
              </a:rPr>
              <a:t>Stopp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63"/>
          <p:cNvSpPr/>
          <p:nvPr/>
        </p:nvSpPr>
        <p:spPr>
          <a:xfrm>
            <a:off x="696960" y="4865760"/>
            <a:ext cx="2306520" cy="47512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Verdana"/>
                <a:ea typeface="Verdana"/>
              </a:rPr>
              <a:t>Schule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Verdana"/>
                <a:ea typeface="Verdana"/>
              </a:rPr>
              <a:t>Schuh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  <a:ea typeface="Verdana"/>
              </a:rPr>
              <a:t>Schaf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Verdana"/>
                <a:ea typeface="Verdana"/>
              </a:rPr>
              <a:t>schlafen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Verdana"/>
                <a:ea typeface="Verdana"/>
              </a:rPr>
              <a:t>Sch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  <a:ea typeface="Verdana"/>
              </a:rPr>
              <a:t>Schl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  <a:ea typeface="Verdana"/>
              </a:rPr>
              <a:t>Schn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  <a:ea typeface="Verdana"/>
              </a:rPr>
              <a:t>schwarz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4"/>
          <p:cNvSpPr/>
          <p:nvPr/>
        </p:nvSpPr>
        <p:spPr>
          <a:xfrm>
            <a:off x="4968720" y="5686560"/>
            <a:ext cx="2281320" cy="3857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Verdana"/>
                <a:ea typeface="Verdana"/>
              </a:rPr>
              <a:t>Sport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Verdana"/>
                <a:ea typeface="Verdana"/>
              </a:rPr>
              <a:t>sportlich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  <a:ea typeface="Verdana"/>
              </a:rPr>
              <a:t>spitz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Verdana"/>
                <a:ea typeface="Verdana"/>
              </a:rPr>
              <a:t>Spiel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  <a:ea typeface="Verdana"/>
              </a:rPr>
              <a:t>spann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  <a:ea typeface="Verdana"/>
              </a:rPr>
              <a:t>Spa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3a2c7"/>
            </a:gs>
            <a:gs pos="100000">
              <a:srgbClr val="ffff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uppieren 15"/>
          <p:cNvGrpSpPr/>
          <p:nvPr/>
        </p:nvGrpSpPr>
        <p:grpSpPr>
          <a:xfrm>
            <a:off x="125280" y="5224320"/>
            <a:ext cx="3884760" cy="2949840"/>
            <a:chOff x="125280" y="5224320"/>
            <a:chExt cx="3884760" cy="2949840"/>
          </a:xfrm>
        </p:grpSpPr>
        <p:sp>
          <p:nvSpPr>
            <p:cNvPr id="64" name="Freihandform 1"/>
            <p:cNvSpPr/>
            <p:nvPr/>
          </p:nvSpPr>
          <p:spPr>
            <a:xfrm>
              <a:off x="261720" y="5568840"/>
              <a:ext cx="3594240" cy="2605320"/>
            </a:xfrm>
            <a:custGeom>
              <a:avLst/>
              <a:gdLst>
                <a:gd name="textAreaLeft" fmla="*/ 0 w 3594240"/>
                <a:gd name="textAreaRight" fmla="*/ 3594600 w 3594240"/>
                <a:gd name="textAreaTop" fmla="*/ 0 h 2605320"/>
                <a:gd name="textAreaBottom" fmla="*/ 2605680 h 2605320"/>
              </a:gdLst>
              <a:ahLst/>
              <a:rect l="textAreaLeft" t="textAreaTop" r="textAreaRight" b="textAreaBottom"/>
              <a:pathLst>
                <a:path w="2926463" h="3198497">
                  <a:moveTo>
                    <a:pt x="6097" y="64771"/>
                  </a:moveTo>
                  <a:lnTo>
                    <a:pt x="1217550" y="0"/>
                  </a:lnTo>
                  <a:lnTo>
                    <a:pt x="2926462" y="9653"/>
                  </a:lnTo>
                  <a:lnTo>
                    <a:pt x="2926462" y="18034"/>
                  </a:lnTo>
                  <a:lnTo>
                    <a:pt x="2742565" y="2413000"/>
                  </a:lnTo>
                  <a:lnTo>
                    <a:pt x="2705862" y="2737867"/>
                  </a:lnTo>
                  <a:lnTo>
                    <a:pt x="2660524" y="2828036"/>
                  </a:lnTo>
                  <a:lnTo>
                    <a:pt x="2532253" y="2900172"/>
                  </a:lnTo>
                  <a:lnTo>
                    <a:pt x="1007238" y="3198496"/>
                  </a:lnTo>
                  <a:lnTo>
                    <a:pt x="805434" y="3188844"/>
                  </a:lnTo>
                  <a:lnTo>
                    <a:pt x="621539" y="3144647"/>
                  </a:lnTo>
                  <a:lnTo>
                    <a:pt x="299593" y="2954021"/>
                  </a:lnTo>
                  <a:lnTo>
                    <a:pt x="234950" y="2881758"/>
                  </a:lnTo>
                  <a:lnTo>
                    <a:pt x="0" y="66295"/>
                  </a:lnTo>
                  <a:lnTo>
                    <a:pt x="6097" y="64771"/>
                  </a:lnTo>
                  <a:close/>
                </a:path>
              </a:pathLst>
            </a:custGeom>
            <a:solidFill>
              <a:srgbClr val="303e87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Gerade Verbindung 2"/>
            <p:cNvSpPr/>
            <p:nvPr/>
          </p:nvSpPr>
          <p:spPr>
            <a:xfrm flipH="1">
              <a:off x="267840" y="5568840"/>
              <a:ext cx="1487520" cy="53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ihandform 3"/>
            <p:cNvSpPr/>
            <p:nvPr/>
          </p:nvSpPr>
          <p:spPr>
            <a:xfrm>
              <a:off x="125280" y="5224320"/>
              <a:ext cx="3884760" cy="627120"/>
            </a:xfrm>
            <a:custGeom>
              <a:avLst/>
              <a:gdLst>
                <a:gd name="textAreaLeft" fmla="*/ 0 w 3884760"/>
                <a:gd name="textAreaRight" fmla="*/ 3885120 w 3884760"/>
                <a:gd name="textAreaTop" fmla="*/ 0 h 627120"/>
                <a:gd name="textAreaBottom" fmla="*/ 627480 h 627120"/>
              </a:gdLst>
              <a:ahLst/>
              <a:rect l="textAreaLeft" t="textAreaTop" r="textAreaRight" b="textAreaBottom"/>
              <a:pathLst>
                <a:path w="3161793" h="769240">
                  <a:moveTo>
                    <a:pt x="1963548" y="16509"/>
                  </a:moveTo>
                  <a:lnTo>
                    <a:pt x="1997583" y="10921"/>
                  </a:lnTo>
                  <a:lnTo>
                    <a:pt x="2101596" y="2032"/>
                  </a:lnTo>
                  <a:lnTo>
                    <a:pt x="2240280" y="0"/>
                  </a:lnTo>
                  <a:lnTo>
                    <a:pt x="2379218" y="10414"/>
                  </a:lnTo>
                  <a:lnTo>
                    <a:pt x="2517902" y="34036"/>
                  </a:lnTo>
                  <a:lnTo>
                    <a:pt x="2676145" y="79120"/>
                  </a:lnTo>
                  <a:lnTo>
                    <a:pt x="2828671" y="132588"/>
                  </a:lnTo>
                  <a:lnTo>
                    <a:pt x="2937637" y="176783"/>
                  </a:lnTo>
                  <a:lnTo>
                    <a:pt x="3044571" y="226567"/>
                  </a:lnTo>
                  <a:lnTo>
                    <a:pt x="3137408" y="285242"/>
                  </a:lnTo>
                  <a:lnTo>
                    <a:pt x="3161792" y="323595"/>
                  </a:lnTo>
                  <a:lnTo>
                    <a:pt x="3161792" y="355092"/>
                  </a:lnTo>
                  <a:lnTo>
                    <a:pt x="3142996" y="385826"/>
                  </a:lnTo>
                  <a:lnTo>
                    <a:pt x="3083942" y="424433"/>
                  </a:lnTo>
                  <a:lnTo>
                    <a:pt x="3027808" y="445896"/>
                  </a:lnTo>
                  <a:lnTo>
                    <a:pt x="2958465" y="466343"/>
                  </a:lnTo>
                  <a:lnTo>
                    <a:pt x="1253745" y="754253"/>
                  </a:lnTo>
                  <a:lnTo>
                    <a:pt x="1159510" y="763778"/>
                  </a:lnTo>
                  <a:lnTo>
                    <a:pt x="1066292" y="769239"/>
                  </a:lnTo>
                  <a:lnTo>
                    <a:pt x="925576" y="767206"/>
                  </a:lnTo>
                  <a:lnTo>
                    <a:pt x="786638" y="753617"/>
                  </a:lnTo>
                  <a:lnTo>
                    <a:pt x="646558" y="727582"/>
                  </a:lnTo>
                  <a:lnTo>
                    <a:pt x="509017" y="691515"/>
                  </a:lnTo>
                  <a:lnTo>
                    <a:pt x="32004" y="464312"/>
                  </a:lnTo>
                  <a:lnTo>
                    <a:pt x="10542" y="440943"/>
                  </a:lnTo>
                  <a:lnTo>
                    <a:pt x="0" y="402208"/>
                  </a:lnTo>
                  <a:lnTo>
                    <a:pt x="6096" y="368427"/>
                  </a:lnTo>
                  <a:lnTo>
                    <a:pt x="30481" y="340105"/>
                  </a:lnTo>
                  <a:lnTo>
                    <a:pt x="72264" y="316738"/>
                  </a:lnTo>
                  <a:lnTo>
                    <a:pt x="132462" y="299084"/>
                  </a:lnTo>
                  <a:lnTo>
                    <a:pt x="1963548" y="1650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Gerade Verbindung 4"/>
            <p:cNvSpPr/>
            <p:nvPr/>
          </p:nvSpPr>
          <p:spPr>
            <a:xfrm flipV="1">
              <a:off x="2346480" y="6918480"/>
              <a:ext cx="12600" cy="1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ihandform 5"/>
            <p:cNvSpPr/>
            <p:nvPr/>
          </p:nvSpPr>
          <p:spPr>
            <a:xfrm>
              <a:off x="2792520" y="6556320"/>
              <a:ext cx="255600" cy="168120"/>
            </a:xfrm>
            <a:custGeom>
              <a:avLst/>
              <a:gdLst>
                <a:gd name="textAreaLeft" fmla="*/ 0 w 255600"/>
                <a:gd name="textAreaRight" fmla="*/ 255960 w 255600"/>
                <a:gd name="textAreaTop" fmla="*/ 0 h 168120"/>
                <a:gd name="textAreaBottom" fmla="*/ 168120 h 168120"/>
              </a:gdLst>
              <a:ahLst/>
              <a:rect l="textAreaLeft" t="textAreaTop" r="textAreaRight" b="textAreaBottom"/>
              <a:pathLst>
                <a:path w="208575" h="208064">
                  <a:moveTo>
                    <a:pt x="208574" y="0"/>
                  </a:moveTo>
                  <a:lnTo>
                    <a:pt x="91067" y="182055"/>
                  </a:lnTo>
                  <a:lnTo>
                    <a:pt x="0" y="208063"/>
                  </a:lnTo>
                </a:path>
              </a:pathLst>
            </a:custGeom>
            <a:noFill/>
            <a:ln w="288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ihandform 6"/>
            <p:cNvSpPr/>
            <p:nvPr/>
          </p:nvSpPr>
          <p:spPr>
            <a:xfrm>
              <a:off x="2274840" y="6564240"/>
              <a:ext cx="517320" cy="249120"/>
            </a:xfrm>
            <a:custGeom>
              <a:avLst/>
              <a:gdLst>
                <a:gd name="textAreaLeft" fmla="*/ 0 w 517320"/>
                <a:gd name="textAreaRight" fmla="*/ 517680 w 517320"/>
                <a:gd name="textAreaTop" fmla="*/ 0 h 249120"/>
                <a:gd name="textAreaBottom" fmla="*/ 249480 h 249120"/>
              </a:gdLst>
              <a:ahLst/>
              <a:rect l="textAreaLeft" t="textAreaTop" r="textAreaRight" b="textAreaBottom"/>
              <a:pathLst>
                <a:path w="420085" h="306311">
                  <a:moveTo>
                    <a:pt x="420084" y="199390"/>
                  </a:moveTo>
                  <a:lnTo>
                    <a:pt x="284952" y="0"/>
                  </a:lnTo>
                  <a:lnTo>
                    <a:pt x="135132" y="306310"/>
                  </a:lnTo>
                  <a:lnTo>
                    <a:pt x="0" y="234067"/>
                  </a:lnTo>
                </a:path>
              </a:pathLst>
            </a:custGeom>
            <a:noFill/>
            <a:ln w="288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ihandform 7"/>
            <p:cNvSpPr/>
            <p:nvPr/>
          </p:nvSpPr>
          <p:spPr>
            <a:xfrm>
              <a:off x="2660760" y="7002360"/>
              <a:ext cx="412560" cy="284040"/>
            </a:xfrm>
            <a:custGeom>
              <a:avLst/>
              <a:gdLst>
                <a:gd name="textAreaLeft" fmla="*/ 0 w 412560"/>
                <a:gd name="textAreaRight" fmla="*/ 412920 w 412560"/>
                <a:gd name="textAreaTop" fmla="*/ 0 h 284040"/>
                <a:gd name="textAreaBottom" fmla="*/ 284040 h 284040"/>
              </a:gdLst>
              <a:ahLst/>
              <a:rect l="textAreaLeft" t="textAreaTop" r="textAreaRight" b="textAreaBottom"/>
              <a:pathLst>
                <a:path w="337832" h="349658">
                  <a:moveTo>
                    <a:pt x="337831" y="17339"/>
                  </a:moveTo>
                  <a:lnTo>
                    <a:pt x="91067" y="75133"/>
                  </a:lnTo>
                  <a:lnTo>
                    <a:pt x="94005" y="0"/>
                  </a:lnTo>
                  <a:lnTo>
                    <a:pt x="0" y="193612"/>
                  </a:lnTo>
                  <a:lnTo>
                    <a:pt x="102818" y="349657"/>
                  </a:lnTo>
                  <a:lnTo>
                    <a:pt x="67566" y="236958"/>
                  </a:lnTo>
                  <a:lnTo>
                    <a:pt x="237951" y="234067"/>
                  </a:lnTo>
                  <a:lnTo>
                    <a:pt x="337831" y="17339"/>
                  </a:lnTo>
                  <a:close/>
                </a:path>
              </a:pathLst>
            </a:custGeom>
            <a:noFill/>
            <a:ln w="288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ihandform 8"/>
            <p:cNvSpPr/>
            <p:nvPr/>
          </p:nvSpPr>
          <p:spPr>
            <a:xfrm>
              <a:off x="2840040" y="6718320"/>
              <a:ext cx="342720" cy="298440"/>
            </a:xfrm>
            <a:custGeom>
              <a:avLst/>
              <a:gdLst>
                <a:gd name="textAreaLeft" fmla="*/ 0 w 342720"/>
                <a:gd name="textAreaRight" fmla="*/ 343080 w 342720"/>
                <a:gd name="textAreaTop" fmla="*/ 0 h 298440"/>
                <a:gd name="textAreaBottom" fmla="*/ 298800 h 298440"/>
              </a:gdLst>
              <a:ahLst/>
              <a:rect l="textAreaLeft" t="textAreaTop" r="textAreaRight" b="textAreaBottom"/>
              <a:pathLst>
                <a:path w="279077" h="367004">
                  <a:moveTo>
                    <a:pt x="190947" y="367003"/>
                  </a:moveTo>
                  <a:lnTo>
                    <a:pt x="279076" y="173387"/>
                  </a:lnTo>
                  <a:lnTo>
                    <a:pt x="170383" y="0"/>
                  </a:lnTo>
                  <a:lnTo>
                    <a:pt x="0" y="130041"/>
                  </a:lnTo>
                  <a:lnTo>
                    <a:pt x="190947" y="367003"/>
                  </a:lnTo>
                  <a:close/>
                </a:path>
              </a:pathLst>
            </a:custGeom>
            <a:noFill/>
            <a:ln w="288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ihandform 9"/>
            <p:cNvSpPr/>
            <p:nvPr/>
          </p:nvSpPr>
          <p:spPr>
            <a:xfrm>
              <a:off x="2406600" y="6529320"/>
              <a:ext cx="558720" cy="99720"/>
            </a:xfrm>
            <a:custGeom>
              <a:avLst/>
              <a:gdLst>
                <a:gd name="textAreaLeft" fmla="*/ 0 w 558720"/>
                <a:gd name="textAreaRight" fmla="*/ 559080 w 558720"/>
                <a:gd name="textAreaTop" fmla="*/ 0 h 99720"/>
                <a:gd name="textAreaBottom" fmla="*/ 100080 h 99720"/>
              </a:gdLst>
              <a:ahLst/>
              <a:rect l="textAreaLeft" t="textAreaTop" r="textAreaRight" b="textAreaBottom"/>
              <a:pathLst>
                <a:path w="455338" h="121372">
                  <a:moveTo>
                    <a:pt x="0" y="60685"/>
                  </a:moveTo>
                  <a:lnTo>
                    <a:pt x="381896" y="0"/>
                  </a:lnTo>
                  <a:lnTo>
                    <a:pt x="455337" y="121371"/>
                  </a:lnTo>
                </a:path>
              </a:pathLst>
            </a:custGeom>
            <a:noFill/>
            <a:ln w="288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ihandform 10"/>
            <p:cNvSpPr/>
            <p:nvPr/>
          </p:nvSpPr>
          <p:spPr>
            <a:xfrm>
              <a:off x="2057400" y="6869160"/>
              <a:ext cx="511200" cy="388800"/>
            </a:xfrm>
            <a:custGeom>
              <a:avLst/>
              <a:gdLst>
                <a:gd name="textAreaLeft" fmla="*/ 0 w 511200"/>
                <a:gd name="textAreaRight" fmla="*/ 511560 w 511200"/>
                <a:gd name="textAreaTop" fmla="*/ 0 h 388800"/>
                <a:gd name="textAreaBottom" fmla="*/ 389160 h 388800"/>
              </a:gdLst>
              <a:ahLst/>
              <a:rect l="textAreaLeft" t="textAreaTop" r="textAreaRight" b="textAreaBottom"/>
              <a:pathLst>
                <a:path w="417148" h="476812">
                  <a:moveTo>
                    <a:pt x="8813" y="0"/>
                  </a:moveTo>
                  <a:lnTo>
                    <a:pt x="94005" y="11559"/>
                  </a:lnTo>
                  <a:lnTo>
                    <a:pt x="0" y="167606"/>
                  </a:lnTo>
                  <a:lnTo>
                    <a:pt x="182134" y="476811"/>
                  </a:lnTo>
                  <a:lnTo>
                    <a:pt x="417147" y="436354"/>
                  </a:lnTo>
                  <a:lnTo>
                    <a:pt x="411271" y="248519"/>
                  </a:lnTo>
                  <a:lnTo>
                    <a:pt x="96942" y="317874"/>
                  </a:lnTo>
                  <a:lnTo>
                    <a:pt x="235012" y="80913"/>
                  </a:lnTo>
                </a:path>
              </a:pathLst>
            </a:custGeom>
            <a:noFill/>
            <a:ln w="288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ihandform 11"/>
            <p:cNvSpPr/>
            <p:nvPr/>
          </p:nvSpPr>
          <p:spPr>
            <a:xfrm>
              <a:off x="2346480" y="6918480"/>
              <a:ext cx="60120" cy="4752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49941" h="57799">
                  <a:moveTo>
                    <a:pt x="11751" y="0"/>
                  </a:moveTo>
                  <a:lnTo>
                    <a:pt x="-15596" y="-7738"/>
                  </a:lnTo>
                  <a:lnTo>
                    <a:pt x="0" y="20229"/>
                  </a:lnTo>
                </a:path>
              </a:pathLst>
            </a:custGeom>
            <a:noFill/>
            <a:ln w="288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ihandform 12"/>
            <p:cNvSpPr/>
            <p:nvPr/>
          </p:nvSpPr>
          <p:spPr>
            <a:xfrm>
              <a:off x="2070000" y="6842160"/>
              <a:ext cx="288720" cy="75960"/>
            </a:xfrm>
            <a:custGeom>
              <a:avLst/>
              <a:gdLst>
                <a:gd name="textAreaLeft" fmla="*/ 0 w 288720"/>
                <a:gd name="textAreaRight" fmla="*/ 289080 w 28872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235014" h="92479">
                  <a:moveTo>
                    <a:pt x="0" y="23119"/>
                  </a:moveTo>
                  <a:lnTo>
                    <a:pt x="173322" y="0"/>
                  </a:lnTo>
                  <a:lnTo>
                    <a:pt x="235013" y="92478"/>
                  </a:lnTo>
                </a:path>
              </a:pathLst>
            </a:custGeom>
            <a:noFill/>
            <a:ln w="288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Gerade Verbindung 13"/>
            <p:cNvSpPr/>
            <p:nvPr/>
          </p:nvSpPr>
          <p:spPr>
            <a:xfrm flipV="1">
              <a:off x="2274840" y="6578280"/>
              <a:ext cx="129960" cy="176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Gerade Verbindung 14"/>
            <p:cNvSpPr/>
            <p:nvPr/>
          </p:nvSpPr>
          <p:spPr>
            <a:xfrm flipH="1">
              <a:off x="2669760" y="6724800"/>
              <a:ext cx="122040" cy="23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Ellipse 16"/>
          <p:cNvSpPr/>
          <p:nvPr/>
        </p:nvSpPr>
        <p:spPr>
          <a:xfrm>
            <a:off x="534960" y="1330200"/>
            <a:ext cx="2612880" cy="26560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Ellipse 17"/>
          <p:cNvSpPr/>
          <p:nvPr/>
        </p:nvSpPr>
        <p:spPr>
          <a:xfrm>
            <a:off x="4824360" y="1224000"/>
            <a:ext cx="2578320" cy="276372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Ellipse 18"/>
          <p:cNvSpPr/>
          <p:nvPr/>
        </p:nvSpPr>
        <p:spPr>
          <a:xfrm>
            <a:off x="8845560" y="1295280"/>
            <a:ext cx="2685960" cy="2657520"/>
          </a:xfrm>
          <a:prstGeom prst="ellipse">
            <a:avLst/>
          </a:prstGeom>
          <a:solidFill>
            <a:srgbClr val="ffc0cb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feld 19"/>
          <p:cNvSpPr/>
          <p:nvPr/>
        </p:nvSpPr>
        <p:spPr>
          <a:xfrm>
            <a:off x="841320" y="1890720"/>
            <a:ext cx="2166840" cy="11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6900" spc="-1" strike="noStrike">
                <a:solidFill>
                  <a:srgbClr val="000000"/>
                </a:solidFill>
                <a:latin typeface="Verdana"/>
                <a:ea typeface="Arial"/>
              </a:rPr>
              <a:t>sch</a:t>
            </a:r>
            <a:endParaRPr b="0" lang="en-US" sz="6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feld 20"/>
          <p:cNvSpPr/>
          <p:nvPr/>
        </p:nvSpPr>
        <p:spPr>
          <a:xfrm>
            <a:off x="9534600" y="1974960"/>
            <a:ext cx="1262160" cy="12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300" spc="-1" strike="noStrike">
                <a:solidFill>
                  <a:srgbClr val="000000"/>
                </a:solidFill>
                <a:latin typeface="Verdana"/>
                <a:ea typeface="Arial"/>
              </a:rPr>
              <a:t>st</a:t>
            </a: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feld 21"/>
          <p:cNvSpPr/>
          <p:nvPr/>
        </p:nvSpPr>
        <p:spPr>
          <a:xfrm>
            <a:off x="5383080" y="1849320"/>
            <a:ext cx="1650960" cy="12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500" spc="-1" strike="noStrike">
                <a:solidFill>
                  <a:srgbClr val="000000"/>
                </a:solidFill>
                <a:latin typeface="Verdana"/>
                <a:ea typeface="Arial"/>
              </a:rPr>
              <a:t>sp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Gerade Verbindung 22"/>
          <p:cNvSpPr/>
          <p:nvPr/>
        </p:nvSpPr>
        <p:spPr>
          <a:xfrm>
            <a:off x="6113520" y="4000680"/>
            <a:ext cx="0" cy="2138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Gerade Verbindung 23"/>
          <p:cNvSpPr/>
          <p:nvPr/>
        </p:nvSpPr>
        <p:spPr>
          <a:xfrm>
            <a:off x="10293480" y="3968640"/>
            <a:ext cx="0" cy="1943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Gruppieren 38"/>
          <p:cNvGrpSpPr/>
          <p:nvPr/>
        </p:nvGrpSpPr>
        <p:grpSpPr>
          <a:xfrm>
            <a:off x="4172040" y="5160960"/>
            <a:ext cx="3929040" cy="2981160"/>
            <a:chOff x="4172040" y="5160960"/>
            <a:chExt cx="3929040" cy="2981160"/>
          </a:xfrm>
        </p:grpSpPr>
        <p:sp>
          <p:nvSpPr>
            <p:cNvPr id="87" name="Freihandform 24"/>
            <p:cNvSpPr/>
            <p:nvPr/>
          </p:nvSpPr>
          <p:spPr>
            <a:xfrm>
              <a:off x="4308480" y="5510160"/>
              <a:ext cx="3637080" cy="2631960"/>
            </a:xfrm>
            <a:custGeom>
              <a:avLst/>
              <a:gdLst>
                <a:gd name="textAreaLeft" fmla="*/ 0 w 3637080"/>
                <a:gd name="textAreaRight" fmla="*/ 3637440 w 3637080"/>
                <a:gd name="textAreaTop" fmla="*/ 0 h 2631960"/>
                <a:gd name="textAreaBottom" fmla="*/ 2632320 h 2631960"/>
              </a:gdLst>
              <a:ahLst/>
              <a:rect l="textAreaLeft" t="textAreaTop" r="textAreaRight" b="textAreaBottom"/>
              <a:pathLst>
                <a:path w="2959354" h="3233930">
                  <a:moveTo>
                    <a:pt x="6222" y="65406"/>
                  </a:moveTo>
                  <a:lnTo>
                    <a:pt x="1231391" y="0"/>
                  </a:lnTo>
                  <a:lnTo>
                    <a:pt x="2959353" y="9653"/>
                  </a:lnTo>
                  <a:lnTo>
                    <a:pt x="2959353" y="18161"/>
                  </a:lnTo>
                  <a:lnTo>
                    <a:pt x="2773426" y="2439797"/>
                  </a:lnTo>
                  <a:lnTo>
                    <a:pt x="2736214" y="2768220"/>
                  </a:lnTo>
                  <a:lnTo>
                    <a:pt x="2690621" y="2859406"/>
                  </a:lnTo>
                  <a:lnTo>
                    <a:pt x="2560701" y="2932304"/>
                  </a:lnTo>
                  <a:lnTo>
                    <a:pt x="1018666" y="3233929"/>
                  </a:lnTo>
                  <a:lnTo>
                    <a:pt x="814577" y="3224277"/>
                  </a:lnTo>
                  <a:lnTo>
                    <a:pt x="628650" y="3179572"/>
                  </a:lnTo>
                  <a:lnTo>
                    <a:pt x="303021" y="2986659"/>
                  </a:lnTo>
                  <a:lnTo>
                    <a:pt x="237744" y="2913634"/>
                  </a:lnTo>
                  <a:lnTo>
                    <a:pt x="0" y="66930"/>
                  </a:lnTo>
                  <a:lnTo>
                    <a:pt x="6222" y="65406"/>
                  </a:lnTo>
                  <a:close/>
                </a:path>
              </a:pathLst>
            </a:custGeom>
            <a:solidFill>
              <a:srgbClr val="303e87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Gerade Verbindung 25"/>
            <p:cNvSpPr/>
            <p:nvPr/>
          </p:nvSpPr>
          <p:spPr>
            <a:xfrm flipH="1">
              <a:off x="4316040" y="5510160"/>
              <a:ext cx="1506600" cy="53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ihandform 26"/>
            <p:cNvSpPr/>
            <p:nvPr/>
          </p:nvSpPr>
          <p:spPr>
            <a:xfrm>
              <a:off x="4172040" y="5160960"/>
              <a:ext cx="3929040" cy="633240"/>
            </a:xfrm>
            <a:custGeom>
              <a:avLst/>
              <a:gdLst>
                <a:gd name="textAreaLeft" fmla="*/ 0 w 3929040"/>
                <a:gd name="textAreaRight" fmla="*/ 3929400 w 3929040"/>
                <a:gd name="textAreaTop" fmla="*/ 0 h 633240"/>
                <a:gd name="textAreaBottom" fmla="*/ 633600 h 633240"/>
              </a:gdLst>
              <a:ahLst/>
              <a:rect l="textAreaLeft" t="textAreaTop" r="textAreaRight" b="textAreaBottom"/>
              <a:pathLst>
                <a:path w="3197480" h="777876">
                  <a:moveTo>
                    <a:pt x="1985645" y="16637"/>
                  </a:moveTo>
                  <a:lnTo>
                    <a:pt x="2020189" y="11176"/>
                  </a:lnTo>
                  <a:lnTo>
                    <a:pt x="2125345" y="2158"/>
                  </a:lnTo>
                  <a:lnTo>
                    <a:pt x="2265554" y="0"/>
                  </a:lnTo>
                  <a:lnTo>
                    <a:pt x="2406015" y="10668"/>
                  </a:lnTo>
                  <a:lnTo>
                    <a:pt x="2546224" y="34544"/>
                  </a:lnTo>
                  <a:lnTo>
                    <a:pt x="2706370" y="80137"/>
                  </a:lnTo>
                  <a:lnTo>
                    <a:pt x="2860549" y="134112"/>
                  </a:lnTo>
                  <a:lnTo>
                    <a:pt x="2970785" y="178942"/>
                  </a:lnTo>
                  <a:lnTo>
                    <a:pt x="3078862" y="229234"/>
                  </a:lnTo>
                  <a:lnTo>
                    <a:pt x="3172715" y="288543"/>
                  </a:lnTo>
                  <a:lnTo>
                    <a:pt x="3197479" y="327279"/>
                  </a:lnTo>
                  <a:lnTo>
                    <a:pt x="3197479" y="359155"/>
                  </a:lnTo>
                  <a:lnTo>
                    <a:pt x="3178429" y="390143"/>
                  </a:lnTo>
                  <a:lnTo>
                    <a:pt x="3118613" y="429259"/>
                  </a:lnTo>
                  <a:lnTo>
                    <a:pt x="3061844" y="450977"/>
                  </a:lnTo>
                  <a:lnTo>
                    <a:pt x="2991739" y="471678"/>
                  </a:lnTo>
                  <a:lnTo>
                    <a:pt x="1267969" y="762634"/>
                  </a:lnTo>
                  <a:lnTo>
                    <a:pt x="1172592" y="772287"/>
                  </a:lnTo>
                  <a:lnTo>
                    <a:pt x="1078357" y="777875"/>
                  </a:lnTo>
                  <a:lnTo>
                    <a:pt x="936118" y="775716"/>
                  </a:lnTo>
                  <a:lnTo>
                    <a:pt x="795656" y="762127"/>
                  </a:lnTo>
                  <a:lnTo>
                    <a:pt x="653924" y="735711"/>
                  </a:lnTo>
                  <a:lnTo>
                    <a:pt x="514858" y="699262"/>
                  </a:lnTo>
                  <a:lnTo>
                    <a:pt x="32513" y="469518"/>
                  </a:lnTo>
                  <a:lnTo>
                    <a:pt x="10795" y="445896"/>
                  </a:lnTo>
                  <a:lnTo>
                    <a:pt x="0" y="406780"/>
                  </a:lnTo>
                  <a:lnTo>
                    <a:pt x="6350" y="372617"/>
                  </a:lnTo>
                  <a:lnTo>
                    <a:pt x="30988" y="343916"/>
                  </a:lnTo>
                  <a:lnTo>
                    <a:pt x="73152" y="320293"/>
                  </a:lnTo>
                  <a:lnTo>
                    <a:pt x="133986" y="302514"/>
                  </a:lnTo>
                  <a:lnTo>
                    <a:pt x="1985645" y="1663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Gerade Verbindung 27"/>
            <p:cNvSpPr/>
            <p:nvPr/>
          </p:nvSpPr>
          <p:spPr>
            <a:xfrm flipV="1">
              <a:off x="6416640" y="6873480"/>
              <a:ext cx="14040" cy="14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ihandform 28"/>
            <p:cNvSpPr/>
            <p:nvPr/>
          </p:nvSpPr>
          <p:spPr>
            <a:xfrm>
              <a:off x="6870960" y="6507000"/>
              <a:ext cx="258480" cy="171360"/>
            </a:xfrm>
            <a:custGeom>
              <a:avLst/>
              <a:gdLst>
                <a:gd name="textAreaLeft" fmla="*/ 0 w 258480"/>
                <a:gd name="textAreaRight" fmla="*/ 258840 w 25848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210921" h="210379">
                  <a:moveTo>
                    <a:pt x="210920" y="0"/>
                  </a:moveTo>
                  <a:lnTo>
                    <a:pt x="92092" y="184081"/>
                  </a:lnTo>
                  <a:lnTo>
                    <a:pt x="0" y="210378"/>
                  </a:lnTo>
                </a:path>
              </a:pathLst>
            </a:custGeom>
            <a:noFill/>
            <a:ln w="29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ihandform 29"/>
            <p:cNvSpPr/>
            <p:nvPr/>
          </p:nvSpPr>
          <p:spPr>
            <a:xfrm>
              <a:off x="6346800" y="6513480"/>
              <a:ext cx="523800" cy="252360"/>
            </a:xfrm>
            <a:custGeom>
              <a:avLst/>
              <a:gdLst>
                <a:gd name="textAreaLeft" fmla="*/ 0 w 523800"/>
                <a:gd name="textAreaRight" fmla="*/ 524160 w 52380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424801" h="309714">
                  <a:moveTo>
                    <a:pt x="424800" y="201605"/>
                  </a:moveTo>
                  <a:lnTo>
                    <a:pt x="288151" y="0"/>
                  </a:lnTo>
                  <a:lnTo>
                    <a:pt x="136649" y="309713"/>
                  </a:lnTo>
                  <a:lnTo>
                    <a:pt x="0" y="236668"/>
                  </a:lnTo>
                </a:path>
              </a:pathLst>
            </a:custGeom>
            <a:noFill/>
            <a:ln w="29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ihandform 30"/>
            <p:cNvSpPr/>
            <p:nvPr/>
          </p:nvSpPr>
          <p:spPr>
            <a:xfrm>
              <a:off x="6735960" y="6958080"/>
              <a:ext cx="419040" cy="288720"/>
            </a:xfrm>
            <a:custGeom>
              <a:avLst/>
              <a:gdLst>
                <a:gd name="textAreaLeft" fmla="*/ 0 w 419040"/>
                <a:gd name="textAreaRight" fmla="*/ 419400 w 419040"/>
                <a:gd name="textAreaTop" fmla="*/ 0 h 288720"/>
                <a:gd name="textAreaBottom" fmla="*/ 288720 h 288720"/>
              </a:gdLst>
              <a:ahLst/>
              <a:rect l="textAreaLeft" t="textAreaTop" r="textAreaRight" b="textAreaBottom"/>
              <a:pathLst>
                <a:path w="341628" h="353544">
                  <a:moveTo>
                    <a:pt x="341627" y="17531"/>
                  </a:moveTo>
                  <a:lnTo>
                    <a:pt x="92091" y="75968"/>
                  </a:lnTo>
                  <a:lnTo>
                    <a:pt x="95062" y="0"/>
                  </a:lnTo>
                  <a:lnTo>
                    <a:pt x="0" y="195764"/>
                  </a:lnTo>
                  <a:lnTo>
                    <a:pt x="103974" y="353543"/>
                  </a:lnTo>
                  <a:lnTo>
                    <a:pt x="68326" y="239591"/>
                  </a:lnTo>
                  <a:lnTo>
                    <a:pt x="240625" y="236670"/>
                  </a:lnTo>
                  <a:lnTo>
                    <a:pt x="341627" y="17531"/>
                  </a:lnTo>
                  <a:close/>
                </a:path>
              </a:pathLst>
            </a:custGeom>
            <a:noFill/>
            <a:ln w="29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ihandform 31"/>
            <p:cNvSpPr/>
            <p:nvPr/>
          </p:nvSpPr>
          <p:spPr>
            <a:xfrm>
              <a:off x="6917040" y="6672240"/>
              <a:ext cx="347400" cy="29988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299880"/>
                <a:gd name="textAreaBottom" fmla="*/ 300240 h 299880"/>
              </a:gdLst>
              <a:ahLst/>
              <a:rect l="textAreaLeft" t="textAreaTop" r="textAreaRight" b="textAreaBottom"/>
              <a:pathLst>
                <a:path w="282213" h="371083">
                  <a:moveTo>
                    <a:pt x="193092" y="371082"/>
                  </a:moveTo>
                  <a:lnTo>
                    <a:pt x="282212" y="175315"/>
                  </a:lnTo>
                  <a:lnTo>
                    <a:pt x="172298" y="0"/>
                  </a:lnTo>
                  <a:lnTo>
                    <a:pt x="0" y="131485"/>
                  </a:lnTo>
                  <a:lnTo>
                    <a:pt x="193092" y="371082"/>
                  </a:lnTo>
                  <a:close/>
                </a:path>
              </a:pathLst>
            </a:custGeom>
            <a:noFill/>
            <a:ln w="29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ihandform 32"/>
            <p:cNvSpPr/>
            <p:nvPr/>
          </p:nvSpPr>
          <p:spPr>
            <a:xfrm>
              <a:off x="6480360" y="6480000"/>
              <a:ext cx="564840" cy="101520"/>
            </a:xfrm>
            <a:custGeom>
              <a:avLst/>
              <a:gdLst>
                <a:gd name="textAreaLeft" fmla="*/ 0 w 564840"/>
                <a:gd name="textAreaRight" fmla="*/ 565200 w 56484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460451" h="122717">
                  <a:moveTo>
                    <a:pt x="0" y="61358"/>
                  </a:moveTo>
                  <a:lnTo>
                    <a:pt x="386184" y="0"/>
                  </a:lnTo>
                  <a:lnTo>
                    <a:pt x="460450" y="122716"/>
                  </a:lnTo>
                </a:path>
              </a:pathLst>
            </a:custGeom>
            <a:noFill/>
            <a:ln w="29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Freihandform 33"/>
            <p:cNvSpPr/>
            <p:nvPr/>
          </p:nvSpPr>
          <p:spPr>
            <a:xfrm>
              <a:off x="6124680" y="6823080"/>
              <a:ext cx="519120" cy="392040"/>
            </a:xfrm>
            <a:custGeom>
              <a:avLst/>
              <a:gdLst>
                <a:gd name="textAreaLeft" fmla="*/ 0 w 519120"/>
                <a:gd name="textAreaRight" fmla="*/ 519480 w 519120"/>
                <a:gd name="textAreaTop" fmla="*/ 0 h 392040"/>
                <a:gd name="textAreaBottom" fmla="*/ 392400 h 392040"/>
              </a:gdLst>
              <a:ahLst/>
              <a:rect l="textAreaLeft" t="textAreaTop" r="textAreaRight" b="textAreaBottom"/>
              <a:pathLst>
                <a:path w="421836" h="482099">
                  <a:moveTo>
                    <a:pt x="8912" y="0"/>
                  </a:moveTo>
                  <a:lnTo>
                    <a:pt x="95061" y="11688"/>
                  </a:lnTo>
                  <a:lnTo>
                    <a:pt x="0" y="169465"/>
                  </a:lnTo>
                  <a:lnTo>
                    <a:pt x="184182" y="482098"/>
                  </a:lnTo>
                  <a:lnTo>
                    <a:pt x="421835" y="441193"/>
                  </a:lnTo>
                  <a:lnTo>
                    <a:pt x="415893" y="251275"/>
                  </a:lnTo>
                  <a:lnTo>
                    <a:pt x="98032" y="321399"/>
                  </a:lnTo>
                  <a:lnTo>
                    <a:pt x="237654" y="81811"/>
                  </a:lnTo>
                </a:path>
              </a:pathLst>
            </a:custGeom>
            <a:noFill/>
            <a:ln w="29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ihandform 34"/>
            <p:cNvSpPr/>
            <p:nvPr/>
          </p:nvSpPr>
          <p:spPr>
            <a:xfrm>
              <a:off x="6416640" y="6873840"/>
              <a:ext cx="63360" cy="4752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50501" h="58437">
                  <a:moveTo>
                    <a:pt x="11882" y="0"/>
                  </a:moveTo>
                  <a:lnTo>
                    <a:pt x="-15036" y="-7100"/>
                  </a:lnTo>
                  <a:lnTo>
                    <a:pt x="0" y="20453"/>
                  </a:lnTo>
                </a:path>
              </a:pathLst>
            </a:custGeom>
            <a:noFill/>
            <a:ln w="29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ihandform 35"/>
            <p:cNvSpPr/>
            <p:nvPr/>
          </p:nvSpPr>
          <p:spPr>
            <a:xfrm>
              <a:off x="6140520" y="6797520"/>
              <a:ext cx="290520" cy="75960"/>
            </a:xfrm>
            <a:custGeom>
              <a:avLst/>
              <a:gdLst>
                <a:gd name="textAreaLeft" fmla="*/ 0 w 290520"/>
                <a:gd name="textAreaRight" fmla="*/ 290880 w 29052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237655" h="93506">
                  <a:moveTo>
                    <a:pt x="0" y="23376"/>
                  </a:moveTo>
                  <a:lnTo>
                    <a:pt x="175270" y="0"/>
                  </a:lnTo>
                  <a:lnTo>
                    <a:pt x="237654" y="93505"/>
                  </a:lnTo>
                </a:path>
              </a:pathLst>
            </a:custGeom>
            <a:noFill/>
            <a:ln w="29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Gerade Verbindung 36"/>
            <p:cNvSpPr/>
            <p:nvPr/>
          </p:nvSpPr>
          <p:spPr>
            <a:xfrm flipV="1">
              <a:off x="6346800" y="6530400"/>
              <a:ext cx="128520" cy="176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Gerade Verbindung 37"/>
            <p:cNvSpPr/>
            <p:nvPr/>
          </p:nvSpPr>
          <p:spPr>
            <a:xfrm flipH="1">
              <a:off x="6745320" y="6678360"/>
              <a:ext cx="125280" cy="21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Gruppieren 53"/>
          <p:cNvGrpSpPr/>
          <p:nvPr/>
        </p:nvGrpSpPr>
        <p:grpSpPr>
          <a:xfrm>
            <a:off x="8400960" y="5149800"/>
            <a:ext cx="3854520" cy="2927520"/>
            <a:chOff x="8400960" y="5149800"/>
            <a:chExt cx="3854520" cy="2927520"/>
          </a:xfrm>
        </p:grpSpPr>
        <p:sp>
          <p:nvSpPr>
            <p:cNvPr id="102" name="Freihandform 39"/>
            <p:cNvSpPr/>
            <p:nvPr/>
          </p:nvSpPr>
          <p:spPr>
            <a:xfrm>
              <a:off x="8535600" y="5492520"/>
              <a:ext cx="3567240" cy="2584800"/>
            </a:xfrm>
            <a:custGeom>
              <a:avLst/>
              <a:gdLst>
                <a:gd name="textAreaLeft" fmla="*/ 0 w 3567240"/>
                <a:gd name="textAreaRight" fmla="*/ 3567600 w 3567240"/>
                <a:gd name="textAreaTop" fmla="*/ 0 h 2584800"/>
                <a:gd name="textAreaBottom" fmla="*/ 2585160 h 2584800"/>
              </a:gdLst>
              <a:ahLst/>
              <a:rect l="textAreaLeft" t="textAreaTop" r="textAreaRight" b="textAreaBottom"/>
              <a:pathLst>
                <a:path w="2904617" h="3175001">
                  <a:moveTo>
                    <a:pt x="5968" y="64262"/>
                  </a:moveTo>
                  <a:lnTo>
                    <a:pt x="1208531" y="0"/>
                  </a:lnTo>
                  <a:lnTo>
                    <a:pt x="2904616" y="9525"/>
                  </a:lnTo>
                  <a:lnTo>
                    <a:pt x="2904616" y="17908"/>
                  </a:lnTo>
                  <a:lnTo>
                    <a:pt x="2722244" y="2395347"/>
                  </a:lnTo>
                  <a:lnTo>
                    <a:pt x="2685668" y="2717673"/>
                  </a:lnTo>
                  <a:lnTo>
                    <a:pt x="2640838" y="2807335"/>
                  </a:lnTo>
                  <a:lnTo>
                    <a:pt x="2513329" y="2878836"/>
                  </a:lnTo>
                  <a:lnTo>
                    <a:pt x="999871" y="3175000"/>
                  </a:lnTo>
                  <a:lnTo>
                    <a:pt x="799591" y="3165603"/>
                  </a:lnTo>
                  <a:lnTo>
                    <a:pt x="616965" y="3121660"/>
                  </a:lnTo>
                  <a:lnTo>
                    <a:pt x="297434" y="2932176"/>
                  </a:lnTo>
                  <a:lnTo>
                    <a:pt x="233299" y="2860548"/>
                  </a:lnTo>
                  <a:lnTo>
                    <a:pt x="0" y="65659"/>
                  </a:lnTo>
                  <a:lnTo>
                    <a:pt x="5968" y="64262"/>
                  </a:lnTo>
                  <a:close/>
                </a:path>
              </a:pathLst>
            </a:custGeom>
            <a:solidFill>
              <a:srgbClr val="303e87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Gerade Verbindung 40"/>
            <p:cNvSpPr/>
            <p:nvPr/>
          </p:nvSpPr>
          <p:spPr>
            <a:xfrm flipH="1">
              <a:off x="8543160" y="5492520"/>
              <a:ext cx="1476360" cy="52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ihandform 41"/>
            <p:cNvSpPr/>
            <p:nvPr/>
          </p:nvSpPr>
          <p:spPr>
            <a:xfrm>
              <a:off x="8400960" y="5149800"/>
              <a:ext cx="3854520" cy="620640"/>
            </a:xfrm>
            <a:custGeom>
              <a:avLst/>
              <a:gdLst>
                <a:gd name="textAreaLeft" fmla="*/ 0 w 3854520"/>
                <a:gd name="textAreaRight" fmla="*/ 3854880 w 3854520"/>
                <a:gd name="textAreaTop" fmla="*/ 0 h 620640"/>
                <a:gd name="textAreaBottom" fmla="*/ 621000 h 620640"/>
              </a:gdLst>
              <a:ahLst/>
              <a:rect l="textAreaLeft" t="textAreaTop" r="textAreaRight" b="textAreaBottom"/>
              <a:pathLst>
                <a:path w="3138297" h="763653">
                  <a:moveTo>
                    <a:pt x="1949068" y="16256"/>
                  </a:moveTo>
                  <a:lnTo>
                    <a:pt x="1982724" y="11049"/>
                  </a:lnTo>
                  <a:lnTo>
                    <a:pt x="2085975" y="2033"/>
                  </a:lnTo>
                  <a:lnTo>
                    <a:pt x="2223642" y="0"/>
                  </a:lnTo>
                  <a:lnTo>
                    <a:pt x="2361438" y="10415"/>
                  </a:lnTo>
                  <a:lnTo>
                    <a:pt x="2499105" y="33910"/>
                  </a:lnTo>
                  <a:lnTo>
                    <a:pt x="2656331" y="78741"/>
                  </a:lnTo>
                  <a:lnTo>
                    <a:pt x="2807716" y="131699"/>
                  </a:lnTo>
                  <a:lnTo>
                    <a:pt x="2915792" y="175642"/>
                  </a:lnTo>
                  <a:lnTo>
                    <a:pt x="3021838" y="224918"/>
                  </a:lnTo>
                  <a:lnTo>
                    <a:pt x="3114040" y="283210"/>
                  </a:lnTo>
                  <a:lnTo>
                    <a:pt x="3138296" y="321310"/>
                  </a:lnTo>
                  <a:lnTo>
                    <a:pt x="3138296" y="352553"/>
                  </a:lnTo>
                  <a:lnTo>
                    <a:pt x="3119628" y="383032"/>
                  </a:lnTo>
                  <a:lnTo>
                    <a:pt x="3061080" y="421386"/>
                  </a:lnTo>
                  <a:lnTo>
                    <a:pt x="3005328" y="442722"/>
                  </a:lnTo>
                  <a:lnTo>
                    <a:pt x="2936493" y="463043"/>
                  </a:lnTo>
                  <a:lnTo>
                    <a:pt x="1244600" y="748666"/>
                  </a:lnTo>
                  <a:lnTo>
                    <a:pt x="1151001" y="758064"/>
                  </a:lnTo>
                  <a:lnTo>
                    <a:pt x="1058417" y="763652"/>
                  </a:lnTo>
                  <a:lnTo>
                    <a:pt x="918844" y="761493"/>
                  </a:lnTo>
                  <a:lnTo>
                    <a:pt x="780922" y="748157"/>
                  </a:lnTo>
                  <a:lnTo>
                    <a:pt x="641857" y="722377"/>
                  </a:lnTo>
                  <a:lnTo>
                    <a:pt x="505332" y="686562"/>
                  </a:lnTo>
                  <a:lnTo>
                    <a:pt x="31750" y="461010"/>
                  </a:lnTo>
                  <a:lnTo>
                    <a:pt x="10667" y="437643"/>
                  </a:lnTo>
                  <a:lnTo>
                    <a:pt x="0" y="399289"/>
                  </a:lnTo>
                  <a:lnTo>
                    <a:pt x="6095" y="365887"/>
                  </a:lnTo>
                  <a:lnTo>
                    <a:pt x="30353" y="337694"/>
                  </a:lnTo>
                  <a:lnTo>
                    <a:pt x="71754" y="314453"/>
                  </a:lnTo>
                  <a:lnTo>
                    <a:pt x="131571" y="296927"/>
                  </a:lnTo>
                  <a:lnTo>
                    <a:pt x="1949068" y="1625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Gerade Verbindung 42"/>
            <p:cNvSpPr/>
            <p:nvPr/>
          </p:nvSpPr>
          <p:spPr>
            <a:xfrm flipV="1">
              <a:off x="10602720" y="6832440"/>
              <a:ext cx="14040" cy="14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ihandform 43"/>
            <p:cNvSpPr/>
            <p:nvPr/>
          </p:nvSpPr>
          <p:spPr>
            <a:xfrm>
              <a:off x="11047320" y="6470640"/>
              <a:ext cx="253800" cy="168120"/>
            </a:xfrm>
            <a:custGeom>
              <a:avLst/>
              <a:gdLst>
                <a:gd name="textAreaLeft" fmla="*/ 0 w 253800"/>
                <a:gd name="textAreaRight" fmla="*/ 254160 w 25380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207017" h="206547">
                  <a:moveTo>
                    <a:pt x="207016" y="0"/>
                  </a:moveTo>
                  <a:lnTo>
                    <a:pt x="90386" y="180728"/>
                  </a:lnTo>
                  <a:lnTo>
                    <a:pt x="0" y="206546"/>
                  </a:lnTo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ihandform 44"/>
            <p:cNvSpPr/>
            <p:nvPr/>
          </p:nvSpPr>
          <p:spPr>
            <a:xfrm>
              <a:off x="10534680" y="6478560"/>
              <a:ext cx="512640" cy="247680"/>
            </a:xfrm>
            <a:custGeom>
              <a:avLst/>
              <a:gdLst>
                <a:gd name="textAreaLeft" fmla="*/ 0 w 512640"/>
                <a:gd name="textAreaRight" fmla="*/ 513000 w 51264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416950" h="304064">
                  <a:moveTo>
                    <a:pt x="416949" y="197928"/>
                  </a:moveTo>
                  <a:lnTo>
                    <a:pt x="282826" y="0"/>
                  </a:lnTo>
                  <a:lnTo>
                    <a:pt x="134124" y="304063"/>
                  </a:lnTo>
                  <a:lnTo>
                    <a:pt x="0" y="232350"/>
                  </a:lnTo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ihandform 45"/>
            <p:cNvSpPr/>
            <p:nvPr/>
          </p:nvSpPr>
          <p:spPr>
            <a:xfrm>
              <a:off x="10915560" y="6915240"/>
              <a:ext cx="411120" cy="282600"/>
            </a:xfrm>
            <a:custGeom>
              <a:avLst/>
              <a:gdLst>
                <a:gd name="textAreaLeft" fmla="*/ 0 w 411120"/>
                <a:gd name="textAreaRight" fmla="*/ 411480 w 411120"/>
                <a:gd name="textAreaTop" fmla="*/ 0 h 282600"/>
                <a:gd name="textAreaBottom" fmla="*/ 282960 h 282600"/>
              </a:gdLst>
              <a:ahLst/>
              <a:rect l="textAreaLeft" t="textAreaTop" r="textAreaRight" b="textAreaBottom"/>
              <a:pathLst>
                <a:path w="335314" h="347102">
                  <a:moveTo>
                    <a:pt x="335313" y="17212"/>
                  </a:moveTo>
                  <a:lnTo>
                    <a:pt x="90389" y="74584"/>
                  </a:lnTo>
                  <a:lnTo>
                    <a:pt x="93305" y="0"/>
                  </a:lnTo>
                  <a:lnTo>
                    <a:pt x="0" y="192197"/>
                  </a:lnTo>
                  <a:lnTo>
                    <a:pt x="102052" y="347101"/>
                  </a:lnTo>
                  <a:lnTo>
                    <a:pt x="67062" y="235225"/>
                  </a:lnTo>
                  <a:lnTo>
                    <a:pt x="236177" y="232357"/>
                  </a:lnTo>
                  <a:lnTo>
                    <a:pt x="335313" y="17212"/>
                  </a:lnTo>
                  <a:close/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ihandform 46"/>
            <p:cNvSpPr/>
            <p:nvPr/>
          </p:nvSpPr>
          <p:spPr>
            <a:xfrm>
              <a:off x="11095200" y="6632640"/>
              <a:ext cx="339480" cy="296640"/>
            </a:xfrm>
            <a:custGeom>
              <a:avLst/>
              <a:gdLst>
                <a:gd name="textAreaLeft" fmla="*/ 0 w 339480"/>
                <a:gd name="textAreaRight" fmla="*/ 339840 w 339480"/>
                <a:gd name="textAreaTop" fmla="*/ 0 h 296640"/>
                <a:gd name="textAreaBottom" fmla="*/ 297000 h 296640"/>
              </a:gdLst>
              <a:ahLst/>
              <a:rect l="textAreaLeft" t="textAreaTop" r="textAreaRight" b="textAreaBottom"/>
              <a:pathLst>
                <a:path w="276993" h="364308">
                  <a:moveTo>
                    <a:pt x="189521" y="364307"/>
                  </a:moveTo>
                  <a:lnTo>
                    <a:pt x="276992" y="172114"/>
                  </a:lnTo>
                  <a:lnTo>
                    <a:pt x="169111" y="0"/>
                  </a:lnTo>
                  <a:lnTo>
                    <a:pt x="0" y="129085"/>
                  </a:lnTo>
                  <a:lnTo>
                    <a:pt x="189521" y="364307"/>
                  </a:lnTo>
                  <a:close/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ihandform 47"/>
            <p:cNvSpPr/>
            <p:nvPr/>
          </p:nvSpPr>
          <p:spPr>
            <a:xfrm>
              <a:off x="10663200" y="6445080"/>
              <a:ext cx="556920" cy="98280"/>
            </a:xfrm>
            <a:custGeom>
              <a:avLst/>
              <a:gdLst>
                <a:gd name="textAreaLeft" fmla="*/ 0 w 556920"/>
                <a:gd name="textAreaRight" fmla="*/ 557280 w 55692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451941" h="120478">
                  <a:moveTo>
                    <a:pt x="0" y="60238"/>
                  </a:moveTo>
                  <a:lnTo>
                    <a:pt x="379046" y="0"/>
                  </a:lnTo>
                  <a:lnTo>
                    <a:pt x="451940" y="120477"/>
                  </a:lnTo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ihandform 48"/>
            <p:cNvSpPr/>
            <p:nvPr/>
          </p:nvSpPr>
          <p:spPr>
            <a:xfrm>
              <a:off x="10317240" y="6782040"/>
              <a:ext cx="507960" cy="385560"/>
            </a:xfrm>
            <a:custGeom>
              <a:avLst/>
              <a:gdLst>
                <a:gd name="textAreaLeft" fmla="*/ 0 w 507960"/>
                <a:gd name="textAreaRight" fmla="*/ 508320 w 507960"/>
                <a:gd name="textAreaTop" fmla="*/ 0 h 385560"/>
                <a:gd name="textAreaBottom" fmla="*/ 385920 h 385560"/>
              </a:gdLst>
              <a:ahLst/>
              <a:rect l="textAreaLeft" t="textAreaTop" r="textAreaRight" b="textAreaBottom"/>
              <a:pathLst>
                <a:path w="414042" h="473307">
                  <a:moveTo>
                    <a:pt x="8748" y="0"/>
                  </a:moveTo>
                  <a:lnTo>
                    <a:pt x="93306" y="11474"/>
                  </a:lnTo>
                  <a:lnTo>
                    <a:pt x="0" y="166374"/>
                  </a:lnTo>
                  <a:lnTo>
                    <a:pt x="180779" y="473306"/>
                  </a:lnTo>
                  <a:lnTo>
                    <a:pt x="414041" y="433147"/>
                  </a:lnTo>
                  <a:lnTo>
                    <a:pt x="408210" y="246692"/>
                  </a:lnTo>
                  <a:lnTo>
                    <a:pt x="96221" y="315538"/>
                  </a:lnTo>
                  <a:lnTo>
                    <a:pt x="233263" y="80318"/>
                  </a:lnTo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ihandform 49"/>
            <p:cNvSpPr/>
            <p:nvPr/>
          </p:nvSpPr>
          <p:spPr>
            <a:xfrm>
              <a:off x="10602720" y="6831000"/>
              <a:ext cx="60120" cy="4752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49569" h="57376">
                  <a:moveTo>
                    <a:pt x="11663" y="0"/>
                  </a:moveTo>
                  <a:lnTo>
                    <a:pt x="-15968" y="-8161"/>
                  </a:lnTo>
                  <a:lnTo>
                    <a:pt x="0" y="20081"/>
                  </a:lnTo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ihandform 50"/>
            <p:cNvSpPr/>
            <p:nvPr/>
          </p:nvSpPr>
          <p:spPr>
            <a:xfrm>
              <a:off x="10331280" y="6756480"/>
              <a:ext cx="285480" cy="74520"/>
            </a:xfrm>
            <a:custGeom>
              <a:avLst/>
              <a:gdLst>
                <a:gd name="textAreaLeft" fmla="*/ 0 w 285480"/>
                <a:gd name="textAreaRight" fmla="*/ 285840 w 285480"/>
                <a:gd name="textAreaTop" fmla="*/ 0 h 74520"/>
                <a:gd name="textAreaBottom" fmla="*/ 74880 h 74520"/>
              </a:gdLst>
              <a:ahLst/>
              <a:rect l="textAreaLeft" t="textAreaTop" r="textAreaRight" b="textAreaBottom"/>
              <a:pathLst>
                <a:path w="233266" h="91803">
                  <a:moveTo>
                    <a:pt x="0" y="22951"/>
                  </a:moveTo>
                  <a:lnTo>
                    <a:pt x="172033" y="0"/>
                  </a:lnTo>
                  <a:lnTo>
                    <a:pt x="233265" y="91802"/>
                  </a:lnTo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Gerade Verbindung 51"/>
            <p:cNvSpPr/>
            <p:nvPr/>
          </p:nvSpPr>
          <p:spPr>
            <a:xfrm flipV="1">
              <a:off x="10534680" y="6494040"/>
              <a:ext cx="126720" cy="174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Gerade Verbindung 52"/>
            <p:cNvSpPr/>
            <p:nvPr/>
          </p:nvSpPr>
          <p:spPr>
            <a:xfrm flipH="1">
              <a:off x="10924920" y="6639120"/>
              <a:ext cx="122040" cy="23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Textfeld 54"/>
          <p:cNvSpPr/>
          <p:nvPr/>
        </p:nvSpPr>
        <p:spPr>
          <a:xfrm>
            <a:off x="233280" y="135000"/>
            <a:ext cx="120603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Verdana"/>
                <a:ea typeface="Arial"/>
              </a:rPr>
              <a:t>Mouth these German sounds to a partner. Can he/she guess which one it is?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Gerade Verbindung 61"/>
          <p:cNvSpPr/>
          <p:nvPr/>
        </p:nvSpPr>
        <p:spPr>
          <a:xfrm>
            <a:off x="1793880" y="4032360"/>
            <a:ext cx="0" cy="1255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3a2c7"/>
            </a:gs>
            <a:gs pos="100000">
              <a:srgbClr val="ffff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" name="Gruppieren 15"/>
          <p:cNvGrpSpPr/>
          <p:nvPr/>
        </p:nvGrpSpPr>
        <p:grpSpPr>
          <a:xfrm>
            <a:off x="127080" y="5226120"/>
            <a:ext cx="3882960" cy="2949480"/>
            <a:chOff x="127080" y="5226120"/>
            <a:chExt cx="3882960" cy="2949480"/>
          </a:xfrm>
        </p:grpSpPr>
        <p:sp>
          <p:nvSpPr>
            <p:cNvPr id="119" name="Freihandform 1"/>
            <p:cNvSpPr/>
            <p:nvPr/>
          </p:nvSpPr>
          <p:spPr>
            <a:xfrm>
              <a:off x="263520" y="5570280"/>
              <a:ext cx="3592440" cy="2605320"/>
            </a:xfrm>
            <a:custGeom>
              <a:avLst/>
              <a:gdLst>
                <a:gd name="textAreaLeft" fmla="*/ 0 w 3592440"/>
                <a:gd name="textAreaRight" fmla="*/ 3592800 w 3592440"/>
                <a:gd name="textAreaTop" fmla="*/ 0 h 2605320"/>
                <a:gd name="textAreaBottom" fmla="*/ 2605680 h 2605320"/>
              </a:gdLst>
              <a:ahLst/>
              <a:rect l="textAreaLeft" t="textAreaTop" r="textAreaRight" b="textAreaBottom"/>
              <a:pathLst>
                <a:path w="2926463" h="3198497">
                  <a:moveTo>
                    <a:pt x="6097" y="64771"/>
                  </a:moveTo>
                  <a:lnTo>
                    <a:pt x="1217550" y="0"/>
                  </a:lnTo>
                  <a:lnTo>
                    <a:pt x="2926462" y="9653"/>
                  </a:lnTo>
                  <a:lnTo>
                    <a:pt x="2926462" y="18034"/>
                  </a:lnTo>
                  <a:lnTo>
                    <a:pt x="2742565" y="2413000"/>
                  </a:lnTo>
                  <a:lnTo>
                    <a:pt x="2705862" y="2737867"/>
                  </a:lnTo>
                  <a:lnTo>
                    <a:pt x="2660524" y="2828036"/>
                  </a:lnTo>
                  <a:lnTo>
                    <a:pt x="2532253" y="2900172"/>
                  </a:lnTo>
                  <a:lnTo>
                    <a:pt x="1007238" y="3198496"/>
                  </a:lnTo>
                  <a:lnTo>
                    <a:pt x="805434" y="3188844"/>
                  </a:lnTo>
                  <a:lnTo>
                    <a:pt x="621539" y="3144647"/>
                  </a:lnTo>
                  <a:lnTo>
                    <a:pt x="299593" y="2954021"/>
                  </a:lnTo>
                  <a:lnTo>
                    <a:pt x="234950" y="2881758"/>
                  </a:lnTo>
                  <a:lnTo>
                    <a:pt x="0" y="66295"/>
                  </a:lnTo>
                  <a:lnTo>
                    <a:pt x="6097" y="64771"/>
                  </a:lnTo>
                  <a:close/>
                </a:path>
              </a:pathLst>
            </a:custGeom>
            <a:solidFill>
              <a:srgbClr val="303e87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Gerade Verbindung 2"/>
            <p:cNvSpPr/>
            <p:nvPr/>
          </p:nvSpPr>
          <p:spPr>
            <a:xfrm flipH="1">
              <a:off x="269640" y="5570280"/>
              <a:ext cx="1487520" cy="53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ihandform 3"/>
            <p:cNvSpPr/>
            <p:nvPr/>
          </p:nvSpPr>
          <p:spPr>
            <a:xfrm>
              <a:off x="127080" y="5226120"/>
              <a:ext cx="3882960" cy="626760"/>
            </a:xfrm>
            <a:custGeom>
              <a:avLst/>
              <a:gdLst>
                <a:gd name="textAreaLeft" fmla="*/ 0 w 3882960"/>
                <a:gd name="textAreaRight" fmla="*/ 3883320 w 3882960"/>
                <a:gd name="textAreaTop" fmla="*/ 0 h 626760"/>
                <a:gd name="textAreaBottom" fmla="*/ 627120 h 626760"/>
              </a:gdLst>
              <a:ahLst/>
              <a:rect l="textAreaLeft" t="textAreaTop" r="textAreaRight" b="textAreaBottom"/>
              <a:pathLst>
                <a:path w="3161793" h="769240">
                  <a:moveTo>
                    <a:pt x="1963548" y="16509"/>
                  </a:moveTo>
                  <a:lnTo>
                    <a:pt x="1997583" y="10921"/>
                  </a:lnTo>
                  <a:lnTo>
                    <a:pt x="2101596" y="2032"/>
                  </a:lnTo>
                  <a:lnTo>
                    <a:pt x="2240280" y="0"/>
                  </a:lnTo>
                  <a:lnTo>
                    <a:pt x="2379218" y="10414"/>
                  </a:lnTo>
                  <a:lnTo>
                    <a:pt x="2517902" y="34036"/>
                  </a:lnTo>
                  <a:lnTo>
                    <a:pt x="2676145" y="79120"/>
                  </a:lnTo>
                  <a:lnTo>
                    <a:pt x="2828671" y="132588"/>
                  </a:lnTo>
                  <a:lnTo>
                    <a:pt x="2937637" y="176783"/>
                  </a:lnTo>
                  <a:lnTo>
                    <a:pt x="3044571" y="226567"/>
                  </a:lnTo>
                  <a:lnTo>
                    <a:pt x="3137408" y="285242"/>
                  </a:lnTo>
                  <a:lnTo>
                    <a:pt x="3161792" y="323595"/>
                  </a:lnTo>
                  <a:lnTo>
                    <a:pt x="3161792" y="355092"/>
                  </a:lnTo>
                  <a:lnTo>
                    <a:pt x="3142996" y="385826"/>
                  </a:lnTo>
                  <a:lnTo>
                    <a:pt x="3083942" y="424433"/>
                  </a:lnTo>
                  <a:lnTo>
                    <a:pt x="3027808" y="445896"/>
                  </a:lnTo>
                  <a:lnTo>
                    <a:pt x="2958465" y="466343"/>
                  </a:lnTo>
                  <a:lnTo>
                    <a:pt x="1253745" y="754253"/>
                  </a:lnTo>
                  <a:lnTo>
                    <a:pt x="1159510" y="763778"/>
                  </a:lnTo>
                  <a:lnTo>
                    <a:pt x="1066292" y="769239"/>
                  </a:lnTo>
                  <a:lnTo>
                    <a:pt x="925576" y="767206"/>
                  </a:lnTo>
                  <a:lnTo>
                    <a:pt x="786638" y="753617"/>
                  </a:lnTo>
                  <a:lnTo>
                    <a:pt x="646558" y="727582"/>
                  </a:lnTo>
                  <a:lnTo>
                    <a:pt x="509017" y="691515"/>
                  </a:lnTo>
                  <a:lnTo>
                    <a:pt x="32004" y="464312"/>
                  </a:lnTo>
                  <a:lnTo>
                    <a:pt x="10542" y="440943"/>
                  </a:lnTo>
                  <a:lnTo>
                    <a:pt x="0" y="402208"/>
                  </a:lnTo>
                  <a:lnTo>
                    <a:pt x="6096" y="368427"/>
                  </a:lnTo>
                  <a:lnTo>
                    <a:pt x="30481" y="340105"/>
                  </a:lnTo>
                  <a:lnTo>
                    <a:pt x="72264" y="316738"/>
                  </a:lnTo>
                  <a:lnTo>
                    <a:pt x="132462" y="299084"/>
                  </a:lnTo>
                  <a:lnTo>
                    <a:pt x="1963548" y="1650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Gerade Verbindung 4"/>
            <p:cNvSpPr/>
            <p:nvPr/>
          </p:nvSpPr>
          <p:spPr>
            <a:xfrm flipV="1">
              <a:off x="2346480" y="6919920"/>
              <a:ext cx="14040" cy="1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ihandform 5"/>
            <p:cNvSpPr/>
            <p:nvPr/>
          </p:nvSpPr>
          <p:spPr>
            <a:xfrm>
              <a:off x="2792520" y="6558120"/>
              <a:ext cx="255600" cy="168120"/>
            </a:xfrm>
            <a:custGeom>
              <a:avLst/>
              <a:gdLst>
                <a:gd name="textAreaLeft" fmla="*/ 0 w 255600"/>
                <a:gd name="textAreaRight" fmla="*/ 255960 w 255600"/>
                <a:gd name="textAreaTop" fmla="*/ 0 h 168120"/>
                <a:gd name="textAreaBottom" fmla="*/ 168120 h 168120"/>
              </a:gdLst>
              <a:ahLst/>
              <a:rect l="textAreaLeft" t="textAreaTop" r="textAreaRight" b="textAreaBottom"/>
              <a:pathLst>
                <a:path w="208575" h="208064">
                  <a:moveTo>
                    <a:pt x="208574" y="0"/>
                  </a:moveTo>
                  <a:lnTo>
                    <a:pt x="91067" y="182055"/>
                  </a:lnTo>
                  <a:lnTo>
                    <a:pt x="0" y="208063"/>
                  </a:lnTo>
                </a:path>
              </a:pathLst>
            </a:custGeom>
            <a:noFill/>
            <a:ln w="288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ihandform 6"/>
            <p:cNvSpPr/>
            <p:nvPr/>
          </p:nvSpPr>
          <p:spPr>
            <a:xfrm>
              <a:off x="2276640" y="6566040"/>
              <a:ext cx="515880" cy="249120"/>
            </a:xfrm>
            <a:custGeom>
              <a:avLst/>
              <a:gdLst>
                <a:gd name="textAreaLeft" fmla="*/ 0 w 515880"/>
                <a:gd name="textAreaRight" fmla="*/ 516240 w 515880"/>
                <a:gd name="textAreaTop" fmla="*/ 0 h 249120"/>
                <a:gd name="textAreaBottom" fmla="*/ 249480 h 249120"/>
              </a:gdLst>
              <a:ahLst/>
              <a:rect l="textAreaLeft" t="textAreaTop" r="textAreaRight" b="textAreaBottom"/>
              <a:pathLst>
                <a:path w="420085" h="306311">
                  <a:moveTo>
                    <a:pt x="420084" y="199390"/>
                  </a:moveTo>
                  <a:lnTo>
                    <a:pt x="284952" y="0"/>
                  </a:lnTo>
                  <a:lnTo>
                    <a:pt x="135132" y="306310"/>
                  </a:lnTo>
                  <a:lnTo>
                    <a:pt x="0" y="234067"/>
                  </a:lnTo>
                </a:path>
              </a:pathLst>
            </a:custGeom>
            <a:noFill/>
            <a:ln w="288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ihandform 7"/>
            <p:cNvSpPr/>
            <p:nvPr/>
          </p:nvSpPr>
          <p:spPr>
            <a:xfrm>
              <a:off x="2660760" y="7004160"/>
              <a:ext cx="412560" cy="284040"/>
            </a:xfrm>
            <a:custGeom>
              <a:avLst/>
              <a:gdLst>
                <a:gd name="textAreaLeft" fmla="*/ 0 w 412560"/>
                <a:gd name="textAreaRight" fmla="*/ 412920 w 412560"/>
                <a:gd name="textAreaTop" fmla="*/ 0 h 284040"/>
                <a:gd name="textAreaBottom" fmla="*/ 284040 h 284040"/>
              </a:gdLst>
              <a:ahLst/>
              <a:rect l="textAreaLeft" t="textAreaTop" r="textAreaRight" b="textAreaBottom"/>
              <a:pathLst>
                <a:path w="337832" h="349658">
                  <a:moveTo>
                    <a:pt x="337831" y="17339"/>
                  </a:moveTo>
                  <a:lnTo>
                    <a:pt x="91067" y="75133"/>
                  </a:lnTo>
                  <a:lnTo>
                    <a:pt x="94005" y="0"/>
                  </a:lnTo>
                  <a:lnTo>
                    <a:pt x="0" y="193612"/>
                  </a:lnTo>
                  <a:lnTo>
                    <a:pt x="102818" y="349657"/>
                  </a:lnTo>
                  <a:lnTo>
                    <a:pt x="67566" y="236958"/>
                  </a:lnTo>
                  <a:lnTo>
                    <a:pt x="237951" y="234067"/>
                  </a:lnTo>
                  <a:lnTo>
                    <a:pt x="337831" y="17339"/>
                  </a:lnTo>
                  <a:close/>
                </a:path>
              </a:pathLst>
            </a:custGeom>
            <a:noFill/>
            <a:ln w="288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ihandform 8"/>
            <p:cNvSpPr/>
            <p:nvPr/>
          </p:nvSpPr>
          <p:spPr>
            <a:xfrm>
              <a:off x="2840040" y="6719760"/>
              <a:ext cx="342720" cy="298440"/>
            </a:xfrm>
            <a:custGeom>
              <a:avLst/>
              <a:gdLst>
                <a:gd name="textAreaLeft" fmla="*/ 0 w 342720"/>
                <a:gd name="textAreaRight" fmla="*/ 343080 w 342720"/>
                <a:gd name="textAreaTop" fmla="*/ 0 h 298440"/>
                <a:gd name="textAreaBottom" fmla="*/ 298800 h 298440"/>
              </a:gdLst>
              <a:ahLst/>
              <a:rect l="textAreaLeft" t="textAreaTop" r="textAreaRight" b="textAreaBottom"/>
              <a:pathLst>
                <a:path w="279077" h="367004">
                  <a:moveTo>
                    <a:pt x="190947" y="367003"/>
                  </a:moveTo>
                  <a:lnTo>
                    <a:pt x="279076" y="173387"/>
                  </a:lnTo>
                  <a:lnTo>
                    <a:pt x="170383" y="0"/>
                  </a:lnTo>
                  <a:lnTo>
                    <a:pt x="0" y="130041"/>
                  </a:lnTo>
                  <a:lnTo>
                    <a:pt x="190947" y="367003"/>
                  </a:lnTo>
                  <a:close/>
                </a:path>
              </a:pathLst>
            </a:custGeom>
            <a:noFill/>
            <a:ln w="288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ihandform 9"/>
            <p:cNvSpPr/>
            <p:nvPr/>
          </p:nvSpPr>
          <p:spPr>
            <a:xfrm>
              <a:off x="2406600" y="6531120"/>
              <a:ext cx="560160" cy="99720"/>
            </a:xfrm>
            <a:custGeom>
              <a:avLst/>
              <a:gdLst>
                <a:gd name="textAreaLeft" fmla="*/ 0 w 560160"/>
                <a:gd name="textAreaRight" fmla="*/ 560520 w 560160"/>
                <a:gd name="textAreaTop" fmla="*/ 0 h 99720"/>
                <a:gd name="textAreaBottom" fmla="*/ 100080 h 99720"/>
              </a:gdLst>
              <a:ahLst/>
              <a:rect l="textAreaLeft" t="textAreaTop" r="textAreaRight" b="textAreaBottom"/>
              <a:pathLst>
                <a:path w="455338" h="121372">
                  <a:moveTo>
                    <a:pt x="0" y="60685"/>
                  </a:moveTo>
                  <a:lnTo>
                    <a:pt x="381896" y="0"/>
                  </a:lnTo>
                  <a:lnTo>
                    <a:pt x="455337" y="121371"/>
                  </a:lnTo>
                </a:path>
              </a:pathLst>
            </a:custGeom>
            <a:noFill/>
            <a:ln w="288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ihandform 10"/>
            <p:cNvSpPr/>
            <p:nvPr/>
          </p:nvSpPr>
          <p:spPr>
            <a:xfrm>
              <a:off x="2057400" y="6870600"/>
              <a:ext cx="511200" cy="388800"/>
            </a:xfrm>
            <a:custGeom>
              <a:avLst/>
              <a:gdLst>
                <a:gd name="textAreaLeft" fmla="*/ 0 w 511200"/>
                <a:gd name="textAreaRight" fmla="*/ 511560 w 511200"/>
                <a:gd name="textAreaTop" fmla="*/ 0 h 388800"/>
                <a:gd name="textAreaBottom" fmla="*/ 389160 h 388800"/>
              </a:gdLst>
              <a:ahLst/>
              <a:rect l="textAreaLeft" t="textAreaTop" r="textAreaRight" b="textAreaBottom"/>
              <a:pathLst>
                <a:path w="417148" h="476812">
                  <a:moveTo>
                    <a:pt x="8813" y="0"/>
                  </a:moveTo>
                  <a:lnTo>
                    <a:pt x="94005" y="11559"/>
                  </a:lnTo>
                  <a:lnTo>
                    <a:pt x="0" y="167606"/>
                  </a:lnTo>
                  <a:lnTo>
                    <a:pt x="182134" y="476811"/>
                  </a:lnTo>
                  <a:lnTo>
                    <a:pt x="417147" y="436354"/>
                  </a:lnTo>
                  <a:lnTo>
                    <a:pt x="411271" y="248519"/>
                  </a:lnTo>
                  <a:lnTo>
                    <a:pt x="96942" y="317874"/>
                  </a:lnTo>
                  <a:lnTo>
                    <a:pt x="235012" y="80913"/>
                  </a:lnTo>
                </a:path>
              </a:pathLst>
            </a:custGeom>
            <a:noFill/>
            <a:ln w="288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ihandform 11"/>
            <p:cNvSpPr/>
            <p:nvPr/>
          </p:nvSpPr>
          <p:spPr>
            <a:xfrm>
              <a:off x="2346480" y="6919920"/>
              <a:ext cx="60120" cy="4752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49941" h="57799">
                  <a:moveTo>
                    <a:pt x="11751" y="0"/>
                  </a:moveTo>
                  <a:lnTo>
                    <a:pt x="-15596" y="-7738"/>
                  </a:lnTo>
                  <a:lnTo>
                    <a:pt x="0" y="20229"/>
                  </a:lnTo>
                </a:path>
              </a:pathLst>
            </a:custGeom>
            <a:noFill/>
            <a:ln w="288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ihandform 12"/>
            <p:cNvSpPr/>
            <p:nvPr/>
          </p:nvSpPr>
          <p:spPr>
            <a:xfrm>
              <a:off x="2071800" y="6843600"/>
              <a:ext cx="288720" cy="75960"/>
            </a:xfrm>
            <a:custGeom>
              <a:avLst/>
              <a:gdLst>
                <a:gd name="textAreaLeft" fmla="*/ 0 w 288720"/>
                <a:gd name="textAreaRight" fmla="*/ 289080 w 28872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235014" h="92479">
                  <a:moveTo>
                    <a:pt x="0" y="23119"/>
                  </a:moveTo>
                  <a:lnTo>
                    <a:pt x="173322" y="0"/>
                  </a:lnTo>
                  <a:lnTo>
                    <a:pt x="235013" y="92478"/>
                  </a:lnTo>
                </a:path>
              </a:pathLst>
            </a:custGeom>
            <a:noFill/>
            <a:ln w="288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Gerade Verbindung 13"/>
            <p:cNvSpPr/>
            <p:nvPr/>
          </p:nvSpPr>
          <p:spPr>
            <a:xfrm flipV="1">
              <a:off x="2276640" y="6579720"/>
              <a:ext cx="128520" cy="176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Gerade Verbindung 14"/>
            <p:cNvSpPr/>
            <p:nvPr/>
          </p:nvSpPr>
          <p:spPr>
            <a:xfrm flipH="1">
              <a:off x="2669760" y="6726240"/>
              <a:ext cx="122040" cy="23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Ellipse 16"/>
          <p:cNvSpPr/>
          <p:nvPr/>
        </p:nvSpPr>
        <p:spPr>
          <a:xfrm>
            <a:off x="554040" y="1330200"/>
            <a:ext cx="2612880" cy="26560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Ellipse 17"/>
          <p:cNvSpPr/>
          <p:nvPr/>
        </p:nvSpPr>
        <p:spPr>
          <a:xfrm>
            <a:off x="4824360" y="1224000"/>
            <a:ext cx="2578320" cy="276372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Ellipse 18"/>
          <p:cNvSpPr/>
          <p:nvPr/>
        </p:nvSpPr>
        <p:spPr>
          <a:xfrm>
            <a:off x="8845560" y="1295280"/>
            <a:ext cx="2685960" cy="2657520"/>
          </a:xfrm>
          <a:prstGeom prst="ellipse">
            <a:avLst/>
          </a:prstGeom>
          <a:solidFill>
            <a:srgbClr val="ffc0cb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feld 19"/>
          <p:cNvSpPr/>
          <p:nvPr/>
        </p:nvSpPr>
        <p:spPr>
          <a:xfrm>
            <a:off x="841320" y="1890720"/>
            <a:ext cx="2166840" cy="11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6900" spc="-1" strike="noStrike">
                <a:solidFill>
                  <a:srgbClr val="000000"/>
                </a:solidFill>
                <a:latin typeface="Verdana"/>
                <a:ea typeface="Arial"/>
              </a:rPr>
              <a:t>sch</a:t>
            </a:r>
            <a:endParaRPr b="0" lang="en-US" sz="6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feld 20"/>
          <p:cNvSpPr/>
          <p:nvPr/>
        </p:nvSpPr>
        <p:spPr>
          <a:xfrm>
            <a:off x="9534600" y="1974960"/>
            <a:ext cx="1262160" cy="12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300" spc="-1" strike="noStrike">
                <a:solidFill>
                  <a:srgbClr val="000000"/>
                </a:solidFill>
                <a:latin typeface="Verdana"/>
                <a:ea typeface="Arial"/>
              </a:rPr>
              <a:t>st</a:t>
            </a: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feld 21"/>
          <p:cNvSpPr/>
          <p:nvPr/>
        </p:nvSpPr>
        <p:spPr>
          <a:xfrm>
            <a:off x="5383080" y="1849320"/>
            <a:ext cx="1650960" cy="12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500" spc="-1" strike="noStrike">
                <a:solidFill>
                  <a:srgbClr val="000000"/>
                </a:solidFill>
                <a:latin typeface="Verdana"/>
                <a:ea typeface="Arial"/>
              </a:rPr>
              <a:t>sp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Gerade Verbindung 22"/>
          <p:cNvSpPr/>
          <p:nvPr/>
        </p:nvSpPr>
        <p:spPr>
          <a:xfrm>
            <a:off x="6113520" y="4000680"/>
            <a:ext cx="0" cy="2138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Gerade Verbindung 23"/>
          <p:cNvSpPr/>
          <p:nvPr/>
        </p:nvSpPr>
        <p:spPr>
          <a:xfrm>
            <a:off x="10293480" y="3968640"/>
            <a:ext cx="0" cy="1943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Gruppieren 38"/>
          <p:cNvGrpSpPr/>
          <p:nvPr/>
        </p:nvGrpSpPr>
        <p:grpSpPr>
          <a:xfrm>
            <a:off x="4172040" y="5160960"/>
            <a:ext cx="3929040" cy="2981160"/>
            <a:chOff x="4172040" y="5160960"/>
            <a:chExt cx="3929040" cy="2981160"/>
          </a:xfrm>
        </p:grpSpPr>
        <p:sp>
          <p:nvSpPr>
            <p:cNvPr id="142" name="Freihandform 24"/>
            <p:cNvSpPr/>
            <p:nvPr/>
          </p:nvSpPr>
          <p:spPr>
            <a:xfrm>
              <a:off x="4308480" y="5510160"/>
              <a:ext cx="3637080" cy="2631960"/>
            </a:xfrm>
            <a:custGeom>
              <a:avLst/>
              <a:gdLst>
                <a:gd name="textAreaLeft" fmla="*/ 0 w 3637080"/>
                <a:gd name="textAreaRight" fmla="*/ 3637440 w 3637080"/>
                <a:gd name="textAreaTop" fmla="*/ 0 h 2631960"/>
                <a:gd name="textAreaBottom" fmla="*/ 2632320 h 2631960"/>
              </a:gdLst>
              <a:ahLst/>
              <a:rect l="textAreaLeft" t="textAreaTop" r="textAreaRight" b="textAreaBottom"/>
              <a:pathLst>
                <a:path w="2959354" h="3233930">
                  <a:moveTo>
                    <a:pt x="6222" y="65406"/>
                  </a:moveTo>
                  <a:lnTo>
                    <a:pt x="1231391" y="0"/>
                  </a:lnTo>
                  <a:lnTo>
                    <a:pt x="2959353" y="9653"/>
                  </a:lnTo>
                  <a:lnTo>
                    <a:pt x="2959353" y="18161"/>
                  </a:lnTo>
                  <a:lnTo>
                    <a:pt x="2773426" y="2439797"/>
                  </a:lnTo>
                  <a:lnTo>
                    <a:pt x="2736214" y="2768220"/>
                  </a:lnTo>
                  <a:lnTo>
                    <a:pt x="2690621" y="2859406"/>
                  </a:lnTo>
                  <a:lnTo>
                    <a:pt x="2560701" y="2932304"/>
                  </a:lnTo>
                  <a:lnTo>
                    <a:pt x="1018666" y="3233929"/>
                  </a:lnTo>
                  <a:lnTo>
                    <a:pt x="814577" y="3224277"/>
                  </a:lnTo>
                  <a:lnTo>
                    <a:pt x="628650" y="3179572"/>
                  </a:lnTo>
                  <a:lnTo>
                    <a:pt x="303021" y="2986659"/>
                  </a:lnTo>
                  <a:lnTo>
                    <a:pt x="237744" y="2913634"/>
                  </a:lnTo>
                  <a:lnTo>
                    <a:pt x="0" y="66930"/>
                  </a:lnTo>
                  <a:lnTo>
                    <a:pt x="6222" y="65406"/>
                  </a:lnTo>
                  <a:close/>
                </a:path>
              </a:pathLst>
            </a:custGeom>
            <a:solidFill>
              <a:srgbClr val="303e87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Gerade Verbindung 25"/>
            <p:cNvSpPr/>
            <p:nvPr/>
          </p:nvSpPr>
          <p:spPr>
            <a:xfrm flipH="1">
              <a:off x="4316040" y="5510160"/>
              <a:ext cx="1506600" cy="53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ihandform 26"/>
            <p:cNvSpPr/>
            <p:nvPr/>
          </p:nvSpPr>
          <p:spPr>
            <a:xfrm>
              <a:off x="4172040" y="5160960"/>
              <a:ext cx="3929040" cy="633240"/>
            </a:xfrm>
            <a:custGeom>
              <a:avLst/>
              <a:gdLst>
                <a:gd name="textAreaLeft" fmla="*/ 0 w 3929040"/>
                <a:gd name="textAreaRight" fmla="*/ 3929400 w 3929040"/>
                <a:gd name="textAreaTop" fmla="*/ 0 h 633240"/>
                <a:gd name="textAreaBottom" fmla="*/ 633600 h 633240"/>
              </a:gdLst>
              <a:ahLst/>
              <a:rect l="textAreaLeft" t="textAreaTop" r="textAreaRight" b="textAreaBottom"/>
              <a:pathLst>
                <a:path w="3197480" h="777876">
                  <a:moveTo>
                    <a:pt x="1985645" y="16637"/>
                  </a:moveTo>
                  <a:lnTo>
                    <a:pt x="2020189" y="11176"/>
                  </a:lnTo>
                  <a:lnTo>
                    <a:pt x="2125345" y="2158"/>
                  </a:lnTo>
                  <a:lnTo>
                    <a:pt x="2265554" y="0"/>
                  </a:lnTo>
                  <a:lnTo>
                    <a:pt x="2406015" y="10668"/>
                  </a:lnTo>
                  <a:lnTo>
                    <a:pt x="2546224" y="34544"/>
                  </a:lnTo>
                  <a:lnTo>
                    <a:pt x="2706370" y="80137"/>
                  </a:lnTo>
                  <a:lnTo>
                    <a:pt x="2860549" y="134112"/>
                  </a:lnTo>
                  <a:lnTo>
                    <a:pt x="2970785" y="178942"/>
                  </a:lnTo>
                  <a:lnTo>
                    <a:pt x="3078862" y="229234"/>
                  </a:lnTo>
                  <a:lnTo>
                    <a:pt x="3172715" y="288543"/>
                  </a:lnTo>
                  <a:lnTo>
                    <a:pt x="3197479" y="327279"/>
                  </a:lnTo>
                  <a:lnTo>
                    <a:pt x="3197479" y="359155"/>
                  </a:lnTo>
                  <a:lnTo>
                    <a:pt x="3178429" y="390143"/>
                  </a:lnTo>
                  <a:lnTo>
                    <a:pt x="3118613" y="429259"/>
                  </a:lnTo>
                  <a:lnTo>
                    <a:pt x="3061844" y="450977"/>
                  </a:lnTo>
                  <a:lnTo>
                    <a:pt x="2991739" y="471678"/>
                  </a:lnTo>
                  <a:lnTo>
                    <a:pt x="1267969" y="762634"/>
                  </a:lnTo>
                  <a:lnTo>
                    <a:pt x="1172592" y="772287"/>
                  </a:lnTo>
                  <a:lnTo>
                    <a:pt x="1078357" y="777875"/>
                  </a:lnTo>
                  <a:lnTo>
                    <a:pt x="936118" y="775716"/>
                  </a:lnTo>
                  <a:lnTo>
                    <a:pt x="795656" y="762127"/>
                  </a:lnTo>
                  <a:lnTo>
                    <a:pt x="653924" y="735711"/>
                  </a:lnTo>
                  <a:lnTo>
                    <a:pt x="514858" y="699262"/>
                  </a:lnTo>
                  <a:lnTo>
                    <a:pt x="32513" y="469518"/>
                  </a:lnTo>
                  <a:lnTo>
                    <a:pt x="10795" y="445896"/>
                  </a:lnTo>
                  <a:lnTo>
                    <a:pt x="0" y="406780"/>
                  </a:lnTo>
                  <a:lnTo>
                    <a:pt x="6350" y="372617"/>
                  </a:lnTo>
                  <a:lnTo>
                    <a:pt x="30988" y="343916"/>
                  </a:lnTo>
                  <a:lnTo>
                    <a:pt x="73152" y="320293"/>
                  </a:lnTo>
                  <a:lnTo>
                    <a:pt x="133986" y="302514"/>
                  </a:lnTo>
                  <a:lnTo>
                    <a:pt x="1985645" y="1663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Gerade Verbindung 27"/>
            <p:cNvSpPr/>
            <p:nvPr/>
          </p:nvSpPr>
          <p:spPr>
            <a:xfrm flipV="1">
              <a:off x="6416640" y="6873480"/>
              <a:ext cx="14040" cy="14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ihandform 28"/>
            <p:cNvSpPr/>
            <p:nvPr/>
          </p:nvSpPr>
          <p:spPr>
            <a:xfrm>
              <a:off x="6870960" y="6507000"/>
              <a:ext cx="258480" cy="171360"/>
            </a:xfrm>
            <a:custGeom>
              <a:avLst/>
              <a:gdLst>
                <a:gd name="textAreaLeft" fmla="*/ 0 w 258480"/>
                <a:gd name="textAreaRight" fmla="*/ 258840 w 25848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210921" h="210379">
                  <a:moveTo>
                    <a:pt x="210920" y="0"/>
                  </a:moveTo>
                  <a:lnTo>
                    <a:pt x="92092" y="184081"/>
                  </a:lnTo>
                  <a:lnTo>
                    <a:pt x="0" y="210378"/>
                  </a:lnTo>
                </a:path>
              </a:pathLst>
            </a:custGeom>
            <a:noFill/>
            <a:ln w="29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ihandform 29"/>
            <p:cNvSpPr/>
            <p:nvPr/>
          </p:nvSpPr>
          <p:spPr>
            <a:xfrm>
              <a:off x="6346800" y="6513480"/>
              <a:ext cx="523800" cy="252360"/>
            </a:xfrm>
            <a:custGeom>
              <a:avLst/>
              <a:gdLst>
                <a:gd name="textAreaLeft" fmla="*/ 0 w 523800"/>
                <a:gd name="textAreaRight" fmla="*/ 524160 w 52380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424801" h="309714">
                  <a:moveTo>
                    <a:pt x="424800" y="201605"/>
                  </a:moveTo>
                  <a:lnTo>
                    <a:pt x="288151" y="0"/>
                  </a:lnTo>
                  <a:lnTo>
                    <a:pt x="136649" y="309713"/>
                  </a:lnTo>
                  <a:lnTo>
                    <a:pt x="0" y="236668"/>
                  </a:lnTo>
                </a:path>
              </a:pathLst>
            </a:custGeom>
            <a:noFill/>
            <a:ln w="29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ihandform 30"/>
            <p:cNvSpPr/>
            <p:nvPr/>
          </p:nvSpPr>
          <p:spPr>
            <a:xfrm>
              <a:off x="6735960" y="6958080"/>
              <a:ext cx="419040" cy="288720"/>
            </a:xfrm>
            <a:custGeom>
              <a:avLst/>
              <a:gdLst>
                <a:gd name="textAreaLeft" fmla="*/ 0 w 419040"/>
                <a:gd name="textAreaRight" fmla="*/ 419400 w 419040"/>
                <a:gd name="textAreaTop" fmla="*/ 0 h 288720"/>
                <a:gd name="textAreaBottom" fmla="*/ 288720 h 288720"/>
              </a:gdLst>
              <a:ahLst/>
              <a:rect l="textAreaLeft" t="textAreaTop" r="textAreaRight" b="textAreaBottom"/>
              <a:pathLst>
                <a:path w="341628" h="353544">
                  <a:moveTo>
                    <a:pt x="341627" y="17531"/>
                  </a:moveTo>
                  <a:lnTo>
                    <a:pt x="92091" y="75968"/>
                  </a:lnTo>
                  <a:lnTo>
                    <a:pt x="95062" y="0"/>
                  </a:lnTo>
                  <a:lnTo>
                    <a:pt x="0" y="195764"/>
                  </a:lnTo>
                  <a:lnTo>
                    <a:pt x="103974" y="353543"/>
                  </a:lnTo>
                  <a:lnTo>
                    <a:pt x="68326" y="239591"/>
                  </a:lnTo>
                  <a:lnTo>
                    <a:pt x="240625" y="236670"/>
                  </a:lnTo>
                  <a:lnTo>
                    <a:pt x="341627" y="17531"/>
                  </a:lnTo>
                  <a:close/>
                </a:path>
              </a:pathLst>
            </a:custGeom>
            <a:noFill/>
            <a:ln w="29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ihandform 31"/>
            <p:cNvSpPr/>
            <p:nvPr/>
          </p:nvSpPr>
          <p:spPr>
            <a:xfrm>
              <a:off x="6917040" y="6672240"/>
              <a:ext cx="347400" cy="29988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299880"/>
                <a:gd name="textAreaBottom" fmla="*/ 300240 h 299880"/>
              </a:gdLst>
              <a:ahLst/>
              <a:rect l="textAreaLeft" t="textAreaTop" r="textAreaRight" b="textAreaBottom"/>
              <a:pathLst>
                <a:path w="282213" h="371083">
                  <a:moveTo>
                    <a:pt x="193092" y="371082"/>
                  </a:moveTo>
                  <a:lnTo>
                    <a:pt x="282212" y="175315"/>
                  </a:lnTo>
                  <a:lnTo>
                    <a:pt x="172298" y="0"/>
                  </a:lnTo>
                  <a:lnTo>
                    <a:pt x="0" y="131485"/>
                  </a:lnTo>
                  <a:lnTo>
                    <a:pt x="193092" y="371082"/>
                  </a:lnTo>
                  <a:close/>
                </a:path>
              </a:pathLst>
            </a:custGeom>
            <a:noFill/>
            <a:ln w="29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ihandform 32"/>
            <p:cNvSpPr/>
            <p:nvPr/>
          </p:nvSpPr>
          <p:spPr>
            <a:xfrm>
              <a:off x="6480360" y="6480000"/>
              <a:ext cx="564840" cy="101520"/>
            </a:xfrm>
            <a:custGeom>
              <a:avLst/>
              <a:gdLst>
                <a:gd name="textAreaLeft" fmla="*/ 0 w 564840"/>
                <a:gd name="textAreaRight" fmla="*/ 565200 w 56484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460451" h="122717">
                  <a:moveTo>
                    <a:pt x="0" y="61358"/>
                  </a:moveTo>
                  <a:lnTo>
                    <a:pt x="386184" y="0"/>
                  </a:lnTo>
                  <a:lnTo>
                    <a:pt x="460450" y="122716"/>
                  </a:lnTo>
                </a:path>
              </a:pathLst>
            </a:custGeom>
            <a:noFill/>
            <a:ln w="29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ihandform 33"/>
            <p:cNvSpPr/>
            <p:nvPr/>
          </p:nvSpPr>
          <p:spPr>
            <a:xfrm>
              <a:off x="6124680" y="6823080"/>
              <a:ext cx="519120" cy="392040"/>
            </a:xfrm>
            <a:custGeom>
              <a:avLst/>
              <a:gdLst>
                <a:gd name="textAreaLeft" fmla="*/ 0 w 519120"/>
                <a:gd name="textAreaRight" fmla="*/ 519480 w 519120"/>
                <a:gd name="textAreaTop" fmla="*/ 0 h 392040"/>
                <a:gd name="textAreaBottom" fmla="*/ 392400 h 392040"/>
              </a:gdLst>
              <a:ahLst/>
              <a:rect l="textAreaLeft" t="textAreaTop" r="textAreaRight" b="textAreaBottom"/>
              <a:pathLst>
                <a:path w="421836" h="482099">
                  <a:moveTo>
                    <a:pt x="8912" y="0"/>
                  </a:moveTo>
                  <a:lnTo>
                    <a:pt x="95061" y="11688"/>
                  </a:lnTo>
                  <a:lnTo>
                    <a:pt x="0" y="169465"/>
                  </a:lnTo>
                  <a:lnTo>
                    <a:pt x="184182" y="482098"/>
                  </a:lnTo>
                  <a:lnTo>
                    <a:pt x="421835" y="441193"/>
                  </a:lnTo>
                  <a:lnTo>
                    <a:pt x="415893" y="251275"/>
                  </a:lnTo>
                  <a:lnTo>
                    <a:pt x="98032" y="321399"/>
                  </a:lnTo>
                  <a:lnTo>
                    <a:pt x="237654" y="81811"/>
                  </a:lnTo>
                </a:path>
              </a:pathLst>
            </a:custGeom>
            <a:noFill/>
            <a:ln w="29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ihandform 34"/>
            <p:cNvSpPr/>
            <p:nvPr/>
          </p:nvSpPr>
          <p:spPr>
            <a:xfrm>
              <a:off x="6416640" y="6873840"/>
              <a:ext cx="63360" cy="4752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50501" h="58437">
                  <a:moveTo>
                    <a:pt x="11882" y="0"/>
                  </a:moveTo>
                  <a:lnTo>
                    <a:pt x="-15036" y="-7100"/>
                  </a:lnTo>
                  <a:lnTo>
                    <a:pt x="0" y="20453"/>
                  </a:lnTo>
                </a:path>
              </a:pathLst>
            </a:custGeom>
            <a:noFill/>
            <a:ln w="29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ihandform 35"/>
            <p:cNvSpPr/>
            <p:nvPr/>
          </p:nvSpPr>
          <p:spPr>
            <a:xfrm>
              <a:off x="6140520" y="6797520"/>
              <a:ext cx="290520" cy="75960"/>
            </a:xfrm>
            <a:custGeom>
              <a:avLst/>
              <a:gdLst>
                <a:gd name="textAreaLeft" fmla="*/ 0 w 290520"/>
                <a:gd name="textAreaRight" fmla="*/ 290880 w 29052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237655" h="93506">
                  <a:moveTo>
                    <a:pt x="0" y="23376"/>
                  </a:moveTo>
                  <a:lnTo>
                    <a:pt x="175270" y="0"/>
                  </a:lnTo>
                  <a:lnTo>
                    <a:pt x="237654" y="93505"/>
                  </a:lnTo>
                </a:path>
              </a:pathLst>
            </a:custGeom>
            <a:noFill/>
            <a:ln w="29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Gerade Verbindung 36"/>
            <p:cNvSpPr/>
            <p:nvPr/>
          </p:nvSpPr>
          <p:spPr>
            <a:xfrm flipV="1">
              <a:off x="6346800" y="6530400"/>
              <a:ext cx="128520" cy="176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Gerade Verbindung 37"/>
            <p:cNvSpPr/>
            <p:nvPr/>
          </p:nvSpPr>
          <p:spPr>
            <a:xfrm flipH="1">
              <a:off x="6745320" y="6678360"/>
              <a:ext cx="125280" cy="21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Gruppieren 53"/>
          <p:cNvGrpSpPr/>
          <p:nvPr/>
        </p:nvGrpSpPr>
        <p:grpSpPr>
          <a:xfrm>
            <a:off x="8400960" y="5149800"/>
            <a:ext cx="3854520" cy="2927520"/>
            <a:chOff x="8400960" y="5149800"/>
            <a:chExt cx="3854520" cy="2927520"/>
          </a:xfrm>
        </p:grpSpPr>
        <p:sp>
          <p:nvSpPr>
            <p:cNvPr id="157" name="Freihandform 39"/>
            <p:cNvSpPr/>
            <p:nvPr/>
          </p:nvSpPr>
          <p:spPr>
            <a:xfrm>
              <a:off x="8535600" y="5492520"/>
              <a:ext cx="3567240" cy="2584800"/>
            </a:xfrm>
            <a:custGeom>
              <a:avLst/>
              <a:gdLst>
                <a:gd name="textAreaLeft" fmla="*/ 0 w 3567240"/>
                <a:gd name="textAreaRight" fmla="*/ 3567600 w 3567240"/>
                <a:gd name="textAreaTop" fmla="*/ 0 h 2584800"/>
                <a:gd name="textAreaBottom" fmla="*/ 2585160 h 2584800"/>
              </a:gdLst>
              <a:ahLst/>
              <a:rect l="textAreaLeft" t="textAreaTop" r="textAreaRight" b="textAreaBottom"/>
              <a:pathLst>
                <a:path w="2904617" h="3175001">
                  <a:moveTo>
                    <a:pt x="5968" y="64262"/>
                  </a:moveTo>
                  <a:lnTo>
                    <a:pt x="1208531" y="0"/>
                  </a:lnTo>
                  <a:lnTo>
                    <a:pt x="2904616" y="9525"/>
                  </a:lnTo>
                  <a:lnTo>
                    <a:pt x="2904616" y="17908"/>
                  </a:lnTo>
                  <a:lnTo>
                    <a:pt x="2722244" y="2395347"/>
                  </a:lnTo>
                  <a:lnTo>
                    <a:pt x="2685668" y="2717673"/>
                  </a:lnTo>
                  <a:lnTo>
                    <a:pt x="2640838" y="2807335"/>
                  </a:lnTo>
                  <a:lnTo>
                    <a:pt x="2513329" y="2878836"/>
                  </a:lnTo>
                  <a:lnTo>
                    <a:pt x="999871" y="3175000"/>
                  </a:lnTo>
                  <a:lnTo>
                    <a:pt x="799591" y="3165603"/>
                  </a:lnTo>
                  <a:lnTo>
                    <a:pt x="616965" y="3121660"/>
                  </a:lnTo>
                  <a:lnTo>
                    <a:pt x="297434" y="2932176"/>
                  </a:lnTo>
                  <a:lnTo>
                    <a:pt x="233299" y="2860548"/>
                  </a:lnTo>
                  <a:lnTo>
                    <a:pt x="0" y="65659"/>
                  </a:lnTo>
                  <a:lnTo>
                    <a:pt x="5968" y="64262"/>
                  </a:lnTo>
                  <a:close/>
                </a:path>
              </a:pathLst>
            </a:custGeom>
            <a:solidFill>
              <a:srgbClr val="303e87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Gerade Verbindung 40"/>
            <p:cNvSpPr/>
            <p:nvPr/>
          </p:nvSpPr>
          <p:spPr>
            <a:xfrm flipH="1">
              <a:off x="8543160" y="5492520"/>
              <a:ext cx="1476360" cy="52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ihandform 41"/>
            <p:cNvSpPr/>
            <p:nvPr/>
          </p:nvSpPr>
          <p:spPr>
            <a:xfrm>
              <a:off x="8400960" y="5149800"/>
              <a:ext cx="3854520" cy="620640"/>
            </a:xfrm>
            <a:custGeom>
              <a:avLst/>
              <a:gdLst>
                <a:gd name="textAreaLeft" fmla="*/ 0 w 3854520"/>
                <a:gd name="textAreaRight" fmla="*/ 3854880 w 3854520"/>
                <a:gd name="textAreaTop" fmla="*/ 0 h 620640"/>
                <a:gd name="textAreaBottom" fmla="*/ 621000 h 620640"/>
              </a:gdLst>
              <a:ahLst/>
              <a:rect l="textAreaLeft" t="textAreaTop" r="textAreaRight" b="textAreaBottom"/>
              <a:pathLst>
                <a:path w="3138297" h="763653">
                  <a:moveTo>
                    <a:pt x="1949068" y="16256"/>
                  </a:moveTo>
                  <a:lnTo>
                    <a:pt x="1982724" y="11049"/>
                  </a:lnTo>
                  <a:lnTo>
                    <a:pt x="2085975" y="2033"/>
                  </a:lnTo>
                  <a:lnTo>
                    <a:pt x="2223642" y="0"/>
                  </a:lnTo>
                  <a:lnTo>
                    <a:pt x="2361438" y="10415"/>
                  </a:lnTo>
                  <a:lnTo>
                    <a:pt x="2499105" y="33910"/>
                  </a:lnTo>
                  <a:lnTo>
                    <a:pt x="2656331" y="78741"/>
                  </a:lnTo>
                  <a:lnTo>
                    <a:pt x="2807716" y="131699"/>
                  </a:lnTo>
                  <a:lnTo>
                    <a:pt x="2915792" y="175642"/>
                  </a:lnTo>
                  <a:lnTo>
                    <a:pt x="3021838" y="224918"/>
                  </a:lnTo>
                  <a:lnTo>
                    <a:pt x="3114040" y="283210"/>
                  </a:lnTo>
                  <a:lnTo>
                    <a:pt x="3138296" y="321310"/>
                  </a:lnTo>
                  <a:lnTo>
                    <a:pt x="3138296" y="352553"/>
                  </a:lnTo>
                  <a:lnTo>
                    <a:pt x="3119628" y="383032"/>
                  </a:lnTo>
                  <a:lnTo>
                    <a:pt x="3061080" y="421386"/>
                  </a:lnTo>
                  <a:lnTo>
                    <a:pt x="3005328" y="442722"/>
                  </a:lnTo>
                  <a:lnTo>
                    <a:pt x="2936493" y="463043"/>
                  </a:lnTo>
                  <a:lnTo>
                    <a:pt x="1244600" y="748666"/>
                  </a:lnTo>
                  <a:lnTo>
                    <a:pt x="1151001" y="758064"/>
                  </a:lnTo>
                  <a:lnTo>
                    <a:pt x="1058417" y="763652"/>
                  </a:lnTo>
                  <a:lnTo>
                    <a:pt x="918844" y="761493"/>
                  </a:lnTo>
                  <a:lnTo>
                    <a:pt x="780922" y="748157"/>
                  </a:lnTo>
                  <a:lnTo>
                    <a:pt x="641857" y="722377"/>
                  </a:lnTo>
                  <a:lnTo>
                    <a:pt x="505332" y="686562"/>
                  </a:lnTo>
                  <a:lnTo>
                    <a:pt x="31750" y="461010"/>
                  </a:lnTo>
                  <a:lnTo>
                    <a:pt x="10667" y="437643"/>
                  </a:lnTo>
                  <a:lnTo>
                    <a:pt x="0" y="399289"/>
                  </a:lnTo>
                  <a:lnTo>
                    <a:pt x="6095" y="365887"/>
                  </a:lnTo>
                  <a:lnTo>
                    <a:pt x="30353" y="337694"/>
                  </a:lnTo>
                  <a:lnTo>
                    <a:pt x="71754" y="314453"/>
                  </a:lnTo>
                  <a:lnTo>
                    <a:pt x="131571" y="296927"/>
                  </a:lnTo>
                  <a:lnTo>
                    <a:pt x="1949068" y="1625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Gerade Verbindung 42"/>
            <p:cNvSpPr/>
            <p:nvPr/>
          </p:nvSpPr>
          <p:spPr>
            <a:xfrm flipV="1">
              <a:off x="10602720" y="6832440"/>
              <a:ext cx="14040" cy="14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ihandform 43"/>
            <p:cNvSpPr/>
            <p:nvPr/>
          </p:nvSpPr>
          <p:spPr>
            <a:xfrm>
              <a:off x="11047320" y="6470640"/>
              <a:ext cx="253800" cy="168120"/>
            </a:xfrm>
            <a:custGeom>
              <a:avLst/>
              <a:gdLst>
                <a:gd name="textAreaLeft" fmla="*/ 0 w 253800"/>
                <a:gd name="textAreaRight" fmla="*/ 254160 w 25380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207017" h="206547">
                  <a:moveTo>
                    <a:pt x="207016" y="0"/>
                  </a:moveTo>
                  <a:lnTo>
                    <a:pt x="90386" y="180728"/>
                  </a:lnTo>
                  <a:lnTo>
                    <a:pt x="0" y="206546"/>
                  </a:lnTo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ihandform 44"/>
            <p:cNvSpPr/>
            <p:nvPr/>
          </p:nvSpPr>
          <p:spPr>
            <a:xfrm>
              <a:off x="10534680" y="6478560"/>
              <a:ext cx="512640" cy="247680"/>
            </a:xfrm>
            <a:custGeom>
              <a:avLst/>
              <a:gdLst>
                <a:gd name="textAreaLeft" fmla="*/ 0 w 512640"/>
                <a:gd name="textAreaRight" fmla="*/ 513000 w 51264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416950" h="304064">
                  <a:moveTo>
                    <a:pt x="416949" y="197928"/>
                  </a:moveTo>
                  <a:lnTo>
                    <a:pt x="282826" y="0"/>
                  </a:lnTo>
                  <a:lnTo>
                    <a:pt x="134124" y="304063"/>
                  </a:lnTo>
                  <a:lnTo>
                    <a:pt x="0" y="232350"/>
                  </a:lnTo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ihandform 45"/>
            <p:cNvSpPr/>
            <p:nvPr/>
          </p:nvSpPr>
          <p:spPr>
            <a:xfrm>
              <a:off x="10915560" y="6915240"/>
              <a:ext cx="411120" cy="282600"/>
            </a:xfrm>
            <a:custGeom>
              <a:avLst/>
              <a:gdLst>
                <a:gd name="textAreaLeft" fmla="*/ 0 w 411120"/>
                <a:gd name="textAreaRight" fmla="*/ 411480 w 411120"/>
                <a:gd name="textAreaTop" fmla="*/ 0 h 282600"/>
                <a:gd name="textAreaBottom" fmla="*/ 282960 h 282600"/>
              </a:gdLst>
              <a:ahLst/>
              <a:rect l="textAreaLeft" t="textAreaTop" r="textAreaRight" b="textAreaBottom"/>
              <a:pathLst>
                <a:path w="335314" h="347102">
                  <a:moveTo>
                    <a:pt x="335313" y="17212"/>
                  </a:moveTo>
                  <a:lnTo>
                    <a:pt x="90389" y="74584"/>
                  </a:lnTo>
                  <a:lnTo>
                    <a:pt x="93305" y="0"/>
                  </a:lnTo>
                  <a:lnTo>
                    <a:pt x="0" y="192197"/>
                  </a:lnTo>
                  <a:lnTo>
                    <a:pt x="102052" y="347101"/>
                  </a:lnTo>
                  <a:lnTo>
                    <a:pt x="67062" y="235225"/>
                  </a:lnTo>
                  <a:lnTo>
                    <a:pt x="236177" y="232357"/>
                  </a:lnTo>
                  <a:lnTo>
                    <a:pt x="335313" y="17212"/>
                  </a:lnTo>
                  <a:close/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ihandform 46"/>
            <p:cNvSpPr/>
            <p:nvPr/>
          </p:nvSpPr>
          <p:spPr>
            <a:xfrm>
              <a:off x="11095200" y="6632640"/>
              <a:ext cx="339480" cy="296640"/>
            </a:xfrm>
            <a:custGeom>
              <a:avLst/>
              <a:gdLst>
                <a:gd name="textAreaLeft" fmla="*/ 0 w 339480"/>
                <a:gd name="textAreaRight" fmla="*/ 339840 w 339480"/>
                <a:gd name="textAreaTop" fmla="*/ 0 h 296640"/>
                <a:gd name="textAreaBottom" fmla="*/ 297000 h 296640"/>
              </a:gdLst>
              <a:ahLst/>
              <a:rect l="textAreaLeft" t="textAreaTop" r="textAreaRight" b="textAreaBottom"/>
              <a:pathLst>
                <a:path w="276993" h="364308">
                  <a:moveTo>
                    <a:pt x="189521" y="364307"/>
                  </a:moveTo>
                  <a:lnTo>
                    <a:pt x="276992" y="172114"/>
                  </a:lnTo>
                  <a:lnTo>
                    <a:pt x="169111" y="0"/>
                  </a:lnTo>
                  <a:lnTo>
                    <a:pt x="0" y="129085"/>
                  </a:lnTo>
                  <a:lnTo>
                    <a:pt x="189521" y="364307"/>
                  </a:lnTo>
                  <a:close/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ihandform 47"/>
            <p:cNvSpPr/>
            <p:nvPr/>
          </p:nvSpPr>
          <p:spPr>
            <a:xfrm>
              <a:off x="10663200" y="6445080"/>
              <a:ext cx="556920" cy="98280"/>
            </a:xfrm>
            <a:custGeom>
              <a:avLst/>
              <a:gdLst>
                <a:gd name="textAreaLeft" fmla="*/ 0 w 556920"/>
                <a:gd name="textAreaRight" fmla="*/ 557280 w 55692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451941" h="120478">
                  <a:moveTo>
                    <a:pt x="0" y="60238"/>
                  </a:moveTo>
                  <a:lnTo>
                    <a:pt x="379046" y="0"/>
                  </a:lnTo>
                  <a:lnTo>
                    <a:pt x="451940" y="120477"/>
                  </a:lnTo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ihandform 48"/>
            <p:cNvSpPr/>
            <p:nvPr/>
          </p:nvSpPr>
          <p:spPr>
            <a:xfrm>
              <a:off x="10317240" y="6782040"/>
              <a:ext cx="507960" cy="385560"/>
            </a:xfrm>
            <a:custGeom>
              <a:avLst/>
              <a:gdLst>
                <a:gd name="textAreaLeft" fmla="*/ 0 w 507960"/>
                <a:gd name="textAreaRight" fmla="*/ 508320 w 507960"/>
                <a:gd name="textAreaTop" fmla="*/ 0 h 385560"/>
                <a:gd name="textAreaBottom" fmla="*/ 385920 h 385560"/>
              </a:gdLst>
              <a:ahLst/>
              <a:rect l="textAreaLeft" t="textAreaTop" r="textAreaRight" b="textAreaBottom"/>
              <a:pathLst>
                <a:path w="414042" h="473307">
                  <a:moveTo>
                    <a:pt x="8748" y="0"/>
                  </a:moveTo>
                  <a:lnTo>
                    <a:pt x="93306" y="11474"/>
                  </a:lnTo>
                  <a:lnTo>
                    <a:pt x="0" y="166374"/>
                  </a:lnTo>
                  <a:lnTo>
                    <a:pt x="180779" y="473306"/>
                  </a:lnTo>
                  <a:lnTo>
                    <a:pt x="414041" y="433147"/>
                  </a:lnTo>
                  <a:lnTo>
                    <a:pt x="408210" y="246692"/>
                  </a:lnTo>
                  <a:lnTo>
                    <a:pt x="96221" y="315538"/>
                  </a:lnTo>
                  <a:lnTo>
                    <a:pt x="233263" y="80318"/>
                  </a:lnTo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ihandform 49"/>
            <p:cNvSpPr/>
            <p:nvPr/>
          </p:nvSpPr>
          <p:spPr>
            <a:xfrm>
              <a:off x="10602720" y="6831000"/>
              <a:ext cx="60120" cy="4752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49569" h="57376">
                  <a:moveTo>
                    <a:pt x="11663" y="0"/>
                  </a:moveTo>
                  <a:lnTo>
                    <a:pt x="-15968" y="-8161"/>
                  </a:lnTo>
                  <a:lnTo>
                    <a:pt x="0" y="20081"/>
                  </a:lnTo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ihandform 50"/>
            <p:cNvSpPr/>
            <p:nvPr/>
          </p:nvSpPr>
          <p:spPr>
            <a:xfrm>
              <a:off x="10331280" y="6756480"/>
              <a:ext cx="285480" cy="74520"/>
            </a:xfrm>
            <a:custGeom>
              <a:avLst/>
              <a:gdLst>
                <a:gd name="textAreaLeft" fmla="*/ 0 w 285480"/>
                <a:gd name="textAreaRight" fmla="*/ 285840 w 285480"/>
                <a:gd name="textAreaTop" fmla="*/ 0 h 74520"/>
                <a:gd name="textAreaBottom" fmla="*/ 74880 h 74520"/>
              </a:gdLst>
              <a:ahLst/>
              <a:rect l="textAreaLeft" t="textAreaTop" r="textAreaRight" b="textAreaBottom"/>
              <a:pathLst>
                <a:path w="233266" h="91803">
                  <a:moveTo>
                    <a:pt x="0" y="22951"/>
                  </a:moveTo>
                  <a:lnTo>
                    <a:pt x="172033" y="0"/>
                  </a:lnTo>
                  <a:lnTo>
                    <a:pt x="233265" y="91802"/>
                  </a:lnTo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Gerade Verbindung 51"/>
            <p:cNvSpPr/>
            <p:nvPr/>
          </p:nvSpPr>
          <p:spPr>
            <a:xfrm flipV="1">
              <a:off x="10534680" y="6494040"/>
              <a:ext cx="126720" cy="174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Gerade Verbindung 52"/>
            <p:cNvSpPr/>
            <p:nvPr/>
          </p:nvSpPr>
          <p:spPr>
            <a:xfrm flipH="1">
              <a:off x="10924920" y="6639120"/>
              <a:ext cx="122040" cy="23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Textfeld 54"/>
          <p:cNvSpPr/>
          <p:nvPr/>
        </p:nvSpPr>
        <p:spPr>
          <a:xfrm>
            <a:off x="233280" y="135000"/>
            <a:ext cx="120603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Verdana"/>
                <a:ea typeface="Arial"/>
              </a:rPr>
              <a:t>Can you sort the words below into the correct bins? Say them as they go in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Textfeld 55" descr=""/>
          <p:cNvPicPr/>
          <p:nvPr/>
        </p:nvPicPr>
        <p:blipFill>
          <a:blip r:embed="rId1"/>
          <a:stretch/>
        </p:blipFill>
        <p:spPr>
          <a:xfrm>
            <a:off x="3865680" y="8967960"/>
            <a:ext cx="1468440" cy="504720"/>
          </a:xfrm>
          <a:prstGeom prst="rect">
            <a:avLst/>
          </a:prstGeom>
          <a:ln w="0">
            <a:noFill/>
          </a:ln>
        </p:spPr>
      </p:pic>
      <p:pic>
        <p:nvPicPr>
          <p:cNvPr id="173" name="Textfeld 56" descr=""/>
          <p:cNvPicPr/>
          <p:nvPr/>
        </p:nvPicPr>
        <p:blipFill>
          <a:blip r:embed="rId2"/>
          <a:stretch/>
        </p:blipFill>
        <p:spPr>
          <a:xfrm>
            <a:off x="8259840" y="8394840"/>
            <a:ext cx="1500120" cy="504720"/>
          </a:xfrm>
          <a:prstGeom prst="rect">
            <a:avLst/>
          </a:prstGeom>
          <a:ln w="0">
            <a:noFill/>
          </a:ln>
        </p:spPr>
      </p:pic>
      <p:pic>
        <p:nvPicPr>
          <p:cNvPr id="174" name="Textfeld 57" descr=""/>
          <p:cNvPicPr/>
          <p:nvPr/>
        </p:nvPicPr>
        <p:blipFill>
          <a:blip r:embed="rId3"/>
          <a:stretch/>
        </p:blipFill>
        <p:spPr>
          <a:xfrm>
            <a:off x="5956200" y="8967960"/>
            <a:ext cx="1809720" cy="504720"/>
          </a:xfrm>
          <a:prstGeom prst="rect">
            <a:avLst/>
          </a:prstGeom>
          <a:ln w="0">
            <a:noFill/>
          </a:ln>
        </p:spPr>
      </p:pic>
      <p:pic>
        <p:nvPicPr>
          <p:cNvPr id="175" name="Textfeld 58" descr=""/>
          <p:cNvPicPr/>
          <p:nvPr/>
        </p:nvPicPr>
        <p:blipFill>
          <a:blip r:embed="rId4"/>
          <a:stretch/>
        </p:blipFill>
        <p:spPr>
          <a:xfrm>
            <a:off x="8113680" y="8967960"/>
            <a:ext cx="2189160" cy="504720"/>
          </a:xfrm>
          <a:prstGeom prst="rect">
            <a:avLst/>
          </a:prstGeom>
          <a:ln w="0">
            <a:noFill/>
          </a:ln>
        </p:spPr>
      </p:pic>
      <p:pic>
        <p:nvPicPr>
          <p:cNvPr id="176" name="Textfeld 59" descr=""/>
          <p:cNvPicPr/>
          <p:nvPr/>
        </p:nvPicPr>
        <p:blipFill>
          <a:blip r:embed="rId5"/>
          <a:stretch/>
        </p:blipFill>
        <p:spPr>
          <a:xfrm>
            <a:off x="5662440" y="8394840"/>
            <a:ext cx="2500560" cy="504720"/>
          </a:xfrm>
          <a:prstGeom prst="rect">
            <a:avLst/>
          </a:prstGeom>
          <a:ln w="0">
            <a:noFill/>
          </a:ln>
        </p:spPr>
      </p:pic>
      <p:sp>
        <p:nvSpPr>
          <p:cNvPr id="177" name="Textfeld 60"/>
          <p:cNvSpPr/>
          <p:nvPr/>
        </p:nvSpPr>
        <p:spPr>
          <a:xfrm>
            <a:off x="655560" y="9529920"/>
            <a:ext cx="1153332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ff"/>
                </a:solidFill>
                <a:latin typeface="Verdana"/>
                <a:ea typeface="Arial"/>
              </a:rPr>
              <a:t>Can you think of any other words to go into the bins?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Gerade Verbindung 61"/>
          <p:cNvSpPr/>
          <p:nvPr/>
        </p:nvSpPr>
        <p:spPr>
          <a:xfrm>
            <a:off x="1793880" y="4032360"/>
            <a:ext cx="0" cy="1255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Textfeld 62" descr=""/>
          <p:cNvPicPr/>
          <p:nvPr/>
        </p:nvPicPr>
        <p:blipFill>
          <a:blip r:embed="rId6"/>
          <a:stretch/>
        </p:blipFill>
        <p:spPr>
          <a:xfrm>
            <a:off x="10344240" y="9040680"/>
            <a:ext cx="1811160" cy="505080"/>
          </a:xfrm>
          <a:prstGeom prst="rect">
            <a:avLst/>
          </a:prstGeom>
          <a:ln w="0">
            <a:noFill/>
          </a:ln>
        </p:spPr>
      </p:pic>
      <p:pic>
        <p:nvPicPr>
          <p:cNvPr id="180" name="Textfeld 63" descr=""/>
          <p:cNvPicPr/>
          <p:nvPr/>
        </p:nvPicPr>
        <p:blipFill>
          <a:blip r:embed="rId7"/>
          <a:stretch/>
        </p:blipFill>
        <p:spPr>
          <a:xfrm>
            <a:off x="689040" y="8906040"/>
            <a:ext cx="2992320" cy="512640"/>
          </a:xfrm>
          <a:prstGeom prst="rect">
            <a:avLst/>
          </a:prstGeom>
          <a:ln w="0">
            <a:noFill/>
          </a:ln>
        </p:spPr>
      </p:pic>
      <p:pic>
        <p:nvPicPr>
          <p:cNvPr id="181" name="Textfeld 64" descr=""/>
          <p:cNvPicPr/>
          <p:nvPr/>
        </p:nvPicPr>
        <p:blipFill>
          <a:blip r:embed="rId8"/>
          <a:stretch/>
        </p:blipFill>
        <p:spPr>
          <a:xfrm>
            <a:off x="3432240" y="8394840"/>
            <a:ext cx="2298600" cy="504720"/>
          </a:xfrm>
          <a:prstGeom prst="rect">
            <a:avLst/>
          </a:prstGeom>
          <a:ln w="0">
            <a:noFill/>
          </a:ln>
        </p:spPr>
      </p:pic>
      <p:pic>
        <p:nvPicPr>
          <p:cNvPr id="182" name="Textfeld 65" descr=""/>
          <p:cNvPicPr/>
          <p:nvPr/>
        </p:nvPicPr>
        <p:blipFill>
          <a:blip r:embed="rId9"/>
          <a:stretch/>
        </p:blipFill>
        <p:spPr>
          <a:xfrm>
            <a:off x="1000080" y="8381880"/>
            <a:ext cx="2316240" cy="5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5754E-007 1.37564E-006 L 0.65006 -0.25793 E">
                                      <p:cBhvr>
                                        <p:cTn id="143" dur="2000" fill="hold"/>
                                        <p:tgtEl>
                                          <p:spTgt spid="1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74908E-006 3.43599E-006 L 0.09851 -0.22355 E">
                                      <p:cBhvr>
                                        <p:cTn id="147" dur="2000" fill="hold"/>
                                        <p:tgtEl>
                                          <p:spTgt spid="1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79858E-007 2.5E-006 L -0.42854 -0.23766 E">
                                      <p:cBhvr>
                                        <p:cTn id="151" dur="2000" fill="hold"/>
                                        <p:tgtEl>
                                          <p:spTgt spid="1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25397E-007 3.43599E-006 L -0.27914 -0.15961 E">
                                      <p:cBhvr>
                                        <p:cTn id="155" dur="2000" fill="hold"/>
                                        <p:tgtEl>
                                          <p:spTgt spid="1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15711E-006 2.04783E-006 L -0.0211 -0.17508 E">
                                      <p:cBhvr>
                                        <p:cTn id="159" dur="2000" fill="hold"/>
                                        <p:tgtEl>
                                          <p:spTgt spid="1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89183E-006 -1.9134E-006 L 0.44286 -0.1596 E">
                                      <p:cBhvr>
                                        <p:cTn id="163" dur="2000" fill="hold"/>
                                        <p:tgtEl>
                                          <p:spTgt spid="1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256E-006 -1.9134E-006 L -0.35503 -0.15257 E">
                                      <p:cBhvr>
                                        <p:cTn id="167" dur="2000" fill="hold"/>
                                        <p:tgtEl>
                                          <p:spTgt spid="1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9.86775E-007 3.75E-006 L -0.61813 -0.22969 E">
                                      <p:cBhvr>
                                        <p:cTn id="171" dur="2000" fill="hold"/>
                                        <p:tgtEl>
                                          <p:spTgt spid="1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5883E-006 -2.78412E-006 L -0.39532 -0.16679 E">
                                      <p:cBhvr>
                                        <p:cTn id="175" dur="2000" fill="hold"/>
                                        <p:tgtEl>
                                          <p:spTgt spid="1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3a2c7"/>
            </a:gs>
            <a:gs pos="100000">
              <a:srgbClr val="ffff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3" name="Gruppieren 153"/>
          <p:cNvGrpSpPr/>
          <p:nvPr/>
        </p:nvGrpSpPr>
        <p:grpSpPr>
          <a:xfrm>
            <a:off x="2590920" y="2335320"/>
            <a:ext cx="1522440" cy="790560"/>
            <a:chOff x="2590920" y="2335320"/>
            <a:chExt cx="1522440" cy="790560"/>
          </a:xfrm>
        </p:grpSpPr>
        <p:sp>
          <p:nvSpPr>
            <p:cNvPr id="184" name="Freihandform 1"/>
            <p:cNvSpPr/>
            <p:nvPr/>
          </p:nvSpPr>
          <p:spPr>
            <a:xfrm>
              <a:off x="2590920" y="2468520"/>
              <a:ext cx="93600" cy="4896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76327" h="59945">
                  <a:moveTo>
                    <a:pt x="4317" y="26797"/>
                  </a:moveTo>
                  <a:lnTo>
                    <a:pt x="9144" y="25400"/>
                  </a:lnTo>
                  <a:lnTo>
                    <a:pt x="19176" y="24384"/>
                  </a:lnTo>
                  <a:lnTo>
                    <a:pt x="28829" y="22987"/>
                  </a:lnTo>
                  <a:lnTo>
                    <a:pt x="33654" y="22478"/>
                  </a:lnTo>
                  <a:lnTo>
                    <a:pt x="38480" y="21081"/>
                  </a:lnTo>
                  <a:lnTo>
                    <a:pt x="43688" y="19177"/>
                  </a:lnTo>
                  <a:lnTo>
                    <a:pt x="49022" y="16256"/>
                  </a:lnTo>
                  <a:lnTo>
                    <a:pt x="59054" y="10540"/>
                  </a:lnTo>
                  <a:lnTo>
                    <a:pt x="68198" y="4699"/>
                  </a:lnTo>
                  <a:lnTo>
                    <a:pt x="72517" y="1905"/>
                  </a:lnTo>
                  <a:lnTo>
                    <a:pt x="76326" y="0"/>
                  </a:lnTo>
                  <a:lnTo>
                    <a:pt x="72008" y="3809"/>
                  </a:lnTo>
                  <a:lnTo>
                    <a:pt x="68198" y="7112"/>
                  </a:lnTo>
                  <a:lnTo>
                    <a:pt x="61467" y="14350"/>
                  </a:lnTo>
                  <a:lnTo>
                    <a:pt x="58166" y="17653"/>
                  </a:lnTo>
                  <a:lnTo>
                    <a:pt x="54736" y="21590"/>
                  </a:lnTo>
                  <a:lnTo>
                    <a:pt x="50419" y="25400"/>
                  </a:lnTo>
                  <a:lnTo>
                    <a:pt x="45211" y="30225"/>
                  </a:lnTo>
                  <a:lnTo>
                    <a:pt x="32639" y="44577"/>
                  </a:lnTo>
                  <a:lnTo>
                    <a:pt x="26416" y="52324"/>
                  </a:lnTo>
                  <a:lnTo>
                    <a:pt x="20192" y="59944"/>
                  </a:lnTo>
                  <a:lnTo>
                    <a:pt x="22098" y="55118"/>
                  </a:lnTo>
                  <a:lnTo>
                    <a:pt x="23495" y="50800"/>
                  </a:lnTo>
                  <a:lnTo>
                    <a:pt x="26416" y="44069"/>
                  </a:lnTo>
                  <a:lnTo>
                    <a:pt x="28320" y="41275"/>
                  </a:lnTo>
                  <a:lnTo>
                    <a:pt x="30733" y="37337"/>
                  </a:lnTo>
                  <a:lnTo>
                    <a:pt x="33654" y="33528"/>
                  </a:lnTo>
                  <a:lnTo>
                    <a:pt x="35051" y="30734"/>
                  </a:lnTo>
                  <a:lnTo>
                    <a:pt x="37464" y="28321"/>
                  </a:lnTo>
                  <a:lnTo>
                    <a:pt x="33147" y="29209"/>
                  </a:lnTo>
                  <a:lnTo>
                    <a:pt x="28320" y="29718"/>
                  </a:lnTo>
                  <a:lnTo>
                    <a:pt x="18288" y="30225"/>
                  </a:lnTo>
                  <a:lnTo>
                    <a:pt x="13461" y="30225"/>
                  </a:lnTo>
                  <a:lnTo>
                    <a:pt x="8635" y="30225"/>
                  </a:lnTo>
                  <a:lnTo>
                    <a:pt x="3936" y="29209"/>
                  </a:lnTo>
                  <a:lnTo>
                    <a:pt x="0" y="28321"/>
                  </a:lnTo>
                  <a:lnTo>
                    <a:pt x="4317" y="26797"/>
                  </a:lnTo>
                  <a:close/>
                </a:path>
              </a:pathLst>
            </a:custGeom>
            <a:solidFill>
              <a:srgbClr val="9c907e"/>
            </a:solidFill>
            <a:ln w="0">
              <a:solidFill>
                <a:srgbClr val="9c907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ihandform 2"/>
            <p:cNvSpPr/>
            <p:nvPr/>
          </p:nvSpPr>
          <p:spPr>
            <a:xfrm>
              <a:off x="2670120" y="2335320"/>
              <a:ext cx="1443240" cy="790560"/>
            </a:xfrm>
            <a:custGeom>
              <a:avLst/>
              <a:gdLst>
                <a:gd name="textAreaLeft" fmla="*/ 0 w 1443240"/>
                <a:gd name="textAreaRight" fmla="*/ 1443600 w 1443240"/>
                <a:gd name="textAreaTop" fmla="*/ 0 h 790560"/>
                <a:gd name="textAreaBottom" fmla="*/ 790920 h 790560"/>
              </a:gdLst>
              <a:ahLst/>
              <a:rect l="textAreaLeft" t="textAreaTop" r="textAreaRight" b="textAreaBottom"/>
              <a:pathLst>
                <a:path w="1174625" h="971042">
                  <a:moveTo>
                    <a:pt x="0" y="129539"/>
                  </a:moveTo>
                  <a:lnTo>
                    <a:pt x="1905" y="121920"/>
                  </a:lnTo>
                  <a:lnTo>
                    <a:pt x="4827" y="114680"/>
                  </a:lnTo>
                  <a:lnTo>
                    <a:pt x="9145" y="107442"/>
                  </a:lnTo>
                  <a:lnTo>
                    <a:pt x="13971" y="100710"/>
                  </a:lnTo>
                  <a:lnTo>
                    <a:pt x="20193" y="93979"/>
                  </a:lnTo>
                  <a:lnTo>
                    <a:pt x="26924" y="87248"/>
                  </a:lnTo>
                  <a:lnTo>
                    <a:pt x="34164" y="81026"/>
                  </a:lnTo>
                  <a:lnTo>
                    <a:pt x="41783" y="74802"/>
                  </a:lnTo>
                  <a:lnTo>
                    <a:pt x="50420" y="68579"/>
                  </a:lnTo>
                  <a:lnTo>
                    <a:pt x="67183" y="57530"/>
                  </a:lnTo>
                  <a:lnTo>
                    <a:pt x="84455" y="46989"/>
                  </a:lnTo>
                  <a:lnTo>
                    <a:pt x="92711" y="42164"/>
                  </a:lnTo>
                  <a:lnTo>
                    <a:pt x="100839" y="37845"/>
                  </a:lnTo>
                  <a:lnTo>
                    <a:pt x="116205" y="29210"/>
                  </a:lnTo>
                  <a:lnTo>
                    <a:pt x="132080" y="21082"/>
                  </a:lnTo>
                  <a:lnTo>
                    <a:pt x="148845" y="13842"/>
                  </a:lnTo>
                  <a:lnTo>
                    <a:pt x="166117" y="7620"/>
                  </a:lnTo>
                  <a:lnTo>
                    <a:pt x="183389" y="3301"/>
                  </a:lnTo>
                  <a:lnTo>
                    <a:pt x="192024" y="1397"/>
                  </a:lnTo>
                  <a:lnTo>
                    <a:pt x="200661" y="380"/>
                  </a:lnTo>
                  <a:lnTo>
                    <a:pt x="209296" y="0"/>
                  </a:lnTo>
                  <a:lnTo>
                    <a:pt x="217933" y="380"/>
                  </a:lnTo>
                  <a:lnTo>
                    <a:pt x="226568" y="1397"/>
                  </a:lnTo>
                  <a:lnTo>
                    <a:pt x="234696" y="2794"/>
                  </a:lnTo>
                  <a:lnTo>
                    <a:pt x="243840" y="5714"/>
                  </a:lnTo>
                  <a:lnTo>
                    <a:pt x="252984" y="9017"/>
                  </a:lnTo>
                  <a:lnTo>
                    <a:pt x="261621" y="13335"/>
                  </a:lnTo>
                  <a:lnTo>
                    <a:pt x="270256" y="18160"/>
                  </a:lnTo>
                  <a:lnTo>
                    <a:pt x="278384" y="24002"/>
                  </a:lnTo>
                  <a:lnTo>
                    <a:pt x="286131" y="30226"/>
                  </a:lnTo>
                  <a:lnTo>
                    <a:pt x="293752" y="36957"/>
                  </a:lnTo>
                  <a:lnTo>
                    <a:pt x="300990" y="43688"/>
                  </a:lnTo>
                  <a:lnTo>
                    <a:pt x="308230" y="51307"/>
                  </a:lnTo>
                  <a:lnTo>
                    <a:pt x="314961" y="58547"/>
                  </a:lnTo>
                  <a:lnTo>
                    <a:pt x="327406" y="74295"/>
                  </a:lnTo>
                  <a:lnTo>
                    <a:pt x="338964" y="89661"/>
                  </a:lnTo>
                  <a:lnTo>
                    <a:pt x="344171" y="96901"/>
                  </a:lnTo>
                  <a:lnTo>
                    <a:pt x="348996" y="104139"/>
                  </a:lnTo>
                  <a:lnTo>
                    <a:pt x="358140" y="118491"/>
                  </a:lnTo>
                  <a:lnTo>
                    <a:pt x="366268" y="131952"/>
                  </a:lnTo>
                  <a:lnTo>
                    <a:pt x="374015" y="145414"/>
                  </a:lnTo>
                  <a:lnTo>
                    <a:pt x="380239" y="158876"/>
                  </a:lnTo>
                  <a:lnTo>
                    <a:pt x="385953" y="171830"/>
                  </a:lnTo>
                  <a:lnTo>
                    <a:pt x="390780" y="184276"/>
                  </a:lnTo>
                  <a:lnTo>
                    <a:pt x="394590" y="196723"/>
                  </a:lnTo>
                  <a:lnTo>
                    <a:pt x="398018" y="208788"/>
                  </a:lnTo>
                  <a:lnTo>
                    <a:pt x="400305" y="220726"/>
                  </a:lnTo>
                  <a:lnTo>
                    <a:pt x="402337" y="232282"/>
                  </a:lnTo>
                  <a:lnTo>
                    <a:pt x="403225" y="243839"/>
                  </a:lnTo>
                  <a:lnTo>
                    <a:pt x="403733" y="254889"/>
                  </a:lnTo>
                  <a:lnTo>
                    <a:pt x="403733" y="265810"/>
                  </a:lnTo>
                  <a:lnTo>
                    <a:pt x="402718" y="276860"/>
                  </a:lnTo>
                  <a:lnTo>
                    <a:pt x="401321" y="287527"/>
                  </a:lnTo>
                  <a:lnTo>
                    <a:pt x="399924" y="297560"/>
                  </a:lnTo>
                  <a:lnTo>
                    <a:pt x="397511" y="307594"/>
                  </a:lnTo>
                  <a:lnTo>
                    <a:pt x="394590" y="317754"/>
                  </a:lnTo>
                  <a:lnTo>
                    <a:pt x="391287" y="327786"/>
                  </a:lnTo>
                  <a:lnTo>
                    <a:pt x="387350" y="337439"/>
                  </a:lnTo>
                  <a:lnTo>
                    <a:pt x="383540" y="346964"/>
                  </a:lnTo>
                  <a:lnTo>
                    <a:pt x="379223" y="356107"/>
                  </a:lnTo>
                  <a:lnTo>
                    <a:pt x="369190" y="374395"/>
                  </a:lnTo>
                  <a:lnTo>
                    <a:pt x="358140" y="392048"/>
                  </a:lnTo>
                  <a:lnTo>
                    <a:pt x="346075" y="409447"/>
                  </a:lnTo>
                  <a:lnTo>
                    <a:pt x="333121" y="426211"/>
                  </a:lnTo>
                  <a:lnTo>
                    <a:pt x="320168" y="442976"/>
                  </a:lnTo>
                  <a:lnTo>
                    <a:pt x="292862" y="475107"/>
                  </a:lnTo>
                  <a:lnTo>
                    <a:pt x="279400" y="491490"/>
                  </a:lnTo>
                  <a:lnTo>
                    <a:pt x="266446" y="507365"/>
                  </a:lnTo>
                  <a:lnTo>
                    <a:pt x="254000" y="522604"/>
                  </a:lnTo>
                  <a:lnTo>
                    <a:pt x="242443" y="538479"/>
                  </a:lnTo>
                  <a:lnTo>
                    <a:pt x="231902" y="554863"/>
                  </a:lnTo>
                  <a:lnTo>
                    <a:pt x="222758" y="570610"/>
                  </a:lnTo>
                  <a:lnTo>
                    <a:pt x="215139" y="586994"/>
                  </a:lnTo>
                  <a:lnTo>
                    <a:pt x="211709" y="595121"/>
                  </a:lnTo>
                  <a:lnTo>
                    <a:pt x="208789" y="603250"/>
                  </a:lnTo>
                  <a:lnTo>
                    <a:pt x="206375" y="611885"/>
                  </a:lnTo>
                  <a:lnTo>
                    <a:pt x="204471" y="620140"/>
                  </a:lnTo>
                  <a:lnTo>
                    <a:pt x="203581" y="628777"/>
                  </a:lnTo>
                  <a:lnTo>
                    <a:pt x="202565" y="637413"/>
                  </a:lnTo>
                  <a:lnTo>
                    <a:pt x="202565" y="646557"/>
                  </a:lnTo>
                  <a:lnTo>
                    <a:pt x="203074" y="655192"/>
                  </a:lnTo>
                  <a:lnTo>
                    <a:pt x="204090" y="664209"/>
                  </a:lnTo>
                  <a:lnTo>
                    <a:pt x="205995" y="673353"/>
                  </a:lnTo>
                  <a:lnTo>
                    <a:pt x="208789" y="682497"/>
                  </a:lnTo>
                  <a:lnTo>
                    <a:pt x="211709" y="692150"/>
                  </a:lnTo>
                  <a:lnTo>
                    <a:pt x="216027" y="701675"/>
                  </a:lnTo>
                  <a:lnTo>
                    <a:pt x="220853" y="711327"/>
                  </a:lnTo>
                  <a:lnTo>
                    <a:pt x="227077" y="723265"/>
                  </a:lnTo>
                  <a:lnTo>
                    <a:pt x="234315" y="733805"/>
                  </a:lnTo>
                  <a:lnTo>
                    <a:pt x="241936" y="744473"/>
                  </a:lnTo>
                  <a:lnTo>
                    <a:pt x="249683" y="753998"/>
                  </a:lnTo>
                  <a:lnTo>
                    <a:pt x="257811" y="763651"/>
                  </a:lnTo>
                  <a:lnTo>
                    <a:pt x="266955" y="772286"/>
                  </a:lnTo>
                  <a:lnTo>
                    <a:pt x="276099" y="780415"/>
                  </a:lnTo>
                  <a:lnTo>
                    <a:pt x="285624" y="787653"/>
                  </a:lnTo>
                  <a:lnTo>
                    <a:pt x="295275" y="794765"/>
                  </a:lnTo>
                  <a:lnTo>
                    <a:pt x="305308" y="801496"/>
                  </a:lnTo>
                  <a:lnTo>
                    <a:pt x="315849" y="807339"/>
                  </a:lnTo>
                  <a:lnTo>
                    <a:pt x="326899" y="813053"/>
                  </a:lnTo>
                  <a:lnTo>
                    <a:pt x="337948" y="818388"/>
                  </a:lnTo>
                  <a:lnTo>
                    <a:pt x="348996" y="823086"/>
                  </a:lnTo>
                  <a:lnTo>
                    <a:pt x="360553" y="827023"/>
                  </a:lnTo>
                  <a:lnTo>
                    <a:pt x="371983" y="830834"/>
                  </a:lnTo>
                  <a:lnTo>
                    <a:pt x="384049" y="834644"/>
                  </a:lnTo>
                  <a:lnTo>
                    <a:pt x="395605" y="837565"/>
                  </a:lnTo>
                  <a:lnTo>
                    <a:pt x="419990" y="842390"/>
                  </a:lnTo>
                  <a:lnTo>
                    <a:pt x="444500" y="845692"/>
                  </a:lnTo>
                  <a:lnTo>
                    <a:pt x="469012" y="848105"/>
                  </a:lnTo>
                  <a:lnTo>
                    <a:pt x="493523" y="849121"/>
                  </a:lnTo>
                  <a:lnTo>
                    <a:pt x="517906" y="849121"/>
                  </a:lnTo>
                  <a:lnTo>
                    <a:pt x="541909" y="847597"/>
                  </a:lnTo>
                  <a:lnTo>
                    <a:pt x="565024" y="845692"/>
                  </a:lnTo>
                  <a:lnTo>
                    <a:pt x="580390" y="843788"/>
                  </a:lnTo>
                  <a:lnTo>
                    <a:pt x="596646" y="840866"/>
                  </a:lnTo>
                  <a:lnTo>
                    <a:pt x="613537" y="837565"/>
                  </a:lnTo>
                  <a:lnTo>
                    <a:pt x="630302" y="833246"/>
                  </a:lnTo>
                  <a:lnTo>
                    <a:pt x="647574" y="827913"/>
                  </a:lnTo>
                  <a:lnTo>
                    <a:pt x="664846" y="821690"/>
                  </a:lnTo>
                  <a:lnTo>
                    <a:pt x="681609" y="814959"/>
                  </a:lnTo>
                  <a:lnTo>
                    <a:pt x="697484" y="807339"/>
                  </a:lnTo>
                  <a:lnTo>
                    <a:pt x="711836" y="798703"/>
                  </a:lnTo>
                  <a:lnTo>
                    <a:pt x="719074" y="794384"/>
                  </a:lnTo>
                  <a:lnTo>
                    <a:pt x="725298" y="789559"/>
                  </a:lnTo>
                  <a:lnTo>
                    <a:pt x="731521" y="784733"/>
                  </a:lnTo>
                  <a:lnTo>
                    <a:pt x="737362" y="779526"/>
                  </a:lnTo>
                  <a:lnTo>
                    <a:pt x="742062" y="774191"/>
                  </a:lnTo>
                  <a:lnTo>
                    <a:pt x="746887" y="768858"/>
                  </a:lnTo>
                  <a:lnTo>
                    <a:pt x="751205" y="763142"/>
                  </a:lnTo>
                  <a:lnTo>
                    <a:pt x="754634" y="756920"/>
                  </a:lnTo>
                  <a:lnTo>
                    <a:pt x="757428" y="751204"/>
                  </a:lnTo>
                  <a:lnTo>
                    <a:pt x="759333" y="744473"/>
                  </a:lnTo>
                  <a:lnTo>
                    <a:pt x="760858" y="738251"/>
                  </a:lnTo>
                  <a:lnTo>
                    <a:pt x="761746" y="731520"/>
                  </a:lnTo>
                  <a:lnTo>
                    <a:pt x="761746" y="724280"/>
                  </a:lnTo>
                  <a:lnTo>
                    <a:pt x="760858" y="717550"/>
                  </a:lnTo>
                  <a:lnTo>
                    <a:pt x="759842" y="713740"/>
                  </a:lnTo>
                  <a:lnTo>
                    <a:pt x="758445" y="710310"/>
                  </a:lnTo>
                  <a:lnTo>
                    <a:pt x="756540" y="707516"/>
                  </a:lnTo>
                  <a:lnTo>
                    <a:pt x="754127" y="704596"/>
                  </a:lnTo>
                  <a:lnTo>
                    <a:pt x="751205" y="701675"/>
                  </a:lnTo>
                  <a:lnTo>
                    <a:pt x="747903" y="699770"/>
                  </a:lnTo>
                  <a:lnTo>
                    <a:pt x="744093" y="697357"/>
                  </a:lnTo>
                  <a:lnTo>
                    <a:pt x="740156" y="695452"/>
                  </a:lnTo>
                  <a:lnTo>
                    <a:pt x="735458" y="694054"/>
                  </a:lnTo>
                  <a:lnTo>
                    <a:pt x="730631" y="692530"/>
                  </a:lnTo>
                  <a:lnTo>
                    <a:pt x="725298" y="691641"/>
                  </a:lnTo>
                  <a:lnTo>
                    <a:pt x="720090" y="690245"/>
                  </a:lnTo>
                  <a:lnTo>
                    <a:pt x="707518" y="688721"/>
                  </a:lnTo>
                  <a:lnTo>
                    <a:pt x="694564" y="687832"/>
                  </a:lnTo>
                  <a:lnTo>
                    <a:pt x="680212" y="687323"/>
                  </a:lnTo>
                  <a:lnTo>
                    <a:pt x="664846" y="687323"/>
                  </a:lnTo>
                  <a:lnTo>
                    <a:pt x="648971" y="687323"/>
                  </a:lnTo>
                  <a:lnTo>
                    <a:pt x="632206" y="687832"/>
                  </a:lnTo>
                  <a:lnTo>
                    <a:pt x="597155" y="688721"/>
                  </a:lnTo>
                  <a:lnTo>
                    <a:pt x="561595" y="689736"/>
                  </a:lnTo>
                  <a:lnTo>
                    <a:pt x="543433" y="689736"/>
                  </a:lnTo>
                  <a:lnTo>
                    <a:pt x="525653" y="689228"/>
                  </a:lnTo>
                  <a:lnTo>
                    <a:pt x="508381" y="688721"/>
                  </a:lnTo>
                  <a:lnTo>
                    <a:pt x="491109" y="687323"/>
                  </a:lnTo>
                  <a:lnTo>
                    <a:pt x="474218" y="685419"/>
                  </a:lnTo>
                  <a:lnTo>
                    <a:pt x="458471" y="682497"/>
                  </a:lnTo>
                  <a:lnTo>
                    <a:pt x="443612" y="679196"/>
                  </a:lnTo>
                  <a:lnTo>
                    <a:pt x="429133" y="674878"/>
                  </a:lnTo>
                  <a:lnTo>
                    <a:pt x="422402" y="671957"/>
                  </a:lnTo>
                  <a:lnTo>
                    <a:pt x="415671" y="669035"/>
                  </a:lnTo>
                  <a:lnTo>
                    <a:pt x="409956" y="666241"/>
                  </a:lnTo>
                  <a:lnTo>
                    <a:pt x="403733" y="662813"/>
                  </a:lnTo>
                  <a:lnTo>
                    <a:pt x="398399" y="659003"/>
                  </a:lnTo>
                  <a:lnTo>
                    <a:pt x="393193" y="655192"/>
                  </a:lnTo>
                  <a:lnTo>
                    <a:pt x="388367" y="650366"/>
                  </a:lnTo>
                  <a:lnTo>
                    <a:pt x="384049" y="646048"/>
                  </a:lnTo>
                  <a:lnTo>
                    <a:pt x="379730" y="640715"/>
                  </a:lnTo>
                  <a:lnTo>
                    <a:pt x="376302" y="635508"/>
                  </a:lnTo>
                  <a:lnTo>
                    <a:pt x="372999" y="629665"/>
                  </a:lnTo>
                  <a:lnTo>
                    <a:pt x="370078" y="623442"/>
                  </a:lnTo>
                  <a:lnTo>
                    <a:pt x="367665" y="616711"/>
                  </a:lnTo>
                  <a:lnTo>
                    <a:pt x="365761" y="609980"/>
                  </a:lnTo>
                  <a:lnTo>
                    <a:pt x="364871" y="602360"/>
                  </a:lnTo>
                  <a:lnTo>
                    <a:pt x="363855" y="594614"/>
                  </a:lnTo>
                  <a:lnTo>
                    <a:pt x="363348" y="580263"/>
                  </a:lnTo>
                  <a:lnTo>
                    <a:pt x="363855" y="566801"/>
                  </a:lnTo>
                  <a:lnTo>
                    <a:pt x="365761" y="554354"/>
                  </a:lnTo>
                  <a:lnTo>
                    <a:pt x="368681" y="542290"/>
                  </a:lnTo>
                  <a:lnTo>
                    <a:pt x="372492" y="530859"/>
                  </a:lnTo>
                  <a:lnTo>
                    <a:pt x="377318" y="520319"/>
                  </a:lnTo>
                  <a:lnTo>
                    <a:pt x="383033" y="510666"/>
                  </a:lnTo>
                  <a:lnTo>
                    <a:pt x="389255" y="501522"/>
                  </a:lnTo>
                  <a:lnTo>
                    <a:pt x="397002" y="493395"/>
                  </a:lnTo>
                  <a:lnTo>
                    <a:pt x="405130" y="485266"/>
                  </a:lnTo>
                  <a:lnTo>
                    <a:pt x="413767" y="478028"/>
                  </a:lnTo>
                  <a:lnTo>
                    <a:pt x="423418" y="471296"/>
                  </a:lnTo>
                  <a:lnTo>
                    <a:pt x="433452" y="465582"/>
                  </a:lnTo>
                  <a:lnTo>
                    <a:pt x="443993" y="459740"/>
                  </a:lnTo>
                  <a:lnTo>
                    <a:pt x="455042" y="455040"/>
                  </a:lnTo>
                  <a:lnTo>
                    <a:pt x="466090" y="450215"/>
                  </a:lnTo>
                  <a:lnTo>
                    <a:pt x="478155" y="446404"/>
                  </a:lnTo>
                  <a:lnTo>
                    <a:pt x="490093" y="442467"/>
                  </a:lnTo>
                  <a:lnTo>
                    <a:pt x="502540" y="439165"/>
                  </a:lnTo>
                  <a:lnTo>
                    <a:pt x="515493" y="436245"/>
                  </a:lnTo>
                  <a:lnTo>
                    <a:pt x="541021" y="431927"/>
                  </a:lnTo>
                  <a:lnTo>
                    <a:pt x="566928" y="428116"/>
                  </a:lnTo>
                  <a:lnTo>
                    <a:pt x="592837" y="425703"/>
                  </a:lnTo>
                  <a:lnTo>
                    <a:pt x="617855" y="424307"/>
                  </a:lnTo>
                  <a:lnTo>
                    <a:pt x="642240" y="423290"/>
                  </a:lnTo>
                  <a:lnTo>
                    <a:pt x="664846" y="422783"/>
                  </a:lnTo>
                  <a:lnTo>
                    <a:pt x="679196" y="422783"/>
                  </a:lnTo>
                  <a:lnTo>
                    <a:pt x="694055" y="423290"/>
                  </a:lnTo>
                  <a:lnTo>
                    <a:pt x="724408" y="424688"/>
                  </a:lnTo>
                  <a:lnTo>
                    <a:pt x="755015" y="427609"/>
                  </a:lnTo>
                  <a:lnTo>
                    <a:pt x="786258" y="430529"/>
                  </a:lnTo>
                  <a:lnTo>
                    <a:pt x="816992" y="434340"/>
                  </a:lnTo>
                  <a:lnTo>
                    <a:pt x="847218" y="438150"/>
                  </a:lnTo>
                  <a:lnTo>
                    <a:pt x="876936" y="442086"/>
                  </a:lnTo>
                  <a:lnTo>
                    <a:pt x="904875" y="445389"/>
                  </a:lnTo>
                  <a:lnTo>
                    <a:pt x="918337" y="447294"/>
                  </a:lnTo>
                  <a:lnTo>
                    <a:pt x="931673" y="448690"/>
                  </a:lnTo>
                  <a:lnTo>
                    <a:pt x="944246" y="449707"/>
                  </a:lnTo>
                  <a:lnTo>
                    <a:pt x="955675" y="450722"/>
                  </a:lnTo>
                  <a:lnTo>
                    <a:pt x="967233" y="451103"/>
                  </a:lnTo>
                  <a:lnTo>
                    <a:pt x="977774" y="451611"/>
                  </a:lnTo>
                  <a:lnTo>
                    <a:pt x="987933" y="451611"/>
                  </a:lnTo>
                  <a:lnTo>
                    <a:pt x="996950" y="451103"/>
                  </a:lnTo>
                  <a:lnTo>
                    <a:pt x="1005587" y="450722"/>
                  </a:lnTo>
                  <a:lnTo>
                    <a:pt x="1013333" y="449198"/>
                  </a:lnTo>
                  <a:lnTo>
                    <a:pt x="1020065" y="447802"/>
                  </a:lnTo>
                  <a:lnTo>
                    <a:pt x="1025780" y="445389"/>
                  </a:lnTo>
                  <a:lnTo>
                    <a:pt x="1030098" y="442976"/>
                  </a:lnTo>
                  <a:lnTo>
                    <a:pt x="1033908" y="439673"/>
                  </a:lnTo>
                  <a:lnTo>
                    <a:pt x="1036828" y="435736"/>
                  </a:lnTo>
                  <a:lnTo>
                    <a:pt x="1038225" y="431419"/>
                  </a:lnTo>
                  <a:lnTo>
                    <a:pt x="1038733" y="428116"/>
                  </a:lnTo>
                  <a:lnTo>
                    <a:pt x="1038225" y="425703"/>
                  </a:lnTo>
                  <a:lnTo>
                    <a:pt x="1037845" y="422783"/>
                  </a:lnTo>
                  <a:lnTo>
                    <a:pt x="1036321" y="420370"/>
                  </a:lnTo>
                  <a:lnTo>
                    <a:pt x="1034924" y="418084"/>
                  </a:lnTo>
                  <a:lnTo>
                    <a:pt x="1032511" y="415671"/>
                  </a:lnTo>
                  <a:lnTo>
                    <a:pt x="1030098" y="413765"/>
                  </a:lnTo>
                  <a:lnTo>
                    <a:pt x="1027177" y="411734"/>
                  </a:lnTo>
                  <a:lnTo>
                    <a:pt x="1020065" y="407923"/>
                  </a:lnTo>
                  <a:lnTo>
                    <a:pt x="1011428" y="404621"/>
                  </a:lnTo>
                  <a:lnTo>
                    <a:pt x="1001268" y="401701"/>
                  </a:lnTo>
                  <a:lnTo>
                    <a:pt x="990220" y="398779"/>
                  </a:lnTo>
                  <a:lnTo>
                    <a:pt x="977774" y="396366"/>
                  </a:lnTo>
                  <a:lnTo>
                    <a:pt x="964820" y="394080"/>
                  </a:lnTo>
                  <a:lnTo>
                    <a:pt x="950468" y="391667"/>
                  </a:lnTo>
                  <a:lnTo>
                    <a:pt x="935990" y="389254"/>
                  </a:lnTo>
                  <a:lnTo>
                    <a:pt x="904875" y="384936"/>
                  </a:lnTo>
                  <a:lnTo>
                    <a:pt x="872618" y="380619"/>
                  </a:lnTo>
                  <a:lnTo>
                    <a:pt x="840487" y="375285"/>
                  </a:lnTo>
                  <a:lnTo>
                    <a:pt x="824739" y="371982"/>
                  </a:lnTo>
                  <a:lnTo>
                    <a:pt x="808864" y="368554"/>
                  </a:lnTo>
                  <a:lnTo>
                    <a:pt x="794005" y="364744"/>
                  </a:lnTo>
                  <a:lnTo>
                    <a:pt x="779527" y="360933"/>
                  </a:lnTo>
                  <a:lnTo>
                    <a:pt x="766065" y="356107"/>
                  </a:lnTo>
                  <a:lnTo>
                    <a:pt x="753111" y="350773"/>
                  </a:lnTo>
                  <a:lnTo>
                    <a:pt x="741680" y="345058"/>
                  </a:lnTo>
                  <a:lnTo>
                    <a:pt x="731140" y="338835"/>
                  </a:lnTo>
                  <a:lnTo>
                    <a:pt x="721996" y="332104"/>
                  </a:lnTo>
                  <a:lnTo>
                    <a:pt x="717677" y="328295"/>
                  </a:lnTo>
                  <a:lnTo>
                    <a:pt x="713740" y="324485"/>
                  </a:lnTo>
                  <a:lnTo>
                    <a:pt x="710439" y="320167"/>
                  </a:lnTo>
                  <a:lnTo>
                    <a:pt x="707518" y="315848"/>
                  </a:lnTo>
                  <a:lnTo>
                    <a:pt x="705105" y="311023"/>
                  </a:lnTo>
                  <a:lnTo>
                    <a:pt x="703199" y="306704"/>
                  </a:lnTo>
                  <a:lnTo>
                    <a:pt x="701295" y="301370"/>
                  </a:lnTo>
                  <a:lnTo>
                    <a:pt x="700405" y="296164"/>
                  </a:lnTo>
                  <a:lnTo>
                    <a:pt x="699898" y="290829"/>
                  </a:lnTo>
                  <a:lnTo>
                    <a:pt x="699390" y="285114"/>
                  </a:lnTo>
                  <a:lnTo>
                    <a:pt x="699898" y="277367"/>
                  </a:lnTo>
                  <a:lnTo>
                    <a:pt x="701295" y="270129"/>
                  </a:lnTo>
                  <a:lnTo>
                    <a:pt x="703708" y="263017"/>
                  </a:lnTo>
                  <a:lnTo>
                    <a:pt x="706628" y="256794"/>
                  </a:lnTo>
                  <a:lnTo>
                    <a:pt x="710439" y="250570"/>
                  </a:lnTo>
                  <a:lnTo>
                    <a:pt x="714756" y="244729"/>
                  </a:lnTo>
                  <a:lnTo>
                    <a:pt x="719583" y="239902"/>
                  </a:lnTo>
                  <a:lnTo>
                    <a:pt x="725298" y="235204"/>
                  </a:lnTo>
                  <a:lnTo>
                    <a:pt x="731521" y="230377"/>
                  </a:lnTo>
                  <a:lnTo>
                    <a:pt x="738252" y="226567"/>
                  </a:lnTo>
                  <a:lnTo>
                    <a:pt x="745490" y="222630"/>
                  </a:lnTo>
                  <a:lnTo>
                    <a:pt x="753111" y="219329"/>
                  </a:lnTo>
                  <a:lnTo>
                    <a:pt x="761365" y="215900"/>
                  </a:lnTo>
                  <a:lnTo>
                    <a:pt x="770002" y="213105"/>
                  </a:lnTo>
                  <a:lnTo>
                    <a:pt x="778637" y="210692"/>
                  </a:lnTo>
                  <a:lnTo>
                    <a:pt x="787655" y="208279"/>
                  </a:lnTo>
                  <a:lnTo>
                    <a:pt x="806450" y="204470"/>
                  </a:lnTo>
                  <a:lnTo>
                    <a:pt x="826136" y="201041"/>
                  </a:lnTo>
                  <a:lnTo>
                    <a:pt x="846328" y="198627"/>
                  </a:lnTo>
                  <a:lnTo>
                    <a:pt x="866395" y="196214"/>
                  </a:lnTo>
                  <a:lnTo>
                    <a:pt x="886587" y="194817"/>
                  </a:lnTo>
                  <a:lnTo>
                    <a:pt x="906273" y="193420"/>
                  </a:lnTo>
                  <a:lnTo>
                    <a:pt x="924942" y="191897"/>
                  </a:lnTo>
                  <a:lnTo>
                    <a:pt x="942721" y="190500"/>
                  </a:lnTo>
                  <a:lnTo>
                    <a:pt x="966217" y="188086"/>
                  </a:lnTo>
                  <a:lnTo>
                    <a:pt x="989330" y="184785"/>
                  </a:lnTo>
                  <a:lnTo>
                    <a:pt x="1011937" y="180467"/>
                  </a:lnTo>
                  <a:lnTo>
                    <a:pt x="1023367" y="178054"/>
                  </a:lnTo>
                  <a:lnTo>
                    <a:pt x="1034924" y="175132"/>
                  </a:lnTo>
                  <a:lnTo>
                    <a:pt x="1046862" y="171830"/>
                  </a:lnTo>
                  <a:lnTo>
                    <a:pt x="1058927" y="167894"/>
                  </a:lnTo>
                  <a:lnTo>
                    <a:pt x="1071373" y="163576"/>
                  </a:lnTo>
                  <a:lnTo>
                    <a:pt x="1083819" y="158876"/>
                  </a:lnTo>
                  <a:lnTo>
                    <a:pt x="1097281" y="153035"/>
                  </a:lnTo>
                  <a:lnTo>
                    <a:pt x="1111251" y="147320"/>
                  </a:lnTo>
                  <a:lnTo>
                    <a:pt x="1125601" y="140589"/>
                  </a:lnTo>
                  <a:lnTo>
                    <a:pt x="1140461" y="133350"/>
                  </a:lnTo>
                  <a:lnTo>
                    <a:pt x="1145794" y="130936"/>
                  </a:lnTo>
                  <a:lnTo>
                    <a:pt x="1151128" y="129539"/>
                  </a:lnTo>
                  <a:lnTo>
                    <a:pt x="1155827" y="129032"/>
                  </a:lnTo>
                  <a:lnTo>
                    <a:pt x="1160145" y="129032"/>
                  </a:lnTo>
                  <a:lnTo>
                    <a:pt x="1164082" y="129539"/>
                  </a:lnTo>
                  <a:lnTo>
                    <a:pt x="1167384" y="130936"/>
                  </a:lnTo>
                  <a:lnTo>
                    <a:pt x="1169798" y="132460"/>
                  </a:lnTo>
                  <a:lnTo>
                    <a:pt x="1172211" y="134873"/>
                  </a:lnTo>
                  <a:lnTo>
                    <a:pt x="1173607" y="137286"/>
                  </a:lnTo>
                  <a:lnTo>
                    <a:pt x="1174624" y="140080"/>
                  </a:lnTo>
                  <a:lnTo>
                    <a:pt x="1174624" y="143001"/>
                  </a:lnTo>
                  <a:lnTo>
                    <a:pt x="1174115" y="145923"/>
                  </a:lnTo>
                  <a:lnTo>
                    <a:pt x="1172719" y="148717"/>
                  </a:lnTo>
                  <a:lnTo>
                    <a:pt x="1170813" y="151638"/>
                  </a:lnTo>
                  <a:lnTo>
                    <a:pt x="1167384" y="154558"/>
                  </a:lnTo>
                  <a:lnTo>
                    <a:pt x="1163575" y="156845"/>
                  </a:lnTo>
                  <a:lnTo>
                    <a:pt x="1154431" y="162179"/>
                  </a:lnTo>
                  <a:lnTo>
                    <a:pt x="1145287" y="167004"/>
                  </a:lnTo>
                  <a:lnTo>
                    <a:pt x="1137158" y="171830"/>
                  </a:lnTo>
                  <a:lnTo>
                    <a:pt x="1129031" y="176529"/>
                  </a:lnTo>
                  <a:lnTo>
                    <a:pt x="1121283" y="180848"/>
                  </a:lnTo>
                  <a:lnTo>
                    <a:pt x="1114171" y="184785"/>
                  </a:lnTo>
                  <a:lnTo>
                    <a:pt x="1100201" y="192404"/>
                  </a:lnTo>
                  <a:lnTo>
                    <a:pt x="1087756" y="199644"/>
                  </a:lnTo>
                  <a:lnTo>
                    <a:pt x="1076199" y="205867"/>
                  </a:lnTo>
                  <a:lnTo>
                    <a:pt x="1065149" y="211582"/>
                  </a:lnTo>
                  <a:lnTo>
                    <a:pt x="1055117" y="216407"/>
                  </a:lnTo>
                  <a:lnTo>
                    <a:pt x="1044956" y="220726"/>
                  </a:lnTo>
                  <a:lnTo>
                    <a:pt x="1034924" y="225044"/>
                  </a:lnTo>
                  <a:lnTo>
                    <a:pt x="1025271" y="228473"/>
                  </a:lnTo>
                  <a:lnTo>
                    <a:pt x="1015239" y="231775"/>
                  </a:lnTo>
                  <a:lnTo>
                    <a:pt x="1005205" y="234188"/>
                  </a:lnTo>
                  <a:lnTo>
                    <a:pt x="994156" y="237108"/>
                  </a:lnTo>
                  <a:lnTo>
                    <a:pt x="982599" y="239014"/>
                  </a:lnTo>
                  <a:lnTo>
                    <a:pt x="970153" y="240919"/>
                  </a:lnTo>
                  <a:lnTo>
                    <a:pt x="958089" y="242823"/>
                  </a:lnTo>
                  <a:lnTo>
                    <a:pt x="945134" y="244220"/>
                  </a:lnTo>
                  <a:lnTo>
                    <a:pt x="918718" y="247142"/>
                  </a:lnTo>
                  <a:lnTo>
                    <a:pt x="892811" y="250063"/>
                  </a:lnTo>
                  <a:lnTo>
                    <a:pt x="879856" y="251460"/>
                  </a:lnTo>
                  <a:lnTo>
                    <a:pt x="867411" y="253364"/>
                  </a:lnTo>
                  <a:lnTo>
                    <a:pt x="855853" y="255270"/>
                  </a:lnTo>
                  <a:lnTo>
                    <a:pt x="844805" y="257682"/>
                  </a:lnTo>
                  <a:lnTo>
                    <a:pt x="834771" y="260604"/>
                  </a:lnTo>
                  <a:lnTo>
                    <a:pt x="825120" y="263525"/>
                  </a:lnTo>
                  <a:lnTo>
                    <a:pt x="817499" y="267335"/>
                  </a:lnTo>
                  <a:lnTo>
                    <a:pt x="810768" y="271145"/>
                  </a:lnTo>
                  <a:lnTo>
                    <a:pt x="805053" y="275970"/>
                  </a:lnTo>
                  <a:lnTo>
                    <a:pt x="803021" y="278383"/>
                  </a:lnTo>
                  <a:lnTo>
                    <a:pt x="801624" y="280797"/>
                  </a:lnTo>
                  <a:lnTo>
                    <a:pt x="800736" y="282701"/>
                  </a:lnTo>
                  <a:lnTo>
                    <a:pt x="800736" y="284098"/>
                  </a:lnTo>
                  <a:lnTo>
                    <a:pt x="801117" y="285495"/>
                  </a:lnTo>
                  <a:lnTo>
                    <a:pt x="802640" y="287020"/>
                  </a:lnTo>
                  <a:lnTo>
                    <a:pt x="804037" y="288417"/>
                  </a:lnTo>
                  <a:lnTo>
                    <a:pt x="806450" y="289432"/>
                  </a:lnTo>
                  <a:lnTo>
                    <a:pt x="809371" y="290322"/>
                  </a:lnTo>
                  <a:lnTo>
                    <a:pt x="812674" y="291338"/>
                  </a:lnTo>
                  <a:lnTo>
                    <a:pt x="815975" y="292226"/>
                  </a:lnTo>
                  <a:lnTo>
                    <a:pt x="820293" y="292735"/>
                  </a:lnTo>
                  <a:lnTo>
                    <a:pt x="829946" y="294132"/>
                  </a:lnTo>
                  <a:lnTo>
                    <a:pt x="840995" y="295655"/>
                  </a:lnTo>
                  <a:lnTo>
                    <a:pt x="853949" y="296545"/>
                  </a:lnTo>
                  <a:lnTo>
                    <a:pt x="867411" y="297560"/>
                  </a:lnTo>
                  <a:lnTo>
                    <a:pt x="882270" y="298957"/>
                  </a:lnTo>
                  <a:lnTo>
                    <a:pt x="898145" y="299973"/>
                  </a:lnTo>
                  <a:lnTo>
                    <a:pt x="914400" y="301370"/>
                  </a:lnTo>
                  <a:lnTo>
                    <a:pt x="931673" y="302767"/>
                  </a:lnTo>
                  <a:lnTo>
                    <a:pt x="948945" y="304800"/>
                  </a:lnTo>
                  <a:lnTo>
                    <a:pt x="966724" y="307085"/>
                  </a:lnTo>
                  <a:lnTo>
                    <a:pt x="984505" y="310007"/>
                  </a:lnTo>
                  <a:lnTo>
                    <a:pt x="1001777" y="312927"/>
                  </a:lnTo>
                  <a:lnTo>
                    <a:pt x="1019049" y="316738"/>
                  </a:lnTo>
                  <a:lnTo>
                    <a:pt x="1036321" y="321564"/>
                  </a:lnTo>
                  <a:lnTo>
                    <a:pt x="1052196" y="326770"/>
                  </a:lnTo>
                  <a:lnTo>
                    <a:pt x="1068071" y="332613"/>
                  </a:lnTo>
                  <a:lnTo>
                    <a:pt x="1082421" y="339344"/>
                  </a:lnTo>
                  <a:lnTo>
                    <a:pt x="1089152" y="343154"/>
                  </a:lnTo>
                  <a:lnTo>
                    <a:pt x="1095883" y="347472"/>
                  </a:lnTo>
                  <a:lnTo>
                    <a:pt x="1102107" y="351789"/>
                  </a:lnTo>
                  <a:lnTo>
                    <a:pt x="1107821" y="356107"/>
                  </a:lnTo>
                  <a:lnTo>
                    <a:pt x="1113663" y="360933"/>
                  </a:lnTo>
                  <a:lnTo>
                    <a:pt x="1118489" y="365760"/>
                  </a:lnTo>
                  <a:lnTo>
                    <a:pt x="1123188" y="371475"/>
                  </a:lnTo>
                  <a:lnTo>
                    <a:pt x="1127507" y="376808"/>
                  </a:lnTo>
                  <a:lnTo>
                    <a:pt x="1131825" y="383032"/>
                  </a:lnTo>
                  <a:lnTo>
                    <a:pt x="1135253" y="389254"/>
                  </a:lnTo>
                  <a:lnTo>
                    <a:pt x="1138175" y="395478"/>
                  </a:lnTo>
                  <a:lnTo>
                    <a:pt x="1140461" y="402716"/>
                  </a:lnTo>
                  <a:lnTo>
                    <a:pt x="1142493" y="409828"/>
                  </a:lnTo>
                  <a:lnTo>
                    <a:pt x="1143889" y="417576"/>
                  </a:lnTo>
                  <a:lnTo>
                    <a:pt x="1144398" y="425196"/>
                  </a:lnTo>
                  <a:lnTo>
                    <a:pt x="1144778" y="433832"/>
                  </a:lnTo>
                  <a:lnTo>
                    <a:pt x="1144398" y="442467"/>
                  </a:lnTo>
                  <a:lnTo>
                    <a:pt x="1143382" y="451103"/>
                  </a:lnTo>
                  <a:lnTo>
                    <a:pt x="1141476" y="460755"/>
                  </a:lnTo>
                  <a:lnTo>
                    <a:pt x="1139063" y="470789"/>
                  </a:lnTo>
                  <a:lnTo>
                    <a:pt x="1135762" y="480948"/>
                  </a:lnTo>
                  <a:lnTo>
                    <a:pt x="1131825" y="489965"/>
                  </a:lnTo>
                  <a:lnTo>
                    <a:pt x="1126618" y="498728"/>
                  </a:lnTo>
                  <a:lnTo>
                    <a:pt x="1120776" y="506857"/>
                  </a:lnTo>
                  <a:lnTo>
                    <a:pt x="1114171" y="513969"/>
                  </a:lnTo>
                  <a:lnTo>
                    <a:pt x="1106932" y="520700"/>
                  </a:lnTo>
                  <a:lnTo>
                    <a:pt x="1098805" y="527050"/>
                  </a:lnTo>
                  <a:lnTo>
                    <a:pt x="1090550" y="532257"/>
                  </a:lnTo>
                  <a:lnTo>
                    <a:pt x="1081025" y="537083"/>
                  </a:lnTo>
                  <a:lnTo>
                    <a:pt x="1071373" y="541401"/>
                  </a:lnTo>
                  <a:lnTo>
                    <a:pt x="1061340" y="545210"/>
                  </a:lnTo>
                  <a:lnTo>
                    <a:pt x="1050290" y="548640"/>
                  </a:lnTo>
                  <a:lnTo>
                    <a:pt x="1039242" y="551434"/>
                  </a:lnTo>
                  <a:lnTo>
                    <a:pt x="1027684" y="553846"/>
                  </a:lnTo>
                  <a:lnTo>
                    <a:pt x="1016255" y="556259"/>
                  </a:lnTo>
                  <a:lnTo>
                    <a:pt x="1003681" y="557657"/>
                  </a:lnTo>
                  <a:lnTo>
                    <a:pt x="991743" y="559180"/>
                  </a:lnTo>
                  <a:lnTo>
                    <a:pt x="978790" y="560070"/>
                  </a:lnTo>
                  <a:lnTo>
                    <a:pt x="953262" y="561085"/>
                  </a:lnTo>
                  <a:lnTo>
                    <a:pt x="927355" y="561085"/>
                  </a:lnTo>
                  <a:lnTo>
                    <a:pt x="901446" y="560578"/>
                  </a:lnTo>
                  <a:lnTo>
                    <a:pt x="876046" y="559180"/>
                  </a:lnTo>
                  <a:lnTo>
                    <a:pt x="851027" y="557657"/>
                  </a:lnTo>
                  <a:lnTo>
                    <a:pt x="827024" y="555752"/>
                  </a:lnTo>
                  <a:lnTo>
                    <a:pt x="804546" y="553846"/>
                  </a:lnTo>
                  <a:lnTo>
                    <a:pt x="777114" y="550926"/>
                  </a:lnTo>
                  <a:lnTo>
                    <a:pt x="749300" y="546608"/>
                  </a:lnTo>
                  <a:lnTo>
                    <a:pt x="721996" y="542290"/>
                  </a:lnTo>
                  <a:lnTo>
                    <a:pt x="694055" y="539496"/>
                  </a:lnTo>
                  <a:lnTo>
                    <a:pt x="680212" y="538479"/>
                  </a:lnTo>
                  <a:lnTo>
                    <a:pt x="666243" y="538479"/>
                  </a:lnTo>
                  <a:lnTo>
                    <a:pt x="652780" y="538988"/>
                  </a:lnTo>
                  <a:lnTo>
                    <a:pt x="639446" y="540892"/>
                  </a:lnTo>
                  <a:lnTo>
                    <a:pt x="625475" y="543305"/>
                  </a:lnTo>
                  <a:lnTo>
                    <a:pt x="612014" y="547623"/>
                  </a:lnTo>
                  <a:lnTo>
                    <a:pt x="599059" y="552958"/>
                  </a:lnTo>
                  <a:lnTo>
                    <a:pt x="585598" y="559689"/>
                  </a:lnTo>
                  <a:lnTo>
                    <a:pt x="606806" y="558672"/>
                  </a:lnTo>
                  <a:lnTo>
                    <a:pt x="627380" y="558672"/>
                  </a:lnTo>
                  <a:lnTo>
                    <a:pt x="647065" y="558672"/>
                  </a:lnTo>
                  <a:lnTo>
                    <a:pt x="666243" y="559180"/>
                  </a:lnTo>
                  <a:lnTo>
                    <a:pt x="685039" y="560070"/>
                  </a:lnTo>
                  <a:lnTo>
                    <a:pt x="703199" y="561594"/>
                  </a:lnTo>
                  <a:lnTo>
                    <a:pt x="720471" y="564007"/>
                  </a:lnTo>
                  <a:lnTo>
                    <a:pt x="737362" y="566292"/>
                  </a:lnTo>
                  <a:lnTo>
                    <a:pt x="753111" y="569214"/>
                  </a:lnTo>
                  <a:lnTo>
                    <a:pt x="768986" y="572642"/>
                  </a:lnTo>
                  <a:lnTo>
                    <a:pt x="783337" y="576453"/>
                  </a:lnTo>
                  <a:lnTo>
                    <a:pt x="797306" y="580771"/>
                  </a:lnTo>
                  <a:lnTo>
                    <a:pt x="810768" y="585596"/>
                  </a:lnTo>
                  <a:lnTo>
                    <a:pt x="823215" y="590803"/>
                  </a:lnTo>
                  <a:lnTo>
                    <a:pt x="835280" y="596646"/>
                  </a:lnTo>
                  <a:lnTo>
                    <a:pt x="846328" y="602869"/>
                  </a:lnTo>
                  <a:lnTo>
                    <a:pt x="856362" y="609600"/>
                  </a:lnTo>
                  <a:lnTo>
                    <a:pt x="866014" y="616711"/>
                  </a:lnTo>
                  <a:lnTo>
                    <a:pt x="874649" y="623951"/>
                  </a:lnTo>
                  <a:lnTo>
                    <a:pt x="882777" y="632078"/>
                  </a:lnTo>
                  <a:lnTo>
                    <a:pt x="890017" y="640715"/>
                  </a:lnTo>
                  <a:lnTo>
                    <a:pt x="896240" y="649859"/>
                  </a:lnTo>
                  <a:lnTo>
                    <a:pt x="901446" y="659003"/>
                  </a:lnTo>
                  <a:lnTo>
                    <a:pt x="905765" y="669035"/>
                  </a:lnTo>
                  <a:lnTo>
                    <a:pt x="909574" y="679196"/>
                  </a:lnTo>
                  <a:lnTo>
                    <a:pt x="912496" y="690245"/>
                  </a:lnTo>
                  <a:lnTo>
                    <a:pt x="914400" y="701166"/>
                  </a:lnTo>
                  <a:lnTo>
                    <a:pt x="915417" y="712723"/>
                  </a:lnTo>
                  <a:lnTo>
                    <a:pt x="915417" y="725170"/>
                  </a:lnTo>
                  <a:lnTo>
                    <a:pt x="914400" y="737742"/>
                  </a:lnTo>
                  <a:lnTo>
                    <a:pt x="912496" y="750696"/>
                  </a:lnTo>
                  <a:lnTo>
                    <a:pt x="909574" y="764159"/>
                  </a:lnTo>
                  <a:lnTo>
                    <a:pt x="906780" y="774700"/>
                  </a:lnTo>
                  <a:lnTo>
                    <a:pt x="903352" y="785240"/>
                  </a:lnTo>
                  <a:lnTo>
                    <a:pt x="899542" y="795273"/>
                  </a:lnTo>
                  <a:lnTo>
                    <a:pt x="894715" y="805434"/>
                  </a:lnTo>
                  <a:lnTo>
                    <a:pt x="890017" y="814959"/>
                  </a:lnTo>
                  <a:lnTo>
                    <a:pt x="884174" y="824103"/>
                  </a:lnTo>
                  <a:lnTo>
                    <a:pt x="878459" y="833246"/>
                  </a:lnTo>
                  <a:lnTo>
                    <a:pt x="872237" y="841883"/>
                  </a:lnTo>
                  <a:lnTo>
                    <a:pt x="864998" y="850010"/>
                  </a:lnTo>
                  <a:lnTo>
                    <a:pt x="857758" y="858139"/>
                  </a:lnTo>
                  <a:lnTo>
                    <a:pt x="850139" y="865885"/>
                  </a:lnTo>
                  <a:lnTo>
                    <a:pt x="842011" y="873505"/>
                  </a:lnTo>
                  <a:lnTo>
                    <a:pt x="833374" y="880745"/>
                  </a:lnTo>
                  <a:lnTo>
                    <a:pt x="824739" y="887476"/>
                  </a:lnTo>
                  <a:lnTo>
                    <a:pt x="815087" y="894207"/>
                  </a:lnTo>
                  <a:lnTo>
                    <a:pt x="805434" y="900429"/>
                  </a:lnTo>
                  <a:lnTo>
                    <a:pt x="795402" y="906145"/>
                  </a:lnTo>
                  <a:lnTo>
                    <a:pt x="785368" y="911986"/>
                  </a:lnTo>
                  <a:lnTo>
                    <a:pt x="774700" y="917702"/>
                  </a:lnTo>
                  <a:lnTo>
                    <a:pt x="763778" y="922528"/>
                  </a:lnTo>
                  <a:lnTo>
                    <a:pt x="752730" y="927734"/>
                  </a:lnTo>
                  <a:lnTo>
                    <a:pt x="741173" y="932053"/>
                  </a:lnTo>
                  <a:lnTo>
                    <a:pt x="717677" y="940689"/>
                  </a:lnTo>
                  <a:lnTo>
                    <a:pt x="693167" y="947928"/>
                  </a:lnTo>
                  <a:lnTo>
                    <a:pt x="667767" y="954151"/>
                  </a:lnTo>
                  <a:lnTo>
                    <a:pt x="641858" y="959484"/>
                  </a:lnTo>
                  <a:lnTo>
                    <a:pt x="614934" y="963803"/>
                  </a:lnTo>
                  <a:lnTo>
                    <a:pt x="588011" y="967104"/>
                  </a:lnTo>
                  <a:lnTo>
                    <a:pt x="560705" y="969009"/>
                  </a:lnTo>
                  <a:lnTo>
                    <a:pt x="532893" y="970534"/>
                  </a:lnTo>
                  <a:lnTo>
                    <a:pt x="504952" y="971041"/>
                  </a:lnTo>
                  <a:lnTo>
                    <a:pt x="477648" y="970026"/>
                  </a:lnTo>
                  <a:lnTo>
                    <a:pt x="449834" y="968628"/>
                  </a:lnTo>
                  <a:lnTo>
                    <a:pt x="422402" y="966215"/>
                  </a:lnTo>
                  <a:lnTo>
                    <a:pt x="395098" y="962405"/>
                  </a:lnTo>
                  <a:lnTo>
                    <a:pt x="368681" y="958088"/>
                  </a:lnTo>
                  <a:lnTo>
                    <a:pt x="342265" y="953261"/>
                  </a:lnTo>
                  <a:lnTo>
                    <a:pt x="316865" y="947039"/>
                  </a:lnTo>
                  <a:lnTo>
                    <a:pt x="292355" y="939800"/>
                  </a:lnTo>
                  <a:lnTo>
                    <a:pt x="268352" y="932053"/>
                  </a:lnTo>
                  <a:lnTo>
                    <a:pt x="245365" y="923925"/>
                  </a:lnTo>
                  <a:lnTo>
                    <a:pt x="223774" y="914400"/>
                  </a:lnTo>
                  <a:lnTo>
                    <a:pt x="203074" y="904240"/>
                  </a:lnTo>
                  <a:lnTo>
                    <a:pt x="193040" y="898525"/>
                  </a:lnTo>
                  <a:lnTo>
                    <a:pt x="182880" y="892302"/>
                  </a:lnTo>
                  <a:lnTo>
                    <a:pt x="173355" y="886078"/>
                  </a:lnTo>
                  <a:lnTo>
                    <a:pt x="164212" y="879347"/>
                  </a:lnTo>
                  <a:lnTo>
                    <a:pt x="155575" y="872109"/>
                  </a:lnTo>
                  <a:lnTo>
                    <a:pt x="147448" y="864870"/>
                  </a:lnTo>
                  <a:lnTo>
                    <a:pt x="139193" y="857250"/>
                  </a:lnTo>
                  <a:lnTo>
                    <a:pt x="131573" y="849121"/>
                  </a:lnTo>
                  <a:lnTo>
                    <a:pt x="124333" y="840866"/>
                  </a:lnTo>
                  <a:lnTo>
                    <a:pt x="117602" y="831850"/>
                  </a:lnTo>
                  <a:lnTo>
                    <a:pt x="111380" y="822705"/>
                  </a:lnTo>
                  <a:lnTo>
                    <a:pt x="105156" y="813561"/>
                  </a:lnTo>
                  <a:lnTo>
                    <a:pt x="99442" y="803909"/>
                  </a:lnTo>
                  <a:lnTo>
                    <a:pt x="94108" y="793877"/>
                  </a:lnTo>
                  <a:lnTo>
                    <a:pt x="89281" y="783335"/>
                  </a:lnTo>
                  <a:lnTo>
                    <a:pt x="84455" y="772286"/>
                  </a:lnTo>
                  <a:lnTo>
                    <a:pt x="80137" y="761238"/>
                  </a:lnTo>
                  <a:lnTo>
                    <a:pt x="76327" y="750189"/>
                  </a:lnTo>
                  <a:lnTo>
                    <a:pt x="72518" y="738251"/>
                  </a:lnTo>
                  <a:lnTo>
                    <a:pt x="69215" y="726185"/>
                  </a:lnTo>
                  <a:lnTo>
                    <a:pt x="66295" y="713740"/>
                  </a:lnTo>
                  <a:lnTo>
                    <a:pt x="63374" y="700785"/>
                  </a:lnTo>
                  <a:lnTo>
                    <a:pt x="61468" y="687832"/>
                  </a:lnTo>
                  <a:lnTo>
                    <a:pt x="59055" y="674370"/>
                  </a:lnTo>
                  <a:lnTo>
                    <a:pt x="57658" y="660400"/>
                  </a:lnTo>
                  <a:lnTo>
                    <a:pt x="56134" y="646048"/>
                  </a:lnTo>
                  <a:lnTo>
                    <a:pt x="55246" y="631571"/>
                  </a:lnTo>
                  <a:lnTo>
                    <a:pt x="54230" y="616711"/>
                  </a:lnTo>
                  <a:lnTo>
                    <a:pt x="53849" y="601345"/>
                  </a:lnTo>
                  <a:lnTo>
                    <a:pt x="53849" y="585978"/>
                  </a:lnTo>
                  <a:lnTo>
                    <a:pt x="53849" y="570229"/>
                  </a:lnTo>
                  <a:lnTo>
                    <a:pt x="54230" y="553846"/>
                  </a:lnTo>
                  <a:lnTo>
                    <a:pt x="52833" y="541909"/>
                  </a:lnTo>
                  <a:lnTo>
                    <a:pt x="51436" y="528954"/>
                  </a:lnTo>
                  <a:lnTo>
                    <a:pt x="49912" y="516001"/>
                  </a:lnTo>
                  <a:lnTo>
                    <a:pt x="49023" y="503046"/>
                  </a:lnTo>
                  <a:lnTo>
                    <a:pt x="48006" y="475615"/>
                  </a:lnTo>
                  <a:lnTo>
                    <a:pt x="47499" y="447802"/>
                  </a:lnTo>
                  <a:lnTo>
                    <a:pt x="48006" y="418972"/>
                  </a:lnTo>
                  <a:lnTo>
                    <a:pt x="49530" y="390652"/>
                  </a:lnTo>
                  <a:lnTo>
                    <a:pt x="51436" y="361823"/>
                  </a:lnTo>
                  <a:lnTo>
                    <a:pt x="54230" y="334010"/>
                  </a:lnTo>
                  <a:lnTo>
                    <a:pt x="57658" y="306704"/>
                  </a:lnTo>
                  <a:lnTo>
                    <a:pt x="61977" y="280289"/>
                  </a:lnTo>
                  <a:lnTo>
                    <a:pt x="64390" y="267842"/>
                  </a:lnTo>
                  <a:lnTo>
                    <a:pt x="67183" y="255270"/>
                  </a:lnTo>
                  <a:lnTo>
                    <a:pt x="70105" y="243839"/>
                  </a:lnTo>
                  <a:lnTo>
                    <a:pt x="73025" y="232282"/>
                  </a:lnTo>
                  <a:lnTo>
                    <a:pt x="75820" y="221233"/>
                  </a:lnTo>
                  <a:lnTo>
                    <a:pt x="79249" y="211201"/>
                  </a:lnTo>
                  <a:lnTo>
                    <a:pt x="83058" y="201041"/>
                  </a:lnTo>
                  <a:lnTo>
                    <a:pt x="86487" y="191897"/>
                  </a:lnTo>
                  <a:lnTo>
                    <a:pt x="90298" y="183260"/>
                  </a:lnTo>
                  <a:lnTo>
                    <a:pt x="94615" y="175641"/>
                  </a:lnTo>
                  <a:lnTo>
                    <a:pt x="98425" y="168401"/>
                  </a:lnTo>
                  <a:lnTo>
                    <a:pt x="102743" y="161670"/>
                  </a:lnTo>
                  <a:lnTo>
                    <a:pt x="86487" y="165989"/>
                  </a:lnTo>
                  <a:lnTo>
                    <a:pt x="69596" y="169417"/>
                  </a:lnTo>
                  <a:lnTo>
                    <a:pt x="60961" y="170814"/>
                  </a:lnTo>
                  <a:lnTo>
                    <a:pt x="52324" y="171323"/>
                  </a:lnTo>
                  <a:lnTo>
                    <a:pt x="44196" y="171830"/>
                  </a:lnTo>
                  <a:lnTo>
                    <a:pt x="36577" y="171323"/>
                  </a:lnTo>
                  <a:lnTo>
                    <a:pt x="29337" y="170307"/>
                  </a:lnTo>
                  <a:lnTo>
                    <a:pt x="22606" y="168401"/>
                  </a:lnTo>
                  <a:lnTo>
                    <a:pt x="16383" y="165989"/>
                  </a:lnTo>
                  <a:lnTo>
                    <a:pt x="11049" y="162179"/>
                  </a:lnTo>
                  <a:lnTo>
                    <a:pt x="6731" y="157860"/>
                  </a:lnTo>
                  <a:lnTo>
                    <a:pt x="4827" y="154939"/>
                  </a:lnTo>
                  <a:lnTo>
                    <a:pt x="3430" y="152145"/>
                  </a:lnTo>
                  <a:lnTo>
                    <a:pt x="1905" y="148717"/>
                  </a:lnTo>
                  <a:lnTo>
                    <a:pt x="1017" y="145414"/>
                  </a:lnTo>
                  <a:lnTo>
                    <a:pt x="0" y="141097"/>
                  </a:lnTo>
                  <a:lnTo>
                    <a:pt x="0" y="137286"/>
                  </a:lnTo>
                  <a:lnTo>
                    <a:pt x="0" y="129539"/>
                  </a:lnTo>
                  <a:close/>
                </a:path>
              </a:pathLst>
            </a:custGeom>
            <a:solidFill>
              <a:srgbClr val="d8cc8c"/>
            </a:solidFill>
            <a:ln w="0">
              <a:solidFill>
                <a:srgbClr val="d8cc8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ihandform 3"/>
            <p:cNvSpPr/>
            <p:nvPr/>
          </p:nvSpPr>
          <p:spPr>
            <a:xfrm>
              <a:off x="2670120" y="2335320"/>
              <a:ext cx="1443240" cy="790560"/>
            </a:xfrm>
            <a:custGeom>
              <a:avLst/>
              <a:gdLst>
                <a:gd name="textAreaLeft" fmla="*/ 0 w 1443240"/>
                <a:gd name="textAreaRight" fmla="*/ 1443600 w 1443240"/>
                <a:gd name="textAreaTop" fmla="*/ 0 h 790560"/>
                <a:gd name="textAreaBottom" fmla="*/ 790920 h 790560"/>
              </a:gdLst>
              <a:ahLst/>
              <a:rect l="textAreaLeft" t="textAreaTop" r="textAreaRight" b="textAreaBottom"/>
              <a:pathLst>
                <a:path w="1174751" h="970280">
                  <a:moveTo>
                    <a:pt x="0" y="137160"/>
                  </a:moveTo>
                  <a:lnTo>
                    <a:pt x="0" y="140970"/>
                  </a:lnTo>
                  <a:lnTo>
                    <a:pt x="1270" y="144779"/>
                  </a:lnTo>
                  <a:lnTo>
                    <a:pt x="2540" y="148589"/>
                  </a:lnTo>
                  <a:lnTo>
                    <a:pt x="3810" y="151129"/>
                  </a:lnTo>
                  <a:lnTo>
                    <a:pt x="5080" y="154939"/>
                  </a:lnTo>
                  <a:lnTo>
                    <a:pt x="7620" y="157479"/>
                  </a:lnTo>
                  <a:lnTo>
                    <a:pt x="11430" y="161289"/>
                  </a:lnTo>
                  <a:lnTo>
                    <a:pt x="16510" y="165100"/>
                  </a:lnTo>
                  <a:lnTo>
                    <a:pt x="22860" y="167639"/>
                  </a:lnTo>
                  <a:lnTo>
                    <a:pt x="29210" y="170179"/>
                  </a:lnTo>
                  <a:lnTo>
                    <a:pt x="36830" y="171450"/>
                  </a:lnTo>
                  <a:lnTo>
                    <a:pt x="44450" y="171450"/>
                  </a:lnTo>
                  <a:lnTo>
                    <a:pt x="52070" y="171450"/>
                  </a:lnTo>
                  <a:lnTo>
                    <a:pt x="60960" y="170179"/>
                  </a:lnTo>
                  <a:lnTo>
                    <a:pt x="69850" y="168910"/>
                  </a:lnTo>
                  <a:lnTo>
                    <a:pt x="86360" y="165100"/>
                  </a:lnTo>
                  <a:lnTo>
                    <a:pt x="102870" y="161289"/>
                  </a:lnTo>
                  <a:lnTo>
                    <a:pt x="99060" y="167639"/>
                  </a:lnTo>
                  <a:lnTo>
                    <a:pt x="95250" y="175260"/>
                  </a:lnTo>
                  <a:lnTo>
                    <a:pt x="90170" y="182879"/>
                  </a:lnTo>
                  <a:lnTo>
                    <a:pt x="86360" y="191770"/>
                  </a:lnTo>
                  <a:lnTo>
                    <a:pt x="83820" y="200660"/>
                  </a:lnTo>
                  <a:lnTo>
                    <a:pt x="80010" y="210820"/>
                  </a:lnTo>
                  <a:lnTo>
                    <a:pt x="76200" y="220979"/>
                  </a:lnTo>
                  <a:lnTo>
                    <a:pt x="73660" y="231139"/>
                  </a:lnTo>
                  <a:lnTo>
                    <a:pt x="69850" y="243839"/>
                  </a:lnTo>
                  <a:lnTo>
                    <a:pt x="67310" y="255270"/>
                  </a:lnTo>
                  <a:lnTo>
                    <a:pt x="64770" y="267970"/>
                  </a:lnTo>
                  <a:lnTo>
                    <a:pt x="62230" y="279400"/>
                  </a:lnTo>
                  <a:lnTo>
                    <a:pt x="58420" y="306070"/>
                  </a:lnTo>
                  <a:lnTo>
                    <a:pt x="54610" y="334010"/>
                  </a:lnTo>
                  <a:lnTo>
                    <a:pt x="52070" y="361950"/>
                  </a:lnTo>
                  <a:lnTo>
                    <a:pt x="49530" y="389890"/>
                  </a:lnTo>
                  <a:lnTo>
                    <a:pt x="48260" y="419100"/>
                  </a:lnTo>
                  <a:lnTo>
                    <a:pt x="48260" y="447040"/>
                  </a:lnTo>
                  <a:lnTo>
                    <a:pt x="48260" y="474979"/>
                  </a:lnTo>
                  <a:lnTo>
                    <a:pt x="49530" y="502920"/>
                  </a:lnTo>
                  <a:lnTo>
                    <a:pt x="50800" y="515620"/>
                  </a:lnTo>
                  <a:lnTo>
                    <a:pt x="52070" y="528320"/>
                  </a:lnTo>
                  <a:lnTo>
                    <a:pt x="53340" y="541020"/>
                  </a:lnTo>
                  <a:lnTo>
                    <a:pt x="54610" y="553720"/>
                  </a:lnTo>
                  <a:lnTo>
                    <a:pt x="54610" y="570229"/>
                  </a:lnTo>
                  <a:lnTo>
                    <a:pt x="54610" y="585470"/>
                  </a:lnTo>
                  <a:lnTo>
                    <a:pt x="54610" y="600709"/>
                  </a:lnTo>
                  <a:lnTo>
                    <a:pt x="54610" y="615950"/>
                  </a:lnTo>
                  <a:lnTo>
                    <a:pt x="55880" y="631190"/>
                  </a:lnTo>
                  <a:lnTo>
                    <a:pt x="55880" y="645159"/>
                  </a:lnTo>
                  <a:lnTo>
                    <a:pt x="58420" y="660400"/>
                  </a:lnTo>
                  <a:lnTo>
                    <a:pt x="59690" y="674370"/>
                  </a:lnTo>
                  <a:lnTo>
                    <a:pt x="62230" y="687070"/>
                  </a:lnTo>
                  <a:lnTo>
                    <a:pt x="63500" y="699770"/>
                  </a:lnTo>
                  <a:lnTo>
                    <a:pt x="66040" y="713740"/>
                  </a:lnTo>
                  <a:lnTo>
                    <a:pt x="69850" y="725170"/>
                  </a:lnTo>
                  <a:lnTo>
                    <a:pt x="72390" y="737869"/>
                  </a:lnTo>
                  <a:lnTo>
                    <a:pt x="76200" y="749300"/>
                  </a:lnTo>
                  <a:lnTo>
                    <a:pt x="80010" y="760729"/>
                  </a:lnTo>
                  <a:lnTo>
                    <a:pt x="85090" y="772159"/>
                  </a:lnTo>
                  <a:lnTo>
                    <a:pt x="88900" y="782319"/>
                  </a:lnTo>
                  <a:lnTo>
                    <a:pt x="93980" y="793750"/>
                  </a:lnTo>
                  <a:lnTo>
                    <a:pt x="99060" y="803909"/>
                  </a:lnTo>
                  <a:lnTo>
                    <a:pt x="105410" y="812800"/>
                  </a:lnTo>
                  <a:lnTo>
                    <a:pt x="111760" y="821689"/>
                  </a:lnTo>
                  <a:lnTo>
                    <a:pt x="118110" y="831850"/>
                  </a:lnTo>
                  <a:lnTo>
                    <a:pt x="124460" y="840739"/>
                  </a:lnTo>
                  <a:lnTo>
                    <a:pt x="132080" y="848359"/>
                  </a:lnTo>
                  <a:lnTo>
                    <a:pt x="139700" y="857250"/>
                  </a:lnTo>
                  <a:lnTo>
                    <a:pt x="147320" y="864869"/>
                  </a:lnTo>
                  <a:lnTo>
                    <a:pt x="156210" y="871219"/>
                  </a:lnTo>
                  <a:lnTo>
                    <a:pt x="163830" y="878839"/>
                  </a:lnTo>
                  <a:lnTo>
                    <a:pt x="173990" y="885189"/>
                  </a:lnTo>
                  <a:lnTo>
                    <a:pt x="182880" y="891539"/>
                  </a:lnTo>
                  <a:lnTo>
                    <a:pt x="193040" y="897889"/>
                  </a:lnTo>
                  <a:lnTo>
                    <a:pt x="203200" y="904239"/>
                  </a:lnTo>
                  <a:lnTo>
                    <a:pt x="223520" y="914400"/>
                  </a:lnTo>
                  <a:lnTo>
                    <a:pt x="245110" y="923289"/>
                  </a:lnTo>
                  <a:lnTo>
                    <a:pt x="269240" y="932179"/>
                  </a:lnTo>
                  <a:lnTo>
                    <a:pt x="292100" y="939800"/>
                  </a:lnTo>
                  <a:lnTo>
                    <a:pt x="317500" y="946150"/>
                  </a:lnTo>
                  <a:lnTo>
                    <a:pt x="342900" y="952500"/>
                  </a:lnTo>
                  <a:lnTo>
                    <a:pt x="369570" y="957579"/>
                  </a:lnTo>
                  <a:lnTo>
                    <a:pt x="394970" y="961389"/>
                  </a:lnTo>
                  <a:lnTo>
                    <a:pt x="422910" y="965200"/>
                  </a:lnTo>
                  <a:lnTo>
                    <a:pt x="449580" y="967739"/>
                  </a:lnTo>
                  <a:lnTo>
                    <a:pt x="477520" y="969009"/>
                  </a:lnTo>
                  <a:lnTo>
                    <a:pt x="505460" y="970279"/>
                  </a:lnTo>
                  <a:lnTo>
                    <a:pt x="533400" y="970279"/>
                  </a:lnTo>
                  <a:lnTo>
                    <a:pt x="561340" y="969009"/>
                  </a:lnTo>
                  <a:lnTo>
                    <a:pt x="588010" y="966469"/>
                  </a:lnTo>
                  <a:lnTo>
                    <a:pt x="614680" y="963929"/>
                  </a:lnTo>
                  <a:lnTo>
                    <a:pt x="642620" y="958850"/>
                  </a:lnTo>
                  <a:lnTo>
                    <a:pt x="668020" y="953769"/>
                  </a:lnTo>
                  <a:lnTo>
                    <a:pt x="693420" y="947419"/>
                  </a:lnTo>
                  <a:lnTo>
                    <a:pt x="717550" y="939800"/>
                  </a:lnTo>
                  <a:lnTo>
                    <a:pt x="741680" y="932179"/>
                  </a:lnTo>
                  <a:lnTo>
                    <a:pt x="753110" y="927100"/>
                  </a:lnTo>
                  <a:lnTo>
                    <a:pt x="764540" y="922019"/>
                  </a:lnTo>
                  <a:lnTo>
                    <a:pt x="774700" y="916939"/>
                  </a:lnTo>
                  <a:lnTo>
                    <a:pt x="786130" y="911859"/>
                  </a:lnTo>
                  <a:lnTo>
                    <a:pt x="796290" y="905509"/>
                  </a:lnTo>
                  <a:lnTo>
                    <a:pt x="805180" y="900429"/>
                  </a:lnTo>
                  <a:lnTo>
                    <a:pt x="815340" y="894079"/>
                  </a:lnTo>
                  <a:lnTo>
                    <a:pt x="825500" y="886459"/>
                  </a:lnTo>
                  <a:lnTo>
                    <a:pt x="833120" y="880109"/>
                  </a:lnTo>
                  <a:lnTo>
                    <a:pt x="842010" y="872489"/>
                  </a:lnTo>
                  <a:lnTo>
                    <a:pt x="850900" y="864869"/>
                  </a:lnTo>
                  <a:lnTo>
                    <a:pt x="858520" y="857250"/>
                  </a:lnTo>
                  <a:lnTo>
                    <a:pt x="864870" y="849629"/>
                  </a:lnTo>
                  <a:lnTo>
                    <a:pt x="872490" y="842009"/>
                  </a:lnTo>
                  <a:lnTo>
                    <a:pt x="878840" y="833119"/>
                  </a:lnTo>
                  <a:lnTo>
                    <a:pt x="883920" y="824229"/>
                  </a:lnTo>
                  <a:lnTo>
                    <a:pt x="890270" y="814069"/>
                  </a:lnTo>
                  <a:lnTo>
                    <a:pt x="895350" y="805179"/>
                  </a:lnTo>
                  <a:lnTo>
                    <a:pt x="899160" y="795019"/>
                  </a:lnTo>
                  <a:lnTo>
                    <a:pt x="904240" y="784859"/>
                  </a:lnTo>
                  <a:lnTo>
                    <a:pt x="906780" y="774700"/>
                  </a:lnTo>
                  <a:lnTo>
                    <a:pt x="909320" y="763269"/>
                  </a:lnTo>
                  <a:lnTo>
                    <a:pt x="913130" y="750569"/>
                  </a:lnTo>
                  <a:lnTo>
                    <a:pt x="914400" y="736600"/>
                  </a:lnTo>
                  <a:lnTo>
                    <a:pt x="915670" y="725170"/>
                  </a:lnTo>
                  <a:lnTo>
                    <a:pt x="915670" y="712470"/>
                  </a:lnTo>
                  <a:lnTo>
                    <a:pt x="914400" y="701040"/>
                  </a:lnTo>
                  <a:lnTo>
                    <a:pt x="913130" y="689609"/>
                  </a:lnTo>
                  <a:lnTo>
                    <a:pt x="909320" y="678179"/>
                  </a:lnTo>
                  <a:lnTo>
                    <a:pt x="905510" y="668020"/>
                  </a:lnTo>
                  <a:lnTo>
                    <a:pt x="901700" y="659129"/>
                  </a:lnTo>
                  <a:lnTo>
                    <a:pt x="896620" y="648970"/>
                  </a:lnTo>
                  <a:lnTo>
                    <a:pt x="890270" y="640079"/>
                  </a:lnTo>
                  <a:lnTo>
                    <a:pt x="882650" y="631190"/>
                  </a:lnTo>
                  <a:lnTo>
                    <a:pt x="875030" y="623570"/>
                  </a:lnTo>
                  <a:lnTo>
                    <a:pt x="866140" y="615950"/>
                  </a:lnTo>
                  <a:lnTo>
                    <a:pt x="857250" y="609600"/>
                  </a:lnTo>
                  <a:lnTo>
                    <a:pt x="847090" y="601979"/>
                  </a:lnTo>
                  <a:lnTo>
                    <a:pt x="835660" y="595629"/>
                  </a:lnTo>
                  <a:lnTo>
                    <a:pt x="822960" y="590550"/>
                  </a:lnTo>
                  <a:lnTo>
                    <a:pt x="811530" y="585470"/>
                  </a:lnTo>
                  <a:lnTo>
                    <a:pt x="797560" y="580390"/>
                  </a:lnTo>
                  <a:lnTo>
                    <a:pt x="783590" y="576579"/>
                  </a:lnTo>
                  <a:lnTo>
                    <a:pt x="769620" y="571500"/>
                  </a:lnTo>
                  <a:lnTo>
                    <a:pt x="753110" y="568959"/>
                  </a:lnTo>
                  <a:lnTo>
                    <a:pt x="737870" y="565150"/>
                  </a:lnTo>
                  <a:lnTo>
                    <a:pt x="720090" y="563879"/>
                  </a:lnTo>
                  <a:lnTo>
                    <a:pt x="703580" y="561340"/>
                  </a:lnTo>
                  <a:lnTo>
                    <a:pt x="685800" y="560070"/>
                  </a:lnTo>
                  <a:lnTo>
                    <a:pt x="666750" y="558800"/>
                  </a:lnTo>
                  <a:lnTo>
                    <a:pt x="647700" y="558800"/>
                  </a:lnTo>
                  <a:lnTo>
                    <a:pt x="627380" y="558800"/>
                  </a:lnTo>
                  <a:lnTo>
                    <a:pt x="607060" y="558800"/>
                  </a:lnTo>
                  <a:lnTo>
                    <a:pt x="585470" y="558800"/>
                  </a:lnTo>
                  <a:lnTo>
                    <a:pt x="599440" y="552450"/>
                  </a:lnTo>
                  <a:lnTo>
                    <a:pt x="612140" y="547370"/>
                  </a:lnTo>
                  <a:lnTo>
                    <a:pt x="626110" y="542290"/>
                  </a:lnTo>
                  <a:lnTo>
                    <a:pt x="640080" y="539750"/>
                  </a:lnTo>
                  <a:lnTo>
                    <a:pt x="652780" y="538479"/>
                  </a:lnTo>
                  <a:lnTo>
                    <a:pt x="666750" y="538479"/>
                  </a:lnTo>
                  <a:lnTo>
                    <a:pt x="680720" y="538479"/>
                  </a:lnTo>
                  <a:lnTo>
                    <a:pt x="694690" y="538479"/>
                  </a:lnTo>
                  <a:lnTo>
                    <a:pt x="722630" y="542290"/>
                  </a:lnTo>
                  <a:lnTo>
                    <a:pt x="749300" y="546100"/>
                  </a:lnTo>
                  <a:lnTo>
                    <a:pt x="777240" y="549909"/>
                  </a:lnTo>
                  <a:lnTo>
                    <a:pt x="805180" y="553720"/>
                  </a:lnTo>
                  <a:lnTo>
                    <a:pt x="826770" y="554990"/>
                  </a:lnTo>
                  <a:lnTo>
                    <a:pt x="850900" y="557529"/>
                  </a:lnTo>
                  <a:lnTo>
                    <a:pt x="876300" y="558800"/>
                  </a:lnTo>
                  <a:lnTo>
                    <a:pt x="901700" y="560070"/>
                  </a:lnTo>
                  <a:lnTo>
                    <a:pt x="927100" y="560070"/>
                  </a:lnTo>
                  <a:lnTo>
                    <a:pt x="953770" y="560070"/>
                  </a:lnTo>
                  <a:lnTo>
                    <a:pt x="979170" y="560070"/>
                  </a:lnTo>
                  <a:lnTo>
                    <a:pt x="991870" y="558800"/>
                  </a:lnTo>
                  <a:lnTo>
                    <a:pt x="1004570" y="557529"/>
                  </a:lnTo>
                  <a:lnTo>
                    <a:pt x="1016000" y="556259"/>
                  </a:lnTo>
                  <a:lnTo>
                    <a:pt x="1027430" y="553720"/>
                  </a:lnTo>
                  <a:lnTo>
                    <a:pt x="1038860" y="551179"/>
                  </a:lnTo>
                  <a:lnTo>
                    <a:pt x="1050290" y="548640"/>
                  </a:lnTo>
                  <a:lnTo>
                    <a:pt x="1061720" y="544829"/>
                  </a:lnTo>
                  <a:lnTo>
                    <a:pt x="1071880" y="541020"/>
                  </a:lnTo>
                  <a:lnTo>
                    <a:pt x="1080770" y="535940"/>
                  </a:lnTo>
                  <a:lnTo>
                    <a:pt x="1090930" y="532129"/>
                  </a:lnTo>
                  <a:lnTo>
                    <a:pt x="1098550" y="527050"/>
                  </a:lnTo>
                  <a:lnTo>
                    <a:pt x="1107440" y="520700"/>
                  </a:lnTo>
                  <a:lnTo>
                    <a:pt x="1113790" y="513079"/>
                  </a:lnTo>
                  <a:lnTo>
                    <a:pt x="1121410" y="506729"/>
                  </a:lnTo>
                  <a:lnTo>
                    <a:pt x="1126490" y="497840"/>
                  </a:lnTo>
                  <a:lnTo>
                    <a:pt x="1131570" y="488950"/>
                  </a:lnTo>
                  <a:lnTo>
                    <a:pt x="1136650" y="480059"/>
                  </a:lnTo>
                  <a:lnTo>
                    <a:pt x="1139190" y="469900"/>
                  </a:lnTo>
                  <a:lnTo>
                    <a:pt x="1141730" y="459740"/>
                  </a:lnTo>
                  <a:lnTo>
                    <a:pt x="1144270" y="450850"/>
                  </a:lnTo>
                  <a:lnTo>
                    <a:pt x="1144270" y="441959"/>
                  </a:lnTo>
                  <a:lnTo>
                    <a:pt x="1145540" y="433070"/>
                  </a:lnTo>
                  <a:lnTo>
                    <a:pt x="1144270" y="424179"/>
                  </a:lnTo>
                  <a:lnTo>
                    <a:pt x="1144270" y="416559"/>
                  </a:lnTo>
                  <a:lnTo>
                    <a:pt x="1143000" y="408940"/>
                  </a:lnTo>
                  <a:lnTo>
                    <a:pt x="1140460" y="402590"/>
                  </a:lnTo>
                  <a:lnTo>
                    <a:pt x="1137920" y="394970"/>
                  </a:lnTo>
                  <a:lnTo>
                    <a:pt x="1135380" y="388620"/>
                  </a:lnTo>
                  <a:lnTo>
                    <a:pt x="1131570" y="382270"/>
                  </a:lnTo>
                  <a:lnTo>
                    <a:pt x="1127760" y="375919"/>
                  </a:lnTo>
                  <a:lnTo>
                    <a:pt x="1123950" y="370839"/>
                  </a:lnTo>
                  <a:lnTo>
                    <a:pt x="1118870" y="365759"/>
                  </a:lnTo>
                  <a:lnTo>
                    <a:pt x="1113790" y="360679"/>
                  </a:lnTo>
                  <a:lnTo>
                    <a:pt x="1107440" y="355600"/>
                  </a:lnTo>
                  <a:lnTo>
                    <a:pt x="1102360" y="351789"/>
                  </a:lnTo>
                  <a:lnTo>
                    <a:pt x="1096010" y="346710"/>
                  </a:lnTo>
                  <a:lnTo>
                    <a:pt x="1089660" y="342900"/>
                  </a:lnTo>
                  <a:lnTo>
                    <a:pt x="1082040" y="339089"/>
                  </a:lnTo>
                  <a:lnTo>
                    <a:pt x="1068070" y="332739"/>
                  </a:lnTo>
                  <a:lnTo>
                    <a:pt x="1052830" y="326389"/>
                  </a:lnTo>
                  <a:lnTo>
                    <a:pt x="1036320" y="321310"/>
                  </a:lnTo>
                  <a:lnTo>
                    <a:pt x="1019810" y="316229"/>
                  </a:lnTo>
                  <a:lnTo>
                    <a:pt x="1002030" y="312420"/>
                  </a:lnTo>
                  <a:lnTo>
                    <a:pt x="984250" y="309879"/>
                  </a:lnTo>
                  <a:lnTo>
                    <a:pt x="966470" y="306070"/>
                  </a:lnTo>
                  <a:lnTo>
                    <a:pt x="948690" y="304800"/>
                  </a:lnTo>
                  <a:lnTo>
                    <a:pt x="932180" y="302260"/>
                  </a:lnTo>
                  <a:lnTo>
                    <a:pt x="914400" y="300989"/>
                  </a:lnTo>
                  <a:lnTo>
                    <a:pt x="897890" y="299720"/>
                  </a:lnTo>
                  <a:lnTo>
                    <a:pt x="882650" y="298450"/>
                  </a:lnTo>
                  <a:lnTo>
                    <a:pt x="867410" y="297179"/>
                  </a:lnTo>
                  <a:lnTo>
                    <a:pt x="854710" y="295910"/>
                  </a:lnTo>
                  <a:lnTo>
                    <a:pt x="840740" y="294639"/>
                  </a:lnTo>
                  <a:lnTo>
                    <a:pt x="830580" y="293370"/>
                  </a:lnTo>
                  <a:lnTo>
                    <a:pt x="820420" y="292100"/>
                  </a:lnTo>
                  <a:lnTo>
                    <a:pt x="816610" y="292100"/>
                  </a:lnTo>
                  <a:lnTo>
                    <a:pt x="812800" y="290829"/>
                  </a:lnTo>
                  <a:lnTo>
                    <a:pt x="808990" y="289560"/>
                  </a:lnTo>
                  <a:lnTo>
                    <a:pt x="806450" y="288289"/>
                  </a:lnTo>
                  <a:lnTo>
                    <a:pt x="803910" y="288289"/>
                  </a:lnTo>
                  <a:lnTo>
                    <a:pt x="802640" y="287020"/>
                  </a:lnTo>
                  <a:lnTo>
                    <a:pt x="801370" y="284479"/>
                  </a:lnTo>
                  <a:lnTo>
                    <a:pt x="801370" y="283210"/>
                  </a:lnTo>
                  <a:lnTo>
                    <a:pt x="801370" y="281939"/>
                  </a:lnTo>
                  <a:lnTo>
                    <a:pt x="801370" y="280670"/>
                  </a:lnTo>
                  <a:lnTo>
                    <a:pt x="802640" y="278129"/>
                  </a:lnTo>
                  <a:lnTo>
                    <a:pt x="805180" y="275589"/>
                  </a:lnTo>
                  <a:lnTo>
                    <a:pt x="811530" y="270510"/>
                  </a:lnTo>
                  <a:lnTo>
                    <a:pt x="817880" y="266700"/>
                  </a:lnTo>
                  <a:lnTo>
                    <a:pt x="825500" y="262889"/>
                  </a:lnTo>
                  <a:lnTo>
                    <a:pt x="834390" y="260350"/>
                  </a:lnTo>
                  <a:lnTo>
                    <a:pt x="844550" y="256539"/>
                  </a:lnTo>
                  <a:lnTo>
                    <a:pt x="855980" y="255270"/>
                  </a:lnTo>
                  <a:lnTo>
                    <a:pt x="867410" y="252729"/>
                  </a:lnTo>
                  <a:lnTo>
                    <a:pt x="880110" y="251460"/>
                  </a:lnTo>
                  <a:lnTo>
                    <a:pt x="892810" y="250189"/>
                  </a:lnTo>
                  <a:lnTo>
                    <a:pt x="919480" y="246379"/>
                  </a:lnTo>
                  <a:lnTo>
                    <a:pt x="944880" y="243839"/>
                  </a:lnTo>
                  <a:lnTo>
                    <a:pt x="958850" y="242570"/>
                  </a:lnTo>
                  <a:lnTo>
                    <a:pt x="970280" y="240029"/>
                  </a:lnTo>
                  <a:lnTo>
                    <a:pt x="982980" y="238760"/>
                  </a:lnTo>
                  <a:lnTo>
                    <a:pt x="994410" y="236220"/>
                  </a:lnTo>
                  <a:lnTo>
                    <a:pt x="1005840" y="233679"/>
                  </a:lnTo>
                  <a:lnTo>
                    <a:pt x="1016000" y="231139"/>
                  </a:lnTo>
                  <a:lnTo>
                    <a:pt x="1024890" y="228600"/>
                  </a:lnTo>
                  <a:lnTo>
                    <a:pt x="1035050" y="224789"/>
                  </a:lnTo>
                  <a:lnTo>
                    <a:pt x="1045210" y="219710"/>
                  </a:lnTo>
                  <a:lnTo>
                    <a:pt x="1055370" y="215900"/>
                  </a:lnTo>
                  <a:lnTo>
                    <a:pt x="1065530" y="210820"/>
                  </a:lnTo>
                  <a:lnTo>
                    <a:pt x="1076960" y="205739"/>
                  </a:lnTo>
                  <a:lnTo>
                    <a:pt x="1088390" y="199389"/>
                  </a:lnTo>
                  <a:lnTo>
                    <a:pt x="1101090" y="191770"/>
                  </a:lnTo>
                  <a:lnTo>
                    <a:pt x="1113790" y="184150"/>
                  </a:lnTo>
                  <a:lnTo>
                    <a:pt x="1121410" y="180339"/>
                  </a:lnTo>
                  <a:lnTo>
                    <a:pt x="1129030" y="176529"/>
                  </a:lnTo>
                  <a:lnTo>
                    <a:pt x="1137920" y="171450"/>
                  </a:lnTo>
                  <a:lnTo>
                    <a:pt x="1145540" y="166370"/>
                  </a:lnTo>
                  <a:lnTo>
                    <a:pt x="1154430" y="161289"/>
                  </a:lnTo>
                  <a:lnTo>
                    <a:pt x="1163320" y="156210"/>
                  </a:lnTo>
                  <a:lnTo>
                    <a:pt x="1167130" y="153670"/>
                  </a:lnTo>
                  <a:lnTo>
                    <a:pt x="1170940" y="151129"/>
                  </a:lnTo>
                  <a:lnTo>
                    <a:pt x="1173480" y="148589"/>
                  </a:lnTo>
                  <a:lnTo>
                    <a:pt x="1174750" y="146050"/>
                  </a:lnTo>
                  <a:lnTo>
                    <a:pt x="1174750" y="142239"/>
                  </a:lnTo>
                  <a:lnTo>
                    <a:pt x="1174750" y="139700"/>
                  </a:lnTo>
                  <a:lnTo>
                    <a:pt x="1173480" y="137160"/>
                  </a:lnTo>
                  <a:lnTo>
                    <a:pt x="1172210" y="134620"/>
                  </a:lnTo>
                  <a:lnTo>
                    <a:pt x="1169670" y="132079"/>
                  </a:lnTo>
                  <a:lnTo>
                    <a:pt x="1167130" y="130810"/>
                  </a:lnTo>
                  <a:lnTo>
                    <a:pt x="1164590" y="129539"/>
                  </a:lnTo>
                  <a:lnTo>
                    <a:pt x="1160780" y="128270"/>
                  </a:lnTo>
                  <a:lnTo>
                    <a:pt x="1155700" y="128270"/>
                  </a:lnTo>
                  <a:lnTo>
                    <a:pt x="1151890" y="129539"/>
                  </a:lnTo>
                  <a:lnTo>
                    <a:pt x="1145540" y="130810"/>
                  </a:lnTo>
                  <a:lnTo>
                    <a:pt x="1140460" y="133350"/>
                  </a:lnTo>
                  <a:lnTo>
                    <a:pt x="1126490" y="139700"/>
                  </a:lnTo>
                  <a:lnTo>
                    <a:pt x="1111250" y="147320"/>
                  </a:lnTo>
                  <a:lnTo>
                    <a:pt x="1097280" y="152400"/>
                  </a:lnTo>
                  <a:lnTo>
                    <a:pt x="1084580" y="158750"/>
                  </a:lnTo>
                  <a:lnTo>
                    <a:pt x="1071880" y="162560"/>
                  </a:lnTo>
                  <a:lnTo>
                    <a:pt x="1059180" y="167639"/>
                  </a:lnTo>
                  <a:lnTo>
                    <a:pt x="1047750" y="171450"/>
                  </a:lnTo>
                  <a:lnTo>
                    <a:pt x="1035050" y="175260"/>
                  </a:lnTo>
                  <a:lnTo>
                    <a:pt x="1023620" y="177800"/>
                  </a:lnTo>
                  <a:lnTo>
                    <a:pt x="1012190" y="180339"/>
                  </a:lnTo>
                  <a:lnTo>
                    <a:pt x="989330" y="184150"/>
                  </a:lnTo>
                  <a:lnTo>
                    <a:pt x="966470" y="187960"/>
                  </a:lnTo>
                  <a:lnTo>
                    <a:pt x="942340" y="190500"/>
                  </a:lnTo>
                  <a:lnTo>
                    <a:pt x="924560" y="191770"/>
                  </a:lnTo>
                  <a:lnTo>
                    <a:pt x="906780" y="193039"/>
                  </a:lnTo>
                  <a:lnTo>
                    <a:pt x="886460" y="194310"/>
                  </a:lnTo>
                  <a:lnTo>
                    <a:pt x="866140" y="195579"/>
                  </a:lnTo>
                  <a:lnTo>
                    <a:pt x="847090" y="198120"/>
                  </a:lnTo>
                  <a:lnTo>
                    <a:pt x="826770" y="200660"/>
                  </a:lnTo>
                  <a:lnTo>
                    <a:pt x="806450" y="204470"/>
                  </a:lnTo>
                  <a:lnTo>
                    <a:pt x="787400" y="208279"/>
                  </a:lnTo>
                  <a:lnTo>
                    <a:pt x="778510" y="210820"/>
                  </a:lnTo>
                  <a:lnTo>
                    <a:pt x="770890" y="212089"/>
                  </a:lnTo>
                  <a:lnTo>
                    <a:pt x="762000" y="215900"/>
                  </a:lnTo>
                  <a:lnTo>
                    <a:pt x="753110" y="218439"/>
                  </a:lnTo>
                  <a:lnTo>
                    <a:pt x="745490" y="222250"/>
                  </a:lnTo>
                  <a:lnTo>
                    <a:pt x="739140" y="226060"/>
                  </a:lnTo>
                  <a:lnTo>
                    <a:pt x="731520" y="229870"/>
                  </a:lnTo>
                  <a:lnTo>
                    <a:pt x="725170" y="234950"/>
                  </a:lnTo>
                  <a:lnTo>
                    <a:pt x="720090" y="238760"/>
                  </a:lnTo>
                  <a:lnTo>
                    <a:pt x="715010" y="243839"/>
                  </a:lnTo>
                  <a:lnTo>
                    <a:pt x="711200" y="250189"/>
                  </a:lnTo>
                  <a:lnTo>
                    <a:pt x="707390" y="256539"/>
                  </a:lnTo>
                  <a:lnTo>
                    <a:pt x="703580" y="262889"/>
                  </a:lnTo>
                  <a:lnTo>
                    <a:pt x="701040" y="269239"/>
                  </a:lnTo>
                  <a:lnTo>
                    <a:pt x="699770" y="276860"/>
                  </a:lnTo>
                  <a:lnTo>
                    <a:pt x="699770" y="284479"/>
                  </a:lnTo>
                  <a:lnTo>
                    <a:pt x="699770" y="290829"/>
                  </a:lnTo>
                  <a:lnTo>
                    <a:pt x="701040" y="295910"/>
                  </a:lnTo>
                  <a:lnTo>
                    <a:pt x="701040" y="300989"/>
                  </a:lnTo>
                  <a:lnTo>
                    <a:pt x="703580" y="306070"/>
                  </a:lnTo>
                  <a:lnTo>
                    <a:pt x="704850" y="311150"/>
                  </a:lnTo>
                  <a:lnTo>
                    <a:pt x="707390" y="314960"/>
                  </a:lnTo>
                  <a:lnTo>
                    <a:pt x="711200" y="320039"/>
                  </a:lnTo>
                  <a:lnTo>
                    <a:pt x="713740" y="323850"/>
                  </a:lnTo>
                  <a:lnTo>
                    <a:pt x="717550" y="327660"/>
                  </a:lnTo>
                  <a:lnTo>
                    <a:pt x="722630" y="331470"/>
                  </a:lnTo>
                  <a:lnTo>
                    <a:pt x="731520" y="337820"/>
                  </a:lnTo>
                  <a:lnTo>
                    <a:pt x="741680" y="344170"/>
                  </a:lnTo>
                  <a:lnTo>
                    <a:pt x="753110" y="350520"/>
                  </a:lnTo>
                  <a:lnTo>
                    <a:pt x="765810" y="355600"/>
                  </a:lnTo>
                  <a:lnTo>
                    <a:pt x="779780" y="360679"/>
                  </a:lnTo>
                  <a:lnTo>
                    <a:pt x="793750" y="364489"/>
                  </a:lnTo>
                  <a:lnTo>
                    <a:pt x="808990" y="368300"/>
                  </a:lnTo>
                  <a:lnTo>
                    <a:pt x="825500" y="370839"/>
                  </a:lnTo>
                  <a:lnTo>
                    <a:pt x="840740" y="374650"/>
                  </a:lnTo>
                  <a:lnTo>
                    <a:pt x="872490" y="379729"/>
                  </a:lnTo>
                  <a:lnTo>
                    <a:pt x="905510" y="384809"/>
                  </a:lnTo>
                  <a:lnTo>
                    <a:pt x="935990" y="388620"/>
                  </a:lnTo>
                  <a:lnTo>
                    <a:pt x="951230" y="391159"/>
                  </a:lnTo>
                  <a:lnTo>
                    <a:pt x="965200" y="393700"/>
                  </a:lnTo>
                  <a:lnTo>
                    <a:pt x="977900" y="396240"/>
                  </a:lnTo>
                  <a:lnTo>
                    <a:pt x="990600" y="398779"/>
                  </a:lnTo>
                  <a:lnTo>
                    <a:pt x="1002030" y="401320"/>
                  </a:lnTo>
                  <a:lnTo>
                    <a:pt x="1012190" y="403859"/>
                  </a:lnTo>
                  <a:lnTo>
                    <a:pt x="1019810" y="407670"/>
                  </a:lnTo>
                  <a:lnTo>
                    <a:pt x="1027430" y="411479"/>
                  </a:lnTo>
                  <a:lnTo>
                    <a:pt x="1029970" y="412750"/>
                  </a:lnTo>
                  <a:lnTo>
                    <a:pt x="1032510" y="415290"/>
                  </a:lnTo>
                  <a:lnTo>
                    <a:pt x="1035050" y="417829"/>
                  </a:lnTo>
                  <a:lnTo>
                    <a:pt x="1036320" y="420370"/>
                  </a:lnTo>
                  <a:lnTo>
                    <a:pt x="1037590" y="421640"/>
                  </a:lnTo>
                  <a:lnTo>
                    <a:pt x="1038860" y="425450"/>
                  </a:lnTo>
                  <a:lnTo>
                    <a:pt x="1038860" y="427990"/>
                  </a:lnTo>
                  <a:lnTo>
                    <a:pt x="1038860" y="430529"/>
                  </a:lnTo>
                  <a:lnTo>
                    <a:pt x="1037590" y="435609"/>
                  </a:lnTo>
                  <a:lnTo>
                    <a:pt x="1033780" y="439420"/>
                  </a:lnTo>
                  <a:lnTo>
                    <a:pt x="1029970" y="441959"/>
                  </a:lnTo>
                  <a:lnTo>
                    <a:pt x="1026160" y="444500"/>
                  </a:lnTo>
                  <a:lnTo>
                    <a:pt x="1019810" y="447040"/>
                  </a:lnTo>
                  <a:lnTo>
                    <a:pt x="1013460" y="448309"/>
                  </a:lnTo>
                  <a:lnTo>
                    <a:pt x="1005840" y="450850"/>
                  </a:lnTo>
                  <a:lnTo>
                    <a:pt x="996950" y="450850"/>
                  </a:lnTo>
                  <a:lnTo>
                    <a:pt x="988060" y="450850"/>
                  </a:lnTo>
                  <a:lnTo>
                    <a:pt x="977900" y="450850"/>
                  </a:lnTo>
                  <a:lnTo>
                    <a:pt x="967740" y="450850"/>
                  </a:lnTo>
                  <a:lnTo>
                    <a:pt x="956310" y="450850"/>
                  </a:lnTo>
                  <a:lnTo>
                    <a:pt x="944880" y="449579"/>
                  </a:lnTo>
                  <a:lnTo>
                    <a:pt x="932180" y="448309"/>
                  </a:lnTo>
                  <a:lnTo>
                    <a:pt x="918210" y="447040"/>
                  </a:lnTo>
                  <a:lnTo>
                    <a:pt x="905510" y="444500"/>
                  </a:lnTo>
                  <a:lnTo>
                    <a:pt x="877570" y="441959"/>
                  </a:lnTo>
                  <a:lnTo>
                    <a:pt x="847090" y="438150"/>
                  </a:lnTo>
                  <a:lnTo>
                    <a:pt x="816610" y="434340"/>
                  </a:lnTo>
                  <a:lnTo>
                    <a:pt x="786130" y="430529"/>
                  </a:lnTo>
                  <a:lnTo>
                    <a:pt x="755650" y="426720"/>
                  </a:lnTo>
                  <a:lnTo>
                    <a:pt x="725170" y="424179"/>
                  </a:lnTo>
                  <a:lnTo>
                    <a:pt x="694690" y="422909"/>
                  </a:lnTo>
                  <a:lnTo>
                    <a:pt x="679450" y="421640"/>
                  </a:lnTo>
                  <a:lnTo>
                    <a:pt x="665480" y="421640"/>
                  </a:lnTo>
                  <a:lnTo>
                    <a:pt x="642620" y="422909"/>
                  </a:lnTo>
                  <a:lnTo>
                    <a:pt x="618490" y="424179"/>
                  </a:lnTo>
                  <a:lnTo>
                    <a:pt x="593090" y="425450"/>
                  </a:lnTo>
                  <a:lnTo>
                    <a:pt x="567690" y="427990"/>
                  </a:lnTo>
                  <a:lnTo>
                    <a:pt x="541020" y="431800"/>
                  </a:lnTo>
                  <a:lnTo>
                    <a:pt x="515620" y="435609"/>
                  </a:lnTo>
                  <a:lnTo>
                    <a:pt x="502920" y="438150"/>
                  </a:lnTo>
                  <a:lnTo>
                    <a:pt x="490220" y="441959"/>
                  </a:lnTo>
                  <a:lnTo>
                    <a:pt x="478790" y="445770"/>
                  </a:lnTo>
                  <a:lnTo>
                    <a:pt x="466090" y="449579"/>
                  </a:lnTo>
                  <a:lnTo>
                    <a:pt x="455930" y="454659"/>
                  </a:lnTo>
                  <a:lnTo>
                    <a:pt x="444500" y="459740"/>
                  </a:lnTo>
                  <a:lnTo>
                    <a:pt x="434340" y="464820"/>
                  </a:lnTo>
                  <a:lnTo>
                    <a:pt x="424180" y="471170"/>
                  </a:lnTo>
                  <a:lnTo>
                    <a:pt x="414020" y="477520"/>
                  </a:lnTo>
                  <a:lnTo>
                    <a:pt x="405130" y="485140"/>
                  </a:lnTo>
                  <a:lnTo>
                    <a:pt x="397510" y="492759"/>
                  </a:lnTo>
                  <a:lnTo>
                    <a:pt x="389890" y="501650"/>
                  </a:lnTo>
                  <a:lnTo>
                    <a:pt x="383540" y="510540"/>
                  </a:lnTo>
                  <a:lnTo>
                    <a:pt x="377190" y="519429"/>
                  </a:lnTo>
                  <a:lnTo>
                    <a:pt x="373380" y="530859"/>
                  </a:lnTo>
                  <a:lnTo>
                    <a:pt x="369570" y="542290"/>
                  </a:lnTo>
                  <a:lnTo>
                    <a:pt x="365760" y="553720"/>
                  </a:lnTo>
                  <a:lnTo>
                    <a:pt x="364490" y="566420"/>
                  </a:lnTo>
                  <a:lnTo>
                    <a:pt x="363220" y="580390"/>
                  </a:lnTo>
                  <a:lnTo>
                    <a:pt x="364490" y="594359"/>
                  </a:lnTo>
                  <a:lnTo>
                    <a:pt x="364490" y="601979"/>
                  </a:lnTo>
                  <a:lnTo>
                    <a:pt x="365760" y="609600"/>
                  </a:lnTo>
                  <a:lnTo>
                    <a:pt x="368300" y="615950"/>
                  </a:lnTo>
                  <a:lnTo>
                    <a:pt x="370840" y="622300"/>
                  </a:lnTo>
                  <a:lnTo>
                    <a:pt x="373380" y="628650"/>
                  </a:lnTo>
                  <a:lnTo>
                    <a:pt x="377190" y="635000"/>
                  </a:lnTo>
                  <a:lnTo>
                    <a:pt x="379730" y="640079"/>
                  </a:lnTo>
                  <a:lnTo>
                    <a:pt x="384810" y="645159"/>
                  </a:lnTo>
                  <a:lnTo>
                    <a:pt x="388620" y="650240"/>
                  </a:lnTo>
                  <a:lnTo>
                    <a:pt x="393700" y="654050"/>
                  </a:lnTo>
                  <a:lnTo>
                    <a:pt x="398780" y="659129"/>
                  </a:lnTo>
                  <a:lnTo>
                    <a:pt x="403860" y="662940"/>
                  </a:lnTo>
                  <a:lnTo>
                    <a:pt x="410210" y="665479"/>
                  </a:lnTo>
                  <a:lnTo>
                    <a:pt x="415290" y="668020"/>
                  </a:lnTo>
                  <a:lnTo>
                    <a:pt x="422910" y="671829"/>
                  </a:lnTo>
                  <a:lnTo>
                    <a:pt x="429260" y="674370"/>
                  </a:lnTo>
                  <a:lnTo>
                    <a:pt x="443230" y="678179"/>
                  </a:lnTo>
                  <a:lnTo>
                    <a:pt x="458470" y="681990"/>
                  </a:lnTo>
                  <a:lnTo>
                    <a:pt x="474980" y="684529"/>
                  </a:lnTo>
                  <a:lnTo>
                    <a:pt x="491490" y="687070"/>
                  </a:lnTo>
                  <a:lnTo>
                    <a:pt x="509270" y="688340"/>
                  </a:lnTo>
                  <a:lnTo>
                    <a:pt x="525780" y="688340"/>
                  </a:lnTo>
                  <a:lnTo>
                    <a:pt x="543560" y="689609"/>
                  </a:lnTo>
                  <a:lnTo>
                    <a:pt x="561340" y="689609"/>
                  </a:lnTo>
                  <a:lnTo>
                    <a:pt x="596900" y="688340"/>
                  </a:lnTo>
                  <a:lnTo>
                    <a:pt x="632460" y="687070"/>
                  </a:lnTo>
                  <a:lnTo>
                    <a:pt x="648970" y="687070"/>
                  </a:lnTo>
                  <a:lnTo>
                    <a:pt x="665480" y="687070"/>
                  </a:lnTo>
                  <a:lnTo>
                    <a:pt x="680720" y="687070"/>
                  </a:lnTo>
                  <a:lnTo>
                    <a:pt x="694690" y="687070"/>
                  </a:lnTo>
                  <a:lnTo>
                    <a:pt x="707390" y="688340"/>
                  </a:lnTo>
                  <a:lnTo>
                    <a:pt x="720090" y="689609"/>
                  </a:lnTo>
                  <a:lnTo>
                    <a:pt x="725170" y="690879"/>
                  </a:lnTo>
                  <a:lnTo>
                    <a:pt x="731520" y="692150"/>
                  </a:lnTo>
                  <a:lnTo>
                    <a:pt x="735330" y="693420"/>
                  </a:lnTo>
                  <a:lnTo>
                    <a:pt x="740410" y="694690"/>
                  </a:lnTo>
                  <a:lnTo>
                    <a:pt x="744220" y="697229"/>
                  </a:lnTo>
                  <a:lnTo>
                    <a:pt x="748030" y="699770"/>
                  </a:lnTo>
                  <a:lnTo>
                    <a:pt x="751840" y="701040"/>
                  </a:lnTo>
                  <a:lnTo>
                    <a:pt x="754380" y="703579"/>
                  </a:lnTo>
                  <a:lnTo>
                    <a:pt x="756920" y="707390"/>
                  </a:lnTo>
                  <a:lnTo>
                    <a:pt x="758190" y="709929"/>
                  </a:lnTo>
                  <a:lnTo>
                    <a:pt x="759460" y="713740"/>
                  </a:lnTo>
                  <a:lnTo>
                    <a:pt x="760730" y="717550"/>
                  </a:lnTo>
                  <a:lnTo>
                    <a:pt x="762000" y="723900"/>
                  </a:lnTo>
                  <a:lnTo>
                    <a:pt x="762000" y="731519"/>
                  </a:lnTo>
                  <a:lnTo>
                    <a:pt x="760730" y="737869"/>
                  </a:lnTo>
                  <a:lnTo>
                    <a:pt x="759460" y="744219"/>
                  </a:lnTo>
                  <a:lnTo>
                    <a:pt x="758190" y="750569"/>
                  </a:lnTo>
                  <a:lnTo>
                    <a:pt x="754380" y="756919"/>
                  </a:lnTo>
                  <a:lnTo>
                    <a:pt x="751840" y="762000"/>
                  </a:lnTo>
                  <a:lnTo>
                    <a:pt x="746760" y="768350"/>
                  </a:lnTo>
                  <a:lnTo>
                    <a:pt x="742950" y="773429"/>
                  </a:lnTo>
                  <a:lnTo>
                    <a:pt x="737870" y="778509"/>
                  </a:lnTo>
                  <a:lnTo>
                    <a:pt x="731520" y="783589"/>
                  </a:lnTo>
                  <a:lnTo>
                    <a:pt x="725170" y="788669"/>
                  </a:lnTo>
                  <a:lnTo>
                    <a:pt x="718820" y="793750"/>
                  </a:lnTo>
                  <a:lnTo>
                    <a:pt x="712470" y="798829"/>
                  </a:lnTo>
                  <a:lnTo>
                    <a:pt x="697230" y="806450"/>
                  </a:lnTo>
                  <a:lnTo>
                    <a:pt x="681990" y="814069"/>
                  </a:lnTo>
                  <a:lnTo>
                    <a:pt x="665480" y="821689"/>
                  </a:lnTo>
                  <a:lnTo>
                    <a:pt x="647700" y="826769"/>
                  </a:lnTo>
                  <a:lnTo>
                    <a:pt x="631190" y="833119"/>
                  </a:lnTo>
                  <a:lnTo>
                    <a:pt x="613410" y="836929"/>
                  </a:lnTo>
                  <a:lnTo>
                    <a:pt x="596900" y="840739"/>
                  </a:lnTo>
                  <a:lnTo>
                    <a:pt x="580390" y="843279"/>
                  </a:lnTo>
                  <a:lnTo>
                    <a:pt x="565150" y="844550"/>
                  </a:lnTo>
                  <a:lnTo>
                    <a:pt x="542290" y="847089"/>
                  </a:lnTo>
                  <a:lnTo>
                    <a:pt x="518160" y="848359"/>
                  </a:lnTo>
                  <a:lnTo>
                    <a:pt x="494030" y="848359"/>
                  </a:lnTo>
                  <a:lnTo>
                    <a:pt x="468630" y="847089"/>
                  </a:lnTo>
                  <a:lnTo>
                    <a:pt x="444500" y="844550"/>
                  </a:lnTo>
                  <a:lnTo>
                    <a:pt x="420370" y="842009"/>
                  </a:lnTo>
                  <a:lnTo>
                    <a:pt x="396240" y="836929"/>
                  </a:lnTo>
                  <a:lnTo>
                    <a:pt x="384810" y="834389"/>
                  </a:lnTo>
                  <a:lnTo>
                    <a:pt x="372110" y="830579"/>
                  </a:lnTo>
                  <a:lnTo>
                    <a:pt x="360680" y="826769"/>
                  </a:lnTo>
                  <a:lnTo>
                    <a:pt x="349250" y="822959"/>
                  </a:lnTo>
                  <a:lnTo>
                    <a:pt x="337820" y="817879"/>
                  </a:lnTo>
                  <a:lnTo>
                    <a:pt x="327660" y="812800"/>
                  </a:lnTo>
                  <a:lnTo>
                    <a:pt x="316230" y="806450"/>
                  </a:lnTo>
                  <a:lnTo>
                    <a:pt x="306070" y="801369"/>
                  </a:lnTo>
                  <a:lnTo>
                    <a:pt x="295910" y="793750"/>
                  </a:lnTo>
                  <a:lnTo>
                    <a:pt x="285750" y="787400"/>
                  </a:lnTo>
                  <a:lnTo>
                    <a:pt x="276860" y="779779"/>
                  </a:lnTo>
                  <a:lnTo>
                    <a:pt x="266700" y="772159"/>
                  </a:lnTo>
                  <a:lnTo>
                    <a:pt x="257810" y="763269"/>
                  </a:lnTo>
                  <a:lnTo>
                    <a:pt x="250190" y="753109"/>
                  </a:lnTo>
                  <a:lnTo>
                    <a:pt x="242570" y="744219"/>
                  </a:lnTo>
                  <a:lnTo>
                    <a:pt x="234950" y="732789"/>
                  </a:lnTo>
                  <a:lnTo>
                    <a:pt x="227330" y="722629"/>
                  </a:lnTo>
                  <a:lnTo>
                    <a:pt x="220980" y="711200"/>
                  </a:lnTo>
                  <a:lnTo>
                    <a:pt x="215900" y="701040"/>
                  </a:lnTo>
                  <a:lnTo>
                    <a:pt x="212090" y="692150"/>
                  </a:lnTo>
                  <a:lnTo>
                    <a:pt x="209550" y="681990"/>
                  </a:lnTo>
                  <a:lnTo>
                    <a:pt x="205740" y="673100"/>
                  </a:lnTo>
                  <a:lnTo>
                    <a:pt x="204470" y="664209"/>
                  </a:lnTo>
                  <a:lnTo>
                    <a:pt x="203200" y="654050"/>
                  </a:lnTo>
                  <a:lnTo>
                    <a:pt x="203200" y="646429"/>
                  </a:lnTo>
                  <a:lnTo>
                    <a:pt x="203200" y="637540"/>
                  </a:lnTo>
                  <a:lnTo>
                    <a:pt x="203200" y="628650"/>
                  </a:lnTo>
                  <a:lnTo>
                    <a:pt x="204470" y="619759"/>
                  </a:lnTo>
                  <a:lnTo>
                    <a:pt x="207010" y="610870"/>
                  </a:lnTo>
                  <a:lnTo>
                    <a:pt x="209550" y="603250"/>
                  </a:lnTo>
                  <a:lnTo>
                    <a:pt x="212090" y="594359"/>
                  </a:lnTo>
                  <a:lnTo>
                    <a:pt x="215900" y="586740"/>
                  </a:lnTo>
                  <a:lnTo>
                    <a:pt x="223520" y="570229"/>
                  </a:lnTo>
                  <a:lnTo>
                    <a:pt x="232410" y="554990"/>
                  </a:lnTo>
                  <a:lnTo>
                    <a:pt x="242570" y="538479"/>
                  </a:lnTo>
                  <a:lnTo>
                    <a:pt x="254000" y="521970"/>
                  </a:lnTo>
                  <a:lnTo>
                    <a:pt x="266700" y="506729"/>
                  </a:lnTo>
                  <a:lnTo>
                    <a:pt x="279400" y="491490"/>
                  </a:lnTo>
                  <a:lnTo>
                    <a:pt x="293370" y="474979"/>
                  </a:lnTo>
                  <a:lnTo>
                    <a:pt x="320040" y="441959"/>
                  </a:lnTo>
                  <a:lnTo>
                    <a:pt x="332740" y="425450"/>
                  </a:lnTo>
                  <a:lnTo>
                    <a:pt x="346710" y="408940"/>
                  </a:lnTo>
                  <a:lnTo>
                    <a:pt x="358140" y="391159"/>
                  </a:lnTo>
                  <a:lnTo>
                    <a:pt x="369570" y="373379"/>
                  </a:lnTo>
                  <a:lnTo>
                    <a:pt x="379730" y="355600"/>
                  </a:lnTo>
                  <a:lnTo>
                    <a:pt x="383540" y="346710"/>
                  </a:lnTo>
                  <a:lnTo>
                    <a:pt x="387350" y="336550"/>
                  </a:lnTo>
                  <a:lnTo>
                    <a:pt x="391160" y="327660"/>
                  </a:lnTo>
                  <a:lnTo>
                    <a:pt x="394970" y="317500"/>
                  </a:lnTo>
                  <a:lnTo>
                    <a:pt x="397510" y="307339"/>
                  </a:lnTo>
                  <a:lnTo>
                    <a:pt x="400050" y="297179"/>
                  </a:lnTo>
                  <a:lnTo>
                    <a:pt x="401320" y="287020"/>
                  </a:lnTo>
                  <a:lnTo>
                    <a:pt x="402590" y="276860"/>
                  </a:lnTo>
                  <a:lnTo>
                    <a:pt x="403860" y="265429"/>
                  </a:lnTo>
                  <a:lnTo>
                    <a:pt x="403860" y="254000"/>
                  </a:lnTo>
                  <a:lnTo>
                    <a:pt x="403860" y="243839"/>
                  </a:lnTo>
                  <a:lnTo>
                    <a:pt x="402590" y="231139"/>
                  </a:lnTo>
                  <a:lnTo>
                    <a:pt x="400050" y="219710"/>
                  </a:lnTo>
                  <a:lnTo>
                    <a:pt x="398780" y="208279"/>
                  </a:lnTo>
                  <a:lnTo>
                    <a:pt x="394970" y="196850"/>
                  </a:lnTo>
                  <a:lnTo>
                    <a:pt x="391160" y="184150"/>
                  </a:lnTo>
                  <a:lnTo>
                    <a:pt x="386080" y="171450"/>
                  </a:lnTo>
                  <a:lnTo>
                    <a:pt x="381000" y="158750"/>
                  </a:lnTo>
                  <a:lnTo>
                    <a:pt x="374650" y="144779"/>
                  </a:lnTo>
                  <a:lnTo>
                    <a:pt x="367030" y="130810"/>
                  </a:lnTo>
                  <a:lnTo>
                    <a:pt x="358140" y="118110"/>
                  </a:lnTo>
                  <a:lnTo>
                    <a:pt x="349250" y="104139"/>
                  </a:lnTo>
                  <a:lnTo>
                    <a:pt x="344170" y="96520"/>
                  </a:lnTo>
                  <a:lnTo>
                    <a:pt x="339090" y="88900"/>
                  </a:lnTo>
                  <a:lnTo>
                    <a:pt x="327660" y="73660"/>
                  </a:lnTo>
                  <a:lnTo>
                    <a:pt x="314960" y="58420"/>
                  </a:lnTo>
                  <a:lnTo>
                    <a:pt x="308610" y="50800"/>
                  </a:lnTo>
                  <a:lnTo>
                    <a:pt x="300990" y="43179"/>
                  </a:lnTo>
                  <a:lnTo>
                    <a:pt x="294640" y="36829"/>
                  </a:lnTo>
                  <a:lnTo>
                    <a:pt x="285750" y="29210"/>
                  </a:lnTo>
                  <a:lnTo>
                    <a:pt x="278130" y="24129"/>
                  </a:lnTo>
                  <a:lnTo>
                    <a:pt x="270510" y="17779"/>
                  </a:lnTo>
                  <a:lnTo>
                    <a:pt x="261620" y="12700"/>
                  </a:lnTo>
                  <a:lnTo>
                    <a:pt x="252730" y="8889"/>
                  </a:lnTo>
                  <a:lnTo>
                    <a:pt x="243840" y="5079"/>
                  </a:lnTo>
                  <a:lnTo>
                    <a:pt x="234950" y="2539"/>
                  </a:lnTo>
                  <a:lnTo>
                    <a:pt x="227330" y="1270"/>
                  </a:lnTo>
                  <a:lnTo>
                    <a:pt x="218440" y="0"/>
                  </a:lnTo>
                  <a:lnTo>
                    <a:pt x="209550" y="0"/>
                  </a:lnTo>
                  <a:lnTo>
                    <a:pt x="200660" y="0"/>
                  </a:lnTo>
                  <a:lnTo>
                    <a:pt x="191770" y="1270"/>
                  </a:lnTo>
                  <a:lnTo>
                    <a:pt x="184150" y="2539"/>
                  </a:lnTo>
                  <a:lnTo>
                    <a:pt x="166370" y="7620"/>
                  </a:lnTo>
                  <a:lnTo>
                    <a:pt x="148590" y="13970"/>
                  </a:lnTo>
                  <a:lnTo>
                    <a:pt x="132080" y="20320"/>
                  </a:lnTo>
                  <a:lnTo>
                    <a:pt x="116840" y="29210"/>
                  </a:lnTo>
                  <a:lnTo>
                    <a:pt x="101600" y="36829"/>
                  </a:lnTo>
                  <a:lnTo>
                    <a:pt x="92710" y="41910"/>
                  </a:lnTo>
                  <a:lnTo>
                    <a:pt x="85090" y="46989"/>
                  </a:lnTo>
                  <a:lnTo>
                    <a:pt x="67310" y="57150"/>
                  </a:lnTo>
                  <a:lnTo>
                    <a:pt x="50800" y="68579"/>
                  </a:lnTo>
                  <a:lnTo>
                    <a:pt x="41910" y="74929"/>
                  </a:lnTo>
                  <a:lnTo>
                    <a:pt x="34290" y="80010"/>
                  </a:lnTo>
                  <a:lnTo>
                    <a:pt x="26670" y="86360"/>
                  </a:lnTo>
                  <a:lnTo>
                    <a:pt x="20320" y="93979"/>
                  </a:lnTo>
                  <a:lnTo>
                    <a:pt x="13970" y="100329"/>
                  </a:lnTo>
                  <a:lnTo>
                    <a:pt x="8890" y="106679"/>
                  </a:lnTo>
                  <a:lnTo>
                    <a:pt x="5080" y="114300"/>
                  </a:lnTo>
                  <a:lnTo>
                    <a:pt x="2540" y="121920"/>
                  </a:lnTo>
                  <a:lnTo>
                    <a:pt x="0" y="129539"/>
                  </a:lnTo>
                  <a:lnTo>
                    <a:pt x="0" y="137160"/>
                  </a:lnTo>
                  <a:close/>
                </a:path>
              </a:pathLst>
            </a:custGeom>
            <a:noFill/>
            <a:ln w="12600">
              <a:solidFill>
                <a:srgbClr val="3a21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ihandform 4"/>
            <p:cNvSpPr/>
            <p:nvPr/>
          </p:nvSpPr>
          <p:spPr>
            <a:xfrm>
              <a:off x="2693880" y="2425680"/>
              <a:ext cx="228600" cy="36360"/>
            </a:xfrm>
            <a:custGeom>
              <a:avLst/>
              <a:gdLst>
                <a:gd name="textAreaLeft" fmla="*/ 0 w 228600"/>
                <a:gd name="textAreaRight" fmla="*/ 228960 w 22860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186691" h="44451">
                  <a:moveTo>
                    <a:pt x="186690" y="0"/>
                  </a:moveTo>
                  <a:lnTo>
                    <a:pt x="157480" y="10160"/>
                  </a:lnTo>
                  <a:lnTo>
                    <a:pt x="128270" y="20320"/>
                  </a:lnTo>
                  <a:lnTo>
                    <a:pt x="113030" y="25400"/>
                  </a:lnTo>
                  <a:lnTo>
                    <a:pt x="100330" y="30480"/>
                  </a:lnTo>
                  <a:lnTo>
                    <a:pt x="86360" y="34290"/>
                  </a:lnTo>
                  <a:lnTo>
                    <a:pt x="73660" y="36830"/>
                  </a:lnTo>
                  <a:lnTo>
                    <a:pt x="60960" y="40640"/>
                  </a:lnTo>
                  <a:lnTo>
                    <a:pt x="49530" y="43180"/>
                  </a:lnTo>
                  <a:lnTo>
                    <a:pt x="39370" y="44450"/>
                  </a:lnTo>
                  <a:lnTo>
                    <a:pt x="29210" y="44450"/>
                  </a:lnTo>
                  <a:lnTo>
                    <a:pt x="20320" y="44450"/>
                  </a:lnTo>
                  <a:lnTo>
                    <a:pt x="12700" y="43180"/>
                  </a:lnTo>
                  <a:lnTo>
                    <a:pt x="8890" y="41910"/>
                  </a:lnTo>
                  <a:lnTo>
                    <a:pt x="5080" y="40640"/>
                  </a:lnTo>
                  <a:lnTo>
                    <a:pt x="2540" y="39370"/>
                  </a:lnTo>
                  <a:lnTo>
                    <a:pt x="0" y="38100"/>
                  </a:lnTo>
                </a:path>
              </a:pathLst>
            </a:custGeom>
            <a:noFill/>
            <a:ln w="12600">
              <a:solidFill>
                <a:srgbClr val="3a21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ihandform 5"/>
            <p:cNvSpPr/>
            <p:nvPr/>
          </p:nvSpPr>
          <p:spPr>
            <a:xfrm>
              <a:off x="2814480" y="2394000"/>
              <a:ext cx="26640" cy="2052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22606" h="24511">
                  <a:moveTo>
                    <a:pt x="507" y="9652"/>
                  </a:moveTo>
                  <a:lnTo>
                    <a:pt x="1016" y="7747"/>
                  </a:lnTo>
                  <a:lnTo>
                    <a:pt x="2032" y="5334"/>
                  </a:lnTo>
                  <a:lnTo>
                    <a:pt x="3429" y="3428"/>
                  </a:lnTo>
                  <a:lnTo>
                    <a:pt x="4826" y="1904"/>
                  </a:lnTo>
                  <a:lnTo>
                    <a:pt x="6730" y="1016"/>
                  </a:lnTo>
                  <a:lnTo>
                    <a:pt x="9144" y="0"/>
                  </a:lnTo>
                  <a:lnTo>
                    <a:pt x="11557" y="0"/>
                  </a:lnTo>
                  <a:lnTo>
                    <a:pt x="13461" y="0"/>
                  </a:lnTo>
                  <a:lnTo>
                    <a:pt x="15875" y="1016"/>
                  </a:lnTo>
                  <a:lnTo>
                    <a:pt x="17779" y="1904"/>
                  </a:lnTo>
                  <a:lnTo>
                    <a:pt x="19304" y="3428"/>
                  </a:lnTo>
                  <a:lnTo>
                    <a:pt x="20701" y="5334"/>
                  </a:lnTo>
                  <a:lnTo>
                    <a:pt x="21717" y="7747"/>
                  </a:lnTo>
                  <a:lnTo>
                    <a:pt x="22605" y="9652"/>
                  </a:lnTo>
                  <a:lnTo>
                    <a:pt x="22605" y="12446"/>
                  </a:lnTo>
                  <a:lnTo>
                    <a:pt x="22605" y="14859"/>
                  </a:lnTo>
                  <a:lnTo>
                    <a:pt x="21717" y="17272"/>
                  </a:lnTo>
                  <a:lnTo>
                    <a:pt x="20701" y="19177"/>
                  </a:lnTo>
                  <a:lnTo>
                    <a:pt x="19304" y="21081"/>
                  </a:lnTo>
                  <a:lnTo>
                    <a:pt x="17779" y="22606"/>
                  </a:lnTo>
                  <a:lnTo>
                    <a:pt x="15875" y="23494"/>
                  </a:lnTo>
                  <a:lnTo>
                    <a:pt x="13461" y="24510"/>
                  </a:lnTo>
                  <a:lnTo>
                    <a:pt x="11557" y="24510"/>
                  </a:lnTo>
                  <a:lnTo>
                    <a:pt x="9144" y="24510"/>
                  </a:lnTo>
                  <a:lnTo>
                    <a:pt x="6730" y="23494"/>
                  </a:lnTo>
                  <a:lnTo>
                    <a:pt x="4826" y="22606"/>
                  </a:lnTo>
                  <a:lnTo>
                    <a:pt x="3429" y="21081"/>
                  </a:lnTo>
                  <a:lnTo>
                    <a:pt x="2032" y="19177"/>
                  </a:lnTo>
                  <a:lnTo>
                    <a:pt x="1016" y="17272"/>
                  </a:lnTo>
                  <a:lnTo>
                    <a:pt x="507" y="14859"/>
                  </a:lnTo>
                  <a:lnTo>
                    <a:pt x="0" y="12446"/>
                  </a:lnTo>
                  <a:lnTo>
                    <a:pt x="507" y="965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ihandform 6"/>
            <p:cNvSpPr/>
            <p:nvPr/>
          </p:nvSpPr>
          <p:spPr>
            <a:xfrm>
              <a:off x="2813040" y="2394000"/>
              <a:ext cx="28440" cy="2052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22861" h="24131">
                  <a:moveTo>
                    <a:pt x="0" y="12700"/>
                  </a:moveTo>
                  <a:lnTo>
                    <a:pt x="1270" y="15240"/>
                  </a:lnTo>
                  <a:lnTo>
                    <a:pt x="1270" y="17780"/>
                  </a:lnTo>
                  <a:lnTo>
                    <a:pt x="2540" y="19050"/>
                  </a:lnTo>
                  <a:lnTo>
                    <a:pt x="3810" y="21590"/>
                  </a:lnTo>
                  <a:lnTo>
                    <a:pt x="5080" y="22860"/>
                  </a:lnTo>
                  <a:lnTo>
                    <a:pt x="7620" y="24130"/>
                  </a:lnTo>
                  <a:lnTo>
                    <a:pt x="10160" y="24130"/>
                  </a:lnTo>
                  <a:lnTo>
                    <a:pt x="12700" y="24130"/>
                  </a:lnTo>
                  <a:lnTo>
                    <a:pt x="13970" y="24130"/>
                  </a:lnTo>
                  <a:lnTo>
                    <a:pt x="16510" y="24130"/>
                  </a:lnTo>
                  <a:lnTo>
                    <a:pt x="17780" y="22860"/>
                  </a:lnTo>
                  <a:lnTo>
                    <a:pt x="20320" y="21590"/>
                  </a:lnTo>
                  <a:lnTo>
                    <a:pt x="21590" y="19050"/>
                  </a:lnTo>
                  <a:lnTo>
                    <a:pt x="21590" y="17780"/>
                  </a:lnTo>
                  <a:lnTo>
                    <a:pt x="22860" y="15240"/>
                  </a:lnTo>
                  <a:lnTo>
                    <a:pt x="22860" y="12700"/>
                  </a:lnTo>
                  <a:lnTo>
                    <a:pt x="22860" y="10160"/>
                  </a:lnTo>
                  <a:lnTo>
                    <a:pt x="21590" y="7620"/>
                  </a:lnTo>
                  <a:lnTo>
                    <a:pt x="21590" y="5080"/>
                  </a:lnTo>
                  <a:lnTo>
                    <a:pt x="20320" y="3810"/>
                  </a:lnTo>
                  <a:lnTo>
                    <a:pt x="17780" y="2540"/>
                  </a:lnTo>
                  <a:lnTo>
                    <a:pt x="16510" y="1270"/>
                  </a:lnTo>
                  <a:lnTo>
                    <a:pt x="13970" y="0"/>
                  </a:lnTo>
                  <a:lnTo>
                    <a:pt x="12700" y="0"/>
                  </a:lnTo>
                  <a:lnTo>
                    <a:pt x="10160" y="0"/>
                  </a:lnTo>
                  <a:lnTo>
                    <a:pt x="7620" y="1270"/>
                  </a:lnTo>
                  <a:lnTo>
                    <a:pt x="5080" y="2540"/>
                  </a:lnTo>
                  <a:lnTo>
                    <a:pt x="3810" y="3810"/>
                  </a:lnTo>
                  <a:lnTo>
                    <a:pt x="2540" y="5080"/>
                  </a:lnTo>
                  <a:lnTo>
                    <a:pt x="1270" y="7620"/>
                  </a:lnTo>
                  <a:lnTo>
                    <a:pt x="1270" y="10160"/>
                  </a:lnTo>
                  <a:lnTo>
                    <a:pt x="0" y="12700"/>
                  </a:lnTo>
                  <a:close/>
                </a:path>
              </a:pathLst>
            </a:custGeom>
            <a:noFill/>
            <a:ln w="12600">
              <a:solidFill>
                <a:srgbClr val="3a21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ihandform 7"/>
            <p:cNvSpPr/>
            <p:nvPr/>
          </p:nvSpPr>
          <p:spPr>
            <a:xfrm>
              <a:off x="2771640" y="2430360"/>
              <a:ext cx="347400" cy="2268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226800"/>
                <a:gd name="textAreaBottom" fmla="*/ 227160 h 226800"/>
              </a:gdLst>
              <a:ahLst/>
              <a:rect l="textAreaLeft" t="textAreaTop" r="textAreaRight" b="textAreaBottom"/>
              <a:pathLst>
                <a:path w="283719" h="279782">
                  <a:moveTo>
                    <a:pt x="88265" y="25907"/>
                  </a:moveTo>
                  <a:lnTo>
                    <a:pt x="92075" y="26416"/>
                  </a:lnTo>
                  <a:lnTo>
                    <a:pt x="94996" y="27304"/>
                  </a:lnTo>
                  <a:lnTo>
                    <a:pt x="96900" y="29717"/>
                  </a:lnTo>
                  <a:lnTo>
                    <a:pt x="98806" y="32638"/>
                  </a:lnTo>
                  <a:lnTo>
                    <a:pt x="99821" y="36448"/>
                  </a:lnTo>
                  <a:lnTo>
                    <a:pt x="100330" y="40766"/>
                  </a:lnTo>
                  <a:lnTo>
                    <a:pt x="100330" y="46101"/>
                  </a:lnTo>
                  <a:lnTo>
                    <a:pt x="100330" y="51307"/>
                  </a:lnTo>
                  <a:lnTo>
                    <a:pt x="99313" y="57531"/>
                  </a:lnTo>
                  <a:lnTo>
                    <a:pt x="97916" y="63754"/>
                  </a:lnTo>
                  <a:lnTo>
                    <a:pt x="96393" y="70992"/>
                  </a:lnTo>
                  <a:lnTo>
                    <a:pt x="94996" y="78232"/>
                  </a:lnTo>
                  <a:lnTo>
                    <a:pt x="90169" y="93598"/>
                  </a:lnTo>
                  <a:lnTo>
                    <a:pt x="85471" y="108966"/>
                  </a:lnTo>
                  <a:lnTo>
                    <a:pt x="73913" y="140588"/>
                  </a:lnTo>
                  <a:lnTo>
                    <a:pt x="68580" y="155448"/>
                  </a:lnTo>
                  <a:lnTo>
                    <a:pt x="65786" y="162686"/>
                  </a:lnTo>
                  <a:lnTo>
                    <a:pt x="63372" y="169417"/>
                  </a:lnTo>
                  <a:lnTo>
                    <a:pt x="61468" y="175641"/>
                  </a:lnTo>
                  <a:lnTo>
                    <a:pt x="59436" y="181356"/>
                  </a:lnTo>
                  <a:lnTo>
                    <a:pt x="57531" y="186182"/>
                  </a:lnTo>
                  <a:lnTo>
                    <a:pt x="56134" y="191007"/>
                  </a:lnTo>
                  <a:lnTo>
                    <a:pt x="55118" y="194817"/>
                  </a:lnTo>
                  <a:lnTo>
                    <a:pt x="54228" y="198247"/>
                  </a:lnTo>
                  <a:lnTo>
                    <a:pt x="54228" y="200660"/>
                  </a:lnTo>
                  <a:lnTo>
                    <a:pt x="54228" y="202564"/>
                  </a:lnTo>
                  <a:lnTo>
                    <a:pt x="56134" y="202564"/>
                  </a:lnTo>
                  <a:lnTo>
                    <a:pt x="57531" y="201548"/>
                  </a:lnTo>
                  <a:lnTo>
                    <a:pt x="59436" y="199644"/>
                  </a:lnTo>
                  <a:lnTo>
                    <a:pt x="61468" y="196723"/>
                  </a:lnTo>
                  <a:lnTo>
                    <a:pt x="63372" y="193420"/>
                  </a:lnTo>
                  <a:lnTo>
                    <a:pt x="65786" y="189103"/>
                  </a:lnTo>
                  <a:lnTo>
                    <a:pt x="67690" y="184276"/>
                  </a:lnTo>
                  <a:lnTo>
                    <a:pt x="70103" y="178561"/>
                  </a:lnTo>
                  <a:lnTo>
                    <a:pt x="72009" y="172720"/>
                  </a:lnTo>
                  <a:lnTo>
                    <a:pt x="74421" y="166116"/>
                  </a:lnTo>
                  <a:lnTo>
                    <a:pt x="78740" y="151638"/>
                  </a:lnTo>
                  <a:lnTo>
                    <a:pt x="83438" y="136270"/>
                  </a:lnTo>
                  <a:lnTo>
                    <a:pt x="88265" y="120014"/>
                  </a:lnTo>
                  <a:lnTo>
                    <a:pt x="92583" y="103632"/>
                  </a:lnTo>
                  <a:lnTo>
                    <a:pt x="97409" y="87376"/>
                  </a:lnTo>
                  <a:lnTo>
                    <a:pt x="101727" y="72008"/>
                  </a:lnTo>
                  <a:lnTo>
                    <a:pt x="105537" y="57531"/>
                  </a:lnTo>
                  <a:lnTo>
                    <a:pt x="107441" y="51307"/>
                  </a:lnTo>
                  <a:lnTo>
                    <a:pt x="109474" y="45085"/>
                  </a:lnTo>
                  <a:lnTo>
                    <a:pt x="111378" y="39751"/>
                  </a:lnTo>
                  <a:lnTo>
                    <a:pt x="112775" y="35051"/>
                  </a:lnTo>
                  <a:lnTo>
                    <a:pt x="114172" y="30733"/>
                  </a:lnTo>
                  <a:lnTo>
                    <a:pt x="115696" y="27304"/>
                  </a:lnTo>
                  <a:lnTo>
                    <a:pt x="117093" y="24891"/>
                  </a:lnTo>
                  <a:lnTo>
                    <a:pt x="118109" y="22986"/>
                  </a:lnTo>
                  <a:lnTo>
                    <a:pt x="121412" y="19685"/>
                  </a:lnTo>
                  <a:lnTo>
                    <a:pt x="125221" y="16256"/>
                  </a:lnTo>
                  <a:lnTo>
                    <a:pt x="129540" y="13461"/>
                  </a:lnTo>
                  <a:lnTo>
                    <a:pt x="133858" y="11048"/>
                  </a:lnTo>
                  <a:lnTo>
                    <a:pt x="143002" y="6731"/>
                  </a:lnTo>
                  <a:lnTo>
                    <a:pt x="153034" y="3301"/>
                  </a:lnTo>
                  <a:lnTo>
                    <a:pt x="163703" y="1397"/>
                  </a:lnTo>
                  <a:lnTo>
                    <a:pt x="174752" y="0"/>
                  </a:lnTo>
                  <a:lnTo>
                    <a:pt x="186181" y="507"/>
                  </a:lnTo>
                  <a:lnTo>
                    <a:pt x="197738" y="1397"/>
                  </a:lnTo>
                  <a:lnTo>
                    <a:pt x="208787" y="3301"/>
                  </a:lnTo>
                  <a:lnTo>
                    <a:pt x="219837" y="6731"/>
                  </a:lnTo>
                  <a:lnTo>
                    <a:pt x="229869" y="10541"/>
                  </a:lnTo>
                  <a:lnTo>
                    <a:pt x="239521" y="15366"/>
                  </a:lnTo>
                  <a:lnTo>
                    <a:pt x="248158" y="21589"/>
                  </a:lnTo>
                  <a:lnTo>
                    <a:pt x="255778" y="28320"/>
                  </a:lnTo>
                  <a:lnTo>
                    <a:pt x="259206" y="32131"/>
                  </a:lnTo>
                  <a:lnTo>
                    <a:pt x="262000" y="35941"/>
                  </a:lnTo>
                  <a:lnTo>
                    <a:pt x="264921" y="40258"/>
                  </a:lnTo>
                  <a:lnTo>
                    <a:pt x="266827" y="44576"/>
                  </a:lnTo>
                  <a:lnTo>
                    <a:pt x="270637" y="53720"/>
                  </a:lnTo>
                  <a:lnTo>
                    <a:pt x="274065" y="62357"/>
                  </a:lnTo>
                  <a:lnTo>
                    <a:pt x="276987" y="70992"/>
                  </a:lnTo>
                  <a:lnTo>
                    <a:pt x="279272" y="79629"/>
                  </a:lnTo>
                  <a:lnTo>
                    <a:pt x="280796" y="88264"/>
                  </a:lnTo>
                  <a:lnTo>
                    <a:pt x="282193" y="96392"/>
                  </a:lnTo>
                  <a:lnTo>
                    <a:pt x="283209" y="104648"/>
                  </a:lnTo>
                  <a:lnTo>
                    <a:pt x="283718" y="112776"/>
                  </a:lnTo>
                  <a:lnTo>
                    <a:pt x="283718" y="120904"/>
                  </a:lnTo>
                  <a:lnTo>
                    <a:pt x="283209" y="128651"/>
                  </a:lnTo>
                  <a:lnTo>
                    <a:pt x="282193" y="135763"/>
                  </a:lnTo>
                  <a:lnTo>
                    <a:pt x="281305" y="143510"/>
                  </a:lnTo>
                  <a:lnTo>
                    <a:pt x="277875" y="157860"/>
                  </a:lnTo>
                  <a:lnTo>
                    <a:pt x="273050" y="171323"/>
                  </a:lnTo>
                  <a:lnTo>
                    <a:pt x="266827" y="184276"/>
                  </a:lnTo>
                  <a:lnTo>
                    <a:pt x="259715" y="196341"/>
                  </a:lnTo>
                  <a:lnTo>
                    <a:pt x="251459" y="207772"/>
                  </a:lnTo>
                  <a:lnTo>
                    <a:pt x="242315" y="218820"/>
                  </a:lnTo>
                  <a:lnTo>
                    <a:pt x="232790" y="228473"/>
                  </a:lnTo>
                  <a:lnTo>
                    <a:pt x="222250" y="237616"/>
                  </a:lnTo>
                  <a:lnTo>
                    <a:pt x="211200" y="245745"/>
                  </a:lnTo>
                  <a:lnTo>
                    <a:pt x="199643" y="253364"/>
                  </a:lnTo>
                  <a:lnTo>
                    <a:pt x="187706" y="260095"/>
                  </a:lnTo>
                  <a:lnTo>
                    <a:pt x="175640" y="265429"/>
                  </a:lnTo>
                  <a:lnTo>
                    <a:pt x="163703" y="270256"/>
                  </a:lnTo>
                  <a:lnTo>
                    <a:pt x="151130" y="274065"/>
                  </a:lnTo>
                  <a:lnTo>
                    <a:pt x="139191" y="276986"/>
                  </a:lnTo>
                  <a:lnTo>
                    <a:pt x="127634" y="278891"/>
                  </a:lnTo>
                  <a:lnTo>
                    <a:pt x="116078" y="279781"/>
                  </a:lnTo>
                  <a:lnTo>
                    <a:pt x="105156" y="279272"/>
                  </a:lnTo>
                  <a:lnTo>
                    <a:pt x="94996" y="278384"/>
                  </a:lnTo>
                  <a:lnTo>
                    <a:pt x="85471" y="275971"/>
                  </a:lnTo>
                  <a:lnTo>
                    <a:pt x="76327" y="272669"/>
                  </a:lnTo>
                  <a:lnTo>
                    <a:pt x="72516" y="270636"/>
                  </a:lnTo>
                  <a:lnTo>
                    <a:pt x="68580" y="268351"/>
                  </a:lnTo>
                  <a:lnTo>
                    <a:pt x="64769" y="265429"/>
                  </a:lnTo>
                  <a:lnTo>
                    <a:pt x="61468" y="262508"/>
                  </a:lnTo>
                  <a:lnTo>
                    <a:pt x="58546" y="259207"/>
                  </a:lnTo>
                  <a:lnTo>
                    <a:pt x="55625" y="255778"/>
                  </a:lnTo>
                  <a:lnTo>
                    <a:pt x="53212" y="251967"/>
                  </a:lnTo>
                  <a:lnTo>
                    <a:pt x="51308" y="248157"/>
                  </a:lnTo>
                  <a:lnTo>
                    <a:pt x="49911" y="243332"/>
                  </a:lnTo>
                  <a:lnTo>
                    <a:pt x="48513" y="239013"/>
                  </a:lnTo>
                  <a:lnTo>
                    <a:pt x="45084" y="239522"/>
                  </a:lnTo>
                  <a:lnTo>
                    <a:pt x="41783" y="239522"/>
                  </a:lnTo>
                  <a:lnTo>
                    <a:pt x="38862" y="238506"/>
                  </a:lnTo>
                  <a:lnTo>
                    <a:pt x="35433" y="237108"/>
                  </a:lnTo>
                  <a:lnTo>
                    <a:pt x="29718" y="233298"/>
                  </a:lnTo>
                  <a:lnTo>
                    <a:pt x="24003" y="228473"/>
                  </a:lnTo>
                  <a:lnTo>
                    <a:pt x="19177" y="224663"/>
                  </a:lnTo>
                  <a:lnTo>
                    <a:pt x="15366" y="220345"/>
                  </a:lnTo>
                  <a:lnTo>
                    <a:pt x="11556" y="215519"/>
                  </a:lnTo>
                  <a:lnTo>
                    <a:pt x="8636" y="210692"/>
                  </a:lnTo>
                  <a:lnTo>
                    <a:pt x="5715" y="205358"/>
                  </a:lnTo>
                  <a:lnTo>
                    <a:pt x="3809" y="199644"/>
                  </a:lnTo>
                  <a:lnTo>
                    <a:pt x="2412" y="193929"/>
                  </a:lnTo>
                  <a:lnTo>
                    <a:pt x="888" y="187706"/>
                  </a:lnTo>
                  <a:lnTo>
                    <a:pt x="508" y="181356"/>
                  </a:lnTo>
                  <a:lnTo>
                    <a:pt x="0" y="174751"/>
                  </a:lnTo>
                  <a:lnTo>
                    <a:pt x="508" y="167513"/>
                  </a:lnTo>
                  <a:lnTo>
                    <a:pt x="1396" y="160782"/>
                  </a:lnTo>
                  <a:lnTo>
                    <a:pt x="2412" y="153542"/>
                  </a:lnTo>
                  <a:lnTo>
                    <a:pt x="3809" y="145923"/>
                  </a:lnTo>
                  <a:lnTo>
                    <a:pt x="6222" y="138683"/>
                  </a:lnTo>
                  <a:lnTo>
                    <a:pt x="8636" y="131063"/>
                  </a:lnTo>
                  <a:lnTo>
                    <a:pt x="12446" y="121411"/>
                  </a:lnTo>
                  <a:lnTo>
                    <a:pt x="16256" y="112267"/>
                  </a:lnTo>
                  <a:lnTo>
                    <a:pt x="26415" y="94107"/>
                  </a:lnTo>
                  <a:lnTo>
                    <a:pt x="37465" y="76326"/>
                  </a:lnTo>
                  <a:lnTo>
                    <a:pt x="43180" y="68072"/>
                  </a:lnTo>
                  <a:lnTo>
                    <a:pt x="48894" y="59944"/>
                  </a:lnTo>
                  <a:lnTo>
                    <a:pt x="54737" y="52832"/>
                  </a:lnTo>
                  <a:lnTo>
                    <a:pt x="60452" y="46101"/>
                  </a:lnTo>
                  <a:lnTo>
                    <a:pt x="66166" y="40258"/>
                  </a:lnTo>
                  <a:lnTo>
                    <a:pt x="71500" y="35432"/>
                  </a:lnTo>
                  <a:lnTo>
                    <a:pt x="76327" y="31114"/>
                  </a:lnTo>
                  <a:lnTo>
                    <a:pt x="80644" y="28320"/>
                  </a:lnTo>
                  <a:lnTo>
                    <a:pt x="84962" y="26416"/>
                  </a:lnTo>
                  <a:lnTo>
                    <a:pt x="88265" y="25907"/>
                  </a:lnTo>
                  <a:close/>
                </a:path>
              </a:pathLst>
            </a:custGeom>
            <a:solidFill>
              <a:srgbClr val="dddba8"/>
            </a:solidFill>
            <a:ln w="0">
              <a:solidFill>
                <a:srgbClr val="dddba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ihandform 8"/>
            <p:cNvSpPr/>
            <p:nvPr/>
          </p:nvSpPr>
          <p:spPr>
            <a:xfrm>
              <a:off x="2728800" y="2678040"/>
              <a:ext cx="288720" cy="75960"/>
            </a:xfrm>
            <a:custGeom>
              <a:avLst/>
              <a:gdLst>
                <a:gd name="textAreaLeft" fmla="*/ 0 w 288720"/>
                <a:gd name="textAreaRight" fmla="*/ 289080 w 28872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234697" h="93600">
                  <a:moveTo>
                    <a:pt x="13462" y="507"/>
                  </a:moveTo>
                  <a:lnTo>
                    <a:pt x="20574" y="2412"/>
                  </a:lnTo>
                  <a:lnTo>
                    <a:pt x="35052" y="6223"/>
                  </a:lnTo>
                  <a:lnTo>
                    <a:pt x="41656" y="7747"/>
                  </a:lnTo>
                  <a:lnTo>
                    <a:pt x="48006" y="8636"/>
                  </a:lnTo>
                  <a:lnTo>
                    <a:pt x="50800" y="8636"/>
                  </a:lnTo>
                  <a:lnTo>
                    <a:pt x="53721" y="8127"/>
                  </a:lnTo>
                  <a:lnTo>
                    <a:pt x="56641" y="7238"/>
                  </a:lnTo>
                  <a:lnTo>
                    <a:pt x="59055" y="5842"/>
                  </a:lnTo>
                  <a:lnTo>
                    <a:pt x="65278" y="9143"/>
                  </a:lnTo>
                  <a:lnTo>
                    <a:pt x="72009" y="12573"/>
                  </a:lnTo>
                  <a:lnTo>
                    <a:pt x="79628" y="15875"/>
                  </a:lnTo>
                  <a:lnTo>
                    <a:pt x="87756" y="18795"/>
                  </a:lnTo>
                  <a:lnTo>
                    <a:pt x="105537" y="24511"/>
                  </a:lnTo>
                  <a:lnTo>
                    <a:pt x="123825" y="29844"/>
                  </a:lnTo>
                  <a:lnTo>
                    <a:pt x="132969" y="31750"/>
                  </a:lnTo>
                  <a:lnTo>
                    <a:pt x="141985" y="33655"/>
                  </a:lnTo>
                  <a:lnTo>
                    <a:pt x="150240" y="35560"/>
                  </a:lnTo>
                  <a:lnTo>
                    <a:pt x="157860" y="36449"/>
                  </a:lnTo>
                  <a:lnTo>
                    <a:pt x="165100" y="37464"/>
                  </a:lnTo>
                  <a:lnTo>
                    <a:pt x="171322" y="38481"/>
                  </a:lnTo>
                  <a:lnTo>
                    <a:pt x="176149" y="38481"/>
                  </a:lnTo>
                  <a:lnTo>
                    <a:pt x="179959" y="37973"/>
                  </a:lnTo>
                  <a:lnTo>
                    <a:pt x="193928" y="43180"/>
                  </a:lnTo>
                  <a:lnTo>
                    <a:pt x="207772" y="49022"/>
                  </a:lnTo>
                  <a:lnTo>
                    <a:pt x="220725" y="54737"/>
                  </a:lnTo>
                  <a:lnTo>
                    <a:pt x="234187" y="61468"/>
                  </a:lnTo>
                  <a:lnTo>
                    <a:pt x="234696" y="66293"/>
                  </a:lnTo>
                  <a:lnTo>
                    <a:pt x="234187" y="71119"/>
                  </a:lnTo>
                  <a:lnTo>
                    <a:pt x="231775" y="75437"/>
                  </a:lnTo>
                  <a:lnTo>
                    <a:pt x="228981" y="79756"/>
                  </a:lnTo>
                  <a:lnTo>
                    <a:pt x="225044" y="83566"/>
                  </a:lnTo>
                  <a:lnTo>
                    <a:pt x="220218" y="86868"/>
                  </a:lnTo>
                  <a:lnTo>
                    <a:pt x="215010" y="90297"/>
                  </a:lnTo>
                  <a:lnTo>
                    <a:pt x="209296" y="93599"/>
                  </a:lnTo>
                  <a:lnTo>
                    <a:pt x="204978" y="89281"/>
                  </a:lnTo>
                  <a:lnTo>
                    <a:pt x="200152" y="85470"/>
                  </a:lnTo>
                  <a:lnTo>
                    <a:pt x="189610" y="78231"/>
                  </a:lnTo>
                  <a:lnTo>
                    <a:pt x="178562" y="72517"/>
                  </a:lnTo>
                  <a:lnTo>
                    <a:pt x="167005" y="67182"/>
                  </a:lnTo>
                  <a:lnTo>
                    <a:pt x="150240" y="66801"/>
                  </a:lnTo>
                  <a:lnTo>
                    <a:pt x="132460" y="65786"/>
                  </a:lnTo>
                  <a:lnTo>
                    <a:pt x="114681" y="63373"/>
                  </a:lnTo>
                  <a:lnTo>
                    <a:pt x="97409" y="60451"/>
                  </a:lnTo>
                  <a:lnTo>
                    <a:pt x="89281" y="58547"/>
                  </a:lnTo>
                  <a:lnTo>
                    <a:pt x="81534" y="56133"/>
                  </a:lnTo>
                  <a:lnTo>
                    <a:pt x="74422" y="53848"/>
                  </a:lnTo>
                  <a:lnTo>
                    <a:pt x="68072" y="51435"/>
                  </a:lnTo>
                  <a:lnTo>
                    <a:pt x="61849" y="48513"/>
                  </a:lnTo>
                  <a:lnTo>
                    <a:pt x="56641" y="45212"/>
                  </a:lnTo>
                  <a:lnTo>
                    <a:pt x="52324" y="41782"/>
                  </a:lnTo>
                  <a:lnTo>
                    <a:pt x="48894" y="37973"/>
                  </a:lnTo>
                  <a:lnTo>
                    <a:pt x="43180" y="37464"/>
                  </a:lnTo>
                  <a:lnTo>
                    <a:pt x="36956" y="36956"/>
                  </a:lnTo>
                  <a:lnTo>
                    <a:pt x="24003" y="36956"/>
                  </a:lnTo>
                  <a:lnTo>
                    <a:pt x="17780" y="36449"/>
                  </a:lnTo>
                  <a:lnTo>
                    <a:pt x="12446" y="35560"/>
                  </a:lnTo>
                  <a:lnTo>
                    <a:pt x="10032" y="34543"/>
                  </a:lnTo>
                  <a:lnTo>
                    <a:pt x="7619" y="33147"/>
                  </a:lnTo>
                  <a:lnTo>
                    <a:pt x="5206" y="31242"/>
                  </a:lnTo>
                  <a:lnTo>
                    <a:pt x="3302" y="29337"/>
                  </a:lnTo>
                  <a:lnTo>
                    <a:pt x="1905" y="25907"/>
                  </a:lnTo>
                  <a:lnTo>
                    <a:pt x="381" y="22098"/>
                  </a:lnTo>
                  <a:lnTo>
                    <a:pt x="0" y="18287"/>
                  </a:lnTo>
                  <a:lnTo>
                    <a:pt x="0" y="13969"/>
                  </a:lnTo>
                  <a:lnTo>
                    <a:pt x="381" y="10160"/>
                  </a:lnTo>
                  <a:lnTo>
                    <a:pt x="1905" y="6223"/>
                  </a:lnTo>
                  <a:lnTo>
                    <a:pt x="3809" y="2920"/>
                  </a:lnTo>
                  <a:lnTo>
                    <a:pt x="6731" y="0"/>
                  </a:lnTo>
                  <a:lnTo>
                    <a:pt x="13462" y="507"/>
                  </a:lnTo>
                  <a:close/>
                </a:path>
              </a:pathLst>
            </a:custGeom>
            <a:solidFill>
              <a:srgbClr val="dddba8"/>
            </a:solidFill>
            <a:ln w="0">
              <a:solidFill>
                <a:srgbClr val="dddba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ihandform 9"/>
            <p:cNvSpPr/>
            <p:nvPr/>
          </p:nvSpPr>
          <p:spPr>
            <a:xfrm>
              <a:off x="2733480" y="2738520"/>
              <a:ext cx="209520" cy="12672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172339" h="155957">
                  <a:moveTo>
                    <a:pt x="1904" y="507"/>
                  </a:moveTo>
                  <a:lnTo>
                    <a:pt x="3810" y="0"/>
                  </a:lnTo>
                  <a:lnTo>
                    <a:pt x="7747" y="507"/>
                  </a:lnTo>
                  <a:lnTo>
                    <a:pt x="11048" y="2920"/>
                  </a:lnTo>
                  <a:lnTo>
                    <a:pt x="14858" y="6222"/>
                  </a:lnTo>
                  <a:lnTo>
                    <a:pt x="22605" y="13462"/>
                  </a:lnTo>
                  <a:lnTo>
                    <a:pt x="26923" y="16256"/>
                  </a:lnTo>
                  <a:lnTo>
                    <a:pt x="30733" y="18669"/>
                  </a:lnTo>
                  <a:lnTo>
                    <a:pt x="34035" y="22097"/>
                  </a:lnTo>
                  <a:lnTo>
                    <a:pt x="38861" y="24892"/>
                  </a:lnTo>
                  <a:lnTo>
                    <a:pt x="44195" y="27305"/>
                  </a:lnTo>
                  <a:lnTo>
                    <a:pt x="50419" y="30226"/>
                  </a:lnTo>
                  <a:lnTo>
                    <a:pt x="57150" y="32131"/>
                  </a:lnTo>
                  <a:lnTo>
                    <a:pt x="64770" y="34544"/>
                  </a:lnTo>
                  <a:lnTo>
                    <a:pt x="72517" y="35940"/>
                  </a:lnTo>
                  <a:lnTo>
                    <a:pt x="80645" y="37464"/>
                  </a:lnTo>
                  <a:lnTo>
                    <a:pt x="97917" y="39877"/>
                  </a:lnTo>
                  <a:lnTo>
                    <a:pt x="114680" y="40767"/>
                  </a:lnTo>
                  <a:lnTo>
                    <a:pt x="123317" y="40767"/>
                  </a:lnTo>
                  <a:lnTo>
                    <a:pt x="131572" y="40767"/>
                  </a:lnTo>
                  <a:lnTo>
                    <a:pt x="138683" y="39877"/>
                  </a:lnTo>
                  <a:lnTo>
                    <a:pt x="145923" y="38862"/>
                  </a:lnTo>
                  <a:lnTo>
                    <a:pt x="153670" y="41275"/>
                  </a:lnTo>
                  <a:lnTo>
                    <a:pt x="161289" y="44195"/>
                  </a:lnTo>
                  <a:lnTo>
                    <a:pt x="164719" y="46101"/>
                  </a:lnTo>
                  <a:lnTo>
                    <a:pt x="168020" y="48006"/>
                  </a:lnTo>
                  <a:lnTo>
                    <a:pt x="170433" y="50419"/>
                  </a:lnTo>
                  <a:lnTo>
                    <a:pt x="172338" y="53720"/>
                  </a:lnTo>
                  <a:lnTo>
                    <a:pt x="167004" y="61468"/>
                  </a:lnTo>
                  <a:lnTo>
                    <a:pt x="162686" y="68580"/>
                  </a:lnTo>
                  <a:lnTo>
                    <a:pt x="158369" y="76326"/>
                  </a:lnTo>
                  <a:lnTo>
                    <a:pt x="155067" y="83438"/>
                  </a:lnTo>
                  <a:lnTo>
                    <a:pt x="152145" y="90677"/>
                  </a:lnTo>
                  <a:lnTo>
                    <a:pt x="149732" y="97917"/>
                  </a:lnTo>
                  <a:lnTo>
                    <a:pt x="147828" y="104647"/>
                  </a:lnTo>
                  <a:lnTo>
                    <a:pt x="145923" y="111378"/>
                  </a:lnTo>
                  <a:lnTo>
                    <a:pt x="145033" y="117601"/>
                  </a:lnTo>
                  <a:lnTo>
                    <a:pt x="144017" y="124332"/>
                  </a:lnTo>
                  <a:lnTo>
                    <a:pt x="143510" y="130047"/>
                  </a:lnTo>
                  <a:lnTo>
                    <a:pt x="143510" y="135763"/>
                  </a:lnTo>
                  <a:lnTo>
                    <a:pt x="144017" y="141096"/>
                  </a:lnTo>
                  <a:lnTo>
                    <a:pt x="144526" y="146431"/>
                  </a:lnTo>
                  <a:lnTo>
                    <a:pt x="145033" y="151130"/>
                  </a:lnTo>
                  <a:lnTo>
                    <a:pt x="145923" y="155956"/>
                  </a:lnTo>
                  <a:lnTo>
                    <a:pt x="144017" y="155956"/>
                  </a:lnTo>
                  <a:lnTo>
                    <a:pt x="142620" y="155447"/>
                  </a:lnTo>
                  <a:lnTo>
                    <a:pt x="141097" y="154558"/>
                  </a:lnTo>
                  <a:lnTo>
                    <a:pt x="139700" y="153543"/>
                  </a:lnTo>
                  <a:lnTo>
                    <a:pt x="137286" y="149732"/>
                  </a:lnTo>
                  <a:lnTo>
                    <a:pt x="135382" y="145414"/>
                  </a:lnTo>
                  <a:lnTo>
                    <a:pt x="133476" y="141096"/>
                  </a:lnTo>
                  <a:lnTo>
                    <a:pt x="131572" y="136270"/>
                  </a:lnTo>
                  <a:lnTo>
                    <a:pt x="128651" y="132461"/>
                  </a:lnTo>
                  <a:lnTo>
                    <a:pt x="127254" y="131063"/>
                  </a:lnTo>
                  <a:lnTo>
                    <a:pt x="125729" y="129539"/>
                  </a:lnTo>
                  <a:lnTo>
                    <a:pt x="119507" y="131445"/>
                  </a:lnTo>
                  <a:lnTo>
                    <a:pt x="113283" y="132969"/>
                  </a:lnTo>
                  <a:lnTo>
                    <a:pt x="105663" y="134365"/>
                  </a:lnTo>
                  <a:lnTo>
                    <a:pt x="97917" y="135382"/>
                  </a:lnTo>
                  <a:lnTo>
                    <a:pt x="89788" y="135763"/>
                  </a:lnTo>
                  <a:lnTo>
                    <a:pt x="81153" y="135763"/>
                  </a:lnTo>
                  <a:lnTo>
                    <a:pt x="63880" y="134874"/>
                  </a:lnTo>
                  <a:lnTo>
                    <a:pt x="55245" y="133857"/>
                  </a:lnTo>
                  <a:lnTo>
                    <a:pt x="47117" y="132461"/>
                  </a:lnTo>
                  <a:lnTo>
                    <a:pt x="38861" y="130556"/>
                  </a:lnTo>
                  <a:lnTo>
                    <a:pt x="31750" y="128651"/>
                  </a:lnTo>
                  <a:lnTo>
                    <a:pt x="24510" y="126745"/>
                  </a:lnTo>
                  <a:lnTo>
                    <a:pt x="18795" y="123825"/>
                  </a:lnTo>
                  <a:lnTo>
                    <a:pt x="13461" y="120903"/>
                  </a:lnTo>
                  <a:lnTo>
                    <a:pt x="8635" y="118109"/>
                  </a:lnTo>
                  <a:lnTo>
                    <a:pt x="8635" y="112268"/>
                  </a:lnTo>
                  <a:lnTo>
                    <a:pt x="8635" y="106045"/>
                  </a:lnTo>
                  <a:lnTo>
                    <a:pt x="8635" y="91694"/>
                  </a:lnTo>
                  <a:lnTo>
                    <a:pt x="9144" y="76834"/>
                  </a:lnTo>
                  <a:lnTo>
                    <a:pt x="8635" y="60451"/>
                  </a:lnTo>
                  <a:lnTo>
                    <a:pt x="8128" y="44576"/>
                  </a:lnTo>
                  <a:lnTo>
                    <a:pt x="6730" y="28828"/>
                  </a:lnTo>
                  <a:lnTo>
                    <a:pt x="5714" y="21082"/>
                  </a:lnTo>
                  <a:lnTo>
                    <a:pt x="4317" y="14351"/>
                  </a:lnTo>
                  <a:lnTo>
                    <a:pt x="2413" y="7620"/>
                  </a:lnTo>
                  <a:lnTo>
                    <a:pt x="0" y="888"/>
                  </a:lnTo>
                  <a:lnTo>
                    <a:pt x="1904" y="507"/>
                  </a:lnTo>
                  <a:close/>
                </a:path>
              </a:pathLst>
            </a:custGeom>
            <a:solidFill>
              <a:srgbClr val="dddba8"/>
            </a:solidFill>
            <a:ln w="0">
              <a:solidFill>
                <a:srgbClr val="dddba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ihandform 10"/>
            <p:cNvSpPr/>
            <p:nvPr/>
          </p:nvSpPr>
          <p:spPr>
            <a:xfrm>
              <a:off x="2754360" y="2903760"/>
              <a:ext cx="195120" cy="80640"/>
            </a:xfrm>
            <a:custGeom>
              <a:avLst/>
              <a:gdLst>
                <a:gd name="textAreaLeft" fmla="*/ 0 w 195120"/>
                <a:gd name="textAreaRight" fmla="*/ 195480 w 195120"/>
                <a:gd name="textAreaTop" fmla="*/ 0 h 80640"/>
                <a:gd name="textAreaBottom" fmla="*/ 80640 h 80640"/>
              </a:gdLst>
              <a:ahLst/>
              <a:rect l="textAreaLeft" t="textAreaTop" r="textAreaRight" b="textAreaBottom"/>
              <a:pathLst>
                <a:path w="158879" h="99315">
                  <a:moveTo>
                    <a:pt x="5716" y="2413"/>
                  </a:moveTo>
                  <a:lnTo>
                    <a:pt x="11938" y="4826"/>
                  </a:lnTo>
                  <a:lnTo>
                    <a:pt x="18669" y="7112"/>
                  </a:lnTo>
                  <a:lnTo>
                    <a:pt x="25909" y="9144"/>
                  </a:lnTo>
                  <a:lnTo>
                    <a:pt x="33656" y="11049"/>
                  </a:lnTo>
                  <a:lnTo>
                    <a:pt x="41784" y="12447"/>
                  </a:lnTo>
                  <a:lnTo>
                    <a:pt x="58547" y="15368"/>
                  </a:lnTo>
                  <a:lnTo>
                    <a:pt x="75819" y="16764"/>
                  </a:lnTo>
                  <a:lnTo>
                    <a:pt x="94107" y="17781"/>
                  </a:lnTo>
                  <a:lnTo>
                    <a:pt x="111888" y="18162"/>
                  </a:lnTo>
                  <a:lnTo>
                    <a:pt x="130049" y="17273"/>
                  </a:lnTo>
                  <a:lnTo>
                    <a:pt x="135382" y="21591"/>
                  </a:lnTo>
                  <a:lnTo>
                    <a:pt x="139700" y="26417"/>
                  </a:lnTo>
                  <a:lnTo>
                    <a:pt x="144019" y="32131"/>
                  </a:lnTo>
                  <a:lnTo>
                    <a:pt x="147321" y="37847"/>
                  </a:lnTo>
                  <a:lnTo>
                    <a:pt x="150750" y="44197"/>
                  </a:lnTo>
                  <a:lnTo>
                    <a:pt x="153544" y="50800"/>
                  </a:lnTo>
                  <a:lnTo>
                    <a:pt x="158878" y="64262"/>
                  </a:lnTo>
                  <a:lnTo>
                    <a:pt x="151638" y="66675"/>
                  </a:lnTo>
                  <a:lnTo>
                    <a:pt x="144019" y="68073"/>
                  </a:lnTo>
                  <a:lnTo>
                    <a:pt x="137288" y="68073"/>
                  </a:lnTo>
                  <a:lnTo>
                    <a:pt x="130049" y="68073"/>
                  </a:lnTo>
                  <a:lnTo>
                    <a:pt x="116206" y="66675"/>
                  </a:lnTo>
                  <a:lnTo>
                    <a:pt x="108966" y="66675"/>
                  </a:lnTo>
                  <a:lnTo>
                    <a:pt x="102235" y="67183"/>
                  </a:lnTo>
                  <a:lnTo>
                    <a:pt x="100331" y="72010"/>
                  </a:lnTo>
                  <a:lnTo>
                    <a:pt x="98934" y="75819"/>
                  </a:lnTo>
                  <a:lnTo>
                    <a:pt x="96901" y="79630"/>
                  </a:lnTo>
                  <a:lnTo>
                    <a:pt x="94997" y="83439"/>
                  </a:lnTo>
                  <a:lnTo>
                    <a:pt x="90678" y="89281"/>
                  </a:lnTo>
                  <a:lnTo>
                    <a:pt x="85979" y="93599"/>
                  </a:lnTo>
                  <a:lnTo>
                    <a:pt x="81153" y="96393"/>
                  </a:lnTo>
                  <a:lnTo>
                    <a:pt x="75819" y="98425"/>
                  </a:lnTo>
                  <a:lnTo>
                    <a:pt x="70104" y="99314"/>
                  </a:lnTo>
                  <a:lnTo>
                    <a:pt x="64771" y="99314"/>
                  </a:lnTo>
                  <a:lnTo>
                    <a:pt x="59056" y="98806"/>
                  </a:lnTo>
                  <a:lnTo>
                    <a:pt x="53341" y="97410"/>
                  </a:lnTo>
                  <a:lnTo>
                    <a:pt x="47499" y="95505"/>
                  </a:lnTo>
                  <a:lnTo>
                    <a:pt x="41784" y="93092"/>
                  </a:lnTo>
                  <a:lnTo>
                    <a:pt x="31243" y="87376"/>
                  </a:lnTo>
                  <a:lnTo>
                    <a:pt x="21591" y="81535"/>
                  </a:lnTo>
                  <a:lnTo>
                    <a:pt x="18669" y="73406"/>
                  </a:lnTo>
                  <a:lnTo>
                    <a:pt x="15368" y="63755"/>
                  </a:lnTo>
                  <a:lnTo>
                    <a:pt x="11938" y="53722"/>
                  </a:lnTo>
                  <a:lnTo>
                    <a:pt x="8637" y="43181"/>
                  </a:lnTo>
                  <a:lnTo>
                    <a:pt x="3303" y="21082"/>
                  </a:lnTo>
                  <a:lnTo>
                    <a:pt x="1397" y="10033"/>
                  </a:lnTo>
                  <a:lnTo>
                    <a:pt x="0" y="0"/>
                  </a:lnTo>
                  <a:lnTo>
                    <a:pt x="5716" y="2413"/>
                  </a:lnTo>
                  <a:close/>
                </a:path>
              </a:pathLst>
            </a:custGeom>
            <a:solidFill>
              <a:srgbClr val="dddba8"/>
            </a:solidFill>
            <a:ln w="0">
              <a:solidFill>
                <a:srgbClr val="dddba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ihandform 11"/>
            <p:cNvSpPr/>
            <p:nvPr/>
          </p:nvSpPr>
          <p:spPr>
            <a:xfrm>
              <a:off x="2921040" y="2440080"/>
              <a:ext cx="1192320" cy="673200"/>
            </a:xfrm>
            <a:custGeom>
              <a:avLst/>
              <a:gdLst>
                <a:gd name="textAreaLeft" fmla="*/ 0 w 1192320"/>
                <a:gd name="textAreaRight" fmla="*/ 1192680 w 1192320"/>
                <a:gd name="textAreaTop" fmla="*/ 0 h 673200"/>
                <a:gd name="textAreaBottom" fmla="*/ 673560 h 673200"/>
              </a:gdLst>
              <a:ahLst/>
              <a:rect l="textAreaLeft" t="textAreaTop" r="textAreaRight" b="textAreaBottom"/>
              <a:pathLst>
                <a:path w="972060" h="826135">
                  <a:moveTo>
                    <a:pt x="0" y="775208"/>
                  </a:moveTo>
                  <a:lnTo>
                    <a:pt x="1016" y="775715"/>
                  </a:lnTo>
                  <a:lnTo>
                    <a:pt x="2922" y="776223"/>
                  </a:lnTo>
                  <a:lnTo>
                    <a:pt x="5843" y="777113"/>
                  </a:lnTo>
                  <a:lnTo>
                    <a:pt x="9144" y="778637"/>
                  </a:lnTo>
                  <a:lnTo>
                    <a:pt x="13971" y="780541"/>
                  </a:lnTo>
                  <a:lnTo>
                    <a:pt x="19178" y="782446"/>
                  </a:lnTo>
                  <a:lnTo>
                    <a:pt x="25528" y="784352"/>
                  </a:lnTo>
                  <a:lnTo>
                    <a:pt x="32131" y="786764"/>
                  </a:lnTo>
                  <a:lnTo>
                    <a:pt x="39878" y="789177"/>
                  </a:lnTo>
                  <a:lnTo>
                    <a:pt x="47499" y="791590"/>
                  </a:lnTo>
                  <a:lnTo>
                    <a:pt x="56134" y="794003"/>
                  </a:lnTo>
                  <a:lnTo>
                    <a:pt x="73534" y="799210"/>
                  </a:lnTo>
                  <a:lnTo>
                    <a:pt x="92203" y="804545"/>
                  </a:lnTo>
                  <a:lnTo>
                    <a:pt x="110872" y="809371"/>
                  </a:lnTo>
                  <a:lnTo>
                    <a:pt x="129668" y="813689"/>
                  </a:lnTo>
                  <a:lnTo>
                    <a:pt x="138812" y="815594"/>
                  </a:lnTo>
                  <a:lnTo>
                    <a:pt x="147447" y="816990"/>
                  </a:lnTo>
                  <a:lnTo>
                    <a:pt x="156084" y="818007"/>
                  </a:lnTo>
                  <a:lnTo>
                    <a:pt x="164212" y="818896"/>
                  </a:lnTo>
                  <a:lnTo>
                    <a:pt x="171450" y="819403"/>
                  </a:lnTo>
                  <a:lnTo>
                    <a:pt x="178562" y="819912"/>
                  </a:lnTo>
                  <a:lnTo>
                    <a:pt x="184785" y="819403"/>
                  </a:lnTo>
                  <a:lnTo>
                    <a:pt x="190628" y="818896"/>
                  </a:lnTo>
                  <a:lnTo>
                    <a:pt x="195453" y="817498"/>
                  </a:lnTo>
                  <a:lnTo>
                    <a:pt x="199772" y="815594"/>
                  </a:lnTo>
                  <a:lnTo>
                    <a:pt x="202565" y="813181"/>
                  </a:lnTo>
                  <a:lnTo>
                    <a:pt x="204978" y="810259"/>
                  </a:lnTo>
                  <a:lnTo>
                    <a:pt x="205487" y="807846"/>
                  </a:lnTo>
                  <a:lnTo>
                    <a:pt x="204471" y="804545"/>
                  </a:lnTo>
                  <a:lnTo>
                    <a:pt x="203074" y="801115"/>
                  </a:lnTo>
                  <a:lnTo>
                    <a:pt x="200153" y="796797"/>
                  </a:lnTo>
                  <a:lnTo>
                    <a:pt x="196343" y="792479"/>
                  </a:lnTo>
                  <a:lnTo>
                    <a:pt x="191516" y="787272"/>
                  </a:lnTo>
                  <a:lnTo>
                    <a:pt x="186309" y="781939"/>
                  </a:lnTo>
                  <a:lnTo>
                    <a:pt x="180087" y="776223"/>
                  </a:lnTo>
                  <a:lnTo>
                    <a:pt x="172847" y="770382"/>
                  </a:lnTo>
                  <a:lnTo>
                    <a:pt x="165609" y="763777"/>
                  </a:lnTo>
                  <a:lnTo>
                    <a:pt x="157481" y="757427"/>
                  </a:lnTo>
                  <a:lnTo>
                    <a:pt x="148844" y="750315"/>
                  </a:lnTo>
                  <a:lnTo>
                    <a:pt x="140209" y="743077"/>
                  </a:lnTo>
                  <a:lnTo>
                    <a:pt x="131572" y="735457"/>
                  </a:lnTo>
                  <a:lnTo>
                    <a:pt x="112777" y="720089"/>
                  </a:lnTo>
                  <a:lnTo>
                    <a:pt x="94615" y="703198"/>
                  </a:lnTo>
                  <a:lnTo>
                    <a:pt x="76835" y="686434"/>
                  </a:lnTo>
                  <a:lnTo>
                    <a:pt x="60072" y="669163"/>
                  </a:lnTo>
                  <a:lnTo>
                    <a:pt x="52325" y="660527"/>
                  </a:lnTo>
                  <a:lnTo>
                    <a:pt x="45212" y="651890"/>
                  </a:lnTo>
                  <a:lnTo>
                    <a:pt x="38862" y="642746"/>
                  </a:lnTo>
                  <a:lnTo>
                    <a:pt x="33147" y="634110"/>
                  </a:lnTo>
                  <a:lnTo>
                    <a:pt x="27813" y="625475"/>
                  </a:lnTo>
                  <a:lnTo>
                    <a:pt x="24003" y="616839"/>
                  </a:lnTo>
                  <a:lnTo>
                    <a:pt x="20702" y="608202"/>
                  </a:lnTo>
                  <a:lnTo>
                    <a:pt x="18797" y="599566"/>
                  </a:lnTo>
                  <a:lnTo>
                    <a:pt x="17781" y="590931"/>
                  </a:lnTo>
                  <a:lnTo>
                    <a:pt x="17781" y="582802"/>
                  </a:lnTo>
                  <a:lnTo>
                    <a:pt x="24512" y="594233"/>
                  </a:lnTo>
                  <a:lnTo>
                    <a:pt x="31750" y="605282"/>
                  </a:lnTo>
                  <a:lnTo>
                    <a:pt x="38862" y="615441"/>
                  </a:lnTo>
                  <a:lnTo>
                    <a:pt x="47118" y="625475"/>
                  </a:lnTo>
                  <a:lnTo>
                    <a:pt x="55246" y="634619"/>
                  </a:lnTo>
                  <a:lnTo>
                    <a:pt x="63881" y="643254"/>
                  </a:lnTo>
                  <a:lnTo>
                    <a:pt x="73025" y="651383"/>
                  </a:lnTo>
                  <a:lnTo>
                    <a:pt x="82550" y="659129"/>
                  </a:lnTo>
                  <a:lnTo>
                    <a:pt x="92710" y="665733"/>
                  </a:lnTo>
                  <a:lnTo>
                    <a:pt x="102743" y="672464"/>
                  </a:lnTo>
                  <a:lnTo>
                    <a:pt x="113284" y="678814"/>
                  </a:lnTo>
                  <a:lnTo>
                    <a:pt x="123825" y="684529"/>
                  </a:lnTo>
                  <a:lnTo>
                    <a:pt x="134875" y="689356"/>
                  </a:lnTo>
                  <a:lnTo>
                    <a:pt x="146431" y="694054"/>
                  </a:lnTo>
                  <a:lnTo>
                    <a:pt x="157481" y="698372"/>
                  </a:lnTo>
                  <a:lnTo>
                    <a:pt x="169418" y="702309"/>
                  </a:lnTo>
                  <a:lnTo>
                    <a:pt x="180975" y="705612"/>
                  </a:lnTo>
                  <a:lnTo>
                    <a:pt x="193040" y="708533"/>
                  </a:lnTo>
                  <a:lnTo>
                    <a:pt x="217043" y="713739"/>
                  </a:lnTo>
                  <a:lnTo>
                    <a:pt x="241428" y="717169"/>
                  </a:lnTo>
                  <a:lnTo>
                    <a:pt x="266447" y="719073"/>
                  </a:lnTo>
                  <a:lnTo>
                    <a:pt x="290958" y="720089"/>
                  </a:lnTo>
                  <a:lnTo>
                    <a:pt x="315341" y="720089"/>
                  </a:lnTo>
                  <a:lnTo>
                    <a:pt x="338963" y="719073"/>
                  </a:lnTo>
                  <a:lnTo>
                    <a:pt x="362459" y="717169"/>
                  </a:lnTo>
                  <a:lnTo>
                    <a:pt x="377825" y="715264"/>
                  </a:lnTo>
                  <a:lnTo>
                    <a:pt x="393574" y="712343"/>
                  </a:lnTo>
                  <a:lnTo>
                    <a:pt x="410465" y="708533"/>
                  </a:lnTo>
                  <a:lnTo>
                    <a:pt x="427737" y="704214"/>
                  </a:lnTo>
                  <a:lnTo>
                    <a:pt x="445009" y="698881"/>
                  </a:lnTo>
                  <a:lnTo>
                    <a:pt x="462281" y="693165"/>
                  </a:lnTo>
                  <a:lnTo>
                    <a:pt x="478537" y="685927"/>
                  </a:lnTo>
                  <a:lnTo>
                    <a:pt x="494412" y="678814"/>
                  </a:lnTo>
                  <a:lnTo>
                    <a:pt x="509271" y="670178"/>
                  </a:lnTo>
                  <a:lnTo>
                    <a:pt x="516002" y="665352"/>
                  </a:lnTo>
                  <a:lnTo>
                    <a:pt x="522733" y="661034"/>
                  </a:lnTo>
                  <a:lnTo>
                    <a:pt x="528956" y="655701"/>
                  </a:lnTo>
                  <a:lnTo>
                    <a:pt x="534290" y="650875"/>
                  </a:lnTo>
                  <a:lnTo>
                    <a:pt x="539497" y="645668"/>
                  </a:lnTo>
                  <a:lnTo>
                    <a:pt x="544322" y="639826"/>
                  </a:lnTo>
                  <a:lnTo>
                    <a:pt x="548133" y="634110"/>
                  </a:lnTo>
                  <a:lnTo>
                    <a:pt x="551562" y="628396"/>
                  </a:lnTo>
                  <a:lnTo>
                    <a:pt x="554483" y="622172"/>
                  </a:lnTo>
                  <a:lnTo>
                    <a:pt x="556768" y="615822"/>
                  </a:lnTo>
                  <a:lnTo>
                    <a:pt x="558293" y="609219"/>
                  </a:lnTo>
                  <a:lnTo>
                    <a:pt x="559181" y="602488"/>
                  </a:lnTo>
                  <a:lnTo>
                    <a:pt x="558800" y="595757"/>
                  </a:lnTo>
                  <a:lnTo>
                    <a:pt x="558293" y="588518"/>
                  </a:lnTo>
                  <a:lnTo>
                    <a:pt x="556768" y="582802"/>
                  </a:lnTo>
                  <a:lnTo>
                    <a:pt x="555372" y="576960"/>
                  </a:lnTo>
                  <a:lnTo>
                    <a:pt x="553466" y="572134"/>
                  </a:lnTo>
                  <a:lnTo>
                    <a:pt x="551053" y="567435"/>
                  </a:lnTo>
                  <a:lnTo>
                    <a:pt x="548133" y="562609"/>
                  </a:lnTo>
                  <a:lnTo>
                    <a:pt x="544831" y="558291"/>
                  </a:lnTo>
                  <a:lnTo>
                    <a:pt x="541021" y="554482"/>
                  </a:lnTo>
                  <a:lnTo>
                    <a:pt x="536703" y="551052"/>
                  </a:lnTo>
                  <a:lnTo>
                    <a:pt x="532384" y="547751"/>
                  </a:lnTo>
                  <a:lnTo>
                    <a:pt x="527559" y="544321"/>
                  </a:lnTo>
                  <a:lnTo>
                    <a:pt x="522225" y="541527"/>
                  </a:lnTo>
                  <a:lnTo>
                    <a:pt x="516509" y="539114"/>
                  </a:lnTo>
                  <a:lnTo>
                    <a:pt x="504572" y="534289"/>
                  </a:lnTo>
                  <a:lnTo>
                    <a:pt x="491490" y="530859"/>
                  </a:lnTo>
                  <a:lnTo>
                    <a:pt x="477140" y="528065"/>
                  </a:lnTo>
                  <a:lnTo>
                    <a:pt x="462281" y="525652"/>
                  </a:lnTo>
                  <a:lnTo>
                    <a:pt x="446406" y="523747"/>
                  </a:lnTo>
                  <a:lnTo>
                    <a:pt x="430150" y="522732"/>
                  </a:lnTo>
                  <a:lnTo>
                    <a:pt x="413259" y="521843"/>
                  </a:lnTo>
                  <a:lnTo>
                    <a:pt x="395987" y="521334"/>
                  </a:lnTo>
                  <a:lnTo>
                    <a:pt x="360553" y="520827"/>
                  </a:lnTo>
                  <a:lnTo>
                    <a:pt x="325502" y="520319"/>
                  </a:lnTo>
                  <a:lnTo>
                    <a:pt x="308230" y="519938"/>
                  </a:lnTo>
                  <a:lnTo>
                    <a:pt x="290958" y="519429"/>
                  </a:lnTo>
                  <a:lnTo>
                    <a:pt x="274575" y="518921"/>
                  </a:lnTo>
                  <a:lnTo>
                    <a:pt x="258700" y="517525"/>
                  </a:lnTo>
                  <a:lnTo>
                    <a:pt x="243333" y="516001"/>
                  </a:lnTo>
                  <a:lnTo>
                    <a:pt x="228981" y="513588"/>
                  </a:lnTo>
                  <a:lnTo>
                    <a:pt x="216028" y="510794"/>
                  </a:lnTo>
                  <a:lnTo>
                    <a:pt x="203581" y="507364"/>
                  </a:lnTo>
                  <a:lnTo>
                    <a:pt x="198247" y="505459"/>
                  </a:lnTo>
                  <a:lnTo>
                    <a:pt x="193040" y="503046"/>
                  </a:lnTo>
                  <a:lnTo>
                    <a:pt x="187706" y="500633"/>
                  </a:lnTo>
                  <a:lnTo>
                    <a:pt x="183388" y="497839"/>
                  </a:lnTo>
                  <a:lnTo>
                    <a:pt x="179071" y="494919"/>
                  </a:lnTo>
                  <a:lnTo>
                    <a:pt x="175260" y="491616"/>
                  </a:lnTo>
                  <a:lnTo>
                    <a:pt x="171831" y="488188"/>
                  </a:lnTo>
                  <a:lnTo>
                    <a:pt x="168530" y="484377"/>
                  </a:lnTo>
                  <a:lnTo>
                    <a:pt x="166116" y="480059"/>
                  </a:lnTo>
                  <a:lnTo>
                    <a:pt x="163703" y="475741"/>
                  </a:lnTo>
                  <a:lnTo>
                    <a:pt x="162306" y="470915"/>
                  </a:lnTo>
                  <a:lnTo>
                    <a:pt x="160783" y="466089"/>
                  </a:lnTo>
                  <a:lnTo>
                    <a:pt x="160402" y="451739"/>
                  </a:lnTo>
                  <a:lnTo>
                    <a:pt x="161290" y="437769"/>
                  </a:lnTo>
                  <a:lnTo>
                    <a:pt x="162815" y="425322"/>
                  </a:lnTo>
                  <a:lnTo>
                    <a:pt x="165609" y="413258"/>
                  </a:lnTo>
                  <a:lnTo>
                    <a:pt x="169418" y="402335"/>
                  </a:lnTo>
                  <a:lnTo>
                    <a:pt x="174244" y="391668"/>
                  </a:lnTo>
                  <a:lnTo>
                    <a:pt x="180087" y="381634"/>
                  </a:lnTo>
                  <a:lnTo>
                    <a:pt x="186690" y="372998"/>
                  </a:lnTo>
                  <a:lnTo>
                    <a:pt x="193930" y="364363"/>
                  </a:lnTo>
                  <a:lnTo>
                    <a:pt x="202058" y="356615"/>
                  </a:lnTo>
                  <a:lnTo>
                    <a:pt x="211202" y="349503"/>
                  </a:lnTo>
                  <a:lnTo>
                    <a:pt x="220346" y="342772"/>
                  </a:lnTo>
                  <a:lnTo>
                    <a:pt x="230378" y="336550"/>
                  </a:lnTo>
                  <a:lnTo>
                    <a:pt x="241047" y="331215"/>
                  </a:lnTo>
                  <a:lnTo>
                    <a:pt x="251968" y="326008"/>
                  </a:lnTo>
                  <a:lnTo>
                    <a:pt x="263525" y="321690"/>
                  </a:lnTo>
                  <a:lnTo>
                    <a:pt x="275590" y="317372"/>
                  </a:lnTo>
                  <a:lnTo>
                    <a:pt x="287528" y="313435"/>
                  </a:lnTo>
                  <a:lnTo>
                    <a:pt x="299975" y="310641"/>
                  </a:lnTo>
                  <a:lnTo>
                    <a:pt x="312547" y="307721"/>
                  </a:lnTo>
                  <a:lnTo>
                    <a:pt x="338456" y="302895"/>
                  </a:lnTo>
                  <a:lnTo>
                    <a:pt x="364363" y="299593"/>
                  </a:lnTo>
                  <a:lnTo>
                    <a:pt x="390272" y="297179"/>
                  </a:lnTo>
                  <a:lnTo>
                    <a:pt x="415290" y="295275"/>
                  </a:lnTo>
                  <a:lnTo>
                    <a:pt x="439293" y="294766"/>
                  </a:lnTo>
                  <a:lnTo>
                    <a:pt x="461772" y="294258"/>
                  </a:lnTo>
                  <a:lnTo>
                    <a:pt x="476631" y="294258"/>
                  </a:lnTo>
                  <a:lnTo>
                    <a:pt x="491109" y="294258"/>
                  </a:lnTo>
                  <a:lnTo>
                    <a:pt x="521335" y="296164"/>
                  </a:lnTo>
                  <a:lnTo>
                    <a:pt x="552450" y="298577"/>
                  </a:lnTo>
                  <a:lnTo>
                    <a:pt x="583184" y="302006"/>
                  </a:lnTo>
                  <a:lnTo>
                    <a:pt x="614427" y="305308"/>
                  </a:lnTo>
                  <a:lnTo>
                    <a:pt x="644653" y="309626"/>
                  </a:lnTo>
                  <a:lnTo>
                    <a:pt x="673990" y="313435"/>
                  </a:lnTo>
                  <a:lnTo>
                    <a:pt x="702310" y="316864"/>
                  </a:lnTo>
                  <a:lnTo>
                    <a:pt x="715772" y="318262"/>
                  </a:lnTo>
                  <a:lnTo>
                    <a:pt x="728727" y="319658"/>
                  </a:lnTo>
                  <a:lnTo>
                    <a:pt x="741172" y="320675"/>
                  </a:lnTo>
                  <a:lnTo>
                    <a:pt x="753110" y="321690"/>
                  </a:lnTo>
                  <a:lnTo>
                    <a:pt x="764668" y="322579"/>
                  </a:lnTo>
                  <a:lnTo>
                    <a:pt x="775209" y="323088"/>
                  </a:lnTo>
                  <a:lnTo>
                    <a:pt x="785368" y="323088"/>
                  </a:lnTo>
                  <a:lnTo>
                    <a:pt x="794385" y="322579"/>
                  </a:lnTo>
                  <a:lnTo>
                    <a:pt x="802640" y="321690"/>
                  </a:lnTo>
                  <a:lnTo>
                    <a:pt x="810260" y="320675"/>
                  </a:lnTo>
                  <a:lnTo>
                    <a:pt x="816991" y="318770"/>
                  </a:lnTo>
                  <a:lnTo>
                    <a:pt x="822706" y="316864"/>
                  </a:lnTo>
                  <a:lnTo>
                    <a:pt x="827533" y="313944"/>
                  </a:lnTo>
                  <a:lnTo>
                    <a:pt x="831343" y="310641"/>
                  </a:lnTo>
                  <a:lnTo>
                    <a:pt x="833756" y="306704"/>
                  </a:lnTo>
                  <a:lnTo>
                    <a:pt x="835280" y="302387"/>
                  </a:lnTo>
                  <a:lnTo>
                    <a:pt x="835660" y="299593"/>
                  </a:lnTo>
                  <a:lnTo>
                    <a:pt x="835660" y="296671"/>
                  </a:lnTo>
                  <a:lnTo>
                    <a:pt x="834772" y="293751"/>
                  </a:lnTo>
                  <a:lnTo>
                    <a:pt x="833756" y="290957"/>
                  </a:lnTo>
                  <a:lnTo>
                    <a:pt x="830453" y="286131"/>
                  </a:lnTo>
                  <a:lnTo>
                    <a:pt x="825119" y="280796"/>
                  </a:lnTo>
                  <a:lnTo>
                    <a:pt x="818008" y="276097"/>
                  </a:lnTo>
                  <a:lnTo>
                    <a:pt x="809753" y="271652"/>
                  </a:lnTo>
                  <a:lnTo>
                    <a:pt x="800228" y="267334"/>
                  </a:lnTo>
                  <a:lnTo>
                    <a:pt x="789687" y="263525"/>
                  </a:lnTo>
                  <a:lnTo>
                    <a:pt x="777622" y="259207"/>
                  </a:lnTo>
                  <a:lnTo>
                    <a:pt x="764668" y="255396"/>
                  </a:lnTo>
                  <a:lnTo>
                    <a:pt x="751206" y="252095"/>
                  </a:lnTo>
                  <a:lnTo>
                    <a:pt x="736855" y="248157"/>
                  </a:lnTo>
                  <a:lnTo>
                    <a:pt x="706628" y="241045"/>
                  </a:lnTo>
                  <a:lnTo>
                    <a:pt x="674878" y="233807"/>
                  </a:lnTo>
                  <a:lnTo>
                    <a:pt x="643256" y="226568"/>
                  </a:lnTo>
                  <a:lnTo>
                    <a:pt x="612522" y="219456"/>
                  </a:lnTo>
                  <a:lnTo>
                    <a:pt x="597155" y="215138"/>
                  </a:lnTo>
                  <a:lnTo>
                    <a:pt x="582803" y="211200"/>
                  </a:lnTo>
                  <a:lnTo>
                    <a:pt x="569341" y="206882"/>
                  </a:lnTo>
                  <a:lnTo>
                    <a:pt x="556387" y="202057"/>
                  </a:lnTo>
                  <a:lnTo>
                    <a:pt x="544322" y="197738"/>
                  </a:lnTo>
                  <a:lnTo>
                    <a:pt x="533274" y="192532"/>
                  </a:lnTo>
                  <a:lnTo>
                    <a:pt x="523749" y="187197"/>
                  </a:lnTo>
                  <a:lnTo>
                    <a:pt x="515112" y="181991"/>
                  </a:lnTo>
                  <a:lnTo>
                    <a:pt x="508381" y="176148"/>
                  </a:lnTo>
                  <a:lnTo>
                    <a:pt x="502540" y="169925"/>
                  </a:lnTo>
                  <a:lnTo>
                    <a:pt x="500634" y="166623"/>
                  </a:lnTo>
                  <a:lnTo>
                    <a:pt x="498730" y="163194"/>
                  </a:lnTo>
                  <a:lnTo>
                    <a:pt x="497840" y="159893"/>
                  </a:lnTo>
                  <a:lnTo>
                    <a:pt x="496825" y="156463"/>
                  </a:lnTo>
                  <a:lnTo>
                    <a:pt x="497333" y="148335"/>
                  </a:lnTo>
                  <a:lnTo>
                    <a:pt x="498730" y="141097"/>
                  </a:lnTo>
                  <a:lnTo>
                    <a:pt x="501143" y="133985"/>
                  </a:lnTo>
                  <a:lnTo>
                    <a:pt x="504063" y="127762"/>
                  </a:lnTo>
                  <a:lnTo>
                    <a:pt x="507365" y="121538"/>
                  </a:lnTo>
                  <a:lnTo>
                    <a:pt x="512191" y="116204"/>
                  </a:lnTo>
                  <a:lnTo>
                    <a:pt x="517018" y="110870"/>
                  </a:lnTo>
                  <a:lnTo>
                    <a:pt x="522733" y="106172"/>
                  </a:lnTo>
                  <a:lnTo>
                    <a:pt x="528956" y="101853"/>
                  </a:lnTo>
                  <a:lnTo>
                    <a:pt x="535687" y="97535"/>
                  </a:lnTo>
                  <a:lnTo>
                    <a:pt x="542925" y="93598"/>
                  </a:lnTo>
                  <a:lnTo>
                    <a:pt x="550546" y="90297"/>
                  </a:lnTo>
                  <a:lnTo>
                    <a:pt x="558800" y="87375"/>
                  </a:lnTo>
                  <a:lnTo>
                    <a:pt x="566928" y="84454"/>
                  </a:lnTo>
                  <a:lnTo>
                    <a:pt x="576072" y="81660"/>
                  </a:lnTo>
                  <a:lnTo>
                    <a:pt x="584709" y="79247"/>
                  </a:lnTo>
                  <a:lnTo>
                    <a:pt x="603885" y="75438"/>
                  </a:lnTo>
                  <a:lnTo>
                    <a:pt x="623571" y="72009"/>
                  </a:lnTo>
                  <a:lnTo>
                    <a:pt x="643763" y="69595"/>
                  </a:lnTo>
                  <a:lnTo>
                    <a:pt x="663830" y="67691"/>
                  </a:lnTo>
                  <a:lnTo>
                    <a:pt x="684022" y="65785"/>
                  </a:lnTo>
                  <a:lnTo>
                    <a:pt x="703708" y="64388"/>
                  </a:lnTo>
                  <a:lnTo>
                    <a:pt x="721996" y="62865"/>
                  </a:lnTo>
                  <a:lnTo>
                    <a:pt x="739649" y="61468"/>
                  </a:lnTo>
                  <a:lnTo>
                    <a:pt x="763271" y="59054"/>
                  </a:lnTo>
                  <a:lnTo>
                    <a:pt x="786258" y="55753"/>
                  </a:lnTo>
                  <a:lnTo>
                    <a:pt x="809372" y="51816"/>
                  </a:lnTo>
                  <a:lnTo>
                    <a:pt x="820293" y="49022"/>
                  </a:lnTo>
                  <a:lnTo>
                    <a:pt x="832359" y="46100"/>
                  </a:lnTo>
                  <a:lnTo>
                    <a:pt x="843915" y="42798"/>
                  </a:lnTo>
                  <a:lnTo>
                    <a:pt x="855853" y="38862"/>
                  </a:lnTo>
                  <a:lnTo>
                    <a:pt x="868300" y="34544"/>
                  </a:lnTo>
                  <a:lnTo>
                    <a:pt x="881254" y="29844"/>
                  </a:lnTo>
                  <a:lnTo>
                    <a:pt x="894716" y="24510"/>
                  </a:lnTo>
                  <a:lnTo>
                    <a:pt x="908178" y="18288"/>
                  </a:lnTo>
                  <a:lnTo>
                    <a:pt x="922529" y="12065"/>
                  </a:lnTo>
                  <a:lnTo>
                    <a:pt x="937515" y="4318"/>
                  </a:lnTo>
                  <a:lnTo>
                    <a:pt x="943229" y="2413"/>
                  </a:lnTo>
                  <a:lnTo>
                    <a:pt x="948563" y="1016"/>
                  </a:lnTo>
                  <a:lnTo>
                    <a:pt x="952881" y="0"/>
                  </a:lnTo>
                  <a:lnTo>
                    <a:pt x="957199" y="0"/>
                  </a:lnTo>
                  <a:lnTo>
                    <a:pt x="961010" y="1016"/>
                  </a:lnTo>
                  <a:lnTo>
                    <a:pt x="964311" y="1904"/>
                  </a:lnTo>
                  <a:lnTo>
                    <a:pt x="967233" y="3937"/>
                  </a:lnTo>
                  <a:lnTo>
                    <a:pt x="969646" y="5841"/>
                  </a:lnTo>
                  <a:lnTo>
                    <a:pt x="971042" y="8254"/>
                  </a:lnTo>
                  <a:lnTo>
                    <a:pt x="972059" y="11048"/>
                  </a:lnTo>
                  <a:lnTo>
                    <a:pt x="972059" y="13969"/>
                  </a:lnTo>
                  <a:lnTo>
                    <a:pt x="971550" y="16891"/>
                  </a:lnTo>
                  <a:lnTo>
                    <a:pt x="970154" y="19685"/>
                  </a:lnTo>
                  <a:lnTo>
                    <a:pt x="967741" y="23113"/>
                  </a:lnTo>
                  <a:lnTo>
                    <a:pt x="964819" y="25526"/>
                  </a:lnTo>
                  <a:lnTo>
                    <a:pt x="961010" y="28320"/>
                  </a:lnTo>
                  <a:lnTo>
                    <a:pt x="951866" y="33147"/>
                  </a:lnTo>
                  <a:lnTo>
                    <a:pt x="942722" y="37972"/>
                  </a:lnTo>
                  <a:lnTo>
                    <a:pt x="934086" y="42798"/>
                  </a:lnTo>
                  <a:lnTo>
                    <a:pt x="925958" y="46609"/>
                  </a:lnTo>
                  <a:lnTo>
                    <a:pt x="918211" y="50419"/>
                  </a:lnTo>
                  <a:lnTo>
                    <a:pt x="910591" y="54228"/>
                  </a:lnTo>
                  <a:lnTo>
                    <a:pt x="903352" y="57657"/>
                  </a:lnTo>
                  <a:lnTo>
                    <a:pt x="896240" y="60578"/>
                  </a:lnTo>
                  <a:lnTo>
                    <a:pt x="883286" y="66294"/>
                  </a:lnTo>
                  <a:lnTo>
                    <a:pt x="870712" y="70612"/>
                  </a:lnTo>
                  <a:lnTo>
                    <a:pt x="859283" y="74422"/>
                  </a:lnTo>
                  <a:lnTo>
                    <a:pt x="848234" y="77850"/>
                  </a:lnTo>
                  <a:lnTo>
                    <a:pt x="837184" y="80137"/>
                  </a:lnTo>
                  <a:lnTo>
                    <a:pt x="827025" y="82550"/>
                  </a:lnTo>
                  <a:lnTo>
                    <a:pt x="805943" y="85978"/>
                  </a:lnTo>
                  <a:lnTo>
                    <a:pt x="783844" y="88772"/>
                  </a:lnTo>
                  <a:lnTo>
                    <a:pt x="771906" y="90297"/>
                  </a:lnTo>
                  <a:lnTo>
                    <a:pt x="759334" y="92201"/>
                  </a:lnTo>
                  <a:lnTo>
                    <a:pt x="746887" y="94107"/>
                  </a:lnTo>
                  <a:lnTo>
                    <a:pt x="733044" y="96012"/>
                  </a:lnTo>
                  <a:lnTo>
                    <a:pt x="718566" y="97916"/>
                  </a:lnTo>
                  <a:lnTo>
                    <a:pt x="704215" y="100329"/>
                  </a:lnTo>
                  <a:lnTo>
                    <a:pt x="674371" y="105663"/>
                  </a:lnTo>
                  <a:lnTo>
                    <a:pt x="660019" y="108457"/>
                  </a:lnTo>
                  <a:lnTo>
                    <a:pt x="646050" y="111887"/>
                  </a:lnTo>
                  <a:lnTo>
                    <a:pt x="633603" y="115697"/>
                  </a:lnTo>
                  <a:lnTo>
                    <a:pt x="622555" y="119507"/>
                  </a:lnTo>
                  <a:lnTo>
                    <a:pt x="617347" y="121538"/>
                  </a:lnTo>
                  <a:lnTo>
                    <a:pt x="613030" y="123825"/>
                  </a:lnTo>
                  <a:lnTo>
                    <a:pt x="608712" y="126238"/>
                  </a:lnTo>
                  <a:lnTo>
                    <a:pt x="604775" y="128650"/>
                  </a:lnTo>
                  <a:lnTo>
                    <a:pt x="601981" y="131063"/>
                  </a:lnTo>
                  <a:lnTo>
                    <a:pt x="599568" y="133985"/>
                  </a:lnTo>
                  <a:lnTo>
                    <a:pt x="597662" y="136397"/>
                  </a:lnTo>
                  <a:lnTo>
                    <a:pt x="596138" y="139191"/>
                  </a:lnTo>
                  <a:lnTo>
                    <a:pt x="595758" y="142113"/>
                  </a:lnTo>
                  <a:lnTo>
                    <a:pt x="596138" y="145415"/>
                  </a:lnTo>
                  <a:lnTo>
                    <a:pt x="597155" y="148844"/>
                  </a:lnTo>
                  <a:lnTo>
                    <a:pt x="598552" y="152145"/>
                  </a:lnTo>
                  <a:lnTo>
                    <a:pt x="598171" y="153669"/>
                  </a:lnTo>
                  <a:lnTo>
                    <a:pt x="598171" y="155575"/>
                  </a:lnTo>
                  <a:lnTo>
                    <a:pt x="598552" y="156972"/>
                  </a:lnTo>
                  <a:lnTo>
                    <a:pt x="599568" y="157988"/>
                  </a:lnTo>
                  <a:lnTo>
                    <a:pt x="601472" y="159385"/>
                  </a:lnTo>
                  <a:lnTo>
                    <a:pt x="603885" y="160400"/>
                  </a:lnTo>
                  <a:lnTo>
                    <a:pt x="606299" y="161290"/>
                  </a:lnTo>
                  <a:lnTo>
                    <a:pt x="609600" y="162306"/>
                  </a:lnTo>
                  <a:lnTo>
                    <a:pt x="613410" y="163194"/>
                  </a:lnTo>
                  <a:lnTo>
                    <a:pt x="617728" y="164210"/>
                  </a:lnTo>
                  <a:lnTo>
                    <a:pt x="627381" y="165607"/>
                  </a:lnTo>
                  <a:lnTo>
                    <a:pt x="638430" y="166623"/>
                  </a:lnTo>
                  <a:lnTo>
                    <a:pt x="650875" y="167513"/>
                  </a:lnTo>
                  <a:lnTo>
                    <a:pt x="664846" y="169037"/>
                  </a:lnTo>
                  <a:lnTo>
                    <a:pt x="679705" y="169925"/>
                  </a:lnTo>
                  <a:lnTo>
                    <a:pt x="695580" y="170941"/>
                  </a:lnTo>
                  <a:lnTo>
                    <a:pt x="711835" y="172338"/>
                  </a:lnTo>
                  <a:lnTo>
                    <a:pt x="728727" y="174244"/>
                  </a:lnTo>
                  <a:lnTo>
                    <a:pt x="746380" y="176148"/>
                  </a:lnTo>
                  <a:lnTo>
                    <a:pt x="763652" y="178053"/>
                  </a:lnTo>
                  <a:lnTo>
                    <a:pt x="781431" y="180975"/>
                  </a:lnTo>
                  <a:lnTo>
                    <a:pt x="799212" y="184403"/>
                  </a:lnTo>
                  <a:lnTo>
                    <a:pt x="816484" y="188213"/>
                  </a:lnTo>
                  <a:lnTo>
                    <a:pt x="833375" y="192532"/>
                  </a:lnTo>
                  <a:lnTo>
                    <a:pt x="849631" y="197738"/>
                  </a:lnTo>
                  <a:lnTo>
                    <a:pt x="864997" y="203581"/>
                  </a:lnTo>
                  <a:lnTo>
                    <a:pt x="879856" y="210693"/>
                  </a:lnTo>
                  <a:lnTo>
                    <a:pt x="886587" y="214629"/>
                  </a:lnTo>
                  <a:lnTo>
                    <a:pt x="892811" y="218440"/>
                  </a:lnTo>
                  <a:lnTo>
                    <a:pt x="899034" y="222757"/>
                  </a:lnTo>
                  <a:lnTo>
                    <a:pt x="905256" y="227075"/>
                  </a:lnTo>
                  <a:lnTo>
                    <a:pt x="910591" y="231901"/>
                  </a:lnTo>
                  <a:lnTo>
                    <a:pt x="915924" y="237109"/>
                  </a:lnTo>
                  <a:lnTo>
                    <a:pt x="920623" y="242443"/>
                  </a:lnTo>
                  <a:lnTo>
                    <a:pt x="924942" y="248157"/>
                  </a:lnTo>
                  <a:lnTo>
                    <a:pt x="928879" y="254000"/>
                  </a:lnTo>
                  <a:lnTo>
                    <a:pt x="932180" y="260222"/>
                  </a:lnTo>
                  <a:lnTo>
                    <a:pt x="935610" y="266953"/>
                  </a:lnTo>
                  <a:lnTo>
                    <a:pt x="937896" y="273684"/>
                  </a:lnTo>
                  <a:lnTo>
                    <a:pt x="939928" y="280796"/>
                  </a:lnTo>
                  <a:lnTo>
                    <a:pt x="940817" y="288544"/>
                  </a:lnTo>
                  <a:lnTo>
                    <a:pt x="941833" y="296671"/>
                  </a:lnTo>
                  <a:lnTo>
                    <a:pt x="941833" y="304800"/>
                  </a:lnTo>
                  <a:lnTo>
                    <a:pt x="941833" y="313435"/>
                  </a:lnTo>
                  <a:lnTo>
                    <a:pt x="940309" y="322579"/>
                  </a:lnTo>
                  <a:lnTo>
                    <a:pt x="938911" y="332232"/>
                  </a:lnTo>
                  <a:lnTo>
                    <a:pt x="936498" y="341757"/>
                  </a:lnTo>
                  <a:lnTo>
                    <a:pt x="928371" y="349503"/>
                  </a:lnTo>
                  <a:lnTo>
                    <a:pt x="920242" y="356234"/>
                  </a:lnTo>
                  <a:lnTo>
                    <a:pt x="911987" y="362965"/>
                  </a:lnTo>
                  <a:lnTo>
                    <a:pt x="903352" y="368681"/>
                  </a:lnTo>
                  <a:lnTo>
                    <a:pt x="894716" y="374014"/>
                  </a:lnTo>
                  <a:lnTo>
                    <a:pt x="885572" y="379221"/>
                  </a:lnTo>
                  <a:lnTo>
                    <a:pt x="876554" y="383539"/>
                  </a:lnTo>
                  <a:lnTo>
                    <a:pt x="867410" y="387350"/>
                  </a:lnTo>
                  <a:lnTo>
                    <a:pt x="858266" y="391287"/>
                  </a:lnTo>
                  <a:lnTo>
                    <a:pt x="848615" y="394589"/>
                  </a:lnTo>
                  <a:lnTo>
                    <a:pt x="828930" y="399922"/>
                  </a:lnTo>
                  <a:lnTo>
                    <a:pt x="808863" y="403733"/>
                  </a:lnTo>
                  <a:lnTo>
                    <a:pt x="788671" y="406653"/>
                  </a:lnTo>
                  <a:lnTo>
                    <a:pt x="767588" y="408051"/>
                  </a:lnTo>
                  <a:lnTo>
                    <a:pt x="746380" y="408558"/>
                  </a:lnTo>
                  <a:lnTo>
                    <a:pt x="725297" y="408558"/>
                  </a:lnTo>
                  <a:lnTo>
                    <a:pt x="703708" y="408051"/>
                  </a:lnTo>
                  <a:lnTo>
                    <a:pt x="660019" y="405129"/>
                  </a:lnTo>
                  <a:lnTo>
                    <a:pt x="616331" y="401827"/>
                  </a:lnTo>
                  <a:lnTo>
                    <a:pt x="609600" y="400812"/>
                  </a:lnTo>
                  <a:lnTo>
                    <a:pt x="601981" y="400303"/>
                  </a:lnTo>
                  <a:lnTo>
                    <a:pt x="585597" y="398018"/>
                  </a:lnTo>
                  <a:lnTo>
                    <a:pt x="568325" y="395604"/>
                  </a:lnTo>
                  <a:lnTo>
                    <a:pt x="549656" y="393191"/>
                  </a:lnTo>
                  <a:lnTo>
                    <a:pt x="530480" y="390778"/>
                  </a:lnTo>
                  <a:lnTo>
                    <a:pt x="510287" y="388365"/>
                  </a:lnTo>
                  <a:lnTo>
                    <a:pt x="489585" y="386460"/>
                  </a:lnTo>
                  <a:lnTo>
                    <a:pt x="468503" y="385445"/>
                  </a:lnTo>
                  <a:lnTo>
                    <a:pt x="447930" y="385445"/>
                  </a:lnTo>
                  <a:lnTo>
                    <a:pt x="427228" y="386969"/>
                  </a:lnTo>
                  <a:lnTo>
                    <a:pt x="406655" y="389254"/>
                  </a:lnTo>
                  <a:lnTo>
                    <a:pt x="396494" y="391287"/>
                  </a:lnTo>
                  <a:lnTo>
                    <a:pt x="386969" y="393572"/>
                  </a:lnTo>
                  <a:lnTo>
                    <a:pt x="377318" y="395985"/>
                  </a:lnTo>
                  <a:lnTo>
                    <a:pt x="368174" y="399414"/>
                  </a:lnTo>
                  <a:lnTo>
                    <a:pt x="359030" y="403225"/>
                  </a:lnTo>
                  <a:lnTo>
                    <a:pt x="350393" y="407543"/>
                  </a:lnTo>
                  <a:lnTo>
                    <a:pt x="341758" y="412369"/>
                  </a:lnTo>
                  <a:lnTo>
                    <a:pt x="333630" y="418083"/>
                  </a:lnTo>
                  <a:lnTo>
                    <a:pt x="326009" y="423926"/>
                  </a:lnTo>
                  <a:lnTo>
                    <a:pt x="318771" y="431038"/>
                  </a:lnTo>
                  <a:lnTo>
                    <a:pt x="347981" y="430148"/>
                  </a:lnTo>
                  <a:lnTo>
                    <a:pt x="376302" y="429640"/>
                  </a:lnTo>
                  <a:lnTo>
                    <a:pt x="403225" y="429640"/>
                  </a:lnTo>
                  <a:lnTo>
                    <a:pt x="429134" y="430148"/>
                  </a:lnTo>
                  <a:lnTo>
                    <a:pt x="453644" y="431546"/>
                  </a:lnTo>
                  <a:lnTo>
                    <a:pt x="476631" y="432943"/>
                  </a:lnTo>
                  <a:lnTo>
                    <a:pt x="498730" y="434975"/>
                  </a:lnTo>
                  <a:lnTo>
                    <a:pt x="519812" y="437260"/>
                  </a:lnTo>
                  <a:lnTo>
                    <a:pt x="539497" y="440182"/>
                  </a:lnTo>
                  <a:lnTo>
                    <a:pt x="558293" y="443610"/>
                  </a:lnTo>
                  <a:lnTo>
                    <a:pt x="575565" y="447421"/>
                  </a:lnTo>
                  <a:lnTo>
                    <a:pt x="591821" y="451739"/>
                  </a:lnTo>
                  <a:lnTo>
                    <a:pt x="607187" y="456564"/>
                  </a:lnTo>
                  <a:lnTo>
                    <a:pt x="621158" y="461771"/>
                  </a:lnTo>
                  <a:lnTo>
                    <a:pt x="634619" y="467614"/>
                  </a:lnTo>
                  <a:lnTo>
                    <a:pt x="646558" y="473837"/>
                  </a:lnTo>
                  <a:lnTo>
                    <a:pt x="657099" y="480568"/>
                  </a:lnTo>
                  <a:lnTo>
                    <a:pt x="667259" y="487679"/>
                  </a:lnTo>
                  <a:lnTo>
                    <a:pt x="676403" y="495427"/>
                  </a:lnTo>
                  <a:lnTo>
                    <a:pt x="684022" y="503554"/>
                  </a:lnTo>
                  <a:lnTo>
                    <a:pt x="691262" y="511683"/>
                  </a:lnTo>
                  <a:lnTo>
                    <a:pt x="696977" y="520827"/>
                  </a:lnTo>
                  <a:lnTo>
                    <a:pt x="702310" y="530478"/>
                  </a:lnTo>
                  <a:lnTo>
                    <a:pt x="706121" y="540003"/>
                  </a:lnTo>
                  <a:lnTo>
                    <a:pt x="709422" y="550545"/>
                  </a:lnTo>
                  <a:lnTo>
                    <a:pt x="711835" y="561213"/>
                  </a:lnTo>
                  <a:lnTo>
                    <a:pt x="713359" y="572134"/>
                  </a:lnTo>
                  <a:lnTo>
                    <a:pt x="713740" y="584200"/>
                  </a:lnTo>
                  <a:lnTo>
                    <a:pt x="713359" y="596138"/>
                  </a:lnTo>
                  <a:lnTo>
                    <a:pt x="711835" y="608710"/>
                  </a:lnTo>
                  <a:lnTo>
                    <a:pt x="709931" y="621664"/>
                  </a:lnTo>
                  <a:lnTo>
                    <a:pt x="707009" y="635127"/>
                  </a:lnTo>
                  <a:lnTo>
                    <a:pt x="704215" y="646176"/>
                  </a:lnTo>
                  <a:lnTo>
                    <a:pt x="700787" y="656208"/>
                  </a:lnTo>
                  <a:lnTo>
                    <a:pt x="696468" y="666241"/>
                  </a:lnTo>
                  <a:lnTo>
                    <a:pt x="692150" y="676402"/>
                  </a:lnTo>
                  <a:lnTo>
                    <a:pt x="687452" y="685419"/>
                  </a:lnTo>
                  <a:lnTo>
                    <a:pt x="682118" y="694563"/>
                  </a:lnTo>
                  <a:lnTo>
                    <a:pt x="676403" y="703198"/>
                  </a:lnTo>
                  <a:lnTo>
                    <a:pt x="669672" y="711453"/>
                  </a:lnTo>
                  <a:lnTo>
                    <a:pt x="662940" y="719582"/>
                  </a:lnTo>
                  <a:lnTo>
                    <a:pt x="656209" y="727202"/>
                  </a:lnTo>
                  <a:lnTo>
                    <a:pt x="648462" y="734440"/>
                  </a:lnTo>
                  <a:lnTo>
                    <a:pt x="640334" y="741679"/>
                  </a:lnTo>
                  <a:lnTo>
                    <a:pt x="632206" y="747902"/>
                  </a:lnTo>
                  <a:lnTo>
                    <a:pt x="623571" y="754633"/>
                  </a:lnTo>
                  <a:lnTo>
                    <a:pt x="614427" y="760348"/>
                  </a:lnTo>
                  <a:lnTo>
                    <a:pt x="604775" y="766064"/>
                  </a:lnTo>
                  <a:lnTo>
                    <a:pt x="595250" y="771906"/>
                  </a:lnTo>
                  <a:lnTo>
                    <a:pt x="585090" y="777113"/>
                  </a:lnTo>
                  <a:lnTo>
                    <a:pt x="574549" y="781939"/>
                  </a:lnTo>
                  <a:lnTo>
                    <a:pt x="564008" y="786257"/>
                  </a:lnTo>
                  <a:lnTo>
                    <a:pt x="552959" y="791083"/>
                  </a:lnTo>
                  <a:lnTo>
                    <a:pt x="541909" y="794893"/>
                  </a:lnTo>
                  <a:lnTo>
                    <a:pt x="518922" y="802132"/>
                  </a:lnTo>
                  <a:lnTo>
                    <a:pt x="494919" y="808354"/>
                  </a:lnTo>
                  <a:lnTo>
                    <a:pt x="469900" y="813689"/>
                  </a:lnTo>
                  <a:lnTo>
                    <a:pt x="444500" y="818007"/>
                  </a:lnTo>
                  <a:lnTo>
                    <a:pt x="418084" y="821308"/>
                  </a:lnTo>
                  <a:lnTo>
                    <a:pt x="391287" y="823721"/>
                  </a:lnTo>
                  <a:lnTo>
                    <a:pt x="364363" y="825119"/>
                  </a:lnTo>
                  <a:lnTo>
                    <a:pt x="336931" y="826134"/>
                  </a:lnTo>
                  <a:lnTo>
                    <a:pt x="309118" y="826134"/>
                  </a:lnTo>
                  <a:lnTo>
                    <a:pt x="281813" y="825119"/>
                  </a:lnTo>
                  <a:lnTo>
                    <a:pt x="254000" y="823721"/>
                  </a:lnTo>
                  <a:lnTo>
                    <a:pt x="226568" y="821308"/>
                  </a:lnTo>
                  <a:lnTo>
                    <a:pt x="199263" y="818388"/>
                  </a:lnTo>
                  <a:lnTo>
                    <a:pt x="171831" y="814577"/>
                  </a:lnTo>
                  <a:lnTo>
                    <a:pt x="145415" y="810768"/>
                  </a:lnTo>
                  <a:lnTo>
                    <a:pt x="119508" y="805941"/>
                  </a:lnTo>
                  <a:lnTo>
                    <a:pt x="94108" y="800734"/>
                  </a:lnTo>
                  <a:lnTo>
                    <a:pt x="69088" y="794893"/>
                  </a:lnTo>
                  <a:lnTo>
                    <a:pt x="45212" y="788670"/>
                  </a:lnTo>
                  <a:lnTo>
                    <a:pt x="22099" y="782446"/>
                  </a:lnTo>
                  <a:lnTo>
                    <a:pt x="509" y="775208"/>
                  </a:lnTo>
                  <a:lnTo>
                    <a:pt x="0" y="775208"/>
                  </a:lnTo>
                  <a:close/>
                </a:path>
              </a:pathLst>
            </a:custGeom>
            <a:solidFill>
              <a:srgbClr val="bfcc63"/>
            </a:solidFill>
            <a:ln w="0">
              <a:solidFill>
                <a:srgbClr val="bfcc6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ihandform 12"/>
            <p:cNvSpPr/>
            <p:nvPr/>
          </p:nvSpPr>
          <p:spPr>
            <a:xfrm>
              <a:off x="2673360" y="2361960"/>
              <a:ext cx="277560" cy="112680"/>
            </a:xfrm>
            <a:custGeom>
              <a:avLst/>
              <a:gdLst>
                <a:gd name="textAreaLeft" fmla="*/ 0 w 277560"/>
                <a:gd name="textAreaRight" fmla="*/ 277920 w 2775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226951" h="138304">
                  <a:moveTo>
                    <a:pt x="30734" y="61975"/>
                  </a:moveTo>
                  <a:lnTo>
                    <a:pt x="42672" y="58165"/>
                  </a:lnTo>
                  <a:lnTo>
                    <a:pt x="54610" y="54228"/>
                  </a:lnTo>
                  <a:lnTo>
                    <a:pt x="67691" y="50419"/>
                  </a:lnTo>
                  <a:lnTo>
                    <a:pt x="93981" y="42290"/>
                  </a:lnTo>
                  <a:lnTo>
                    <a:pt x="120397" y="33655"/>
                  </a:lnTo>
                  <a:lnTo>
                    <a:pt x="146304" y="25019"/>
                  </a:lnTo>
                  <a:lnTo>
                    <a:pt x="158369" y="20700"/>
                  </a:lnTo>
                  <a:lnTo>
                    <a:pt x="170307" y="16382"/>
                  </a:lnTo>
                  <a:lnTo>
                    <a:pt x="181356" y="12065"/>
                  </a:lnTo>
                  <a:lnTo>
                    <a:pt x="191897" y="7747"/>
                  </a:lnTo>
                  <a:lnTo>
                    <a:pt x="201550" y="3937"/>
                  </a:lnTo>
                  <a:lnTo>
                    <a:pt x="209678" y="0"/>
                  </a:lnTo>
                  <a:lnTo>
                    <a:pt x="209678" y="6731"/>
                  </a:lnTo>
                  <a:lnTo>
                    <a:pt x="208788" y="10159"/>
                  </a:lnTo>
                  <a:lnTo>
                    <a:pt x="207265" y="13462"/>
                  </a:lnTo>
                  <a:lnTo>
                    <a:pt x="205868" y="16382"/>
                  </a:lnTo>
                  <a:lnTo>
                    <a:pt x="203454" y="19303"/>
                  </a:lnTo>
                  <a:lnTo>
                    <a:pt x="201041" y="22097"/>
                  </a:lnTo>
                  <a:lnTo>
                    <a:pt x="197740" y="25019"/>
                  </a:lnTo>
                  <a:lnTo>
                    <a:pt x="193422" y="27940"/>
                  </a:lnTo>
                  <a:lnTo>
                    <a:pt x="189103" y="30225"/>
                  </a:lnTo>
                  <a:lnTo>
                    <a:pt x="183262" y="32638"/>
                  </a:lnTo>
                  <a:lnTo>
                    <a:pt x="177038" y="34671"/>
                  </a:lnTo>
                  <a:lnTo>
                    <a:pt x="170307" y="36575"/>
                  </a:lnTo>
                  <a:lnTo>
                    <a:pt x="162179" y="38481"/>
                  </a:lnTo>
                  <a:lnTo>
                    <a:pt x="153544" y="39878"/>
                  </a:lnTo>
                  <a:lnTo>
                    <a:pt x="143510" y="41275"/>
                  </a:lnTo>
                  <a:lnTo>
                    <a:pt x="138176" y="38988"/>
                  </a:lnTo>
                  <a:lnTo>
                    <a:pt x="133350" y="37465"/>
                  </a:lnTo>
                  <a:lnTo>
                    <a:pt x="129541" y="36575"/>
                  </a:lnTo>
                  <a:lnTo>
                    <a:pt x="125731" y="36575"/>
                  </a:lnTo>
                  <a:lnTo>
                    <a:pt x="122301" y="36956"/>
                  </a:lnTo>
                  <a:lnTo>
                    <a:pt x="119507" y="37465"/>
                  </a:lnTo>
                  <a:lnTo>
                    <a:pt x="117094" y="38988"/>
                  </a:lnTo>
                  <a:lnTo>
                    <a:pt x="115190" y="40385"/>
                  </a:lnTo>
                  <a:lnTo>
                    <a:pt x="111760" y="43687"/>
                  </a:lnTo>
                  <a:lnTo>
                    <a:pt x="109856" y="48006"/>
                  </a:lnTo>
                  <a:lnTo>
                    <a:pt x="108966" y="51943"/>
                  </a:lnTo>
                  <a:lnTo>
                    <a:pt x="108459" y="54737"/>
                  </a:lnTo>
                  <a:lnTo>
                    <a:pt x="102616" y="57657"/>
                  </a:lnTo>
                  <a:lnTo>
                    <a:pt x="96901" y="60578"/>
                  </a:lnTo>
                  <a:lnTo>
                    <a:pt x="92075" y="63372"/>
                  </a:lnTo>
                  <a:lnTo>
                    <a:pt x="87757" y="65785"/>
                  </a:lnTo>
                  <a:lnTo>
                    <a:pt x="83947" y="68706"/>
                  </a:lnTo>
                  <a:lnTo>
                    <a:pt x="80646" y="71119"/>
                  </a:lnTo>
                  <a:lnTo>
                    <a:pt x="75312" y="76327"/>
                  </a:lnTo>
                  <a:lnTo>
                    <a:pt x="71501" y="81153"/>
                  </a:lnTo>
                  <a:lnTo>
                    <a:pt x="69088" y="85471"/>
                  </a:lnTo>
                  <a:lnTo>
                    <a:pt x="67691" y="89788"/>
                  </a:lnTo>
                  <a:lnTo>
                    <a:pt x="67691" y="94106"/>
                  </a:lnTo>
                  <a:lnTo>
                    <a:pt x="67691" y="96519"/>
                  </a:lnTo>
                  <a:lnTo>
                    <a:pt x="68072" y="98425"/>
                  </a:lnTo>
                  <a:lnTo>
                    <a:pt x="69088" y="99949"/>
                  </a:lnTo>
                  <a:lnTo>
                    <a:pt x="69597" y="100837"/>
                  </a:lnTo>
                  <a:lnTo>
                    <a:pt x="70485" y="101346"/>
                  </a:lnTo>
                  <a:lnTo>
                    <a:pt x="72009" y="101853"/>
                  </a:lnTo>
                  <a:lnTo>
                    <a:pt x="74803" y="101853"/>
                  </a:lnTo>
                  <a:lnTo>
                    <a:pt x="78613" y="100330"/>
                  </a:lnTo>
                  <a:lnTo>
                    <a:pt x="82931" y="98932"/>
                  </a:lnTo>
                  <a:lnTo>
                    <a:pt x="88774" y="97535"/>
                  </a:lnTo>
                  <a:lnTo>
                    <a:pt x="94997" y="96012"/>
                  </a:lnTo>
                  <a:lnTo>
                    <a:pt x="102235" y="94615"/>
                  </a:lnTo>
                  <a:lnTo>
                    <a:pt x="109856" y="93218"/>
                  </a:lnTo>
                  <a:lnTo>
                    <a:pt x="125731" y="89281"/>
                  </a:lnTo>
                  <a:lnTo>
                    <a:pt x="143003" y="84962"/>
                  </a:lnTo>
                  <a:lnTo>
                    <a:pt x="160275" y="80644"/>
                  </a:lnTo>
                  <a:lnTo>
                    <a:pt x="178054" y="76327"/>
                  </a:lnTo>
                  <a:lnTo>
                    <a:pt x="194819" y="72009"/>
                  </a:lnTo>
                  <a:lnTo>
                    <a:pt x="211582" y="68199"/>
                  </a:lnTo>
                  <a:lnTo>
                    <a:pt x="219329" y="66802"/>
                  </a:lnTo>
                  <a:lnTo>
                    <a:pt x="226950" y="65278"/>
                  </a:lnTo>
                  <a:lnTo>
                    <a:pt x="224156" y="67690"/>
                  </a:lnTo>
                  <a:lnTo>
                    <a:pt x="221743" y="70103"/>
                  </a:lnTo>
                  <a:lnTo>
                    <a:pt x="218313" y="74930"/>
                  </a:lnTo>
                  <a:lnTo>
                    <a:pt x="216409" y="77850"/>
                  </a:lnTo>
                  <a:lnTo>
                    <a:pt x="213996" y="80263"/>
                  </a:lnTo>
                  <a:lnTo>
                    <a:pt x="210694" y="83057"/>
                  </a:lnTo>
                  <a:lnTo>
                    <a:pt x="206375" y="85978"/>
                  </a:lnTo>
                  <a:lnTo>
                    <a:pt x="192406" y="92709"/>
                  </a:lnTo>
                  <a:lnTo>
                    <a:pt x="177547" y="99949"/>
                  </a:lnTo>
                  <a:lnTo>
                    <a:pt x="162179" y="106553"/>
                  </a:lnTo>
                  <a:lnTo>
                    <a:pt x="145924" y="113284"/>
                  </a:lnTo>
                  <a:lnTo>
                    <a:pt x="129541" y="119506"/>
                  </a:lnTo>
                  <a:lnTo>
                    <a:pt x="112776" y="125349"/>
                  </a:lnTo>
                  <a:lnTo>
                    <a:pt x="96394" y="130175"/>
                  </a:lnTo>
                  <a:lnTo>
                    <a:pt x="80646" y="133984"/>
                  </a:lnTo>
                  <a:lnTo>
                    <a:pt x="72391" y="135381"/>
                  </a:lnTo>
                  <a:lnTo>
                    <a:pt x="65278" y="136906"/>
                  </a:lnTo>
                  <a:lnTo>
                    <a:pt x="58040" y="137287"/>
                  </a:lnTo>
                  <a:lnTo>
                    <a:pt x="50800" y="137794"/>
                  </a:lnTo>
                  <a:lnTo>
                    <a:pt x="44069" y="138303"/>
                  </a:lnTo>
                  <a:lnTo>
                    <a:pt x="37847" y="137794"/>
                  </a:lnTo>
                  <a:lnTo>
                    <a:pt x="31624" y="136906"/>
                  </a:lnTo>
                  <a:lnTo>
                    <a:pt x="26290" y="135890"/>
                  </a:lnTo>
                  <a:lnTo>
                    <a:pt x="21082" y="134493"/>
                  </a:lnTo>
                  <a:lnTo>
                    <a:pt x="16256" y="132080"/>
                  </a:lnTo>
                  <a:lnTo>
                    <a:pt x="12447" y="129666"/>
                  </a:lnTo>
                  <a:lnTo>
                    <a:pt x="8637" y="126237"/>
                  </a:lnTo>
                  <a:lnTo>
                    <a:pt x="5716" y="122428"/>
                  </a:lnTo>
                  <a:lnTo>
                    <a:pt x="3303" y="118109"/>
                  </a:lnTo>
                  <a:lnTo>
                    <a:pt x="1397" y="113284"/>
                  </a:lnTo>
                  <a:lnTo>
                    <a:pt x="0" y="107569"/>
                  </a:lnTo>
                  <a:lnTo>
                    <a:pt x="0" y="101853"/>
                  </a:lnTo>
                  <a:lnTo>
                    <a:pt x="890" y="96012"/>
                  </a:lnTo>
                  <a:lnTo>
                    <a:pt x="2413" y="90297"/>
                  </a:lnTo>
                  <a:lnTo>
                    <a:pt x="5207" y="84962"/>
                  </a:lnTo>
                  <a:lnTo>
                    <a:pt x="8128" y="79247"/>
                  </a:lnTo>
                  <a:lnTo>
                    <a:pt x="11431" y="73913"/>
                  </a:lnTo>
                  <a:lnTo>
                    <a:pt x="15368" y="69215"/>
                  </a:lnTo>
                  <a:lnTo>
                    <a:pt x="19178" y="65278"/>
                  </a:lnTo>
                  <a:lnTo>
                    <a:pt x="30734" y="61975"/>
                  </a:lnTo>
                  <a:close/>
                </a:path>
              </a:pathLst>
            </a:custGeom>
            <a:solidFill>
              <a:srgbClr val="ebe8e5"/>
            </a:solidFill>
            <a:ln w="0">
              <a:solidFill>
                <a:srgbClr val="ebe8e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ihandform 13"/>
            <p:cNvSpPr/>
            <p:nvPr/>
          </p:nvSpPr>
          <p:spPr>
            <a:xfrm>
              <a:off x="2727360" y="2432160"/>
              <a:ext cx="20520" cy="1080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6766" h="13844">
                  <a:moveTo>
                    <a:pt x="0" y="7619"/>
                  </a:moveTo>
                  <a:lnTo>
                    <a:pt x="890" y="5715"/>
                  </a:lnTo>
                  <a:lnTo>
                    <a:pt x="2921" y="3810"/>
                  </a:lnTo>
                  <a:lnTo>
                    <a:pt x="4827" y="2413"/>
                  </a:lnTo>
                  <a:lnTo>
                    <a:pt x="7240" y="888"/>
                  </a:lnTo>
                  <a:lnTo>
                    <a:pt x="9525" y="0"/>
                  </a:lnTo>
                  <a:lnTo>
                    <a:pt x="11939" y="0"/>
                  </a:lnTo>
                  <a:lnTo>
                    <a:pt x="13971" y="381"/>
                  </a:lnTo>
                  <a:lnTo>
                    <a:pt x="15368" y="1397"/>
                  </a:lnTo>
                  <a:lnTo>
                    <a:pt x="15875" y="2794"/>
                  </a:lnTo>
                  <a:lnTo>
                    <a:pt x="16765" y="5715"/>
                  </a:lnTo>
                  <a:lnTo>
                    <a:pt x="16256" y="9144"/>
                  </a:lnTo>
                  <a:lnTo>
                    <a:pt x="15368" y="10541"/>
                  </a:lnTo>
                  <a:lnTo>
                    <a:pt x="14352" y="11938"/>
                  </a:lnTo>
                  <a:lnTo>
                    <a:pt x="12955" y="12953"/>
                  </a:lnTo>
                  <a:lnTo>
                    <a:pt x="11049" y="13462"/>
                  </a:lnTo>
                  <a:lnTo>
                    <a:pt x="6224" y="13843"/>
                  </a:lnTo>
                  <a:lnTo>
                    <a:pt x="4318" y="13462"/>
                  </a:lnTo>
                  <a:lnTo>
                    <a:pt x="2414" y="12445"/>
                  </a:lnTo>
                  <a:lnTo>
                    <a:pt x="890" y="11429"/>
                  </a:lnTo>
                  <a:lnTo>
                    <a:pt x="0" y="9525"/>
                  </a:lnTo>
                  <a:lnTo>
                    <a:pt x="0" y="7619"/>
                  </a:lnTo>
                  <a:close/>
                </a:path>
              </a:pathLst>
            </a:custGeom>
            <a:solidFill>
              <a:srgbClr val="3a2100"/>
            </a:solidFill>
            <a:ln w="0">
              <a:solidFill>
                <a:srgbClr val="3a21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ihandform 14"/>
            <p:cNvSpPr/>
            <p:nvPr/>
          </p:nvSpPr>
          <p:spPr>
            <a:xfrm>
              <a:off x="2727360" y="2432160"/>
              <a:ext cx="20520" cy="1080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10800"/>
                <a:gd name="textAreaBottom" fmla="*/ 10800 h 10800"/>
              </a:gdLst>
              <a:ahLst/>
              <a:rect l="textAreaLeft" t="textAreaTop" r="textAreaRight" b="textAreaBottom"/>
              <a:pathLst>
                <a:path w="16511" h="13971">
                  <a:moveTo>
                    <a:pt x="0" y="8890"/>
                  </a:moveTo>
                  <a:lnTo>
                    <a:pt x="1270" y="11430"/>
                  </a:lnTo>
                  <a:lnTo>
                    <a:pt x="2540" y="11430"/>
                  </a:lnTo>
                  <a:lnTo>
                    <a:pt x="3810" y="12700"/>
                  </a:lnTo>
                  <a:lnTo>
                    <a:pt x="6350" y="13970"/>
                  </a:lnTo>
                  <a:lnTo>
                    <a:pt x="11430" y="12700"/>
                  </a:lnTo>
                  <a:lnTo>
                    <a:pt x="12700" y="12700"/>
                  </a:lnTo>
                  <a:lnTo>
                    <a:pt x="13970" y="11430"/>
                  </a:lnTo>
                  <a:lnTo>
                    <a:pt x="15240" y="10160"/>
                  </a:lnTo>
                  <a:lnTo>
                    <a:pt x="16510" y="8890"/>
                  </a:lnTo>
                  <a:lnTo>
                    <a:pt x="16510" y="5080"/>
                  </a:lnTo>
                  <a:lnTo>
                    <a:pt x="15240" y="2540"/>
                  </a:lnTo>
                  <a:lnTo>
                    <a:pt x="15240" y="1270"/>
                  </a:lnTo>
                  <a:lnTo>
                    <a:pt x="13970" y="0"/>
                  </a:lnTo>
                  <a:lnTo>
                    <a:pt x="11430" y="0"/>
                  </a:lnTo>
                  <a:lnTo>
                    <a:pt x="8890" y="0"/>
                  </a:lnTo>
                  <a:lnTo>
                    <a:pt x="7620" y="0"/>
                  </a:lnTo>
                  <a:lnTo>
                    <a:pt x="5080" y="2540"/>
                  </a:lnTo>
                  <a:lnTo>
                    <a:pt x="2540" y="3810"/>
                  </a:lnTo>
                  <a:lnTo>
                    <a:pt x="1270" y="5080"/>
                  </a:lnTo>
                  <a:lnTo>
                    <a:pt x="0" y="7620"/>
                  </a:lnTo>
                  <a:lnTo>
                    <a:pt x="0" y="8890"/>
                  </a:lnTo>
                  <a:close/>
                </a:path>
              </a:pathLst>
            </a:custGeom>
            <a:noFill/>
            <a:ln w="12600">
              <a:solidFill>
                <a:srgbClr val="3a21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ihandform 15"/>
            <p:cNvSpPr/>
            <p:nvPr/>
          </p:nvSpPr>
          <p:spPr>
            <a:xfrm>
              <a:off x="2824200" y="2401920"/>
              <a:ext cx="9360" cy="61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7114" h="9144">
                  <a:moveTo>
                    <a:pt x="509" y="2921"/>
                  </a:moveTo>
                  <a:lnTo>
                    <a:pt x="1397" y="1397"/>
                  </a:lnTo>
                  <a:lnTo>
                    <a:pt x="2413" y="508"/>
                  </a:lnTo>
                  <a:lnTo>
                    <a:pt x="3810" y="0"/>
                  </a:lnTo>
                  <a:lnTo>
                    <a:pt x="4826" y="508"/>
                  </a:lnTo>
                  <a:lnTo>
                    <a:pt x="6224" y="1397"/>
                  </a:lnTo>
                  <a:lnTo>
                    <a:pt x="6731" y="2921"/>
                  </a:lnTo>
                  <a:lnTo>
                    <a:pt x="7113" y="4825"/>
                  </a:lnTo>
                  <a:lnTo>
                    <a:pt x="6731" y="6222"/>
                  </a:lnTo>
                  <a:lnTo>
                    <a:pt x="6224" y="7619"/>
                  </a:lnTo>
                  <a:lnTo>
                    <a:pt x="4826" y="8635"/>
                  </a:lnTo>
                  <a:lnTo>
                    <a:pt x="3810" y="9143"/>
                  </a:lnTo>
                  <a:lnTo>
                    <a:pt x="2413" y="8635"/>
                  </a:lnTo>
                  <a:lnTo>
                    <a:pt x="1397" y="7619"/>
                  </a:lnTo>
                  <a:lnTo>
                    <a:pt x="509" y="6222"/>
                  </a:lnTo>
                  <a:lnTo>
                    <a:pt x="0" y="4825"/>
                  </a:lnTo>
                  <a:lnTo>
                    <a:pt x="509" y="2921"/>
                  </a:lnTo>
                  <a:close/>
                </a:path>
              </a:pathLst>
            </a:cu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ihandform 16"/>
            <p:cNvSpPr/>
            <p:nvPr/>
          </p:nvSpPr>
          <p:spPr>
            <a:xfrm>
              <a:off x="3038400" y="2428920"/>
              <a:ext cx="115560" cy="255600"/>
            </a:xfrm>
            <a:custGeom>
              <a:avLst/>
              <a:gdLst>
                <a:gd name="textAreaLeft" fmla="*/ 0 w 115560"/>
                <a:gd name="textAreaRight" fmla="*/ 115920 w 115560"/>
                <a:gd name="textAreaTop" fmla="*/ 0 h 255600"/>
                <a:gd name="textAreaBottom" fmla="*/ 255960 h 255600"/>
              </a:gdLst>
              <a:ahLst/>
              <a:rect l="textAreaLeft" t="textAreaTop" r="textAreaRight" b="textAreaBottom"/>
              <a:pathLst>
                <a:path w="93599" h="312421">
                  <a:moveTo>
                    <a:pt x="25907" y="509"/>
                  </a:moveTo>
                  <a:lnTo>
                    <a:pt x="29844" y="0"/>
                  </a:lnTo>
                  <a:lnTo>
                    <a:pt x="33147" y="0"/>
                  </a:lnTo>
                  <a:lnTo>
                    <a:pt x="36575" y="1016"/>
                  </a:lnTo>
                  <a:lnTo>
                    <a:pt x="39878" y="1906"/>
                  </a:lnTo>
                  <a:lnTo>
                    <a:pt x="43179" y="3810"/>
                  </a:lnTo>
                  <a:lnTo>
                    <a:pt x="46100" y="6223"/>
                  </a:lnTo>
                  <a:lnTo>
                    <a:pt x="52832" y="12066"/>
                  </a:lnTo>
                  <a:lnTo>
                    <a:pt x="58547" y="19178"/>
                  </a:lnTo>
                  <a:lnTo>
                    <a:pt x="64388" y="28322"/>
                  </a:lnTo>
                  <a:lnTo>
                    <a:pt x="69595" y="38354"/>
                  </a:lnTo>
                  <a:lnTo>
                    <a:pt x="74422" y="49404"/>
                  </a:lnTo>
                  <a:lnTo>
                    <a:pt x="79247" y="60960"/>
                  </a:lnTo>
                  <a:lnTo>
                    <a:pt x="83057" y="73407"/>
                  </a:lnTo>
                  <a:lnTo>
                    <a:pt x="86487" y="85979"/>
                  </a:lnTo>
                  <a:lnTo>
                    <a:pt x="89281" y="98425"/>
                  </a:lnTo>
                  <a:lnTo>
                    <a:pt x="91185" y="110872"/>
                  </a:lnTo>
                  <a:lnTo>
                    <a:pt x="92710" y="122937"/>
                  </a:lnTo>
                  <a:lnTo>
                    <a:pt x="93598" y="133985"/>
                  </a:lnTo>
                  <a:lnTo>
                    <a:pt x="93598" y="144526"/>
                  </a:lnTo>
                  <a:lnTo>
                    <a:pt x="93091" y="150750"/>
                  </a:lnTo>
                  <a:lnTo>
                    <a:pt x="92710" y="156972"/>
                  </a:lnTo>
                  <a:lnTo>
                    <a:pt x="90297" y="170435"/>
                  </a:lnTo>
                  <a:lnTo>
                    <a:pt x="87375" y="185294"/>
                  </a:lnTo>
                  <a:lnTo>
                    <a:pt x="83057" y="200153"/>
                  </a:lnTo>
                  <a:lnTo>
                    <a:pt x="78232" y="215519"/>
                  </a:lnTo>
                  <a:lnTo>
                    <a:pt x="73025" y="230379"/>
                  </a:lnTo>
                  <a:lnTo>
                    <a:pt x="66801" y="245238"/>
                  </a:lnTo>
                  <a:lnTo>
                    <a:pt x="60070" y="259207"/>
                  </a:lnTo>
                  <a:lnTo>
                    <a:pt x="52832" y="272161"/>
                  </a:lnTo>
                  <a:lnTo>
                    <a:pt x="45212" y="283718"/>
                  </a:lnTo>
                  <a:lnTo>
                    <a:pt x="37465" y="294260"/>
                  </a:lnTo>
                  <a:lnTo>
                    <a:pt x="33654" y="298578"/>
                  </a:lnTo>
                  <a:lnTo>
                    <a:pt x="29844" y="302387"/>
                  </a:lnTo>
                  <a:lnTo>
                    <a:pt x="25907" y="305817"/>
                  </a:lnTo>
                  <a:lnTo>
                    <a:pt x="22097" y="308103"/>
                  </a:lnTo>
                  <a:lnTo>
                    <a:pt x="18288" y="310516"/>
                  </a:lnTo>
                  <a:lnTo>
                    <a:pt x="14478" y="311531"/>
                  </a:lnTo>
                  <a:lnTo>
                    <a:pt x="10541" y="312420"/>
                  </a:lnTo>
                  <a:lnTo>
                    <a:pt x="7238" y="312420"/>
                  </a:lnTo>
                  <a:lnTo>
                    <a:pt x="3429" y="311531"/>
                  </a:lnTo>
                  <a:lnTo>
                    <a:pt x="0" y="310135"/>
                  </a:lnTo>
                  <a:lnTo>
                    <a:pt x="7747" y="305309"/>
                  </a:lnTo>
                  <a:lnTo>
                    <a:pt x="14859" y="299974"/>
                  </a:lnTo>
                  <a:lnTo>
                    <a:pt x="21590" y="293751"/>
                  </a:lnTo>
                  <a:lnTo>
                    <a:pt x="27813" y="287020"/>
                  </a:lnTo>
                  <a:lnTo>
                    <a:pt x="34163" y="279400"/>
                  </a:lnTo>
                  <a:lnTo>
                    <a:pt x="39878" y="271145"/>
                  </a:lnTo>
                  <a:lnTo>
                    <a:pt x="45212" y="262510"/>
                  </a:lnTo>
                  <a:lnTo>
                    <a:pt x="49910" y="252985"/>
                  </a:lnTo>
                  <a:lnTo>
                    <a:pt x="54229" y="243332"/>
                  </a:lnTo>
                  <a:lnTo>
                    <a:pt x="58166" y="232791"/>
                  </a:lnTo>
                  <a:lnTo>
                    <a:pt x="61467" y="222250"/>
                  </a:lnTo>
                  <a:lnTo>
                    <a:pt x="64897" y="211201"/>
                  </a:lnTo>
                  <a:lnTo>
                    <a:pt x="67182" y="200153"/>
                  </a:lnTo>
                  <a:lnTo>
                    <a:pt x="69595" y="188595"/>
                  </a:lnTo>
                  <a:lnTo>
                    <a:pt x="71500" y="177166"/>
                  </a:lnTo>
                  <a:lnTo>
                    <a:pt x="72516" y="165100"/>
                  </a:lnTo>
                  <a:lnTo>
                    <a:pt x="73913" y="141097"/>
                  </a:lnTo>
                  <a:lnTo>
                    <a:pt x="73913" y="129541"/>
                  </a:lnTo>
                  <a:lnTo>
                    <a:pt x="73025" y="117603"/>
                  </a:lnTo>
                  <a:lnTo>
                    <a:pt x="72009" y="106045"/>
                  </a:lnTo>
                  <a:lnTo>
                    <a:pt x="70612" y="94616"/>
                  </a:lnTo>
                  <a:lnTo>
                    <a:pt x="68707" y="83059"/>
                  </a:lnTo>
                  <a:lnTo>
                    <a:pt x="65785" y="72010"/>
                  </a:lnTo>
                  <a:lnTo>
                    <a:pt x="62865" y="61469"/>
                  </a:lnTo>
                  <a:lnTo>
                    <a:pt x="59054" y="51309"/>
                  </a:lnTo>
                  <a:lnTo>
                    <a:pt x="55244" y="41275"/>
                  </a:lnTo>
                  <a:lnTo>
                    <a:pt x="50419" y="32132"/>
                  </a:lnTo>
                  <a:lnTo>
                    <a:pt x="45212" y="23495"/>
                  </a:lnTo>
                  <a:lnTo>
                    <a:pt x="39369" y="14860"/>
                  </a:lnTo>
                  <a:lnTo>
                    <a:pt x="33147" y="7620"/>
                  </a:lnTo>
                  <a:lnTo>
                    <a:pt x="25907" y="509"/>
                  </a:lnTo>
                  <a:close/>
                </a:path>
              </a:pathLst>
            </a:custGeom>
            <a:solidFill>
              <a:srgbClr val="dddba8"/>
            </a:solidFill>
            <a:ln w="0">
              <a:solidFill>
                <a:srgbClr val="dddba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ihandform 17"/>
            <p:cNvSpPr/>
            <p:nvPr/>
          </p:nvSpPr>
          <p:spPr>
            <a:xfrm>
              <a:off x="2736720" y="2691000"/>
              <a:ext cx="258480" cy="48960"/>
            </a:xfrm>
            <a:custGeom>
              <a:avLst/>
              <a:gdLst>
                <a:gd name="textAreaLeft" fmla="*/ 0 w 258480"/>
                <a:gd name="textAreaRight" fmla="*/ 258840 w 25848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210821" h="59691">
                  <a:moveTo>
                    <a:pt x="210820" y="59690"/>
                  </a:moveTo>
                  <a:lnTo>
                    <a:pt x="200660" y="52070"/>
                  </a:lnTo>
                  <a:lnTo>
                    <a:pt x="190500" y="44450"/>
                  </a:lnTo>
                  <a:lnTo>
                    <a:pt x="179070" y="38100"/>
                  </a:lnTo>
                  <a:lnTo>
                    <a:pt x="173990" y="35560"/>
                  </a:lnTo>
                  <a:lnTo>
                    <a:pt x="167640" y="33020"/>
                  </a:lnTo>
                  <a:lnTo>
                    <a:pt x="162560" y="33020"/>
                  </a:lnTo>
                  <a:lnTo>
                    <a:pt x="154940" y="34290"/>
                  </a:lnTo>
                  <a:lnTo>
                    <a:pt x="147320" y="34290"/>
                  </a:lnTo>
                  <a:lnTo>
                    <a:pt x="139700" y="34290"/>
                  </a:lnTo>
                  <a:lnTo>
                    <a:pt x="132080" y="34290"/>
                  </a:lnTo>
                  <a:lnTo>
                    <a:pt x="123190" y="33020"/>
                  </a:lnTo>
                  <a:lnTo>
                    <a:pt x="105410" y="31750"/>
                  </a:lnTo>
                  <a:lnTo>
                    <a:pt x="96520" y="30480"/>
                  </a:lnTo>
                  <a:lnTo>
                    <a:pt x="86360" y="27940"/>
                  </a:lnTo>
                  <a:lnTo>
                    <a:pt x="77470" y="25400"/>
                  </a:lnTo>
                  <a:lnTo>
                    <a:pt x="69850" y="21590"/>
                  </a:lnTo>
                  <a:lnTo>
                    <a:pt x="62230" y="17780"/>
                  </a:lnTo>
                  <a:lnTo>
                    <a:pt x="54610" y="13970"/>
                  </a:lnTo>
                  <a:lnTo>
                    <a:pt x="48260" y="8890"/>
                  </a:lnTo>
                  <a:lnTo>
                    <a:pt x="41910" y="2540"/>
                  </a:lnTo>
                  <a:lnTo>
                    <a:pt x="36830" y="2540"/>
                  </a:lnTo>
                  <a:lnTo>
                    <a:pt x="31750" y="2540"/>
                  </a:lnTo>
                  <a:lnTo>
                    <a:pt x="21590" y="3810"/>
                  </a:lnTo>
                  <a:lnTo>
                    <a:pt x="17780" y="5080"/>
                  </a:lnTo>
                  <a:lnTo>
                    <a:pt x="12700" y="3810"/>
                  </a:lnTo>
                  <a:lnTo>
                    <a:pt x="6350" y="2540"/>
                  </a:lnTo>
                  <a:lnTo>
                    <a:pt x="3810" y="1270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3a21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Freihandform 18"/>
            <p:cNvSpPr/>
            <p:nvPr/>
          </p:nvSpPr>
          <p:spPr>
            <a:xfrm>
              <a:off x="2741760" y="2766960"/>
              <a:ext cx="174600" cy="3636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143511" h="44451">
                  <a:moveTo>
                    <a:pt x="143510" y="44450"/>
                  </a:moveTo>
                  <a:lnTo>
                    <a:pt x="138430" y="41910"/>
                  </a:lnTo>
                  <a:lnTo>
                    <a:pt x="132080" y="38100"/>
                  </a:lnTo>
                  <a:lnTo>
                    <a:pt x="127000" y="35560"/>
                  </a:lnTo>
                  <a:lnTo>
                    <a:pt x="124460" y="35560"/>
                  </a:lnTo>
                  <a:lnTo>
                    <a:pt x="121920" y="35560"/>
                  </a:lnTo>
                  <a:lnTo>
                    <a:pt x="113030" y="38100"/>
                  </a:lnTo>
                  <a:lnTo>
                    <a:pt x="104140" y="39370"/>
                  </a:lnTo>
                  <a:lnTo>
                    <a:pt x="93980" y="39370"/>
                  </a:lnTo>
                  <a:lnTo>
                    <a:pt x="85090" y="39370"/>
                  </a:lnTo>
                  <a:lnTo>
                    <a:pt x="74930" y="38100"/>
                  </a:lnTo>
                  <a:lnTo>
                    <a:pt x="66040" y="36830"/>
                  </a:lnTo>
                  <a:lnTo>
                    <a:pt x="58420" y="35560"/>
                  </a:lnTo>
                  <a:lnTo>
                    <a:pt x="49530" y="33020"/>
                  </a:lnTo>
                  <a:lnTo>
                    <a:pt x="40640" y="30480"/>
                  </a:lnTo>
                  <a:lnTo>
                    <a:pt x="33020" y="26670"/>
                  </a:lnTo>
                  <a:lnTo>
                    <a:pt x="25400" y="22860"/>
                  </a:lnTo>
                  <a:lnTo>
                    <a:pt x="19050" y="19050"/>
                  </a:lnTo>
                  <a:lnTo>
                    <a:pt x="12700" y="13970"/>
                  </a:lnTo>
                  <a:lnTo>
                    <a:pt x="7620" y="8890"/>
                  </a:lnTo>
                  <a:lnTo>
                    <a:pt x="3810" y="5080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3a21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Freihandform 19"/>
            <p:cNvSpPr/>
            <p:nvPr/>
          </p:nvSpPr>
          <p:spPr>
            <a:xfrm>
              <a:off x="2741760" y="2789280"/>
              <a:ext cx="166680" cy="29880"/>
            </a:xfrm>
            <a:custGeom>
              <a:avLst/>
              <a:gdLst>
                <a:gd name="textAreaLeft" fmla="*/ 0 w 166680"/>
                <a:gd name="textAreaRight" fmla="*/ 167040 w 16668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137161" h="35560">
                  <a:moveTo>
                    <a:pt x="137160" y="35559"/>
                  </a:moveTo>
                  <a:lnTo>
                    <a:pt x="130810" y="33020"/>
                  </a:lnTo>
                  <a:lnTo>
                    <a:pt x="125730" y="29209"/>
                  </a:lnTo>
                  <a:lnTo>
                    <a:pt x="120650" y="26670"/>
                  </a:lnTo>
                  <a:lnTo>
                    <a:pt x="118110" y="26670"/>
                  </a:lnTo>
                  <a:lnTo>
                    <a:pt x="114300" y="26670"/>
                  </a:lnTo>
                  <a:lnTo>
                    <a:pt x="106680" y="29209"/>
                  </a:lnTo>
                  <a:lnTo>
                    <a:pt x="97790" y="30479"/>
                  </a:lnTo>
                  <a:lnTo>
                    <a:pt x="87630" y="31750"/>
                  </a:lnTo>
                  <a:lnTo>
                    <a:pt x="80010" y="31750"/>
                  </a:lnTo>
                  <a:lnTo>
                    <a:pt x="71120" y="31750"/>
                  </a:lnTo>
                  <a:lnTo>
                    <a:pt x="62230" y="31750"/>
                  </a:lnTo>
                  <a:lnTo>
                    <a:pt x="54610" y="30479"/>
                  </a:lnTo>
                  <a:lnTo>
                    <a:pt x="45720" y="29209"/>
                  </a:lnTo>
                  <a:lnTo>
                    <a:pt x="38100" y="26670"/>
                  </a:lnTo>
                  <a:lnTo>
                    <a:pt x="30480" y="24129"/>
                  </a:lnTo>
                  <a:lnTo>
                    <a:pt x="24130" y="21590"/>
                  </a:lnTo>
                  <a:lnTo>
                    <a:pt x="17780" y="17779"/>
                  </a:lnTo>
                  <a:lnTo>
                    <a:pt x="12700" y="13970"/>
                  </a:lnTo>
                  <a:lnTo>
                    <a:pt x="7620" y="10159"/>
                  </a:lnTo>
                  <a:lnTo>
                    <a:pt x="3810" y="5079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3a21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Freihandform 20"/>
            <p:cNvSpPr/>
            <p:nvPr/>
          </p:nvSpPr>
          <p:spPr>
            <a:xfrm>
              <a:off x="2746440" y="2811600"/>
              <a:ext cx="160200" cy="29880"/>
            </a:xfrm>
            <a:custGeom>
              <a:avLst/>
              <a:gdLst>
                <a:gd name="textAreaLeft" fmla="*/ 0 w 160200"/>
                <a:gd name="textAreaRight" fmla="*/ 160560 w 16020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130811" h="36831">
                  <a:moveTo>
                    <a:pt x="130810" y="36830"/>
                  </a:moveTo>
                  <a:lnTo>
                    <a:pt x="128270" y="34290"/>
                  </a:lnTo>
                  <a:lnTo>
                    <a:pt x="127000" y="31750"/>
                  </a:lnTo>
                  <a:lnTo>
                    <a:pt x="125729" y="30480"/>
                  </a:lnTo>
                  <a:lnTo>
                    <a:pt x="124460" y="27940"/>
                  </a:lnTo>
                  <a:lnTo>
                    <a:pt x="123189" y="26670"/>
                  </a:lnTo>
                  <a:lnTo>
                    <a:pt x="121920" y="25400"/>
                  </a:lnTo>
                  <a:lnTo>
                    <a:pt x="120650" y="24130"/>
                  </a:lnTo>
                  <a:lnTo>
                    <a:pt x="119379" y="24130"/>
                  </a:lnTo>
                  <a:lnTo>
                    <a:pt x="118110" y="24130"/>
                  </a:lnTo>
                  <a:lnTo>
                    <a:pt x="116839" y="25400"/>
                  </a:lnTo>
                  <a:lnTo>
                    <a:pt x="114300" y="26670"/>
                  </a:lnTo>
                  <a:lnTo>
                    <a:pt x="106679" y="27940"/>
                  </a:lnTo>
                  <a:lnTo>
                    <a:pt x="96520" y="30480"/>
                  </a:lnTo>
                  <a:lnTo>
                    <a:pt x="87629" y="31750"/>
                  </a:lnTo>
                  <a:lnTo>
                    <a:pt x="78739" y="31750"/>
                  </a:lnTo>
                  <a:lnTo>
                    <a:pt x="69850" y="31750"/>
                  </a:lnTo>
                  <a:lnTo>
                    <a:pt x="62229" y="31750"/>
                  </a:lnTo>
                  <a:lnTo>
                    <a:pt x="53339" y="30480"/>
                  </a:lnTo>
                  <a:lnTo>
                    <a:pt x="45720" y="27940"/>
                  </a:lnTo>
                  <a:lnTo>
                    <a:pt x="38100" y="26670"/>
                  </a:lnTo>
                  <a:lnTo>
                    <a:pt x="30479" y="24130"/>
                  </a:lnTo>
                  <a:lnTo>
                    <a:pt x="24129" y="20320"/>
                  </a:lnTo>
                  <a:lnTo>
                    <a:pt x="17779" y="17780"/>
                  </a:lnTo>
                  <a:lnTo>
                    <a:pt x="11429" y="13970"/>
                  </a:lnTo>
                  <a:lnTo>
                    <a:pt x="7620" y="10160"/>
                  </a:lnTo>
                  <a:lnTo>
                    <a:pt x="2539" y="5080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3a21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ihandform 21"/>
            <p:cNvSpPr/>
            <p:nvPr/>
          </p:nvSpPr>
          <p:spPr>
            <a:xfrm>
              <a:off x="2759040" y="2913120"/>
              <a:ext cx="176040" cy="23760"/>
            </a:xfrm>
            <a:custGeom>
              <a:avLst/>
              <a:gdLst>
                <a:gd name="textAreaLeft" fmla="*/ 0 w 176040"/>
                <a:gd name="textAreaRight" fmla="*/ 176400 w 17604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144781" h="30481">
                  <a:moveTo>
                    <a:pt x="144780" y="30480"/>
                  </a:moveTo>
                  <a:lnTo>
                    <a:pt x="140970" y="27940"/>
                  </a:lnTo>
                  <a:lnTo>
                    <a:pt x="137160" y="25400"/>
                  </a:lnTo>
                  <a:lnTo>
                    <a:pt x="129540" y="20320"/>
                  </a:lnTo>
                  <a:lnTo>
                    <a:pt x="124460" y="19050"/>
                  </a:lnTo>
                  <a:lnTo>
                    <a:pt x="121920" y="16510"/>
                  </a:lnTo>
                  <a:lnTo>
                    <a:pt x="118110" y="16510"/>
                  </a:lnTo>
                  <a:lnTo>
                    <a:pt x="115570" y="16510"/>
                  </a:lnTo>
                  <a:lnTo>
                    <a:pt x="97790" y="20320"/>
                  </a:lnTo>
                  <a:lnTo>
                    <a:pt x="88900" y="22860"/>
                  </a:lnTo>
                  <a:lnTo>
                    <a:pt x="80010" y="24130"/>
                  </a:lnTo>
                  <a:lnTo>
                    <a:pt x="71120" y="24130"/>
                  </a:lnTo>
                  <a:lnTo>
                    <a:pt x="62230" y="24130"/>
                  </a:lnTo>
                  <a:lnTo>
                    <a:pt x="53340" y="24130"/>
                  </a:lnTo>
                  <a:lnTo>
                    <a:pt x="45720" y="22860"/>
                  </a:lnTo>
                  <a:lnTo>
                    <a:pt x="38100" y="22860"/>
                  </a:lnTo>
                  <a:lnTo>
                    <a:pt x="31750" y="20320"/>
                  </a:lnTo>
                  <a:lnTo>
                    <a:pt x="24130" y="17780"/>
                  </a:lnTo>
                  <a:lnTo>
                    <a:pt x="17780" y="15241"/>
                  </a:lnTo>
                  <a:lnTo>
                    <a:pt x="12700" y="12700"/>
                  </a:lnTo>
                  <a:lnTo>
                    <a:pt x="7620" y="8891"/>
                  </a:lnTo>
                  <a:lnTo>
                    <a:pt x="3810" y="5080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3a21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ihandform 22"/>
            <p:cNvSpPr/>
            <p:nvPr/>
          </p:nvSpPr>
          <p:spPr>
            <a:xfrm>
              <a:off x="2766960" y="2934000"/>
              <a:ext cx="180720" cy="21960"/>
            </a:xfrm>
            <a:custGeom>
              <a:avLst/>
              <a:gdLst>
                <a:gd name="textAreaLeft" fmla="*/ 0 w 180720"/>
                <a:gd name="textAreaRight" fmla="*/ 181080 w 180720"/>
                <a:gd name="textAreaTop" fmla="*/ 0 h 21960"/>
                <a:gd name="textAreaBottom" fmla="*/ 21960 h 21960"/>
              </a:gdLst>
              <a:ahLst/>
              <a:rect l="textAreaLeft" t="textAreaTop" r="textAreaRight" b="textAreaBottom"/>
              <a:pathLst>
                <a:path w="148591" h="27942">
                  <a:moveTo>
                    <a:pt x="148590" y="27941"/>
                  </a:moveTo>
                  <a:lnTo>
                    <a:pt x="143510" y="25400"/>
                  </a:lnTo>
                  <a:lnTo>
                    <a:pt x="138430" y="22860"/>
                  </a:lnTo>
                  <a:lnTo>
                    <a:pt x="128270" y="19050"/>
                  </a:lnTo>
                  <a:lnTo>
                    <a:pt x="123190" y="16510"/>
                  </a:lnTo>
                  <a:lnTo>
                    <a:pt x="119380" y="15241"/>
                  </a:lnTo>
                  <a:lnTo>
                    <a:pt x="115570" y="13970"/>
                  </a:lnTo>
                  <a:lnTo>
                    <a:pt x="111760" y="13970"/>
                  </a:lnTo>
                  <a:lnTo>
                    <a:pt x="93980" y="19050"/>
                  </a:lnTo>
                  <a:lnTo>
                    <a:pt x="85090" y="20320"/>
                  </a:lnTo>
                  <a:lnTo>
                    <a:pt x="77470" y="21591"/>
                  </a:lnTo>
                  <a:lnTo>
                    <a:pt x="68580" y="22860"/>
                  </a:lnTo>
                  <a:lnTo>
                    <a:pt x="59690" y="22860"/>
                  </a:lnTo>
                  <a:lnTo>
                    <a:pt x="52070" y="22860"/>
                  </a:lnTo>
                  <a:lnTo>
                    <a:pt x="44450" y="22860"/>
                  </a:lnTo>
                  <a:lnTo>
                    <a:pt x="36830" y="21591"/>
                  </a:lnTo>
                  <a:lnTo>
                    <a:pt x="30480" y="20320"/>
                  </a:lnTo>
                  <a:lnTo>
                    <a:pt x="24130" y="17780"/>
                  </a:lnTo>
                  <a:lnTo>
                    <a:pt x="17780" y="15241"/>
                  </a:lnTo>
                  <a:lnTo>
                    <a:pt x="12700" y="12700"/>
                  </a:lnTo>
                  <a:lnTo>
                    <a:pt x="7620" y="8891"/>
                  </a:lnTo>
                  <a:lnTo>
                    <a:pt x="3810" y="5080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3a21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ihandform 23"/>
            <p:cNvSpPr/>
            <p:nvPr/>
          </p:nvSpPr>
          <p:spPr>
            <a:xfrm>
              <a:off x="2751120" y="2567160"/>
              <a:ext cx="363600" cy="80640"/>
            </a:xfrm>
            <a:custGeom>
              <a:avLst/>
              <a:gdLst>
                <a:gd name="textAreaLeft" fmla="*/ 0 w 363600"/>
                <a:gd name="textAreaRight" fmla="*/ 363960 w 36360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297181" h="99061">
                  <a:moveTo>
                    <a:pt x="297180" y="99060"/>
                  </a:moveTo>
                  <a:lnTo>
                    <a:pt x="289560" y="95250"/>
                  </a:lnTo>
                  <a:lnTo>
                    <a:pt x="283210" y="90170"/>
                  </a:lnTo>
                  <a:lnTo>
                    <a:pt x="267970" y="80010"/>
                  </a:lnTo>
                  <a:lnTo>
                    <a:pt x="260350" y="76200"/>
                  </a:lnTo>
                  <a:lnTo>
                    <a:pt x="252730" y="72390"/>
                  </a:lnTo>
                  <a:lnTo>
                    <a:pt x="247650" y="71120"/>
                  </a:lnTo>
                  <a:lnTo>
                    <a:pt x="243840" y="69850"/>
                  </a:lnTo>
                  <a:lnTo>
                    <a:pt x="237490" y="69850"/>
                  </a:lnTo>
                  <a:lnTo>
                    <a:pt x="232410" y="68580"/>
                  </a:lnTo>
                  <a:lnTo>
                    <a:pt x="226060" y="68580"/>
                  </a:lnTo>
                  <a:lnTo>
                    <a:pt x="217170" y="68580"/>
                  </a:lnTo>
                  <a:lnTo>
                    <a:pt x="207010" y="69850"/>
                  </a:lnTo>
                  <a:lnTo>
                    <a:pt x="195580" y="69850"/>
                  </a:lnTo>
                  <a:lnTo>
                    <a:pt x="184150" y="69850"/>
                  </a:lnTo>
                  <a:lnTo>
                    <a:pt x="172720" y="68580"/>
                  </a:lnTo>
                  <a:lnTo>
                    <a:pt x="160020" y="68580"/>
                  </a:lnTo>
                  <a:lnTo>
                    <a:pt x="147320" y="67310"/>
                  </a:lnTo>
                  <a:lnTo>
                    <a:pt x="134620" y="66040"/>
                  </a:lnTo>
                  <a:lnTo>
                    <a:pt x="121920" y="63500"/>
                  </a:lnTo>
                  <a:lnTo>
                    <a:pt x="110490" y="60960"/>
                  </a:lnTo>
                  <a:lnTo>
                    <a:pt x="99060" y="58420"/>
                  </a:lnTo>
                  <a:lnTo>
                    <a:pt x="88900" y="53340"/>
                  </a:lnTo>
                  <a:lnTo>
                    <a:pt x="83820" y="52070"/>
                  </a:lnTo>
                  <a:lnTo>
                    <a:pt x="80010" y="49530"/>
                  </a:lnTo>
                  <a:lnTo>
                    <a:pt x="76200" y="45720"/>
                  </a:lnTo>
                  <a:lnTo>
                    <a:pt x="72390" y="43180"/>
                  </a:lnTo>
                  <a:lnTo>
                    <a:pt x="69850" y="39370"/>
                  </a:lnTo>
                  <a:lnTo>
                    <a:pt x="66040" y="35560"/>
                  </a:lnTo>
                  <a:lnTo>
                    <a:pt x="62230" y="34290"/>
                  </a:lnTo>
                  <a:lnTo>
                    <a:pt x="58420" y="33020"/>
                  </a:lnTo>
                  <a:lnTo>
                    <a:pt x="48260" y="27940"/>
                  </a:lnTo>
                  <a:lnTo>
                    <a:pt x="39370" y="22860"/>
                  </a:lnTo>
                  <a:lnTo>
                    <a:pt x="27940" y="17780"/>
                  </a:lnTo>
                  <a:lnTo>
                    <a:pt x="19050" y="12700"/>
                  </a:lnTo>
                  <a:lnTo>
                    <a:pt x="13970" y="10160"/>
                  </a:lnTo>
                  <a:lnTo>
                    <a:pt x="10160" y="7620"/>
                  </a:lnTo>
                  <a:lnTo>
                    <a:pt x="6350" y="5080"/>
                  </a:lnTo>
                  <a:lnTo>
                    <a:pt x="3810" y="2540"/>
                  </a:lnTo>
                  <a:lnTo>
                    <a:pt x="1270" y="1270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3a21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ihandform 24"/>
            <p:cNvSpPr/>
            <p:nvPr/>
          </p:nvSpPr>
          <p:spPr>
            <a:xfrm>
              <a:off x="2736720" y="2749680"/>
              <a:ext cx="193680" cy="39600"/>
            </a:xfrm>
            <a:custGeom>
              <a:avLst/>
              <a:gdLst>
                <a:gd name="textAreaLeft" fmla="*/ 0 w 193680"/>
                <a:gd name="textAreaRight" fmla="*/ 194040 w 19368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156211" h="49531">
                  <a:moveTo>
                    <a:pt x="156210" y="49530"/>
                  </a:moveTo>
                  <a:lnTo>
                    <a:pt x="151130" y="45720"/>
                  </a:lnTo>
                  <a:lnTo>
                    <a:pt x="147320" y="40640"/>
                  </a:lnTo>
                  <a:lnTo>
                    <a:pt x="144780" y="39370"/>
                  </a:lnTo>
                  <a:lnTo>
                    <a:pt x="142240" y="36830"/>
                  </a:lnTo>
                  <a:lnTo>
                    <a:pt x="139700" y="36830"/>
                  </a:lnTo>
                  <a:lnTo>
                    <a:pt x="137160" y="36830"/>
                  </a:lnTo>
                  <a:lnTo>
                    <a:pt x="128270" y="39370"/>
                  </a:lnTo>
                  <a:lnTo>
                    <a:pt x="118110" y="40640"/>
                  </a:lnTo>
                  <a:lnTo>
                    <a:pt x="107950" y="40640"/>
                  </a:lnTo>
                  <a:lnTo>
                    <a:pt x="97790" y="40640"/>
                  </a:lnTo>
                  <a:lnTo>
                    <a:pt x="87630" y="39370"/>
                  </a:lnTo>
                  <a:lnTo>
                    <a:pt x="77470" y="38100"/>
                  </a:lnTo>
                  <a:lnTo>
                    <a:pt x="67310" y="36830"/>
                  </a:lnTo>
                  <a:lnTo>
                    <a:pt x="57150" y="33020"/>
                  </a:lnTo>
                  <a:lnTo>
                    <a:pt x="46990" y="30480"/>
                  </a:lnTo>
                  <a:lnTo>
                    <a:pt x="38100" y="26670"/>
                  </a:lnTo>
                  <a:lnTo>
                    <a:pt x="29210" y="24130"/>
                  </a:lnTo>
                  <a:lnTo>
                    <a:pt x="21590" y="19050"/>
                  </a:lnTo>
                  <a:lnTo>
                    <a:pt x="15240" y="15240"/>
                  </a:lnTo>
                  <a:lnTo>
                    <a:pt x="8890" y="10160"/>
                  </a:lnTo>
                  <a:lnTo>
                    <a:pt x="3810" y="5080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3a21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ihandform 25"/>
            <p:cNvSpPr/>
            <p:nvPr/>
          </p:nvSpPr>
          <p:spPr>
            <a:xfrm>
              <a:off x="2778120" y="2961000"/>
              <a:ext cx="93600" cy="936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76201" h="12701">
                  <a:moveTo>
                    <a:pt x="76200" y="10159"/>
                  </a:moveTo>
                  <a:lnTo>
                    <a:pt x="71120" y="11429"/>
                  </a:lnTo>
                  <a:lnTo>
                    <a:pt x="64770" y="12700"/>
                  </a:lnTo>
                  <a:lnTo>
                    <a:pt x="58420" y="12700"/>
                  </a:lnTo>
                  <a:lnTo>
                    <a:pt x="53339" y="12700"/>
                  </a:lnTo>
                  <a:lnTo>
                    <a:pt x="49529" y="12700"/>
                  </a:lnTo>
                  <a:lnTo>
                    <a:pt x="44450" y="12700"/>
                  </a:lnTo>
                  <a:lnTo>
                    <a:pt x="35560" y="10159"/>
                  </a:lnTo>
                  <a:lnTo>
                    <a:pt x="26670" y="7620"/>
                  </a:lnTo>
                  <a:lnTo>
                    <a:pt x="17779" y="3809"/>
                  </a:lnTo>
                  <a:lnTo>
                    <a:pt x="10160" y="2540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3a21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ihandform 26"/>
            <p:cNvSpPr/>
            <p:nvPr/>
          </p:nvSpPr>
          <p:spPr>
            <a:xfrm>
              <a:off x="2763720" y="2536920"/>
              <a:ext cx="371520" cy="80640"/>
            </a:xfrm>
            <a:custGeom>
              <a:avLst/>
              <a:gdLst>
                <a:gd name="textAreaLeft" fmla="*/ 0 w 371520"/>
                <a:gd name="textAreaRight" fmla="*/ 371880 w 37152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302261" h="99061">
                  <a:moveTo>
                    <a:pt x="302260" y="99060"/>
                  </a:moveTo>
                  <a:lnTo>
                    <a:pt x="293370" y="95250"/>
                  </a:lnTo>
                  <a:lnTo>
                    <a:pt x="284480" y="90170"/>
                  </a:lnTo>
                  <a:lnTo>
                    <a:pt x="265430" y="78739"/>
                  </a:lnTo>
                  <a:lnTo>
                    <a:pt x="256540" y="73660"/>
                  </a:lnTo>
                  <a:lnTo>
                    <a:pt x="247650" y="69850"/>
                  </a:lnTo>
                  <a:lnTo>
                    <a:pt x="241300" y="68580"/>
                  </a:lnTo>
                  <a:lnTo>
                    <a:pt x="236220" y="67310"/>
                  </a:lnTo>
                  <a:lnTo>
                    <a:pt x="231140" y="66039"/>
                  </a:lnTo>
                  <a:lnTo>
                    <a:pt x="226060" y="66039"/>
                  </a:lnTo>
                  <a:lnTo>
                    <a:pt x="218440" y="66039"/>
                  </a:lnTo>
                  <a:lnTo>
                    <a:pt x="210820" y="66039"/>
                  </a:lnTo>
                  <a:lnTo>
                    <a:pt x="200660" y="66039"/>
                  </a:lnTo>
                  <a:lnTo>
                    <a:pt x="189230" y="66039"/>
                  </a:lnTo>
                  <a:lnTo>
                    <a:pt x="177800" y="66039"/>
                  </a:lnTo>
                  <a:lnTo>
                    <a:pt x="165100" y="66039"/>
                  </a:lnTo>
                  <a:lnTo>
                    <a:pt x="152400" y="66039"/>
                  </a:lnTo>
                  <a:lnTo>
                    <a:pt x="139700" y="64770"/>
                  </a:lnTo>
                  <a:lnTo>
                    <a:pt x="127000" y="63500"/>
                  </a:lnTo>
                  <a:lnTo>
                    <a:pt x="115570" y="60960"/>
                  </a:lnTo>
                  <a:lnTo>
                    <a:pt x="104140" y="58420"/>
                  </a:lnTo>
                  <a:lnTo>
                    <a:pt x="92710" y="54610"/>
                  </a:lnTo>
                  <a:lnTo>
                    <a:pt x="82550" y="50800"/>
                  </a:lnTo>
                  <a:lnTo>
                    <a:pt x="77470" y="48260"/>
                  </a:lnTo>
                  <a:lnTo>
                    <a:pt x="73660" y="45720"/>
                  </a:lnTo>
                  <a:lnTo>
                    <a:pt x="69850" y="43179"/>
                  </a:lnTo>
                  <a:lnTo>
                    <a:pt x="66040" y="39370"/>
                  </a:lnTo>
                  <a:lnTo>
                    <a:pt x="62230" y="36829"/>
                  </a:lnTo>
                  <a:lnTo>
                    <a:pt x="59690" y="33020"/>
                  </a:lnTo>
                  <a:lnTo>
                    <a:pt x="55880" y="31750"/>
                  </a:lnTo>
                  <a:lnTo>
                    <a:pt x="52070" y="29210"/>
                  </a:lnTo>
                  <a:lnTo>
                    <a:pt x="43180" y="25400"/>
                  </a:lnTo>
                  <a:lnTo>
                    <a:pt x="25400" y="16510"/>
                  </a:lnTo>
                  <a:lnTo>
                    <a:pt x="16510" y="11429"/>
                  </a:lnTo>
                  <a:lnTo>
                    <a:pt x="8890" y="7620"/>
                  </a:lnTo>
                  <a:lnTo>
                    <a:pt x="6350" y="5079"/>
                  </a:lnTo>
                  <a:lnTo>
                    <a:pt x="3810" y="3810"/>
                  </a:lnTo>
                  <a:lnTo>
                    <a:pt x="2540" y="1270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3a21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ihandform 27"/>
            <p:cNvSpPr/>
            <p:nvPr/>
          </p:nvSpPr>
          <p:spPr>
            <a:xfrm>
              <a:off x="2776680" y="2508120"/>
              <a:ext cx="371520" cy="82440"/>
            </a:xfrm>
            <a:custGeom>
              <a:avLst/>
              <a:gdLst>
                <a:gd name="textAreaLeft" fmla="*/ 0 w 371520"/>
                <a:gd name="textAreaRight" fmla="*/ 371880 w 37152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303531" h="100331">
                  <a:moveTo>
                    <a:pt x="303530" y="100330"/>
                  </a:moveTo>
                  <a:lnTo>
                    <a:pt x="294640" y="95250"/>
                  </a:lnTo>
                  <a:lnTo>
                    <a:pt x="284480" y="90170"/>
                  </a:lnTo>
                  <a:lnTo>
                    <a:pt x="266700" y="80010"/>
                  </a:lnTo>
                  <a:lnTo>
                    <a:pt x="256540" y="74930"/>
                  </a:lnTo>
                  <a:lnTo>
                    <a:pt x="246380" y="71120"/>
                  </a:lnTo>
                  <a:lnTo>
                    <a:pt x="236220" y="67310"/>
                  </a:lnTo>
                  <a:lnTo>
                    <a:pt x="231140" y="67310"/>
                  </a:lnTo>
                  <a:lnTo>
                    <a:pt x="224790" y="67310"/>
                  </a:lnTo>
                  <a:lnTo>
                    <a:pt x="218440" y="67310"/>
                  </a:lnTo>
                  <a:lnTo>
                    <a:pt x="209550" y="67310"/>
                  </a:lnTo>
                  <a:lnTo>
                    <a:pt x="199390" y="67310"/>
                  </a:lnTo>
                  <a:lnTo>
                    <a:pt x="189230" y="67310"/>
                  </a:lnTo>
                  <a:lnTo>
                    <a:pt x="176530" y="67310"/>
                  </a:lnTo>
                  <a:lnTo>
                    <a:pt x="165100" y="67310"/>
                  </a:lnTo>
                  <a:lnTo>
                    <a:pt x="152400" y="66040"/>
                  </a:lnTo>
                  <a:lnTo>
                    <a:pt x="139700" y="64770"/>
                  </a:lnTo>
                  <a:lnTo>
                    <a:pt x="127000" y="63500"/>
                  </a:lnTo>
                  <a:lnTo>
                    <a:pt x="114300" y="62230"/>
                  </a:lnTo>
                  <a:lnTo>
                    <a:pt x="102870" y="59690"/>
                  </a:lnTo>
                  <a:lnTo>
                    <a:pt x="91440" y="55880"/>
                  </a:lnTo>
                  <a:lnTo>
                    <a:pt x="82550" y="52070"/>
                  </a:lnTo>
                  <a:lnTo>
                    <a:pt x="77470" y="49530"/>
                  </a:lnTo>
                  <a:lnTo>
                    <a:pt x="72390" y="46990"/>
                  </a:lnTo>
                  <a:lnTo>
                    <a:pt x="68580" y="43180"/>
                  </a:lnTo>
                  <a:lnTo>
                    <a:pt x="66040" y="40640"/>
                  </a:lnTo>
                  <a:lnTo>
                    <a:pt x="62230" y="36830"/>
                  </a:lnTo>
                  <a:lnTo>
                    <a:pt x="59690" y="34290"/>
                  </a:lnTo>
                  <a:lnTo>
                    <a:pt x="55880" y="31750"/>
                  </a:lnTo>
                  <a:lnTo>
                    <a:pt x="52070" y="30480"/>
                  </a:lnTo>
                  <a:lnTo>
                    <a:pt x="43180" y="26670"/>
                  </a:lnTo>
                  <a:lnTo>
                    <a:pt x="24130" y="17780"/>
                  </a:lnTo>
                  <a:lnTo>
                    <a:pt x="16510" y="12700"/>
                  </a:lnTo>
                  <a:lnTo>
                    <a:pt x="8890" y="7620"/>
                  </a:lnTo>
                  <a:lnTo>
                    <a:pt x="5080" y="6350"/>
                  </a:lnTo>
                  <a:lnTo>
                    <a:pt x="2540" y="3810"/>
                  </a:lnTo>
                  <a:lnTo>
                    <a:pt x="1270" y="2540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3a21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ihandform 28"/>
            <p:cNvSpPr/>
            <p:nvPr/>
          </p:nvSpPr>
          <p:spPr>
            <a:xfrm>
              <a:off x="2795760" y="2482920"/>
              <a:ext cx="360360" cy="77760"/>
            </a:xfrm>
            <a:custGeom>
              <a:avLst/>
              <a:gdLst>
                <a:gd name="textAreaLeft" fmla="*/ 0 w 360360"/>
                <a:gd name="textAreaRight" fmla="*/ 360720 w 360360"/>
                <a:gd name="textAreaTop" fmla="*/ 0 h 77760"/>
                <a:gd name="textAreaBottom" fmla="*/ 78120 h 77760"/>
              </a:gdLst>
              <a:ahLst/>
              <a:rect l="textAreaLeft" t="textAreaTop" r="textAreaRight" b="textAreaBottom"/>
              <a:pathLst>
                <a:path w="294641" h="96521">
                  <a:moveTo>
                    <a:pt x="294640" y="96520"/>
                  </a:moveTo>
                  <a:lnTo>
                    <a:pt x="287020" y="92710"/>
                  </a:lnTo>
                  <a:lnTo>
                    <a:pt x="279400" y="87630"/>
                  </a:lnTo>
                  <a:lnTo>
                    <a:pt x="262890" y="78740"/>
                  </a:lnTo>
                  <a:lnTo>
                    <a:pt x="254000" y="73660"/>
                  </a:lnTo>
                  <a:lnTo>
                    <a:pt x="246380" y="69850"/>
                  </a:lnTo>
                  <a:lnTo>
                    <a:pt x="241300" y="68580"/>
                  </a:lnTo>
                  <a:lnTo>
                    <a:pt x="236220" y="67310"/>
                  </a:lnTo>
                  <a:lnTo>
                    <a:pt x="231140" y="67310"/>
                  </a:lnTo>
                  <a:lnTo>
                    <a:pt x="224790" y="67310"/>
                  </a:lnTo>
                  <a:lnTo>
                    <a:pt x="218440" y="67310"/>
                  </a:lnTo>
                  <a:lnTo>
                    <a:pt x="209550" y="67310"/>
                  </a:lnTo>
                  <a:lnTo>
                    <a:pt x="199390" y="67310"/>
                  </a:lnTo>
                  <a:lnTo>
                    <a:pt x="189230" y="67310"/>
                  </a:lnTo>
                  <a:lnTo>
                    <a:pt x="176530" y="67310"/>
                  </a:lnTo>
                  <a:lnTo>
                    <a:pt x="165100" y="67310"/>
                  </a:lnTo>
                  <a:lnTo>
                    <a:pt x="152400" y="66040"/>
                  </a:lnTo>
                  <a:lnTo>
                    <a:pt x="139700" y="64770"/>
                  </a:lnTo>
                  <a:lnTo>
                    <a:pt x="127000" y="63500"/>
                  </a:lnTo>
                  <a:lnTo>
                    <a:pt x="114300" y="60960"/>
                  </a:lnTo>
                  <a:lnTo>
                    <a:pt x="102870" y="58420"/>
                  </a:lnTo>
                  <a:lnTo>
                    <a:pt x="91440" y="55880"/>
                  </a:lnTo>
                  <a:lnTo>
                    <a:pt x="81280" y="50800"/>
                  </a:lnTo>
                  <a:lnTo>
                    <a:pt x="77470" y="49530"/>
                  </a:lnTo>
                  <a:lnTo>
                    <a:pt x="72390" y="46990"/>
                  </a:lnTo>
                  <a:lnTo>
                    <a:pt x="68580" y="43180"/>
                  </a:lnTo>
                  <a:lnTo>
                    <a:pt x="64770" y="40640"/>
                  </a:lnTo>
                  <a:lnTo>
                    <a:pt x="62230" y="38100"/>
                  </a:lnTo>
                  <a:lnTo>
                    <a:pt x="59690" y="33020"/>
                  </a:lnTo>
                  <a:lnTo>
                    <a:pt x="55880" y="31750"/>
                  </a:lnTo>
                  <a:lnTo>
                    <a:pt x="50800" y="30480"/>
                  </a:lnTo>
                  <a:lnTo>
                    <a:pt x="43180" y="26670"/>
                  </a:lnTo>
                  <a:lnTo>
                    <a:pt x="24130" y="17780"/>
                  </a:lnTo>
                  <a:lnTo>
                    <a:pt x="15240" y="12700"/>
                  </a:lnTo>
                  <a:lnTo>
                    <a:pt x="8890" y="7620"/>
                  </a:lnTo>
                  <a:lnTo>
                    <a:pt x="5080" y="6350"/>
                  </a:lnTo>
                  <a:lnTo>
                    <a:pt x="2540" y="3810"/>
                  </a:lnTo>
                  <a:lnTo>
                    <a:pt x="1270" y="2540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3a21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ihandform 29"/>
            <p:cNvSpPr/>
            <p:nvPr/>
          </p:nvSpPr>
          <p:spPr>
            <a:xfrm>
              <a:off x="2809800" y="2469960"/>
              <a:ext cx="345960" cy="60120"/>
            </a:xfrm>
            <a:custGeom>
              <a:avLst/>
              <a:gdLst>
                <a:gd name="textAreaLeft" fmla="*/ 0 w 345960"/>
                <a:gd name="textAreaRight" fmla="*/ 346320 w 34596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283211" h="74930">
                  <a:moveTo>
                    <a:pt x="283210" y="74929"/>
                  </a:moveTo>
                  <a:lnTo>
                    <a:pt x="276860" y="72389"/>
                  </a:lnTo>
                  <a:lnTo>
                    <a:pt x="270510" y="68579"/>
                  </a:lnTo>
                  <a:lnTo>
                    <a:pt x="259079" y="60959"/>
                  </a:lnTo>
                  <a:lnTo>
                    <a:pt x="252729" y="57150"/>
                  </a:lnTo>
                  <a:lnTo>
                    <a:pt x="246379" y="54609"/>
                  </a:lnTo>
                  <a:lnTo>
                    <a:pt x="241300" y="53339"/>
                  </a:lnTo>
                  <a:lnTo>
                    <a:pt x="237489" y="53339"/>
                  </a:lnTo>
                  <a:lnTo>
                    <a:pt x="232410" y="52069"/>
                  </a:lnTo>
                  <a:lnTo>
                    <a:pt x="227329" y="52069"/>
                  </a:lnTo>
                  <a:lnTo>
                    <a:pt x="219710" y="52069"/>
                  </a:lnTo>
                  <a:lnTo>
                    <a:pt x="210820" y="52069"/>
                  </a:lnTo>
                  <a:lnTo>
                    <a:pt x="200660" y="52069"/>
                  </a:lnTo>
                  <a:lnTo>
                    <a:pt x="190500" y="52069"/>
                  </a:lnTo>
                  <a:lnTo>
                    <a:pt x="179070" y="52069"/>
                  </a:lnTo>
                  <a:lnTo>
                    <a:pt x="166370" y="52069"/>
                  </a:lnTo>
                  <a:lnTo>
                    <a:pt x="153670" y="50800"/>
                  </a:lnTo>
                  <a:lnTo>
                    <a:pt x="140970" y="50800"/>
                  </a:lnTo>
                  <a:lnTo>
                    <a:pt x="128270" y="48260"/>
                  </a:lnTo>
                  <a:lnTo>
                    <a:pt x="115570" y="46989"/>
                  </a:lnTo>
                  <a:lnTo>
                    <a:pt x="104139" y="44450"/>
                  </a:lnTo>
                  <a:lnTo>
                    <a:pt x="93979" y="40639"/>
                  </a:lnTo>
                  <a:lnTo>
                    <a:pt x="83820" y="36829"/>
                  </a:lnTo>
                  <a:lnTo>
                    <a:pt x="78739" y="34289"/>
                  </a:lnTo>
                  <a:lnTo>
                    <a:pt x="74929" y="31750"/>
                  </a:lnTo>
                  <a:lnTo>
                    <a:pt x="71120" y="29210"/>
                  </a:lnTo>
                  <a:lnTo>
                    <a:pt x="67310" y="25400"/>
                  </a:lnTo>
                  <a:lnTo>
                    <a:pt x="63500" y="22860"/>
                  </a:lnTo>
                  <a:lnTo>
                    <a:pt x="60960" y="19050"/>
                  </a:lnTo>
                  <a:lnTo>
                    <a:pt x="53339" y="15239"/>
                  </a:lnTo>
                  <a:lnTo>
                    <a:pt x="44450" y="13970"/>
                  </a:lnTo>
                  <a:lnTo>
                    <a:pt x="25400" y="8889"/>
                  </a:lnTo>
                  <a:lnTo>
                    <a:pt x="16510" y="7620"/>
                  </a:lnTo>
                  <a:lnTo>
                    <a:pt x="8889" y="5079"/>
                  </a:lnTo>
                  <a:lnTo>
                    <a:pt x="6350" y="3810"/>
                  </a:lnTo>
                  <a:lnTo>
                    <a:pt x="3810" y="2539"/>
                  </a:lnTo>
                  <a:lnTo>
                    <a:pt x="1270" y="1270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3a21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ihandform 30"/>
            <p:cNvSpPr/>
            <p:nvPr/>
          </p:nvSpPr>
          <p:spPr>
            <a:xfrm>
              <a:off x="2743200" y="2602080"/>
              <a:ext cx="342720" cy="72720"/>
            </a:xfrm>
            <a:custGeom>
              <a:avLst/>
              <a:gdLst>
                <a:gd name="textAreaLeft" fmla="*/ 0 w 342720"/>
                <a:gd name="textAreaRight" fmla="*/ 343080 w 342720"/>
                <a:gd name="textAreaTop" fmla="*/ 0 h 72720"/>
                <a:gd name="textAreaBottom" fmla="*/ 73080 h 72720"/>
              </a:gdLst>
              <a:ahLst/>
              <a:rect l="textAreaLeft" t="textAreaTop" r="textAreaRight" b="textAreaBottom"/>
              <a:pathLst>
                <a:path w="279401" h="87631">
                  <a:moveTo>
                    <a:pt x="279400" y="87630"/>
                  </a:moveTo>
                  <a:lnTo>
                    <a:pt x="273050" y="83820"/>
                  </a:lnTo>
                  <a:lnTo>
                    <a:pt x="267970" y="80010"/>
                  </a:lnTo>
                  <a:lnTo>
                    <a:pt x="255270" y="72390"/>
                  </a:lnTo>
                  <a:lnTo>
                    <a:pt x="250190" y="68580"/>
                  </a:lnTo>
                  <a:lnTo>
                    <a:pt x="242570" y="66040"/>
                  </a:lnTo>
                  <a:lnTo>
                    <a:pt x="237490" y="64770"/>
                  </a:lnTo>
                  <a:lnTo>
                    <a:pt x="233680" y="64770"/>
                  </a:lnTo>
                  <a:lnTo>
                    <a:pt x="228600" y="64770"/>
                  </a:lnTo>
                  <a:lnTo>
                    <a:pt x="223520" y="63500"/>
                  </a:lnTo>
                  <a:lnTo>
                    <a:pt x="215900" y="63500"/>
                  </a:lnTo>
                  <a:lnTo>
                    <a:pt x="208280" y="64770"/>
                  </a:lnTo>
                  <a:lnTo>
                    <a:pt x="198120" y="64770"/>
                  </a:lnTo>
                  <a:lnTo>
                    <a:pt x="186690" y="64770"/>
                  </a:lnTo>
                  <a:lnTo>
                    <a:pt x="175260" y="64770"/>
                  </a:lnTo>
                  <a:lnTo>
                    <a:pt x="162560" y="63500"/>
                  </a:lnTo>
                  <a:lnTo>
                    <a:pt x="151130" y="63500"/>
                  </a:lnTo>
                  <a:lnTo>
                    <a:pt x="137160" y="62230"/>
                  </a:lnTo>
                  <a:lnTo>
                    <a:pt x="125730" y="60960"/>
                  </a:lnTo>
                  <a:lnTo>
                    <a:pt x="113030" y="58420"/>
                  </a:lnTo>
                  <a:lnTo>
                    <a:pt x="101600" y="55880"/>
                  </a:lnTo>
                  <a:lnTo>
                    <a:pt x="90170" y="52070"/>
                  </a:lnTo>
                  <a:lnTo>
                    <a:pt x="80010" y="48260"/>
                  </a:lnTo>
                  <a:lnTo>
                    <a:pt x="74930" y="45720"/>
                  </a:lnTo>
                  <a:lnTo>
                    <a:pt x="71120" y="43180"/>
                  </a:lnTo>
                  <a:lnTo>
                    <a:pt x="67310" y="40640"/>
                  </a:lnTo>
                  <a:lnTo>
                    <a:pt x="63500" y="36830"/>
                  </a:lnTo>
                  <a:lnTo>
                    <a:pt x="60960" y="34290"/>
                  </a:lnTo>
                  <a:lnTo>
                    <a:pt x="57150" y="30480"/>
                  </a:lnTo>
                  <a:lnTo>
                    <a:pt x="49530" y="26670"/>
                  </a:lnTo>
                  <a:lnTo>
                    <a:pt x="40640" y="24130"/>
                  </a:lnTo>
                  <a:lnTo>
                    <a:pt x="24130" y="15240"/>
                  </a:lnTo>
                  <a:lnTo>
                    <a:pt x="15240" y="10160"/>
                  </a:lnTo>
                  <a:lnTo>
                    <a:pt x="8890" y="7620"/>
                  </a:lnTo>
                  <a:lnTo>
                    <a:pt x="5080" y="5080"/>
                  </a:lnTo>
                  <a:lnTo>
                    <a:pt x="2540" y="3810"/>
                  </a:lnTo>
                  <a:lnTo>
                    <a:pt x="1270" y="1270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3a21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ihandform 31"/>
            <p:cNvSpPr/>
            <p:nvPr/>
          </p:nvSpPr>
          <p:spPr>
            <a:xfrm>
              <a:off x="2736720" y="2691000"/>
              <a:ext cx="258480" cy="48960"/>
            </a:xfrm>
            <a:custGeom>
              <a:avLst/>
              <a:gdLst>
                <a:gd name="textAreaLeft" fmla="*/ 0 w 258480"/>
                <a:gd name="textAreaRight" fmla="*/ 258840 w 25848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210821" h="59691">
                  <a:moveTo>
                    <a:pt x="210820" y="59690"/>
                  </a:moveTo>
                  <a:lnTo>
                    <a:pt x="200660" y="52070"/>
                  </a:lnTo>
                  <a:lnTo>
                    <a:pt x="190500" y="44450"/>
                  </a:lnTo>
                  <a:lnTo>
                    <a:pt x="179070" y="38100"/>
                  </a:lnTo>
                  <a:lnTo>
                    <a:pt x="173990" y="35560"/>
                  </a:lnTo>
                  <a:lnTo>
                    <a:pt x="167640" y="33020"/>
                  </a:lnTo>
                  <a:lnTo>
                    <a:pt x="162560" y="33020"/>
                  </a:lnTo>
                  <a:lnTo>
                    <a:pt x="154940" y="34290"/>
                  </a:lnTo>
                  <a:lnTo>
                    <a:pt x="147320" y="34290"/>
                  </a:lnTo>
                  <a:lnTo>
                    <a:pt x="139700" y="34290"/>
                  </a:lnTo>
                  <a:lnTo>
                    <a:pt x="132080" y="34290"/>
                  </a:lnTo>
                  <a:lnTo>
                    <a:pt x="123190" y="33020"/>
                  </a:lnTo>
                  <a:lnTo>
                    <a:pt x="105410" y="31750"/>
                  </a:lnTo>
                  <a:lnTo>
                    <a:pt x="96520" y="30480"/>
                  </a:lnTo>
                  <a:lnTo>
                    <a:pt x="86360" y="27940"/>
                  </a:lnTo>
                  <a:lnTo>
                    <a:pt x="77470" y="25400"/>
                  </a:lnTo>
                  <a:lnTo>
                    <a:pt x="69850" y="21590"/>
                  </a:lnTo>
                  <a:lnTo>
                    <a:pt x="62230" y="17780"/>
                  </a:lnTo>
                  <a:lnTo>
                    <a:pt x="54610" y="13970"/>
                  </a:lnTo>
                  <a:lnTo>
                    <a:pt x="48260" y="8890"/>
                  </a:lnTo>
                  <a:lnTo>
                    <a:pt x="41910" y="2540"/>
                  </a:lnTo>
                  <a:lnTo>
                    <a:pt x="36830" y="2540"/>
                  </a:lnTo>
                  <a:lnTo>
                    <a:pt x="31750" y="2540"/>
                  </a:lnTo>
                  <a:lnTo>
                    <a:pt x="21590" y="3810"/>
                  </a:lnTo>
                  <a:lnTo>
                    <a:pt x="17780" y="5080"/>
                  </a:lnTo>
                  <a:lnTo>
                    <a:pt x="12700" y="3810"/>
                  </a:lnTo>
                  <a:lnTo>
                    <a:pt x="6350" y="2540"/>
                  </a:lnTo>
                  <a:lnTo>
                    <a:pt x="3810" y="1270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523d1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ihandform 32"/>
            <p:cNvSpPr/>
            <p:nvPr/>
          </p:nvSpPr>
          <p:spPr>
            <a:xfrm>
              <a:off x="2741760" y="2766960"/>
              <a:ext cx="174600" cy="3636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143511" h="44451">
                  <a:moveTo>
                    <a:pt x="143510" y="44450"/>
                  </a:moveTo>
                  <a:lnTo>
                    <a:pt x="138430" y="41910"/>
                  </a:lnTo>
                  <a:lnTo>
                    <a:pt x="132080" y="38100"/>
                  </a:lnTo>
                  <a:lnTo>
                    <a:pt x="127000" y="35560"/>
                  </a:lnTo>
                  <a:lnTo>
                    <a:pt x="124460" y="35560"/>
                  </a:lnTo>
                  <a:lnTo>
                    <a:pt x="121920" y="35560"/>
                  </a:lnTo>
                  <a:lnTo>
                    <a:pt x="113030" y="38100"/>
                  </a:lnTo>
                  <a:lnTo>
                    <a:pt x="104140" y="39370"/>
                  </a:lnTo>
                  <a:lnTo>
                    <a:pt x="93980" y="39370"/>
                  </a:lnTo>
                  <a:lnTo>
                    <a:pt x="85090" y="39370"/>
                  </a:lnTo>
                  <a:lnTo>
                    <a:pt x="74930" y="38100"/>
                  </a:lnTo>
                  <a:lnTo>
                    <a:pt x="66040" y="36830"/>
                  </a:lnTo>
                  <a:lnTo>
                    <a:pt x="58420" y="35560"/>
                  </a:lnTo>
                  <a:lnTo>
                    <a:pt x="49530" y="33020"/>
                  </a:lnTo>
                  <a:lnTo>
                    <a:pt x="40640" y="30480"/>
                  </a:lnTo>
                  <a:lnTo>
                    <a:pt x="33020" y="26670"/>
                  </a:lnTo>
                  <a:lnTo>
                    <a:pt x="25400" y="22860"/>
                  </a:lnTo>
                  <a:lnTo>
                    <a:pt x="19050" y="19050"/>
                  </a:lnTo>
                  <a:lnTo>
                    <a:pt x="12700" y="13970"/>
                  </a:lnTo>
                  <a:lnTo>
                    <a:pt x="7620" y="8890"/>
                  </a:lnTo>
                  <a:lnTo>
                    <a:pt x="3810" y="5080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523d1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ihandform 33"/>
            <p:cNvSpPr/>
            <p:nvPr/>
          </p:nvSpPr>
          <p:spPr>
            <a:xfrm>
              <a:off x="2741760" y="2789280"/>
              <a:ext cx="166680" cy="29880"/>
            </a:xfrm>
            <a:custGeom>
              <a:avLst/>
              <a:gdLst>
                <a:gd name="textAreaLeft" fmla="*/ 0 w 166680"/>
                <a:gd name="textAreaRight" fmla="*/ 167040 w 16668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137161" h="35560">
                  <a:moveTo>
                    <a:pt x="137160" y="35559"/>
                  </a:moveTo>
                  <a:lnTo>
                    <a:pt x="130810" y="33020"/>
                  </a:lnTo>
                  <a:lnTo>
                    <a:pt x="125730" y="29209"/>
                  </a:lnTo>
                  <a:lnTo>
                    <a:pt x="120650" y="26670"/>
                  </a:lnTo>
                  <a:lnTo>
                    <a:pt x="118110" y="26670"/>
                  </a:lnTo>
                  <a:lnTo>
                    <a:pt x="114300" y="26670"/>
                  </a:lnTo>
                  <a:lnTo>
                    <a:pt x="106680" y="29209"/>
                  </a:lnTo>
                  <a:lnTo>
                    <a:pt x="97790" y="30479"/>
                  </a:lnTo>
                  <a:lnTo>
                    <a:pt x="87630" y="31750"/>
                  </a:lnTo>
                  <a:lnTo>
                    <a:pt x="80010" y="31750"/>
                  </a:lnTo>
                  <a:lnTo>
                    <a:pt x="71120" y="31750"/>
                  </a:lnTo>
                  <a:lnTo>
                    <a:pt x="62230" y="31750"/>
                  </a:lnTo>
                  <a:lnTo>
                    <a:pt x="54610" y="30479"/>
                  </a:lnTo>
                  <a:lnTo>
                    <a:pt x="45720" y="29209"/>
                  </a:lnTo>
                  <a:lnTo>
                    <a:pt x="38100" y="26670"/>
                  </a:lnTo>
                  <a:lnTo>
                    <a:pt x="30480" y="24129"/>
                  </a:lnTo>
                  <a:lnTo>
                    <a:pt x="24130" y="21590"/>
                  </a:lnTo>
                  <a:lnTo>
                    <a:pt x="17780" y="17779"/>
                  </a:lnTo>
                  <a:lnTo>
                    <a:pt x="12700" y="13970"/>
                  </a:lnTo>
                  <a:lnTo>
                    <a:pt x="7620" y="10159"/>
                  </a:lnTo>
                  <a:lnTo>
                    <a:pt x="3810" y="5079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523d1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ihandform 34"/>
            <p:cNvSpPr/>
            <p:nvPr/>
          </p:nvSpPr>
          <p:spPr>
            <a:xfrm>
              <a:off x="2746440" y="2811600"/>
              <a:ext cx="160200" cy="29880"/>
            </a:xfrm>
            <a:custGeom>
              <a:avLst/>
              <a:gdLst>
                <a:gd name="textAreaLeft" fmla="*/ 0 w 160200"/>
                <a:gd name="textAreaRight" fmla="*/ 160560 w 16020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130811" h="36831">
                  <a:moveTo>
                    <a:pt x="130810" y="36830"/>
                  </a:moveTo>
                  <a:lnTo>
                    <a:pt x="128270" y="34290"/>
                  </a:lnTo>
                  <a:lnTo>
                    <a:pt x="127000" y="31750"/>
                  </a:lnTo>
                  <a:lnTo>
                    <a:pt x="125729" y="30480"/>
                  </a:lnTo>
                  <a:lnTo>
                    <a:pt x="124460" y="27940"/>
                  </a:lnTo>
                  <a:lnTo>
                    <a:pt x="123189" y="26670"/>
                  </a:lnTo>
                  <a:lnTo>
                    <a:pt x="121920" y="25400"/>
                  </a:lnTo>
                  <a:lnTo>
                    <a:pt x="120650" y="24130"/>
                  </a:lnTo>
                  <a:lnTo>
                    <a:pt x="119379" y="24130"/>
                  </a:lnTo>
                  <a:lnTo>
                    <a:pt x="118110" y="24130"/>
                  </a:lnTo>
                  <a:lnTo>
                    <a:pt x="116839" y="25400"/>
                  </a:lnTo>
                  <a:lnTo>
                    <a:pt x="114300" y="26670"/>
                  </a:lnTo>
                  <a:lnTo>
                    <a:pt x="106679" y="27940"/>
                  </a:lnTo>
                  <a:lnTo>
                    <a:pt x="96520" y="30480"/>
                  </a:lnTo>
                  <a:lnTo>
                    <a:pt x="87629" y="31750"/>
                  </a:lnTo>
                  <a:lnTo>
                    <a:pt x="78739" y="31750"/>
                  </a:lnTo>
                  <a:lnTo>
                    <a:pt x="69850" y="31750"/>
                  </a:lnTo>
                  <a:lnTo>
                    <a:pt x="62229" y="31750"/>
                  </a:lnTo>
                  <a:lnTo>
                    <a:pt x="53339" y="30480"/>
                  </a:lnTo>
                  <a:lnTo>
                    <a:pt x="45720" y="27940"/>
                  </a:lnTo>
                  <a:lnTo>
                    <a:pt x="38100" y="26670"/>
                  </a:lnTo>
                  <a:lnTo>
                    <a:pt x="30479" y="24130"/>
                  </a:lnTo>
                  <a:lnTo>
                    <a:pt x="24129" y="20320"/>
                  </a:lnTo>
                  <a:lnTo>
                    <a:pt x="17779" y="17780"/>
                  </a:lnTo>
                  <a:lnTo>
                    <a:pt x="11429" y="13970"/>
                  </a:lnTo>
                  <a:lnTo>
                    <a:pt x="7620" y="10160"/>
                  </a:lnTo>
                  <a:lnTo>
                    <a:pt x="2539" y="5080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523d1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ihandform 35"/>
            <p:cNvSpPr/>
            <p:nvPr/>
          </p:nvSpPr>
          <p:spPr>
            <a:xfrm>
              <a:off x="2759040" y="2913120"/>
              <a:ext cx="176040" cy="23760"/>
            </a:xfrm>
            <a:custGeom>
              <a:avLst/>
              <a:gdLst>
                <a:gd name="textAreaLeft" fmla="*/ 0 w 176040"/>
                <a:gd name="textAreaRight" fmla="*/ 176400 w 17604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144781" h="30481">
                  <a:moveTo>
                    <a:pt x="144780" y="30480"/>
                  </a:moveTo>
                  <a:lnTo>
                    <a:pt x="140970" y="27940"/>
                  </a:lnTo>
                  <a:lnTo>
                    <a:pt x="137160" y="25400"/>
                  </a:lnTo>
                  <a:lnTo>
                    <a:pt x="129540" y="20320"/>
                  </a:lnTo>
                  <a:lnTo>
                    <a:pt x="124460" y="19050"/>
                  </a:lnTo>
                  <a:lnTo>
                    <a:pt x="121920" y="16510"/>
                  </a:lnTo>
                  <a:lnTo>
                    <a:pt x="118110" y="16510"/>
                  </a:lnTo>
                  <a:lnTo>
                    <a:pt x="115570" y="16510"/>
                  </a:lnTo>
                  <a:lnTo>
                    <a:pt x="97790" y="20320"/>
                  </a:lnTo>
                  <a:lnTo>
                    <a:pt x="88900" y="22860"/>
                  </a:lnTo>
                  <a:lnTo>
                    <a:pt x="80010" y="24130"/>
                  </a:lnTo>
                  <a:lnTo>
                    <a:pt x="71120" y="24130"/>
                  </a:lnTo>
                  <a:lnTo>
                    <a:pt x="62230" y="24130"/>
                  </a:lnTo>
                  <a:lnTo>
                    <a:pt x="53340" y="24130"/>
                  </a:lnTo>
                  <a:lnTo>
                    <a:pt x="45720" y="22860"/>
                  </a:lnTo>
                  <a:lnTo>
                    <a:pt x="38100" y="22860"/>
                  </a:lnTo>
                  <a:lnTo>
                    <a:pt x="31750" y="20320"/>
                  </a:lnTo>
                  <a:lnTo>
                    <a:pt x="24130" y="17780"/>
                  </a:lnTo>
                  <a:lnTo>
                    <a:pt x="17780" y="15241"/>
                  </a:lnTo>
                  <a:lnTo>
                    <a:pt x="12700" y="12700"/>
                  </a:lnTo>
                  <a:lnTo>
                    <a:pt x="7620" y="8891"/>
                  </a:lnTo>
                  <a:lnTo>
                    <a:pt x="3810" y="5080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523d1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ihandform 36"/>
            <p:cNvSpPr/>
            <p:nvPr/>
          </p:nvSpPr>
          <p:spPr>
            <a:xfrm>
              <a:off x="2766960" y="2934000"/>
              <a:ext cx="180720" cy="21960"/>
            </a:xfrm>
            <a:custGeom>
              <a:avLst/>
              <a:gdLst>
                <a:gd name="textAreaLeft" fmla="*/ 0 w 180720"/>
                <a:gd name="textAreaRight" fmla="*/ 181080 w 180720"/>
                <a:gd name="textAreaTop" fmla="*/ 0 h 21960"/>
                <a:gd name="textAreaBottom" fmla="*/ 21960 h 21960"/>
              </a:gdLst>
              <a:ahLst/>
              <a:rect l="textAreaLeft" t="textAreaTop" r="textAreaRight" b="textAreaBottom"/>
              <a:pathLst>
                <a:path w="148591" h="27942">
                  <a:moveTo>
                    <a:pt x="148590" y="27941"/>
                  </a:moveTo>
                  <a:lnTo>
                    <a:pt x="143510" y="25400"/>
                  </a:lnTo>
                  <a:lnTo>
                    <a:pt x="138430" y="22860"/>
                  </a:lnTo>
                  <a:lnTo>
                    <a:pt x="128270" y="19050"/>
                  </a:lnTo>
                  <a:lnTo>
                    <a:pt x="123190" y="16510"/>
                  </a:lnTo>
                  <a:lnTo>
                    <a:pt x="119380" y="15241"/>
                  </a:lnTo>
                  <a:lnTo>
                    <a:pt x="115570" y="13970"/>
                  </a:lnTo>
                  <a:lnTo>
                    <a:pt x="111760" y="13970"/>
                  </a:lnTo>
                  <a:lnTo>
                    <a:pt x="93980" y="19050"/>
                  </a:lnTo>
                  <a:lnTo>
                    <a:pt x="85090" y="20320"/>
                  </a:lnTo>
                  <a:lnTo>
                    <a:pt x="77470" y="21591"/>
                  </a:lnTo>
                  <a:lnTo>
                    <a:pt x="68580" y="22860"/>
                  </a:lnTo>
                  <a:lnTo>
                    <a:pt x="59690" y="22860"/>
                  </a:lnTo>
                  <a:lnTo>
                    <a:pt x="52070" y="22860"/>
                  </a:lnTo>
                  <a:lnTo>
                    <a:pt x="44450" y="22860"/>
                  </a:lnTo>
                  <a:lnTo>
                    <a:pt x="36830" y="21591"/>
                  </a:lnTo>
                  <a:lnTo>
                    <a:pt x="30480" y="20320"/>
                  </a:lnTo>
                  <a:lnTo>
                    <a:pt x="24130" y="17780"/>
                  </a:lnTo>
                  <a:lnTo>
                    <a:pt x="17780" y="15241"/>
                  </a:lnTo>
                  <a:lnTo>
                    <a:pt x="12700" y="12700"/>
                  </a:lnTo>
                  <a:lnTo>
                    <a:pt x="7620" y="8891"/>
                  </a:lnTo>
                  <a:lnTo>
                    <a:pt x="3810" y="5080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523d1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ihandform 37"/>
            <p:cNvSpPr/>
            <p:nvPr/>
          </p:nvSpPr>
          <p:spPr>
            <a:xfrm>
              <a:off x="2751120" y="2567160"/>
              <a:ext cx="363600" cy="80640"/>
            </a:xfrm>
            <a:custGeom>
              <a:avLst/>
              <a:gdLst>
                <a:gd name="textAreaLeft" fmla="*/ 0 w 363600"/>
                <a:gd name="textAreaRight" fmla="*/ 363960 w 36360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297181" h="99061">
                  <a:moveTo>
                    <a:pt x="297180" y="99060"/>
                  </a:moveTo>
                  <a:lnTo>
                    <a:pt x="289560" y="95250"/>
                  </a:lnTo>
                  <a:lnTo>
                    <a:pt x="283210" y="90170"/>
                  </a:lnTo>
                  <a:lnTo>
                    <a:pt x="267970" y="80010"/>
                  </a:lnTo>
                  <a:lnTo>
                    <a:pt x="260350" y="76200"/>
                  </a:lnTo>
                  <a:lnTo>
                    <a:pt x="252730" y="72390"/>
                  </a:lnTo>
                  <a:lnTo>
                    <a:pt x="247650" y="71120"/>
                  </a:lnTo>
                  <a:lnTo>
                    <a:pt x="243840" y="69850"/>
                  </a:lnTo>
                  <a:lnTo>
                    <a:pt x="237490" y="69850"/>
                  </a:lnTo>
                  <a:lnTo>
                    <a:pt x="232410" y="68580"/>
                  </a:lnTo>
                  <a:lnTo>
                    <a:pt x="226060" y="68580"/>
                  </a:lnTo>
                  <a:lnTo>
                    <a:pt x="217170" y="68580"/>
                  </a:lnTo>
                  <a:lnTo>
                    <a:pt x="207010" y="69850"/>
                  </a:lnTo>
                  <a:lnTo>
                    <a:pt x="195580" y="69850"/>
                  </a:lnTo>
                  <a:lnTo>
                    <a:pt x="184150" y="69850"/>
                  </a:lnTo>
                  <a:lnTo>
                    <a:pt x="172720" y="68580"/>
                  </a:lnTo>
                  <a:lnTo>
                    <a:pt x="160020" y="68580"/>
                  </a:lnTo>
                  <a:lnTo>
                    <a:pt x="147320" y="67310"/>
                  </a:lnTo>
                  <a:lnTo>
                    <a:pt x="134620" y="66040"/>
                  </a:lnTo>
                  <a:lnTo>
                    <a:pt x="121920" y="63500"/>
                  </a:lnTo>
                  <a:lnTo>
                    <a:pt x="110490" y="60960"/>
                  </a:lnTo>
                  <a:lnTo>
                    <a:pt x="99060" y="58420"/>
                  </a:lnTo>
                  <a:lnTo>
                    <a:pt x="88900" y="53340"/>
                  </a:lnTo>
                  <a:lnTo>
                    <a:pt x="83820" y="52070"/>
                  </a:lnTo>
                  <a:lnTo>
                    <a:pt x="80010" y="49530"/>
                  </a:lnTo>
                  <a:lnTo>
                    <a:pt x="76200" y="45720"/>
                  </a:lnTo>
                  <a:lnTo>
                    <a:pt x="72390" y="43180"/>
                  </a:lnTo>
                  <a:lnTo>
                    <a:pt x="69850" y="39370"/>
                  </a:lnTo>
                  <a:lnTo>
                    <a:pt x="66040" y="35560"/>
                  </a:lnTo>
                  <a:lnTo>
                    <a:pt x="62230" y="34290"/>
                  </a:lnTo>
                  <a:lnTo>
                    <a:pt x="58420" y="33020"/>
                  </a:lnTo>
                  <a:lnTo>
                    <a:pt x="48260" y="27940"/>
                  </a:lnTo>
                  <a:lnTo>
                    <a:pt x="39370" y="22860"/>
                  </a:lnTo>
                  <a:lnTo>
                    <a:pt x="27940" y="17780"/>
                  </a:lnTo>
                  <a:lnTo>
                    <a:pt x="19050" y="12700"/>
                  </a:lnTo>
                  <a:lnTo>
                    <a:pt x="13970" y="10160"/>
                  </a:lnTo>
                  <a:lnTo>
                    <a:pt x="10160" y="7620"/>
                  </a:lnTo>
                  <a:lnTo>
                    <a:pt x="6350" y="5080"/>
                  </a:lnTo>
                  <a:lnTo>
                    <a:pt x="3810" y="2540"/>
                  </a:lnTo>
                  <a:lnTo>
                    <a:pt x="1270" y="1270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523d1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ihandform 38"/>
            <p:cNvSpPr/>
            <p:nvPr/>
          </p:nvSpPr>
          <p:spPr>
            <a:xfrm>
              <a:off x="2736720" y="2749680"/>
              <a:ext cx="193680" cy="39600"/>
            </a:xfrm>
            <a:custGeom>
              <a:avLst/>
              <a:gdLst>
                <a:gd name="textAreaLeft" fmla="*/ 0 w 193680"/>
                <a:gd name="textAreaRight" fmla="*/ 194040 w 19368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156211" h="49531">
                  <a:moveTo>
                    <a:pt x="156210" y="49530"/>
                  </a:moveTo>
                  <a:lnTo>
                    <a:pt x="151130" y="45720"/>
                  </a:lnTo>
                  <a:lnTo>
                    <a:pt x="147320" y="40640"/>
                  </a:lnTo>
                  <a:lnTo>
                    <a:pt x="144780" y="39370"/>
                  </a:lnTo>
                  <a:lnTo>
                    <a:pt x="142240" y="36830"/>
                  </a:lnTo>
                  <a:lnTo>
                    <a:pt x="139700" y="36830"/>
                  </a:lnTo>
                  <a:lnTo>
                    <a:pt x="137160" y="36830"/>
                  </a:lnTo>
                  <a:lnTo>
                    <a:pt x="128270" y="39370"/>
                  </a:lnTo>
                  <a:lnTo>
                    <a:pt x="118110" y="40640"/>
                  </a:lnTo>
                  <a:lnTo>
                    <a:pt x="107950" y="40640"/>
                  </a:lnTo>
                  <a:lnTo>
                    <a:pt x="97790" y="40640"/>
                  </a:lnTo>
                  <a:lnTo>
                    <a:pt x="87630" y="39370"/>
                  </a:lnTo>
                  <a:lnTo>
                    <a:pt x="77470" y="38100"/>
                  </a:lnTo>
                  <a:lnTo>
                    <a:pt x="67310" y="36830"/>
                  </a:lnTo>
                  <a:lnTo>
                    <a:pt x="57150" y="33020"/>
                  </a:lnTo>
                  <a:lnTo>
                    <a:pt x="46990" y="30480"/>
                  </a:lnTo>
                  <a:lnTo>
                    <a:pt x="38100" y="26670"/>
                  </a:lnTo>
                  <a:lnTo>
                    <a:pt x="29210" y="24130"/>
                  </a:lnTo>
                  <a:lnTo>
                    <a:pt x="21590" y="19050"/>
                  </a:lnTo>
                  <a:lnTo>
                    <a:pt x="15240" y="15240"/>
                  </a:lnTo>
                  <a:lnTo>
                    <a:pt x="8890" y="10160"/>
                  </a:lnTo>
                  <a:lnTo>
                    <a:pt x="3810" y="5080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523d1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ihandform 39"/>
            <p:cNvSpPr/>
            <p:nvPr/>
          </p:nvSpPr>
          <p:spPr>
            <a:xfrm>
              <a:off x="2778120" y="2961000"/>
              <a:ext cx="93600" cy="936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76201" h="12701">
                  <a:moveTo>
                    <a:pt x="76200" y="10159"/>
                  </a:moveTo>
                  <a:lnTo>
                    <a:pt x="71120" y="11429"/>
                  </a:lnTo>
                  <a:lnTo>
                    <a:pt x="64770" y="12700"/>
                  </a:lnTo>
                  <a:lnTo>
                    <a:pt x="58420" y="12700"/>
                  </a:lnTo>
                  <a:lnTo>
                    <a:pt x="53339" y="12700"/>
                  </a:lnTo>
                  <a:lnTo>
                    <a:pt x="49529" y="12700"/>
                  </a:lnTo>
                  <a:lnTo>
                    <a:pt x="44450" y="12700"/>
                  </a:lnTo>
                  <a:lnTo>
                    <a:pt x="35560" y="10159"/>
                  </a:lnTo>
                  <a:lnTo>
                    <a:pt x="26670" y="7620"/>
                  </a:lnTo>
                  <a:lnTo>
                    <a:pt x="17779" y="3809"/>
                  </a:lnTo>
                  <a:lnTo>
                    <a:pt x="10160" y="2540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523d1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ihandform 40"/>
            <p:cNvSpPr/>
            <p:nvPr/>
          </p:nvSpPr>
          <p:spPr>
            <a:xfrm>
              <a:off x="2763720" y="2536920"/>
              <a:ext cx="371520" cy="80640"/>
            </a:xfrm>
            <a:custGeom>
              <a:avLst/>
              <a:gdLst>
                <a:gd name="textAreaLeft" fmla="*/ 0 w 371520"/>
                <a:gd name="textAreaRight" fmla="*/ 371880 w 37152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302261" h="99061">
                  <a:moveTo>
                    <a:pt x="302260" y="99060"/>
                  </a:moveTo>
                  <a:lnTo>
                    <a:pt x="293370" y="95250"/>
                  </a:lnTo>
                  <a:lnTo>
                    <a:pt x="284480" y="90170"/>
                  </a:lnTo>
                  <a:lnTo>
                    <a:pt x="265430" y="78739"/>
                  </a:lnTo>
                  <a:lnTo>
                    <a:pt x="256540" y="73660"/>
                  </a:lnTo>
                  <a:lnTo>
                    <a:pt x="247650" y="69850"/>
                  </a:lnTo>
                  <a:lnTo>
                    <a:pt x="241300" y="68580"/>
                  </a:lnTo>
                  <a:lnTo>
                    <a:pt x="236220" y="67310"/>
                  </a:lnTo>
                  <a:lnTo>
                    <a:pt x="231140" y="66039"/>
                  </a:lnTo>
                  <a:lnTo>
                    <a:pt x="226060" y="66039"/>
                  </a:lnTo>
                  <a:lnTo>
                    <a:pt x="218440" y="66039"/>
                  </a:lnTo>
                  <a:lnTo>
                    <a:pt x="210820" y="66039"/>
                  </a:lnTo>
                  <a:lnTo>
                    <a:pt x="200660" y="66039"/>
                  </a:lnTo>
                  <a:lnTo>
                    <a:pt x="189230" y="66039"/>
                  </a:lnTo>
                  <a:lnTo>
                    <a:pt x="177800" y="66039"/>
                  </a:lnTo>
                  <a:lnTo>
                    <a:pt x="165100" y="66039"/>
                  </a:lnTo>
                  <a:lnTo>
                    <a:pt x="152400" y="66039"/>
                  </a:lnTo>
                  <a:lnTo>
                    <a:pt x="139700" y="64770"/>
                  </a:lnTo>
                  <a:lnTo>
                    <a:pt x="127000" y="63500"/>
                  </a:lnTo>
                  <a:lnTo>
                    <a:pt x="115570" y="60960"/>
                  </a:lnTo>
                  <a:lnTo>
                    <a:pt x="104140" y="58420"/>
                  </a:lnTo>
                  <a:lnTo>
                    <a:pt x="92710" y="54610"/>
                  </a:lnTo>
                  <a:lnTo>
                    <a:pt x="82550" y="50800"/>
                  </a:lnTo>
                  <a:lnTo>
                    <a:pt x="77470" y="48260"/>
                  </a:lnTo>
                  <a:lnTo>
                    <a:pt x="73660" y="45720"/>
                  </a:lnTo>
                  <a:lnTo>
                    <a:pt x="69850" y="43179"/>
                  </a:lnTo>
                  <a:lnTo>
                    <a:pt x="66040" y="39370"/>
                  </a:lnTo>
                  <a:lnTo>
                    <a:pt x="62230" y="36829"/>
                  </a:lnTo>
                  <a:lnTo>
                    <a:pt x="59690" y="33020"/>
                  </a:lnTo>
                  <a:lnTo>
                    <a:pt x="55880" y="31750"/>
                  </a:lnTo>
                  <a:lnTo>
                    <a:pt x="52070" y="29210"/>
                  </a:lnTo>
                  <a:lnTo>
                    <a:pt x="43180" y="25400"/>
                  </a:lnTo>
                  <a:lnTo>
                    <a:pt x="25400" y="16510"/>
                  </a:lnTo>
                  <a:lnTo>
                    <a:pt x="16510" y="11429"/>
                  </a:lnTo>
                  <a:lnTo>
                    <a:pt x="8890" y="7620"/>
                  </a:lnTo>
                  <a:lnTo>
                    <a:pt x="6350" y="5079"/>
                  </a:lnTo>
                  <a:lnTo>
                    <a:pt x="3810" y="3810"/>
                  </a:lnTo>
                  <a:lnTo>
                    <a:pt x="2540" y="1270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523d1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ihandform 41"/>
            <p:cNvSpPr/>
            <p:nvPr/>
          </p:nvSpPr>
          <p:spPr>
            <a:xfrm>
              <a:off x="2776680" y="2508120"/>
              <a:ext cx="371520" cy="82440"/>
            </a:xfrm>
            <a:custGeom>
              <a:avLst/>
              <a:gdLst>
                <a:gd name="textAreaLeft" fmla="*/ 0 w 371520"/>
                <a:gd name="textAreaRight" fmla="*/ 371880 w 37152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303531" h="100331">
                  <a:moveTo>
                    <a:pt x="303530" y="100330"/>
                  </a:moveTo>
                  <a:lnTo>
                    <a:pt x="294640" y="95250"/>
                  </a:lnTo>
                  <a:lnTo>
                    <a:pt x="284480" y="90170"/>
                  </a:lnTo>
                  <a:lnTo>
                    <a:pt x="266700" y="80010"/>
                  </a:lnTo>
                  <a:lnTo>
                    <a:pt x="256540" y="74930"/>
                  </a:lnTo>
                  <a:lnTo>
                    <a:pt x="246380" y="71120"/>
                  </a:lnTo>
                  <a:lnTo>
                    <a:pt x="236220" y="67310"/>
                  </a:lnTo>
                  <a:lnTo>
                    <a:pt x="231140" y="67310"/>
                  </a:lnTo>
                  <a:lnTo>
                    <a:pt x="224790" y="67310"/>
                  </a:lnTo>
                  <a:lnTo>
                    <a:pt x="218440" y="67310"/>
                  </a:lnTo>
                  <a:lnTo>
                    <a:pt x="209550" y="67310"/>
                  </a:lnTo>
                  <a:lnTo>
                    <a:pt x="199390" y="67310"/>
                  </a:lnTo>
                  <a:lnTo>
                    <a:pt x="189230" y="67310"/>
                  </a:lnTo>
                  <a:lnTo>
                    <a:pt x="176530" y="67310"/>
                  </a:lnTo>
                  <a:lnTo>
                    <a:pt x="165100" y="67310"/>
                  </a:lnTo>
                  <a:lnTo>
                    <a:pt x="152400" y="66040"/>
                  </a:lnTo>
                  <a:lnTo>
                    <a:pt x="139700" y="64770"/>
                  </a:lnTo>
                  <a:lnTo>
                    <a:pt x="127000" y="63500"/>
                  </a:lnTo>
                  <a:lnTo>
                    <a:pt x="114300" y="62230"/>
                  </a:lnTo>
                  <a:lnTo>
                    <a:pt x="102870" y="59690"/>
                  </a:lnTo>
                  <a:lnTo>
                    <a:pt x="91440" y="55880"/>
                  </a:lnTo>
                  <a:lnTo>
                    <a:pt x="82550" y="52070"/>
                  </a:lnTo>
                  <a:lnTo>
                    <a:pt x="77470" y="49530"/>
                  </a:lnTo>
                  <a:lnTo>
                    <a:pt x="72390" y="46990"/>
                  </a:lnTo>
                  <a:lnTo>
                    <a:pt x="68580" y="43180"/>
                  </a:lnTo>
                  <a:lnTo>
                    <a:pt x="66040" y="40640"/>
                  </a:lnTo>
                  <a:lnTo>
                    <a:pt x="62230" y="36830"/>
                  </a:lnTo>
                  <a:lnTo>
                    <a:pt x="59690" y="34290"/>
                  </a:lnTo>
                  <a:lnTo>
                    <a:pt x="55880" y="31750"/>
                  </a:lnTo>
                  <a:lnTo>
                    <a:pt x="52070" y="30480"/>
                  </a:lnTo>
                  <a:lnTo>
                    <a:pt x="43180" y="26670"/>
                  </a:lnTo>
                  <a:lnTo>
                    <a:pt x="24130" y="17780"/>
                  </a:lnTo>
                  <a:lnTo>
                    <a:pt x="16510" y="12700"/>
                  </a:lnTo>
                  <a:lnTo>
                    <a:pt x="8890" y="7620"/>
                  </a:lnTo>
                  <a:lnTo>
                    <a:pt x="5080" y="6350"/>
                  </a:lnTo>
                  <a:lnTo>
                    <a:pt x="2540" y="3810"/>
                  </a:lnTo>
                  <a:lnTo>
                    <a:pt x="1270" y="2540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523d1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ihandform 42"/>
            <p:cNvSpPr/>
            <p:nvPr/>
          </p:nvSpPr>
          <p:spPr>
            <a:xfrm>
              <a:off x="2795760" y="2482920"/>
              <a:ext cx="360360" cy="77760"/>
            </a:xfrm>
            <a:custGeom>
              <a:avLst/>
              <a:gdLst>
                <a:gd name="textAreaLeft" fmla="*/ 0 w 360360"/>
                <a:gd name="textAreaRight" fmla="*/ 360720 w 360360"/>
                <a:gd name="textAreaTop" fmla="*/ 0 h 77760"/>
                <a:gd name="textAreaBottom" fmla="*/ 78120 h 77760"/>
              </a:gdLst>
              <a:ahLst/>
              <a:rect l="textAreaLeft" t="textAreaTop" r="textAreaRight" b="textAreaBottom"/>
              <a:pathLst>
                <a:path w="294641" h="96521">
                  <a:moveTo>
                    <a:pt x="294640" y="96520"/>
                  </a:moveTo>
                  <a:lnTo>
                    <a:pt x="287020" y="92710"/>
                  </a:lnTo>
                  <a:lnTo>
                    <a:pt x="279400" y="87630"/>
                  </a:lnTo>
                  <a:lnTo>
                    <a:pt x="262890" y="78740"/>
                  </a:lnTo>
                  <a:lnTo>
                    <a:pt x="254000" y="73660"/>
                  </a:lnTo>
                  <a:lnTo>
                    <a:pt x="246380" y="69850"/>
                  </a:lnTo>
                  <a:lnTo>
                    <a:pt x="241300" y="68580"/>
                  </a:lnTo>
                  <a:lnTo>
                    <a:pt x="236220" y="67310"/>
                  </a:lnTo>
                  <a:lnTo>
                    <a:pt x="231140" y="67310"/>
                  </a:lnTo>
                  <a:lnTo>
                    <a:pt x="224790" y="67310"/>
                  </a:lnTo>
                  <a:lnTo>
                    <a:pt x="218440" y="67310"/>
                  </a:lnTo>
                  <a:lnTo>
                    <a:pt x="209550" y="67310"/>
                  </a:lnTo>
                  <a:lnTo>
                    <a:pt x="199390" y="67310"/>
                  </a:lnTo>
                  <a:lnTo>
                    <a:pt x="189230" y="67310"/>
                  </a:lnTo>
                  <a:lnTo>
                    <a:pt x="176530" y="67310"/>
                  </a:lnTo>
                  <a:lnTo>
                    <a:pt x="165100" y="67310"/>
                  </a:lnTo>
                  <a:lnTo>
                    <a:pt x="152400" y="66040"/>
                  </a:lnTo>
                  <a:lnTo>
                    <a:pt x="139700" y="64770"/>
                  </a:lnTo>
                  <a:lnTo>
                    <a:pt x="127000" y="63500"/>
                  </a:lnTo>
                  <a:lnTo>
                    <a:pt x="114300" y="60960"/>
                  </a:lnTo>
                  <a:lnTo>
                    <a:pt x="102870" y="58420"/>
                  </a:lnTo>
                  <a:lnTo>
                    <a:pt x="91440" y="55880"/>
                  </a:lnTo>
                  <a:lnTo>
                    <a:pt x="81280" y="50800"/>
                  </a:lnTo>
                  <a:lnTo>
                    <a:pt x="77470" y="49530"/>
                  </a:lnTo>
                  <a:lnTo>
                    <a:pt x="72390" y="46990"/>
                  </a:lnTo>
                  <a:lnTo>
                    <a:pt x="68580" y="43180"/>
                  </a:lnTo>
                  <a:lnTo>
                    <a:pt x="64770" y="40640"/>
                  </a:lnTo>
                  <a:lnTo>
                    <a:pt x="62230" y="38100"/>
                  </a:lnTo>
                  <a:lnTo>
                    <a:pt x="59690" y="33020"/>
                  </a:lnTo>
                  <a:lnTo>
                    <a:pt x="55880" y="31750"/>
                  </a:lnTo>
                  <a:lnTo>
                    <a:pt x="50800" y="30480"/>
                  </a:lnTo>
                  <a:lnTo>
                    <a:pt x="43180" y="26670"/>
                  </a:lnTo>
                  <a:lnTo>
                    <a:pt x="24130" y="17780"/>
                  </a:lnTo>
                  <a:lnTo>
                    <a:pt x="15240" y="12700"/>
                  </a:lnTo>
                  <a:lnTo>
                    <a:pt x="8890" y="7620"/>
                  </a:lnTo>
                  <a:lnTo>
                    <a:pt x="5080" y="6350"/>
                  </a:lnTo>
                  <a:lnTo>
                    <a:pt x="2540" y="3810"/>
                  </a:lnTo>
                  <a:lnTo>
                    <a:pt x="1270" y="2540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523d1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ihandform 43"/>
            <p:cNvSpPr/>
            <p:nvPr/>
          </p:nvSpPr>
          <p:spPr>
            <a:xfrm>
              <a:off x="2809800" y="2469960"/>
              <a:ext cx="345960" cy="60120"/>
            </a:xfrm>
            <a:custGeom>
              <a:avLst/>
              <a:gdLst>
                <a:gd name="textAreaLeft" fmla="*/ 0 w 345960"/>
                <a:gd name="textAreaRight" fmla="*/ 346320 w 34596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283211" h="74930">
                  <a:moveTo>
                    <a:pt x="283210" y="74929"/>
                  </a:moveTo>
                  <a:lnTo>
                    <a:pt x="276860" y="72389"/>
                  </a:lnTo>
                  <a:lnTo>
                    <a:pt x="270510" y="68579"/>
                  </a:lnTo>
                  <a:lnTo>
                    <a:pt x="259079" y="60959"/>
                  </a:lnTo>
                  <a:lnTo>
                    <a:pt x="252729" y="57150"/>
                  </a:lnTo>
                  <a:lnTo>
                    <a:pt x="246379" y="54609"/>
                  </a:lnTo>
                  <a:lnTo>
                    <a:pt x="241300" y="53339"/>
                  </a:lnTo>
                  <a:lnTo>
                    <a:pt x="237489" y="53339"/>
                  </a:lnTo>
                  <a:lnTo>
                    <a:pt x="232410" y="52069"/>
                  </a:lnTo>
                  <a:lnTo>
                    <a:pt x="227329" y="52069"/>
                  </a:lnTo>
                  <a:lnTo>
                    <a:pt x="219710" y="52069"/>
                  </a:lnTo>
                  <a:lnTo>
                    <a:pt x="210820" y="52069"/>
                  </a:lnTo>
                  <a:lnTo>
                    <a:pt x="200660" y="52069"/>
                  </a:lnTo>
                  <a:lnTo>
                    <a:pt x="190500" y="52069"/>
                  </a:lnTo>
                  <a:lnTo>
                    <a:pt x="179070" y="52069"/>
                  </a:lnTo>
                  <a:lnTo>
                    <a:pt x="166370" y="52069"/>
                  </a:lnTo>
                  <a:lnTo>
                    <a:pt x="153670" y="50800"/>
                  </a:lnTo>
                  <a:lnTo>
                    <a:pt x="140970" y="50800"/>
                  </a:lnTo>
                  <a:lnTo>
                    <a:pt x="128270" y="48260"/>
                  </a:lnTo>
                  <a:lnTo>
                    <a:pt x="115570" y="46989"/>
                  </a:lnTo>
                  <a:lnTo>
                    <a:pt x="104139" y="44450"/>
                  </a:lnTo>
                  <a:lnTo>
                    <a:pt x="93979" y="40639"/>
                  </a:lnTo>
                  <a:lnTo>
                    <a:pt x="83820" y="36829"/>
                  </a:lnTo>
                  <a:lnTo>
                    <a:pt x="78739" y="34289"/>
                  </a:lnTo>
                  <a:lnTo>
                    <a:pt x="74929" y="31750"/>
                  </a:lnTo>
                  <a:lnTo>
                    <a:pt x="71120" y="29210"/>
                  </a:lnTo>
                  <a:lnTo>
                    <a:pt x="67310" y="25400"/>
                  </a:lnTo>
                  <a:lnTo>
                    <a:pt x="63500" y="22860"/>
                  </a:lnTo>
                  <a:lnTo>
                    <a:pt x="60960" y="19050"/>
                  </a:lnTo>
                  <a:lnTo>
                    <a:pt x="53339" y="15239"/>
                  </a:lnTo>
                  <a:lnTo>
                    <a:pt x="44450" y="13970"/>
                  </a:lnTo>
                  <a:lnTo>
                    <a:pt x="25400" y="8889"/>
                  </a:lnTo>
                  <a:lnTo>
                    <a:pt x="16510" y="7620"/>
                  </a:lnTo>
                  <a:lnTo>
                    <a:pt x="8889" y="5079"/>
                  </a:lnTo>
                  <a:lnTo>
                    <a:pt x="6350" y="3810"/>
                  </a:lnTo>
                  <a:lnTo>
                    <a:pt x="3810" y="2539"/>
                  </a:lnTo>
                  <a:lnTo>
                    <a:pt x="1270" y="1270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523d1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ihandform 44"/>
            <p:cNvSpPr/>
            <p:nvPr/>
          </p:nvSpPr>
          <p:spPr>
            <a:xfrm>
              <a:off x="2743200" y="2602080"/>
              <a:ext cx="342720" cy="71280"/>
            </a:xfrm>
            <a:custGeom>
              <a:avLst/>
              <a:gdLst>
                <a:gd name="textAreaLeft" fmla="*/ 0 w 342720"/>
                <a:gd name="textAreaRight" fmla="*/ 343080 w 34272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279401" h="86361">
                  <a:moveTo>
                    <a:pt x="279400" y="86360"/>
                  </a:moveTo>
                  <a:lnTo>
                    <a:pt x="273050" y="83820"/>
                  </a:lnTo>
                  <a:lnTo>
                    <a:pt x="267970" y="80010"/>
                  </a:lnTo>
                  <a:lnTo>
                    <a:pt x="255270" y="72390"/>
                  </a:lnTo>
                  <a:lnTo>
                    <a:pt x="250190" y="68580"/>
                  </a:lnTo>
                  <a:lnTo>
                    <a:pt x="242570" y="66040"/>
                  </a:lnTo>
                  <a:lnTo>
                    <a:pt x="237490" y="64770"/>
                  </a:lnTo>
                  <a:lnTo>
                    <a:pt x="233680" y="64770"/>
                  </a:lnTo>
                  <a:lnTo>
                    <a:pt x="228600" y="63500"/>
                  </a:lnTo>
                  <a:lnTo>
                    <a:pt x="223520" y="63500"/>
                  </a:lnTo>
                  <a:lnTo>
                    <a:pt x="215900" y="63500"/>
                  </a:lnTo>
                  <a:lnTo>
                    <a:pt x="208280" y="63500"/>
                  </a:lnTo>
                  <a:lnTo>
                    <a:pt x="198120" y="64770"/>
                  </a:lnTo>
                  <a:lnTo>
                    <a:pt x="186690" y="64770"/>
                  </a:lnTo>
                  <a:lnTo>
                    <a:pt x="175260" y="64770"/>
                  </a:lnTo>
                  <a:lnTo>
                    <a:pt x="162560" y="63500"/>
                  </a:lnTo>
                  <a:lnTo>
                    <a:pt x="149860" y="63500"/>
                  </a:lnTo>
                  <a:lnTo>
                    <a:pt x="137160" y="62230"/>
                  </a:lnTo>
                  <a:lnTo>
                    <a:pt x="125730" y="60960"/>
                  </a:lnTo>
                  <a:lnTo>
                    <a:pt x="113030" y="58420"/>
                  </a:lnTo>
                  <a:lnTo>
                    <a:pt x="100330" y="55880"/>
                  </a:lnTo>
                  <a:lnTo>
                    <a:pt x="90170" y="52070"/>
                  </a:lnTo>
                  <a:lnTo>
                    <a:pt x="80010" y="48260"/>
                  </a:lnTo>
                  <a:lnTo>
                    <a:pt x="74930" y="45720"/>
                  </a:lnTo>
                  <a:lnTo>
                    <a:pt x="71120" y="43180"/>
                  </a:lnTo>
                  <a:lnTo>
                    <a:pt x="67310" y="40640"/>
                  </a:lnTo>
                  <a:lnTo>
                    <a:pt x="63500" y="36830"/>
                  </a:lnTo>
                  <a:lnTo>
                    <a:pt x="60960" y="34290"/>
                  </a:lnTo>
                  <a:lnTo>
                    <a:pt x="57150" y="30480"/>
                  </a:lnTo>
                  <a:lnTo>
                    <a:pt x="49530" y="26670"/>
                  </a:lnTo>
                  <a:lnTo>
                    <a:pt x="40640" y="22860"/>
                  </a:lnTo>
                  <a:lnTo>
                    <a:pt x="24130" y="15240"/>
                  </a:lnTo>
                  <a:lnTo>
                    <a:pt x="15240" y="10160"/>
                  </a:lnTo>
                  <a:lnTo>
                    <a:pt x="8890" y="7620"/>
                  </a:lnTo>
                  <a:lnTo>
                    <a:pt x="5080" y="5080"/>
                  </a:lnTo>
                  <a:lnTo>
                    <a:pt x="2540" y="3810"/>
                  </a:lnTo>
                  <a:lnTo>
                    <a:pt x="1270" y="1270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523d1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ihandform 45"/>
            <p:cNvSpPr/>
            <p:nvPr/>
          </p:nvSpPr>
          <p:spPr>
            <a:xfrm>
              <a:off x="2736720" y="2691000"/>
              <a:ext cx="258480" cy="48960"/>
            </a:xfrm>
            <a:custGeom>
              <a:avLst/>
              <a:gdLst>
                <a:gd name="textAreaLeft" fmla="*/ 0 w 258480"/>
                <a:gd name="textAreaRight" fmla="*/ 258840 w 25848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210821" h="59691">
                  <a:moveTo>
                    <a:pt x="210820" y="59690"/>
                  </a:moveTo>
                  <a:lnTo>
                    <a:pt x="200660" y="52070"/>
                  </a:lnTo>
                  <a:lnTo>
                    <a:pt x="190500" y="44450"/>
                  </a:lnTo>
                  <a:lnTo>
                    <a:pt x="179070" y="38100"/>
                  </a:lnTo>
                  <a:lnTo>
                    <a:pt x="173990" y="35560"/>
                  </a:lnTo>
                  <a:lnTo>
                    <a:pt x="167640" y="33020"/>
                  </a:lnTo>
                  <a:lnTo>
                    <a:pt x="162560" y="33020"/>
                  </a:lnTo>
                  <a:lnTo>
                    <a:pt x="154940" y="34290"/>
                  </a:lnTo>
                  <a:lnTo>
                    <a:pt x="147320" y="34290"/>
                  </a:lnTo>
                  <a:lnTo>
                    <a:pt x="139700" y="34290"/>
                  </a:lnTo>
                  <a:lnTo>
                    <a:pt x="132080" y="34290"/>
                  </a:lnTo>
                  <a:lnTo>
                    <a:pt x="123190" y="33020"/>
                  </a:lnTo>
                  <a:lnTo>
                    <a:pt x="105410" y="31750"/>
                  </a:lnTo>
                  <a:lnTo>
                    <a:pt x="96520" y="30480"/>
                  </a:lnTo>
                  <a:lnTo>
                    <a:pt x="86360" y="27940"/>
                  </a:lnTo>
                  <a:lnTo>
                    <a:pt x="77470" y="25400"/>
                  </a:lnTo>
                  <a:lnTo>
                    <a:pt x="69850" y="21590"/>
                  </a:lnTo>
                  <a:lnTo>
                    <a:pt x="62230" y="17780"/>
                  </a:lnTo>
                  <a:lnTo>
                    <a:pt x="54610" y="13970"/>
                  </a:lnTo>
                  <a:lnTo>
                    <a:pt x="48260" y="8890"/>
                  </a:lnTo>
                  <a:lnTo>
                    <a:pt x="41910" y="2540"/>
                  </a:lnTo>
                  <a:lnTo>
                    <a:pt x="36830" y="2540"/>
                  </a:lnTo>
                  <a:lnTo>
                    <a:pt x="31750" y="2540"/>
                  </a:lnTo>
                  <a:lnTo>
                    <a:pt x="21590" y="3810"/>
                  </a:lnTo>
                  <a:lnTo>
                    <a:pt x="17780" y="5080"/>
                  </a:lnTo>
                  <a:lnTo>
                    <a:pt x="12700" y="3810"/>
                  </a:lnTo>
                  <a:lnTo>
                    <a:pt x="6350" y="2540"/>
                  </a:lnTo>
                  <a:lnTo>
                    <a:pt x="3810" y="1270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6c59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ihandform 46"/>
            <p:cNvSpPr/>
            <p:nvPr/>
          </p:nvSpPr>
          <p:spPr>
            <a:xfrm>
              <a:off x="2741760" y="2766960"/>
              <a:ext cx="174600" cy="3636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143511" h="44451">
                  <a:moveTo>
                    <a:pt x="143510" y="44450"/>
                  </a:moveTo>
                  <a:lnTo>
                    <a:pt x="138430" y="41910"/>
                  </a:lnTo>
                  <a:lnTo>
                    <a:pt x="132080" y="38100"/>
                  </a:lnTo>
                  <a:lnTo>
                    <a:pt x="127000" y="35560"/>
                  </a:lnTo>
                  <a:lnTo>
                    <a:pt x="124460" y="35560"/>
                  </a:lnTo>
                  <a:lnTo>
                    <a:pt x="121920" y="35560"/>
                  </a:lnTo>
                  <a:lnTo>
                    <a:pt x="113030" y="38100"/>
                  </a:lnTo>
                  <a:lnTo>
                    <a:pt x="104140" y="39370"/>
                  </a:lnTo>
                  <a:lnTo>
                    <a:pt x="93980" y="39370"/>
                  </a:lnTo>
                  <a:lnTo>
                    <a:pt x="85090" y="39370"/>
                  </a:lnTo>
                  <a:lnTo>
                    <a:pt x="74930" y="38100"/>
                  </a:lnTo>
                  <a:lnTo>
                    <a:pt x="66040" y="36830"/>
                  </a:lnTo>
                  <a:lnTo>
                    <a:pt x="58420" y="35560"/>
                  </a:lnTo>
                  <a:lnTo>
                    <a:pt x="49530" y="33020"/>
                  </a:lnTo>
                  <a:lnTo>
                    <a:pt x="40640" y="30480"/>
                  </a:lnTo>
                  <a:lnTo>
                    <a:pt x="33020" y="26670"/>
                  </a:lnTo>
                  <a:lnTo>
                    <a:pt x="25400" y="22860"/>
                  </a:lnTo>
                  <a:lnTo>
                    <a:pt x="19050" y="19050"/>
                  </a:lnTo>
                  <a:lnTo>
                    <a:pt x="12700" y="13970"/>
                  </a:lnTo>
                  <a:lnTo>
                    <a:pt x="7620" y="8890"/>
                  </a:lnTo>
                  <a:lnTo>
                    <a:pt x="3810" y="5080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6c59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ihandform 47"/>
            <p:cNvSpPr/>
            <p:nvPr/>
          </p:nvSpPr>
          <p:spPr>
            <a:xfrm>
              <a:off x="2741760" y="2789280"/>
              <a:ext cx="166680" cy="29880"/>
            </a:xfrm>
            <a:custGeom>
              <a:avLst/>
              <a:gdLst>
                <a:gd name="textAreaLeft" fmla="*/ 0 w 166680"/>
                <a:gd name="textAreaRight" fmla="*/ 167040 w 16668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137161" h="35560">
                  <a:moveTo>
                    <a:pt x="137160" y="35559"/>
                  </a:moveTo>
                  <a:lnTo>
                    <a:pt x="130810" y="33020"/>
                  </a:lnTo>
                  <a:lnTo>
                    <a:pt x="125730" y="29209"/>
                  </a:lnTo>
                  <a:lnTo>
                    <a:pt x="120650" y="26670"/>
                  </a:lnTo>
                  <a:lnTo>
                    <a:pt x="118110" y="26670"/>
                  </a:lnTo>
                  <a:lnTo>
                    <a:pt x="114300" y="26670"/>
                  </a:lnTo>
                  <a:lnTo>
                    <a:pt x="106680" y="29209"/>
                  </a:lnTo>
                  <a:lnTo>
                    <a:pt x="97790" y="30479"/>
                  </a:lnTo>
                  <a:lnTo>
                    <a:pt x="87630" y="31750"/>
                  </a:lnTo>
                  <a:lnTo>
                    <a:pt x="80010" y="31750"/>
                  </a:lnTo>
                  <a:lnTo>
                    <a:pt x="71120" y="31750"/>
                  </a:lnTo>
                  <a:lnTo>
                    <a:pt x="62230" y="31750"/>
                  </a:lnTo>
                  <a:lnTo>
                    <a:pt x="54610" y="30479"/>
                  </a:lnTo>
                  <a:lnTo>
                    <a:pt x="45720" y="29209"/>
                  </a:lnTo>
                  <a:lnTo>
                    <a:pt x="38100" y="26670"/>
                  </a:lnTo>
                  <a:lnTo>
                    <a:pt x="30480" y="24129"/>
                  </a:lnTo>
                  <a:lnTo>
                    <a:pt x="24130" y="21590"/>
                  </a:lnTo>
                  <a:lnTo>
                    <a:pt x="17780" y="17779"/>
                  </a:lnTo>
                  <a:lnTo>
                    <a:pt x="12700" y="13970"/>
                  </a:lnTo>
                  <a:lnTo>
                    <a:pt x="7620" y="10159"/>
                  </a:lnTo>
                  <a:lnTo>
                    <a:pt x="3810" y="5079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6c59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ihandform 48"/>
            <p:cNvSpPr/>
            <p:nvPr/>
          </p:nvSpPr>
          <p:spPr>
            <a:xfrm>
              <a:off x="2746440" y="2811600"/>
              <a:ext cx="160200" cy="29880"/>
            </a:xfrm>
            <a:custGeom>
              <a:avLst/>
              <a:gdLst>
                <a:gd name="textAreaLeft" fmla="*/ 0 w 160200"/>
                <a:gd name="textAreaRight" fmla="*/ 160560 w 16020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130811" h="36831">
                  <a:moveTo>
                    <a:pt x="130810" y="36830"/>
                  </a:moveTo>
                  <a:lnTo>
                    <a:pt x="128270" y="34290"/>
                  </a:lnTo>
                  <a:lnTo>
                    <a:pt x="127000" y="31750"/>
                  </a:lnTo>
                  <a:lnTo>
                    <a:pt x="125729" y="30480"/>
                  </a:lnTo>
                  <a:lnTo>
                    <a:pt x="124460" y="27940"/>
                  </a:lnTo>
                  <a:lnTo>
                    <a:pt x="123189" y="26670"/>
                  </a:lnTo>
                  <a:lnTo>
                    <a:pt x="121920" y="25400"/>
                  </a:lnTo>
                  <a:lnTo>
                    <a:pt x="120650" y="24130"/>
                  </a:lnTo>
                  <a:lnTo>
                    <a:pt x="119379" y="24130"/>
                  </a:lnTo>
                  <a:lnTo>
                    <a:pt x="118110" y="24130"/>
                  </a:lnTo>
                  <a:lnTo>
                    <a:pt x="116839" y="25400"/>
                  </a:lnTo>
                  <a:lnTo>
                    <a:pt x="114300" y="26670"/>
                  </a:lnTo>
                  <a:lnTo>
                    <a:pt x="106679" y="27940"/>
                  </a:lnTo>
                  <a:lnTo>
                    <a:pt x="96520" y="30480"/>
                  </a:lnTo>
                  <a:lnTo>
                    <a:pt x="87629" y="31750"/>
                  </a:lnTo>
                  <a:lnTo>
                    <a:pt x="78739" y="31750"/>
                  </a:lnTo>
                  <a:lnTo>
                    <a:pt x="69850" y="31750"/>
                  </a:lnTo>
                  <a:lnTo>
                    <a:pt x="62229" y="31750"/>
                  </a:lnTo>
                  <a:lnTo>
                    <a:pt x="53339" y="30480"/>
                  </a:lnTo>
                  <a:lnTo>
                    <a:pt x="45720" y="27940"/>
                  </a:lnTo>
                  <a:lnTo>
                    <a:pt x="38100" y="26670"/>
                  </a:lnTo>
                  <a:lnTo>
                    <a:pt x="30479" y="24130"/>
                  </a:lnTo>
                  <a:lnTo>
                    <a:pt x="24129" y="20320"/>
                  </a:lnTo>
                  <a:lnTo>
                    <a:pt x="17779" y="17780"/>
                  </a:lnTo>
                  <a:lnTo>
                    <a:pt x="11429" y="13970"/>
                  </a:lnTo>
                  <a:lnTo>
                    <a:pt x="7620" y="10160"/>
                  </a:lnTo>
                  <a:lnTo>
                    <a:pt x="2539" y="5080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6c59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ihandform 49"/>
            <p:cNvSpPr/>
            <p:nvPr/>
          </p:nvSpPr>
          <p:spPr>
            <a:xfrm>
              <a:off x="2759040" y="2913120"/>
              <a:ext cx="176040" cy="23760"/>
            </a:xfrm>
            <a:custGeom>
              <a:avLst/>
              <a:gdLst>
                <a:gd name="textAreaLeft" fmla="*/ 0 w 176040"/>
                <a:gd name="textAreaRight" fmla="*/ 176400 w 17604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144781" h="30481">
                  <a:moveTo>
                    <a:pt x="144780" y="30480"/>
                  </a:moveTo>
                  <a:lnTo>
                    <a:pt x="140970" y="27940"/>
                  </a:lnTo>
                  <a:lnTo>
                    <a:pt x="137160" y="25400"/>
                  </a:lnTo>
                  <a:lnTo>
                    <a:pt x="129540" y="20320"/>
                  </a:lnTo>
                  <a:lnTo>
                    <a:pt x="124460" y="19050"/>
                  </a:lnTo>
                  <a:lnTo>
                    <a:pt x="121920" y="16510"/>
                  </a:lnTo>
                  <a:lnTo>
                    <a:pt x="118110" y="16510"/>
                  </a:lnTo>
                  <a:lnTo>
                    <a:pt x="115570" y="16510"/>
                  </a:lnTo>
                  <a:lnTo>
                    <a:pt x="97790" y="20320"/>
                  </a:lnTo>
                  <a:lnTo>
                    <a:pt x="88900" y="22860"/>
                  </a:lnTo>
                  <a:lnTo>
                    <a:pt x="80010" y="24130"/>
                  </a:lnTo>
                  <a:lnTo>
                    <a:pt x="71120" y="24130"/>
                  </a:lnTo>
                  <a:lnTo>
                    <a:pt x="62230" y="24130"/>
                  </a:lnTo>
                  <a:lnTo>
                    <a:pt x="53340" y="24130"/>
                  </a:lnTo>
                  <a:lnTo>
                    <a:pt x="45720" y="22860"/>
                  </a:lnTo>
                  <a:lnTo>
                    <a:pt x="38100" y="22860"/>
                  </a:lnTo>
                  <a:lnTo>
                    <a:pt x="31750" y="20320"/>
                  </a:lnTo>
                  <a:lnTo>
                    <a:pt x="24130" y="17780"/>
                  </a:lnTo>
                  <a:lnTo>
                    <a:pt x="17780" y="15241"/>
                  </a:lnTo>
                  <a:lnTo>
                    <a:pt x="12700" y="12700"/>
                  </a:lnTo>
                  <a:lnTo>
                    <a:pt x="7620" y="8891"/>
                  </a:lnTo>
                  <a:lnTo>
                    <a:pt x="3810" y="5080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6c59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ihandform 50"/>
            <p:cNvSpPr/>
            <p:nvPr/>
          </p:nvSpPr>
          <p:spPr>
            <a:xfrm>
              <a:off x="2766960" y="2934000"/>
              <a:ext cx="180720" cy="21960"/>
            </a:xfrm>
            <a:custGeom>
              <a:avLst/>
              <a:gdLst>
                <a:gd name="textAreaLeft" fmla="*/ 0 w 180720"/>
                <a:gd name="textAreaRight" fmla="*/ 181080 w 180720"/>
                <a:gd name="textAreaTop" fmla="*/ 0 h 21960"/>
                <a:gd name="textAreaBottom" fmla="*/ 21960 h 21960"/>
              </a:gdLst>
              <a:ahLst/>
              <a:rect l="textAreaLeft" t="textAreaTop" r="textAreaRight" b="textAreaBottom"/>
              <a:pathLst>
                <a:path w="148591" h="27942">
                  <a:moveTo>
                    <a:pt x="148590" y="27941"/>
                  </a:moveTo>
                  <a:lnTo>
                    <a:pt x="143510" y="25400"/>
                  </a:lnTo>
                  <a:lnTo>
                    <a:pt x="138430" y="22860"/>
                  </a:lnTo>
                  <a:lnTo>
                    <a:pt x="128270" y="19050"/>
                  </a:lnTo>
                  <a:lnTo>
                    <a:pt x="123190" y="16510"/>
                  </a:lnTo>
                  <a:lnTo>
                    <a:pt x="119380" y="15241"/>
                  </a:lnTo>
                  <a:lnTo>
                    <a:pt x="115570" y="13970"/>
                  </a:lnTo>
                  <a:lnTo>
                    <a:pt x="111760" y="13970"/>
                  </a:lnTo>
                  <a:lnTo>
                    <a:pt x="93980" y="19050"/>
                  </a:lnTo>
                  <a:lnTo>
                    <a:pt x="85090" y="20320"/>
                  </a:lnTo>
                  <a:lnTo>
                    <a:pt x="77470" y="21591"/>
                  </a:lnTo>
                  <a:lnTo>
                    <a:pt x="68580" y="22860"/>
                  </a:lnTo>
                  <a:lnTo>
                    <a:pt x="59690" y="22860"/>
                  </a:lnTo>
                  <a:lnTo>
                    <a:pt x="52070" y="22860"/>
                  </a:lnTo>
                  <a:lnTo>
                    <a:pt x="44450" y="22860"/>
                  </a:lnTo>
                  <a:lnTo>
                    <a:pt x="36830" y="21591"/>
                  </a:lnTo>
                  <a:lnTo>
                    <a:pt x="30480" y="20320"/>
                  </a:lnTo>
                  <a:lnTo>
                    <a:pt x="24130" y="17780"/>
                  </a:lnTo>
                  <a:lnTo>
                    <a:pt x="17780" y="15241"/>
                  </a:lnTo>
                  <a:lnTo>
                    <a:pt x="12700" y="12700"/>
                  </a:lnTo>
                  <a:lnTo>
                    <a:pt x="7620" y="8891"/>
                  </a:lnTo>
                  <a:lnTo>
                    <a:pt x="3810" y="5080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6c59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ihandform 51"/>
            <p:cNvSpPr/>
            <p:nvPr/>
          </p:nvSpPr>
          <p:spPr>
            <a:xfrm>
              <a:off x="2751120" y="2567160"/>
              <a:ext cx="363600" cy="80640"/>
            </a:xfrm>
            <a:custGeom>
              <a:avLst/>
              <a:gdLst>
                <a:gd name="textAreaLeft" fmla="*/ 0 w 363600"/>
                <a:gd name="textAreaRight" fmla="*/ 363960 w 36360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297181" h="99061">
                  <a:moveTo>
                    <a:pt x="297180" y="99060"/>
                  </a:moveTo>
                  <a:lnTo>
                    <a:pt x="289560" y="95250"/>
                  </a:lnTo>
                  <a:lnTo>
                    <a:pt x="283210" y="90170"/>
                  </a:lnTo>
                  <a:lnTo>
                    <a:pt x="267970" y="80010"/>
                  </a:lnTo>
                  <a:lnTo>
                    <a:pt x="260350" y="76200"/>
                  </a:lnTo>
                  <a:lnTo>
                    <a:pt x="252730" y="72390"/>
                  </a:lnTo>
                  <a:lnTo>
                    <a:pt x="247650" y="71120"/>
                  </a:lnTo>
                  <a:lnTo>
                    <a:pt x="243840" y="69850"/>
                  </a:lnTo>
                  <a:lnTo>
                    <a:pt x="237490" y="69850"/>
                  </a:lnTo>
                  <a:lnTo>
                    <a:pt x="232410" y="68580"/>
                  </a:lnTo>
                  <a:lnTo>
                    <a:pt x="226060" y="68580"/>
                  </a:lnTo>
                  <a:lnTo>
                    <a:pt x="217170" y="68580"/>
                  </a:lnTo>
                  <a:lnTo>
                    <a:pt x="207010" y="69850"/>
                  </a:lnTo>
                  <a:lnTo>
                    <a:pt x="195580" y="69850"/>
                  </a:lnTo>
                  <a:lnTo>
                    <a:pt x="184150" y="69850"/>
                  </a:lnTo>
                  <a:lnTo>
                    <a:pt x="172720" y="68580"/>
                  </a:lnTo>
                  <a:lnTo>
                    <a:pt x="160020" y="68580"/>
                  </a:lnTo>
                  <a:lnTo>
                    <a:pt x="147320" y="67310"/>
                  </a:lnTo>
                  <a:lnTo>
                    <a:pt x="134620" y="66040"/>
                  </a:lnTo>
                  <a:lnTo>
                    <a:pt x="121920" y="63500"/>
                  </a:lnTo>
                  <a:lnTo>
                    <a:pt x="110490" y="60960"/>
                  </a:lnTo>
                  <a:lnTo>
                    <a:pt x="99060" y="58420"/>
                  </a:lnTo>
                  <a:lnTo>
                    <a:pt x="88900" y="53340"/>
                  </a:lnTo>
                  <a:lnTo>
                    <a:pt x="83820" y="52070"/>
                  </a:lnTo>
                  <a:lnTo>
                    <a:pt x="80010" y="49530"/>
                  </a:lnTo>
                  <a:lnTo>
                    <a:pt x="76200" y="45720"/>
                  </a:lnTo>
                  <a:lnTo>
                    <a:pt x="72390" y="43180"/>
                  </a:lnTo>
                  <a:lnTo>
                    <a:pt x="69850" y="39370"/>
                  </a:lnTo>
                  <a:lnTo>
                    <a:pt x="66040" y="35560"/>
                  </a:lnTo>
                  <a:lnTo>
                    <a:pt x="62230" y="34290"/>
                  </a:lnTo>
                  <a:lnTo>
                    <a:pt x="58420" y="33020"/>
                  </a:lnTo>
                  <a:lnTo>
                    <a:pt x="48260" y="27940"/>
                  </a:lnTo>
                  <a:lnTo>
                    <a:pt x="39370" y="22860"/>
                  </a:lnTo>
                  <a:lnTo>
                    <a:pt x="27940" y="17780"/>
                  </a:lnTo>
                  <a:lnTo>
                    <a:pt x="19050" y="12700"/>
                  </a:lnTo>
                  <a:lnTo>
                    <a:pt x="13970" y="10160"/>
                  </a:lnTo>
                  <a:lnTo>
                    <a:pt x="10160" y="7620"/>
                  </a:lnTo>
                  <a:lnTo>
                    <a:pt x="6350" y="5080"/>
                  </a:lnTo>
                  <a:lnTo>
                    <a:pt x="3810" y="2540"/>
                  </a:lnTo>
                  <a:lnTo>
                    <a:pt x="1270" y="1270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6c59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ihandform 52"/>
            <p:cNvSpPr/>
            <p:nvPr/>
          </p:nvSpPr>
          <p:spPr>
            <a:xfrm>
              <a:off x="2736720" y="2749680"/>
              <a:ext cx="193680" cy="39600"/>
            </a:xfrm>
            <a:custGeom>
              <a:avLst/>
              <a:gdLst>
                <a:gd name="textAreaLeft" fmla="*/ 0 w 193680"/>
                <a:gd name="textAreaRight" fmla="*/ 194040 w 19368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156211" h="49531">
                  <a:moveTo>
                    <a:pt x="156210" y="49530"/>
                  </a:moveTo>
                  <a:lnTo>
                    <a:pt x="151130" y="45720"/>
                  </a:lnTo>
                  <a:lnTo>
                    <a:pt x="147320" y="40640"/>
                  </a:lnTo>
                  <a:lnTo>
                    <a:pt x="144780" y="39370"/>
                  </a:lnTo>
                  <a:lnTo>
                    <a:pt x="142240" y="36830"/>
                  </a:lnTo>
                  <a:lnTo>
                    <a:pt x="139700" y="36830"/>
                  </a:lnTo>
                  <a:lnTo>
                    <a:pt x="137160" y="36830"/>
                  </a:lnTo>
                  <a:lnTo>
                    <a:pt x="128270" y="39370"/>
                  </a:lnTo>
                  <a:lnTo>
                    <a:pt x="118110" y="40640"/>
                  </a:lnTo>
                  <a:lnTo>
                    <a:pt x="107950" y="40640"/>
                  </a:lnTo>
                  <a:lnTo>
                    <a:pt x="97790" y="40640"/>
                  </a:lnTo>
                  <a:lnTo>
                    <a:pt x="87630" y="39370"/>
                  </a:lnTo>
                  <a:lnTo>
                    <a:pt x="77470" y="38100"/>
                  </a:lnTo>
                  <a:lnTo>
                    <a:pt x="67310" y="36830"/>
                  </a:lnTo>
                  <a:lnTo>
                    <a:pt x="57150" y="33020"/>
                  </a:lnTo>
                  <a:lnTo>
                    <a:pt x="46990" y="30480"/>
                  </a:lnTo>
                  <a:lnTo>
                    <a:pt x="38100" y="26670"/>
                  </a:lnTo>
                  <a:lnTo>
                    <a:pt x="29210" y="24130"/>
                  </a:lnTo>
                  <a:lnTo>
                    <a:pt x="21590" y="19050"/>
                  </a:lnTo>
                  <a:lnTo>
                    <a:pt x="15240" y="15240"/>
                  </a:lnTo>
                  <a:lnTo>
                    <a:pt x="8890" y="10160"/>
                  </a:lnTo>
                  <a:lnTo>
                    <a:pt x="3810" y="5080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6c59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ihandform 53"/>
            <p:cNvSpPr/>
            <p:nvPr/>
          </p:nvSpPr>
          <p:spPr>
            <a:xfrm>
              <a:off x="2778120" y="2961000"/>
              <a:ext cx="93600" cy="936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76201" h="12701">
                  <a:moveTo>
                    <a:pt x="76200" y="10159"/>
                  </a:moveTo>
                  <a:lnTo>
                    <a:pt x="71120" y="11429"/>
                  </a:lnTo>
                  <a:lnTo>
                    <a:pt x="64770" y="12700"/>
                  </a:lnTo>
                  <a:lnTo>
                    <a:pt x="58420" y="12700"/>
                  </a:lnTo>
                  <a:lnTo>
                    <a:pt x="53339" y="12700"/>
                  </a:lnTo>
                  <a:lnTo>
                    <a:pt x="49529" y="12700"/>
                  </a:lnTo>
                  <a:lnTo>
                    <a:pt x="44450" y="12700"/>
                  </a:lnTo>
                  <a:lnTo>
                    <a:pt x="35560" y="10159"/>
                  </a:lnTo>
                  <a:lnTo>
                    <a:pt x="26670" y="7620"/>
                  </a:lnTo>
                  <a:lnTo>
                    <a:pt x="17779" y="3809"/>
                  </a:lnTo>
                  <a:lnTo>
                    <a:pt x="10160" y="2540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6c59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ihandform 54"/>
            <p:cNvSpPr/>
            <p:nvPr/>
          </p:nvSpPr>
          <p:spPr>
            <a:xfrm>
              <a:off x="2763720" y="2536920"/>
              <a:ext cx="371520" cy="80640"/>
            </a:xfrm>
            <a:custGeom>
              <a:avLst/>
              <a:gdLst>
                <a:gd name="textAreaLeft" fmla="*/ 0 w 371520"/>
                <a:gd name="textAreaRight" fmla="*/ 371880 w 37152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302261" h="99061">
                  <a:moveTo>
                    <a:pt x="302260" y="99060"/>
                  </a:moveTo>
                  <a:lnTo>
                    <a:pt x="293370" y="95250"/>
                  </a:lnTo>
                  <a:lnTo>
                    <a:pt x="284480" y="90170"/>
                  </a:lnTo>
                  <a:lnTo>
                    <a:pt x="265430" y="78739"/>
                  </a:lnTo>
                  <a:lnTo>
                    <a:pt x="256540" y="73660"/>
                  </a:lnTo>
                  <a:lnTo>
                    <a:pt x="247650" y="69850"/>
                  </a:lnTo>
                  <a:lnTo>
                    <a:pt x="241300" y="68580"/>
                  </a:lnTo>
                  <a:lnTo>
                    <a:pt x="236220" y="67310"/>
                  </a:lnTo>
                  <a:lnTo>
                    <a:pt x="231140" y="66039"/>
                  </a:lnTo>
                  <a:lnTo>
                    <a:pt x="226060" y="66039"/>
                  </a:lnTo>
                  <a:lnTo>
                    <a:pt x="218440" y="66039"/>
                  </a:lnTo>
                  <a:lnTo>
                    <a:pt x="210820" y="66039"/>
                  </a:lnTo>
                  <a:lnTo>
                    <a:pt x="200660" y="66039"/>
                  </a:lnTo>
                  <a:lnTo>
                    <a:pt x="189230" y="66039"/>
                  </a:lnTo>
                  <a:lnTo>
                    <a:pt x="177800" y="66039"/>
                  </a:lnTo>
                  <a:lnTo>
                    <a:pt x="165100" y="66039"/>
                  </a:lnTo>
                  <a:lnTo>
                    <a:pt x="152400" y="66039"/>
                  </a:lnTo>
                  <a:lnTo>
                    <a:pt x="139700" y="64770"/>
                  </a:lnTo>
                  <a:lnTo>
                    <a:pt x="127000" y="63500"/>
                  </a:lnTo>
                  <a:lnTo>
                    <a:pt x="115570" y="60960"/>
                  </a:lnTo>
                  <a:lnTo>
                    <a:pt x="104140" y="58420"/>
                  </a:lnTo>
                  <a:lnTo>
                    <a:pt x="92710" y="54610"/>
                  </a:lnTo>
                  <a:lnTo>
                    <a:pt x="82550" y="50800"/>
                  </a:lnTo>
                  <a:lnTo>
                    <a:pt x="77470" y="48260"/>
                  </a:lnTo>
                  <a:lnTo>
                    <a:pt x="73660" y="45720"/>
                  </a:lnTo>
                  <a:lnTo>
                    <a:pt x="69850" y="43179"/>
                  </a:lnTo>
                  <a:lnTo>
                    <a:pt x="66040" y="39370"/>
                  </a:lnTo>
                  <a:lnTo>
                    <a:pt x="62230" y="36829"/>
                  </a:lnTo>
                  <a:lnTo>
                    <a:pt x="59690" y="33020"/>
                  </a:lnTo>
                  <a:lnTo>
                    <a:pt x="55880" y="31750"/>
                  </a:lnTo>
                  <a:lnTo>
                    <a:pt x="52070" y="29210"/>
                  </a:lnTo>
                  <a:lnTo>
                    <a:pt x="43180" y="25400"/>
                  </a:lnTo>
                  <a:lnTo>
                    <a:pt x="25400" y="16510"/>
                  </a:lnTo>
                  <a:lnTo>
                    <a:pt x="16510" y="11429"/>
                  </a:lnTo>
                  <a:lnTo>
                    <a:pt x="8890" y="7620"/>
                  </a:lnTo>
                  <a:lnTo>
                    <a:pt x="6350" y="5079"/>
                  </a:lnTo>
                  <a:lnTo>
                    <a:pt x="3810" y="3810"/>
                  </a:lnTo>
                  <a:lnTo>
                    <a:pt x="2540" y="1270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6c59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ihandform 55"/>
            <p:cNvSpPr/>
            <p:nvPr/>
          </p:nvSpPr>
          <p:spPr>
            <a:xfrm>
              <a:off x="2776680" y="2508120"/>
              <a:ext cx="371520" cy="82440"/>
            </a:xfrm>
            <a:custGeom>
              <a:avLst/>
              <a:gdLst>
                <a:gd name="textAreaLeft" fmla="*/ 0 w 371520"/>
                <a:gd name="textAreaRight" fmla="*/ 371880 w 37152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303531" h="100331">
                  <a:moveTo>
                    <a:pt x="303530" y="100330"/>
                  </a:moveTo>
                  <a:lnTo>
                    <a:pt x="294640" y="95250"/>
                  </a:lnTo>
                  <a:lnTo>
                    <a:pt x="284480" y="90170"/>
                  </a:lnTo>
                  <a:lnTo>
                    <a:pt x="266700" y="80010"/>
                  </a:lnTo>
                  <a:lnTo>
                    <a:pt x="256540" y="74930"/>
                  </a:lnTo>
                  <a:lnTo>
                    <a:pt x="246380" y="71120"/>
                  </a:lnTo>
                  <a:lnTo>
                    <a:pt x="236220" y="67310"/>
                  </a:lnTo>
                  <a:lnTo>
                    <a:pt x="231140" y="67310"/>
                  </a:lnTo>
                  <a:lnTo>
                    <a:pt x="224790" y="67310"/>
                  </a:lnTo>
                  <a:lnTo>
                    <a:pt x="218440" y="67310"/>
                  </a:lnTo>
                  <a:lnTo>
                    <a:pt x="209550" y="67310"/>
                  </a:lnTo>
                  <a:lnTo>
                    <a:pt x="199390" y="67310"/>
                  </a:lnTo>
                  <a:lnTo>
                    <a:pt x="189230" y="67310"/>
                  </a:lnTo>
                  <a:lnTo>
                    <a:pt x="176530" y="67310"/>
                  </a:lnTo>
                  <a:lnTo>
                    <a:pt x="165100" y="67310"/>
                  </a:lnTo>
                  <a:lnTo>
                    <a:pt x="152400" y="66040"/>
                  </a:lnTo>
                  <a:lnTo>
                    <a:pt x="139700" y="64770"/>
                  </a:lnTo>
                  <a:lnTo>
                    <a:pt x="127000" y="63500"/>
                  </a:lnTo>
                  <a:lnTo>
                    <a:pt x="114300" y="62230"/>
                  </a:lnTo>
                  <a:lnTo>
                    <a:pt x="102870" y="59690"/>
                  </a:lnTo>
                  <a:lnTo>
                    <a:pt x="91440" y="55880"/>
                  </a:lnTo>
                  <a:lnTo>
                    <a:pt x="82550" y="52070"/>
                  </a:lnTo>
                  <a:lnTo>
                    <a:pt x="77470" y="49530"/>
                  </a:lnTo>
                  <a:lnTo>
                    <a:pt x="72390" y="46990"/>
                  </a:lnTo>
                  <a:lnTo>
                    <a:pt x="68580" y="43180"/>
                  </a:lnTo>
                  <a:lnTo>
                    <a:pt x="66040" y="40640"/>
                  </a:lnTo>
                  <a:lnTo>
                    <a:pt x="62230" y="36830"/>
                  </a:lnTo>
                  <a:lnTo>
                    <a:pt x="59690" y="34290"/>
                  </a:lnTo>
                  <a:lnTo>
                    <a:pt x="55880" y="31750"/>
                  </a:lnTo>
                  <a:lnTo>
                    <a:pt x="52070" y="30480"/>
                  </a:lnTo>
                  <a:lnTo>
                    <a:pt x="43180" y="26670"/>
                  </a:lnTo>
                  <a:lnTo>
                    <a:pt x="24130" y="17780"/>
                  </a:lnTo>
                  <a:lnTo>
                    <a:pt x="16510" y="12700"/>
                  </a:lnTo>
                  <a:lnTo>
                    <a:pt x="8890" y="7620"/>
                  </a:lnTo>
                  <a:lnTo>
                    <a:pt x="5080" y="6350"/>
                  </a:lnTo>
                  <a:lnTo>
                    <a:pt x="2540" y="3810"/>
                  </a:lnTo>
                  <a:lnTo>
                    <a:pt x="1270" y="2540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6c59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ihandform 56"/>
            <p:cNvSpPr/>
            <p:nvPr/>
          </p:nvSpPr>
          <p:spPr>
            <a:xfrm>
              <a:off x="2795760" y="2482920"/>
              <a:ext cx="360360" cy="77760"/>
            </a:xfrm>
            <a:custGeom>
              <a:avLst/>
              <a:gdLst>
                <a:gd name="textAreaLeft" fmla="*/ 0 w 360360"/>
                <a:gd name="textAreaRight" fmla="*/ 360720 w 360360"/>
                <a:gd name="textAreaTop" fmla="*/ 0 h 77760"/>
                <a:gd name="textAreaBottom" fmla="*/ 78120 h 77760"/>
              </a:gdLst>
              <a:ahLst/>
              <a:rect l="textAreaLeft" t="textAreaTop" r="textAreaRight" b="textAreaBottom"/>
              <a:pathLst>
                <a:path w="294641" h="96521">
                  <a:moveTo>
                    <a:pt x="294640" y="96520"/>
                  </a:moveTo>
                  <a:lnTo>
                    <a:pt x="287020" y="92710"/>
                  </a:lnTo>
                  <a:lnTo>
                    <a:pt x="279400" y="87630"/>
                  </a:lnTo>
                  <a:lnTo>
                    <a:pt x="262890" y="78740"/>
                  </a:lnTo>
                  <a:lnTo>
                    <a:pt x="254000" y="73660"/>
                  </a:lnTo>
                  <a:lnTo>
                    <a:pt x="246380" y="69850"/>
                  </a:lnTo>
                  <a:lnTo>
                    <a:pt x="241300" y="68580"/>
                  </a:lnTo>
                  <a:lnTo>
                    <a:pt x="236220" y="67310"/>
                  </a:lnTo>
                  <a:lnTo>
                    <a:pt x="231140" y="67310"/>
                  </a:lnTo>
                  <a:lnTo>
                    <a:pt x="224790" y="67310"/>
                  </a:lnTo>
                  <a:lnTo>
                    <a:pt x="218440" y="67310"/>
                  </a:lnTo>
                  <a:lnTo>
                    <a:pt x="209550" y="67310"/>
                  </a:lnTo>
                  <a:lnTo>
                    <a:pt x="199390" y="67310"/>
                  </a:lnTo>
                  <a:lnTo>
                    <a:pt x="189230" y="67310"/>
                  </a:lnTo>
                  <a:lnTo>
                    <a:pt x="176530" y="67310"/>
                  </a:lnTo>
                  <a:lnTo>
                    <a:pt x="165100" y="67310"/>
                  </a:lnTo>
                  <a:lnTo>
                    <a:pt x="152400" y="66040"/>
                  </a:lnTo>
                  <a:lnTo>
                    <a:pt x="139700" y="64770"/>
                  </a:lnTo>
                  <a:lnTo>
                    <a:pt x="127000" y="63500"/>
                  </a:lnTo>
                  <a:lnTo>
                    <a:pt x="114300" y="60960"/>
                  </a:lnTo>
                  <a:lnTo>
                    <a:pt x="102870" y="58420"/>
                  </a:lnTo>
                  <a:lnTo>
                    <a:pt x="91440" y="55880"/>
                  </a:lnTo>
                  <a:lnTo>
                    <a:pt x="81280" y="50800"/>
                  </a:lnTo>
                  <a:lnTo>
                    <a:pt x="77470" y="49530"/>
                  </a:lnTo>
                  <a:lnTo>
                    <a:pt x="72390" y="46990"/>
                  </a:lnTo>
                  <a:lnTo>
                    <a:pt x="68580" y="43180"/>
                  </a:lnTo>
                  <a:lnTo>
                    <a:pt x="64770" y="40640"/>
                  </a:lnTo>
                  <a:lnTo>
                    <a:pt x="62230" y="38100"/>
                  </a:lnTo>
                  <a:lnTo>
                    <a:pt x="59690" y="33020"/>
                  </a:lnTo>
                  <a:lnTo>
                    <a:pt x="55880" y="31750"/>
                  </a:lnTo>
                  <a:lnTo>
                    <a:pt x="50800" y="30480"/>
                  </a:lnTo>
                  <a:lnTo>
                    <a:pt x="43180" y="26670"/>
                  </a:lnTo>
                  <a:lnTo>
                    <a:pt x="24130" y="17780"/>
                  </a:lnTo>
                  <a:lnTo>
                    <a:pt x="15240" y="12700"/>
                  </a:lnTo>
                  <a:lnTo>
                    <a:pt x="8890" y="7620"/>
                  </a:lnTo>
                  <a:lnTo>
                    <a:pt x="5080" y="6350"/>
                  </a:lnTo>
                  <a:lnTo>
                    <a:pt x="2540" y="3810"/>
                  </a:lnTo>
                  <a:lnTo>
                    <a:pt x="1270" y="2540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6c59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Freihandform 57"/>
            <p:cNvSpPr/>
            <p:nvPr/>
          </p:nvSpPr>
          <p:spPr>
            <a:xfrm>
              <a:off x="2809800" y="2469960"/>
              <a:ext cx="345960" cy="60120"/>
            </a:xfrm>
            <a:custGeom>
              <a:avLst/>
              <a:gdLst>
                <a:gd name="textAreaLeft" fmla="*/ 0 w 345960"/>
                <a:gd name="textAreaRight" fmla="*/ 346320 w 34596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283211" h="74930">
                  <a:moveTo>
                    <a:pt x="283210" y="74929"/>
                  </a:moveTo>
                  <a:lnTo>
                    <a:pt x="276860" y="72389"/>
                  </a:lnTo>
                  <a:lnTo>
                    <a:pt x="270510" y="68579"/>
                  </a:lnTo>
                  <a:lnTo>
                    <a:pt x="259079" y="60959"/>
                  </a:lnTo>
                  <a:lnTo>
                    <a:pt x="252729" y="57150"/>
                  </a:lnTo>
                  <a:lnTo>
                    <a:pt x="246379" y="54609"/>
                  </a:lnTo>
                  <a:lnTo>
                    <a:pt x="241300" y="53339"/>
                  </a:lnTo>
                  <a:lnTo>
                    <a:pt x="237489" y="53339"/>
                  </a:lnTo>
                  <a:lnTo>
                    <a:pt x="232410" y="52069"/>
                  </a:lnTo>
                  <a:lnTo>
                    <a:pt x="227329" y="52069"/>
                  </a:lnTo>
                  <a:lnTo>
                    <a:pt x="219710" y="52069"/>
                  </a:lnTo>
                  <a:lnTo>
                    <a:pt x="210820" y="52069"/>
                  </a:lnTo>
                  <a:lnTo>
                    <a:pt x="200660" y="52069"/>
                  </a:lnTo>
                  <a:lnTo>
                    <a:pt x="190500" y="52069"/>
                  </a:lnTo>
                  <a:lnTo>
                    <a:pt x="179070" y="52069"/>
                  </a:lnTo>
                  <a:lnTo>
                    <a:pt x="166370" y="52069"/>
                  </a:lnTo>
                  <a:lnTo>
                    <a:pt x="153670" y="50800"/>
                  </a:lnTo>
                  <a:lnTo>
                    <a:pt x="140970" y="50800"/>
                  </a:lnTo>
                  <a:lnTo>
                    <a:pt x="128270" y="48260"/>
                  </a:lnTo>
                  <a:lnTo>
                    <a:pt x="115570" y="46989"/>
                  </a:lnTo>
                  <a:lnTo>
                    <a:pt x="104139" y="44450"/>
                  </a:lnTo>
                  <a:lnTo>
                    <a:pt x="93979" y="40639"/>
                  </a:lnTo>
                  <a:lnTo>
                    <a:pt x="83820" y="36829"/>
                  </a:lnTo>
                  <a:lnTo>
                    <a:pt x="78739" y="34289"/>
                  </a:lnTo>
                  <a:lnTo>
                    <a:pt x="74929" y="31750"/>
                  </a:lnTo>
                  <a:lnTo>
                    <a:pt x="71120" y="29210"/>
                  </a:lnTo>
                  <a:lnTo>
                    <a:pt x="67310" y="25400"/>
                  </a:lnTo>
                  <a:lnTo>
                    <a:pt x="63500" y="22860"/>
                  </a:lnTo>
                  <a:lnTo>
                    <a:pt x="60960" y="19050"/>
                  </a:lnTo>
                  <a:lnTo>
                    <a:pt x="53339" y="15239"/>
                  </a:lnTo>
                  <a:lnTo>
                    <a:pt x="44450" y="13970"/>
                  </a:lnTo>
                  <a:lnTo>
                    <a:pt x="25400" y="8889"/>
                  </a:lnTo>
                  <a:lnTo>
                    <a:pt x="16510" y="7620"/>
                  </a:lnTo>
                  <a:lnTo>
                    <a:pt x="8889" y="5079"/>
                  </a:lnTo>
                  <a:lnTo>
                    <a:pt x="6350" y="3810"/>
                  </a:lnTo>
                  <a:lnTo>
                    <a:pt x="3810" y="2539"/>
                  </a:lnTo>
                  <a:lnTo>
                    <a:pt x="1270" y="1270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6c59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Freihandform 58"/>
            <p:cNvSpPr/>
            <p:nvPr/>
          </p:nvSpPr>
          <p:spPr>
            <a:xfrm>
              <a:off x="2743200" y="2602080"/>
              <a:ext cx="342720" cy="71280"/>
            </a:xfrm>
            <a:custGeom>
              <a:avLst/>
              <a:gdLst>
                <a:gd name="textAreaLeft" fmla="*/ 0 w 342720"/>
                <a:gd name="textAreaRight" fmla="*/ 343080 w 34272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279401" h="86361">
                  <a:moveTo>
                    <a:pt x="279400" y="86360"/>
                  </a:moveTo>
                  <a:lnTo>
                    <a:pt x="273050" y="83820"/>
                  </a:lnTo>
                  <a:lnTo>
                    <a:pt x="267970" y="80010"/>
                  </a:lnTo>
                  <a:lnTo>
                    <a:pt x="255270" y="72390"/>
                  </a:lnTo>
                  <a:lnTo>
                    <a:pt x="250190" y="68580"/>
                  </a:lnTo>
                  <a:lnTo>
                    <a:pt x="242570" y="66040"/>
                  </a:lnTo>
                  <a:lnTo>
                    <a:pt x="237490" y="64770"/>
                  </a:lnTo>
                  <a:lnTo>
                    <a:pt x="233680" y="64770"/>
                  </a:lnTo>
                  <a:lnTo>
                    <a:pt x="228600" y="63500"/>
                  </a:lnTo>
                  <a:lnTo>
                    <a:pt x="223520" y="63500"/>
                  </a:lnTo>
                  <a:lnTo>
                    <a:pt x="215900" y="63500"/>
                  </a:lnTo>
                  <a:lnTo>
                    <a:pt x="207010" y="63500"/>
                  </a:lnTo>
                  <a:lnTo>
                    <a:pt x="198120" y="64770"/>
                  </a:lnTo>
                  <a:lnTo>
                    <a:pt x="186690" y="64770"/>
                  </a:lnTo>
                  <a:lnTo>
                    <a:pt x="175260" y="64770"/>
                  </a:lnTo>
                  <a:lnTo>
                    <a:pt x="162560" y="63500"/>
                  </a:lnTo>
                  <a:lnTo>
                    <a:pt x="149860" y="63500"/>
                  </a:lnTo>
                  <a:lnTo>
                    <a:pt x="137160" y="62230"/>
                  </a:lnTo>
                  <a:lnTo>
                    <a:pt x="124460" y="60960"/>
                  </a:lnTo>
                  <a:lnTo>
                    <a:pt x="113030" y="58420"/>
                  </a:lnTo>
                  <a:lnTo>
                    <a:pt x="100330" y="55880"/>
                  </a:lnTo>
                  <a:lnTo>
                    <a:pt x="90170" y="52070"/>
                  </a:lnTo>
                  <a:lnTo>
                    <a:pt x="80010" y="48260"/>
                  </a:lnTo>
                  <a:lnTo>
                    <a:pt x="74930" y="45720"/>
                  </a:lnTo>
                  <a:lnTo>
                    <a:pt x="71120" y="43180"/>
                  </a:lnTo>
                  <a:lnTo>
                    <a:pt x="67310" y="40640"/>
                  </a:lnTo>
                  <a:lnTo>
                    <a:pt x="63500" y="36830"/>
                  </a:lnTo>
                  <a:lnTo>
                    <a:pt x="60960" y="34290"/>
                  </a:lnTo>
                  <a:lnTo>
                    <a:pt x="57150" y="30480"/>
                  </a:lnTo>
                  <a:lnTo>
                    <a:pt x="49530" y="26670"/>
                  </a:lnTo>
                  <a:lnTo>
                    <a:pt x="40640" y="22860"/>
                  </a:lnTo>
                  <a:lnTo>
                    <a:pt x="24130" y="15240"/>
                  </a:lnTo>
                  <a:lnTo>
                    <a:pt x="15240" y="10160"/>
                  </a:lnTo>
                  <a:lnTo>
                    <a:pt x="8890" y="7620"/>
                  </a:lnTo>
                  <a:lnTo>
                    <a:pt x="5080" y="5080"/>
                  </a:lnTo>
                  <a:lnTo>
                    <a:pt x="3810" y="3810"/>
                  </a:lnTo>
                  <a:lnTo>
                    <a:pt x="1270" y="1270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6c59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ihandform 59"/>
            <p:cNvSpPr/>
            <p:nvPr/>
          </p:nvSpPr>
          <p:spPr>
            <a:xfrm>
              <a:off x="2736720" y="2691000"/>
              <a:ext cx="258480" cy="48960"/>
            </a:xfrm>
            <a:custGeom>
              <a:avLst/>
              <a:gdLst>
                <a:gd name="textAreaLeft" fmla="*/ 0 w 258480"/>
                <a:gd name="textAreaRight" fmla="*/ 258840 w 25848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210821" h="59691">
                  <a:moveTo>
                    <a:pt x="210820" y="59690"/>
                  </a:moveTo>
                  <a:lnTo>
                    <a:pt x="200660" y="52070"/>
                  </a:lnTo>
                  <a:lnTo>
                    <a:pt x="190500" y="44450"/>
                  </a:lnTo>
                  <a:lnTo>
                    <a:pt x="179070" y="38100"/>
                  </a:lnTo>
                  <a:lnTo>
                    <a:pt x="173990" y="35560"/>
                  </a:lnTo>
                  <a:lnTo>
                    <a:pt x="167640" y="33020"/>
                  </a:lnTo>
                  <a:lnTo>
                    <a:pt x="162560" y="33020"/>
                  </a:lnTo>
                  <a:lnTo>
                    <a:pt x="154940" y="34290"/>
                  </a:lnTo>
                  <a:lnTo>
                    <a:pt x="147320" y="34290"/>
                  </a:lnTo>
                  <a:lnTo>
                    <a:pt x="139700" y="34290"/>
                  </a:lnTo>
                  <a:lnTo>
                    <a:pt x="132080" y="34290"/>
                  </a:lnTo>
                  <a:lnTo>
                    <a:pt x="123190" y="33020"/>
                  </a:lnTo>
                  <a:lnTo>
                    <a:pt x="105410" y="31750"/>
                  </a:lnTo>
                  <a:lnTo>
                    <a:pt x="96520" y="30480"/>
                  </a:lnTo>
                  <a:lnTo>
                    <a:pt x="86360" y="27940"/>
                  </a:lnTo>
                  <a:lnTo>
                    <a:pt x="77470" y="25400"/>
                  </a:lnTo>
                  <a:lnTo>
                    <a:pt x="69850" y="21590"/>
                  </a:lnTo>
                  <a:lnTo>
                    <a:pt x="62230" y="17780"/>
                  </a:lnTo>
                  <a:lnTo>
                    <a:pt x="54610" y="13970"/>
                  </a:lnTo>
                  <a:lnTo>
                    <a:pt x="48260" y="8890"/>
                  </a:lnTo>
                  <a:lnTo>
                    <a:pt x="41910" y="2540"/>
                  </a:lnTo>
                  <a:lnTo>
                    <a:pt x="36830" y="2540"/>
                  </a:lnTo>
                  <a:lnTo>
                    <a:pt x="31750" y="2540"/>
                  </a:lnTo>
                  <a:lnTo>
                    <a:pt x="21590" y="3810"/>
                  </a:lnTo>
                  <a:lnTo>
                    <a:pt x="17780" y="5080"/>
                  </a:lnTo>
                  <a:lnTo>
                    <a:pt x="12700" y="3810"/>
                  </a:lnTo>
                  <a:lnTo>
                    <a:pt x="6350" y="2540"/>
                  </a:lnTo>
                  <a:lnTo>
                    <a:pt x="3810" y="1270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8475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ihandform 60"/>
            <p:cNvSpPr/>
            <p:nvPr/>
          </p:nvSpPr>
          <p:spPr>
            <a:xfrm>
              <a:off x="2741760" y="2766960"/>
              <a:ext cx="174600" cy="3636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143511" h="44451">
                  <a:moveTo>
                    <a:pt x="143510" y="44450"/>
                  </a:moveTo>
                  <a:lnTo>
                    <a:pt x="138430" y="41910"/>
                  </a:lnTo>
                  <a:lnTo>
                    <a:pt x="132080" y="38100"/>
                  </a:lnTo>
                  <a:lnTo>
                    <a:pt x="127000" y="35560"/>
                  </a:lnTo>
                  <a:lnTo>
                    <a:pt x="124460" y="35560"/>
                  </a:lnTo>
                  <a:lnTo>
                    <a:pt x="121920" y="35560"/>
                  </a:lnTo>
                  <a:lnTo>
                    <a:pt x="113030" y="38100"/>
                  </a:lnTo>
                  <a:lnTo>
                    <a:pt x="104140" y="39370"/>
                  </a:lnTo>
                  <a:lnTo>
                    <a:pt x="93980" y="39370"/>
                  </a:lnTo>
                  <a:lnTo>
                    <a:pt x="85090" y="39370"/>
                  </a:lnTo>
                  <a:lnTo>
                    <a:pt x="74930" y="38100"/>
                  </a:lnTo>
                  <a:lnTo>
                    <a:pt x="66040" y="36830"/>
                  </a:lnTo>
                  <a:lnTo>
                    <a:pt x="58420" y="35560"/>
                  </a:lnTo>
                  <a:lnTo>
                    <a:pt x="49530" y="33020"/>
                  </a:lnTo>
                  <a:lnTo>
                    <a:pt x="40640" y="30480"/>
                  </a:lnTo>
                  <a:lnTo>
                    <a:pt x="33020" y="26670"/>
                  </a:lnTo>
                  <a:lnTo>
                    <a:pt x="25400" y="22860"/>
                  </a:lnTo>
                  <a:lnTo>
                    <a:pt x="19050" y="19050"/>
                  </a:lnTo>
                  <a:lnTo>
                    <a:pt x="12700" y="13970"/>
                  </a:lnTo>
                  <a:lnTo>
                    <a:pt x="7620" y="8890"/>
                  </a:lnTo>
                  <a:lnTo>
                    <a:pt x="3810" y="5080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8475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ihandform 61"/>
            <p:cNvSpPr/>
            <p:nvPr/>
          </p:nvSpPr>
          <p:spPr>
            <a:xfrm>
              <a:off x="2741760" y="2789280"/>
              <a:ext cx="166680" cy="29880"/>
            </a:xfrm>
            <a:custGeom>
              <a:avLst/>
              <a:gdLst>
                <a:gd name="textAreaLeft" fmla="*/ 0 w 166680"/>
                <a:gd name="textAreaRight" fmla="*/ 167040 w 16668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137161" h="35560">
                  <a:moveTo>
                    <a:pt x="137160" y="35559"/>
                  </a:moveTo>
                  <a:lnTo>
                    <a:pt x="130810" y="33020"/>
                  </a:lnTo>
                  <a:lnTo>
                    <a:pt x="125730" y="29209"/>
                  </a:lnTo>
                  <a:lnTo>
                    <a:pt x="120650" y="26670"/>
                  </a:lnTo>
                  <a:lnTo>
                    <a:pt x="118110" y="26670"/>
                  </a:lnTo>
                  <a:lnTo>
                    <a:pt x="114300" y="26670"/>
                  </a:lnTo>
                  <a:lnTo>
                    <a:pt x="106680" y="29209"/>
                  </a:lnTo>
                  <a:lnTo>
                    <a:pt x="97790" y="30479"/>
                  </a:lnTo>
                  <a:lnTo>
                    <a:pt x="87630" y="31750"/>
                  </a:lnTo>
                  <a:lnTo>
                    <a:pt x="80010" y="31750"/>
                  </a:lnTo>
                  <a:lnTo>
                    <a:pt x="71120" y="31750"/>
                  </a:lnTo>
                  <a:lnTo>
                    <a:pt x="62230" y="31750"/>
                  </a:lnTo>
                  <a:lnTo>
                    <a:pt x="54610" y="30479"/>
                  </a:lnTo>
                  <a:lnTo>
                    <a:pt x="45720" y="29209"/>
                  </a:lnTo>
                  <a:lnTo>
                    <a:pt x="38100" y="26670"/>
                  </a:lnTo>
                  <a:lnTo>
                    <a:pt x="30480" y="24129"/>
                  </a:lnTo>
                  <a:lnTo>
                    <a:pt x="24130" y="21590"/>
                  </a:lnTo>
                  <a:lnTo>
                    <a:pt x="17780" y="17779"/>
                  </a:lnTo>
                  <a:lnTo>
                    <a:pt x="12700" y="13970"/>
                  </a:lnTo>
                  <a:lnTo>
                    <a:pt x="7620" y="10159"/>
                  </a:lnTo>
                  <a:lnTo>
                    <a:pt x="3810" y="5079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8475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ihandform 62"/>
            <p:cNvSpPr/>
            <p:nvPr/>
          </p:nvSpPr>
          <p:spPr>
            <a:xfrm>
              <a:off x="2746440" y="2811600"/>
              <a:ext cx="160200" cy="29880"/>
            </a:xfrm>
            <a:custGeom>
              <a:avLst/>
              <a:gdLst>
                <a:gd name="textAreaLeft" fmla="*/ 0 w 160200"/>
                <a:gd name="textAreaRight" fmla="*/ 160560 w 16020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130811" h="36831">
                  <a:moveTo>
                    <a:pt x="130810" y="36830"/>
                  </a:moveTo>
                  <a:lnTo>
                    <a:pt x="128270" y="34290"/>
                  </a:lnTo>
                  <a:lnTo>
                    <a:pt x="127000" y="31750"/>
                  </a:lnTo>
                  <a:lnTo>
                    <a:pt x="125729" y="30480"/>
                  </a:lnTo>
                  <a:lnTo>
                    <a:pt x="124460" y="27940"/>
                  </a:lnTo>
                  <a:lnTo>
                    <a:pt x="123189" y="26670"/>
                  </a:lnTo>
                  <a:lnTo>
                    <a:pt x="121920" y="25400"/>
                  </a:lnTo>
                  <a:lnTo>
                    <a:pt x="120650" y="24130"/>
                  </a:lnTo>
                  <a:lnTo>
                    <a:pt x="119379" y="24130"/>
                  </a:lnTo>
                  <a:lnTo>
                    <a:pt x="118110" y="24130"/>
                  </a:lnTo>
                  <a:lnTo>
                    <a:pt x="116839" y="25400"/>
                  </a:lnTo>
                  <a:lnTo>
                    <a:pt x="114300" y="26670"/>
                  </a:lnTo>
                  <a:lnTo>
                    <a:pt x="106679" y="27940"/>
                  </a:lnTo>
                  <a:lnTo>
                    <a:pt x="96520" y="30480"/>
                  </a:lnTo>
                  <a:lnTo>
                    <a:pt x="87629" y="31750"/>
                  </a:lnTo>
                  <a:lnTo>
                    <a:pt x="78739" y="31750"/>
                  </a:lnTo>
                  <a:lnTo>
                    <a:pt x="69850" y="31750"/>
                  </a:lnTo>
                  <a:lnTo>
                    <a:pt x="62229" y="31750"/>
                  </a:lnTo>
                  <a:lnTo>
                    <a:pt x="53339" y="30480"/>
                  </a:lnTo>
                  <a:lnTo>
                    <a:pt x="45720" y="27940"/>
                  </a:lnTo>
                  <a:lnTo>
                    <a:pt x="38100" y="26670"/>
                  </a:lnTo>
                  <a:lnTo>
                    <a:pt x="30479" y="24130"/>
                  </a:lnTo>
                  <a:lnTo>
                    <a:pt x="24129" y="20320"/>
                  </a:lnTo>
                  <a:lnTo>
                    <a:pt x="17779" y="17780"/>
                  </a:lnTo>
                  <a:lnTo>
                    <a:pt x="11429" y="13970"/>
                  </a:lnTo>
                  <a:lnTo>
                    <a:pt x="7620" y="10160"/>
                  </a:lnTo>
                  <a:lnTo>
                    <a:pt x="2539" y="5080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8475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Freihandform 63"/>
            <p:cNvSpPr/>
            <p:nvPr/>
          </p:nvSpPr>
          <p:spPr>
            <a:xfrm>
              <a:off x="2759040" y="2913120"/>
              <a:ext cx="176040" cy="23760"/>
            </a:xfrm>
            <a:custGeom>
              <a:avLst/>
              <a:gdLst>
                <a:gd name="textAreaLeft" fmla="*/ 0 w 176040"/>
                <a:gd name="textAreaRight" fmla="*/ 176400 w 17604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144781" h="30481">
                  <a:moveTo>
                    <a:pt x="144780" y="30480"/>
                  </a:moveTo>
                  <a:lnTo>
                    <a:pt x="140970" y="27940"/>
                  </a:lnTo>
                  <a:lnTo>
                    <a:pt x="137160" y="25400"/>
                  </a:lnTo>
                  <a:lnTo>
                    <a:pt x="129540" y="20320"/>
                  </a:lnTo>
                  <a:lnTo>
                    <a:pt x="124460" y="19050"/>
                  </a:lnTo>
                  <a:lnTo>
                    <a:pt x="121920" y="16510"/>
                  </a:lnTo>
                  <a:lnTo>
                    <a:pt x="118110" y="16510"/>
                  </a:lnTo>
                  <a:lnTo>
                    <a:pt x="115570" y="16510"/>
                  </a:lnTo>
                  <a:lnTo>
                    <a:pt x="97790" y="20320"/>
                  </a:lnTo>
                  <a:lnTo>
                    <a:pt x="88900" y="22860"/>
                  </a:lnTo>
                  <a:lnTo>
                    <a:pt x="80010" y="24130"/>
                  </a:lnTo>
                  <a:lnTo>
                    <a:pt x="71120" y="24130"/>
                  </a:lnTo>
                  <a:lnTo>
                    <a:pt x="62230" y="24130"/>
                  </a:lnTo>
                  <a:lnTo>
                    <a:pt x="53340" y="24130"/>
                  </a:lnTo>
                  <a:lnTo>
                    <a:pt x="45720" y="22860"/>
                  </a:lnTo>
                  <a:lnTo>
                    <a:pt x="38100" y="22860"/>
                  </a:lnTo>
                  <a:lnTo>
                    <a:pt x="31750" y="20320"/>
                  </a:lnTo>
                  <a:lnTo>
                    <a:pt x="24130" y="17780"/>
                  </a:lnTo>
                  <a:lnTo>
                    <a:pt x="17780" y="15241"/>
                  </a:lnTo>
                  <a:lnTo>
                    <a:pt x="12700" y="12700"/>
                  </a:lnTo>
                  <a:lnTo>
                    <a:pt x="7620" y="8891"/>
                  </a:lnTo>
                  <a:lnTo>
                    <a:pt x="3810" y="5080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8475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Freihandform 64"/>
            <p:cNvSpPr/>
            <p:nvPr/>
          </p:nvSpPr>
          <p:spPr>
            <a:xfrm>
              <a:off x="2766960" y="2934000"/>
              <a:ext cx="180720" cy="21960"/>
            </a:xfrm>
            <a:custGeom>
              <a:avLst/>
              <a:gdLst>
                <a:gd name="textAreaLeft" fmla="*/ 0 w 180720"/>
                <a:gd name="textAreaRight" fmla="*/ 181080 w 180720"/>
                <a:gd name="textAreaTop" fmla="*/ 0 h 21960"/>
                <a:gd name="textAreaBottom" fmla="*/ 21960 h 21960"/>
              </a:gdLst>
              <a:ahLst/>
              <a:rect l="textAreaLeft" t="textAreaTop" r="textAreaRight" b="textAreaBottom"/>
              <a:pathLst>
                <a:path w="148591" h="27942">
                  <a:moveTo>
                    <a:pt x="148590" y="27941"/>
                  </a:moveTo>
                  <a:lnTo>
                    <a:pt x="143510" y="25400"/>
                  </a:lnTo>
                  <a:lnTo>
                    <a:pt x="138430" y="22860"/>
                  </a:lnTo>
                  <a:lnTo>
                    <a:pt x="128270" y="19050"/>
                  </a:lnTo>
                  <a:lnTo>
                    <a:pt x="123190" y="16510"/>
                  </a:lnTo>
                  <a:lnTo>
                    <a:pt x="119380" y="15241"/>
                  </a:lnTo>
                  <a:lnTo>
                    <a:pt x="115570" y="13970"/>
                  </a:lnTo>
                  <a:lnTo>
                    <a:pt x="111760" y="13970"/>
                  </a:lnTo>
                  <a:lnTo>
                    <a:pt x="93980" y="19050"/>
                  </a:lnTo>
                  <a:lnTo>
                    <a:pt x="85090" y="20320"/>
                  </a:lnTo>
                  <a:lnTo>
                    <a:pt x="77470" y="21591"/>
                  </a:lnTo>
                  <a:lnTo>
                    <a:pt x="68580" y="22860"/>
                  </a:lnTo>
                  <a:lnTo>
                    <a:pt x="59690" y="22860"/>
                  </a:lnTo>
                  <a:lnTo>
                    <a:pt x="52070" y="22860"/>
                  </a:lnTo>
                  <a:lnTo>
                    <a:pt x="44450" y="22860"/>
                  </a:lnTo>
                  <a:lnTo>
                    <a:pt x="36830" y="21591"/>
                  </a:lnTo>
                  <a:lnTo>
                    <a:pt x="30480" y="20320"/>
                  </a:lnTo>
                  <a:lnTo>
                    <a:pt x="24130" y="17780"/>
                  </a:lnTo>
                  <a:lnTo>
                    <a:pt x="17780" y="15241"/>
                  </a:lnTo>
                  <a:lnTo>
                    <a:pt x="12700" y="12700"/>
                  </a:lnTo>
                  <a:lnTo>
                    <a:pt x="7620" y="8891"/>
                  </a:lnTo>
                  <a:lnTo>
                    <a:pt x="3810" y="5080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8475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Freihandform 65"/>
            <p:cNvSpPr/>
            <p:nvPr/>
          </p:nvSpPr>
          <p:spPr>
            <a:xfrm>
              <a:off x="2751120" y="2567160"/>
              <a:ext cx="363600" cy="80640"/>
            </a:xfrm>
            <a:custGeom>
              <a:avLst/>
              <a:gdLst>
                <a:gd name="textAreaLeft" fmla="*/ 0 w 363600"/>
                <a:gd name="textAreaRight" fmla="*/ 363960 w 36360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297181" h="99061">
                  <a:moveTo>
                    <a:pt x="297180" y="99060"/>
                  </a:moveTo>
                  <a:lnTo>
                    <a:pt x="289560" y="95250"/>
                  </a:lnTo>
                  <a:lnTo>
                    <a:pt x="283210" y="90170"/>
                  </a:lnTo>
                  <a:lnTo>
                    <a:pt x="267970" y="80010"/>
                  </a:lnTo>
                  <a:lnTo>
                    <a:pt x="260350" y="76200"/>
                  </a:lnTo>
                  <a:lnTo>
                    <a:pt x="252730" y="72390"/>
                  </a:lnTo>
                  <a:lnTo>
                    <a:pt x="247650" y="71120"/>
                  </a:lnTo>
                  <a:lnTo>
                    <a:pt x="243840" y="69850"/>
                  </a:lnTo>
                  <a:lnTo>
                    <a:pt x="237490" y="69850"/>
                  </a:lnTo>
                  <a:lnTo>
                    <a:pt x="232410" y="68580"/>
                  </a:lnTo>
                  <a:lnTo>
                    <a:pt x="226060" y="68580"/>
                  </a:lnTo>
                  <a:lnTo>
                    <a:pt x="217170" y="68580"/>
                  </a:lnTo>
                  <a:lnTo>
                    <a:pt x="207010" y="69850"/>
                  </a:lnTo>
                  <a:lnTo>
                    <a:pt x="195580" y="69850"/>
                  </a:lnTo>
                  <a:lnTo>
                    <a:pt x="184150" y="69850"/>
                  </a:lnTo>
                  <a:lnTo>
                    <a:pt x="172720" y="68580"/>
                  </a:lnTo>
                  <a:lnTo>
                    <a:pt x="160020" y="68580"/>
                  </a:lnTo>
                  <a:lnTo>
                    <a:pt x="147320" y="67310"/>
                  </a:lnTo>
                  <a:lnTo>
                    <a:pt x="134620" y="66040"/>
                  </a:lnTo>
                  <a:lnTo>
                    <a:pt x="121920" y="63500"/>
                  </a:lnTo>
                  <a:lnTo>
                    <a:pt x="110490" y="60960"/>
                  </a:lnTo>
                  <a:lnTo>
                    <a:pt x="99060" y="58420"/>
                  </a:lnTo>
                  <a:lnTo>
                    <a:pt x="88900" y="53340"/>
                  </a:lnTo>
                  <a:lnTo>
                    <a:pt x="83820" y="52070"/>
                  </a:lnTo>
                  <a:lnTo>
                    <a:pt x="80010" y="49530"/>
                  </a:lnTo>
                  <a:lnTo>
                    <a:pt x="76200" y="45720"/>
                  </a:lnTo>
                  <a:lnTo>
                    <a:pt x="72390" y="43180"/>
                  </a:lnTo>
                  <a:lnTo>
                    <a:pt x="69850" y="39370"/>
                  </a:lnTo>
                  <a:lnTo>
                    <a:pt x="66040" y="35560"/>
                  </a:lnTo>
                  <a:lnTo>
                    <a:pt x="62230" y="34290"/>
                  </a:lnTo>
                  <a:lnTo>
                    <a:pt x="58420" y="33020"/>
                  </a:lnTo>
                  <a:lnTo>
                    <a:pt x="48260" y="27940"/>
                  </a:lnTo>
                  <a:lnTo>
                    <a:pt x="39370" y="22860"/>
                  </a:lnTo>
                  <a:lnTo>
                    <a:pt x="27940" y="17780"/>
                  </a:lnTo>
                  <a:lnTo>
                    <a:pt x="19050" y="12700"/>
                  </a:lnTo>
                  <a:lnTo>
                    <a:pt x="13970" y="10160"/>
                  </a:lnTo>
                  <a:lnTo>
                    <a:pt x="10160" y="7620"/>
                  </a:lnTo>
                  <a:lnTo>
                    <a:pt x="6350" y="5080"/>
                  </a:lnTo>
                  <a:lnTo>
                    <a:pt x="3810" y="2540"/>
                  </a:lnTo>
                  <a:lnTo>
                    <a:pt x="1270" y="1270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8475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Freihandform 66"/>
            <p:cNvSpPr/>
            <p:nvPr/>
          </p:nvSpPr>
          <p:spPr>
            <a:xfrm>
              <a:off x="2736720" y="2749680"/>
              <a:ext cx="193680" cy="39600"/>
            </a:xfrm>
            <a:custGeom>
              <a:avLst/>
              <a:gdLst>
                <a:gd name="textAreaLeft" fmla="*/ 0 w 193680"/>
                <a:gd name="textAreaRight" fmla="*/ 194040 w 19368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156211" h="49531">
                  <a:moveTo>
                    <a:pt x="156210" y="49530"/>
                  </a:moveTo>
                  <a:lnTo>
                    <a:pt x="151130" y="45720"/>
                  </a:lnTo>
                  <a:lnTo>
                    <a:pt x="147320" y="40640"/>
                  </a:lnTo>
                  <a:lnTo>
                    <a:pt x="144780" y="39370"/>
                  </a:lnTo>
                  <a:lnTo>
                    <a:pt x="142240" y="36830"/>
                  </a:lnTo>
                  <a:lnTo>
                    <a:pt x="139700" y="36830"/>
                  </a:lnTo>
                  <a:lnTo>
                    <a:pt x="137160" y="36830"/>
                  </a:lnTo>
                  <a:lnTo>
                    <a:pt x="128270" y="39370"/>
                  </a:lnTo>
                  <a:lnTo>
                    <a:pt x="118110" y="40640"/>
                  </a:lnTo>
                  <a:lnTo>
                    <a:pt x="107950" y="40640"/>
                  </a:lnTo>
                  <a:lnTo>
                    <a:pt x="97790" y="40640"/>
                  </a:lnTo>
                  <a:lnTo>
                    <a:pt x="87630" y="39370"/>
                  </a:lnTo>
                  <a:lnTo>
                    <a:pt x="77470" y="38100"/>
                  </a:lnTo>
                  <a:lnTo>
                    <a:pt x="67310" y="36830"/>
                  </a:lnTo>
                  <a:lnTo>
                    <a:pt x="57150" y="33020"/>
                  </a:lnTo>
                  <a:lnTo>
                    <a:pt x="46990" y="30480"/>
                  </a:lnTo>
                  <a:lnTo>
                    <a:pt x="38100" y="26670"/>
                  </a:lnTo>
                  <a:lnTo>
                    <a:pt x="29210" y="24130"/>
                  </a:lnTo>
                  <a:lnTo>
                    <a:pt x="21590" y="19050"/>
                  </a:lnTo>
                  <a:lnTo>
                    <a:pt x="15240" y="15240"/>
                  </a:lnTo>
                  <a:lnTo>
                    <a:pt x="8890" y="10160"/>
                  </a:lnTo>
                  <a:lnTo>
                    <a:pt x="3810" y="5080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8475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Freihandform 67"/>
            <p:cNvSpPr/>
            <p:nvPr/>
          </p:nvSpPr>
          <p:spPr>
            <a:xfrm>
              <a:off x="2778120" y="2961000"/>
              <a:ext cx="93600" cy="936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76201" h="12701">
                  <a:moveTo>
                    <a:pt x="76200" y="10159"/>
                  </a:moveTo>
                  <a:lnTo>
                    <a:pt x="71120" y="11429"/>
                  </a:lnTo>
                  <a:lnTo>
                    <a:pt x="64770" y="12700"/>
                  </a:lnTo>
                  <a:lnTo>
                    <a:pt x="58420" y="12700"/>
                  </a:lnTo>
                  <a:lnTo>
                    <a:pt x="53339" y="12700"/>
                  </a:lnTo>
                  <a:lnTo>
                    <a:pt x="49529" y="12700"/>
                  </a:lnTo>
                  <a:lnTo>
                    <a:pt x="44450" y="12700"/>
                  </a:lnTo>
                  <a:lnTo>
                    <a:pt x="35560" y="10159"/>
                  </a:lnTo>
                  <a:lnTo>
                    <a:pt x="26670" y="7620"/>
                  </a:lnTo>
                  <a:lnTo>
                    <a:pt x="17779" y="3809"/>
                  </a:lnTo>
                  <a:lnTo>
                    <a:pt x="10160" y="2540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8475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Freihandform 68"/>
            <p:cNvSpPr/>
            <p:nvPr/>
          </p:nvSpPr>
          <p:spPr>
            <a:xfrm>
              <a:off x="2763720" y="2536920"/>
              <a:ext cx="371520" cy="80640"/>
            </a:xfrm>
            <a:custGeom>
              <a:avLst/>
              <a:gdLst>
                <a:gd name="textAreaLeft" fmla="*/ 0 w 371520"/>
                <a:gd name="textAreaRight" fmla="*/ 371880 w 37152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302261" h="99061">
                  <a:moveTo>
                    <a:pt x="302260" y="99060"/>
                  </a:moveTo>
                  <a:lnTo>
                    <a:pt x="293370" y="95250"/>
                  </a:lnTo>
                  <a:lnTo>
                    <a:pt x="284480" y="90170"/>
                  </a:lnTo>
                  <a:lnTo>
                    <a:pt x="265430" y="78739"/>
                  </a:lnTo>
                  <a:lnTo>
                    <a:pt x="256540" y="73660"/>
                  </a:lnTo>
                  <a:lnTo>
                    <a:pt x="247650" y="69850"/>
                  </a:lnTo>
                  <a:lnTo>
                    <a:pt x="241300" y="68580"/>
                  </a:lnTo>
                  <a:lnTo>
                    <a:pt x="236220" y="67310"/>
                  </a:lnTo>
                  <a:lnTo>
                    <a:pt x="231140" y="66039"/>
                  </a:lnTo>
                  <a:lnTo>
                    <a:pt x="226060" y="66039"/>
                  </a:lnTo>
                  <a:lnTo>
                    <a:pt x="218440" y="66039"/>
                  </a:lnTo>
                  <a:lnTo>
                    <a:pt x="210820" y="66039"/>
                  </a:lnTo>
                  <a:lnTo>
                    <a:pt x="200660" y="66039"/>
                  </a:lnTo>
                  <a:lnTo>
                    <a:pt x="189230" y="66039"/>
                  </a:lnTo>
                  <a:lnTo>
                    <a:pt x="177800" y="66039"/>
                  </a:lnTo>
                  <a:lnTo>
                    <a:pt x="165100" y="66039"/>
                  </a:lnTo>
                  <a:lnTo>
                    <a:pt x="152400" y="66039"/>
                  </a:lnTo>
                  <a:lnTo>
                    <a:pt x="139700" y="64770"/>
                  </a:lnTo>
                  <a:lnTo>
                    <a:pt x="127000" y="63500"/>
                  </a:lnTo>
                  <a:lnTo>
                    <a:pt x="115570" y="60960"/>
                  </a:lnTo>
                  <a:lnTo>
                    <a:pt x="104140" y="58420"/>
                  </a:lnTo>
                  <a:lnTo>
                    <a:pt x="92710" y="54610"/>
                  </a:lnTo>
                  <a:lnTo>
                    <a:pt x="82550" y="50800"/>
                  </a:lnTo>
                  <a:lnTo>
                    <a:pt x="77470" y="48260"/>
                  </a:lnTo>
                  <a:lnTo>
                    <a:pt x="73660" y="45720"/>
                  </a:lnTo>
                  <a:lnTo>
                    <a:pt x="69850" y="43179"/>
                  </a:lnTo>
                  <a:lnTo>
                    <a:pt x="66040" y="39370"/>
                  </a:lnTo>
                  <a:lnTo>
                    <a:pt x="62230" y="36829"/>
                  </a:lnTo>
                  <a:lnTo>
                    <a:pt x="59690" y="33020"/>
                  </a:lnTo>
                  <a:lnTo>
                    <a:pt x="55880" y="31750"/>
                  </a:lnTo>
                  <a:lnTo>
                    <a:pt x="52070" y="29210"/>
                  </a:lnTo>
                  <a:lnTo>
                    <a:pt x="43180" y="25400"/>
                  </a:lnTo>
                  <a:lnTo>
                    <a:pt x="25400" y="16510"/>
                  </a:lnTo>
                  <a:lnTo>
                    <a:pt x="16510" y="11429"/>
                  </a:lnTo>
                  <a:lnTo>
                    <a:pt x="8890" y="7620"/>
                  </a:lnTo>
                  <a:lnTo>
                    <a:pt x="6350" y="5079"/>
                  </a:lnTo>
                  <a:lnTo>
                    <a:pt x="3810" y="3810"/>
                  </a:lnTo>
                  <a:lnTo>
                    <a:pt x="2540" y="1270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8475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Freihandform 69"/>
            <p:cNvSpPr/>
            <p:nvPr/>
          </p:nvSpPr>
          <p:spPr>
            <a:xfrm>
              <a:off x="2776680" y="2508120"/>
              <a:ext cx="371520" cy="82440"/>
            </a:xfrm>
            <a:custGeom>
              <a:avLst/>
              <a:gdLst>
                <a:gd name="textAreaLeft" fmla="*/ 0 w 371520"/>
                <a:gd name="textAreaRight" fmla="*/ 371880 w 37152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303531" h="100331">
                  <a:moveTo>
                    <a:pt x="303530" y="100330"/>
                  </a:moveTo>
                  <a:lnTo>
                    <a:pt x="294640" y="95250"/>
                  </a:lnTo>
                  <a:lnTo>
                    <a:pt x="284480" y="90170"/>
                  </a:lnTo>
                  <a:lnTo>
                    <a:pt x="266700" y="80010"/>
                  </a:lnTo>
                  <a:lnTo>
                    <a:pt x="256540" y="74930"/>
                  </a:lnTo>
                  <a:lnTo>
                    <a:pt x="246380" y="71120"/>
                  </a:lnTo>
                  <a:lnTo>
                    <a:pt x="236220" y="67310"/>
                  </a:lnTo>
                  <a:lnTo>
                    <a:pt x="231140" y="67310"/>
                  </a:lnTo>
                  <a:lnTo>
                    <a:pt x="224790" y="67310"/>
                  </a:lnTo>
                  <a:lnTo>
                    <a:pt x="218440" y="67310"/>
                  </a:lnTo>
                  <a:lnTo>
                    <a:pt x="209550" y="67310"/>
                  </a:lnTo>
                  <a:lnTo>
                    <a:pt x="199390" y="67310"/>
                  </a:lnTo>
                  <a:lnTo>
                    <a:pt x="189230" y="67310"/>
                  </a:lnTo>
                  <a:lnTo>
                    <a:pt x="176530" y="67310"/>
                  </a:lnTo>
                  <a:lnTo>
                    <a:pt x="165100" y="67310"/>
                  </a:lnTo>
                  <a:lnTo>
                    <a:pt x="152400" y="66040"/>
                  </a:lnTo>
                  <a:lnTo>
                    <a:pt x="139700" y="64770"/>
                  </a:lnTo>
                  <a:lnTo>
                    <a:pt x="127000" y="63500"/>
                  </a:lnTo>
                  <a:lnTo>
                    <a:pt x="114300" y="62230"/>
                  </a:lnTo>
                  <a:lnTo>
                    <a:pt x="102870" y="59690"/>
                  </a:lnTo>
                  <a:lnTo>
                    <a:pt x="91440" y="55880"/>
                  </a:lnTo>
                  <a:lnTo>
                    <a:pt x="82550" y="52070"/>
                  </a:lnTo>
                  <a:lnTo>
                    <a:pt x="77470" y="49530"/>
                  </a:lnTo>
                  <a:lnTo>
                    <a:pt x="72390" y="46990"/>
                  </a:lnTo>
                  <a:lnTo>
                    <a:pt x="68580" y="43180"/>
                  </a:lnTo>
                  <a:lnTo>
                    <a:pt x="66040" y="40640"/>
                  </a:lnTo>
                  <a:lnTo>
                    <a:pt x="62230" y="36830"/>
                  </a:lnTo>
                  <a:lnTo>
                    <a:pt x="59690" y="34290"/>
                  </a:lnTo>
                  <a:lnTo>
                    <a:pt x="55880" y="31750"/>
                  </a:lnTo>
                  <a:lnTo>
                    <a:pt x="52070" y="30480"/>
                  </a:lnTo>
                  <a:lnTo>
                    <a:pt x="43180" y="26670"/>
                  </a:lnTo>
                  <a:lnTo>
                    <a:pt x="24130" y="17780"/>
                  </a:lnTo>
                  <a:lnTo>
                    <a:pt x="16510" y="12700"/>
                  </a:lnTo>
                  <a:lnTo>
                    <a:pt x="8890" y="7620"/>
                  </a:lnTo>
                  <a:lnTo>
                    <a:pt x="5080" y="6350"/>
                  </a:lnTo>
                  <a:lnTo>
                    <a:pt x="2540" y="3810"/>
                  </a:lnTo>
                  <a:lnTo>
                    <a:pt x="1270" y="2540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8475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Freihandform 70"/>
            <p:cNvSpPr/>
            <p:nvPr/>
          </p:nvSpPr>
          <p:spPr>
            <a:xfrm>
              <a:off x="2795760" y="2482920"/>
              <a:ext cx="360360" cy="77760"/>
            </a:xfrm>
            <a:custGeom>
              <a:avLst/>
              <a:gdLst>
                <a:gd name="textAreaLeft" fmla="*/ 0 w 360360"/>
                <a:gd name="textAreaRight" fmla="*/ 360720 w 360360"/>
                <a:gd name="textAreaTop" fmla="*/ 0 h 77760"/>
                <a:gd name="textAreaBottom" fmla="*/ 78120 h 77760"/>
              </a:gdLst>
              <a:ahLst/>
              <a:rect l="textAreaLeft" t="textAreaTop" r="textAreaRight" b="textAreaBottom"/>
              <a:pathLst>
                <a:path w="294641" h="96521">
                  <a:moveTo>
                    <a:pt x="294640" y="96520"/>
                  </a:moveTo>
                  <a:lnTo>
                    <a:pt x="287020" y="92710"/>
                  </a:lnTo>
                  <a:lnTo>
                    <a:pt x="279400" y="87630"/>
                  </a:lnTo>
                  <a:lnTo>
                    <a:pt x="262890" y="78740"/>
                  </a:lnTo>
                  <a:lnTo>
                    <a:pt x="254000" y="73660"/>
                  </a:lnTo>
                  <a:lnTo>
                    <a:pt x="246380" y="69850"/>
                  </a:lnTo>
                  <a:lnTo>
                    <a:pt x="241300" y="68580"/>
                  </a:lnTo>
                  <a:lnTo>
                    <a:pt x="236220" y="67310"/>
                  </a:lnTo>
                  <a:lnTo>
                    <a:pt x="231140" y="67310"/>
                  </a:lnTo>
                  <a:lnTo>
                    <a:pt x="224790" y="67310"/>
                  </a:lnTo>
                  <a:lnTo>
                    <a:pt x="218440" y="67310"/>
                  </a:lnTo>
                  <a:lnTo>
                    <a:pt x="209550" y="67310"/>
                  </a:lnTo>
                  <a:lnTo>
                    <a:pt x="199390" y="67310"/>
                  </a:lnTo>
                  <a:lnTo>
                    <a:pt x="189230" y="67310"/>
                  </a:lnTo>
                  <a:lnTo>
                    <a:pt x="176530" y="67310"/>
                  </a:lnTo>
                  <a:lnTo>
                    <a:pt x="165100" y="67310"/>
                  </a:lnTo>
                  <a:lnTo>
                    <a:pt x="152400" y="66040"/>
                  </a:lnTo>
                  <a:lnTo>
                    <a:pt x="139700" y="64770"/>
                  </a:lnTo>
                  <a:lnTo>
                    <a:pt x="127000" y="63500"/>
                  </a:lnTo>
                  <a:lnTo>
                    <a:pt x="114300" y="60960"/>
                  </a:lnTo>
                  <a:lnTo>
                    <a:pt x="102870" y="58420"/>
                  </a:lnTo>
                  <a:lnTo>
                    <a:pt x="91440" y="55880"/>
                  </a:lnTo>
                  <a:lnTo>
                    <a:pt x="81280" y="50800"/>
                  </a:lnTo>
                  <a:lnTo>
                    <a:pt x="77470" y="49530"/>
                  </a:lnTo>
                  <a:lnTo>
                    <a:pt x="72390" y="46990"/>
                  </a:lnTo>
                  <a:lnTo>
                    <a:pt x="68580" y="43180"/>
                  </a:lnTo>
                  <a:lnTo>
                    <a:pt x="64770" y="40640"/>
                  </a:lnTo>
                  <a:lnTo>
                    <a:pt x="62230" y="38100"/>
                  </a:lnTo>
                  <a:lnTo>
                    <a:pt x="59690" y="33020"/>
                  </a:lnTo>
                  <a:lnTo>
                    <a:pt x="55880" y="31750"/>
                  </a:lnTo>
                  <a:lnTo>
                    <a:pt x="50800" y="30480"/>
                  </a:lnTo>
                  <a:lnTo>
                    <a:pt x="43180" y="26670"/>
                  </a:lnTo>
                  <a:lnTo>
                    <a:pt x="24130" y="17780"/>
                  </a:lnTo>
                  <a:lnTo>
                    <a:pt x="15240" y="12700"/>
                  </a:lnTo>
                  <a:lnTo>
                    <a:pt x="8890" y="7620"/>
                  </a:lnTo>
                  <a:lnTo>
                    <a:pt x="5080" y="6350"/>
                  </a:lnTo>
                  <a:lnTo>
                    <a:pt x="2540" y="3810"/>
                  </a:lnTo>
                  <a:lnTo>
                    <a:pt x="1270" y="2540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8475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Freihandform 71"/>
            <p:cNvSpPr/>
            <p:nvPr/>
          </p:nvSpPr>
          <p:spPr>
            <a:xfrm>
              <a:off x="2809800" y="2469960"/>
              <a:ext cx="345960" cy="60120"/>
            </a:xfrm>
            <a:custGeom>
              <a:avLst/>
              <a:gdLst>
                <a:gd name="textAreaLeft" fmla="*/ 0 w 345960"/>
                <a:gd name="textAreaRight" fmla="*/ 346320 w 34596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283211" h="74930">
                  <a:moveTo>
                    <a:pt x="283210" y="74929"/>
                  </a:moveTo>
                  <a:lnTo>
                    <a:pt x="276860" y="72389"/>
                  </a:lnTo>
                  <a:lnTo>
                    <a:pt x="270510" y="68579"/>
                  </a:lnTo>
                  <a:lnTo>
                    <a:pt x="259079" y="60959"/>
                  </a:lnTo>
                  <a:lnTo>
                    <a:pt x="252729" y="57150"/>
                  </a:lnTo>
                  <a:lnTo>
                    <a:pt x="246379" y="54609"/>
                  </a:lnTo>
                  <a:lnTo>
                    <a:pt x="241300" y="53339"/>
                  </a:lnTo>
                  <a:lnTo>
                    <a:pt x="237489" y="53339"/>
                  </a:lnTo>
                  <a:lnTo>
                    <a:pt x="232410" y="52069"/>
                  </a:lnTo>
                  <a:lnTo>
                    <a:pt x="227329" y="52069"/>
                  </a:lnTo>
                  <a:lnTo>
                    <a:pt x="219710" y="52069"/>
                  </a:lnTo>
                  <a:lnTo>
                    <a:pt x="210820" y="52069"/>
                  </a:lnTo>
                  <a:lnTo>
                    <a:pt x="200660" y="52069"/>
                  </a:lnTo>
                  <a:lnTo>
                    <a:pt x="190500" y="52069"/>
                  </a:lnTo>
                  <a:lnTo>
                    <a:pt x="179070" y="52069"/>
                  </a:lnTo>
                  <a:lnTo>
                    <a:pt x="166370" y="52069"/>
                  </a:lnTo>
                  <a:lnTo>
                    <a:pt x="153670" y="50800"/>
                  </a:lnTo>
                  <a:lnTo>
                    <a:pt x="140970" y="50800"/>
                  </a:lnTo>
                  <a:lnTo>
                    <a:pt x="128270" y="48260"/>
                  </a:lnTo>
                  <a:lnTo>
                    <a:pt x="115570" y="46989"/>
                  </a:lnTo>
                  <a:lnTo>
                    <a:pt x="104139" y="44450"/>
                  </a:lnTo>
                  <a:lnTo>
                    <a:pt x="93979" y="40639"/>
                  </a:lnTo>
                  <a:lnTo>
                    <a:pt x="83820" y="36829"/>
                  </a:lnTo>
                  <a:lnTo>
                    <a:pt x="78739" y="34289"/>
                  </a:lnTo>
                  <a:lnTo>
                    <a:pt x="74929" y="31750"/>
                  </a:lnTo>
                  <a:lnTo>
                    <a:pt x="71120" y="29210"/>
                  </a:lnTo>
                  <a:lnTo>
                    <a:pt x="67310" y="25400"/>
                  </a:lnTo>
                  <a:lnTo>
                    <a:pt x="63500" y="22860"/>
                  </a:lnTo>
                  <a:lnTo>
                    <a:pt x="60960" y="19050"/>
                  </a:lnTo>
                  <a:lnTo>
                    <a:pt x="53339" y="15239"/>
                  </a:lnTo>
                  <a:lnTo>
                    <a:pt x="44450" y="13970"/>
                  </a:lnTo>
                  <a:lnTo>
                    <a:pt x="25400" y="8889"/>
                  </a:lnTo>
                  <a:lnTo>
                    <a:pt x="16510" y="7620"/>
                  </a:lnTo>
                  <a:lnTo>
                    <a:pt x="8889" y="5079"/>
                  </a:lnTo>
                  <a:lnTo>
                    <a:pt x="6350" y="3810"/>
                  </a:lnTo>
                  <a:lnTo>
                    <a:pt x="3810" y="2539"/>
                  </a:lnTo>
                  <a:lnTo>
                    <a:pt x="1270" y="1270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8475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Freihandform 72"/>
            <p:cNvSpPr/>
            <p:nvPr/>
          </p:nvSpPr>
          <p:spPr>
            <a:xfrm>
              <a:off x="2743200" y="2602080"/>
              <a:ext cx="342720" cy="71280"/>
            </a:xfrm>
            <a:custGeom>
              <a:avLst/>
              <a:gdLst>
                <a:gd name="textAreaLeft" fmla="*/ 0 w 342720"/>
                <a:gd name="textAreaRight" fmla="*/ 343080 w 34272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279401" h="86361">
                  <a:moveTo>
                    <a:pt x="279400" y="86360"/>
                  </a:moveTo>
                  <a:lnTo>
                    <a:pt x="273050" y="83820"/>
                  </a:lnTo>
                  <a:lnTo>
                    <a:pt x="267970" y="80010"/>
                  </a:lnTo>
                  <a:lnTo>
                    <a:pt x="255270" y="72390"/>
                  </a:lnTo>
                  <a:lnTo>
                    <a:pt x="250190" y="68580"/>
                  </a:lnTo>
                  <a:lnTo>
                    <a:pt x="242570" y="66040"/>
                  </a:lnTo>
                  <a:lnTo>
                    <a:pt x="237490" y="64770"/>
                  </a:lnTo>
                  <a:lnTo>
                    <a:pt x="233680" y="64770"/>
                  </a:lnTo>
                  <a:lnTo>
                    <a:pt x="228600" y="63500"/>
                  </a:lnTo>
                  <a:lnTo>
                    <a:pt x="223520" y="63500"/>
                  </a:lnTo>
                  <a:lnTo>
                    <a:pt x="215900" y="63500"/>
                  </a:lnTo>
                  <a:lnTo>
                    <a:pt x="207010" y="63500"/>
                  </a:lnTo>
                  <a:lnTo>
                    <a:pt x="198120" y="64770"/>
                  </a:lnTo>
                  <a:lnTo>
                    <a:pt x="186690" y="64770"/>
                  </a:lnTo>
                  <a:lnTo>
                    <a:pt x="175260" y="64770"/>
                  </a:lnTo>
                  <a:lnTo>
                    <a:pt x="162560" y="63500"/>
                  </a:lnTo>
                  <a:lnTo>
                    <a:pt x="149860" y="63500"/>
                  </a:lnTo>
                  <a:lnTo>
                    <a:pt x="137160" y="62230"/>
                  </a:lnTo>
                  <a:lnTo>
                    <a:pt x="124460" y="60960"/>
                  </a:lnTo>
                  <a:lnTo>
                    <a:pt x="113030" y="58420"/>
                  </a:lnTo>
                  <a:lnTo>
                    <a:pt x="100330" y="55880"/>
                  </a:lnTo>
                  <a:lnTo>
                    <a:pt x="90170" y="52070"/>
                  </a:lnTo>
                  <a:lnTo>
                    <a:pt x="80010" y="48260"/>
                  </a:lnTo>
                  <a:lnTo>
                    <a:pt x="74930" y="45720"/>
                  </a:lnTo>
                  <a:lnTo>
                    <a:pt x="71120" y="43180"/>
                  </a:lnTo>
                  <a:lnTo>
                    <a:pt x="66040" y="40640"/>
                  </a:lnTo>
                  <a:lnTo>
                    <a:pt x="63500" y="36830"/>
                  </a:lnTo>
                  <a:lnTo>
                    <a:pt x="59690" y="34290"/>
                  </a:lnTo>
                  <a:lnTo>
                    <a:pt x="57150" y="30480"/>
                  </a:lnTo>
                  <a:lnTo>
                    <a:pt x="49530" y="26670"/>
                  </a:lnTo>
                  <a:lnTo>
                    <a:pt x="40640" y="22860"/>
                  </a:lnTo>
                  <a:lnTo>
                    <a:pt x="24130" y="15240"/>
                  </a:lnTo>
                  <a:lnTo>
                    <a:pt x="15240" y="10160"/>
                  </a:lnTo>
                  <a:lnTo>
                    <a:pt x="8890" y="7620"/>
                  </a:lnTo>
                  <a:lnTo>
                    <a:pt x="5080" y="5080"/>
                  </a:lnTo>
                  <a:lnTo>
                    <a:pt x="3810" y="3810"/>
                  </a:lnTo>
                  <a:lnTo>
                    <a:pt x="1270" y="1270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8475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Freihandform 73"/>
            <p:cNvSpPr/>
            <p:nvPr/>
          </p:nvSpPr>
          <p:spPr>
            <a:xfrm>
              <a:off x="2736720" y="2691000"/>
              <a:ext cx="258480" cy="48960"/>
            </a:xfrm>
            <a:custGeom>
              <a:avLst/>
              <a:gdLst>
                <a:gd name="textAreaLeft" fmla="*/ 0 w 258480"/>
                <a:gd name="textAreaRight" fmla="*/ 258840 w 25848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210821" h="59691">
                  <a:moveTo>
                    <a:pt x="210820" y="59690"/>
                  </a:moveTo>
                  <a:lnTo>
                    <a:pt x="200660" y="52070"/>
                  </a:lnTo>
                  <a:lnTo>
                    <a:pt x="190500" y="44450"/>
                  </a:lnTo>
                  <a:lnTo>
                    <a:pt x="179070" y="38100"/>
                  </a:lnTo>
                  <a:lnTo>
                    <a:pt x="173990" y="35560"/>
                  </a:lnTo>
                  <a:lnTo>
                    <a:pt x="167640" y="33020"/>
                  </a:lnTo>
                  <a:lnTo>
                    <a:pt x="162560" y="33020"/>
                  </a:lnTo>
                  <a:lnTo>
                    <a:pt x="154940" y="34290"/>
                  </a:lnTo>
                  <a:lnTo>
                    <a:pt x="147320" y="34290"/>
                  </a:lnTo>
                  <a:lnTo>
                    <a:pt x="139700" y="34290"/>
                  </a:lnTo>
                  <a:lnTo>
                    <a:pt x="132080" y="34290"/>
                  </a:lnTo>
                  <a:lnTo>
                    <a:pt x="123190" y="33020"/>
                  </a:lnTo>
                  <a:lnTo>
                    <a:pt x="105410" y="31750"/>
                  </a:lnTo>
                  <a:lnTo>
                    <a:pt x="96520" y="30480"/>
                  </a:lnTo>
                  <a:lnTo>
                    <a:pt x="86360" y="27940"/>
                  </a:lnTo>
                  <a:lnTo>
                    <a:pt x="77470" y="25400"/>
                  </a:lnTo>
                  <a:lnTo>
                    <a:pt x="69850" y="21590"/>
                  </a:lnTo>
                  <a:lnTo>
                    <a:pt x="62230" y="17780"/>
                  </a:lnTo>
                  <a:lnTo>
                    <a:pt x="54610" y="13970"/>
                  </a:lnTo>
                  <a:lnTo>
                    <a:pt x="48260" y="8890"/>
                  </a:lnTo>
                  <a:lnTo>
                    <a:pt x="41910" y="2540"/>
                  </a:lnTo>
                  <a:lnTo>
                    <a:pt x="36830" y="2540"/>
                  </a:lnTo>
                  <a:lnTo>
                    <a:pt x="31750" y="2540"/>
                  </a:lnTo>
                  <a:lnTo>
                    <a:pt x="21590" y="3810"/>
                  </a:lnTo>
                  <a:lnTo>
                    <a:pt x="17780" y="5080"/>
                  </a:lnTo>
                  <a:lnTo>
                    <a:pt x="12700" y="3810"/>
                  </a:lnTo>
                  <a:lnTo>
                    <a:pt x="6350" y="2540"/>
                  </a:lnTo>
                  <a:lnTo>
                    <a:pt x="3810" y="1270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9c907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Freihandform 74"/>
            <p:cNvSpPr/>
            <p:nvPr/>
          </p:nvSpPr>
          <p:spPr>
            <a:xfrm>
              <a:off x="2741760" y="2766960"/>
              <a:ext cx="174600" cy="3636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143511" h="44451">
                  <a:moveTo>
                    <a:pt x="143510" y="44450"/>
                  </a:moveTo>
                  <a:lnTo>
                    <a:pt x="138430" y="41910"/>
                  </a:lnTo>
                  <a:lnTo>
                    <a:pt x="132080" y="38100"/>
                  </a:lnTo>
                  <a:lnTo>
                    <a:pt x="127000" y="35560"/>
                  </a:lnTo>
                  <a:lnTo>
                    <a:pt x="124460" y="35560"/>
                  </a:lnTo>
                  <a:lnTo>
                    <a:pt x="121920" y="35560"/>
                  </a:lnTo>
                  <a:lnTo>
                    <a:pt x="113030" y="38100"/>
                  </a:lnTo>
                  <a:lnTo>
                    <a:pt x="104140" y="39370"/>
                  </a:lnTo>
                  <a:lnTo>
                    <a:pt x="93980" y="39370"/>
                  </a:lnTo>
                  <a:lnTo>
                    <a:pt x="85090" y="39370"/>
                  </a:lnTo>
                  <a:lnTo>
                    <a:pt x="74930" y="38100"/>
                  </a:lnTo>
                  <a:lnTo>
                    <a:pt x="66040" y="36830"/>
                  </a:lnTo>
                  <a:lnTo>
                    <a:pt x="58420" y="35560"/>
                  </a:lnTo>
                  <a:lnTo>
                    <a:pt x="49530" y="33020"/>
                  </a:lnTo>
                  <a:lnTo>
                    <a:pt x="40640" y="30480"/>
                  </a:lnTo>
                  <a:lnTo>
                    <a:pt x="33020" y="26670"/>
                  </a:lnTo>
                  <a:lnTo>
                    <a:pt x="25400" y="22860"/>
                  </a:lnTo>
                  <a:lnTo>
                    <a:pt x="19050" y="19050"/>
                  </a:lnTo>
                  <a:lnTo>
                    <a:pt x="12700" y="13970"/>
                  </a:lnTo>
                  <a:lnTo>
                    <a:pt x="7620" y="8890"/>
                  </a:lnTo>
                  <a:lnTo>
                    <a:pt x="3810" y="5080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9c907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Freihandform 75"/>
            <p:cNvSpPr/>
            <p:nvPr/>
          </p:nvSpPr>
          <p:spPr>
            <a:xfrm>
              <a:off x="2741760" y="2789280"/>
              <a:ext cx="166680" cy="29880"/>
            </a:xfrm>
            <a:custGeom>
              <a:avLst/>
              <a:gdLst>
                <a:gd name="textAreaLeft" fmla="*/ 0 w 166680"/>
                <a:gd name="textAreaRight" fmla="*/ 167040 w 16668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137161" h="35560">
                  <a:moveTo>
                    <a:pt x="137160" y="35559"/>
                  </a:moveTo>
                  <a:lnTo>
                    <a:pt x="130810" y="33020"/>
                  </a:lnTo>
                  <a:lnTo>
                    <a:pt x="125730" y="29209"/>
                  </a:lnTo>
                  <a:lnTo>
                    <a:pt x="120650" y="26670"/>
                  </a:lnTo>
                  <a:lnTo>
                    <a:pt x="118110" y="26670"/>
                  </a:lnTo>
                  <a:lnTo>
                    <a:pt x="114300" y="26670"/>
                  </a:lnTo>
                  <a:lnTo>
                    <a:pt x="106680" y="29209"/>
                  </a:lnTo>
                  <a:lnTo>
                    <a:pt x="97790" y="30479"/>
                  </a:lnTo>
                  <a:lnTo>
                    <a:pt x="87630" y="31750"/>
                  </a:lnTo>
                  <a:lnTo>
                    <a:pt x="80010" y="31750"/>
                  </a:lnTo>
                  <a:lnTo>
                    <a:pt x="71120" y="31750"/>
                  </a:lnTo>
                  <a:lnTo>
                    <a:pt x="62230" y="31750"/>
                  </a:lnTo>
                  <a:lnTo>
                    <a:pt x="54610" y="30479"/>
                  </a:lnTo>
                  <a:lnTo>
                    <a:pt x="45720" y="29209"/>
                  </a:lnTo>
                  <a:lnTo>
                    <a:pt x="38100" y="26670"/>
                  </a:lnTo>
                  <a:lnTo>
                    <a:pt x="30480" y="24129"/>
                  </a:lnTo>
                  <a:lnTo>
                    <a:pt x="24130" y="21590"/>
                  </a:lnTo>
                  <a:lnTo>
                    <a:pt x="17780" y="17779"/>
                  </a:lnTo>
                  <a:lnTo>
                    <a:pt x="12700" y="13970"/>
                  </a:lnTo>
                  <a:lnTo>
                    <a:pt x="7620" y="10159"/>
                  </a:lnTo>
                  <a:lnTo>
                    <a:pt x="3810" y="5079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9c907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Freihandform 76"/>
            <p:cNvSpPr/>
            <p:nvPr/>
          </p:nvSpPr>
          <p:spPr>
            <a:xfrm>
              <a:off x="2746440" y="2811600"/>
              <a:ext cx="160200" cy="29880"/>
            </a:xfrm>
            <a:custGeom>
              <a:avLst/>
              <a:gdLst>
                <a:gd name="textAreaLeft" fmla="*/ 0 w 160200"/>
                <a:gd name="textAreaRight" fmla="*/ 160560 w 16020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130811" h="36831">
                  <a:moveTo>
                    <a:pt x="130810" y="36830"/>
                  </a:moveTo>
                  <a:lnTo>
                    <a:pt x="128270" y="34290"/>
                  </a:lnTo>
                  <a:lnTo>
                    <a:pt x="127000" y="31750"/>
                  </a:lnTo>
                  <a:lnTo>
                    <a:pt x="125729" y="30480"/>
                  </a:lnTo>
                  <a:lnTo>
                    <a:pt x="124460" y="27940"/>
                  </a:lnTo>
                  <a:lnTo>
                    <a:pt x="123189" y="26670"/>
                  </a:lnTo>
                  <a:lnTo>
                    <a:pt x="121920" y="25400"/>
                  </a:lnTo>
                  <a:lnTo>
                    <a:pt x="120650" y="24130"/>
                  </a:lnTo>
                  <a:lnTo>
                    <a:pt x="119379" y="24130"/>
                  </a:lnTo>
                  <a:lnTo>
                    <a:pt x="118110" y="24130"/>
                  </a:lnTo>
                  <a:lnTo>
                    <a:pt x="116839" y="25400"/>
                  </a:lnTo>
                  <a:lnTo>
                    <a:pt x="114300" y="26670"/>
                  </a:lnTo>
                  <a:lnTo>
                    <a:pt x="106679" y="27940"/>
                  </a:lnTo>
                  <a:lnTo>
                    <a:pt x="96520" y="30480"/>
                  </a:lnTo>
                  <a:lnTo>
                    <a:pt x="87629" y="31750"/>
                  </a:lnTo>
                  <a:lnTo>
                    <a:pt x="78739" y="31750"/>
                  </a:lnTo>
                  <a:lnTo>
                    <a:pt x="69850" y="31750"/>
                  </a:lnTo>
                  <a:lnTo>
                    <a:pt x="62229" y="31750"/>
                  </a:lnTo>
                  <a:lnTo>
                    <a:pt x="53339" y="30480"/>
                  </a:lnTo>
                  <a:lnTo>
                    <a:pt x="45720" y="27940"/>
                  </a:lnTo>
                  <a:lnTo>
                    <a:pt x="38100" y="26670"/>
                  </a:lnTo>
                  <a:lnTo>
                    <a:pt x="30479" y="24130"/>
                  </a:lnTo>
                  <a:lnTo>
                    <a:pt x="24129" y="20320"/>
                  </a:lnTo>
                  <a:lnTo>
                    <a:pt x="17779" y="17780"/>
                  </a:lnTo>
                  <a:lnTo>
                    <a:pt x="11429" y="13970"/>
                  </a:lnTo>
                  <a:lnTo>
                    <a:pt x="7620" y="10160"/>
                  </a:lnTo>
                  <a:lnTo>
                    <a:pt x="2539" y="5080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9c907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Freihandform 77"/>
            <p:cNvSpPr/>
            <p:nvPr/>
          </p:nvSpPr>
          <p:spPr>
            <a:xfrm>
              <a:off x="2759040" y="2913120"/>
              <a:ext cx="176040" cy="23760"/>
            </a:xfrm>
            <a:custGeom>
              <a:avLst/>
              <a:gdLst>
                <a:gd name="textAreaLeft" fmla="*/ 0 w 176040"/>
                <a:gd name="textAreaRight" fmla="*/ 176400 w 17604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144781" h="30481">
                  <a:moveTo>
                    <a:pt x="144780" y="30480"/>
                  </a:moveTo>
                  <a:lnTo>
                    <a:pt x="140970" y="27940"/>
                  </a:lnTo>
                  <a:lnTo>
                    <a:pt x="137160" y="25400"/>
                  </a:lnTo>
                  <a:lnTo>
                    <a:pt x="129540" y="20320"/>
                  </a:lnTo>
                  <a:lnTo>
                    <a:pt x="124460" y="19050"/>
                  </a:lnTo>
                  <a:lnTo>
                    <a:pt x="121920" y="16510"/>
                  </a:lnTo>
                  <a:lnTo>
                    <a:pt x="118110" y="16510"/>
                  </a:lnTo>
                  <a:lnTo>
                    <a:pt x="115570" y="16510"/>
                  </a:lnTo>
                  <a:lnTo>
                    <a:pt x="97790" y="20320"/>
                  </a:lnTo>
                  <a:lnTo>
                    <a:pt x="88900" y="22860"/>
                  </a:lnTo>
                  <a:lnTo>
                    <a:pt x="80010" y="24130"/>
                  </a:lnTo>
                  <a:lnTo>
                    <a:pt x="71120" y="24130"/>
                  </a:lnTo>
                  <a:lnTo>
                    <a:pt x="62230" y="24130"/>
                  </a:lnTo>
                  <a:lnTo>
                    <a:pt x="53340" y="24130"/>
                  </a:lnTo>
                  <a:lnTo>
                    <a:pt x="45720" y="22860"/>
                  </a:lnTo>
                  <a:lnTo>
                    <a:pt x="38100" y="22860"/>
                  </a:lnTo>
                  <a:lnTo>
                    <a:pt x="31750" y="20320"/>
                  </a:lnTo>
                  <a:lnTo>
                    <a:pt x="24130" y="17780"/>
                  </a:lnTo>
                  <a:lnTo>
                    <a:pt x="17780" y="15241"/>
                  </a:lnTo>
                  <a:lnTo>
                    <a:pt x="12700" y="12700"/>
                  </a:lnTo>
                  <a:lnTo>
                    <a:pt x="7620" y="8891"/>
                  </a:lnTo>
                  <a:lnTo>
                    <a:pt x="3810" y="5080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9c907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Freihandform 78"/>
            <p:cNvSpPr/>
            <p:nvPr/>
          </p:nvSpPr>
          <p:spPr>
            <a:xfrm>
              <a:off x="2766960" y="2934000"/>
              <a:ext cx="180720" cy="21960"/>
            </a:xfrm>
            <a:custGeom>
              <a:avLst/>
              <a:gdLst>
                <a:gd name="textAreaLeft" fmla="*/ 0 w 180720"/>
                <a:gd name="textAreaRight" fmla="*/ 181080 w 180720"/>
                <a:gd name="textAreaTop" fmla="*/ 0 h 21960"/>
                <a:gd name="textAreaBottom" fmla="*/ 21960 h 21960"/>
              </a:gdLst>
              <a:ahLst/>
              <a:rect l="textAreaLeft" t="textAreaTop" r="textAreaRight" b="textAreaBottom"/>
              <a:pathLst>
                <a:path w="148591" h="27942">
                  <a:moveTo>
                    <a:pt x="148590" y="27941"/>
                  </a:moveTo>
                  <a:lnTo>
                    <a:pt x="143510" y="25400"/>
                  </a:lnTo>
                  <a:lnTo>
                    <a:pt x="138430" y="22860"/>
                  </a:lnTo>
                  <a:lnTo>
                    <a:pt x="128270" y="19050"/>
                  </a:lnTo>
                  <a:lnTo>
                    <a:pt x="123190" y="16510"/>
                  </a:lnTo>
                  <a:lnTo>
                    <a:pt x="119380" y="15241"/>
                  </a:lnTo>
                  <a:lnTo>
                    <a:pt x="115570" y="13970"/>
                  </a:lnTo>
                  <a:lnTo>
                    <a:pt x="111760" y="13970"/>
                  </a:lnTo>
                  <a:lnTo>
                    <a:pt x="93980" y="19050"/>
                  </a:lnTo>
                  <a:lnTo>
                    <a:pt x="85090" y="20320"/>
                  </a:lnTo>
                  <a:lnTo>
                    <a:pt x="77470" y="21591"/>
                  </a:lnTo>
                  <a:lnTo>
                    <a:pt x="68580" y="22860"/>
                  </a:lnTo>
                  <a:lnTo>
                    <a:pt x="59690" y="22860"/>
                  </a:lnTo>
                  <a:lnTo>
                    <a:pt x="52070" y="22860"/>
                  </a:lnTo>
                  <a:lnTo>
                    <a:pt x="44450" y="22860"/>
                  </a:lnTo>
                  <a:lnTo>
                    <a:pt x="36830" y="21591"/>
                  </a:lnTo>
                  <a:lnTo>
                    <a:pt x="30480" y="20320"/>
                  </a:lnTo>
                  <a:lnTo>
                    <a:pt x="24130" y="17780"/>
                  </a:lnTo>
                  <a:lnTo>
                    <a:pt x="17780" y="15241"/>
                  </a:lnTo>
                  <a:lnTo>
                    <a:pt x="12700" y="12700"/>
                  </a:lnTo>
                  <a:lnTo>
                    <a:pt x="7620" y="8891"/>
                  </a:lnTo>
                  <a:lnTo>
                    <a:pt x="3810" y="5080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9c907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Freihandform 79"/>
            <p:cNvSpPr/>
            <p:nvPr/>
          </p:nvSpPr>
          <p:spPr>
            <a:xfrm>
              <a:off x="2751120" y="2567160"/>
              <a:ext cx="363600" cy="80640"/>
            </a:xfrm>
            <a:custGeom>
              <a:avLst/>
              <a:gdLst>
                <a:gd name="textAreaLeft" fmla="*/ 0 w 363600"/>
                <a:gd name="textAreaRight" fmla="*/ 363960 w 36360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297181" h="99061">
                  <a:moveTo>
                    <a:pt x="297180" y="99060"/>
                  </a:moveTo>
                  <a:lnTo>
                    <a:pt x="289560" y="95250"/>
                  </a:lnTo>
                  <a:lnTo>
                    <a:pt x="283210" y="90170"/>
                  </a:lnTo>
                  <a:lnTo>
                    <a:pt x="267970" y="80010"/>
                  </a:lnTo>
                  <a:lnTo>
                    <a:pt x="260350" y="76200"/>
                  </a:lnTo>
                  <a:lnTo>
                    <a:pt x="252730" y="72390"/>
                  </a:lnTo>
                  <a:lnTo>
                    <a:pt x="247650" y="71120"/>
                  </a:lnTo>
                  <a:lnTo>
                    <a:pt x="243840" y="69850"/>
                  </a:lnTo>
                  <a:lnTo>
                    <a:pt x="237490" y="69850"/>
                  </a:lnTo>
                  <a:lnTo>
                    <a:pt x="232410" y="68580"/>
                  </a:lnTo>
                  <a:lnTo>
                    <a:pt x="226060" y="68580"/>
                  </a:lnTo>
                  <a:lnTo>
                    <a:pt x="217170" y="68580"/>
                  </a:lnTo>
                  <a:lnTo>
                    <a:pt x="207010" y="69850"/>
                  </a:lnTo>
                  <a:lnTo>
                    <a:pt x="195580" y="69850"/>
                  </a:lnTo>
                  <a:lnTo>
                    <a:pt x="184150" y="69850"/>
                  </a:lnTo>
                  <a:lnTo>
                    <a:pt x="172720" y="68580"/>
                  </a:lnTo>
                  <a:lnTo>
                    <a:pt x="160020" y="68580"/>
                  </a:lnTo>
                  <a:lnTo>
                    <a:pt x="147320" y="67310"/>
                  </a:lnTo>
                  <a:lnTo>
                    <a:pt x="134620" y="66040"/>
                  </a:lnTo>
                  <a:lnTo>
                    <a:pt x="121920" y="63500"/>
                  </a:lnTo>
                  <a:lnTo>
                    <a:pt x="110490" y="60960"/>
                  </a:lnTo>
                  <a:lnTo>
                    <a:pt x="99060" y="58420"/>
                  </a:lnTo>
                  <a:lnTo>
                    <a:pt x="88900" y="53340"/>
                  </a:lnTo>
                  <a:lnTo>
                    <a:pt x="83820" y="52070"/>
                  </a:lnTo>
                  <a:lnTo>
                    <a:pt x="80010" y="49530"/>
                  </a:lnTo>
                  <a:lnTo>
                    <a:pt x="76200" y="45720"/>
                  </a:lnTo>
                  <a:lnTo>
                    <a:pt x="72390" y="43180"/>
                  </a:lnTo>
                  <a:lnTo>
                    <a:pt x="69850" y="39370"/>
                  </a:lnTo>
                  <a:lnTo>
                    <a:pt x="66040" y="35560"/>
                  </a:lnTo>
                  <a:lnTo>
                    <a:pt x="62230" y="34290"/>
                  </a:lnTo>
                  <a:lnTo>
                    <a:pt x="58420" y="33020"/>
                  </a:lnTo>
                  <a:lnTo>
                    <a:pt x="48260" y="27940"/>
                  </a:lnTo>
                  <a:lnTo>
                    <a:pt x="39370" y="22860"/>
                  </a:lnTo>
                  <a:lnTo>
                    <a:pt x="27940" y="17780"/>
                  </a:lnTo>
                  <a:lnTo>
                    <a:pt x="19050" y="12700"/>
                  </a:lnTo>
                  <a:lnTo>
                    <a:pt x="13970" y="10160"/>
                  </a:lnTo>
                  <a:lnTo>
                    <a:pt x="10160" y="7620"/>
                  </a:lnTo>
                  <a:lnTo>
                    <a:pt x="6350" y="5080"/>
                  </a:lnTo>
                  <a:lnTo>
                    <a:pt x="3810" y="2540"/>
                  </a:lnTo>
                  <a:lnTo>
                    <a:pt x="1270" y="1270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9c907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Freihandform 80"/>
            <p:cNvSpPr/>
            <p:nvPr/>
          </p:nvSpPr>
          <p:spPr>
            <a:xfrm>
              <a:off x="2736720" y="2749680"/>
              <a:ext cx="193680" cy="39600"/>
            </a:xfrm>
            <a:custGeom>
              <a:avLst/>
              <a:gdLst>
                <a:gd name="textAreaLeft" fmla="*/ 0 w 193680"/>
                <a:gd name="textAreaRight" fmla="*/ 194040 w 19368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156211" h="49531">
                  <a:moveTo>
                    <a:pt x="156210" y="49530"/>
                  </a:moveTo>
                  <a:lnTo>
                    <a:pt x="151130" y="45720"/>
                  </a:lnTo>
                  <a:lnTo>
                    <a:pt x="147320" y="40640"/>
                  </a:lnTo>
                  <a:lnTo>
                    <a:pt x="144780" y="39370"/>
                  </a:lnTo>
                  <a:lnTo>
                    <a:pt x="142240" y="36830"/>
                  </a:lnTo>
                  <a:lnTo>
                    <a:pt x="139700" y="36830"/>
                  </a:lnTo>
                  <a:lnTo>
                    <a:pt x="137160" y="36830"/>
                  </a:lnTo>
                  <a:lnTo>
                    <a:pt x="128270" y="39370"/>
                  </a:lnTo>
                  <a:lnTo>
                    <a:pt x="118110" y="40640"/>
                  </a:lnTo>
                  <a:lnTo>
                    <a:pt x="107950" y="40640"/>
                  </a:lnTo>
                  <a:lnTo>
                    <a:pt x="97790" y="40640"/>
                  </a:lnTo>
                  <a:lnTo>
                    <a:pt x="87630" y="39370"/>
                  </a:lnTo>
                  <a:lnTo>
                    <a:pt x="77470" y="38100"/>
                  </a:lnTo>
                  <a:lnTo>
                    <a:pt x="67310" y="36830"/>
                  </a:lnTo>
                  <a:lnTo>
                    <a:pt x="57150" y="33020"/>
                  </a:lnTo>
                  <a:lnTo>
                    <a:pt x="46990" y="30480"/>
                  </a:lnTo>
                  <a:lnTo>
                    <a:pt x="38100" y="26670"/>
                  </a:lnTo>
                  <a:lnTo>
                    <a:pt x="29210" y="24130"/>
                  </a:lnTo>
                  <a:lnTo>
                    <a:pt x="21590" y="19050"/>
                  </a:lnTo>
                  <a:lnTo>
                    <a:pt x="15240" y="15240"/>
                  </a:lnTo>
                  <a:lnTo>
                    <a:pt x="8890" y="10160"/>
                  </a:lnTo>
                  <a:lnTo>
                    <a:pt x="3810" y="5080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9c907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Freihandform 81"/>
            <p:cNvSpPr/>
            <p:nvPr/>
          </p:nvSpPr>
          <p:spPr>
            <a:xfrm>
              <a:off x="2778120" y="2961000"/>
              <a:ext cx="93600" cy="936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76201" h="12701">
                  <a:moveTo>
                    <a:pt x="76200" y="10159"/>
                  </a:moveTo>
                  <a:lnTo>
                    <a:pt x="71120" y="11429"/>
                  </a:lnTo>
                  <a:lnTo>
                    <a:pt x="64770" y="12700"/>
                  </a:lnTo>
                  <a:lnTo>
                    <a:pt x="58420" y="12700"/>
                  </a:lnTo>
                  <a:lnTo>
                    <a:pt x="53339" y="12700"/>
                  </a:lnTo>
                  <a:lnTo>
                    <a:pt x="49529" y="12700"/>
                  </a:lnTo>
                  <a:lnTo>
                    <a:pt x="44450" y="12700"/>
                  </a:lnTo>
                  <a:lnTo>
                    <a:pt x="35560" y="10159"/>
                  </a:lnTo>
                  <a:lnTo>
                    <a:pt x="26670" y="7620"/>
                  </a:lnTo>
                  <a:lnTo>
                    <a:pt x="17779" y="3809"/>
                  </a:lnTo>
                  <a:lnTo>
                    <a:pt x="10160" y="2540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9c907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Freihandform 82"/>
            <p:cNvSpPr/>
            <p:nvPr/>
          </p:nvSpPr>
          <p:spPr>
            <a:xfrm>
              <a:off x="2763720" y="2536920"/>
              <a:ext cx="371520" cy="80640"/>
            </a:xfrm>
            <a:custGeom>
              <a:avLst/>
              <a:gdLst>
                <a:gd name="textAreaLeft" fmla="*/ 0 w 371520"/>
                <a:gd name="textAreaRight" fmla="*/ 371880 w 37152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302261" h="99061">
                  <a:moveTo>
                    <a:pt x="302260" y="99060"/>
                  </a:moveTo>
                  <a:lnTo>
                    <a:pt x="293370" y="95250"/>
                  </a:lnTo>
                  <a:lnTo>
                    <a:pt x="284480" y="90170"/>
                  </a:lnTo>
                  <a:lnTo>
                    <a:pt x="265430" y="78739"/>
                  </a:lnTo>
                  <a:lnTo>
                    <a:pt x="256540" y="73660"/>
                  </a:lnTo>
                  <a:lnTo>
                    <a:pt x="247650" y="69850"/>
                  </a:lnTo>
                  <a:lnTo>
                    <a:pt x="241300" y="68580"/>
                  </a:lnTo>
                  <a:lnTo>
                    <a:pt x="236220" y="67310"/>
                  </a:lnTo>
                  <a:lnTo>
                    <a:pt x="231140" y="66039"/>
                  </a:lnTo>
                  <a:lnTo>
                    <a:pt x="226060" y="66039"/>
                  </a:lnTo>
                  <a:lnTo>
                    <a:pt x="218440" y="66039"/>
                  </a:lnTo>
                  <a:lnTo>
                    <a:pt x="210820" y="66039"/>
                  </a:lnTo>
                  <a:lnTo>
                    <a:pt x="200660" y="66039"/>
                  </a:lnTo>
                  <a:lnTo>
                    <a:pt x="189230" y="66039"/>
                  </a:lnTo>
                  <a:lnTo>
                    <a:pt x="177800" y="66039"/>
                  </a:lnTo>
                  <a:lnTo>
                    <a:pt x="165100" y="66039"/>
                  </a:lnTo>
                  <a:lnTo>
                    <a:pt x="152400" y="66039"/>
                  </a:lnTo>
                  <a:lnTo>
                    <a:pt x="139700" y="64770"/>
                  </a:lnTo>
                  <a:lnTo>
                    <a:pt x="127000" y="63500"/>
                  </a:lnTo>
                  <a:lnTo>
                    <a:pt x="115570" y="60960"/>
                  </a:lnTo>
                  <a:lnTo>
                    <a:pt x="104140" y="58420"/>
                  </a:lnTo>
                  <a:lnTo>
                    <a:pt x="92710" y="54610"/>
                  </a:lnTo>
                  <a:lnTo>
                    <a:pt x="82550" y="50800"/>
                  </a:lnTo>
                  <a:lnTo>
                    <a:pt x="77470" y="48260"/>
                  </a:lnTo>
                  <a:lnTo>
                    <a:pt x="73660" y="45720"/>
                  </a:lnTo>
                  <a:lnTo>
                    <a:pt x="69850" y="43179"/>
                  </a:lnTo>
                  <a:lnTo>
                    <a:pt x="66040" y="39370"/>
                  </a:lnTo>
                  <a:lnTo>
                    <a:pt x="62230" y="36829"/>
                  </a:lnTo>
                  <a:lnTo>
                    <a:pt x="59690" y="33020"/>
                  </a:lnTo>
                  <a:lnTo>
                    <a:pt x="55880" y="31750"/>
                  </a:lnTo>
                  <a:lnTo>
                    <a:pt x="52070" y="29210"/>
                  </a:lnTo>
                  <a:lnTo>
                    <a:pt x="43180" y="25400"/>
                  </a:lnTo>
                  <a:lnTo>
                    <a:pt x="25400" y="16510"/>
                  </a:lnTo>
                  <a:lnTo>
                    <a:pt x="16510" y="11429"/>
                  </a:lnTo>
                  <a:lnTo>
                    <a:pt x="8890" y="7620"/>
                  </a:lnTo>
                  <a:lnTo>
                    <a:pt x="6350" y="5079"/>
                  </a:lnTo>
                  <a:lnTo>
                    <a:pt x="3810" y="3810"/>
                  </a:lnTo>
                  <a:lnTo>
                    <a:pt x="2540" y="1270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9c907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Freihandform 83"/>
            <p:cNvSpPr/>
            <p:nvPr/>
          </p:nvSpPr>
          <p:spPr>
            <a:xfrm>
              <a:off x="2776680" y="2508120"/>
              <a:ext cx="371520" cy="82440"/>
            </a:xfrm>
            <a:custGeom>
              <a:avLst/>
              <a:gdLst>
                <a:gd name="textAreaLeft" fmla="*/ 0 w 371520"/>
                <a:gd name="textAreaRight" fmla="*/ 371880 w 37152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303531" h="100331">
                  <a:moveTo>
                    <a:pt x="303530" y="100330"/>
                  </a:moveTo>
                  <a:lnTo>
                    <a:pt x="294640" y="95250"/>
                  </a:lnTo>
                  <a:lnTo>
                    <a:pt x="284480" y="90170"/>
                  </a:lnTo>
                  <a:lnTo>
                    <a:pt x="266700" y="80010"/>
                  </a:lnTo>
                  <a:lnTo>
                    <a:pt x="256540" y="74930"/>
                  </a:lnTo>
                  <a:lnTo>
                    <a:pt x="246380" y="71120"/>
                  </a:lnTo>
                  <a:lnTo>
                    <a:pt x="236220" y="67310"/>
                  </a:lnTo>
                  <a:lnTo>
                    <a:pt x="231140" y="67310"/>
                  </a:lnTo>
                  <a:lnTo>
                    <a:pt x="224790" y="67310"/>
                  </a:lnTo>
                  <a:lnTo>
                    <a:pt x="218440" y="67310"/>
                  </a:lnTo>
                  <a:lnTo>
                    <a:pt x="209550" y="67310"/>
                  </a:lnTo>
                  <a:lnTo>
                    <a:pt x="199390" y="67310"/>
                  </a:lnTo>
                  <a:lnTo>
                    <a:pt x="189230" y="67310"/>
                  </a:lnTo>
                  <a:lnTo>
                    <a:pt x="176530" y="67310"/>
                  </a:lnTo>
                  <a:lnTo>
                    <a:pt x="165100" y="67310"/>
                  </a:lnTo>
                  <a:lnTo>
                    <a:pt x="152400" y="66040"/>
                  </a:lnTo>
                  <a:lnTo>
                    <a:pt x="139700" y="64770"/>
                  </a:lnTo>
                  <a:lnTo>
                    <a:pt x="127000" y="63500"/>
                  </a:lnTo>
                  <a:lnTo>
                    <a:pt x="114300" y="62230"/>
                  </a:lnTo>
                  <a:lnTo>
                    <a:pt x="102870" y="59690"/>
                  </a:lnTo>
                  <a:lnTo>
                    <a:pt x="91440" y="55880"/>
                  </a:lnTo>
                  <a:lnTo>
                    <a:pt x="82550" y="52070"/>
                  </a:lnTo>
                  <a:lnTo>
                    <a:pt x="77470" y="49530"/>
                  </a:lnTo>
                  <a:lnTo>
                    <a:pt x="72390" y="46990"/>
                  </a:lnTo>
                  <a:lnTo>
                    <a:pt x="68580" y="43180"/>
                  </a:lnTo>
                  <a:lnTo>
                    <a:pt x="66040" y="40640"/>
                  </a:lnTo>
                  <a:lnTo>
                    <a:pt x="62230" y="36830"/>
                  </a:lnTo>
                  <a:lnTo>
                    <a:pt x="59690" y="34290"/>
                  </a:lnTo>
                  <a:lnTo>
                    <a:pt x="55880" y="31750"/>
                  </a:lnTo>
                  <a:lnTo>
                    <a:pt x="52070" y="30480"/>
                  </a:lnTo>
                  <a:lnTo>
                    <a:pt x="43180" y="26670"/>
                  </a:lnTo>
                  <a:lnTo>
                    <a:pt x="24130" y="17780"/>
                  </a:lnTo>
                  <a:lnTo>
                    <a:pt x="16510" y="12700"/>
                  </a:lnTo>
                  <a:lnTo>
                    <a:pt x="8890" y="7620"/>
                  </a:lnTo>
                  <a:lnTo>
                    <a:pt x="5080" y="6350"/>
                  </a:lnTo>
                  <a:lnTo>
                    <a:pt x="2540" y="3810"/>
                  </a:lnTo>
                  <a:lnTo>
                    <a:pt x="1270" y="2540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9c907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Freihandform 84"/>
            <p:cNvSpPr/>
            <p:nvPr/>
          </p:nvSpPr>
          <p:spPr>
            <a:xfrm>
              <a:off x="2795760" y="2482920"/>
              <a:ext cx="360360" cy="77760"/>
            </a:xfrm>
            <a:custGeom>
              <a:avLst/>
              <a:gdLst>
                <a:gd name="textAreaLeft" fmla="*/ 0 w 360360"/>
                <a:gd name="textAreaRight" fmla="*/ 360720 w 360360"/>
                <a:gd name="textAreaTop" fmla="*/ 0 h 77760"/>
                <a:gd name="textAreaBottom" fmla="*/ 78120 h 77760"/>
              </a:gdLst>
              <a:ahLst/>
              <a:rect l="textAreaLeft" t="textAreaTop" r="textAreaRight" b="textAreaBottom"/>
              <a:pathLst>
                <a:path w="294641" h="96521">
                  <a:moveTo>
                    <a:pt x="294640" y="96520"/>
                  </a:moveTo>
                  <a:lnTo>
                    <a:pt x="287020" y="92710"/>
                  </a:lnTo>
                  <a:lnTo>
                    <a:pt x="279400" y="87630"/>
                  </a:lnTo>
                  <a:lnTo>
                    <a:pt x="262890" y="78740"/>
                  </a:lnTo>
                  <a:lnTo>
                    <a:pt x="254000" y="73660"/>
                  </a:lnTo>
                  <a:lnTo>
                    <a:pt x="246380" y="69850"/>
                  </a:lnTo>
                  <a:lnTo>
                    <a:pt x="241300" y="68580"/>
                  </a:lnTo>
                  <a:lnTo>
                    <a:pt x="236220" y="67310"/>
                  </a:lnTo>
                  <a:lnTo>
                    <a:pt x="231140" y="67310"/>
                  </a:lnTo>
                  <a:lnTo>
                    <a:pt x="224790" y="67310"/>
                  </a:lnTo>
                  <a:lnTo>
                    <a:pt x="218440" y="67310"/>
                  </a:lnTo>
                  <a:lnTo>
                    <a:pt x="209550" y="67310"/>
                  </a:lnTo>
                  <a:lnTo>
                    <a:pt x="199390" y="67310"/>
                  </a:lnTo>
                  <a:lnTo>
                    <a:pt x="189230" y="67310"/>
                  </a:lnTo>
                  <a:lnTo>
                    <a:pt x="176530" y="67310"/>
                  </a:lnTo>
                  <a:lnTo>
                    <a:pt x="165100" y="67310"/>
                  </a:lnTo>
                  <a:lnTo>
                    <a:pt x="152400" y="66040"/>
                  </a:lnTo>
                  <a:lnTo>
                    <a:pt x="139700" y="64770"/>
                  </a:lnTo>
                  <a:lnTo>
                    <a:pt x="127000" y="63500"/>
                  </a:lnTo>
                  <a:lnTo>
                    <a:pt x="114300" y="60960"/>
                  </a:lnTo>
                  <a:lnTo>
                    <a:pt x="102870" y="58420"/>
                  </a:lnTo>
                  <a:lnTo>
                    <a:pt x="91440" y="55880"/>
                  </a:lnTo>
                  <a:lnTo>
                    <a:pt x="81280" y="50800"/>
                  </a:lnTo>
                  <a:lnTo>
                    <a:pt x="77470" y="49530"/>
                  </a:lnTo>
                  <a:lnTo>
                    <a:pt x="72390" y="46990"/>
                  </a:lnTo>
                  <a:lnTo>
                    <a:pt x="68580" y="43180"/>
                  </a:lnTo>
                  <a:lnTo>
                    <a:pt x="64770" y="40640"/>
                  </a:lnTo>
                  <a:lnTo>
                    <a:pt x="62230" y="38100"/>
                  </a:lnTo>
                  <a:lnTo>
                    <a:pt x="59690" y="33020"/>
                  </a:lnTo>
                  <a:lnTo>
                    <a:pt x="55880" y="31750"/>
                  </a:lnTo>
                  <a:lnTo>
                    <a:pt x="50800" y="30480"/>
                  </a:lnTo>
                  <a:lnTo>
                    <a:pt x="43180" y="26670"/>
                  </a:lnTo>
                  <a:lnTo>
                    <a:pt x="24130" y="17780"/>
                  </a:lnTo>
                  <a:lnTo>
                    <a:pt x="15240" y="12700"/>
                  </a:lnTo>
                  <a:lnTo>
                    <a:pt x="8890" y="7620"/>
                  </a:lnTo>
                  <a:lnTo>
                    <a:pt x="5080" y="6350"/>
                  </a:lnTo>
                  <a:lnTo>
                    <a:pt x="2540" y="3810"/>
                  </a:lnTo>
                  <a:lnTo>
                    <a:pt x="1270" y="2540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9c907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Freihandform 85"/>
            <p:cNvSpPr/>
            <p:nvPr/>
          </p:nvSpPr>
          <p:spPr>
            <a:xfrm>
              <a:off x="2809800" y="2469960"/>
              <a:ext cx="345960" cy="60120"/>
            </a:xfrm>
            <a:custGeom>
              <a:avLst/>
              <a:gdLst>
                <a:gd name="textAreaLeft" fmla="*/ 0 w 345960"/>
                <a:gd name="textAreaRight" fmla="*/ 346320 w 34596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283211" h="74930">
                  <a:moveTo>
                    <a:pt x="283210" y="74929"/>
                  </a:moveTo>
                  <a:lnTo>
                    <a:pt x="276860" y="72389"/>
                  </a:lnTo>
                  <a:lnTo>
                    <a:pt x="270510" y="68579"/>
                  </a:lnTo>
                  <a:lnTo>
                    <a:pt x="259079" y="60959"/>
                  </a:lnTo>
                  <a:lnTo>
                    <a:pt x="252729" y="57150"/>
                  </a:lnTo>
                  <a:lnTo>
                    <a:pt x="246379" y="54609"/>
                  </a:lnTo>
                  <a:lnTo>
                    <a:pt x="241300" y="53339"/>
                  </a:lnTo>
                  <a:lnTo>
                    <a:pt x="237489" y="53339"/>
                  </a:lnTo>
                  <a:lnTo>
                    <a:pt x="232410" y="52069"/>
                  </a:lnTo>
                  <a:lnTo>
                    <a:pt x="227329" y="52069"/>
                  </a:lnTo>
                  <a:lnTo>
                    <a:pt x="219710" y="52069"/>
                  </a:lnTo>
                  <a:lnTo>
                    <a:pt x="210820" y="52069"/>
                  </a:lnTo>
                  <a:lnTo>
                    <a:pt x="200660" y="52069"/>
                  </a:lnTo>
                  <a:lnTo>
                    <a:pt x="190500" y="52069"/>
                  </a:lnTo>
                  <a:lnTo>
                    <a:pt x="179070" y="52069"/>
                  </a:lnTo>
                  <a:lnTo>
                    <a:pt x="166370" y="52069"/>
                  </a:lnTo>
                  <a:lnTo>
                    <a:pt x="153670" y="50800"/>
                  </a:lnTo>
                  <a:lnTo>
                    <a:pt x="140970" y="50800"/>
                  </a:lnTo>
                  <a:lnTo>
                    <a:pt x="128270" y="48260"/>
                  </a:lnTo>
                  <a:lnTo>
                    <a:pt x="115570" y="46989"/>
                  </a:lnTo>
                  <a:lnTo>
                    <a:pt x="104139" y="44450"/>
                  </a:lnTo>
                  <a:lnTo>
                    <a:pt x="93979" y="40639"/>
                  </a:lnTo>
                  <a:lnTo>
                    <a:pt x="83820" y="36829"/>
                  </a:lnTo>
                  <a:lnTo>
                    <a:pt x="78739" y="34289"/>
                  </a:lnTo>
                  <a:lnTo>
                    <a:pt x="74929" y="31750"/>
                  </a:lnTo>
                  <a:lnTo>
                    <a:pt x="71120" y="29210"/>
                  </a:lnTo>
                  <a:lnTo>
                    <a:pt x="67310" y="25400"/>
                  </a:lnTo>
                  <a:lnTo>
                    <a:pt x="63500" y="22860"/>
                  </a:lnTo>
                  <a:lnTo>
                    <a:pt x="60960" y="19050"/>
                  </a:lnTo>
                  <a:lnTo>
                    <a:pt x="53339" y="15239"/>
                  </a:lnTo>
                  <a:lnTo>
                    <a:pt x="44450" y="13970"/>
                  </a:lnTo>
                  <a:lnTo>
                    <a:pt x="25400" y="8889"/>
                  </a:lnTo>
                  <a:lnTo>
                    <a:pt x="16510" y="7620"/>
                  </a:lnTo>
                  <a:lnTo>
                    <a:pt x="8889" y="5079"/>
                  </a:lnTo>
                  <a:lnTo>
                    <a:pt x="6350" y="3810"/>
                  </a:lnTo>
                  <a:lnTo>
                    <a:pt x="3810" y="2539"/>
                  </a:lnTo>
                  <a:lnTo>
                    <a:pt x="1270" y="1270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9c907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ihandform 86"/>
            <p:cNvSpPr/>
            <p:nvPr/>
          </p:nvSpPr>
          <p:spPr>
            <a:xfrm>
              <a:off x="2743200" y="2602080"/>
              <a:ext cx="342720" cy="72720"/>
            </a:xfrm>
            <a:custGeom>
              <a:avLst/>
              <a:gdLst>
                <a:gd name="textAreaLeft" fmla="*/ 0 w 342720"/>
                <a:gd name="textAreaRight" fmla="*/ 343080 w 342720"/>
                <a:gd name="textAreaTop" fmla="*/ 0 h 72720"/>
                <a:gd name="textAreaBottom" fmla="*/ 73080 h 72720"/>
              </a:gdLst>
              <a:ahLst/>
              <a:rect l="textAreaLeft" t="textAreaTop" r="textAreaRight" b="textAreaBottom"/>
              <a:pathLst>
                <a:path w="279401" h="87631">
                  <a:moveTo>
                    <a:pt x="279400" y="87630"/>
                  </a:moveTo>
                  <a:lnTo>
                    <a:pt x="273050" y="83820"/>
                  </a:lnTo>
                  <a:lnTo>
                    <a:pt x="267970" y="80010"/>
                  </a:lnTo>
                  <a:lnTo>
                    <a:pt x="255270" y="72390"/>
                  </a:lnTo>
                  <a:lnTo>
                    <a:pt x="250190" y="69850"/>
                  </a:lnTo>
                  <a:lnTo>
                    <a:pt x="241300" y="66040"/>
                  </a:lnTo>
                  <a:lnTo>
                    <a:pt x="237490" y="66040"/>
                  </a:lnTo>
                  <a:lnTo>
                    <a:pt x="233680" y="64770"/>
                  </a:lnTo>
                  <a:lnTo>
                    <a:pt x="228600" y="64770"/>
                  </a:lnTo>
                  <a:lnTo>
                    <a:pt x="223520" y="64770"/>
                  </a:lnTo>
                  <a:lnTo>
                    <a:pt x="215900" y="64770"/>
                  </a:lnTo>
                  <a:lnTo>
                    <a:pt x="207010" y="64770"/>
                  </a:lnTo>
                  <a:lnTo>
                    <a:pt x="198120" y="64770"/>
                  </a:lnTo>
                  <a:lnTo>
                    <a:pt x="186690" y="64770"/>
                  </a:lnTo>
                  <a:lnTo>
                    <a:pt x="175260" y="64770"/>
                  </a:lnTo>
                  <a:lnTo>
                    <a:pt x="162560" y="64770"/>
                  </a:lnTo>
                  <a:lnTo>
                    <a:pt x="149860" y="63500"/>
                  </a:lnTo>
                  <a:lnTo>
                    <a:pt x="137160" y="62230"/>
                  </a:lnTo>
                  <a:lnTo>
                    <a:pt x="124460" y="60960"/>
                  </a:lnTo>
                  <a:lnTo>
                    <a:pt x="113030" y="58420"/>
                  </a:lnTo>
                  <a:lnTo>
                    <a:pt x="100330" y="55880"/>
                  </a:lnTo>
                  <a:lnTo>
                    <a:pt x="90170" y="52070"/>
                  </a:lnTo>
                  <a:lnTo>
                    <a:pt x="80010" y="48260"/>
                  </a:lnTo>
                  <a:lnTo>
                    <a:pt x="74930" y="46990"/>
                  </a:lnTo>
                  <a:lnTo>
                    <a:pt x="71120" y="43180"/>
                  </a:lnTo>
                  <a:lnTo>
                    <a:pt x="66040" y="40640"/>
                  </a:lnTo>
                  <a:lnTo>
                    <a:pt x="63500" y="38100"/>
                  </a:lnTo>
                  <a:lnTo>
                    <a:pt x="59690" y="34290"/>
                  </a:lnTo>
                  <a:lnTo>
                    <a:pt x="57150" y="30480"/>
                  </a:lnTo>
                  <a:lnTo>
                    <a:pt x="49530" y="27940"/>
                  </a:lnTo>
                  <a:lnTo>
                    <a:pt x="40640" y="24130"/>
                  </a:lnTo>
                  <a:lnTo>
                    <a:pt x="24130" y="15240"/>
                  </a:lnTo>
                  <a:lnTo>
                    <a:pt x="15240" y="11430"/>
                  </a:lnTo>
                  <a:lnTo>
                    <a:pt x="8890" y="7620"/>
                  </a:lnTo>
                  <a:lnTo>
                    <a:pt x="5080" y="5080"/>
                  </a:lnTo>
                  <a:lnTo>
                    <a:pt x="3810" y="3810"/>
                  </a:lnTo>
                  <a:lnTo>
                    <a:pt x="1270" y="1270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9c907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ihandform 87"/>
            <p:cNvSpPr/>
            <p:nvPr/>
          </p:nvSpPr>
          <p:spPr>
            <a:xfrm>
              <a:off x="2738520" y="2428920"/>
              <a:ext cx="339480" cy="401760"/>
            </a:xfrm>
            <a:custGeom>
              <a:avLst/>
              <a:gdLst>
                <a:gd name="textAreaLeft" fmla="*/ 0 w 339480"/>
                <a:gd name="textAreaRight" fmla="*/ 339840 w 339480"/>
                <a:gd name="textAreaTop" fmla="*/ 0 h 401760"/>
                <a:gd name="textAreaBottom" fmla="*/ 402120 h 401760"/>
              </a:gdLst>
              <a:ahLst/>
              <a:rect l="textAreaLeft" t="textAreaTop" r="textAreaRight" b="textAreaBottom"/>
              <a:pathLst>
                <a:path w="275972" h="493904">
                  <a:moveTo>
                    <a:pt x="121921" y="21081"/>
                  </a:moveTo>
                  <a:lnTo>
                    <a:pt x="123825" y="20700"/>
                  </a:lnTo>
                  <a:lnTo>
                    <a:pt x="126239" y="20193"/>
                  </a:lnTo>
                  <a:lnTo>
                    <a:pt x="129033" y="19177"/>
                  </a:lnTo>
                  <a:lnTo>
                    <a:pt x="132970" y="18287"/>
                  </a:lnTo>
                  <a:lnTo>
                    <a:pt x="137287" y="17272"/>
                  </a:lnTo>
                  <a:lnTo>
                    <a:pt x="141987" y="16382"/>
                  </a:lnTo>
                  <a:lnTo>
                    <a:pt x="153036" y="13969"/>
                  </a:lnTo>
                  <a:lnTo>
                    <a:pt x="165100" y="11556"/>
                  </a:lnTo>
                  <a:lnTo>
                    <a:pt x="178562" y="9144"/>
                  </a:lnTo>
                  <a:lnTo>
                    <a:pt x="206375" y="4318"/>
                  </a:lnTo>
                  <a:lnTo>
                    <a:pt x="220346" y="2412"/>
                  </a:lnTo>
                  <a:lnTo>
                    <a:pt x="233299" y="1016"/>
                  </a:lnTo>
                  <a:lnTo>
                    <a:pt x="245237" y="0"/>
                  </a:lnTo>
                  <a:lnTo>
                    <a:pt x="250952" y="0"/>
                  </a:lnTo>
                  <a:lnTo>
                    <a:pt x="256287" y="0"/>
                  </a:lnTo>
                  <a:lnTo>
                    <a:pt x="260605" y="507"/>
                  </a:lnTo>
                  <a:lnTo>
                    <a:pt x="264922" y="1016"/>
                  </a:lnTo>
                  <a:lnTo>
                    <a:pt x="268224" y="1904"/>
                  </a:lnTo>
                  <a:lnTo>
                    <a:pt x="271653" y="3428"/>
                  </a:lnTo>
                  <a:lnTo>
                    <a:pt x="273559" y="4825"/>
                  </a:lnTo>
                  <a:lnTo>
                    <a:pt x="275464" y="6222"/>
                  </a:lnTo>
                  <a:lnTo>
                    <a:pt x="275971" y="8635"/>
                  </a:lnTo>
                  <a:lnTo>
                    <a:pt x="275971" y="11049"/>
                  </a:lnTo>
                  <a:lnTo>
                    <a:pt x="266827" y="9652"/>
                  </a:lnTo>
                  <a:lnTo>
                    <a:pt x="256795" y="8635"/>
                  </a:lnTo>
                  <a:lnTo>
                    <a:pt x="246634" y="7747"/>
                  </a:lnTo>
                  <a:lnTo>
                    <a:pt x="236093" y="7238"/>
                  </a:lnTo>
                  <a:lnTo>
                    <a:pt x="214503" y="7238"/>
                  </a:lnTo>
                  <a:lnTo>
                    <a:pt x="204471" y="7747"/>
                  </a:lnTo>
                  <a:lnTo>
                    <a:pt x="193930" y="9144"/>
                  </a:lnTo>
                  <a:lnTo>
                    <a:pt x="184277" y="11049"/>
                  </a:lnTo>
                  <a:lnTo>
                    <a:pt x="175134" y="13462"/>
                  </a:lnTo>
                  <a:lnTo>
                    <a:pt x="166497" y="16382"/>
                  </a:lnTo>
                  <a:lnTo>
                    <a:pt x="158877" y="20193"/>
                  </a:lnTo>
                  <a:lnTo>
                    <a:pt x="152146" y="25019"/>
                  </a:lnTo>
                  <a:lnTo>
                    <a:pt x="146305" y="30225"/>
                  </a:lnTo>
                  <a:lnTo>
                    <a:pt x="144018" y="33654"/>
                  </a:lnTo>
                  <a:lnTo>
                    <a:pt x="141605" y="36956"/>
                  </a:lnTo>
                  <a:lnTo>
                    <a:pt x="140081" y="40385"/>
                  </a:lnTo>
                  <a:lnTo>
                    <a:pt x="138684" y="44196"/>
                  </a:lnTo>
                  <a:lnTo>
                    <a:pt x="134367" y="60071"/>
                  </a:lnTo>
                  <a:lnTo>
                    <a:pt x="129033" y="76834"/>
                  </a:lnTo>
                  <a:lnTo>
                    <a:pt x="123825" y="93599"/>
                  </a:lnTo>
                  <a:lnTo>
                    <a:pt x="118492" y="110871"/>
                  </a:lnTo>
                  <a:lnTo>
                    <a:pt x="106553" y="145415"/>
                  </a:lnTo>
                  <a:lnTo>
                    <a:pt x="93980" y="179069"/>
                  </a:lnTo>
                  <a:lnTo>
                    <a:pt x="88265" y="195325"/>
                  </a:lnTo>
                  <a:lnTo>
                    <a:pt x="82550" y="210693"/>
                  </a:lnTo>
                  <a:lnTo>
                    <a:pt x="77217" y="225171"/>
                  </a:lnTo>
                  <a:lnTo>
                    <a:pt x="72390" y="238632"/>
                  </a:lnTo>
                  <a:lnTo>
                    <a:pt x="68072" y="250571"/>
                  </a:lnTo>
                  <a:lnTo>
                    <a:pt x="66168" y="256285"/>
                  </a:lnTo>
                  <a:lnTo>
                    <a:pt x="64262" y="261619"/>
                  </a:lnTo>
                  <a:lnTo>
                    <a:pt x="62865" y="266446"/>
                  </a:lnTo>
                  <a:lnTo>
                    <a:pt x="61342" y="270763"/>
                  </a:lnTo>
                  <a:lnTo>
                    <a:pt x="59945" y="275081"/>
                  </a:lnTo>
                  <a:lnTo>
                    <a:pt x="59055" y="278384"/>
                  </a:lnTo>
                  <a:lnTo>
                    <a:pt x="55118" y="291846"/>
                  </a:lnTo>
                  <a:lnTo>
                    <a:pt x="51309" y="303911"/>
                  </a:lnTo>
                  <a:lnTo>
                    <a:pt x="47499" y="314832"/>
                  </a:lnTo>
                  <a:lnTo>
                    <a:pt x="43689" y="325500"/>
                  </a:lnTo>
                  <a:lnTo>
                    <a:pt x="35942" y="345186"/>
                  </a:lnTo>
                  <a:lnTo>
                    <a:pt x="28321" y="364871"/>
                  </a:lnTo>
                  <a:lnTo>
                    <a:pt x="24384" y="375792"/>
                  </a:lnTo>
                  <a:lnTo>
                    <a:pt x="21083" y="387349"/>
                  </a:lnTo>
                  <a:lnTo>
                    <a:pt x="17272" y="400811"/>
                  </a:lnTo>
                  <a:lnTo>
                    <a:pt x="13843" y="415162"/>
                  </a:lnTo>
                  <a:lnTo>
                    <a:pt x="10034" y="431546"/>
                  </a:lnTo>
                  <a:lnTo>
                    <a:pt x="8128" y="440181"/>
                  </a:lnTo>
                  <a:lnTo>
                    <a:pt x="6731" y="449834"/>
                  </a:lnTo>
                  <a:lnTo>
                    <a:pt x="4827" y="459867"/>
                  </a:lnTo>
                  <a:lnTo>
                    <a:pt x="3302" y="470407"/>
                  </a:lnTo>
                  <a:lnTo>
                    <a:pt x="1397" y="481965"/>
                  </a:lnTo>
                  <a:lnTo>
                    <a:pt x="0" y="493903"/>
                  </a:lnTo>
                  <a:lnTo>
                    <a:pt x="381" y="476123"/>
                  </a:lnTo>
                  <a:lnTo>
                    <a:pt x="1397" y="458469"/>
                  </a:lnTo>
                  <a:lnTo>
                    <a:pt x="3302" y="440181"/>
                  </a:lnTo>
                  <a:lnTo>
                    <a:pt x="5715" y="421893"/>
                  </a:lnTo>
                  <a:lnTo>
                    <a:pt x="8637" y="403732"/>
                  </a:lnTo>
                  <a:lnTo>
                    <a:pt x="11939" y="384936"/>
                  </a:lnTo>
                  <a:lnTo>
                    <a:pt x="20574" y="348487"/>
                  </a:lnTo>
                  <a:lnTo>
                    <a:pt x="30227" y="312038"/>
                  </a:lnTo>
                  <a:lnTo>
                    <a:pt x="41275" y="276479"/>
                  </a:lnTo>
                  <a:lnTo>
                    <a:pt x="52705" y="241427"/>
                  </a:lnTo>
                  <a:lnTo>
                    <a:pt x="64262" y="207899"/>
                  </a:lnTo>
                  <a:lnTo>
                    <a:pt x="75820" y="176149"/>
                  </a:lnTo>
                  <a:lnTo>
                    <a:pt x="81534" y="160781"/>
                  </a:lnTo>
                  <a:lnTo>
                    <a:pt x="87377" y="145922"/>
                  </a:lnTo>
                  <a:lnTo>
                    <a:pt x="92584" y="131572"/>
                  </a:lnTo>
                  <a:lnTo>
                    <a:pt x="97409" y="117602"/>
                  </a:lnTo>
                  <a:lnTo>
                    <a:pt x="102236" y="104647"/>
                  </a:lnTo>
                  <a:lnTo>
                    <a:pt x="106553" y="92202"/>
                  </a:lnTo>
                  <a:lnTo>
                    <a:pt x="110364" y="80644"/>
                  </a:lnTo>
                  <a:lnTo>
                    <a:pt x="113665" y="69596"/>
                  </a:lnTo>
                  <a:lnTo>
                    <a:pt x="116587" y="59054"/>
                  </a:lnTo>
                  <a:lnTo>
                    <a:pt x="118999" y="49910"/>
                  </a:lnTo>
                  <a:lnTo>
                    <a:pt x="120905" y="41275"/>
                  </a:lnTo>
                  <a:lnTo>
                    <a:pt x="121921" y="33654"/>
                  </a:lnTo>
                  <a:lnTo>
                    <a:pt x="122302" y="26924"/>
                  </a:lnTo>
                  <a:lnTo>
                    <a:pt x="121921" y="21081"/>
                  </a:lnTo>
                  <a:close/>
                </a:path>
              </a:pathLst>
            </a:custGeom>
            <a:solidFill>
              <a:srgbClr val="614d31"/>
            </a:solidFill>
            <a:ln w="0">
              <a:solidFill>
                <a:srgbClr val="614d3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ihandform 88"/>
            <p:cNvSpPr/>
            <p:nvPr/>
          </p:nvSpPr>
          <p:spPr>
            <a:xfrm>
              <a:off x="2709720" y="2336760"/>
              <a:ext cx="444600" cy="153720"/>
            </a:xfrm>
            <a:custGeom>
              <a:avLst/>
              <a:gdLst>
                <a:gd name="textAreaLeft" fmla="*/ 0 w 444600"/>
                <a:gd name="textAreaRight" fmla="*/ 444960 w 444600"/>
                <a:gd name="textAreaTop" fmla="*/ 0 h 153720"/>
                <a:gd name="textAreaBottom" fmla="*/ 154080 h 153720"/>
              </a:gdLst>
              <a:ahLst/>
              <a:rect l="textAreaLeft" t="textAreaTop" r="textAreaRight" b="textAreaBottom"/>
              <a:pathLst>
                <a:path w="361317" h="190628">
                  <a:moveTo>
                    <a:pt x="2287" y="82041"/>
                  </a:moveTo>
                  <a:lnTo>
                    <a:pt x="5207" y="79756"/>
                  </a:lnTo>
                  <a:lnTo>
                    <a:pt x="8637" y="77343"/>
                  </a:lnTo>
                  <a:lnTo>
                    <a:pt x="12447" y="74421"/>
                  </a:lnTo>
                  <a:lnTo>
                    <a:pt x="16257" y="71119"/>
                  </a:lnTo>
                  <a:lnTo>
                    <a:pt x="21082" y="68199"/>
                  </a:lnTo>
                  <a:lnTo>
                    <a:pt x="31116" y="61468"/>
                  </a:lnTo>
                  <a:lnTo>
                    <a:pt x="42672" y="54228"/>
                  </a:lnTo>
                  <a:lnTo>
                    <a:pt x="55119" y="47116"/>
                  </a:lnTo>
                  <a:lnTo>
                    <a:pt x="68072" y="39878"/>
                  </a:lnTo>
                  <a:lnTo>
                    <a:pt x="81535" y="32638"/>
                  </a:lnTo>
                  <a:lnTo>
                    <a:pt x="94997" y="25908"/>
                  </a:lnTo>
                  <a:lnTo>
                    <a:pt x="108459" y="19177"/>
                  </a:lnTo>
                  <a:lnTo>
                    <a:pt x="121413" y="13969"/>
                  </a:lnTo>
                  <a:lnTo>
                    <a:pt x="133859" y="9143"/>
                  </a:lnTo>
                  <a:lnTo>
                    <a:pt x="145797" y="4825"/>
                  </a:lnTo>
                  <a:lnTo>
                    <a:pt x="151131" y="3428"/>
                  </a:lnTo>
                  <a:lnTo>
                    <a:pt x="156465" y="2412"/>
                  </a:lnTo>
                  <a:lnTo>
                    <a:pt x="160782" y="1396"/>
                  </a:lnTo>
                  <a:lnTo>
                    <a:pt x="165482" y="1015"/>
                  </a:lnTo>
                  <a:lnTo>
                    <a:pt x="169419" y="508"/>
                  </a:lnTo>
                  <a:lnTo>
                    <a:pt x="172720" y="1015"/>
                  </a:lnTo>
                  <a:lnTo>
                    <a:pt x="178944" y="0"/>
                  </a:lnTo>
                  <a:lnTo>
                    <a:pt x="185166" y="0"/>
                  </a:lnTo>
                  <a:lnTo>
                    <a:pt x="191009" y="508"/>
                  </a:lnTo>
                  <a:lnTo>
                    <a:pt x="197232" y="1015"/>
                  </a:lnTo>
                  <a:lnTo>
                    <a:pt x="202947" y="2412"/>
                  </a:lnTo>
                  <a:lnTo>
                    <a:pt x="208788" y="4318"/>
                  </a:lnTo>
                  <a:lnTo>
                    <a:pt x="219838" y="9143"/>
                  </a:lnTo>
                  <a:lnTo>
                    <a:pt x="230760" y="15366"/>
                  </a:lnTo>
                  <a:lnTo>
                    <a:pt x="241428" y="22606"/>
                  </a:lnTo>
                  <a:lnTo>
                    <a:pt x="251969" y="30734"/>
                  </a:lnTo>
                  <a:lnTo>
                    <a:pt x="262001" y="38862"/>
                  </a:lnTo>
                  <a:lnTo>
                    <a:pt x="270129" y="46100"/>
                  </a:lnTo>
                  <a:lnTo>
                    <a:pt x="277369" y="53721"/>
                  </a:lnTo>
                  <a:lnTo>
                    <a:pt x="284607" y="61468"/>
                  </a:lnTo>
                  <a:lnTo>
                    <a:pt x="291338" y="69087"/>
                  </a:lnTo>
                  <a:lnTo>
                    <a:pt x="297562" y="77724"/>
                  </a:lnTo>
                  <a:lnTo>
                    <a:pt x="303785" y="86359"/>
                  </a:lnTo>
                  <a:lnTo>
                    <a:pt x="315341" y="104140"/>
                  </a:lnTo>
                  <a:lnTo>
                    <a:pt x="326391" y="123825"/>
                  </a:lnTo>
                  <a:lnTo>
                    <a:pt x="337820" y="145034"/>
                  </a:lnTo>
                  <a:lnTo>
                    <a:pt x="348869" y="167005"/>
                  </a:lnTo>
                  <a:lnTo>
                    <a:pt x="355092" y="178562"/>
                  </a:lnTo>
                  <a:lnTo>
                    <a:pt x="361316" y="190627"/>
                  </a:lnTo>
                  <a:lnTo>
                    <a:pt x="356109" y="180466"/>
                  </a:lnTo>
                  <a:lnTo>
                    <a:pt x="351282" y="170941"/>
                  </a:lnTo>
                  <a:lnTo>
                    <a:pt x="346965" y="162687"/>
                  </a:lnTo>
                  <a:lnTo>
                    <a:pt x="342647" y="155066"/>
                  </a:lnTo>
                  <a:lnTo>
                    <a:pt x="338837" y="147828"/>
                  </a:lnTo>
                  <a:lnTo>
                    <a:pt x="335026" y="141605"/>
                  </a:lnTo>
                  <a:lnTo>
                    <a:pt x="331597" y="136397"/>
                  </a:lnTo>
                  <a:lnTo>
                    <a:pt x="327788" y="131571"/>
                  </a:lnTo>
                  <a:lnTo>
                    <a:pt x="323978" y="127253"/>
                  </a:lnTo>
                  <a:lnTo>
                    <a:pt x="320041" y="123316"/>
                  </a:lnTo>
                  <a:lnTo>
                    <a:pt x="316231" y="120015"/>
                  </a:lnTo>
                  <a:lnTo>
                    <a:pt x="311404" y="117093"/>
                  </a:lnTo>
                  <a:lnTo>
                    <a:pt x="307087" y="115188"/>
                  </a:lnTo>
                  <a:lnTo>
                    <a:pt x="301879" y="112775"/>
                  </a:lnTo>
                  <a:lnTo>
                    <a:pt x="296038" y="111378"/>
                  </a:lnTo>
                  <a:lnTo>
                    <a:pt x="289815" y="109981"/>
                  </a:lnTo>
                  <a:lnTo>
                    <a:pt x="285116" y="109474"/>
                  </a:lnTo>
                  <a:lnTo>
                    <a:pt x="279782" y="108965"/>
                  </a:lnTo>
                  <a:lnTo>
                    <a:pt x="274066" y="108965"/>
                  </a:lnTo>
                  <a:lnTo>
                    <a:pt x="268225" y="108965"/>
                  </a:lnTo>
                  <a:lnTo>
                    <a:pt x="255270" y="110362"/>
                  </a:lnTo>
                  <a:lnTo>
                    <a:pt x="241428" y="112394"/>
                  </a:lnTo>
                  <a:lnTo>
                    <a:pt x="226950" y="114681"/>
                  </a:lnTo>
                  <a:lnTo>
                    <a:pt x="212598" y="117093"/>
                  </a:lnTo>
                  <a:lnTo>
                    <a:pt x="197740" y="119506"/>
                  </a:lnTo>
                  <a:lnTo>
                    <a:pt x="183262" y="121412"/>
                  </a:lnTo>
                  <a:lnTo>
                    <a:pt x="189104" y="118109"/>
                  </a:lnTo>
                  <a:lnTo>
                    <a:pt x="193803" y="114681"/>
                  </a:lnTo>
                  <a:lnTo>
                    <a:pt x="198120" y="111378"/>
                  </a:lnTo>
                  <a:lnTo>
                    <a:pt x="201550" y="107568"/>
                  </a:lnTo>
                  <a:lnTo>
                    <a:pt x="204851" y="103759"/>
                  </a:lnTo>
                  <a:lnTo>
                    <a:pt x="207265" y="100330"/>
                  </a:lnTo>
                  <a:lnTo>
                    <a:pt x="209169" y="96519"/>
                  </a:lnTo>
                  <a:lnTo>
                    <a:pt x="210185" y="92709"/>
                  </a:lnTo>
                  <a:lnTo>
                    <a:pt x="211201" y="89281"/>
                  </a:lnTo>
                  <a:lnTo>
                    <a:pt x="211582" y="85471"/>
                  </a:lnTo>
                  <a:lnTo>
                    <a:pt x="211582" y="82041"/>
                  </a:lnTo>
                  <a:lnTo>
                    <a:pt x="210694" y="78231"/>
                  </a:lnTo>
                  <a:lnTo>
                    <a:pt x="209678" y="74930"/>
                  </a:lnTo>
                  <a:lnTo>
                    <a:pt x="208281" y="72009"/>
                  </a:lnTo>
                  <a:lnTo>
                    <a:pt x="206375" y="68706"/>
                  </a:lnTo>
                  <a:lnTo>
                    <a:pt x="203963" y="66293"/>
                  </a:lnTo>
                  <a:lnTo>
                    <a:pt x="200534" y="65278"/>
                  </a:lnTo>
                  <a:lnTo>
                    <a:pt x="196723" y="64769"/>
                  </a:lnTo>
                  <a:lnTo>
                    <a:pt x="192406" y="65278"/>
                  </a:lnTo>
                  <a:lnTo>
                    <a:pt x="187579" y="65786"/>
                  </a:lnTo>
                  <a:lnTo>
                    <a:pt x="182881" y="67183"/>
                  </a:lnTo>
                  <a:lnTo>
                    <a:pt x="177038" y="68706"/>
                  </a:lnTo>
                  <a:lnTo>
                    <a:pt x="165482" y="72009"/>
                  </a:lnTo>
                  <a:lnTo>
                    <a:pt x="153035" y="76327"/>
                  </a:lnTo>
                  <a:lnTo>
                    <a:pt x="140082" y="80644"/>
                  </a:lnTo>
                  <a:lnTo>
                    <a:pt x="126619" y="84962"/>
                  </a:lnTo>
                  <a:lnTo>
                    <a:pt x="114173" y="88772"/>
                  </a:lnTo>
                  <a:lnTo>
                    <a:pt x="119888" y="85471"/>
                  </a:lnTo>
                  <a:lnTo>
                    <a:pt x="126238" y="82041"/>
                  </a:lnTo>
                  <a:lnTo>
                    <a:pt x="139573" y="75818"/>
                  </a:lnTo>
                  <a:lnTo>
                    <a:pt x="153544" y="69087"/>
                  </a:lnTo>
                  <a:lnTo>
                    <a:pt x="166497" y="61975"/>
                  </a:lnTo>
                  <a:lnTo>
                    <a:pt x="172213" y="58546"/>
                  </a:lnTo>
                  <a:lnTo>
                    <a:pt x="177038" y="55244"/>
                  </a:lnTo>
                  <a:lnTo>
                    <a:pt x="180848" y="51434"/>
                  </a:lnTo>
                  <a:lnTo>
                    <a:pt x="183769" y="48006"/>
                  </a:lnTo>
                  <a:lnTo>
                    <a:pt x="185675" y="44196"/>
                  </a:lnTo>
                  <a:lnTo>
                    <a:pt x="185675" y="40766"/>
                  </a:lnTo>
                  <a:lnTo>
                    <a:pt x="184278" y="36956"/>
                  </a:lnTo>
                  <a:lnTo>
                    <a:pt x="181357" y="33655"/>
                  </a:lnTo>
                  <a:lnTo>
                    <a:pt x="179960" y="32638"/>
                  </a:lnTo>
                  <a:lnTo>
                    <a:pt x="178054" y="32638"/>
                  </a:lnTo>
                  <a:lnTo>
                    <a:pt x="174625" y="33146"/>
                  </a:lnTo>
                  <a:lnTo>
                    <a:pt x="170816" y="34036"/>
                  </a:lnTo>
                  <a:lnTo>
                    <a:pt x="166497" y="35052"/>
                  </a:lnTo>
                  <a:lnTo>
                    <a:pt x="161163" y="36449"/>
                  </a:lnTo>
                  <a:lnTo>
                    <a:pt x="155448" y="38481"/>
                  </a:lnTo>
                  <a:lnTo>
                    <a:pt x="148717" y="40386"/>
                  </a:lnTo>
                  <a:lnTo>
                    <a:pt x="141987" y="42799"/>
                  </a:lnTo>
                  <a:lnTo>
                    <a:pt x="134875" y="45084"/>
                  </a:lnTo>
                  <a:lnTo>
                    <a:pt x="119507" y="50927"/>
                  </a:lnTo>
                  <a:lnTo>
                    <a:pt x="103125" y="56641"/>
                  </a:lnTo>
                  <a:lnTo>
                    <a:pt x="86360" y="62865"/>
                  </a:lnTo>
                  <a:lnTo>
                    <a:pt x="69978" y="68706"/>
                  </a:lnTo>
                  <a:lnTo>
                    <a:pt x="54229" y="74421"/>
                  </a:lnTo>
                  <a:lnTo>
                    <a:pt x="46482" y="76834"/>
                  </a:lnTo>
                  <a:lnTo>
                    <a:pt x="39244" y="79247"/>
                  </a:lnTo>
                  <a:lnTo>
                    <a:pt x="32640" y="81661"/>
                  </a:lnTo>
                  <a:lnTo>
                    <a:pt x="26290" y="83565"/>
                  </a:lnTo>
                  <a:lnTo>
                    <a:pt x="20575" y="84962"/>
                  </a:lnTo>
                  <a:lnTo>
                    <a:pt x="15241" y="85978"/>
                  </a:lnTo>
                  <a:lnTo>
                    <a:pt x="10541" y="86868"/>
                  </a:lnTo>
                  <a:lnTo>
                    <a:pt x="6604" y="87375"/>
                  </a:lnTo>
                  <a:lnTo>
                    <a:pt x="3810" y="87375"/>
                  </a:lnTo>
                  <a:lnTo>
                    <a:pt x="1906" y="86868"/>
                  </a:lnTo>
                  <a:lnTo>
                    <a:pt x="382" y="85978"/>
                  </a:lnTo>
                  <a:lnTo>
                    <a:pt x="0" y="84455"/>
                  </a:lnTo>
                  <a:lnTo>
                    <a:pt x="2287" y="82041"/>
                  </a:lnTo>
                  <a:close/>
                </a:path>
              </a:pathLst>
            </a:custGeom>
            <a:solidFill>
              <a:srgbClr val="4e3717"/>
            </a:solidFill>
            <a:ln w="0">
              <a:solidFill>
                <a:srgbClr val="4e371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ihandform 89"/>
            <p:cNvSpPr/>
            <p:nvPr/>
          </p:nvSpPr>
          <p:spPr>
            <a:xfrm>
              <a:off x="2827440" y="2403360"/>
              <a:ext cx="2880" cy="46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3302" h="5334">
                  <a:moveTo>
                    <a:pt x="507" y="1016"/>
                  </a:moveTo>
                  <a:lnTo>
                    <a:pt x="1904" y="0"/>
                  </a:lnTo>
                  <a:lnTo>
                    <a:pt x="2920" y="1016"/>
                  </a:lnTo>
                  <a:lnTo>
                    <a:pt x="3301" y="2413"/>
                  </a:lnTo>
                  <a:lnTo>
                    <a:pt x="2920" y="4317"/>
                  </a:lnTo>
                  <a:lnTo>
                    <a:pt x="1904" y="5333"/>
                  </a:lnTo>
                  <a:lnTo>
                    <a:pt x="507" y="4317"/>
                  </a:lnTo>
                  <a:lnTo>
                    <a:pt x="0" y="2413"/>
                  </a:lnTo>
                  <a:lnTo>
                    <a:pt x="507" y="101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Freihandform 90"/>
            <p:cNvSpPr/>
            <p:nvPr/>
          </p:nvSpPr>
          <p:spPr>
            <a:xfrm>
              <a:off x="3119400" y="2733840"/>
              <a:ext cx="530280" cy="152280"/>
            </a:xfrm>
            <a:custGeom>
              <a:avLst/>
              <a:gdLst>
                <a:gd name="textAreaLeft" fmla="*/ 0 w 530280"/>
                <a:gd name="textAreaRight" fmla="*/ 530640 w 530280"/>
                <a:gd name="textAreaTop" fmla="*/ 0 h 152280"/>
                <a:gd name="textAreaBottom" fmla="*/ 152280 h 152280"/>
              </a:gdLst>
              <a:ahLst/>
              <a:rect l="textAreaLeft" t="textAreaTop" r="textAreaRight" b="textAreaBottom"/>
              <a:pathLst>
                <a:path w="432436" h="187707">
                  <a:moveTo>
                    <a:pt x="36450" y="0"/>
                  </a:moveTo>
                  <a:lnTo>
                    <a:pt x="34037" y="2922"/>
                  </a:lnTo>
                  <a:lnTo>
                    <a:pt x="31624" y="6223"/>
                  </a:lnTo>
                  <a:lnTo>
                    <a:pt x="30227" y="10161"/>
                  </a:lnTo>
                  <a:lnTo>
                    <a:pt x="29210" y="13971"/>
                  </a:lnTo>
                  <a:lnTo>
                    <a:pt x="28703" y="18288"/>
                  </a:lnTo>
                  <a:lnTo>
                    <a:pt x="29719" y="22606"/>
                  </a:lnTo>
                  <a:lnTo>
                    <a:pt x="31116" y="26417"/>
                  </a:lnTo>
                  <a:lnTo>
                    <a:pt x="33528" y="29846"/>
                  </a:lnTo>
                  <a:lnTo>
                    <a:pt x="36957" y="33148"/>
                  </a:lnTo>
                  <a:lnTo>
                    <a:pt x="41784" y="35561"/>
                  </a:lnTo>
                  <a:lnTo>
                    <a:pt x="44578" y="36577"/>
                  </a:lnTo>
                  <a:lnTo>
                    <a:pt x="48006" y="37466"/>
                  </a:lnTo>
                  <a:lnTo>
                    <a:pt x="51309" y="37973"/>
                  </a:lnTo>
                  <a:lnTo>
                    <a:pt x="55627" y="38481"/>
                  </a:lnTo>
                  <a:lnTo>
                    <a:pt x="59944" y="38481"/>
                  </a:lnTo>
                  <a:lnTo>
                    <a:pt x="64262" y="37973"/>
                  </a:lnTo>
                  <a:lnTo>
                    <a:pt x="69597" y="37466"/>
                  </a:lnTo>
                  <a:lnTo>
                    <a:pt x="74803" y="36577"/>
                  </a:lnTo>
                  <a:lnTo>
                    <a:pt x="81027" y="35561"/>
                  </a:lnTo>
                  <a:lnTo>
                    <a:pt x="87377" y="34163"/>
                  </a:lnTo>
                  <a:lnTo>
                    <a:pt x="94107" y="31750"/>
                  </a:lnTo>
                  <a:lnTo>
                    <a:pt x="101219" y="29846"/>
                  </a:lnTo>
                  <a:lnTo>
                    <a:pt x="102235" y="30227"/>
                  </a:lnTo>
                  <a:lnTo>
                    <a:pt x="102744" y="30735"/>
                  </a:lnTo>
                  <a:lnTo>
                    <a:pt x="102744" y="32131"/>
                  </a:lnTo>
                  <a:lnTo>
                    <a:pt x="101728" y="33655"/>
                  </a:lnTo>
                  <a:lnTo>
                    <a:pt x="100712" y="35053"/>
                  </a:lnTo>
                  <a:lnTo>
                    <a:pt x="99315" y="36957"/>
                  </a:lnTo>
                  <a:lnTo>
                    <a:pt x="95504" y="41275"/>
                  </a:lnTo>
                  <a:lnTo>
                    <a:pt x="90678" y="46610"/>
                  </a:lnTo>
                  <a:lnTo>
                    <a:pt x="84963" y="51817"/>
                  </a:lnTo>
                  <a:lnTo>
                    <a:pt x="72009" y="63373"/>
                  </a:lnTo>
                  <a:lnTo>
                    <a:pt x="65278" y="69216"/>
                  </a:lnTo>
                  <a:lnTo>
                    <a:pt x="59056" y="74930"/>
                  </a:lnTo>
                  <a:lnTo>
                    <a:pt x="53213" y="79756"/>
                  </a:lnTo>
                  <a:lnTo>
                    <a:pt x="48896" y="84455"/>
                  </a:lnTo>
                  <a:lnTo>
                    <a:pt x="46991" y="86487"/>
                  </a:lnTo>
                  <a:lnTo>
                    <a:pt x="45085" y="87885"/>
                  </a:lnTo>
                  <a:lnTo>
                    <a:pt x="44069" y="89281"/>
                  </a:lnTo>
                  <a:lnTo>
                    <a:pt x="43181" y="90298"/>
                  </a:lnTo>
                  <a:lnTo>
                    <a:pt x="42672" y="91186"/>
                  </a:lnTo>
                  <a:lnTo>
                    <a:pt x="43181" y="91694"/>
                  </a:lnTo>
                  <a:lnTo>
                    <a:pt x="43688" y="92203"/>
                  </a:lnTo>
                  <a:lnTo>
                    <a:pt x="45085" y="91694"/>
                  </a:lnTo>
                  <a:lnTo>
                    <a:pt x="55119" y="87885"/>
                  </a:lnTo>
                  <a:lnTo>
                    <a:pt x="63754" y="84455"/>
                  </a:lnTo>
                  <a:lnTo>
                    <a:pt x="72009" y="81661"/>
                  </a:lnTo>
                  <a:lnTo>
                    <a:pt x="78741" y="79756"/>
                  </a:lnTo>
                  <a:lnTo>
                    <a:pt x="84963" y="77852"/>
                  </a:lnTo>
                  <a:lnTo>
                    <a:pt x="89662" y="76836"/>
                  </a:lnTo>
                  <a:lnTo>
                    <a:pt x="94107" y="75819"/>
                  </a:lnTo>
                  <a:lnTo>
                    <a:pt x="97918" y="75819"/>
                  </a:lnTo>
                  <a:lnTo>
                    <a:pt x="100712" y="76328"/>
                  </a:lnTo>
                  <a:lnTo>
                    <a:pt x="103125" y="76836"/>
                  </a:lnTo>
                  <a:lnTo>
                    <a:pt x="105029" y="77852"/>
                  </a:lnTo>
                  <a:lnTo>
                    <a:pt x="106553" y="79248"/>
                  </a:lnTo>
                  <a:lnTo>
                    <a:pt x="107443" y="80646"/>
                  </a:lnTo>
                  <a:lnTo>
                    <a:pt x="107950" y="82550"/>
                  </a:lnTo>
                  <a:lnTo>
                    <a:pt x="108459" y="86868"/>
                  </a:lnTo>
                  <a:lnTo>
                    <a:pt x="107950" y="92203"/>
                  </a:lnTo>
                  <a:lnTo>
                    <a:pt x="107443" y="97536"/>
                  </a:lnTo>
                  <a:lnTo>
                    <a:pt x="107062" y="102743"/>
                  </a:lnTo>
                  <a:lnTo>
                    <a:pt x="107443" y="108078"/>
                  </a:lnTo>
                  <a:lnTo>
                    <a:pt x="107950" y="110872"/>
                  </a:lnTo>
                  <a:lnTo>
                    <a:pt x="108966" y="113285"/>
                  </a:lnTo>
                  <a:lnTo>
                    <a:pt x="110363" y="115190"/>
                  </a:lnTo>
                  <a:lnTo>
                    <a:pt x="112269" y="117094"/>
                  </a:lnTo>
                  <a:lnTo>
                    <a:pt x="114681" y="119127"/>
                  </a:lnTo>
                  <a:lnTo>
                    <a:pt x="117984" y="120523"/>
                  </a:lnTo>
                  <a:lnTo>
                    <a:pt x="121412" y="121921"/>
                  </a:lnTo>
                  <a:lnTo>
                    <a:pt x="126238" y="122936"/>
                  </a:lnTo>
                  <a:lnTo>
                    <a:pt x="135382" y="116205"/>
                  </a:lnTo>
                  <a:lnTo>
                    <a:pt x="143510" y="110491"/>
                  </a:lnTo>
                  <a:lnTo>
                    <a:pt x="150622" y="105665"/>
                  </a:lnTo>
                  <a:lnTo>
                    <a:pt x="157353" y="101855"/>
                  </a:lnTo>
                  <a:lnTo>
                    <a:pt x="163196" y="98934"/>
                  </a:lnTo>
                  <a:lnTo>
                    <a:pt x="168403" y="96521"/>
                  </a:lnTo>
                  <a:lnTo>
                    <a:pt x="173228" y="95123"/>
                  </a:lnTo>
                  <a:lnTo>
                    <a:pt x="177038" y="94107"/>
                  </a:lnTo>
                  <a:lnTo>
                    <a:pt x="180975" y="94107"/>
                  </a:lnTo>
                  <a:lnTo>
                    <a:pt x="183769" y="94107"/>
                  </a:lnTo>
                  <a:lnTo>
                    <a:pt x="186691" y="95123"/>
                  </a:lnTo>
                  <a:lnTo>
                    <a:pt x="188596" y="96521"/>
                  </a:lnTo>
                  <a:lnTo>
                    <a:pt x="190500" y="98425"/>
                  </a:lnTo>
                  <a:lnTo>
                    <a:pt x="192025" y="100838"/>
                  </a:lnTo>
                  <a:lnTo>
                    <a:pt x="193422" y="103252"/>
                  </a:lnTo>
                  <a:lnTo>
                    <a:pt x="194310" y="106173"/>
                  </a:lnTo>
                  <a:lnTo>
                    <a:pt x="195327" y="112396"/>
                  </a:lnTo>
                  <a:lnTo>
                    <a:pt x="196343" y="119507"/>
                  </a:lnTo>
                  <a:lnTo>
                    <a:pt x="196724" y="126238"/>
                  </a:lnTo>
                  <a:lnTo>
                    <a:pt x="197740" y="132969"/>
                  </a:lnTo>
                  <a:lnTo>
                    <a:pt x="198628" y="139192"/>
                  </a:lnTo>
                  <a:lnTo>
                    <a:pt x="199644" y="142113"/>
                  </a:lnTo>
                  <a:lnTo>
                    <a:pt x="200660" y="144527"/>
                  </a:lnTo>
                  <a:lnTo>
                    <a:pt x="202057" y="146940"/>
                  </a:lnTo>
                  <a:lnTo>
                    <a:pt x="203962" y="148336"/>
                  </a:lnTo>
                  <a:lnTo>
                    <a:pt x="205868" y="149734"/>
                  </a:lnTo>
                  <a:lnTo>
                    <a:pt x="208281" y="150242"/>
                  </a:lnTo>
                  <a:lnTo>
                    <a:pt x="213106" y="142622"/>
                  </a:lnTo>
                  <a:lnTo>
                    <a:pt x="216916" y="135891"/>
                  </a:lnTo>
                  <a:lnTo>
                    <a:pt x="220727" y="129667"/>
                  </a:lnTo>
                  <a:lnTo>
                    <a:pt x="224156" y="124842"/>
                  </a:lnTo>
                  <a:lnTo>
                    <a:pt x="227457" y="121031"/>
                  </a:lnTo>
                  <a:lnTo>
                    <a:pt x="230378" y="118111"/>
                  </a:lnTo>
                  <a:lnTo>
                    <a:pt x="232791" y="115698"/>
                  </a:lnTo>
                  <a:lnTo>
                    <a:pt x="235204" y="114300"/>
                  </a:lnTo>
                  <a:lnTo>
                    <a:pt x="237618" y="113285"/>
                  </a:lnTo>
                  <a:lnTo>
                    <a:pt x="239522" y="112777"/>
                  </a:lnTo>
                  <a:lnTo>
                    <a:pt x="240919" y="113285"/>
                  </a:lnTo>
                  <a:lnTo>
                    <a:pt x="242825" y="113792"/>
                  </a:lnTo>
                  <a:lnTo>
                    <a:pt x="245746" y="116713"/>
                  </a:lnTo>
                  <a:lnTo>
                    <a:pt x="248159" y="121031"/>
                  </a:lnTo>
                  <a:lnTo>
                    <a:pt x="250953" y="126238"/>
                  </a:lnTo>
                  <a:lnTo>
                    <a:pt x="253366" y="131573"/>
                  </a:lnTo>
                  <a:lnTo>
                    <a:pt x="256287" y="137287"/>
                  </a:lnTo>
                  <a:lnTo>
                    <a:pt x="259588" y="142622"/>
                  </a:lnTo>
                  <a:lnTo>
                    <a:pt x="263906" y="146940"/>
                  </a:lnTo>
                  <a:lnTo>
                    <a:pt x="266319" y="148844"/>
                  </a:lnTo>
                  <a:lnTo>
                    <a:pt x="268732" y="149734"/>
                  </a:lnTo>
                  <a:lnTo>
                    <a:pt x="271653" y="150749"/>
                  </a:lnTo>
                  <a:lnTo>
                    <a:pt x="274956" y="151257"/>
                  </a:lnTo>
                  <a:lnTo>
                    <a:pt x="278384" y="151257"/>
                  </a:lnTo>
                  <a:lnTo>
                    <a:pt x="282194" y="150242"/>
                  </a:lnTo>
                  <a:lnTo>
                    <a:pt x="283591" y="144018"/>
                  </a:lnTo>
                  <a:lnTo>
                    <a:pt x="286004" y="137796"/>
                  </a:lnTo>
                  <a:lnTo>
                    <a:pt x="289434" y="132080"/>
                  </a:lnTo>
                  <a:lnTo>
                    <a:pt x="293244" y="126238"/>
                  </a:lnTo>
                  <a:lnTo>
                    <a:pt x="298578" y="120523"/>
                  </a:lnTo>
                  <a:lnTo>
                    <a:pt x="304293" y="114809"/>
                  </a:lnTo>
                  <a:lnTo>
                    <a:pt x="310516" y="109982"/>
                  </a:lnTo>
                  <a:lnTo>
                    <a:pt x="317754" y="105156"/>
                  </a:lnTo>
                  <a:lnTo>
                    <a:pt x="324866" y="100838"/>
                  </a:lnTo>
                  <a:lnTo>
                    <a:pt x="333122" y="97029"/>
                  </a:lnTo>
                  <a:lnTo>
                    <a:pt x="340741" y="94107"/>
                  </a:lnTo>
                  <a:lnTo>
                    <a:pt x="348869" y="91186"/>
                  </a:lnTo>
                  <a:lnTo>
                    <a:pt x="357506" y="89281"/>
                  </a:lnTo>
                  <a:lnTo>
                    <a:pt x="365760" y="87885"/>
                  </a:lnTo>
                  <a:lnTo>
                    <a:pt x="373888" y="87377"/>
                  </a:lnTo>
                  <a:lnTo>
                    <a:pt x="381509" y="87885"/>
                  </a:lnTo>
                  <a:lnTo>
                    <a:pt x="385446" y="87885"/>
                  </a:lnTo>
                  <a:lnTo>
                    <a:pt x="390144" y="86868"/>
                  </a:lnTo>
                  <a:lnTo>
                    <a:pt x="395478" y="86487"/>
                  </a:lnTo>
                  <a:lnTo>
                    <a:pt x="402209" y="86487"/>
                  </a:lnTo>
                  <a:lnTo>
                    <a:pt x="408941" y="86868"/>
                  </a:lnTo>
                  <a:lnTo>
                    <a:pt x="416560" y="88392"/>
                  </a:lnTo>
                  <a:lnTo>
                    <a:pt x="424307" y="91186"/>
                  </a:lnTo>
                  <a:lnTo>
                    <a:pt x="432435" y="95123"/>
                  </a:lnTo>
                  <a:lnTo>
                    <a:pt x="422403" y="95505"/>
                  </a:lnTo>
                  <a:lnTo>
                    <a:pt x="412750" y="96521"/>
                  </a:lnTo>
                  <a:lnTo>
                    <a:pt x="404115" y="97536"/>
                  </a:lnTo>
                  <a:lnTo>
                    <a:pt x="395987" y="98934"/>
                  </a:lnTo>
                  <a:lnTo>
                    <a:pt x="388240" y="100330"/>
                  </a:lnTo>
                  <a:lnTo>
                    <a:pt x="381509" y="102236"/>
                  </a:lnTo>
                  <a:lnTo>
                    <a:pt x="375285" y="104648"/>
                  </a:lnTo>
                  <a:lnTo>
                    <a:pt x="369571" y="107061"/>
                  </a:lnTo>
                  <a:lnTo>
                    <a:pt x="364237" y="109474"/>
                  </a:lnTo>
                  <a:lnTo>
                    <a:pt x="359537" y="112396"/>
                  </a:lnTo>
                  <a:lnTo>
                    <a:pt x="355219" y="115190"/>
                  </a:lnTo>
                  <a:lnTo>
                    <a:pt x="351282" y="118111"/>
                  </a:lnTo>
                  <a:lnTo>
                    <a:pt x="345059" y="124334"/>
                  </a:lnTo>
                  <a:lnTo>
                    <a:pt x="339853" y="130556"/>
                  </a:lnTo>
                  <a:lnTo>
                    <a:pt x="336424" y="137287"/>
                  </a:lnTo>
                  <a:lnTo>
                    <a:pt x="334010" y="143511"/>
                  </a:lnTo>
                  <a:lnTo>
                    <a:pt x="332613" y="149734"/>
                  </a:lnTo>
                  <a:lnTo>
                    <a:pt x="331597" y="156084"/>
                  </a:lnTo>
                  <a:lnTo>
                    <a:pt x="331216" y="161291"/>
                  </a:lnTo>
                  <a:lnTo>
                    <a:pt x="331597" y="166117"/>
                  </a:lnTo>
                  <a:lnTo>
                    <a:pt x="331597" y="169418"/>
                  </a:lnTo>
                  <a:lnTo>
                    <a:pt x="332106" y="172340"/>
                  </a:lnTo>
                  <a:lnTo>
                    <a:pt x="322962" y="173736"/>
                  </a:lnTo>
                  <a:lnTo>
                    <a:pt x="314325" y="175261"/>
                  </a:lnTo>
                  <a:lnTo>
                    <a:pt x="295656" y="176657"/>
                  </a:lnTo>
                  <a:lnTo>
                    <a:pt x="258191" y="178055"/>
                  </a:lnTo>
                  <a:lnTo>
                    <a:pt x="239903" y="178562"/>
                  </a:lnTo>
                  <a:lnTo>
                    <a:pt x="222631" y="180467"/>
                  </a:lnTo>
                  <a:lnTo>
                    <a:pt x="213996" y="181484"/>
                  </a:lnTo>
                  <a:lnTo>
                    <a:pt x="205868" y="183388"/>
                  </a:lnTo>
                  <a:lnTo>
                    <a:pt x="198247" y="185293"/>
                  </a:lnTo>
                  <a:lnTo>
                    <a:pt x="191009" y="187706"/>
                  </a:lnTo>
                  <a:lnTo>
                    <a:pt x="186182" y="183897"/>
                  </a:lnTo>
                  <a:lnTo>
                    <a:pt x="181356" y="180467"/>
                  </a:lnTo>
                  <a:lnTo>
                    <a:pt x="176657" y="178055"/>
                  </a:lnTo>
                  <a:lnTo>
                    <a:pt x="172340" y="176657"/>
                  </a:lnTo>
                  <a:lnTo>
                    <a:pt x="167513" y="176149"/>
                  </a:lnTo>
                  <a:lnTo>
                    <a:pt x="162687" y="176149"/>
                  </a:lnTo>
                  <a:lnTo>
                    <a:pt x="153035" y="177166"/>
                  </a:lnTo>
                  <a:lnTo>
                    <a:pt x="144019" y="179071"/>
                  </a:lnTo>
                  <a:lnTo>
                    <a:pt x="134875" y="181484"/>
                  </a:lnTo>
                  <a:lnTo>
                    <a:pt x="125731" y="182880"/>
                  </a:lnTo>
                  <a:lnTo>
                    <a:pt x="121412" y="182880"/>
                  </a:lnTo>
                  <a:lnTo>
                    <a:pt x="117094" y="182373"/>
                  </a:lnTo>
                  <a:lnTo>
                    <a:pt x="112777" y="181484"/>
                  </a:lnTo>
                  <a:lnTo>
                    <a:pt x="108966" y="179579"/>
                  </a:lnTo>
                  <a:lnTo>
                    <a:pt x="105537" y="177166"/>
                  </a:lnTo>
                  <a:lnTo>
                    <a:pt x="102235" y="174753"/>
                  </a:lnTo>
                  <a:lnTo>
                    <a:pt x="96394" y="168530"/>
                  </a:lnTo>
                  <a:lnTo>
                    <a:pt x="90678" y="162306"/>
                  </a:lnTo>
                  <a:lnTo>
                    <a:pt x="87377" y="159893"/>
                  </a:lnTo>
                  <a:lnTo>
                    <a:pt x="83947" y="157988"/>
                  </a:lnTo>
                  <a:lnTo>
                    <a:pt x="80137" y="156084"/>
                  </a:lnTo>
                  <a:lnTo>
                    <a:pt x="75819" y="155575"/>
                  </a:lnTo>
                  <a:lnTo>
                    <a:pt x="70994" y="155575"/>
                  </a:lnTo>
                  <a:lnTo>
                    <a:pt x="65278" y="156973"/>
                  </a:lnTo>
                  <a:lnTo>
                    <a:pt x="61850" y="157988"/>
                  </a:lnTo>
                  <a:lnTo>
                    <a:pt x="58547" y="159386"/>
                  </a:lnTo>
                  <a:lnTo>
                    <a:pt x="55119" y="161291"/>
                  </a:lnTo>
                  <a:lnTo>
                    <a:pt x="51309" y="163196"/>
                  </a:lnTo>
                  <a:lnTo>
                    <a:pt x="48896" y="161291"/>
                  </a:lnTo>
                  <a:lnTo>
                    <a:pt x="46482" y="159386"/>
                  </a:lnTo>
                  <a:lnTo>
                    <a:pt x="45085" y="156973"/>
                  </a:lnTo>
                  <a:lnTo>
                    <a:pt x="43688" y="154052"/>
                  </a:lnTo>
                  <a:lnTo>
                    <a:pt x="39371" y="142622"/>
                  </a:lnTo>
                  <a:lnTo>
                    <a:pt x="37847" y="140209"/>
                  </a:lnTo>
                  <a:lnTo>
                    <a:pt x="35941" y="137796"/>
                  </a:lnTo>
                  <a:lnTo>
                    <a:pt x="34037" y="135891"/>
                  </a:lnTo>
                  <a:lnTo>
                    <a:pt x="31624" y="133986"/>
                  </a:lnTo>
                  <a:lnTo>
                    <a:pt x="28322" y="132969"/>
                  </a:lnTo>
                  <a:lnTo>
                    <a:pt x="24384" y="132969"/>
                  </a:lnTo>
                  <a:lnTo>
                    <a:pt x="20066" y="132969"/>
                  </a:lnTo>
                  <a:lnTo>
                    <a:pt x="14352" y="134493"/>
                  </a:lnTo>
                  <a:lnTo>
                    <a:pt x="10541" y="128143"/>
                  </a:lnTo>
                  <a:lnTo>
                    <a:pt x="7112" y="121921"/>
                  </a:lnTo>
                  <a:lnTo>
                    <a:pt x="4319" y="114809"/>
                  </a:lnTo>
                  <a:lnTo>
                    <a:pt x="2413" y="107569"/>
                  </a:lnTo>
                  <a:lnTo>
                    <a:pt x="890" y="99823"/>
                  </a:lnTo>
                  <a:lnTo>
                    <a:pt x="0" y="91694"/>
                  </a:lnTo>
                  <a:lnTo>
                    <a:pt x="0" y="83059"/>
                  </a:lnTo>
                  <a:lnTo>
                    <a:pt x="890" y="74423"/>
                  </a:lnTo>
                  <a:lnTo>
                    <a:pt x="2413" y="65279"/>
                  </a:lnTo>
                  <a:lnTo>
                    <a:pt x="4827" y="56135"/>
                  </a:lnTo>
                  <a:lnTo>
                    <a:pt x="7621" y="47117"/>
                  </a:lnTo>
                  <a:lnTo>
                    <a:pt x="11938" y="37466"/>
                  </a:lnTo>
                  <a:lnTo>
                    <a:pt x="16765" y="28322"/>
                  </a:lnTo>
                  <a:lnTo>
                    <a:pt x="22479" y="18797"/>
                  </a:lnTo>
                  <a:lnTo>
                    <a:pt x="29210" y="9144"/>
                  </a:lnTo>
                  <a:lnTo>
                    <a:pt x="36450" y="0"/>
                  </a:lnTo>
                  <a:close/>
                </a:path>
              </a:pathLst>
            </a:custGeom>
            <a:solidFill>
              <a:srgbClr val="879b6b"/>
            </a:solidFill>
            <a:ln w="0">
              <a:solidFill>
                <a:srgbClr val="879b6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ihandform 91"/>
            <p:cNvSpPr/>
            <p:nvPr/>
          </p:nvSpPr>
          <p:spPr>
            <a:xfrm>
              <a:off x="3119400" y="2733840"/>
              <a:ext cx="515880" cy="152280"/>
            </a:xfrm>
            <a:custGeom>
              <a:avLst/>
              <a:gdLst>
                <a:gd name="textAreaLeft" fmla="*/ 0 w 515880"/>
                <a:gd name="textAreaRight" fmla="*/ 516240 w 515880"/>
                <a:gd name="textAreaTop" fmla="*/ 0 h 152280"/>
                <a:gd name="textAreaBottom" fmla="*/ 152280 h 152280"/>
              </a:gdLst>
              <a:ahLst/>
              <a:rect l="textAreaLeft" t="textAreaTop" r="textAreaRight" b="textAreaBottom"/>
              <a:pathLst>
                <a:path w="420879" h="187707">
                  <a:moveTo>
                    <a:pt x="14350" y="134493"/>
                  </a:moveTo>
                  <a:lnTo>
                    <a:pt x="10032" y="128143"/>
                  </a:lnTo>
                  <a:lnTo>
                    <a:pt x="6603" y="121921"/>
                  </a:lnTo>
                  <a:lnTo>
                    <a:pt x="4318" y="114809"/>
                  </a:lnTo>
                  <a:lnTo>
                    <a:pt x="1904" y="107569"/>
                  </a:lnTo>
                  <a:lnTo>
                    <a:pt x="381" y="99823"/>
                  </a:lnTo>
                  <a:lnTo>
                    <a:pt x="0" y="91694"/>
                  </a:lnTo>
                  <a:lnTo>
                    <a:pt x="0" y="83059"/>
                  </a:lnTo>
                  <a:lnTo>
                    <a:pt x="381" y="74423"/>
                  </a:lnTo>
                  <a:lnTo>
                    <a:pt x="1904" y="65279"/>
                  </a:lnTo>
                  <a:lnTo>
                    <a:pt x="4318" y="56135"/>
                  </a:lnTo>
                  <a:lnTo>
                    <a:pt x="7619" y="47117"/>
                  </a:lnTo>
                  <a:lnTo>
                    <a:pt x="11429" y="37466"/>
                  </a:lnTo>
                  <a:lnTo>
                    <a:pt x="16256" y="28322"/>
                  </a:lnTo>
                  <a:lnTo>
                    <a:pt x="21970" y="18797"/>
                  </a:lnTo>
                  <a:lnTo>
                    <a:pt x="28701" y="9144"/>
                  </a:lnTo>
                  <a:lnTo>
                    <a:pt x="36448" y="0"/>
                  </a:lnTo>
                  <a:lnTo>
                    <a:pt x="33528" y="2922"/>
                  </a:lnTo>
                  <a:lnTo>
                    <a:pt x="31115" y="6223"/>
                  </a:lnTo>
                  <a:lnTo>
                    <a:pt x="29718" y="10161"/>
                  </a:lnTo>
                  <a:lnTo>
                    <a:pt x="28194" y="14479"/>
                  </a:lnTo>
                  <a:lnTo>
                    <a:pt x="27304" y="19178"/>
                  </a:lnTo>
                  <a:lnTo>
                    <a:pt x="27304" y="23496"/>
                  </a:lnTo>
                  <a:lnTo>
                    <a:pt x="28194" y="27813"/>
                  </a:lnTo>
                  <a:lnTo>
                    <a:pt x="30225" y="31750"/>
                  </a:lnTo>
                  <a:lnTo>
                    <a:pt x="33019" y="35561"/>
                  </a:lnTo>
                  <a:lnTo>
                    <a:pt x="36957" y="38481"/>
                  </a:lnTo>
                  <a:lnTo>
                    <a:pt x="39243" y="39371"/>
                  </a:lnTo>
                  <a:lnTo>
                    <a:pt x="42163" y="40386"/>
                  </a:lnTo>
                  <a:lnTo>
                    <a:pt x="45593" y="41275"/>
                  </a:lnTo>
                  <a:lnTo>
                    <a:pt x="48894" y="41784"/>
                  </a:lnTo>
                  <a:lnTo>
                    <a:pt x="52704" y="42292"/>
                  </a:lnTo>
                  <a:lnTo>
                    <a:pt x="56515" y="41784"/>
                  </a:lnTo>
                  <a:lnTo>
                    <a:pt x="61341" y="41784"/>
                  </a:lnTo>
                  <a:lnTo>
                    <a:pt x="66166" y="40894"/>
                  </a:lnTo>
                  <a:lnTo>
                    <a:pt x="71500" y="39879"/>
                  </a:lnTo>
                  <a:lnTo>
                    <a:pt x="77216" y="38481"/>
                  </a:lnTo>
                  <a:lnTo>
                    <a:pt x="83438" y="36957"/>
                  </a:lnTo>
                  <a:lnTo>
                    <a:pt x="90169" y="34544"/>
                  </a:lnTo>
                  <a:lnTo>
                    <a:pt x="91185" y="35053"/>
                  </a:lnTo>
                  <a:lnTo>
                    <a:pt x="91566" y="36068"/>
                  </a:lnTo>
                  <a:lnTo>
                    <a:pt x="91566" y="36957"/>
                  </a:lnTo>
                  <a:lnTo>
                    <a:pt x="91185" y="38481"/>
                  </a:lnTo>
                  <a:lnTo>
                    <a:pt x="90169" y="40386"/>
                  </a:lnTo>
                  <a:lnTo>
                    <a:pt x="88772" y="42292"/>
                  </a:lnTo>
                  <a:lnTo>
                    <a:pt x="85344" y="46610"/>
                  </a:lnTo>
                  <a:lnTo>
                    <a:pt x="81025" y="51436"/>
                  </a:lnTo>
                  <a:lnTo>
                    <a:pt x="75819" y="56642"/>
                  </a:lnTo>
                  <a:lnTo>
                    <a:pt x="63753" y="68199"/>
                  </a:lnTo>
                  <a:lnTo>
                    <a:pt x="57531" y="73915"/>
                  </a:lnTo>
                  <a:lnTo>
                    <a:pt x="51816" y="79248"/>
                  </a:lnTo>
                  <a:lnTo>
                    <a:pt x="46990" y="84455"/>
                  </a:lnTo>
                  <a:lnTo>
                    <a:pt x="42672" y="88773"/>
                  </a:lnTo>
                  <a:lnTo>
                    <a:pt x="40766" y="90805"/>
                  </a:lnTo>
                  <a:lnTo>
                    <a:pt x="39243" y="92203"/>
                  </a:lnTo>
                  <a:lnTo>
                    <a:pt x="38353" y="93599"/>
                  </a:lnTo>
                  <a:lnTo>
                    <a:pt x="37845" y="95123"/>
                  </a:lnTo>
                  <a:lnTo>
                    <a:pt x="37338" y="95505"/>
                  </a:lnTo>
                  <a:lnTo>
                    <a:pt x="37845" y="96012"/>
                  </a:lnTo>
                  <a:lnTo>
                    <a:pt x="38353" y="96521"/>
                  </a:lnTo>
                  <a:lnTo>
                    <a:pt x="39750" y="96012"/>
                  </a:lnTo>
                  <a:lnTo>
                    <a:pt x="49910" y="92203"/>
                  </a:lnTo>
                  <a:lnTo>
                    <a:pt x="58547" y="88773"/>
                  </a:lnTo>
                  <a:lnTo>
                    <a:pt x="66675" y="85980"/>
                  </a:lnTo>
                  <a:lnTo>
                    <a:pt x="73913" y="84074"/>
                  </a:lnTo>
                  <a:lnTo>
                    <a:pt x="79628" y="82169"/>
                  </a:lnTo>
                  <a:lnTo>
                    <a:pt x="84835" y="81154"/>
                  </a:lnTo>
                  <a:lnTo>
                    <a:pt x="89662" y="80646"/>
                  </a:lnTo>
                  <a:lnTo>
                    <a:pt x="93091" y="80137"/>
                  </a:lnTo>
                  <a:lnTo>
                    <a:pt x="96393" y="80646"/>
                  </a:lnTo>
                  <a:lnTo>
                    <a:pt x="98806" y="81154"/>
                  </a:lnTo>
                  <a:lnTo>
                    <a:pt x="100710" y="82169"/>
                  </a:lnTo>
                  <a:lnTo>
                    <a:pt x="102616" y="83567"/>
                  </a:lnTo>
                  <a:lnTo>
                    <a:pt x="103632" y="84963"/>
                  </a:lnTo>
                  <a:lnTo>
                    <a:pt x="104140" y="86868"/>
                  </a:lnTo>
                  <a:lnTo>
                    <a:pt x="105028" y="91186"/>
                  </a:lnTo>
                  <a:lnTo>
                    <a:pt x="105028" y="96521"/>
                  </a:lnTo>
                  <a:lnTo>
                    <a:pt x="104520" y="101855"/>
                  </a:lnTo>
                  <a:lnTo>
                    <a:pt x="104520" y="107569"/>
                  </a:lnTo>
                  <a:lnTo>
                    <a:pt x="105028" y="112777"/>
                  </a:lnTo>
                  <a:lnTo>
                    <a:pt x="106934" y="117603"/>
                  </a:lnTo>
                  <a:lnTo>
                    <a:pt x="108457" y="120016"/>
                  </a:lnTo>
                  <a:lnTo>
                    <a:pt x="110870" y="121921"/>
                  </a:lnTo>
                  <a:lnTo>
                    <a:pt x="113157" y="123825"/>
                  </a:lnTo>
                  <a:lnTo>
                    <a:pt x="116078" y="125349"/>
                  </a:lnTo>
                  <a:lnTo>
                    <a:pt x="119888" y="126238"/>
                  </a:lnTo>
                  <a:lnTo>
                    <a:pt x="124713" y="127255"/>
                  </a:lnTo>
                  <a:lnTo>
                    <a:pt x="132841" y="121412"/>
                  </a:lnTo>
                  <a:lnTo>
                    <a:pt x="140588" y="116205"/>
                  </a:lnTo>
                  <a:lnTo>
                    <a:pt x="147319" y="112396"/>
                  </a:lnTo>
                  <a:lnTo>
                    <a:pt x="153543" y="108459"/>
                  </a:lnTo>
                  <a:lnTo>
                    <a:pt x="159257" y="106173"/>
                  </a:lnTo>
                  <a:lnTo>
                    <a:pt x="164084" y="104141"/>
                  </a:lnTo>
                  <a:lnTo>
                    <a:pt x="168401" y="102743"/>
                  </a:lnTo>
                  <a:lnTo>
                    <a:pt x="172212" y="102236"/>
                  </a:lnTo>
                  <a:lnTo>
                    <a:pt x="175641" y="102236"/>
                  </a:lnTo>
                  <a:lnTo>
                    <a:pt x="178435" y="102743"/>
                  </a:lnTo>
                  <a:lnTo>
                    <a:pt x="181356" y="103252"/>
                  </a:lnTo>
                  <a:lnTo>
                    <a:pt x="183260" y="104648"/>
                  </a:lnTo>
                  <a:lnTo>
                    <a:pt x="185166" y="106554"/>
                  </a:lnTo>
                  <a:lnTo>
                    <a:pt x="186690" y="108459"/>
                  </a:lnTo>
                  <a:lnTo>
                    <a:pt x="188594" y="113792"/>
                  </a:lnTo>
                  <a:lnTo>
                    <a:pt x="189991" y="119507"/>
                  </a:lnTo>
                  <a:lnTo>
                    <a:pt x="191007" y="125857"/>
                  </a:lnTo>
                  <a:lnTo>
                    <a:pt x="192404" y="132461"/>
                  </a:lnTo>
                  <a:lnTo>
                    <a:pt x="193420" y="138811"/>
                  </a:lnTo>
                  <a:lnTo>
                    <a:pt x="195325" y="144018"/>
                  </a:lnTo>
                  <a:lnTo>
                    <a:pt x="196215" y="146431"/>
                  </a:lnTo>
                  <a:lnTo>
                    <a:pt x="197738" y="148844"/>
                  </a:lnTo>
                  <a:lnTo>
                    <a:pt x="199644" y="150749"/>
                  </a:lnTo>
                  <a:lnTo>
                    <a:pt x="201548" y="152147"/>
                  </a:lnTo>
                  <a:lnTo>
                    <a:pt x="203962" y="153162"/>
                  </a:lnTo>
                  <a:lnTo>
                    <a:pt x="206756" y="154052"/>
                  </a:lnTo>
                  <a:lnTo>
                    <a:pt x="211073" y="146940"/>
                  </a:lnTo>
                  <a:lnTo>
                    <a:pt x="215519" y="140717"/>
                  </a:lnTo>
                  <a:lnTo>
                    <a:pt x="219328" y="135891"/>
                  </a:lnTo>
                  <a:lnTo>
                    <a:pt x="222631" y="131573"/>
                  </a:lnTo>
                  <a:lnTo>
                    <a:pt x="225551" y="127762"/>
                  </a:lnTo>
                  <a:lnTo>
                    <a:pt x="228472" y="125349"/>
                  </a:lnTo>
                  <a:lnTo>
                    <a:pt x="231266" y="122936"/>
                  </a:lnTo>
                  <a:lnTo>
                    <a:pt x="233679" y="121412"/>
                  </a:lnTo>
                  <a:lnTo>
                    <a:pt x="235585" y="121031"/>
                  </a:lnTo>
                  <a:lnTo>
                    <a:pt x="237490" y="120523"/>
                  </a:lnTo>
                  <a:lnTo>
                    <a:pt x="239394" y="121031"/>
                  </a:lnTo>
                  <a:lnTo>
                    <a:pt x="241426" y="121921"/>
                  </a:lnTo>
                  <a:lnTo>
                    <a:pt x="244220" y="124334"/>
                  </a:lnTo>
                  <a:lnTo>
                    <a:pt x="247141" y="128143"/>
                  </a:lnTo>
                  <a:lnTo>
                    <a:pt x="250063" y="132969"/>
                  </a:lnTo>
                  <a:lnTo>
                    <a:pt x="253365" y="137796"/>
                  </a:lnTo>
                  <a:lnTo>
                    <a:pt x="256794" y="142622"/>
                  </a:lnTo>
                  <a:lnTo>
                    <a:pt x="260603" y="147448"/>
                  </a:lnTo>
                  <a:lnTo>
                    <a:pt x="265429" y="150749"/>
                  </a:lnTo>
                  <a:lnTo>
                    <a:pt x="267716" y="152147"/>
                  </a:lnTo>
                  <a:lnTo>
                    <a:pt x="271144" y="153162"/>
                  </a:lnTo>
                  <a:lnTo>
                    <a:pt x="274066" y="154052"/>
                  </a:lnTo>
                  <a:lnTo>
                    <a:pt x="277875" y="154052"/>
                  </a:lnTo>
                  <a:lnTo>
                    <a:pt x="281178" y="153671"/>
                  </a:lnTo>
                  <a:lnTo>
                    <a:pt x="285495" y="152655"/>
                  </a:lnTo>
                  <a:lnTo>
                    <a:pt x="286512" y="147829"/>
                  </a:lnTo>
                  <a:lnTo>
                    <a:pt x="287909" y="143511"/>
                  </a:lnTo>
                  <a:lnTo>
                    <a:pt x="289432" y="138811"/>
                  </a:lnTo>
                  <a:lnTo>
                    <a:pt x="291719" y="133986"/>
                  </a:lnTo>
                  <a:lnTo>
                    <a:pt x="294640" y="129667"/>
                  </a:lnTo>
                  <a:lnTo>
                    <a:pt x="298069" y="124842"/>
                  </a:lnTo>
                  <a:lnTo>
                    <a:pt x="301878" y="120523"/>
                  </a:lnTo>
                  <a:lnTo>
                    <a:pt x="305688" y="116713"/>
                  </a:lnTo>
                  <a:lnTo>
                    <a:pt x="310515" y="112396"/>
                  </a:lnTo>
                  <a:lnTo>
                    <a:pt x="314832" y="108459"/>
                  </a:lnTo>
                  <a:lnTo>
                    <a:pt x="320040" y="105156"/>
                  </a:lnTo>
                  <a:lnTo>
                    <a:pt x="325373" y="101855"/>
                  </a:lnTo>
                  <a:lnTo>
                    <a:pt x="330707" y="98934"/>
                  </a:lnTo>
                  <a:lnTo>
                    <a:pt x="336422" y="96521"/>
                  </a:lnTo>
                  <a:lnTo>
                    <a:pt x="342138" y="94107"/>
                  </a:lnTo>
                  <a:lnTo>
                    <a:pt x="348360" y="92711"/>
                  </a:lnTo>
                  <a:lnTo>
                    <a:pt x="358013" y="89790"/>
                  </a:lnTo>
                  <a:lnTo>
                    <a:pt x="368553" y="88392"/>
                  </a:lnTo>
                  <a:lnTo>
                    <a:pt x="379094" y="87885"/>
                  </a:lnTo>
                  <a:lnTo>
                    <a:pt x="384428" y="88392"/>
                  </a:lnTo>
                  <a:lnTo>
                    <a:pt x="389635" y="89281"/>
                  </a:lnTo>
                  <a:lnTo>
                    <a:pt x="391160" y="88773"/>
                  </a:lnTo>
                  <a:lnTo>
                    <a:pt x="393572" y="88773"/>
                  </a:lnTo>
                  <a:lnTo>
                    <a:pt x="396366" y="88392"/>
                  </a:lnTo>
                  <a:lnTo>
                    <a:pt x="400303" y="88773"/>
                  </a:lnTo>
                  <a:lnTo>
                    <a:pt x="405003" y="89281"/>
                  </a:lnTo>
                  <a:lnTo>
                    <a:pt x="409828" y="90805"/>
                  </a:lnTo>
                  <a:lnTo>
                    <a:pt x="415670" y="93599"/>
                  </a:lnTo>
                  <a:lnTo>
                    <a:pt x="420878" y="97536"/>
                  </a:lnTo>
                  <a:lnTo>
                    <a:pt x="412241" y="97917"/>
                  </a:lnTo>
                  <a:lnTo>
                    <a:pt x="403606" y="98934"/>
                  </a:lnTo>
                  <a:lnTo>
                    <a:pt x="395985" y="100330"/>
                  </a:lnTo>
                  <a:lnTo>
                    <a:pt x="388747" y="101855"/>
                  </a:lnTo>
                  <a:lnTo>
                    <a:pt x="382016" y="103760"/>
                  </a:lnTo>
                  <a:lnTo>
                    <a:pt x="375793" y="105665"/>
                  </a:lnTo>
                  <a:lnTo>
                    <a:pt x="370078" y="107569"/>
                  </a:lnTo>
                  <a:lnTo>
                    <a:pt x="364744" y="109982"/>
                  </a:lnTo>
                  <a:lnTo>
                    <a:pt x="360425" y="112396"/>
                  </a:lnTo>
                  <a:lnTo>
                    <a:pt x="356107" y="115190"/>
                  </a:lnTo>
                  <a:lnTo>
                    <a:pt x="348869" y="121031"/>
                  </a:lnTo>
                  <a:lnTo>
                    <a:pt x="343153" y="126747"/>
                  </a:lnTo>
                  <a:lnTo>
                    <a:pt x="338835" y="132969"/>
                  </a:lnTo>
                  <a:lnTo>
                    <a:pt x="335407" y="139192"/>
                  </a:lnTo>
                  <a:lnTo>
                    <a:pt x="332994" y="145416"/>
                  </a:lnTo>
                  <a:lnTo>
                    <a:pt x="332104" y="151257"/>
                  </a:lnTo>
                  <a:lnTo>
                    <a:pt x="331088" y="156973"/>
                  </a:lnTo>
                  <a:lnTo>
                    <a:pt x="331088" y="161798"/>
                  </a:lnTo>
                  <a:lnTo>
                    <a:pt x="331088" y="166117"/>
                  </a:lnTo>
                  <a:lnTo>
                    <a:pt x="331088" y="169927"/>
                  </a:lnTo>
                  <a:lnTo>
                    <a:pt x="331597" y="172340"/>
                  </a:lnTo>
                  <a:lnTo>
                    <a:pt x="322960" y="173736"/>
                  </a:lnTo>
                  <a:lnTo>
                    <a:pt x="313816" y="175261"/>
                  </a:lnTo>
                  <a:lnTo>
                    <a:pt x="295656" y="176657"/>
                  </a:lnTo>
                  <a:lnTo>
                    <a:pt x="258191" y="178055"/>
                  </a:lnTo>
                  <a:lnTo>
                    <a:pt x="239903" y="178562"/>
                  </a:lnTo>
                  <a:lnTo>
                    <a:pt x="222122" y="180467"/>
                  </a:lnTo>
                  <a:lnTo>
                    <a:pt x="213994" y="181484"/>
                  </a:lnTo>
                  <a:lnTo>
                    <a:pt x="205866" y="183388"/>
                  </a:lnTo>
                  <a:lnTo>
                    <a:pt x="197738" y="185293"/>
                  </a:lnTo>
                  <a:lnTo>
                    <a:pt x="190500" y="187706"/>
                  </a:lnTo>
                  <a:lnTo>
                    <a:pt x="185673" y="183897"/>
                  </a:lnTo>
                  <a:lnTo>
                    <a:pt x="181356" y="180467"/>
                  </a:lnTo>
                  <a:lnTo>
                    <a:pt x="176529" y="178055"/>
                  </a:lnTo>
                  <a:lnTo>
                    <a:pt x="171831" y="176657"/>
                  </a:lnTo>
                  <a:lnTo>
                    <a:pt x="167004" y="176149"/>
                  </a:lnTo>
                  <a:lnTo>
                    <a:pt x="162178" y="176149"/>
                  </a:lnTo>
                  <a:lnTo>
                    <a:pt x="153035" y="177166"/>
                  </a:lnTo>
                  <a:lnTo>
                    <a:pt x="143510" y="179071"/>
                  </a:lnTo>
                  <a:lnTo>
                    <a:pt x="134366" y="181484"/>
                  </a:lnTo>
                  <a:lnTo>
                    <a:pt x="125729" y="182880"/>
                  </a:lnTo>
                  <a:lnTo>
                    <a:pt x="121412" y="182880"/>
                  </a:lnTo>
                  <a:lnTo>
                    <a:pt x="117094" y="182373"/>
                  </a:lnTo>
                  <a:lnTo>
                    <a:pt x="112775" y="181484"/>
                  </a:lnTo>
                  <a:lnTo>
                    <a:pt x="108457" y="179579"/>
                  </a:lnTo>
                  <a:lnTo>
                    <a:pt x="105028" y="177166"/>
                  </a:lnTo>
                  <a:lnTo>
                    <a:pt x="102235" y="174753"/>
                  </a:lnTo>
                  <a:lnTo>
                    <a:pt x="95885" y="168530"/>
                  </a:lnTo>
                  <a:lnTo>
                    <a:pt x="90169" y="162306"/>
                  </a:lnTo>
                  <a:lnTo>
                    <a:pt x="87248" y="159893"/>
                  </a:lnTo>
                  <a:lnTo>
                    <a:pt x="83438" y="157988"/>
                  </a:lnTo>
                  <a:lnTo>
                    <a:pt x="79628" y="156084"/>
                  </a:lnTo>
                  <a:lnTo>
                    <a:pt x="75310" y="155575"/>
                  </a:lnTo>
                  <a:lnTo>
                    <a:pt x="70485" y="155575"/>
                  </a:lnTo>
                  <a:lnTo>
                    <a:pt x="64769" y="156973"/>
                  </a:lnTo>
                  <a:lnTo>
                    <a:pt x="61848" y="157988"/>
                  </a:lnTo>
                  <a:lnTo>
                    <a:pt x="58547" y="159386"/>
                  </a:lnTo>
                  <a:lnTo>
                    <a:pt x="55118" y="161291"/>
                  </a:lnTo>
                  <a:lnTo>
                    <a:pt x="51307" y="163196"/>
                  </a:lnTo>
                  <a:lnTo>
                    <a:pt x="48387" y="161291"/>
                  </a:lnTo>
                  <a:lnTo>
                    <a:pt x="46482" y="159386"/>
                  </a:lnTo>
                  <a:lnTo>
                    <a:pt x="44576" y="156973"/>
                  </a:lnTo>
                  <a:lnTo>
                    <a:pt x="43179" y="154052"/>
                  </a:lnTo>
                  <a:lnTo>
                    <a:pt x="38862" y="142622"/>
                  </a:lnTo>
                  <a:lnTo>
                    <a:pt x="37338" y="140209"/>
                  </a:lnTo>
                  <a:lnTo>
                    <a:pt x="35941" y="137796"/>
                  </a:lnTo>
                  <a:lnTo>
                    <a:pt x="34035" y="135891"/>
                  </a:lnTo>
                  <a:lnTo>
                    <a:pt x="31115" y="133986"/>
                  </a:lnTo>
                  <a:lnTo>
                    <a:pt x="28194" y="132969"/>
                  </a:lnTo>
                  <a:lnTo>
                    <a:pt x="24384" y="132969"/>
                  </a:lnTo>
                  <a:lnTo>
                    <a:pt x="19557" y="132969"/>
                  </a:lnTo>
                  <a:lnTo>
                    <a:pt x="14350" y="134493"/>
                  </a:lnTo>
                  <a:close/>
                </a:path>
              </a:pathLst>
            </a:custGeom>
            <a:solidFill>
              <a:srgbClr val="719158"/>
            </a:solidFill>
            <a:ln w="0">
              <a:solidFill>
                <a:srgbClr val="71915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ihandform 92"/>
            <p:cNvSpPr/>
            <p:nvPr/>
          </p:nvSpPr>
          <p:spPr>
            <a:xfrm>
              <a:off x="3119400" y="2733840"/>
              <a:ext cx="504720" cy="152280"/>
            </a:xfrm>
            <a:custGeom>
              <a:avLst/>
              <a:gdLst>
                <a:gd name="textAreaLeft" fmla="*/ 0 w 504720"/>
                <a:gd name="textAreaRight" fmla="*/ 505080 w 504720"/>
                <a:gd name="textAreaTop" fmla="*/ 0 h 152280"/>
                <a:gd name="textAreaBottom" fmla="*/ 152280 h 152280"/>
              </a:gdLst>
              <a:ahLst/>
              <a:rect l="textAreaLeft" t="textAreaTop" r="textAreaRight" b="textAreaBottom"/>
              <a:pathLst>
                <a:path w="410338" h="187707">
                  <a:moveTo>
                    <a:pt x="14350" y="134493"/>
                  </a:moveTo>
                  <a:lnTo>
                    <a:pt x="10541" y="128143"/>
                  </a:lnTo>
                  <a:lnTo>
                    <a:pt x="7112" y="121921"/>
                  </a:lnTo>
                  <a:lnTo>
                    <a:pt x="4318" y="114809"/>
                  </a:lnTo>
                  <a:lnTo>
                    <a:pt x="2285" y="107569"/>
                  </a:lnTo>
                  <a:lnTo>
                    <a:pt x="888" y="99823"/>
                  </a:lnTo>
                  <a:lnTo>
                    <a:pt x="0" y="91694"/>
                  </a:lnTo>
                  <a:lnTo>
                    <a:pt x="0" y="83059"/>
                  </a:lnTo>
                  <a:lnTo>
                    <a:pt x="888" y="74423"/>
                  </a:lnTo>
                  <a:lnTo>
                    <a:pt x="2285" y="65279"/>
                  </a:lnTo>
                  <a:lnTo>
                    <a:pt x="4698" y="56135"/>
                  </a:lnTo>
                  <a:lnTo>
                    <a:pt x="7619" y="47117"/>
                  </a:lnTo>
                  <a:lnTo>
                    <a:pt x="11429" y="37466"/>
                  </a:lnTo>
                  <a:lnTo>
                    <a:pt x="16256" y="28322"/>
                  </a:lnTo>
                  <a:lnTo>
                    <a:pt x="21970" y="18797"/>
                  </a:lnTo>
                  <a:lnTo>
                    <a:pt x="28701" y="9144"/>
                  </a:lnTo>
                  <a:lnTo>
                    <a:pt x="36448" y="0"/>
                  </a:lnTo>
                  <a:lnTo>
                    <a:pt x="33528" y="2922"/>
                  </a:lnTo>
                  <a:lnTo>
                    <a:pt x="31115" y="6223"/>
                  </a:lnTo>
                  <a:lnTo>
                    <a:pt x="29210" y="10542"/>
                  </a:lnTo>
                  <a:lnTo>
                    <a:pt x="27304" y="14860"/>
                  </a:lnTo>
                  <a:lnTo>
                    <a:pt x="26288" y="19686"/>
                  </a:lnTo>
                  <a:lnTo>
                    <a:pt x="25907" y="24511"/>
                  </a:lnTo>
                  <a:lnTo>
                    <a:pt x="26288" y="29337"/>
                  </a:lnTo>
                  <a:lnTo>
                    <a:pt x="27304" y="33655"/>
                  </a:lnTo>
                  <a:lnTo>
                    <a:pt x="29718" y="37466"/>
                  </a:lnTo>
                  <a:lnTo>
                    <a:pt x="32638" y="40894"/>
                  </a:lnTo>
                  <a:lnTo>
                    <a:pt x="36957" y="43688"/>
                  </a:lnTo>
                  <a:lnTo>
                    <a:pt x="39750" y="44705"/>
                  </a:lnTo>
                  <a:lnTo>
                    <a:pt x="42672" y="45212"/>
                  </a:lnTo>
                  <a:lnTo>
                    <a:pt x="45973" y="45593"/>
                  </a:lnTo>
                  <a:lnTo>
                    <a:pt x="49403" y="45593"/>
                  </a:lnTo>
                  <a:lnTo>
                    <a:pt x="53720" y="45593"/>
                  </a:lnTo>
                  <a:lnTo>
                    <a:pt x="58038" y="45212"/>
                  </a:lnTo>
                  <a:lnTo>
                    <a:pt x="62865" y="44705"/>
                  </a:lnTo>
                  <a:lnTo>
                    <a:pt x="68072" y="43180"/>
                  </a:lnTo>
                  <a:lnTo>
                    <a:pt x="73406" y="41784"/>
                  </a:lnTo>
                  <a:lnTo>
                    <a:pt x="79628" y="39879"/>
                  </a:lnTo>
                  <a:lnTo>
                    <a:pt x="80518" y="40386"/>
                  </a:lnTo>
                  <a:lnTo>
                    <a:pt x="81025" y="41275"/>
                  </a:lnTo>
                  <a:lnTo>
                    <a:pt x="81025" y="42292"/>
                  </a:lnTo>
                  <a:lnTo>
                    <a:pt x="80518" y="43688"/>
                  </a:lnTo>
                  <a:lnTo>
                    <a:pt x="80137" y="45212"/>
                  </a:lnTo>
                  <a:lnTo>
                    <a:pt x="78613" y="47117"/>
                  </a:lnTo>
                  <a:lnTo>
                    <a:pt x="75819" y="51436"/>
                  </a:lnTo>
                  <a:lnTo>
                    <a:pt x="71500" y="56135"/>
                  </a:lnTo>
                  <a:lnTo>
                    <a:pt x="66675" y="61468"/>
                  </a:lnTo>
                  <a:lnTo>
                    <a:pt x="56134" y="73025"/>
                  </a:lnTo>
                  <a:lnTo>
                    <a:pt x="50291" y="78741"/>
                  </a:lnTo>
                  <a:lnTo>
                    <a:pt x="45593" y="84074"/>
                  </a:lnTo>
                  <a:lnTo>
                    <a:pt x="40766" y="88773"/>
                  </a:lnTo>
                  <a:lnTo>
                    <a:pt x="36957" y="93092"/>
                  </a:lnTo>
                  <a:lnTo>
                    <a:pt x="35432" y="95123"/>
                  </a:lnTo>
                  <a:lnTo>
                    <a:pt x="34035" y="96521"/>
                  </a:lnTo>
                  <a:lnTo>
                    <a:pt x="33019" y="97917"/>
                  </a:lnTo>
                  <a:lnTo>
                    <a:pt x="32638" y="99442"/>
                  </a:lnTo>
                  <a:lnTo>
                    <a:pt x="32638" y="99823"/>
                  </a:lnTo>
                  <a:lnTo>
                    <a:pt x="33019" y="100330"/>
                  </a:lnTo>
                  <a:lnTo>
                    <a:pt x="33528" y="100838"/>
                  </a:lnTo>
                  <a:lnTo>
                    <a:pt x="34925" y="100330"/>
                  </a:lnTo>
                  <a:lnTo>
                    <a:pt x="45085" y="96521"/>
                  </a:lnTo>
                  <a:lnTo>
                    <a:pt x="54228" y="93092"/>
                  </a:lnTo>
                  <a:lnTo>
                    <a:pt x="61848" y="90298"/>
                  </a:lnTo>
                  <a:lnTo>
                    <a:pt x="69088" y="88392"/>
                  </a:lnTo>
                  <a:lnTo>
                    <a:pt x="75310" y="86487"/>
                  </a:lnTo>
                  <a:lnTo>
                    <a:pt x="80518" y="85472"/>
                  </a:lnTo>
                  <a:lnTo>
                    <a:pt x="85344" y="84963"/>
                  </a:lnTo>
                  <a:lnTo>
                    <a:pt x="89153" y="84455"/>
                  </a:lnTo>
                  <a:lnTo>
                    <a:pt x="92075" y="84963"/>
                  </a:lnTo>
                  <a:lnTo>
                    <a:pt x="94995" y="85472"/>
                  </a:lnTo>
                  <a:lnTo>
                    <a:pt x="97409" y="86487"/>
                  </a:lnTo>
                  <a:lnTo>
                    <a:pt x="98806" y="87885"/>
                  </a:lnTo>
                  <a:lnTo>
                    <a:pt x="100203" y="89281"/>
                  </a:lnTo>
                  <a:lnTo>
                    <a:pt x="101219" y="91186"/>
                  </a:lnTo>
                  <a:lnTo>
                    <a:pt x="102235" y="96012"/>
                  </a:lnTo>
                  <a:lnTo>
                    <a:pt x="102235" y="100838"/>
                  </a:lnTo>
                  <a:lnTo>
                    <a:pt x="102235" y="106173"/>
                  </a:lnTo>
                  <a:lnTo>
                    <a:pt x="102616" y="111887"/>
                  </a:lnTo>
                  <a:lnTo>
                    <a:pt x="103632" y="117094"/>
                  </a:lnTo>
                  <a:lnTo>
                    <a:pt x="105537" y="121921"/>
                  </a:lnTo>
                  <a:lnTo>
                    <a:pt x="107441" y="124334"/>
                  </a:lnTo>
                  <a:lnTo>
                    <a:pt x="109347" y="126238"/>
                  </a:lnTo>
                  <a:lnTo>
                    <a:pt x="111760" y="128143"/>
                  </a:lnTo>
                  <a:lnTo>
                    <a:pt x="115188" y="129667"/>
                  </a:lnTo>
                  <a:lnTo>
                    <a:pt x="118998" y="131065"/>
                  </a:lnTo>
                  <a:lnTo>
                    <a:pt x="123316" y="131573"/>
                  </a:lnTo>
                  <a:lnTo>
                    <a:pt x="131444" y="126747"/>
                  </a:lnTo>
                  <a:lnTo>
                    <a:pt x="138684" y="122429"/>
                  </a:lnTo>
                  <a:lnTo>
                    <a:pt x="144907" y="118618"/>
                  </a:lnTo>
                  <a:lnTo>
                    <a:pt x="150622" y="115698"/>
                  </a:lnTo>
                  <a:lnTo>
                    <a:pt x="155956" y="113285"/>
                  </a:lnTo>
                  <a:lnTo>
                    <a:pt x="160273" y="111887"/>
                  </a:lnTo>
                  <a:lnTo>
                    <a:pt x="164591" y="110872"/>
                  </a:lnTo>
                  <a:lnTo>
                    <a:pt x="167894" y="110491"/>
                  </a:lnTo>
                  <a:lnTo>
                    <a:pt x="171322" y="110491"/>
                  </a:lnTo>
                  <a:lnTo>
                    <a:pt x="174116" y="110872"/>
                  </a:lnTo>
                  <a:lnTo>
                    <a:pt x="176148" y="111887"/>
                  </a:lnTo>
                  <a:lnTo>
                    <a:pt x="178435" y="112777"/>
                  </a:lnTo>
                  <a:lnTo>
                    <a:pt x="179959" y="114809"/>
                  </a:lnTo>
                  <a:lnTo>
                    <a:pt x="181356" y="116713"/>
                  </a:lnTo>
                  <a:lnTo>
                    <a:pt x="183769" y="121031"/>
                  </a:lnTo>
                  <a:lnTo>
                    <a:pt x="185166" y="126747"/>
                  </a:lnTo>
                  <a:lnTo>
                    <a:pt x="186690" y="132461"/>
                  </a:lnTo>
                  <a:lnTo>
                    <a:pt x="188087" y="138304"/>
                  </a:lnTo>
                  <a:lnTo>
                    <a:pt x="189484" y="143511"/>
                  </a:lnTo>
                  <a:lnTo>
                    <a:pt x="191897" y="148844"/>
                  </a:lnTo>
                  <a:lnTo>
                    <a:pt x="193420" y="151257"/>
                  </a:lnTo>
                  <a:lnTo>
                    <a:pt x="195325" y="153162"/>
                  </a:lnTo>
                  <a:lnTo>
                    <a:pt x="197231" y="154560"/>
                  </a:lnTo>
                  <a:lnTo>
                    <a:pt x="199644" y="156084"/>
                  </a:lnTo>
                  <a:lnTo>
                    <a:pt x="202438" y="156973"/>
                  </a:lnTo>
                  <a:lnTo>
                    <a:pt x="205866" y="157480"/>
                  </a:lnTo>
                  <a:lnTo>
                    <a:pt x="210185" y="151257"/>
                  </a:lnTo>
                  <a:lnTo>
                    <a:pt x="213994" y="145923"/>
                  </a:lnTo>
                  <a:lnTo>
                    <a:pt x="217804" y="141605"/>
                  </a:lnTo>
                  <a:lnTo>
                    <a:pt x="221234" y="137796"/>
                  </a:lnTo>
                  <a:lnTo>
                    <a:pt x="224154" y="134493"/>
                  </a:lnTo>
                  <a:lnTo>
                    <a:pt x="226948" y="132080"/>
                  </a:lnTo>
                  <a:lnTo>
                    <a:pt x="229869" y="130556"/>
                  </a:lnTo>
                  <a:lnTo>
                    <a:pt x="232282" y="129160"/>
                  </a:lnTo>
                  <a:lnTo>
                    <a:pt x="234188" y="128652"/>
                  </a:lnTo>
                  <a:lnTo>
                    <a:pt x="236600" y="128652"/>
                  </a:lnTo>
                  <a:lnTo>
                    <a:pt x="238506" y="128652"/>
                  </a:lnTo>
                  <a:lnTo>
                    <a:pt x="239903" y="129667"/>
                  </a:lnTo>
                  <a:lnTo>
                    <a:pt x="243840" y="132080"/>
                  </a:lnTo>
                  <a:lnTo>
                    <a:pt x="246634" y="135382"/>
                  </a:lnTo>
                  <a:lnTo>
                    <a:pt x="250063" y="139192"/>
                  </a:lnTo>
                  <a:lnTo>
                    <a:pt x="253365" y="143511"/>
                  </a:lnTo>
                  <a:lnTo>
                    <a:pt x="257175" y="147829"/>
                  </a:lnTo>
                  <a:lnTo>
                    <a:pt x="262000" y="151766"/>
                  </a:lnTo>
                  <a:lnTo>
                    <a:pt x="267335" y="154560"/>
                  </a:lnTo>
                  <a:lnTo>
                    <a:pt x="270128" y="156084"/>
                  </a:lnTo>
                  <a:lnTo>
                    <a:pt x="273557" y="156465"/>
                  </a:lnTo>
                  <a:lnTo>
                    <a:pt x="276860" y="156973"/>
                  </a:lnTo>
                  <a:lnTo>
                    <a:pt x="280797" y="156973"/>
                  </a:lnTo>
                  <a:lnTo>
                    <a:pt x="285115" y="156084"/>
                  </a:lnTo>
                  <a:lnTo>
                    <a:pt x="289432" y="155067"/>
                  </a:lnTo>
                  <a:lnTo>
                    <a:pt x="290322" y="150242"/>
                  </a:lnTo>
                  <a:lnTo>
                    <a:pt x="291719" y="145035"/>
                  </a:lnTo>
                  <a:lnTo>
                    <a:pt x="293750" y="140209"/>
                  </a:lnTo>
                  <a:lnTo>
                    <a:pt x="296037" y="134874"/>
                  </a:lnTo>
                  <a:lnTo>
                    <a:pt x="298957" y="130175"/>
                  </a:lnTo>
                  <a:lnTo>
                    <a:pt x="302387" y="124842"/>
                  </a:lnTo>
                  <a:lnTo>
                    <a:pt x="306197" y="120523"/>
                  </a:lnTo>
                  <a:lnTo>
                    <a:pt x="310515" y="115698"/>
                  </a:lnTo>
                  <a:lnTo>
                    <a:pt x="315341" y="111380"/>
                  </a:lnTo>
                  <a:lnTo>
                    <a:pt x="320040" y="107569"/>
                  </a:lnTo>
                  <a:lnTo>
                    <a:pt x="325373" y="103760"/>
                  </a:lnTo>
                  <a:lnTo>
                    <a:pt x="330707" y="100330"/>
                  </a:lnTo>
                  <a:lnTo>
                    <a:pt x="336422" y="97536"/>
                  </a:lnTo>
                  <a:lnTo>
                    <a:pt x="342645" y="95123"/>
                  </a:lnTo>
                  <a:lnTo>
                    <a:pt x="348869" y="93092"/>
                  </a:lnTo>
                  <a:lnTo>
                    <a:pt x="355091" y="91694"/>
                  </a:lnTo>
                  <a:lnTo>
                    <a:pt x="364744" y="89281"/>
                  </a:lnTo>
                  <a:lnTo>
                    <a:pt x="369569" y="88392"/>
                  </a:lnTo>
                  <a:lnTo>
                    <a:pt x="375285" y="87885"/>
                  </a:lnTo>
                  <a:lnTo>
                    <a:pt x="381000" y="87377"/>
                  </a:lnTo>
                  <a:lnTo>
                    <a:pt x="386841" y="87885"/>
                  </a:lnTo>
                  <a:lnTo>
                    <a:pt x="392557" y="88773"/>
                  </a:lnTo>
                  <a:lnTo>
                    <a:pt x="398398" y="90298"/>
                  </a:lnTo>
                  <a:lnTo>
                    <a:pt x="397382" y="90298"/>
                  </a:lnTo>
                  <a:lnTo>
                    <a:pt x="396875" y="90298"/>
                  </a:lnTo>
                  <a:lnTo>
                    <a:pt x="397891" y="90298"/>
                  </a:lnTo>
                  <a:lnTo>
                    <a:pt x="399288" y="90805"/>
                  </a:lnTo>
                  <a:lnTo>
                    <a:pt x="401193" y="91694"/>
                  </a:lnTo>
                  <a:lnTo>
                    <a:pt x="404113" y="93092"/>
                  </a:lnTo>
                  <a:lnTo>
                    <a:pt x="407035" y="96012"/>
                  </a:lnTo>
                  <a:lnTo>
                    <a:pt x="410337" y="99442"/>
                  </a:lnTo>
                  <a:lnTo>
                    <a:pt x="402209" y="100330"/>
                  </a:lnTo>
                  <a:lnTo>
                    <a:pt x="394969" y="101855"/>
                  </a:lnTo>
                  <a:lnTo>
                    <a:pt x="388238" y="103252"/>
                  </a:lnTo>
                  <a:lnTo>
                    <a:pt x="381507" y="104648"/>
                  </a:lnTo>
                  <a:lnTo>
                    <a:pt x="375793" y="106554"/>
                  </a:lnTo>
                  <a:lnTo>
                    <a:pt x="370459" y="108459"/>
                  </a:lnTo>
                  <a:lnTo>
                    <a:pt x="365251" y="110872"/>
                  </a:lnTo>
                  <a:lnTo>
                    <a:pt x="360934" y="112777"/>
                  </a:lnTo>
                  <a:lnTo>
                    <a:pt x="352678" y="118111"/>
                  </a:lnTo>
                  <a:lnTo>
                    <a:pt x="346456" y="123444"/>
                  </a:lnTo>
                  <a:lnTo>
                    <a:pt x="341757" y="129160"/>
                  </a:lnTo>
                  <a:lnTo>
                    <a:pt x="337819" y="135382"/>
                  </a:lnTo>
                  <a:lnTo>
                    <a:pt x="335025" y="141098"/>
                  </a:lnTo>
                  <a:lnTo>
                    <a:pt x="332994" y="146940"/>
                  </a:lnTo>
                  <a:lnTo>
                    <a:pt x="332104" y="152655"/>
                  </a:lnTo>
                  <a:lnTo>
                    <a:pt x="331088" y="157988"/>
                  </a:lnTo>
                  <a:lnTo>
                    <a:pt x="331088" y="162306"/>
                  </a:lnTo>
                  <a:lnTo>
                    <a:pt x="331088" y="166624"/>
                  </a:lnTo>
                  <a:lnTo>
                    <a:pt x="331597" y="169927"/>
                  </a:lnTo>
                  <a:lnTo>
                    <a:pt x="331597" y="172340"/>
                  </a:lnTo>
                  <a:lnTo>
                    <a:pt x="322960" y="173736"/>
                  </a:lnTo>
                  <a:lnTo>
                    <a:pt x="313816" y="175261"/>
                  </a:lnTo>
                  <a:lnTo>
                    <a:pt x="295656" y="176657"/>
                  </a:lnTo>
                  <a:lnTo>
                    <a:pt x="258191" y="178055"/>
                  </a:lnTo>
                  <a:lnTo>
                    <a:pt x="239903" y="178562"/>
                  </a:lnTo>
                  <a:lnTo>
                    <a:pt x="222122" y="180467"/>
                  </a:lnTo>
                  <a:lnTo>
                    <a:pt x="213994" y="181484"/>
                  </a:lnTo>
                  <a:lnTo>
                    <a:pt x="205866" y="183388"/>
                  </a:lnTo>
                  <a:lnTo>
                    <a:pt x="198119" y="185293"/>
                  </a:lnTo>
                  <a:lnTo>
                    <a:pt x="190500" y="187706"/>
                  </a:lnTo>
                  <a:lnTo>
                    <a:pt x="186182" y="183897"/>
                  </a:lnTo>
                  <a:lnTo>
                    <a:pt x="181356" y="180467"/>
                  </a:lnTo>
                  <a:lnTo>
                    <a:pt x="176529" y="178055"/>
                  </a:lnTo>
                  <a:lnTo>
                    <a:pt x="171831" y="176657"/>
                  </a:lnTo>
                  <a:lnTo>
                    <a:pt x="167004" y="176149"/>
                  </a:lnTo>
                  <a:lnTo>
                    <a:pt x="162687" y="176149"/>
                  </a:lnTo>
                  <a:lnTo>
                    <a:pt x="153035" y="177166"/>
                  </a:lnTo>
                  <a:lnTo>
                    <a:pt x="143891" y="179071"/>
                  </a:lnTo>
                  <a:lnTo>
                    <a:pt x="134873" y="181484"/>
                  </a:lnTo>
                  <a:lnTo>
                    <a:pt x="125729" y="182880"/>
                  </a:lnTo>
                  <a:lnTo>
                    <a:pt x="121412" y="182880"/>
                  </a:lnTo>
                  <a:lnTo>
                    <a:pt x="117094" y="182373"/>
                  </a:lnTo>
                  <a:lnTo>
                    <a:pt x="112775" y="181484"/>
                  </a:lnTo>
                  <a:lnTo>
                    <a:pt x="108838" y="179579"/>
                  </a:lnTo>
                  <a:lnTo>
                    <a:pt x="105028" y="177166"/>
                  </a:lnTo>
                  <a:lnTo>
                    <a:pt x="102235" y="174753"/>
                  </a:lnTo>
                  <a:lnTo>
                    <a:pt x="96393" y="168530"/>
                  </a:lnTo>
                  <a:lnTo>
                    <a:pt x="90169" y="162306"/>
                  </a:lnTo>
                  <a:lnTo>
                    <a:pt x="87248" y="159893"/>
                  </a:lnTo>
                  <a:lnTo>
                    <a:pt x="83947" y="157988"/>
                  </a:lnTo>
                  <a:lnTo>
                    <a:pt x="80137" y="156084"/>
                  </a:lnTo>
                  <a:lnTo>
                    <a:pt x="75819" y="155575"/>
                  </a:lnTo>
                  <a:lnTo>
                    <a:pt x="70485" y="155575"/>
                  </a:lnTo>
                  <a:lnTo>
                    <a:pt x="65278" y="156973"/>
                  </a:lnTo>
                  <a:lnTo>
                    <a:pt x="61848" y="157988"/>
                  </a:lnTo>
                  <a:lnTo>
                    <a:pt x="58547" y="159386"/>
                  </a:lnTo>
                  <a:lnTo>
                    <a:pt x="55118" y="161291"/>
                  </a:lnTo>
                  <a:lnTo>
                    <a:pt x="51307" y="163196"/>
                  </a:lnTo>
                  <a:lnTo>
                    <a:pt x="48387" y="161291"/>
                  </a:lnTo>
                  <a:lnTo>
                    <a:pt x="46482" y="159386"/>
                  </a:lnTo>
                  <a:lnTo>
                    <a:pt x="45085" y="156973"/>
                  </a:lnTo>
                  <a:lnTo>
                    <a:pt x="43560" y="154052"/>
                  </a:lnTo>
                  <a:lnTo>
                    <a:pt x="38862" y="142622"/>
                  </a:lnTo>
                  <a:lnTo>
                    <a:pt x="37845" y="140209"/>
                  </a:lnTo>
                  <a:lnTo>
                    <a:pt x="35941" y="137796"/>
                  </a:lnTo>
                  <a:lnTo>
                    <a:pt x="34035" y="135891"/>
                  </a:lnTo>
                  <a:lnTo>
                    <a:pt x="31622" y="133986"/>
                  </a:lnTo>
                  <a:lnTo>
                    <a:pt x="28194" y="132969"/>
                  </a:lnTo>
                  <a:lnTo>
                    <a:pt x="24384" y="132969"/>
                  </a:lnTo>
                  <a:lnTo>
                    <a:pt x="19557" y="132969"/>
                  </a:lnTo>
                  <a:lnTo>
                    <a:pt x="14350" y="134493"/>
                  </a:lnTo>
                  <a:close/>
                </a:path>
              </a:pathLst>
            </a:custGeom>
            <a:solidFill>
              <a:srgbClr val="598446"/>
            </a:solidFill>
            <a:ln w="0">
              <a:solidFill>
                <a:srgbClr val="59844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ihandform 93"/>
            <p:cNvSpPr/>
            <p:nvPr/>
          </p:nvSpPr>
          <p:spPr>
            <a:xfrm>
              <a:off x="3119400" y="2733840"/>
              <a:ext cx="498600" cy="152280"/>
            </a:xfrm>
            <a:custGeom>
              <a:avLst/>
              <a:gdLst>
                <a:gd name="textAreaLeft" fmla="*/ 0 w 498600"/>
                <a:gd name="textAreaRight" fmla="*/ 498960 w 498600"/>
                <a:gd name="textAreaTop" fmla="*/ 0 h 152280"/>
                <a:gd name="textAreaBottom" fmla="*/ 152280 h 152280"/>
              </a:gdLst>
              <a:ahLst/>
              <a:rect l="textAreaLeft" t="textAreaTop" r="textAreaRight" b="textAreaBottom"/>
              <a:pathLst>
                <a:path w="406527" h="187707">
                  <a:moveTo>
                    <a:pt x="14350" y="134493"/>
                  </a:moveTo>
                  <a:lnTo>
                    <a:pt x="10032" y="128143"/>
                  </a:lnTo>
                  <a:lnTo>
                    <a:pt x="6603" y="121921"/>
                  </a:lnTo>
                  <a:lnTo>
                    <a:pt x="4318" y="114809"/>
                  </a:lnTo>
                  <a:lnTo>
                    <a:pt x="1904" y="107569"/>
                  </a:lnTo>
                  <a:lnTo>
                    <a:pt x="381" y="99823"/>
                  </a:lnTo>
                  <a:lnTo>
                    <a:pt x="0" y="91694"/>
                  </a:lnTo>
                  <a:lnTo>
                    <a:pt x="0" y="83059"/>
                  </a:lnTo>
                  <a:lnTo>
                    <a:pt x="381" y="74423"/>
                  </a:lnTo>
                  <a:lnTo>
                    <a:pt x="1904" y="65279"/>
                  </a:lnTo>
                  <a:lnTo>
                    <a:pt x="4318" y="56135"/>
                  </a:lnTo>
                  <a:lnTo>
                    <a:pt x="7619" y="47117"/>
                  </a:lnTo>
                  <a:lnTo>
                    <a:pt x="11429" y="37466"/>
                  </a:lnTo>
                  <a:lnTo>
                    <a:pt x="16256" y="28322"/>
                  </a:lnTo>
                  <a:lnTo>
                    <a:pt x="21970" y="18797"/>
                  </a:lnTo>
                  <a:lnTo>
                    <a:pt x="28701" y="9144"/>
                  </a:lnTo>
                  <a:lnTo>
                    <a:pt x="36448" y="0"/>
                  </a:lnTo>
                  <a:lnTo>
                    <a:pt x="33528" y="2922"/>
                  </a:lnTo>
                  <a:lnTo>
                    <a:pt x="31115" y="6731"/>
                  </a:lnTo>
                  <a:lnTo>
                    <a:pt x="28701" y="11049"/>
                  </a:lnTo>
                  <a:lnTo>
                    <a:pt x="26797" y="15367"/>
                  </a:lnTo>
                  <a:lnTo>
                    <a:pt x="24891" y="20702"/>
                  </a:lnTo>
                  <a:lnTo>
                    <a:pt x="23875" y="25528"/>
                  </a:lnTo>
                  <a:lnTo>
                    <a:pt x="23875" y="30735"/>
                  </a:lnTo>
                  <a:lnTo>
                    <a:pt x="24384" y="35561"/>
                  </a:lnTo>
                  <a:lnTo>
                    <a:pt x="25907" y="39879"/>
                  </a:lnTo>
                  <a:lnTo>
                    <a:pt x="27813" y="43688"/>
                  </a:lnTo>
                  <a:lnTo>
                    <a:pt x="31622" y="46610"/>
                  </a:lnTo>
                  <a:lnTo>
                    <a:pt x="33528" y="47498"/>
                  </a:lnTo>
                  <a:lnTo>
                    <a:pt x="35941" y="48515"/>
                  </a:lnTo>
                  <a:lnTo>
                    <a:pt x="38862" y="49530"/>
                  </a:lnTo>
                  <a:lnTo>
                    <a:pt x="42163" y="49911"/>
                  </a:lnTo>
                  <a:lnTo>
                    <a:pt x="45593" y="49911"/>
                  </a:lnTo>
                  <a:lnTo>
                    <a:pt x="49403" y="49530"/>
                  </a:lnTo>
                  <a:lnTo>
                    <a:pt x="53720" y="49023"/>
                  </a:lnTo>
                  <a:lnTo>
                    <a:pt x="58038" y="48006"/>
                  </a:lnTo>
                  <a:lnTo>
                    <a:pt x="63245" y="46610"/>
                  </a:lnTo>
                  <a:lnTo>
                    <a:pt x="68579" y="44705"/>
                  </a:lnTo>
                  <a:lnTo>
                    <a:pt x="69595" y="45212"/>
                  </a:lnTo>
                  <a:lnTo>
                    <a:pt x="69976" y="46102"/>
                  </a:lnTo>
                  <a:lnTo>
                    <a:pt x="70485" y="47498"/>
                  </a:lnTo>
                  <a:lnTo>
                    <a:pt x="69976" y="48515"/>
                  </a:lnTo>
                  <a:lnTo>
                    <a:pt x="69595" y="50419"/>
                  </a:lnTo>
                  <a:lnTo>
                    <a:pt x="68579" y="52324"/>
                  </a:lnTo>
                  <a:lnTo>
                    <a:pt x="65659" y="56135"/>
                  </a:lnTo>
                  <a:lnTo>
                    <a:pt x="62357" y="61468"/>
                  </a:lnTo>
                  <a:lnTo>
                    <a:pt x="57531" y="66803"/>
                  </a:lnTo>
                  <a:lnTo>
                    <a:pt x="47878" y="77852"/>
                  </a:lnTo>
                  <a:lnTo>
                    <a:pt x="43179" y="83059"/>
                  </a:lnTo>
                  <a:lnTo>
                    <a:pt x="38353" y="88773"/>
                  </a:lnTo>
                  <a:lnTo>
                    <a:pt x="34544" y="93599"/>
                  </a:lnTo>
                  <a:lnTo>
                    <a:pt x="30607" y="97536"/>
                  </a:lnTo>
                  <a:lnTo>
                    <a:pt x="28701" y="101347"/>
                  </a:lnTo>
                  <a:lnTo>
                    <a:pt x="27813" y="102236"/>
                  </a:lnTo>
                  <a:lnTo>
                    <a:pt x="27304" y="103760"/>
                  </a:lnTo>
                  <a:lnTo>
                    <a:pt x="27304" y="104141"/>
                  </a:lnTo>
                  <a:lnTo>
                    <a:pt x="27813" y="104648"/>
                  </a:lnTo>
                  <a:lnTo>
                    <a:pt x="28701" y="105156"/>
                  </a:lnTo>
                  <a:lnTo>
                    <a:pt x="29718" y="104648"/>
                  </a:lnTo>
                  <a:lnTo>
                    <a:pt x="39750" y="100838"/>
                  </a:lnTo>
                  <a:lnTo>
                    <a:pt x="48894" y="97536"/>
                  </a:lnTo>
                  <a:lnTo>
                    <a:pt x="57022" y="94616"/>
                  </a:lnTo>
                  <a:lnTo>
                    <a:pt x="64262" y="92711"/>
                  </a:lnTo>
                  <a:lnTo>
                    <a:pt x="70485" y="90805"/>
                  </a:lnTo>
                  <a:lnTo>
                    <a:pt x="75819" y="89790"/>
                  </a:lnTo>
                  <a:lnTo>
                    <a:pt x="80518" y="89281"/>
                  </a:lnTo>
                  <a:lnTo>
                    <a:pt x="84454" y="88773"/>
                  </a:lnTo>
                  <a:lnTo>
                    <a:pt x="87757" y="89281"/>
                  </a:lnTo>
                  <a:lnTo>
                    <a:pt x="90678" y="89790"/>
                  </a:lnTo>
                  <a:lnTo>
                    <a:pt x="93091" y="90805"/>
                  </a:lnTo>
                  <a:lnTo>
                    <a:pt x="94995" y="92203"/>
                  </a:lnTo>
                  <a:lnTo>
                    <a:pt x="96393" y="94107"/>
                  </a:lnTo>
                  <a:lnTo>
                    <a:pt x="97409" y="96012"/>
                  </a:lnTo>
                  <a:lnTo>
                    <a:pt x="98806" y="100330"/>
                  </a:lnTo>
                  <a:lnTo>
                    <a:pt x="99313" y="105156"/>
                  </a:lnTo>
                  <a:lnTo>
                    <a:pt x="99822" y="110872"/>
                  </a:lnTo>
                  <a:lnTo>
                    <a:pt x="100203" y="116205"/>
                  </a:lnTo>
                  <a:lnTo>
                    <a:pt x="101726" y="121412"/>
                  </a:lnTo>
                  <a:lnTo>
                    <a:pt x="104140" y="126747"/>
                  </a:lnTo>
                  <a:lnTo>
                    <a:pt x="105537" y="128652"/>
                  </a:lnTo>
                  <a:lnTo>
                    <a:pt x="107950" y="130556"/>
                  </a:lnTo>
                  <a:lnTo>
                    <a:pt x="110363" y="132461"/>
                  </a:lnTo>
                  <a:lnTo>
                    <a:pt x="113665" y="133986"/>
                  </a:lnTo>
                  <a:lnTo>
                    <a:pt x="117475" y="135382"/>
                  </a:lnTo>
                  <a:lnTo>
                    <a:pt x="121919" y="136398"/>
                  </a:lnTo>
                  <a:lnTo>
                    <a:pt x="129540" y="132080"/>
                  </a:lnTo>
                  <a:lnTo>
                    <a:pt x="135763" y="128143"/>
                  </a:lnTo>
                  <a:lnTo>
                    <a:pt x="141985" y="125349"/>
                  </a:lnTo>
                  <a:lnTo>
                    <a:pt x="147319" y="122936"/>
                  </a:lnTo>
                  <a:lnTo>
                    <a:pt x="152145" y="121031"/>
                  </a:lnTo>
                  <a:lnTo>
                    <a:pt x="156463" y="119507"/>
                  </a:lnTo>
                  <a:lnTo>
                    <a:pt x="160273" y="118618"/>
                  </a:lnTo>
                  <a:lnTo>
                    <a:pt x="163575" y="118618"/>
                  </a:lnTo>
                  <a:lnTo>
                    <a:pt x="166497" y="118618"/>
                  </a:lnTo>
                  <a:lnTo>
                    <a:pt x="168910" y="119127"/>
                  </a:lnTo>
                  <a:lnTo>
                    <a:pt x="171322" y="120016"/>
                  </a:lnTo>
                  <a:lnTo>
                    <a:pt x="173228" y="121031"/>
                  </a:lnTo>
                  <a:lnTo>
                    <a:pt x="176148" y="124334"/>
                  </a:lnTo>
                  <a:lnTo>
                    <a:pt x="178435" y="128652"/>
                  </a:lnTo>
                  <a:lnTo>
                    <a:pt x="179959" y="133478"/>
                  </a:lnTo>
                  <a:lnTo>
                    <a:pt x="181863" y="138811"/>
                  </a:lnTo>
                  <a:lnTo>
                    <a:pt x="183260" y="144018"/>
                  </a:lnTo>
                  <a:lnTo>
                    <a:pt x="185673" y="148844"/>
                  </a:lnTo>
                  <a:lnTo>
                    <a:pt x="188594" y="153671"/>
                  </a:lnTo>
                  <a:lnTo>
                    <a:pt x="189991" y="155575"/>
                  </a:lnTo>
                  <a:lnTo>
                    <a:pt x="192404" y="157480"/>
                  </a:lnTo>
                  <a:lnTo>
                    <a:pt x="194818" y="158878"/>
                  </a:lnTo>
                  <a:lnTo>
                    <a:pt x="197738" y="159893"/>
                  </a:lnTo>
                  <a:lnTo>
                    <a:pt x="200532" y="160782"/>
                  </a:lnTo>
                  <a:lnTo>
                    <a:pt x="204469" y="161291"/>
                  </a:lnTo>
                  <a:lnTo>
                    <a:pt x="208279" y="156084"/>
                  </a:lnTo>
                  <a:lnTo>
                    <a:pt x="212597" y="151257"/>
                  </a:lnTo>
                  <a:lnTo>
                    <a:pt x="215900" y="147448"/>
                  </a:lnTo>
                  <a:lnTo>
                    <a:pt x="219328" y="144018"/>
                  </a:lnTo>
                  <a:lnTo>
                    <a:pt x="222631" y="141605"/>
                  </a:lnTo>
                  <a:lnTo>
                    <a:pt x="225551" y="139192"/>
                  </a:lnTo>
                  <a:lnTo>
                    <a:pt x="227965" y="137796"/>
                  </a:lnTo>
                  <a:lnTo>
                    <a:pt x="230378" y="136780"/>
                  </a:lnTo>
                  <a:lnTo>
                    <a:pt x="232791" y="136398"/>
                  </a:lnTo>
                  <a:lnTo>
                    <a:pt x="234695" y="136398"/>
                  </a:lnTo>
                  <a:lnTo>
                    <a:pt x="239013" y="137287"/>
                  </a:lnTo>
                  <a:lnTo>
                    <a:pt x="242316" y="139192"/>
                  </a:lnTo>
                  <a:lnTo>
                    <a:pt x="246125" y="142113"/>
                  </a:lnTo>
                  <a:lnTo>
                    <a:pt x="253365" y="149734"/>
                  </a:lnTo>
                  <a:lnTo>
                    <a:pt x="257682" y="153162"/>
                  </a:lnTo>
                  <a:lnTo>
                    <a:pt x="263016" y="156465"/>
                  </a:lnTo>
                  <a:lnTo>
                    <a:pt x="268732" y="158878"/>
                  </a:lnTo>
                  <a:lnTo>
                    <a:pt x="272034" y="159386"/>
                  </a:lnTo>
                  <a:lnTo>
                    <a:pt x="275463" y="159893"/>
                  </a:lnTo>
                  <a:lnTo>
                    <a:pt x="279272" y="159893"/>
                  </a:lnTo>
                  <a:lnTo>
                    <a:pt x="283591" y="159893"/>
                  </a:lnTo>
                  <a:lnTo>
                    <a:pt x="287909" y="158878"/>
                  </a:lnTo>
                  <a:lnTo>
                    <a:pt x="292735" y="157480"/>
                  </a:lnTo>
                  <a:lnTo>
                    <a:pt x="293750" y="152147"/>
                  </a:lnTo>
                  <a:lnTo>
                    <a:pt x="295147" y="146940"/>
                  </a:lnTo>
                  <a:lnTo>
                    <a:pt x="297053" y="141098"/>
                  </a:lnTo>
                  <a:lnTo>
                    <a:pt x="299973" y="135891"/>
                  </a:lnTo>
                  <a:lnTo>
                    <a:pt x="302768" y="130556"/>
                  </a:lnTo>
                  <a:lnTo>
                    <a:pt x="306197" y="124842"/>
                  </a:lnTo>
                  <a:lnTo>
                    <a:pt x="310515" y="120016"/>
                  </a:lnTo>
                  <a:lnTo>
                    <a:pt x="314832" y="114809"/>
                  </a:lnTo>
                  <a:lnTo>
                    <a:pt x="319659" y="110491"/>
                  </a:lnTo>
                  <a:lnTo>
                    <a:pt x="324866" y="106173"/>
                  </a:lnTo>
                  <a:lnTo>
                    <a:pt x="330200" y="102236"/>
                  </a:lnTo>
                  <a:lnTo>
                    <a:pt x="335915" y="98425"/>
                  </a:lnTo>
                  <a:lnTo>
                    <a:pt x="342138" y="95505"/>
                  </a:lnTo>
                  <a:lnTo>
                    <a:pt x="348360" y="93092"/>
                  </a:lnTo>
                  <a:lnTo>
                    <a:pt x="354710" y="91694"/>
                  </a:lnTo>
                  <a:lnTo>
                    <a:pt x="361315" y="90805"/>
                  </a:lnTo>
                  <a:lnTo>
                    <a:pt x="365760" y="89790"/>
                  </a:lnTo>
                  <a:lnTo>
                    <a:pt x="370459" y="88773"/>
                  </a:lnTo>
                  <a:lnTo>
                    <a:pt x="376300" y="87885"/>
                  </a:lnTo>
                  <a:lnTo>
                    <a:pt x="381507" y="87377"/>
                  </a:lnTo>
                  <a:lnTo>
                    <a:pt x="387731" y="87377"/>
                  </a:lnTo>
                  <a:lnTo>
                    <a:pt x="393953" y="87885"/>
                  </a:lnTo>
                  <a:lnTo>
                    <a:pt x="400303" y="89281"/>
                  </a:lnTo>
                  <a:lnTo>
                    <a:pt x="406526" y="91694"/>
                  </a:lnTo>
                  <a:lnTo>
                    <a:pt x="403097" y="91694"/>
                  </a:lnTo>
                  <a:lnTo>
                    <a:pt x="400685" y="91694"/>
                  </a:lnTo>
                  <a:lnTo>
                    <a:pt x="398779" y="92203"/>
                  </a:lnTo>
                  <a:lnTo>
                    <a:pt x="397891" y="92711"/>
                  </a:lnTo>
                  <a:lnTo>
                    <a:pt x="397382" y="94107"/>
                  </a:lnTo>
                  <a:lnTo>
                    <a:pt x="397891" y="95505"/>
                  </a:lnTo>
                  <a:lnTo>
                    <a:pt x="398398" y="98425"/>
                  </a:lnTo>
                  <a:lnTo>
                    <a:pt x="399288" y="101855"/>
                  </a:lnTo>
                  <a:lnTo>
                    <a:pt x="392557" y="102743"/>
                  </a:lnTo>
                  <a:lnTo>
                    <a:pt x="385825" y="104141"/>
                  </a:lnTo>
                  <a:lnTo>
                    <a:pt x="380110" y="105665"/>
                  </a:lnTo>
                  <a:lnTo>
                    <a:pt x="374395" y="107569"/>
                  </a:lnTo>
                  <a:lnTo>
                    <a:pt x="369569" y="109474"/>
                  </a:lnTo>
                  <a:lnTo>
                    <a:pt x="364744" y="111380"/>
                  </a:lnTo>
                  <a:lnTo>
                    <a:pt x="356616" y="116205"/>
                  </a:lnTo>
                  <a:lnTo>
                    <a:pt x="349376" y="121031"/>
                  </a:lnTo>
                  <a:lnTo>
                    <a:pt x="344043" y="126238"/>
                  </a:lnTo>
                  <a:lnTo>
                    <a:pt x="339725" y="132080"/>
                  </a:lnTo>
                  <a:lnTo>
                    <a:pt x="336422" y="137287"/>
                  </a:lnTo>
                  <a:lnTo>
                    <a:pt x="334010" y="143130"/>
                  </a:lnTo>
                  <a:lnTo>
                    <a:pt x="332613" y="148844"/>
                  </a:lnTo>
                  <a:lnTo>
                    <a:pt x="331597" y="153671"/>
                  </a:lnTo>
                  <a:lnTo>
                    <a:pt x="331088" y="158878"/>
                  </a:lnTo>
                  <a:lnTo>
                    <a:pt x="331088" y="163196"/>
                  </a:lnTo>
                  <a:lnTo>
                    <a:pt x="331088" y="167132"/>
                  </a:lnTo>
                  <a:lnTo>
                    <a:pt x="331597" y="169927"/>
                  </a:lnTo>
                  <a:lnTo>
                    <a:pt x="331597" y="172340"/>
                  </a:lnTo>
                  <a:lnTo>
                    <a:pt x="322960" y="173736"/>
                  </a:lnTo>
                  <a:lnTo>
                    <a:pt x="313816" y="175261"/>
                  </a:lnTo>
                  <a:lnTo>
                    <a:pt x="295656" y="176657"/>
                  </a:lnTo>
                  <a:lnTo>
                    <a:pt x="258191" y="178055"/>
                  </a:lnTo>
                  <a:lnTo>
                    <a:pt x="239903" y="178562"/>
                  </a:lnTo>
                  <a:lnTo>
                    <a:pt x="222122" y="180467"/>
                  </a:lnTo>
                  <a:lnTo>
                    <a:pt x="213994" y="181484"/>
                  </a:lnTo>
                  <a:lnTo>
                    <a:pt x="205866" y="183388"/>
                  </a:lnTo>
                  <a:lnTo>
                    <a:pt x="197738" y="185293"/>
                  </a:lnTo>
                  <a:lnTo>
                    <a:pt x="190500" y="187706"/>
                  </a:lnTo>
                  <a:lnTo>
                    <a:pt x="185673" y="183897"/>
                  </a:lnTo>
                  <a:lnTo>
                    <a:pt x="181356" y="180467"/>
                  </a:lnTo>
                  <a:lnTo>
                    <a:pt x="176529" y="178055"/>
                  </a:lnTo>
                  <a:lnTo>
                    <a:pt x="171831" y="176657"/>
                  </a:lnTo>
                  <a:lnTo>
                    <a:pt x="167004" y="176149"/>
                  </a:lnTo>
                  <a:lnTo>
                    <a:pt x="162178" y="176149"/>
                  </a:lnTo>
                  <a:lnTo>
                    <a:pt x="153035" y="177166"/>
                  </a:lnTo>
                  <a:lnTo>
                    <a:pt x="143510" y="179071"/>
                  </a:lnTo>
                  <a:lnTo>
                    <a:pt x="134366" y="181484"/>
                  </a:lnTo>
                  <a:lnTo>
                    <a:pt x="125729" y="182880"/>
                  </a:lnTo>
                  <a:lnTo>
                    <a:pt x="121412" y="182880"/>
                  </a:lnTo>
                  <a:lnTo>
                    <a:pt x="117094" y="182373"/>
                  </a:lnTo>
                  <a:lnTo>
                    <a:pt x="112775" y="181484"/>
                  </a:lnTo>
                  <a:lnTo>
                    <a:pt x="108457" y="179579"/>
                  </a:lnTo>
                  <a:lnTo>
                    <a:pt x="105028" y="177166"/>
                  </a:lnTo>
                  <a:lnTo>
                    <a:pt x="102235" y="174753"/>
                  </a:lnTo>
                  <a:lnTo>
                    <a:pt x="95885" y="168530"/>
                  </a:lnTo>
                  <a:lnTo>
                    <a:pt x="90169" y="162306"/>
                  </a:lnTo>
                  <a:lnTo>
                    <a:pt x="87248" y="159893"/>
                  </a:lnTo>
                  <a:lnTo>
                    <a:pt x="83438" y="157988"/>
                  </a:lnTo>
                  <a:lnTo>
                    <a:pt x="79628" y="156084"/>
                  </a:lnTo>
                  <a:lnTo>
                    <a:pt x="75310" y="155575"/>
                  </a:lnTo>
                  <a:lnTo>
                    <a:pt x="70485" y="155575"/>
                  </a:lnTo>
                  <a:lnTo>
                    <a:pt x="64769" y="156973"/>
                  </a:lnTo>
                  <a:lnTo>
                    <a:pt x="61848" y="157988"/>
                  </a:lnTo>
                  <a:lnTo>
                    <a:pt x="58547" y="159386"/>
                  </a:lnTo>
                  <a:lnTo>
                    <a:pt x="55118" y="161291"/>
                  </a:lnTo>
                  <a:lnTo>
                    <a:pt x="51307" y="163196"/>
                  </a:lnTo>
                  <a:lnTo>
                    <a:pt x="48387" y="161291"/>
                  </a:lnTo>
                  <a:lnTo>
                    <a:pt x="46482" y="159386"/>
                  </a:lnTo>
                  <a:lnTo>
                    <a:pt x="44576" y="156973"/>
                  </a:lnTo>
                  <a:lnTo>
                    <a:pt x="43179" y="154052"/>
                  </a:lnTo>
                  <a:lnTo>
                    <a:pt x="38862" y="142622"/>
                  </a:lnTo>
                  <a:lnTo>
                    <a:pt x="37338" y="140209"/>
                  </a:lnTo>
                  <a:lnTo>
                    <a:pt x="35941" y="137796"/>
                  </a:lnTo>
                  <a:lnTo>
                    <a:pt x="34035" y="135891"/>
                  </a:lnTo>
                  <a:lnTo>
                    <a:pt x="31115" y="133986"/>
                  </a:lnTo>
                  <a:lnTo>
                    <a:pt x="28194" y="132969"/>
                  </a:lnTo>
                  <a:lnTo>
                    <a:pt x="24384" y="132969"/>
                  </a:lnTo>
                  <a:lnTo>
                    <a:pt x="19557" y="132969"/>
                  </a:lnTo>
                  <a:lnTo>
                    <a:pt x="14350" y="134493"/>
                  </a:lnTo>
                  <a:close/>
                </a:path>
              </a:pathLst>
            </a:custGeom>
            <a:solidFill>
              <a:srgbClr val="417a33"/>
            </a:solidFill>
            <a:ln w="0">
              <a:solidFill>
                <a:srgbClr val="417a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ihandform 94"/>
            <p:cNvSpPr/>
            <p:nvPr/>
          </p:nvSpPr>
          <p:spPr>
            <a:xfrm>
              <a:off x="3119400" y="2733840"/>
              <a:ext cx="509400" cy="152280"/>
            </a:xfrm>
            <a:custGeom>
              <a:avLst/>
              <a:gdLst>
                <a:gd name="textAreaLeft" fmla="*/ 0 w 509400"/>
                <a:gd name="textAreaRight" fmla="*/ 509760 w 509400"/>
                <a:gd name="textAreaTop" fmla="*/ 0 h 152280"/>
                <a:gd name="textAreaBottom" fmla="*/ 152280 h 152280"/>
              </a:gdLst>
              <a:ahLst/>
              <a:rect l="textAreaLeft" t="textAreaTop" r="textAreaRight" b="textAreaBottom"/>
              <a:pathLst>
                <a:path w="415164" h="187707">
                  <a:moveTo>
                    <a:pt x="14350" y="134493"/>
                  </a:moveTo>
                  <a:lnTo>
                    <a:pt x="10541" y="128143"/>
                  </a:lnTo>
                  <a:lnTo>
                    <a:pt x="7112" y="121921"/>
                  </a:lnTo>
                  <a:lnTo>
                    <a:pt x="4318" y="114809"/>
                  </a:lnTo>
                  <a:lnTo>
                    <a:pt x="2285" y="107569"/>
                  </a:lnTo>
                  <a:lnTo>
                    <a:pt x="888" y="99823"/>
                  </a:lnTo>
                  <a:lnTo>
                    <a:pt x="0" y="91694"/>
                  </a:lnTo>
                  <a:lnTo>
                    <a:pt x="0" y="83059"/>
                  </a:lnTo>
                  <a:lnTo>
                    <a:pt x="888" y="74423"/>
                  </a:lnTo>
                  <a:lnTo>
                    <a:pt x="2285" y="65279"/>
                  </a:lnTo>
                  <a:lnTo>
                    <a:pt x="4698" y="56135"/>
                  </a:lnTo>
                  <a:lnTo>
                    <a:pt x="7619" y="47117"/>
                  </a:lnTo>
                  <a:lnTo>
                    <a:pt x="11429" y="37466"/>
                  </a:lnTo>
                  <a:lnTo>
                    <a:pt x="16256" y="28322"/>
                  </a:lnTo>
                  <a:lnTo>
                    <a:pt x="21970" y="18797"/>
                  </a:lnTo>
                  <a:lnTo>
                    <a:pt x="28701" y="9144"/>
                  </a:lnTo>
                  <a:lnTo>
                    <a:pt x="36448" y="0"/>
                  </a:lnTo>
                  <a:lnTo>
                    <a:pt x="33528" y="2922"/>
                  </a:lnTo>
                  <a:lnTo>
                    <a:pt x="30607" y="6731"/>
                  </a:lnTo>
                  <a:lnTo>
                    <a:pt x="28194" y="11049"/>
                  </a:lnTo>
                  <a:lnTo>
                    <a:pt x="25907" y="15875"/>
                  </a:lnTo>
                  <a:lnTo>
                    <a:pt x="23875" y="21210"/>
                  </a:lnTo>
                  <a:lnTo>
                    <a:pt x="22478" y="26924"/>
                  </a:lnTo>
                  <a:lnTo>
                    <a:pt x="21590" y="32131"/>
                  </a:lnTo>
                  <a:lnTo>
                    <a:pt x="21590" y="36957"/>
                  </a:lnTo>
                  <a:lnTo>
                    <a:pt x="21970" y="41784"/>
                  </a:lnTo>
                  <a:lnTo>
                    <a:pt x="23494" y="46102"/>
                  </a:lnTo>
                  <a:lnTo>
                    <a:pt x="26288" y="49530"/>
                  </a:lnTo>
                  <a:lnTo>
                    <a:pt x="27813" y="50928"/>
                  </a:lnTo>
                  <a:lnTo>
                    <a:pt x="29718" y="52324"/>
                  </a:lnTo>
                  <a:lnTo>
                    <a:pt x="32131" y="52832"/>
                  </a:lnTo>
                  <a:lnTo>
                    <a:pt x="34925" y="53848"/>
                  </a:lnTo>
                  <a:lnTo>
                    <a:pt x="37845" y="53848"/>
                  </a:lnTo>
                  <a:lnTo>
                    <a:pt x="41275" y="53848"/>
                  </a:lnTo>
                  <a:lnTo>
                    <a:pt x="44576" y="53341"/>
                  </a:lnTo>
                  <a:lnTo>
                    <a:pt x="48894" y="52832"/>
                  </a:lnTo>
                  <a:lnTo>
                    <a:pt x="53213" y="51436"/>
                  </a:lnTo>
                  <a:lnTo>
                    <a:pt x="58038" y="49911"/>
                  </a:lnTo>
                  <a:lnTo>
                    <a:pt x="58928" y="50419"/>
                  </a:lnTo>
                  <a:lnTo>
                    <a:pt x="59435" y="51436"/>
                  </a:lnTo>
                  <a:lnTo>
                    <a:pt x="59944" y="52324"/>
                  </a:lnTo>
                  <a:lnTo>
                    <a:pt x="59435" y="53848"/>
                  </a:lnTo>
                  <a:lnTo>
                    <a:pt x="58928" y="55246"/>
                  </a:lnTo>
                  <a:lnTo>
                    <a:pt x="58547" y="57150"/>
                  </a:lnTo>
                  <a:lnTo>
                    <a:pt x="56134" y="61468"/>
                  </a:lnTo>
                  <a:lnTo>
                    <a:pt x="52704" y="66294"/>
                  </a:lnTo>
                  <a:lnTo>
                    <a:pt x="48894" y="71502"/>
                  </a:lnTo>
                  <a:lnTo>
                    <a:pt x="40259" y="82550"/>
                  </a:lnTo>
                  <a:lnTo>
                    <a:pt x="35941" y="87885"/>
                  </a:lnTo>
                  <a:lnTo>
                    <a:pt x="31622" y="93092"/>
                  </a:lnTo>
                  <a:lnTo>
                    <a:pt x="28194" y="97917"/>
                  </a:lnTo>
                  <a:lnTo>
                    <a:pt x="25400" y="102236"/>
                  </a:lnTo>
                  <a:lnTo>
                    <a:pt x="22987" y="105665"/>
                  </a:lnTo>
                  <a:lnTo>
                    <a:pt x="22478" y="107061"/>
                  </a:lnTo>
                  <a:lnTo>
                    <a:pt x="22478" y="108078"/>
                  </a:lnTo>
                  <a:lnTo>
                    <a:pt x="22478" y="108459"/>
                  </a:lnTo>
                  <a:lnTo>
                    <a:pt x="22987" y="108967"/>
                  </a:lnTo>
                  <a:lnTo>
                    <a:pt x="23875" y="109474"/>
                  </a:lnTo>
                  <a:lnTo>
                    <a:pt x="24891" y="108967"/>
                  </a:lnTo>
                  <a:lnTo>
                    <a:pt x="34925" y="105156"/>
                  </a:lnTo>
                  <a:lnTo>
                    <a:pt x="44069" y="101855"/>
                  </a:lnTo>
                  <a:lnTo>
                    <a:pt x="52197" y="98934"/>
                  </a:lnTo>
                  <a:lnTo>
                    <a:pt x="59435" y="97029"/>
                  </a:lnTo>
                  <a:lnTo>
                    <a:pt x="65659" y="95123"/>
                  </a:lnTo>
                  <a:lnTo>
                    <a:pt x="71500" y="94107"/>
                  </a:lnTo>
                  <a:lnTo>
                    <a:pt x="76200" y="93599"/>
                  </a:lnTo>
                  <a:lnTo>
                    <a:pt x="80518" y="93092"/>
                  </a:lnTo>
                  <a:lnTo>
                    <a:pt x="83947" y="93599"/>
                  </a:lnTo>
                  <a:lnTo>
                    <a:pt x="86868" y="94107"/>
                  </a:lnTo>
                  <a:lnTo>
                    <a:pt x="89153" y="95123"/>
                  </a:lnTo>
                  <a:lnTo>
                    <a:pt x="91185" y="96521"/>
                  </a:lnTo>
                  <a:lnTo>
                    <a:pt x="93091" y="98425"/>
                  </a:lnTo>
                  <a:lnTo>
                    <a:pt x="93979" y="100330"/>
                  </a:lnTo>
                  <a:lnTo>
                    <a:pt x="95885" y="104648"/>
                  </a:lnTo>
                  <a:lnTo>
                    <a:pt x="96900" y="109474"/>
                  </a:lnTo>
                  <a:lnTo>
                    <a:pt x="97409" y="115190"/>
                  </a:lnTo>
                  <a:lnTo>
                    <a:pt x="98297" y="120523"/>
                  </a:lnTo>
                  <a:lnTo>
                    <a:pt x="99822" y="126238"/>
                  </a:lnTo>
                  <a:lnTo>
                    <a:pt x="102616" y="131065"/>
                  </a:lnTo>
                  <a:lnTo>
                    <a:pt x="104140" y="133478"/>
                  </a:lnTo>
                  <a:lnTo>
                    <a:pt x="106553" y="135382"/>
                  </a:lnTo>
                  <a:lnTo>
                    <a:pt x="109347" y="137287"/>
                  </a:lnTo>
                  <a:lnTo>
                    <a:pt x="112775" y="138811"/>
                  </a:lnTo>
                  <a:lnTo>
                    <a:pt x="116585" y="139700"/>
                  </a:lnTo>
                  <a:lnTo>
                    <a:pt x="120903" y="140717"/>
                  </a:lnTo>
                  <a:lnTo>
                    <a:pt x="127635" y="137287"/>
                  </a:lnTo>
                  <a:lnTo>
                    <a:pt x="133857" y="133986"/>
                  </a:lnTo>
                  <a:lnTo>
                    <a:pt x="139191" y="131573"/>
                  </a:lnTo>
                  <a:lnTo>
                    <a:pt x="144398" y="129667"/>
                  </a:lnTo>
                  <a:lnTo>
                    <a:pt x="148716" y="128143"/>
                  </a:lnTo>
                  <a:lnTo>
                    <a:pt x="152526" y="127255"/>
                  </a:lnTo>
                  <a:lnTo>
                    <a:pt x="155956" y="126747"/>
                  </a:lnTo>
                  <a:lnTo>
                    <a:pt x="159257" y="126747"/>
                  </a:lnTo>
                  <a:lnTo>
                    <a:pt x="161670" y="126747"/>
                  </a:lnTo>
                  <a:lnTo>
                    <a:pt x="164084" y="127255"/>
                  </a:lnTo>
                  <a:lnTo>
                    <a:pt x="165988" y="128143"/>
                  </a:lnTo>
                  <a:lnTo>
                    <a:pt x="167894" y="129667"/>
                  </a:lnTo>
                  <a:lnTo>
                    <a:pt x="170815" y="132461"/>
                  </a:lnTo>
                  <a:lnTo>
                    <a:pt x="173228" y="136398"/>
                  </a:lnTo>
                  <a:lnTo>
                    <a:pt x="177038" y="145416"/>
                  </a:lnTo>
                  <a:lnTo>
                    <a:pt x="178943" y="149734"/>
                  </a:lnTo>
                  <a:lnTo>
                    <a:pt x="181863" y="154052"/>
                  </a:lnTo>
                  <a:lnTo>
                    <a:pt x="185166" y="158497"/>
                  </a:lnTo>
                  <a:lnTo>
                    <a:pt x="187197" y="159893"/>
                  </a:lnTo>
                  <a:lnTo>
                    <a:pt x="189484" y="161798"/>
                  </a:lnTo>
                  <a:lnTo>
                    <a:pt x="192404" y="162815"/>
                  </a:lnTo>
                  <a:lnTo>
                    <a:pt x="195834" y="163704"/>
                  </a:lnTo>
                  <a:lnTo>
                    <a:pt x="199135" y="164719"/>
                  </a:lnTo>
                  <a:lnTo>
                    <a:pt x="202945" y="165100"/>
                  </a:lnTo>
                  <a:lnTo>
                    <a:pt x="207263" y="160402"/>
                  </a:lnTo>
                  <a:lnTo>
                    <a:pt x="211073" y="156465"/>
                  </a:lnTo>
                  <a:lnTo>
                    <a:pt x="214503" y="153162"/>
                  </a:lnTo>
                  <a:lnTo>
                    <a:pt x="217804" y="150242"/>
                  </a:lnTo>
                  <a:lnTo>
                    <a:pt x="221234" y="148336"/>
                  </a:lnTo>
                  <a:lnTo>
                    <a:pt x="224154" y="146431"/>
                  </a:lnTo>
                  <a:lnTo>
                    <a:pt x="226441" y="145035"/>
                  </a:lnTo>
                  <a:lnTo>
                    <a:pt x="228853" y="144527"/>
                  </a:lnTo>
                  <a:lnTo>
                    <a:pt x="233679" y="144018"/>
                  </a:lnTo>
                  <a:lnTo>
                    <a:pt x="237490" y="145035"/>
                  </a:lnTo>
                  <a:lnTo>
                    <a:pt x="241807" y="146940"/>
                  </a:lnTo>
                  <a:lnTo>
                    <a:pt x="245744" y="149353"/>
                  </a:lnTo>
                  <a:lnTo>
                    <a:pt x="253872" y="155575"/>
                  </a:lnTo>
                  <a:lnTo>
                    <a:pt x="258698" y="158497"/>
                  </a:lnTo>
                  <a:lnTo>
                    <a:pt x="263906" y="160782"/>
                  </a:lnTo>
                  <a:lnTo>
                    <a:pt x="270637" y="162815"/>
                  </a:lnTo>
                  <a:lnTo>
                    <a:pt x="274066" y="163196"/>
                  </a:lnTo>
                  <a:lnTo>
                    <a:pt x="277875" y="163196"/>
                  </a:lnTo>
                  <a:lnTo>
                    <a:pt x="282194" y="163196"/>
                  </a:lnTo>
                  <a:lnTo>
                    <a:pt x="286512" y="162306"/>
                  </a:lnTo>
                  <a:lnTo>
                    <a:pt x="291338" y="161291"/>
                  </a:lnTo>
                  <a:lnTo>
                    <a:pt x="296544" y="159893"/>
                  </a:lnTo>
                  <a:lnTo>
                    <a:pt x="297560" y="154560"/>
                  </a:lnTo>
                  <a:lnTo>
                    <a:pt x="298957" y="148336"/>
                  </a:lnTo>
                  <a:lnTo>
                    <a:pt x="300863" y="142622"/>
                  </a:lnTo>
                  <a:lnTo>
                    <a:pt x="303784" y="136780"/>
                  </a:lnTo>
                  <a:lnTo>
                    <a:pt x="307085" y="130556"/>
                  </a:lnTo>
                  <a:lnTo>
                    <a:pt x="310515" y="124842"/>
                  </a:lnTo>
                  <a:lnTo>
                    <a:pt x="314832" y="119507"/>
                  </a:lnTo>
                  <a:lnTo>
                    <a:pt x="319659" y="114300"/>
                  </a:lnTo>
                  <a:lnTo>
                    <a:pt x="324357" y="108967"/>
                  </a:lnTo>
                  <a:lnTo>
                    <a:pt x="329691" y="104648"/>
                  </a:lnTo>
                  <a:lnTo>
                    <a:pt x="335407" y="100330"/>
                  </a:lnTo>
                  <a:lnTo>
                    <a:pt x="341757" y="97029"/>
                  </a:lnTo>
                  <a:lnTo>
                    <a:pt x="347979" y="94107"/>
                  </a:lnTo>
                  <a:lnTo>
                    <a:pt x="354710" y="91694"/>
                  </a:lnTo>
                  <a:lnTo>
                    <a:pt x="361315" y="90298"/>
                  </a:lnTo>
                  <a:lnTo>
                    <a:pt x="368045" y="89790"/>
                  </a:lnTo>
                  <a:lnTo>
                    <a:pt x="372363" y="89281"/>
                  </a:lnTo>
                  <a:lnTo>
                    <a:pt x="377190" y="88392"/>
                  </a:lnTo>
                  <a:lnTo>
                    <a:pt x="382523" y="87377"/>
                  </a:lnTo>
                  <a:lnTo>
                    <a:pt x="388747" y="87377"/>
                  </a:lnTo>
                  <a:lnTo>
                    <a:pt x="394969" y="87377"/>
                  </a:lnTo>
                  <a:lnTo>
                    <a:pt x="401700" y="88392"/>
                  </a:lnTo>
                  <a:lnTo>
                    <a:pt x="408432" y="89790"/>
                  </a:lnTo>
                  <a:lnTo>
                    <a:pt x="415163" y="92711"/>
                  </a:lnTo>
                  <a:lnTo>
                    <a:pt x="409320" y="93092"/>
                  </a:lnTo>
                  <a:lnTo>
                    <a:pt x="404113" y="93092"/>
                  </a:lnTo>
                  <a:lnTo>
                    <a:pt x="400303" y="94107"/>
                  </a:lnTo>
                  <a:lnTo>
                    <a:pt x="396366" y="95123"/>
                  </a:lnTo>
                  <a:lnTo>
                    <a:pt x="393953" y="96521"/>
                  </a:lnTo>
                  <a:lnTo>
                    <a:pt x="391668" y="98425"/>
                  </a:lnTo>
                  <a:lnTo>
                    <a:pt x="389635" y="100838"/>
                  </a:lnTo>
                  <a:lnTo>
                    <a:pt x="388747" y="103760"/>
                  </a:lnTo>
                  <a:lnTo>
                    <a:pt x="383032" y="105156"/>
                  </a:lnTo>
                  <a:lnTo>
                    <a:pt x="377190" y="106554"/>
                  </a:lnTo>
                  <a:lnTo>
                    <a:pt x="372363" y="108459"/>
                  </a:lnTo>
                  <a:lnTo>
                    <a:pt x="367665" y="110491"/>
                  </a:lnTo>
                  <a:lnTo>
                    <a:pt x="359410" y="114809"/>
                  </a:lnTo>
                  <a:lnTo>
                    <a:pt x="352297" y="119127"/>
                  </a:lnTo>
                  <a:lnTo>
                    <a:pt x="346456" y="123825"/>
                  </a:lnTo>
                  <a:lnTo>
                    <a:pt x="342138" y="129160"/>
                  </a:lnTo>
                  <a:lnTo>
                    <a:pt x="338328" y="134493"/>
                  </a:lnTo>
                  <a:lnTo>
                    <a:pt x="335407" y="139700"/>
                  </a:lnTo>
                  <a:lnTo>
                    <a:pt x="333501" y="145035"/>
                  </a:lnTo>
                  <a:lnTo>
                    <a:pt x="332613" y="150242"/>
                  </a:lnTo>
                  <a:lnTo>
                    <a:pt x="331597" y="155067"/>
                  </a:lnTo>
                  <a:lnTo>
                    <a:pt x="331088" y="159893"/>
                  </a:lnTo>
                  <a:lnTo>
                    <a:pt x="331088" y="163704"/>
                  </a:lnTo>
                  <a:lnTo>
                    <a:pt x="331088" y="167132"/>
                  </a:lnTo>
                  <a:lnTo>
                    <a:pt x="331597" y="170435"/>
                  </a:lnTo>
                  <a:lnTo>
                    <a:pt x="331597" y="172340"/>
                  </a:lnTo>
                  <a:lnTo>
                    <a:pt x="322960" y="173736"/>
                  </a:lnTo>
                  <a:lnTo>
                    <a:pt x="313816" y="175261"/>
                  </a:lnTo>
                  <a:lnTo>
                    <a:pt x="295656" y="176657"/>
                  </a:lnTo>
                  <a:lnTo>
                    <a:pt x="258191" y="178055"/>
                  </a:lnTo>
                  <a:lnTo>
                    <a:pt x="239903" y="178562"/>
                  </a:lnTo>
                  <a:lnTo>
                    <a:pt x="222122" y="180467"/>
                  </a:lnTo>
                  <a:lnTo>
                    <a:pt x="213994" y="181484"/>
                  </a:lnTo>
                  <a:lnTo>
                    <a:pt x="205866" y="183388"/>
                  </a:lnTo>
                  <a:lnTo>
                    <a:pt x="198119" y="185293"/>
                  </a:lnTo>
                  <a:lnTo>
                    <a:pt x="190500" y="187706"/>
                  </a:lnTo>
                  <a:lnTo>
                    <a:pt x="186182" y="183897"/>
                  </a:lnTo>
                  <a:lnTo>
                    <a:pt x="181356" y="180467"/>
                  </a:lnTo>
                  <a:lnTo>
                    <a:pt x="176529" y="178055"/>
                  </a:lnTo>
                  <a:lnTo>
                    <a:pt x="171831" y="176657"/>
                  </a:lnTo>
                  <a:lnTo>
                    <a:pt x="167004" y="176149"/>
                  </a:lnTo>
                  <a:lnTo>
                    <a:pt x="162687" y="176149"/>
                  </a:lnTo>
                  <a:lnTo>
                    <a:pt x="153035" y="177166"/>
                  </a:lnTo>
                  <a:lnTo>
                    <a:pt x="143891" y="179071"/>
                  </a:lnTo>
                  <a:lnTo>
                    <a:pt x="134873" y="181484"/>
                  </a:lnTo>
                  <a:lnTo>
                    <a:pt x="125729" y="182880"/>
                  </a:lnTo>
                  <a:lnTo>
                    <a:pt x="121412" y="182880"/>
                  </a:lnTo>
                  <a:lnTo>
                    <a:pt x="117094" y="182373"/>
                  </a:lnTo>
                  <a:lnTo>
                    <a:pt x="112775" y="181484"/>
                  </a:lnTo>
                  <a:lnTo>
                    <a:pt x="108838" y="179579"/>
                  </a:lnTo>
                  <a:lnTo>
                    <a:pt x="105028" y="177166"/>
                  </a:lnTo>
                  <a:lnTo>
                    <a:pt x="102235" y="174753"/>
                  </a:lnTo>
                  <a:lnTo>
                    <a:pt x="96393" y="168530"/>
                  </a:lnTo>
                  <a:lnTo>
                    <a:pt x="90169" y="162306"/>
                  </a:lnTo>
                  <a:lnTo>
                    <a:pt x="87248" y="159893"/>
                  </a:lnTo>
                  <a:lnTo>
                    <a:pt x="83947" y="157988"/>
                  </a:lnTo>
                  <a:lnTo>
                    <a:pt x="80137" y="156084"/>
                  </a:lnTo>
                  <a:lnTo>
                    <a:pt x="75819" y="155575"/>
                  </a:lnTo>
                  <a:lnTo>
                    <a:pt x="70485" y="155575"/>
                  </a:lnTo>
                  <a:lnTo>
                    <a:pt x="65278" y="156973"/>
                  </a:lnTo>
                  <a:lnTo>
                    <a:pt x="61848" y="157988"/>
                  </a:lnTo>
                  <a:lnTo>
                    <a:pt x="58547" y="159386"/>
                  </a:lnTo>
                  <a:lnTo>
                    <a:pt x="55118" y="161291"/>
                  </a:lnTo>
                  <a:lnTo>
                    <a:pt x="51307" y="163196"/>
                  </a:lnTo>
                  <a:lnTo>
                    <a:pt x="48387" y="161291"/>
                  </a:lnTo>
                  <a:lnTo>
                    <a:pt x="46482" y="159386"/>
                  </a:lnTo>
                  <a:lnTo>
                    <a:pt x="45085" y="156973"/>
                  </a:lnTo>
                  <a:lnTo>
                    <a:pt x="43560" y="154052"/>
                  </a:lnTo>
                  <a:lnTo>
                    <a:pt x="38862" y="142622"/>
                  </a:lnTo>
                  <a:lnTo>
                    <a:pt x="37845" y="140209"/>
                  </a:lnTo>
                  <a:lnTo>
                    <a:pt x="35941" y="137796"/>
                  </a:lnTo>
                  <a:lnTo>
                    <a:pt x="34035" y="135891"/>
                  </a:lnTo>
                  <a:lnTo>
                    <a:pt x="31622" y="133986"/>
                  </a:lnTo>
                  <a:lnTo>
                    <a:pt x="28194" y="132969"/>
                  </a:lnTo>
                  <a:lnTo>
                    <a:pt x="24384" y="132969"/>
                  </a:lnTo>
                  <a:lnTo>
                    <a:pt x="19557" y="132969"/>
                  </a:lnTo>
                  <a:lnTo>
                    <a:pt x="14350" y="134493"/>
                  </a:lnTo>
                  <a:close/>
                </a:path>
              </a:pathLst>
            </a:custGeom>
            <a:solidFill>
              <a:srgbClr val="2a6e20"/>
            </a:solidFill>
            <a:ln w="0">
              <a:solidFill>
                <a:srgbClr val="2a6e2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ihandform 95"/>
            <p:cNvSpPr/>
            <p:nvPr/>
          </p:nvSpPr>
          <p:spPr>
            <a:xfrm>
              <a:off x="3119400" y="2733840"/>
              <a:ext cx="520560" cy="152280"/>
            </a:xfrm>
            <a:custGeom>
              <a:avLst/>
              <a:gdLst>
                <a:gd name="textAreaLeft" fmla="*/ 0 w 520560"/>
                <a:gd name="textAreaRight" fmla="*/ 520920 w 520560"/>
                <a:gd name="textAreaTop" fmla="*/ 0 h 152280"/>
                <a:gd name="textAreaBottom" fmla="*/ 152280 h 152280"/>
              </a:gdLst>
              <a:ahLst/>
              <a:rect l="textAreaLeft" t="textAreaTop" r="textAreaRight" b="textAreaBottom"/>
              <a:pathLst>
                <a:path w="423799" h="187707">
                  <a:moveTo>
                    <a:pt x="14350" y="134493"/>
                  </a:moveTo>
                  <a:lnTo>
                    <a:pt x="10541" y="128143"/>
                  </a:lnTo>
                  <a:lnTo>
                    <a:pt x="7112" y="121921"/>
                  </a:lnTo>
                  <a:lnTo>
                    <a:pt x="4318" y="114809"/>
                  </a:lnTo>
                  <a:lnTo>
                    <a:pt x="2285" y="107569"/>
                  </a:lnTo>
                  <a:lnTo>
                    <a:pt x="888" y="99823"/>
                  </a:lnTo>
                  <a:lnTo>
                    <a:pt x="0" y="91694"/>
                  </a:lnTo>
                  <a:lnTo>
                    <a:pt x="0" y="83059"/>
                  </a:lnTo>
                  <a:lnTo>
                    <a:pt x="888" y="74423"/>
                  </a:lnTo>
                  <a:lnTo>
                    <a:pt x="2285" y="65279"/>
                  </a:lnTo>
                  <a:lnTo>
                    <a:pt x="4698" y="56135"/>
                  </a:lnTo>
                  <a:lnTo>
                    <a:pt x="7619" y="47117"/>
                  </a:lnTo>
                  <a:lnTo>
                    <a:pt x="11938" y="37466"/>
                  </a:lnTo>
                  <a:lnTo>
                    <a:pt x="16763" y="28322"/>
                  </a:lnTo>
                  <a:lnTo>
                    <a:pt x="22478" y="18797"/>
                  </a:lnTo>
                  <a:lnTo>
                    <a:pt x="28701" y="9144"/>
                  </a:lnTo>
                  <a:lnTo>
                    <a:pt x="36448" y="0"/>
                  </a:lnTo>
                  <a:lnTo>
                    <a:pt x="33528" y="2922"/>
                  </a:lnTo>
                  <a:lnTo>
                    <a:pt x="30607" y="6731"/>
                  </a:lnTo>
                  <a:lnTo>
                    <a:pt x="27813" y="11557"/>
                  </a:lnTo>
                  <a:lnTo>
                    <a:pt x="25400" y="16892"/>
                  </a:lnTo>
                  <a:lnTo>
                    <a:pt x="22987" y="22098"/>
                  </a:lnTo>
                  <a:lnTo>
                    <a:pt x="21082" y="27813"/>
                  </a:lnTo>
                  <a:lnTo>
                    <a:pt x="19557" y="33655"/>
                  </a:lnTo>
                  <a:lnTo>
                    <a:pt x="18669" y="38862"/>
                  </a:lnTo>
                  <a:lnTo>
                    <a:pt x="18669" y="44197"/>
                  </a:lnTo>
                  <a:lnTo>
                    <a:pt x="19176" y="48515"/>
                  </a:lnTo>
                  <a:lnTo>
                    <a:pt x="21082" y="52832"/>
                  </a:lnTo>
                  <a:lnTo>
                    <a:pt x="21970" y="54230"/>
                  </a:lnTo>
                  <a:lnTo>
                    <a:pt x="23494" y="55754"/>
                  </a:lnTo>
                  <a:lnTo>
                    <a:pt x="25400" y="56642"/>
                  </a:lnTo>
                  <a:lnTo>
                    <a:pt x="27304" y="57659"/>
                  </a:lnTo>
                  <a:lnTo>
                    <a:pt x="29718" y="58167"/>
                  </a:lnTo>
                  <a:lnTo>
                    <a:pt x="32638" y="58167"/>
                  </a:lnTo>
                  <a:lnTo>
                    <a:pt x="35941" y="58167"/>
                  </a:lnTo>
                  <a:lnTo>
                    <a:pt x="39243" y="57659"/>
                  </a:lnTo>
                  <a:lnTo>
                    <a:pt x="43179" y="56642"/>
                  </a:lnTo>
                  <a:lnTo>
                    <a:pt x="47497" y="55246"/>
                  </a:lnTo>
                  <a:lnTo>
                    <a:pt x="48387" y="55754"/>
                  </a:lnTo>
                  <a:lnTo>
                    <a:pt x="48894" y="56135"/>
                  </a:lnTo>
                  <a:lnTo>
                    <a:pt x="49403" y="57659"/>
                  </a:lnTo>
                  <a:lnTo>
                    <a:pt x="49403" y="58548"/>
                  </a:lnTo>
                  <a:lnTo>
                    <a:pt x="48387" y="61977"/>
                  </a:lnTo>
                  <a:lnTo>
                    <a:pt x="46482" y="66294"/>
                  </a:lnTo>
                  <a:lnTo>
                    <a:pt x="43560" y="71121"/>
                  </a:lnTo>
                  <a:lnTo>
                    <a:pt x="40259" y="76328"/>
                  </a:lnTo>
                  <a:lnTo>
                    <a:pt x="32638" y="87377"/>
                  </a:lnTo>
                  <a:lnTo>
                    <a:pt x="28701" y="92711"/>
                  </a:lnTo>
                  <a:lnTo>
                    <a:pt x="24891" y="97917"/>
                  </a:lnTo>
                  <a:lnTo>
                    <a:pt x="21970" y="102236"/>
                  </a:lnTo>
                  <a:lnTo>
                    <a:pt x="19557" y="106554"/>
                  </a:lnTo>
                  <a:lnTo>
                    <a:pt x="17653" y="109982"/>
                  </a:lnTo>
                  <a:lnTo>
                    <a:pt x="17272" y="111380"/>
                  </a:lnTo>
                  <a:lnTo>
                    <a:pt x="17272" y="112396"/>
                  </a:lnTo>
                  <a:lnTo>
                    <a:pt x="17653" y="112777"/>
                  </a:lnTo>
                  <a:lnTo>
                    <a:pt x="18160" y="113285"/>
                  </a:lnTo>
                  <a:lnTo>
                    <a:pt x="19176" y="113792"/>
                  </a:lnTo>
                  <a:lnTo>
                    <a:pt x="20066" y="113285"/>
                  </a:lnTo>
                  <a:lnTo>
                    <a:pt x="30225" y="109474"/>
                  </a:lnTo>
                  <a:lnTo>
                    <a:pt x="39243" y="106173"/>
                  </a:lnTo>
                  <a:lnTo>
                    <a:pt x="47497" y="103252"/>
                  </a:lnTo>
                  <a:lnTo>
                    <a:pt x="54610" y="101347"/>
                  </a:lnTo>
                  <a:lnTo>
                    <a:pt x="61341" y="99442"/>
                  </a:lnTo>
                  <a:lnTo>
                    <a:pt x="67182" y="98425"/>
                  </a:lnTo>
                  <a:lnTo>
                    <a:pt x="71882" y="97917"/>
                  </a:lnTo>
                  <a:lnTo>
                    <a:pt x="76200" y="97536"/>
                  </a:lnTo>
                  <a:lnTo>
                    <a:pt x="79628" y="97917"/>
                  </a:lnTo>
                  <a:lnTo>
                    <a:pt x="82931" y="98425"/>
                  </a:lnTo>
                  <a:lnTo>
                    <a:pt x="85344" y="99823"/>
                  </a:lnTo>
                  <a:lnTo>
                    <a:pt x="87757" y="100838"/>
                  </a:lnTo>
                  <a:lnTo>
                    <a:pt x="89153" y="102743"/>
                  </a:lnTo>
                  <a:lnTo>
                    <a:pt x="90678" y="104648"/>
                  </a:lnTo>
                  <a:lnTo>
                    <a:pt x="93091" y="108967"/>
                  </a:lnTo>
                  <a:lnTo>
                    <a:pt x="93979" y="114300"/>
                  </a:lnTo>
                  <a:lnTo>
                    <a:pt x="95503" y="119507"/>
                  </a:lnTo>
                  <a:lnTo>
                    <a:pt x="96393" y="125349"/>
                  </a:lnTo>
                  <a:lnTo>
                    <a:pt x="98297" y="130556"/>
                  </a:lnTo>
                  <a:lnTo>
                    <a:pt x="101219" y="135382"/>
                  </a:lnTo>
                  <a:lnTo>
                    <a:pt x="103123" y="137796"/>
                  </a:lnTo>
                  <a:lnTo>
                    <a:pt x="105028" y="139700"/>
                  </a:lnTo>
                  <a:lnTo>
                    <a:pt x="107950" y="141605"/>
                  </a:lnTo>
                  <a:lnTo>
                    <a:pt x="111251" y="143130"/>
                  </a:lnTo>
                  <a:lnTo>
                    <a:pt x="115188" y="144527"/>
                  </a:lnTo>
                  <a:lnTo>
                    <a:pt x="119888" y="145416"/>
                  </a:lnTo>
                  <a:lnTo>
                    <a:pt x="126238" y="142622"/>
                  </a:lnTo>
                  <a:lnTo>
                    <a:pt x="131444" y="140209"/>
                  </a:lnTo>
                  <a:lnTo>
                    <a:pt x="136778" y="138304"/>
                  </a:lnTo>
                  <a:lnTo>
                    <a:pt x="141097" y="136780"/>
                  </a:lnTo>
                  <a:lnTo>
                    <a:pt x="144907" y="135891"/>
                  </a:lnTo>
                  <a:lnTo>
                    <a:pt x="148716" y="134874"/>
                  </a:lnTo>
                  <a:lnTo>
                    <a:pt x="152145" y="134874"/>
                  </a:lnTo>
                  <a:lnTo>
                    <a:pt x="154559" y="134874"/>
                  </a:lnTo>
                  <a:lnTo>
                    <a:pt x="157353" y="134874"/>
                  </a:lnTo>
                  <a:lnTo>
                    <a:pt x="159257" y="135891"/>
                  </a:lnTo>
                  <a:lnTo>
                    <a:pt x="163194" y="137796"/>
                  </a:lnTo>
                  <a:lnTo>
                    <a:pt x="165988" y="140717"/>
                  </a:lnTo>
                  <a:lnTo>
                    <a:pt x="168401" y="144018"/>
                  </a:lnTo>
                  <a:lnTo>
                    <a:pt x="172212" y="151766"/>
                  </a:lnTo>
                  <a:lnTo>
                    <a:pt x="175132" y="155575"/>
                  </a:lnTo>
                  <a:lnTo>
                    <a:pt x="178053" y="159386"/>
                  </a:lnTo>
                  <a:lnTo>
                    <a:pt x="181863" y="163196"/>
                  </a:lnTo>
                  <a:lnTo>
                    <a:pt x="187197" y="165609"/>
                  </a:lnTo>
                  <a:lnTo>
                    <a:pt x="189991" y="167132"/>
                  </a:lnTo>
                  <a:lnTo>
                    <a:pt x="193801" y="168022"/>
                  </a:lnTo>
                  <a:lnTo>
                    <a:pt x="197738" y="168530"/>
                  </a:lnTo>
                  <a:lnTo>
                    <a:pt x="202057" y="169037"/>
                  </a:lnTo>
                  <a:lnTo>
                    <a:pt x="205866" y="165100"/>
                  </a:lnTo>
                  <a:lnTo>
                    <a:pt x="209676" y="161798"/>
                  </a:lnTo>
                  <a:lnTo>
                    <a:pt x="213106" y="158878"/>
                  </a:lnTo>
                  <a:lnTo>
                    <a:pt x="216407" y="156465"/>
                  </a:lnTo>
                  <a:lnTo>
                    <a:pt x="219837" y="155067"/>
                  </a:lnTo>
                  <a:lnTo>
                    <a:pt x="222631" y="153671"/>
                  </a:lnTo>
                  <a:lnTo>
                    <a:pt x="225044" y="152655"/>
                  </a:lnTo>
                  <a:lnTo>
                    <a:pt x="227457" y="152147"/>
                  </a:lnTo>
                  <a:lnTo>
                    <a:pt x="232282" y="151766"/>
                  </a:lnTo>
                  <a:lnTo>
                    <a:pt x="236600" y="152655"/>
                  </a:lnTo>
                  <a:lnTo>
                    <a:pt x="240919" y="154052"/>
                  </a:lnTo>
                  <a:lnTo>
                    <a:pt x="244728" y="156465"/>
                  </a:lnTo>
                  <a:lnTo>
                    <a:pt x="253872" y="161291"/>
                  </a:lnTo>
                  <a:lnTo>
                    <a:pt x="259079" y="163704"/>
                  </a:lnTo>
                  <a:lnTo>
                    <a:pt x="265429" y="165609"/>
                  </a:lnTo>
                  <a:lnTo>
                    <a:pt x="272034" y="166624"/>
                  </a:lnTo>
                  <a:lnTo>
                    <a:pt x="275970" y="166624"/>
                  </a:lnTo>
                  <a:lnTo>
                    <a:pt x="280288" y="166624"/>
                  </a:lnTo>
                  <a:lnTo>
                    <a:pt x="284607" y="166117"/>
                  </a:lnTo>
                  <a:lnTo>
                    <a:pt x="289432" y="165100"/>
                  </a:lnTo>
                  <a:lnTo>
                    <a:pt x="294640" y="164211"/>
                  </a:lnTo>
                  <a:lnTo>
                    <a:pt x="300354" y="162306"/>
                  </a:lnTo>
                  <a:lnTo>
                    <a:pt x="301370" y="156465"/>
                  </a:lnTo>
                  <a:lnTo>
                    <a:pt x="302768" y="150242"/>
                  </a:lnTo>
                  <a:lnTo>
                    <a:pt x="304800" y="144018"/>
                  </a:lnTo>
                  <a:lnTo>
                    <a:pt x="307594" y="137796"/>
                  </a:lnTo>
                  <a:lnTo>
                    <a:pt x="311022" y="131065"/>
                  </a:lnTo>
                  <a:lnTo>
                    <a:pt x="314832" y="124842"/>
                  </a:lnTo>
                  <a:lnTo>
                    <a:pt x="319150" y="119127"/>
                  </a:lnTo>
                  <a:lnTo>
                    <a:pt x="323976" y="113285"/>
                  </a:lnTo>
                  <a:lnTo>
                    <a:pt x="329184" y="108078"/>
                  </a:lnTo>
                  <a:lnTo>
                    <a:pt x="335025" y="103252"/>
                  </a:lnTo>
                  <a:lnTo>
                    <a:pt x="340741" y="98934"/>
                  </a:lnTo>
                  <a:lnTo>
                    <a:pt x="346963" y="95123"/>
                  </a:lnTo>
                  <a:lnTo>
                    <a:pt x="353694" y="92203"/>
                  </a:lnTo>
                  <a:lnTo>
                    <a:pt x="360425" y="90298"/>
                  </a:lnTo>
                  <a:lnTo>
                    <a:pt x="367665" y="89281"/>
                  </a:lnTo>
                  <a:lnTo>
                    <a:pt x="374776" y="88773"/>
                  </a:lnTo>
                  <a:lnTo>
                    <a:pt x="378713" y="88392"/>
                  </a:lnTo>
                  <a:lnTo>
                    <a:pt x="383413" y="87885"/>
                  </a:lnTo>
                  <a:lnTo>
                    <a:pt x="389254" y="86868"/>
                  </a:lnTo>
                  <a:lnTo>
                    <a:pt x="395478" y="86868"/>
                  </a:lnTo>
                  <a:lnTo>
                    <a:pt x="402209" y="87377"/>
                  </a:lnTo>
                  <a:lnTo>
                    <a:pt x="408940" y="88392"/>
                  </a:lnTo>
                  <a:lnTo>
                    <a:pt x="416051" y="90298"/>
                  </a:lnTo>
                  <a:lnTo>
                    <a:pt x="423798" y="94107"/>
                  </a:lnTo>
                  <a:lnTo>
                    <a:pt x="415670" y="94107"/>
                  </a:lnTo>
                  <a:lnTo>
                    <a:pt x="407923" y="95123"/>
                  </a:lnTo>
                  <a:lnTo>
                    <a:pt x="401193" y="96012"/>
                  </a:lnTo>
                  <a:lnTo>
                    <a:pt x="395478" y="97029"/>
                  </a:lnTo>
                  <a:lnTo>
                    <a:pt x="390144" y="98934"/>
                  </a:lnTo>
                  <a:lnTo>
                    <a:pt x="385318" y="100838"/>
                  </a:lnTo>
                  <a:lnTo>
                    <a:pt x="381507" y="103252"/>
                  </a:lnTo>
                  <a:lnTo>
                    <a:pt x="377697" y="105665"/>
                  </a:lnTo>
                  <a:lnTo>
                    <a:pt x="368553" y="109474"/>
                  </a:lnTo>
                  <a:lnTo>
                    <a:pt x="360425" y="113285"/>
                  </a:lnTo>
                  <a:lnTo>
                    <a:pt x="353694" y="117603"/>
                  </a:lnTo>
                  <a:lnTo>
                    <a:pt x="347979" y="121921"/>
                  </a:lnTo>
                  <a:lnTo>
                    <a:pt x="343662" y="127255"/>
                  </a:lnTo>
                  <a:lnTo>
                    <a:pt x="339725" y="132080"/>
                  </a:lnTo>
                  <a:lnTo>
                    <a:pt x="336931" y="137287"/>
                  </a:lnTo>
                  <a:lnTo>
                    <a:pt x="334518" y="142113"/>
                  </a:lnTo>
                  <a:lnTo>
                    <a:pt x="332994" y="146940"/>
                  </a:lnTo>
                  <a:lnTo>
                    <a:pt x="332104" y="151766"/>
                  </a:lnTo>
                  <a:lnTo>
                    <a:pt x="331597" y="156465"/>
                  </a:lnTo>
                  <a:lnTo>
                    <a:pt x="331088" y="160782"/>
                  </a:lnTo>
                  <a:lnTo>
                    <a:pt x="331088" y="164211"/>
                  </a:lnTo>
                  <a:lnTo>
                    <a:pt x="331597" y="167513"/>
                  </a:lnTo>
                  <a:lnTo>
                    <a:pt x="331597" y="170435"/>
                  </a:lnTo>
                  <a:lnTo>
                    <a:pt x="331597" y="172340"/>
                  </a:lnTo>
                  <a:lnTo>
                    <a:pt x="322960" y="173736"/>
                  </a:lnTo>
                  <a:lnTo>
                    <a:pt x="313816" y="175261"/>
                  </a:lnTo>
                  <a:lnTo>
                    <a:pt x="295656" y="176657"/>
                  </a:lnTo>
                  <a:lnTo>
                    <a:pt x="258191" y="178055"/>
                  </a:lnTo>
                  <a:lnTo>
                    <a:pt x="239903" y="178562"/>
                  </a:lnTo>
                  <a:lnTo>
                    <a:pt x="222631" y="180467"/>
                  </a:lnTo>
                  <a:lnTo>
                    <a:pt x="213994" y="181484"/>
                  </a:lnTo>
                  <a:lnTo>
                    <a:pt x="205866" y="183388"/>
                  </a:lnTo>
                  <a:lnTo>
                    <a:pt x="198119" y="185293"/>
                  </a:lnTo>
                  <a:lnTo>
                    <a:pt x="191007" y="187706"/>
                  </a:lnTo>
                  <a:lnTo>
                    <a:pt x="186182" y="183897"/>
                  </a:lnTo>
                  <a:lnTo>
                    <a:pt x="181356" y="180467"/>
                  </a:lnTo>
                  <a:lnTo>
                    <a:pt x="176529" y="178055"/>
                  </a:lnTo>
                  <a:lnTo>
                    <a:pt x="171831" y="176657"/>
                  </a:lnTo>
                  <a:lnTo>
                    <a:pt x="167513" y="176149"/>
                  </a:lnTo>
                  <a:lnTo>
                    <a:pt x="162687" y="176149"/>
                  </a:lnTo>
                  <a:lnTo>
                    <a:pt x="153035" y="177166"/>
                  </a:lnTo>
                  <a:lnTo>
                    <a:pt x="143891" y="179071"/>
                  </a:lnTo>
                  <a:lnTo>
                    <a:pt x="134873" y="181484"/>
                  </a:lnTo>
                  <a:lnTo>
                    <a:pt x="125729" y="182880"/>
                  </a:lnTo>
                  <a:lnTo>
                    <a:pt x="121412" y="182880"/>
                  </a:lnTo>
                  <a:lnTo>
                    <a:pt x="117094" y="182373"/>
                  </a:lnTo>
                  <a:lnTo>
                    <a:pt x="112775" y="181484"/>
                  </a:lnTo>
                  <a:lnTo>
                    <a:pt x="108838" y="179579"/>
                  </a:lnTo>
                  <a:lnTo>
                    <a:pt x="105537" y="177166"/>
                  </a:lnTo>
                  <a:lnTo>
                    <a:pt x="102235" y="174753"/>
                  </a:lnTo>
                  <a:lnTo>
                    <a:pt x="96393" y="168530"/>
                  </a:lnTo>
                  <a:lnTo>
                    <a:pt x="90678" y="162306"/>
                  </a:lnTo>
                  <a:lnTo>
                    <a:pt x="87248" y="159893"/>
                  </a:lnTo>
                  <a:lnTo>
                    <a:pt x="83947" y="157988"/>
                  </a:lnTo>
                  <a:lnTo>
                    <a:pt x="80137" y="156084"/>
                  </a:lnTo>
                  <a:lnTo>
                    <a:pt x="75819" y="155575"/>
                  </a:lnTo>
                  <a:lnTo>
                    <a:pt x="70485" y="155575"/>
                  </a:lnTo>
                  <a:lnTo>
                    <a:pt x="65278" y="156973"/>
                  </a:lnTo>
                  <a:lnTo>
                    <a:pt x="61848" y="157988"/>
                  </a:lnTo>
                  <a:lnTo>
                    <a:pt x="58547" y="159386"/>
                  </a:lnTo>
                  <a:lnTo>
                    <a:pt x="55118" y="161291"/>
                  </a:lnTo>
                  <a:lnTo>
                    <a:pt x="51307" y="163196"/>
                  </a:lnTo>
                  <a:lnTo>
                    <a:pt x="48894" y="161291"/>
                  </a:lnTo>
                  <a:lnTo>
                    <a:pt x="46482" y="159386"/>
                  </a:lnTo>
                  <a:lnTo>
                    <a:pt x="45085" y="156973"/>
                  </a:lnTo>
                  <a:lnTo>
                    <a:pt x="43560" y="154052"/>
                  </a:lnTo>
                  <a:lnTo>
                    <a:pt x="39243" y="142622"/>
                  </a:lnTo>
                  <a:lnTo>
                    <a:pt x="37845" y="140209"/>
                  </a:lnTo>
                  <a:lnTo>
                    <a:pt x="35941" y="137796"/>
                  </a:lnTo>
                  <a:lnTo>
                    <a:pt x="34035" y="135891"/>
                  </a:lnTo>
                  <a:lnTo>
                    <a:pt x="31622" y="133986"/>
                  </a:lnTo>
                  <a:lnTo>
                    <a:pt x="28194" y="132969"/>
                  </a:lnTo>
                  <a:lnTo>
                    <a:pt x="24384" y="132969"/>
                  </a:lnTo>
                  <a:lnTo>
                    <a:pt x="20066" y="132969"/>
                  </a:lnTo>
                  <a:lnTo>
                    <a:pt x="14350" y="134493"/>
                  </a:lnTo>
                  <a:close/>
                </a:path>
              </a:pathLst>
            </a:custGeom>
            <a:solidFill>
              <a:srgbClr val="11610d"/>
            </a:solidFill>
            <a:ln w="0">
              <a:solidFill>
                <a:srgbClr val="11610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ihandform 96"/>
            <p:cNvSpPr/>
            <p:nvPr/>
          </p:nvSpPr>
          <p:spPr>
            <a:xfrm>
              <a:off x="3119400" y="2733840"/>
              <a:ext cx="530280" cy="152280"/>
            </a:xfrm>
            <a:custGeom>
              <a:avLst/>
              <a:gdLst>
                <a:gd name="textAreaLeft" fmla="*/ 0 w 530280"/>
                <a:gd name="textAreaRight" fmla="*/ 530640 w 530280"/>
                <a:gd name="textAreaTop" fmla="*/ 0 h 152280"/>
                <a:gd name="textAreaBottom" fmla="*/ 152280 h 152280"/>
              </a:gdLst>
              <a:ahLst/>
              <a:rect l="textAreaLeft" t="textAreaTop" r="textAreaRight" b="textAreaBottom"/>
              <a:pathLst>
                <a:path w="432436" h="187707">
                  <a:moveTo>
                    <a:pt x="36450" y="0"/>
                  </a:moveTo>
                  <a:lnTo>
                    <a:pt x="33528" y="2922"/>
                  </a:lnTo>
                  <a:lnTo>
                    <a:pt x="30734" y="6731"/>
                  </a:lnTo>
                  <a:lnTo>
                    <a:pt x="27813" y="11557"/>
                  </a:lnTo>
                  <a:lnTo>
                    <a:pt x="24384" y="17273"/>
                  </a:lnTo>
                  <a:lnTo>
                    <a:pt x="21591" y="23115"/>
                  </a:lnTo>
                  <a:lnTo>
                    <a:pt x="19178" y="28830"/>
                  </a:lnTo>
                  <a:lnTo>
                    <a:pt x="17272" y="35053"/>
                  </a:lnTo>
                  <a:lnTo>
                    <a:pt x="15749" y="40894"/>
                  </a:lnTo>
                  <a:lnTo>
                    <a:pt x="14859" y="46102"/>
                  </a:lnTo>
                  <a:lnTo>
                    <a:pt x="14859" y="51436"/>
                  </a:lnTo>
                  <a:lnTo>
                    <a:pt x="15368" y="55754"/>
                  </a:lnTo>
                  <a:lnTo>
                    <a:pt x="17272" y="59055"/>
                  </a:lnTo>
                  <a:lnTo>
                    <a:pt x="18669" y="60453"/>
                  </a:lnTo>
                  <a:lnTo>
                    <a:pt x="20066" y="61468"/>
                  </a:lnTo>
                  <a:lnTo>
                    <a:pt x="22099" y="61977"/>
                  </a:lnTo>
                  <a:lnTo>
                    <a:pt x="24384" y="62485"/>
                  </a:lnTo>
                  <a:lnTo>
                    <a:pt x="26797" y="62485"/>
                  </a:lnTo>
                  <a:lnTo>
                    <a:pt x="29719" y="61977"/>
                  </a:lnTo>
                  <a:lnTo>
                    <a:pt x="33147" y="61468"/>
                  </a:lnTo>
                  <a:lnTo>
                    <a:pt x="36957" y="60072"/>
                  </a:lnTo>
                  <a:lnTo>
                    <a:pt x="37847" y="60453"/>
                  </a:lnTo>
                  <a:lnTo>
                    <a:pt x="38354" y="61468"/>
                  </a:lnTo>
                  <a:lnTo>
                    <a:pt x="38862" y="62485"/>
                  </a:lnTo>
                  <a:lnTo>
                    <a:pt x="38862" y="63881"/>
                  </a:lnTo>
                  <a:lnTo>
                    <a:pt x="37847" y="67184"/>
                  </a:lnTo>
                  <a:lnTo>
                    <a:pt x="36450" y="71121"/>
                  </a:lnTo>
                  <a:lnTo>
                    <a:pt x="34037" y="75819"/>
                  </a:lnTo>
                  <a:lnTo>
                    <a:pt x="31116" y="81154"/>
                  </a:lnTo>
                  <a:lnTo>
                    <a:pt x="24893" y="91694"/>
                  </a:lnTo>
                  <a:lnTo>
                    <a:pt x="21591" y="97029"/>
                  </a:lnTo>
                  <a:lnTo>
                    <a:pt x="18162" y="102236"/>
                  </a:lnTo>
                  <a:lnTo>
                    <a:pt x="15749" y="107061"/>
                  </a:lnTo>
                  <a:lnTo>
                    <a:pt x="13844" y="110872"/>
                  </a:lnTo>
                  <a:lnTo>
                    <a:pt x="12447" y="114300"/>
                  </a:lnTo>
                  <a:lnTo>
                    <a:pt x="12447" y="115698"/>
                  </a:lnTo>
                  <a:lnTo>
                    <a:pt x="12447" y="116713"/>
                  </a:lnTo>
                  <a:lnTo>
                    <a:pt x="12447" y="117603"/>
                  </a:lnTo>
                  <a:lnTo>
                    <a:pt x="12954" y="118111"/>
                  </a:lnTo>
                  <a:lnTo>
                    <a:pt x="13844" y="118111"/>
                  </a:lnTo>
                  <a:lnTo>
                    <a:pt x="15368" y="117603"/>
                  </a:lnTo>
                  <a:lnTo>
                    <a:pt x="25400" y="113792"/>
                  </a:lnTo>
                  <a:lnTo>
                    <a:pt x="34544" y="110491"/>
                  </a:lnTo>
                  <a:lnTo>
                    <a:pt x="42672" y="107569"/>
                  </a:lnTo>
                  <a:lnTo>
                    <a:pt x="50419" y="105665"/>
                  </a:lnTo>
                  <a:lnTo>
                    <a:pt x="56643" y="103760"/>
                  </a:lnTo>
                  <a:lnTo>
                    <a:pt x="62357" y="102743"/>
                  </a:lnTo>
                  <a:lnTo>
                    <a:pt x="67691" y="102236"/>
                  </a:lnTo>
                  <a:lnTo>
                    <a:pt x="72009" y="102236"/>
                  </a:lnTo>
                  <a:lnTo>
                    <a:pt x="75819" y="102236"/>
                  </a:lnTo>
                  <a:lnTo>
                    <a:pt x="79122" y="103252"/>
                  </a:lnTo>
                  <a:lnTo>
                    <a:pt x="81534" y="104141"/>
                  </a:lnTo>
                  <a:lnTo>
                    <a:pt x="83947" y="105665"/>
                  </a:lnTo>
                  <a:lnTo>
                    <a:pt x="85853" y="107061"/>
                  </a:lnTo>
                  <a:lnTo>
                    <a:pt x="87377" y="108967"/>
                  </a:lnTo>
                  <a:lnTo>
                    <a:pt x="89662" y="113285"/>
                  </a:lnTo>
                  <a:lnTo>
                    <a:pt x="91694" y="118618"/>
                  </a:lnTo>
                  <a:lnTo>
                    <a:pt x="93091" y="123825"/>
                  </a:lnTo>
                  <a:lnTo>
                    <a:pt x="94488" y="129667"/>
                  </a:lnTo>
                  <a:lnTo>
                    <a:pt x="96394" y="134874"/>
                  </a:lnTo>
                  <a:lnTo>
                    <a:pt x="99315" y="140209"/>
                  </a:lnTo>
                  <a:lnTo>
                    <a:pt x="101728" y="142113"/>
                  </a:lnTo>
                  <a:lnTo>
                    <a:pt x="104141" y="144527"/>
                  </a:lnTo>
                  <a:lnTo>
                    <a:pt x="107062" y="145923"/>
                  </a:lnTo>
                  <a:lnTo>
                    <a:pt x="110363" y="147448"/>
                  </a:lnTo>
                  <a:lnTo>
                    <a:pt x="114174" y="148844"/>
                  </a:lnTo>
                  <a:lnTo>
                    <a:pt x="118491" y="149734"/>
                  </a:lnTo>
                  <a:lnTo>
                    <a:pt x="124334" y="147829"/>
                  </a:lnTo>
                  <a:lnTo>
                    <a:pt x="129032" y="145923"/>
                  </a:lnTo>
                  <a:lnTo>
                    <a:pt x="133859" y="144527"/>
                  </a:lnTo>
                  <a:lnTo>
                    <a:pt x="137669" y="143511"/>
                  </a:lnTo>
                  <a:lnTo>
                    <a:pt x="141606" y="143130"/>
                  </a:lnTo>
                  <a:lnTo>
                    <a:pt x="144907" y="142622"/>
                  </a:lnTo>
                  <a:lnTo>
                    <a:pt x="147828" y="142622"/>
                  </a:lnTo>
                  <a:lnTo>
                    <a:pt x="150241" y="142622"/>
                  </a:lnTo>
                  <a:lnTo>
                    <a:pt x="154559" y="144018"/>
                  </a:lnTo>
                  <a:lnTo>
                    <a:pt x="157862" y="145923"/>
                  </a:lnTo>
                  <a:lnTo>
                    <a:pt x="160782" y="148336"/>
                  </a:lnTo>
                  <a:lnTo>
                    <a:pt x="163196" y="151257"/>
                  </a:lnTo>
                  <a:lnTo>
                    <a:pt x="168022" y="158497"/>
                  </a:lnTo>
                  <a:lnTo>
                    <a:pt x="170816" y="161798"/>
                  </a:lnTo>
                  <a:lnTo>
                    <a:pt x="174244" y="164719"/>
                  </a:lnTo>
                  <a:lnTo>
                    <a:pt x="178562" y="167513"/>
                  </a:lnTo>
                  <a:lnTo>
                    <a:pt x="184278" y="169927"/>
                  </a:lnTo>
                  <a:lnTo>
                    <a:pt x="187706" y="170942"/>
                  </a:lnTo>
                  <a:lnTo>
                    <a:pt x="191516" y="171831"/>
                  </a:lnTo>
                  <a:lnTo>
                    <a:pt x="195834" y="172340"/>
                  </a:lnTo>
                  <a:lnTo>
                    <a:pt x="200660" y="172340"/>
                  </a:lnTo>
                  <a:lnTo>
                    <a:pt x="204471" y="169418"/>
                  </a:lnTo>
                  <a:lnTo>
                    <a:pt x="208281" y="167132"/>
                  </a:lnTo>
                  <a:lnTo>
                    <a:pt x="211582" y="164719"/>
                  </a:lnTo>
                  <a:lnTo>
                    <a:pt x="215012" y="163196"/>
                  </a:lnTo>
                  <a:lnTo>
                    <a:pt x="217932" y="161798"/>
                  </a:lnTo>
                  <a:lnTo>
                    <a:pt x="220727" y="160782"/>
                  </a:lnTo>
                  <a:lnTo>
                    <a:pt x="226060" y="159386"/>
                  </a:lnTo>
                  <a:lnTo>
                    <a:pt x="230887" y="159386"/>
                  </a:lnTo>
                  <a:lnTo>
                    <a:pt x="235585" y="160402"/>
                  </a:lnTo>
                  <a:lnTo>
                    <a:pt x="244349" y="163704"/>
                  </a:lnTo>
                  <a:lnTo>
                    <a:pt x="249047" y="165609"/>
                  </a:lnTo>
                  <a:lnTo>
                    <a:pt x="254381" y="167513"/>
                  </a:lnTo>
                  <a:lnTo>
                    <a:pt x="260097" y="169037"/>
                  </a:lnTo>
                  <a:lnTo>
                    <a:pt x="266319" y="169927"/>
                  </a:lnTo>
                  <a:lnTo>
                    <a:pt x="274066" y="170435"/>
                  </a:lnTo>
                  <a:lnTo>
                    <a:pt x="277877" y="170435"/>
                  </a:lnTo>
                  <a:lnTo>
                    <a:pt x="282703" y="169927"/>
                  </a:lnTo>
                  <a:lnTo>
                    <a:pt x="287528" y="169037"/>
                  </a:lnTo>
                  <a:lnTo>
                    <a:pt x="292228" y="168022"/>
                  </a:lnTo>
                  <a:lnTo>
                    <a:pt x="298069" y="166624"/>
                  </a:lnTo>
                  <a:lnTo>
                    <a:pt x="303784" y="165100"/>
                  </a:lnTo>
                  <a:lnTo>
                    <a:pt x="304800" y="158497"/>
                  </a:lnTo>
                  <a:lnTo>
                    <a:pt x="306706" y="152147"/>
                  </a:lnTo>
                  <a:lnTo>
                    <a:pt x="308610" y="145416"/>
                  </a:lnTo>
                  <a:lnTo>
                    <a:pt x="311531" y="138304"/>
                  </a:lnTo>
                  <a:lnTo>
                    <a:pt x="314834" y="131573"/>
                  </a:lnTo>
                  <a:lnTo>
                    <a:pt x="319152" y="124842"/>
                  </a:lnTo>
                  <a:lnTo>
                    <a:pt x="323469" y="118618"/>
                  </a:lnTo>
                  <a:lnTo>
                    <a:pt x="328296" y="112396"/>
                  </a:lnTo>
                  <a:lnTo>
                    <a:pt x="334010" y="107061"/>
                  </a:lnTo>
                  <a:lnTo>
                    <a:pt x="339853" y="101855"/>
                  </a:lnTo>
                  <a:lnTo>
                    <a:pt x="346075" y="97536"/>
                  </a:lnTo>
                  <a:lnTo>
                    <a:pt x="352299" y="93599"/>
                  </a:lnTo>
                  <a:lnTo>
                    <a:pt x="359537" y="90805"/>
                  </a:lnTo>
                  <a:lnTo>
                    <a:pt x="366650" y="88773"/>
                  </a:lnTo>
                  <a:lnTo>
                    <a:pt x="373888" y="87885"/>
                  </a:lnTo>
                  <a:lnTo>
                    <a:pt x="381509" y="87885"/>
                  </a:lnTo>
                  <a:lnTo>
                    <a:pt x="385446" y="87885"/>
                  </a:lnTo>
                  <a:lnTo>
                    <a:pt x="390144" y="86868"/>
                  </a:lnTo>
                  <a:lnTo>
                    <a:pt x="395478" y="86487"/>
                  </a:lnTo>
                  <a:lnTo>
                    <a:pt x="402209" y="86487"/>
                  </a:lnTo>
                  <a:lnTo>
                    <a:pt x="408941" y="86868"/>
                  </a:lnTo>
                  <a:lnTo>
                    <a:pt x="416560" y="88392"/>
                  </a:lnTo>
                  <a:lnTo>
                    <a:pt x="424307" y="91186"/>
                  </a:lnTo>
                  <a:lnTo>
                    <a:pt x="432435" y="95123"/>
                  </a:lnTo>
                  <a:lnTo>
                    <a:pt x="422403" y="95505"/>
                  </a:lnTo>
                  <a:lnTo>
                    <a:pt x="412750" y="96521"/>
                  </a:lnTo>
                  <a:lnTo>
                    <a:pt x="404115" y="97536"/>
                  </a:lnTo>
                  <a:lnTo>
                    <a:pt x="395987" y="98934"/>
                  </a:lnTo>
                  <a:lnTo>
                    <a:pt x="388240" y="100330"/>
                  </a:lnTo>
                  <a:lnTo>
                    <a:pt x="381509" y="102236"/>
                  </a:lnTo>
                  <a:lnTo>
                    <a:pt x="375285" y="104648"/>
                  </a:lnTo>
                  <a:lnTo>
                    <a:pt x="369571" y="107061"/>
                  </a:lnTo>
                  <a:lnTo>
                    <a:pt x="364237" y="109474"/>
                  </a:lnTo>
                  <a:lnTo>
                    <a:pt x="359537" y="112396"/>
                  </a:lnTo>
                  <a:lnTo>
                    <a:pt x="355219" y="115190"/>
                  </a:lnTo>
                  <a:lnTo>
                    <a:pt x="351282" y="118111"/>
                  </a:lnTo>
                  <a:lnTo>
                    <a:pt x="345059" y="124334"/>
                  </a:lnTo>
                  <a:lnTo>
                    <a:pt x="339853" y="130556"/>
                  </a:lnTo>
                  <a:lnTo>
                    <a:pt x="336424" y="137287"/>
                  </a:lnTo>
                  <a:lnTo>
                    <a:pt x="334010" y="143511"/>
                  </a:lnTo>
                  <a:lnTo>
                    <a:pt x="332613" y="149734"/>
                  </a:lnTo>
                  <a:lnTo>
                    <a:pt x="331597" y="156084"/>
                  </a:lnTo>
                  <a:lnTo>
                    <a:pt x="331216" y="161291"/>
                  </a:lnTo>
                  <a:lnTo>
                    <a:pt x="331597" y="166117"/>
                  </a:lnTo>
                  <a:lnTo>
                    <a:pt x="331597" y="169418"/>
                  </a:lnTo>
                  <a:lnTo>
                    <a:pt x="332106" y="172340"/>
                  </a:lnTo>
                  <a:lnTo>
                    <a:pt x="322962" y="173736"/>
                  </a:lnTo>
                  <a:lnTo>
                    <a:pt x="314325" y="175261"/>
                  </a:lnTo>
                  <a:lnTo>
                    <a:pt x="295656" y="176657"/>
                  </a:lnTo>
                  <a:lnTo>
                    <a:pt x="258191" y="178055"/>
                  </a:lnTo>
                  <a:lnTo>
                    <a:pt x="239903" y="178562"/>
                  </a:lnTo>
                  <a:lnTo>
                    <a:pt x="222631" y="180467"/>
                  </a:lnTo>
                  <a:lnTo>
                    <a:pt x="213996" y="181484"/>
                  </a:lnTo>
                  <a:lnTo>
                    <a:pt x="205868" y="183388"/>
                  </a:lnTo>
                  <a:lnTo>
                    <a:pt x="198247" y="185293"/>
                  </a:lnTo>
                  <a:lnTo>
                    <a:pt x="191009" y="187706"/>
                  </a:lnTo>
                  <a:lnTo>
                    <a:pt x="186182" y="183897"/>
                  </a:lnTo>
                  <a:lnTo>
                    <a:pt x="181356" y="180467"/>
                  </a:lnTo>
                  <a:lnTo>
                    <a:pt x="176657" y="178055"/>
                  </a:lnTo>
                  <a:lnTo>
                    <a:pt x="172340" y="176657"/>
                  </a:lnTo>
                  <a:lnTo>
                    <a:pt x="167513" y="176149"/>
                  </a:lnTo>
                  <a:lnTo>
                    <a:pt x="162687" y="176149"/>
                  </a:lnTo>
                  <a:lnTo>
                    <a:pt x="153035" y="177166"/>
                  </a:lnTo>
                  <a:lnTo>
                    <a:pt x="144019" y="179071"/>
                  </a:lnTo>
                  <a:lnTo>
                    <a:pt x="134875" y="181484"/>
                  </a:lnTo>
                  <a:lnTo>
                    <a:pt x="125731" y="182880"/>
                  </a:lnTo>
                  <a:lnTo>
                    <a:pt x="121412" y="182880"/>
                  </a:lnTo>
                  <a:lnTo>
                    <a:pt x="117094" y="182373"/>
                  </a:lnTo>
                  <a:lnTo>
                    <a:pt x="112777" y="181484"/>
                  </a:lnTo>
                  <a:lnTo>
                    <a:pt x="108966" y="179579"/>
                  </a:lnTo>
                  <a:lnTo>
                    <a:pt x="105537" y="177166"/>
                  </a:lnTo>
                  <a:lnTo>
                    <a:pt x="102235" y="174753"/>
                  </a:lnTo>
                  <a:lnTo>
                    <a:pt x="96394" y="168530"/>
                  </a:lnTo>
                  <a:lnTo>
                    <a:pt x="90678" y="162306"/>
                  </a:lnTo>
                  <a:lnTo>
                    <a:pt x="87377" y="159893"/>
                  </a:lnTo>
                  <a:lnTo>
                    <a:pt x="83947" y="157988"/>
                  </a:lnTo>
                  <a:lnTo>
                    <a:pt x="80137" y="156084"/>
                  </a:lnTo>
                  <a:lnTo>
                    <a:pt x="75819" y="155575"/>
                  </a:lnTo>
                  <a:lnTo>
                    <a:pt x="70994" y="155575"/>
                  </a:lnTo>
                  <a:lnTo>
                    <a:pt x="65278" y="156973"/>
                  </a:lnTo>
                  <a:lnTo>
                    <a:pt x="61850" y="157988"/>
                  </a:lnTo>
                  <a:lnTo>
                    <a:pt x="58547" y="159386"/>
                  </a:lnTo>
                  <a:lnTo>
                    <a:pt x="55119" y="161291"/>
                  </a:lnTo>
                  <a:lnTo>
                    <a:pt x="51309" y="163196"/>
                  </a:lnTo>
                  <a:lnTo>
                    <a:pt x="48896" y="161291"/>
                  </a:lnTo>
                  <a:lnTo>
                    <a:pt x="46482" y="159386"/>
                  </a:lnTo>
                  <a:lnTo>
                    <a:pt x="45085" y="156973"/>
                  </a:lnTo>
                  <a:lnTo>
                    <a:pt x="43688" y="154052"/>
                  </a:lnTo>
                  <a:lnTo>
                    <a:pt x="39371" y="142622"/>
                  </a:lnTo>
                  <a:lnTo>
                    <a:pt x="37847" y="140209"/>
                  </a:lnTo>
                  <a:lnTo>
                    <a:pt x="35941" y="137796"/>
                  </a:lnTo>
                  <a:lnTo>
                    <a:pt x="34037" y="135891"/>
                  </a:lnTo>
                  <a:lnTo>
                    <a:pt x="31624" y="133986"/>
                  </a:lnTo>
                  <a:lnTo>
                    <a:pt x="28322" y="132969"/>
                  </a:lnTo>
                  <a:lnTo>
                    <a:pt x="24384" y="132969"/>
                  </a:lnTo>
                  <a:lnTo>
                    <a:pt x="20066" y="132969"/>
                  </a:lnTo>
                  <a:lnTo>
                    <a:pt x="14352" y="134493"/>
                  </a:lnTo>
                  <a:lnTo>
                    <a:pt x="10541" y="128143"/>
                  </a:lnTo>
                  <a:lnTo>
                    <a:pt x="7112" y="121921"/>
                  </a:lnTo>
                  <a:lnTo>
                    <a:pt x="4319" y="114809"/>
                  </a:lnTo>
                  <a:lnTo>
                    <a:pt x="2413" y="107569"/>
                  </a:lnTo>
                  <a:lnTo>
                    <a:pt x="890" y="99823"/>
                  </a:lnTo>
                  <a:lnTo>
                    <a:pt x="0" y="91694"/>
                  </a:lnTo>
                  <a:lnTo>
                    <a:pt x="0" y="83059"/>
                  </a:lnTo>
                  <a:lnTo>
                    <a:pt x="890" y="74423"/>
                  </a:lnTo>
                  <a:lnTo>
                    <a:pt x="2413" y="65279"/>
                  </a:lnTo>
                  <a:lnTo>
                    <a:pt x="4827" y="56135"/>
                  </a:lnTo>
                  <a:lnTo>
                    <a:pt x="7621" y="47117"/>
                  </a:lnTo>
                  <a:lnTo>
                    <a:pt x="11938" y="37466"/>
                  </a:lnTo>
                  <a:lnTo>
                    <a:pt x="16765" y="28322"/>
                  </a:lnTo>
                  <a:lnTo>
                    <a:pt x="22479" y="18797"/>
                  </a:lnTo>
                  <a:lnTo>
                    <a:pt x="29210" y="9144"/>
                  </a:lnTo>
                  <a:lnTo>
                    <a:pt x="36450" y="0"/>
                  </a:lnTo>
                  <a:close/>
                </a:path>
              </a:pathLst>
            </a:custGeom>
            <a:solidFill>
              <a:srgbClr val="005600"/>
            </a:solidFill>
            <a:ln w="0">
              <a:solidFill>
                <a:srgbClr val="005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ihandform 97"/>
            <p:cNvSpPr/>
            <p:nvPr/>
          </p:nvSpPr>
          <p:spPr>
            <a:xfrm>
              <a:off x="3272040" y="2706840"/>
              <a:ext cx="260280" cy="79200"/>
            </a:xfrm>
            <a:custGeom>
              <a:avLst/>
              <a:gdLst>
                <a:gd name="textAreaLeft" fmla="*/ 0 w 260280"/>
                <a:gd name="textAreaRight" fmla="*/ 260640 w 26028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212600" h="97538">
                  <a:moveTo>
                    <a:pt x="0" y="61469"/>
                  </a:moveTo>
                  <a:lnTo>
                    <a:pt x="509" y="59563"/>
                  </a:lnTo>
                  <a:lnTo>
                    <a:pt x="1397" y="58167"/>
                  </a:lnTo>
                  <a:lnTo>
                    <a:pt x="2922" y="57150"/>
                  </a:lnTo>
                  <a:lnTo>
                    <a:pt x="4319" y="56262"/>
                  </a:lnTo>
                  <a:lnTo>
                    <a:pt x="8128" y="55245"/>
                  </a:lnTo>
                  <a:lnTo>
                    <a:pt x="13462" y="54738"/>
                  </a:lnTo>
                  <a:lnTo>
                    <a:pt x="18669" y="54230"/>
                  </a:lnTo>
                  <a:lnTo>
                    <a:pt x="24512" y="54230"/>
                  </a:lnTo>
                  <a:lnTo>
                    <a:pt x="30227" y="54230"/>
                  </a:lnTo>
                  <a:lnTo>
                    <a:pt x="35941" y="53849"/>
                  </a:lnTo>
                  <a:lnTo>
                    <a:pt x="40768" y="53340"/>
                  </a:lnTo>
                  <a:lnTo>
                    <a:pt x="44578" y="51944"/>
                  </a:lnTo>
                  <a:lnTo>
                    <a:pt x="46482" y="50927"/>
                  </a:lnTo>
                  <a:lnTo>
                    <a:pt x="47499" y="49531"/>
                  </a:lnTo>
                  <a:lnTo>
                    <a:pt x="48515" y="48007"/>
                  </a:lnTo>
                  <a:lnTo>
                    <a:pt x="48896" y="46101"/>
                  </a:lnTo>
                  <a:lnTo>
                    <a:pt x="48896" y="44196"/>
                  </a:lnTo>
                  <a:lnTo>
                    <a:pt x="48515" y="41783"/>
                  </a:lnTo>
                  <a:lnTo>
                    <a:pt x="46991" y="38989"/>
                  </a:lnTo>
                  <a:lnTo>
                    <a:pt x="45594" y="36069"/>
                  </a:lnTo>
                  <a:lnTo>
                    <a:pt x="43181" y="32258"/>
                  </a:lnTo>
                  <a:lnTo>
                    <a:pt x="40259" y="28321"/>
                  </a:lnTo>
                  <a:lnTo>
                    <a:pt x="36957" y="23623"/>
                  </a:lnTo>
                  <a:lnTo>
                    <a:pt x="32640" y="18796"/>
                  </a:lnTo>
                  <a:lnTo>
                    <a:pt x="34544" y="17781"/>
                  </a:lnTo>
                  <a:lnTo>
                    <a:pt x="36450" y="17273"/>
                  </a:lnTo>
                  <a:lnTo>
                    <a:pt x="41784" y="16892"/>
                  </a:lnTo>
                  <a:lnTo>
                    <a:pt x="46991" y="17273"/>
                  </a:lnTo>
                  <a:lnTo>
                    <a:pt x="53213" y="18288"/>
                  </a:lnTo>
                  <a:lnTo>
                    <a:pt x="66675" y="21209"/>
                  </a:lnTo>
                  <a:lnTo>
                    <a:pt x="73406" y="22607"/>
                  </a:lnTo>
                  <a:lnTo>
                    <a:pt x="80137" y="23623"/>
                  </a:lnTo>
                  <a:lnTo>
                    <a:pt x="85853" y="24512"/>
                  </a:lnTo>
                  <a:lnTo>
                    <a:pt x="91187" y="24512"/>
                  </a:lnTo>
                  <a:lnTo>
                    <a:pt x="95504" y="23623"/>
                  </a:lnTo>
                  <a:lnTo>
                    <a:pt x="97409" y="23114"/>
                  </a:lnTo>
                  <a:lnTo>
                    <a:pt x="98806" y="21590"/>
                  </a:lnTo>
                  <a:lnTo>
                    <a:pt x="100331" y="20701"/>
                  </a:lnTo>
                  <a:lnTo>
                    <a:pt x="100838" y="18796"/>
                  </a:lnTo>
                  <a:lnTo>
                    <a:pt x="101219" y="16892"/>
                  </a:lnTo>
                  <a:lnTo>
                    <a:pt x="101219" y="14479"/>
                  </a:lnTo>
                  <a:lnTo>
                    <a:pt x="100838" y="11557"/>
                  </a:lnTo>
                  <a:lnTo>
                    <a:pt x="99822" y="8256"/>
                  </a:lnTo>
                  <a:lnTo>
                    <a:pt x="98425" y="4319"/>
                  </a:lnTo>
                  <a:lnTo>
                    <a:pt x="96521" y="0"/>
                  </a:lnTo>
                  <a:lnTo>
                    <a:pt x="100838" y="508"/>
                  </a:lnTo>
                  <a:lnTo>
                    <a:pt x="105156" y="1906"/>
                  </a:lnTo>
                  <a:lnTo>
                    <a:pt x="109856" y="4319"/>
                  </a:lnTo>
                  <a:lnTo>
                    <a:pt x="115190" y="7239"/>
                  </a:lnTo>
                  <a:lnTo>
                    <a:pt x="125731" y="13970"/>
                  </a:lnTo>
                  <a:lnTo>
                    <a:pt x="131065" y="17273"/>
                  </a:lnTo>
                  <a:lnTo>
                    <a:pt x="135763" y="20194"/>
                  </a:lnTo>
                  <a:lnTo>
                    <a:pt x="140590" y="22607"/>
                  </a:lnTo>
                  <a:lnTo>
                    <a:pt x="144400" y="24004"/>
                  </a:lnTo>
                  <a:lnTo>
                    <a:pt x="148337" y="24512"/>
                  </a:lnTo>
                  <a:lnTo>
                    <a:pt x="149734" y="24512"/>
                  </a:lnTo>
                  <a:lnTo>
                    <a:pt x="150750" y="23623"/>
                  </a:lnTo>
                  <a:lnTo>
                    <a:pt x="151638" y="22607"/>
                  </a:lnTo>
                  <a:lnTo>
                    <a:pt x="152654" y="21209"/>
                  </a:lnTo>
                  <a:lnTo>
                    <a:pt x="153162" y="19686"/>
                  </a:lnTo>
                  <a:lnTo>
                    <a:pt x="153162" y="17273"/>
                  </a:lnTo>
                  <a:lnTo>
                    <a:pt x="153162" y="14479"/>
                  </a:lnTo>
                  <a:lnTo>
                    <a:pt x="152654" y="10669"/>
                  </a:lnTo>
                  <a:lnTo>
                    <a:pt x="152147" y="6732"/>
                  </a:lnTo>
                  <a:lnTo>
                    <a:pt x="151131" y="2413"/>
                  </a:lnTo>
                  <a:lnTo>
                    <a:pt x="155449" y="5843"/>
                  </a:lnTo>
                  <a:lnTo>
                    <a:pt x="160275" y="9144"/>
                  </a:lnTo>
                  <a:lnTo>
                    <a:pt x="171324" y="15875"/>
                  </a:lnTo>
                  <a:lnTo>
                    <a:pt x="182372" y="22607"/>
                  </a:lnTo>
                  <a:lnTo>
                    <a:pt x="192913" y="28830"/>
                  </a:lnTo>
                  <a:lnTo>
                    <a:pt x="197740" y="32258"/>
                  </a:lnTo>
                  <a:lnTo>
                    <a:pt x="202057" y="36069"/>
                  </a:lnTo>
                  <a:lnTo>
                    <a:pt x="205359" y="39370"/>
                  </a:lnTo>
                  <a:lnTo>
                    <a:pt x="208788" y="43307"/>
                  </a:lnTo>
                  <a:lnTo>
                    <a:pt x="210694" y="47625"/>
                  </a:lnTo>
                  <a:lnTo>
                    <a:pt x="212091" y="51944"/>
                  </a:lnTo>
                  <a:lnTo>
                    <a:pt x="212599" y="56262"/>
                  </a:lnTo>
                  <a:lnTo>
                    <a:pt x="211709" y="61469"/>
                  </a:lnTo>
                  <a:lnTo>
                    <a:pt x="209297" y="61976"/>
                  </a:lnTo>
                  <a:lnTo>
                    <a:pt x="205868" y="62865"/>
                  </a:lnTo>
                  <a:lnTo>
                    <a:pt x="202566" y="63882"/>
                  </a:lnTo>
                  <a:lnTo>
                    <a:pt x="198247" y="64389"/>
                  </a:lnTo>
                  <a:lnTo>
                    <a:pt x="188596" y="65279"/>
                  </a:lnTo>
                  <a:lnTo>
                    <a:pt x="177038" y="66294"/>
                  </a:lnTo>
                  <a:lnTo>
                    <a:pt x="164593" y="67183"/>
                  </a:lnTo>
                  <a:lnTo>
                    <a:pt x="151131" y="68200"/>
                  </a:lnTo>
                  <a:lnTo>
                    <a:pt x="123318" y="70613"/>
                  </a:lnTo>
                  <a:lnTo>
                    <a:pt x="109475" y="72009"/>
                  </a:lnTo>
                  <a:lnTo>
                    <a:pt x="96012" y="73914"/>
                  </a:lnTo>
                  <a:lnTo>
                    <a:pt x="83440" y="76327"/>
                  </a:lnTo>
                  <a:lnTo>
                    <a:pt x="72009" y="79249"/>
                  </a:lnTo>
                  <a:lnTo>
                    <a:pt x="67184" y="80645"/>
                  </a:lnTo>
                  <a:lnTo>
                    <a:pt x="62357" y="82550"/>
                  </a:lnTo>
                  <a:lnTo>
                    <a:pt x="58040" y="84582"/>
                  </a:lnTo>
                  <a:lnTo>
                    <a:pt x="54737" y="86869"/>
                  </a:lnTo>
                  <a:lnTo>
                    <a:pt x="51309" y="89282"/>
                  </a:lnTo>
                  <a:lnTo>
                    <a:pt x="48896" y="91694"/>
                  </a:lnTo>
                  <a:lnTo>
                    <a:pt x="46991" y="94615"/>
                  </a:lnTo>
                  <a:lnTo>
                    <a:pt x="46102" y="97537"/>
                  </a:lnTo>
                  <a:lnTo>
                    <a:pt x="42672" y="90298"/>
                  </a:lnTo>
                  <a:lnTo>
                    <a:pt x="38862" y="84582"/>
                  </a:lnTo>
                  <a:lnTo>
                    <a:pt x="34544" y="79249"/>
                  </a:lnTo>
                  <a:lnTo>
                    <a:pt x="29210" y="74423"/>
                  </a:lnTo>
                  <a:lnTo>
                    <a:pt x="22987" y="70613"/>
                  </a:lnTo>
                  <a:lnTo>
                    <a:pt x="16256" y="66802"/>
                  </a:lnTo>
                  <a:lnTo>
                    <a:pt x="8637" y="63882"/>
                  </a:lnTo>
                  <a:lnTo>
                    <a:pt x="0" y="61469"/>
                  </a:lnTo>
                  <a:close/>
                </a:path>
              </a:pathLst>
            </a:custGeom>
            <a:solidFill>
              <a:srgbClr val="879b6b"/>
            </a:solidFill>
            <a:ln w="0">
              <a:solidFill>
                <a:srgbClr val="879b6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Freihandform 98"/>
            <p:cNvSpPr/>
            <p:nvPr/>
          </p:nvSpPr>
          <p:spPr>
            <a:xfrm>
              <a:off x="3275280" y="2711520"/>
              <a:ext cx="257040" cy="74520"/>
            </a:xfrm>
            <a:custGeom>
              <a:avLst/>
              <a:gdLst>
                <a:gd name="textAreaLeft" fmla="*/ 0 w 257040"/>
                <a:gd name="textAreaRight" fmla="*/ 257400 w 257040"/>
                <a:gd name="textAreaTop" fmla="*/ 0 h 74520"/>
                <a:gd name="textAreaBottom" fmla="*/ 74880 h 74520"/>
              </a:gdLst>
              <a:ahLst/>
              <a:rect l="textAreaLeft" t="textAreaTop" r="textAreaRight" b="textAreaBottom"/>
              <a:pathLst>
                <a:path w="208790" h="91695">
                  <a:moveTo>
                    <a:pt x="0" y="55626"/>
                  </a:moveTo>
                  <a:lnTo>
                    <a:pt x="1017" y="54228"/>
                  </a:lnTo>
                  <a:lnTo>
                    <a:pt x="1906" y="53213"/>
                  </a:lnTo>
                  <a:lnTo>
                    <a:pt x="4827" y="51815"/>
                  </a:lnTo>
                  <a:lnTo>
                    <a:pt x="9144" y="50800"/>
                  </a:lnTo>
                  <a:lnTo>
                    <a:pt x="13971" y="50419"/>
                  </a:lnTo>
                  <a:lnTo>
                    <a:pt x="25400" y="50419"/>
                  </a:lnTo>
                  <a:lnTo>
                    <a:pt x="31243" y="50419"/>
                  </a:lnTo>
                  <a:lnTo>
                    <a:pt x="36449" y="50419"/>
                  </a:lnTo>
                  <a:lnTo>
                    <a:pt x="41275" y="49911"/>
                  </a:lnTo>
                  <a:lnTo>
                    <a:pt x="45086" y="48387"/>
                  </a:lnTo>
                  <a:lnTo>
                    <a:pt x="46609" y="47497"/>
                  </a:lnTo>
                  <a:lnTo>
                    <a:pt x="48006" y="46482"/>
                  </a:lnTo>
                  <a:lnTo>
                    <a:pt x="49022" y="45084"/>
                  </a:lnTo>
                  <a:lnTo>
                    <a:pt x="49403" y="43180"/>
                  </a:lnTo>
                  <a:lnTo>
                    <a:pt x="49403" y="41275"/>
                  </a:lnTo>
                  <a:lnTo>
                    <a:pt x="49022" y="38862"/>
                  </a:lnTo>
                  <a:lnTo>
                    <a:pt x="48006" y="35940"/>
                  </a:lnTo>
                  <a:lnTo>
                    <a:pt x="46609" y="33146"/>
                  </a:lnTo>
                  <a:lnTo>
                    <a:pt x="44705" y="29718"/>
                  </a:lnTo>
                  <a:lnTo>
                    <a:pt x="42292" y="25907"/>
                  </a:lnTo>
                  <a:lnTo>
                    <a:pt x="38862" y="21589"/>
                  </a:lnTo>
                  <a:lnTo>
                    <a:pt x="35052" y="16764"/>
                  </a:lnTo>
                  <a:lnTo>
                    <a:pt x="38862" y="15366"/>
                  </a:lnTo>
                  <a:lnTo>
                    <a:pt x="43689" y="14858"/>
                  </a:lnTo>
                  <a:lnTo>
                    <a:pt x="49022" y="15366"/>
                  </a:lnTo>
                  <a:lnTo>
                    <a:pt x="54737" y="16256"/>
                  </a:lnTo>
                  <a:lnTo>
                    <a:pt x="67692" y="19176"/>
                  </a:lnTo>
                  <a:lnTo>
                    <a:pt x="73915" y="20574"/>
                  </a:lnTo>
                  <a:lnTo>
                    <a:pt x="79630" y="22097"/>
                  </a:lnTo>
                  <a:lnTo>
                    <a:pt x="85471" y="22478"/>
                  </a:lnTo>
                  <a:lnTo>
                    <a:pt x="90297" y="22987"/>
                  </a:lnTo>
                  <a:lnTo>
                    <a:pt x="94615" y="22478"/>
                  </a:lnTo>
                  <a:lnTo>
                    <a:pt x="96521" y="21589"/>
                  </a:lnTo>
                  <a:lnTo>
                    <a:pt x="97918" y="20574"/>
                  </a:lnTo>
                  <a:lnTo>
                    <a:pt x="98934" y="19684"/>
                  </a:lnTo>
                  <a:lnTo>
                    <a:pt x="99822" y="17780"/>
                  </a:lnTo>
                  <a:lnTo>
                    <a:pt x="100331" y="15747"/>
                  </a:lnTo>
                  <a:lnTo>
                    <a:pt x="100839" y="13843"/>
                  </a:lnTo>
                  <a:lnTo>
                    <a:pt x="100331" y="11049"/>
                  </a:lnTo>
                  <a:lnTo>
                    <a:pt x="99822" y="7620"/>
                  </a:lnTo>
                  <a:lnTo>
                    <a:pt x="98425" y="4318"/>
                  </a:lnTo>
                  <a:lnTo>
                    <a:pt x="97028" y="0"/>
                  </a:lnTo>
                  <a:lnTo>
                    <a:pt x="100839" y="381"/>
                  </a:lnTo>
                  <a:lnTo>
                    <a:pt x="105156" y="1905"/>
                  </a:lnTo>
                  <a:lnTo>
                    <a:pt x="109983" y="3809"/>
                  </a:lnTo>
                  <a:lnTo>
                    <a:pt x="114681" y="6731"/>
                  </a:lnTo>
                  <a:lnTo>
                    <a:pt x="124842" y="12445"/>
                  </a:lnTo>
                  <a:lnTo>
                    <a:pt x="129668" y="15747"/>
                  </a:lnTo>
                  <a:lnTo>
                    <a:pt x="134367" y="18669"/>
                  </a:lnTo>
                  <a:lnTo>
                    <a:pt x="138684" y="20574"/>
                  </a:lnTo>
                  <a:lnTo>
                    <a:pt x="142621" y="22097"/>
                  </a:lnTo>
                  <a:lnTo>
                    <a:pt x="145924" y="22478"/>
                  </a:lnTo>
                  <a:lnTo>
                    <a:pt x="147321" y="22097"/>
                  </a:lnTo>
                  <a:lnTo>
                    <a:pt x="148337" y="21589"/>
                  </a:lnTo>
                  <a:lnTo>
                    <a:pt x="149352" y="20574"/>
                  </a:lnTo>
                  <a:lnTo>
                    <a:pt x="150242" y="19176"/>
                  </a:lnTo>
                  <a:lnTo>
                    <a:pt x="150749" y="17271"/>
                  </a:lnTo>
                  <a:lnTo>
                    <a:pt x="151258" y="15366"/>
                  </a:lnTo>
                  <a:lnTo>
                    <a:pt x="151258" y="12445"/>
                  </a:lnTo>
                  <a:lnTo>
                    <a:pt x="151258" y="9144"/>
                  </a:lnTo>
                  <a:lnTo>
                    <a:pt x="150749" y="5207"/>
                  </a:lnTo>
                  <a:lnTo>
                    <a:pt x="150242" y="889"/>
                  </a:lnTo>
                  <a:lnTo>
                    <a:pt x="154052" y="4318"/>
                  </a:lnTo>
                  <a:lnTo>
                    <a:pt x="158877" y="7112"/>
                  </a:lnTo>
                  <a:lnTo>
                    <a:pt x="168911" y="13462"/>
                  </a:lnTo>
                  <a:lnTo>
                    <a:pt x="179578" y="18669"/>
                  </a:lnTo>
                  <a:lnTo>
                    <a:pt x="189612" y="24891"/>
                  </a:lnTo>
                  <a:lnTo>
                    <a:pt x="194437" y="27813"/>
                  </a:lnTo>
                  <a:lnTo>
                    <a:pt x="198756" y="31114"/>
                  </a:lnTo>
                  <a:lnTo>
                    <a:pt x="202058" y="34544"/>
                  </a:lnTo>
                  <a:lnTo>
                    <a:pt x="204978" y="37845"/>
                  </a:lnTo>
                  <a:lnTo>
                    <a:pt x="207392" y="41782"/>
                  </a:lnTo>
                  <a:lnTo>
                    <a:pt x="208281" y="46101"/>
                  </a:lnTo>
                  <a:lnTo>
                    <a:pt x="208789" y="50419"/>
                  </a:lnTo>
                  <a:lnTo>
                    <a:pt x="207899" y="55118"/>
                  </a:lnTo>
                  <a:lnTo>
                    <a:pt x="205487" y="56133"/>
                  </a:lnTo>
                  <a:lnTo>
                    <a:pt x="202058" y="57022"/>
                  </a:lnTo>
                  <a:lnTo>
                    <a:pt x="198756" y="57531"/>
                  </a:lnTo>
                  <a:lnTo>
                    <a:pt x="194437" y="58546"/>
                  </a:lnTo>
                  <a:lnTo>
                    <a:pt x="184786" y="59436"/>
                  </a:lnTo>
                  <a:lnTo>
                    <a:pt x="173228" y="60451"/>
                  </a:lnTo>
                  <a:lnTo>
                    <a:pt x="160783" y="61340"/>
                  </a:lnTo>
                  <a:lnTo>
                    <a:pt x="147321" y="62357"/>
                  </a:lnTo>
                  <a:lnTo>
                    <a:pt x="119508" y="64770"/>
                  </a:lnTo>
                  <a:lnTo>
                    <a:pt x="105665" y="66166"/>
                  </a:lnTo>
                  <a:lnTo>
                    <a:pt x="92202" y="68071"/>
                  </a:lnTo>
                  <a:lnTo>
                    <a:pt x="79630" y="70484"/>
                  </a:lnTo>
                  <a:lnTo>
                    <a:pt x="68199" y="73406"/>
                  </a:lnTo>
                  <a:lnTo>
                    <a:pt x="63374" y="74802"/>
                  </a:lnTo>
                  <a:lnTo>
                    <a:pt x="58547" y="76707"/>
                  </a:lnTo>
                  <a:lnTo>
                    <a:pt x="54230" y="78739"/>
                  </a:lnTo>
                  <a:lnTo>
                    <a:pt x="50927" y="81026"/>
                  </a:lnTo>
                  <a:lnTo>
                    <a:pt x="47499" y="83057"/>
                  </a:lnTo>
                  <a:lnTo>
                    <a:pt x="45086" y="85851"/>
                  </a:lnTo>
                  <a:lnTo>
                    <a:pt x="43181" y="88264"/>
                  </a:lnTo>
                  <a:lnTo>
                    <a:pt x="42292" y="91694"/>
                  </a:lnTo>
                  <a:lnTo>
                    <a:pt x="38862" y="84455"/>
                  </a:lnTo>
                  <a:lnTo>
                    <a:pt x="35561" y="78739"/>
                  </a:lnTo>
                  <a:lnTo>
                    <a:pt x="31243" y="73406"/>
                  </a:lnTo>
                  <a:lnTo>
                    <a:pt x="26417" y="69088"/>
                  </a:lnTo>
                  <a:lnTo>
                    <a:pt x="21083" y="64770"/>
                  </a:lnTo>
                  <a:lnTo>
                    <a:pt x="14859" y="61340"/>
                  </a:lnTo>
                  <a:lnTo>
                    <a:pt x="8128" y="58546"/>
                  </a:lnTo>
                  <a:lnTo>
                    <a:pt x="0" y="55626"/>
                  </a:lnTo>
                  <a:close/>
                </a:path>
              </a:pathLst>
            </a:custGeom>
            <a:solidFill>
              <a:srgbClr val="719158"/>
            </a:solidFill>
            <a:ln w="0">
              <a:solidFill>
                <a:srgbClr val="71915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Freihandform 99"/>
            <p:cNvSpPr/>
            <p:nvPr/>
          </p:nvSpPr>
          <p:spPr>
            <a:xfrm>
              <a:off x="3281400" y="2714760"/>
              <a:ext cx="250560" cy="69840"/>
            </a:xfrm>
            <a:custGeom>
              <a:avLst/>
              <a:gdLst>
                <a:gd name="textAreaLeft" fmla="*/ 0 w 250560"/>
                <a:gd name="textAreaRight" fmla="*/ 250920 w 25056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204979" h="85980">
                  <a:moveTo>
                    <a:pt x="0" y="50419"/>
                  </a:moveTo>
                  <a:lnTo>
                    <a:pt x="1016" y="49530"/>
                  </a:lnTo>
                  <a:lnTo>
                    <a:pt x="2413" y="48513"/>
                  </a:lnTo>
                  <a:lnTo>
                    <a:pt x="5841" y="47117"/>
                  </a:lnTo>
                  <a:lnTo>
                    <a:pt x="10160" y="46608"/>
                  </a:lnTo>
                  <a:lnTo>
                    <a:pt x="14858" y="46608"/>
                  </a:lnTo>
                  <a:lnTo>
                    <a:pt x="25907" y="47117"/>
                  </a:lnTo>
                  <a:lnTo>
                    <a:pt x="31750" y="47117"/>
                  </a:lnTo>
                  <a:lnTo>
                    <a:pt x="36957" y="47117"/>
                  </a:lnTo>
                  <a:lnTo>
                    <a:pt x="41782" y="46608"/>
                  </a:lnTo>
                  <a:lnTo>
                    <a:pt x="45592" y="45593"/>
                  </a:lnTo>
                  <a:lnTo>
                    <a:pt x="47116" y="44704"/>
                  </a:lnTo>
                  <a:lnTo>
                    <a:pt x="48513" y="43688"/>
                  </a:lnTo>
                  <a:lnTo>
                    <a:pt x="49022" y="42290"/>
                  </a:lnTo>
                  <a:lnTo>
                    <a:pt x="49910" y="40386"/>
                  </a:lnTo>
                  <a:lnTo>
                    <a:pt x="49910" y="38481"/>
                  </a:lnTo>
                  <a:lnTo>
                    <a:pt x="49529" y="36575"/>
                  </a:lnTo>
                  <a:lnTo>
                    <a:pt x="49022" y="33655"/>
                  </a:lnTo>
                  <a:lnTo>
                    <a:pt x="47498" y="30733"/>
                  </a:lnTo>
                  <a:lnTo>
                    <a:pt x="46101" y="27432"/>
                  </a:lnTo>
                  <a:lnTo>
                    <a:pt x="43688" y="24002"/>
                  </a:lnTo>
                  <a:lnTo>
                    <a:pt x="40894" y="19684"/>
                  </a:lnTo>
                  <a:lnTo>
                    <a:pt x="37464" y="14858"/>
                  </a:lnTo>
                  <a:lnTo>
                    <a:pt x="40894" y="13969"/>
                  </a:lnTo>
                  <a:lnTo>
                    <a:pt x="45592" y="13462"/>
                  </a:lnTo>
                  <a:lnTo>
                    <a:pt x="50926" y="13969"/>
                  </a:lnTo>
                  <a:lnTo>
                    <a:pt x="56260" y="14858"/>
                  </a:lnTo>
                  <a:lnTo>
                    <a:pt x="68198" y="17780"/>
                  </a:lnTo>
                  <a:lnTo>
                    <a:pt x="73913" y="19176"/>
                  </a:lnTo>
                  <a:lnTo>
                    <a:pt x="79756" y="20700"/>
                  </a:lnTo>
                  <a:lnTo>
                    <a:pt x="84963" y="21589"/>
                  </a:lnTo>
                  <a:lnTo>
                    <a:pt x="89788" y="22098"/>
                  </a:lnTo>
                  <a:lnTo>
                    <a:pt x="93598" y="21589"/>
                  </a:lnTo>
                  <a:lnTo>
                    <a:pt x="97028" y="20193"/>
                  </a:lnTo>
                  <a:lnTo>
                    <a:pt x="97916" y="18795"/>
                  </a:lnTo>
                  <a:lnTo>
                    <a:pt x="98932" y="17271"/>
                  </a:lnTo>
                  <a:lnTo>
                    <a:pt x="99441" y="15875"/>
                  </a:lnTo>
                  <a:lnTo>
                    <a:pt x="99822" y="13462"/>
                  </a:lnTo>
                  <a:lnTo>
                    <a:pt x="99822" y="11049"/>
                  </a:lnTo>
                  <a:lnTo>
                    <a:pt x="99441" y="7746"/>
                  </a:lnTo>
                  <a:lnTo>
                    <a:pt x="98932" y="4318"/>
                  </a:lnTo>
                  <a:lnTo>
                    <a:pt x="97535" y="507"/>
                  </a:lnTo>
                  <a:lnTo>
                    <a:pt x="101345" y="507"/>
                  </a:lnTo>
                  <a:lnTo>
                    <a:pt x="105663" y="1905"/>
                  </a:lnTo>
                  <a:lnTo>
                    <a:pt x="109982" y="3937"/>
                  </a:lnTo>
                  <a:lnTo>
                    <a:pt x="114300" y="6223"/>
                  </a:lnTo>
                  <a:lnTo>
                    <a:pt x="123825" y="12064"/>
                  </a:lnTo>
                  <a:lnTo>
                    <a:pt x="128142" y="14858"/>
                  </a:lnTo>
                  <a:lnTo>
                    <a:pt x="132460" y="17271"/>
                  </a:lnTo>
                  <a:lnTo>
                    <a:pt x="136398" y="19176"/>
                  </a:lnTo>
                  <a:lnTo>
                    <a:pt x="140207" y="20193"/>
                  </a:lnTo>
                  <a:lnTo>
                    <a:pt x="143510" y="20700"/>
                  </a:lnTo>
                  <a:lnTo>
                    <a:pt x="145923" y="19684"/>
                  </a:lnTo>
                  <a:lnTo>
                    <a:pt x="146938" y="18795"/>
                  </a:lnTo>
                  <a:lnTo>
                    <a:pt x="147828" y="17271"/>
                  </a:lnTo>
                  <a:lnTo>
                    <a:pt x="148844" y="15875"/>
                  </a:lnTo>
                  <a:lnTo>
                    <a:pt x="149351" y="13462"/>
                  </a:lnTo>
                  <a:lnTo>
                    <a:pt x="149351" y="11049"/>
                  </a:lnTo>
                  <a:lnTo>
                    <a:pt x="149860" y="7746"/>
                  </a:lnTo>
                  <a:lnTo>
                    <a:pt x="149351" y="4318"/>
                  </a:lnTo>
                  <a:lnTo>
                    <a:pt x="149351" y="0"/>
                  </a:lnTo>
                  <a:lnTo>
                    <a:pt x="153161" y="2920"/>
                  </a:lnTo>
                  <a:lnTo>
                    <a:pt x="157479" y="5842"/>
                  </a:lnTo>
                  <a:lnTo>
                    <a:pt x="167132" y="11049"/>
                  </a:lnTo>
                  <a:lnTo>
                    <a:pt x="177164" y="15875"/>
                  </a:lnTo>
                  <a:lnTo>
                    <a:pt x="186816" y="20700"/>
                  </a:lnTo>
                  <a:lnTo>
                    <a:pt x="191135" y="23494"/>
                  </a:lnTo>
                  <a:lnTo>
                    <a:pt x="195453" y="26415"/>
                  </a:lnTo>
                  <a:lnTo>
                    <a:pt x="198754" y="29844"/>
                  </a:lnTo>
                  <a:lnTo>
                    <a:pt x="201676" y="33146"/>
                  </a:lnTo>
                  <a:lnTo>
                    <a:pt x="203581" y="36575"/>
                  </a:lnTo>
                  <a:lnTo>
                    <a:pt x="204470" y="40894"/>
                  </a:lnTo>
                  <a:lnTo>
                    <a:pt x="204978" y="45212"/>
                  </a:lnTo>
                  <a:lnTo>
                    <a:pt x="204088" y="49911"/>
                  </a:lnTo>
                  <a:lnTo>
                    <a:pt x="201676" y="50926"/>
                  </a:lnTo>
                  <a:lnTo>
                    <a:pt x="198247" y="51434"/>
                  </a:lnTo>
                  <a:lnTo>
                    <a:pt x="194945" y="52324"/>
                  </a:lnTo>
                  <a:lnTo>
                    <a:pt x="190626" y="52832"/>
                  </a:lnTo>
                  <a:lnTo>
                    <a:pt x="180975" y="54229"/>
                  </a:lnTo>
                  <a:lnTo>
                    <a:pt x="169417" y="55244"/>
                  </a:lnTo>
                  <a:lnTo>
                    <a:pt x="156972" y="56133"/>
                  </a:lnTo>
                  <a:lnTo>
                    <a:pt x="143510" y="57150"/>
                  </a:lnTo>
                  <a:lnTo>
                    <a:pt x="115697" y="59563"/>
                  </a:lnTo>
                  <a:lnTo>
                    <a:pt x="101854" y="60959"/>
                  </a:lnTo>
                  <a:lnTo>
                    <a:pt x="88391" y="62864"/>
                  </a:lnTo>
                  <a:lnTo>
                    <a:pt x="75819" y="65277"/>
                  </a:lnTo>
                  <a:lnTo>
                    <a:pt x="64388" y="67690"/>
                  </a:lnTo>
                  <a:lnTo>
                    <a:pt x="59563" y="69595"/>
                  </a:lnTo>
                  <a:lnTo>
                    <a:pt x="54736" y="71500"/>
                  </a:lnTo>
                  <a:lnTo>
                    <a:pt x="50419" y="73532"/>
                  </a:lnTo>
                  <a:lnTo>
                    <a:pt x="47116" y="75438"/>
                  </a:lnTo>
                  <a:lnTo>
                    <a:pt x="43688" y="77850"/>
                  </a:lnTo>
                  <a:lnTo>
                    <a:pt x="41275" y="80137"/>
                  </a:lnTo>
                  <a:lnTo>
                    <a:pt x="39370" y="83057"/>
                  </a:lnTo>
                  <a:lnTo>
                    <a:pt x="38481" y="85979"/>
                  </a:lnTo>
                  <a:lnTo>
                    <a:pt x="35051" y="79248"/>
                  </a:lnTo>
                  <a:lnTo>
                    <a:pt x="31750" y="73532"/>
                  </a:lnTo>
                  <a:lnTo>
                    <a:pt x="27939" y="68199"/>
                  </a:lnTo>
                  <a:lnTo>
                    <a:pt x="24003" y="63881"/>
                  </a:lnTo>
                  <a:lnTo>
                    <a:pt x="18795" y="60070"/>
                  </a:lnTo>
                  <a:lnTo>
                    <a:pt x="13461" y="56642"/>
                  </a:lnTo>
                  <a:lnTo>
                    <a:pt x="7238" y="53339"/>
                  </a:lnTo>
                  <a:lnTo>
                    <a:pt x="0" y="50419"/>
                  </a:lnTo>
                  <a:close/>
                </a:path>
              </a:pathLst>
            </a:custGeom>
            <a:solidFill>
              <a:srgbClr val="598446"/>
            </a:solidFill>
            <a:ln w="0">
              <a:solidFill>
                <a:srgbClr val="59844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reihandform 100"/>
            <p:cNvSpPr/>
            <p:nvPr/>
          </p:nvSpPr>
          <p:spPr>
            <a:xfrm>
              <a:off x="3284640" y="2719440"/>
              <a:ext cx="247680" cy="6480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64800"/>
                <a:gd name="textAreaBottom" fmla="*/ 65160 h 64800"/>
              </a:gdLst>
              <a:ahLst/>
              <a:rect l="textAreaLeft" t="textAreaTop" r="textAreaRight" b="textAreaBottom"/>
              <a:pathLst>
                <a:path w="201043" h="81155">
                  <a:moveTo>
                    <a:pt x="0" y="46101"/>
                  </a:moveTo>
                  <a:lnTo>
                    <a:pt x="2795" y="44196"/>
                  </a:lnTo>
                  <a:lnTo>
                    <a:pt x="6224" y="43688"/>
                  </a:lnTo>
                  <a:lnTo>
                    <a:pt x="10922" y="43181"/>
                  </a:lnTo>
                  <a:lnTo>
                    <a:pt x="15749" y="43688"/>
                  </a:lnTo>
                  <a:lnTo>
                    <a:pt x="26797" y="44196"/>
                  </a:lnTo>
                  <a:lnTo>
                    <a:pt x="32131" y="44705"/>
                  </a:lnTo>
                  <a:lnTo>
                    <a:pt x="37339" y="44705"/>
                  </a:lnTo>
                  <a:lnTo>
                    <a:pt x="42165" y="44196"/>
                  </a:lnTo>
                  <a:lnTo>
                    <a:pt x="45974" y="43181"/>
                  </a:lnTo>
                  <a:lnTo>
                    <a:pt x="48387" y="41275"/>
                  </a:lnTo>
                  <a:lnTo>
                    <a:pt x="49403" y="39879"/>
                  </a:lnTo>
                  <a:lnTo>
                    <a:pt x="50293" y="38355"/>
                  </a:lnTo>
                  <a:lnTo>
                    <a:pt x="50293" y="36450"/>
                  </a:lnTo>
                  <a:lnTo>
                    <a:pt x="50293" y="34544"/>
                  </a:lnTo>
                  <a:lnTo>
                    <a:pt x="49912" y="32132"/>
                  </a:lnTo>
                  <a:lnTo>
                    <a:pt x="48387" y="29338"/>
                  </a:lnTo>
                  <a:lnTo>
                    <a:pt x="46990" y="25908"/>
                  </a:lnTo>
                  <a:lnTo>
                    <a:pt x="45086" y="22607"/>
                  </a:lnTo>
                  <a:lnTo>
                    <a:pt x="42672" y="18669"/>
                  </a:lnTo>
                  <a:lnTo>
                    <a:pt x="39243" y="13970"/>
                  </a:lnTo>
                  <a:lnTo>
                    <a:pt x="43180" y="12955"/>
                  </a:lnTo>
                  <a:lnTo>
                    <a:pt x="47499" y="12446"/>
                  </a:lnTo>
                  <a:lnTo>
                    <a:pt x="52324" y="12955"/>
                  </a:lnTo>
                  <a:lnTo>
                    <a:pt x="57531" y="13970"/>
                  </a:lnTo>
                  <a:lnTo>
                    <a:pt x="68580" y="16764"/>
                  </a:lnTo>
                  <a:lnTo>
                    <a:pt x="79121" y="19686"/>
                  </a:lnTo>
                  <a:lnTo>
                    <a:pt x="83947" y="21082"/>
                  </a:lnTo>
                  <a:lnTo>
                    <a:pt x="88774" y="21590"/>
                  </a:lnTo>
                  <a:lnTo>
                    <a:pt x="92584" y="21082"/>
                  </a:lnTo>
                  <a:lnTo>
                    <a:pt x="95505" y="20194"/>
                  </a:lnTo>
                  <a:lnTo>
                    <a:pt x="96902" y="19177"/>
                  </a:lnTo>
                  <a:lnTo>
                    <a:pt x="97918" y="17781"/>
                  </a:lnTo>
                  <a:lnTo>
                    <a:pt x="98299" y="15875"/>
                  </a:lnTo>
                  <a:lnTo>
                    <a:pt x="98806" y="13970"/>
                  </a:lnTo>
                  <a:lnTo>
                    <a:pt x="99315" y="11557"/>
                  </a:lnTo>
                  <a:lnTo>
                    <a:pt x="99315" y="8637"/>
                  </a:lnTo>
                  <a:lnTo>
                    <a:pt x="98806" y="5334"/>
                  </a:lnTo>
                  <a:lnTo>
                    <a:pt x="97918" y="1398"/>
                  </a:lnTo>
                  <a:lnTo>
                    <a:pt x="101727" y="1906"/>
                  </a:lnTo>
                  <a:lnTo>
                    <a:pt x="105537" y="2921"/>
                  </a:lnTo>
                  <a:lnTo>
                    <a:pt x="109855" y="4319"/>
                  </a:lnTo>
                  <a:lnTo>
                    <a:pt x="114174" y="6732"/>
                  </a:lnTo>
                  <a:lnTo>
                    <a:pt x="122302" y="12065"/>
                  </a:lnTo>
                  <a:lnTo>
                    <a:pt x="126620" y="14351"/>
                  </a:lnTo>
                  <a:lnTo>
                    <a:pt x="130556" y="16764"/>
                  </a:lnTo>
                  <a:lnTo>
                    <a:pt x="134367" y="18288"/>
                  </a:lnTo>
                  <a:lnTo>
                    <a:pt x="137668" y="19177"/>
                  </a:lnTo>
                  <a:lnTo>
                    <a:pt x="141097" y="19686"/>
                  </a:lnTo>
                  <a:lnTo>
                    <a:pt x="143511" y="18669"/>
                  </a:lnTo>
                  <a:lnTo>
                    <a:pt x="145415" y="16383"/>
                  </a:lnTo>
                  <a:lnTo>
                    <a:pt x="146305" y="14351"/>
                  </a:lnTo>
                  <a:lnTo>
                    <a:pt x="147321" y="12446"/>
                  </a:lnTo>
                  <a:lnTo>
                    <a:pt x="147828" y="10033"/>
                  </a:lnTo>
                  <a:lnTo>
                    <a:pt x="147828" y="7239"/>
                  </a:lnTo>
                  <a:lnTo>
                    <a:pt x="148209" y="3811"/>
                  </a:lnTo>
                  <a:lnTo>
                    <a:pt x="148209" y="0"/>
                  </a:lnTo>
                  <a:lnTo>
                    <a:pt x="151639" y="2413"/>
                  </a:lnTo>
                  <a:lnTo>
                    <a:pt x="155956" y="4826"/>
                  </a:lnTo>
                  <a:lnTo>
                    <a:pt x="164593" y="9144"/>
                  </a:lnTo>
                  <a:lnTo>
                    <a:pt x="174245" y="13463"/>
                  </a:lnTo>
                  <a:lnTo>
                    <a:pt x="183770" y="17781"/>
                  </a:lnTo>
                  <a:lnTo>
                    <a:pt x="188087" y="20194"/>
                  </a:lnTo>
                  <a:lnTo>
                    <a:pt x="191897" y="22607"/>
                  </a:lnTo>
                  <a:lnTo>
                    <a:pt x="195327" y="25400"/>
                  </a:lnTo>
                  <a:lnTo>
                    <a:pt x="197740" y="28830"/>
                  </a:lnTo>
                  <a:lnTo>
                    <a:pt x="199645" y="32132"/>
                  </a:lnTo>
                  <a:lnTo>
                    <a:pt x="201042" y="36069"/>
                  </a:lnTo>
                  <a:lnTo>
                    <a:pt x="201042" y="40387"/>
                  </a:lnTo>
                  <a:lnTo>
                    <a:pt x="200152" y="45086"/>
                  </a:lnTo>
                  <a:lnTo>
                    <a:pt x="197740" y="46101"/>
                  </a:lnTo>
                  <a:lnTo>
                    <a:pt x="194311" y="46990"/>
                  </a:lnTo>
                  <a:lnTo>
                    <a:pt x="191009" y="47499"/>
                  </a:lnTo>
                  <a:lnTo>
                    <a:pt x="186690" y="48007"/>
                  </a:lnTo>
                  <a:lnTo>
                    <a:pt x="177039" y="49404"/>
                  </a:lnTo>
                  <a:lnTo>
                    <a:pt x="165481" y="50419"/>
                  </a:lnTo>
                  <a:lnTo>
                    <a:pt x="153036" y="51308"/>
                  </a:lnTo>
                  <a:lnTo>
                    <a:pt x="139574" y="52325"/>
                  </a:lnTo>
                  <a:lnTo>
                    <a:pt x="111761" y="54738"/>
                  </a:lnTo>
                  <a:lnTo>
                    <a:pt x="97918" y="56134"/>
                  </a:lnTo>
                  <a:lnTo>
                    <a:pt x="84455" y="58039"/>
                  </a:lnTo>
                  <a:lnTo>
                    <a:pt x="71883" y="60452"/>
                  </a:lnTo>
                  <a:lnTo>
                    <a:pt x="60452" y="63374"/>
                  </a:lnTo>
                  <a:lnTo>
                    <a:pt x="55627" y="64770"/>
                  </a:lnTo>
                  <a:lnTo>
                    <a:pt x="50800" y="66675"/>
                  </a:lnTo>
                  <a:lnTo>
                    <a:pt x="46483" y="68707"/>
                  </a:lnTo>
                  <a:lnTo>
                    <a:pt x="43180" y="70613"/>
                  </a:lnTo>
                  <a:lnTo>
                    <a:pt x="39752" y="73025"/>
                  </a:lnTo>
                  <a:lnTo>
                    <a:pt x="37339" y="75312"/>
                  </a:lnTo>
                  <a:lnTo>
                    <a:pt x="35434" y="78232"/>
                  </a:lnTo>
                  <a:lnTo>
                    <a:pt x="34545" y="81154"/>
                  </a:lnTo>
                  <a:lnTo>
                    <a:pt x="31115" y="74423"/>
                  </a:lnTo>
                  <a:lnTo>
                    <a:pt x="28321" y="68707"/>
                  </a:lnTo>
                  <a:lnTo>
                    <a:pt x="24893" y="63882"/>
                  </a:lnTo>
                  <a:lnTo>
                    <a:pt x="21083" y="59563"/>
                  </a:lnTo>
                  <a:lnTo>
                    <a:pt x="16765" y="55754"/>
                  </a:lnTo>
                  <a:lnTo>
                    <a:pt x="11939" y="52325"/>
                  </a:lnTo>
                  <a:lnTo>
                    <a:pt x="6224" y="49023"/>
                  </a:lnTo>
                  <a:lnTo>
                    <a:pt x="0" y="46101"/>
                  </a:lnTo>
                  <a:close/>
                </a:path>
              </a:pathLst>
            </a:custGeom>
            <a:solidFill>
              <a:srgbClr val="417a33"/>
            </a:solidFill>
            <a:ln w="0">
              <a:solidFill>
                <a:srgbClr val="417a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Freihandform 101"/>
            <p:cNvSpPr/>
            <p:nvPr/>
          </p:nvSpPr>
          <p:spPr>
            <a:xfrm>
              <a:off x="3291120" y="2722680"/>
              <a:ext cx="241200" cy="63360"/>
            </a:xfrm>
            <a:custGeom>
              <a:avLst/>
              <a:gdLst>
                <a:gd name="textAreaLeft" fmla="*/ 0 w 241200"/>
                <a:gd name="textAreaRight" fmla="*/ 241560 w 2412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197232" h="76837">
                  <a:moveTo>
                    <a:pt x="0" y="41275"/>
                  </a:moveTo>
                  <a:lnTo>
                    <a:pt x="2794" y="40260"/>
                  </a:lnTo>
                  <a:lnTo>
                    <a:pt x="7111" y="39879"/>
                  </a:lnTo>
                  <a:lnTo>
                    <a:pt x="11429" y="39879"/>
                  </a:lnTo>
                  <a:lnTo>
                    <a:pt x="16763" y="40260"/>
                  </a:lnTo>
                  <a:lnTo>
                    <a:pt x="27813" y="41783"/>
                  </a:lnTo>
                  <a:lnTo>
                    <a:pt x="33147" y="42164"/>
                  </a:lnTo>
                  <a:lnTo>
                    <a:pt x="37845" y="42164"/>
                  </a:lnTo>
                  <a:lnTo>
                    <a:pt x="42672" y="41783"/>
                  </a:lnTo>
                  <a:lnTo>
                    <a:pt x="46101" y="41275"/>
                  </a:lnTo>
                  <a:lnTo>
                    <a:pt x="48894" y="39370"/>
                  </a:lnTo>
                  <a:lnTo>
                    <a:pt x="49910" y="37847"/>
                  </a:lnTo>
                  <a:lnTo>
                    <a:pt x="50800" y="36449"/>
                  </a:lnTo>
                  <a:lnTo>
                    <a:pt x="50800" y="35053"/>
                  </a:lnTo>
                  <a:lnTo>
                    <a:pt x="50800" y="33148"/>
                  </a:lnTo>
                  <a:lnTo>
                    <a:pt x="50419" y="30735"/>
                  </a:lnTo>
                  <a:lnTo>
                    <a:pt x="49910" y="27813"/>
                  </a:lnTo>
                  <a:lnTo>
                    <a:pt x="48513" y="24893"/>
                  </a:lnTo>
                  <a:lnTo>
                    <a:pt x="46482" y="21591"/>
                  </a:lnTo>
                  <a:lnTo>
                    <a:pt x="44576" y="17781"/>
                  </a:lnTo>
                  <a:lnTo>
                    <a:pt x="41782" y="13462"/>
                  </a:lnTo>
                  <a:lnTo>
                    <a:pt x="45592" y="11938"/>
                  </a:lnTo>
                  <a:lnTo>
                    <a:pt x="49403" y="11557"/>
                  </a:lnTo>
                  <a:lnTo>
                    <a:pt x="54229" y="11938"/>
                  </a:lnTo>
                  <a:lnTo>
                    <a:pt x="59054" y="12955"/>
                  </a:lnTo>
                  <a:lnTo>
                    <a:pt x="69088" y="16256"/>
                  </a:lnTo>
                  <a:lnTo>
                    <a:pt x="79120" y="19178"/>
                  </a:lnTo>
                  <a:lnTo>
                    <a:pt x="83438" y="20574"/>
                  </a:lnTo>
                  <a:lnTo>
                    <a:pt x="87757" y="21082"/>
                  </a:lnTo>
                  <a:lnTo>
                    <a:pt x="91694" y="21082"/>
                  </a:lnTo>
                  <a:lnTo>
                    <a:pt x="94488" y="20193"/>
                  </a:lnTo>
                  <a:lnTo>
                    <a:pt x="96901" y="18288"/>
                  </a:lnTo>
                  <a:lnTo>
                    <a:pt x="97916" y="16256"/>
                  </a:lnTo>
                  <a:lnTo>
                    <a:pt x="98425" y="14351"/>
                  </a:lnTo>
                  <a:lnTo>
                    <a:pt x="98806" y="12447"/>
                  </a:lnTo>
                  <a:lnTo>
                    <a:pt x="98806" y="9525"/>
                  </a:lnTo>
                  <a:lnTo>
                    <a:pt x="98806" y="6224"/>
                  </a:lnTo>
                  <a:lnTo>
                    <a:pt x="98425" y="2922"/>
                  </a:lnTo>
                  <a:lnTo>
                    <a:pt x="102235" y="2922"/>
                  </a:lnTo>
                  <a:lnTo>
                    <a:pt x="106044" y="3811"/>
                  </a:lnTo>
                  <a:lnTo>
                    <a:pt x="109854" y="5207"/>
                  </a:lnTo>
                  <a:lnTo>
                    <a:pt x="113791" y="7620"/>
                  </a:lnTo>
                  <a:lnTo>
                    <a:pt x="121411" y="11938"/>
                  </a:lnTo>
                  <a:lnTo>
                    <a:pt x="129032" y="16256"/>
                  </a:lnTo>
                  <a:lnTo>
                    <a:pt x="132460" y="17781"/>
                  </a:lnTo>
                  <a:lnTo>
                    <a:pt x="135763" y="18669"/>
                  </a:lnTo>
                  <a:lnTo>
                    <a:pt x="138684" y="18669"/>
                  </a:lnTo>
                  <a:lnTo>
                    <a:pt x="141097" y="17781"/>
                  </a:lnTo>
                  <a:lnTo>
                    <a:pt x="143510" y="15368"/>
                  </a:lnTo>
                  <a:lnTo>
                    <a:pt x="144907" y="11938"/>
                  </a:lnTo>
                  <a:lnTo>
                    <a:pt x="145923" y="9525"/>
                  </a:lnTo>
                  <a:lnTo>
                    <a:pt x="146431" y="6731"/>
                  </a:lnTo>
                  <a:lnTo>
                    <a:pt x="146811" y="3303"/>
                  </a:lnTo>
                  <a:lnTo>
                    <a:pt x="147319" y="0"/>
                  </a:lnTo>
                  <a:lnTo>
                    <a:pt x="150748" y="1906"/>
                  </a:lnTo>
                  <a:lnTo>
                    <a:pt x="154051" y="4318"/>
                  </a:lnTo>
                  <a:lnTo>
                    <a:pt x="162686" y="7620"/>
                  </a:lnTo>
                  <a:lnTo>
                    <a:pt x="171831" y="11049"/>
                  </a:lnTo>
                  <a:lnTo>
                    <a:pt x="180466" y="14860"/>
                  </a:lnTo>
                  <a:lnTo>
                    <a:pt x="184785" y="16764"/>
                  </a:lnTo>
                  <a:lnTo>
                    <a:pt x="188594" y="19178"/>
                  </a:lnTo>
                  <a:lnTo>
                    <a:pt x="191516" y="21591"/>
                  </a:lnTo>
                  <a:lnTo>
                    <a:pt x="194310" y="24512"/>
                  </a:lnTo>
                  <a:lnTo>
                    <a:pt x="195834" y="27813"/>
                  </a:lnTo>
                  <a:lnTo>
                    <a:pt x="197231" y="31624"/>
                  </a:lnTo>
                  <a:lnTo>
                    <a:pt x="197231" y="35561"/>
                  </a:lnTo>
                  <a:lnTo>
                    <a:pt x="196341" y="40260"/>
                  </a:lnTo>
                  <a:lnTo>
                    <a:pt x="193929" y="41275"/>
                  </a:lnTo>
                  <a:lnTo>
                    <a:pt x="190500" y="42164"/>
                  </a:lnTo>
                  <a:lnTo>
                    <a:pt x="187198" y="42673"/>
                  </a:lnTo>
                  <a:lnTo>
                    <a:pt x="182879" y="43688"/>
                  </a:lnTo>
                  <a:lnTo>
                    <a:pt x="173228" y="44578"/>
                  </a:lnTo>
                  <a:lnTo>
                    <a:pt x="161670" y="45593"/>
                  </a:lnTo>
                  <a:lnTo>
                    <a:pt x="149225" y="46482"/>
                  </a:lnTo>
                  <a:lnTo>
                    <a:pt x="135763" y="47499"/>
                  </a:lnTo>
                  <a:lnTo>
                    <a:pt x="107950" y="49912"/>
                  </a:lnTo>
                  <a:lnTo>
                    <a:pt x="94107" y="51308"/>
                  </a:lnTo>
                  <a:lnTo>
                    <a:pt x="80644" y="53213"/>
                  </a:lnTo>
                  <a:lnTo>
                    <a:pt x="68072" y="55626"/>
                  </a:lnTo>
                  <a:lnTo>
                    <a:pt x="56641" y="58548"/>
                  </a:lnTo>
                  <a:lnTo>
                    <a:pt x="51816" y="59944"/>
                  </a:lnTo>
                  <a:lnTo>
                    <a:pt x="46989" y="61849"/>
                  </a:lnTo>
                  <a:lnTo>
                    <a:pt x="42672" y="63881"/>
                  </a:lnTo>
                  <a:lnTo>
                    <a:pt x="39369" y="66168"/>
                  </a:lnTo>
                  <a:lnTo>
                    <a:pt x="35941" y="68199"/>
                  </a:lnTo>
                  <a:lnTo>
                    <a:pt x="33528" y="70993"/>
                  </a:lnTo>
                  <a:lnTo>
                    <a:pt x="31623" y="73406"/>
                  </a:lnTo>
                  <a:lnTo>
                    <a:pt x="30734" y="76836"/>
                  </a:lnTo>
                  <a:lnTo>
                    <a:pt x="27813" y="69597"/>
                  </a:lnTo>
                  <a:lnTo>
                    <a:pt x="24510" y="64262"/>
                  </a:lnTo>
                  <a:lnTo>
                    <a:pt x="21589" y="59056"/>
                  </a:lnTo>
                  <a:lnTo>
                    <a:pt x="18160" y="55245"/>
                  </a:lnTo>
                  <a:lnTo>
                    <a:pt x="14859" y="51308"/>
                  </a:lnTo>
                  <a:lnTo>
                    <a:pt x="10541" y="48006"/>
                  </a:lnTo>
                  <a:lnTo>
                    <a:pt x="5714" y="44578"/>
                  </a:lnTo>
                  <a:lnTo>
                    <a:pt x="0" y="41275"/>
                  </a:lnTo>
                  <a:close/>
                </a:path>
              </a:pathLst>
            </a:custGeom>
            <a:solidFill>
              <a:srgbClr val="2a6e20"/>
            </a:solidFill>
            <a:ln w="0">
              <a:solidFill>
                <a:srgbClr val="2a6e2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Freihandform 102"/>
            <p:cNvSpPr/>
            <p:nvPr/>
          </p:nvSpPr>
          <p:spPr>
            <a:xfrm>
              <a:off x="3294360" y="2727360"/>
              <a:ext cx="237960" cy="58680"/>
            </a:xfrm>
            <a:custGeom>
              <a:avLst/>
              <a:gdLst>
                <a:gd name="textAreaLeft" fmla="*/ 0 w 237960"/>
                <a:gd name="textAreaRight" fmla="*/ 238320 w 23796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193422" h="72519">
                  <a:moveTo>
                    <a:pt x="0" y="37465"/>
                  </a:moveTo>
                  <a:lnTo>
                    <a:pt x="3301" y="36957"/>
                  </a:lnTo>
                  <a:lnTo>
                    <a:pt x="7619" y="36957"/>
                  </a:lnTo>
                  <a:lnTo>
                    <a:pt x="12446" y="36957"/>
                  </a:lnTo>
                  <a:lnTo>
                    <a:pt x="17779" y="37846"/>
                  </a:lnTo>
                  <a:lnTo>
                    <a:pt x="28321" y="39370"/>
                  </a:lnTo>
                  <a:lnTo>
                    <a:pt x="33654" y="39879"/>
                  </a:lnTo>
                  <a:lnTo>
                    <a:pt x="38862" y="40260"/>
                  </a:lnTo>
                  <a:lnTo>
                    <a:pt x="43179" y="39879"/>
                  </a:lnTo>
                  <a:lnTo>
                    <a:pt x="46609" y="39370"/>
                  </a:lnTo>
                  <a:lnTo>
                    <a:pt x="49403" y="37465"/>
                  </a:lnTo>
                  <a:lnTo>
                    <a:pt x="50419" y="36450"/>
                  </a:lnTo>
                  <a:lnTo>
                    <a:pt x="51307" y="35052"/>
                  </a:lnTo>
                  <a:lnTo>
                    <a:pt x="51816" y="33529"/>
                  </a:lnTo>
                  <a:lnTo>
                    <a:pt x="51816" y="31624"/>
                  </a:lnTo>
                  <a:lnTo>
                    <a:pt x="51307" y="29211"/>
                  </a:lnTo>
                  <a:lnTo>
                    <a:pt x="50926" y="26925"/>
                  </a:lnTo>
                  <a:lnTo>
                    <a:pt x="49910" y="24004"/>
                  </a:lnTo>
                  <a:lnTo>
                    <a:pt x="48513" y="20575"/>
                  </a:lnTo>
                  <a:lnTo>
                    <a:pt x="46609" y="16764"/>
                  </a:lnTo>
                  <a:lnTo>
                    <a:pt x="44196" y="12955"/>
                  </a:lnTo>
                  <a:lnTo>
                    <a:pt x="48006" y="11557"/>
                  </a:lnTo>
                  <a:lnTo>
                    <a:pt x="51816" y="11050"/>
                  </a:lnTo>
                  <a:lnTo>
                    <a:pt x="56134" y="11557"/>
                  </a:lnTo>
                  <a:lnTo>
                    <a:pt x="60451" y="12446"/>
                  </a:lnTo>
                  <a:lnTo>
                    <a:pt x="69596" y="15875"/>
                  </a:lnTo>
                  <a:lnTo>
                    <a:pt x="78740" y="19177"/>
                  </a:lnTo>
                  <a:lnTo>
                    <a:pt x="83057" y="20575"/>
                  </a:lnTo>
                  <a:lnTo>
                    <a:pt x="86868" y="21590"/>
                  </a:lnTo>
                  <a:lnTo>
                    <a:pt x="90678" y="21590"/>
                  </a:lnTo>
                  <a:lnTo>
                    <a:pt x="93599" y="20575"/>
                  </a:lnTo>
                  <a:lnTo>
                    <a:pt x="96012" y="18669"/>
                  </a:lnTo>
                  <a:lnTo>
                    <a:pt x="96900" y="17273"/>
                  </a:lnTo>
                  <a:lnTo>
                    <a:pt x="97916" y="15368"/>
                  </a:lnTo>
                  <a:lnTo>
                    <a:pt x="98425" y="13463"/>
                  </a:lnTo>
                  <a:lnTo>
                    <a:pt x="98932" y="11050"/>
                  </a:lnTo>
                  <a:lnTo>
                    <a:pt x="98932" y="7620"/>
                  </a:lnTo>
                  <a:lnTo>
                    <a:pt x="98932" y="4319"/>
                  </a:lnTo>
                  <a:lnTo>
                    <a:pt x="102743" y="4319"/>
                  </a:lnTo>
                  <a:lnTo>
                    <a:pt x="106044" y="5207"/>
                  </a:lnTo>
                  <a:lnTo>
                    <a:pt x="113284" y="8637"/>
                  </a:lnTo>
                  <a:lnTo>
                    <a:pt x="120522" y="12446"/>
                  </a:lnTo>
                  <a:lnTo>
                    <a:pt x="127253" y="16256"/>
                  </a:lnTo>
                  <a:lnTo>
                    <a:pt x="130556" y="17273"/>
                  </a:lnTo>
                  <a:lnTo>
                    <a:pt x="133476" y="18288"/>
                  </a:lnTo>
                  <a:lnTo>
                    <a:pt x="136271" y="17781"/>
                  </a:lnTo>
                  <a:lnTo>
                    <a:pt x="138684" y="16764"/>
                  </a:lnTo>
                  <a:lnTo>
                    <a:pt x="141097" y="14860"/>
                  </a:lnTo>
                  <a:lnTo>
                    <a:pt x="143001" y="11557"/>
                  </a:lnTo>
                  <a:lnTo>
                    <a:pt x="144906" y="6731"/>
                  </a:lnTo>
                  <a:lnTo>
                    <a:pt x="146431" y="0"/>
                  </a:lnTo>
                  <a:lnTo>
                    <a:pt x="149225" y="1906"/>
                  </a:lnTo>
                  <a:lnTo>
                    <a:pt x="152653" y="3811"/>
                  </a:lnTo>
                  <a:lnTo>
                    <a:pt x="160781" y="6731"/>
                  </a:lnTo>
                  <a:lnTo>
                    <a:pt x="169418" y="9144"/>
                  </a:lnTo>
                  <a:lnTo>
                    <a:pt x="177546" y="11938"/>
                  </a:lnTo>
                  <a:lnTo>
                    <a:pt x="181482" y="13970"/>
                  </a:lnTo>
                  <a:lnTo>
                    <a:pt x="185293" y="15875"/>
                  </a:lnTo>
                  <a:lnTo>
                    <a:pt x="188213" y="18288"/>
                  </a:lnTo>
                  <a:lnTo>
                    <a:pt x="190500" y="20575"/>
                  </a:lnTo>
                  <a:lnTo>
                    <a:pt x="192531" y="24004"/>
                  </a:lnTo>
                  <a:lnTo>
                    <a:pt x="193421" y="27306"/>
                  </a:lnTo>
                  <a:lnTo>
                    <a:pt x="193421" y="31624"/>
                  </a:lnTo>
                  <a:lnTo>
                    <a:pt x="192531" y="36450"/>
                  </a:lnTo>
                  <a:lnTo>
                    <a:pt x="190119" y="36957"/>
                  </a:lnTo>
                  <a:lnTo>
                    <a:pt x="187197" y="37846"/>
                  </a:lnTo>
                  <a:lnTo>
                    <a:pt x="183388" y="38863"/>
                  </a:lnTo>
                  <a:lnTo>
                    <a:pt x="179069" y="39370"/>
                  </a:lnTo>
                  <a:lnTo>
                    <a:pt x="169418" y="40260"/>
                  </a:lnTo>
                  <a:lnTo>
                    <a:pt x="158369" y="41275"/>
                  </a:lnTo>
                  <a:lnTo>
                    <a:pt x="145415" y="42164"/>
                  </a:lnTo>
                  <a:lnTo>
                    <a:pt x="131953" y="43181"/>
                  </a:lnTo>
                  <a:lnTo>
                    <a:pt x="104140" y="45594"/>
                  </a:lnTo>
                  <a:lnTo>
                    <a:pt x="90297" y="46990"/>
                  </a:lnTo>
                  <a:lnTo>
                    <a:pt x="76834" y="48895"/>
                  </a:lnTo>
                  <a:lnTo>
                    <a:pt x="64262" y="51308"/>
                  </a:lnTo>
                  <a:lnTo>
                    <a:pt x="52831" y="54230"/>
                  </a:lnTo>
                  <a:lnTo>
                    <a:pt x="48006" y="55626"/>
                  </a:lnTo>
                  <a:lnTo>
                    <a:pt x="43179" y="57531"/>
                  </a:lnTo>
                  <a:lnTo>
                    <a:pt x="38862" y="59563"/>
                  </a:lnTo>
                  <a:lnTo>
                    <a:pt x="35559" y="61850"/>
                  </a:lnTo>
                  <a:lnTo>
                    <a:pt x="32131" y="64263"/>
                  </a:lnTo>
                  <a:lnTo>
                    <a:pt x="29718" y="66675"/>
                  </a:lnTo>
                  <a:lnTo>
                    <a:pt x="27813" y="69596"/>
                  </a:lnTo>
                  <a:lnTo>
                    <a:pt x="26924" y="72518"/>
                  </a:lnTo>
                  <a:lnTo>
                    <a:pt x="24003" y="65787"/>
                  </a:lnTo>
                  <a:lnTo>
                    <a:pt x="21081" y="59944"/>
                  </a:lnTo>
                  <a:lnTo>
                    <a:pt x="18669" y="55245"/>
                  </a:lnTo>
                  <a:lnTo>
                    <a:pt x="15875" y="51308"/>
                  </a:lnTo>
                  <a:lnTo>
                    <a:pt x="12446" y="47499"/>
                  </a:lnTo>
                  <a:lnTo>
                    <a:pt x="9144" y="44196"/>
                  </a:lnTo>
                  <a:lnTo>
                    <a:pt x="4825" y="40768"/>
                  </a:lnTo>
                  <a:lnTo>
                    <a:pt x="0" y="37465"/>
                  </a:lnTo>
                  <a:close/>
                </a:path>
              </a:pathLst>
            </a:custGeom>
            <a:solidFill>
              <a:srgbClr val="11610d"/>
            </a:solidFill>
            <a:ln w="0">
              <a:solidFill>
                <a:srgbClr val="11610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Freihandform 103"/>
            <p:cNvSpPr/>
            <p:nvPr/>
          </p:nvSpPr>
          <p:spPr>
            <a:xfrm>
              <a:off x="3299040" y="2730600"/>
              <a:ext cx="233280" cy="53640"/>
            </a:xfrm>
            <a:custGeom>
              <a:avLst/>
              <a:gdLst>
                <a:gd name="textAreaLeft" fmla="*/ 0 w 233280"/>
                <a:gd name="textAreaRight" fmla="*/ 233640 w 23328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189613" h="67692">
                  <a:moveTo>
                    <a:pt x="0" y="33146"/>
                  </a:moveTo>
                  <a:lnTo>
                    <a:pt x="3810" y="33146"/>
                  </a:lnTo>
                  <a:lnTo>
                    <a:pt x="8637" y="33146"/>
                  </a:lnTo>
                  <a:lnTo>
                    <a:pt x="13463" y="34036"/>
                  </a:lnTo>
                  <a:lnTo>
                    <a:pt x="18797" y="34544"/>
                  </a:lnTo>
                  <a:lnTo>
                    <a:pt x="29338" y="36449"/>
                  </a:lnTo>
                  <a:lnTo>
                    <a:pt x="34544" y="37464"/>
                  </a:lnTo>
                  <a:lnTo>
                    <a:pt x="39370" y="37845"/>
                  </a:lnTo>
                  <a:lnTo>
                    <a:pt x="43181" y="37845"/>
                  </a:lnTo>
                  <a:lnTo>
                    <a:pt x="47117" y="36956"/>
                  </a:lnTo>
                  <a:lnTo>
                    <a:pt x="49912" y="35560"/>
                  </a:lnTo>
                  <a:lnTo>
                    <a:pt x="51816" y="33146"/>
                  </a:lnTo>
                  <a:lnTo>
                    <a:pt x="52325" y="31623"/>
                  </a:lnTo>
                  <a:lnTo>
                    <a:pt x="52325" y="29718"/>
                  </a:lnTo>
                  <a:lnTo>
                    <a:pt x="52325" y="27812"/>
                  </a:lnTo>
                  <a:lnTo>
                    <a:pt x="51816" y="25400"/>
                  </a:lnTo>
                  <a:lnTo>
                    <a:pt x="50928" y="22606"/>
                  </a:lnTo>
                  <a:lnTo>
                    <a:pt x="49912" y="19176"/>
                  </a:lnTo>
                  <a:lnTo>
                    <a:pt x="48515" y="15875"/>
                  </a:lnTo>
                  <a:lnTo>
                    <a:pt x="46610" y="11937"/>
                  </a:lnTo>
                  <a:lnTo>
                    <a:pt x="49912" y="10541"/>
                  </a:lnTo>
                  <a:lnTo>
                    <a:pt x="53848" y="10032"/>
                  </a:lnTo>
                  <a:lnTo>
                    <a:pt x="57659" y="10541"/>
                  </a:lnTo>
                  <a:lnTo>
                    <a:pt x="61976" y="11937"/>
                  </a:lnTo>
                  <a:lnTo>
                    <a:pt x="70613" y="15367"/>
                  </a:lnTo>
                  <a:lnTo>
                    <a:pt x="78741" y="18669"/>
                  </a:lnTo>
                  <a:lnTo>
                    <a:pt x="82550" y="20193"/>
                  </a:lnTo>
                  <a:lnTo>
                    <a:pt x="85979" y="21081"/>
                  </a:lnTo>
                  <a:lnTo>
                    <a:pt x="89282" y="21589"/>
                  </a:lnTo>
                  <a:lnTo>
                    <a:pt x="92710" y="20574"/>
                  </a:lnTo>
                  <a:lnTo>
                    <a:pt x="95123" y="19176"/>
                  </a:lnTo>
                  <a:lnTo>
                    <a:pt x="97029" y="16256"/>
                  </a:lnTo>
                  <a:lnTo>
                    <a:pt x="97917" y="13969"/>
                  </a:lnTo>
                  <a:lnTo>
                    <a:pt x="98425" y="11556"/>
                  </a:lnTo>
                  <a:lnTo>
                    <a:pt x="98934" y="9144"/>
                  </a:lnTo>
                  <a:lnTo>
                    <a:pt x="99441" y="5714"/>
                  </a:lnTo>
                  <a:lnTo>
                    <a:pt x="102744" y="5714"/>
                  </a:lnTo>
                  <a:lnTo>
                    <a:pt x="106554" y="6223"/>
                  </a:lnTo>
                  <a:lnTo>
                    <a:pt x="113285" y="9144"/>
                  </a:lnTo>
                  <a:lnTo>
                    <a:pt x="119507" y="12445"/>
                  </a:lnTo>
                  <a:lnTo>
                    <a:pt x="125731" y="15875"/>
                  </a:lnTo>
                  <a:lnTo>
                    <a:pt x="128651" y="16763"/>
                  </a:lnTo>
                  <a:lnTo>
                    <a:pt x="131065" y="17271"/>
                  </a:lnTo>
                  <a:lnTo>
                    <a:pt x="133985" y="16763"/>
                  </a:lnTo>
                  <a:lnTo>
                    <a:pt x="136398" y="15875"/>
                  </a:lnTo>
                  <a:lnTo>
                    <a:pt x="138812" y="13969"/>
                  </a:lnTo>
                  <a:lnTo>
                    <a:pt x="141097" y="10541"/>
                  </a:lnTo>
                  <a:lnTo>
                    <a:pt x="143510" y="6223"/>
                  </a:lnTo>
                  <a:lnTo>
                    <a:pt x="145416" y="0"/>
                  </a:lnTo>
                  <a:lnTo>
                    <a:pt x="147829" y="1396"/>
                  </a:lnTo>
                  <a:lnTo>
                    <a:pt x="151257" y="2920"/>
                  </a:lnTo>
                  <a:lnTo>
                    <a:pt x="158497" y="5206"/>
                  </a:lnTo>
                  <a:lnTo>
                    <a:pt x="166625" y="7238"/>
                  </a:lnTo>
                  <a:lnTo>
                    <a:pt x="174753" y="9144"/>
                  </a:lnTo>
                  <a:lnTo>
                    <a:pt x="178563" y="10541"/>
                  </a:lnTo>
                  <a:lnTo>
                    <a:pt x="181991" y="11937"/>
                  </a:lnTo>
                  <a:lnTo>
                    <a:pt x="184785" y="13969"/>
                  </a:lnTo>
                  <a:lnTo>
                    <a:pt x="187198" y="16256"/>
                  </a:lnTo>
                  <a:lnTo>
                    <a:pt x="188722" y="19176"/>
                  </a:lnTo>
                  <a:lnTo>
                    <a:pt x="189612" y="22987"/>
                  </a:lnTo>
                  <a:lnTo>
                    <a:pt x="189612" y="26924"/>
                  </a:lnTo>
                  <a:lnTo>
                    <a:pt x="188722" y="31623"/>
                  </a:lnTo>
                  <a:lnTo>
                    <a:pt x="186310" y="32638"/>
                  </a:lnTo>
                  <a:lnTo>
                    <a:pt x="183388" y="33146"/>
                  </a:lnTo>
                  <a:lnTo>
                    <a:pt x="179579" y="34036"/>
                  </a:lnTo>
                  <a:lnTo>
                    <a:pt x="175260" y="34544"/>
                  </a:lnTo>
                  <a:lnTo>
                    <a:pt x="165609" y="35941"/>
                  </a:lnTo>
                  <a:lnTo>
                    <a:pt x="154560" y="36956"/>
                  </a:lnTo>
                  <a:lnTo>
                    <a:pt x="141606" y="37845"/>
                  </a:lnTo>
                  <a:lnTo>
                    <a:pt x="128144" y="38862"/>
                  </a:lnTo>
                  <a:lnTo>
                    <a:pt x="100331" y="40767"/>
                  </a:lnTo>
                  <a:lnTo>
                    <a:pt x="86488" y="42671"/>
                  </a:lnTo>
                  <a:lnTo>
                    <a:pt x="73025" y="44576"/>
                  </a:lnTo>
                  <a:lnTo>
                    <a:pt x="60453" y="46608"/>
                  </a:lnTo>
                  <a:lnTo>
                    <a:pt x="49022" y="49402"/>
                  </a:lnTo>
                  <a:lnTo>
                    <a:pt x="44197" y="51307"/>
                  </a:lnTo>
                  <a:lnTo>
                    <a:pt x="39370" y="52831"/>
                  </a:lnTo>
                  <a:lnTo>
                    <a:pt x="35053" y="55244"/>
                  </a:lnTo>
                  <a:lnTo>
                    <a:pt x="31750" y="57150"/>
                  </a:lnTo>
                  <a:lnTo>
                    <a:pt x="28322" y="59562"/>
                  </a:lnTo>
                  <a:lnTo>
                    <a:pt x="25909" y="61849"/>
                  </a:lnTo>
                  <a:lnTo>
                    <a:pt x="24004" y="64769"/>
                  </a:lnTo>
                  <a:lnTo>
                    <a:pt x="23115" y="67691"/>
                  </a:lnTo>
                  <a:lnTo>
                    <a:pt x="20194" y="60960"/>
                  </a:lnTo>
                  <a:lnTo>
                    <a:pt x="17781" y="55244"/>
                  </a:lnTo>
                  <a:lnTo>
                    <a:pt x="15367" y="50926"/>
                  </a:lnTo>
                  <a:lnTo>
                    <a:pt x="12954" y="46989"/>
                  </a:lnTo>
                  <a:lnTo>
                    <a:pt x="10541" y="43180"/>
                  </a:lnTo>
                  <a:lnTo>
                    <a:pt x="7747" y="40258"/>
                  </a:lnTo>
                  <a:lnTo>
                    <a:pt x="4319" y="36956"/>
                  </a:lnTo>
                  <a:lnTo>
                    <a:pt x="0" y="33146"/>
                  </a:lnTo>
                  <a:close/>
                </a:path>
              </a:pathLst>
            </a:custGeom>
            <a:solidFill>
              <a:srgbClr val="005600"/>
            </a:solidFill>
            <a:ln w="0">
              <a:solidFill>
                <a:srgbClr val="005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Freihandform 104"/>
            <p:cNvSpPr/>
            <p:nvPr/>
          </p:nvSpPr>
          <p:spPr>
            <a:xfrm>
              <a:off x="3559320" y="2714760"/>
              <a:ext cx="484200" cy="60120"/>
            </a:xfrm>
            <a:custGeom>
              <a:avLst/>
              <a:gdLst>
                <a:gd name="textAreaLeft" fmla="*/ 0 w 484200"/>
                <a:gd name="textAreaRight" fmla="*/ 484560 w 484200"/>
                <a:gd name="textAreaTop" fmla="*/ 0 h 60120"/>
                <a:gd name="textAreaBottom" fmla="*/ 60120 h 60120"/>
              </a:gdLst>
              <a:ahLst/>
              <a:rect l="textAreaLeft" t="textAreaTop" r="textAreaRight" b="textAreaBottom"/>
              <a:pathLst>
                <a:path w="393066" h="73407">
                  <a:moveTo>
                    <a:pt x="890" y="49404"/>
                  </a:moveTo>
                  <a:lnTo>
                    <a:pt x="0" y="47499"/>
                  </a:lnTo>
                  <a:lnTo>
                    <a:pt x="0" y="45593"/>
                  </a:lnTo>
                  <a:lnTo>
                    <a:pt x="0" y="43688"/>
                  </a:lnTo>
                  <a:lnTo>
                    <a:pt x="890" y="41783"/>
                  </a:lnTo>
                  <a:lnTo>
                    <a:pt x="3811" y="38355"/>
                  </a:lnTo>
                  <a:lnTo>
                    <a:pt x="8637" y="35052"/>
                  </a:lnTo>
                  <a:lnTo>
                    <a:pt x="13462" y="31750"/>
                  </a:lnTo>
                  <a:lnTo>
                    <a:pt x="19177" y="28830"/>
                  </a:lnTo>
                  <a:lnTo>
                    <a:pt x="24512" y="25908"/>
                  </a:lnTo>
                  <a:lnTo>
                    <a:pt x="28830" y="22987"/>
                  </a:lnTo>
                  <a:lnTo>
                    <a:pt x="32640" y="23495"/>
                  </a:lnTo>
                  <a:lnTo>
                    <a:pt x="36449" y="24512"/>
                  </a:lnTo>
                  <a:lnTo>
                    <a:pt x="44196" y="27432"/>
                  </a:lnTo>
                  <a:lnTo>
                    <a:pt x="60961" y="33148"/>
                  </a:lnTo>
                  <a:lnTo>
                    <a:pt x="69596" y="35561"/>
                  </a:lnTo>
                  <a:lnTo>
                    <a:pt x="77724" y="36450"/>
                  </a:lnTo>
                  <a:lnTo>
                    <a:pt x="82043" y="36068"/>
                  </a:lnTo>
                  <a:lnTo>
                    <a:pt x="86361" y="35052"/>
                  </a:lnTo>
                  <a:lnTo>
                    <a:pt x="90171" y="33656"/>
                  </a:lnTo>
                  <a:lnTo>
                    <a:pt x="94108" y="31243"/>
                  </a:lnTo>
                  <a:lnTo>
                    <a:pt x="98425" y="36068"/>
                  </a:lnTo>
                  <a:lnTo>
                    <a:pt x="101727" y="39370"/>
                  </a:lnTo>
                  <a:lnTo>
                    <a:pt x="105537" y="42292"/>
                  </a:lnTo>
                  <a:lnTo>
                    <a:pt x="108967" y="43688"/>
                  </a:lnTo>
                  <a:lnTo>
                    <a:pt x="112268" y="45086"/>
                  </a:lnTo>
                  <a:lnTo>
                    <a:pt x="115698" y="45086"/>
                  </a:lnTo>
                  <a:lnTo>
                    <a:pt x="121921" y="44705"/>
                  </a:lnTo>
                  <a:lnTo>
                    <a:pt x="128143" y="42673"/>
                  </a:lnTo>
                  <a:lnTo>
                    <a:pt x="134367" y="40387"/>
                  </a:lnTo>
                  <a:lnTo>
                    <a:pt x="140590" y="38862"/>
                  </a:lnTo>
                  <a:lnTo>
                    <a:pt x="144018" y="38355"/>
                  </a:lnTo>
                  <a:lnTo>
                    <a:pt x="147321" y="38355"/>
                  </a:lnTo>
                  <a:lnTo>
                    <a:pt x="151130" y="42292"/>
                  </a:lnTo>
                  <a:lnTo>
                    <a:pt x="155068" y="45593"/>
                  </a:lnTo>
                  <a:lnTo>
                    <a:pt x="158370" y="47499"/>
                  </a:lnTo>
                  <a:lnTo>
                    <a:pt x="162180" y="49023"/>
                  </a:lnTo>
                  <a:lnTo>
                    <a:pt x="165608" y="49912"/>
                  </a:lnTo>
                  <a:lnTo>
                    <a:pt x="168911" y="50419"/>
                  </a:lnTo>
                  <a:lnTo>
                    <a:pt x="176149" y="49404"/>
                  </a:lnTo>
                  <a:lnTo>
                    <a:pt x="182373" y="47499"/>
                  </a:lnTo>
                  <a:lnTo>
                    <a:pt x="189103" y="45086"/>
                  </a:lnTo>
                  <a:lnTo>
                    <a:pt x="195834" y="43181"/>
                  </a:lnTo>
                  <a:lnTo>
                    <a:pt x="203074" y="42673"/>
                  </a:lnTo>
                  <a:lnTo>
                    <a:pt x="206375" y="43181"/>
                  </a:lnTo>
                  <a:lnTo>
                    <a:pt x="210693" y="43688"/>
                  </a:lnTo>
                  <a:lnTo>
                    <a:pt x="218821" y="46101"/>
                  </a:lnTo>
                  <a:lnTo>
                    <a:pt x="227077" y="49023"/>
                  </a:lnTo>
                  <a:lnTo>
                    <a:pt x="235205" y="51308"/>
                  </a:lnTo>
                  <a:lnTo>
                    <a:pt x="239015" y="52325"/>
                  </a:lnTo>
                  <a:lnTo>
                    <a:pt x="242824" y="52325"/>
                  </a:lnTo>
                  <a:lnTo>
                    <a:pt x="246634" y="52325"/>
                  </a:lnTo>
                  <a:lnTo>
                    <a:pt x="250064" y="51308"/>
                  </a:lnTo>
                  <a:lnTo>
                    <a:pt x="253365" y="49912"/>
                  </a:lnTo>
                  <a:lnTo>
                    <a:pt x="255778" y="47499"/>
                  </a:lnTo>
                  <a:lnTo>
                    <a:pt x="258699" y="44705"/>
                  </a:lnTo>
                  <a:lnTo>
                    <a:pt x="260605" y="40387"/>
                  </a:lnTo>
                  <a:lnTo>
                    <a:pt x="264923" y="39879"/>
                  </a:lnTo>
                  <a:lnTo>
                    <a:pt x="269240" y="39879"/>
                  </a:lnTo>
                  <a:lnTo>
                    <a:pt x="278384" y="40768"/>
                  </a:lnTo>
                  <a:lnTo>
                    <a:pt x="288037" y="42292"/>
                  </a:lnTo>
                  <a:lnTo>
                    <a:pt x="297053" y="43181"/>
                  </a:lnTo>
                  <a:lnTo>
                    <a:pt x="301371" y="42673"/>
                  </a:lnTo>
                  <a:lnTo>
                    <a:pt x="305690" y="42292"/>
                  </a:lnTo>
                  <a:lnTo>
                    <a:pt x="309118" y="41275"/>
                  </a:lnTo>
                  <a:lnTo>
                    <a:pt x="312421" y="39370"/>
                  </a:lnTo>
                  <a:lnTo>
                    <a:pt x="315342" y="36957"/>
                  </a:lnTo>
                  <a:lnTo>
                    <a:pt x="317246" y="33656"/>
                  </a:lnTo>
                  <a:lnTo>
                    <a:pt x="318643" y="29337"/>
                  </a:lnTo>
                  <a:lnTo>
                    <a:pt x="319659" y="23495"/>
                  </a:lnTo>
                  <a:lnTo>
                    <a:pt x="322073" y="22606"/>
                  </a:lnTo>
                  <a:lnTo>
                    <a:pt x="324993" y="22099"/>
                  </a:lnTo>
                  <a:lnTo>
                    <a:pt x="331598" y="21591"/>
                  </a:lnTo>
                  <a:lnTo>
                    <a:pt x="338328" y="21082"/>
                  </a:lnTo>
                  <a:lnTo>
                    <a:pt x="345059" y="20701"/>
                  </a:lnTo>
                  <a:lnTo>
                    <a:pt x="348489" y="20193"/>
                  </a:lnTo>
                  <a:lnTo>
                    <a:pt x="350902" y="19177"/>
                  </a:lnTo>
                  <a:lnTo>
                    <a:pt x="353315" y="17273"/>
                  </a:lnTo>
                  <a:lnTo>
                    <a:pt x="355219" y="15368"/>
                  </a:lnTo>
                  <a:lnTo>
                    <a:pt x="356108" y="12955"/>
                  </a:lnTo>
                  <a:lnTo>
                    <a:pt x="356617" y="9652"/>
                  </a:lnTo>
                  <a:lnTo>
                    <a:pt x="356617" y="5335"/>
                  </a:lnTo>
                  <a:lnTo>
                    <a:pt x="355219" y="0"/>
                  </a:lnTo>
                  <a:lnTo>
                    <a:pt x="360934" y="1398"/>
                  </a:lnTo>
                  <a:lnTo>
                    <a:pt x="367665" y="2413"/>
                  </a:lnTo>
                  <a:lnTo>
                    <a:pt x="373888" y="3811"/>
                  </a:lnTo>
                  <a:lnTo>
                    <a:pt x="380619" y="5716"/>
                  </a:lnTo>
                  <a:lnTo>
                    <a:pt x="385953" y="8129"/>
                  </a:lnTo>
                  <a:lnTo>
                    <a:pt x="388239" y="9652"/>
                  </a:lnTo>
                  <a:lnTo>
                    <a:pt x="390271" y="11557"/>
                  </a:lnTo>
                  <a:lnTo>
                    <a:pt x="391669" y="12955"/>
                  </a:lnTo>
                  <a:lnTo>
                    <a:pt x="392557" y="15368"/>
                  </a:lnTo>
                  <a:lnTo>
                    <a:pt x="393065" y="17273"/>
                  </a:lnTo>
                  <a:lnTo>
                    <a:pt x="393065" y="19686"/>
                  </a:lnTo>
                  <a:lnTo>
                    <a:pt x="387858" y="25908"/>
                  </a:lnTo>
                  <a:lnTo>
                    <a:pt x="381636" y="32131"/>
                  </a:lnTo>
                  <a:lnTo>
                    <a:pt x="373888" y="37466"/>
                  </a:lnTo>
                  <a:lnTo>
                    <a:pt x="365761" y="42292"/>
                  </a:lnTo>
                  <a:lnTo>
                    <a:pt x="356108" y="46991"/>
                  </a:lnTo>
                  <a:lnTo>
                    <a:pt x="346075" y="50927"/>
                  </a:lnTo>
                  <a:lnTo>
                    <a:pt x="335027" y="54737"/>
                  </a:lnTo>
                  <a:lnTo>
                    <a:pt x="323470" y="58039"/>
                  </a:lnTo>
                  <a:lnTo>
                    <a:pt x="311024" y="61468"/>
                  </a:lnTo>
                  <a:lnTo>
                    <a:pt x="298070" y="63881"/>
                  </a:lnTo>
                  <a:lnTo>
                    <a:pt x="284099" y="66294"/>
                  </a:lnTo>
                  <a:lnTo>
                    <a:pt x="270256" y="68200"/>
                  </a:lnTo>
                  <a:lnTo>
                    <a:pt x="255778" y="69597"/>
                  </a:lnTo>
                  <a:lnTo>
                    <a:pt x="241427" y="70993"/>
                  </a:lnTo>
                  <a:lnTo>
                    <a:pt x="211202" y="73025"/>
                  </a:lnTo>
                  <a:lnTo>
                    <a:pt x="180468" y="73406"/>
                  </a:lnTo>
                  <a:lnTo>
                    <a:pt x="150242" y="72518"/>
                  </a:lnTo>
                  <a:lnTo>
                    <a:pt x="120396" y="70993"/>
                  </a:lnTo>
                  <a:lnTo>
                    <a:pt x="106046" y="69597"/>
                  </a:lnTo>
                  <a:lnTo>
                    <a:pt x="92075" y="68200"/>
                  </a:lnTo>
                  <a:lnTo>
                    <a:pt x="78233" y="66675"/>
                  </a:lnTo>
                  <a:lnTo>
                    <a:pt x="65278" y="64770"/>
                  </a:lnTo>
                  <a:lnTo>
                    <a:pt x="52833" y="62866"/>
                  </a:lnTo>
                  <a:lnTo>
                    <a:pt x="40768" y="60452"/>
                  </a:lnTo>
                  <a:lnTo>
                    <a:pt x="29718" y="58039"/>
                  </a:lnTo>
                  <a:lnTo>
                    <a:pt x="19177" y="55245"/>
                  </a:lnTo>
                  <a:lnTo>
                    <a:pt x="9525" y="52325"/>
                  </a:lnTo>
                  <a:lnTo>
                    <a:pt x="890" y="49404"/>
                  </a:lnTo>
                  <a:close/>
                </a:path>
              </a:pathLst>
            </a:custGeom>
            <a:solidFill>
              <a:srgbClr val="879b6b"/>
            </a:solidFill>
            <a:ln w="0">
              <a:solidFill>
                <a:srgbClr val="879b6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Freihandform 105"/>
            <p:cNvSpPr/>
            <p:nvPr/>
          </p:nvSpPr>
          <p:spPr>
            <a:xfrm>
              <a:off x="3559320" y="2719440"/>
              <a:ext cx="484200" cy="55440"/>
            </a:xfrm>
            <a:custGeom>
              <a:avLst/>
              <a:gdLst>
                <a:gd name="textAreaLeft" fmla="*/ 0 w 484200"/>
                <a:gd name="textAreaRight" fmla="*/ 484560 w 48420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393066" h="69596">
                  <a:moveTo>
                    <a:pt x="890" y="46101"/>
                  </a:moveTo>
                  <a:lnTo>
                    <a:pt x="0" y="44195"/>
                  </a:lnTo>
                  <a:lnTo>
                    <a:pt x="0" y="42290"/>
                  </a:lnTo>
                  <a:lnTo>
                    <a:pt x="0" y="40386"/>
                  </a:lnTo>
                  <a:lnTo>
                    <a:pt x="890" y="38862"/>
                  </a:lnTo>
                  <a:lnTo>
                    <a:pt x="4318" y="35559"/>
                  </a:lnTo>
                  <a:lnTo>
                    <a:pt x="8637" y="32639"/>
                  </a:lnTo>
                  <a:lnTo>
                    <a:pt x="13843" y="30226"/>
                  </a:lnTo>
                  <a:lnTo>
                    <a:pt x="19177" y="27432"/>
                  </a:lnTo>
                  <a:lnTo>
                    <a:pt x="24512" y="25019"/>
                  </a:lnTo>
                  <a:lnTo>
                    <a:pt x="29211" y="22606"/>
                  </a:lnTo>
                  <a:lnTo>
                    <a:pt x="32640" y="23114"/>
                  </a:lnTo>
                  <a:lnTo>
                    <a:pt x="36449" y="24002"/>
                  </a:lnTo>
                  <a:lnTo>
                    <a:pt x="44577" y="26924"/>
                  </a:lnTo>
                  <a:lnTo>
                    <a:pt x="61468" y="33146"/>
                  </a:lnTo>
                  <a:lnTo>
                    <a:pt x="70105" y="35559"/>
                  </a:lnTo>
                  <a:lnTo>
                    <a:pt x="78233" y="36576"/>
                  </a:lnTo>
                  <a:lnTo>
                    <a:pt x="82550" y="36576"/>
                  </a:lnTo>
                  <a:lnTo>
                    <a:pt x="86868" y="35559"/>
                  </a:lnTo>
                  <a:lnTo>
                    <a:pt x="90678" y="34163"/>
                  </a:lnTo>
                  <a:lnTo>
                    <a:pt x="94996" y="31750"/>
                  </a:lnTo>
                  <a:lnTo>
                    <a:pt x="98806" y="36576"/>
                  </a:lnTo>
                  <a:lnTo>
                    <a:pt x="102743" y="39877"/>
                  </a:lnTo>
                  <a:lnTo>
                    <a:pt x="106046" y="42290"/>
                  </a:lnTo>
                  <a:lnTo>
                    <a:pt x="109855" y="44195"/>
                  </a:lnTo>
                  <a:lnTo>
                    <a:pt x="113284" y="45212"/>
                  </a:lnTo>
                  <a:lnTo>
                    <a:pt x="116587" y="45593"/>
                  </a:lnTo>
                  <a:lnTo>
                    <a:pt x="122809" y="44703"/>
                  </a:lnTo>
                  <a:lnTo>
                    <a:pt x="129159" y="42799"/>
                  </a:lnTo>
                  <a:lnTo>
                    <a:pt x="135383" y="40386"/>
                  </a:lnTo>
                  <a:lnTo>
                    <a:pt x="141605" y="38481"/>
                  </a:lnTo>
                  <a:lnTo>
                    <a:pt x="144908" y="38481"/>
                  </a:lnTo>
                  <a:lnTo>
                    <a:pt x="148337" y="38481"/>
                  </a:lnTo>
                  <a:lnTo>
                    <a:pt x="152146" y="42290"/>
                  </a:lnTo>
                  <a:lnTo>
                    <a:pt x="155956" y="45593"/>
                  </a:lnTo>
                  <a:lnTo>
                    <a:pt x="159386" y="47497"/>
                  </a:lnTo>
                  <a:lnTo>
                    <a:pt x="163196" y="49021"/>
                  </a:lnTo>
                  <a:lnTo>
                    <a:pt x="166498" y="49911"/>
                  </a:lnTo>
                  <a:lnTo>
                    <a:pt x="170434" y="49911"/>
                  </a:lnTo>
                  <a:lnTo>
                    <a:pt x="177039" y="49530"/>
                  </a:lnTo>
                  <a:lnTo>
                    <a:pt x="183770" y="47116"/>
                  </a:lnTo>
                  <a:lnTo>
                    <a:pt x="190500" y="45212"/>
                  </a:lnTo>
                  <a:lnTo>
                    <a:pt x="197231" y="43180"/>
                  </a:lnTo>
                  <a:lnTo>
                    <a:pt x="203962" y="42290"/>
                  </a:lnTo>
                  <a:lnTo>
                    <a:pt x="207773" y="42799"/>
                  </a:lnTo>
                  <a:lnTo>
                    <a:pt x="211709" y="43688"/>
                  </a:lnTo>
                  <a:lnTo>
                    <a:pt x="219837" y="45593"/>
                  </a:lnTo>
                  <a:lnTo>
                    <a:pt x="228474" y="48514"/>
                  </a:lnTo>
                  <a:lnTo>
                    <a:pt x="236602" y="50419"/>
                  </a:lnTo>
                  <a:lnTo>
                    <a:pt x="240412" y="51434"/>
                  </a:lnTo>
                  <a:lnTo>
                    <a:pt x="244349" y="51434"/>
                  </a:lnTo>
                  <a:lnTo>
                    <a:pt x="247650" y="51434"/>
                  </a:lnTo>
                  <a:lnTo>
                    <a:pt x="251461" y="50419"/>
                  </a:lnTo>
                  <a:lnTo>
                    <a:pt x="254381" y="49021"/>
                  </a:lnTo>
                  <a:lnTo>
                    <a:pt x="257302" y="46608"/>
                  </a:lnTo>
                  <a:lnTo>
                    <a:pt x="259715" y="43180"/>
                  </a:lnTo>
                  <a:lnTo>
                    <a:pt x="262002" y="38862"/>
                  </a:lnTo>
                  <a:lnTo>
                    <a:pt x="265939" y="38862"/>
                  </a:lnTo>
                  <a:lnTo>
                    <a:pt x="270256" y="38862"/>
                  </a:lnTo>
                  <a:lnTo>
                    <a:pt x="279781" y="39877"/>
                  </a:lnTo>
                  <a:lnTo>
                    <a:pt x="289433" y="41275"/>
                  </a:lnTo>
                  <a:lnTo>
                    <a:pt x="298577" y="42290"/>
                  </a:lnTo>
                  <a:lnTo>
                    <a:pt x="302896" y="42290"/>
                  </a:lnTo>
                  <a:lnTo>
                    <a:pt x="307214" y="41782"/>
                  </a:lnTo>
                  <a:lnTo>
                    <a:pt x="310515" y="40894"/>
                  </a:lnTo>
                  <a:lnTo>
                    <a:pt x="313945" y="38862"/>
                  </a:lnTo>
                  <a:lnTo>
                    <a:pt x="316739" y="36576"/>
                  </a:lnTo>
                  <a:lnTo>
                    <a:pt x="318643" y="33146"/>
                  </a:lnTo>
                  <a:lnTo>
                    <a:pt x="320168" y="28828"/>
                  </a:lnTo>
                  <a:lnTo>
                    <a:pt x="321056" y="23114"/>
                  </a:lnTo>
                  <a:lnTo>
                    <a:pt x="323470" y="22097"/>
                  </a:lnTo>
                  <a:lnTo>
                    <a:pt x="326899" y="21589"/>
                  </a:lnTo>
                  <a:lnTo>
                    <a:pt x="333121" y="21208"/>
                  </a:lnTo>
                  <a:lnTo>
                    <a:pt x="340233" y="21208"/>
                  </a:lnTo>
                  <a:lnTo>
                    <a:pt x="347473" y="20193"/>
                  </a:lnTo>
                  <a:lnTo>
                    <a:pt x="350393" y="19684"/>
                  </a:lnTo>
                  <a:lnTo>
                    <a:pt x="353315" y="18795"/>
                  </a:lnTo>
                  <a:lnTo>
                    <a:pt x="355601" y="17271"/>
                  </a:lnTo>
                  <a:lnTo>
                    <a:pt x="357125" y="15366"/>
                  </a:lnTo>
                  <a:lnTo>
                    <a:pt x="358521" y="12572"/>
                  </a:lnTo>
                  <a:lnTo>
                    <a:pt x="359030" y="9144"/>
                  </a:lnTo>
                  <a:lnTo>
                    <a:pt x="359030" y="4826"/>
                  </a:lnTo>
                  <a:lnTo>
                    <a:pt x="357632" y="0"/>
                  </a:lnTo>
                  <a:lnTo>
                    <a:pt x="363348" y="1015"/>
                  </a:lnTo>
                  <a:lnTo>
                    <a:pt x="369570" y="1905"/>
                  </a:lnTo>
                  <a:lnTo>
                    <a:pt x="375794" y="2920"/>
                  </a:lnTo>
                  <a:lnTo>
                    <a:pt x="381636" y="3937"/>
                  </a:lnTo>
                  <a:lnTo>
                    <a:pt x="386843" y="5841"/>
                  </a:lnTo>
                  <a:lnTo>
                    <a:pt x="388748" y="6731"/>
                  </a:lnTo>
                  <a:lnTo>
                    <a:pt x="390652" y="8255"/>
                  </a:lnTo>
                  <a:lnTo>
                    <a:pt x="392176" y="10159"/>
                  </a:lnTo>
                  <a:lnTo>
                    <a:pt x="393065" y="12064"/>
                  </a:lnTo>
                  <a:lnTo>
                    <a:pt x="393065" y="13970"/>
                  </a:lnTo>
                  <a:lnTo>
                    <a:pt x="393065" y="16382"/>
                  </a:lnTo>
                  <a:lnTo>
                    <a:pt x="387858" y="22606"/>
                  </a:lnTo>
                  <a:lnTo>
                    <a:pt x="381636" y="28320"/>
                  </a:lnTo>
                  <a:lnTo>
                    <a:pt x="373888" y="33655"/>
                  </a:lnTo>
                  <a:lnTo>
                    <a:pt x="365761" y="38862"/>
                  </a:lnTo>
                  <a:lnTo>
                    <a:pt x="356108" y="43180"/>
                  </a:lnTo>
                  <a:lnTo>
                    <a:pt x="346075" y="47497"/>
                  </a:lnTo>
                  <a:lnTo>
                    <a:pt x="335027" y="51434"/>
                  </a:lnTo>
                  <a:lnTo>
                    <a:pt x="323470" y="54737"/>
                  </a:lnTo>
                  <a:lnTo>
                    <a:pt x="311024" y="57657"/>
                  </a:lnTo>
                  <a:lnTo>
                    <a:pt x="298070" y="60578"/>
                  </a:lnTo>
                  <a:lnTo>
                    <a:pt x="284099" y="62483"/>
                  </a:lnTo>
                  <a:lnTo>
                    <a:pt x="270256" y="64896"/>
                  </a:lnTo>
                  <a:lnTo>
                    <a:pt x="255778" y="66294"/>
                  </a:lnTo>
                  <a:lnTo>
                    <a:pt x="241427" y="67690"/>
                  </a:lnTo>
                  <a:lnTo>
                    <a:pt x="211202" y="69214"/>
                  </a:lnTo>
                  <a:lnTo>
                    <a:pt x="180468" y="69595"/>
                  </a:lnTo>
                  <a:lnTo>
                    <a:pt x="150242" y="69214"/>
                  </a:lnTo>
                  <a:lnTo>
                    <a:pt x="120396" y="67182"/>
                  </a:lnTo>
                  <a:lnTo>
                    <a:pt x="106046" y="66294"/>
                  </a:lnTo>
                  <a:lnTo>
                    <a:pt x="92075" y="64896"/>
                  </a:lnTo>
                  <a:lnTo>
                    <a:pt x="78233" y="62864"/>
                  </a:lnTo>
                  <a:lnTo>
                    <a:pt x="65278" y="61468"/>
                  </a:lnTo>
                  <a:lnTo>
                    <a:pt x="52833" y="59055"/>
                  </a:lnTo>
                  <a:lnTo>
                    <a:pt x="40768" y="56641"/>
                  </a:lnTo>
                  <a:lnTo>
                    <a:pt x="29718" y="54228"/>
                  </a:lnTo>
                  <a:lnTo>
                    <a:pt x="19177" y="51815"/>
                  </a:lnTo>
                  <a:lnTo>
                    <a:pt x="9525" y="49021"/>
                  </a:lnTo>
                  <a:lnTo>
                    <a:pt x="890" y="46101"/>
                  </a:lnTo>
                  <a:close/>
                </a:path>
              </a:pathLst>
            </a:custGeom>
            <a:solidFill>
              <a:srgbClr val="719158"/>
            </a:solidFill>
            <a:ln w="0">
              <a:solidFill>
                <a:srgbClr val="71915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Freihandform 106"/>
            <p:cNvSpPr/>
            <p:nvPr/>
          </p:nvSpPr>
          <p:spPr>
            <a:xfrm>
              <a:off x="3559320" y="2721240"/>
              <a:ext cx="484200" cy="53640"/>
            </a:xfrm>
            <a:custGeom>
              <a:avLst/>
              <a:gdLst>
                <a:gd name="textAreaLeft" fmla="*/ 0 w 484200"/>
                <a:gd name="textAreaRight" fmla="*/ 484560 w 48420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393066" h="66676">
                  <a:moveTo>
                    <a:pt x="890" y="42673"/>
                  </a:moveTo>
                  <a:lnTo>
                    <a:pt x="0" y="40768"/>
                  </a:lnTo>
                  <a:lnTo>
                    <a:pt x="0" y="39370"/>
                  </a:lnTo>
                  <a:lnTo>
                    <a:pt x="0" y="37466"/>
                  </a:lnTo>
                  <a:lnTo>
                    <a:pt x="890" y="35942"/>
                  </a:lnTo>
                  <a:lnTo>
                    <a:pt x="4318" y="33656"/>
                  </a:lnTo>
                  <a:lnTo>
                    <a:pt x="8637" y="31243"/>
                  </a:lnTo>
                  <a:lnTo>
                    <a:pt x="13843" y="29337"/>
                  </a:lnTo>
                  <a:lnTo>
                    <a:pt x="19177" y="26925"/>
                  </a:lnTo>
                  <a:lnTo>
                    <a:pt x="24893" y="25019"/>
                  </a:lnTo>
                  <a:lnTo>
                    <a:pt x="29211" y="22606"/>
                  </a:lnTo>
                  <a:lnTo>
                    <a:pt x="33148" y="22987"/>
                  </a:lnTo>
                  <a:lnTo>
                    <a:pt x="36958" y="24004"/>
                  </a:lnTo>
                  <a:lnTo>
                    <a:pt x="44577" y="26925"/>
                  </a:lnTo>
                  <a:lnTo>
                    <a:pt x="61849" y="33656"/>
                  </a:lnTo>
                  <a:lnTo>
                    <a:pt x="70486" y="35942"/>
                  </a:lnTo>
                  <a:lnTo>
                    <a:pt x="79121" y="37466"/>
                  </a:lnTo>
                  <a:lnTo>
                    <a:pt x="83440" y="36957"/>
                  </a:lnTo>
                  <a:lnTo>
                    <a:pt x="87377" y="36450"/>
                  </a:lnTo>
                  <a:lnTo>
                    <a:pt x="91695" y="34544"/>
                  </a:lnTo>
                  <a:lnTo>
                    <a:pt x="95505" y="32639"/>
                  </a:lnTo>
                  <a:lnTo>
                    <a:pt x="99315" y="36957"/>
                  </a:lnTo>
                  <a:lnTo>
                    <a:pt x="103124" y="40768"/>
                  </a:lnTo>
                  <a:lnTo>
                    <a:pt x="107062" y="43181"/>
                  </a:lnTo>
                  <a:lnTo>
                    <a:pt x="110364" y="45086"/>
                  </a:lnTo>
                  <a:lnTo>
                    <a:pt x="113793" y="46101"/>
                  </a:lnTo>
                  <a:lnTo>
                    <a:pt x="117095" y="46101"/>
                  </a:lnTo>
                  <a:lnTo>
                    <a:pt x="123825" y="45086"/>
                  </a:lnTo>
                  <a:lnTo>
                    <a:pt x="130049" y="43181"/>
                  </a:lnTo>
                  <a:lnTo>
                    <a:pt x="136271" y="40768"/>
                  </a:lnTo>
                  <a:lnTo>
                    <a:pt x="142495" y="38862"/>
                  </a:lnTo>
                  <a:lnTo>
                    <a:pt x="145924" y="38355"/>
                  </a:lnTo>
                  <a:lnTo>
                    <a:pt x="149225" y="38862"/>
                  </a:lnTo>
                  <a:lnTo>
                    <a:pt x="153036" y="42673"/>
                  </a:lnTo>
                  <a:lnTo>
                    <a:pt x="156973" y="45594"/>
                  </a:lnTo>
                  <a:lnTo>
                    <a:pt x="160274" y="48006"/>
                  </a:lnTo>
                  <a:lnTo>
                    <a:pt x="164084" y="49404"/>
                  </a:lnTo>
                  <a:lnTo>
                    <a:pt x="168021" y="50419"/>
                  </a:lnTo>
                  <a:lnTo>
                    <a:pt x="171324" y="50419"/>
                  </a:lnTo>
                  <a:lnTo>
                    <a:pt x="178055" y="49404"/>
                  </a:lnTo>
                  <a:lnTo>
                    <a:pt x="184786" y="47499"/>
                  </a:lnTo>
                  <a:lnTo>
                    <a:pt x="191517" y="45086"/>
                  </a:lnTo>
                  <a:lnTo>
                    <a:pt x="198755" y="43181"/>
                  </a:lnTo>
                  <a:lnTo>
                    <a:pt x="205359" y="42673"/>
                  </a:lnTo>
                  <a:lnTo>
                    <a:pt x="209296" y="43181"/>
                  </a:lnTo>
                  <a:lnTo>
                    <a:pt x="213106" y="43688"/>
                  </a:lnTo>
                  <a:lnTo>
                    <a:pt x="221234" y="46101"/>
                  </a:lnTo>
                  <a:lnTo>
                    <a:pt x="229362" y="48514"/>
                  </a:lnTo>
                  <a:lnTo>
                    <a:pt x="237618" y="50419"/>
                  </a:lnTo>
                  <a:lnTo>
                    <a:pt x="241936" y="50927"/>
                  </a:lnTo>
                  <a:lnTo>
                    <a:pt x="245746" y="51308"/>
                  </a:lnTo>
                  <a:lnTo>
                    <a:pt x="249048" y="50927"/>
                  </a:lnTo>
                  <a:lnTo>
                    <a:pt x="252477" y="49912"/>
                  </a:lnTo>
                  <a:lnTo>
                    <a:pt x="255778" y="48514"/>
                  </a:lnTo>
                  <a:lnTo>
                    <a:pt x="258699" y="46101"/>
                  </a:lnTo>
                  <a:lnTo>
                    <a:pt x="261112" y="42673"/>
                  </a:lnTo>
                  <a:lnTo>
                    <a:pt x="263018" y="38355"/>
                  </a:lnTo>
                  <a:lnTo>
                    <a:pt x="267336" y="37974"/>
                  </a:lnTo>
                  <a:lnTo>
                    <a:pt x="271653" y="38355"/>
                  </a:lnTo>
                  <a:lnTo>
                    <a:pt x="280798" y="39370"/>
                  </a:lnTo>
                  <a:lnTo>
                    <a:pt x="290323" y="40768"/>
                  </a:lnTo>
                  <a:lnTo>
                    <a:pt x="299974" y="41783"/>
                  </a:lnTo>
                  <a:lnTo>
                    <a:pt x="304293" y="41783"/>
                  </a:lnTo>
                  <a:lnTo>
                    <a:pt x="308611" y="41783"/>
                  </a:lnTo>
                  <a:lnTo>
                    <a:pt x="312040" y="40768"/>
                  </a:lnTo>
                  <a:lnTo>
                    <a:pt x="315342" y="38862"/>
                  </a:lnTo>
                  <a:lnTo>
                    <a:pt x="318262" y="36450"/>
                  </a:lnTo>
                  <a:lnTo>
                    <a:pt x="320168" y="33148"/>
                  </a:lnTo>
                  <a:lnTo>
                    <a:pt x="322073" y="28830"/>
                  </a:lnTo>
                  <a:lnTo>
                    <a:pt x="322580" y="23495"/>
                  </a:lnTo>
                  <a:lnTo>
                    <a:pt x="325374" y="22606"/>
                  </a:lnTo>
                  <a:lnTo>
                    <a:pt x="328296" y="21591"/>
                  </a:lnTo>
                  <a:lnTo>
                    <a:pt x="335027" y="21082"/>
                  </a:lnTo>
                  <a:lnTo>
                    <a:pt x="342265" y="21082"/>
                  </a:lnTo>
                  <a:lnTo>
                    <a:pt x="349377" y="20701"/>
                  </a:lnTo>
                  <a:lnTo>
                    <a:pt x="352299" y="19686"/>
                  </a:lnTo>
                  <a:lnTo>
                    <a:pt x="355219" y="18669"/>
                  </a:lnTo>
                  <a:lnTo>
                    <a:pt x="357632" y="17273"/>
                  </a:lnTo>
                  <a:lnTo>
                    <a:pt x="359538" y="15368"/>
                  </a:lnTo>
                  <a:lnTo>
                    <a:pt x="360934" y="12446"/>
                  </a:lnTo>
                  <a:lnTo>
                    <a:pt x="361443" y="9144"/>
                  </a:lnTo>
                  <a:lnTo>
                    <a:pt x="361443" y="5335"/>
                  </a:lnTo>
                  <a:lnTo>
                    <a:pt x="359919" y="0"/>
                  </a:lnTo>
                  <a:lnTo>
                    <a:pt x="365761" y="1017"/>
                  </a:lnTo>
                  <a:lnTo>
                    <a:pt x="371476" y="1398"/>
                  </a:lnTo>
                  <a:lnTo>
                    <a:pt x="377318" y="1906"/>
                  </a:lnTo>
                  <a:lnTo>
                    <a:pt x="383032" y="2413"/>
                  </a:lnTo>
                  <a:lnTo>
                    <a:pt x="387351" y="3811"/>
                  </a:lnTo>
                  <a:lnTo>
                    <a:pt x="389256" y="4826"/>
                  </a:lnTo>
                  <a:lnTo>
                    <a:pt x="391161" y="5716"/>
                  </a:lnTo>
                  <a:lnTo>
                    <a:pt x="392176" y="7239"/>
                  </a:lnTo>
                  <a:lnTo>
                    <a:pt x="393065" y="8637"/>
                  </a:lnTo>
                  <a:lnTo>
                    <a:pt x="393065" y="11050"/>
                  </a:lnTo>
                  <a:lnTo>
                    <a:pt x="393065" y="13462"/>
                  </a:lnTo>
                  <a:lnTo>
                    <a:pt x="387858" y="19686"/>
                  </a:lnTo>
                  <a:lnTo>
                    <a:pt x="381636" y="25400"/>
                  </a:lnTo>
                  <a:lnTo>
                    <a:pt x="373888" y="30735"/>
                  </a:lnTo>
                  <a:lnTo>
                    <a:pt x="365761" y="35561"/>
                  </a:lnTo>
                  <a:lnTo>
                    <a:pt x="356108" y="40260"/>
                  </a:lnTo>
                  <a:lnTo>
                    <a:pt x="346075" y="44577"/>
                  </a:lnTo>
                  <a:lnTo>
                    <a:pt x="335027" y="48006"/>
                  </a:lnTo>
                  <a:lnTo>
                    <a:pt x="323470" y="51817"/>
                  </a:lnTo>
                  <a:lnTo>
                    <a:pt x="311024" y="54737"/>
                  </a:lnTo>
                  <a:lnTo>
                    <a:pt x="298070" y="57150"/>
                  </a:lnTo>
                  <a:lnTo>
                    <a:pt x="284099" y="59563"/>
                  </a:lnTo>
                  <a:lnTo>
                    <a:pt x="270256" y="61469"/>
                  </a:lnTo>
                  <a:lnTo>
                    <a:pt x="255778" y="63374"/>
                  </a:lnTo>
                  <a:lnTo>
                    <a:pt x="241427" y="64262"/>
                  </a:lnTo>
                  <a:lnTo>
                    <a:pt x="211202" y="66294"/>
                  </a:lnTo>
                  <a:lnTo>
                    <a:pt x="180468" y="66675"/>
                  </a:lnTo>
                  <a:lnTo>
                    <a:pt x="150242" y="66294"/>
                  </a:lnTo>
                  <a:lnTo>
                    <a:pt x="120396" y="64262"/>
                  </a:lnTo>
                  <a:lnTo>
                    <a:pt x="106046" y="63374"/>
                  </a:lnTo>
                  <a:lnTo>
                    <a:pt x="92075" y="61976"/>
                  </a:lnTo>
                  <a:lnTo>
                    <a:pt x="78233" y="59944"/>
                  </a:lnTo>
                  <a:lnTo>
                    <a:pt x="65278" y="58039"/>
                  </a:lnTo>
                  <a:lnTo>
                    <a:pt x="52833" y="56135"/>
                  </a:lnTo>
                  <a:lnTo>
                    <a:pt x="40768" y="53721"/>
                  </a:lnTo>
                  <a:lnTo>
                    <a:pt x="29718" y="51308"/>
                  </a:lnTo>
                  <a:lnTo>
                    <a:pt x="19177" y="48514"/>
                  </a:lnTo>
                  <a:lnTo>
                    <a:pt x="9525" y="45594"/>
                  </a:lnTo>
                  <a:lnTo>
                    <a:pt x="890" y="42673"/>
                  </a:lnTo>
                  <a:close/>
                </a:path>
              </a:pathLst>
            </a:custGeom>
            <a:solidFill>
              <a:srgbClr val="598446"/>
            </a:solidFill>
            <a:ln w="0">
              <a:solidFill>
                <a:srgbClr val="59844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ihandform 107"/>
            <p:cNvSpPr/>
            <p:nvPr/>
          </p:nvSpPr>
          <p:spPr>
            <a:xfrm>
              <a:off x="3559320" y="2724120"/>
              <a:ext cx="484200" cy="50760"/>
            </a:xfrm>
            <a:custGeom>
              <a:avLst/>
              <a:gdLst>
                <a:gd name="textAreaLeft" fmla="*/ 0 w 484200"/>
                <a:gd name="textAreaRight" fmla="*/ 484560 w 48420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393067" h="63374">
                  <a:moveTo>
                    <a:pt x="890" y="39371"/>
                  </a:moveTo>
                  <a:lnTo>
                    <a:pt x="0" y="37466"/>
                  </a:lnTo>
                  <a:lnTo>
                    <a:pt x="0" y="36068"/>
                  </a:lnTo>
                  <a:lnTo>
                    <a:pt x="0" y="34672"/>
                  </a:lnTo>
                  <a:lnTo>
                    <a:pt x="890" y="33148"/>
                  </a:lnTo>
                  <a:lnTo>
                    <a:pt x="2287" y="32259"/>
                  </a:lnTo>
                  <a:lnTo>
                    <a:pt x="4319" y="30735"/>
                  </a:lnTo>
                  <a:lnTo>
                    <a:pt x="8637" y="29337"/>
                  </a:lnTo>
                  <a:lnTo>
                    <a:pt x="19685" y="26035"/>
                  </a:lnTo>
                  <a:lnTo>
                    <a:pt x="24892" y="24004"/>
                  </a:lnTo>
                  <a:lnTo>
                    <a:pt x="29210" y="22098"/>
                  </a:lnTo>
                  <a:lnTo>
                    <a:pt x="33020" y="22606"/>
                  </a:lnTo>
                  <a:lnTo>
                    <a:pt x="36957" y="23623"/>
                  </a:lnTo>
                  <a:lnTo>
                    <a:pt x="45085" y="26417"/>
                  </a:lnTo>
                  <a:lnTo>
                    <a:pt x="62357" y="33655"/>
                  </a:lnTo>
                  <a:lnTo>
                    <a:pt x="70994" y="36068"/>
                  </a:lnTo>
                  <a:lnTo>
                    <a:pt x="75312" y="36958"/>
                  </a:lnTo>
                  <a:lnTo>
                    <a:pt x="79629" y="37466"/>
                  </a:lnTo>
                  <a:lnTo>
                    <a:pt x="83947" y="37466"/>
                  </a:lnTo>
                  <a:lnTo>
                    <a:pt x="88266" y="36577"/>
                  </a:lnTo>
                  <a:lnTo>
                    <a:pt x="92075" y="35053"/>
                  </a:lnTo>
                  <a:lnTo>
                    <a:pt x="95885" y="32640"/>
                  </a:lnTo>
                  <a:lnTo>
                    <a:pt x="100331" y="37466"/>
                  </a:lnTo>
                  <a:lnTo>
                    <a:pt x="104141" y="40894"/>
                  </a:lnTo>
                  <a:lnTo>
                    <a:pt x="107442" y="43689"/>
                  </a:lnTo>
                  <a:lnTo>
                    <a:pt x="111253" y="45212"/>
                  </a:lnTo>
                  <a:lnTo>
                    <a:pt x="114682" y="46102"/>
                  </a:lnTo>
                  <a:lnTo>
                    <a:pt x="117984" y="46610"/>
                  </a:lnTo>
                  <a:lnTo>
                    <a:pt x="124207" y="45593"/>
                  </a:lnTo>
                  <a:lnTo>
                    <a:pt x="130557" y="43308"/>
                  </a:lnTo>
                  <a:lnTo>
                    <a:pt x="136779" y="40894"/>
                  </a:lnTo>
                  <a:lnTo>
                    <a:pt x="143510" y="38990"/>
                  </a:lnTo>
                  <a:lnTo>
                    <a:pt x="146813" y="38481"/>
                  </a:lnTo>
                  <a:lnTo>
                    <a:pt x="150241" y="38481"/>
                  </a:lnTo>
                  <a:lnTo>
                    <a:pt x="154051" y="42799"/>
                  </a:lnTo>
                  <a:lnTo>
                    <a:pt x="157862" y="45593"/>
                  </a:lnTo>
                  <a:lnTo>
                    <a:pt x="161291" y="48006"/>
                  </a:lnTo>
                  <a:lnTo>
                    <a:pt x="165100" y="49530"/>
                  </a:lnTo>
                  <a:lnTo>
                    <a:pt x="168910" y="50039"/>
                  </a:lnTo>
                  <a:lnTo>
                    <a:pt x="172213" y="50419"/>
                  </a:lnTo>
                  <a:lnTo>
                    <a:pt x="179451" y="49530"/>
                  </a:lnTo>
                  <a:lnTo>
                    <a:pt x="186182" y="47117"/>
                  </a:lnTo>
                  <a:lnTo>
                    <a:pt x="192913" y="45212"/>
                  </a:lnTo>
                  <a:lnTo>
                    <a:pt x="199644" y="43308"/>
                  </a:lnTo>
                  <a:lnTo>
                    <a:pt x="206884" y="42292"/>
                  </a:lnTo>
                  <a:lnTo>
                    <a:pt x="210185" y="42799"/>
                  </a:lnTo>
                  <a:lnTo>
                    <a:pt x="214504" y="43308"/>
                  </a:lnTo>
                  <a:lnTo>
                    <a:pt x="222632" y="45593"/>
                  </a:lnTo>
                  <a:lnTo>
                    <a:pt x="230887" y="47625"/>
                  </a:lnTo>
                  <a:lnTo>
                    <a:pt x="239015" y="49530"/>
                  </a:lnTo>
                  <a:lnTo>
                    <a:pt x="242825" y="50039"/>
                  </a:lnTo>
                  <a:lnTo>
                    <a:pt x="246635" y="50419"/>
                  </a:lnTo>
                  <a:lnTo>
                    <a:pt x="250572" y="50039"/>
                  </a:lnTo>
                  <a:lnTo>
                    <a:pt x="253873" y="49023"/>
                  </a:lnTo>
                  <a:lnTo>
                    <a:pt x="256794" y="47117"/>
                  </a:lnTo>
                  <a:lnTo>
                    <a:pt x="259588" y="44704"/>
                  </a:lnTo>
                  <a:lnTo>
                    <a:pt x="262510" y="41784"/>
                  </a:lnTo>
                  <a:lnTo>
                    <a:pt x="264415" y="37466"/>
                  </a:lnTo>
                  <a:lnTo>
                    <a:pt x="268225" y="36958"/>
                  </a:lnTo>
                  <a:lnTo>
                    <a:pt x="273050" y="36958"/>
                  </a:lnTo>
                  <a:lnTo>
                    <a:pt x="282194" y="38481"/>
                  </a:lnTo>
                  <a:lnTo>
                    <a:pt x="291847" y="39879"/>
                  </a:lnTo>
                  <a:lnTo>
                    <a:pt x="301372" y="41275"/>
                  </a:lnTo>
                  <a:lnTo>
                    <a:pt x="305690" y="41275"/>
                  </a:lnTo>
                  <a:lnTo>
                    <a:pt x="310007" y="40894"/>
                  </a:lnTo>
                  <a:lnTo>
                    <a:pt x="313817" y="39879"/>
                  </a:lnTo>
                  <a:lnTo>
                    <a:pt x="316738" y="38481"/>
                  </a:lnTo>
                  <a:lnTo>
                    <a:pt x="319660" y="36068"/>
                  </a:lnTo>
                  <a:lnTo>
                    <a:pt x="322072" y="32640"/>
                  </a:lnTo>
                  <a:lnTo>
                    <a:pt x="323469" y="28322"/>
                  </a:lnTo>
                  <a:lnTo>
                    <a:pt x="323978" y="23115"/>
                  </a:lnTo>
                  <a:lnTo>
                    <a:pt x="326772" y="22098"/>
                  </a:lnTo>
                  <a:lnTo>
                    <a:pt x="329692" y="21717"/>
                  </a:lnTo>
                  <a:lnTo>
                    <a:pt x="336932" y="21210"/>
                  </a:lnTo>
                  <a:lnTo>
                    <a:pt x="344170" y="20702"/>
                  </a:lnTo>
                  <a:lnTo>
                    <a:pt x="351282" y="20193"/>
                  </a:lnTo>
                  <a:lnTo>
                    <a:pt x="354711" y="19685"/>
                  </a:lnTo>
                  <a:lnTo>
                    <a:pt x="357505" y="18797"/>
                  </a:lnTo>
                  <a:lnTo>
                    <a:pt x="359918" y="16892"/>
                  </a:lnTo>
                  <a:lnTo>
                    <a:pt x="361824" y="14986"/>
                  </a:lnTo>
                  <a:lnTo>
                    <a:pt x="363348" y="12573"/>
                  </a:lnTo>
                  <a:lnTo>
                    <a:pt x="363729" y="9144"/>
                  </a:lnTo>
                  <a:lnTo>
                    <a:pt x="363729" y="4827"/>
                  </a:lnTo>
                  <a:lnTo>
                    <a:pt x="362331" y="0"/>
                  </a:lnTo>
                  <a:lnTo>
                    <a:pt x="368047" y="509"/>
                  </a:lnTo>
                  <a:lnTo>
                    <a:pt x="373380" y="509"/>
                  </a:lnTo>
                  <a:lnTo>
                    <a:pt x="379095" y="509"/>
                  </a:lnTo>
                  <a:lnTo>
                    <a:pt x="383922" y="509"/>
                  </a:lnTo>
                  <a:lnTo>
                    <a:pt x="388240" y="1524"/>
                  </a:lnTo>
                  <a:lnTo>
                    <a:pt x="390144" y="2033"/>
                  </a:lnTo>
                  <a:lnTo>
                    <a:pt x="391161" y="2922"/>
                  </a:lnTo>
                  <a:lnTo>
                    <a:pt x="392557" y="3937"/>
                  </a:lnTo>
                  <a:lnTo>
                    <a:pt x="393066" y="5335"/>
                  </a:lnTo>
                  <a:lnTo>
                    <a:pt x="393066" y="7240"/>
                  </a:lnTo>
                  <a:lnTo>
                    <a:pt x="393066" y="9653"/>
                  </a:lnTo>
                  <a:lnTo>
                    <a:pt x="387731" y="15875"/>
                  </a:lnTo>
                  <a:lnTo>
                    <a:pt x="381509" y="21717"/>
                  </a:lnTo>
                  <a:lnTo>
                    <a:pt x="373888" y="27433"/>
                  </a:lnTo>
                  <a:lnTo>
                    <a:pt x="365761" y="32259"/>
                  </a:lnTo>
                  <a:lnTo>
                    <a:pt x="356109" y="36577"/>
                  </a:lnTo>
                  <a:lnTo>
                    <a:pt x="346075" y="40894"/>
                  </a:lnTo>
                  <a:lnTo>
                    <a:pt x="335026" y="44704"/>
                  </a:lnTo>
                  <a:lnTo>
                    <a:pt x="323469" y="48006"/>
                  </a:lnTo>
                  <a:lnTo>
                    <a:pt x="311023" y="50928"/>
                  </a:lnTo>
                  <a:lnTo>
                    <a:pt x="298069" y="53848"/>
                  </a:lnTo>
                  <a:lnTo>
                    <a:pt x="284100" y="56261"/>
                  </a:lnTo>
                  <a:lnTo>
                    <a:pt x="270129" y="58167"/>
                  </a:lnTo>
                  <a:lnTo>
                    <a:pt x="255779" y="59564"/>
                  </a:lnTo>
                  <a:lnTo>
                    <a:pt x="241428" y="60960"/>
                  </a:lnTo>
                  <a:lnTo>
                    <a:pt x="211201" y="62992"/>
                  </a:lnTo>
                  <a:lnTo>
                    <a:pt x="180467" y="63373"/>
                  </a:lnTo>
                  <a:lnTo>
                    <a:pt x="150241" y="62485"/>
                  </a:lnTo>
                  <a:lnTo>
                    <a:pt x="120397" y="60960"/>
                  </a:lnTo>
                  <a:lnTo>
                    <a:pt x="106045" y="59564"/>
                  </a:lnTo>
                  <a:lnTo>
                    <a:pt x="92075" y="58167"/>
                  </a:lnTo>
                  <a:lnTo>
                    <a:pt x="78232" y="56642"/>
                  </a:lnTo>
                  <a:lnTo>
                    <a:pt x="65279" y="54737"/>
                  </a:lnTo>
                  <a:lnTo>
                    <a:pt x="52706" y="52324"/>
                  </a:lnTo>
                  <a:lnTo>
                    <a:pt x="40767" y="50419"/>
                  </a:lnTo>
                  <a:lnTo>
                    <a:pt x="29719" y="48006"/>
                  </a:lnTo>
                  <a:lnTo>
                    <a:pt x="19178" y="45212"/>
                  </a:lnTo>
                  <a:lnTo>
                    <a:pt x="9525" y="42292"/>
                  </a:lnTo>
                  <a:lnTo>
                    <a:pt x="890" y="39371"/>
                  </a:lnTo>
                  <a:close/>
                </a:path>
              </a:pathLst>
            </a:custGeom>
            <a:solidFill>
              <a:srgbClr val="417a33"/>
            </a:solidFill>
            <a:ln w="0">
              <a:solidFill>
                <a:srgbClr val="417a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ihandform 108"/>
            <p:cNvSpPr/>
            <p:nvPr/>
          </p:nvSpPr>
          <p:spPr>
            <a:xfrm>
              <a:off x="3559320" y="2725920"/>
              <a:ext cx="484200" cy="48960"/>
            </a:xfrm>
            <a:custGeom>
              <a:avLst/>
              <a:gdLst>
                <a:gd name="textAreaLeft" fmla="*/ 0 w 484200"/>
                <a:gd name="textAreaRight" fmla="*/ 484560 w 48420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393575" h="60960">
                  <a:moveTo>
                    <a:pt x="890" y="36957"/>
                  </a:moveTo>
                  <a:lnTo>
                    <a:pt x="0" y="35052"/>
                  </a:lnTo>
                  <a:lnTo>
                    <a:pt x="0" y="33654"/>
                  </a:lnTo>
                  <a:lnTo>
                    <a:pt x="0" y="32639"/>
                  </a:lnTo>
                  <a:lnTo>
                    <a:pt x="890" y="31241"/>
                  </a:lnTo>
                  <a:lnTo>
                    <a:pt x="2287" y="30226"/>
                  </a:lnTo>
                  <a:lnTo>
                    <a:pt x="4319" y="29845"/>
                  </a:lnTo>
                  <a:lnTo>
                    <a:pt x="8637" y="28321"/>
                  </a:lnTo>
                  <a:lnTo>
                    <a:pt x="19685" y="26415"/>
                  </a:lnTo>
                  <a:lnTo>
                    <a:pt x="24892" y="25019"/>
                  </a:lnTo>
                  <a:lnTo>
                    <a:pt x="29719" y="22605"/>
                  </a:lnTo>
                  <a:lnTo>
                    <a:pt x="33020" y="23114"/>
                  </a:lnTo>
                  <a:lnTo>
                    <a:pt x="36957" y="24003"/>
                  </a:lnTo>
                  <a:lnTo>
                    <a:pt x="45085" y="27432"/>
                  </a:lnTo>
                  <a:lnTo>
                    <a:pt x="62357" y="34544"/>
                  </a:lnTo>
                  <a:lnTo>
                    <a:pt x="71501" y="37465"/>
                  </a:lnTo>
                  <a:lnTo>
                    <a:pt x="75819" y="38480"/>
                  </a:lnTo>
                  <a:lnTo>
                    <a:pt x="80138" y="38861"/>
                  </a:lnTo>
                  <a:lnTo>
                    <a:pt x="84456" y="38861"/>
                  </a:lnTo>
                  <a:lnTo>
                    <a:pt x="88773" y="38480"/>
                  </a:lnTo>
                  <a:lnTo>
                    <a:pt x="92584" y="36957"/>
                  </a:lnTo>
                  <a:lnTo>
                    <a:pt x="96901" y="34544"/>
                  </a:lnTo>
                  <a:lnTo>
                    <a:pt x="100712" y="38861"/>
                  </a:lnTo>
                  <a:lnTo>
                    <a:pt x="104648" y="42798"/>
                  </a:lnTo>
                  <a:lnTo>
                    <a:pt x="108459" y="45211"/>
                  </a:lnTo>
                  <a:lnTo>
                    <a:pt x="111760" y="46609"/>
                  </a:lnTo>
                  <a:lnTo>
                    <a:pt x="115190" y="47625"/>
                  </a:lnTo>
                  <a:lnTo>
                    <a:pt x="118491" y="48005"/>
                  </a:lnTo>
                  <a:lnTo>
                    <a:pt x="125222" y="47116"/>
                  </a:lnTo>
                  <a:lnTo>
                    <a:pt x="131445" y="44703"/>
                  </a:lnTo>
                  <a:lnTo>
                    <a:pt x="137669" y="42290"/>
                  </a:lnTo>
                  <a:lnTo>
                    <a:pt x="144400" y="40385"/>
                  </a:lnTo>
                  <a:lnTo>
                    <a:pt x="147320" y="39878"/>
                  </a:lnTo>
                  <a:lnTo>
                    <a:pt x="150622" y="39878"/>
                  </a:lnTo>
                  <a:lnTo>
                    <a:pt x="154941" y="43688"/>
                  </a:lnTo>
                  <a:lnTo>
                    <a:pt x="158878" y="47116"/>
                  </a:lnTo>
                  <a:lnTo>
                    <a:pt x="162688" y="49021"/>
                  </a:lnTo>
                  <a:lnTo>
                    <a:pt x="165990" y="50419"/>
                  </a:lnTo>
                  <a:lnTo>
                    <a:pt x="169926" y="51434"/>
                  </a:lnTo>
                  <a:lnTo>
                    <a:pt x="173229" y="51434"/>
                  </a:lnTo>
                  <a:lnTo>
                    <a:pt x="180467" y="50419"/>
                  </a:lnTo>
                  <a:lnTo>
                    <a:pt x="187198" y="48514"/>
                  </a:lnTo>
                  <a:lnTo>
                    <a:pt x="194310" y="46101"/>
                  </a:lnTo>
                  <a:lnTo>
                    <a:pt x="201041" y="44196"/>
                  </a:lnTo>
                  <a:lnTo>
                    <a:pt x="207772" y="43179"/>
                  </a:lnTo>
                  <a:lnTo>
                    <a:pt x="211582" y="43688"/>
                  </a:lnTo>
                  <a:lnTo>
                    <a:pt x="215519" y="44196"/>
                  </a:lnTo>
                  <a:lnTo>
                    <a:pt x="223647" y="46101"/>
                  </a:lnTo>
                  <a:lnTo>
                    <a:pt x="232284" y="48514"/>
                  </a:lnTo>
                  <a:lnTo>
                    <a:pt x="240412" y="50419"/>
                  </a:lnTo>
                  <a:lnTo>
                    <a:pt x="244222" y="50927"/>
                  </a:lnTo>
                  <a:lnTo>
                    <a:pt x="248159" y="50927"/>
                  </a:lnTo>
                  <a:lnTo>
                    <a:pt x="251460" y="50419"/>
                  </a:lnTo>
                  <a:lnTo>
                    <a:pt x="254890" y="49529"/>
                  </a:lnTo>
                  <a:lnTo>
                    <a:pt x="258191" y="47625"/>
                  </a:lnTo>
                  <a:lnTo>
                    <a:pt x="261113" y="45211"/>
                  </a:lnTo>
                  <a:lnTo>
                    <a:pt x="263525" y="41783"/>
                  </a:lnTo>
                  <a:lnTo>
                    <a:pt x="265812" y="37465"/>
                  </a:lnTo>
                  <a:lnTo>
                    <a:pt x="269748" y="36957"/>
                  </a:lnTo>
                  <a:lnTo>
                    <a:pt x="274066" y="37465"/>
                  </a:lnTo>
                  <a:lnTo>
                    <a:pt x="283591" y="38480"/>
                  </a:lnTo>
                  <a:lnTo>
                    <a:pt x="293244" y="40385"/>
                  </a:lnTo>
                  <a:lnTo>
                    <a:pt x="302769" y="41783"/>
                  </a:lnTo>
                  <a:lnTo>
                    <a:pt x="307087" y="41783"/>
                  </a:lnTo>
                  <a:lnTo>
                    <a:pt x="311532" y="41783"/>
                  </a:lnTo>
                  <a:lnTo>
                    <a:pt x="315341" y="40894"/>
                  </a:lnTo>
                  <a:lnTo>
                    <a:pt x="318644" y="39370"/>
                  </a:lnTo>
                  <a:lnTo>
                    <a:pt x="321057" y="36957"/>
                  </a:lnTo>
                  <a:lnTo>
                    <a:pt x="323469" y="33654"/>
                  </a:lnTo>
                  <a:lnTo>
                    <a:pt x="324866" y="29336"/>
                  </a:lnTo>
                  <a:lnTo>
                    <a:pt x="325882" y="24003"/>
                  </a:lnTo>
                  <a:lnTo>
                    <a:pt x="328295" y="23114"/>
                  </a:lnTo>
                  <a:lnTo>
                    <a:pt x="331597" y="22097"/>
                  </a:lnTo>
                  <a:lnTo>
                    <a:pt x="338329" y="21590"/>
                  </a:lnTo>
                  <a:lnTo>
                    <a:pt x="346075" y="21590"/>
                  </a:lnTo>
                  <a:lnTo>
                    <a:pt x="353188" y="21209"/>
                  </a:lnTo>
                  <a:lnTo>
                    <a:pt x="356617" y="20701"/>
                  </a:lnTo>
                  <a:lnTo>
                    <a:pt x="359411" y="19684"/>
                  </a:lnTo>
                  <a:lnTo>
                    <a:pt x="362331" y="18288"/>
                  </a:lnTo>
                  <a:lnTo>
                    <a:pt x="364236" y="15875"/>
                  </a:lnTo>
                  <a:lnTo>
                    <a:pt x="365761" y="13461"/>
                  </a:lnTo>
                  <a:lnTo>
                    <a:pt x="366142" y="10159"/>
                  </a:lnTo>
                  <a:lnTo>
                    <a:pt x="366142" y="5841"/>
                  </a:lnTo>
                  <a:lnTo>
                    <a:pt x="365253" y="1015"/>
                  </a:lnTo>
                  <a:lnTo>
                    <a:pt x="370460" y="1523"/>
                  </a:lnTo>
                  <a:lnTo>
                    <a:pt x="375793" y="1015"/>
                  </a:lnTo>
                  <a:lnTo>
                    <a:pt x="380619" y="508"/>
                  </a:lnTo>
                  <a:lnTo>
                    <a:pt x="385445" y="0"/>
                  </a:lnTo>
                  <a:lnTo>
                    <a:pt x="389255" y="0"/>
                  </a:lnTo>
                  <a:lnTo>
                    <a:pt x="390653" y="508"/>
                  </a:lnTo>
                  <a:lnTo>
                    <a:pt x="391668" y="1015"/>
                  </a:lnTo>
                  <a:lnTo>
                    <a:pt x="392557" y="1904"/>
                  </a:lnTo>
                  <a:lnTo>
                    <a:pt x="393066" y="3428"/>
                  </a:lnTo>
                  <a:lnTo>
                    <a:pt x="393574" y="5334"/>
                  </a:lnTo>
                  <a:lnTo>
                    <a:pt x="393066" y="7746"/>
                  </a:lnTo>
                  <a:lnTo>
                    <a:pt x="387731" y="13970"/>
                  </a:lnTo>
                  <a:lnTo>
                    <a:pt x="381509" y="19684"/>
                  </a:lnTo>
                  <a:lnTo>
                    <a:pt x="373888" y="25019"/>
                  </a:lnTo>
                  <a:lnTo>
                    <a:pt x="365761" y="29845"/>
                  </a:lnTo>
                  <a:lnTo>
                    <a:pt x="356109" y="34544"/>
                  </a:lnTo>
                  <a:lnTo>
                    <a:pt x="346075" y="38861"/>
                  </a:lnTo>
                  <a:lnTo>
                    <a:pt x="335026" y="42290"/>
                  </a:lnTo>
                  <a:lnTo>
                    <a:pt x="323469" y="46101"/>
                  </a:lnTo>
                  <a:lnTo>
                    <a:pt x="311023" y="49021"/>
                  </a:lnTo>
                  <a:lnTo>
                    <a:pt x="298069" y="51434"/>
                  </a:lnTo>
                  <a:lnTo>
                    <a:pt x="284100" y="53847"/>
                  </a:lnTo>
                  <a:lnTo>
                    <a:pt x="270129" y="55753"/>
                  </a:lnTo>
                  <a:lnTo>
                    <a:pt x="255779" y="57658"/>
                  </a:lnTo>
                  <a:lnTo>
                    <a:pt x="241428" y="58546"/>
                  </a:lnTo>
                  <a:lnTo>
                    <a:pt x="211201" y="60578"/>
                  </a:lnTo>
                  <a:lnTo>
                    <a:pt x="180467" y="60959"/>
                  </a:lnTo>
                  <a:lnTo>
                    <a:pt x="150241" y="60578"/>
                  </a:lnTo>
                  <a:lnTo>
                    <a:pt x="120397" y="58546"/>
                  </a:lnTo>
                  <a:lnTo>
                    <a:pt x="106045" y="57658"/>
                  </a:lnTo>
                  <a:lnTo>
                    <a:pt x="92075" y="56260"/>
                  </a:lnTo>
                  <a:lnTo>
                    <a:pt x="78232" y="54228"/>
                  </a:lnTo>
                  <a:lnTo>
                    <a:pt x="65279" y="52323"/>
                  </a:lnTo>
                  <a:lnTo>
                    <a:pt x="52706" y="50419"/>
                  </a:lnTo>
                  <a:lnTo>
                    <a:pt x="40767" y="48005"/>
                  </a:lnTo>
                  <a:lnTo>
                    <a:pt x="29719" y="45592"/>
                  </a:lnTo>
                  <a:lnTo>
                    <a:pt x="19178" y="42798"/>
                  </a:lnTo>
                  <a:lnTo>
                    <a:pt x="9525" y="39878"/>
                  </a:lnTo>
                  <a:lnTo>
                    <a:pt x="890" y="36957"/>
                  </a:lnTo>
                  <a:close/>
                </a:path>
              </a:pathLst>
            </a:custGeom>
            <a:solidFill>
              <a:srgbClr val="2a6e20"/>
            </a:solidFill>
            <a:ln w="0">
              <a:solidFill>
                <a:srgbClr val="2a6e2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ihandform 109"/>
            <p:cNvSpPr/>
            <p:nvPr/>
          </p:nvSpPr>
          <p:spPr>
            <a:xfrm>
              <a:off x="3559320" y="2727360"/>
              <a:ext cx="484200" cy="47520"/>
            </a:xfrm>
            <a:custGeom>
              <a:avLst/>
              <a:gdLst>
                <a:gd name="textAreaLeft" fmla="*/ 0 w 484200"/>
                <a:gd name="textAreaRight" fmla="*/ 484560 w 48420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393067" h="59945">
                  <a:moveTo>
                    <a:pt x="890" y="35942"/>
                  </a:moveTo>
                  <a:lnTo>
                    <a:pt x="0" y="34544"/>
                  </a:lnTo>
                  <a:lnTo>
                    <a:pt x="0" y="33148"/>
                  </a:lnTo>
                  <a:lnTo>
                    <a:pt x="0" y="31624"/>
                  </a:lnTo>
                  <a:lnTo>
                    <a:pt x="890" y="30735"/>
                  </a:lnTo>
                  <a:lnTo>
                    <a:pt x="2287" y="30226"/>
                  </a:lnTo>
                  <a:lnTo>
                    <a:pt x="4319" y="29719"/>
                  </a:lnTo>
                  <a:lnTo>
                    <a:pt x="8637" y="28830"/>
                  </a:lnTo>
                  <a:lnTo>
                    <a:pt x="19685" y="27813"/>
                  </a:lnTo>
                  <a:lnTo>
                    <a:pt x="24892" y="26417"/>
                  </a:lnTo>
                  <a:lnTo>
                    <a:pt x="27306" y="25908"/>
                  </a:lnTo>
                  <a:lnTo>
                    <a:pt x="29719" y="24512"/>
                  </a:lnTo>
                  <a:lnTo>
                    <a:pt x="33020" y="24893"/>
                  </a:lnTo>
                  <a:lnTo>
                    <a:pt x="37338" y="26417"/>
                  </a:lnTo>
                  <a:lnTo>
                    <a:pt x="45594" y="29211"/>
                  </a:lnTo>
                  <a:lnTo>
                    <a:pt x="54229" y="33148"/>
                  </a:lnTo>
                  <a:lnTo>
                    <a:pt x="62866" y="36957"/>
                  </a:lnTo>
                  <a:lnTo>
                    <a:pt x="72010" y="40260"/>
                  </a:lnTo>
                  <a:lnTo>
                    <a:pt x="76328" y="41275"/>
                  </a:lnTo>
                  <a:lnTo>
                    <a:pt x="80645" y="41783"/>
                  </a:lnTo>
                  <a:lnTo>
                    <a:pt x="84963" y="41783"/>
                  </a:lnTo>
                  <a:lnTo>
                    <a:pt x="89282" y="41275"/>
                  </a:lnTo>
                  <a:lnTo>
                    <a:pt x="93600" y="39879"/>
                  </a:lnTo>
                  <a:lnTo>
                    <a:pt x="97410" y="37465"/>
                  </a:lnTo>
                  <a:lnTo>
                    <a:pt x="101219" y="41783"/>
                  </a:lnTo>
                  <a:lnTo>
                    <a:pt x="105029" y="45594"/>
                  </a:lnTo>
                  <a:lnTo>
                    <a:pt x="108966" y="48006"/>
                  </a:lnTo>
                  <a:lnTo>
                    <a:pt x="112269" y="49404"/>
                  </a:lnTo>
                  <a:lnTo>
                    <a:pt x="116079" y="50419"/>
                  </a:lnTo>
                  <a:lnTo>
                    <a:pt x="119507" y="50927"/>
                  </a:lnTo>
                  <a:lnTo>
                    <a:pt x="125731" y="49404"/>
                  </a:lnTo>
                  <a:lnTo>
                    <a:pt x="132462" y="46990"/>
                  </a:lnTo>
                  <a:lnTo>
                    <a:pt x="138685" y="44577"/>
                  </a:lnTo>
                  <a:lnTo>
                    <a:pt x="144907" y="42673"/>
                  </a:lnTo>
                  <a:lnTo>
                    <a:pt x="148210" y="42164"/>
                  </a:lnTo>
                  <a:lnTo>
                    <a:pt x="151638" y="42164"/>
                  </a:lnTo>
                  <a:lnTo>
                    <a:pt x="155448" y="46610"/>
                  </a:lnTo>
                  <a:lnTo>
                    <a:pt x="159259" y="49404"/>
                  </a:lnTo>
                  <a:lnTo>
                    <a:pt x="163195" y="51308"/>
                  </a:lnTo>
                  <a:lnTo>
                    <a:pt x="167006" y="52832"/>
                  </a:lnTo>
                  <a:lnTo>
                    <a:pt x="170816" y="53721"/>
                  </a:lnTo>
                  <a:lnTo>
                    <a:pt x="174244" y="53721"/>
                  </a:lnTo>
                  <a:lnTo>
                    <a:pt x="181357" y="52832"/>
                  </a:lnTo>
                  <a:lnTo>
                    <a:pt x="188595" y="50927"/>
                  </a:lnTo>
                  <a:lnTo>
                    <a:pt x="195326" y="48514"/>
                  </a:lnTo>
                  <a:lnTo>
                    <a:pt x="202057" y="46101"/>
                  </a:lnTo>
                  <a:lnTo>
                    <a:pt x="209169" y="45594"/>
                  </a:lnTo>
                  <a:lnTo>
                    <a:pt x="216916" y="46610"/>
                  </a:lnTo>
                  <a:lnTo>
                    <a:pt x="225044" y="48514"/>
                  </a:lnTo>
                  <a:lnTo>
                    <a:pt x="233172" y="50419"/>
                  </a:lnTo>
                  <a:lnTo>
                    <a:pt x="241428" y="51817"/>
                  </a:lnTo>
                  <a:lnTo>
                    <a:pt x="245238" y="52325"/>
                  </a:lnTo>
                  <a:lnTo>
                    <a:pt x="249047" y="52325"/>
                  </a:lnTo>
                  <a:lnTo>
                    <a:pt x="252857" y="51817"/>
                  </a:lnTo>
                  <a:lnTo>
                    <a:pt x="256287" y="50927"/>
                  </a:lnTo>
                  <a:lnTo>
                    <a:pt x="259207" y="48895"/>
                  </a:lnTo>
                  <a:lnTo>
                    <a:pt x="262001" y="46610"/>
                  </a:lnTo>
                  <a:lnTo>
                    <a:pt x="264922" y="43181"/>
                  </a:lnTo>
                  <a:lnTo>
                    <a:pt x="266828" y="38863"/>
                  </a:lnTo>
                  <a:lnTo>
                    <a:pt x="270638" y="38355"/>
                  </a:lnTo>
                  <a:lnTo>
                    <a:pt x="275463" y="38863"/>
                  </a:lnTo>
                  <a:lnTo>
                    <a:pt x="284607" y="40260"/>
                  </a:lnTo>
                  <a:lnTo>
                    <a:pt x="294641" y="42164"/>
                  </a:lnTo>
                  <a:lnTo>
                    <a:pt x="304292" y="43688"/>
                  </a:lnTo>
                  <a:lnTo>
                    <a:pt x="308610" y="43688"/>
                  </a:lnTo>
                  <a:lnTo>
                    <a:pt x="312929" y="43688"/>
                  </a:lnTo>
                  <a:lnTo>
                    <a:pt x="316738" y="42673"/>
                  </a:lnTo>
                  <a:lnTo>
                    <a:pt x="320167" y="41275"/>
                  </a:lnTo>
                  <a:lnTo>
                    <a:pt x="322454" y="38863"/>
                  </a:lnTo>
                  <a:lnTo>
                    <a:pt x="324866" y="35561"/>
                  </a:lnTo>
                  <a:lnTo>
                    <a:pt x="326391" y="31243"/>
                  </a:lnTo>
                  <a:lnTo>
                    <a:pt x="327279" y="25908"/>
                  </a:lnTo>
                  <a:lnTo>
                    <a:pt x="329692" y="24893"/>
                  </a:lnTo>
                  <a:lnTo>
                    <a:pt x="333122" y="24512"/>
                  </a:lnTo>
                  <a:lnTo>
                    <a:pt x="340234" y="24004"/>
                  </a:lnTo>
                  <a:lnTo>
                    <a:pt x="347981" y="24004"/>
                  </a:lnTo>
                  <a:lnTo>
                    <a:pt x="355093" y="23495"/>
                  </a:lnTo>
                  <a:lnTo>
                    <a:pt x="358522" y="22606"/>
                  </a:lnTo>
                  <a:lnTo>
                    <a:pt x="361824" y="21590"/>
                  </a:lnTo>
                  <a:lnTo>
                    <a:pt x="364236" y="20194"/>
                  </a:lnTo>
                  <a:lnTo>
                    <a:pt x="366142" y="18288"/>
                  </a:lnTo>
                  <a:lnTo>
                    <a:pt x="367666" y="15875"/>
                  </a:lnTo>
                  <a:lnTo>
                    <a:pt x="368555" y="12446"/>
                  </a:lnTo>
                  <a:lnTo>
                    <a:pt x="368555" y="8129"/>
                  </a:lnTo>
                  <a:lnTo>
                    <a:pt x="367157" y="2921"/>
                  </a:lnTo>
                  <a:lnTo>
                    <a:pt x="372492" y="3302"/>
                  </a:lnTo>
                  <a:lnTo>
                    <a:pt x="377699" y="2921"/>
                  </a:lnTo>
                  <a:lnTo>
                    <a:pt x="382524" y="1906"/>
                  </a:lnTo>
                  <a:lnTo>
                    <a:pt x="386335" y="508"/>
                  </a:lnTo>
                  <a:lnTo>
                    <a:pt x="389763" y="0"/>
                  </a:lnTo>
                  <a:lnTo>
                    <a:pt x="391161" y="0"/>
                  </a:lnTo>
                  <a:lnTo>
                    <a:pt x="392049" y="508"/>
                  </a:lnTo>
                  <a:lnTo>
                    <a:pt x="392557" y="1398"/>
                  </a:lnTo>
                  <a:lnTo>
                    <a:pt x="393066" y="2413"/>
                  </a:lnTo>
                  <a:lnTo>
                    <a:pt x="393066" y="4319"/>
                  </a:lnTo>
                  <a:lnTo>
                    <a:pt x="393066" y="6731"/>
                  </a:lnTo>
                  <a:lnTo>
                    <a:pt x="387731" y="12955"/>
                  </a:lnTo>
                  <a:lnTo>
                    <a:pt x="381509" y="18669"/>
                  </a:lnTo>
                  <a:lnTo>
                    <a:pt x="373888" y="24004"/>
                  </a:lnTo>
                  <a:lnTo>
                    <a:pt x="365761" y="28830"/>
                  </a:lnTo>
                  <a:lnTo>
                    <a:pt x="356109" y="33529"/>
                  </a:lnTo>
                  <a:lnTo>
                    <a:pt x="346075" y="37846"/>
                  </a:lnTo>
                  <a:lnTo>
                    <a:pt x="335026" y="41275"/>
                  </a:lnTo>
                  <a:lnTo>
                    <a:pt x="322962" y="45086"/>
                  </a:lnTo>
                  <a:lnTo>
                    <a:pt x="310516" y="48006"/>
                  </a:lnTo>
                  <a:lnTo>
                    <a:pt x="297562" y="50419"/>
                  </a:lnTo>
                  <a:lnTo>
                    <a:pt x="284100" y="52832"/>
                  </a:lnTo>
                  <a:lnTo>
                    <a:pt x="270129" y="54738"/>
                  </a:lnTo>
                  <a:lnTo>
                    <a:pt x="255779" y="56643"/>
                  </a:lnTo>
                  <a:lnTo>
                    <a:pt x="240919" y="57531"/>
                  </a:lnTo>
                  <a:lnTo>
                    <a:pt x="211201" y="59563"/>
                  </a:lnTo>
                  <a:lnTo>
                    <a:pt x="180467" y="59944"/>
                  </a:lnTo>
                  <a:lnTo>
                    <a:pt x="150241" y="59563"/>
                  </a:lnTo>
                  <a:lnTo>
                    <a:pt x="120397" y="57531"/>
                  </a:lnTo>
                  <a:lnTo>
                    <a:pt x="106045" y="56643"/>
                  </a:lnTo>
                  <a:lnTo>
                    <a:pt x="92075" y="55245"/>
                  </a:lnTo>
                  <a:lnTo>
                    <a:pt x="78232" y="53213"/>
                  </a:lnTo>
                  <a:lnTo>
                    <a:pt x="65279" y="51308"/>
                  </a:lnTo>
                  <a:lnTo>
                    <a:pt x="52706" y="49404"/>
                  </a:lnTo>
                  <a:lnTo>
                    <a:pt x="40767" y="46990"/>
                  </a:lnTo>
                  <a:lnTo>
                    <a:pt x="29210" y="44577"/>
                  </a:lnTo>
                  <a:lnTo>
                    <a:pt x="19178" y="41783"/>
                  </a:lnTo>
                  <a:lnTo>
                    <a:pt x="9525" y="38863"/>
                  </a:lnTo>
                  <a:lnTo>
                    <a:pt x="890" y="35942"/>
                  </a:lnTo>
                  <a:close/>
                </a:path>
              </a:pathLst>
            </a:custGeom>
            <a:solidFill>
              <a:srgbClr val="11610d"/>
            </a:solidFill>
            <a:ln w="0">
              <a:solidFill>
                <a:srgbClr val="11610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ihandform 110"/>
            <p:cNvSpPr/>
            <p:nvPr/>
          </p:nvSpPr>
          <p:spPr>
            <a:xfrm>
              <a:off x="3559320" y="2727360"/>
              <a:ext cx="484200" cy="47520"/>
            </a:xfrm>
            <a:custGeom>
              <a:avLst/>
              <a:gdLst>
                <a:gd name="textAreaLeft" fmla="*/ 0 w 484200"/>
                <a:gd name="textAreaRight" fmla="*/ 484560 w 48420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393067" h="59056">
                  <a:moveTo>
                    <a:pt x="890" y="35053"/>
                  </a:moveTo>
                  <a:lnTo>
                    <a:pt x="0" y="33655"/>
                  </a:lnTo>
                  <a:lnTo>
                    <a:pt x="0" y="32259"/>
                  </a:lnTo>
                  <a:lnTo>
                    <a:pt x="0" y="31242"/>
                  </a:lnTo>
                  <a:lnTo>
                    <a:pt x="890" y="30354"/>
                  </a:lnTo>
                  <a:lnTo>
                    <a:pt x="2287" y="29846"/>
                  </a:lnTo>
                  <a:lnTo>
                    <a:pt x="4319" y="29846"/>
                  </a:lnTo>
                  <a:lnTo>
                    <a:pt x="8637" y="29337"/>
                  </a:lnTo>
                  <a:lnTo>
                    <a:pt x="14351" y="29846"/>
                  </a:lnTo>
                  <a:lnTo>
                    <a:pt x="19685" y="29337"/>
                  </a:lnTo>
                  <a:lnTo>
                    <a:pt x="25400" y="28322"/>
                  </a:lnTo>
                  <a:lnTo>
                    <a:pt x="27813" y="27941"/>
                  </a:lnTo>
                  <a:lnTo>
                    <a:pt x="29719" y="26417"/>
                  </a:lnTo>
                  <a:lnTo>
                    <a:pt x="33529" y="27432"/>
                  </a:lnTo>
                  <a:lnTo>
                    <a:pt x="37338" y="28322"/>
                  </a:lnTo>
                  <a:lnTo>
                    <a:pt x="45594" y="31750"/>
                  </a:lnTo>
                  <a:lnTo>
                    <a:pt x="54229" y="35561"/>
                  </a:lnTo>
                  <a:lnTo>
                    <a:pt x="63247" y="39371"/>
                  </a:lnTo>
                  <a:lnTo>
                    <a:pt x="72391" y="42799"/>
                  </a:lnTo>
                  <a:lnTo>
                    <a:pt x="76709" y="44197"/>
                  </a:lnTo>
                  <a:lnTo>
                    <a:pt x="81026" y="44705"/>
                  </a:lnTo>
                  <a:lnTo>
                    <a:pt x="85344" y="44705"/>
                  </a:lnTo>
                  <a:lnTo>
                    <a:pt x="89663" y="44197"/>
                  </a:lnTo>
                  <a:lnTo>
                    <a:pt x="93981" y="42799"/>
                  </a:lnTo>
                  <a:lnTo>
                    <a:pt x="97917" y="40386"/>
                  </a:lnTo>
                  <a:lnTo>
                    <a:pt x="102235" y="45212"/>
                  </a:lnTo>
                  <a:lnTo>
                    <a:pt x="106045" y="48515"/>
                  </a:lnTo>
                  <a:lnTo>
                    <a:pt x="109347" y="50928"/>
                  </a:lnTo>
                  <a:lnTo>
                    <a:pt x="113285" y="52324"/>
                  </a:lnTo>
                  <a:lnTo>
                    <a:pt x="116587" y="53341"/>
                  </a:lnTo>
                  <a:lnTo>
                    <a:pt x="119888" y="53341"/>
                  </a:lnTo>
                  <a:lnTo>
                    <a:pt x="126619" y="52324"/>
                  </a:lnTo>
                  <a:lnTo>
                    <a:pt x="132969" y="50038"/>
                  </a:lnTo>
                  <a:lnTo>
                    <a:pt x="139573" y="47117"/>
                  </a:lnTo>
                  <a:lnTo>
                    <a:pt x="145923" y="45212"/>
                  </a:lnTo>
                  <a:lnTo>
                    <a:pt x="149225" y="44705"/>
                  </a:lnTo>
                  <a:lnTo>
                    <a:pt x="152528" y="44705"/>
                  </a:lnTo>
                  <a:lnTo>
                    <a:pt x="156465" y="49023"/>
                  </a:lnTo>
                  <a:lnTo>
                    <a:pt x="160275" y="51943"/>
                  </a:lnTo>
                  <a:lnTo>
                    <a:pt x="164085" y="54356"/>
                  </a:lnTo>
                  <a:lnTo>
                    <a:pt x="167894" y="55246"/>
                  </a:lnTo>
                  <a:lnTo>
                    <a:pt x="171832" y="56261"/>
                  </a:lnTo>
                  <a:lnTo>
                    <a:pt x="175134" y="56261"/>
                  </a:lnTo>
                  <a:lnTo>
                    <a:pt x="182372" y="55246"/>
                  </a:lnTo>
                  <a:lnTo>
                    <a:pt x="189612" y="53341"/>
                  </a:lnTo>
                  <a:lnTo>
                    <a:pt x="196723" y="50419"/>
                  </a:lnTo>
                  <a:lnTo>
                    <a:pt x="203454" y="48515"/>
                  </a:lnTo>
                  <a:lnTo>
                    <a:pt x="210185" y="48006"/>
                  </a:lnTo>
                  <a:lnTo>
                    <a:pt x="217806" y="49023"/>
                  </a:lnTo>
                  <a:lnTo>
                    <a:pt x="226060" y="50419"/>
                  </a:lnTo>
                  <a:lnTo>
                    <a:pt x="234697" y="52324"/>
                  </a:lnTo>
                  <a:lnTo>
                    <a:pt x="242825" y="53849"/>
                  </a:lnTo>
                  <a:lnTo>
                    <a:pt x="246635" y="54356"/>
                  </a:lnTo>
                  <a:lnTo>
                    <a:pt x="250572" y="54356"/>
                  </a:lnTo>
                  <a:lnTo>
                    <a:pt x="253873" y="53849"/>
                  </a:lnTo>
                  <a:lnTo>
                    <a:pt x="257175" y="52324"/>
                  </a:lnTo>
                  <a:lnTo>
                    <a:pt x="260604" y="50419"/>
                  </a:lnTo>
                  <a:lnTo>
                    <a:pt x="263525" y="48006"/>
                  </a:lnTo>
                  <a:lnTo>
                    <a:pt x="265812" y="44705"/>
                  </a:lnTo>
                  <a:lnTo>
                    <a:pt x="268225" y="40386"/>
                  </a:lnTo>
                  <a:lnTo>
                    <a:pt x="272162" y="39879"/>
                  </a:lnTo>
                  <a:lnTo>
                    <a:pt x="276479" y="40386"/>
                  </a:lnTo>
                  <a:lnTo>
                    <a:pt x="286004" y="41784"/>
                  </a:lnTo>
                  <a:lnTo>
                    <a:pt x="296165" y="43688"/>
                  </a:lnTo>
                  <a:lnTo>
                    <a:pt x="305690" y="45212"/>
                  </a:lnTo>
                  <a:lnTo>
                    <a:pt x="310007" y="45721"/>
                  </a:lnTo>
                  <a:lnTo>
                    <a:pt x="314325" y="45721"/>
                  </a:lnTo>
                  <a:lnTo>
                    <a:pt x="318135" y="44705"/>
                  </a:lnTo>
                  <a:lnTo>
                    <a:pt x="321565" y="43307"/>
                  </a:lnTo>
                  <a:lnTo>
                    <a:pt x="324485" y="41275"/>
                  </a:lnTo>
                  <a:lnTo>
                    <a:pt x="326391" y="37974"/>
                  </a:lnTo>
                  <a:lnTo>
                    <a:pt x="328295" y="33655"/>
                  </a:lnTo>
                  <a:lnTo>
                    <a:pt x="328804" y="28322"/>
                  </a:lnTo>
                  <a:lnTo>
                    <a:pt x="331597" y="27432"/>
                  </a:lnTo>
                  <a:lnTo>
                    <a:pt x="334519" y="26924"/>
                  </a:lnTo>
                  <a:lnTo>
                    <a:pt x="341757" y="26417"/>
                  </a:lnTo>
                  <a:lnTo>
                    <a:pt x="349378" y="26036"/>
                  </a:lnTo>
                  <a:lnTo>
                    <a:pt x="357124" y="25528"/>
                  </a:lnTo>
                  <a:lnTo>
                    <a:pt x="360935" y="25019"/>
                  </a:lnTo>
                  <a:lnTo>
                    <a:pt x="363729" y="24004"/>
                  </a:lnTo>
                  <a:lnTo>
                    <a:pt x="366649" y="22606"/>
                  </a:lnTo>
                  <a:lnTo>
                    <a:pt x="368555" y="20701"/>
                  </a:lnTo>
                  <a:lnTo>
                    <a:pt x="370079" y="17780"/>
                  </a:lnTo>
                  <a:lnTo>
                    <a:pt x="370968" y="14479"/>
                  </a:lnTo>
                  <a:lnTo>
                    <a:pt x="370968" y="10668"/>
                  </a:lnTo>
                  <a:lnTo>
                    <a:pt x="370079" y="5335"/>
                  </a:lnTo>
                  <a:lnTo>
                    <a:pt x="374778" y="5842"/>
                  </a:lnTo>
                  <a:lnTo>
                    <a:pt x="379604" y="4826"/>
                  </a:lnTo>
                  <a:lnTo>
                    <a:pt x="383922" y="2922"/>
                  </a:lnTo>
                  <a:lnTo>
                    <a:pt x="387731" y="1524"/>
                  </a:lnTo>
                  <a:lnTo>
                    <a:pt x="390653" y="509"/>
                  </a:lnTo>
                  <a:lnTo>
                    <a:pt x="391668" y="0"/>
                  </a:lnTo>
                  <a:lnTo>
                    <a:pt x="392557" y="0"/>
                  </a:lnTo>
                  <a:lnTo>
                    <a:pt x="393066" y="1017"/>
                  </a:lnTo>
                  <a:lnTo>
                    <a:pt x="393066" y="2032"/>
                  </a:lnTo>
                  <a:lnTo>
                    <a:pt x="393066" y="3430"/>
                  </a:lnTo>
                  <a:lnTo>
                    <a:pt x="393066" y="5842"/>
                  </a:lnTo>
                  <a:lnTo>
                    <a:pt x="387731" y="12066"/>
                  </a:lnTo>
                  <a:lnTo>
                    <a:pt x="381509" y="17780"/>
                  </a:lnTo>
                  <a:lnTo>
                    <a:pt x="373888" y="23115"/>
                  </a:lnTo>
                  <a:lnTo>
                    <a:pt x="365761" y="27941"/>
                  </a:lnTo>
                  <a:lnTo>
                    <a:pt x="356109" y="32640"/>
                  </a:lnTo>
                  <a:lnTo>
                    <a:pt x="346075" y="36957"/>
                  </a:lnTo>
                  <a:lnTo>
                    <a:pt x="335026" y="40894"/>
                  </a:lnTo>
                  <a:lnTo>
                    <a:pt x="322962" y="44197"/>
                  </a:lnTo>
                  <a:lnTo>
                    <a:pt x="310516" y="47117"/>
                  </a:lnTo>
                  <a:lnTo>
                    <a:pt x="297562" y="49530"/>
                  </a:lnTo>
                  <a:lnTo>
                    <a:pt x="284100" y="51943"/>
                  </a:lnTo>
                  <a:lnTo>
                    <a:pt x="270129" y="53849"/>
                  </a:lnTo>
                  <a:lnTo>
                    <a:pt x="255779" y="55754"/>
                  </a:lnTo>
                  <a:lnTo>
                    <a:pt x="240919" y="57150"/>
                  </a:lnTo>
                  <a:lnTo>
                    <a:pt x="211201" y="58674"/>
                  </a:lnTo>
                  <a:lnTo>
                    <a:pt x="180467" y="59055"/>
                  </a:lnTo>
                  <a:lnTo>
                    <a:pt x="150241" y="58674"/>
                  </a:lnTo>
                  <a:lnTo>
                    <a:pt x="120397" y="56642"/>
                  </a:lnTo>
                  <a:lnTo>
                    <a:pt x="106045" y="55754"/>
                  </a:lnTo>
                  <a:lnTo>
                    <a:pt x="92075" y="54356"/>
                  </a:lnTo>
                  <a:lnTo>
                    <a:pt x="78232" y="52324"/>
                  </a:lnTo>
                  <a:lnTo>
                    <a:pt x="65279" y="50419"/>
                  </a:lnTo>
                  <a:lnTo>
                    <a:pt x="52706" y="48515"/>
                  </a:lnTo>
                  <a:lnTo>
                    <a:pt x="40767" y="46101"/>
                  </a:lnTo>
                  <a:lnTo>
                    <a:pt x="29210" y="43688"/>
                  </a:lnTo>
                  <a:lnTo>
                    <a:pt x="19178" y="40894"/>
                  </a:lnTo>
                  <a:lnTo>
                    <a:pt x="9525" y="38481"/>
                  </a:lnTo>
                  <a:lnTo>
                    <a:pt x="890" y="35053"/>
                  </a:lnTo>
                  <a:close/>
                </a:path>
              </a:pathLst>
            </a:custGeom>
            <a:solidFill>
              <a:srgbClr val="005600"/>
            </a:solidFill>
            <a:ln w="0">
              <a:solidFill>
                <a:srgbClr val="005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ihandform 111"/>
            <p:cNvSpPr/>
            <p:nvPr/>
          </p:nvSpPr>
          <p:spPr>
            <a:xfrm>
              <a:off x="3532320" y="2549520"/>
              <a:ext cx="441360" cy="13644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359538" h="167515">
                  <a:moveTo>
                    <a:pt x="8255" y="4827"/>
                  </a:moveTo>
                  <a:lnTo>
                    <a:pt x="11049" y="9145"/>
                  </a:lnTo>
                  <a:lnTo>
                    <a:pt x="13969" y="12955"/>
                  </a:lnTo>
                  <a:lnTo>
                    <a:pt x="17271" y="16892"/>
                  </a:lnTo>
                  <a:lnTo>
                    <a:pt x="21209" y="20702"/>
                  </a:lnTo>
                  <a:lnTo>
                    <a:pt x="25527" y="24003"/>
                  </a:lnTo>
                  <a:lnTo>
                    <a:pt x="30353" y="27433"/>
                  </a:lnTo>
                  <a:lnTo>
                    <a:pt x="35559" y="30734"/>
                  </a:lnTo>
                  <a:lnTo>
                    <a:pt x="47116" y="36577"/>
                  </a:lnTo>
                  <a:lnTo>
                    <a:pt x="59562" y="41784"/>
                  </a:lnTo>
                  <a:lnTo>
                    <a:pt x="73913" y="46609"/>
                  </a:lnTo>
                  <a:lnTo>
                    <a:pt x="88900" y="50927"/>
                  </a:lnTo>
                  <a:lnTo>
                    <a:pt x="104647" y="54737"/>
                  </a:lnTo>
                  <a:lnTo>
                    <a:pt x="121538" y="58167"/>
                  </a:lnTo>
                  <a:lnTo>
                    <a:pt x="138303" y="61468"/>
                  </a:lnTo>
                  <a:lnTo>
                    <a:pt x="156083" y="64390"/>
                  </a:lnTo>
                  <a:lnTo>
                    <a:pt x="191515" y="69596"/>
                  </a:lnTo>
                  <a:lnTo>
                    <a:pt x="227075" y="75439"/>
                  </a:lnTo>
                  <a:lnTo>
                    <a:pt x="243840" y="77852"/>
                  </a:lnTo>
                  <a:lnTo>
                    <a:pt x="260731" y="80646"/>
                  </a:lnTo>
                  <a:lnTo>
                    <a:pt x="276478" y="84074"/>
                  </a:lnTo>
                  <a:lnTo>
                    <a:pt x="291465" y="86868"/>
                  </a:lnTo>
                  <a:lnTo>
                    <a:pt x="305308" y="90805"/>
                  </a:lnTo>
                  <a:lnTo>
                    <a:pt x="317753" y="94615"/>
                  </a:lnTo>
                  <a:lnTo>
                    <a:pt x="328803" y="98934"/>
                  </a:lnTo>
                  <a:lnTo>
                    <a:pt x="334137" y="101346"/>
                  </a:lnTo>
                  <a:lnTo>
                    <a:pt x="338962" y="103759"/>
                  </a:lnTo>
                  <a:lnTo>
                    <a:pt x="343281" y="106553"/>
                  </a:lnTo>
                  <a:lnTo>
                    <a:pt x="347090" y="109474"/>
                  </a:lnTo>
                  <a:lnTo>
                    <a:pt x="350393" y="112396"/>
                  </a:lnTo>
                  <a:lnTo>
                    <a:pt x="353313" y="115190"/>
                  </a:lnTo>
                  <a:lnTo>
                    <a:pt x="355727" y="118618"/>
                  </a:lnTo>
                  <a:lnTo>
                    <a:pt x="357124" y="121921"/>
                  </a:lnTo>
                  <a:lnTo>
                    <a:pt x="358647" y="125858"/>
                  </a:lnTo>
                  <a:lnTo>
                    <a:pt x="359537" y="129667"/>
                  </a:lnTo>
                  <a:lnTo>
                    <a:pt x="359537" y="133478"/>
                  </a:lnTo>
                  <a:lnTo>
                    <a:pt x="359028" y="137796"/>
                  </a:lnTo>
                  <a:lnTo>
                    <a:pt x="358140" y="142114"/>
                  </a:lnTo>
                  <a:lnTo>
                    <a:pt x="356234" y="146431"/>
                  </a:lnTo>
                  <a:lnTo>
                    <a:pt x="353821" y="151258"/>
                  </a:lnTo>
                  <a:lnTo>
                    <a:pt x="350900" y="156465"/>
                  </a:lnTo>
                  <a:lnTo>
                    <a:pt x="347090" y="161798"/>
                  </a:lnTo>
                  <a:lnTo>
                    <a:pt x="342772" y="167514"/>
                  </a:lnTo>
                  <a:lnTo>
                    <a:pt x="339471" y="162815"/>
                  </a:lnTo>
                  <a:lnTo>
                    <a:pt x="336041" y="158497"/>
                  </a:lnTo>
                  <a:lnTo>
                    <a:pt x="332231" y="154560"/>
                  </a:lnTo>
                  <a:lnTo>
                    <a:pt x="327913" y="150749"/>
                  </a:lnTo>
                  <a:lnTo>
                    <a:pt x="323596" y="147448"/>
                  </a:lnTo>
                  <a:lnTo>
                    <a:pt x="318769" y="144527"/>
                  </a:lnTo>
                  <a:lnTo>
                    <a:pt x="309118" y="139192"/>
                  </a:lnTo>
                  <a:lnTo>
                    <a:pt x="298068" y="134874"/>
                  </a:lnTo>
                  <a:lnTo>
                    <a:pt x="286131" y="131573"/>
                  </a:lnTo>
                  <a:lnTo>
                    <a:pt x="274193" y="128652"/>
                  </a:lnTo>
                  <a:lnTo>
                    <a:pt x="260731" y="126239"/>
                  </a:lnTo>
                  <a:lnTo>
                    <a:pt x="247268" y="124334"/>
                  </a:lnTo>
                  <a:lnTo>
                    <a:pt x="233299" y="122429"/>
                  </a:lnTo>
                  <a:lnTo>
                    <a:pt x="204469" y="118618"/>
                  </a:lnTo>
                  <a:lnTo>
                    <a:pt x="189611" y="116205"/>
                  </a:lnTo>
                  <a:lnTo>
                    <a:pt x="175259" y="113284"/>
                  </a:lnTo>
                  <a:lnTo>
                    <a:pt x="160400" y="109474"/>
                  </a:lnTo>
                  <a:lnTo>
                    <a:pt x="145922" y="105156"/>
                  </a:lnTo>
                  <a:lnTo>
                    <a:pt x="127762" y="102236"/>
                  </a:lnTo>
                  <a:lnTo>
                    <a:pt x="110490" y="98934"/>
                  </a:lnTo>
                  <a:lnTo>
                    <a:pt x="94106" y="94615"/>
                  </a:lnTo>
                  <a:lnTo>
                    <a:pt x="78740" y="89790"/>
                  </a:lnTo>
                  <a:lnTo>
                    <a:pt x="64388" y="84583"/>
                  </a:lnTo>
                  <a:lnTo>
                    <a:pt x="50927" y="78740"/>
                  </a:lnTo>
                  <a:lnTo>
                    <a:pt x="38988" y="72518"/>
                  </a:lnTo>
                  <a:lnTo>
                    <a:pt x="28828" y="65787"/>
                  </a:lnTo>
                  <a:lnTo>
                    <a:pt x="19684" y="58547"/>
                  </a:lnTo>
                  <a:lnTo>
                    <a:pt x="12065" y="50927"/>
                  </a:lnTo>
                  <a:lnTo>
                    <a:pt x="6350" y="43180"/>
                  </a:lnTo>
                  <a:lnTo>
                    <a:pt x="4318" y="38862"/>
                  </a:lnTo>
                  <a:lnTo>
                    <a:pt x="2412" y="35052"/>
                  </a:lnTo>
                  <a:lnTo>
                    <a:pt x="1015" y="30734"/>
                  </a:lnTo>
                  <a:lnTo>
                    <a:pt x="508" y="26417"/>
                  </a:lnTo>
                  <a:lnTo>
                    <a:pt x="0" y="22099"/>
                  </a:lnTo>
                  <a:lnTo>
                    <a:pt x="0" y="17780"/>
                  </a:lnTo>
                  <a:lnTo>
                    <a:pt x="1015" y="13462"/>
                  </a:lnTo>
                  <a:lnTo>
                    <a:pt x="2412" y="9145"/>
                  </a:lnTo>
                  <a:lnTo>
                    <a:pt x="3937" y="4827"/>
                  </a:lnTo>
                  <a:lnTo>
                    <a:pt x="6350" y="0"/>
                  </a:lnTo>
                  <a:lnTo>
                    <a:pt x="8255" y="4827"/>
                  </a:lnTo>
                  <a:close/>
                </a:path>
              </a:pathLst>
            </a:custGeom>
            <a:solidFill>
              <a:srgbClr val="879b6b"/>
            </a:solidFill>
            <a:ln w="0">
              <a:solidFill>
                <a:srgbClr val="879b6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ihandform 112"/>
            <p:cNvSpPr/>
            <p:nvPr/>
          </p:nvSpPr>
          <p:spPr>
            <a:xfrm>
              <a:off x="3532320" y="2549520"/>
              <a:ext cx="436320" cy="136440"/>
            </a:xfrm>
            <a:custGeom>
              <a:avLst/>
              <a:gdLst>
                <a:gd name="textAreaLeft" fmla="*/ 0 w 436320"/>
                <a:gd name="textAreaRight" fmla="*/ 436680 w 43632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357125" h="167515">
                  <a:moveTo>
                    <a:pt x="6350" y="0"/>
                  </a:moveTo>
                  <a:lnTo>
                    <a:pt x="7746" y="4827"/>
                  </a:lnTo>
                  <a:lnTo>
                    <a:pt x="9652" y="9145"/>
                  </a:lnTo>
                  <a:lnTo>
                    <a:pt x="12572" y="13462"/>
                  </a:lnTo>
                  <a:lnTo>
                    <a:pt x="15366" y="17780"/>
                  </a:lnTo>
                  <a:lnTo>
                    <a:pt x="19303" y="21590"/>
                  </a:lnTo>
                  <a:lnTo>
                    <a:pt x="23113" y="25020"/>
                  </a:lnTo>
                  <a:lnTo>
                    <a:pt x="27431" y="28830"/>
                  </a:lnTo>
                  <a:lnTo>
                    <a:pt x="32258" y="32259"/>
                  </a:lnTo>
                  <a:lnTo>
                    <a:pt x="37465" y="35052"/>
                  </a:lnTo>
                  <a:lnTo>
                    <a:pt x="43306" y="38481"/>
                  </a:lnTo>
                  <a:lnTo>
                    <a:pt x="55753" y="43689"/>
                  </a:lnTo>
                  <a:lnTo>
                    <a:pt x="69215" y="49022"/>
                  </a:lnTo>
                  <a:lnTo>
                    <a:pt x="83565" y="53340"/>
                  </a:lnTo>
                  <a:lnTo>
                    <a:pt x="99440" y="57659"/>
                  </a:lnTo>
                  <a:lnTo>
                    <a:pt x="115188" y="61468"/>
                  </a:lnTo>
                  <a:lnTo>
                    <a:pt x="132587" y="64897"/>
                  </a:lnTo>
                  <a:lnTo>
                    <a:pt x="149859" y="68199"/>
                  </a:lnTo>
                  <a:lnTo>
                    <a:pt x="185293" y="73915"/>
                  </a:lnTo>
                  <a:lnTo>
                    <a:pt x="220344" y="79249"/>
                  </a:lnTo>
                  <a:lnTo>
                    <a:pt x="237616" y="82170"/>
                  </a:lnTo>
                  <a:lnTo>
                    <a:pt x="254000" y="84964"/>
                  </a:lnTo>
                  <a:lnTo>
                    <a:pt x="269747" y="87884"/>
                  </a:lnTo>
                  <a:lnTo>
                    <a:pt x="285115" y="91187"/>
                  </a:lnTo>
                  <a:lnTo>
                    <a:pt x="299084" y="95124"/>
                  </a:lnTo>
                  <a:lnTo>
                    <a:pt x="312038" y="98425"/>
                  </a:lnTo>
                  <a:lnTo>
                    <a:pt x="324103" y="102743"/>
                  </a:lnTo>
                  <a:lnTo>
                    <a:pt x="334137" y="107570"/>
                  </a:lnTo>
                  <a:lnTo>
                    <a:pt x="338455" y="109983"/>
                  </a:lnTo>
                  <a:lnTo>
                    <a:pt x="342265" y="112903"/>
                  </a:lnTo>
                  <a:lnTo>
                    <a:pt x="346075" y="115190"/>
                  </a:lnTo>
                  <a:lnTo>
                    <a:pt x="348996" y="118618"/>
                  </a:lnTo>
                  <a:lnTo>
                    <a:pt x="351916" y="121540"/>
                  </a:lnTo>
                  <a:lnTo>
                    <a:pt x="353821" y="124841"/>
                  </a:lnTo>
                  <a:lnTo>
                    <a:pt x="355727" y="128143"/>
                  </a:lnTo>
                  <a:lnTo>
                    <a:pt x="356743" y="131573"/>
                  </a:lnTo>
                  <a:lnTo>
                    <a:pt x="357124" y="135383"/>
                  </a:lnTo>
                  <a:lnTo>
                    <a:pt x="356743" y="139192"/>
                  </a:lnTo>
                  <a:lnTo>
                    <a:pt x="356234" y="143510"/>
                  </a:lnTo>
                  <a:lnTo>
                    <a:pt x="354711" y="147829"/>
                  </a:lnTo>
                  <a:lnTo>
                    <a:pt x="352806" y="152147"/>
                  </a:lnTo>
                  <a:lnTo>
                    <a:pt x="350012" y="156973"/>
                  </a:lnTo>
                  <a:lnTo>
                    <a:pt x="346583" y="162306"/>
                  </a:lnTo>
                  <a:lnTo>
                    <a:pt x="342265" y="167514"/>
                  </a:lnTo>
                  <a:lnTo>
                    <a:pt x="339471" y="162815"/>
                  </a:lnTo>
                  <a:lnTo>
                    <a:pt x="335534" y="158497"/>
                  </a:lnTo>
                  <a:lnTo>
                    <a:pt x="331724" y="154560"/>
                  </a:lnTo>
                  <a:lnTo>
                    <a:pt x="327913" y="150749"/>
                  </a:lnTo>
                  <a:lnTo>
                    <a:pt x="323596" y="147448"/>
                  </a:lnTo>
                  <a:lnTo>
                    <a:pt x="318769" y="144527"/>
                  </a:lnTo>
                  <a:lnTo>
                    <a:pt x="308737" y="139192"/>
                  </a:lnTo>
                  <a:lnTo>
                    <a:pt x="297687" y="134874"/>
                  </a:lnTo>
                  <a:lnTo>
                    <a:pt x="286131" y="131573"/>
                  </a:lnTo>
                  <a:lnTo>
                    <a:pt x="273684" y="128652"/>
                  </a:lnTo>
                  <a:lnTo>
                    <a:pt x="260731" y="126239"/>
                  </a:lnTo>
                  <a:lnTo>
                    <a:pt x="247268" y="124334"/>
                  </a:lnTo>
                  <a:lnTo>
                    <a:pt x="233299" y="122429"/>
                  </a:lnTo>
                  <a:lnTo>
                    <a:pt x="204469" y="118618"/>
                  </a:lnTo>
                  <a:lnTo>
                    <a:pt x="189611" y="116205"/>
                  </a:lnTo>
                  <a:lnTo>
                    <a:pt x="174752" y="113284"/>
                  </a:lnTo>
                  <a:lnTo>
                    <a:pt x="160400" y="109474"/>
                  </a:lnTo>
                  <a:lnTo>
                    <a:pt x="145541" y="105156"/>
                  </a:lnTo>
                  <a:lnTo>
                    <a:pt x="127762" y="102236"/>
                  </a:lnTo>
                  <a:lnTo>
                    <a:pt x="110490" y="98934"/>
                  </a:lnTo>
                  <a:lnTo>
                    <a:pt x="93599" y="94615"/>
                  </a:lnTo>
                  <a:lnTo>
                    <a:pt x="78231" y="89790"/>
                  </a:lnTo>
                  <a:lnTo>
                    <a:pt x="63881" y="84583"/>
                  </a:lnTo>
                  <a:lnTo>
                    <a:pt x="50927" y="78740"/>
                  </a:lnTo>
                  <a:lnTo>
                    <a:pt x="38988" y="72518"/>
                  </a:lnTo>
                  <a:lnTo>
                    <a:pt x="28321" y="65787"/>
                  </a:lnTo>
                  <a:lnTo>
                    <a:pt x="19303" y="58547"/>
                  </a:lnTo>
                  <a:lnTo>
                    <a:pt x="12065" y="50927"/>
                  </a:lnTo>
                  <a:lnTo>
                    <a:pt x="6350" y="43180"/>
                  </a:lnTo>
                  <a:lnTo>
                    <a:pt x="3937" y="38862"/>
                  </a:lnTo>
                  <a:lnTo>
                    <a:pt x="2412" y="35052"/>
                  </a:lnTo>
                  <a:lnTo>
                    <a:pt x="1015" y="30734"/>
                  </a:lnTo>
                  <a:lnTo>
                    <a:pt x="0" y="26417"/>
                  </a:lnTo>
                  <a:lnTo>
                    <a:pt x="0" y="22099"/>
                  </a:lnTo>
                  <a:lnTo>
                    <a:pt x="0" y="17780"/>
                  </a:lnTo>
                  <a:lnTo>
                    <a:pt x="1015" y="13462"/>
                  </a:lnTo>
                  <a:lnTo>
                    <a:pt x="2031" y="9145"/>
                  </a:lnTo>
                  <a:lnTo>
                    <a:pt x="3937" y="4827"/>
                  </a:lnTo>
                  <a:lnTo>
                    <a:pt x="6350" y="0"/>
                  </a:lnTo>
                  <a:close/>
                </a:path>
              </a:pathLst>
            </a:custGeom>
            <a:solidFill>
              <a:srgbClr val="719158"/>
            </a:solidFill>
            <a:ln w="0">
              <a:solidFill>
                <a:srgbClr val="71915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ihandform 113"/>
            <p:cNvSpPr/>
            <p:nvPr/>
          </p:nvSpPr>
          <p:spPr>
            <a:xfrm>
              <a:off x="3532320" y="2549520"/>
              <a:ext cx="434880" cy="136440"/>
            </a:xfrm>
            <a:custGeom>
              <a:avLst/>
              <a:gdLst>
                <a:gd name="textAreaLeft" fmla="*/ 0 w 434880"/>
                <a:gd name="textAreaRight" fmla="*/ 435240 w 43488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354712" h="167515">
                  <a:moveTo>
                    <a:pt x="6350" y="0"/>
                  </a:moveTo>
                  <a:lnTo>
                    <a:pt x="7238" y="4827"/>
                  </a:lnTo>
                  <a:lnTo>
                    <a:pt x="9143" y="9652"/>
                  </a:lnTo>
                  <a:lnTo>
                    <a:pt x="11556" y="13971"/>
                  </a:lnTo>
                  <a:lnTo>
                    <a:pt x="13969" y="18289"/>
                  </a:lnTo>
                  <a:lnTo>
                    <a:pt x="17271" y="22606"/>
                  </a:lnTo>
                  <a:lnTo>
                    <a:pt x="21209" y="26417"/>
                  </a:lnTo>
                  <a:lnTo>
                    <a:pt x="25018" y="29846"/>
                  </a:lnTo>
                  <a:lnTo>
                    <a:pt x="29844" y="33655"/>
                  </a:lnTo>
                  <a:lnTo>
                    <a:pt x="34671" y="36958"/>
                  </a:lnTo>
                  <a:lnTo>
                    <a:pt x="39878" y="39878"/>
                  </a:lnTo>
                  <a:lnTo>
                    <a:pt x="51943" y="46102"/>
                  </a:lnTo>
                  <a:lnTo>
                    <a:pt x="64896" y="51436"/>
                  </a:lnTo>
                  <a:lnTo>
                    <a:pt x="78740" y="56262"/>
                  </a:lnTo>
                  <a:lnTo>
                    <a:pt x="94106" y="60580"/>
                  </a:lnTo>
                  <a:lnTo>
                    <a:pt x="109981" y="64390"/>
                  </a:lnTo>
                  <a:lnTo>
                    <a:pt x="126746" y="68199"/>
                  </a:lnTo>
                  <a:lnTo>
                    <a:pt x="144018" y="71502"/>
                  </a:lnTo>
                  <a:lnTo>
                    <a:pt x="179069" y="77852"/>
                  </a:lnTo>
                  <a:lnTo>
                    <a:pt x="214121" y="83567"/>
                  </a:lnTo>
                  <a:lnTo>
                    <a:pt x="231393" y="86487"/>
                  </a:lnTo>
                  <a:lnTo>
                    <a:pt x="248158" y="89281"/>
                  </a:lnTo>
                  <a:lnTo>
                    <a:pt x="264033" y="92202"/>
                  </a:lnTo>
                  <a:lnTo>
                    <a:pt x="279400" y="95505"/>
                  </a:lnTo>
                  <a:lnTo>
                    <a:pt x="293750" y="98934"/>
                  </a:lnTo>
                  <a:lnTo>
                    <a:pt x="306831" y="102743"/>
                  </a:lnTo>
                  <a:lnTo>
                    <a:pt x="318769" y="106553"/>
                  </a:lnTo>
                  <a:lnTo>
                    <a:pt x="329311" y="110871"/>
                  </a:lnTo>
                  <a:lnTo>
                    <a:pt x="334137" y="113284"/>
                  </a:lnTo>
                  <a:lnTo>
                    <a:pt x="338455" y="116205"/>
                  </a:lnTo>
                  <a:lnTo>
                    <a:pt x="342265" y="118618"/>
                  </a:lnTo>
                  <a:lnTo>
                    <a:pt x="345693" y="121540"/>
                  </a:lnTo>
                  <a:lnTo>
                    <a:pt x="348487" y="124334"/>
                  </a:lnTo>
                  <a:lnTo>
                    <a:pt x="350900" y="127254"/>
                  </a:lnTo>
                  <a:lnTo>
                    <a:pt x="352806" y="130556"/>
                  </a:lnTo>
                  <a:lnTo>
                    <a:pt x="353821" y="133985"/>
                  </a:lnTo>
                  <a:lnTo>
                    <a:pt x="354711" y="137287"/>
                  </a:lnTo>
                  <a:lnTo>
                    <a:pt x="354711" y="141224"/>
                  </a:lnTo>
                  <a:lnTo>
                    <a:pt x="354330" y="145035"/>
                  </a:lnTo>
                  <a:lnTo>
                    <a:pt x="353313" y="149353"/>
                  </a:lnTo>
                  <a:lnTo>
                    <a:pt x="351916" y="153162"/>
                  </a:lnTo>
                  <a:lnTo>
                    <a:pt x="349503" y="157989"/>
                  </a:lnTo>
                  <a:lnTo>
                    <a:pt x="346075" y="162815"/>
                  </a:lnTo>
                  <a:lnTo>
                    <a:pt x="342772" y="167514"/>
                  </a:lnTo>
                  <a:lnTo>
                    <a:pt x="339471" y="162815"/>
                  </a:lnTo>
                  <a:lnTo>
                    <a:pt x="336041" y="158497"/>
                  </a:lnTo>
                  <a:lnTo>
                    <a:pt x="332231" y="154560"/>
                  </a:lnTo>
                  <a:lnTo>
                    <a:pt x="327913" y="150749"/>
                  </a:lnTo>
                  <a:lnTo>
                    <a:pt x="323596" y="147448"/>
                  </a:lnTo>
                  <a:lnTo>
                    <a:pt x="318769" y="144527"/>
                  </a:lnTo>
                  <a:lnTo>
                    <a:pt x="308737" y="139192"/>
                  </a:lnTo>
                  <a:lnTo>
                    <a:pt x="298068" y="134874"/>
                  </a:lnTo>
                  <a:lnTo>
                    <a:pt x="286131" y="131573"/>
                  </a:lnTo>
                  <a:lnTo>
                    <a:pt x="273684" y="128652"/>
                  </a:lnTo>
                  <a:lnTo>
                    <a:pt x="260731" y="126239"/>
                  </a:lnTo>
                  <a:lnTo>
                    <a:pt x="247268" y="124334"/>
                  </a:lnTo>
                  <a:lnTo>
                    <a:pt x="233299" y="122429"/>
                  </a:lnTo>
                  <a:lnTo>
                    <a:pt x="204469" y="118618"/>
                  </a:lnTo>
                  <a:lnTo>
                    <a:pt x="189611" y="116205"/>
                  </a:lnTo>
                  <a:lnTo>
                    <a:pt x="174752" y="113284"/>
                  </a:lnTo>
                  <a:lnTo>
                    <a:pt x="160400" y="109474"/>
                  </a:lnTo>
                  <a:lnTo>
                    <a:pt x="145922" y="105156"/>
                  </a:lnTo>
                  <a:lnTo>
                    <a:pt x="127762" y="102236"/>
                  </a:lnTo>
                  <a:lnTo>
                    <a:pt x="110490" y="98934"/>
                  </a:lnTo>
                  <a:lnTo>
                    <a:pt x="94106" y="94615"/>
                  </a:lnTo>
                  <a:lnTo>
                    <a:pt x="78231" y="89790"/>
                  </a:lnTo>
                  <a:lnTo>
                    <a:pt x="63881" y="84583"/>
                  </a:lnTo>
                  <a:lnTo>
                    <a:pt x="50927" y="78740"/>
                  </a:lnTo>
                  <a:lnTo>
                    <a:pt x="38988" y="72518"/>
                  </a:lnTo>
                  <a:lnTo>
                    <a:pt x="28321" y="65787"/>
                  </a:lnTo>
                  <a:lnTo>
                    <a:pt x="19303" y="58547"/>
                  </a:lnTo>
                  <a:lnTo>
                    <a:pt x="12065" y="50927"/>
                  </a:lnTo>
                  <a:lnTo>
                    <a:pt x="6350" y="43180"/>
                  </a:lnTo>
                  <a:lnTo>
                    <a:pt x="3937" y="38862"/>
                  </a:lnTo>
                  <a:lnTo>
                    <a:pt x="2412" y="35052"/>
                  </a:lnTo>
                  <a:lnTo>
                    <a:pt x="1015" y="30734"/>
                  </a:lnTo>
                  <a:lnTo>
                    <a:pt x="0" y="26417"/>
                  </a:lnTo>
                  <a:lnTo>
                    <a:pt x="0" y="22099"/>
                  </a:lnTo>
                  <a:lnTo>
                    <a:pt x="0" y="17780"/>
                  </a:lnTo>
                  <a:lnTo>
                    <a:pt x="1015" y="13462"/>
                  </a:lnTo>
                  <a:lnTo>
                    <a:pt x="2031" y="9145"/>
                  </a:lnTo>
                  <a:lnTo>
                    <a:pt x="3937" y="4827"/>
                  </a:lnTo>
                  <a:lnTo>
                    <a:pt x="6350" y="0"/>
                  </a:lnTo>
                  <a:close/>
                </a:path>
              </a:pathLst>
            </a:custGeom>
            <a:solidFill>
              <a:srgbClr val="598446"/>
            </a:solidFill>
            <a:ln w="0">
              <a:solidFill>
                <a:srgbClr val="59844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ihandform 114"/>
            <p:cNvSpPr/>
            <p:nvPr/>
          </p:nvSpPr>
          <p:spPr>
            <a:xfrm>
              <a:off x="3532320" y="2549520"/>
              <a:ext cx="433440" cy="136440"/>
            </a:xfrm>
            <a:custGeom>
              <a:avLst/>
              <a:gdLst>
                <a:gd name="textAreaLeft" fmla="*/ 0 w 433440"/>
                <a:gd name="textAreaRight" fmla="*/ 433800 w 43344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352807" h="167515">
                  <a:moveTo>
                    <a:pt x="6350" y="0"/>
                  </a:moveTo>
                  <a:lnTo>
                    <a:pt x="7238" y="5334"/>
                  </a:lnTo>
                  <a:lnTo>
                    <a:pt x="8636" y="10161"/>
                  </a:lnTo>
                  <a:lnTo>
                    <a:pt x="10159" y="14859"/>
                  </a:lnTo>
                  <a:lnTo>
                    <a:pt x="12572" y="19305"/>
                  </a:lnTo>
                  <a:lnTo>
                    <a:pt x="15366" y="23622"/>
                  </a:lnTo>
                  <a:lnTo>
                    <a:pt x="18796" y="27433"/>
                  </a:lnTo>
                  <a:lnTo>
                    <a:pt x="22606" y="31243"/>
                  </a:lnTo>
                  <a:lnTo>
                    <a:pt x="26924" y="35052"/>
                  </a:lnTo>
                  <a:lnTo>
                    <a:pt x="31750" y="38481"/>
                  </a:lnTo>
                  <a:lnTo>
                    <a:pt x="36575" y="41784"/>
                  </a:lnTo>
                  <a:lnTo>
                    <a:pt x="48006" y="48006"/>
                  </a:lnTo>
                  <a:lnTo>
                    <a:pt x="60578" y="53849"/>
                  </a:lnTo>
                  <a:lnTo>
                    <a:pt x="73913" y="59055"/>
                  </a:lnTo>
                  <a:lnTo>
                    <a:pt x="88900" y="63374"/>
                  </a:lnTo>
                  <a:lnTo>
                    <a:pt x="104647" y="67692"/>
                  </a:lnTo>
                  <a:lnTo>
                    <a:pt x="121031" y="71502"/>
                  </a:lnTo>
                  <a:lnTo>
                    <a:pt x="137794" y="75439"/>
                  </a:lnTo>
                  <a:lnTo>
                    <a:pt x="172846" y="81662"/>
                  </a:lnTo>
                  <a:lnTo>
                    <a:pt x="207899" y="87884"/>
                  </a:lnTo>
                  <a:lnTo>
                    <a:pt x="241934" y="93599"/>
                  </a:lnTo>
                  <a:lnTo>
                    <a:pt x="258318" y="96521"/>
                  </a:lnTo>
                  <a:lnTo>
                    <a:pt x="273684" y="99822"/>
                  </a:lnTo>
                  <a:lnTo>
                    <a:pt x="288036" y="103252"/>
                  </a:lnTo>
                  <a:lnTo>
                    <a:pt x="302006" y="106553"/>
                  </a:lnTo>
                  <a:lnTo>
                    <a:pt x="313943" y="110490"/>
                  </a:lnTo>
                  <a:lnTo>
                    <a:pt x="324993" y="114809"/>
                  </a:lnTo>
                  <a:lnTo>
                    <a:pt x="334137" y="119508"/>
                  </a:lnTo>
                  <a:lnTo>
                    <a:pt x="338455" y="121921"/>
                  </a:lnTo>
                  <a:lnTo>
                    <a:pt x="341756" y="124334"/>
                  </a:lnTo>
                  <a:lnTo>
                    <a:pt x="345186" y="127254"/>
                  </a:lnTo>
                  <a:lnTo>
                    <a:pt x="347599" y="130175"/>
                  </a:lnTo>
                  <a:lnTo>
                    <a:pt x="350012" y="132970"/>
                  </a:lnTo>
                  <a:lnTo>
                    <a:pt x="351409" y="136398"/>
                  </a:lnTo>
                  <a:lnTo>
                    <a:pt x="352425" y="139192"/>
                  </a:lnTo>
                  <a:lnTo>
                    <a:pt x="352806" y="143129"/>
                  </a:lnTo>
                  <a:lnTo>
                    <a:pt x="352806" y="146431"/>
                  </a:lnTo>
                  <a:lnTo>
                    <a:pt x="351916" y="150241"/>
                  </a:lnTo>
                  <a:lnTo>
                    <a:pt x="350900" y="154179"/>
                  </a:lnTo>
                  <a:lnTo>
                    <a:pt x="348487" y="158497"/>
                  </a:lnTo>
                  <a:lnTo>
                    <a:pt x="346075" y="162815"/>
                  </a:lnTo>
                  <a:lnTo>
                    <a:pt x="342772" y="167514"/>
                  </a:lnTo>
                  <a:lnTo>
                    <a:pt x="339471" y="162815"/>
                  </a:lnTo>
                  <a:lnTo>
                    <a:pt x="336041" y="158497"/>
                  </a:lnTo>
                  <a:lnTo>
                    <a:pt x="332231" y="154560"/>
                  </a:lnTo>
                  <a:lnTo>
                    <a:pt x="327913" y="150749"/>
                  </a:lnTo>
                  <a:lnTo>
                    <a:pt x="323596" y="147448"/>
                  </a:lnTo>
                  <a:lnTo>
                    <a:pt x="318769" y="144527"/>
                  </a:lnTo>
                  <a:lnTo>
                    <a:pt x="309118" y="139192"/>
                  </a:lnTo>
                  <a:lnTo>
                    <a:pt x="298068" y="134874"/>
                  </a:lnTo>
                  <a:lnTo>
                    <a:pt x="286131" y="131573"/>
                  </a:lnTo>
                  <a:lnTo>
                    <a:pt x="274193" y="128652"/>
                  </a:lnTo>
                  <a:lnTo>
                    <a:pt x="260731" y="126239"/>
                  </a:lnTo>
                  <a:lnTo>
                    <a:pt x="247268" y="124334"/>
                  </a:lnTo>
                  <a:lnTo>
                    <a:pt x="233299" y="122429"/>
                  </a:lnTo>
                  <a:lnTo>
                    <a:pt x="204469" y="118618"/>
                  </a:lnTo>
                  <a:lnTo>
                    <a:pt x="189611" y="116205"/>
                  </a:lnTo>
                  <a:lnTo>
                    <a:pt x="175259" y="113284"/>
                  </a:lnTo>
                  <a:lnTo>
                    <a:pt x="160400" y="109474"/>
                  </a:lnTo>
                  <a:lnTo>
                    <a:pt x="145922" y="105156"/>
                  </a:lnTo>
                  <a:lnTo>
                    <a:pt x="127762" y="102236"/>
                  </a:lnTo>
                  <a:lnTo>
                    <a:pt x="110490" y="98934"/>
                  </a:lnTo>
                  <a:lnTo>
                    <a:pt x="94106" y="94615"/>
                  </a:lnTo>
                  <a:lnTo>
                    <a:pt x="78740" y="89790"/>
                  </a:lnTo>
                  <a:lnTo>
                    <a:pt x="64388" y="84583"/>
                  </a:lnTo>
                  <a:lnTo>
                    <a:pt x="50927" y="78740"/>
                  </a:lnTo>
                  <a:lnTo>
                    <a:pt x="38988" y="72518"/>
                  </a:lnTo>
                  <a:lnTo>
                    <a:pt x="28321" y="65787"/>
                  </a:lnTo>
                  <a:lnTo>
                    <a:pt x="19684" y="58547"/>
                  </a:lnTo>
                  <a:lnTo>
                    <a:pt x="12065" y="50927"/>
                  </a:lnTo>
                  <a:lnTo>
                    <a:pt x="6350" y="43180"/>
                  </a:lnTo>
                  <a:lnTo>
                    <a:pt x="4318" y="38862"/>
                  </a:lnTo>
                  <a:lnTo>
                    <a:pt x="2412" y="35052"/>
                  </a:lnTo>
                  <a:lnTo>
                    <a:pt x="1015" y="30734"/>
                  </a:lnTo>
                  <a:lnTo>
                    <a:pt x="508" y="26417"/>
                  </a:lnTo>
                  <a:lnTo>
                    <a:pt x="0" y="22099"/>
                  </a:lnTo>
                  <a:lnTo>
                    <a:pt x="0" y="17780"/>
                  </a:lnTo>
                  <a:lnTo>
                    <a:pt x="1015" y="13462"/>
                  </a:lnTo>
                  <a:lnTo>
                    <a:pt x="2412" y="9145"/>
                  </a:lnTo>
                  <a:lnTo>
                    <a:pt x="3937" y="4827"/>
                  </a:lnTo>
                  <a:lnTo>
                    <a:pt x="6350" y="0"/>
                  </a:lnTo>
                  <a:close/>
                </a:path>
              </a:pathLst>
            </a:custGeom>
            <a:solidFill>
              <a:srgbClr val="417a33"/>
            </a:solidFill>
            <a:ln w="0">
              <a:solidFill>
                <a:srgbClr val="417a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ihandform 115"/>
            <p:cNvSpPr/>
            <p:nvPr/>
          </p:nvSpPr>
          <p:spPr>
            <a:xfrm>
              <a:off x="3532320" y="2549520"/>
              <a:ext cx="430200" cy="136440"/>
            </a:xfrm>
            <a:custGeom>
              <a:avLst/>
              <a:gdLst>
                <a:gd name="textAreaLeft" fmla="*/ 0 w 430200"/>
                <a:gd name="textAreaRight" fmla="*/ 430560 w 43020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350901" h="167515">
                  <a:moveTo>
                    <a:pt x="6350" y="0"/>
                  </a:moveTo>
                  <a:lnTo>
                    <a:pt x="6731" y="5334"/>
                  </a:lnTo>
                  <a:lnTo>
                    <a:pt x="7746" y="10542"/>
                  </a:lnTo>
                  <a:lnTo>
                    <a:pt x="9143" y="15368"/>
                  </a:lnTo>
                  <a:lnTo>
                    <a:pt x="11049" y="19686"/>
                  </a:lnTo>
                  <a:lnTo>
                    <a:pt x="13462" y="24512"/>
                  </a:lnTo>
                  <a:lnTo>
                    <a:pt x="16890" y="28321"/>
                  </a:lnTo>
                  <a:lnTo>
                    <a:pt x="20193" y="32640"/>
                  </a:lnTo>
                  <a:lnTo>
                    <a:pt x="24003" y="36577"/>
                  </a:lnTo>
                  <a:lnTo>
                    <a:pt x="28321" y="39878"/>
                  </a:lnTo>
                  <a:lnTo>
                    <a:pt x="33146" y="43689"/>
                  </a:lnTo>
                  <a:lnTo>
                    <a:pt x="38481" y="47118"/>
                  </a:lnTo>
                  <a:lnTo>
                    <a:pt x="43687" y="49912"/>
                  </a:lnTo>
                  <a:lnTo>
                    <a:pt x="55753" y="56262"/>
                  </a:lnTo>
                  <a:lnTo>
                    <a:pt x="69215" y="61468"/>
                  </a:lnTo>
                  <a:lnTo>
                    <a:pt x="83565" y="66802"/>
                  </a:lnTo>
                  <a:lnTo>
                    <a:pt x="98933" y="71121"/>
                  </a:lnTo>
                  <a:lnTo>
                    <a:pt x="115188" y="75439"/>
                  </a:lnTo>
                  <a:lnTo>
                    <a:pt x="132080" y="78740"/>
                  </a:lnTo>
                  <a:lnTo>
                    <a:pt x="149352" y="82550"/>
                  </a:lnTo>
                  <a:lnTo>
                    <a:pt x="166624" y="85980"/>
                  </a:lnTo>
                  <a:lnTo>
                    <a:pt x="201675" y="92202"/>
                  </a:lnTo>
                  <a:lnTo>
                    <a:pt x="235712" y="97918"/>
                  </a:lnTo>
                  <a:lnTo>
                    <a:pt x="252094" y="100839"/>
                  </a:lnTo>
                  <a:lnTo>
                    <a:pt x="267843" y="104140"/>
                  </a:lnTo>
                  <a:lnTo>
                    <a:pt x="282828" y="107062"/>
                  </a:lnTo>
                  <a:lnTo>
                    <a:pt x="296163" y="110871"/>
                  </a:lnTo>
                  <a:lnTo>
                    <a:pt x="309118" y="114300"/>
                  </a:lnTo>
                  <a:lnTo>
                    <a:pt x="320166" y="118110"/>
                  </a:lnTo>
                  <a:lnTo>
                    <a:pt x="330327" y="122936"/>
                  </a:lnTo>
                  <a:lnTo>
                    <a:pt x="334137" y="124841"/>
                  </a:lnTo>
                  <a:lnTo>
                    <a:pt x="337946" y="127254"/>
                  </a:lnTo>
                  <a:lnTo>
                    <a:pt x="341375" y="130175"/>
                  </a:lnTo>
                  <a:lnTo>
                    <a:pt x="344169" y="132461"/>
                  </a:lnTo>
                  <a:lnTo>
                    <a:pt x="346583" y="135383"/>
                  </a:lnTo>
                  <a:lnTo>
                    <a:pt x="348487" y="138304"/>
                  </a:lnTo>
                  <a:lnTo>
                    <a:pt x="350012" y="141605"/>
                  </a:lnTo>
                  <a:lnTo>
                    <a:pt x="350900" y="144527"/>
                  </a:lnTo>
                  <a:lnTo>
                    <a:pt x="350900" y="147829"/>
                  </a:lnTo>
                  <a:lnTo>
                    <a:pt x="350393" y="151766"/>
                  </a:lnTo>
                  <a:lnTo>
                    <a:pt x="349503" y="155067"/>
                  </a:lnTo>
                  <a:lnTo>
                    <a:pt x="348106" y="158878"/>
                  </a:lnTo>
                  <a:lnTo>
                    <a:pt x="345693" y="163196"/>
                  </a:lnTo>
                  <a:lnTo>
                    <a:pt x="342772" y="167514"/>
                  </a:lnTo>
                  <a:lnTo>
                    <a:pt x="339471" y="162815"/>
                  </a:lnTo>
                  <a:lnTo>
                    <a:pt x="336041" y="158497"/>
                  </a:lnTo>
                  <a:lnTo>
                    <a:pt x="332231" y="154560"/>
                  </a:lnTo>
                  <a:lnTo>
                    <a:pt x="327913" y="150749"/>
                  </a:lnTo>
                  <a:lnTo>
                    <a:pt x="323596" y="147448"/>
                  </a:lnTo>
                  <a:lnTo>
                    <a:pt x="318769" y="144527"/>
                  </a:lnTo>
                  <a:lnTo>
                    <a:pt x="309118" y="139192"/>
                  </a:lnTo>
                  <a:lnTo>
                    <a:pt x="298068" y="134874"/>
                  </a:lnTo>
                  <a:lnTo>
                    <a:pt x="286131" y="131573"/>
                  </a:lnTo>
                  <a:lnTo>
                    <a:pt x="274193" y="128652"/>
                  </a:lnTo>
                  <a:lnTo>
                    <a:pt x="260731" y="126239"/>
                  </a:lnTo>
                  <a:lnTo>
                    <a:pt x="247268" y="124334"/>
                  </a:lnTo>
                  <a:lnTo>
                    <a:pt x="233299" y="122429"/>
                  </a:lnTo>
                  <a:lnTo>
                    <a:pt x="204469" y="118618"/>
                  </a:lnTo>
                  <a:lnTo>
                    <a:pt x="189611" y="116205"/>
                  </a:lnTo>
                  <a:lnTo>
                    <a:pt x="175259" y="113284"/>
                  </a:lnTo>
                  <a:lnTo>
                    <a:pt x="160400" y="109474"/>
                  </a:lnTo>
                  <a:lnTo>
                    <a:pt x="145922" y="105156"/>
                  </a:lnTo>
                  <a:lnTo>
                    <a:pt x="127762" y="102236"/>
                  </a:lnTo>
                  <a:lnTo>
                    <a:pt x="110490" y="98934"/>
                  </a:lnTo>
                  <a:lnTo>
                    <a:pt x="94106" y="94615"/>
                  </a:lnTo>
                  <a:lnTo>
                    <a:pt x="78740" y="89790"/>
                  </a:lnTo>
                  <a:lnTo>
                    <a:pt x="64388" y="84583"/>
                  </a:lnTo>
                  <a:lnTo>
                    <a:pt x="50927" y="78740"/>
                  </a:lnTo>
                  <a:lnTo>
                    <a:pt x="38988" y="72518"/>
                  </a:lnTo>
                  <a:lnTo>
                    <a:pt x="28321" y="65787"/>
                  </a:lnTo>
                  <a:lnTo>
                    <a:pt x="19684" y="58547"/>
                  </a:lnTo>
                  <a:lnTo>
                    <a:pt x="12065" y="50927"/>
                  </a:lnTo>
                  <a:lnTo>
                    <a:pt x="6350" y="43180"/>
                  </a:lnTo>
                  <a:lnTo>
                    <a:pt x="4318" y="38862"/>
                  </a:lnTo>
                  <a:lnTo>
                    <a:pt x="2412" y="35052"/>
                  </a:lnTo>
                  <a:lnTo>
                    <a:pt x="1015" y="30734"/>
                  </a:lnTo>
                  <a:lnTo>
                    <a:pt x="508" y="26417"/>
                  </a:lnTo>
                  <a:lnTo>
                    <a:pt x="0" y="22099"/>
                  </a:lnTo>
                  <a:lnTo>
                    <a:pt x="0" y="17780"/>
                  </a:lnTo>
                  <a:lnTo>
                    <a:pt x="1015" y="13462"/>
                  </a:lnTo>
                  <a:lnTo>
                    <a:pt x="2412" y="9145"/>
                  </a:lnTo>
                  <a:lnTo>
                    <a:pt x="3937" y="4827"/>
                  </a:lnTo>
                  <a:lnTo>
                    <a:pt x="6350" y="0"/>
                  </a:lnTo>
                  <a:close/>
                </a:path>
              </a:pathLst>
            </a:custGeom>
            <a:solidFill>
              <a:srgbClr val="2a6e20"/>
            </a:solidFill>
            <a:ln w="0">
              <a:solidFill>
                <a:srgbClr val="2a6e2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ihandform 116"/>
            <p:cNvSpPr/>
            <p:nvPr/>
          </p:nvSpPr>
          <p:spPr>
            <a:xfrm>
              <a:off x="3532320" y="2549520"/>
              <a:ext cx="426960" cy="136440"/>
            </a:xfrm>
            <a:custGeom>
              <a:avLst/>
              <a:gdLst>
                <a:gd name="textAreaLeft" fmla="*/ 0 w 426960"/>
                <a:gd name="textAreaRight" fmla="*/ 427320 w 42696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348997" h="167515">
                  <a:moveTo>
                    <a:pt x="6350" y="0"/>
                  </a:moveTo>
                  <a:lnTo>
                    <a:pt x="6350" y="5843"/>
                  </a:lnTo>
                  <a:lnTo>
                    <a:pt x="6731" y="10542"/>
                  </a:lnTo>
                  <a:lnTo>
                    <a:pt x="7746" y="15875"/>
                  </a:lnTo>
                  <a:lnTo>
                    <a:pt x="9652" y="20702"/>
                  </a:lnTo>
                  <a:lnTo>
                    <a:pt x="11556" y="25020"/>
                  </a:lnTo>
                  <a:lnTo>
                    <a:pt x="14478" y="29846"/>
                  </a:lnTo>
                  <a:lnTo>
                    <a:pt x="17271" y="33655"/>
                  </a:lnTo>
                  <a:lnTo>
                    <a:pt x="21209" y="37974"/>
                  </a:lnTo>
                  <a:lnTo>
                    <a:pt x="25018" y="41784"/>
                  </a:lnTo>
                  <a:lnTo>
                    <a:pt x="29844" y="45593"/>
                  </a:lnTo>
                  <a:lnTo>
                    <a:pt x="34671" y="49022"/>
                  </a:lnTo>
                  <a:lnTo>
                    <a:pt x="39878" y="52324"/>
                  </a:lnTo>
                  <a:lnTo>
                    <a:pt x="51434" y="58547"/>
                  </a:lnTo>
                  <a:lnTo>
                    <a:pt x="64388" y="64390"/>
                  </a:lnTo>
                  <a:lnTo>
                    <a:pt x="78231" y="69596"/>
                  </a:lnTo>
                  <a:lnTo>
                    <a:pt x="93599" y="74422"/>
                  </a:lnTo>
                  <a:lnTo>
                    <a:pt x="109474" y="78740"/>
                  </a:lnTo>
                  <a:lnTo>
                    <a:pt x="125856" y="82550"/>
                  </a:lnTo>
                  <a:lnTo>
                    <a:pt x="143128" y="86487"/>
                  </a:lnTo>
                  <a:lnTo>
                    <a:pt x="160400" y="89790"/>
                  </a:lnTo>
                  <a:lnTo>
                    <a:pt x="194944" y="96012"/>
                  </a:lnTo>
                  <a:lnTo>
                    <a:pt x="229488" y="102236"/>
                  </a:lnTo>
                  <a:lnTo>
                    <a:pt x="245871" y="105156"/>
                  </a:lnTo>
                  <a:lnTo>
                    <a:pt x="261619" y="108077"/>
                  </a:lnTo>
                  <a:lnTo>
                    <a:pt x="276987" y="111380"/>
                  </a:lnTo>
                  <a:lnTo>
                    <a:pt x="290956" y="114809"/>
                  </a:lnTo>
                  <a:lnTo>
                    <a:pt x="303911" y="118110"/>
                  </a:lnTo>
                  <a:lnTo>
                    <a:pt x="315468" y="121921"/>
                  </a:lnTo>
                  <a:lnTo>
                    <a:pt x="326009" y="125858"/>
                  </a:lnTo>
                  <a:lnTo>
                    <a:pt x="330327" y="128143"/>
                  </a:lnTo>
                  <a:lnTo>
                    <a:pt x="334137" y="130556"/>
                  </a:lnTo>
                  <a:lnTo>
                    <a:pt x="337946" y="132970"/>
                  </a:lnTo>
                  <a:lnTo>
                    <a:pt x="341375" y="135383"/>
                  </a:lnTo>
                  <a:lnTo>
                    <a:pt x="343788" y="137796"/>
                  </a:lnTo>
                  <a:lnTo>
                    <a:pt x="346075" y="140716"/>
                  </a:lnTo>
                  <a:lnTo>
                    <a:pt x="347599" y="143510"/>
                  </a:lnTo>
                  <a:lnTo>
                    <a:pt x="348487" y="146431"/>
                  </a:lnTo>
                  <a:lnTo>
                    <a:pt x="348996" y="149353"/>
                  </a:lnTo>
                  <a:lnTo>
                    <a:pt x="348996" y="152654"/>
                  </a:lnTo>
                  <a:lnTo>
                    <a:pt x="348487" y="156084"/>
                  </a:lnTo>
                  <a:lnTo>
                    <a:pt x="347090" y="159893"/>
                  </a:lnTo>
                  <a:lnTo>
                    <a:pt x="345186" y="163704"/>
                  </a:lnTo>
                  <a:lnTo>
                    <a:pt x="342772" y="167514"/>
                  </a:lnTo>
                  <a:lnTo>
                    <a:pt x="339471" y="162815"/>
                  </a:lnTo>
                  <a:lnTo>
                    <a:pt x="336041" y="158497"/>
                  </a:lnTo>
                  <a:lnTo>
                    <a:pt x="332231" y="154560"/>
                  </a:lnTo>
                  <a:lnTo>
                    <a:pt x="327913" y="150749"/>
                  </a:lnTo>
                  <a:lnTo>
                    <a:pt x="323596" y="147448"/>
                  </a:lnTo>
                  <a:lnTo>
                    <a:pt x="318769" y="144527"/>
                  </a:lnTo>
                  <a:lnTo>
                    <a:pt x="308737" y="139192"/>
                  </a:lnTo>
                  <a:lnTo>
                    <a:pt x="298068" y="134874"/>
                  </a:lnTo>
                  <a:lnTo>
                    <a:pt x="286131" y="131573"/>
                  </a:lnTo>
                  <a:lnTo>
                    <a:pt x="273684" y="128652"/>
                  </a:lnTo>
                  <a:lnTo>
                    <a:pt x="260731" y="126239"/>
                  </a:lnTo>
                  <a:lnTo>
                    <a:pt x="247268" y="124334"/>
                  </a:lnTo>
                  <a:lnTo>
                    <a:pt x="233299" y="122429"/>
                  </a:lnTo>
                  <a:lnTo>
                    <a:pt x="204469" y="118618"/>
                  </a:lnTo>
                  <a:lnTo>
                    <a:pt x="189611" y="116205"/>
                  </a:lnTo>
                  <a:lnTo>
                    <a:pt x="174752" y="113284"/>
                  </a:lnTo>
                  <a:lnTo>
                    <a:pt x="160400" y="109474"/>
                  </a:lnTo>
                  <a:lnTo>
                    <a:pt x="145922" y="105156"/>
                  </a:lnTo>
                  <a:lnTo>
                    <a:pt x="127762" y="102236"/>
                  </a:lnTo>
                  <a:lnTo>
                    <a:pt x="110490" y="98934"/>
                  </a:lnTo>
                  <a:lnTo>
                    <a:pt x="94106" y="94615"/>
                  </a:lnTo>
                  <a:lnTo>
                    <a:pt x="78231" y="89790"/>
                  </a:lnTo>
                  <a:lnTo>
                    <a:pt x="63881" y="84583"/>
                  </a:lnTo>
                  <a:lnTo>
                    <a:pt x="50927" y="78740"/>
                  </a:lnTo>
                  <a:lnTo>
                    <a:pt x="38988" y="72518"/>
                  </a:lnTo>
                  <a:lnTo>
                    <a:pt x="28321" y="65787"/>
                  </a:lnTo>
                  <a:lnTo>
                    <a:pt x="19303" y="58547"/>
                  </a:lnTo>
                  <a:lnTo>
                    <a:pt x="12065" y="50927"/>
                  </a:lnTo>
                  <a:lnTo>
                    <a:pt x="6350" y="43180"/>
                  </a:lnTo>
                  <a:lnTo>
                    <a:pt x="3937" y="38862"/>
                  </a:lnTo>
                  <a:lnTo>
                    <a:pt x="2412" y="35052"/>
                  </a:lnTo>
                  <a:lnTo>
                    <a:pt x="1015" y="30734"/>
                  </a:lnTo>
                  <a:lnTo>
                    <a:pt x="0" y="26417"/>
                  </a:lnTo>
                  <a:lnTo>
                    <a:pt x="0" y="22099"/>
                  </a:lnTo>
                  <a:lnTo>
                    <a:pt x="0" y="17780"/>
                  </a:lnTo>
                  <a:lnTo>
                    <a:pt x="1015" y="13462"/>
                  </a:lnTo>
                  <a:lnTo>
                    <a:pt x="2031" y="9145"/>
                  </a:lnTo>
                  <a:lnTo>
                    <a:pt x="3937" y="4827"/>
                  </a:lnTo>
                  <a:lnTo>
                    <a:pt x="6350" y="0"/>
                  </a:lnTo>
                  <a:close/>
                </a:path>
              </a:pathLst>
            </a:custGeom>
            <a:solidFill>
              <a:srgbClr val="11610d"/>
            </a:solidFill>
            <a:ln w="0">
              <a:solidFill>
                <a:srgbClr val="11610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ihandform 117"/>
            <p:cNvSpPr/>
            <p:nvPr/>
          </p:nvSpPr>
          <p:spPr>
            <a:xfrm>
              <a:off x="3532320" y="2549520"/>
              <a:ext cx="426960" cy="136440"/>
            </a:xfrm>
            <a:custGeom>
              <a:avLst/>
              <a:gdLst>
                <a:gd name="textAreaLeft" fmla="*/ 0 w 426960"/>
                <a:gd name="textAreaRight" fmla="*/ 427320 w 42696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348107" h="167515">
                  <a:moveTo>
                    <a:pt x="6350" y="5843"/>
                  </a:moveTo>
                  <a:lnTo>
                    <a:pt x="6350" y="11049"/>
                  </a:lnTo>
                  <a:lnTo>
                    <a:pt x="6731" y="16384"/>
                  </a:lnTo>
                  <a:lnTo>
                    <a:pt x="8255" y="21209"/>
                  </a:lnTo>
                  <a:lnTo>
                    <a:pt x="10159" y="25909"/>
                  </a:lnTo>
                  <a:lnTo>
                    <a:pt x="12572" y="30734"/>
                  </a:lnTo>
                  <a:lnTo>
                    <a:pt x="14986" y="35052"/>
                  </a:lnTo>
                  <a:lnTo>
                    <a:pt x="18287" y="39371"/>
                  </a:lnTo>
                  <a:lnTo>
                    <a:pt x="22097" y="43180"/>
                  </a:lnTo>
                  <a:lnTo>
                    <a:pt x="26415" y="47118"/>
                  </a:lnTo>
                  <a:lnTo>
                    <a:pt x="31241" y="50927"/>
                  </a:lnTo>
                  <a:lnTo>
                    <a:pt x="36068" y="54230"/>
                  </a:lnTo>
                  <a:lnTo>
                    <a:pt x="47116" y="60961"/>
                  </a:lnTo>
                  <a:lnTo>
                    <a:pt x="59562" y="67184"/>
                  </a:lnTo>
                  <a:lnTo>
                    <a:pt x="73533" y="72518"/>
                  </a:lnTo>
                  <a:lnTo>
                    <a:pt x="88391" y="77343"/>
                  </a:lnTo>
                  <a:lnTo>
                    <a:pt x="103759" y="82170"/>
                  </a:lnTo>
                  <a:lnTo>
                    <a:pt x="120015" y="86487"/>
                  </a:lnTo>
                  <a:lnTo>
                    <a:pt x="136906" y="90297"/>
                  </a:lnTo>
                  <a:lnTo>
                    <a:pt x="154178" y="93599"/>
                  </a:lnTo>
                  <a:lnTo>
                    <a:pt x="189230" y="100330"/>
                  </a:lnTo>
                  <a:lnTo>
                    <a:pt x="223774" y="106553"/>
                  </a:lnTo>
                  <a:lnTo>
                    <a:pt x="240030" y="109474"/>
                  </a:lnTo>
                  <a:lnTo>
                    <a:pt x="256412" y="112396"/>
                  </a:lnTo>
                  <a:lnTo>
                    <a:pt x="271780" y="115697"/>
                  </a:lnTo>
                  <a:lnTo>
                    <a:pt x="286131" y="118618"/>
                  </a:lnTo>
                  <a:lnTo>
                    <a:pt x="299084" y="121921"/>
                  </a:lnTo>
                  <a:lnTo>
                    <a:pt x="311150" y="125858"/>
                  </a:lnTo>
                  <a:lnTo>
                    <a:pt x="321690" y="129160"/>
                  </a:lnTo>
                  <a:lnTo>
                    <a:pt x="330708" y="133478"/>
                  </a:lnTo>
                  <a:lnTo>
                    <a:pt x="334644" y="135891"/>
                  </a:lnTo>
                  <a:lnTo>
                    <a:pt x="337946" y="137796"/>
                  </a:lnTo>
                  <a:lnTo>
                    <a:pt x="341375" y="140209"/>
                  </a:lnTo>
                  <a:lnTo>
                    <a:pt x="343788" y="143129"/>
                  </a:lnTo>
                  <a:lnTo>
                    <a:pt x="345693" y="145542"/>
                  </a:lnTo>
                  <a:lnTo>
                    <a:pt x="347090" y="148336"/>
                  </a:lnTo>
                  <a:lnTo>
                    <a:pt x="347599" y="151258"/>
                  </a:lnTo>
                  <a:lnTo>
                    <a:pt x="348106" y="154179"/>
                  </a:lnTo>
                  <a:lnTo>
                    <a:pt x="347599" y="156973"/>
                  </a:lnTo>
                  <a:lnTo>
                    <a:pt x="346583" y="160402"/>
                  </a:lnTo>
                  <a:lnTo>
                    <a:pt x="345186" y="163704"/>
                  </a:lnTo>
                  <a:lnTo>
                    <a:pt x="342772" y="167514"/>
                  </a:lnTo>
                  <a:lnTo>
                    <a:pt x="339471" y="162815"/>
                  </a:lnTo>
                  <a:lnTo>
                    <a:pt x="336041" y="158497"/>
                  </a:lnTo>
                  <a:lnTo>
                    <a:pt x="332231" y="154560"/>
                  </a:lnTo>
                  <a:lnTo>
                    <a:pt x="327913" y="150749"/>
                  </a:lnTo>
                  <a:lnTo>
                    <a:pt x="323596" y="147448"/>
                  </a:lnTo>
                  <a:lnTo>
                    <a:pt x="319278" y="144527"/>
                  </a:lnTo>
                  <a:lnTo>
                    <a:pt x="309118" y="139192"/>
                  </a:lnTo>
                  <a:lnTo>
                    <a:pt x="298068" y="134874"/>
                  </a:lnTo>
                  <a:lnTo>
                    <a:pt x="286638" y="131573"/>
                  </a:lnTo>
                  <a:lnTo>
                    <a:pt x="274193" y="128652"/>
                  </a:lnTo>
                  <a:lnTo>
                    <a:pt x="261112" y="126239"/>
                  </a:lnTo>
                  <a:lnTo>
                    <a:pt x="247268" y="124334"/>
                  </a:lnTo>
                  <a:lnTo>
                    <a:pt x="233299" y="122429"/>
                  </a:lnTo>
                  <a:lnTo>
                    <a:pt x="204469" y="118618"/>
                  </a:lnTo>
                  <a:lnTo>
                    <a:pt x="190118" y="116205"/>
                  </a:lnTo>
                  <a:lnTo>
                    <a:pt x="175259" y="113284"/>
                  </a:lnTo>
                  <a:lnTo>
                    <a:pt x="160400" y="109474"/>
                  </a:lnTo>
                  <a:lnTo>
                    <a:pt x="145922" y="105156"/>
                  </a:lnTo>
                  <a:lnTo>
                    <a:pt x="127762" y="102236"/>
                  </a:lnTo>
                  <a:lnTo>
                    <a:pt x="110490" y="98934"/>
                  </a:lnTo>
                  <a:lnTo>
                    <a:pt x="94106" y="94615"/>
                  </a:lnTo>
                  <a:lnTo>
                    <a:pt x="78740" y="89790"/>
                  </a:lnTo>
                  <a:lnTo>
                    <a:pt x="64388" y="84583"/>
                  </a:lnTo>
                  <a:lnTo>
                    <a:pt x="50927" y="78740"/>
                  </a:lnTo>
                  <a:lnTo>
                    <a:pt x="39369" y="72518"/>
                  </a:lnTo>
                  <a:lnTo>
                    <a:pt x="28828" y="65787"/>
                  </a:lnTo>
                  <a:lnTo>
                    <a:pt x="19684" y="58547"/>
                  </a:lnTo>
                  <a:lnTo>
                    <a:pt x="12065" y="50927"/>
                  </a:lnTo>
                  <a:lnTo>
                    <a:pt x="6350" y="43180"/>
                  </a:lnTo>
                  <a:lnTo>
                    <a:pt x="4318" y="38862"/>
                  </a:lnTo>
                  <a:lnTo>
                    <a:pt x="2412" y="35052"/>
                  </a:lnTo>
                  <a:lnTo>
                    <a:pt x="1524" y="30734"/>
                  </a:lnTo>
                  <a:lnTo>
                    <a:pt x="508" y="26417"/>
                  </a:lnTo>
                  <a:lnTo>
                    <a:pt x="0" y="22099"/>
                  </a:lnTo>
                  <a:lnTo>
                    <a:pt x="508" y="17780"/>
                  </a:lnTo>
                  <a:lnTo>
                    <a:pt x="1015" y="13462"/>
                  </a:lnTo>
                  <a:lnTo>
                    <a:pt x="2412" y="9145"/>
                  </a:lnTo>
                  <a:lnTo>
                    <a:pt x="4318" y="4827"/>
                  </a:lnTo>
                  <a:lnTo>
                    <a:pt x="6731" y="0"/>
                  </a:lnTo>
                  <a:lnTo>
                    <a:pt x="6350" y="5843"/>
                  </a:lnTo>
                  <a:close/>
                </a:path>
              </a:pathLst>
            </a:custGeom>
            <a:solidFill>
              <a:srgbClr val="005600"/>
            </a:solidFill>
            <a:ln w="0">
              <a:solidFill>
                <a:srgbClr val="005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Freihandform 118"/>
            <p:cNvSpPr/>
            <p:nvPr/>
          </p:nvSpPr>
          <p:spPr>
            <a:xfrm>
              <a:off x="3645000" y="2490840"/>
              <a:ext cx="382680" cy="61920"/>
            </a:xfrm>
            <a:custGeom>
              <a:avLst/>
              <a:gdLst>
                <a:gd name="textAreaLeft" fmla="*/ 0 w 382680"/>
                <a:gd name="textAreaRight" fmla="*/ 383040 w 38268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312548" h="75311">
                  <a:moveTo>
                    <a:pt x="507" y="70485"/>
                  </a:moveTo>
                  <a:lnTo>
                    <a:pt x="0" y="65659"/>
                  </a:lnTo>
                  <a:lnTo>
                    <a:pt x="507" y="61341"/>
                  </a:lnTo>
                  <a:lnTo>
                    <a:pt x="1904" y="57531"/>
                  </a:lnTo>
                  <a:lnTo>
                    <a:pt x="4317" y="53720"/>
                  </a:lnTo>
                  <a:lnTo>
                    <a:pt x="7747" y="50291"/>
                  </a:lnTo>
                  <a:lnTo>
                    <a:pt x="12064" y="47498"/>
                  </a:lnTo>
                  <a:lnTo>
                    <a:pt x="16382" y="45085"/>
                  </a:lnTo>
                  <a:lnTo>
                    <a:pt x="21589" y="42672"/>
                  </a:lnTo>
                  <a:lnTo>
                    <a:pt x="26923" y="40259"/>
                  </a:lnTo>
                  <a:lnTo>
                    <a:pt x="37973" y="36957"/>
                  </a:lnTo>
                  <a:lnTo>
                    <a:pt x="49022" y="34544"/>
                  </a:lnTo>
                  <a:lnTo>
                    <a:pt x="53720" y="33528"/>
                  </a:lnTo>
                  <a:lnTo>
                    <a:pt x="58547" y="32638"/>
                  </a:lnTo>
                  <a:lnTo>
                    <a:pt x="92201" y="27813"/>
                  </a:lnTo>
                  <a:lnTo>
                    <a:pt x="126238" y="22986"/>
                  </a:lnTo>
                  <a:lnTo>
                    <a:pt x="160782" y="18160"/>
                  </a:lnTo>
                  <a:lnTo>
                    <a:pt x="194944" y="13842"/>
                  </a:lnTo>
                  <a:lnTo>
                    <a:pt x="227584" y="9525"/>
                  </a:lnTo>
                  <a:lnTo>
                    <a:pt x="243332" y="7619"/>
                  </a:lnTo>
                  <a:lnTo>
                    <a:pt x="258191" y="6223"/>
                  </a:lnTo>
                  <a:lnTo>
                    <a:pt x="273176" y="4317"/>
                  </a:lnTo>
                  <a:lnTo>
                    <a:pt x="287019" y="2794"/>
                  </a:lnTo>
                  <a:lnTo>
                    <a:pt x="299974" y="1397"/>
                  </a:lnTo>
                  <a:lnTo>
                    <a:pt x="312547" y="0"/>
                  </a:lnTo>
                  <a:lnTo>
                    <a:pt x="303911" y="2794"/>
                  </a:lnTo>
                  <a:lnTo>
                    <a:pt x="294767" y="5207"/>
                  </a:lnTo>
                  <a:lnTo>
                    <a:pt x="285114" y="8128"/>
                  </a:lnTo>
                  <a:lnTo>
                    <a:pt x="275082" y="10541"/>
                  </a:lnTo>
                  <a:lnTo>
                    <a:pt x="253491" y="15748"/>
                  </a:lnTo>
                  <a:lnTo>
                    <a:pt x="230885" y="20573"/>
                  </a:lnTo>
                  <a:lnTo>
                    <a:pt x="206882" y="25400"/>
                  </a:lnTo>
                  <a:lnTo>
                    <a:pt x="182879" y="29717"/>
                  </a:lnTo>
                  <a:lnTo>
                    <a:pt x="134873" y="38861"/>
                  </a:lnTo>
                  <a:lnTo>
                    <a:pt x="111886" y="43179"/>
                  </a:lnTo>
                  <a:lnTo>
                    <a:pt x="89788" y="48006"/>
                  </a:lnTo>
                  <a:lnTo>
                    <a:pt x="69088" y="52323"/>
                  </a:lnTo>
                  <a:lnTo>
                    <a:pt x="59563" y="54229"/>
                  </a:lnTo>
                  <a:lnTo>
                    <a:pt x="50419" y="56641"/>
                  </a:lnTo>
                  <a:lnTo>
                    <a:pt x="41782" y="59054"/>
                  </a:lnTo>
                  <a:lnTo>
                    <a:pt x="34035" y="61341"/>
                  </a:lnTo>
                  <a:lnTo>
                    <a:pt x="26923" y="63373"/>
                  </a:lnTo>
                  <a:lnTo>
                    <a:pt x="20192" y="65659"/>
                  </a:lnTo>
                  <a:lnTo>
                    <a:pt x="14351" y="68072"/>
                  </a:lnTo>
                  <a:lnTo>
                    <a:pt x="9651" y="70485"/>
                  </a:lnTo>
                  <a:lnTo>
                    <a:pt x="5714" y="72898"/>
                  </a:lnTo>
                  <a:lnTo>
                    <a:pt x="2413" y="75310"/>
                  </a:lnTo>
                  <a:lnTo>
                    <a:pt x="507" y="70485"/>
                  </a:lnTo>
                  <a:close/>
                </a:path>
              </a:pathLst>
            </a:custGeom>
            <a:solidFill>
              <a:srgbClr val="879b6b"/>
            </a:solidFill>
            <a:ln w="0">
              <a:solidFill>
                <a:srgbClr val="879b6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Freihandform 119"/>
            <p:cNvSpPr/>
            <p:nvPr/>
          </p:nvSpPr>
          <p:spPr>
            <a:xfrm>
              <a:off x="3645000" y="2490840"/>
              <a:ext cx="382680" cy="61920"/>
            </a:xfrm>
            <a:custGeom>
              <a:avLst/>
              <a:gdLst>
                <a:gd name="textAreaLeft" fmla="*/ 0 w 382680"/>
                <a:gd name="textAreaRight" fmla="*/ 383040 w 38268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311532" h="75311">
                  <a:moveTo>
                    <a:pt x="1397" y="75310"/>
                  </a:moveTo>
                  <a:lnTo>
                    <a:pt x="0" y="70485"/>
                  </a:lnTo>
                  <a:lnTo>
                    <a:pt x="0" y="66166"/>
                  </a:lnTo>
                  <a:lnTo>
                    <a:pt x="888" y="62357"/>
                  </a:lnTo>
                  <a:lnTo>
                    <a:pt x="2794" y="58547"/>
                  </a:lnTo>
                  <a:lnTo>
                    <a:pt x="5207" y="55117"/>
                  </a:lnTo>
                  <a:lnTo>
                    <a:pt x="9016" y="51816"/>
                  </a:lnTo>
                  <a:lnTo>
                    <a:pt x="12953" y="48894"/>
                  </a:lnTo>
                  <a:lnTo>
                    <a:pt x="17272" y="46482"/>
                  </a:lnTo>
                  <a:lnTo>
                    <a:pt x="22478" y="44069"/>
                  </a:lnTo>
                  <a:lnTo>
                    <a:pt x="27813" y="42163"/>
                  </a:lnTo>
                  <a:lnTo>
                    <a:pt x="38353" y="38861"/>
                  </a:lnTo>
                  <a:lnTo>
                    <a:pt x="49403" y="36448"/>
                  </a:lnTo>
                  <a:lnTo>
                    <a:pt x="54228" y="35432"/>
                  </a:lnTo>
                  <a:lnTo>
                    <a:pt x="59054" y="34544"/>
                  </a:lnTo>
                  <a:lnTo>
                    <a:pt x="92582" y="29717"/>
                  </a:lnTo>
                  <a:lnTo>
                    <a:pt x="126619" y="24384"/>
                  </a:lnTo>
                  <a:lnTo>
                    <a:pt x="160782" y="19685"/>
                  </a:lnTo>
                  <a:lnTo>
                    <a:pt x="194310" y="14859"/>
                  </a:lnTo>
                  <a:lnTo>
                    <a:pt x="226948" y="10541"/>
                  </a:lnTo>
                  <a:lnTo>
                    <a:pt x="242316" y="8128"/>
                  </a:lnTo>
                  <a:lnTo>
                    <a:pt x="257682" y="6223"/>
                  </a:lnTo>
                  <a:lnTo>
                    <a:pt x="272160" y="4317"/>
                  </a:lnTo>
                  <a:lnTo>
                    <a:pt x="286003" y="2794"/>
                  </a:lnTo>
                  <a:lnTo>
                    <a:pt x="298958" y="1397"/>
                  </a:lnTo>
                  <a:lnTo>
                    <a:pt x="311531" y="0"/>
                  </a:lnTo>
                  <a:lnTo>
                    <a:pt x="302895" y="2794"/>
                  </a:lnTo>
                  <a:lnTo>
                    <a:pt x="293751" y="5207"/>
                  </a:lnTo>
                  <a:lnTo>
                    <a:pt x="284098" y="8128"/>
                  </a:lnTo>
                  <a:lnTo>
                    <a:pt x="274066" y="10541"/>
                  </a:lnTo>
                  <a:lnTo>
                    <a:pt x="252475" y="15748"/>
                  </a:lnTo>
                  <a:lnTo>
                    <a:pt x="229869" y="20573"/>
                  </a:lnTo>
                  <a:lnTo>
                    <a:pt x="205866" y="25400"/>
                  </a:lnTo>
                  <a:lnTo>
                    <a:pt x="181863" y="29717"/>
                  </a:lnTo>
                  <a:lnTo>
                    <a:pt x="133857" y="38861"/>
                  </a:lnTo>
                  <a:lnTo>
                    <a:pt x="110870" y="43179"/>
                  </a:lnTo>
                  <a:lnTo>
                    <a:pt x="88772" y="48006"/>
                  </a:lnTo>
                  <a:lnTo>
                    <a:pt x="68072" y="52323"/>
                  </a:lnTo>
                  <a:lnTo>
                    <a:pt x="58547" y="54229"/>
                  </a:lnTo>
                  <a:lnTo>
                    <a:pt x="49403" y="56641"/>
                  </a:lnTo>
                  <a:lnTo>
                    <a:pt x="40766" y="59054"/>
                  </a:lnTo>
                  <a:lnTo>
                    <a:pt x="33019" y="61341"/>
                  </a:lnTo>
                  <a:lnTo>
                    <a:pt x="25907" y="63373"/>
                  </a:lnTo>
                  <a:lnTo>
                    <a:pt x="19176" y="65659"/>
                  </a:lnTo>
                  <a:lnTo>
                    <a:pt x="13335" y="68072"/>
                  </a:lnTo>
                  <a:lnTo>
                    <a:pt x="8635" y="70485"/>
                  </a:lnTo>
                  <a:lnTo>
                    <a:pt x="4698" y="72898"/>
                  </a:lnTo>
                  <a:lnTo>
                    <a:pt x="1397" y="75310"/>
                  </a:lnTo>
                  <a:close/>
                </a:path>
              </a:pathLst>
            </a:custGeom>
            <a:solidFill>
              <a:srgbClr val="719158"/>
            </a:solidFill>
            <a:ln w="0">
              <a:solidFill>
                <a:srgbClr val="71915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Freihandform 120"/>
            <p:cNvSpPr/>
            <p:nvPr/>
          </p:nvSpPr>
          <p:spPr>
            <a:xfrm>
              <a:off x="3648240" y="2490840"/>
              <a:ext cx="379440" cy="61920"/>
            </a:xfrm>
            <a:custGeom>
              <a:avLst/>
              <a:gdLst>
                <a:gd name="textAreaLeft" fmla="*/ 0 w 379440"/>
                <a:gd name="textAreaRight" fmla="*/ 379800 w 37944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310644" h="75311">
                  <a:moveTo>
                    <a:pt x="509" y="75310"/>
                  </a:moveTo>
                  <a:lnTo>
                    <a:pt x="0" y="70992"/>
                  </a:lnTo>
                  <a:lnTo>
                    <a:pt x="509" y="66675"/>
                  </a:lnTo>
                  <a:lnTo>
                    <a:pt x="1525" y="62864"/>
                  </a:lnTo>
                  <a:lnTo>
                    <a:pt x="3810" y="59435"/>
                  </a:lnTo>
                  <a:lnTo>
                    <a:pt x="6731" y="56134"/>
                  </a:lnTo>
                  <a:lnTo>
                    <a:pt x="10160" y="53213"/>
                  </a:lnTo>
                  <a:lnTo>
                    <a:pt x="14478" y="50291"/>
                  </a:lnTo>
                  <a:lnTo>
                    <a:pt x="18797" y="48006"/>
                  </a:lnTo>
                  <a:lnTo>
                    <a:pt x="28830" y="44069"/>
                  </a:lnTo>
                  <a:lnTo>
                    <a:pt x="39371" y="40766"/>
                  </a:lnTo>
                  <a:lnTo>
                    <a:pt x="49912" y="38354"/>
                  </a:lnTo>
                  <a:lnTo>
                    <a:pt x="54737" y="37338"/>
                  </a:lnTo>
                  <a:lnTo>
                    <a:pt x="59563" y="36448"/>
                  </a:lnTo>
                  <a:lnTo>
                    <a:pt x="93091" y="31623"/>
                  </a:lnTo>
                  <a:lnTo>
                    <a:pt x="127255" y="26288"/>
                  </a:lnTo>
                  <a:lnTo>
                    <a:pt x="160782" y="21082"/>
                  </a:lnTo>
                  <a:lnTo>
                    <a:pt x="194437" y="15748"/>
                  </a:lnTo>
                  <a:lnTo>
                    <a:pt x="226569" y="11048"/>
                  </a:lnTo>
                  <a:lnTo>
                    <a:pt x="241935" y="8635"/>
                  </a:lnTo>
                  <a:lnTo>
                    <a:pt x="256794" y="6731"/>
                  </a:lnTo>
                  <a:lnTo>
                    <a:pt x="271272" y="4698"/>
                  </a:lnTo>
                  <a:lnTo>
                    <a:pt x="285115" y="2794"/>
                  </a:lnTo>
                  <a:lnTo>
                    <a:pt x="298070" y="1397"/>
                  </a:lnTo>
                  <a:lnTo>
                    <a:pt x="310643" y="0"/>
                  </a:lnTo>
                  <a:lnTo>
                    <a:pt x="302007" y="2794"/>
                  </a:lnTo>
                  <a:lnTo>
                    <a:pt x="292863" y="5207"/>
                  </a:lnTo>
                  <a:lnTo>
                    <a:pt x="283210" y="8128"/>
                  </a:lnTo>
                  <a:lnTo>
                    <a:pt x="273178" y="10541"/>
                  </a:lnTo>
                  <a:lnTo>
                    <a:pt x="251587" y="15748"/>
                  </a:lnTo>
                  <a:lnTo>
                    <a:pt x="228981" y="20573"/>
                  </a:lnTo>
                  <a:lnTo>
                    <a:pt x="204978" y="25400"/>
                  </a:lnTo>
                  <a:lnTo>
                    <a:pt x="180975" y="29717"/>
                  </a:lnTo>
                  <a:lnTo>
                    <a:pt x="132969" y="38861"/>
                  </a:lnTo>
                  <a:lnTo>
                    <a:pt x="109982" y="43179"/>
                  </a:lnTo>
                  <a:lnTo>
                    <a:pt x="87884" y="48006"/>
                  </a:lnTo>
                  <a:lnTo>
                    <a:pt x="67184" y="52323"/>
                  </a:lnTo>
                  <a:lnTo>
                    <a:pt x="57659" y="54229"/>
                  </a:lnTo>
                  <a:lnTo>
                    <a:pt x="48515" y="56641"/>
                  </a:lnTo>
                  <a:lnTo>
                    <a:pt x="39878" y="59054"/>
                  </a:lnTo>
                  <a:lnTo>
                    <a:pt x="32131" y="61341"/>
                  </a:lnTo>
                  <a:lnTo>
                    <a:pt x="25019" y="63373"/>
                  </a:lnTo>
                  <a:lnTo>
                    <a:pt x="18288" y="65659"/>
                  </a:lnTo>
                  <a:lnTo>
                    <a:pt x="12447" y="68072"/>
                  </a:lnTo>
                  <a:lnTo>
                    <a:pt x="7747" y="70485"/>
                  </a:lnTo>
                  <a:lnTo>
                    <a:pt x="3810" y="72898"/>
                  </a:lnTo>
                  <a:lnTo>
                    <a:pt x="509" y="75310"/>
                  </a:lnTo>
                  <a:close/>
                </a:path>
              </a:pathLst>
            </a:custGeom>
            <a:solidFill>
              <a:srgbClr val="598446"/>
            </a:solidFill>
            <a:ln w="0">
              <a:solidFill>
                <a:srgbClr val="59844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Freihandform 121"/>
            <p:cNvSpPr/>
            <p:nvPr/>
          </p:nvSpPr>
          <p:spPr>
            <a:xfrm>
              <a:off x="3648240" y="2490840"/>
              <a:ext cx="379440" cy="61920"/>
            </a:xfrm>
            <a:custGeom>
              <a:avLst/>
              <a:gdLst>
                <a:gd name="textAreaLeft" fmla="*/ 0 w 379440"/>
                <a:gd name="textAreaRight" fmla="*/ 379800 w 37944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310135" h="75311">
                  <a:moveTo>
                    <a:pt x="507" y="75310"/>
                  </a:moveTo>
                  <a:lnTo>
                    <a:pt x="0" y="71501"/>
                  </a:lnTo>
                  <a:lnTo>
                    <a:pt x="1016" y="67691"/>
                  </a:lnTo>
                  <a:lnTo>
                    <a:pt x="2921" y="63754"/>
                  </a:lnTo>
                  <a:lnTo>
                    <a:pt x="5334" y="60451"/>
                  </a:lnTo>
                  <a:lnTo>
                    <a:pt x="8128" y="57531"/>
                  </a:lnTo>
                  <a:lnTo>
                    <a:pt x="11938" y="54610"/>
                  </a:lnTo>
                  <a:lnTo>
                    <a:pt x="15875" y="52323"/>
                  </a:lnTo>
                  <a:lnTo>
                    <a:pt x="20573" y="49910"/>
                  </a:lnTo>
                  <a:lnTo>
                    <a:pt x="30225" y="45592"/>
                  </a:lnTo>
                  <a:lnTo>
                    <a:pt x="40766" y="42672"/>
                  </a:lnTo>
                  <a:lnTo>
                    <a:pt x="50926" y="40259"/>
                  </a:lnTo>
                  <a:lnTo>
                    <a:pt x="60451" y="38354"/>
                  </a:lnTo>
                  <a:lnTo>
                    <a:pt x="94106" y="33528"/>
                  </a:lnTo>
                  <a:lnTo>
                    <a:pt x="127635" y="27813"/>
                  </a:lnTo>
                  <a:lnTo>
                    <a:pt x="161797" y="22479"/>
                  </a:lnTo>
                  <a:lnTo>
                    <a:pt x="194437" y="16763"/>
                  </a:lnTo>
                  <a:lnTo>
                    <a:pt x="226568" y="11429"/>
                  </a:lnTo>
                  <a:lnTo>
                    <a:pt x="241935" y="9016"/>
                  </a:lnTo>
                  <a:lnTo>
                    <a:pt x="256794" y="6731"/>
                  </a:lnTo>
                  <a:lnTo>
                    <a:pt x="271144" y="4698"/>
                  </a:lnTo>
                  <a:lnTo>
                    <a:pt x="284606" y="2794"/>
                  </a:lnTo>
                  <a:lnTo>
                    <a:pt x="298068" y="1397"/>
                  </a:lnTo>
                  <a:lnTo>
                    <a:pt x="310134" y="0"/>
                  </a:lnTo>
                  <a:lnTo>
                    <a:pt x="301879" y="2794"/>
                  </a:lnTo>
                  <a:lnTo>
                    <a:pt x="292354" y="5207"/>
                  </a:lnTo>
                  <a:lnTo>
                    <a:pt x="282701" y="8128"/>
                  </a:lnTo>
                  <a:lnTo>
                    <a:pt x="272669" y="10541"/>
                  </a:lnTo>
                  <a:lnTo>
                    <a:pt x="251078" y="15748"/>
                  </a:lnTo>
                  <a:lnTo>
                    <a:pt x="228472" y="20573"/>
                  </a:lnTo>
                  <a:lnTo>
                    <a:pt x="204978" y="25400"/>
                  </a:lnTo>
                  <a:lnTo>
                    <a:pt x="180466" y="29717"/>
                  </a:lnTo>
                  <a:lnTo>
                    <a:pt x="132460" y="38861"/>
                  </a:lnTo>
                  <a:lnTo>
                    <a:pt x="109473" y="43179"/>
                  </a:lnTo>
                  <a:lnTo>
                    <a:pt x="87375" y="48006"/>
                  </a:lnTo>
                  <a:lnTo>
                    <a:pt x="66675" y="52323"/>
                  </a:lnTo>
                  <a:lnTo>
                    <a:pt x="57150" y="54229"/>
                  </a:lnTo>
                  <a:lnTo>
                    <a:pt x="48006" y="56641"/>
                  </a:lnTo>
                  <a:lnTo>
                    <a:pt x="39369" y="59054"/>
                  </a:lnTo>
                  <a:lnTo>
                    <a:pt x="31622" y="61341"/>
                  </a:lnTo>
                  <a:lnTo>
                    <a:pt x="24510" y="63373"/>
                  </a:lnTo>
                  <a:lnTo>
                    <a:pt x="17779" y="65659"/>
                  </a:lnTo>
                  <a:lnTo>
                    <a:pt x="12446" y="68072"/>
                  </a:lnTo>
                  <a:lnTo>
                    <a:pt x="7238" y="70485"/>
                  </a:lnTo>
                  <a:lnTo>
                    <a:pt x="3301" y="72898"/>
                  </a:lnTo>
                  <a:lnTo>
                    <a:pt x="507" y="75310"/>
                  </a:lnTo>
                  <a:close/>
                </a:path>
              </a:pathLst>
            </a:custGeom>
            <a:solidFill>
              <a:srgbClr val="417a33"/>
            </a:solidFill>
            <a:ln w="0">
              <a:solidFill>
                <a:srgbClr val="417a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Freihandform 122"/>
            <p:cNvSpPr/>
            <p:nvPr/>
          </p:nvSpPr>
          <p:spPr>
            <a:xfrm>
              <a:off x="3648240" y="2490840"/>
              <a:ext cx="379440" cy="61920"/>
            </a:xfrm>
            <a:custGeom>
              <a:avLst/>
              <a:gdLst>
                <a:gd name="textAreaLeft" fmla="*/ 0 w 379440"/>
                <a:gd name="textAreaRight" fmla="*/ 379800 w 37944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309628" h="75311">
                  <a:moveTo>
                    <a:pt x="0" y="75310"/>
                  </a:moveTo>
                  <a:lnTo>
                    <a:pt x="509" y="71501"/>
                  </a:lnTo>
                  <a:lnTo>
                    <a:pt x="1906" y="68072"/>
                  </a:lnTo>
                  <a:lnTo>
                    <a:pt x="3811" y="64769"/>
                  </a:lnTo>
                  <a:lnTo>
                    <a:pt x="6731" y="61341"/>
                  </a:lnTo>
                  <a:lnTo>
                    <a:pt x="9525" y="58547"/>
                  </a:lnTo>
                  <a:lnTo>
                    <a:pt x="13462" y="56134"/>
                  </a:lnTo>
                  <a:lnTo>
                    <a:pt x="17781" y="53720"/>
                  </a:lnTo>
                  <a:lnTo>
                    <a:pt x="22099" y="51307"/>
                  </a:lnTo>
                  <a:lnTo>
                    <a:pt x="32131" y="47498"/>
                  </a:lnTo>
                  <a:lnTo>
                    <a:pt x="42165" y="44576"/>
                  </a:lnTo>
                  <a:lnTo>
                    <a:pt x="52324" y="42163"/>
                  </a:lnTo>
                  <a:lnTo>
                    <a:pt x="61468" y="40259"/>
                  </a:lnTo>
                  <a:lnTo>
                    <a:pt x="94996" y="35432"/>
                  </a:lnTo>
                  <a:lnTo>
                    <a:pt x="128652" y="29717"/>
                  </a:lnTo>
                  <a:lnTo>
                    <a:pt x="162180" y="23494"/>
                  </a:lnTo>
                  <a:lnTo>
                    <a:pt x="194818" y="17653"/>
                  </a:lnTo>
                  <a:lnTo>
                    <a:pt x="226568" y="11938"/>
                  </a:lnTo>
                  <a:lnTo>
                    <a:pt x="241936" y="9525"/>
                  </a:lnTo>
                  <a:lnTo>
                    <a:pt x="256287" y="7111"/>
                  </a:lnTo>
                  <a:lnTo>
                    <a:pt x="270637" y="4698"/>
                  </a:lnTo>
                  <a:lnTo>
                    <a:pt x="284608" y="2794"/>
                  </a:lnTo>
                  <a:lnTo>
                    <a:pt x="297561" y="1397"/>
                  </a:lnTo>
                  <a:lnTo>
                    <a:pt x="309627" y="0"/>
                  </a:lnTo>
                  <a:lnTo>
                    <a:pt x="301372" y="2794"/>
                  </a:lnTo>
                  <a:lnTo>
                    <a:pt x="291847" y="5207"/>
                  </a:lnTo>
                  <a:lnTo>
                    <a:pt x="282194" y="8128"/>
                  </a:lnTo>
                  <a:lnTo>
                    <a:pt x="272162" y="10541"/>
                  </a:lnTo>
                  <a:lnTo>
                    <a:pt x="250571" y="15748"/>
                  </a:lnTo>
                  <a:lnTo>
                    <a:pt x="227965" y="20573"/>
                  </a:lnTo>
                  <a:lnTo>
                    <a:pt x="204471" y="25400"/>
                  </a:lnTo>
                  <a:lnTo>
                    <a:pt x="179959" y="29717"/>
                  </a:lnTo>
                  <a:lnTo>
                    <a:pt x="131953" y="38861"/>
                  </a:lnTo>
                  <a:lnTo>
                    <a:pt x="108966" y="43179"/>
                  </a:lnTo>
                  <a:lnTo>
                    <a:pt x="86868" y="48006"/>
                  </a:lnTo>
                  <a:lnTo>
                    <a:pt x="66168" y="52323"/>
                  </a:lnTo>
                  <a:lnTo>
                    <a:pt x="56643" y="54229"/>
                  </a:lnTo>
                  <a:lnTo>
                    <a:pt x="47499" y="56641"/>
                  </a:lnTo>
                  <a:lnTo>
                    <a:pt x="38862" y="59054"/>
                  </a:lnTo>
                  <a:lnTo>
                    <a:pt x="31115" y="61341"/>
                  </a:lnTo>
                  <a:lnTo>
                    <a:pt x="24003" y="63373"/>
                  </a:lnTo>
                  <a:lnTo>
                    <a:pt x="17272" y="65659"/>
                  </a:lnTo>
                  <a:lnTo>
                    <a:pt x="11939" y="68072"/>
                  </a:lnTo>
                  <a:lnTo>
                    <a:pt x="6731" y="70485"/>
                  </a:lnTo>
                  <a:lnTo>
                    <a:pt x="2794" y="72898"/>
                  </a:lnTo>
                  <a:lnTo>
                    <a:pt x="0" y="75310"/>
                  </a:lnTo>
                  <a:close/>
                </a:path>
              </a:pathLst>
            </a:custGeom>
            <a:solidFill>
              <a:srgbClr val="2a6e20"/>
            </a:solidFill>
            <a:ln w="0">
              <a:solidFill>
                <a:srgbClr val="2a6e2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Freihandform 123"/>
            <p:cNvSpPr/>
            <p:nvPr/>
          </p:nvSpPr>
          <p:spPr>
            <a:xfrm>
              <a:off x="3648240" y="2490840"/>
              <a:ext cx="379440" cy="61920"/>
            </a:xfrm>
            <a:custGeom>
              <a:avLst/>
              <a:gdLst>
                <a:gd name="textAreaLeft" fmla="*/ 0 w 379440"/>
                <a:gd name="textAreaRight" fmla="*/ 379800 w 37944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309628" h="75311">
                  <a:moveTo>
                    <a:pt x="0" y="75310"/>
                  </a:moveTo>
                  <a:lnTo>
                    <a:pt x="890" y="72009"/>
                  </a:lnTo>
                  <a:lnTo>
                    <a:pt x="2794" y="68579"/>
                  </a:lnTo>
                  <a:lnTo>
                    <a:pt x="5208" y="65659"/>
                  </a:lnTo>
                  <a:lnTo>
                    <a:pt x="8128" y="62864"/>
                  </a:lnTo>
                  <a:lnTo>
                    <a:pt x="11939" y="59944"/>
                  </a:lnTo>
                  <a:lnTo>
                    <a:pt x="15749" y="57531"/>
                  </a:lnTo>
                  <a:lnTo>
                    <a:pt x="24384" y="53213"/>
                  </a:lnTo>
                  <a:lnTo>
                    <a:pt x="34037" y="49403"/>
                  </a:lnTo>
                  <a:lnTo>
                    <a:pt x="44069" y="46482"/>
                  </a:lnTo>
                  <a:lnTo>
                    <a:pt x="53721" y="44069"/>
                  </a:lnTo>
                  <a:lnTo>
                    <a:pt x="62865" y="42672"/>
                  </a:lnTo>
                  <a:lnTo>
                    <a:pt x="96393" y="36957"/>
                  </a:lnTo>
                  <a:lnTo>
                    <a:pt x="130049" y="31114"/>
                  </a:lnTo>
                  <a:lnTo>
                    <a:pt x="163196" y="24891"/>
                  </a:lnTo>
                  <a:lnTo>
                    <a:pt x="195834" y="18669"/>
                  </a:lnTo>
                  <a:lnTo>
                    <a:pt x="226949" y="12954"/>
                  </a:lnTo>
                  <a:lnTo>
                    <a:pt x="241936" y="10032"/>
                  </a:lnTo>
                  <a:lnTo>
                    <a:pt x="256794" y="7619"/>
                  </a:lnTo>
                  <a:lnTo>
                    <a:pt x="270637" y="5207"/>
                  </a:lnTo>
                  <a:lnTo>
                    <a:pt x="284608" y="3301"/>
                  </a:lnTo>
                  <a:lnTo>
                    <a:pt x="297561" y="1397"/>
                  </a:lnTo>
                  <a:lnTo>
                    <a:pt x="309627" y="0"/>
                  </a:lnTo>
                  <a:lnTo>
                    <a:pt x="301372" y="2794"/>
                  </a:lnTo>
                  <a:lnTo>
                    <a:pt x="291847" y="5207"/>
                  </a:lnTo>
                  <a:lnTo>
                    <a:pt x="282194" y="8128"/>
                  </a:lnTo>
                  <a:lnTo>
                    <a:pt x="272162" y="10541"/>
                  </a:lnTo>
                  <a:lnTo>
                    <a:pt x="250571" y="15748"/>
                  </a:lnTo>
                  <a:lnTo>
                    <a:pt x="227965" y="20573"/>
                  </a:lnTo>
                  <a:lnTo>
                    <a:pt x="204471" y="25400"/>
                  </a:lnTo>
                  <a:lnTo>
                    <a:pt x="179959" y="29717"/>
                  </a:lnTo>
                  <a:lnTo>
                    <a:pt x="131953" y="38861"/>
                  </a:lnTo>
                  <a:lnTo>
                    <a:pt x="108966" y="43179"/>
                  </a:lnTo>
                  <a:lnTo>
                    <a:pt x="86868" y="48006"/>
                  </a:lnTo>
                  <a:lnTo>
                    <a:pt x="66168" y="52323"/>
                  </a:lnTo>
                  <a:lnTo>
                    <a:pt x="56643" y="54229"/>
                  </a:lnTo>
                  <a:lnTo>
                    <a:pt x="47499" y="56641"/>
                  </a:lnTo>
                  <a:lnTo>
                    <a:pt x="38862" y="59054"/>
                  </a:lnTo>
                  <a:lnTo>
                    <a:pt x="31115" y="61341"/>
                  </a:lnTo>
                  <a:lnTo>
                    <a:pt x="24003" y="63373"/>
                  </a:lnTo>
                  <a:lnTo>
                    <a:pt x="17272" y="65659"/>
                  </a:lnTo>
                  <a:lnTo>
                    <a:pt x="11939" y="68072"/>
                  </a:lnTo>
                  <a:lnTo>
                    <a:pt x="6731" y="70485"/>
                  </a:lnTo>
                  <a:lnTo>
                    <a:pt x="2794" y="72898"/>
                  </a:lnTo>
                  <a:lnTo>
                    <a:pt x="0" y="75310"/>
                  </a:lnTo>
                  <a:close/>
                </a:path>
              </a:pathLst>
            </a:custGeom>
            <a:solidFill>
              <a:srgbClr val="11610d"/>
            </a:solidFill>
            <a:ln w="0">
              <a:solidFill>
                <a:srgbClr val="11610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ihandform 124"/>
            <p:cNvSpPr/>
            <p:nvPr/>
          </p:nvSpPr>
          <p:spPr>
            <a:xfrm>
              <a:off x="3648240" y="2490840"/>
              <a:ext cx="379440" cy="61920"/>
            </a:xfrm>
            <a:custGeom>
              <a:avLst/>
              <a:gdLst>
                <a:gd name="textAreaLeft" fmla="*/ 0 w 379440"/>
                <a:gd name="textAreaRight" fmla="*/ 379800 w 37944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309628" h="75311">
                  <a:moveTo>
                    <a:pt x="1397" y="72389"/>
                  </a:moveTo>
                  <a:lnTo>
                    <a:pt x="3811" y="69088"/>
                  </a:lnTo>
                  <a:lnTo>
                    <a:pt x="6731" y="66166"/>
                  </a:lnTo>
                  <a:lnTo>
                    <a:pt x="10034" y="63754"/>
                  </a:lnTo>
                  <a:lnTo>
                    <a:pt x="17781" y="59054"/>
                  </a:lnTo>
                  <a:lnTo>
                    <a:pt x="26416" y="54610"/>
                  </a:lnTo>
                  <a:lnTo>
                    <a:pt x="35941" y="51307"/>
                  </a:lnTo>
                  <a:lnTo>
                    <a:pt x="45593" y="48386"/>
                  </a:lnTo>
                  <a:lnTo>
                    <a:pt x="55118" y="45973"/>
                  </a:lnTo>
                  <a:lnTo>
                    <a:pt x="64262" y="44576"/>
                  </a:lnTo>
                  <a:lnTo>
                    <a:pt x="97918" y="38861"/>
                  </a:lnTo>
                  <a:lnTo>
                    <a:pt x="131065" y="32638"/>
                  </a:lnTo>
                  <a:lnTo>
                    <a:pt x="164084" y="26288"/>
                  </a:lnTo>
                  <a:lnTo>
                    <a:pt x="196343" y="19685"/>
                  </a:lnTo>
                  <a:lnTo>
                    <a:pt x="227458" y="13335"/>
                  </a:lnTo>
                  <a:lnTo>
                    <a:pt x="242316" y="10541"/>
                  </a:lnTo>
                  <a:lnTo>
                    <a:pt x="256794" y="7619"/>
                  </a:lnTo>
                  <a:lnTo>
                    <a:pt x="271146" y="5207"/>
                  </a:lnTo>
                  <a:lnTo>
                    <a:pt x="284608" y="3301"/>
                  </a:lnTo>
                  <a:lnTo>
                    <a:pt x="297561" y="1397"/>
                  </a:lnTo>
                  <a:lnTo>
                    <a:pt x="309627" y="0"/>
                  </a:lnTo>
                  <a:lnTo>
                    <a:pt x="301372" y="2794"/>
                  </a:lnTo>
                  <a:lnTo>
                    <a:pt x="291847" y="5207"/>
                  </a:lnTo>
                  <a:lnTo>
                    <a:pt x="282194" y="8128"/>
                  </a:lnTo>
                  <a:lnTo>
                    <a:pt x="272162" y="10541"/>
                  </a:lnTo>
                  <a:lnTo>
                    <a:pt x="250571" y="15748"/>
                  </a:lnTo>
                  <a:lnTo>
                    <a:pt x="227965" y="20573"/>
                  </a:lnTo>
                  <a:lnTo>
                    <a:pt x="204471" y="25400"/>
                  </a:lnTo>
                  <a:lnTo>
                    <a:pt x="179959" y="29717"/>
                  </a:lnTo>
                  <a:lnTo>
                    <a:pt x="131953" y="38861"/>
                  </a:lnTo>
                  <a:lnTo>
                    <a:pt x="108966" y="43179"/>
                  </a:lnTo>
                  <a:lnTo>
                    <a:pt x="86868" y="48006"/>
                  </a:lnTo>
                  <a:lnTo>
                    <a:pt x="66168" y="52323"/>
                  </a:lnTo>
                  <a:lnTo>
                    <a:pt x="56643" y="54229"/>
                  </a:lnTo>
                  <a:lnTo>
                    <a:pt x="47499" y="56641"/>
                  </a:lnTo>
                  <a:lnTo>
                    <a:pt x="38862" y="59054"/>
                  </a:lnTo>
                  <a:lnTo>
                    <a:pt x="31115" y="61341"/>
                  </a:lnTo>
                  <a:lnTo>
                    <a:pt x="24003" y="63373"/>
                  </a:lnTo>
                  <a:lnTo>
                    <a:pt x="17272" y="65659"/>
                  </a:lnTo>
                  <a:lnTo>
                    <a:pt x="11939" y="68072"/>
                  </a:lnTo>
                  <a:lnTo>
                    <a:pt x="6731" y="70485"/>
                  </a:lnTo>
                  <a:lnTo>
                    <a:pt x="2794" y="72898"/>
                  </a:lnTo>
                  <a:lnTo>
                    <a:pt x="0" y="75310"/>
                  </a:lnTo>
                  <a:lnTo>
                    <a:pt x="1397" y="72389"/>
                  </a:lnTo>
                  <a:close/>
                </a:path>
              </a:pathLst>
            </a:custGeom>
            <a:solidFill>
              <a:srgbClr val="005600"/>
            </a:solidFill>
            <a:ln w="0">
              <a:solidFill>
                <a:srgbClr val="005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Freihandform 125"/>
            <p:cNvSpPr/>
            <p:nvPr/>
          </p:nvSpPr>
          <p:spPr>
            <a:xfrm>
              <a:off x="3038400" y="2991240"/>
              <a:ext cx="318960" cy="122040"/>
            </a:xfrm>
            <a:custGeom>
              <a:avLst/>
              <a:gdLst>
                <a:gd name="textAreaLeft" fmla="*/ 0 w 318960"/>
                <a:gd name="textAreaRight" fmla="*/ 319320 w 318960"/>
                <a:gd name="textAreaTop" fmla="*/ 0 h 122040"/>
                <a:gd name="textAreaBottom" fmla="*/ 122400 h 122040"/>
              </a:gdLst>
              <a:ahLst/>
              <a:rect l="textAreaLeft" t="textAreaTop" r="textAreaRight" b="textAreaBottom"/>
              <a:pathLst>
                <a:path w="258699" h="149226">
                  <a:moveTo>
                    <a:pt x="15875" y="7619"/>
                  </a:moveTo>
                  <a:lnTo>
                    <a:pt x="32131" y="14350"/>
                  </a:lnTo>
                  <a:lnTo>
                    <a:pt x="48006" y="20574"/>
                  </a:lnTo>
                  <a:lnTo>
                    <a:pt x="64388" y="25907"/>
                  </a:lnTo>
                  <a:lnTo>
                    <a:pt x="80137" y="30733"/>
                  </a:lnTo>
                  <a:lnTo>
                    <a:pt x="96012" y="34544"/>
                  </a:lnTo>
                  <a:lnTo>
                    <a:pt x="111379" y="37845"/>
                  </a:lnTo>
                  <a:lnTo>
                    <a:pt x="125857" y="40767"/>
                  </a:lnTo>
                  <a:lnTo>
                    <a:pt x="139700" y="43180"/>
                  </a:lnTo>
                  <a:lnTo>
                    <a:pt x="153162" y="45085"/>
                  </a:lnTo>
                  <a:lnTo>
                    <a:pt x="165100" y="46481"/>
                  </a:lnTo>
                  <a:lnTo>
                    <a:pt x="176148" y="48006"/>
                  </a:lnTo>
                  <a:lnTo>
                    <a:pt x="186309" y="48894"/>
                  </a:lnTo>
                  <a:lnTo>
                    <a:pt x="194437" y="49402"/>
                  </a:lnTo>
                  <a:lnTo>
                    <a:pt x="201675" y="49402"/>
                  </a:lnTo>
                  <a:lnTo>
                    <a:pt x="207391" y="49402"/>
                  </a:lnTo>
                  <a:lnTo>
                    <a:pt x="216026" y="53212"/>
                  </a:lnTo>
                  <a:lnTo>
                    <a:pt x="223773" y="57023"/>
                  </a:lnTo>
                  <a:lnTo>
                    <a:pt x="230378" y="61341"/>
                  </a:lnTo>
                  <a:lnTo>
                    <a:pt x="236728" y="66675"/>
                  </a:lnTo>
                  <a:lnTo>
                    <a:pt x="242442" y="72008"/>
                  </a:lnTo>
                  <a:lnTo>
                    <a:pt x="246760" y="77724"/>
                  </a:lnTo>
                  <a:lnTo>
                    <a:pt x="251079" y="83438"/>
                  </a:lnTo>
                  <a:lnTo>
                    <a:pt x="254000" y="89662"/>
                  </a:lnTo>
                  <a:lnTo>
                    <a:pt x="256413" y="96393"/>
                  </a:lnTo>
                  <a:lnTo>
                    <a:pt x="257810" y="103124"/>
                  </a:lnTo>
                  <a:lnTo>
                    <a:pt x="258698" y="109855"/>
                  </a:lnTo>
                  <a:lnTo>
                    <a:pt x="258698" y="116586"/>
                  </a:lnTo>
                  <a:lnTo>
                    <a:pt x="258317" y="123317"/>
                  </a:lnTo>
                  <a:lnTo>
                    <a:pt x="256794" y="129539"/>
                  </a:lnTo>
                  <a:lnTo>
                    <a:pt x="254888" y="136270"/>
                  </a:lnTo>
                  <a:lnTo>
                    <a:pt x="252094" y="142494"/>
                  </a:lnTo>
                  <a:lnTo>
                    <a:pt x="248666" y="143510"/>
                  </a:lnTo>
                  <a:lnTo>
                    <a:pt x="244856" y="144906"/>
                  </a:lnTo>
                  <a:lnTo>
                    <a:pt x="240029" y="145923"/>
                  </a:lnTo>
                  <a:lnTo>
                    <a:pt x="234695" y="146812"/>
                  </a:lnTo>
                  <a:lnTo>
                    <a:pt x="228981" y="147319"/>
                  </a:lnTo>
                  <a:lnTo>
                    <a:pt x="222757" y="148336"/>
                  </a:lnTo>
                  <a:lnTo>
                    <a:pt x="209804" y="149225"/>
                  </a:lnTo>
                  <a:lnTo>
                    <a:pt x="196341" y="149225"/>
                  </a:lnTo>
                  <a:lnTo>
                    <a:pt x="183388" y="149225"/>
                  </a:lnTo>
                  <a:lnTo>
                    <a:pt x="177165" y="148717"/>
                  </a:lnTo>
                  <a:lnTo>
                    <a:pt x="171831" y="147827"/>
                  </a:lnTo>
                  <a:lnTo>
                    <a:pt x="166623" y="146812"/>
                  </a:lnTo>
                  <a:lnTo>
                    <a:pt x="162306" y="145923"/>
                  </a:lnTo>
                  <a:lnTo>
                    <a:pt x="164210" y="139573"/>
                  </a:lnTo>
                  <a:lnTo>
                    <a:pt x="164719" y="133350"/>
                  </a:lnTo>
                  <a:lnTo>
                    <a:pt x="165100" y="127126"/>
                  </a:lnTo>
                  <a:lnTo>
                    <a:pt x="164719" y="121919"/>
                  </a:lnTo>
                  <a:lnTo>
                    <a:pt x="163194" y="116077"/>
                  </a:lnTo>
                  <a:lnTo>
                    <a:pt x="161290" y="110870"/>
                  </a:lnTo>
                  <a:lnTo>
                    <a:pt x="158876" y="106044"/>
                  </a:lnTo>
                  <a:lnTo>
                    <a:pt x="156082" y="101219"/>
                  </a:lnTo>
                  <a:lnTo>
                    <a:pt x="152145" y="96393"/>
                  </a:lnTo>
                  <a:lnTo>
                    <a:pt x="148335" y="91694"/>
                  </a:lnTo>
                  <a:lnTo>
                    <a:pt x="143510" y="87375"/>
                  </a:lnTo>
                  <a:lnTo>
                    <a:pt x="138810" y="82931"/>
                  </a:lnTo>
                  <a:lnTo>
                    <a:pt x="127762" y="74802"/>
                  </a:lnTo>
                  <a:lnTo>
                    <a:pt x="115188" y="66675"/>
                  </a:lnTo>
                  <a:lnTo>
                    <a:pt x="101854" y="58546"/>
                  </a:lnTo>
                  <a:lnTo>
                    <a:pt x="87375" y="50800"/>
                  </a:lnTo>
                  <a:lnTo>
                    <a:pt x="57657" y="35432"/>
                  </a:lnTo>
                  <a:lnTo>
                    <a:pt x="42798" y="26796"/>
                  </a:lnTo>
                  <a:lnTo>
                    <a:pt x="27813" y="18669"/>
                  </a:lnTo>
                  <a:lnTo>
                    <a:pt x="13462" y="9525"/>
                  </a:lnTo>
                  <a:lnTo>
                    <a:pt x="0" y="0"/>
                  </a:lnTo>
                  <a:lnTo>
                    <a:pt x="15875" y="7619"/>
                  </a:lnTo>
                  <a:close/>
                </a:path>
              </a:pathLst>
            </a:custGeom>
            <a:solidFill>
              <a:srgbClr val="879b6b"/>
            </a:solidFill>
            <a:ln w="0">
              <a:solidFill>
                <a:srgbClr val="879b6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Freihandform 126"/>
            <p:cNvSpPr/>
            <p:nvPr/>
          </p:nvSpPr>
          <p:spPr>
            <a:xfrm>
              <a:off x="3068640" y="3000600"/>
              <a:ext cx="288720" cy="112680"/>
            </a:xfrm>
            <a:custGeom>
              <a:avLst/>
              <a:gdLst>
                <a:gd name="textAreaLeft" fmla="*/ 0 w 288720"/>
                <a:gd name="textAreaRight" fmla="*/ 289080 w 288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235586" h="137796">
                  <a:moveTo>
                    <a:pt x="0" y="0"/>
                  </a:moveTo>
                  <a:lnTo>
                    <a:pt x="14352" y="6222"/>
                  </a:lnTo>
                  <a:lnTo>
                    <a:pt x="28322" y="12064"/>
                  </a:lnTo>
                  <a:lnTo>
                    <a:pt x="42672" y="16890"/>
                  </a:lnTo>
                  <a:lnTo>
                    <a:pt x="57024" y="21208"/>
                  </a:lnTo>
                  <a:lnTo>
                    <a:pt x="71502" y="25019"/>
                  </a:lnTo>
                  <a:lnTo>
                    <a:pt x="85344" y="28320"/>
                  </a:lnTo>
                  <a:lnTo>
                    <a:pt x="98806" y="31241"/>
                  </a:lnTo>
                  <a:lnTo>
                    <a:pt x="111760" y="33146"/>
                  </a:lnTo>
                  <a:lnTo>
                    <a:pt x="124334" y="35051"/>
                  </a:lnTo>
                  <a:lnTo>
                    <a:pt x="136272" y="36957"/>
                  </a:lnTo>
                  <a:lnTo>
                    <a:pt x="146812" y="37972"/>
                  </a:lnTo>
                  <a:lnTo>
                    <a:pt x="156972" y="38862"/>
                  </a:lnTo>
                  <a:lnTo>
                    <a:pt x="165990" y="39877"/>
                  </a:lnTo>
                  <a:lnTo>
                    <a:pt x="173737" y="40386"/>
                  </a:lnTo>
                  <a:lnTo>
                    <a:pt x="180468" y="40894"/>
                  </a:lnTo>
                  <a:lnTo>
                    <a:pt x="185675" y="40894"/>
                  </a:lnTo>
                  <a:lnTo>
                    <a:pt x="193422" y="44195"/>
                  </a:lnTo>
                  <a:lnTo>
                    <a:pt x="200660" y="48006"/>
                  </a:lnTo>
                  <a:lnTo>
                    <a:pt x="207265" y="52324"/>
                  </a:lnTo>
                  <a:lnTo>
                    <a:pt x="213615" y="57150"/>
                  </a:lnTo>
                  <a:lnTo>
                    <a:pt x="218822" y="61976"/>
                  </a:lnTo>
                  <a:lnTo>
                    <a:pt x="223140" y="67690"/>
                  </a:lnTo>
                  <a:lnTo>
                    <a:pt x="226950" y="73532"/>
                  </a:lnTo>
                  <a:lnTo>
                    <a:pt x="230378" y="79247"/>
                  </a:lnTo>
                  <a:lnTo>
                    <a:pt x="232791" y="85470"/>
                  </a:lnTo>
                  <a:lnTo>
                    <a:pt x="234188" y="92201"/>
                  </a:lnTo>
                  <a:lnTo>
                    <a:pt x="235204" y="98425"/>
                  </a:lnTo>
                  <a:lnTo>
                    <a:pt x="235585" y="105156"/>
                  </a:lnTo>
                  <a:lnTo>
                    <a:pt x="235204" y="111887"/>
                  </a:lnTo>
                  <a:lnTo>
                    <a:pt x="233681" y="118109"/>
                  </a:lnTo>
                  <a:lnTo>
                    <a:pt x="231775" y="124840"/>
                  </a:lnTo>
                  <a:lnTo>
                    <a:pt x="228981" y="131064"/>
                  </a:lnTo>
                  <a:lnTo>
                    <a:pt x="226060" y="132080"/>
                  </a:lnTo>
                  <a:lnTo>
                    <a:pt x="221743" y="133476"/>
                  </a:lnTo>
                  <a:lnTo>
                    <a:pt x="216916" y="134493"/>
                  </a:lnTo>
                  <a:lnTo>
                    <a:pt x="211582" y="135382"/>
                  </a:lnTo>
                  <a:lnTo>
                    <a:pt x="205868" y="135889"/>
                  </a:lnTo>
                  <a:lnTo>
                    <a:pt x="199644" y="136906"/>
                  </a:lnTo>
                  <a:lnTo>
                    <a:pt x="186691" y="137795"/>
                  </a:lnTo>
                  <a:lnTo>
                    <a:pt x="173228" y="137795"/>
                  </a:lnTo>
                  <a:lnTo>
                    <a:pt x="160275" y="137795"/>
                  </a:lnTo>
                  <a:lnTo>
                    <a:pt x="154559" y="137287"/>
                  </a:lnTo>
                  <a:lnTo>
                    <a:pt x="148718" y="136397"/>
                  </a:lnTo>
                  <a:lnTo>
                    <a:pt x="144019" y="135382"/>
                  </a:lnTo>
                  <a:lnTo>
                    <a:pt x="139700" y="134493"/>
                  </a:lnTo>
                  <a:lnTo>
                    <a:pt x="141097" y="128651"/>
                  </a:lnTo>
                  <a:lnTo>
                    <a:pt x="141987" y="122936"/>
                  </a:lnTo>
                  <a:lnTo>
                    <a:pt x="141987" y="117601"/>
                  </a:lnTo>
                  <a:lnTo>
                    <a:pt x="141606" y="112395"/>
                  </a:lnTo>
                  <a:lnTo>
                    <a:pt x="140590" y="107569"/>
                  </a:lnTo>
                  <a:lnTo>
                    <a:pt x="139193" y="102743"/>
                  </a:lnTo>
                  <a:lnTo>
                    <a:pt x="137287" y="97916"/>
                  </a:lnTo>
                  <a:lnTo>
                    <a:pt x="134875" y="93599"/>
                  </a:lnTo>
                  <a:lnTo>
                    <a:pt x="131953" y="89281"/>
                  </a:lnTo>
                  <a:lnTo>
                    <a:pt x="128144" y="84963"/>
                  </a:lnTo>
                  <a:lnTo>
                    <a:pt x="120397" y="76834"/>
                  </a:lnTo>
                  <a:lnTo>
                    <a:pt x="110872" y="69214"/>
                  </a:lnTo>
                  <a:lnTo>
                    <a:pt x="100331" y="61468"/>
                  </a:lnTo>
                  <a:lnTo>
                    <a:pt x="88774" y="53847"/>
                  </a:lnTo>
                  <a:lnTo>
                    <a:pt x="76328" y="46608"/>
                  </a:lnTo>
                  <a:lnTo>
                    <a:pt x="50800" y="32257"/>
                  </a:lnTo>
                  <a:lnTo>
                    <a:pt x="37338" y="24511"/>
                  </a:lnTo>
                  <a:lnTo>
                    <a:pt x="24384" y="16890"/>
                  </a:lnTo>
                  <a:lnTo>
                    <a:pt x="11938" y="86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19158"/>
            </a:solidFill>
            <a:ln w="0">
              <a:solidFill>
                <a:srgbClr val="71915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ihandform 127"/>
            <p:cNvSpPr/>
            <p:nvPr/>
          </p:nvSpPr>
          <p:spPr>
            <a:xfrm>
              <a:off x="3097440" y="3009960"/>
              <a:ext cx="260280" cy="102960"/>
            </a:xfrm>
            <a:custGeom>
              <a:avLst/>
              <a:gdLst>
                <a:gd name="textAreaLeft" fmla="*/ 0 w 260280"/>
                <a:gd name="textAreaRight" fmla="*/ 260640 w 26028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211709" h="126239">
                  <a:moveTo>
                    <a:pt x="0" y="0"/>
                  </a:moveTo>
                  <a:lnTo>
                    <a:pt x="11938" y="4825"/>
                  </a:lnTo>
                  <a:lnTo>
                    <a:pt x="24510" y="9144"/>
                  </a:lnTo>
                  <a:lnTo>
                    <a:pt x="36957" y="12954"/>
                  </a:lnTo>
                  <a:lnTo>
                    <a:pt x="49403" y="16382"/>
                  </a:lnTo>
                  <a:lnTo>
                    <a:pt x="61848" y="19176"/>
                  </a:lnTo>
                  <a:lnTo>
                    <a:pt x="73913" y="21589"/>
                  </a:lnTo>
                  <a:lnTo>
                    <a:pt x="85851" y="24002"/>
                  </a:lnTo>
                  <a:lnTo>
                    <a:pt x="97408" y="25400"/>
                  </a:lnTo>
                  <a:lnTo>
                    <a:pt x="108457" y="26924"/>
                  </a:lnTo>
                  <a:lnTo>
                    <a:pt x="118491" y="28320"/>
                  </a:lnTo>
                  <a:lnTo>
                    <a:pt x="128651" y="29337"/>
                  </a:lnTo>
                  <a:lnTo>
                    <a:pt x="137286" y="29718"/>
                  </a:lnTo>
                  <a:lnTo>
                    <a:pt x="145414" y="30733"/>
                  </a:lnTo>
                  <a:lnTo>
                    <a:pt x="152654" y="31242"/>
                  </a:lnTo>
                  <a:lnTo>
                    <a:pt x="158369" y="31750"/>
                  </a:lnTo>
                  <a:lnTo>
                    <a:pt x="163195" y="32131"/>
                  </a:lnTo>
                  <a:lnTo>
                    <a:pt x="170814" y="35051"/>
                  </a:lnTo>
                  <a:lnTo>
                    <a:pt x="177545" y="38862"/>
                  </a:lnTo>
                  <a:lnTo>
                    <a:pt x="183769" y="42671"/>
                  </a:lnTo>
                  <a:lnTo>
                    <a:pt x="189103" y="46989"/>
                  </a:lnTo>
                  <a:lnTo>
                    <a:pt x="194436" y="51815"/>
                  </a:lnTo>
                  <a:lnTo>
                    <a:pt x="198754" y="57150"/>
                  </a:lnTo>
                  <a:lnTo>
                    <a:pt x="202564" y="62864"/>
                  </a:lnTo>
                  <a:lnTo>
                    <a:pt x="205866" y="68707"/>
                  </a:lnTo>
                  <a:lnTo>
                    <a:pt x="208279" y="74930"/>
                  </a:lnTo>
                  <a:lnTo>
                    <a:pt x="210185" y="81152"/>
                  </a:lnTo>
                  <a:lnTo>
                    <a:pt x="211201" y="87375"/>
                  </a:lnTo>
                  <a:lnTo>
                    <a:pt x="211708" y="93599"/>
                  </a:lnTo>
                  <a:lnTo>
                    <a:pt x="211708" y="100330"/>
                  </a:lnTo>
                  <a:lnTo>
                    <a:pt x="210185" y="106552"/>
                  </a:lnTo>
                  <a:lnTo>
                    <a:pt x="208279" y="113283"/>
                  </a:lnTo>
                  <a:lnTo>
                    <a:pt x="205485" y="119507"/>
                  </a:lnTo>
                  <a:lnTo>
                    <a:pt x="202564" y="120523"/>
                  </a:lnTo>
                  <a:lnTo>
                    <a:pt x="198247" y="121919"/>
                  </a:lnTo>
                  <a:lnTo>
                    <a:pt x="193420" y="122936"/>
                  </a:lnTo>
                  <a:lnTo>
                    <a:pt x="188086" y="123825"/>
                  </a:lnTo>
                  <a:lnTo>
                    <a:pt x="182372" y="124332"/>
                  </a:lnTo>
                  <a:lnTo>
                    <a:pt x="176148" y="125349"/>
                  </a:lnTo>
                  <a:lnTo>
                    <a:pt x="163195" y="126238"/>
                  </a:lnTo>
                  <a:lnTo>
                    <a:pt x="149732" y="126238"/>
                  </a:lnTo>
                  <a:lnTo>
                    <a:pt x="136779" y="125730"/>
                  </a:lnTo>
                  <a:lnTo>
                    <a:pt x="131063" y="125349"/>
                  </a:lnTo>
                  <a:lnTo>
                    <a:pt x="125222" y="124840"/>
                  </a:lnTo>
                  <a:lnTo>
                    <a:pt x="120523" y="123825"/>
                  </a:lnTo>
                  <a:lnTo>
                    <a:pt x="116204" y="122936"/>
                  </a:lnTo>
                  <a:lnTo>
                    <a:pt x="117601" y="117601"/>
                  </a:lnTo>
                  <a:lnTo>
                    <a:pt x="118491" y="112268"/>
                  </a:lnTo>
                  <a:lnTo>
                    <a:pt x="118491" y="107569"/>
                  </a:lnTo>
                  <a:lnTo>
                    <a:pt x="118491" y="103250"/>
                  </a:lnTo>
                  <a:lnTo>
                    <a:pt x="117601" y="98425"/>
                  </a:lnTo>
                  <a:lnTo>
                    <a:pt x="116585" y="94107"/>
                  </a:lnTo>
                  <a:lnTo>
                    <a:pt x="115188" y="89788"/>
                  </a:lnTo>
                  <a:lnTo>
                    <a:pt x="113283" y="85979"/>
                  </a:lnTo>
                  <a:lnTo>
                    <a:pt x="107950" y="77724"/>
                  </a:lnTo>
                  <a:lnTo>
                    <a:pt x="101219" y="70104"/>
                  </a:lnTo>
                  <a:lnTo>
                    <a:pt x="93598" y="62864"/>
                  </a:lnTo>
                  <a:lnTo>
                    <a:pt x="84963" y="56133"/>
                  </a:lnTo>
                  <a:lnTo>
                    <a:pt x="75310" y="49021"/>
                  </a:lnTo>
                  <a:lnTo>
                    <a:pt x="64770" y="42290"/>
                  </a:lnTo>
                  <a:lnTo>
                    <a:pt x="43179" y="28829"/>
                  </a:lnTo>
                  <a:lnTo>
                    <a:pt x="21082" y="14858"/>
                  </a:lnTo>
                  <a:lnTo>
                    <a:pt x="10032" y="774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98446"/>
            </a:solidFill>
            <a:ln w="0">
              <a:solidFill>
                <a:srgbClr val="59844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Freihandform 128"/>
            <p:cNvSpPr/>
            <p:nvPr/>
          </p:nvSpPr>
          <p:spPr>
            <a:xfrm>
              <a:off x="3124440" y="3018240"/>
              <a:ext cx="233280" cy="95040"/>
            </a:xfrm>
            <a:custGeom>
              <a:avLst/>
              <a:gdLst>
                <a:gd name="textAreaLeft" fmla="*/ 0 w 233280"/>
                <a:gd name="textAreaRight" fmla="*/ 233640 w 23328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188723" h="114682">
                  <a:moveTo>
                    <a:pt x="0" y="0"/>
                  </a:moveTo>
                  <a:lnTo>
                    <a:pt x="10542" y="3301"/>
                  </a:lnTo>
                  <a:lnTo>
                    <a:pt x="21209" y="6731"/>
                  </a:lnTo>
                  <a:lnTo>
                    <a:pt x="42292" y="11937"/>
                  </a:lnTo>
                  <a:lnTo>
                    <a:pt x="63374" y="15367"/>
                  </a:lnTo>
                  <a:lnTo>
                    <a:pt x="73534" y="16763"/>
                  </a:lnTo>
                  <a:lnTo>
                    <a:pt x="83567" y="17780"/>
                  </a:lnTo>
                  <a:lnTo>
                    <a:pt x="93218" y="18668"/>
                  </a:lnTo>
                  <a:lnTo>
                    <a:pt x="101855" y="19685"/>
                  </a:lnTo>
                  <a:lnTo>
                    <a:pt x="110490" y="20193"/>
                  </a:lnTo>
                  <a:lnTo>
                    <a:pt x="118618" y="20574"/>
                  </a:lnTo>
                  <a:lnTo>
                    <a:pt x="125858" y="21589"/>
                  </a:lnTo>
                  <a:lnTo>
                    <a:pt x="132080" y="22098"/>
                  </a:lnTo>
                  <a:lnTo>
                    <a:pt x="137287" y="22479"/>
                  </a:lnTo>
                  <a:lnTo>
                    <a:pt x="141605" y="23494"/>
                  </a:lnTo>
                  <a:lnTo>
                    <a:pt x="148337" y="26416"/>
                  </a:lnTo>
                  <a:lnTo>
                    <a:pt x="154559" y="29718"/>
                  </a:lnTo>
                  <a:lnTo>
                    <a:pt x="160402" y="33147"/>
                  </a:lnTo>
                  <a:lnTo>
                    <a:pt x="166117" y="37464"/>
                  </a:lnTo>
                  <a:lnTo>
                    <a:pt x="170943" y="42163"/>
                  </a:lnTo>
                  <a:lnTo>
                    <a:pt x="175261" y="46989"/>
                  </a:lnTo>
                  <a:lnTo>
                    <a:pt x="179071" y="52324"/>
                  </a:lnTo>
                  <a:lnTo>
                    <a:pt x="182499" y="58038"/>
                  </a:lnTo>
                  <a:lnTo>
                    <a:pt x="184786" y="63754"/>
                  </a:lnTo>
                  <a:lnTo>
                    <a:pt x="186818" y="70104"/>
                  </a:lnTo>
                  <a:lnTo>
                    <a:pt x="188215" y="76326"/>
                  </a:lnTo>
                  <a:lnTo>
                    <a:pt x="188722" y="82550"/>
                  </a:lnTo>
                  <a:lnTo>
                    <a:pt x="188215" y="88773"/>
                  </a:lnTo>
                  <a:lnTo>
                    <a:pt x="187199" y="95504"/>
                  </a:lnTo>
                  <a:lnTo>
                    <a:pt x="185293" y="101726"/>
                  </a:lnTo>
                  <a:lnTo>
                    <a:pt x="182880" y="107950"/>
                  </a:lnTo>
                  <a:lnTo>
                    <a:pt x="179578" y="108966"/>
                  </a:lnTo>
                  <a:lnTo>
                    <a:pt x="175768" y="110362"/>
                  </a:lnTo>
                  <a:lnTo>
                    <a:pt x="170943" y="111379"/>
                  </a:lnTo>
                  <a:lnTo>
                    <a:pt x="165609" y="112268"/>
                  </a:lnTo>
                  <a:lnTo>
                    <a:pt x="159893" y="112775"/>
                  </a:lnTo>
                  <a:lnTo>
                    <a:pt x="153671" y="113792"/>
                  </a:lnTo>
                  <a:lnTo>
                    <a:pt x="140717" y="114681"/>
                  </a:lnTo>
                  <a:lnTo>
                    <a:pt x="127255" y="114681"/>
                  </a:lnTo>
                  <a:lnTo>
                    <a:pt x="114300" y="114173"/>
                  </a:lnTo>
                  <a:lnTo>
                    <a:pt x="108077" y="113792"/>
                  </a:lnTo>
                  <a:lnTo>
                    <a:pt x="102743" y="113283"/>
                  </a:lnTo>
                  <a:lnTo>
                    <a:pt x="97537" y="112268"/>
                  </a:lnTo>
                  <a:lnTo>
                    <a:pt x="93218" y="111379"/>
                  </a:lnTo>
                  <a:lnTo>
                    <a:pt x="94615" y="106552"/>
                  </a:lnTo>
                  <a:lnTo>
                    <a:pt x="95505" y="102235"/>
                  </a:lnTo>
                  <a:lnTo>
                    <a:pt x="95505" y="97917"/>
                  </a:lnTo>
                  <a:lnTo>
                    <a:pt x="95505" y="93599"/>
                  </a:lnTo>
                  <a:lnTo>
                    <a:pt x="94615" y="85851"/>
                  </a:lnTo>
                  <a:lnTo>
                    <a:pt x="92202" y="78231"/>
                  </a:lnTo>
                  <a:lnTo>
                    <a:pt x="87884" y="70993"/>
                  </a:lnTo>
                  <a:lnTo>
                    <a:pt x="83059" y="63754"/>
                  </a:lnTo>
                  <a:lnTo>
                    <a:pt x="76836" y="57150"/>
                  </a:lnTo>
                  <a:lnTo>
                    <a:pt x="69596" y="50800"/>
                  </a:lnTo>
                  <a:lnTo>
                    <a:pt x="61977" y="44068"/>
                  </a:lnTo>
                  <a:lnTo>
                    <a:pt x="53849" y="37845"/>
                  </a:lnTo>
                  <a:lnTo>
                    <a:pt x="36068" y="25400"/>
                  </a:lnTo>
                  <a:lnTo>
                    <a:pt x="17780" y="12954"/>
                  </a:lnTo>
                  <a:lnTo>
                    <a:pt x="8637" y="673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17a33"/>
            </a:solidFill>
            <a:ln w="0">
              <a:solidFill>
                <a:srgbClr val="417a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Freihandform 129"/>
            <p:cNvSpPr/>
            <p:nvPr/>
          </p:nvSpPr>
          <p:spPr>
            <a:xfrm>
              <a:off x="3154320" y="3029040"/>
              <a:ext cx="199800" cy="83880"/>
            </a:xfrm>
            <a:custGeom>
              <a:avLst/>
              <a:gdLst>
                <a:gd name="textAreaLeft" fmla="*/ 0 w 199800"/>
                <a:gd name="textAreaRight" fmla="*/ 200160 w 199800"/>
                <a:gd name="textAreaTop" fmla="*/ 0 h 83880"/>
                <a:gd name="textAreaBottom" fmla="*/ 84240 h 83880"/>
              </a:gdLst>
              <a:ahLst/>
              <a:rect l="textAreaLeft" t="textAreaTop" r="textAreaRight" b="textAreaBottom"/>
              <a:pathLst>
                <a:path w="164592" h="103252">
                  <a:moveTo>
                    <a:pt x="0" y="0"/>
                  </a:moveTo>
                  <a:lnTo>
                    <a:pt x="8128" y="2413"/>
                  </a:lnTo>
                  <a:lnTo>
                    <a:pt x="16763" y="4318"/>
                  </a:lnTo>
                  <a:lnTo>
                    <a:pt x="34035" y="7238"/>
                  </a:lnTo>
                  <a:lnTo>
                    <a:pt x="51815" y="9144"/>
                  </a:lnTo>
                  <a:lnTo>
                    <a:pt x="68580" y="10159"/>
                  </a:lnTo>
                  <a:lnTo>
                    <a:pt x="84455" y="11049"/>
                  </a:lnTo>
                  <a:lnTo>
                    <a:pt x="91694" y="11557"/>
                  </a:lnTo>
                  <a:lnTo>
                    <a:pt x="98806" y="12064"/>
                  </a:lnTo>
                  <a:lnTo>
                    <a:pt x="105028" y="12572"/>
                  </a:lnTo>
                  <a:lnTo>
                    <a:pt x="110362" y="13081"/>
                  </a:lnTo>
                  <a:lnTo>
                    <a:pt x="115697" y="13970"/>
                  </a:lnTo>
                  <a:lnTo>
                    <a:pt x="119506" y="14986"/>
                  </a:lnTo>
                  <a:lnTo>
                    <a:pt x="125730" y="17399"/>
                  </a:lnTo>
                  <a:lnTo>
                    <a:pt x="131444" y="20193"/>
                  </a:lnTo>
                  <a:lnTo>
                    <a:pt x="136778" y="24002"/>
                  </a:lnTo>
                  <a:lnTo>
                    <a:pt x="141605" y="27939"/>
                  </a:lnTo>
                  <a:lnTo>
                    <a:pt x="146303" y="32257"/>
                  </a:lnTo>
                  <a:lnTo>
                    <a:pt x="150622" y="36957"/>
                  </a:lnTo>
                  <a:lnTo>
                    <a:pt x="154559" y="42290"/>
                  </a:lnTo>
                  <a:lnTo>
                    <a:pt x="157860" y="47625"/>
                  </a:lnTo>
                  <a:lnTo>
                    <a:pt x="160781" y="53339"/>
                  </a:lnTo>
                  <a:lnTo>
                    <a:pt x="162687" y="59055"/>
                  </a:lnTo>
                  <a:lnTo>
                    <a:pt x="164084" y="65277"/>
                  </a:lnTo>
                  <a:lnTo>
                    <a:pt x="164591" y="71627"/>
                  </a:lnTo>
                  <a:lnTo>
                    <a:pt x="164591" y="77851"/>
                  </a:lnTo>
                  <a:lnTo>
                    <a:pt x="163703" y="84074"/>
                  </a:lnTo>
                  <a:lnTo>
                    <a:pt x="161671" y="90296"/>
                  </a:lnTo>
                  <a:lnTo>
                    <a:pt x="159384" y="96520"/>
                  </a:lnTo>
                  <a:lnTo>
                    <a:pt x="155956" y="97536"/>
                  </a:lnTo>
                  <a:lnTo>
                    <a:pt x="152146" y="98932"/>
                  </a:lnTo>
                  <a:lnTo>
                    <a:pt x="147319" y="99949"/>
                  </a:lnTo>
                  <a:lnTo>
                    <a:pt x="141985" y="100838"/>
                  </a:lnTo>
                  <a:lnTo>
                    <a:pt x="136271" y="101345"/>
                  </a:lnTo>
                  <a:lnTo>
                    <a:pt x="130047" y="102362"/>
                  </a:lnTo>
                  <a:lnTo>
                    <a:pt x="117094" y="103251"/>
                  </a:lnTo>
                  <a:lnTo>
                    <a:pt x="103631" y="103251"/>
                  </a:lnTo>
                  <a:lnTo>
                    <a:pt x="90678" y="102743"/>
                  </a:lnTo>
                  <a:lnTo>
                    <a:pt x="84455" y="102362"/>
                  </a:lnTo>
                  <a:lnTo>
                    <a:pt x="79121" y="101853"/>
                  </a:lnTo>
                  <a:lnTo>
                    <a:pt x="73913" y="100838"/>
                  </a:lnTo>
                  <a:lnTo>
                    <a:pt x="69596" y="99949"/>
                  </a:lnTo>
                  <a:lnTo>
                    <a:pt x="71500" y="91694"/>
                  </a:lnTo>
                  <a:lnTo>
                    <a:pt x="72390" y="84582"/>
                  </a:lnTo>
                  <a:lnTo>
                    <a:pt x="72009" y="77343"/>
                  </a:lnTo>
                  <a:lnTo>
                    <a:pt x="70103" y="70612"/>
                  </a:lnTo>
                  <a:lnTo>
                    <a:pt x="67690" y="63881"/>
                  </a:lnTo>
                  <a:lnTo>
                    <a:pt x="63753" y="57657"/>
                  </a:lnTo>
                  <a:lnTo>
                    <a:pt x="59435" y="51434"/>
                  </a:lnTo>
                  <a:lnTo>
                    <a:pt x="54228" y="45212"/>
                  </a:lnTo>
                  <a:lnTo>
                    <a:pt x="48387" y="39370"/>
                  </a:lnTo>
                  <a:lnTo>
                    <a:pt x="42163" y="33655"/>
                  </a:lnTo>
                  <a:lnTo>
                    <a:pt x="28321" y="22606"/>
                  </a:lnTo>
                  <a:lnTo>
                    <a:pt x="13843" y="1155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a6e20"/>
            </a:solidFill>
            <a:ln w="0">
              <a:solidFill>
                <a:srgbClr val="2a6e2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Freihandform 130"/>
            <p:cNvSpPr/>
            <p:nvPr/>
          </p:nvSpPr>
          <p:spPr>
            <a:xfrm>
              <a:off x="3181320" y="3038760"/>
              <a:ext cx="172800" cy="74520"/>
            </a:xfrm>
            <a:custGeom>
              <a:avLst/>
              <a:gdLst>
                <a:gd name="textAreaLeft" fmla="*/ 0 w 172800"/>
                <a:gd name="textAreaRight" fmla="*/ 173160 w 172800"/>
                <a:gd name="textAreaTop" fmla="*/ 0 h 74520"/>
                <a:gd name="textAreaBottom" fmla="*/ 74880 h 74520"/>
              </a:gdLst>
              <a:ahLst/>
              <a:rect l="textAreaLeft" t="textAreaTop" r="textAreaRight" b="textAreaBottom"/>
              <a:pathLst>
                <a:path w="141605" h="91695">
                  <a:moveTo>
                    <a:pt x="0" y="0"/>
                  </a:moveTo>
                  <a:lnTo>
                    <a:pt x="6731" y="1015"/>
                  </a:lnTo>
                  <a:lnTo>
                    <a:pt x="13462" y="1905"/>
                  </a:lnTo>
                  <a:lnTo>
                    <a:pt x="26923" y="2413"/>
                  </a:lnTo>
                  <a:lnTo>
                    <a:pt x="41275" y="2920"/>
                  </a:lnTo>
                  <a:lnTo>
                    <a:pt x="54737" y="2413"/>
                  </a:lnTo>
                  <a:lnTo>
                    <a:pt x="67691" y="2413"/>
                  </a:lnTo>
                  <a:lnTo>
                    <a:pt x="79756" y="2920"/>
                  </a:lnTo>
                  <a:lnTo>
                    <a:pt x="84963" y="3429"/>
                  </a:lnTo>
                  <a:lnTo>
                    <a:pt x="89788" y="3810"/>
                  </a:lnTo>
                  <a:lnTo>
                    <a:pt x="94107" y="4825"/>
                  </a:lnTo>
                  <a:lnTo>
                    <a:pt x="97916" y="6223"/>
                  </a:lnTo>
                  <a:lnTo>
                    <a:pt x="103250" y="8636"/>
                  </a:lnTo>
                  <a:lnTo>
                    <a:pt x="108457" y="11049"/>
                  </a:lnTo>
                  <a:lnTo>
                    <a:pt x="113791" y="14477"/>
                  </a:lnTo>
                  <a:lnTo>
                    <a:pt x="118618" y="18288"/>
                  </a:lnTo>
                  <a:lnTo>
                    <a:pt x="122935" y="22606"/>
                  </a:lnTo>
                  <a:lnTo>
                    <a:pt x="127253" y="26924"/>
                  </a:lnTo>
                  <a:lnTo>
                    <a:pt x="131063" y="31750"/>
                  </a:lnTo>
                  <a:lnTo>
                    <a:pt x="133985" y="36956"/>
                  </a:lnTo>
                  <a:lnTo>
                    <a:pt x="136778" y="42799"/>
                  </a:lnTo>
                  <a:lnTo>
                    <a:pt x="139191" y="48006"/>
                  </a:lnTo>
                  <a:lnTo>
                    <a:pt x="140716" y="54229"/>
                  </a:lnTo>
                  <a:lnTo>
                    <a:pt x="141604" y="60070"/>
                  </a:lnTo>
                  <a:lnTo>
                    <a:pt x="141604" y="66294"/>
                  </a:lnTo>
                  <a:lnTo>
                    <a:pt x="140716" y="72517"/>
                  </a:lnTo>
                  <a:lnTo>
                    <a:pt x="139191" y="78739"/>
                  </a:lnTo>
                  <a:lnTo>
                    <a:pt x="136397" y="84963"/>
                  </a:lnTo>
                  <a:lnTo>
                    <a:pt x="132969" y="85979"/>
                  </a:lnTo>
                  <a:lnTo>
                    <a:pt x="129159" y="87375"/>
                  </a:lnTo>
                  <a:lnTo>
                    <a:pt x="124332" y="88392"/>
                  </a:lnTo>
                  <a:lnTo>
                    <a:pt x="118998" y="89281"/>
                  </a:lnTo>
                  <a:lnTo>
                    <a:pt x="113284" y="89788"/>
                  </a:lnTo>
                  <a:lnTo>
                    <a:pt x="107060" y="90805"/>
                  </a:lnTo>
                  <a:lnTo>
                    <a:pt x="94107" y="91694"/>
                  </a:lnTo>
                  <a:lnTo>
                    <a:pt x="80644" y="91694"/>
                  </a:lnTo>
                  <a:lnTo>
                    <a:pt x="67691" y="91186"/>
                  </a:lnTo>
                  <a:lnTo>
                    <a:pt x="61975" y="90805"/>
                  </a:lnTo>
                  <a:lnTo>
                    <a:pt x="56134" y="90296"/>
                  </a:lnTo>
                  <a:lnTo>
                    <a:pt x="51435" y="89281"/>
                  </a:lnTo>
                  <a:lnTo>
                    <a:pt x="46609" y="88392"/>
                  </a:lnTo>
                  <a:lnTo>
                    <a:pt x="49022" y="81661"/>
                  </a:lnTo>
                  <a:lnTo>
                    <a:pt x="49910" y="75438"/>
                  </a:lnTo>
                  <a:lnTo>
                    <a:pt x="49910" y="69088"/>
                  </a:lnTo>
                  <a:lnTo>
                    <a:pt x="49022" y="62864"/>
                  </a:lnTo>
                  <a:lnTo>
                    <a:pt x="47497" y="57150"/>
                  </a:lnTo>
                  <a:lnTo>
                    <a:pt x="45593" y="51435"/>
                  </a:lnTo>
                  <a:lnTo>
                    <a:pt x="42798" y="45593"/>
                  </a:lnTo>
                  <a:lnTo>
                    <a:pt x="39369" y="39877"/>
                  </a:lnTo>
                  <a:lnTo>
                    <a:pt x="35560" y="34544"/>
                  </a:lnTo>
                  <a:lnTo>
                    <a:pt x="31241" y="29337"/>
                  </a:lnTo>
                  <a:lnTo>
                    <a:pt x="21590" y="19176"/>
                  </a:lnTo>
                  <a:lnTo>
                    <a:pt x="11048" y="965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1610d"/>
            </a:solidFill>
            <a:ln w="0">
              <a:solidFill>
                <a:srgbClr val="11610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Freihandform 131"/>
            <p:cNvSpPr/>
            <p:nvPr/>
          </p:nvSpPr>
          <p:spPr>
            <a:xfrm>
              <a:off x="3210120" y="3043440"/>
              <a:ext cx="144360" cy="698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117604" h="86360">
                  <a:moveTo>
                    <a:pt x="9144" y="5207"/>
                  </a:moveTo>
                  <a:lnTo>
                    <a:pt x="19304" y="3809"/>
                  </a:lnTo>
                  <a:lnTo>
                    <a:pt x="40387" y="889"/>
                  </a:lnTo>
                  <a:lnTo>
                    <a:pt x="50419" y="0"/>
                  </a:lnTo>
                  <a:lnTo>
                    <a:pt x="60072" y="0"/>
                  </a:lnTo>
                  <a:lnTo>
                    <a:pt x="64390" y="0"/>
                  </a:lnTo>
                  <a:lnTo>
                    <a:pt x="68707" y="889"/>
                  </a:lnTo>
                  <a:lnTo>
                    <a:pt x="72518" y="1904"/>
                  </a:lnTo>
                  <a:lnTo>
                    <a:pt x="75819" y="3302"/>
                  </a:lnTo>
                  <a:lnTo>
                    <a:pt x="80646" y="5714"/>
                  </a:lnTo>
                  <a:lnTo>
                    <a:pt x="84963" y="8127"/>
                  </a:lnTo>
                  <a:lnTo>
                    <a:pt x="89790" y="10921"/>
                  </a:lnTo>
                  <a:lnTo>
                    <a:pt x="94107" y="14351"/>
                  </a:lnTo>
                  <a:lnTo>
                    <a:pt x="98425" y="18669"/>
                  </a:lnTo>
                  <a:lnTo>
                    <a:pt x="102744" y="22987"/>
                  </a:lnTo>
                  <a:lnTo>
                    <a:pt x="106553" y="27304"/>
                  </a:lnTo>
                  <a:lnTo>
                    <a:pt x="109982" y="32639"/>
                  </a:lnTo>
                  <a:lnTo>
                    <a:pt x="112903" y="37846"/>
                  </a:lnTo>
                  <a:lnTo>
                    <a:pt x="115190" y="43179"/>
                  </a:lnTo>
                  <a:lnTo>
                    <a:pt x="116713" y="48895"/>
                  </a:lnTo>
                  <a:lnTo>
                    <a:pt x="117603" y="54609"/>
                  </a:lnTo>
                  <a:lnTo>
                    <a:pt x="117603" y="60959"/>
                  </a:lnTo>
                  <a:lnTo>
                    <a:pt x="117222" y="66675"/>
                  </a:lnTo>
                  <a:lnTo>
                    <a:pt x="115697" y="72897"/>
                  </a:lnTo>
                  <a:lnTo>
                    <a:pt x="112903" y="79121"/>
                  </a:lnTo>
                  <a:lnTo>
                    <a:pt x="109475" y="80518"/>
                  </a:lnTo>
                  <a:lnTo>
                    <a:pt x="105665" y="81533"/>
                  </a:lnTo>
                  <a:lnTo>
                    <a:pt x="100838" y="82550"/>
                  </a:lnTo>
                  <a:lnTo>
                    <a:pt x="95504" y="83439"/>
                  </a:lnTo>
                  <a:lnTo>
                    <a:pt x="89790" y="84454"/>
                  </a:lnTo>
                  <a:lnTo>
                    <a:pt x="83566" y="84963"/>
                  </a:lnTo>
                  <a:lnTo>
                    <a:pt x="70613" y="85852"/>
                  </a:lnTo>
                  <a:lnTo>
                    <a:pt x="57150" y="86359"/>
                  </a:lnTo>
                  <a:lnTo>
                    <a:pt x="44197" y="85852"/>
                  </a:lnTo>
                  <a:lnTo>
                    <a:pt x="38481" y="85344"/>
                  </a:lnTo>
                  <a:lnTo>
                    <a:pt x="32640" y="84454"/>
                  </a:lnTo>
                  <a:lnTo>
                    <a:pt x="27941" y="83439"/>
                  </a:lnTo>
                  <a:lnTo>
                    <a:pt x="23115" y="82550"/>
                  </a:lnTo>
                  <a:lnTo>
                    <a:pt x="25019" y="77215"/>
                  </a:lnTo>
                  <a:lnTo>
                    <a:pt x="26416" y="71882"/>
                  </a:lnTo>
                  <a:lnTo>
                    <a:pt x="27432" y="66166"/>
                  </a:lnTo>
                  <a:lnTo>
                    <a:pt x="27432" y="60959"/>
                  </a:lnTo>
                  <a:lnTo>
                    <a:pt x="26925" y="55626"/>
                  </a:lnTo>
                  <a:lnTo>
                    <a:pt x="26416" y="50800"/>
                  </a:lnTo>
                  <a:lnTo>
                    <a:pt x="23622" y="40766"/>
                  </a:lnTo>
                  <a:lnTo>
                    <a:pt x="19304" y="31114"/>
                  </a:lnTo>
                  <a:lnTo>
                    <a:pt x="13971" y="21971"/>
                  </a:lnTo>
                  <a:lnTo>
                    <a:pt x="7240" y="13334"/>
                  </a:lnTo>
                  <a:lnTo>
                    <a:pt x="0" y="5714"/>
                  </a:lnTo>
                  <a:lnTo>
                    <a:pt x="9144" y="5207"/>
                  </a:lnTo>
                  <a:close/>
                </a:path>
              </a:pathLst>
            </a:custGeom>
            <a:solidFill>
              <a:srgbClr val="005600"/>
            </a:solidFill>
            <a:ln w="0">
              <a:solidFill>
                <a:srgbClr val="005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Freihandform 132"/>
            <p:cNvSpPr/>
            <p:nvPr/>
          </p:nvSpPr>
          <p:spPr>
            <a:xfrm>
              <a:off x="3343320" y="3018240"/>
              <a:ext cx="233280" cy="87120"/>
            </a:xfrm>
            <a:custGeom>
              <a:avLst/>
              <a:gdLst>
                <a:gd name="textAreaLeft" fmla="*/ 0 w 233280"/>
                <a:gd name="textAreaRight" fmla="*/ 233640 w 233280"/>
                <a:gd name="textAreaTop" fmla="*/ 0 h 87120"/>
                <a:gd name="textAreaBottom" fmla="*/ 87480 h 87120"/>
              </a:gdLst>
              <a:ahLst/>
              <a:rect l="textAreaLeft" t="textAreaTop" r="textAreaRight" b="textAreaBottom"/>
              <a:pathLst>
                <a:path w="190501" h="105030">
                  <a:moveTo>
                    <a:pt x="0" y="8636"/>
                  </a:moveTo>
                  <a:lnTo>
                    <a:pt x="12447" y="7112"/>
                  </a:lnTo>
                  <a:lnTo>
                    <a:pt x="25400" y="5206"/>
                  </a:lnTo>
                  <a:lnTo>
                    <a:pt x="38862" y="3810"/>
                  </a:lnTo>
                  <a:lnTo>
                    <a:pt x="52325" y="1905"/>
                  </a:lnTo>
                  <a:lnTo>
                    <a:pt x="64771" y="888"/>
                  </a:lnTo>
                  <a:lnTo>
                    <a:pt x="70612" y="507"/>
                  </a:lnTo>
                  <a:lnTo>
                    <a:pt x="75819" y="0"/>
                  </a:lnTo>
                  <a:lnTo>
                    <a:pt x="81153" y="507"/>
                  </a:lnTo>
                  <a:lnTo>
                    <a:pt x="85472" y="507"/>
                  </a:lnTo>
                  <a:lnTo>
                    <a:pt x="89790" y="888"/>
                  </a:lnTo>
                  <a:lnTo>
                    <a:pt x="93091" y="1905"/>
                  </a:lnTo>
                  <a:lnTo>
                    <a:pt x="100838" y="4825"/>
                  </a:lnTo>
                  <a:lnTo>
                    <a:pt x="108966" y="7619"/>
                  </a:lnTo>
                  <a:lnTo>
                    <a:pt x="117603" y="11049"/>
                  </a:lnTo>
                  <a:lnTo>
                    <a:pt x="126238" y="14858"/>
                  </a:lnTo>
                  <a:lnTo>
                    <a:pt x="144019" y="23494"/>
                  </a:lnTo>
                  <a:lnTo>
                    <a:pt x="152147" y="28320"/>
                  </a:lnTo>
                  <a:lnTo>
                    <a:pt x="159894" y="33147"/>
                  </a:lnTo>
                  <a:lnTo>
                    <a:pt x="167513" y="38354"/>
                  </a:lnTo>
                  <a:lnTo>
                    <a:pt x="173737" y="44068"/>
                  </a:lnTo>
                  <a:lnTo>
                    <a:pt x="179452" y="50418"/>
                  </a:lnTo>
                  <a:lnTo>
                    <a:pt x="184278" y="56642"/>
                  </a:lnTo>
                  <a:lnTo>
                    <a:pt x="187706" y="63373"/>
                  </a:lnTo>
                  <a:lnTo>
                    <a:pt x="189612" y="70104"/>
                  </a:lnTo>
                  <a:lnTo>
                    <a:pt x="190500" y="77216"/>
                  </a:lnTo>
                  <a:lnTo>
                    <a:pt x="189103" y="84962"/>
                  </a:lnTo>
                  <a:lnTo>
                    <a:pt x="179071" y="89788"/>
                  </a:lnTo>
                  <a:lnTo>
                    <a:pt x="168530" y="93091"/>
                  </a:lnTo>
                  <a:lnTo>
                    <a:pt x="157862" y="96393"/>
                  </a:lnTo>
                  <a:lnTo>
                    <a:pt x="147321" y="98806"/>
                  </a:lnTo>
                  <a:lnTo>
                    <a:pt x="136272" y="100711"/>
                  </a:lnTo>
                  <a:lnTo>
                    <a:pt x="126238" y="102235"/>
                  </a:lnTo>
                  <a:lnTo>
                    <a:pt x="116206" y="103631"/>
                  </a:lnTo>
                  <a:lnTo>
                    <a:pt x="106553" y="105029"/>
                  </a:lnTo>
                  <a:lnTo>
                    <a:pt x="107569" y="99313"/>
                  </a:lnTo>
                  <a:lnTo>
                    <a:pt x="107569" y="94106"/>
                  </a:lnTo>
                  <a:lnTo>
                    <a:pt x="107569" y="88773"/>
                  </a:lnTo>
                  <a:lnTo>
                    <a:pt x="106553" y="83947"/>
                  </a:lnTo>
                  <a:lnTo>
                    <a:pt x="105537" y="79120"/>
                  </a:lnTo>
                  <a:lnTo>
                    <a:pt x="104140" y="74422"/>
                  </a:lnTo>
                  <a:lnTo>
                    <a:pt x="101728" y="70104"/>
                  </a:lnTo>
                  <a:lnTo>
                    <a:pt x="99315" y="65786"/>
                  </a:lnTo>
                  <a:lnTo>
                    <a:pt x="93091" y="57531"/>
                  </a:lnTo>
                  <a:lnTo>
                    <a:pt x="85853" y="49911"/>
                  </a:lnTo>
                  <a:lnTo>
                    <a:pt x="77725" y="43180"/>
                  </a:lnTo>
                  <a:lnTo>
                    <a:pt x="68581" y="36956"/>
                  </a:lnTo>
                  <a:lnTo>
                    <a:pt x="59563" y="31114"/>
                  </a:lnTo>
                  <a:lnTo>
                    <a:pt x="49912" y="26416"/>
                  </a:lnTo>
                  <a:lnTo>
                    <a:pt x="39878" y="22098"/>
                  </a:lnTo>
                  <a:lnTo>
                    <a:pt x="30734" y="18161"/>
                  </a:lnTo>
                  <a:lnTo>
                    <a:pt x="21590" y="14858"/>
                  </a:lnTo>
                  <a:lnTo>
                    <a:pt x="13462" y="12445"/>
                  </a:lnTo>
                  <a:lnTo>
                    <a:pt x="6224" y="10032"/>
                  </a:lnTo>
                  <a:lnTo>
                    <a:pt x="0" y="8636"/>
                  </a:lnTo>
                  <a:close/>
                </a:path>
              </a:pathLst>
            </a:custGeom>
            <a:solidFill>
              <a:srgbClr val="879b6b"/>
            </a:solidFill>
            <a:ln w="0">
              <a:solidFill>
                <a:srgbClr val="879b6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Freihandform 133"/>
            <p:cNvSpPr/>
            <p:nvPr/>
          </p:nvSpPr>
          <p:spPr>
            <a:xfrm>
              <a:off x="3357720" y="3022920"/>
              <a:ext cx="218880" cy="82440"/>
            </a:xfrm>
            <a:custGeom>
              <a:avLst/>
              <a:gdLst>
                <a:gd name="textAreaLeft" fmla="*/ 0 w 218880"/>
                <a:gd name="textAreaRight" fmla="*/ 219240 w 21888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178944" h="101220">
                  <a:moveTo>
                    <a:pt x="0" y="8127"/>
                  </a:moveTo>
                  <a:lnTo>
                    <a:pt x="11939" y="6731"/>
                  </a:lnTo>
                  <a:lnTo>
                    <a:pt x="24384" y="4826"/>
                  </a:lnTo>
                  <a:lnTo>
                    <a:pt x="36449" y="3302"/>
                  </a:lnTo>
                  <a:lnTo>
                    <a:pt x="48387" y="1904"/>
                  </a:lnTo>
                  <a:lnTo>
                    <a:pt x="59945" y="508"/>
                  </a:lnTo>
                  <a:lnTo>
                    <a:pt x="69977" y="0"/>
                  </a:lnTo>
                  <a:lnTo>
                    <a:pt x="74803" y="508"/>
                  </a:lnTo>
                  <a:lnTo>
                    <a:pt x="78614" y="508"/>
                  </a:lnTo>
                  <a:lnTo>
                    <a:pt x="82550" y="1396"/>
                  </a:lnTo>
                  <a:lnTo>
                    <a:pt x="86361" y="1904"/>
                  </a:lnTo>
                  <a:lnTo>
                    <a:pt x="93980" y="4826"/>
                  </a:lnTo>
                  <a:lnTo>
                    <a:pt x="102236" y="7620"/>
                  </a:lnTo>
                  <a:lnTo>
                    <a:pt x="118999" y="14351"/>
                  </a:lnTo>
                  <a:lnTo>
                    <a:pt x="135255" y="22097"/>
                  </a:lnTo>
                  <a:lnTo>
                    <a:pt x="143511" y="26415"/>
                  </a:lnTo>
                  <a:lnTo>
                    <a:pt x="151130" y="31241"/>
                  </a:lnTo>
                  <a:lnTo>
                    <a:pt x="157862" y="36448"/>
                  </a:lnTo>
                  <a:lnTo>
                    <a:pt x="164084" y="41783"/>
                  </a:lnTo>
                  <a:lnTo>
                    <a:pt x="169418" y="47497"/>
                  </a:lnTo>
                  <a:lnTo>
                    <a:pt x="173737" y="53340"/>
                  </a:lnTo>
                  <a:lnTo>
                    <a:pt x="176658" y="59944"/>
                  </a:lnTo>
                  <a:lnTo>
                    <a:pt x="178562" y="66675"/>
                  </a:lnTo>
                  <a:lnTo>
                    <a:pt x="178943" y="73914"/>
                  </a:lnTo>
                  <a:lnTo>
                    <a:pt x="178055" y="81152"/>
                  </a:lnTo>
                  <a:lnTo>
                    <a:pt x="167895" y="85978"/>
                  </a:lnTo>
                  <a:lnTo>
                    <a:pt x="157353" y="89281"/>
                  </a:lnTo>
                  <a:lnTo>
                    <a:pt x="146812" y="92583"/>
                  </a:lnTo>
                  <a:lnTo>
                    <a:pt x="136271" y="94996"/>
                  </a:lnTo>
                  <a:lnTo>
                    <a:pt x="125223" y="96901"/>
                  </a:lnTo>
                  <a:lnTo>
                    <a:pt x="115190" y="98425"/>
                  </a:lnTo>
                  <a:lnTo>
                    <a:pt x="104649" y="99821"/>
                  </a:lnTo>
                  <a:lnTo>
                    <a:pt x="94996" y="101219"/>
                  </a:lnTo>
                  <a:lnTo>
                    <a:pt x="96012" y="95503"/>
                  </a:lnTo>
                  <a:lnTo>
                    <a:pt x="96393" y="90296"/>
                  </a:lnTo>
                  <a:lnTo>
                    <a:pt x="96393" y="85471"/>
                  </a:lnTo>
                  <a:lnTo>
                    <a:pt x="96012" y="80137"/>
                  </a:lnTo>
                  <a:lnTo>
                    <a:pt x="94996" y="75310"/>
                  </a:lnTo>
                  <a:lnTo>
                    <a:pt x="93599" y="70992"/>
                  </a:lnTo>
                  <a:lnTo>
                    <a:pt x="91695" y="66675"/>
                  </a:lnTo>
                  <a:lnTo>
                    <a:pt x="89662" y="62357"/>
                  </a:lnTo>
                  <a:lnTo>
                    <a:pt x="83948" y="54737"/>
                  </a:lnTo>
                  <a:lnTo>
                    <a:pt x="77724" y="47497"/>
                  </a:lnTo>
                  <a:lnTo>
                    <a:pt x="69977" y="40766"/>
                  </a:lnTo>
                  <a:lnTo>
                    <a:pt x="61849" y="35052"/>
                  </a:lnTo>
                  <a:lnTo>
                    <a:pt x="53721" y="29717"/>
                  </a:lnTo>
                  <a:lnTo>
                    <a:pt x="44577" y="25019"/>
                  </a:lnTo>
                  <a:lnTo>
                    <a:pt x="35942" y="21082"/>
                  </a:lnTo>
                  <a:lnTo>
                    <a:pt x="27305" y="17271"/>
                  </a:lnTo>
                  <a:lnTo>
                    <a:pt x="19177" y="14351"/>
                  </a:lnTo>
                  <a:lnTo>
                    <a:pt x="11939" y="11938"/>
                  </a:lnTo>
                  <a:lnTo>
                    <a:pt x="5208" y="9652"/>
                  </a:lnTo>
                  <a:lnTo>
                    <a:pt x="0" y="8127"/>
                  </a:lnTo>
                  <a:close/>
                </a:path>
              </a:pathLst>
            </a:custGeom>
            <a:solidFill>
              <a:srgbClr val="719158"/>
            </a:solidFill>
            <a:ln w="0">
              <a:solidFill>
                <a:srgbClr val="71915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Freihandform 134"/>
            <p:cNvSpPr/>
            <p:nvPr/>
          </p:nvSpPr>
          <p:spPr>
            <a:xfrm>
              <a:off x="3370320" y="3026160"/>
              <a:ext cx="206280" cy="77760"/>
            </a:xfrm>
            <a:custGeom>
              <a:avLst/>
              <a:gdLst>
                <a:gd name="textAreaLeft" fmla="*/ 0 w 206280"/>
                <a:gd name="textAreaRight" fmla="*/ 206640 w 206280"/>
                <a:gd name="textAreaTop" fmla="*/ 0 h 77760"/>
                <a:gd name="textAreaBottom" fmla="*/ 78120 h 77760"/>
              </a:gdLst>
              <a:ahLst/>
              <a:rect l="textAreaLeft" t="textAreaTop" r="textAreaRight" b="textAreaBottom"/>
              <a:pathLst>
                <a:path w="168402" h="97537">
                  <a:moveTo>
                    <a:pt x="0" y="7746"/>
                  </a:moveTo>
                  <a:lnTo>
                    <a:pt x="23495" y="4318"/>
                  </a:lnTo>
                  <a:lnTo>
                    <a:pt x="34544" y="2920"/>
                  </a:lnTo>
                  <a:lnTo>
                    <a:pt x="45085" y="1524"/>
                  </a:lnTo>
                  <a:lnTo>
                    <a:pt x="55117" y="507"/>
                  </a:lnTo>
                  <a:lnTo>
                    <a:pt x="64261" y="0"/>
                  </a:lnTo>
                  <a:lnTo>
                    <a:pt x="72516" y="507"/>
                  </a:lnTo>
                  <a:lnTo>
                    <a:pt x="76326" y="1524"/>
                  </a:lnTo>
                  <a:lnTo>
                    <a:pt x="79629" y="2031"/>
                  </a:lnTo>
                  <a:lnTo>
                    <a:pt x="95504" y="7746"/>
                  </a:lnTo>
                  <a:lnTo>
                    <a:pt x="111760" y="13969"/>
                  </a:lnTo>
                  <a:lnTo>
                    <a:pt x="127635" y="21208"/>
                  </a:lnTo>
                  <a:lnTo>
                    <a:pt x="135382" y="25019"/>
                  </a:lnTo>
                  <a:lnTo>
                    <a:pt x="142494" y="29337"/>
                  </a:lnTo>
                  <a:lnTo>
                    <a:pt x="148716" y="34163"/>
                  </a:lnTo>
                  <a:lnTo>
                    <a:pt x="154558" y="38988"/>
                  </a:lnTo>
                  <a:lnTo>
                    <a:pt x="159385" y="44704"/>
                  </a:lnTo>
                  <a:lnTo>
                    <a:pt x="163703" y="50419"/>
                  </a:lnTo>
                  <a:lnTo>
                    <a:pt x="166497" y="56261"/>
                  </a:lnTo>
                  <a:lnTo>
                    <a:pt x="168020" y="62992"/>
                  </a:lnTo>
                  <a:lnTo>
                    <a:pt x="168401" y="70104"/>
                  </a:lnTo>
                  <a:lnTo>
                    <a:pt x="167513" y="77343"/>
                  </a:lnTo>
                  <a:lnTo>
                    <a:pt x="157353" y="82169"/>
                  </a:lnTo>
                  <a:lnTo>
                    <a:pt x="146811" y="85979"/>
                  </a:lnTo>
                  <a:lnTo>
                    <a:pt x="136270" y="88900"/>
                  </a:lnTo>
                  <a:lnTo>
                    <a:pt x="125222" y="91313"/>
                  </a:lnTo>
                  <a:lnTo>
                    <a:pt x="114681" y="93218"/>
                  </a:lnTo>
                  <a:lnTo>
                    <a:pt x="104139" y="94614"/>
                  </a:lnTo>
                  <a:lnTo>
                    <a:pt x="94107" y="96012"/>
                  </a:lnTo>
                  <a:lnTo>
                    <a:pt x="84454" y="97536"/>
                  </a:lnTo>
                  <a:lnTo>
                    <a:pt x="85470" y="91694"/>
                  </a:lnTo>
                  <a:lnTo>
                    <a:pt x="85851" y="86487"/>
                  </a:lnTo>
                  <a:lnTo>
                    <a:pt x="85851" y="81661"/>
                  </a:lnTo>
                  <a:lnTo>
                    <a:pt x="85470" y="76835"/>
                  </a:lnTo>
                  <a:lnTo>
                    <a:pt x="84963" y="72008"/>
                  </a:lnTo>
                  <a:lnTo>
                    <a:pt x="83438" y="67690"/>
                  </a:lnTo>
                  <a:lnTo>
                    <a:pt x="82041" y="63373"/>
                  </a:lnTo>
                  <a:lnTo>
                    <a:pt x="80136" y="59563"/>
                  </a:lnTo>
                  <a:lnTo>
                    <a:pt x="75310" y="51943"/>
                  </a:lnTo>
                  <a:lnTo>
                    <a:pt x="69595" y="45212"/>
                  </a:lnTo>
                  <a:lnTo>
                    <a:pt x="62864" y="38988"/>
                  </a:lnTo>
                  <a:lnTo>
                    <a:pt x="55626" y="33146"/>
                  </a:lnTo>
                  <a:lnTo>
                    <a:pt x="48006" y="28320"/>
                  </a:lnTo>
                  <a:lnTo>
                    <a:pt x="40258" y="24002"/>
                  </a:lnTo>
                  <a:lnTo>
                    <a:pt x="32131" y="20193"/>
                  </a:lnTo>
                  <a:lnTo>
                    <a:pt x="24510" y="16890"/>
                  </a:lnTo>
                  <a:lnTo>
                    <a:pt x="17272" y="13969"/>
                  </a:lnTo>
                  <a:lnTo>
                    <a:pt x="10541" y="11556"/>
                  </a:lnTo>
                  <a:lnTo>
                    <a:pt x="4826" y="9144"/>
                  </a:lnTo>
                  <a:lnTo>
                    <a:pt x="0" y="7746"/>
                  </a:lnTo>
                  <a:close/>
                </a:path>
              </a:pathLst>
            </a:custGeom>
            <a:solidFill>
              <a:srgbClr val="598446"/>
            </a:solidFill>
            <a:ln w="0">
              <a:solidFill>
                <a:srgbClr val="59844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Freihandform 135"/>
            <p:cNvSpPr/>
            <p:nvPr/>
          </p:nvSpPr>
          <p:spPr>
            <a:xfrm>
              <a:off x="3384720" y="3027600"/>
              <a:ext cx="191880" cy="75960"/>
            </a:xfrm>
            <a:custGeom>
              <a:avLst/>
              <a:gdLst>
                <a:gd name="textAreaLeft" fmla="*/ 0 w 191880"/>
                <a:gd name="textAreaRight" fmla="*/ 192240 w 19188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157863" h="93600">
                  <a:moveTo>
                    <a:pt x="0" y="6731"/>
                  </a:moveTo>
                  <a:lnTo>
                    <a:pt x="11431" y="5714"/>
                  </a:lnTo>
                  <a:lnTo>
                    <a:pt x="22480" y="3809"/>
                  </a:lnTo>
                  <a:lnTo>
                    <a:pt x="32640" y="2413"/>
                  </a:lnTo>
                  <a:lnTo>
                    <a:pt x="42165" y="888"/>
                  </a:lnTo>
                  <a:lnTo>
                    <a:pt x="50800" y="381"/>
                  </a:lnTo>
                  <a:lnTo>
                    <a:pt x="59056" y="0"/>
                  </a:lnTo>
                  <a:lnTo>
                    <a:pt x="66168" y="381"/>
                  </a:lnTo>
                  <a:lnTo>
                    <a:pt x="72899" y="1905"/>
                  </a:lnTo>
                  <a:lnTo>
                    <a:pt x="88774" y="7112"/>
                  </a:lnTo>
                  <a:lnTo>
                    <a:pt x="104649" y="12953"/>
                  </a:lnTo>
                  <a:lnTo>
                    <a:pt x="112268" y="16256"/>
                  </a:lnTo>
                  <a:lnTo>
                    <a:pt x="120015" y="19684"/>
                  </a:lnTo>
                  <a:lnTo>
                    <a:pt x="127128" y="23494"/>
                  </a:lnTo>
                  <a:lnTo>
                    <a:pt x="133859" y="27305"/>
                  </a:lnTo>
                  <a:lnTo>
                    <a:pt x="139700" y="31623"/>
                  </a:lnTo>
                  <a:lnTo>
                    <a:pt x="145415" y="36449"/>
                  </a:lnTo>
                  <a:lnTo>
                    <a:pt x="149734" y="41782"/>
                  </a:lnTo>
                  <a:lnTo>
                    <a:pt x="153543" y="46989"/>
                  </a:lnTo>
                  <a:lnTo>
                    <a:pt x="155956" y="52705"/>
                  </a:lnTo>
                  <a:lnTo>
                    <a:pt x="157353" y="59436"/>
                  </a:lnTo>
                  <a:lnTo>
                    <a:pt x="157862" y="66167"/>
                  </a:lnTo>
                  <a:lnTo>
                    <a:pt x="156465" y="73406"/>
                  </a:lnTo>
                  <a:lnTo>
                    <a:pt x="146305" y="78232"/>
                  </a:lnTo>
                  <a:lnTo>
                    <a:pt x="135763" y="82042"/>
                  </a:lnTo>
                  <a:lnTo>
                    <a:pt x="125222" y="84963"/>
                  </a:lnTo>
                  <a:lnTo>
                    <a:pt x="114681" y="87376"/>
                  </a:lnTo>
                  <a:lnTo>
                    <a:pt x="103633" y="89281"/>
                  </a:lnTo>
                  <a:lnTo>
                    <a:pt x="93600" y="90677"/>
                  </a:lnTo>
                  <a:lnTo>
                    <a:pt x="83440" y="92075"/>
                  </a:lnTo>
                  <a:lnTo>
                    <a:pt x="73915" y="93599"/>
                  </a:lnTo>
                  <a:lnTo>
                    <a:pt x="74803" y="87757"/>
                  </a:lnTo>
                  <a:lnTo>
                    <a:pt x="75312" y="83057"/>
                  </a:lnTo>
                  <a:lnTo>
                    <a:pt x="75312" y="77724"/>
                  </a:lnTo>
                  <a:lnTo>
                    <a:pt x="75312" y="72898"/>
                  </a:lnTo>
                  <a:lnTo>
                    <a:pt x="74422" y="68580"/>
                  </a:lnTo>
                  <a:lnTo>
                    <a:pt x="73406" y="64262"/>
                  </a:lnTo>
                  <a:lnTo>
                    <a:pt x="70485" y="56133"/>
                  </a:lnTo>
                  <a:lnTo>
                    <a:pt x="66675" y="48894"/>
                  </a:lnTo>
                  <a:lnTo>
                    <a:pt x="61468" y="42163"/>
                  </a:lnTo>
                  <a:lnTo>
                    <a:pt x="55627" y="36449"/>
                  </a:lnTo>
                  <a:lnTo>
                    <a:pt x="49403" y="31114"/>
                  </a:lnTo>
                  <a:lnTo>
                    <a:pt x="42672" y="26796"/>
                  </a:lnTo>
                  <a:lnTo>
                    <a:pt x="35434" y="22478"/>
                  </a:lnTo>
                  <a:lnTo>
                    <a:pt x="28830" y="19176"/>
                  </a:lnTo>
                  <a:lnTo>
                    <a:pt x="22099" y="15748"/>
                  </a:lnTo>
                  <a:lnTo>
                    <a:pt x="15368" y="13462"/>
                  </a:lnTo>
                  <a:lnTo>
                    <a:pt x="9525" y="11049"/>
                  </a:lnTo>
                  <a:lnTo>
                    <a:pt x="4318" y="8636"/>
                  </a:lnTo>
                  <a:lnTo>
                    <a:pt x="0" y="6731"/>
                  </a:lnTo>
                  <a:close/>
                </a:path>
              </a:pathLst>
            </a:custGeom>
            <a:solidFill>
              <a:srgbClr val="417a33"/>
            </a:solidFill>
            <a:ln w="0">
              <a:solidFill>
                <a:srgbClr val="417a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ihandform 136"/>
            <p:cNvSpPr/>
            <p:nvPr/>
          </p:nvSpPr>
          <p:spPr>
            <a:xfrm>
              <a:off x="3395880" y="3032280"/>
              <a:ext cx="180720" cy="71280"/>
            </a:xfrm>
            <a:custGeom>
              <a:avLst/>
              <a:gdLst>
                <a:gd name="textAreaLeft" fmla="*/ 0 w 180720"/>
                <a:gd name="textAreaRight" fmla="*/ 181080 w 18072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147322" h="89791">
                  <a:moveTo>
                    <a:pt x="0" y="6223"/>
                  </a:moveTo>
                  <a:lnTo>
                    <a:pt x="11558" y="5335"/>
                  </a:lnTo>
                  <a:lnTo>
                    <a:pt x="21590" y="3303"/>
                  </a:lnTo>
                  <a:lnTo>
                    <a:pt x="30734" y="1905"/>
                  </a:lnTo>
                  <a:lnTo>
                    <a:pt x="38862" y="890"/>
                  </a:lnTo>
                  <a:lnTo>
                    <a:pt x="46483" y="0"/>
                  </a:lnTo>
                  <a:lnTo>
                    <a:pt x="53721" y="0"/>
                  </a:lnTo>
                  <a:lnTo>
                    <a:pt x="59944" y="509"/>
                  </a:lnTo>
                  <a:lnTo>
                    <a:pt x="66675" y="2414"/>
                  </a:lnTo>
                  <a:lnTo>
                    <a:pt x="82043" y="7240"/>
                  </a:lnTo>
                  <a:lnTo>
                    <a:pt x="97409" y="12447"/>
                  </a:lnTo>
                  <a:lnTo>
                    <a:pt x="104649" y="15367"/>
                  </a:lnTo>
                  <a:lnTo>
                    <a:pt x="111887" y="18669"/>
                  </a:lnTo>
                  <a:lnTo>
                    <a:pt x="118492" y="22098"/>
                  </a:lnTo>
                  <a:lnTo>
                    <a:pt x="125222" y="25400"/>
                  </a:lnTo>
                  <a:lnTo>
                    <a:pt x="130556" y="29718"/>
                  </a:lnTo>
                  <a:lnTo>
                    <a:pt x="135764" y="34036"/>
                  </a:lnTo>
                  <a:lnTo>
                    <a:pt x="140209" y="38862"/>
                  </a:lnTo>
                  <a:lnTo>
                    <a:pt x="143511" y="43689"/>
                  </a:lnTo>
                  <a:lnTo>
                    <a:pt x="145924" y="49404"/>
                  </a:lnTo>
                  <a:lnTo>
                    <a:pt x="146812" y="55627"/>
                  </a:lnTo>
                  <a:lnTo>
                    <a:pt x="147321" y="62358"/>
                  </a:lnTo>
                  <a:lnTo>
                    <a:pt x="145924" y="70104"/>
                  </a:lnTo>
                  <a:lnTo>
                    <a:pt x="135764" y="74423"/>
                  </a:lnTo>
                  <a:lnTo>
                    <a:pt x="125222" y="78233"/>
                  </a:lnTo>
                  <a:lnTo>
                    <a:pt x="114681" y="81154"/>
                  </a:lnTo>
                  <a:lnTo>
                    <a:pt x="103633" y="83567"/>
                  </a:lnTo>
                  <a:lnTo>
                    <a:pt x="93092" y="85472"/>
                  </a:lnTo>
                  <a:lnTo>
                    <a:pt x="82550" y="87377"/>
                  </a:lnTo>
                  <a:lnTo>
                    <a:pt x="72518" y="88266"/>
                  </a:lnTo>
                  <a:lnTo>
                    <a:pt x="62865" y="89790"/>
                  </a:lnTo>
                  <a:lnTo>
                    <a:pt x="63881" y="84455"/>
                  </a:lnTo>
                  <a:lnTo>
                    <a:pt x="64771" y="79248"/>
                  </a:lnTo>
                  <a:lnTo>
                    <a:pt x="64771" y="74423"/>
                  </a:lnTo>
                  <a:lnTo>
                    <a:pt x="64771" y="69597"/>
                  </a:lnTo>
                  <a:lnTo>
                    <a:pt x="64262" y="64771"/>
                  </a:lnTo>
                  <a:lnTo>
                    <a:pt x="63374" y="60960"/>
                  </a:lnTo>
                  <a:lnTo>
                    <a:pt x="61468" y="52833"/>
                  </a:lnTo>
                  <a:lnTo>
                    <a:pt x="57531" y="46102"/>
                  </a:lnTo>
                  <a:lnTo>
                    <a:pt x="53214" y="39879"/>
                  </a:lnTo>
                  <a:lnTo>
                    <a:pt x="48515" y="34036"/>
                  </a:lnTo>
                  <a:lnTo>
                    <a:pt x="43181" y="29210"/>
                  </a:lnTo>
                  <a:lnTo>
                    <a:pt x="36958" y="24892"/>
                  </a:lnTo>
                  <a:lnTo>
                    <a:pt x="31243" y="21591"/>
                  </a:lnTo>
                  <a:lnTo>
                    <a:pt x="24893" y="18289"/>
                  </a:lnTo>
                  <a:lnTo>
                    <a:pt x="19177" y="15367"/>
                  </a:lnTo>
                  <a:lnTo>
                    <a:pt x="13462" y="12447"/>
                  </a:lnTo>
                  <a:lnTo>
                    <a:pt x="8128" y="10542"/>
                  </a:lnTo>
                  <a:lnTo>
                    <a:pt x="3811" y="8129"/>
                  </a:lnTo>
                  <a:lnTo>
                    <a:pt x="0" y="6223"/>
                  </a:lnTo>
                  <a:close/>
                </a:path>
              </a:pathLst>
            </a:custGeom>
            <a:solidFill>
              <a:srgbClr val="2a6e20"/>
            </a:solidFill>
            <a:ln w="0">
              <a:solidFill>
                <a:srgbClr val="2a6e2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Freihandform 137"/>
            <p:cNvSpPr/>
            <p:nvPr/>
          </p:nvSpPr>
          <p:spPr>
            <a:xfrm>
              <a:off x="3409920" y="3034080"/>
              <a:ext cx="166680" cy="69840"/>
            </a:xfrm>
            <a:custGeom>
              <a:avLst/>
              <a:gdLst>
                <a:gd name="textAreaLeft" fmla="*/ 0 w 166680"/>
                <a:gd name="textAreaRight" fmla="*/ 167040 w 16668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135764" h="85981">
                  <a:moveTo>
                    <a:pt x="0" y="5843"/>
                  </a:moveTo>
                  <a:lnTo>
                    <a:pt x="11050" y="4319"/>
                  </a:lnTo>
                  <a:lnTo>
                    <a:pt x="20194" y="2921"/>
                  </a:lnTo>
                  <a:lnTo>
                    <a:pt x="28322" y="1906"/>
                  </a:lnTo>
                  <a:lnTo>
                    <a:pt x="35434" y="508"/>
                  </a:lnTo>
                  <a:lnTo>
                    <a:pt x="41784" y="0"/>
                  </a:lnTo>
                  <a:lnTo>
                    <a:pt x="47498" y="0"/>
                  </a:lnTo>
                  <a:lnTo>
                    <a:pt x="53722" y="508"/>
                  </a:lnTo>
                  <a:lnTo>
                    <a:pt x="59437" y="2413"/>
                  </a:lnTo>
                  <a:lnTo>
                    <a:pt x="74803" y="7239"/>
                  </a:lnTo>
                  <a:lnTo>
                    <a:pt x="89790" y="12065"/>
                  </a:lnTo>
                  <a:lnTo>
                    <a:pt x="96901" y="14859"/>
                  </a:lnTo>
                  <a:lnTo>
                    <a:pt x="103632" y="17781"/>
                  </a:lnTo>
                  <a:lnTo>
                    <a:pt x="109856" y="20701"/>
                  </a:lnTo>
                  <a:lnTo>
                    <a:pt x="116078" y="24004"/>
                  </a:lnTo>
                  <a:lnTo>
                    <a:pt x="121413" y="27432"/>
                  </a:lnTo>
                  <a:lnTo>
                    <a:pt x="125731" y="31243"/>
                  </a:lnTo>
                  <a:lnTo>
                    <a:pt x="129541" y="36069"/>
                  </a:lnTo>
                  <a:lnTo>
                    <a:pt x="132969" y="40768"/>
                  </a:lnTo>
                  <a:lnTo>
                    <a:pt x="134875" y="46101"/>
                  </a:lnTo>
                  <a:lnTo>
                    <a:pt x="135763" y="52325"/>
                  </a:lnTo>
                  <a:lnTo>
                    <a:pt x="135763" y="58548"/>
                  </a:lnTo>
                  <a:lnTo>
                    <a:pt x="134875" y="66294"/>
                  </a:lnTo>
                  <a:lnTo>
                    <a:pt x="124715" y="70613"/>
                  </a:lnTo>
                  <a:lnTo>
                    <a:pt x="114173" y="74423"/>
                  </a:lnTo>
                  <a:lnTo>
                    <a:pt x="103125" y="77344"/>
                  </a:lnTo>
                  <a:lnTo>
                    <a:pt x="92584" y="79757"/>
                  </a:lnTo>
                  <a:lnTo>
                    <a:pt x="82043" y="81662"/>
                  </a:lnTo>
                  <a:lnTo>
                    <a:pt x="71501" y="83567"/>
                  </a:lnTo>
                  <a:lnTo>
                    <a:pt x="61469" y="84963"/>
                  </a:lnTo>
                  <a:lnTo>
                    <a:pt x="51816" y="85980"/>
                  </a:lnTo>
                  <a:lnTo>
                    <a:pt x="52832" y="80645"/>
                  </a:lnTo>
                  <a:lnTo>
                    <a:pt x="53722" y="75438"/>
                  </a:lnTo>
                  <a:lnTo>
                    <a:pt x="53722" y="70613"/>
                  </a:lnTo>
                  <a:lnTo>
                    <a:pt x="53722" y="65787"/>
                  </a:lnTo>
                  <a:lnTo>
                    <a:pt x="53722" y="61469"/>
                  </a:lnTo>
                  <a:lnTo>
                    <a:pt x="53213" y="57658"/>
                  </a:lnTo>
                  <a:lnTo>
                    <a:pt x="51309" y="49912"/>
                  </a:lnTo>
                  <a:lnTo>
                    <a:pt x="48515" y="43181"/>
                  </a:lnTo>
                  <a:lnTo>
                    <a:pt x="45085" y="37465"/>
                  </a:lnTo>
                  <a:lnTo>
                    <a:pt x="40768" y="32132"/>
                  </a:lnTo>
                  <a:lnTo>
                    <a:pt x="36450" y="27813"/>
                  </a:lnTo>
                  <a:lnTo>
                    <a:pt x="31116" y="23495"/>
                  </a:lnTo>
                  <a:lnTo>
                    <a:pt x="26416" y="20194"/>
                  </a:lnTo>
                  <a:lnTo>
                    <a:pt x="15875" y="14479"/>
                  </a:lnTo>
                  <a:lnTo>
                    <a:pt x="11050" y="12065"/>
                  </a:lnTo>
                  <a:lnTo>
                    <a:pt x="6732" y="10161"/>
                  </a:lnTo>
                  <a:lnTo>
                    <a:pt x="2794" y="7748"/>
                  </a:lnTo>
                  <a:lnTo>
                    <a:pt x="0" y="5843"/>
                  </a:lnTo>
                  <a:close/>
                </a:path>
              </a:pathLst>
            </a:custGeom>
            <a:solidFill>
              <a:srgbClr val="11610d"/>
            </a:solidFill>
            <a:ln w="0">
              <a:solidFill>
                <a:srgbClr val="11610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Freihandform 138"/>
            <p:cNvSpPr/>
            <p:nvPr/>
          </p:nvSpPr>
          <p:spPr>
            <a:xfrm>
              <a:off x="3422880" y="3038760"/>
              <a:ext cx="153720" cy="64800"/>
            </a:xfrm>
            <a:custGeom>
              <a:avLst/>
              <a:gdLst>
                <a:gd name="textAreaLeft" fmla="*/ 0 w 153720"/>
                <a:gd name="textAreaRight" fmla="*/ 154080 w 153720"/>
                <a:gd name="textAreaTop" fmla="*/ 0 h 64800"/>
                <a:gd name="textAreaBottom" fmla="*/ 65160 h 64800"/>
              </a:gdLst>
              <a:ahLst/>
              <a:rect l="textAreaLeft" t="textAreaTop" r="textAreaRight" b="textAreaBottom"/>
              <a:pathLst>
                <a:path w="125223" h="82170">
                  <a:moveTo>
                    <a:pt x="0" y="5333"/>
                  </a:moveTo>
                  <a:lnTo>
                    <a:pt x="5715" y="4826"/>
                  </a:lnTo>
                  <a:lnTo>
                    <a:pt x="10541" y="3937"/>
                  </a:lnTo>
                  <a:lnTo>
                    <a:pt x="19176" y="2413"/>
                  </a:lnTo>
                  <a:lnTo>
                    <a:pt x="26416" y="1523"/>
                  </a:lnTo>
                  <a:lnTo>
                    <a:pt x="32131" y="508"/>
                  </a:lnTo>
                  <a:lnTo>
                    <a:pt x="36957" y="0"/>
                  </a:lnTo>
                  <a:lnTo>
                    <a:pt x="42163" y="0"/>
                  </a:lnTo>
                  <a:lnTo>
                    <a:pt x="46990" y="508"/>
                  </a:lnTo>
                  <a:lnTo>
                    <a:pt x="53213" y="2413"/>
                  </a:lnTo>
                  <a:lnTo>
                    <a:pt x="68072" y="7239"/>
                  </a:lnTo>
                  <a:lnTo>
                    <a:pt x="82550" y="11557"/>
                  </a:lnTo>
                  <a:lnTo>
                    <a:pt x="89281" y="13970"/>
                  </a:lnTo>
                  <a:lnTo>
                    <a:pt x="96012" y="16383"/>
                  </a:lnTo>
                  <a:lnTo>
                    <a:pt x="101726" y="19303"/>
                  </a:lnTo>
                  <a:lnTo>
                    <a:pt x="107441" y="22097"/>
                  </a:lnTo>
                  <a:lnTo>
                    <a:pt x="112268" y="25019"/>
                  </a:lnTo>
                  <a:lnTo>
                    <a:pt x="116585" y="28828"/>
                  </a:lnTo>
                  <a:lnTo>
                    <a:pt x="120015" y="33146"/>
                  </a:lnTo>
                  <a:lnTo>
                    <a:pt x="122809" y="37464"/>
                  </a:lnTo>
                  <a:lnTo>
                    <a:pt x="124332" y="42798"/>
                  </a:lnTo>
                  <a:lnTo>
                    <a:pt x="125222" y="48514"/>
                  </a:lnTo>
                  <a:lnTo>
                    <a:pt x="125222" y="55245"/>
                  </a:lnTo>
                  <a:lnTo>
                    <a:pt x="123825" y="62483"/>
                  </a:lnTo>
                  <a:lnTo>
                    <a:pt x="113665" y="66802"/>
                  </a:lnTo>
                  <a:lnTo>
                    <a:pt x="103123" y="70612"/>
                  </a:lnTo>
                  <a:lnTo>
                    <a:pt x="92582" y="73533"/>
                  </a:lnTo>
                  <a:lnTo>
                    <a:pt x="82041" y="75946"/>
                  </a:lnTo>
                  <a:lnTo>
                    <a:pt x="70993" y="77851"/>
                  </a:lnTo>
                  <a:lnTo>
                    <a:pt x="60960" y="79756"/>
                  </a:lnTo>
                  <a:lnTo>
                    <a:pt x="50419" y="81152"/>
                  </a:lnTo>
                  <a:lnTo>
                    <a:pt x="40766" y="82169"/>
                  </a:lnTo>
                  <a:lnTo>
                    <a:pt x="42163" y="76834"/>
                  </a:lnTo>
                  <a:lnTo>
                    <a:pt x="42672" y="71627"/>
                  </a:lnTo>
                  <a:lnTo>
                    <a:pt x="43179" y="66802"/>
                  </a:lnTo>
                  <a:lnTo>
                    <a:pt x="43688" y="62483"/>
                  </a:lnTo>
                  <a:lnTo>
                    <a:pt x="43179" y="53847"/>
                  </a:lnTo>
                  <a:lnTo>
                    <a:pt x="41782" y="46608"/>
                  </a:lnTo>
                  <a:lnTo>
                    <a:pt x="39750" y="40385"/>
                  </a:lnTo>
                  <a:lnTo>
                    <a:pt x="36957" y="34671"/>
                  </a:lnTo>
                  <a:lnTo>
                    <a:pt x="33528" y="29845"/>
                  </a:lnTo>
                  <a:lnTo>
                    <a:pt x="29718" y="25908"/>
                  </a:lnTo>
                  <a:lnTo>
                    <a:pt x="25907" y="22097"/>
                  </a:lnTo>
                  <a:lnTo>
                    <a:pt x="21590" y="19303"/>
                  </a:lnTo>
                  <a:lnTo>
                    <a:pt x="12953" y="13970"/>
                  </a:lnTo>
                  <a:lnTo>
                    <a:pt x="5715" y="9652"/>
                  </a:lnTo>
                  <a:lnTo>
                    <a:pt x="2413" y="7239"/>
                  </a:lnTo>
                  <a:lnTo>
                    <a:pt x="0" y="5333"/>
                  </a:lnTo>
                  <a:close/>
                </a:path>
              </a:pathLst>
            </a:custGeom>
            <a:solidFill>
              <a:srgbClr val="005600"/>
            </a:solidFill>
            <a:ln w="0">
              <a:solidFill>
                <a:srgbClr val="005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Freihandform 139"/>
            <p:cNvSpPr/>
            <p:nvPr/>
          </p:nvSpPr>
          <p:spPr>
            <a:xfrm>
              <a:off x="3513240" y="2964240"/>
              <a:ext cx="231480" cy="88920"/>
            </a:xfrm>
            <a:custGeom>
              <a:avLst/>
              <a:gdLst>
                <a:gd name="textAreaLeft" fmla="*/ 0 w 231480"/>
                <a:gd name="textAreaRight" fmla="*/ 231840 w 23148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189230" h="108078">
                  <a:moveTo>
                    <a:pt x="5842" y="40385"/>
                  </a:moveTo>
                  <a:lnTo>
                    <a:pt x="11048" y="36068"/>
                  </a:lnTo>
                  <a:lnTo>
                    <a:pt x="21717" y="27939"/>
                  </a:lnTo>
                  <a:lnTo>
                    <a:pt x="31750" y="21208"/>
                  </a:lnTo>
                  <a:lnTo>
                    <a:pt x="36957" y="18288"/>
                  </a:lnTo>
                  <a:lnTo>
                    <a:pt x="42798" y="15366"/>
                  </a:lnTo>
                  <a:lnTo>
                    <a:pt x="47625" y="12064"/>
                  </a:lnTo>
                  <a:lnTo>
                    <a:pt x="52832" y="9144"/>
                  </a:lnTo>
                  <a:lnTo>
                    <a:pt x="57657" y="6731"/>
                  </a:lnTo>
                  <a:lnTo>
                    <a:pt x="62992" y="4826"/>
                  </a:lnTo>
                  <a:lnTo>
                    <a:pt x="73913" y="2032"/>
                  </a:lnTo>
                  <a:lnTo>
                    <a:pt x="85470" y="0"/>
                  </a:lnTo>
                  <a:lnTo>
                    <a:pt x="97028" y="0"/>
                  </a:lnTo>
                  <a:lnTo>
                    <a:pt x="108585" y="1015"/>
                  </a:lnTo>
                  <a:lnTo>
                    <a:pt x="119633" y="2920"/>
                  </a:lnTo>
                  <a:lnTo>
                    <a:pt x="131063" y="6350"/>
                  </a:lnTo>
                  <a:lnTo>
                    <a:pt x="141604" y="10159"/>
                  </a:lnTo>
                  <a:lnTo>
                    <a:pt x="151257" y="15366"/>
                  </a:lnTo>
                  <a:lnTo>
                    <a:pt x="160908" y="21589"/>
                  </a:lnTo>
                  <a:lnTo>
                    <a:pt x="169036" y="28320"/>
                  </a:lnTo>
                  <a:lnTo>
                    <a:pt x="176276" y="36068"/>
                  </a:lnTo>
                  <a:lnTo>
                    <a:pt x="181991" y="44195"/>
                  </a:lnTo>
                  <a:lnTo>
                    <a:pt x="186308" y="52832"/>
                  </a:lnTo>
                  <a:lnTo>
                    <a:pt x="187705" y="57150"/>
                  </a:lnTo>
                  <a:lnTo>
                    <a:pt x="189229" y="61976"/>
                  </a:lnTo>
                  <a:lnTo>
                    <a:pt x="184404" y="69595"/>
                  </a:lnTo>
                  <a:lnTo>
                    <a:pt x="178561" y="76834"/>
                  </a:lnTo>
                  <a:lnTo>
                    <a:pt x="172847" y="84582"/>
                  </a:lnTo>
                  <a:lnTo>
                    <a:pt x="166116" y="91313"/>
                  </a:lnTo>
                  <a:lnTo>
                    <a:pt x="158876" y="97535"/>
                  </a:lnTo>
                  <a:lnTo>
                    <a:pt x="151257" y="102234"/>
                  </a:lnTo>
                  <a:lnTo>
                    <a:pt x="143129" y="106171"/>
                  </a:lnTo>
                  <a:lnTo>
                    <a:pt x="138810" y="107569"/>
                  </a:lnTo>
                  <a:lnTo>
                    <a:pt x="134492" y="108077"/>
                  </a:lnTo>
                  <a:lnTo>
                    <a:pt x="134873" y="104266"/>
                  </a:lnTo>
                  <a:lnTo>
                    <a:pt x="134873" y="99440"/>
                  </a:lnTo>
                  <a:lnTo>
                    <a:pt x="133985" y="93218"/>
                  </a:lnTo>
                  <a:lnTo>
                    <a:pt x="132079" y="86487"/>
                  </a:lnTo>
                  <a:lnTo>
                    <a:pt x="129158" y="78739"/>
                  </a:lnTo>
                  <a:lnTo>
                    <a:pt x="125348" y="71627"/>
                  </a:lnTo>
                  <a:lnTo>
                    <a:pt x="120014" y="63881"/>
                  </a:lnTo>
                  <a:lnTo>
                    <a:pt x="113792" y="56641"/>
                  </a:lnTo>
                  <a:lnTo>
                    <a:pt x="109982" y="53339"/>
                  </a:lnTo>
                  <a:lnTo>
                    <a:pt x="105663" y="50419"/>
                  </a:lnTo>
                  <a:lnTo>
                    <a:pt x="101345" y="47625"/>
                  </a:lnTo>
                  <a:lnTo>
                    <a:pt x="96011" y="44703"/>
                  </a:lnTo>
                  <a:lnTo>
                    <a:pt x="90804" y="42290"/>
                  </a:lnTo>
                  <a:lnTo>
                    <a:pt x="84963" y="40385"/>
                  </a:lnTo>
                  <a:lnTo>
                    <a:pt x="78739" y="38481"/>
                  </a:lnTo>
                  <a:lnTo>
                    <a:pt x="72008" y="37464"/>
                  </a:lnTo>
                  <a:lnTo>
                    <a:pt x="64897" y="36576"/>
                  </a:lnTo>
                  <a:lnTo>
                    <a:pt x="57150" y="36068"/>
                  </a:lnTo>
                  <a:lnTo>
                    <a:pt x="49022" y="36068"/>
                  </a:lnTo>
                  <a:lnTo>
                    <a:pt x="39878" y="36957"/>
                  </a:lnTo>
                  <a:lnTo>
                    <a:pt x="30733" y="37972"/>
                  </a:lnTo>
                  <a:lnTo>
                    <a:pt x="21208" y="39877"/>
                  </a:lnTo>
                  <a:lnTo>
                    <a:pt x="10667" y="42290"/>
                  </a:lnTo>
                  <a:lnTo>
                    <a:pt x="0" y="45212"/>
                  </a:lnTo>
                  <a:lnTo>
                    <a:pt x="5842" y="40385"/>
                  </a:lnTo>
                  <a:close/>
                </a:path>
              </a:pathLst>
            </a:custGeom>
            <a:solidFill>
              <a:srgbClr val="879b6b"/>
            </a:solidFill>
            <a:ln w="0">
              <a:solidFill>
                <a:srgbClr val="879b6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Freihandform 140"/>
            <p:cNvSpPr/>
            <p:nvPr/>
          </p:nvSpPr>
          <p:spPr>
            <a:xfrm>
              <a:off x="3521160" y="2965680"/>
              <a:ext cx="223560" cy="87120"/>
            </a:xfrm>
            <a:custGeom>
              <a:avLst/>
              <a:gdLst>
                <a:gd name="textAreaLeft" fmla="*/ 0 w 223560"/>
                <a:gd name="textAreaRight" fmla="*/ 223920 w 223560"/>
                <a:gd name="textAreaTop" fmla="*/ 0 h 87120"/>
                <a:gd name="textAreaBottom" fmla="*/ 87480 h 87120"/>
              </a:gdLst>
              <a:ahLst/>
              <a:rect l="textAreaLeft" t="textAreaTop" r="textAreaRight" b="textAreaBottom"/>
              <a:pathLst>
                <a:path w="181992" h="107570">
                  <a:moveTo>
                    <a:pt x="0" y="41784"/>
                  </a:moveTo>
                  <a:lnTo>
                    <a:pt x="5716" y="36957"/>
                  </a:lnTo>
                  <a:lnTo>
                    <a:pt x="11050" y="33148"/>
                  </a:lnTo>
                  <a:lnTo>
                    <a:pt x="16384" y="28830"/>
                  </a:lnTo>
                  <a:lnTo>
                    <a:pt x="21082" y="25400"/>
                  </a:lnTo>
                  <a:lnTo>
                    <a:pt x="30735" y="19178"/>
                  </a:lnTo>
                  <a:lnTo>
                    <a:pt x="36069" y="16256"/>
                  </a:lnTo>
                  <a:lnTo>
                    <a:pt x="41275" y="13462"/>
                  </a:lnTo>
                  <a:lnTo>
                    <a:pt x="45594" y="10542"/>
                  </a:lnTo>
                  <a:lnTo>
                    <a:pt x="49912" y="8129"/>
                  </a:lnTo>
                  <a:lnTo>
                    <a:pt x="54738" y="5716"/>
                  </a:lnTo>
                  <a:lnTo>
                    <a:pt x="59563" y="4318"/>
                  </a:lnTo>
                  <a:lnTo>
                    <a:pt x="69597" y="1398"/>
                  </a:lnTo>
                  <a:lnTo>
                    <a:pt x="80138" y="0"/>
                  </a:lnTo>
                  <a:lnTo>
                    <a:pt x="91187" y="0"/>
                  </a:lnTo>
                  <a:lnTo>
                    <a:pt x="102235" y="1017"/>
                  </a:lnTo>
                  <a:lnTo>
                    <a:pt x="113285" y="2922"/>
                  </a:lnTo>
                  <a:lnTo>
                    <a:pt x="123825" y="6224"/>
                  </a:lnTo>
                  <a:lnTo>
                    <a:pt x="134366" y="10034"/>
                  </a:lnTo>
                  <a:lnTo>
                    <a:pt x="144526" y="15368"/>
                  </a:lnTo>
                  <a:lnTo>
                    <a:pt x="153670" y="21082"/>
                  </a:lnTo>
                  <a:lnTo>
                    <a:pt x="161798" y="27813"/>
                  </a:lnTo>
                  <a:lnTo>
                    <a:pt x="169038" y="35053"/>
                  </a:lnTo>
                  <a:lnTo>
                    <a:pt x="174753" y="43180"/>
                  </a:lnTo>
                  <a:lnTo>
                    <a:pt x="177166" y="47499"/>
                  </a:lnTo>
                  <a:lnTo>
                    <a:pt x="179070" y="51817"/>
                  </a:lnTo>
                  <a:lnTo>
                    <a:pt x="180975" y="56135"/>
                  </a:lnTo>
                  <a:lnTo>
                    <a:pt x="181991" y="60961"/>
                  </a:lnTo>
                  <a:lnTo>
                    <a:pt x="177166" y="68580"/>
                  </a:lnTo>
                  <a:lnTo>
                    <a:pt x="171832" y="76328"/>
                  </a:lnTo>
                  <a:lnTo>
                    <a:pt x="165609" y="83567"/>
                  </a:lnTo>
                  <a:lnTo>
                    <a:pt x="159385" y="90298"/>
                  </a:lnTo>
                  <a:lnTo>
                    <a:pt x="152147" y="96520"/>
                  </a:lnTo>
                  <a:lnTo>
                    <a:pt x="144019" y="101728"/>
                  </a:lnTo>
                  <a:lnTo>
                    <a:pt x="135891" y="105156"/>
                  </a:lnTo>
                  <a:lnTo>
                    <a:pt x="131572" y="106554"/>
                  </a:lnTo>
                  <a:lnTo>
                    <a:pt x="127254" y="107569"/>
                  </a:lnTo>
                  <a:lnTo>
                    <a:pt x="127635" y="103632"/>
                  </a:lnTo>
                  <a:lnTo>
                    <a:pt x="127635" y="98425"/>
                  </a:lnTo>
                  <a:lnTo>
                    <a:pt x="126747" y="92203"/>
                  </a:lnTo>
                  <a:lnTo>
                    <a:pt x="124841" y="85472"/>
                  </a:lnTo>
                  <a:lnTo>
                    <a:pt x="121920" y="78232"/>
                  </a:lnTo>
                  <a:lnTo>
                    <a:pt x="118110" y="70612"/>
                  </a:lnTo>
                  <a:lnTo>
                    <a:pt x="112776" y="63374"/>
                  </a:lnTo>
                  <a:lnTo>
                    <a:pt x="106554" y="56135"/>
                  </a:lnTo>
                  <a:lnTo>
                    <a:pt x="102744" y="52832"/>
                  </a:lnTo>
                  <a:lnTo>
                    <a:pt x="98934" y="49404"/>
                  </a:lnTo>
                  <a:lnTo>
                    <a:pt x="94616" y="46610"/>
                  </a:lnTo>
                  <a:lnTo>
                    <a:pt x="89790" y="43688"/>
                  </a:lnTo>
                  <a:lnTo>
                    <a:pt x="84456" y="41275"/>
                  </a:lnTo>
                  <a:lnTo>
                    <a:pt x="79248" y="39370"/>
                  </a:lnTo>
                  <a:lnTo>
                    <a:pt x="73025" y="37466"/>
                  </a:lnTo>
                  <a:lnTo>
                    <a:pt x="66675" y="35942"/>
                  </a:lnTo>
                  <a:lnTo>
                    <a:pt x="60072" y="35053"/>
                  </a:lnTo>
                  <a:lnTo>
                    <a:pt x="52832" y="34037"/>
                  </a:lnTo>
                  <a:lnTo>
                    <a:pt x="45085" y="34037"/>
                  </a:lnTo>
                  <a:lnTo>
                    <a:pt x="36957" y="34544"/>
                  </a:lnTo>
                  <a:lnTo>
                    <a:pt x="28322" y="35561"/>
                  </a:lnTo>
                  <a:lnTo>
                    <a:pt x="19685" y="36957"/>
                  </a:lnTo>
                  <a:lnTo>
                    <a:pt x="10160" y="39370"/>
                  </a:lnTo>
                  <a:lnTo>
                    <a:pt x="0" y="41784"/>
                  </a:lnTo>
                  <a:close/>
                </a:path>
              </a:pathLst>
            </a:custGeom>
            <a:solidFill>
              <a:srgbClr val="719158"/>
            </a:solidFill>
            <a:ln w="0">
              <a:solidFill>
                <a:srgbClr val="71915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Freihandform 141"/>
            <p:cNvSpPr/>
            <p:nvPr/>
          </p:nvSpPr>
          <p:spPr>
            <a:xfrm>
              <a:off x="3530880" y="2967120"/>
              <a:ext cx="214200" cy="8568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85680"/>
                <a:gd name="textAreaBottom" fmla="*/ 86040 h 85680"/>
              </a:gdLst>
              <a:ahLst/>
              <a:rect l="textAreaLeft" t="textAreaTop" r="textAreaRight" b="textAreaBottom"/>
              <a:pathLst>
                <a:path w="175260" h="106553">
                  <a:moveTo>
                    <a:pt x="0" y="38862"/>
                  </a:moveTo>
                  <a:lnTo>
                    <a:pt x="5715" y="34036"/>
                  </a:lnTo>
                  <a:lnTo>
                    <a:pt x="11049" y="29718"/>
                  </a:lnTo>
                  <a:lnTo>
                    <a:pt x="15875" y="26288"/>
                  </a:lnTo>
                  <a:lnTo>
                    <a:pt x="20193" y="22987"/>
                  </a:lnTo>
                  <a:lnTo>
                    <a:pt x="29337" y="17271"/>
                  </a:lnTo>
                  <a:lnTo>
                    <a:pt x="34543" y="14351"/>
                  </a:lnTo>
                  <a:lnTo>
                    <a:pt x="40385" y="11938"/>
                  </a:lnTo>
                  <a:lnTo>
                    <a:pt x="43687" y="9525"/>
                  </a:lnTo>
                  <a:lnTo>
                    <a:pt x="47497" y="7112"/>
                  </a:lnTo>
                  <a:lnTo>
                    <a:pt x="51308" y="5207"/>
                  </a:lnTo>
                  <a:lnTo>
                    <a:pt x="55625" y="3301"/>
                  </a:lnTo>
                  <a:lnTo>
                    <a:pt x="64769" y="888"/>
                  </a:lnTo>
                  <a:lnTo>
                    <a:pt x="74930" y="0"/>
                  </a:lnTo>
                  <a:lnTo>
                    <a:pt x="85471" y="0"/>
                  </a:lnTo>
                  <a:lnTo>
                    <a:pt x="96012" y="888"/>
                  </a:lnTo>
                  <a:lnTo>
                    <a:pt x="106553" y="2794"/>
                  </a:lnTo>
                  <a:lnTo>
                    <a:pt x="117093" y="5714"/>
                  </a:lnTo>
                  <a:lnTo>
                    <a:pt x="127634" y="10032"/>
                  </a:lnTo>
                  <a:lnTo>
                    <a:pt x="137287" y="14858"/>
                  </a:lnTo>
                  <a:lnTo>
                    <a:pt x="146431" y="20574"/>
                  </a:lnTo>
                  <a:lnTo>
                    <a:pt x="154559" y="27305"/>
                  </a:lnTo>
                  <a:lnTo>
                    <a:pt x="161797" y="34544"/>
                  </a:lnTo>
                  <a:lnTo>
                    <a:pt x="168021" y="42163"/>
                  </a:lnTo>
                  <a:lnTo>
                    <a:pt x="170434" y="46482"/>
                  </a:lnTo>
                  <a:lnTo>
                    <a:pt x="172338" y="50800"/>
                  </a:lnTo>
                  <a:lnTo>
                    <a:pt x="173735" y="55118"/>
                  </a:lnTo>
                  <a:lnTo>
                    <a:pt x="175259" y="59944"/>
                  </a:lnTo>
                  <a:lnTo>
                    <a:pt x="170434" y="67563"/>
                  </a:lnTo>
                  <a:lnTo>
                    <a:pt x="165100" y="75311"/>
                  </a:lnTo>
                  <a:lnTo>
                    <a:pt x="158877" y="82550"/>
                  </a:lnTo>
                  <a:lnTo>
                    <a:pt x="152146" y="89281"/>
                  </a:lnTo>
                  <a:lnTo>
                    <a:pt x="144906" y="95503"/>
                  </a:lnTo>
                  <a:lnTo>
                    <a:pt x="137287" y="100711"/>
                  </a:lnTo>
                  <a:lnTo>
                    <a:pt x="129159" y="104139"/>
                  </a:lnTo>
                  <a:lnTo>
                    <a:pt x="124840" y="105537"/>
                  </a:lnTo>
                  <a:lnTo>
                    <a:pt x="120522" y="106552"/>
                  </a:lnTo>
                  <a:lnTo>
                    <a:pt x="120903" y="104520"/>
                  </a:lnTo>
                  <a:lnTo>
                    <a:pt x="120903" y="102615"/>
                  </a:lnTo>
                  <a:lnTo>
                    <a:pt x="120522" y="97408"/>
                  </a:lnTo>
                  <a:lnTo>
                    <a:pt x="119506" y="91567"/>
                  </a:lnTo>
                  <a:lnTo>
                    <a:pt x="117602" y="84455"/>
                  </a:lnTo>
                  <a:lnTo>
                    <a:pt x="114681" y="77215"/>
                  </a:lnTo>
                  <a:lnTo>
                    <a:pt x="110871" y="69976"/>
                  </a:lnTo>
                  <a:lnTo>
                    <a:pt x="105663" y="62357"/>
                  </a:lnTo>
                  <a:lnTo>
                    <a:pt x="99313" y="55118"/>
                  </a:lnTo>
                  <a:lnTo>
                    <a:pt x="92202" y="48387"/>
                  </a:lnTo>
                  <a:lnTo>
                    <a:pt x="87884" y="45593"/>
                  </a:lnTo>
                  <a:lnTo>
                    <a:pt x="83058" y="42671"/>
                  </a:lnTo>
                  <a:lnTo>
                    <a:pt x="78231" y="40258"/>
                  </a:lnTo>
                  <a:lnTo>
                    <a:pt x="73025" y="37845"/>
                  </a:lnTo>
                  <a:lnTo>
                    <a:pt x="67690" y="35940"/>
                  </a:lnTo>
                  <a:lnTo>
                    <a:pt x="61468" y="34544"/>
                  </a:lnTo>
                  <a:lnTo>
                    <a:pt x="55244" y="33020"/>
                  </a:lnTo>
                  <a:lnTo>
                    <a:pt x="48513" y="32638"/>
                  </a:lnTo>
                  <a:lnTo>
                    <a:pt x="41783" y="32131"/>
                  </a:lnTo>
                  <a:lnTo>
                    <a:pt x="34035" y="32638"/>
                  </a:lnTo>
                  <a:lnTo>
                    <a:pt x="26415" y="33020"/>
                  </a:lnTo>
                  <a:lnTo>
                    <a:pt x="17780" y="34544"/>
                  </a:lnTo>
                  <a:lnTo>
                    <a:pt x="9143" y="35940"/>
                  </a:lnTo>
                  <a:lnTo>
                    <a:pt x="0" y="38862"/>
                  </a:lnTo>
                  <a:close/>
                </a:path>
              </a:pathLst>
            </a:custGeom>
            <a:solidFill>
              <a:srgbClr val="598446"/>
            </a:solidFill>
            <a:ln w="0">
              <a:solidFill>
                <a:srgbClr val="59844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Freihandform 142"/>
            <p:cNvSpPr/>
            <p:nvPr/>
          </p:nvSpPr>
          <p:spPr>
            <a:xfrm>
              <a:off x="3538800" y="2967120"/>
              <a:ext cx="206280" cy="85680"/>
            </a:xfrm>
            <a:custGeom>
              <a:avLst/>
              <a:gdLst>
                <a:gd name="textAreaLeft" fmla="*/ 0 w 206280"/>
                <a:gd name="textAreaRight" fmla="*/ 206640 w 20628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167515" h="106172">
                  <a:moveTo>
                    <a:pt x="0" y="36068"/>
                  </a:moveTo>
                  <a:lnTo>
                    <a:pt x="5715" y="31241"/>
                  </a:lnTo>
                  <a:lnTo>
                    <a:pt x="10542" y="27432"/>
                  </a:lnTo>
                  <a:lnTo>
                    <a:pt x="14859" y="24002"/>
                  </a:lnTo>
                  <a:lnTo>
                    <a:pt x="19177" y="20701"/>
                  </a:lnTo>
                  <a:lnTo>
                    <a:pt x="27814" y="15875"/>
                  </a:lnTo>
                  <a:lnTo>
                    <a:pt x="32640" y="13462"/>
                  </a:lnTo>
                  <a:lnTo>
                    <a:pt x="37846" y="10540"/>
                  </a:lnTo>
                  <a:lnTo>
                    <a:pt x="40768" y="8636"/>
                  </a:lnTo>
                  <a:lnTo>
                    <a:pt x="44070" y="6222"/>
                  </a:lnTo>
                  <a:lnTo>
                    <a:pt x="47499" y="4826"/>
                  </a:lnTo>
                  <a:lnTo>
                    <a:pt x="51309" y="3428"/>
                  </a:lnTo>
                  <a:lnTo>
                    <a:pt x="59945" y="1015"/>
                  </a:lnTo>
                  <a:lnTo>
                    <a:pt x="69089" y="0"/>
                  </a:lnTo>
                  <a:lnTo>
                    <a:pt x="78740" y="0"/>
                  </a:lnTo>
                  <a:lnTo>
                    <a:pt x="89281" y="1524"/>
                  </a:lnTo>
                  <a:lnTo>
                    <a:pt x="99315" y="3428"/>
                  </a:lnTo>
                  <a:lnTo>
                    <a:pt x="109855" y="6222"/>
                  </a:lnTo>
                  <a:lnTo>
                    <a:pt x="120015" y="10159"/>
                  </a:lnTo>
                  <a:lnTo>
                    <a:pt x="129540" y="14858"/>
                  </a:lnTo>
                  <a:lnTo>
                    <a:pt x="138684" y="20701"/>
                  </a:lnTo>
                  <a:lnTo>
                    <a:pt x="147321" y="26924"/>
                  </a:lnTo>
                  <a:lnTo>
                    <a:pt x="154559" y="34163"/>
                  </a:lnTo>
                  <a:lnTo>
                    <a:pt x="160274" y="41782"/>
                  </a:lnTo>
                  <a:lnTo>
                    <a:pt x="162687" y="46101"/>
                  </a:lnTo>
                  <a:lnTo>
                    <a:pt x="164593" y="50419"/>
                  </a:lnTo>
                  <a:lnTo>
                    <a:pt x="166497" y="54737"/>
                  </a:lnTo>
                  <a:lnTo>
                    <a:pt x="167514" y="59563"/>
                  </a:lnTo>
                  <a:lnTo>
                    <a:pt x="162687" y="67182"/>
                  </a:lnTo>
                  <a:lnTo>
                    <a:pt x="157353" y="74930"/>
                  </a:lnTo>
                  <a:lnTo>
                    <a:pt x="151639" y="82169"/>
                  </a:lnTo>
                  <a:lnTo>
                    <a:pt x="144908" y="88900"/>
                  </a:lnTo>
                  <a:lnTo>
                    <a:pt x="137668" y="95122"/>
                  </a:lnTo>
                  <a:lnTo>
                    <a:pt x="129540" y="100330"/>
                  </a:lnTo>
                  <a:lnTo>
                    <a:pt x="121412" y="103758"/>
                  </a:lnTo>
                  <a:lnTo>
                    <a:pt x="117095" y="105156"/>
                  </a:lnTo>
                  <a:lnTo>
                    <a:pt x="112777" y="106171"/>
                  </a:lnTo>
                  <a:lnTo>
                    <a:pt x="113284" y="104139"/>
                  </a:lnTo>
                  <a:lnTo>
                    <a:pt x="113284" y="102234"/>
                  </a:lnTo>
                  <a:lnTo>
                    <a:pt x="113284" y="97027"/>
                  </a:lnTo>
                  <a:lnTo>
                    <a:pt x="111761" y="91186"/>
                  </a:lnTo>
                  <a:lnTo>
                    <a:pt x="109855" y="84582"/>
                  </a:lnTo>
                  <a:lnTo>
                    <a:pt x="107062" y="77343"/>
                  </a:lnTo>
                  <a:lnTo>
                    <a:pt x="102743" y="69595"/>
                  </a:lnTo>
                  <a:lnTo>
                    <a:pt x="97918" y="62483"/>
                  </a:lnTo>
                  <a:lnTo>
                    <a:pt x="91695" y="55245"/>
                  </a:lnTo>
                  <a:lnTo>
                    <a:pt x="84455" y="48514"/>
                  </a:lnTo>
                  <a:lnTo>
                    <a:pt x="76327" y="42290"/>
                  </a:lnTo>
                  <a:lnTo>
                    <a:pt x="71502" y="39877"/>
                  </a:lnTo>
                  <a:lnTo>
                    <a:pt x="66675" y="37464"/>
                  </a:lnTo>
                  <a:lnTo>
                    <a:pt x="61468" y="35051"/>
                  </a:lnTo>
                  <a:lnTo>
                    <a:pt x="55627" y="33655"/>
                  </a:lnTo>
                  <a:lnTo>
                    <a:pt x="49912" y="32257"/>
                  </a:lnTo>
                  <a:lnTo>
                    <a:pt x="43689" y="31241"/>
                  </a:lnTo>
                  <a:lnTo>
                    <a:pt x="37465" y="30733"/>
                  </a:lnTo>
                  <a:lnTo>
                    <a:pt x="30734" y="30733"/>
                  </a:lnTo>
                  <a:lnTo>
                    <a:pt x="23496" y="31241"/>
                  </a:lnTo>
                  <a:lnTo>
                    <a:pt x="15749" y="32257"/>
                  </a:lnTo>
                  <a:lnTo>
                    <a:pt x="8128" y="33655"/>
                  </a:lnTo>
                  <a:lnTo>
                    <a:pt x="0" y="36068"/>
                  </a:lnTo>
                  <a:close/>
                </a:path>
              </a:pathLst>
            </a:custGeom>
            <a:solidFill>
              <a:srgbClr val="417a33"/>
            </a:solidFill>
            <a:ln w="0">
              <a:solidFill>
                <a:srgbClr val="417a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Freihandform 143"/>
            <p:cNvSpPr/>
            <p:nvPr/>
          </p:nvSpPr>
          <p:spPr>
            <a:xfrm>
              <a:off x="3548160" y="2967120"/>
              <a:ext cx="196560" cy="8568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85680"/>
                <a:gd name="textAreaBottom" fmla="*/ 86040 h 85680"/>
              </a:gdLst>
              <a:ahLst/>
              <a:rect l="textAreaLeft" t="textAreaTop" r="textAreaRight" b="textAreaBottom"/>
              <a:pathLst>
                <a:path w="160910" h="105157">
                  <a:moveTo>
                    <a:pt x="0" y="32640"/>
                  </a:moveTo>
                  <a:lnTo>
                    <a:pt x="5843" y="28322"/>
                  </a:lnTo>
                  <a:lnTo>
                    <a:pt x="10668" y="24511"/>
                  </a:lnTo>
                  <a:lnTo>
                    <a:pt x="14987" y="21082"/>
                  </a:lnTo>
                  <a:lnTo>
                    <a:pt x="18797" y="18669"/>
                  </a:lnTo>
                  <a:lnTo>
                    <a:pt x="26416" y="13843"/>
                  </a:lnTo>
                  <a:lnTo>
                    <a:pt x="31243" y="11557"/>
                  </a:lnTo>
                  <a:lnTo>
                    <a:pt x="36958" y="9144"/>
                  </a:lnTo>
                  <a:lnTo>
                    <a:pt x="38990" y="7240"/>
                  </a:lnTo>
                  <a:lnTo>
                    <a:pt x="41784" y="5207"/>
                  </a:lnTo>
                  <a:lnTo>
                    <a:pt x="44705" y="3811"/>
                  </a:lnTo>
                  <a:lnTo>
                    <a:pt x="48006" y="2413"/>
                  </a:lnTo>
                  <a:lnTo>
                    <a:pt x="51435" y="1398"/>
                  </a:lnTo>
                  <a:lnTo>
                    <a:pt x="55246" y="890"/>
                  </a:lnTo>
                  <a:lnTo>
                    <a:pt x="63881" y="0"/>
                  </a:lnTo>
                  <a:lnTo>
                    <a:pt x="73025" y="509"/>
                  </a:lnTo>
                  <a:lnTo>
                    <a:pt x="83059" y="1398"/>
                  </a:lnTo>
                  <a:lnTo>
                    <a:pt x="93218" y="3303"/>
                  </a:lnTo>
                  <a:lnTo>
                    <a:pt x="103252" y="6224"/>
                  </a:lnTo>
                  <a:lnTo>
                    <a:pt x="113284" y="10034"/>
                  </a:lnTo>
                  <a:lnTo>
                    <a:pt x="122937" y="14860"/>
                  </a:lnTo>
                  <a:lnTo>
                    <a:pt x="132081" y="20193"/>
                  </a:lnTo>
                  <a:lnTo>
                    <a:pt x="140209" y="26417"/>
                  </a:lnTo>
                  <a:lnTo>
                    <a:pt x="147447" y="33529"/>
                  </a:lnTo>
                  <a:lnTo>
                    <a:pt x="153671" y="41275"/>
                  </a:lnTo>
                  <a:lnTo>
                    <a:pt x="156084" y="45593"/>
                  </a:lnTo>
                  <a:lnTo>
                    <a:pt x="157988" y="49404"/>
                  </a:lnTo>
                  <a:lnTo>
                    <a:pt x="159385" y="54230"/>
                  </a:lnTo>
                  <a:lnTo>
                    <a:pt x="160909" y="58548"/>
                  </a:lnTo>
                  <a:lnTo>
                    <a:pt x="156084" y="66167"/>
                  </a:lnTo>
                  <a:lnTo>
                    <a:pt x="150750" y="73915"/>
                  </a:lnTo>
                  <a:lnTo>
                    <a:pt x="144527" y="81154"/>
                  </a:lnTo>
                  <a:lnTo>
                    <a:pt x="137796" y="88266"/>
                  </a:lnTo>
                  <a:lnTo>
                    <a:pt x="130556" y="94488"/>
                  </a:lnTo>
                  <a:lnTo>
                    <a:pt x="122937" y="99315"/>
                  </a:lnTo>
                  <a:lnTo>
                    <a:pt x="114809" y="103124"/>
                  </a:lnTo>
                  <a:lnTo>
                    <a:pt x="110490" y="104141"/>
                  </a:lnTo>
                  <a:lnTo>
                    <a:pt x="106172" y="105156"/>
                  </a:lnTo>
                  <a:lnTo>
                    <a:pt x="106553" y="103124"/>
                  </a:lnTo>
                  <a:lnTo>
                    <a:pt x="106553" y="101219"/>
                  </a:lnTo>
                  <a:lnTo>
                    <a:pt x="106172" y="96521"/>
                  </a:lnTo>
                  <a:lnTo>
                    <a:pt x="104649" y="90171"/>
                  </a:lnTo>
                  <a:lnTo>
                    <a:pt x="102743" y="83567"/>
                  </a:lnTo>
                  <a:lnTo>
                    <a:pt x="99441" y="76328"/>
                  </a:lnTo>
                  <a:lnTo>
                    <a:pt x="95631" y="69088"/>
                  </a:lnTo>
                  <a:lnTo>
                    <a:pt x="90806" y="61468"/>
                  </a:lnTo>
                  <a:lnTo>
                    <a:pt x="84583" y="54230"/>
                  </a:lnTo>
                  <a:lnTo>
                    <a:pt x="77852" y="47499"/>
                  </a:lnTo>
                  <a:lnTo>
                    <a:pt x="69597" y="41275"/>
                  </a:lnTo>
                  <a:lnTo>
                    <a:pt x="60960" y="36449"/>
                  </a:lnTo>
                  <a:lnTo>
                    <a:pt x="55753" y="34036"/>
                  </a:lnTo>
                  <a:lnTo>
                    <a:pt x="50928" y="32131"/>
                  </a:lnTo>
                  <a:lnTo>
                    <a:pt x="45593" y="30735"/>
                  </a:lnTo>
                  <a:lnTo>
                    <a:pt x="39878" y="29718"/>
                  </a:lnTo>
                  <a:lnTo>
                    <a:pt x="33656" y="28830"/>
                  </a:lnTo>
                  <a:lnTo>
                    <a:pt x="27433" y="28830"/>
                  </a:lnTo>
                  <a:lnTo>
                    <a:pt x="21209" y="28830"/>
                  </a:lnTo>
                  <a:lnTo>
                    <a:pt x="14478" y="29718"/>
                  </a:lnTo>
                  <a:lnTo>
                    <a:pt x="7240" y="30735"/>
                  </a:lnTo>
                  <a:lnTo>
                    <a:pt x="0" y="32640"/>
                  </a:lnTo>
                  <a:close/>
                </a:path>
              </a:pathLst>
            </a:custGeom>
            <a:solidFill>
              <a:srgbClr val="2a6e20"/>
            </a:solidFill>
            <a:ln w="0">
              <a:solidFill>
                <a:srgbClr val="2a6e2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Freihandform 144"/>
            <p:cNvSpPr/>
            <p:nvPr/>
          </p:nvSpPr>
          <p:spPr>
            <a:xfrm>
              <a:off x="3556080" y="2968920"/>
              <a:ext cx="188640" cy="83880"/>
            </a:xfrm>
            <a:custGeom>
              <a:avLst/>
              <a:gdLst>
                <a:gd name="textAreaLeft" fmla="*/ 0 w 188640"/>
                <a:gd name="textAreaRight" fmla="*/ 189000 w 188640"/>
                <a:gd name="textAreaTop" fmla="*/ 0 h 83880"/>
                <a:gd name="textAreaBottom" fmla="*/ 84240 h 83880"/>
              </a:gdLst>
              <a:ahLst/>
              <a:rect l="textAreaLeft" t="textAreaTop" r="textAreaRight" b="textAreaBottom"/>
              <a:pathLst>
                <a:path w="153670" h="104267">
                  <a:moveTo>
                    <a:pt x="0" y="29336"/>
                  </a:moveTo>
                  <a:lnTo>
                    <a:pt x="2920" y="26923"/>
                  </a:lnTo>
                  <a:lnTo>
                    <a:pt x="5334" y="25019"/>
                  </a:lnTo>
                  <a:lnTo>
                    <a:pt x="10160" y="21209"/>
                  </a:lnTo>
                  <a:lnTo>
                    <a:pt x="13969" y="18288"/>
                  </a:lnTo>
                  <a:lnTo>
                    <a:pt x="17779" y="15875"/>
                  </a:lnTo>
                  <a:lnTo>
                    <a:pt x="25019" y="12065"/>
                  </a:lnTo>
                  <a:lnTo>
                    <a:pt x="29337" y="10159"/>
                  </a:lnTo>
                  <a:lnTo>
                    <a:pt x="35051" y="7746"/>
                  </a:lnTo>
                  <a:lnTo>
                    <a:pt x="36448" y="5841"/>
                  </a:lnTo>
                  <a:lnTo>
                    <a:pt x="38353" y="4317"/>
                  </a:lnTo>
                  <a:lnTo>
                    <a:pt x="40766" y="2921"/>
                  </a:lnTo>
                  <a:lnTo>
                    <a:pt x="43688" y="2032"/>
                  </a:lnTo>
                  <a:lnTo>
                    <a:pt x="47116" y="1015"/>
                  </a:lnTo>
                  <a:lnTo>
                    <a:pt x="50419" y="508"/>
                  </a:lnTo>
                  <a:lnTo>
                    <a:pt x="58038" y="0"/>
                  </a:lnTo>
                  <a:lnTo>
                    <a:pt x="66675" y="508"/>
                  </a:lnTo>
                  <a:lnTo>
                    <a:pt x="76326" y="1523"/>
                  </a:lnTo>
                  <a:lnTo>
                    <a:pt x="85978" y="3428"/>
                  </a:lnTo>
                  <a:lnTo>
                    <a:pt x="96012" y="6350"/>
                  </a:lnTo>
                  <a:lnTo>
                    <a:pt x="105663" y="10159"/>
                  </a:lnTo>
                  <a:lnTo>
                    <a:pt x="115188" y="14477"/>
                  </a:lnTo>
                  <a:lnTo>
                    <a:pt x="124332" y="20192"/>
                  </a:lnTo>
                  <a:lnTo>
                    <a:pt x="132460" y="26034"/>
                  </a:lnTo>
                  <a:lnTo>
                    <a:pt x="140207" y="32639"/>
                  </a:lnTo>
                  <a:lnTo>
                    <a:pt x="143001" y="36576"/>
                  </a:lnTo>
                  <a:lnTo>
                    <a:pt x="145922" y="40385"/>
                  </a:lnTo>
                  <a:lnTo>
                    <a:pt x="148335" y="44703"/>
                  </a:lnTo>
                  <a:lnTo>
                    <a:pt x="150748" y="49021"/>
                  </a:lnTo>
                  <a:lnTo>
                    <a:pt x="152145" y="53340"/>
                  </a:lnTo>
                  <a:lnTo>
                    <a:pt x="153669" y="57658"/>
                  </a:lnTo>
                  <a:lnTo>
                    <a:pt x="148844" y="65277"/>
                  </a:lnTo>
                  <a:lnTo>
                    <a:pt x="143001" y="73025"/>
                  </a:lnTo>
                  <a:lnTo>
                    <a:pt x="137287" y="80645"/>
                  </a:lnTo>
                  <a:lnTo>
                    <a:pt x="130556" y="87376"/>
                  </a:lnTo>
                  <a:lnTo>
                    <a:pt x="123316" y="93598"/>
                  </a:lnTo>
                  <a:lnTo>
                    <a:pt x="115697" y="98425"/>
                  </a:lnTo>
                  <a:lnTo>
                    <a:pt x="107569" y="102234"/>
                  </a:lnTo>
                  <a:lnTo>
                    <a:pt x="103250" y="103251"/>
                  </a:lnTo>
                  <a:lnTo>
                    <a:pt x="98932" y="104266"/>
                  </a:lnTo>
                  <a:lnTo>
                    <a:pt x="98932" y="102742"/>
                  </a:lnTo>
                  <a:lnTo>
                    <a:pt x="99313" y="100329"/>
                  </a:lnTo>
                  <a:lnTo>
                    <a:pt x="98932" y="95631"/>
                  </a:lnTo>
                  <a:lnTo>
                    <a:pt x="97409" y="89789"/>
                  </a:lnTo>
                  <a:lnTo>
                    <a:pt x="94995" y="83058"/>
                  </a:lnTo>
                  <a:lnTo>
                    <a:pt x="91694" y="75946"/>
                  </a:lnTo>
                  <a:lnTo>
                    <a:pt x="87884" y="68198"/>
                  </a:lnTo>
                  <a:lnTo>
                    <a:pt x="83057" y="60959"/>
                  </a:lnTo>
                  <a:lnTo>
                    <a:pt x="77343" y="53847"/>
                  </a:lnTo>
                  <a:lnTo>
                    <a:pt x="70612" y="46609"/>
                  </a:lnTo>
                  <a:lnTo>
                    <a:pt x="62865" y="40385"/>
                  </a:lnTo>
                  <a:lnTo>
                    <a:pt x="54228" y="35052"/>
                  </a:lnTo>
                  <a:lnTo>
                    <a:pt x="45085" y="30734"/>
                  </a:lnTo>
                  <a:lnTo>
                    <a:pt x="40385" y="29336"/>
                  </a:lnTo>
                  <a:lnTo>
                    <a:pt x="35051" y="27940"/>
                  </a:lnTo>
                  <a:lnTo>
                    <a:pt x="29718" y="26923"/>
                  </a:lnTo>
                  <a:lnTo>
                    <a:pt x="24003" y="26415"/>
                  </a:lnTo>
                  <a:lnTo>
                    <a:pt x="18288" y="26415"/>
                  </a:lnTo>
                  <a:lnTo>
                    <a:pt x="12445" y="26923"/>
                  </a:lnTo>
                  <a:lnTo>
                    <a:pt x="6222" y="27940"/>
                  </a:lnTo>
                  <a:lnTo>
                    <a:pt x="0" y="29336"/>
                  </a:lnTo>
                  <a:close/>
                </a:path>
              </a:pathLst>
            </a:custGeom>
            <a:solidFill>
              <a:srgbClr val="11610d"/>
            </a:solidFill>
            <a:ln w="0">
              <a:solidFill>
                <a:srgbClr val="11610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Freihandform 145"/>
            <p:cNvSpPr/>
            <p:nvPr/>
          </p:nvSpPr>
          <p:spPr>
            <a:xfrm>
              <a:off x="3565800" y="2968920"/>
              <a:ext cx="179280" cy="83880"/>
            </a:xfrm>
            <a:custGeom>
              <a:avLst/>
              <a:gdLst>
                <a:gd name="textAreaLeft" fmla="*/ 0 w 179280"/>
                <a:gd name="textAreaRight" fmla="*/ 179640 w 179280"/>
                <a:gd name="textAreaTop" fmla="*/ 0 h 83880"/>
                <a:gd name="textAreaBottom" fmla="*/ 84240 h 83880"/>
              </a:gdLst>
              <a:ahLst/>
              <a:rect l="textAreaLeft" t="textAreaTop" r="textAreaRight" b="textAreaBottom"/>
              <a:pathLst>
                <a:path w="146432" h="103252">
                  <a:moveTo>
                    <a:pt x="2922" y="24002"/>
                  </a:moveTo>
                  <a:lnTo>
                    <a:pt x="5715" y="21589"/>
                  </a:lnTo>
                  <a:lnTo>
                    <a:pt x="10034" y="18288"/>
                  </a:lnTo>
                  <a:lnTo>
                    <a:pt x="13462" y="15875"/>
                  </a:lnTo>
                  <a:lnTo>
                    <a:pt x="16765" y="13969"/>
                  </a:lnTo>
                  <a:lnTo>
                    <a:pt x="24003" y="10159"/>
                  </a:lnTo>
                  <a:lnTo>
                    <a:pt x="28322" y="8127"/>
                  </a:lnTo>
                  <a:lnTo>
                    <a:pt x="33528" y="5842"/>
                  </a:lnTo>
                  <a:lnTo>
                    <a:pt x="34544" y="4318"/>
                  </a:lnTo>
                  <a:lnTo>
                    <a:pt x="35941" y="3428"/>
                  </a:lnTo>
                  <a:lnTo>
                    <a:pt x="37847" y="2413"/>
                  </a:lnTo>
                  <a:lnTo>
                    <a:pt x="40259" y="1524"/>
                  </a:lnTo>
                  <a:lnTo>
                    <a:pt x="42672" y="507"/>
                  </a:lnTo>
                  <a:lnTo>
                    <a:pt x="46102" y="0"/>
                  </a:lnTo>
                  <a:lnTo>
                    <a:pt x="52832" y="0"/>
                  </a:lnTo>
                  <a:lnTo>
                    <a:pt x="60960" y="507"/>
                  </a:lnTo>
                  <a:lnTo>
                    <a:pt x="70105" y="1524"/>
                  </a:lnTo>
                  <a:lnTo>
                    <a:pt x="79122" y="3809"/>
                  </a:lnTo>
                  <a:lnTo>
                    <a:pt x="89281" y="6223"/>
                  </a:lnTo>
                  <a:lnTo>
                    <a:pt x="98806" y="10159"/>
                  </a:lnTo>
                  <a:lnTo>
                    <a:pt x="108459" y="14477"/>
                  </a:lnTo>
                  <a:lnTo>
                    <a:pt x="117094" y="19684"/>
                  </a:lnTo>
                  <a:lnTo>
                    <a:pt x="125731" y="25526"/>
                  </a:lnTo>
                  <a:lnTo>
                    <a:pt x="132969" y="32131"/>
                  </a:lnTo>
                  <a:lnTo>
                    <a:pt x="136272" y="36068"/>
                  </a:lnTo>
                  <a:lnTo>
                    <a:pt x="139193" y="39877"/>
                  </a:lnTo>
                  <a:lnTo>
                    <a:pt x="141606" y="43688"/>
                  </a:lnTo>
                  <a:lnTo>
                    <a:pt x="143510" y="48006"/>
                  </a:lnTo>
                  <a:lnTo>
                    <a:pt x="145415" y="52324"/>
                  </a:lnTo>
                  <a:lnTo>
                    <a:pt x="146431" y="57150"/>
                  </a:lnTo>
                  <a:lnTo>
                    <a:pt x="141606" y="64769"/>
                  </a:lnTo>
                  <a:lnTo>
                    <a:pt x="136272" y="72008"/>
                  </a:lnTo>
                  <a:lnTo>
                    <a:pt x="130049" y="79756"/>
                  </a:lnTo>
                  <a:lnTo>
                    <a:pt x="123825" y="86487"/>
                  </a:lnTo>
                  <a:lnTo>
                    <a:pt x="116587" y="92709"/>
                  </a:lnTo>
                  <a:lnTo>
                    <a:pt x="108459" y="97408"/>
                  </a:lnTo>
                  <a:lnTo>
                    <a:pt x="100331" y="101345"/>
                  </a:lnTo>
                  <a:lnTo>
                    <a:pt x="96012" y="102743"/>
                  </a:lnTo>
                  <a:lnTo>
                    <a:pt x="91694" y="103251"/>
                  </a:lnTo>
                  <a:lnTo>
                    <a:pt x="92075" y="101726"/>
                  </a:lnTo>
                  <a:lnTo>
                    <a:pt x="92075" y="99821"/>
                  </a:lnTo>
                  <a:lnTo>
                    <a:pt x="91694" y="94614"/>
                  </a:lnTo>
                  <a:lnTo>
                    <a:pt x="90171" y="88773"/>
                  </a:lnTo>
                  <a:lnTo>
                    <a:pt x="87757" y="82169"/>
                  </a:lnTo>
                  <a:lnTo>
                    <a:pt x="84456" y="75438"/>
                  </a:lnTo>
                  <a:lnTo>
                    <a:pt x="80646" y="67690"/>
                  </a:lnTo>
                  <a:lnTo>
                    <a:pt x="75819" y="60451"/>
                  </a:lnTo>
                  <a:lnTo>
                    <a:pt x="70105" y="52832"/>
                  </a:lnTo>
                  <a:lnTo>
                    <a:pt x="63374" y="46101"/>
                  </a:lnTo>
                  <a:lnTo>
                    <a:pt x="56134" y="39877"/>
                  </a:lnTo>
                  <a:lnTo>
                    <a:pt x="48515" y="34163"/>
                  </a:lnTo>
                  <a:lnTo>
                    <a:pt x="39878" y="29844"/>
                  </a:lnTo>
                  <a:lnTo>
                    <a:pt x="30734" y="26415"/>
                  </a:lnTo>
                  <a:lnTo>
                    <a:pt x="25909" y="25526"/>
                  </a:lnTo>
                  <a:lnTo>
                    <a:pt x="21082" y="24511"/>
                  </a:lnTo>
                  <a:lnTo>
                    <a:pt x="16256" y="24002"/>
                  </a:lnTo>
                  <a:lnTo>
                    <a:pt x="11050" y="24511"/>
                  </a:lnTo>
                  <a:lnTo>
                    <a:pt x="5207" y="25019"/>
                  </a:lnTo>
                  <a:lnTo>
                    <a:pt x="0" y="26415"/>
                  </a:lnTo>
                  <a:lnTo>
                    <a:pt x="2922" y="24002"/>
                  </a:lnTo>
                  <a:close/>
                </a:path>
              </a:pathLst>
            </a:custGeom>
            <a:solidFill>
              <a:srgbClr val="005600"/>
            </a:solidFill>
            <a:ln w="0">
              <a:solidFill>
                <a:srgbClr val="005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Freihandform 146"/>
            <p:cNvSpPr/>
            <p:nvPr/>
          </p:nvSpPr>
          <p:spPr>
            <a:xfrm>
              <a:off x="3598920" y="2867040"/>
              <a:ext cx="196560" cy="6984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160910" h="85853">
                  <a:moveTo>
                    <a:pt x="2033" y="47878"/>
                  </a:moveTo>
                  <a:lnTo>
                    <a:pt x="4318" y="43179"/>
                  </a:lnTo>
                  <a:lnTo>
                    <a:pt x="7240" y="38862"/>
                  </a:lnTo>
                  <a:lnTo>
                    <a:pt x="10668" y="34544"/>
                  </a:lnTo>
                  <a:lnTo>
                    <a:pt x="17400" y="26796"/>
                  </a:lnTo>
                  <a:lnTo>
                    <a:pt x="25528" y="20065"/>
                  </a:lnTo>
                  <a:lnTo>
                    <a:pt x="34672" y="14351"/>
                  </a:lnTo>
                  <a:lnTo>
                    <a:pt x="44705" y="9525"/>
                  </a:lnTo>
                  <a:lnTo>
                    <a:pt x="55246" y="5715"/>
                  </a:lnTo>
                  <a:lnTo>
                    <a:pt x="65787" y="2794"/>
                  </a:lnTo>
                  <a:lnTo>
                    <a:pt x="77343" y="889"/>
                  </a:lnTo>
                  <a:lnTo>
                    <a:pt x="88393" y="0"/>
                  </a:lnTo>
                  <a:lnTo>
                    <a:pt x="99441" y="381"/>
                  </a:lnTo>
                  <a:lnTo>
                    <a:pt x="110490" y="1396"/>
                  </a:lnTo>
                  <a:lnTo>
                    <a:pt x="121031" y="3302"/>
                  </a:lnTo>
                  <a:lnTo>
                    <a:pt x="131572" y="6603"/>
                  </a:lnTo>
                  <a:lnTo>
                    <a:pt x="140716" y="10921"/>
                  </a:lnTo>
                  <a:lnTo>
                    <a:pt x="149353" y="16256"/>
                  </a:lnTo>
                  <a:lnTo>
                    <a:pt x="152274" y="31115"/>
                  </a:lnTo>
                  <a:lnTo>
                    <a:pt x="155575" y="46990"/>
                  </a:lnTo>
                  <a:lnTo>
                    <a:pt x="157481" y="55117"/>
                  </a:lnTo>
                  <a:lnTo>
                    <a:pt x="159005" y="63753"/>
                  </a:lnTo>
                  <a:lnTo>
                    <a:pt x="159893" y="72897"/>
                  </a:lnTo>
                  <a:lnTo>
                    <a:pt x="160909" y="82550"/>
                  </a:lnTo>
                  <a:lnTo>
                    <a:pt x="156591" y="77215"/>
                  </a:lnTo>
                  <a:lnTo>
                    <a:pt x="152274" y="72390"/>
                  </a:lnTo>
                  <a:lnTo>
                    <a:pt x="147447" y="68579"/>
                  </a:lnTo>
                  <a:lnTo>
                    <a:pt x="142622" y="65277"/>
                  </a:lnTo>
                  <a:lnTo>
                    <a:pt x="137287" y="62357"/>
                  </a:lnTo>
                  <a:lnTo>
                    <a:pt x="132081" y="59944"/>
                  </a:lnTo>
                  <a:lnTo>
                    <a:pt x="126747" y="58039"/>
                  </a:lnTo>
                  <a:lnTo>
                    <a:pt x="121540" y="56641"/>
                  </a:lnTo>
                  <a:lnTo>
                    <a:pt x="110490" y="54609"/>
                  </a:lnTo>
                  <a:lnTo>
                    <a:pt x="98934" y="54609"/>
                  </a:lnTo>
                  <a:lnTo>
                    <a:pt x="87884" y="55626"/>
                  </a:lnTo>
                  <a:lnTo>
                    <a:pt x="76835" y="58039"/>
                  </a:lnTo>
                  <a:lnTo>
                    <a:pt x="65787" y="60959"/>
                  </a:lnTo>
                  <a:lnTo>
                    <a:pt x="55246" y="64770"/>
                  </a:lnTo>
                  <a:lnTo>
                    <a:pt x="45721" y="68579"/>
                  </a:lnTo>
                  <a:lnTo>
                    <a:pt x="36577" y="72390"/>
                  </a:lnTo>
                  <a:lnTo>
                    <a:pt x="27940" y="76708"/>
                  </a:lnTo>
                  <a:lnTo>
                    <a:pt x="20702" y="80137"/>
                  </a:lnTo>
                  <a:lnTo>
                    <a:pt x="14987" y="83439"/>
                  </a:lnTo>
                  <a:lnTo>
                    <a:pt x="12065" y="84963"/>
                  </a:lnTo>
                  <a:lnTo>
                    <a:pt x="10160" y="85852"/>
                  </a:lnTo>
                  <a:lnTo>
                    <a:pt x="9653" y="76200"/>
                  </a:lnTo>
                  <a:lnTo>
                    <a:pt x="9144" y="71882"/>
                  </a:lnTo>
                  <a:lnTo>
                    <a:pt x="8256" y="68071"/>
                  </a:lnTo>
                  <a:lnTo>
                    <a:pt x="6731" y="63753"/>
                  </a:lnTo>
                  <a:lnTo>
                    <a:pt x="4827" y="59944"/>
                  </a:lnTo>
                  <a:lnTo>
                    <a:pt x="2922" y="56133"/>
                  </a:lnTo>
                  <a:lnTo>
                    <a:pt x="0" y="52704"/>
                  </a:lnTo>
                  <a:lnTo>
                    <a:pt x="2033" y="47878"/>
                  </a:lnTo>
                  <a:close/>
                </a:path>
              </a:pathLst>
            </a:custGeom>
            <a:solidFill>
              <a:srgbClr val="879b6b"/>
            </a:solidFill>
            <a:ln w="0">
              <a:solidFill>
                <a:srgbClr val="879b6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Freihandform 147"/>
            <p:cNvSpPr/>
            <p:nvPr/>
          </p:nvSpPr>
          <p:spPr>
            <a:xfrm>
              <a:off x="3608640" y="2865600"/>
              <a:ext cx="187200" cy="6984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153163" h="83060">
                  <a:moveTo>
                    <a:pt x="10541" y="81026"/>
                  </a:moveTo>
                  <a:lnTo>
                    <a:pt x="10034" y="72010"/>
                  </a:lnTo>
                  <a:lnTo>
                    <a:pt x="8637" y="62866"/>
                  </a:lnTo>
                  <a:lnTo>
                    <a:pt x="7240" y="58548"/>
                  </a:lnTo>
                  <a:lnTo>
                    <a:pt x="5334" y="54737"/>
                  </a:lnTo>
                  <a:lnTo>
                    <a:pt x="2921" y="50800"/>
                  </a:lnTo>
                  <a:lnTo>
                    <a:pt x="0" y="46991"/>
                  </a:lnTo>
                  <a:lnTo>
                    <a:pt x="4827" y="38355"/>
                  </a:lnTo>
                  <a:lnTo>
                    <a:pt x="10541" y="30735"/>
                  </a:lnTo>
                  <a:lnTo>
                    <a:pt x="17272" y="24004"/>
                  </a:lnTo>
                  <a:lnTo>
                    <a:pt x="24893" y="17780"/>
                  </a:lnTo>
                  <a:lnTo>
                    <a:pt x="33656" y="12447"/>
                  </a:lnTo>
                  <a:lnTo>
                    <a:pt x="42672" y="8636"/>
                  </a:lnTo>
                  <a:lnTo>
                    <a:pt x="52833" y="4826"/>
                  </a:lnTo>
                  <a:lnTo>
                    <a:pt x="62865" y="2413"/>
                  </a:lnTo>
                  <a:lnTo>
                    <a:pt x="72899" y="890"/>
                  </a:lnTo>
                  <a:lnTo>
                    <a:pt x="83566" y="0"/>
                  </a:lnTo>
                  <a:lnTo>
                    <a:pt x="94108" y="509"/>
                  </a:lnTo>
                  <a:lnTo>
                    <a:pt x="104140" y="1905"/>
                  </a:lnTo>
                  <a:lnTo>
                    <a:pt x="114174" y="3811"/>
                  </a:lnTo>
                  <a:lnTo>
                    <a:pt x="123825" y="7112"/>
                  </a:lnTo>
                  <a:lnTo>
                    <a:pt x="132969" y="11430"/>
                  </a:lnTo>
                  <a:lnTo>
                    <a:pt x="141606" y="16256"/>
                  </a:lnTo>
                  <a:lnTo>
                    <a:pt x="144527" y="31624"/>
                  </a:lnTo>
                  <a:lnTo>
                    <a:pt x="147828" y="46991"/>
                  </a:lnTo>
                  <a:lnTo>
                    <a:pt x="149734" y="55626"/>
                  </a:lnTo>
                  <a:lnTo>
                    <a:pt x="151258" y="64262"/>
                  </a:lnTo>
                  <a:lnTo>
                    <a:pt x="152146" y="73406"/>
                  </a:lnTo>
                  <a:lnTo>
                    <a:pt x="153162" y="83059"/>
                  </a:lnTo>
                  <a:lnTo>
                    <a:pt x="148844" y="77724"/>
                  </a:lnTo>
                  <a:lnTo>
                    <a:pt x="144527" y="72899"/>
                  </a:lnTo>
                  <a:lnTo>
                    <a:pt x="139700" y="68580"/>
                  </a:lnTo>
                  <a:lnTo>
                    <a:pt x="134875" y="65279"/>
                  </a:lnTo>
                  <a:lnTo>
                    <a:pt x="130049" y="62357"/>
                  </a:lnTo>
                  <a:lnTo>
                    <a:pt x="125222" y="59436"/>
                  </a:lnTo>
                  <a:lnTo>
                    <a:pt x="120015" y="57531"/>
                  </a:lnTo>
                  <a:lnTo>
                    <a:pt x="115190" y="56135"/>
                  </a:lnTo>
                  <a:lnTo>
                    <a:pt x="104649" y="54230"/>
                  </a:lnTo>
                  <a:lnTo>
                    <a:pt x="94108" y="53722"/>
                  </a:lnTo>
                  <a:lnTo>
                    <a:pt x="83566" y="54230"/>
                  </a:lnTo>
                  <a:lnTo>
                    <a:pt x="72899" y="56135"/>
                  </a:lnTo>
                  <a:lnTo>
                    <a:pt x="62865" y="58548"/>
                  </a:lnTo>
                  <a:lnTo>
                    <a:pt x="53213" y="61849"/>
                  </a:lnTo>
                  <a:lnTo>
                    <a:pt x="44196" y="65279"/>
                  </a:lnTo>
                  <a:lnTo>
                    <a:pt x="35561" y="69088"/>
                  </a:lnTo>
                  <a:lnTo>
                    <a:pt x="27813" y="72391"/>
                  </a:lnTo>
                  <a:lnTo>
                    <a:pt x="21083" y="76328"/>
                  </a:lnTo>
                  <a:lnTo>
                    <a:pt x="15368" y="79122"/>
                  </a:lnTo>
                  <a:lnTo>
                    <a:pt x="10541" y="81026"/>
                  </a:lnTo>
                  <a:close/>
                </a:path>
              </a:pathLst>
            </a:custGeom>
            <a:solidFill>
              <a:srgbClr val="719158"/>
            </a:solidFill>
            <a:ln w="0">
              <a:solidFill>
                <a:srgbClr val="71915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Freihandform 148"/>
            <p:cNvSpPr/>
            <p:nvPr/>
          </p:nvSpPr>
          <p:spPr>
            <a:xfrm>
              <a:off x="3618000" y="2865600"/>
              <a:ext cx="177840" cy="69840"/>
            </a:xfrm>
            <a:custGeom>
              <a:avLst/>
              <a:gdLst>
                <a:gd name="textAreaLeft" fmla="*/ 0 w 177840"/>
                <a:gd name="textAreaRight" fmla="*/ 178200 w 1778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145416" h="83060">
                  <a:moveTo>
                    <a:pt x="11558" y="76709"/>
                  </a:moveTo>
                  <a:lnTo>
                    <a:pt x="10541" y="66675"/>
                  </a:lnTo>
                  <a:lnTo>
                    <a:pt x="9144" y="57531"/>
                  </a:lnTo>
                  <a:lnTo>
                    <a:pt x="7240" y="53213"/>
                  </a:lnTo>
                  <a:lnTo>
                    <a:pt x="5334" y="48896"/>
                  </a:lnTo>
                  <a:lnTo>
                    <a:pt x="2922" y="44578"/>
                  </a:lnTo>
                  <a:lnTo>
                    <a:pt x="0" y="40767"/>
                  </a:lnTo>
                  <a:lnTo>
                    <a:pt x="4827" y="33529"/>
                  </a:lnTo>
                  <a:lnTo>
                    <a:pt x="10541" y="26798"/>
                  </a:lnTo>
                  <a:lnTo>
                    <a:pt x="17272" y="20574"/>
                  </a:lnTo>
                  <a:lnTo>
                    <a:pt x="24512" y="15367"/>
                  </a:lnTo>
                  <a:lnTo>
                    <a:pt x="32640" y="10542"/>
                  </a:lnTo>
                  <a:lnTo>
                    <a:pt x="41275" y="6731"/>
                  </a:lnTo>
                  <a:lnTo>
                    <a:pt x="49912" y="3811"/>
                  </a:lnTo>
                  <a:lnTo>
                    <a:pt x="59563" y="1905"/>
                  </a:lnTo>
                  <a:lnTo>
                    <a:pt x="69088" y="509"/>
                  </a:lnTo>
                  <a:lnTo>
                    <a:pt x="78740" y="0"/>
                  </a:lnTo>
                  <a:lnTo>
                    <a:pt x="88393" y="509"/>
                  </a:lnTo>
                  <a:lnTo>
                    <a:pt x="97918" y="1905"/>
                  </a:lnTo>
                  <a:lnTo>
                    <a:pt x="107569" y="3811"/>
                  </a:lnTo>
                  <a:lnTo>
                    <a:pt x="116713" y="7112"/>
                  </a:lnTo>
                  <a:lnTo>
                    <a:pt x="125350" y="11430"/>
                  </a:lnTo>
                  <a:lnTo>
                    <a:pt x="133478" y="16765"/>
                  </a:lnTo>
                  <a:lnTo>
                    <a:pt x="136780" y="31624"/>
                  </a:lnTo>
                  <a:lnTo>
                    <a:pt x="140209" y="47499"/>
                  </a:lnTo>
                  <a:lnTo>
                    <a:pt x="141606" y="55626"/>
                  </a:lnTo>
                  <a:lnTo>
                    <a:pt x="143130" y="64262"/>
                  </a:lnTo>
                  <a:lnTo>
                    <a:pt x="144527" y="73406"/>
                  </a:lnTo>
                  <a:lnTo>
                    <a:pt x="145415" y="83059"/>
                  </a:lnTo>
                  <a:lnTo>
                    <a:pt x="141097" y="77724"/>
                  </a:lnTo>
                  <a:lnTo>
                    <a:pt x="136780" y="72899"/>
                  </a:lnTo>
                  <a:lnTo>
                    <a:pt x="132081" y="69088"/>
                  </a:lnTo>
                  <a:lnTo>
                    <a:pt x="127762" y="65279"/>
                  </a:lnTo>
                  <a:lnTo>
                    <a:pt x="122937" y="61849"/>
                  </a:lnTo>
                  <a:lnTo>
                    <a:pt x="118110" y="59436"/>
                  </a:lnTo>
                  <a:lnTo>
                    <a:pt x="108459" y="55626"/>
                  </a:lnTo>
                  <a:lnTo>
                    <a:pt x="98934" y="53213"/>
                  </a:lnTo>
                  <a:lnTo>
                    <a:pt x="88774" y="52324"/>
                  </a:lnTo>
                  <a:lnTo>
                    <a:pt x="79249" y="52324"/>
                  </a:lnTo>
                  <a:lnTo>
                    <a:pt x="69597" y="53722"/>
                  </a:lnTo>
                  <a:lnTo>
                    <a:pt x="60453" y="55626"/>
                  </a:lnTo>
                  <a:lnTo>
                    <a:pt x="51435" y="58548"/>
                  </a:lnTo>
                  <a:lnTo>
                    <a:pt x="43181" y="61849"/>
                  </a:lnTo>
                  <a:lnTo>
                    <a:pt x="35053" y="65279"/>
                  </a:lnTo>
                  <a:lnTo>
                    <a:pt x="27813" y="68580"/>
                  </a:lnTo>
                  <a:lnTo>
                    <a:pt x="21590" y="71501"/>
                  </a:lnTo>
                  <a:lnTo>
                    <a:pt x="15875" y="74423"/>
                  </a:lnTo>
                  <a:lnTo>
                    <a:pt x="11558" y="76709"/>
                  </a:lnTo>
                  <a:close/>
                </a:path>
              </a:pathLst>
            </a:custGeom>
            <a:solidFill>
              <a:srgbClr val="598446"/>
            </a:solidFill>
            <a:ln w="0">
              <a:solidFill>
                <a:srgbClr val="59844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ihandform 149"/>
            <p:cNvSpPr/>
            <p:nvPr/>
          </p:nvSpPr>
          <p:spPr>
            <a:xfrm>
              <a:off x="3627720" y="2865600"/>
              <a:ext cx="168120" cy="69840"/>
            </a:xfrm>
            <a:custGeom>
              <a:avLst/>
              <a:gdLst>
                <a:gd name="textAreaLeft" fmla="*/ 0 w 168120"/>
                <a:gd name="textAreaRight" fmla="*/ 168480 w 168120"/>
                <a:gd name="textAreaTop" fmla="*/ 0 h 69840"/>
                <a:gd name="textAreaBottom" fmla="*/ 69840 h 69840"/>
              </a:gdLst>
              <a:ahLst/>
              <a:rect l="textAreaLeft" t="textAreaTop" r="textAreaRight" b="textAreaBottom"/>
              <a:pathLst>
                <a:path w="136907" h="83568">
                  <a:moveTo>
                    <a:pt x="11557" y="72009"/>
                  </a:moveTo>
                  <a:lnTo>
                    <a:pt x="11050" y="61976"/>
                  </a:lnTo>
                  <a:lnTo>
                    <a:pt x="8637" y="52325"/>
                  </a:lnTo>
                  <a:lnTo>
                    <a:pt x="7240" y="47499"/>
                  </a:lnTo>
                  <a:lnTo>
                    <a:pt x="5334" y="43181"/>
                  </a:lnTo>
                  <a:lnTo>
                    <a:pt x="2922" y="38863"/>
                  </a:lnTo>
                  <a:lnTo>
                    <a:pt x="0" y="35052"/>
                  </a:lnTo>
                  <a:lnTo>
                    <a:pt x="4827" y="28830"/>
                  </a:lnTo>
                  <a:lnTo>
                    <a:pt x="10669" y="22607"/>
                  </a:lnTo>
                  <a:lnTo>
                    <a:pt x="16891" y="17273"/>
                  </a:lnTo>
                  <a:lnTo>
                    <a:pt x="23622" y="12955"/>
                  </a:lnTo>
                  <a:lnTo>
                    <a:pt x="31243" y="8637"/>
                  </a:lnTo>
                  <a:lnTo>
                    <a:pt x="38990" y="5715"/>
                  </a:lnTo>
                  <a:lnTo>
                    <a:pt x="47118" y="2921"/>
                  </a:lnTo>
                  <a:lnTo>
                    <a:pt x="55753" y="1017"/>
                  </a:lnTo>
                  <a:lnTo>
                    <a:pt x="64390" y="0"/>
                  </a:lnTo>
                  <a:lnTo>
                    <a:pt x="73025" y="0"/>
                  </a:lnTo>
                  <a:lnTo>
                    <a:pt x="82169" y="508"/>
                  </a:lnTo>
                  <a:lnTo>
                    <a:pt x="91313" y="1906"/>
                  </a:lnTo>
                  <a:lnTo>
                    <a:pt x="99950" y="4319"/>
                  </a:lnTo>
                  <a:lnTo>
                    <a:pt x="108585" y="7620"/>
                  </a:lnTo>
                  <a:lnTo>
                    <a:pt x="117222" y="11557"/>
                  </a:lnTo>
                  <a:lnTo>
                    <a:pt x="125350" y="16764"/>
                  </a:lnTo>
                  <a:lnTo>
                    <a:pt x="128271" y="32132"/>
                  </a:lnTo>
                  <a:lnTo>
                    <a:pt x="132081" y="47499"/>
                  </a:lnTo>
                  <a:lnTo>
                    <a:pt x="133478" y="55626"/>
                  </a:lnTo>
                  <a:lnTo>
                    <a:pt x="135002" y="64263"/>
                  </a:lnTo>
                  <a:lnTo>
                    <a:pt x="136399" y="73407"/>
                  </a:lnTo>
                  <a:lnTo>
                    <a:pt x="136906" y="83567"/>
                  </a:lnTo>
                  <a:lnTo>
                    <a:pt x="132969" y="78232"/>
                  </a:lnTo>
                  <a:lnTo>
                    <a:pt x="128652" y="73407"/>
                  </a:lnTo>
                  <a:lnTo>
                    <a:pt x="124334" y="69088"/>
                  </a:lnTo>
                  <a:lnTo>
                    <a:pt x="119634" y="65279"/>
                  </a:lnTo>
                  <a:lnTo>
                    <a:pt x="110999" y="59056"/>
                  </a:lnTo>
                  <a:lnTo>
                    <a:pt x="101855" y="55245"/>
                  </a:lnTo>
                  <a:lnTo>
                    <a:pt x="92710" y="52325"/>
                  </a:lnTo>
                  <a:lnTo>
                    <a:pt x="83566" y="50927"/>
                  </a:lnTo>
                  <a:lnTo>
                    <a:pt x="74422" y="50927"/>
                  </a:lnTo>
                  <a:lnTo>
                    <a:pt x="65787" y="51308"/>
                  </a:lnTo>
                  <a:lnTo>
                    <a:pt x="57150" y="53213"/>
                  </a:lnTo>
                  <a:lnTo>
                    <a:pt x="49022" y="55626"/>
                  </a:lnTo>
                  <a:lnTo>
                    <a:pt x="41275" y="58039"/>
                  </a:lnTo>
                  <a:lnTo>
                    <a:pt x="34163" y="61469"/>
                  </a:lnTo>
                  <a:lnTo>
                    <a:pt x="27432" y="64263"/>
                  </a:lnTo>
                  <a:lnTo>
                    <a:pt x="21718" y="67183"/>
                  </a:lnTo>
                  <a:lnTo>
                    <a:pt x="16384" y="70105"/>
                  </a:lnTo>
                  <a:lnTo>
                    <a:pt x="11557" y="72009"/>
                  </a:lnTo>
                  <a:close/>
                </a:path>
              </a:pathLst>
            </a:custGeom>
            <a:solidFill>
              <a:srgbClr val="417a33"/>
            </a:solidFill>
            <a:ln w="0">
              <a:solidFill>
                <a:srgbClr val="417a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ihandform 150"/>
            <p:cNvSpPr/>
            <p:nvPr/>
          </p:nvSpPr>
          <p:spPr>
            <a:xfrm>
              <a:off x="3637080" y="2865600"/>
              <a:ext cx="158760" cy="6984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129160" h="84075">
                  <a:moveTo>
                    <a:pt x="12447" y="68199"/>
                  </a:moveTo>
                  <a:lnTo>
                    <a:pt x="11558" y="57657"/>
                  </a:lnTo>
                  <a:lnTo>
                    <a:pt x="9144" y="47497"/>
                  </a:lnTo>
                  <a:lnTo>
                    <a:pt x="7621" y="42799"/>
                  </a:lnTo>
                  <a:lnTo>
                    <a:pt x="5334" y="37972"/>
                  </a:lnTo>
                  <a:lnTo>
                    <a:pt x="2922" y="33655"/>
                  </a:lnTo>
                  <a:lnTo>
                    <a:pt x="0" y="29845"/>
                  </a:lnTo>
                  <a:lnTo>
                    <a:pt x="5334" y="24002"/>
                  </a:lnTo>
                  <a:lnTo>
                    <a:pt x="10541" y="19176"/>
                  </a:lnTo>
                  <a:lnTo>
                    <a:pt x="16765" y="14858"/>
                  </a:lnTo>
                  <a:lnTo>
                    <a:pt x="22987" y="10540"/>
                  </a:lnTo>
                  <a:lnTo>
                    <a:pt x="30227" y="7239"/>
                  </a:lnTo>
                  <a:lnTo>
                    <a:pt x="37465" y="4826"/>
                  </a:lnTo>
                  <a:lnTo>
                    <a:pt x="44578" y="2413"/>
                  </a:lnTo>
                  <a:lnTo>
                    <a:pt x="52325" y="1015"/>
                  </a:lnTo>
                  <a:lnTo>
                    <a:pt x="59944" y="0"/>
                  </a:lnTo>
                  <a:lnTo>
                    <a:pt x="68200" y="0"/>
                  </a:lnTo>
                  <a:lnTo>
                    <a:pt x="76328" y="1015"/>
                  </a:lnTo>
                  <a:lnTo>
                    <a:pt x="84456" y="2413"/>
                  </a:lnTo>
                  <a:lnTo>
                    <a:pt x="93091" y="4826"/>
                  </a:lnTo>
                  <a:lnTo>
                    <a:pt x="101219" y="8127"/>
                  </a:lnTo>
                  <a:lnTo>
                    <a:pt x="109475" y="12445"/>
                  </a:lnTo>
                  <a:lnTo>
                    <a:pt x="117603" y="17780"/>
                  </a:lnTo>
                  <a:lnTo>
                    <a:pt x="120524" y="32639"/>
                  </a:lnTo>
                  <a:lnTo>
                    <a:pt x="123825" y="48514"/>
                  </a:lnTo>
                  <a:lnTo>
                    <a:pt x="125731" y="56641"/>
                  </a:lnTo>
                  <a:lnTo>
                    <a:pt x="127255" y="65277"/>
                  </a:lnTo>
                  <a:lnTo>
                    <a:pt x="128143" y="74421"/>
                  </a:lnTo>
                  <a:lnTo>
                    <a:pt x="129159" y="84074"/>
                  </a:lnTo>
                  <a:lnTo>
                    <a:pt x="124841" y="78739"/>
                  </a:lnTo>
                  <a:lnTo>
                    <a:pt x="120905" y="73914"/>
                  </a:lnTo>
                  <a:lnTo>
                    <a:pt x="112268" y="65786"/>
                  </a:lnTo>
                  <a:lnTo>
                    <a:pt x="103633" y="59563"/>
                  </a:lnTo>
                  <a:lnTo>
                    <a:pt x="94997" y="54737"/>
                  </a:lnTo>
                  <a:lnTo>
                    <a:pt x="86360" y="51815"/>
                  </a:lnTo>
                  <a:lnTo>
                    <a:pt x="78233" y="49911"/>
                  </a:lnTo>
                  <a:lnTo>
                    <a:pt x="70105" y="49402"/>
                  </a:lnTo>
                  <a:lnTo>
                    <a:pt x="61850" y="49911"/>
                  </a:lnTo>
                  <a:lnTo>
                    <a:pt x="54230" y="50926"/>
                  </a:lnTo>
                  <a:lnTo>
                    <a:pt x="46990" y="52832"/>
                  </a:lnTo>
                  <a:lnTo>
                    <a:pt x="39878" y="55245"/>
                  </a:lnTo>
                  <a:lnTo>
                    <a:pt x="33528" y="57657"/>
                  </a:lnTo>
                  <a:lnTo>
                    <a:pt x="27306" y="60451"/>
                  </a:lnTo>
                  <a:lnTo>
                    <a:pt x="21590" y="63372"/>
                  </a:lnTo>
                  <a:lnTo>
                    <a:pt x="16765" y="65786"/>
                  </a:lnTo>
                  <a:lnTo>
                    <a:pt x="12447" y="68199"/>
                  </a:lnTo>
                  <a:close/>
                </a:path>
              </a:pathLst>
            </a:custGeom>
            <a:solidFill>
              <a:srgbClr val="2a6e20"/>
            </a:solidFill>
            <a:ln w="0">
              <a:solidFill>
                <a:srgbClr val="2a6e2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ihandform 151"/>
            <p:cNvSpPr/>
            <p:nvPr/>
          </p:nvSpPr>
          <p:spPr>
            <a:xfrm>
              <a:off x="3645000" y="2865600"/>
              <a:ext cx="150840" cy="69840"/>
            </a:xfrm>
            <a:custGeom>
              <a:avLst/>
              <a:gdLst>
                <a:gd name="textAreaLeft" fmla="*/ 0 w 150840"/>
                <a:gd name="textAreaRight" fmla="*/ 151200 w 1508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121539" h="84964">
                  <a:moveTo>
                    <a:pt x="12954" y="63753"/>
                  </a:moveTo>
                  <a:lnTo>
                    <a:pt x="12954" y="58546"/>
                  </a:lnTo>
                  <a:lnTo>
                    <a:pt x="12572" y="53213"/>
                  </a:lnTo>
                  <a:lnTo>
                    <a:pt x="9651" y="42671"/>
                  </a:lnTo>
                  <a:lnTo>
                    <a:pt x="7747" y="37338"/>
                  </a:lnTo>
                  <a:lnTo>
                    <a:pt x="5841" y="32639"/>
                  </a:lnTo>
                  <a:lnTo>
                    <a:pt x="2920" y="28321"/>
                  </a:lnTo>
                  <a:lnTo>
                    <a:pt x="0" y="24003"/>
                  </a:lnTo>
                  <a:lnTo>
                    <a:pt x="5334" y="19684"/>
                  </a:lnTo>
                  <a:lnTo>
                    <a:pt x="11048" y="15747"/>
                  </a:lnTo>
                  <a:lnTo>
                    <a:pt x="16891" y="11938"/>
                  </a:lnTo>
                  <a:lnTo>
                    <a:pt x="22606" y="8635"/>
                  </a:lnTo>
                  <a:lnTo>
                    <a:pt x="28829" y="5715"/>
                  </a:lnTo>
                  <a:lnTo>
                    <a:pt x="35560" y="3809"/>
                  </a:lnTo>
                  <a:lnTo>
                    <a:pt x="42291" y="1904"/>
                  </a:lnTo>
                  <a:lnTo>
                    <a:pt x="49022" y="889"/>
                  </a:lnTo>
                  <a:lnTo>
                    <a:pt x="56260" y="0"/>
                  </a:lnTo>
                  <a:lnTo>
                    <a:pt x="63372" y="380"/>
                  </a:lnTo>
                  <a:lnTo>
                    <a:pt x="71119" y="1396"/>
                  </a:lnTo>
                  <a:lnTo>
                    <a:pt x="78232" y="2794"/>
                  </a:lnTo>
                  <a:lnTo>
                    <a:pt x="85979" y="5207"/>
                  </a:lnTo>
                  <a:lnTo>
                    <a:pt x="94107" y="8635"/>
                  </a:lnTo>
                  <a:lnTo>
                    <a:pt x="101854" y="12953"/>
                  </a:lnTo>
                  <a:lnTo>
                    <a:pt x="109982" y="18160"/>
                  </a:lnTo>
                  <a:lnTo>
                    <a:pt x="112903" y="33528"/>
                  </a:lnTo>
                  <a:lnTo>
                    <a:pt x="116204" y="48895"/>
                  </a:lnTo>
                  <a:lnTo>
                    <a:pt x="118110" y="57022"/>
                  </a:lnTo>
                  <a:lnTo>
                    <a:pt x="119634" y="65659"/>
                  </a:lnTo>
                  <a:lnTo>
                    <a:pt x="120522" y="74803"/>
                  </a:lnTo>
                  <a:lnTo>
                    <a:pt x="121538" y="84963"/>
                  </a:lnTo>
                  <a:lnTo>
                    <a:pt x="113284" y="74295"/>
                  </a:lnTo>
                  <a:lnTo>
                    <a:pt x="104647" y="66166"/>
                  </a:lnTo>
                  <a:lnTo>
                    <a:pt x="96519" y="59944"/>
                  </a:lnTo>
                  <a:lnTo>
                    <a:pt x="88900" y="54609"/>
                  </a:lnTo>
                  <a:lnTo>
                    <a:pt x="80644" y="51308"/>
                  </a:lnTo>
                  <a:lnTo>
                    <a:pt x="73025" y="49403"/>
                  </a:lnTo>
                  <a:lnTo>
                    <a:pt x="65785" y="48005"/>
                  </a:lnTo>
                  <a:lnTo>
                    <a:pt x="58673" y="48005"/>
                  </a:lnTo>
                  <a:lnTo>
                    <a:pt x="51942" y="48895"/>
                  </a:lnTo>
                  <a:lnTo>
                    <a:pt x="45212" y="50291"/>
                  </a:lnTo>
                  <a:lnTo>
                    <a:pt x="38988" y="52323"/>
                  </a:lnTo>
                  <a:lnTo>
                    <a:pt x="32638" y="54228"/>
                  </a:lnTo>
                  <a:lnTo>
                    <a:pt x="22097" y="59435"/>
                  </a:lnTo>
                  <a:lnTo>
                    <a:pt x="17272" y="61848"/>
                  </a:lnTo>
                  <a:lnTo>
                    <a:pt x="12954" y="63753"/>
                  </a:lnTo>
                  <a:close/>
                </a:path>
              </a:pathLst>
            </a:custGeom>
            <a:solidFill>
              <a:srgbClr val="11610d"/>
            </a:solidFill>
            <a:ln w="0">
              <a:solidFill>
                <a:srgbClr val="11610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Freihandform 152"/>
            <p:cNvSpPr/>
            <p:nvPr/>
          </p:nvSpPr>
          <p:spPr>
            <a:xfrm>
              <a:off x="3657960" y="2865600"/>
              <a:ext cx="137880" cy="6984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113666" h="84964">
                  <a:moveTo>
                    <a:pt x="11050" y="11938"/>
                  </a:moveTo>
                  <a:lnTo>
                    <a:pt x="22099" y="6222"/>
                  </a:lnTo>
                  <a:lnTo>
                    <a:pt x="27813" y="4317"/>
                  </a:lnTo>
                  <a:lnTo>
                    <a:pt x="33528" y="2413"/>
                  </a:lnTo>
                  <a:lnTo>
                    <a:pt x="39752" y="889"/>
                  </a:lnTo>
                  <a:lnTo>
                    <a:pt x="45593" y="0"/>
                  </a:lnTo>
                  <a:lnTo>
                    <a:pt x="51816" y="0"/>
                  </a:lnTo>
                  <a:lnTo>
                    <a:pt x="58547" y="380"/>
                  </a:lnTo>
                  <a:lnTo>
                    <a:pt x="65278" y="1396"/>
                  </a:lnTo>
                  <a:lnTo>
                    <a:pt x="72009" y="2794"/>
                  </a:lnTo>
                  <a:lnTo>
                    <a:pt x="79122" y="5715"/>
                  </a:lnTo>
                  <a:lnTo>
                    <a:pt x="86360" y="9016"/>
                  </a:lnTo>
                  <a:lnTo>
                    <a:pt x="93981" y="13334"/>
                  </a:lnTo>
                  <a:lnTo>
                    <a:pt x="101728" y="18669"/>
                  </a:lnTo>
                  <a:lnTo>
                    <a:pt x="105030" y="33528"/>
                  </a:lnTo>
                  <a:lnTo>
                    <a:pt x="108459" y="49403"/>
                  </a:lnTo>
                  <a:lnTo>
                    <a:pt x="109856" y="57530"/>
                  </a:lnTo>
                  <a:lnTo>
                    <a:pt x="111380" y="66166"/>
                  </a:lnTo>
                  <a:lnTo>
                    <a:pt x="112777" y="75310"/>
                  </a:lnTo>
                  <a:lnTo>
                    <a:pt x="113665" y="84963"/>
                  </a:lnTo>
                  <a:lnTo>
                    <a:pt x="109347" y="79628"/>
                  </a:lnTo>
                  <a:lnTo>
                    <a:pt x="105030" y="74803"/>
                  </a:lnTo>
                  <a:lnTo>
                    <a:pt x="97409" y="66166"/>
                  </a:lnTo>
                  <a:lnTo>
                    <a:pt x="89662" y="59435"/>
                  </a:lnTo>
                  <a:lnTo>
                    <a:pt x="82043" y="54228"/>
                  </a:lnTo>
                  <a:lnTo>
                    <a:pt x="74803" y="50291"/>
                  </a:lnTo>
                  <a:lnTo>
                    <a:pt x="68072" y="48005"/>
                  </a:lnTo>
                  <a:lnTo>
                    <a:pt x="61341" y="46482"/>
                  </a:lnTo>
                  <a:lnTo>
                    <a:pt x="55118" y="45973"/>
                  </a:lnTo>
                  <a:lnTo>
                    <a:pt x="48896" y="45973"/>
                  </a:lnTo>
                  <a:lnTo>
                    <a:pt x="43181" y="46990"/>
                  </a:lnTo>
                  <a:lnTo>
                    <a:pt x="37338" y="48895"/>
                  </a:lnTo>
                  <a:lnTo>
                    <a:pt x="32131" y="50800"/>
                  </a:lnTo>
                  <a:lnTo>
                    <a:pt x="22480" y="55117"/>
                  </a:lnTo>
                  <a:lnTo>
                    <a:pt x="13843" y="59054"/>
                  </a:lnTo>
                  <a:lnTo>
                    <a:pt x="13335" y="54228"/>
                  </a:lnTo>
                  <a:lnTo>
                    <a:pt x="12955" y="48386"/>
                  </a:lnTo>
                  <a:lnTo>
                    <a:pt x="10034" y="37338"/>
                  </a:lnTo>
                  <a:lnTo>
                    <a:pt x="8128" y="32130"/>
                  </a:lnTo>
                  <a:lnTo>
                    <a:pt x="5715" y="26796"/>
                  </a:lnTo>
                  <a:lnTo>
                    <a:pt x="3303" y="21971"/>
                  </a:lnTo>
                  <a:lnTo>
                    <a:pt x="0" y="18160"/>
                  </a:lnTo>
                  <a:lnTo>
                    <a:pt x="11050" y="11938"/>
                  </a:lnTo>
                  <a:close/>
                </a:path>
              </a:pathLst>
            </a:custGeom>
            <a:solidFill>
              <a:srgbClr val="005600"/>
            </a:solidFill>
            <a:ln w="0">
              <a:solidFill>
                <a:srgbClr val="005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36" name="Grafik 154" descr="Snake.png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390600" y="2955960"/>
            <a:ext cx="2378160" cy="1574640"/>
          </a:xfrm>
          <a:prstGeom prst="rect">
            <a:avLst/>
          </a:prstGeom>
          <a:ln w="0">
            <a:noFill/>
          </a:ln>
        </p:spPr>
      </p:pic>
      <p:sp>
        <p:nvSpPr>
          <p:cNvPr id="337" name="Textfeld 155"/>
          <p:cNvSpPr/>
          <p:nvPr/>
        </p:nvSpPr>
        <p:spPr>
          <a:xfrm>
            <a:off x="811080" y="758880"/>
            <a:ext cx="1167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700" spc="-1" strike="noStrike">
                <a:solidFill>
                  <a:srgbClr val="000000"/>
                </a:solidFill>
                <a:latin typeface="Verdana"/>
                <a:ea typeface="Arial"/>
              </a:rPr>
              <a:t>Zwischen zwei spitzen Steinen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700" spc="-1" strike="noStrike">
                <a:solidFill>
                  <a:srgbClr val="000000"/>
                </a:solidFill>
                <a:latin typeface="Verdana"/>
                <a:ea typeface="Arial"/>
              </a:rPr>
              <a:t>sitzen zwei zischende Schlangen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Grafik 156" descr="Stone.png"/>
          <p:cNvPicPr/>
          <p:nvPr/>
        </p:nvPicPr>
        <p:blipFill>
          <a:blip r:embed="rId2">
            <a:alphaModFix amt="0"/>
          </a:blip>
          <a:stretch/>
        </p:blipFill>
        <p:spPr>
          <a:xfrm>
            <a:off x="1434960" y="2543040"/>
            <a:ext cx="3478320" cy="2303640"/>
          </a:xfrm>
          <a:prstGeom prst="rect">
            <a:avLst/>
          </a:prstGeom>
          <a:ln w="0">
            <a:noFill/>
          </a:ln>
        </p:spPr>
      </p:pic>
      <p:grpSp>
        <p:nvGrpSpPr>
          <p:cNvPr id="339" name="Gruppieren 159"/>
          <p:cNvGrpSpPr/>
          <p:nvPr/>
        </p:nvGrpSpPr>
        <p:grpSpPr>
          <a:xfrm>
            <a:off x="5981400" y="1695600"/>
            <a:ext cx="4724280" cy="3568680"/>
            <a:chOff x="5981400" y="1695600"/>
            <a:chExt cx="4724280" cy="3568680"/>
          </a:xfrm>
        </p:grpSpPr>
        <p:sp>
          <p:nvSpPr>
            <p:cNvPr id="340" name="Freihandform 157"/>
            <p:cNvSpPr/>
            <p:nvPr/>
          </p:nvSpPr>
          <p:spPr>
            <a:xfrm flipH="1">
              <a:off x="5981040" y="1695600"/>
              <a:ext cx="4724280" cy="3568680"/>
            </a:xfrm>
            <a:custGeom>
              <a:avLst/>
              <a:gdLst>
                <a:gd name="textAreaLeft" fmla="*/ -360 w 4724280"/>
                <a:gd name="textAreaRight" fmla="*/ 4724280 w 4724280"/>
                <a:gd name="textAreaTop" fmla="*/ 0 h 3568680"/>
                <a:gd name="textAreaBottom" fmla="*/ 3569040 h 3568680"/>
              </a:gdLst>
              <a:ahLst/>
              <a:rect l="textAreaLeft" t="textAreaTop" r="textAreaRight" b="textAreaBottom"/>
              <a:pathLst>
                <a:path w="3341117" h="3403729">
                  <a:moveTo>
                    <a:pt x="1986789" y="1525"/>
                  </a:moveTo>
                  <a:lnTo>
                    <a:pt x="2073402" y="5462"/>
                  </a:lnTo>
                  <a:lnTo>
                    <a:pt x="2158239" y="12955"/>
                  </a:lnTo>
                  <a:lnTo>
                    <a:pt x="2238629" y="22987"/>
                  </a:lnTo>
                  <a:lnTo>
                    <a:pt x="2316607" y="35306"/>
                  </a:lnTo>
                  <a:lnTo>
                    <a:pt x="2391665" y="50674"/>
                  </a:lnTo>
                  <a:lnTo>
                    <a:pt x="2463547" y="68453"/>
                  </a:lnTo>
                  <a:lnTo>
                    <a:pt x="2532000" y="88012"/>
                  </a:lnTo>
                  <a:lnTo>
                    <a:pt x="2597531" y="110363"/>
                  </a:lnTo>
                  <a:lnTo>
                    <a:pt x="2660651" y="135383"/>
                  </a:lnTo>
                  <a:lnTo>
                    <a:pt x="2720214" y="161671"/>
                  </a:lnTo>
                  <a:lnTo>
                    <a:pt x="2777744" y="190246"/>
                  </a:lnTo>
                  <a:lnTo>
                    <a:pt x="2831212" y="220600"/>
                  </a:lnTo>
                  <a:lnTo>
                    <a:pt x="2882774" y="252476"/>
                  </a:lnTo>
                  <a:lnTo>
                    <a:pt x="2930779" y="286386"/>
                  </a:lnTo>
                  <a:lnTo>
                    <a:pt x="2976880" y="322200"/>
                  </a:lnTo>
                  <a:lnTo>
                    <a:pt x="3019426" y="358649"/>
                  </a:lnTo>
                  <a:lnTo>
                    <a:pt x="3059430" y="397383"/>
                  </a:lnTo>
                  <a:lnTo>
                    <a:pt x="3096641" y="437262"/>
                  </a:lnTo>
                  <a:lnTo>
                    <a:pt x="3131313" y="477775"/>
                  </a:lnTo>
                  <a:lnTo>
                    <a:pt x="3162936" y="520320"/>
                  </a:lnTo>
                  <a:lnTo>
                    <a:pt x="3192145" y="563119"/>
                  </a:lnTo>
                  <a:lnTo>
                    <a:pt x="3242311" y="652272"/>
                  </a:lnTo>
                  <a:lnTo>
                    <a:pt x="3282315" y="744347"/>
                  </a:lnTo>
                  <a:lnTo>
                    <a:pt x="3312034" y="838455"/>
                  </a:lnTo>
                  <a:lnTo>
                    <a:pt x="3331591" y="934594"/>
                  </a:lnTo>
                  <a:lnTo>
                    <a:pt x="3341116" y="1031368"/>
                  </a:lnTo>
                  <a:lnTo>
                    <a:pt x="3341116" y="1127507"/>
                  </a:lnTo>
                  <a:lnTo>
                    <a:pt x="3331591" y="1223391"/>
                  </a:lnTo>
                  <a:lnTo>
                    <a:pt x="3312795" y="1317626"/>
                  </a:lnTo>
                  <a:lnTo>
                    <a:pt x="3284982" y="1409574"/>
                  </a:lnTo>
                  <a:lnTo>
                    <a:pt x="3248406" y="1498982"/>
                  </a:lnTo>
                  <a:lnTo>
                    <a:pt x="3202940" y="1584199"/>
                  </a:lnTo>
                  <a:lnTo>
                    <a:pt x="3148839" y="1664716"/>
                  </a:lnTo>
                  <a:lnTo>
                    <a:pt x="3086481" y="1739774"/>
                  </a:lnTo>
                  <a:lnTo>
                    <a:pt x="3015362" y="1809370"/>
                  </a:lnTo>
                  <a:lnTo>
                    <a:pt x="2977515" y="1841246"/>
                  </a:lnTo>
                  <a:lnTo>
                    <a:pt x="2936876" y="1871726"/>
                  </a:lnTo>
                  <a:lnTo>
                    <a:pt x="2894965" y="1900175"/>
                  </a:lnTo>
                  <a:lnTo>
                    <a:pt x="2850897" y="1927226"/>
                  </a:lnTo>
                  <a:lnTo>
                    <a:pt x="2804795" y="1951609"/>
                  </a:lnTo>
                  <a:lnTo>
                    <a:pt x="2756790" y="1973962"/>
                  </a:lnTo>
                  <a:lnTo>
                    <a:pt x="2707387" y="1993520"/>
                  </a:lnTo>
                  <a:lnTo>
                    <a:pt x="2655952" y="2011172"/>
                  </a:lnTo>
                  <a:lnTo>
                    <a:pt x="2602357" y="2026794"/>
                  </a:lnTo>
                  <a:lnTo>
                    <a:pt x="2546859" y="2038986"/>
                  </a:lnTo>
                  <a:lnTo>
                    <a:pt x="2489963" y="2049019"/>
                  </a:lnTo>
                  <a:lnTo>
                    <a:pt x="2431669" y="2056512"/>
                  </a:lnTo>
                  <a:lnTo>
                    <a:pt x="2371472" y="2060576"/>
                  </a:lnTo>
                  <a:lnTo>
                    <a:pt x="2309115" y="2062607"/>
                  </a:lnTo>
                  <a:lnTo>
                    <a:pt x="2315211" y="2160016"/>
                  </a:lnTo>
                  <a:lnTo>
                    <a:pt x="2310512" y="2259457"/>
                  </a:lnTo>
                  <a:lnTo>
                    <a:pt x="2296288" y="2360295"/>
                  </a:lnTo>
                  <a:lnTo>
                    <a:pt x="2273174" y="2460371"/>
                  </a:lnTo>
                  <a:lnTo>
                    <a:pt x="2242059" y="2560701"/>
                  </a:lnTo>
                  <a:lnTo>
                    <a:pt x="2202815" y="2659507"/>
                  </a:lnTo>
                  <a:lnTo>
                    <a:pt x="2156715" y="2755393"/>
                  </a:lnTo>
                  <a:lnTo>
                    <a:pt x="2104644" y="2848864"/>
                  </a:lnTo>
                  <a:lnTo>
                    <a:pt x="2046352" y="2938781"/>
                  </a:lnTo>
                  <a:lnTo>
                    <a:pt x="1983994" y="3024759"/>
                  </a:lnTo>
                  <a:lnTo>
                    <a:pt x="1917065" y="3105277"/>
                  </a:lnTo>
                  <a:lnTo>
                    <a:pt x="1846580" y="3179826"/>
                  </a:lnTo>
                  <a:lnTo>
                    <a:pt x="1773555" y="3247390"/>
                  </a:lnTo>
                  <a:lnTo>
                    <a:pt x="1698244" y="3307589"/>
                  </a:lnTo>
                  <a:lnTo>
                    <a:pt x="1621791" y="3360420"/>
                  </a:lnTo>
                  <a:lnTo>
                    <a:pt x="1544574" y="3403728"/>
                  </a:lnTo>
                  <a:lnTo>
                    <a:pt x="1618362" y="3291459"/>
                  </a:lnTo>
                  <a:lnTo>
                    <a:pt x="1684782" y="3185161"/>
                  </a:lnTo>
                  <a:lnTo>
                    <a:pt x="1744345" y="3085720"/>
                  </a:lnTo>
                  <a:lnTo>
                    <a:pt x="1796415" y="2990851"/>
                  </a:lnTo>
                  <a:lnTo>
                    <a:pt x="1842009" y="2901696"/>
                  </a:lnTo>
                  <a:lnTo>
                    <a:pt x="1880490" y="2816352"/>
                  </a:lnTo>
                  <a:lnTo>
                    <a:pt x="1911604" y="2734438"/>
                  </a:lnTo>
                  <a:lnTo>
                    <a:pt x="1936751" y="2656078"/>
                  </a:lnTo>
                  <a:lnTo>
                    <a:pt x="1954277" y="2579625"/>
                  </a:lnTo>
                  <a:lnTo>
                    <a:pt x="1965834" y="2505202"/>
                  </a:lnTo>
                  <a:lnTo>
                    <a:pt x="1970660" y="2432051"/>
                  </a:lnTo>
                  <a:lnTo>
                    <a:pt x="1968501" y="2358899"/>
                  </a:lnTo>
                  <a:lnTo>
                    <a:pt x="1960373" y="2286508"/>
                  </a:lnTo>
                  <a:lnTo>
                    <a:pt x="1945514" y="2213483"/>
                  </a:lnTo>
                  <a:lnTo>
                    <a:pt x="1923797" y="2138300"/>
                  </a:lnTo>
                  <a:lnTo>
                    <a:pt x="1896111" y="2062607"/>
                  </a:lnTo>
                  <a:lnTo>
                    <a:pt x="1777492" y="2060576"/>
                  </a:lnTo>
                  <a:lnTo>
                    <a:pt x="1662430" y="2056512"/>
                  </a:lnTo>
                  <a:lnTo>
                    <a:pt x="1551305" y="2049019"/>
                  </a:lnTo>
                  <a:lnTo>
                    <a:pt x="1443737" y="2038986"/>
                  </a:lnTo>
                  <a:lnTo>
                    <a:pt x="1340867" y="2026794"/>
                  </a:lnTo>
                  <a:lnTo>
                    <a:pt x="1241172" y="2011172"/>
                  </a:lnTo>
                  <a:lnTo>
                    <a:pt x="1145668" y="1993520"/>
                  </a:lnTo>
                  <a:lnTo>
                    <a:pt x="1053593" y="1973962"/>
                  </a:lnTo>
                  <a:lnTo>
                    <a:pt x="966343" y="1951609"/>
                  </a:lnTo>
                  <a:lnTo>
                    <a:pt x="882397" y="1927226"/>
                  </a:lnTo>
                  <a:lnTo>
                    <a:pt x="802387" y="1900175"/>
                  </a:lnTo>
                  <a:lnTo>
                    <a:pt x="725932" y="1871726"/>
                  </a:lnTo>
                  <a:lnTo>
                    <a:pt x="653416" y="1841246"/>
                  </a:lnTo>
                  <a:lnTo>
                    <a:pt x="585089" y="1809370"/>
                  </a:lnTo>
                  <a:lnTo>
                    <a:pt x="520066" y="1775588"/>
                  </a:lnTo>
                  <a:lnTo>
                    <a:pt x="459741" y="1739774"/>
                  </a:lnTo>
                  <a:lnTo>
                    <a:pt x="402210" y="1703197"/>
                  </a:lnTo>
                  <a:lnTo>
                    <a:pt x="349378" y="1664716"/>
                  </a:lnTo>
                  <a:lnTo>
                    <a:pt x="300101" y="1624839"/>
                  </a:lnTo>
                  <a:lnTo>
                    <a:pt x="254000" y="1584199"/>
                  </a:lnTo>
                  <a:lnTo>
                    <a:pt x="211837" y="1541526"/>
                  </a:lnTo>
                  <a:lnTo>
                    <a:pt x="174118" y="1498982"/>
                  </a:lnTo>
                  <a:lnTo>
                    <a:pt x="140209" y="1454913"/>
                  </a:lnTo>
                  <a:lnTo>
                    <a:pt x="109601" y="1409574"/>
                  </a:lnTo>
                  <a:lnTo>
                    <a:pt x="82550" y="1364362"/>
                  </a:lnTo>
                  <a:lnTo>
                    <a:pt x="59563" y="1317626"/>
                  </a:lnTo>
                  <a:lnTo>
                    <a:pt x="40641" y="1270889"/>
                  </a:lnTo>
                  <a:lnTo>
                    <a:pt x="25019" y="1223391"/>
                  </a:lnTo>
                  <a:lnTo>
                    <a:pt x="12828" y="1175386"/>
                  </a:lnTo>
                  <a:lnTo>
                    <a:pt x="4826" y="1127507"/>
                  </a:lnTo>
                  <a:lnTo>
                    <a:pt x="636" y="1079246"/>
                  </a:lnTo>
                  <a:lnTo>
                    <a:pt x="0" y="1031368"/>
                  </a:lnTo>
                  <a:lnTo>
                    <a:pt x="2668" y="982600"/>
                  </a:lnTo>
                  <a:lnTo>
                    <a:pt x="9399" y="934594"/>
                  </a:lnTo>
                  <a:lnTo>
                    <a:pt x="20320" y="886461"/>
                  </a:lnTo>
                  <a:lnTo>
                    <a:pt x="34544" y="838455"/>
                  </a:lnTo>
                  <a:lnTo>
                    <a:pt x="52070" y="791083"/>
                  </a:lnTo>
                  <a:lnTo>
                    <a:pt x="73787" y="744347"/>
                  </a:lnTo>
                  <a:lnTo>
                    <a:pt x="98806" y="697739"/>
                  </a:lnTo>
                  <a:lnTo>
                    <a:pt x="127381" y="652272"/>
                  </a:lnTo>
                  <a:lnTo>
                    <a:pt x="159767" y="607695"/>
                  </a:lnTo>
                  <a:lnTo>
                    <a:pt x="196343" y="563119"/>
                  </a:lnTo>
                  <a:lnTo>
                    <a:pt x="235586" y="520320"/>
                  </a:lnTo>
                  <a:lnTo>
                    <a:pt x="278893" y="477775"/>
                  </a:lnTo>
                  <a:lnTo>
                    <a:pt x="325629" y="437262"/>
                  </a:lnTo>
                  <a:lnTo>
                    <a:pt x="376555" y="397383"/>
                  </a:lnTo>
                  <a:lnTo>
                    <a:pt x="430657" y="358649"/>
                  </a:lnTo>
                  <a:lnTo>
                    <a:pt x="488188" y="322200"/>
                  </a:lnTo>
                  <a:lnTo>
                    <a:pt x="549784" y="286386"/>
                  </a:lnTo>
                  <a:lnTo>
                    <a:pt x="614807" y="252476"/>
                  </a:lnTo>
                  <a:lnTo>
                    <a:pt x="683261" y="220600"/>
                  </a:lnTo>
                  <a:lnTo>
                    <a:pt x="755650" y="190246"/>
                  </a:lnTo>
                  <a:lnTo>
                    <a:pt x="830962" y="161671"/>
                  </a:lnTo>
                  <a:lnTo>
                    <a:pt x="910082" y="135383"/>
                  </a:lnTo>
                  <a:lnTo>
                    <a:pt x="992760" y="110363"/>
                  </a:lnTo>
                  <a:lnTo>
                    <a:pt x="1079374" y="88012"/>
                  </a:lnTo>
                  <a:lnTo>
                    <a:pt x="1169417" y="68453"/>
                  </a:lnTo>
                  <a:lnTo>
                    <a:pt x="1262126" y="50674"/>
                  </a:lnTo>
                  <a:lnTo>
                    <a:pt x="1359155" y="35306"/>
                  </a:lnTo>
                  <a:lnTo>
                    <a:pt x="1459993" y="22987"/>
                  </a:lnTo>
                  <a:lnTo>
                    <a:pt x="1563498" y="12955"/>
                  </a:lnTo>
                  <a:lnTo>
                    <a:pt x="1671193" y="5462"/>
                  </a:lnTo>
                  <a:lnTo>
                    <a:pt x="1781556" y="1525"/>
                  </a:lnTo>
                  <a:lnTo>
                    <a:pt x="1896111" y="0"/>
                  </a:lnTo>
                  <a:lnTo>
                    <a:pt x="1986789" y="1525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Freihandform 158"/>
            <p:cNvSpPr/>
            <p:nvPr/>
          </p:nvSpPr>
          <p:spPr>
            <a:xfrm flipH="1">
              <a:off x="5981040" y="1695600"/>
              <a:ext cx="4724280" cy="3568680"/>
            </a:xfrm>
            <a:custGeom>
              <a:avLst/>
              <a:gdLst>
                <a:gd name="textAreaLeft" fmla="*/ -360 w 4724280"/>
                <a:gd name="textAreaRight" fmla="*/ 4724280 w 4724280"/>
                <a:gd name="textAreaTop" fmla="*/ 0 h 3568680"/>
                <a:gd name="textAreaBottom" fmla="*/ 3569040 h 3568680"/>
              </a:gdLst>
              <a:ahLst/>
              <a:rect l="textAreaLeft" t="textAreaTop" r="textAreaRight" b="textAreaBottom"/>
              <a:pathLst>
                <a:path w="3341488" h="3403501">
                  <a:moveTo>
                    <a:pt x="1895600" y="0"/>
                  </a:moveTo>
                  <a:lnTo>
                    <a:pt x="1780932" y="1790"/>
                  </a:lnTo>
                  <a:lnTo>
                    <a:pt x="1671639" y="5371"/>
                  </a:lnTo>
                  <a:lnTo>
                    <a:pt x="1564139" y="12533"/>
                  </a:lnTo>
                  <a:lnTo>
                    <a:pt x="1460221" y="23275"/>
                  </a:lnTo>
                  <a:lnTo>
                    <a:pt x="1359887" y="35808"/>
                  </a:lnTo>
                  <a:lnTo>
                    <a:pt x="1263136" y="50131"/>
                  </a:lnTo>
                  <a:lnTo>
                    <a:pt x="1169969" y="68034"/>
                  </a:lnTo>
                  <a:lnTo>
                    <a:pt x="1080385" y="87728"/>
                  </a:lnTo>
                  <a:lnTo>
                    <a:pt x="992592" y="111003"/>
                  </a:lnTo>
                  <a:lnTo>
                    <a:pt x="910175" y="136068"/>
                  </a:lnTo>
                  <a:lnTo>
                    <a:pt x="831341" y="161134"/>
                  </a:lnTo>
                  <a:lnTo>
                    <a:pt x="756090" y="189780"/>
                  </a:lnTo>
                  <a:lnTo>
                    <a:pt x="682631" y="220216"/>
                  </a:lnTo>
                  <a:lnTo>
                    <a:pt x="614547" y="252443"/>
                  </a:lnTo>
                  <a:lnTo>
                    <a:pt x="550047" y="286460"/>
                  </a:lnTo>
                  <a:lnTo>
                    <a:pt x="489130" y="322267"/>
                  </a:lnTo>
                  <a:lnTo>
                    <a:pt x="430004" y="358075"/>
                  </a:lnTo>
                  <a:lnTo>
                    <a:pt x="376253" y="397463"/>
                  </a:lnTo>
                  <a:lnTo>
                    <a:pt x="326086" y="436851"/>
                  </a:lnTo>
                  <a:lnTo>
                    <a:pt x="279503" y="478030"/>
                  </a:lnTo>
                  <a:lnTo>
                    <a:pt x="236502" y="520999"/>
                  </a:lnTo>
                  <a:lnTo>
                    <a:pt x="197085" y="563968"/>
                  </a:lnTo>
                  <a:lnTo>
                    <a:pt x="159460" y="606937"/>
                  </a:lnTo>
                  <a:lnTo>
                    <a:pt x="127210" y="651696"/>
                  </a:lnTo>
                  <a:lnTo>
                    <a:pt x="98543" y="698246"/>
                  </a:lnTo>
                  <a:lnTo>
                    <a:pt x="73460" y="744795"/>
                  </a:lnTo>
                  <a:lnTo>
                    <a:pt x="51959" y="791345"/>
                  </a:lnTo>
                  <a:lnTo>
                    <a:pt x="34043" y="837895"/>
                  </a:lnTo>
                  <a:lnTo>
                    <a:pt x="19709" y="886235"/>
                  </a:lnTo>
                  <a:lnTo>
                    <a:pt x="8959" y="934575"/>
                  </a:lnTo>
                  <a:lnTo>
                    <a:pt x="3584" y="982915"/>
                  </a:lnTo>
                  <a:lnTo>
                    <a:pt x="0" y="1031255"/>
                  </a:lnTo>
                  <a:lnTo>
                    <a:pt x="0" y="1079595"/>
                  </a:lnTo>
                  <a:lnTo>
                    <a:pt x="5375" y="1127935"/>
                  </a:lnTo>
                  <a:lnTo>
                    <a:pt x="12542" y="1176276"/>
                  </a:lnTo>
                  <a:lnTo>
                    <a:pt x="25084" y="1222825"/>
                  </a:lnTo>
                  <a:lnTo>
                    <a:pt x="41209" y="1271165"/>
                  </a:lnTo>
                  <a:lnTo>
                    <a:pt x="59126" y="1317715"/>
                  </a:lnTo>
                  <a:lnTo>
                    <a:pt x="82418" y="1364265"/>
                  </a:lnTo>
                  <a:lnTo>
                    <a:pt x="109293" y="1409024"/>
                  </a:lnTo>
                  <a:lnTo>
                    <a:pt x="139752" y="1455574"/>
                  </a:lnTo>
                  <a:lnTo>
                    <a:pt x="173794" y="1498543"/>
                  </a:lnTo>
                  <a:lnTo>
                    <a:pt x="211419" y="1541512"/>
                  </a:lnTo>
                  <a:lnTo>
                    <a:pt x="254419" y="1584481"/>
                  </a:lnTo>
                  <a:lnTo>
                    <a:pt x="301003" y="1625659"/>
                  </a:lnTo>
                  <a:lnTo>
                    <a:pt x="349378" y="1665048"/>
                  </a:lnTo>
                  <a:lnTo>
                    <a:pt x="403129" y="1702645"/>
                  </a:lnTo>
                  <a:lnTo>
                    <a:pt x="460463" y="1740243"/>
                  </a:lnTo>
                  <a:lnTo>
                    <a:pt x="519588" y="1776051"/>
                  </a:lnTo>
                  <a:lnTo>
                    <a:pt x="585881" y="1810068"/>
                  </a:lnTo>
                  <a:lnTo>
                    <a:pt x="653964" y="1840504"/>
                  </a:lnTo>
                  <a:lnTo>
                    <a:pt x="725632" y="1870941"/>
                  </a:lnTo>
                  <a:lnTo>
                    <a:pt x="802674" y="1899586"/>
                  </a:lnTo>
                  <a:lnTo>
                    <a:pt x="883300" y="1926442"/>
                  </a:lnTo>
                  <a:lnTo>
                    <a:pt x="965717" y="1951507"/>
                  </a:lnTo>
                  <a:lnTo>
                    <a:pt x="1053509" y="1974782"/>
                  </a:lnTo>
                  <a:lnTo>
                    <a:pt x="1146677" y="1992686"/>
                  </a:lnTo>
                  <a:lnTo>
                    <a:pt x="1241636" y="2010590"/>
                  </a:lnTo>
                  <a:lnTo>
                    <a:pt x="1340178" y="2026703"/>
                  </a:lnTo>
                  <a:lnTo>
                    <a:pt x="1444096" y="2039236"/>
                  </a:lnTo>
                  <a:lnTo>
                    <a:pt x="1551597" y="2048187"/>
                  </a:lnTo>
                  <a:lnTo>
                    <a:pt x="1662682" y="2057139"/>
                  </a:lnTo>
                  <a:lnTo>
                    <a:pt x="1777349" y="2060720"/>
                  </a:lnTo>
                  <a:lnTo>
                    <a:pt x="1895600" y="2062510"/>
                  </a:lnTo>
                  <a:lnTo>
                    <a:pt x="1924266" y="2137706"/>
                  </a:lnTo>
                  <a:lnTo>
                    <a:pt x="1945767" y="2212902"/>
                  </a:lnTo>
                  <a:lnTo>
                    <a:pt x="1960101" y="2286307"/>
                  </a:lnTo>
                  <a:lnTo>
                    <a:pt x="1969059" y="2359713"/>
                  </a:lnTo>
                  <a:lnTo>
                    <a:pt x="1970850" y="2431327"/>
                  </a:lnTo>
                  <a:lnTo>
                    <a:pt x="1965475" y="2504733"/>
                  </a:lnTo>
                  <a:lnTo>
                    <a:pt x="1954725" y="2579929"/>
                  </a:lnTo>
                  <a:lnTo>
                    <a:pt x="1936808" y="2656914"/>
                  </a:lnTo>
                  <a:lnTo>
                    <a:pt x="1911725" y="2733901"/>
                  </a:lnTo>
                  <a:lnTo>
                    <a:pt x="1881267" y="2816258"/>
                  </a:lnTo>
                  <a:lnTo>
                    <a:pt x="1841849" y="2902196"/>
                  </a:lnTo>
                  <a:lnTo>
                    <a:pt x="1797057" y="2991715"/>
                  </a:lnTo>
                  <a:lnTo>
                    <a:pt x="1745098" y="3086604"/>
                  </a:lnTo>
                  <a:lnTo>
                    <a:pt x="1684181" y="3185075"/>
                  </a:lnTo>
                  <a:lnTo>
                    <a:pt x="1617889" y="3290707"/>
                  </a:lnTo>
                  <a:lnTo>
                    <a:pt x="1544430" y="3403500"/>
                  </a:lnTo>
                  <a:lnTo>
                    <a:pt x="1621472" y="3360531"/>
                  </a:lnTo>
                  <a:lnTo>
                    <a:pt x="1698515" y="3306820"/>
                  </a:lnTo>
                  <a:lnTo>
                    <a:pt x="1773765" y="3247738"/>
                  </a:lnTo>
                  <a:lnTo>
                    <a:pt x="1847225" y="3179704"/>
                  </a:lnTo>
                  <a:lnTo>
                    <a:pt x="1917100" y="3104508"/>
                  </a:lnTo>
                  <a:lnTo>
                    <a:pt x="1983392" y="3023941"/>
                  </a:lnTo>
                  <a:lnTo>
                    <a:pt x="2046101" y="2938003"/>
                  </a:lnTo>
                  <a:lnTo>
                    <a:pt x="2105227" y="2848485"/>
                  </a:lnTo>
                  <a:lnTo>
                    <a:pt x="2157185" y="2755385"/>
                  </a:lnTo>
                  <a:lnTo>
                    <a:pt x="2203769" y="2658705"/>
                  </a:lnTo>
                  <a:lnTo>
                    <a:pt x="2241394" y="2560234"/>
                  </a:lnTo>
                  <a:lnTo>
                    <a:pt x="2273644" y="2459974"/>
                  </a:lnTo>
                  <a:lnTo>
                    <a:pt x="2296937" y="2359713"/>
                  </a:lnTo>
                  <a:lnTo>
                    <a:pt x="2311270" y="2259452"/>
                  </a:lnTo>
                  <a:lnTo>
                    <a:pt x="2314853" y="2159190"/>
                  </a:lnTo>
                  <a:lnTo>
                    <a:pt x="2309478" y="2062510"/>
                  </a:lnTo>
                  <a:lnTo>
                    <a:pt x="2372187" y="2060720"/>
                  </a:lnTo>
                  <a:lnTo>
                    <a:pt x="2431312" y="2057139"/>
                  </a:lnTo>
                  <a:lnTo>
                    <a:pt x="2490438" y="2048187"/>
                  </a:lnTo>
                  <a:lnTo>
                    <a:pt x="2545980" y="2039236"/>
                  </a:lnTo>
                  <a:lnTo>
                    <a:pt x="2603314" y="2026703"/>
                  </a:lnTo>
                  <a:lnTo>
                    <a:pt x="2655273" y="2010590"/>
                  </a:lnTo>
                  <a:lnTo>
                    <a:pt x="2707232" y="1992686"/>
                  </a:lnTo>
                  <a:lnTo>
                    <a:pt x="2757398" y="1974782"/>
                  </a:lnTo>
                  <a:lnTo>
                    <a:pt x="2803982" y="1951507"/>
                  </a:lnTo>
                  <a:lnTo>
                    <a:pt x="2850566" y="1926442"/>
                  </a:lnTo>
                  <a:lnTo>
                    <a:pt x="2895358" y="1899586"/>
                  </a:lnTo>
                  <a:lnTo>
                    <a:pt x="2936567" y="1870941"/>
                  </a:lnTo>
                  <a:lnTo>
                    <a:pt x="2977775" y="1840504"/>
                  </a:lnTo>
                  <a:lnTo>
                    <a:pt x="3015401" y="1810068"/>
                  </a:lnTo>
                  <a:lnTo>
                    <a:pt x="3087068" y="1740243"/>
                  </a:lnTo>
                  <a:lnTo>
                    <a:pt x="3149777" y="1665048"/>
                  </a:lnTo>
                  <a:lnTo>
                    <a:pt x="3203527" y="1584481"/>
                  </a:lnTo>
                  <a:lnTo>
                    <a:pt x="3248320" y="1498543"/>
                  </a:lnTo>
                  <a:lnTo>
                    <a:pt x="3284153" y="1409024"/>
                  </a:lnTo>
                  <a:lnTo>
                    <a:pt x="3312820" y="1317715"/>
                  </a:lnTo>
                  <a:lnTo>
                    <a:pt x="3330736" y="1222825"/>
                  </a:lnTo>
                  <a:lnTo>
                    <a:pt x="3341487" y="1127935"/>
                  </a:lnTo>
                  <a:lnTo>
                    <a:pt x="3341487" y="1031255"/>
                  </a:lnTo>
                  <a:lnTo>
                    <a:pt x="3330736" y="934575"/>
                  </a:lnTo>
                  <a:lnTo>
                    <a:pt x="3312820" y="837895"/>
                  </a:lnTo>
                  <a:lnTo>
                    <a:pt x="3282361" y="744795"/>
                  </a:lnTo>
                  <a:lnTo>
                    <a:pt x="3242945" y="651696"/>
                  </a:lnTo>
                  <a:lnTo>
                    <a:pt x="3192777" y="563968"/>
                  </a:lnTo>
                  <a:lnTo>
                    <a:pt x="3162319" y="520999"/>
                  </a:lnTo>
                  <a:lnTo>
                    <a:pt x="3131860" y="478030"/>
                  </a:lnTo>
                  <a:lnTo>
                    <a:pt x="3096027" y="436851"/>
                  </a:lnTo>
                  <a:lnTo>
                    <a:pt x="3060193" y="397463"/>
                  </a:lnTo>
                  <a:lnTo>
                    <a:pt x="3018984" y="358075"/>
                  </a:lnTo>
                  <a:lnTo>
                    <a:pt x="2975984" y="322267"/>
                  </a:lnTo>
                  <a:lnTo>
                    <a:pt x="2931192" y="286460"/>
                  </a:lnTo>
                  <a:lnTo>
                    <a:pt x="2882816" y="252443"/>
                  </a:lnTo>
                  <a:lnTo>
                    <a:pt x="2830858" y="220216"/>
                  </a:lnTo>
                  <a:lnTo>
                    <a:pt x="2777107" y="189780"/>
                  </a:lnTo>
                  <a:lnTo>
                    <a:pt x="2719774" y="161134"/>
                  </a:lnTo>
                  <a:lnTo>
                    <a:pt x="2660648" y="136068"/>
                  </a:lnTo>
                  <a:lnTo>
                    <a:pt x="2597939" y="111003"/>
                  </a:lnTo>
                  <a:lnTo>
                    <a:pt x="2531647" y="87728"/>
                  </a:lnTo>
                  <a:lnTo>
                    <a:pt x="2463563" y="68034"/>
                  </a:lnTo>
                  <a:lnTo>
                    <a:pt x="2391896" y="50131"/>
                  </a:lnTo>
                  <a:lnTo>
                    <a:pt x="2316645" y="35808"/>
                  </a:lnTo>
                  <a:lnTo>
                    <a:pt x="2239603" y="23275"/>
                  </a:lnTo>
                  <a:lnTo>
                    <a:pt x="2158977" y="12533"/>
                  </a:lnTo>
                  <a:lnTo>
                    <a:pt x="2072976" y="5371"/>
                  </a:lnTo>
                  <a:lnTo>
                    <a:pt x="1986976" y="1790"/>
                  </a:lnTo>
                  <a:lnTo>
                    <a:pt x="1895600" y="0"/>
                  </a:lnTo>
                  <a:close/>
                </a:path>
              </a:pathLst>
            </a:custGeom>
            <a:noFill/>
            <a:ln w="35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2" name="Textfeld 161"/>
          <p:cNvSpPr/>
          <p:nvPr/>
        </p:nvSpPr>
        <p:spPr>
          <a:xfrm>
            <a:off x="6529320" y="2193840"/>
            <a:ext cx="4033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Verdana"/>
                <a:ea typeface="Arial"/>
              </a:rPr>
              <a:t>Ein Zungenbrecher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Verdana"/>
                <a:ea typeface="Arial"/>
              </a:rPr>
              <a:t>Wie schnell bist du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Verdana"/>
                <a:ea typeface="Arial"/>
              </a:rPr>
              <a:t>Wer ist der schnellste in eurer Klasse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Grafik 162" descr="MSOfficePNG(1).png"/>
          <p:cNvPicPr/>
          <p:nvPr/>
        </p:nvPicPr>
        <p:blipFill>
          <a:blip r:embed="rId3">
            <a:alphaModFix amt="0"/>
          </a:blip>
          <a:stretch/>
        </p:blipFill>
        <p:spPr>
          <a:xfrm>
            <a:off x="8763120" y="4506840"/>
            <a:ext cx="202248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2000" fill="hold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2000" fill="hold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2000" fill="hold"/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2000" fill="hold"/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3a2c7"/>
            </a:gs>
            <a:gs pos="100000">
              <a:srgbClr val="ffff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4" name="Gruppieren 127"/>
          <p:cNvGrpSpPr/>
          <p:nvPr/>
        </p:nvGrpSpPr>
        <p:grpSpPr>
          <a:xfrm>
            <a:off x="338040" y="4952880"/>
            <a:ext cx="1306440" cy="987480"/>
            <a:chOff x="338040" y="4952880"/>
            <a:chExt cx="1306440" cy="987480"/>
          </a:xfrm>
        </p:grpSpPr>
        <p:sp>
          <p:nvSpPr>
            <p:cNvPr id="345" name="Freihandform 1"/>
            <p:cNvSpPr/>
            <p:nvPr/>
          </p:nvSpPr>
          <p:spPr>
            <a:xfrm>
              <a:off x="353880" y="5151240"/>
              <a:ext cx="123840" cy="452520"/>
            </a:xfrm>
            <a:custGeom>
              <a:avLst/>
              <a:gdLst>
                <a:gd name="textAreaLeft" fmla="*/ 0 w 123840"/>
                <a:gd name="textAreaRight" fmla="*/ 124200 w 123840"/>
                <a:gd name="textAreaTop" fmla="*/ 0 h 452520"/>
                <a:gd name="textAreaBottom" fmla="*/ 452880 h 452520"/>
              </a:gdLst>
              <a:ahLst/>
              <a:rect l="textAreaLeft" t="textAreaTop" r="textAreaRight" b="textAreaBottom"/>
              <a:pathLst>
                <a:path w="100967" h="554609">
                  <a:moveTo>
                    <a:pt x="100966" y="554608"/>
                  </a:moveTo>
                  <a:lnTo>
                    <a:pt x="98807" y="544702"/>
                  </a:lnTo>
                  <a:lnTo>
                    <a:pt x="91313" y="509396"/>
                  </a:lnTo>
                  <a:lnTo>
                    <a:pt x="83693" y="473201"/>
                  </a:lnTo>
                  <a:lnTo>
                    <a:pt x="68454" y="399288"/>
                  </a:lnTo>
                  <a:lnTo>
                    <a:pt x="53341" y="324739"/>
                  </a:lnTo>
                  <a:lnTo>
                    <a:pt x="39116" y="251078"/>
                  </a:lnTo>
                  <a:lnTo>
                    <a:pt x="32513" y="215391"/>
                  </a:lnTo>
                  <a:lnTo>
                    <a:pt x="26163" y="180213"/>
                  </a:lnTo>
                  <a:lnTo>
                    <a:pt x="20193" y="146303"/>
                  </a:lnTo>
                  <a:lnTo>
                    <a:pt x="14986" y="113791"/>
                  </a:lnTo>
                  <a:lnTo>
                    <a:pt x="10161" y="82550"/>
                  </a:lnTo>
                  <a:lnTo>
                    <a:pt x="5970" y="53086"/>
                  </a:lnTo>
                  <a:lnTo>
                    <a:pt x="2668" y="25526"/>
                  </a:lnTo>
                  <a:lnTo>
                    <a:pt x="0" y="0"/>
                  </a:lnTo>
                  <a:lnTo>
                    <a:pt x="6604" y="6476"/>
                  </a:lnTo>
                  <a:lnTo>
                    <a:pt x="15241" y="12445"/>
                  </a:lnTo>
                  <a:lnTo>
                    <a:pt x="25273" y="18414"/>
                  </a:lnTo>
                  <a:lnTo>
                    <a:pt x="36957" y="23749"/>
                  </a:lnTo>
                  <a:lnTo>
                    <a:pt x="49784" y="29082"/>
                  </a:lnTo>
                  <a:lnTo>
                    <a:pt x="64136" y="34036"/>
                  </a:lnTo>
                  <a:lnTo>
                    <a:pt x="79502" y="38862"/>
                  </a:lnTo>
                  <a:lnTo>
                    <a:pt x="96013" y="43180"/>
                  </a:lnTo>
                  <a:lnTo>
                    <a:pt x="97409" y="43561"/>
                  </a:lnTo>
                  <a:lnTo>
                    <a:pt x="100966" y="55460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Freihandform 2"/>
            <p:cNvSpPr/>
            <p:nvPr/>
          </p:nvSpPr>
          <p:spPr>
            <a:xfrm>
              <a:off x="353880" y="5151240"/>
              <a:ext cx="123840" cy="452520"/>
            </a:xfrm>
            <a:custGeom>
              <a:avLst/>
              <a:gdLst>
                <a:gd name="textAreaLeft" fmla="*/ 0 w 123840"/>
                <a:gd name="textAreaRight" fmla="*/ 124200 w 123840"/>
                <a:gd name="textAreaTop" fmla="*/ 0 h 452520"/>
                <a:gd name="textAreaBottom" fmla="*/ 452880 h 452520"/>
              </a:gdLst>
              <a:ahLst/>
              <a:rect l="textAreaLeft" t="textAreaTop" r="textAreaRight" b="textAreaBottom"/>
              <a:pathLst>
                <a:path w="100967" h="554609">
                  <a:moveTo>
                    <a:pt x="100966" y="554608"/>
                  </a:moveTo>
                  <a:lnTo>
                    <a:pt x="98807" y="544702"/>
                  </a:lnTo>
                  <a:lnTo>
                    <a:pt x="91313" y="509396"/>
                  </a:lnTo>
                  <a:lnTo>
                    <a:pt x="83693" y="473201"/>
                  </a:lnTo>
                  <a:lnTo>
                    <a:pt x="68454" y="399288"/>
                  </a:lnTo>
                  <a:lnTo>
                    <a:pt x="53341" y="324739"/>
                  </a:lnTo>
                  <a:lnTo>
                    <a:pt x="39116" y="251078"/>
                  </a:lnTo>
                  <a:lnTo>
                    <a:pt x="32513" y="215391"/>
                  </a:lnTo>
                  <a:lnTo>
                    <a:pt x="26163" y="180213"/>
                  </a:lnTo>
                  <a:lnTo>
                    <a:pt x="20193" y="146303"/>
                  </a:lnTo>
                  <a:lnTo>
                    <a:pt x="14986" y="113791"/>
                  </a:lnTo>
                  <a:lnTo>
                    <a:pt x="10161" y="82550"/>
                  </a:lnTo>
                  <a:lnTo>
                    <a:pt x="5970" y="53086"/>
                  </a:lnTo>
                  <a:lnTo>
                    <a:pt x="2668" y="25526"/>
                  </a:lnTo>
                  <a:lnTo>
                    <a:pt x="0" y="0"/>
                  </a:lnTo>
                  <a:lnTo>
                    <a:pt x="6604" y="6476"/>
                  </a:lnTo>
                  <a:lnTo>
                    <a:pt x="15241" y="12445"/>
                  </a:lnTo>
                  <a:lnTo>
                    <a:pt x="25273" y="18414"/>
                  </a:lnTo>
                  <a:lnTo>
                    <a:pt x="36957" y="23749"/>
                  </a:lnTo>
                  <a:lnTo>
                    <a:pt x="49784" y="29082"/>
                  </a:lnTo>
                  <a:lnTo>
                    <a:pt x="64136" y="34036"/>
                  </a:lnTo>
                  <a:lnTo>
                    <a:pt x="79502" y="38862"/>
                  </a:lnTo>
                  <a:lnTo>
                    <a:pt x="96013" y="43180"/>
                  </a:lnTo>
                  <a:lnTo>
                    <a:pt x="97282" y="43561"/>
                  </a:lnTo>
                  <a:lnTo>
                    <a:pt x="100966" y="55460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Freihandform 3"/>
            <p:cNvSpPr/>
            <p:nvPr/>
          </p:nvSpPr>
          <p:spPr>
            <a:xfrm>
              <a:off x="474480" y="5186160"/>
              <a:ext cx="28440" cy="49536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495360"/>
                <a:gd name="textAreaBottom" fmla="*/ 495720 h 495360"/>
              </a:gdLst>
              <a:ahLst/>
              <a:rect l="textAreaLeft" t="textAreaTop" r="textAreaRight" b="textAreaBottom"/>
              <a:pathLst>
                <a:path w="23877" h="607187">
                  <a:moveTo>
                    <a:pt x="23876" y="607186"/>
                  </a:moveTo>
                  <a:lnTo>
                    <a:pt x="22733" y="602107"/>
                  </a:lnTo>
                  <a:lnTo>
                    <a:pt x="15113" y="565658"/>
                  </a:lnTo>
                  <a:lnTo>
                    <a:pt x="6986" y="527430"/>
                  </a:lnTo>
                  <a:lnTo>
                    <a:pt x="3429" y="511047"/>
                  </a:lnTo>
                  <a:lnTo>
                    <a:pt x="0" y="0"/>
                  </a:lnTo>
                  <a:lnTo>
                    <a:pt x="15875" y="3809"/>
                  </a:lnTo>
                  <a:lnTo>
                    <a:pt x="19686" y="4698"/>
                  </a:lnTo>
                  <a:lnTo>
                    <a:pt x="23876" y="607186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Freihandform 4"/>
            <p:cNvSpPr/>
            <p:nvPr/>
          </p:nvSpPr>
          <p:spPr>
            <a:xfrm>
              <a:off x="498240" y="5190840"/>
              <a:ext cx="29880" cy="57168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571680"/>
                <a:gd name="textAreaBottom" fmla="*/ 571680 h 571680"/>
              </a:gdLst>
              <a:ahLst/>
              <a:rect l="textAreaLeft" t="textAreaTop" r="textAreaRight" b="textAreaBottom"/>
              <a:pathLst>
                <a:path w="24512" h="701676">
                  <a:moveTo>
                    <a:pt x="24511" y="701675"/>
                  </a:moveTo>
                  <a:lnTo>
                    <a:pt x="24383" y="701421"/>
                  </a:lnTo>
                  <a:lnTo>
                    <a:pt x="20701" y="683007"/>
                  </a:lnTo>
                  <a:lnTo>
                    <a:pt x="16764" y="663322"/>
                  </a:lnTo>
                  <a:lnTo>
                    <a:pt x="12445" y="642367"/>
                  </a:lnTo>
                  <a:lnTo>
                    <a:pt x="7873" y="620396"/>
                  </a:lnTo>
                  <a:lnTo>
                    <a:pt x="4190" y="602488"/>
                  </a:lnTo>
                  <a:lnTo>
                    <a:pt x="0" y="0"/>
                  </a:lnTo>
                  <a:lnTo>
                    <a:pt x="14605" y="3303"/>
                  </a:lnTo>
                  <a:lnTo>
                    <a:pt x="19684" y="4192"/>
                  </a:lnTo>
                  <a:lnTo>
                    <a:pt x="24511" y="701675"/>
                  </a:lnTo>
                  <a:close/>
                </a:path>
              </a:pathLst>
            </a:custGeom>
            <a:solidFill>
              <a:srgbClr val="fcfcfc"/>
            </a:solidFill>
            <a:ln w="0">
              <a:solidFill>
                <a:srgbClr val="fcfcf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Freihandform 5"/>
            <p:cNvSpPr/>
            <p:nvPr/>
          </p:nvSpPr>
          <p:spPr>
            <a:xfrm>
              <a:off x="523800" y="5194080"/>
              <a:ext cx="29880" cy="68436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684360"/>
                <a:gd name="textAreaBottom" fmla="*/ 684720 h 684360"/>
              </a:gdLst>
              <a:ahLst/>
              <a:rect l="textAreaLeft" t="textAreaTop" r="textAreaRight" b="textAreaBottom"/>
              <a:pathLst>
                <a:path w="25401" h="838837">
                  <a:moveTo>
                    <a:pt x="25400" y="838836"/>
                  </a:moveTo>
                  <a:lnTo>
                    <a:pt x="23368" y="836803"/>
                  </a:lnTo>
                  <a:lnTo>
                    <a:pt x="18414" y="830327"/>
                  </a:lnTo>
                  <a:lnTo>
                    <a:pt x="14732" y="823850"/>
                  </a:lnTo>
                  <a:lnTo>
                    <a:pt x="12572" y="817118"/>
                  </a:lnTo>
                  <a:lnTo>
                    <a:pt x="11810" y="810515"/>
                  </a:lnTo>
                  <a:lnTo>
                    <a:pt x="10795" y="729615"/>
                  </a:lnTo>
                  <a:lnTo>
                    <a:pt x="8763" y="718186"/>
                  </a:lnTo>
                  <a:lnTo>
                    <a:pt x="6350" y="705866"/>
                  </a:lnTo>
                  <a:lnTo>
                    <a:pt x="4699" y="697485"/>
                  </a:lnTo>
                  <a:lnTo>
                    <a:pt x="0" y="0"/>
                  </a:lnTo>
                  <a:lnTo>
                    <a:pt x="13843" y="2794"/>
                  </a:lnTo>
                  <a:lnTo>
                    <a:pt x="19557" y="3811"/>
                  </a:lnTo>
                  <a:lnTo>
                    <a:pt x="25400" y="838836"/>
                  </a:lnTo>
                  <a:close/>
                </a:path>
              </a:pathLst>
            </a:custGeom>
            <a:solidFill>
              <a:srgbClr val="f9f9f9"/>
            </a:solidFill>
            <a:ln w="0">
              <a:solidFill>
                <a:srgbClr val="f9f9f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Freihandform 6"/>
            <p:cNvSpPr/>
            <p:nvPr/>
          </p:nvSpPr>
          <p:spPr>
            <a:xfrm>
              <a:off x="545760" y="5197320"/>
              <a:ext cx="31680" cy="69228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692280"/>
                <a:gd name="textAreaBottom" fmla="*/ 692280 h 692280"/>
              </a:gdLst>
              <a:ahLst/>
              <a:rect l="textAreaLeft" t="textAreaTop" r="textAreaRight" b="textAreaBottom"/>
              <a:pathLst>
                <a:path w="25529" h="850392">
                  <a:moveTo>
                    <a:pt x="25528" y="850391"/>
                  </a:moveTo>
                  <a:lnTo>
                    <a:pt x="21210" y="847598"/>
                  </a:lnTo>
                  <a:lnTo>
                    <a:pt x="14478" y="842771"/>
                  </a:lnTo>
                  <a:lnTo>
                    <a:pt x="8764" y="837945"/>
                  </a:lnTo>
                  <a:lnTo>
                    <a:pt x="5715" y="835025"/>
                  </a:lnTo>
                  <a:lnTo>
                    <a:pt x="0" y="0"/>
                  </a:lnTo>
                  <a:lnTo>
                    <a:pt x="13717" y="2413"/>
                  </a:lnTo>
                  <a:lnTo>
                    <a:pt x="19558" y="3428"/>
                  </a:lnTo>
                  <a:lnTo>
                    <a:pt x="25528" y="850391"/>
                  </a:lnTo>
                  <a:close/>
                </a:path>
              </a:pathLst>
            </a:custGeom>
            <a:solidFill>
              <a:srgbClr val="f6f6f6"/>
            </a:solidFill>
            <a:ln w="0">
              <a:solidFill>
                <a:srgbClr val="f6f6f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Freihandform 7"/>
            <p:cNvSpPr/>
            <p:nvPr/>
          </p:nvSpPr>
          <p:spPr>
            <a:xfrm>
              <a:off x="569520" y="5198760"/>
              <a:ext cx="33120" cy="7002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700200"/>
                <a:gd name="textAreaBottom" fmla="*/ 700560 h 700200"/>
              </a:gdLst>
              <a:ahLst/>
              <a:rect l="textAreaLeft" t="textAreaTop" r="textAreaRight" b="textAreaBottom"/>
              <a:pathLst>
                <a:path w="25528" h="857505">
                  <a:moveTo>
                    <a:pt x="25527" y="857504"/>
                  </a:moveTo>
                  <a:lnTo>
                    <a:pt x="17017" y="853313"/>
                  </a:lnTo>
                  <a:lnTo>
                    <a:pt x="9017" y="848741"/>
                  </a:lnTo>
                  <a:lnTo>
                    <a:pt x="5968" y="846837"/>
                  </a:lnTo>
                  <a:lnTo>
                    <a:pt x="0" y="0"/>
                  </a:lnTo>
                  <a:lnTo>
                    <a:pt x="14096" y="2286"/>
                  </a:lnTo>
                  <a:lnTo>
                    <a:pt x="19685" y="3048"/>
                  </a:lnTo>
                  <a:lnTo>
                    <a:pt x="25527" y="857504"/>
                  </a:lnTo>
                  <a:close/>
                </a:path>
              </a:pathLst>
            </a:custGeom>
            <a:solidFill>
              <a:srgbClr val="f3f3f3"/>
            </a:solidFill>
            <a:ln w="0">
              <a:solidFill>
                <a:srgbClr val="f3f3f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Freihandform 8"/>
            <p:cNvSpPr/>
            <p:nvPr/>
          </p:nvSpPr>
          <p:spPr>
            <a:xfrm>
              <a:off x="595080" y="5202000"/>
              <a:ext cx="31680" cy="70344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25781" h="862839">
                  <a:moveTo>
                    <a:pt x="25780" y="862838"/>
                  </a:moveTo>
                  <a:lnTo>
                    <a:pt x="16129" y="858901"/>
                  </a:lnTo>
                  <a:lnTo>
                    <a:pt x="6604" y="854711"/>
                  </a:lnTo>
                  <a:lnTo>
                    <a:pt x="6096" y="854329"/>
                  </a:lnTo>
                  <a:lnTo>
                    <a:pt x="0" y="0"/>
                  </a:lnTo>
                  <a:lnTo>
                    <a:pt x="15112" y="2286"/>
                  </a:lnTo>
                  <a:lnTo>
                    <a:pt x="19811" y="2922"/>
                  </a:lnTo>
                  <a:lnTo>
                    <a:pt x="25780" y="862838"/>
                  </a:lnTo>
                  <a:close/>
                </a:path>
              </a:pathLst>
            </a:custGeom>
            <a:solidFill>
              <a:srgbClr val="f0f0f0"/>
            </a:solidFill>
            <a:ln w="0">
              <a:solidFill>
                <a:srgbClr val="f0f0f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ihandform 9"/>
            <p:cNvSpPr/>
            <p:nvPr/>
          </p:nvSpPr>
          <p:spPr>
            <a:xfrm>
              <a:off x="618840" y="5205240"/>
              <a:ext cx="31680" cy="70668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706680"/>
                <a:gd name="textAreaBottom" fmla="*/ 706680 h 706680"/>
              </a:gdLst>
              <a:ahLst/>
              <a:rect l="textAreaLeft" t="textAreaTop" r="textAreaRight" b="textAreaBottom"/>
              <a:pathLst>
                <a:path w="25783" h="866776">
                  <a:moveTo>
                    <a:pt x="25782" y="866775"/>
                  </a:moveTo>
                  <a:lnTo>
                    <a:pt x="17654" y="864107"/>
                  </a:lnTo>
                  <a:lnTo>
                    <a:pt x="6604" y="860043"/>
                  </a:lnTo>
                  <a:lnTo>
                    <a:pt x="5969" y="859916"/>
                  </a:lnTo>
                  <a:lnTo>
                    <a:pt x="0" y="0"/>
                  </a:lnTo>
                  <a:lnTo>
                    <a:pt x="19686" y="2667"/>
                  </a:lnTo>
                  <a:lnTo>
                    <a:pt x="25782" y="866775"/>
                  </a:lnTo>
                  <a:close/>
                </a:path>
              </a:pathLst>
            </a:custGeom>
            <a:solidFill>
              <a:srgbClr val="ededed"/>
            </a:solidFill>
            <a:ln w="0">
              <a:solidFill>
                <a:srgbClr val="edede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Freihandform 10"/>
            <p:cNvSpPr/>
            <p:nvPr/>
          </p:nvSpPr>
          <p:spPr>
            <a:xfrm>
              <a:off x="642600" y="5206680"/>
              <a:ext cx="33120" cy="7095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709560"/>
                <a:gd name="textAreaBottom" fmla="*/ 709920 h 709560"/>
              </a:gdLst>
              <a:ahLst/>
              <a:rect l="textAreaLeft" t="textAreaTop" r="textAreaRight" b="textAreaBottom"/>
              <a:pathLst>
                <a:path w="25783" h="869950">
                  <a:moveTo>
                    <a:pt x="25782" y="869949"/>
                  </a:moveTo>
                  <a:lnTo>
                    <a:pt x="21845" y="868934"/>
                  </a:lnTo>
                  <a:lnTo>
                    <a:pt x="9525" y="865250"/>
                  </a:lnTo>
                  <a:lnTo>
                    <a:pt x="6096" y="864108"/>
                  </a:lnTo>
                  <a:lnTo>
                    <a:pt x="0" y="0"/>
                  </a:lnTo>
                  <a:lnTo>
                    <a:pt x="17272" y="2285"/>
                  </a:lnTo>
                  <a:lnTo>
                    <a:pt x="19685" y="2540"/>
                  </a:lnTo>
                  <a:lnTo>
                    <a:pt x="25782" y="869949"/>
                  </a:lnTo>
                  <a:close/>
                </a:path>
              </a:pathLst>
            </a:custGeom>
            <a:solidFill>
              <a:srgbClr val="eaeaea"/>
            </a:solidFill>
            <a:ln w="0">
              <a:solidFill>
                <a:srgbClr val="eaeaea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ihandform 11"/>
            <p:cNvSpPr/>
            <p:nvPr/>
          </p:nvSpPr>
          <p:spPr>
            <a:xfrm>
              <a:off x="668160" y="5208480"/>
              <a:ext cx="29880" cy="71280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712800"/>
                <a:gd name="textAreaBottom" fmla="*/ 712800 h 712800"/>
              </a:gdLst>
              <a:ahLst/>
              <a:rect l="textAreaLeft" t="textAreaTop" r="textAreaRight" b="textAreaBottom"/>
              <a:pathLst>
                <a:path w="25783" h="872618">
                  <a:moveTo>
                    <a:pt x="25782" y="872617"/>
                  </a:moveTo>
                  <a:lnTo>
                    <a:pt x="14986" y="869822"/>
                  </a:lnTo>
                  <a:lnTo>
                    <a:pt x="6097" y="867409"/>
                  </a:lnTo>
                  <a:lnTo>
                    <a:pt x="0" y="0"/>
                  </a:lnTo>
                  <a:lnTo>
                    <a:pt x="19812" y="2158"/>
                  </a:lnTo>
                  <a:lnTo>
                    <a:pt x="25782" y="872617"/>
                  </a:lnTo>
                  <a:close/>
                </a:path>
              </a:pathLst>
            </a:custGeom>
            <a:solidFill>
              <a:srgbClr val="e7e7e7"/>
            </a:solidFill>
            <a:ln w="0">
              <a:solidFill>
                <a:srgbClr val="e7e7e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ihandform 12"/>
            <p:cNvSpPr/>
            <p:nvPr/>
          </p:nvSpPr>
          <p:spPr>
            <a:xfrm>
              <a:off x="690480" y="5211720"/>
              <a:ext cx="33120" cy="7113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711360"/>
                <a:gd name="textAreaBottom" fmla="*/ 711720 h 711360"/>
              </a:gdLst>
              <a:ahLst/>
              <a:rect l="textAreaLeft" t="textAreaTop" r="textAreaRight" b="textAreaBottom"/>
              <a:pathLst>
                <a:path w="25782" h="874777">
                  <a:moveTo>
                    <a:pt x="25781" y="874776"/>
                  </a:moveTo>
                  <a:lnTo>
                    <a:pt x="22606" y="874141"/>
                  </a:lnTo>
                  <a:lnTo>
                    <a:pt x="8763" y="871093"/>
                  </a:lnTo>
                  <a:lnTo>
                    <a:pt x="5968" y="870459"/>
                  </a:lnTo>
                  <a:lnTo>
                    <a:pt x="0" y="0"/>
                  </a:lnTo>
                  <a:lnTo>
                    <a:pt x="19685" y="2286"/>
                  </a:lnTo>
                  <a:lnTo>
                    <a:pt x="25781" y="874776"/>
                  </a:lnTo>
                  <a:close/>
                </a:path>
              </a:pathLst>
            </a:custGeom>
            <a:solidFill>
              <a:srgbClr val="e4e4e4"/>
            </a:solidFill>
            <a:ln w="0">
              <a:solidFill>
                <a:srgbClr val="e4e4e4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Freihandform 13"/>
            <p:cNvSpPr/>
            <p:nvPr/>
          </p:nvSpPr>
          <p:spPr>
            <a:xfrm>
              <a:off x="715680" y="5213160"/>
              <a:ext cx="31680" cy="7146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714600"/>
                <a:gd name="textAreaBottom" fmla="*/ 714960 h 714600"/>
              </a:gdLst>
              <a:ahLst/>
              <a:rect l="textAreaLeft" t="textAreaTop" r="textAreaRight" b="textAreaBottom"/>
              <a:pathLst>
                <a:path w="25781" h="876302">
                  <a:moveTo>
                    <a:pt x="25780" y="876301"/>
                  </a:moveTo>
                  <a:lnTo>
                    <a:pt x="17526" y="874777"/>
                  </a:lnTo>
                  <a:lnTo>
                    <a:pt x="6096" y="872490"/>
                  </a:lnTo>
                  <a:lnTo>
                    <a:pt x="0" y="0"/>
                  </a:lnTo>
                  <a:lnTo>
                    <a:pt x="254" y="0"/>
                  </a:lnTo>
                  <a:lnTo>
                    <a:pt x="19684" y="1906"/>
                  </a:lnTo>
                  <a:lnTo>
                    <a:pt x="25780" y="876301"/>
                  </a:lnTo>
                  <a:close/>
                </a:path>
              </a:pathLst>
            </a:custGeom>
            <a:solidFill>
              <a:srgbClr val="e1e1e1"/>
            </a:solidFill>
            <a:ln w="0">
              <a:solidFill>
                <a:srgbClr val="e1e1e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ihandform 14"/>
            <p:cNvSpPr/>
            <p:nvPr/>
          </p:nvSpPr>
          <p:spPr>
            <a:xfrm>
              <a:off x="739440" y="5213160"/>
              <a:ext cx="31680" cy="71604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716040"/>
                <a:gd name="textAreaBottom" fmla="*/ 716400 h 716040"/>
              </a:gdLst>
              <a:ahLst/>
              <a:rect l="textAreaLeft" t="textAreaTop" r="textAreaRight" b="textAreaBottom"/>
              <a:pathLst>
                <a:path w="25782" h="877824">
                  <a:moveTo>
                    <a:pt x="25781" y="877823"/>
                  </a:moveTo>
                  <a:lnTo>
                    <a:pt x="12953" y="875664"/>
                  </a:lnTo>
                  <a:lnTo>
                    <a:pt x="6096" y="874395"/>
                  </a:lnTo>
                  <a:lnTo>
                    <a:pt x="0" y="0"/>
                  </a:lnTo>
                  <a:lnTo>
                    <a:pt x="19811" y="1777"/>
                  </a:lnTo>
                  <a:lnTo>
                    <a:pt x="25781" y="877823"/>
                  </a:lnTo>
                  <a:close/>
                </a:path>
              </a:pathLst>
            </a:custGeom>
            <a:solidFill>
              <a:srgbClr val="dedede"/>
            </a:solidFill>
            <a:ln w="0">
              <a:solidFill>
                <a:srgbClr val="deded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ihandform 15"/>
            <p:cNvSpPr/>
            <p:nvPr/>
          </p:nvSpPr>
          <p:spPr>
            <a:xfrm>
              <a:off x="765000" y="5214600"/>
              <a:ext cx="31680" cy="71604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716040"/>
                <a:gd name="textAreaBottom" fmla="*/ 716400 h 716040"/>
              </a:gdLst>
              <a:ahLst/>
              <a:rect l="textAreaLeft" t="textAreaTop" r="textAreaRight" b="textAreaBottom"/>
              <a:pathLst>
                <a:path w="25783" h="878715">
                  <a:moveTo>
                    <a:pt x="25782" y="878714"/>
                  </a:moveTo>
                  <a:lnTo>
                    <a:pt x="24511" y="878586"/>
                  </a:lnTo>
                  <a:lnTo>
                    <a:pt x="8510" y="876300"/>
                  </a:lnTo>
                  <a:lnTo>
                    <a:pt x="5970" y="875793"/>
                  </a:lnTo>
                  <a:lnTo>
                    <a:pt x="0" y="0"/>
                  </a:lnTo>
                  <a:lnTo>
                    <a:pt x="2160" y="254"/>
                  </a:lnTo>
                  <a:lnTo>
                    <a:pt x="19559" y="1652"/>
                  </a:lnTo>
                  <a:lnTo>
                    <a:pt x="25782" y="878714"/>
                  </a:lnTo>
                  <a:close/>
                </a:path>
              </a:pathLst>
            </a:custGeom>
            <a:solidFill>
              <a:srgbClr val="dbdbdb"/>
            </a:solidFill>
            <a:ln w="0">
              <a:solidFill>
                <a:srgbClr val="dbdbd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ihandform 16"/>
            <p:cNvSpPr/>
            <p:nvPr/>
          </p:nvSpPr>
          <p:spPr>
            <a:xfrm>
              <a:off x="788760" y="5216400"/>
              <a:ext cx="29880" cy="71784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717840"/>
                <a:gd name="textAreaBottom" fmla="*/ 718200 h 717840"/>
              </a:gdLst>
              <a:ahLst/>
              <a:rect l="textAreaLeft" t="textAreaTop" r="textAreaRight" b="textAreaBottom"/>
              <a:pathLst>
                <a:path w="25781" h="879603">
                  <a:moveTo>
                    <a:pt x="25780" y="879602"/>
                  </a:moveTo>
                  <a:lnTo>
                    <a:pt x="21208" y="879093"/>
                  </a:lnTo>
                  <a:lnTo>
                    <a:pt x="6095" y="877062"/>
                  </a:lnTo>
                  <a:lnTo>
                    <a:pt x="0" y="0"/>
                  </a:lnTo>
                  <a:lnTo>
                    <a:pt x="2666" y="381"/>
                  </a:lnTo>
                  <a:lnTo>
                    <a:pt x="19558" y="1651"/>
                  </a:lnTo>
                  <a:lnTo>
                    <a:pt x="25780" y="879602"/>
                  </a:lnTo>
                  <a:close/>
                </a:path>
              </a:pathLst>
            </a:custGeom>
            <a:solidFill>
              <a:srgbClr val="d8d8d8"/>
            </a:solidFill>
            <a:ln w="0">
              <a:solidFill>
                <a:srgbClr val="d8d8d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ihandform 17"/>
            <p:cNvSpPr/>
            <p:nvPr/>
          </p:nvSpPr>
          <p:spPr>
            <a:xfrm>
              <a:off x="811080" y="5217840"/>
              <a:ext cx="33120" cy="71784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717840"/>
                <a:gd name="textAreaBottom" fmla="*/ 718200 h 717840"/>
              </a:gdLst>
              <a:ahLst/>
              <a:rect l="textAreaLeft" t="textAreaTop" r="textAreaRight" b="textAreaBottom"/>
              <a:pathLst>
                <a:path w="25783" h="879983">
                  <a:moveTo>
                    <a:pt x="25782" y="879982"/>
                  </a:moveTo>
                  <a:lnTo>
                    <a:pt x="18289" y="879347"/>
                  </a:lnTo>
                  <a:lnTo>
                    <a:pt x="6096" y="877951"/>
                  </a:lnTo>
                  <a:lnTo>
                    <a:pt x="0" y="0"/>
                  </a:lnTo>
                  <a:lnTo>
                    <a:pt x="2795" y="126"/>
                  </a:lnTo>
                  <a:lnTo>
                    <a:pt x="19685" y="1524"/>
                  </a:lnTo>
                  <a:lnTo>
                    <a:pt x="25782" y="879982"/>
                  </a:lnTo>
                  <a:close/>
                </a:path>
              </a:pathLst>
            </a:custGeom>
            <a:solidFill>
              <a:srgbClr val="d5d5d5"/>
            </a:solidFill>
            <a:ln w="0">
              <a:solidFill>
                <a:srgbClr val="d5d5d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ihandform 18"/>
            <p:cNvSpPr/>
            <p:nvPr/>
          </p:nvSpPr>
          <p:spPr>
            <a:xfrm>
              <a:off x="836280" y="5219640"/>
              <a:ext cx="31680" cy="71784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717840"/>
                <a:gd name="textAreaBottom" fmla="*/ 718200 h 717840"/>
              </a:gdLst>
              <a:ahLst/>
              <a:rect l="textAreaLeft" t="textAreaTop" r="textAreaRight" b="textAreaBottom"/>
              <a:pathLst>
                <a:path w="25783" h="880238">
                  <a:moveTo>
                    <a:pt x="25782" y="880237"/>
                  </a:moveTo>
                  <a:lnTo>
                    <a:pt x="15875" y="879475"/>
                  </a:lnTo>
                  <a:lnTo>
                    <a:pt x="5969" y="878458"/>
                  </a:lnTo>
                  <a:lnTo>
                    <a:pt x="0" y="0"/>
                  </a:lnTo>
                  <a:lnTo>
                    <a:pt x="2032" y="127"/>
                  </a:lnTo>
                  <a:lnTo>
                    <a:pt x="19558" y="1270"/>
                  </a:lnTo>
                  <a:lnTo>
                    <a:pt x="25782" y="880237"/>
                  </a:lnTo>
                  <a:close/>
                </a:path>
              </a:pathLst>
            </a:custGeom>
            <a:solidFill>
              <a:srgbClr val="d2d2d2"/>
            </a:solidFill>
            <a:ln w="0">
              <a:solidFill>
                <a:srgbClr val="d2d2d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ihandform 19"/>
            <p:cNvSpPr/>
            <p:nvPr/>
          </p:nvSpPr>
          <p:spPr>
            <a:xfrm>
              <a:off x="860400" y="5221080"/>
              <a:ext cx="31680" cy="71604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716040"/>
                <a:gd name="textAreaBottom" fmla="*/ 716400 h 716040"/>
              </a:gdLst>
              <a:ahLst/>
              <a:rect l="textAreaLeft" t="textAreaTop" r="textAreaRight" b="textAreaBottom"/>
              <a:pathLst>
                <a:path w="25782" h="880491">
                  <a:moveTo>
                    <a:pt x="25781" y="880490"/>
                  </a:moveTo>
                  <a:lnTo>
                    <a:pt x="13715" y="879728"/>
                  </a:lnTo>
                  <a:lnTo>
                    <a:pt x="6096" y="878967"/>
                  </a:lnTo>
                  <a:lnTo>
                    <a:pt x="0" y="0"/>
                  </a:lnTo>
                  <a:lnTo>
                    <a:pt x="761" y="0"/>
                  </a:lnTo>
                  <a:lnTo>
                    <a:pt x="18288" y="1143"/>
                  </a:lnTo>
                  <a:lnTo>
                    <a:pt x="19557" y="1143"/>
                  </a:lnTo>
                  <a:lnTo>
                    <a:pt x="25781" y="880490"/>
                  </a:lnTo>
                  <a:close/>
                </a:path>
              </a:pathLst>
            </a:custGeom>
            <a:solidFill>
              <a:srgbClr val="cfcfcf"/>
            </a:solidFill>
            <a:ln w="0">
              <a:solidFill>
                <a:srgbClr val="cfcfc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ihandform 20"/>
            <p:cNvSpPr/>
            <p:nvPr/>
          </p:nvSpPr>
          <p:spPr>
            <a:xfrm>
              <a:off x="884160" y="5221080"/>
              <a:ext cx="33120" cy="71784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717840"/>
                <a:gd name="textAreaBottom" fmla="*/ 718200 h 717840"/>
              </a:gdLst>
              <a:ahLst/>
              <a:rect l="textAreaLeft" t="textAreaTop" r="textAreaRight" b="textAreaBottom"/>
              <a:pathLst>
                <a:path w="25783" h="880238">
                  <a:moveTo>
                    <a:pt x="25782" y="880237"/>
                  </a:moveTo>
                  <a:lnTo>
                    <a:pt x="12065" y="879602"/>
                  </a:lnTo>
                  <a:lnTo>
                    <a:pt x="6224" y="879347"/>
                  </a:lnTo>
                  <a:lnTo>
                    <a:pt x="0" y="0"/>
                  </a:lnTo>
                  <a:lnTo>
                    <a:pt x="15240" y="762"/>
                  </a:lnTo>
                  <a:lnTo>
                    <a:pt x="19558" y="889"/>
                  </a:lnTo>
                  <a:lnTo>
                    <a:pt x="25782" y="880237"/>
                  </a:lnTo>
                  <a:close/>
                </a:path>
              </a:pathLst>
            </a:custGeom>
            <a:solidFill>
              <a:srgbClr val="cccccc"/>
            </a:solidFill>
            <a:ln w="0">
              <a:solidFill>
                <a:srgbClr val="cccc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ihandform 21"/>
            <p:cNvSpPr/>
            <p:nvPr/>
          </p:nvSpPr>
          <p:spPr>
            <a:xfrm>
              <a:off x="909360" y="5221080"/>
              <a:ext cx="31680" cy="71928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719280"/>
                <a:gd name="textAreaBottom" fmla="*/ 719640 h 719280"/>
              </a:gdLst>
              <a:ahLst/>
              <a:rect l="textAreaLeft" t="textAreaTop" r="textAreaRight" b="textAreaBottom"/>
              <a:pathLst>
                <a:path w="25782" h="880365">
                  <a:moveTo>
                    <a:pt x="25781" y="880364"/>
                  </a:moveTo>
                  <a:lnTo>
                    <a:pt x="10542" y="879728"/>
                  </a:lnTo>
                  <a:lnTo>
                    <a:pt x="6096" y="879602"/>
                  </a:lnTo>
                  <a:lnTo>
                    <a:pt x="0" y="0"/>
                  </a:lnTo>
                  <a:lnTo>
                    <a:pt x="11177" y="635"/>
                  </a:lnTo>
                  <a:lnTo>
                    <a:pt x="19559" y="1015"/>
                  </a:lnTo>
                  <a:lnTo>
                    <a:pt x="25781" y="880364"/>
                  </a:lnTo>
                  <a:close/>
                </a:path>
              </a:pathLst>
            </a:custGeom>
            <a:solidFill>
              <a:srgbClr val="c9c9c9"/>
            </a:solidFill>
            <a:ln w="0">
              <a:solidFill>
                <a:srgbClr val="c9c9c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ihandform 22"/>
            <p:cNvSpPr/>
            <p:nvPr/>
          </p:nvSpPr>
          <p:spPr>
            <a:xfrm>
              <a:off x="933480" y="5222520"/>
              <a:ext cx="29880" cy="71784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717840"/>
                <a:gd name="textAreaBottom" fmla="*/ 718200 h 717840"/>
              </a:gdLst>
              <a:ahLst/>
              <a:rect l="textAreaLeft" t="textAreaTop" r="textAreaRight" b="textAreaBottom"/>
              <a:pathLst>
                <a:path w="25781" h="879730">
                  <a:moveTo>
                    <a:pt x="25780" y="879729"/>
                  </a:moveTo>
                  <a:lnTo>
                    <a:pt x="9397" y="879349"/>
                  </a:lnTo>
                  <a:lnTo>
                    <a:pt x="5968" y="879349"/>
                  </a:lnTo>
                  <a:lnTo>
                    <a:pt x="0" y="0"/>
                  </a:lnTo>
                  <a:lnTo>
                    <a:pt x="5842" y="128"/>
                  </a:lnTo>
                  <a:lnTo>
                    <a:pt x="19050" y="635"/>
                  </a:lnTo>
                  <a:lnTo>
                    <a:pt x="19558" y="635"/>
                  </a:lnTo>
                  <a:lnTo>
                    <a:pt x="25780" y="879729"/>
                  </a:lnTo>
                  <a:close/>
                </a:path>
              </a:pathLst>
            </a:custGeom>
            <a:solidFill>
              <a:srgbClr val="c6c6c6"/>
            </a:solidFill>
            <a:ln w="0">
              <a:solidFill>
                <a:srgbClr val="c6c6c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ihandform 23"/>
            <p:cNvSpPr/>
            <p:nvPr/>
          </p:nvSpPr>
          <p:spPr>
            <a:xfrm>
              <a:off x="958680" y="5224320"/>
              <a:ext cx="29880" cy="71604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716040"/>
                <a:gd name="textAreaBottom" fmla="*/ 716040 h 716040"/>
              </a:gdLst>
              <a:ahLst/>
              <a:rect l="textAreaLeft" t="textAreaTop" r="textAreaRight" b="textAreaBottom"/>
              <a:pathLst>
                <a:path w="25782" h="879222">
                  <a:moveTo>
                    <a:pt x="25781" y="879221"/>
                  </a:moveTo>
                  <a:lnTo>
                    <a:pt x="5968" y="879094"/>
                  </a:lnTo>
                  <a:lnTo>
                    <a:pt x="0" y="0"/>
                  </a:lnTo>
                  <a:lnTo>
                    <a:pt x="11175" y="381"/>
                  </a:lnTo>
                  <a:lnTo>
                    <a:pt x="16510" y="508"/>
                  </a:lnTo>
                  <a:lnTo>
                    <a:pt x="19557" y="508"/>
                  </a:lnTo>
                  <a:lnTo>
                    <a:pt x="25781" y="879221"/>
                  </a:lnTo>
                  <a:close/>
                </a:path>
              </a:pathLst>
            </a:custGeom>
            <a:solidFill>
              <a:srgbClr val="c3c3c3"/>
            </a:solidFill>
            <a:ln w="0">
              <a:solidFill>
                <a:srgbClr val="c3c3c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ihandform 24"/>
            <p:cNvSpPr/>
            <p:nvPr/>
          </p:nvSpPr>
          <p:spPr>
            <a:xfrm>
              <a:off x="981000" y="5224320"/>
              <a:ext cx="31680" cy="71604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716040"/>
                <a:gd name="textAreaBottom" fmla="*/ 716400 h 716040"/>
              </a:gdLst>
              <a:ahLst/>
              <a:rect l="textAreaLeft" t="textAreaTop" r="textAreaRight" b="textAreaBottom"/>
              <a:pathLst>
                <a:path w="25908" h="878841">
                  <a:moveTo>
                    <a:pt x="8000" y="878840"/>
                  </a:moveTo>
                  <a:lnTo>
                    <a:pt x="6222" y="878840"/>
                  </a:lnTo>
                  <a:lnTo>
                    <a:pt x="0" y="0"/>
                  </a:lnTo>
                  <a:lnTo>
                    <a:pt x="1904" y="127"/>
                  </a:lnTo>
                  <a:lnTo>
                    <a:pt x="10668" y="127"/>
                  </a:lnTo>
                  <a:lnTo>
                    <a:pt x="18541" y="127"/>
                  </a:lnTo>
                  <a:lnTo>
                    <a:pt x="19557" y="0"/>
                  </a:lnTo>
                  <a:lnTo>
                    <a:pt x="25907" y="878713"/>
                  </a:lnTo>
                  <a:lnTo>
                    <a:pt x="8000" y="878840"/>
                  </a:lnTo>
                  <a:close/>
                </a:path>
              </a:pathLst>
            </a:custGeom>
            <a:solidFill>
              <a:srgbClr val="c0c0c0"/>
            </a:solidFill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ihandform 25"/>
            <p:cNvSpPr/>
            <p:nvPr/>
          </p:nvSpPr>
          <p:spPr>
            <a:xfrm>
              <a:off x="1004760" y="5224320"/>
              <a:ext cx="33120" cy="71604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716040"/>
                <a:gd name="textAreaBottom" fmla="*/ 716040 h 716040"/>
              </a:gdLst>
              <a:ahLst/>
              <a:rect l="textAreaLeft" t="textAreaTop" r="textAreaRight" b="textAreaBottom"/>
              <a:pathLst>
                <a:path w="25782" h="879095">
                  <a:moveTo>
                    <a:pt x="6097" y="879094"/>
                  </a:moveTo>
                  <a:lnTo>
                    <a:pt x="0" y="508"/>
                  </a:lnTo>
                  <a:lnTo>
                    <a:pt x="3556" y="508"/>
                  </a:lnTo>
                  <a:lnTo>
                    <a:pt x="14097" y="255"/>
                  </a:lnTo>
                  <a:lnTo>
                    <a:pt x="19686" y="0"/>
                  </a:lnTo>
                  <a:lnTo>
                    <a:pt x="25781" y="878714"/>
                  </a:lnTo>
                  <a:lnTo>
                    <a:pt x="6097" y="879094"/>
                  </a:lnTo>
                  <a:close/>
                </a:path>
              </a:pathLst>
            </a:custGeom>
            <a:solidFill>
              <a:srgbClr val="bdbdbd"/>
            </a:solidFill>
            <a:ln w="0">
              <a:solidFill>
                <a:srgbClr val="bdbdb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ihandform 26"/>
            <p:cNvSpPr/>
            <p:nvPr/>
          </p:nvSpPr>
          <p:spPr>
            <a:xfrm>
              <a:off x="1030320" y="5222520"/>
              <a:ext cx="31680" cy="71784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717840"/>
                <a:gd name="textAreaBottom" fmla="*/ 718200 h 717840"/>
              </a:gdLst>
              <a:ahLst/>
              <a:rect l="textAreaLeft" t="textAreaTop" r="textAreaRight" b="textAreaBottom"/>
              <a:pathLst>
                <a:path w="25782" h="879730">
                  <a:moveTo>
                    <a:pt x="6095" y="879729"/>
                  </a:moveTo>
                  <a:lnTo>
                    <a:pt x="0" y="889"/>
                  </a:lnTo>
                  <a:lnTo>
                    <a:pt x="253" y="889"/>
                  </a:lnTo>
                  <a:lnTo>
                    <a:pt x="12953" y="380"/>
                  </a:lnTo>
                  <a:lnTo>
                    <a:pt x="19558" y="0"/>
                  </a:lnTo>
                  <a:lnTo>
                    <a:pt x="25781" y="878967"/>
                  </a:lnTo>
                  <a:lnTo>
                    <a:pt x="24892" y="879093"/>
                  </a:lnTo>
                  <a:lnTo>
                    <a:pt x="6350" y="879729"/>
                  </a:lnTo>
                  <a:lnTo>
                    <a:pt x="6095" y="879729"/>
                  </a:lnTo>
                  <a:close/>
                </a:path>
              </a:pathLst>
            </a:custGeom>
            <a:solidFill>
              <a:srgbClr val="bababa"/>
            </a:solidFill>
            <a:ln w="0">
              <a:solidFill>
                <a:srgbClr val="bababa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Freihandform 27"/>
            <p:cNvSpPr/>
            <p:nvPr/>
          </p:nvSpPr>
          <p:spPr>
            <a:xfrm>
              <a:off x="1054080" y="5221080"/>
              <a:ext cx="29880" cy="71784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717840"/>
                <a:gd name="textAreaBottom" fmla="*/ 718200 h 717840"/>
              </a:gdLst>
              <a:ahLst/>
              <a:rect l="textAreaLeft" t="textAreaTop" r="textAreaRight" b="textAreaBottom"/>
              <a:pathLst>
                <a:path w="25783" h="879858">
                  <a:moveTo>
                    <a:pt x="6097" y="879857"/>
                  </a:moveTo>
                  <a:lnTo>
                    <a:pt x="0" y="890"/>
                  </a:lnTo>
                  <a:lnTo>
                    <a:pt x="7621" y="636"/>
                  </a:lnTo>
                  <a:lnTo>
                    <a:pt x="19558" y="0"/>
                  </a:lnTo>
                  <a:lnTo>
                    <a:pt x="25782" y="878841"/>
                  </a:lnTo>
                  <a:lnTo>
                    <a:pt x="23369" y="878968"/>
                  </a:lnTo>
                  <a:lnTo>
                    <a:pt x="6097" y="879857"/>
                  </a:lnTo>
                  <a:close/>
                </a:path>
              </a:pathLst>
            </a:custGeom>
            <a:solidFill>
              <a:srgbClr val="b7b7b7"/>
            </a:solidFill>
            <a:ln w="0">
              <a:solidFill>
                <a:srgbClr val="b7b7b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Freihandform 28"/>
            <p:cNvSpPr/>
            <p:nvPr/>
          </p:nvSpPr>
          <p:spPr>
            <a:xfrm>
              <a:off x="1077840" y="5221080"/>
              <a:ext cx="31680" cy="71784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717840"/>
                <a:gd name="textAreaBottom" fmla="*/ 718200 h 717840"/>
              </a:gdLst>
              <a:ahLst/>
              <a:rect l="textAreaLeft" t="textAreaTop" r="textAreaRight" b="textAreaBottom"/>
              <a:pathLst>
                <a:path w="25782" h="879984">
                  <a:moveTo>
                    <a:pt x="6097" y="879983"/>
                  </a:moveTo>
                  <a:lnTo>
                    <a:pt x="0" y="1143"/>
                  </a:lnTo>
                  <a:lnTo>
                    <a:pt x="3556" y="1015"/>
                  </a:lnTo>
                  <a:lnTo>
                    <a:pt x="19686" y="0"/>
                  </a:lnTo>
                  <a:lnTo>
                    <a:pt x="25781" y="878586"/>
                  </a:lnTo>
                  <a:lnTo>
                    <a:pt x="21717" y="878966"/>
                  </a:lnTo>
                  <a:lnTo>
                    <a:pt x="6097" y="879983"/>
                  </a:lnTo>
                  <a:close/>
                </a:path>
              </a:pathLst>
            </a:custGeom>
            <a:solidFill>
              <a:srgbClr val="b4b4b4"/>
            </a:solidFill>
            <a:ln w="0">
              <a:solidFill>
                <a:srgbClr val="b4b4b4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Freihandform 29"/>
            <p:cNvSpPr/>
            <p:nvPr/>
          </p:nvSpPr>
          <p:spPr>
            <a:xfrm>
              <a:off x="1103040" y="5221080"/>
              <a:ext cx="29880" cy="71604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716040"/>
                <a:gd name="textAreaBottom" fmla="*/ 716400 h 716040"/>
              </a:gdLst>
              <a:ahLst/>
              <a:rect l="textAreaLeft" t="textAreaTop" r="textAreaRight" b="textAreaBottom"/>
              <a:pathLst>
                <a:path w="25781" h="879985">
                  <a:moveTo>
                    <a:pt x="6095" y="879984"/>
                  </a:moveTo>
                  <a:lnTo>
                    <a:pt x="0" y="1270"/>
                  </a:lnTo>
                  <a:lnTo>
                    <a:pt x="380" y="1270"/>
                  </a:lnTo>
                  <a:lnTo>
                    <a:pt x="18033" y="128"/>
                  </a:lnTo>
                  <a:lnTo>
                    <a:pt x="19558" y="0"/>
                  </a:lnTo>
                  <a:lnTo>
                    <a:pt x="25780" y="878206"/>
                  </a:lnTo>
                  <a:lnTo>
                    <a:pt x="19558" y="878841"/>
                  </a:lnTo>
                  <a:lnTo>
                    <a:pt x="6095" y="879984"/>
                  </a:lnTo>
                  <a:close/>
                </a:path>
              </a:pathLst>
            </a:custGeom>
            <a:solidFill>
              <a:srgbClr val="b1b1b1"/>
            </a:solidFill>
            <a:ln w="0">
              <a:solidFill>
                <a:srgbClr val="b1b1b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Freihandform 30"/>
            <p:cNvSpPr/>
            <p:nvPr/>
          </p:nvSpPr>
          <p:spPr>
            <a:xfrm>
              <a:off x="1125360" y="5219640"/>
              <a:ext cx="33120" cy="71784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717840"/>
                <a:gd name="textAreaBottom" fmla="*/ 718200 h 717840"/>
              </a:gdLst>
              <a:ahLst/>
              <a:rect l="textAreaLeft" t="textAreaTop" r="textAreaRight" b="textAreaBottom"/>
              <a:pathLst>
                <a:path w="25782" h="879603">
                  <a:moveTo>
                    <a:pt x="6095" y="879602"/>
                  </a:moveTo>
                  <a:lnTo>
                    <a:pt x="0" y="1397"/>
                  </a:lnTo>
                  <a:lnTo>
                    <a:pt x="17018" y="254"/>
                  </a:lnTo>
                  <a:lnTo>
                    <a:pt x="19557" y="0"/>
                  </a:lnTo>
                  <a:lnTo>
                    <a:pt x="25781" y="877442"/>
                  </a:lnTo>
                  <a:lnTo>
                    <a:pt x="17018" y="878458"/>
                  </a:lnTo>
                  <a:lnTo>
                    <a:pt x="6095" y="879602"/>
                  </a:lnTo>
                  <a:close/>
                </a:path>
              </a:pathLst>
            </a:custGeom>
            <a:solidFill>
              <a:srgbClr val="aeaeae"/>
            </a:solidFill>
            <a:ln w="0">
              <a:solidFill>
                <a:srgbClr val="aeaea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Freihandform 31"/>
            <p:cNvSpPr/>
            <p:nvPr/>
          </p:nvSpPr>
          <p:spPr>
            <a:xfrm>
              <a:off x="1150920" y="5217840"/>
              <a:ext cx="31680" cy="71604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716040"/>
                <a:gd name="textAreaBottom" fmla="*/ 716400 h 716040"/>
              </a:gdLst>
              <a:ahLst/>
              <a:rect l="textAreaLeft" t="textAreaTop" r="textAreaRight" b="textAreaBottom"/>
              <a:pathLst>
                <a:path w="25783" h="878968">
                  <a:moveTo>
                    <a:pt x="6224" y="878967"/>
                  </a:moveTo>
                  <a:lnTo>
                    <a:pt x="0" y="1525"/>
                  </a:lnTo>
                  <a:lnTo>
                    <a:pt x="16764" y="127"/>
                  </a:lnTo>
                  <a:lnTo>
                    <a:pt x="19558" y="0"/>
                  </a:lnTo>
                  <a:lnTo>
                    <a:pt x="25782" y="876681"/>
                  </a:lnTo>
                  <a:lnTo>
                    <a:pt x="14352" y="878205"/>
                  </a:lnTo>
                  <a:lnTo>
                    <a:pt x="6224" y="878967"/>
                  </a:lnTo>
                  <a:close/>
                </a:path>
              </a:pathLst>
            </a:custGeom>
            <a:solidFill>
              <a:srgbClr val="ababab"/>
            </a:solidFill>
            <a:ln w="0">
              <a:solidFill>
                <a:srgbClr val="ababa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Freihandform 32"/>
            <p:cNvSpPr/>
            <p:nvPr/>
          </p:nvSpPr>
          <p:spPr>
            <a:xfrm>
              <a:off x="1174680" y="5216400"/>
              <a:ext cx="31680" cy="71604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716040"/>
                <a:gd name="textAreaBottom" fmla="*/ 716040 h 716040"/>
              </a:gdLst>
              <a:ahLst/>
              <a:rect l="textAreaLeft" t="textAreaTop" r="textAreaRight" b="textAreaBottom"/>
              <a:pathLst>
                <a:path w="25782" h="878332">
                  <a:moveTo>
                    <a:pt x="6097" y="878331"/>
                  </a:moveTo>
                  <a:lnTo>
                    <a:pt x="0" y="1651"/>
                  </a:lnTo>
                  <a:lnTo>
                    <a:pt x="17019" y="127"/>
                  </a:lnTo>
                  <a:lnTo>
                    <a:pt x="19686" y="0"/>
                  </a:lnTo>
                  <a:lnTo>
                    <a:pt x="25781" y="875538"/>
                  </a:lnTo>
                  <a:lnTo>
                    <a:pt x="11050" y="877696"/>
                  </a:lnTo>
                  <a:lnTo>
                    <a:pt x="6097" y="878331"/>
                  </a:lnTo>
                  <a:close/>
                </a:path>
              </a:pathLst>
            </a:custGeom>
            <a:solidFill>
              <a:srgbClr val="a8a8a8"/>
            </a:solidFill>
            <a:ln w="0">
              <a:solidFill>
                <a:srgbClr val="a8a8a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Freihandform 33"/>
            <p:cNvSpPr/>
            <p:nvPr/>
          </p:nvSpPr>
          <p:spPr>
            <a:xfrm>
              <a:off x="1198440" y="5214600"/>
              <a:ext cx="33120" cy="7146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714600"/>
                <a:gd name="textAreaBottom" fmla="*/ 714960 h 714600"/>
              </a:gdLst>
              <a:ahLst/>
              <a:rect l="textAreaLeft" t="textAreaTop" r="textAreaRight" b="textAreaBottom"/>
              <a:pathLst>
                <a:path w="25781" h="877318">
                  <a:moveTo>
                    <a:pt x="6095" y="877317"/>
                  </a:moveTo>
                  <a:lnTo>
                    <a:pt x="0" y="1779"/>
                  </a:lnTo>
                  <a:lnTo>
                    <a:pt x="17906" y="128"/>
                  </a:lnTo>
                  <a:lnTo>
                    <a:pt x="19558" y="0"/>
                  </a:lnTo>
                  <a:lnTo>
                    <a:pt x="25780" y="874142"/>
                  </a:lnTo>
                  <a:lnTo>
                    <a:pt x="22733" y="874649"/>
                  </a:lnTo>
                  <a:lnTo>
                    <a:pt x="7239" y="877189"/>
                  </a:lnTo>
                  <a:lnTo>
                    <a:pt x="6095" y="877317"/>
                  </a:lnTo>
                  <a:close/>
                </a:path>
              </a:pathLst>
            </a:custGeom>
            <a:solidFill>
              <a:srgbClr val="a5a5a5"/>
            </a:solidFill>
            <a:ln w="0">
              <a:solidFill>
                <a:srgbClr val="a5a5a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Freihandform 34"/>
            <p:cNvSpPr/>
            <p:nvPr/>
          </p:nvSpPr>
          <p:spPr>
            <a:xfrm>
              <a:off x="1224000" y="5213160"/>
              <a:ext cx="29880" cy="71460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714600"/>
                <a:gd name="textAreaBottom" fmla="*/ 714960 h 714600"/>
              </a:gdLst>
              <a:ahLst/>
              <a:rect l="textAreaLeft" t="textAreaTop" r="textAreaRight" b="textAreaBottom"/>
              <a:pathLst>
                <a:path w="25782" h="876175">
                  <a:moveTo>
                    <a:pt x="6222" y="876174"/>
                  </a:moveTo>
                  <a:lnTo>
                    <a:pt x="0" y="2032"/>
                  </a:lnTo>
                  <a:lnTo>
                    <a:pt x="19431" y="0"/>
                  </a:lnTo>
                  <a:lnTo>
                    <a:pt x="19684" y="0"/>
                  </a:lnTo>
                  <a:lnTo>
                    <a:pt x="25781" y="872491"/>
                  </a:lnTo>
                  <a:lnTo>
                    <a:pt x="18161" y="873888"/>
                  </a:lnTo>
                  <a:lnTo>
                    <a:pt x="6222" y="876174"/>
                  </a:lnTo>
                  <a:close/>
                </a:path>
              </a:pathLst>
            </a:custGeom>
            <a:solidFill>
              <a:srgbClr val="a2a2a2"/>
            </a:solidFill>
            <a:ln w="0">
              <a:solidFill>
                <a:srgbClr val="a2a2a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Freihandform 35"/>
            <p:cNvSpPr/>
            <p:nvPr/>
          </p:nvSpPr>
          <p:spPr>
            <a:xfrm>
              <a:off x="1245960" y="5211720"/>
              <a:ext cx="31680" cy="7128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712800"/>
                <a:gd name="textAreaBottom" fmla="*/ 713160 h 712800"/>
              </a:gdLst>
              <a:ahLst/>
              <a:rect l="textAreaLeft" t="textAreaTop" r="textAreaRight" b="textAreaBottom"/>
              <a:pathLst>
                <a:path w="25656" h="874523">
                  <a:moveTo>
                    <a:pt x="6097" y="874522"/>
                  </a:moveTo>
                  <a:lnTo>
                    <a:pt x="0" y="2031"/>
                  </a:lnTo>
                  <a:lnTo>
                    <a:pt x="19558" y="0"/>
                  </a:lnTo>
                  <a:lnTo>
                    <a:pt x="25655" y="870204"/>
                  </a:lnTo>
                  <a:lnTo>
                    <a:pt x="13082" y="872997"/>
                  </a:lnTo>
                  <a:lnTo>
                    <a:pt x="6097" y="874522"/>
                  </a:lnTo>
                  <a:close/>
                </a:path>
              </a:pathLst>
            </a:custGeom>
            <a:solidFill>
              <a:srgbClr val="9f9f9f"/>
            </a:solidFill>
            <a:ln w="0">
              <a:solidFill>
                <a:srgbClr val="9f9f9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Freihandform 36"/>
            <p:cNvSpPr/>
            <p:nvPr/>
          </p:nvSpPr>
          <p:spPr>
            <a:xfrm>
              <a:off x="1270080" y="5209920"/>
              <a:ext cx="33120" cy="7113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711360"/>
                <a:gd name="textAreaBottom" fmla="*/ 711720 h 711360"/>
              </a:gdLst>
              <a:ahLst/>
              <a:rect l="textAreaLeft" t="textAreaTop" r="textAreaRight" b="textAreaBottom"/>
              <a:pathLst>
                <a:path w="25909" h="872492">
                  <a:moveTo>
                    <a:pt x="6097" y="872491"/>
                  </a:moveTo>
                  <a:lnTo>
                    <a:pt x="0" y="2287"/>
                  </a:lnTo>
                  <a:lnTo>
                    <a:pt x="1397" y="2032"/>
                  </a:lnTo>
                  <a:lnTo>
                    <a:pt x="19813" y="0"/>
                  </a:lnTo>
                  <a:lnTo>
                    <a:pt x="25908" y="867664"/>
                  </a:lnTo>
                  <a:lnTo>
                    <a:pt x="20828" y="868934"/>
                  </a:lnTo>
                  <a:lnTo>
                    <a:pt x="7367" y="872363"/>
                  </a:lnTo>
                  <a:lnTo>
                    <a:pt x="6097" y="872491"/>
                  </a:lnTo>
                  <a:close/>
                </a:path>
              </a:pathLst>
            </a:custGeom>
            <a:solidFill>
              <a:srgbClr val="9c9c9c"/>
            </a:solidFill>
            <a:ln w="0">
              <a:solidFill>
                <a:srgbClr val="9c9c9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Freihandform 37"/>
            <p:cNvSpPr/>
            <p:nvPr/>
          </p:nvSpPr>
          <p:spPr>
            <a:xfrm>
              <a:off x="1295280" y="5206680"/>
              <a:ext cx="31680" cy="7095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709560"/>
                <a:gd name="textAreaBottom" fmla="*/ 709920 h 709560"/>
              </a:gdLst>
              <a:ahLst/>
              <a:rect l="textAreaLeft" t="textAreaTop" r="textAreaRight" b="textAreaBottom"/>
              <a:pathLst>
                <a:path w="25656" h="870204">
                  <a:moveTo>
                    <a:pt x="6097" y="870203"/>
                  </a:moveTo>
                  <a:lnTo>
                    <a:pt x="0" y="2539"/>
                  </a:lnTo>
                  <a:lnTo>
                    <a:pt x="19686" y="0"/>
                  </a:lnTo>
                  <a:lnTo>
                    <a:pt x="25655" y="864488"/>
                  </a:lnTo>
                  <a:lnTo>
                    <a:pt x="14097" y="868045"/>
                  </a:lnTo>
                  <a:lnTo>
                    <a:pt x="6097" y="870203"/>
                  </a:lnTo>
                  <a:close/>
                </a:path>
              </a:pathLst>
            </a:custGeom>
            <a:solidFill>
              <a:srgbClr val="999999"/>
            </a:solidFill>
            <a:ln w="0">
              <a:solidFill>
                <a:srgbClr val="9999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Freihandform 38"/>
            <p:cNvSpPr/>
            <p:nvPr/>
          </p:nvSpPr>
          <p:spPr>
            <a:xfrm>
              <a:off x="1319040" y="5206680"/>
              <a:ext cx="31680" cy="70488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25654" h="867030">
                  <a:moveTo>
                    <a:pt x="5969" y="867029"/>
                  </a:moveTo>
                  <a:lnTo>
                    <a:pt x="0" y="2541"/>
                  </a:lnTo>
                  <a:lnTo>
                    <a:pt x="5080" y="1905"/>
                  </a:lnTo>
                  <a:lnTo>
                    <a:pt x="19684" y="0"/>
                  </a:lnTo>
                  <a:lnTo>
                    <a:pt x="25653" y="860426"/>
                  </a:lnTo>
                  <a:lnTo>
                    <a:pt x="18161" y="863092"/>
                  </a:lnTo>
                  <a:lnTo>
                    <a:pt x="6603" y="866902"/>
                  </a:lnTo>
                  <a:lnTo>
                    <a:pt x="5969" y="867029"/>
                  </a:lnTo>
                  <a:close/>
                </a:path>
              </a:pathLst>
            </a:custGeom>
            <a:solidFill>
              <a:srgbClr val="969696"/>
            </a:solidFill>
            <a:ln w="0">
              <a:solidFill>
                <a:srgbClr val="96969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ihandform 39"/>
            <p:cNvSpPr/>
            <p:nvPr/>
          </p:nvSpPr>
          <p:spPr>
            <a:xfrm>
              <a:off x="1344600" y="5203800"/>
              <a:ext cx="29880" cy="70344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703440"/>
                <a:gd name="textAreaBottom" fmla="*/ 703440 h 703440"/>
              </a:gdLst>
              <a:ahLst/>
              <a:rect l="textAreaLeft" t="textAreaTop" r="textAreaRight" b="textAreaBottom"/>
              <a:pathLst>
                <a:path w="25528" h="863348">
                  <a:moveTo>
                    <a:pt x="5969" y="863347"/>
                  </a:moveTo>
                  <a:lnTo>
                    <a:pt x="0" y="2921"/>
                  </a:lnTo>
                  <a:lnTo>
                    <a:pt x="19558" y="0"/>
                  </a:lnTo>
                  <a:lnTo>
                    <a:pt x="25527" y="855346"/>
                  </a:lnTo>
                  <a:lnTo>
                    <a:pt x="19686" y="857885"/>
                  </a:lnTo>
                  <a:lnTo>
                    <a:pt x="9399" y="861949"/>
                  </a:lnTo>
                  <a:lnTo>
                    <a:pt x="5969" y="863347"/>
                  </a:lnTo>
                  <a:close/>
                </a:path>
              </a:pathLst>
            </a:custGeom>
            <a:solidFill>
              <a:srgbClr val="939393"/>
            </a:solidFill>
            <a:ln w="0">
              <a:solidFill>
                <a:srgbClr val="93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ihandform 40"/>
            <p:cNvSpPr/>
            <p:nvPr/>
          </p:nvSpPr>
          <p:spPr>
            <a:xfrm>
              <a:off x="1368360" y="5200560"/>
              <a:ext cx="29880" cy="70020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700200"/>
                <a:gd name="textAreaBottom" fmla="*/ 700560 h 700200"/>
              </a:gdLst>
              <a:ahLst/>
              <a:rect l="textAreaLeft" t="textAreaTop" r="textAreaRight" b="textAreaBottom"/>
              <a:pathLst>
                <a:path w="25529" h="858267">
                  <a:moveTo>
                    <a:pt x="5969" y="858266"/>
                  </a:moveTo>
                  <a:lnTo>
                    <a:pt x="0" y="2920"/>
                  </a:lnTo>
                  <a:lnTo>
                    <a:pt x="8636" y="1777"/>
                  </a:lnTo>
                  <a:lnTo>
                    <a:pt x="19558" y="0"/>
                  </a:lnTo>
                  <a:lnTo>
                    <a:pt x="25528" y="848359"/>
                  </a:lnTo>
                  <a:lnTo>
                    <a:pt x="18669" y="852296"/>
                  </a:lnTo>
                  <a:lnTo>
                    <a:pt x="9780" y="856615"/>
                  </a:lnTo>
                  <a:lnTo>
                    <a:pt x="5969" y="858266"/>
                  </a:lnTo>
                  <a:close/>
                </a:path>
              </a:pathLst>
            </a:custGeom>
            <a:solidFill>
              <a:srgbClr val="909090"/>
            </a:solidFill>
            <a:ln w="0">
              <a:solidFill>
                <a:srgbClr val="90909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ihandform 41"/>
            <p:cNvSpPr/>
            <p:nvPr/>
          </p:nvSpPr>
          <p:spPr>
            <a:xfrm>
              <a:off x="1390680" y="5198760"/>
              <a:ext cx="31680" cy="69372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693720"/>
                <a:gd name="textAreaBottom" fmla="*/ 693720 h 693720"/>
              </a:gdLst>
              <a:ahLst/>
              <a:rect l="textAreaLeft" t="textAreaTop" r="textAreaRight" b="textAreaBottom"/>
              <a:pathLst>
                <a:path w="25529" h="851790">
                  <a:moveTo>
                    <a:pt x="5970" y="851789"/>
                  </a:moveTo>
                  <a:lnTo>
                    <a:pt x="0" y="3302"/>
                  </a:lnTo>
                  <a:lnTo>
                    <a:pt x="10161" y="1651"/>
                  </a:lnTo>
                  <a:lnTo>
                    <a:pt x="19686" y="0"/>
                  </a:lnTo>
                  <a:lnTo>
                    <a:pt x="25528" y="837947"/>
                  </a:lnTo>
                  <a:lnTo>
                    <a:pt x="21209" y="841502"/>
                  </a:lnTo>
                  <a:lnTo>
                    <a:pt x="14733" y="846201"/>
                  </a:lnTo>
                  <a:lnTo>
                    <a:pt x="7239" y="850900"/>
                  </a:lnTo>
                  <a:lnTo>
                    <a:pt x="5970" y="851789"/>
                  </a:lnTo>
                  <a:close/>
                </a:path>
              </a:pathLst>
            </a:custGeom>
            <a:solidFill>
              <a:srgbClr val="8d8d8d"/>
            </a:solidFill>
            <a:ln w="0">
              <a:solidFill>
                <a:srgbClr val="8d8d8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Freihandform 42"/>
            <p:cNvSpPr/>
            <p:nvPr/>
          </p:nvSpPr>
          <p:spPr>
            <a:xfrm>
              <a:off x="1415880" y="5194080"/>
              <a:ext cx="29880" cy="68760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687600"/>
                <a:gd name="textAreaBottom" fmla="*/ 687960 h 687600"/>
              </a:gdLst>
              <a:ahLst/>
              <a:rect l="textAreaLeft" t="textAreaTop" r="textAreaRight" b="textAreaBottom"/>
              <a:pathLst>
                <a:path w="24638" h="841630">
                  <a:moveTo>
                    <a:pt x="5842" y="841629"/>
                  </a:moveTo>
                  <a:lnTo>
                    <a:pt x="0" y="3556"/>
                  </a:lnTo>
                  <a:lnTo>
                    <a:pt x="11048" y="1651"/>
                  </a:lnTo>
                  <a:lnTo>
                    <a:pt x="19558" y="0"/>
                  </a:lnTo>
                  <a:lnTo>
                    <a:pt x="24637" y="728980"/>
                  </a:lnTo>
                  <a:lnTo>
                    <a:pt x="24003" y="808991"/>
                  </a:lnTo>
                  <a:lnTo>
                    <a:pt x="22859" y="817118"/>
                  </a:lnTo>
                  <a:lnTo>
                    <a:pt x="19684" y="824866"/>
                  </a:lnTo>
                  <a:lnTo>
                    <a:pt x="14604" y="832740"/>
                  </a:lnTo>
                  <a:lnTo>
                    <a:pt x="7492" y="840232"/>
                  </a:lnTo>
                  <a:lnTo>
                    <a:pt x="5842" y="841629"/>
                  </a:lnTo>
                  <a:close/>
                </a:path>
              </a:pathLst>
            </a:custGeom>
            <a:solidFill>
              <a:srgbClr val="8a8a8a"/>
            </a:solidFill>
            <a:ln w="0">
              <a:solidFill>
                <a:srgbClr val="8a8a8a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Freihandform 43"/>
            <p:cNvSpPr/>
            <p:nvPr/>
          </p:nvSpPr>
          <p:spPr>
            <a:xfrm>
              <a:off x="1440000" y="5192640"/>
              <a:ext cx="28440" cy="59688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596880"/>
                <a:gd name="textAreaBottom" fmla="*/ 597240 h 596880"/>
              </a:gdLst>
              <a:ahLst/>
              <a:rect l="textAreaLeft" t="textAreaTop" r="textAreaRight" b="textAreaBottom"/>
              <a:pathLst>
                <a:path w="24130" h="732917">
                  <a:moveTo>
                    <a:pt x="5079" y="732916"/>
                  </a:moveTo>
                  <a:lnTo>
                    <a:pt x="0" y="4063"/>
                  </a:lnTo>
                  <a:lnTo>
                    <a:pt x="11556" y="1777"/>
                  </a:lnTo>
                  <a:lnTo>
                    <a:pt x="19684" y="0"/>
                  </a:lnTo>
                  <a:lnTo>
                    <a:pt x="24129" y="643382"/>
                  </a:lnTo>
                  <a:lnTo>
                    <a:pt x="24003" y="644017"/>
                  </a:lnTo>
                  <a:lnTo>
                    <a:pt x="18415" y="669036"/>
                  </a:lnTo>
                  <a:lnTo>
                    <a:pt x="13334" y="692150"/>
                  </a:lnTo>
                  <a:lnTo>
                    <a:pt x="8890" y="713104"/>
                  </a:lnTo>
                  <a:lnTo>
                    <a:pt x="5079" y="732154"/>
                  </a:lnTo>
                  <a:lnTo>
                    <a:pt x="5079" y="732916"/>
                  </a:lnTo>
                  <a:close/>
                </a:path>
              </a:pathLst>
            </a:custGeom>
            <a:solidFill>
              <a:srgbClr val="878787"/>
            </a:solidFill>
            <a:ln w="0">
              <a:solidFill>
                <a:srgbClr val="87878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ihandform 44"/>
            <p:cNvSpPr/>
            <p:nvPr/>
          </p:nvSpPr>
          <p:spPr>
            <a:xfrm>
              <a:off x="1463760" y="5187600"/>
              <a:ext cx="28440" cy="52884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528840"/>
                <a:gd name="textAreaBottom" fmla="*/ 529200 h 528840"/>
              </a:gdLst>
              <a:ahLst/>
              <a:rect l="textAreaLeft" t="textAreaTop" r="textAreaRight" b="textAreaBottom"/>
              <a:pathLst>
                <a:path w="23623" h="647575">
                  <a:moveTo>
                    <a:pt x="4445" y="647574"/>
                  </a:moveTo>
                  <a:lnTo>
                    <a:pt x="0" y="4192"/>
                  </a:lnTo>
                  <a:lnTo>
                    <a:pt x="11558" y="1779"/>
                  </a:lnTo>
                  <a:lnTo>
                    <a:pt x="19686" y="0"/>
                  </a:lnTo>
                  <a:lnTo>
                    <a:pt x="23622" y="563880"/>
                  </a:lnTo>
                  <a:lnTo>
                    <a:pt x="19431" y="581661"/>
                  </a:lnTo>
                  <a:lnTo>
                    <a:pt x="14225" y="604774"/>
                  </a:lnTo>
                  <a:lnTo>
                    <a:pt x="9145" y="627126"/>
                  </a:lnTo>
                  <a:lnTo>
                    <a:pt x="4445" y="647574"/>
                  </a:lnTo>
                  <a:close/>
                </a:path>
              </a:pathLst>
            </a:custGeom>
            <a:solidFill>
              <a:srgbClr val="848484"/>
            </a:solidFill>
            <a:ln w="0">
              <a:solidFill>
                <a:srgbClr val="848484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ihandform 45"/>
            <p:cNvSpPr/>
            <p:nvPr/>
          </p:nvSpPr>
          <p:spPr>
            <a:xfrm>
              <a:off x="1488960" y="5184720"/>
              <a:ext cx="26640" cy="46368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463680"/>
                <a:gd name="textAreaBottom" fmla="*/ 464040 h 463680"/>
              </a:gdLst>
              <a:ahLst/>
              <a:rect l="textAreaLeft" t="textAreaTop" r="textAreaRight" b="textAreaBottom"/>
              <a:pathLst>
                <a:path w="22860" h="568707">
                  <a:moveTo>
                    <a:pt x="3683" y="568706"/>
                  </a:moveTo>
                  <a:lnTo>
                    <a:pt x="0" y="4954"/>
                  </a:lnTo>
                  <a:lnTo>
                    <a:pt x="10286" y="2414"/>
                  </a:lnTo>
                  <a:lnTo>
                    <a:pt x="19558" y="0"/>
                  </a:lnTo>
                  <a:lnTo>
                    <a:pt x="22859" y="485522"/>
                  </a:lnTo>
                  <a:lnTo>
                    <a:pt x="22733" y="486156"/>
                  </a:lnTo>
                  <a:lnTo>
                    <a:pt x="13842" y="525146"/>
                  </a:lnTo>
                  <a:lnTo>
                    <a:pt x="5206" y="562610"/>
                  </a:lnTo>
                  <a:lnTo>
                    <a:pt x="3683" y="568706"/>
                  </a:lnTo>
                  <a:close/>
                </a:path>
              </a:pathLst>
            </a:custGeom>
            <a:solidFill>
              <a:srgbClr val="818181"/>
            </a:solidFill>
            <a:ln w="0">
              <a:solidFill>
                <a:srgbClr val="81818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Freihandform 46"/>
            <p:cNvSpPr/>
            <p:nvPr/>
          </p:nvSpPr>
          <p:spPr>
            <a:xfrm>
              <a:off x="1511280" y="5179680"/>
              <a:ext cx="28440" cy="39996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22479" h="490857">
                  <a:moveTo>
                    <a:pt x="3428" y="490856"/>
                  </a:moveTo>
                  <a:lnTo>
                    <a:pt x="0" y="5334"/>
                  </a:lnTo>
                  <a:lnTo>
                    <a:pt x="8636" y="3049"/>
                  </a:lnTo>
                  <a:lnTo>
                    <a:pt x="19558" y="0"/>
                  </a:lnTo>
                  <a:lnTo>
                    <a:pt x="22478" y="406146"/>
                  </a:lnTo>
                  <a:lnTo>
                    <a:pt x="15367" y="437515"/>
                  </a:lnTo>
                  <a:lnTo>
                    <a:pt x="9398" y="464694"/>
                  </a:lnTo>
                  <a:lnTo>
                    <a:pt x="3428" y="490856"/>
                  </a:lnTo>
                  <a:close/>
                </a:path>
              </a:pathLst>
            </a:custGeom>
            <a:solidFill>
              <a:srgbClr val="7e7e7e"/>
            </a:solidFill>
            <a:ln w="0">
              <a:solidFill>
                <a:srgbClr val="7e7e7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Freihandform 47"/>
            <p:cNvSpPr/>
            <p:nvPr/>
          </p:nvSpPr>
          <p:spPr>
            <a:xfrm>
              <a:off x="1535040" y="5175000"/>
              <a:ext cx="26640" cy="33660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336600"/>
                <a:gd name="textAreaBottom" fmla="*/ 336960 h 336600"/>
              </a:gdLst>
              <a:ahLst/>
              <a:rect l="textAreaLeft" t="textAreaTop" r="textAreaRight" b="textAreaBottom"/>
              <a:pathLst>
                <a:path w="21971" h="412497">
                  <a:moveTo>
                    <a:pt x="2920" y="412496"/>
                  </a:moveTo>
                  <a:lnTo>
                    <a:pt x="0" y="6350"/>
                  </a:lnTo>
                  <a:lnTo>
                    <a:pt x="5842" y="4573"/>
                  </a:lnTo>
                  <a:lnTo>
                    <a:pt x="19557" y="0"/>
                  </a:lnTo>
                  <a:lnTo>
                    <a:pt x="21970" y="325375"/>
                  </a:lnTo>
                  <a:lnTo>
                    <a:pt x="20573" y="332106"/>
                  </a:lnTo>
                  <a:lnTo>
                    <a:pt x="8254" y="388494"/>
                  </a:lnTo>
                  <a:lnTo>
                    <a:pt x="2920" y="412496"/>
                  </a:lnTo>
                  <a:close/>
                </a:path>
              </a:pathLst>
            </a:custGeom>
            <a:solidFill>
              <a:srgbClr val="7b7b7b"/>
            </a:solidFill>
            <a:ln w="0">
              <a:solidFill>
                <a:srgbClr val="7b7b7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Freihandform 48"/>
            <p:cNvSpPr/>
            <p:nvPr/>
          </p:nvSpPr>
          <p:spPr>
            <a:xfrm>
              <a:off x="1560600" y="5168520"/>
              <a:ext cx="25200" cy="27144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71440"/>
                <a:gd name="textAreaBottom" fmla="*/ 271800 h 271440"/>
              </a:gdLst>
              <a:ahLst/>
              <a:rect l="textAreaLeft" t="textAreaTop" r="textAreaRight" b="textAreaBottom"/>
              <a:pathLst>
                <a:path w="21337" h="332869">
                  <a:moveTo>
                    <a:pt x="2413" y="332868"/>
                  </a:moveTo>
                  <a:lnTo>
                    <a:pt x="0" y="7493"/>
                  </a:lnTo>
                  <a:lnTo>
                    <a:pt x="1905" y="6858"/>
                  </a:lnTo>
                  <a:lnTo>
                    <a:pt x="16383" y="1270"/>
                  </a:lnTo>
                  <a:lnTo>
                    <a:pt x="19558" y="0"/>
                  </a:lnTo>
                  <a:lnTo>
                    <a:pt x="21336" y="241047"/>
                  </a:lnTo>
                  <a:lnTo>
                    <a:pt x="12955" y="282830"/>
                  </a:lnTo>
                  <a:lnTo>
                    <a:pt x="2413" y="332868"/>
                  </a:lnTo>
                  <a:close/>
                </a:path>
              </a:pathLst>
            </a:custGeom>
            <a:solidFill>
              <a:srgbClr val="787878"/>
            </a:solidFill>
            <a:ln w="0">
              <a:solidFill>
                <a:srgbClr val="78787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Freihandform 49"/>
            <p:cNvSpPr/>
            <p:nvPr/>
          </p:nvSpPr>
          <p:spPr>
            <a:xfrm>
              <a:off x="1584360" y="5160600"/>
              <a:ext cx="25200" cy="20484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04840"/>
                <a:gd name="textAreaBottom" fmla="*/ 205200 h 204840"/>
              </a:gdLst>
              <a:ahLst/>
              <a:rect l="textAreaLeft" t="textAreaTop" r="textAreaRight" b="textAreaBottom"/>
              <a:pathLst>
                <a:path w="20703" h="250573">
                  <a:moveTo>
                    <a:pt x="1778" y="250572"/>
                  </a:moveTo>
                  <a:lnTo>
                    <a:pt x="0" y="9398"/>
                  </a:lnTo>
                  <a:lnTo>
                    <a:pt x="3556" y="7874"/>
                  </a:lnTo>
                  <a:lnTo>
                    <a:pt x="15749" y="2033"/>
                  </a:lnTo>
                  <a:lnTo>
                    <a:pt x="19558" y="0"/>
                  </a:lnTo>
                  <a:lnTo>
                    <a:pt x="20702" y="151258"/>
                  </a:lnTo>
                  <a:lnTo>
                    <a:pt x="20447" y="152909"/>
                  </a:lnTo>
                  <a:lnTo>
                    <a:pt x="12955" y="193929"/>
                  </a:lnTo>
                  <a:lnTo>
                    <a:pt x="4827" y="235840"/>
                  </a:lnTo>
                  <a:lnTo>
                    <a:pt x="1778" y="250572"/>
                  </a:lnTo>
                  <a:close/>
                </a:path>
              </a:pathLst>
            </a:custGeom>
            <a:solidFill>
              <a:srgbClr val="757575"/>
            </a:solidFill>
            <a:ln w="0">
              <a:solidFill>
                <a:srgbClr val="75757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Freihandform 50"/>
            <p:cNvSpPr/>
            <p:nvPr/>
          </p:nvSpPr>
          <p:spPr>
            <a:xfrm>
              <a:off x="1608120" y="5149800"/>
              <a:ext cx="25200" cy="13320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w="19940" h="164846">
                  <a:moveTo>
                    <a:pt x="1144" y="164845"/>
                  </a:moveTo>
                  <a:lnTo>
                    <a:pt x="0" y="13715"/>
                  </a:lnTo>
                  <a:lnTo>
                    <a:pt x="1778" y="12700"/>
                  </a:lnTo>
                  <a:lnTo>
                    <a:pt x="9398" y="8000"/>
                  </a:lnTo>
                  <a:lnTo>
                    <a:pt x="16130" y="3048"/>
                  </a:lnTo>
                  <a:lnTo>
                    <a:pt x="19686" y="0"/>
                  </a:lnTo>
                  <a:lnTo>
                    <a:pt x="19939" y="46355"/>
                  </a:lnTo>
                  <a:lnTo>
                    <a:pt x="17781" y="62738"/>
                  </a:lnTo>
                  <a:lnTo>
                    <a:pt x="12066" y="100456"/>
                  </a:lnTo>
                  <a:lnTo>
                    <a:pt x="5589" y="139700"/>
                  </a:lnTo>
                  <a:lnTo>
                    <a:pt x="1144" y="164845"/>
                  </a:lnTo>
                  <a:close/>
                </a:path>
              </a:pathLst>
            </a:custGeom>
            <a:solidFill>
              <a:srgbClr val="727272"/>
            </a:solidFill>
            <a:ln w="0">
              <a:solidFill>
                <a:srgbClr val="72727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Freihandform 51"/>
            <p:cNvSpPr/>
            <p:nvPr/>
          </p:nvSpPr>
          <p:spPr>
            <a:xfrm>
              <a:off x="1633680" y="5143320"/>
              <a:ext cx="7920" cy="4428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6604" h="53594">
                  <a:moveTo>
                    <a:pt x="253" y="-11943"/>
                  </a:moveTo>
                  <a:lnTo>
                    <a:pt x="0" y="7112"/>
                  </a:lnTo>
                  <a:lnTo>
                    <a:pt x="253" y="6985"/>
                  </a:lnTo>
                  <a:lnTo>
                    <a:pt x="6603" y="0"/>
                  </a:lnTo>
                  <a:lnTo>
                    <a:pt x="4064" y="22479"/>
                  </a:lnTo>
                  <a:lnTo>
                    <a:pt x="1270" y="-19689"/>
                  </a:lnTo>
                  <a:lnTo>
                    <a:pt x="253" y="-11943"/>
                  </a:lnTo>
                  <a:close/>
                </a:path>
              </a:pathLst>
            </a:custGeom>
            <a:solidFill>
              <a:srgbClr val="6f6f6f"/>
            </a:solidFill>
            <a:ln w="0">
              <a:solidFill>
                <a:srgbClr val="6f6f6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Freihandform 52"/>
            <p:cNvSpPr/>
            <p:nvPr/>
          </p:nvSpPr>
          <p:spPr>
            <a:xfrm>
              <a:off x="353880" y="5143320"/>
              <a:ext cx="1287720" cy="797040"/>
            </a:xfrm>
            <a:custGeom>
              <a:avLst/>
              <a:gdLst>
                <a:gd name="textAreaLeft" fmla="*/ 0 w 1287720"/>
                <a:gd name="textAreaRight" fmla="*/ 1288080 w 1287720"/>
                <a:gd name="textAreaTop" fmla="*/ 0 h 797040"/>
                <a:gd name="textAreaBottom" fmla="*/ 797400 h 797040"/>
              </a:gdLst>
              <a:ahLst/>
              <a:rect l="textAreaLeft" t="textAreaTop" r="textAreaRight" b="textAreaBottom"/>
              <a:pathLst>
                <a:path w="1046302" h="977114">
                  <a:moveTo>
                    <a:pt x="148268" y="871747"/>
                  </a:moveTo>
                  <a:lnTo>
                    <a:pt x="149110" y="877338"/>
                  </a:lnTo>
                  <a:lnTo>
                    <a:pt x="150374" y="882498"/>
                  </a:lnTo>
                  <a:lnTo>
                    <a:pt x="152901" y="887659"/>
                  </a:lnTo>
                  <a:lnTo>
                    <a:pt x="155850" y="893250"/>
                  </a:lnTo>
                  <a:lnTo>
                    <a:pt x="160062" y="897981"/>
                  </a:lnTo>
                  <a:lnTo>
                    <a:pt x="165116" y="903142"/>
                  </a:lnTo>
                  <a:lnTo>
                    <a:pt x="171013" y="907873"/>
                  </a:lnTo>
                  <a:lnTo>
                    <a:pt x="177753" y="912603"/>
                  </a:lnTo>
                  <a:lnTo>
                    <a:pt x="184914" y="917334"/>
                  </a:lnTo>
                  <a:lnTo>
                    <a:pt x="192917" y="922065"/>
                  </a:lnTo>
                  <a:lnTo>
                    <a:pt x="211450" y="930666"/>
                  </a:lnTo>
                  <a:lnTo>
                    <a:pt x="232932" y="938837"/>
                  </a:lnTo>
                  <a:lnTo>
                    <a:pt x="256520" y="946149"/>
                  </a:lnTo>
                  <a:lnTo>
                    <a:pt x="282636" y="953030"/>
                  </a:lnTo>
                  <a:lnTo>
                    <a:pt x="311279" y="959051"/>
                  </a:lnTo>
                  <a:lnTo>
                    <a:pt x="341606" y="964211"/>
                  </a:lnTo>
                  <a:lnTo>
                    <a:pt x="374040" y="968942"/>
                  </a:lnTo>
                  <a:lnTo>
                    <a:pt x="408158" y="972383"/>
                  </a:lnTo>
                  <a:lnTo>
                    <a:pt x="443119" y="974963"/>
                  </a:lnTo>
                  <a:lnTo>
                    <a:pt x="480186" y="976683"/>
                  </a:lnTo>
                  <a:lnTo>
                    <a:pt x="517674" y="977113"/>
                  </a:lnTo>
                  <a:lnTo>
                    <a:pt x="555584" y="976683"/>
                  </a:lnTo>
                  <a:lnTo>
                    <a:pt x="592230" y="974963"/>
                  </a:lnTo>
                  <a:lnTo>
                    <a:pt x="627612" y="972383"/>
                  </a:lnTo>
                  <a:lnTo>
                    <a:pt x="661731" y="968942"/>
                  </a:lnTo>
                  <a:lnTo>
                    <a:pt x="693743" y="964211"/>
                  </a:lnTo>
                  <a:lnTo>
                    <a:pt x="724071" y="959051"/>
                  </a:lnTo>
                  <a:lnTo>
                    <a:pt x="752713" y="953030"/>
                  </a:lnTo>
                  <a:lnTo>
                    <a:pt x="778829" y="946149"/>
                  </a:lnTo>
                  <a:lnTo>
                    <a:pt x="802838" y="938837"/>
                  </a:lnTo>
                  <a:lnTo>
                    <a:pt x="823899" y="930666"/>
                  </a:lnTo>
                  <a:lnTo>
                    <a:pt x="842432" y="922065"/>
                  </a:lnTo>
                  <a:lnTo>
                    <a:pt x="850857" y="917334"/>
                  </a:lnTo>
                  <a:lnTo>
                    <a:pt x="858017" y="912603"/>
                  </a:lnTo>
                  <a:lnTo>
                    <a:pt x="864757" y="907873"/>
                  </a:lnTo>
                  <a:lnTo>
                    <a:pt x="870654" y="903142"/>
                  </a:lnTo>
                  <a:lnTo>
                    <a:pt x="875708" y="897981"/>
                  </a:lnTo>
                  <a:lnTo>
                    <a:pt x="879499" y="893250"/>
                  </a:lnTo>
                  <a:lnTo>
                    <a:pt x="882869" y="887659"/>
                  </a:lnTo>
                  <a:lnTo>
                    <a:pt x="885396" y="882498"/>
                  </a:lnTo>
                  <a:lnTo>
                    <a:pt x="886660" y="877338"/>
                  </a:lnTo>
                  <a:lnTo>
                    <a:pt x="887081" y="871747"/>
                  </a:lnTo>
                  <a:lnTo>
                    <a:pt x="887924" y="790894"/>
                  </a:lnTo>
                  <a:lnTo>
                    <a:pt x="890872" y="775842"/>
                  </a:lnTo>
                  <a:lnTo>
                    <a:pt x="894242" y="759500"/>
                  </a:lnTo>
                  <a:lnTo>
                    <a:pt x="898033" y="741867"/>
                  </a:lnTo>
                  <a:lnTo>
                    <a:pt x="902245" y="722944"/>
                  </a:lnTo>
                  <a:lnTo>
                    <a:pt x="906878" y="702730"/>
                  </a:lnTo>
                  <a:lnTo>
                    <a:pt x="911512" y="681657"/>
                  </a:lnTo>
                  <a:lnTo>
                    <a:pt x="916566" y="659294"/>
                  </a:lnTo>
                  <a:lnTo>
                    <a:pt x="922042" y="636500"/>
                  </a:lnTo>
                  <a:lnTo>
                    <a:pt x="927097" y="612416"/>
                  </a:lnTo>
                  <a:lnTo>
                    <a:pt x="932994" y="587473"/>
                  </a:lnTo>
                  <a:lnTo>
                    <a:pt x="944788" y="535864"/>
                  </a:lnTo>
                  <a:lnTo>
                    <a:pt x="957003" y="482106"/>
                  </a:lnTo>
                  <a:lnTo>
                    <a:pt x="969218" y="426627"/>
                  </a:lnTo>
                  <a:lnTo>
                    <a:pt x="993649" y="313089"/>
                  </a:lnTo>
                  <a:lnTo>
                    <a:pt x="1005022" y="256750"/>
                  </a:lnTo>
                  <a:lnTo>
                    <a:pt x="1015552" y="201272"/>
                  </a:lnTo>
                  <a:lnTo>
                    <a:pt x="1025240" y="147083"/>
                  </a:lnTo>
                  <a:lnTo>
                    <a:pt x="1029874" y="120849"/>
                  </a:lnTo>
                  <a:lnTo>
                    <a:pt x="1033664" y="95045"/>
                  </a:lnTo>
                  <a:lnTo>
                    <a:pt x="1037455" y="70101"/>
                  </a:lnTo>
                  <a:lnTo>
                    <a:pt x="1040825" y="46018"/>
                  </a:lnTo>
                  <a:lnTo>
                    <a:pt x="1043774" y="22794"/>
                  </a:lnTo>
                  <a:lnTo>
                    <a:pt x="1046301" y="0"/>
                  </a:lnTo>
                  <a:lnTo>
                    <a:pt x="1039983" y="6881"/>
                  </a:lnTo>
                  <a:lnTo>
                    <a:pt x="1031558" y="13763"/>
                  </a:lnTo>
                  <a:lnTo>
                    <a:pt x="1021870" y="20213"/>
                  </a:lnTo>
                  <a:lnTo>
                    <a:pt x="1010076" y="26234"/>
                  </a:lnTo>
                  <a:lnTo>
                    <a:pt x="997019" y="31825"/>
                  </a:lnTo>
                  <a:lnTo>
                    <a:pt x="982697" y="37416"/>
                  </a:lnTo>
                  <a:lnTo>
                    <a:pt x="967112" y="42577"/>
                  </a:lnTo>
                  <a:lnTo>
                    <a:pt x="950264" y="47308"/>
                  </a:lnTo>
                  <a:lnTo>
                    <a:pt x="932151" y="52039"/>
                  </a:lnTo>
                  <a:lnTo>
                    <a:pt x="913618" y="56769"/>
                  </a:lnTo>
                  <a:lnTo>
                    <a:pt x="894242" y="60640"/>
                  </a:lnTo>
                  <a:lnTo>
                    <a:pt x="874445" y="64510"/>
                  </a:lnTo>
                  <a:lnTo>
                    <a:pt x="832744" y="71391"/>
                  </a:lnTo>
                  <a:lnTo>
                    <a:pt x="789780" y="77842"/>
                  </a:lnTo>
                  <a:lnTo>
                    <a:pt x="746816" y="83003"/>
                  </a:lnTo>
                  <a:lnTo>
                    <a:pt x="704695" y="87304"/>
                  </a:lnTo>
                  <a:lnTo>
                    <a:pt x="663837" y="90744"/>
                  </a:lnTo>
                  <a:lnTo>
                    <a:pt x="644882" y="92465"/>
                  </a:lnTo>
                  <a:lnTo>
                    <a:pt x="626348" y="93755"/>
                  </a:lnTo>
                  <a:lnTo>
                    <a:pt x="608657" y="94615"/>
                  </a:lnTo>
                  <a:lnTo>
                    <a:pt x="591809" y="95905"/>
                  </a:lnTo>
                  <a:lnTo>
                    <a:pt x="576224" y="96765"/>
                  </a:lnTo>
                  <a:lnTo>
                    <a:pt x="562323" y="97195"/>
                  </a:lnTo>
                  <a:lnTo>
                    <a:pt x="549266" y="97626"/>
                  </a:lnTo>
                  <a:lnTo>
                    <a:pt x="538314" y="98055"/>
                  </a:lnTo>
                  <a:lnTo>
                    <a:pt x="528626" y="98486"/>
                  </a:lnTo>
                  <a:lnTo>
                    <a:pt x="520623" y="98486"/>
                  </a:lnTo>
                  <a:lnTo>
                    <a:pt x="511777" y="98486"/>
                  </a:lnTo>
                  <a:lnTo>
                    <a:pt x="501668" y="98055"/>
                  </a:lnTo>
                  <a:lnTo>
                    <a:pt x="489874" y="98055"/>
                  </a:lnTo>
                  <a:lnTo>
                    <a:pt x="476395" y="97195"/>
                  </a:lnTo>
                  <a:lnTo>
                    <a:pt x="462074" y="96765"/>
                  </a:lnTo>
                  <a:lnTo>
                    <a:pt x="446489" y="95905"/>
                  </a:lnTo>
                  <a:lnTo>
                    <a:pt x="430062" y="95045"/>
                  </a:lnTo>
                  <a:lnTo>
                    <a:pt x="412370" y="94185"/>
                  </a:lnTo>
                  <a:lnTo>
                    <a:pt x="394258" y="92895"/>
                  </a:lnTo>
                  <a:lnTo>
                    <a:pt x="375303" y="91605"/>
                  </a:lnTo>
                  <a:lnTo>
                    <a:pt x="335288" y="88164"/>
                  </a:lnTo>
                  <a:lnTo>
                    <a:pt x="294009" y="84294"/>
                  </a:lnTo>
                  <a:lnTo>
                    <a:pt x="252308" y="79563"/>
                  </a:lnTo>
                  <a:lnTo>
                    <a:pt x="210608" y="73972"/>
                  </a:lnTo>
                  <a:lnTo>
                    <a:pt x="169750" y="67521"/>
                  </a:lnTo>
                  <a:lnTo>
                    <a:pt x="131419" y="60210"/>
                  </a:lnTo>
                  <a:lnTo>
                    <a:pt x="113307" y="56339"/>
                  </a:lnTo>
                  <a:lnTo>
                    <a:pt x="96037" y="52039"/>
                  </a:lnTo>
                  <a:lnTo>
                    <a:pt x="79188" y="47738"/>
                  </a:lnTo>
                  <a:lnTo>
                    <a:pt x="64025" y="43007"/>
                  </a:lnTo>
                  <a:lnTo>
                    <a:pt x="49703" y="37846"/>
                  </a:lnTo>
                  <a:lnTo>
                    <a:pt x="37067" y="32685"/>
                  </a:lnTo>
                  <a:lnTo>
                    <a:pt x="25273" y="27094"/>
                  </a:lnTo>
                  <a:lnTo>
                    <a:pt x="15163" y="21504"/>
                  </a:lnTo>
                  <a:lnTo>
                    <a:pt x="6739" y="15483"/>
                  </a:lnTo>
                  <a:lnTo>
                    <a:pt x="0" y="9031"/>
                  </a:lnTo>
                  <a:lnTo>
                    <a:pt x="1684" y="27955"/>
                  </a:lnTo>
                  <a:lnTo>
                    <a:pt x="4212" y="48598"/>
                  </a:lnTo>
                  <a:lnTo>
                    <a:pt x="7160" y="70101"/>
                  </a:lnTo>
                  <a:lnTo>
                    <a:pt x="10109" y="92895"/>
                  </a:lnTo>
                  <a:lnTo>
                    <a:pt x="13900" y="116549"/>
                  </a:lnTo>
                  <a:lnTo>
                    <a:pt x="17691" y="141062"/>
                  </a:lnTo>
                  <a:lnTo>
                    <a:pt x="21903" y="166436"/>
                  </a:lnTo>
                  <a:lnTo>
                    <a:pt x="26536" y="192240"/>
                  </a:lnTo>
                  <a:lnTo>
                    <a:pt x="36224" y="246429"/>
                  </a:lnTo>
                  <a:lnTo>
                    <a:pt x="47176" y="301907"/>
                  </a:lnTo>
                  <a:lnTo>
                    <a:pt x="58127" y="358247"/>
                  </a:lnTo>
                  <a:lnTo>
                    <a:pt x="69922" y="415015"/>
                  </a:lnTo>
                  <a:lnTo>
                    <a:pt x="81294" y="471784"/>
                  </a:lnTo>
                  <a:lnTo>
                    <a:pt x="93088" y="526833"/>
                  </a:lnTo>
                  <a:lnTo>
                    <a:pt x="104461" y="579731"/>
                  </a:lnTo>
                  <a:lnTo>
                    <a:pt x="109937" y="605535"/>
                  </a:lnTo>
                  <a:lnTo>
                    <a:pt x="114992" y="630479"/>
                  </a:lnTo>
                  <a:lnTo>
                    <a:pt x="120046" y="654563"/>
                  </a:lnTo>
                  <a:lnTo>
                    <a:pt x="125101" y="677357"/>
                  </a:lnTo>
                  <a:lnTo>
                    <a:pt x="129313" y="699290"/>
                  </a:lnTo>
                  <a:lnTo>
                    <a:pt x="133946" y="720363"/>
                  </a:lnTo>
                  <a:lnTo>
                    <a:pt x="137737" y="740147"/>
                  </a:lnTo>
                  <a:lnTo>
                    <a:pt x="141528" y="758639"/>
                  </a:lnTo>
                  <a:lnTo>
                    <a:pt x="144477" y="775412"/>
                  </a:lnTo>
                  <a:lnTo>
                    <a:pt x="147425" y="790894"/>
                  </a:lnTo>
                  <a:lnTo>
                    <a:pt x="148268" y="871747"/>
                  </a:lnTo>
                  <a:close/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Freihandform 53"/>
            <p:cNvSpPr/>
            <p:nvPr/>
          </p:nvSpPr>
          <p:spPr>
            <a:xfrm>
              <a:off x="338040" y="5047920"/>
              <a:ext cx="1306440" cy="193680"/>
            </a:xfrm>
            <a:custGeom>
              <a:avLst/>
              <a:gdLst>
                <a:gd name="textAreaLeft" fmla="*/ 0 w 1306440"/>
                <a:gd name="textAreaRight" fmla="*/ 1306800 w 130644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w="1062736" h="236730">
                  <a:moveTo>
                    <a:pt x="0" y="113157"/>
                  </a:moveTo>
                  <a:lnTo>
                    <a:pt x="0" y="106173"/>
                  </a:lnTo>
                  <a:lnTo>
                    <a:pt x="254" y="99187"/>
                  </a:lnTo>
                  <a:lnTo>
                    <a:pt x="761" y="96267"/>
                  </a:lnTo>
                  <a:lnTo>
                    <a:pt x="1524" y="93980"/>
                  </a:lnTo>
                  <a:lnTo>
                    <a:pt x="4825" y="88647"/>
                  </a:lnTo>
                  <a:lnTo>
                    <a:pt x="9525" y="83312"/>
                  </a:lnTo>
                  <a:lnTo>
                    <a:pt x="15240" y="78232"/>
                  </a:lnTo>
                  <a:lnTo>
                    <a:pt x="22097" y="73153"/>
                  </a:lnTo>
                  <a:lnTo>
                    <a:pt x="29718" y="68327"/>
                  </a:lnTo>
                  <a:lnTo>
                    <a:pt x="38607" y="63628"/>
                  </a:lnTo>
                  <a:lnTo>
                    <a:pt x="48386" y="59055"/>
                  </a:lnTo>
                  <a:lnTo>
                    <a:pt x="59181" y="54611"/>
                  </a:lnTo>
                  <a:lnTo>
                    <a:pt x="70738" y="50292"/>
                  </a:lnTo>
                  <a:lnTo>
                    <a:pt x="83438" y="46229"/>
                  </a:lnTo>
                  <a:lnTo>
                    <a:pt x="96774" y="42292"/>
                  </a:lnTo>
                  <a:lnTo>
                    <a:pt x="111125" y="38609"/>
                  </a:lnTo>
                  <a:lnTo>
                    <a:pt x="126238" y="34798"/>
                  </a:lnTo>
                  <a:lnTo>
                    <a:pt x="141985" y="31369"/>
                  </a:lnTo>
                  <a:lnTo>
                    <a:pt x="158622" y="28194"/>
                  </a:lnTo>
                  <a:lnTo>
                    <a:pt x="176021" y="25019"/>
                  </a:lnTo>
                  <a:lnTo>
                    <a:pt x="212724" y="19178"/>
                  </a:lnTo>
                  <a:lnTo>
                    <a:pt x="252349" y="14352"/>
                  </a:lnTo>
                  <a:lnTo>
                    <a:pt x="294132" y="9906"/>
                  </a:lnTo>
                  <a:lnTo>
                    <a:pt x="338074" y="6350"/>
                  </a:lnTo>
                  <a:lnTo>
                    <a:pt x="383921" y="3556"/>
                  </a:lnTo>
                  <a:lnTo>
                    <a:pt x="431672" y="1652"/>
                  </a:lnTo>
                  <a:lnTo>
                    <a:pt x="480694" y="381"/>
                  </a:lnTo>
                  <a:lnTo>
                    <a:pt x="531241" y="0"/>
                  </a:lnTo>
                  <a:lnTo>
                    <a:pt x="579882" y="509"/>
                  </a:lnTo>
                  <a:lnTo>
                    <a:pt x="627379" y="1905"/>
                  </a:lnTo>
                  <a:lnTo>
                    <a:pt x="673735" y="4065"/>
                  </a:lnTo>
                  <a:lnTo>
                    <a:pt x="718439" y="7367"/>
                  </a:lnTo>
                  <a:lnTo>
                    <a:pt x="761491" y="11304"/>
                  </a:lnTo>
                  <a:lnTo>
                    <a:pt x="802640" y="16003"/>
                  </a:lnTo>
                  <a:lnTo>
                    <a:pt x="841629" y="21463"/>
                  </a:lnTo>
                  <a:lnTo>
                    <a:pt x="878204" y="27686"/>
                  </a:lnTo>
                  <a:lnTo>
                    <a:pt x="912494" y="34291"/>
                  </a:lnTo>
                  <a:lnTo>
                    <a:pt x="943737" y="41784"/>
                  </a:lnTo>
                  <a:lnTo>
                    <a:pt x="958341" y="45721"/>
                  </a:lnTo>
                  <a:lnTo>
                    <a:pt x="972057" y="49785"/>
                  </a:lnTo>
                  <a:lnTo>
                    <a:pt x="985138" y="53975"/>
                  </a:lnTo>
                  <a:lnTo>
                    <a:pt x="997204" y="58421"/>
                  </a:lnTo>
                  <a:lnTo>
                    <a:pt x="1008507" y="62738"/>
                  </a:lnTo>
                  <a:lnTo>
                    <a:pt x="1019048" y="67311"/>
                  </a:lnTo>
                  <a:lnTo>
                    <a:pt x="1028573" y="72010"/>
                  </a:lnTo>
                  <a:lnTo>
                    <a:pt x="1037208" y="76709"/>
                  </a:lnTo>
                  <a:lnTo>
                    <a:pt x="1044829" y="81661"/>
                  </a:lnTo>
                  <a:lnTo>
                    <a:pt x="1051432" y="86615"/>
                  </a:lnTo>
                  <a:lnTo>
                    <a:pt x="1057021" y="91694"/>
                  </a:lnTo>
                  <a:lnTo>
                    <a:pt x="1061719" y="96902"/>
                  </a:lnTo>
                  <a:lnTo>
                    <a:pt x="1062608" y="103632"/>
                  </a:lnTo>
                  <a:lnTo>
                    <a:pt x="1062735" y="108712"/>
                  </a:lnTo>
                  <a:lnTo>
                    <a:pt x="1062354" y="118365"/>
                  </a:lnTo>
                  <a:lnTo>
                    <a:pt x="1061719" y="124334"/>
                  </a:lnTo>
                  <a:lnTo>
                    <a:pt x="1059560" y="130430"/>
                  </a:lnTo>
                  <a:lnTo>
                    <a:pt x="1056258" y="136398"/>
                  </a:lnTo>
                  <a:lnTo>
                    <a:pt x="1051432" y="142113"/>
                  </a:lnTo>
                  <a:lnTo>
                    <a:pt x="1045591" y="147955"/>
                  </a:lnTo>
                  <a:lnTo>
                    <a:pt x="1038352" y="153543"/>
                  </a:lnTo>
                  <a:lnTo>
                    <a:pt x="1030096" y="159005"/>
                  </a:lnTo>
                  <a:lnTo>
                    <a:pt x="1020571" y="164338"/>
                  </a:lnTo>
                  <a:lnTo>
                    <a:pt x="1009904" y="169546"/>
                  </a:lnTo>
                  <a:lnTo>
                    <a:pt x="998093" y="174753"/>
                  </a:lnTo>
                  <a:lnTo>
                    <a:pt x="985393" y="179579"/>
                  </a:lnTo>
                  <a:lnTo>
                    <a:pt x="971549" y="184531"/>
                  </a:lnTo>
                  <a:lnTo>
                    <a:pt x="956691" y="189104"/>
                  </a:lnTo>
                  <a:lnTo>
                    <a:pt x="940943" y="193675"/>
                  </a:lnTo>
                  <a:lnTo>
                    <a:pt x="924305" y="197867"/>
                  </a:lnTo>
                  <a:lnTo>
                    <a:pt x="906779" y="202057"/>
                  </a:lnTo>
                  <a:lnTo>
                    <a:pt x="888238" y="205994"/>
                  </a:lnTo>
                  <a:lnTo>
                    <a:pt x="869060" y="209805"/>
                  </a:lnTo>
                  <a:lnTo>
                    <a:pt x="848994" y="213106"/>
                  </a:lnTo>
                  <a:lnTo>
                    <a:pt x="828040" y="216536"/>
                  </a:lnTo>
                  <a:lnTo>
                    <a:pt x="806577" y="219456"/>
                  </a:lnTo>
                  <a:lnTo>
                    <a:pt x="784352" y="222378"/>
                  </a:lnTo>
                  <a:lnTo>
                    <a:pt x="737996" y="227457"/>
                  </a:lnTo>
                  <a:lnTo>
                    <a:pt x="689102" y="231394"/>
                  </a:lnTo>
                  <a:lnTo>
                    <a:pt x="638174" y="234316"/>
                  </a:lnTo>
                  <a:lnTo>
                    <a:pt x="585469" y="236093"/>
                  </a:lnTo>
                  <a:lnTo>
                    <a:pt x="531241" y="236729"/>
                  </a:lnTo>
                  <a:lnTo>
                    <a:pt x="476885" y="236093"/>
                  </a:lnTo>
                  <a:lnTo>
                    <a:pt x="424179" y="234316"/>
                  </a:lnTo>
                  <a:lnTo>
                    <a:pt x="373252" y="231394"/>
                  </a:lnTo>
                  <a:lnTo>
                    <a:pt x="324611" y="227457"/>
                  </a:lnTo>
                  <a:lnTo>
                    <a:pt x="278129" y="222378"/>
                  </a:lnTo>
                  <a:lnTo>
                    <a:pt x="255778" y="219456"/>
                  </a:lnTo>
                  <a:lnTo>
                    <a:pt x="234314" y="216536"/>
                  </a:lnTo>
                  <a:lnTo>
                    <a:pt x="213486" y="213106"/>
                  </a:lnTo>
                  <a:lnTo>
                    <a:pt x="193421" y="209805"/>
                  </a:lnTo>
                  <a:lnTo>
                    <a:pt x="174117" y="205994"/>
                  </a:lnTo>
                  <a:lnTo>
                    <a:pt x="155702" y="202057"/>
                  </a:lnTo>
                  <a:lnTo>
                    <a:pt x="138175" y="197867"/>
                  </a:lnTo>
                  <a:lnTo>
                    <a:pt x="121411" y="193675"/>
                  </a:lnTo>
                  <a:lnTo>
                    <a:pt x="105663" y="189104"/>
                  </a:lnTo>
                  <a:lnTo>
                    <a:pt x="90804" y="184531"/>
                  </a:lnTo>
                  <a:lnTo>
                    <a:pt x="77088" y="179579"/>
                  </a:lnTo>
                  <a:lnTo>
                    <a:pt x="64261" y="174753"/>
                  </a:lnTo>
                  <a:lnTo>
                    <a:pt x="52450" y="169546"/>
                  </a:lnTo>
                  <a:lnTo>
                    <a:pt x="41782" y="164338"/>
                  </a:lnTo>
                  <a:lnTo>
                    <a:pt x="32384" y="159005"/>
                  </a:lnTo>
                  <a:lnTo>
                    <a:pt x="24002" y="153543"/>
                  </a:lnTo>
                  <a:lnTo>
                    <a:pt x="16891" y="147955"/>
                  </a:lnTo>
                  <a:lnTo>
                    <a:pt x="10922" y="142113"/>
                  </a:lnTo>
                  <a:lnTo>
                    <a:pt x="6350" y="136398"/>
                  </a:lnTo>
                  <a:lnTo>
                    <a:pt x="2793" y="130430"/>
                  </a:lnTo>
                  <a:lnTo>
                    <a:pt x="888" y="124334"/>
                  </a:lnTo>
                  <a:lnTo>
                    <a:pt x="127" y="118365"/>
                  </a:lnTo>
                  <a:lnTo>
                    <a:pt x="0" y="113157"/>
                  </a:lnTo>
                  <a:close/>
                </a:path>
              </a:pathLst>
            </a:custGeom>
            <a:solidFill>
              <a:srgbClr val="e5e5e5"/>
            </a:solidFill>
            <a:ln w="0">
              <a:solidFill>
                <a:srgbClr val="e5e5e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Freihandform 54"/>
            <p:cNvSpPr/>
            <p:nvPr/>
          </p:nvSpPr>
          <p:spPr>
            <a:xfrm>
              <a:off x="338040" y="5047920"/>
              <a:ext cx="1306440" cy="193680"/>
            </a:xfrm>
            <a:custGeom>
              <a:avLst/>
              <a:gdLst>
                <a:gd name="textAreaLeft" fmla="*/ 0 w 1306440"/>
                <a:gd name="textAreaRight" fmla="*/ 1306800 w 130644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w="1062730" h="236538">
                  <a:moveTo>
                    <a:pt x="0" y="118269"/>
                  </a:moveTo>
                  <a:lnTo>
                    <a:pt x="842" y="124290"/>
                  </a:lnTo>
                  <a:lnTo>
                    <a:pt x="2948" y="130311"/>
                  </a:lnTo>
                  <a:lnTo>
                    <a:pt x="6318" y="136332"/>
                  </a:lnTo>
                  <a:lnTo>
                    <a:pt x="10951" y="141923"/>
                  </a:lnTo>
                  <a:lnTo>
                    <a:pt x="16848" y="147944"/>
                  </a:lnTo>
                  <a:lnTo>
                    <a:pt x="24009" y="153534"/>
                  </a:lnTo>
                  <a:lnTo>
                    <a:pt x="32433" y="158695"/>
                  </a:lnTo>
                  <a:lnTo>
                    <a:pt x="41700" y="164286"/>
                  </a:lnTo>
                  <a:lnTo>
                    <a:pt x="52652" y="169447"/>
                  </a:lnTo>
                  <a:lnTo>
                    <a:pt x="64446" y="174608"/>
                  </a:lnTo>
                  <a:lnTo>
                    <a:pt x="77082" y="179339"/>
                  </a:lnTo>
                  <a:lnTo>
                    <a:pt x="90982" y="184499"/>
                  </a:lnTo>
                  <a:lnTo>
                    <a:pt x="105725" y="188800"/>
                  </a:lnTo>
                  <a:lnTo>
                    <a:pt x="121310" y="193531"/>
                  </a:lnTo>
                  <a:lnTo>
                    <a:pt x="138159" y="197831"/>
                  </a:lnTo>
                  <a:lnTo>
                    <a:pt x="155850" y="202132"/>
                  </a:lnTo>
                  <a:lnTo>
                    <a:pt x="174383" y="206002"/>
                  </a:lnTo>
                  <a:lnTo>
                    <a:pt x="193338" y="209443"/>
                  </a:lnTo>
                  <a:lnTo>
                    <a:pt x="213556" y="212884"/>
                  </a:lnTo>
                  <a:lnTo>
                    <a:pt x="234196" y="216324"/>
                  </a:lnTo>
                  <a:lnTo>
                    <a:pt x="255678" y="219335"/>
                  </a:lnTo>
                  <a:lnTo>
                    <a:pt x="278002" y="222345"/>
                  </a:lnTo>
                  <a:lnTo>
                    <a:pt x="324757" y="227506"/>
                  </a:lnTo>
                  <a:lnTo>
                    <a:pt x="373197" y="231377"/>
                  </a:lnTo>
                  <a:lnTo>
                    <a:pt x="424165" y="233957"/>
                  </a:lnTo>
                  <a:lnTo>
                    <a:pt x="476817" y="236107"/>
                  </a:lnTo>
                  <a:lnTo>
                    <a:pt x="531154" y="236537"/>
                  </a:lnTo>
                  <a:lnTo>
                    <a:pt x="585491" y="236107"/>
                  </a:lnTo>
                  <a:lnTo>
                    <a:pt x="638143" y="233957"/>
                  </a:lnTo>
                  <a:lnTo>
                    <a:pt x="689110" y="231377"/>
                  </a:lnTo>
                  <a:lnTo>
                    <a:pt x="737971" y="227506"/>
                  </a:lnTo>
                  <a:lnTo>
                    <a:pt x="784305" y="222345"/>
                  </a:lnTo>
                  <a:lnTo>
                    <a:pt x="806629" y="219335"/>
                  </a:lnTo>
                  <a:lnTo>
                    <a:pt x="828111" y="216324"/>
                  </a:lnTo>
                  <a:lnTo>
                    <a:pt x="849172" y="212884"/>
                  </a:lnTo>
                  <a:lnTo>
                    <a:pt x="868969" y="209443"/>
                  </a:lnTo>
                  <a:lnTo>
                    <a:pt x="888345" y="206002"/>
                  </a:lnTo>
                  <a:lnTo>
                    <a:pt x="906879" y="202132"/>
                  </a:lnTo>
                  <a:lnTo>
                    <a:pt x="924149" y="197831"/>
                  </a:lnTo>
                  <a:lnTo>
                    <a:pt x="940997" y="193531"/>
                  </a:lnTo>
                  <a:lnTo>
                    <a:pt x="956582" y="188800"/>
                  </a:lnTo>
                  <a:lnTo>
                    <a:pt x="971746" y="184499"/>
                  </a:lnTo>
                  <a:lnTo>
                    <a:pt x="985646" y="179339"/>
                  </a:lnTo>
                  <a:lnTo>
                    <a:pt x="998283" y="174608"/>
                  </a:lnTo>
                  <a:lnTo>
                    <a:pt x="1010077" y="169447"/>
                  </a:lnTo>
                  <a:lnTo>
                    <a:pt x="1020607" y="164286"/>
                  </a:lnTo>
                  <a:lnTo>
                    <a:pt x="1030295" y="158695"/>
                  </a:lnTo>
                  <a:lnTo>
                    <a:pt x="1038298" y="153534"/>
                  </a:lnTo>
                  <a:lnTo>
                    <a:pt x="1045459" y="147944"/>
                  </a:lnTo>
                  <a:lnTo>
                    <a:pt x="1051356" y="141923"/>
                  </a:lnTo>
                  <a:lnTo>
                    <a:pt x="1056411" y="136332"/>
                  </a:lnTo>
                  <a:lnTo>
                    <a:pt x="1059780" y="130311"/>
                  </a:lnTo>
                  <a:lnTo>
                    <a:pt x="1061887" y="124290"/>
                  </a:lnTo>
                  <a:lnTo>
                    <a:pt x="1062308" y="118269"/>
                  </a:lnTo>
                  <a:lnTo>
                    <a:pt x="1062729" y="108807"/>
                  </a:lnTo>
                  <a:lnTo>
                    <a:pt x="1062729" y="103647"/>
                  </a:lnTo>
                  <a:lnTo>
                    <a:pt x="1061887" y="96765"/>
                  </a:lnTo>
                  <a:lnTo>
                    <a:pt x="1057253" y="91605"/>
                  </a:lnTo>
                  <a:lnTo>
                    <a:pt x="1051356" y="86444"/>
                  </a:lnTo>
                  <a:lnTo>
                    <a:pt x="1045038" y="81713"/>
                  </a:lnTo>
                  <a:lnTo>
                    <a:pt x="1037035" y="76552"/>
                  </a:lnTo>
                  <a:lnTo>
                    <a:pt x="1028610" y="71822"/>
                  </a:lnTo>
                  <a:lnTo>
                    <a:pt x="1018922" y="67091"/>
                  </a:lnTo>
                  <a:lnTo>
                    <a:pt x="1008392" y="62790"/>
                  </a:lnTo>
                  <a:lnTo>
                    <a:pt x="997440" y="58489"/>
                  </a:lnTo>
                  <a:lnTo>
                    <a:pt x="985225" y="53759"/>
                  </a:lnTo>
                  <a:lnTo>
                    <a:pt x="972167" y="49458"/>
                  </a:lnTo>
                  <a:lnTo>
                    <a:pt x="958267" y="45587"/>
                  </a:lnTo>
                  <a:lnTo>
                    <a:pt x="943946" y="41717"/>
                  </a:lnTo>
                  <a:lnTo>
                    <a:pt x="912355" y="34406"/>
                  </a:lnTo>
                  <a:lnTo>
                    <a:pt x="878236" y="27525"/>
                  </a:lnTo>
                  <a:lnTo>
                    <a:pt x="841590" y="21504"/>
                  </a:lnTo>
                  <a:lnTo>
                    <a:pt x="802838" y="15913"/>
                  </a:lnTo>
                  <a:lnTo>
                    <a:pt x="761559" y="11182"/>
                  </a:lnTo>
                  <a:lnTo>
                    <a:pt x="718595" y="7312"/>
                  </a:lnTo>
                  <a:lnTo>
                    <a:pt x="673525" y="3871"/>
                  </a:lnTo>
                  <a:lnTo>
                    <a:pt x="627191" y="1721"/>
                  </a:lnTo>
                  <a:lnTo>
                    <a:pt x="580015" y="431"/>
                  </a:lnTo>
                  <a:lnTo>
                    <a:pt x="531154" y="0"/>
                  </a:lnTo>
                  <a:lnTo>
                    <a:pt x="480608" y="431"/>
                  </a:lnTo>
                  <a:lnTo>
                    <a:pt x="431747" y="1721"/>
                  </a:lnTo>
                  <a:lnTo>
                    <a:pt x="384149" y="3441"/>
                  </a:lnTo>
                  <a:lnTo>
                    <a:pt x="338236" y="6451"/>
                  </a:lnTo>
                  <a:lnTo>
                    <a:pt x="294009" y="9892"/>
                  </a:lnTo>
                  <a:lnTo>
                    <a:pt x="252308" y="14192"/>
                  </a:lnTo>
                  <a:lnTo>
                    <a:pt x="212714" y="18923"/>
                  </a:lnTo>
                  <a:lnTo>
                    <a:pt x="176068" y="24944"/>
                  </a:lnTo>
                  <a:lnTo>
                    <a:pt x="158798" y="27955"/>
                  </a:lnTo>
                  <a:lnTo>
                    <a:pt x="141950" y="31395"/>
                  </a:lnTo>
                  <a:lnTo>
                    <a:pt x="126364" y="34836"/>
                  </a:lnTo>
                  <a:lnTo>
                    <a:pt x="111201" y="38276"/>
                  </a:lnTo>
                  <a:lnTo>
                    <a:pt x="96879" y="42147"/>
                  </a:lnTo>
                  <a:lnTo>
                    <a:pt x="83400" y="46018"/>
                  </a:lnTo>
                  <a:lnTo>
                    <a:pt x="70764" y="50318"/>
                  </a:lnTo>
                  <a:lnTo>
                    <a:pt x="59391" y="54619"/>
                  </a:lnTo>
                  <a:lnTo>
                    <a:pt x="48439" y="58920"/>
                  </a:lnTo>
                  <a:lnTo>
                    <a:pt x="38751" y="63650"/>
                  </a:lnTo>
                  <a:lnTo>
                    <a:pt x="29906" y="68381"/>
                  </a:lnTo>
                  <a:lnTo>
                    <a:pt x="22324" y="73112"/>
                  </a:lnTo>
                  <a:lnTo>
                    <a:pt x="15163" y="78273"/>
                  </a:lnTo>
                  <a:lnTo>
                    <a:pt x="9687" y="83003"/>
                  </a:lnTo>
                  <a:lnTo>
                    <a:pt x="5054" y="88594"/>
                  </a:lnTo>
                  <a:lnTo>
                    <a:pt x="1684" y="93755"/>
                  </a:lnTo>
                  <a:lnTo>
                    <a:pt x="842" y="96336"/>
                  </a:lnTo>
                  <a:lnTo>
                    <a:pt x="421" y="98916"/>
                  </a:lnTo>
                  <a:lnTo>
                    <a:pt x="0" y="106227"/>
                  </a:lnTo>
                  <a:lnTo>
                    <a:pt x="0" y="113108"/>
                  </a:lnTo>
                  <a:lnTo>
                    <a:pt x="0" y="118269"/>
                  </a:lnTo>
                  <a:close/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Freihandform 55"/>
            <p:cNvSpPr/>
            <p:nvPr/>
          </p:nvSpPr>
          <p:spPr>
            <a:xfrm>
              <a:off x="1441440" y="5062320"/>
              <a:ext cx="203040" cy="139680"/>
            </a:xfrm>
            <a:custGeom>
              <a:avLst/>
              <a:gdLst>
                <a:gd name="textAreaLeft" fmla="*/ 0 w 203040"/>
                <a:gd name="textAreaRight" fmla="*/ 203400 w 20304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165229" h="170944">
                  <a:moveTo>
                    <a:pt x="0" y="170943"/>
                  </a:moveTo>
                  <a:lnTo>
                    <a:pt x="2033" y="0"/>
                  </a:lnTo>
                  <a:lnTo>
                    <a:pt x="9525" y="1651"/>
                  </a:lnTo>
                  <a:lnTo>
                    <a:pt x="27178" y="5716"/>
                  </a:lnTo>
                  <a:lnTo>
                    <a:pt x="43942" y="10033"/>
                  </a:lnTo>
                  <a:lnTo>
                    <a:pt x="59690" y="14479"/>
                  </a:lnTo>
                  <a:lnTo>
                    <a:pt x="74423" y="19177"/>
                  </a:lnTo>
                  <a:lnTo>
                    <a:pt x="88265" y="23876"/>
                  </a:lnTo>
                  <a:lnTo>
                    <a:pt x="101092" y="28956"/>
                  </a:lnTo>
                  <a:lnTo>
                    <a:pt x="112650" y="33910"/>
                  </a:lnTo>
                  <a:lnTo>
                    <a:pt x="123317" y="39117"/>
                  </a:lnTo>
                  <a:lnTo>
                    <a:pt x="132842" y="44577"/>
                  </a:lnTo>
                  <a:lnTo>
                    <a:pt x="141098" y="50038"/>
                  </a:lnTo>
                  <a:lnTo>
                    <a:pt x="148337" y="55754"/>
                  </a:lnTo>
                  <a:lnTo>
                    <a:pt x="154433" y="61468"/>
                  </a:lnTo>
                  <a:lnTo>
                    <a:pt x="159004" y="67311"/>
                  </a:lnTo>
                  <a:lnTo>
                    <a:pt x="162306" y="73152"/>
                  </a:lnTo>
                  <a:lnTo>
                    <a:pt x="164465" y="79122"/>
                  </a:lnTo>
                  <a:lnTo>
                    <a:pt x="165228" y="85344"/>
                  </a:lnTo>
                  <a:lnTo>
                    <a:pt x="164465" y="91313"/>
                  </a:lnTo>
                  <a:lnTo>
                    <a:pt x="162306" y="97410"/>
                  </a:lnTo>
                  <a:lnTo>
                    <a:pt x="159004" y="103379"/>
                  </a:lnTo>
                  <a:lnTo>
                    <a:pt x="154433" y="109220"/>
                  </a:lnTo>
                  <a:lnTo>
                    <a:pt x="148337" y="114936"/>
                  </a:lnTo>
                  <a:lnTo>
                    <a:pt x="141098" y="120397"/>
                  </a:lnTo>
                  <a:lnTo>
                    <a:pt x="132842" y="125985"/>
                  </a:lnTo>
                  <a:lnTo>
                    <a:pt x="123317" y="131318"/>
                  </a:lnTo>
                  <a:lnTo>
                    <a:pt x="112650" y="136525"/>
                  </a:lnTo>
                  <a:lnTo>
                    <a:pt x="101092" y="141732"/>
                  </a:lnTo>
                  <a:lnTo>
                    <a:pt x="88265" y="146558"/>
                  </a:lnTo>
                  <a:lnTo>
                    <a:pt x="74423" y="151512"/>
                  </a:lnTo>
                  <a:lnTo>
                    <a:pt x="59690" y="155956"/>
                  </a:lnTo>
                  <a:lnTo>
                    <a:pt x="43942" y="160529"/>
                  </a:lnTo>
                  <a:lnTo>
                    <a:pt x="27178" y="164847"/>
                  </a:lnTo>
                  <a:lnTo>
                    <a:pt x="9525" y="169037"/>
                  </a:lnTo>
                  <a:lnTo>
                    <a:pt x="0" y="17094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Freihandform 56"/>
            <p:cNvSpPr/>
            <p:nvPr/>
          </p:nvSpPr>
          <p:spPr>
            <a:xfrm>
              <a:off x="1441440" y="5062320"/>
              <a:ext cx="203040" cy="139680"/>
            </a:xfrm>
            <a:custGeom>
              <a:avLst/>
              <a:gdLst>
                <a:gd name="textAreaLeft" fmla="*/ 0 w 203040"/>
                <a:gd name="textAreaRight" fmla="*/ 203400 w 20304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165229" h="170944">
                  <a:moveTo>
                    <a:pt x="0" y="170943"/>
                  </a:moveTo>
                  <a:lnTo>
                    <a:pt x="2033" y="0"/>
                  </a:lnTo>
                  <a:lnTo>
                    <a:pt x="9525" y="1651"/>
                  </a:lnTo>
                  <a:lnTo>
                    <a:pt x="27178" y="5716"/>
                  </a:lnTo>
                  <a:lnTo>
                    <a:pt x="43942" y="10033"/>
                  </a:lnTo>
                  <a:lnTo>
                    <a:pt x="59690" y="14479"/>
                  </a:lnTo>
                  <a:lnTo>
                    <a:pt x="74423" y="19177"/>
                  </a:lnTo>
                  <a:lnTo>
                    <a:pt x="88265" y="23876"/>
                  </a:lnTo>
                  <a:lnTo>
                    <a:pt x="101092" y="28956"/>
                  </a:lnTo>
                  <a:lnTo>
                    <a:pt x="112650" y="33910"/>
                  </a:lnTo>
                  <a:lnTo>
                    <a:pt x="123317" y="39117"/>
                  </a:lnTo>
                  <a:lnTo>
                    <a:pt x="132842" y="44577"/>
                  </a:lnTo>
                  <a:lnTo>
                    <a:pt x="141098" y="50038"/>
                  </a:lnTo>
                  <a:lnTo>
                    <a:pt x="148337" y="55754"/>
                  </a:lnTo>
                  <a:lnTo>
                    <a:pt x="154433" y="61468"/>
                  </a:lnTo>
                  <a:lnTo>
                    <a:pt x="159004" y="67311"/>
                  </a:lnTo>
                  <a:lnTo>
                    <a:pt x="162306" y="73152"/>
                  </a:lnTo>
                  <a:lnTo>
                    <a:pt x="164465" y="79122"/>
                  </a:lnTo>
                  <a:lnTo>
                    <a:pt x="165228" y="85344"/>
                  </a:lnTo>
                  <a:lnTo>
                    <a:pt x="164465" y="91313"/>
                  </a:lnTo>
                  <a:lnTo>
                    <a:pt x="162306" y="97410"/>
                  </a:lnTo>
                  <a:lnTo>
                    <a:pt x="159004" y="103379"/>
                  </a:lnTo>
                  <a:lnTo>
                    <a:pt x="154433" y="109220"/>
                  </a:lnTo>
                  <a:lnTo>
                    <a:pt x="148337" y="114936"/>
                  </a:lnTo>
                  <a:lnTo>
                    <a:pt x="141098" y="120397"/>
                  </a:lnTo>
                  <a:lnTo>
                    <a:pt x="132842" y="125985"/>
                  </a:lnTo>
                  <a:lnTo>
                    <a:pt x="123317" y="131318"/>
                  </a:lnTo>
                  <a:lnTo>
                    <a:pt x="112650" y="136525"/>
                  </a:lnTo>
                  <a:lnTo>
                    <a:pt x="101092" y="141732"/>
                  </a:lnTo>
                  <a:lnTo>
                    <a:pt x="88265" y="146558"/>
                  </a:lnTo>
                  <a:lnTo>
                    <a:pt x="74423" y="151512"/>
                  </a:lnTo>
                  <a:lnTo>
                    <a:pt x="59690" y="155956"/>
                  </a:lnTo>
                  <a:lnTo>
                    <a:pt x="43942" y="160529"/>
                  </a:lnTo>
                  <a:lnTo>
                    <a:pt x="27178" y="164847"/>
                  </a:lnTo>
                  <a:lnTo>
                    <a:pt x="9525" y="169037"/>
                  </a:lnTo>
                  <a:lnTo>
                    <a:pt x="0" y="170943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ihandform 57"/>
            <p:cNvSpPr/>
            <p:nvPr/>
          </p:nvSpPr>
          <p:spPr>
            <a:xfrm>
              <a:off x="1419120" y="5059080"/>
              <a:ext cx="23760" cy="14580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145800"/>
                <a:gd name="textAreaBottom" fmla="*/ 146160 h 145800"/>
              </a:gdLst>
              <a:ahLst/>
              <a:rect l="textAreaLeft" t="textAreaTop" r="textAreaRight" b="textAreaBottom"/>
              <a:pathLst>
                <a:path w="20448" h="178562">
                  <a:moveTo>
                    <a:pt x="0" y="178561"/>
                  </a:moveTo>
                  <a:lnTo>
                    <a:pt x="2159" y="0"/>
                  </a:lnTo>
                  <a:lnTo>
                    <a:pt x="9651" y="1396"/>
                  </a:lnTo>
                  <a:lnTo>
                    <a:pt x="20447" y="3683"/>
                  </a:lnTo>
                  <a:lnTo>
                    <a:pt x="18414" y="174752"/>
                  </a:lnTo>
                  <a:lnTo>
                    <a:pt x="9651" y="176657"/>
                  </a:lnTo>
                  <a:lnTo>
                    <a:pt x="0" y="178561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ihandform 58"/>
            <p:cNvSpPr/>
            <p:nvPr/>
          </p:nvSpPr>
          <p:spPr>
            <a:xfrm>
              <a:off x="1395360" y="5055840"/>
              <a:ext cx="25200" cy="15084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20576" h="185168">
                  <a:moveTo>
                    <a:pt x="0" y="185167"/>
                  </a:moveTo>
                  <a:lnTo>
                    <a:pt x="2414" y="0"/>
                  </a:lnTo>
                  <a:lnTo>
                    <a:pt x="8764" y="1017"/>
                  </a:lnTo>
                  <a:lnTo>
                    <a:pt x="20575" y="3303"/>
                  </a:lnTo>
                  <a:lnTo>
                    <a:pt x="18416" y="181864"/>
                  </a:lnTo>
                  <a:lnTo>
                    <a:pt x="8764" y="183769"/>
                  </a:lnTo>
                  <a:lnTo>
                    <a:pt x="0" y="185167"/>
                  </a:lnTo>
                  <a:close/>
                </a:path>
              </a:pathLst>
            </a:custGeom>
            <a:solidFill>
              <a:srgbClr val="fcfcfc"/>
            </a:solidFill>
            <a:ln w="0">
              <a:solidFill>
                <a:srgbClr val="fcfcf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ihandform 59"/>
            <p:cNvSpPr/>
            <p:nvPr/>
          </p:nvSpPr>
          <p:spPr>
            <a:xfrm>
              <a:off x="1373040" y="5054400"/>
              <a:ext cx="25200" cy="1555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155520"/>
                <a:gd name="textAreaBottom" fmla="*/ 155520 h 155520"/>
              </a:gdLst>
              <a:ahLst/>
              <a:rect l="textAreaLeft" t="textAreaTop" r="textAreaRight" b="textAreaBottom"/>
              <a:pathLst>
                <a:path w="20702" h="191518">
                  <a:moveTo>
                    <a:pt x="0" y="191517"/>
                  </a:moveTo>
                  <a:lnTo>
                    <a:pt x="2412" y="0"/>
                  </a:lnTo>
                  <a:lnTo>
                    <a:pt x="6984" y="636"/>
                  </a:lnTo>
                  <a:lnTo>
                    <a:pt x="20701" y="3175"/>
                  </a:lnTo>
                  <a:lnTo>
                    <a:pt x="18287" y="188342"/>
                  </a:lnTo>
                  <a:lnTo>
                    <a:pt x="6984" y="190374"/>
                  </a:lnTo>
                  <a:lnTo>
                    <a:pt x="0" y="191517"/>
                  </a:lnTo>
                  <a:close/>
                </a:path>
              </a:pathLst>
            </a:custGeom>
            <a:solidFill>
              <a:srgbClr val="f9f9f9"/>
            </a:solidFill>
            <a:ln w="0">
              <a:solidFill>
                <a:srgbClr val="f9f9f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ihandform 60"/>
            <p:cNvSpPr/>
            <p:nvPr/>
          </p:nvSpPr>
          <p:spPr>
            <a:xfrm>
              <a:off x="1351080" y="5052600"/>
              <a:ext cx="23760" cy="16020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160200"/>
                <a:gd name="textAreaBottom" fmla="*/ 160200 h 160200"/>
              </a:gdLst>
              <a:ahLst/>
              <a:rect l="textAreaLeft" t="textAreaTop" r="textAreaRight" b="textAreaBottom"/>
              <a:pathLst>
                <a:path w="20701" h="197232">
                  <a:moveTo>
                    <a:pt x="0" y="197231"/>
                  </a:moveTo>
                  <a:lnTo>
                    <a:pt x="2413" y="0"/>
                  </a:lnTo>
                  <a:lnTo>
                    <a:pt x="4191" y="381"/>
                  </a:lnTo>
                  <a:lnTo>
                    <a:pt x="20700" y="2920"/>
                  </a:lnTo>
                  <a:lnTo>
                    <a:pt x="18288" y="194437"/>
                  </a:lnTo>
                  <a:lnTo>
                    <a:pt x="4191" y="196469"/>
                  </a:lnTo>
                  <a:lnTo>
                    <a:pt x="0" y="197231"/>
                  </a:lnTo>
                  <a:close/>
                </a:path>
              </a:pathLst>
            </a:custGeom>
            <a:solidFill>
              <a:srgbClr val="f6f6f6"/>
            </a:solidFill>
            <a:ln w="0">
              <a:solidFill>
                <a:srgbClr val="f6f6f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ihandform 61"/>
            <p:cNvSpPr/>
            <p:nvPr/>
          </p:nvSpPr>
          <p:spPr>
            <a:xfrm>
              <a:off x="1328760" y="5049720"/>
              <a:ext cx="25200" cy="16488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20703" h="202312">
                  <a:moveTo>
                    <a:pt x="0" y="202311"/>
                  </a:moveTo>
                  <a:lnTo>
                    <a:pt x="2541" y="0"/>
                  </a:lnTo>
                  <a:lnTo>
                    <a:pt x="20702" y="2541"/>
                  </a:lnTo>
                  <a:lnTo>
                    <a:pt x="18289" y="199772"/>
                  </a:lnTo>
                  <a:lnTo>
                    <a:pt x="1017" y="202185"/>
                  </a:lnTo>
                  <a:lnTo>
                    <a:pt x="0" y="202311"/>
                  </a:lnTo>
                  <a:close/>
                </a:path>
              </a:pathLst>
            </a:custGeom>
            <a:solidFill>
              <a:srgbClr val="f3f3f3"/>
            </a:solidFill>
            <a:ln w="0">
              <a:solidFill>
                <a:srgbClr val="f3f3f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ihandform 62"/>
            <p:cNvSpPr/>
            <p:nvPr/>
          </p:nvSpPr>
          <p:spPr>
            <a:xfrm>
              <a:off x="1305000" y="5047920"/>
              <a:ext cx="25200" cy="1681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20956" h="207010">
                  <a:moveTo>
                    <a:pt x="0" y="207009"/>
                  </a:moveTo>
                  <a:lnTo>
                    <a:pt x="2539" y="0"/>
                  </a:lnTo>
                  <a:lnTo>
                    <a:pt x="19431" y="2158"/>
                  </a:lnTo>
                  <a:lnTo>
                    <a:pt x="20955" y="2285"/>
                  </a:lnTo>
                  <a:lnTo>
                    <a:pt x="18414" y="204596"/>
                  </a:lnTo>
                  <a:lnTo>
                    <a:pt x="0" y="207009"/>
                  </a:lnTo>
                  <a:close/>
                </a:path>
              </a:pathLst>
            </a:custGeom>
            <a:solidFill>
              <a:srgbClr val="f0f0f0"/>
            </a:solidFill>
            <a:ln w="0">
              <a:solidFill>
                <a:srgbClr val="f0f0f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ihandform 63"/>
            <p:cNvSpPr/>
            <p:nvPr/>
          </p:nvSpPr>
          <p:spPr>
            <a:xfrm>
              <a:off x="1284120" y="5046480"/>
              <a:ext cx="25200" cy="1713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20829" h="211328">
                  <a:moveTo>
                    <a:pt x="0" y="211327"/>
                  </a:moveTo>
                  <a:lnTo>
                    <a:pt x="2795" y="0"/>
                  </a:lnTo>
                  <a:lnTo>
                    <a:pt x="15622" y="1396"/>
                  </a:lnTo>
                  <a:lnTo>
                    <a:pt x="20828" y="2158"/>
                  </a:lnTo>
                  <a:lnTo>
                    <a:pt x="18289" y="209169"/>
                  </a:lnTo>
                  <a:lnTo>
                    <a:pt x="15622" y="209550"/>
                  </a:lnTo>
                  <a:lnTo>
                    <a:pt x="0" y="211327"/>
                  </a:lnTo>
                  <a:close/>
                </a:path>
              </a:pathLst>
            </a:custGeom>
            <a:solidFill>
              <a:srgbClr val="ededed"/>
            </a:solidFill>
            <a:ln w="0">
              <a:solidFill>
                <a:srgbClr val="edede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ihandform 64"/>
            <p:cNvSpPr/>
            <p:nvPr/>
          </p:nvSpPr>
          <p:spPr>
            <a:xfrm>
              <a:off x="1260360" y="5044680"/>
              <a:ext cx="25200" cy="17604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176040"/>
                <a:gd name="textAreaBottom" fmla="*/ 176400 h 176040"/>
              </a:gdLst>
              <a:ahLst/>
              <a:rect l="textAreaLeft" t="textAreaTop" r="textAreaRight" b="textAreaBottom"/>
              <a:pathLst>
                <a:path w="21084" h="215265">
                  <a:moveTo>
                    <a:pt x="0" y="215264"/>
                  </a:moveTo>
                  <a:lnTo>
                    <a:pt x="2668" y="0"/>
                  </a:lnTo>
                  <a:lnTo>
                    <a:pt x="10922" y="888"/>
                  </a:lnTo>
                  <a:lnTo>
                    <a:pt x="21083" y="2032"/>
                  </a:lnTo>
                  <a:lnTo>
                    <a:pt x="18288" y="213359"/>
                  </a:lnTo>
                  <a:lnTo>
                    <a:pt x="10922" y="214376"/>
                  </a:lnTo>
                  <a:lnTo>
                    <a:pt x="0" y="215264"/>
                  </a:lnTo>
                  <a:close/>
                </a:path>
              </a:pathLst>
            </a:custGeom>
            <a:solidFill>
              <a:srgbClr val="eaeaea"/>
            </a:solidFill>
            <a:ln w="0">
              <a:solidFill>
                <a:srgbClr val="eaeaea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Freihandform 65"/>
            <p:cNvSpPr/>
            <p:nvPr/>
          </p:nvSpPr>
          <p:spPr>
            <a:xfrm>
              <a:off x="1239840" y="5043240"/>
              <a:ext cx="23760" cy="17784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177840"/>
                <a:gd name="textAreaBottom" fmla="*/ 178200 h 177840"/>
              </a:gdLst>
              <a:ahLst/>
              <a:rect l="textAreaLeft" t="textAreaTop" r="textAreaRight" b="textAreaBottom"/>
              <a:pathLst>
                <a:path w="20956" h="218695">
                  <a:moveTo>
                    <a:pt x="0" y="218694"/>
                  </a:moveTo>
                  <a:lnTo>
                    <a:pt x="2667" y="0"/>
                  </a:lnTo>
                  <a:lnTo>
                    <a:pt x="5714" y="127"/>
                  </a:lnTo>
                  <a:lnTo>
                    <a:pt x="20955" y="1651"/>
                  </a:lnTo>
                  <a:lnTo>
                    <a:pt x="18287" y="216915"/>
                  </a:lnTo>
                  <a:lnTo>
                    <a:pt x="5714" y="218185"/>
                  </a:lnTo>
                  <a:lnTo>
                    <a:pt x="0" y="218694"/>
                  </a:lnTo>
                  <a:close/>
                </a:path>
              </a:pathLst>
            </a:custGeom>
            <a:solidFill>
              <a:srgbClr val="e7e7e7"/>
            </a:solidFill>
            <a:ln w="0">
              <a:solidFill>
                <a:srgbClr val="e7e7e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Freihandform 66"/>
            <p:cNvSpPr/>
            <p:nvPr/>
          </p:nvSpPr>
          <p:spPr>
            <a:xfrm>
              <a:off x="1216080" y="5041800"/>
              <a:ext cx="25200" cy="1807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20957" h="221997">
                  <a:moveTo>
                    <a:pt x="0" y="221996"/>
                  </a:moveTo>
                  <a:lnTo>
                    <a:pt x="2667" y="0"/>
                  </a:lnTo>
                  <a:lnTo>
                    <a:pt x="20956" y="1651"/>
                  </a:lnTo>
                  <a:lnTo>
                    <a:pt x="18289" y="220345"/>
                  </a:lnTo>
                  <a:lnTo>
                    <a:pt x="0" y="221996"/>
                  </a:lnTo>
                  <a:close/>
                </a:path>
              </a:pathLst>
            </a:custGeom>
            <a:solidFill>
              <a:srgbClr val="e4e4e4"/>
            </a:solidFill>
            <a:ln w="0">
              <a:solidFill>
                <a:srgbClr val="e4e4e4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Freihandform 67"/>
            <p:cNvSpPr/>
            <p:nvPr/>
          </p:nvSpPr>
          <p:spPr>
            <a:xfrm>
              <a:off x="1193760" y="5040000"/>
              <a:ext cx="25200" cy="1839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183960"/>
                <a:gd name="textAreaBottom" fmla="*/ 184320 h 183960"/>
              </a:gdLst>
              <a:ahLst/>
              <a:rect l="textAreaLeft" t="textAreaTop" r="textAreaRight" b="textAreaBottom"/>
              <a:pathLst>
                <a:path w="20956" h="225045">
                  <a:moveTo>
                    <a:pt x="0" y="225044"/>
                  </a:moveTo>
                  <a:lnTo>
                    <a:pt x="2668" y="0"/>
                  </a:lnTo>
                  <a:lnTo>
                    <a:pt x="18161" y="1143"/>
                  </a:lnTo>
                  <a:lnTo>
                    <a:pt x="20955" y="1524"/>
                  </a:lnTo>
                  <a:lnTo>
                    <a:pt x="18288" y="223520"/>
                  </a:lnTo>
                  <a:lnTo>
                    <a:pt x="18161" y="223520"/>
                  </a:lnTo>
                  <a:lnTo>
                    <a:pt x="0" y="225044"/>
                  </a:lnTo>
                  <a:close/>
                </a:path>
              </a:pathLst>
            </a:custGeom>
            <a:solidFill>
              <a:srgbClr val="e1e1e1"/>
            </a:solidFill>
            <a:ln w="0">
              <a:solidFill>
                <a:srgbClr val="e1e1e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Freihandform 68"/>
            <p:cNvSpPr/>
            <p:nvPr/>
          </p:nvSpPr>
          <p:spPr>
            <a:xfrm>
              <a:off x="1171440" y="5040000"/>
              <a:ext cx="23760" cy="18396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183960"/>
                <a:gd name="textAreaBottom" fmla="*/ 184320 h 183960"/>
              </a:gdLst>
              <a:ahLst/>
              <a:rect l="textAreaLeft" t="textAreaTop" r="textAreaRight" b="textAreaBottom"/>
              <a:pathLst>
                <a:path w="21083" h="227331">
                  <a:moveTo>
                    <a:pt x="0" y="227330"/>
                  </a:moveTo>
                  <a:lnTo>
                    <a:pt x="2921" y="0"/>
                  </a:lnTo>
                  <a:lnTo>
                    <a:pt x="11811" y="635"/>
                  </a:lnTo>
                  <a:lnTo>
                    <a:pt x="21082" y="1271"/>
                  </a:lnTo>
                  <a:lnTo>
                    <a:pt x="18414" y="226315"/>
                  </a:lnTo>
                  <a:lnTo>
                    <a:pt x="11811" y="226696"/>
                  </a:lnTo>
                  <a:lnTo>
                    <a:pt x="0" y="227330"/>
                  </a:lnTo>
                  <a:close/>
                </a:path>
              </a:pathLst>
            </a:custGeom>
            <a:solidFill>
              <a:srgbClr val="dedede"/>
            </a:solidFill>
            <a:ln w="0">
              <a:solidFill>
                <a:srgbClr val="deded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Freihandform 69"/>
            <p:cNvSpPr/>
            <p:nvPr/>
          </p:nvSpPr>
          <p:spPr>
            <a:xfrm>
              <a:off x="1147680" y="5038560"/>
              <a:ext cx="26640" cy="18720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187200"/>
                <a:gd name="textAreaBottom" fmla="*/ 187560 h 187200"/>
              </a:gdLst>
              <a:ahLst/>
              <a:rect l="textAreaLeft" t="textAreaTop" r="textAreaRight" b="textAreaBottom"/>
              <a:pathLst>
                <a:path w="21211" h="229616">
                  <a:moveTo>
                    <a:pt x="0" y="229615"/>
                  </a:moveTo>
                  <a:lnTo>
                    <a:pt x="2922" y="0"/>
                  </a:lnTo>
                  <a:lnTo>
                    <a:pt x="4953" y="127"/>
                  </a:lnTo>
                  <a:lnTo>
                    <a:pt x="21210" y="1142"/>
                  </a:lnTo>
                  <a:lnTo>
                    <a:pt x="18289" y="228472"/>
                  </a:lnTo>
                  <a:lnTo>
                    <a:pt x="4953" y="229362"/>
                  </a:lnTo>
                  <a:lnTo>
                    <a:pt x="0" y="229615"/>
                  </a:lnTo>
                  <a:close/>
                </a:path>
              </a:pathLst>
            </a:custGeom>
            <a:solidFill>
              <a:srgbClr val="dbdbdb"/>
            </a:solidFill>
            <a:ln w="0">
              <a:solidFill>
                <a:srgbClr val="dbdbd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Freihandform 70"/>
            <p:cNvSpPr/>
            <p:nvPr/>
          </p:nvSpPr>
          <p:spPr>
            <a:xfrm>
              <a:off x="1125360" y="5038560"/>
              <a:ext cx="25200" cy="18864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188640"/>
                <a:gd name="textAreaBottom" fmla="*/ 189000 h 188640"/>
              </a:gdLst>
              <a:ahLst/>
              <a:rect l="textAreaLeft" t="textAreaTop" r="textAreaRight" b="textAreaBottom"/>
              <a:pathLst>
                <a:path w="21210" h="231523">
                  <a:moveTo>
                    <a:pt x="0" y="231522"/>
                  </a:moveTo>
                  <a:lnTo>
                    <a:pt x="3048" y="0"/>
                  </a:lnTo>
                  <a:lnTo>
                    <a:pt x="21209" y="890"/>
                  </a:lnTo>
                  <a:lnTo>
                    <a:pt x="18287" y="230632"/>
                  </a:lnTo>
                  <a:lnTo>
                    <a:pt x="0" y="231522"/>
                  </a:lnTo>
                  <a:close/>
                </a:path>
              </a:pathLst>
            </a:custGeom>
            <a:solidFill>
              <a:srgbClr val="d8d8d8"/>
            </a:solidFill>
            <a:ln w="0">
              <a:solidFill>
                <a:srgbClr val="d8d8d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Freihandform 71"/>
            <p:cNvSpPr/>
            <p:nvPr/>
          </p:nvSpPr>
          <p:spPr>
            <a:xfrm>
              <a:off x="1103040" y="5036760"/>
              <a:ext cx="26640" cy="19044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21209" h="233047">
                  <a:moveTo>
                    <a:pt x="0" y="233046"/>
                  </a:moveTo>
                  <a:lnTo>
                    <a:pt x="2921" y="0"/>
                  </a:lnTo>
                  <a:lnTo>
                    <a:pt x="15747" y="509"/>
                  </a:lnTo>
                  <a:lnTo>
                    <a:pt x="21208" y="762"/>
                  </a:lnTo>
                  <a:lnTo>
                    <a:pt x="18288" y="232284"/>
                  </a:lnTo>
                  <a:lnTo>
                    <a:pt x="15747" y="232410"/>
                  </a:lnTo>
                  <a:lnTo>
                    <a:pt x="0" y="233046"/>
                  </a:lnTo>
                  <a:close/>
                </a:path>
              </a:pathLst>
            </a:custGeom>
            <a:solidFill>
              <a:srgbClr val="d5d5d5"/>
            </a:solidFill>
            <a:ln w="0">
              <a:solidFill>
                <a:srgbClr val="d5d5d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Freihandform 72"/>
            <p:cNvSpPr/>
            <p:nvPr/>
          </p:nvSpPr>
          <p:spPr>
            <a:xfrm>
              <a:off x="1081080" y="5036760"/>
              <a:ext cx="25200" cy="19044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21084" h="234315">
                  <a:moveTo>
                    <a:pt x="0" y="234314"/>
                  </a:moveTo>
                  <a:lnTo>
                    <a:pt x="2922" y="0"/>
                  </a:lnTo>
                  <a:lnTo>
                    <a:pt x="8002" y="126"/>
                  </a:lnTo>
                  <a:lnTo>
                    <a:pt x="21083" y="634"/>
                  </a:lnTo>
                  <a:lnTo>
                    <a:pt x="18289" y="233680"/>
                  </a:lnTo>
                  <a:lnTo>
                    <a:pt x="8002" y="234061"/>
                  </a:lnTo>
                  <a:lnTo>
                    <a:pt x="0" y="234314"/>
                  </a:lnTo>
                  <a:close/>
                </a:path>
              </a:pathLst>
            </a:custGeom>
            <a:solidFill>
              <a:srgbClr val="d2d2d2"/>
            </a:solidFill>
            <a:ln w="0">
              <a:solidFill>
                <a:srgbClr val="d2d2d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ihandform 73"/>
            <p:cNvSpPr/>
            <p:nvPr/>
          </p:nvSpPr>
          <p:spPr>
            <a:xfrm>
              <a:off x="1057320" y="5035320"/>
              <a:ext cx="26640" cy="19188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191880"/>
                <a:gd name="textAreaBottom" fmla="*/ 192240 h 191880"/>
              </a:gdLst>
              <a:ahLst/>
              <a:rect l="textAreaLeft" t="textAreaTop" r="textAreaRight" b="textAreaBottom"/>
              <a:pathLst>
                <a:path w="21210" h="235459">
                  <a:moveTo>
                    <a:pt x="0" y="235458"/>
                  </a:moveTo>
                  <a:lnTo>
                    <a:pt x="3048" y="0"/>
                  </a:lnTo>
                  <a:lnTo>
                    <a:pt x="21209" y="508"/>
                  </a:lnTo>
                  <a:lnTo>
                    <a:pt x="18287" y="234822"/>
                  </a:lnTo>
                  <a:lnTo>
                    <a:pt x="0" y="235458"/>
                  </a:lnTo>
                  <a:close/>
                </a:path>
              </a:pathLst>
            </a:custGeom>
            <a:solidFill>
              <a:srgbClr val="cfcfcf"/>
            </a:solidFill>
            <a:ln w="0">
              <a:solidFill>
                <a:srgbClr val="cfcfc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ihandform 74"/>
            <p:cNvSpPr/>
            <p:nvPr/>
          </p:nvSpPr>
          <p:spPr>
            <a:xfrm>
              <a:off x="1036440" y="5035320"/>
              <a:ext cx="25200" cy="19188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191880"/>
                <a:gd name="textAreaBottom" fmla="*/ 192240 h 191880"/>
              </a:gdLst>
              <a:ahLst/>
              <a:rect l="textAreaLeft" t="textAreaTop" r="textAreaRight" b="textAreaBottom"/>
              <a:pathLst>
                <a:path w="21465" h="235966">
                  <a:moveTo>
                    <a:pt x="0" y="235965"/>
                  </a:moveTo>
                  <a:lnTo>
                    <a:pt x="3048" y="0"/>
                  </a:lnTo>
                  <a:lnTo>
                    <a:pt x="18034" y="126"/>
                  </a:lnTo>
                  <a:lnTo>
                    <a:pt x="21464" y="254"/>
                  </a:lnTo>
                  <a:lnTo>
                    <a:pt x="18416" y="235712"/>
                  </a:lnTo>
                  <a:lnTo>
                    <a:pt x="18034" y="235712"/>
                  </a:lnTo>
                  <a:lnTo>
                    <a:pt x="0" y="235965"/>
                  </a:lnTo>
                  <a:close/>
                </a:path>
              </a:pathLst>
            </a:custGeom>
            <a:solidFill>
              <a:srgbClr val="cccccc"/>
            </a:solidFill>
            <a:ln w="0">
              <a:solidFill>
                <a:srgbClr val="cccc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ihandform 75"/>
            <p:cNvSpPr/>
            <p:nvPr/>
          </p:nvSpPr>
          <p:spPr>
            <a:xfrm>
              <a:off x="1012680" y="5035320"/>
              <a:ext cx="26640" cy="19188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191880"/>
                <a:gd name="textAreaBottom" fmla="*/ 192240 h 191880"/>
              </a:gdLst>
              <a:ahLst/>
              <a:rect l="textAreaLeft" t="textAreaTop" r="textAreaRight" b="textAreaBottom"/>
              <a:pathLst>
                <a:path w="21082" h="236475">
                  <a:moveTo>
                    <a:pt x="0" y="236474"/>
                  </a:moveTo>
                  <a:lnTo>
                    <a:pt x="2921" y="0"/>
                  </a:lnTo>
                  <a:lnTo>
                    <a:pt x="9144" y="126"/>
                  </a:lnTo>
                  <a:lnTo>
                    <a:pt x="21081" y="254"/>
                  </a:lnTo>
                  <a:lnTo>
                    <a:pt x="18288" y="236346"/>
                  </a:lnTo>
                  <a:lnTo>
                    <a:pt x="9144" y="236474"/>
                  </a:lnTo>
                  <a:lnTo>
                    <a:pt x="0" y="236474"/>
                  </a:lnTo>
                  <a:close/>
                </a:path>
              </a:pathLst>
            </a:custGeom>
            <a:solidFill>
              <a:srgbClr val="c9c9c9"/>
            </a:solidFill>
            <a:ln w="0">
              <a:solidFill>
                <a:srgbClr val="c9c9c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ihandform 76"/>
            <p:cNvSpPr/>
            <p:nvPr/>
          </p:nvSpPr>
          <p:spPr>
            <a:xfrm>
              <a:off x="990360" y="5035320"/>
              <a:ext cx="25200" cy="19188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191880"/>
                <a:gd name="textAreaBottom" fmla="*/ 192240 h 191880"/>
              </a:gdLst>
              <a:ahLst/>
              <a:rect l="textAreaLeft" t="textAreaTop" r="textAreaRight" b="textAreaBottom"/>
              <a:pathLst>
                <a:path w="21210" h="236728">
                  <a:moveTo>
                    <a:pt x="253" y="236727"/>
                  </a:moveTo>
                  <a:lnTo>
                    <a:pt x="0" y="236727"/>
                  </a:lnTo>
                  <a:lnTo>
                    <a:pt x="2921" y="0"/>
                  </a:lnTo>
                  <a:lnTo>
                    <a:pt x="21209" y="0"/>
                  </a:lnTo>
                  <a:lnTo>
                    <a:pt x="18288" y="236474"/>
                  </a:lnTo>
                  <a:lnTo>
                    <a:pt x="253" y="236727"/>
                  </a:lnTo>
                  <a:close/>
                </a:path>
              </a:pathLst>
            </a:custGeom>
            <a:solidFill>
              <a:srgbClr val="c6c6c6"/>
            </a:solidFill>
            <a:ln w="0">
              <a:solidFill>
                <a:srgbClr val="c6c6c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ihandform 77"/>
            <p:cNvSpPr/>
            <p:nvPr/>
          </p:nvSpPr>
          <p:spPr>
            <a:xfrm>
              <a:off x="968400" y="5035320"/>
              <a:ext cx="26640" cy="19188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191880"/>
                <a:gd name="textAreaBottom" fmla="*/ 192240 h 191880"/>
              </a:gdLst>
              <a:ahLst/>
              <a:rect l="textAreaLeft" t="textAreaTop" r="textAreaRight" b="textAreaBottom"/>
              <a:pathLst>
                <a:path w="21337" h="236728">
                  <a:moveTo>
                    <a:pt x="18289" y="236727"/>
                  </a:moveTo>
                  <a:lnTo>
                    <a:pt x="0" y="236474"/>
                  </a:lnTo>
                  <a:lnTo>
                    <a:pt x="3049" y="0"/>
                  </a:lnTo>
                  <a:lnTo>
                    <a:pt x="18670" y="0"/>
                  </a:lnTo>
                  <a:lnTo>
                    <a:pt x="21336" y="0"/>
                  </a:lnTo>
                  <a:lnTo>
                    <a:pt x="18289" y="236727"/>
                  </a:lnTo>
                  <a:close/>
                </a:path>
              </a:pathLst>
            </a:custGeom>
            <a:solidFill>
              <a:srgbClr val="c3c3c3"/>
            </a:solidFill>
            <a:ln w="0">
              <a:solidFill>
                <a:srgbClr val="c3c3c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ihandform 78"/>
            <p:cNvSpPr/>
            <p:nvPr/>
          </p:nvSpPr>
          <p:spPr>
            <a:xfrm>
              <a:off x="946080" y="5035320"/>
              <a:ext cx="25200" cy="19188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191880"/>
                <a:gd name="textAreaBottom" fmla="*/ 192240 h 191880"/>
              </a:gdLst>
              <a:ahLst/>
              <a:rect l="textAreaLeft" t="textAreaTop" r="textAreaRight" b="textAreaBottom"/>
              <a:pathLst>
                <a:path w="21211" h="236475">
                  <a:moveTo>
                    <a:pt x="18289" y="236474"/>
                  </a:moveTo>
                  <a:lnTo>
                    <a:pt x="9399" y="236474"/>
                  </a:lnTo>
                  <a:lnTo>
                    <a:pt x="0" y="236346"/>
                  </a:lnTo>
                  <a:lnTo>
                    <a:pt x="2922" y="126"/>
                  </a:lnTo>
                  <a:lnTo>
                    <a:pt x="9399" y="126"/>
                  </a:lnTo>
                  <a:lnTo>
                    <a:pt x="21210" y="0"/>
                  </a:lnTo>
                  <a:lnTo>
                    <a:pt x="18289" y="236474"/>
                  </a:lnTo>
                  <a:close/>
                </a:path>
              </a:pathLst>
            </a:custGeom>
            <a:solidFill>
              <a:srgbClr val="c0c0c0"/>
            </a:solidFill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ihandform 79"/>
            <p:cNvSpPr/>
            <p:nvPr/>
          </p:nvSpPr>
          <p:spPr>
            <a:xfrm>
              <a:off x="923760" y="5035320"/>
              <a:ext cx="26640" cy="19188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191880"/>
                <a:gd name="textAreaBottom" fmla="*/ 192240 h 191880"/>
              </a:gdLst>
              <a:ahLst/>
              <a:rect l="textAreaLeft" t="textAreaTop" r="textAreaRight" b="textAreaBottom"/>
              <a:pathLst>
                <a:path w="21211" h="236094">
                  <a:moveTo>
                    <a:pt x="18288" y="236093"/>
                  </a:moveTo>
                  <a:lnTo>
                    <a:pt x="763" y="235967"/>
                  </a:lnTo>
                  <a:lnTo>
                    <a:pt x="0" y="235712"/>
                  </a:lnTo>
                  <a:lnTo>
                    <a:pt x="3049" y="381"/>
                  </a:lnTo>
                  <a:lnTo>
                    <a:pt x="21210" y="0"/>
                  </a:lnTo>
                  <a:lnTo>
                    <a:pt x="18288" y="236093"/>
                  </a:lnTo>
                  <a:close/>
                </a:path>
              </a:pathLst>
            </a:custGeom>
            <a:solidFill>
              <a:srgbClr val="bdbdbd"/>
            </a:solidFill>
            <a:ln w="0">
              <a:solidFill>
                <a:srgbClr val="bdbdb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ihandform 80"/>
            <p:cNvSpPr/>
            <p:nvPr/>
          </p:nvSpPr>
          <p:spPr>
            <a:xfrm>
              <a:off x="901440" y="5035320"/>
              <a:ext cx="25200" cy="19188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191880"/>
                <a:gd name="textAreaBottom" fmla="*/ 192240 h 191880"/>
              </a:gdLst>
              <a:ahLst/>
              <a:rect l="textAreaLeft" t="textAreaTop" r="textAreaRight" b="textAreaBottom"/>
              <a:pathLst>
                <a:path w="21337" h="235332">
                  <a:moveTo>
                    <a:pt x="18287" y="235331"/>
                  </a:moveTo>
                  <a:lnTo>
                    <a:pt x="0" y="234824"/>
                  </a:lnTo>
                  <a:lnTo>
                    <a:pt x="3047" y="509"/>
                  </a:lnTo>
                  <a:lnTo>
                    <a:pt x="19050" y="0"/>
                  </a:lnTo>
                  <a:lnTo>
                    <a:pt x="21336" y="0"/>
                  </a:lnTo>
                  <a:lnTo>
                    <a:pt x="18287" y="235331"/>
                  </a:lnTo>
                  <a:close/>
                </a:path>
              </a:pathLst>
            </a:custGeom>
            <a:solidFill>
              <a:srgbClr val="bababa"/>
            </a:solidFill>
            <a:ln w="0">
              <a:solidFill>
                <a:srgbClr val="bababa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ihandform 81"/>
            <p:cNvSpPr/>
            <p:nvPr/>
          </p:nvSpPr>
          <p:spPr>
            <a:xfrm>
              <a:off x="877680" y="5036760"/>
              <a:ext cx="25200" cy="19044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21083" h="234316">
                  <a:moveTo>
                    <a:pt x="18289" y="234315"/>
                  </a:moveTo>
                  <a:lnTo>
                    <a:pt x="10796" y="234188"/>
                  </a:lnTo>
                  <a:lnTo>
                    <a:pt x="0" y="233679"/>
                  </a:lnTo>
                  <a:lnTo>
                    <a:pt x="2795" y="508"/>
                  </a:lnTo>
                  <a:lnTo>
                    <a:pt x="10796" y="127"/>
                  </a:lnTo>
                  <a:lnTo>
                    <a:pt x="21082" y="0"/>
                  </a:lnTo>
                  <a:lnTo>
                    <a:pt x="18289" y="234315"/>
                  </a:lnTo>
                  <a:close/>
                </a:path>
              </a:pathLst>
            </a:custGeom>
            <a:solidFill>
              <a:srgbClr val="b7b7b7"/>
            </a:solidFill>
            <a:ln w="0">
              <a:solidFill>
                <a:srgbClr val="b7b7b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Freihandform 82"/>
            <p:cNvSpPr/>
            <p:nvPr/>
          </p:nvSpPr>
          <p:spPr>
            <a:xfrm>
              <a:off x="857160" y="5036760"/>
              <a:ext cx="25200" cy="19044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21083" h="233172">
                  <a:moveTo>
                    <a:pt x="18287" y="233171"/>
                  </a:moveTo>
                  <a:lnTo>
                    <a:pt x="2794" y="232663"/>
                  </a:lnTo>
                  <a:lnTo>
                    <a:pt x="0" y="232537"/>
                  </a:lnTo>
                  <a:lnTo>
                    <a:pt x="2794" y="762"/>
                  </a:lnTo>
                  <a:lnTo>
                    <a:pt x="21082" y="0"/>
                  </a:lnTo>
                  <a:lnTo>
                    <a:pt x="18287" y="233171"/>
                  </a:lnTo>
                  <a:close/>
                </a:path>
              </a:pathLst>
            </a:custGeom>
            <a:solidFill>
              <a:srgbClr val="b4b4b4"/>
            </a:solidFill>
            <a:ln w="0">
              <a:solidFill>
                <a:srgbClr val="b4b4b4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Freihandform 83"/>
            <p:cNvSpPr/>
            <p:nvPr/>
          </p:nvSpPr>
          <p:spPr>
            <a:xfrm>
              <a:off x="833400" y="5038560"/>
              <a:ext cx="25200" cy="18864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188640"/>
                <a:gd name="textAreaBottom" fmla="*/ 189000 h 188640"/>
              </a:gdLst>
              <a:ahLst/>
              <a:rect l="textAreaLeft" t="textAreaTop" r="textAreaRight" b="textAreaBottom"/>
              <a:pathLst>
                <a:path w="20957" h="231776">
                  <a:moveTo>
                    <a:pt x="18162" y="231775"/>
                  </a:moveTo>
                  <a:lnTo>
                    <a:pt x="0" y="230885"/>
                  </a:lnTo>
                  <a:lnTo>
                    <a:pt x="2667" y="1015"/>
                  </a:lnTo>
                  <a:lnTo>
                    <a:pt x="20956" y="0"/>
                  </a:lnTo>
                  <a:lnTo>
                    <a:pt x="18162" y="231775"/>
                  </a:lnTo>
                  <a:close/>
                </a:path>
              </a:pathLst>
            </a:custGeom>
            <a:solidFill>
              <a:srgbClr val="b1b1b1"/>
            </a:solidFill>
            <a:ln w="0">
              <a:solidFill>
                <a:srgbClr val="b1b1b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ihandform 84"/>
            <p:cNvSpPr/>
            <p:nvPr/>
          </p:nvSpPr>
          <p:spPr>
            <a:xfrm>
              <a:off x="811080" y="5038560"/>
              <a:ext cx="25200" cy="18720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187200"/>
                <a:gd name="textAreaBottom" fmla="*/ 187560 h 187200"/>
              </a:gdLst>
              <a:ahLst/>
              <a:rect l="textAreaLeft" t="textAreaTop" r="textAreaRight" b="textAreaBottom"/>
              <a:pathLst>
                <a:path w="21083" h="229871">
                  <a:moveTo>
                    <a:pt x="18415" y="229870"/>
                  </a:moveTo>
                  <a:lnTo>
                    <a:pt x="13717" y="229490"/>
                  </a:lnTo>
                  <a:lnTo>
                    <a:pt x="0" y="228600"/>
                  </a:lnTo>
                  <a:lnTo>
                    <a:pt x="2921" y="890"/>
                  </a:lnTo>
                  <a:lnTo>
                    <a:pt x="13717" y="255"/>
                  </a:lnTo>
                  <a:lnTo>
                    <a:pt x="21082" y="0"/>
                  </a:lnTo>
                  <a:lnTo>
                    <a:pt x="18415" y="229870"/>
                  </a:lnTo>
                  <a:close/>
                </a:path>
              </a:pathLst>
            </a:custGeom>
            <a:solidFill>
              <a:srgbClr val="aeaeae"/>
            </a:solidFill>
            <a:ln w="0">
              <a:solidFill>
                <a:srgbClr val="aeaea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ihandform 85"/>
            <p:cNvSpPr/>
            <p:nvPr/>
          </p:nvSpPr>
          <p:spPr>
            <a:xfrm>
              <a:off x="788760" y="5040000"/>
              <a:ext cx="25200" cy="1839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183960"/>
                <a:gd name="textAreaBottom" fmla="*/ 183960 h 183960"/>
              </a:gdLst>
              <a:ahLst/>
              <a:rect l="textAreaLeft" t="textAreaTop" r="textAreaRight" b="textAreaBottom"/>
              <a:pathLst>
                <a:path w="21083" h="227711">
                  <a:moveTo>
                    <a:pt x="18161" y="227710"/>
                  </a:moveTo>
                  <a:lnTo>
                    <a:pt x="6732" y="227076"/>
                  </a:lnTo>
                  <a:lnTo>
                    <a:pt x="0" y="226440"/>
                  </a:lnTo>
                  <a:lnTo>
                    <a:pt x="2795" y="1270"/>
                  </a:lnTo>
                  <a:lnTo>
                    <a:pt x="6732" y="1015"/>
                  </a:lnTo>
                  <a:lnTo>
                    <a:pt x="21082" y="0"/>
                  </a:lnTo>
                  <a:lnTo>
                    <a:pt x="18161" y="227710"/>
                  </a:lnTo>
                  <a:close/>
                </a:path>
              </a:pathLst>
            </a:custGeom>
            <a:solidFill>
              <a:srgbClr val="ababab"/>
            </a:solidFill>
            <a:ln w="0">
              <a:solidFill>
                <a:srgbClr val="ababa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ihandform 86"/>
            <p:cNvSpPr/>
            <p:nvPr/>
          </p:nvSpPr>
          <p:spPr>
            <a:xfrm>
              <a:off x="766440" y="5040000"/>
              <a:ext cx="25200" cy="1839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183960"/>
                <a:gd name="textAreaBottom" fmla="*/ 184320 h 183960"/>
              </a:gdLst>
              <a:ahLst/>
              <a:rect l="textAreaLeft" t="textAreaTop" r="textAreaRight" b="textAreaBottom"/>
              <a:pathLst>
                <a:path w="21083" h="225426">
                  <a:moveTo>
                    <a:pt x="18287" y="225425"/>
                  </a:moveTo>
                  <a:lnTo>
                    <a:pt x="380" y="224027"/>
                  </a:lnTo>
                  <a:lnTo>
                    <a:pt x="0" y="223901"/>
                  </a:lnTo>
                  <a:lnTo>
                    <a:pt x="2794" y="1524"/>
                  </a:lnTo>
                  <a:lnTo>
                    <a:pt x="21082" y="0"/>
                  </a:lnTo>
                  <a:lnTo>
                    <a:pt x="18287" y="225425"/>
                  </a:lnTo>
                  <a:close/>
                </a:path>
              </a:pathLst>
            </a:custGeom>
            <a:solidFill>
              <a:srgbClr val="a8a8a8"/>
            </a:solidFill>
            <a:ln w="0">
              <a:solidFill>
                <a:srgbClr val="a8a8a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ihandform 87"/>
            <p:cNvSpPr/>
            <p:nvPr/>
          </p:nvSpPr>
          <p:spPr>
            <a:xfrm>
              <a:off x="742680" y="5040000"/>
              <a:ext cx="25200" cy="1825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182520"/>
                <a:gd name="textAreaBottom" fmla="*/ 182520 h 182520"/>
              </a:gdLst>
              <a:ahLst/>
              <a:rect l="textAreaLeft" t="textAreaTop" r="textAreaRight" b="textAreaBottom"/>
              <a:pathLst>
                <a:path w="21083" h="222378">
                  <a:moveTo>
                    <a:pt x="18161" y="222377"/>
                  </a:moveTo>
                  <a:lnTo>
                    <a:pt x="0" y="220979"/>
                  </a:lnTo>
                  <a:lnTo>
                    <a:pt x="2667" y="1523"/>
                  </a:lnTo>
                  <a:lnTo>
                    <a:pt x="18668" y="127"/>
                  </a:lnTo>
                  <a:lnTo>
                    <a:pt x="21082" y="0"/>
                  </a:lnTo>
                  <a:lnTo>
                    <a:pt x="18161" y="222377"/>
                  </a:lnTo>
                  <a:close/>
                </a:path>
              </a:pathLst>
            </a:custGeom>
            <a:solidFill>
              <a:srgbClr val="a5a5a5"/>
            </a:solidFill>
            <a:ln w="0">
              <a:solidFill>
                <a:srgbClr val="a5a5a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ihandform 88"/>
            <p:cNvSpPr/>
            <p:nvPr/>
          </p:nvSpPr>
          <p:spPr>
            <a:xfrm>
              <a:off x="722160" y="5041800"/>
              <a:ext cx="25200" cy="17928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179280"/>
                <a:gd name="textAreaBottom" fmla="*/ 179640 h 179280"/>
              </a:gdLst>
              <a:ahLst/>
              <a:rect l="textAreaLeft" t="textAreaTop" r="textAreaRight" b="textAreaBottom"/>
              <a:pathLst>
                <a:path w="20957" h="219457">
                  <a:moveTo>
                    <a:pt x="18289" y="219456"/>
                  </a:moveTo>
                  <a:lnTo>
                    <a:pt x="12700" y="218948"/>
                  </a:lnTo>
                  <a:lnTo>
                    <a:pt x="0" y="217552"/>
                  </a:lnTo>
                  <a:lnTo>
                    <a:pt x="2667" y="1779"/>
                  </a:lnTo>
                  <a:lnTo>
                    <a:pt x="12700" y="762"/>
                  </a:lnTo>
                  <a:lnTo>
                    <a:pt x="20956" y="0"/>
                  </a:lnTo>
                  <a:lnTo>
                    <a:pt x="18289" y="219456"/>
                  </a:lnTo>
                  <a:close/>
                </a:path>
              </a:pathLst>
            </a:custGeom>
            <a:solidFill>
              <a:srgbClr val="a2a2a2"/>
            </a:solidFill>
            <a:ln w="0">
              <a:solidFill>
                <a:srgbClr val="a2a2a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ihandform 89"/>
            <p:cNvSpPr/>
            <p:nvPr/>
          </p:nvSpPr>
          <p:spPr>
            <a:xfrm>
              <a:off x="698400" y="5044680"/>
              <a:ext cx="25200" cy="17604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176040"/>
                <a:gd name="textAreaBottom" fmla="*/ 176400 h 176040"/>
              </a:gdLst>
              <a:ahLst/>
              <a:rect l="textAreaLeft" t="textAreaTop" r="textAreaRight" b="textAreaBottom"/>
              <a:pathLst>
                <a:path w="20955" h="215774">
                  <a:moveTo>
                    <a:pt x="18287" y="215773"/>
                  </a:moveTo>
                  <a:lnTo>
                    <a:pt x="7493" y="214757"/>
                  </a:lnTo>
                  <a:lnTo>
                    <a:pt x="0" y="213868"/>
                  </a:lnTo>
                  <a:lnTo>
                    <a:pt x="2666" y="1905"/>
                  </a:lnTo>
                  <a:lnTo>
                    <a:pt x="7493" y="1269"/>
                  </a:lnTo>
                  <a:lnTo>
                    <a:pt x="20954" y="0"/>
                  </a:lnTo>
                  <a:lnTo>
                    <a:pt x="18287" y="215773"/>
                  </a:lnTo>
                  <a:close/>
                </a:path>
              </a:pathLst>
            </a:custGeom>
            <a:solidFill>
              <a:srgbClr val="9f9f9f"/>
            </a:solidFill>
            <a:ln w="0">
              <a:solidFill>
                <a:srgbClr val="9f9f9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ihandform 90"/>
            <p:cNvSpPr/>
            <p:nvPr/>
          </p:nvSpPr>
          <p:spPr>
            <a:xfrm>
              <a:off x="676080" y="5046480"/>
              <a:ext cx="26640" cy="17136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20955" h="211964">
                  <a:moveTo>
                    <a:pt x="18288" y="211963"/>
                  </a:moveTo>
                  <a:lnTo>
                    <a:pt x="3047" y="210184"/>
                  </a:lnTo>
                  <a:lnTo>
                    <a:pt x="0" y="209803"/>
                  </a:lnTo>
                  <a:lnTo>
                    <a:pt x="2667" y="2158"/>
                  </a:lnTo>
                  <a:lnTo>
                    <a:pt x="3047" y="1904"/>
                  </a:lnTo>
                  <a:lnTo>
                    <a:pt x="20954" y="0"/>
                  </a:lnTo>
                  <a:lnTo>
                    <a:pt x="18288" y="211963"/>
                  </a:lnTo>
                  <a:close/>
                </a:path>
              </a:pathLst>
            </a:custGeom>
            <a:solidFill>
              <a:srgbClr val="9c9c9c"/>
            </a:solidFill>
            <a:ln w="0">
              <a:solidFill>
                <a:srgbClr val="9c9c9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ihandform 91"/>
            <p:cNvSpPr/>
            <p:nvPr/>
          </p:nvSpPr>
          <p:spPr>
            <a:xfrm>
              <a:off x="653760" y="5046480"/>
              <a:ext cx="25200" cy="1699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20829" h="207646">
                  <a:moveTo>
                    <a:pt x="18288" y="207645"/>
                  </a:moveTo>
                  <a:lnTo>
                    <a:pt x="0" y="205232"/>
                  </a:lnTo>
                  <a:lnTo>
                    <a:pt x="2539" y="2287"/>
                  </a:lnTo>
                  <a:lnTo>
                    <a:pt x="20828" y="0"/>
                  </a:lnTo>
                  <a:lnTo>
                    <a:pt x="18288" y="207645"/>
                  </a:lnTo>
                  <a:close/>
                </a:path>
              </a:pathLst>
            </a:custGeom>
            <a:solidFill>
              <a:srgbClr val="999999"/>
            </a:solidFill>
            <a:ln w="0">
              <a:solidFill>
                <a:srgbClr val="9999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ihandform 92"/>
            <p:cNvSpPr/>
            <p:nvPr/>
          </p:nvSpPr>
          <p:spPr>
            <a:xfrm>
              <a:off x="631440" y="5049720"/>
              <a:ext cx="25200" cy="16488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20701" h="202946">
                  <a:moveTo>
                    <a:pt x="18161" y="202945"/>
                  </a:moveTo>
                  <a:lnTo>
                    <a:pt x="17018" y="202819"/>
                  </a:lnTo>
                  <a:lnTo>
                    <a:pt x="0" y="200406"/>
                  </a:lnTo>
                  <a:lnTo>
                    <a:pt x="2412" y="2539"/>
                  </a:lnTo>
                  <a:lnTo>
                    <a:pt x="17018" y="507"/>
                  </a:lnTo>
                  <a:lnTo>
                    <a:pt x="20700" y="0"/>
                  </a:lnTo>
                  <a:lnTo>
                    <a:pt x="18161" y="202945"/>
                  </a:lnTo>
                  <a:close/>
                </a:path>
              </a:pathLst>
            </a:custGeom>
            <a:solidFill>
              <a:srgbClr val="969696"/>
            </a:solidFill>
            <a:ln w="0">
              <a:solidFill>
                <a:srgbClr val="96969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ihandform 93"/>
            <p:cNvSpPr/>
            <p:nvPr/>
          </p:nvSpPr>
          <p:spPr>
            <a:xfrm>
              <a:off x="609480" y="5051160"/>
              <a:ext cx="25200" cy="16164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20702" h="197994">
                  <a:moveTo>
                    <a:pt x="18161" y="197993"/>
                  </a:moveTo>
                  <a:lnTo>
                    <a:pt x="13843" y="197231"/>
                  </a:lnTo>
                  <a:lnTo>
                    <a:pt x="0" y="195199"/>
                  </a:lnTo>
                  <a:lnTo>
                    <a:pt x="2414" y="2920"/>
                  </a:lnTo>
                  <a:lnTo>
                    <a:pt x="13843" y="1016"/>
                  </a:lnTo>
                  <a:lnTo>
                    <a:pt x="20701" y="0"/>
                  </a:lnTo>
                  <a:lnTo>
                    <a:pt x="18161" y="197993"/>
                  </a:lnTo>
                  <a:close/>
                </a:path>
              </a:pathLst>
            </a:custGeom>
            <a:solidFill>
              <a:srgbClr val="939393"/>
            </a:solidFill>
            <a:ln w="0">
              <a:solidFill>
                <a:srgbClr val="93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ihandform 94"/>
            <p:cNvSpPr/>
            <p:nvPr/>
          </p:nvSpPr>
          <p:spPr>
            <a:xfrm>
              <a:off x="585720" y="5054400"/>
              <a:ext cx="26640" cy="15552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20702" h="192280">
                  <a:moveTo>
                    <a:pt x="18287" y="192279"/>
                  </a:moveTo>
                  <a:lnTo>
                    <a:pt x="11302" y="191136"/>
                  </a:lnTo>
                  <a:lnTo>
                    <a:pt x="0" y="189104"/>
                  </a:lnTo>
                  <a:lnTo>
                    <a:pt x="2158" y="3049"/>
                  </a:lnTo>
                  <a:lnTo>
                    <a:pt x="11302" y="1398"/>
                  </a:lnTo>
                  <a:lnTo>
                    <a:pt x="20701" y="0"/>
                  </a:lnTo>
                  <a:lnTo>
                    <a:pt x="18287" y="192279"/>
                  </a:lnTo>
                  <a:close/>
                </a:path>
              </a:pathLst>
            </a:custGeom>
            <a:solidFill>
              <a:srgbClr val="909090"/>
            </a:solidFill>
            <a:ln w="0">
              <a:solidFill>
                <a:srgbClr val="90909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Freihandform 95"/>
            <p:cNvSpPr/>
            <p:nvPr/>
          </p:nvSpPr>
          <p:spPr>
            <a:xfrm>
              <a:off x="563400" y="5055840"/>
              <a:ext cx="25200" cy="15084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150840"/>
                <a:gd name="textAreaBottom" fmla="*/ 150840 h 150840"/>
              </a:gdLst>
              <a:ahLst/>
              <a:rect l="textAreaLeft" t="textAreaTop" r="textAreaRight" b="textAreaBottom"/>
              <a:pathLst>
                <a:path w="20447" h="186183">
                  <a:moveTo>
                    <a:pt x="18288" y="186182"/>
                  </a:moveTo>
                  <a:lnTo>
                    <a:pt x="9525" y="184658"/>
                  </a:lnTo>
                  <a:lnTo>
                    <a:pt x="0" y="182879"/>
                  </a:lnTo>
                  <a:lnTo>
                    <a:pt x="2158" y="3428"/>
                  </a:lnTo>
                  <a:lnTo>
                    <a:pt x="9525" y="1904"/>
                  </a:lnTo>
                  <a:lnTo>
                    <a:pt x="20446" y="0"/>
                  </a:lnTo>
                  <a:lnTo>
                    <a:pt x="18288" y="186182"/>
                  </a:lnTo>
                  <a:close/>
                </a:path>
              </a:pathLst>
            </a:custGeom>
            <a:solidFill>
              <a:srgbClr val="8d8d8d"/>
            </a:solidFill>
            <a:ln w="0">
              <a:solidFill>
                <a:srgbClr val="8d8d8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Freihandform 96"/>
            <p:cNvSpPr/>
            <p:nvPr/>
          </p:nvSpPr>
          <p:spPr>
            <a:xfrm>
              <a:off x="542520" y="5059080"/>
              <a:ext cx="23760" cy="14580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145800"/>
                <a:gd name="textAreaBottom" fmla="*/ 146160 h 145800"/>
              </a:gdLst>
              <a:ahLst/>
              <a:rect l="textAreaLeft" t="textAreaTop" r="textAreaRight" b="textAreaBottom"/>
              <a:pathLst>
                <a:path w="20320" h="179452">
                  <a:moveTo>
                    <a:pt x="18161" y="179451"/>
                  </a:moveTo>
                  <a:lnTo>
                    <a:pt x="8382" y="177547"/>
                  </a:lnTo>
                  <a:lnTo>
                    <a:pt x="0" y="175642"/>
                  </a:lnTo>
                  <a:lnTo>
                    <a:pt x="2032" y="3556"/>
                  </a:lnTo>
                  <a:lnTo>
                    <a:pt x="8382" y="2286"/>
                  </a:lnTo>
                  <a:lnTo>
                    <a:pt x="20319" y="0"/>
                  </a:lnTo>
                  <a:lnTo>
                    <a:pt x="18161" y="179451"/>
                  </a:lnTo>
                  <a:close/>
                </a:path>
              </a:pathLst>
            </a:custGeom>
            <a:solidFill>
              <a:srgbClr val="8a8a8a"/>
            </a:solidFill>
            <a:ln w="0">
              <a:solidFill>
                <a:srgbClr val="8a8a8a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Freihandform 97"/>
            <p:cNvSpPr/>
            <p:nvPr/>
          </p:nvSpPr>
          <p:spPr>
            <a:xfrm>
              <a:off x="518760" y="5060520"/>
              <a:ext cx="25200" cy="1411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141120"/>
                <a:gd name="textAreaBottom" fmla="*/ 141480 h 141120"/>
              </a:gdLst>
              <a:ahLst/>
              <a:rect l="textAreaLeft" t="textAreaTop" r="textAreaRight" b="textAreaBottom"/>
              <a:pathLst>
                <a:path w="20320" h="172087">
                  <a:moveTo>
                    <a:pt x="18161" y="172086"/>
                  </a:moveTo>
                  <a:lnTo>
                    <a:pt x="8128" y="170054"/>
                  </a:lnTo>
                  <a:lnTo>
                    <a:pt x="0" y="168022"/>
                  </a:lnTo>
                  <a:lnTo>
                    <a:pt x="2032" y="4065"/>
                  </a:lnTo>
                  <a:lnTo>
                    <a:pt x="8128" y="2541"/>
                  </a:lnTo>
                  <a:lnTo>
                    <a:pt x="20319" y="0"/>
                  </a:lnTo>
                  <a:lnTo>
                    <a:pt x="18161" y="172086"/>
                  </a:lnTo>
                  <a:close/>
                </a:path>
              </a:pathLst>
            </a:custGeom>
            <a:solidFill>
              <a:srgbClr val="878787"/>
            </a:solidFill>
            <a:ln w="0">
              <a:solidFill>
                <a:srgbClr val="87878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Freihandform 98"/>
            <p:cNvSpPr/>
            <p:nvPr/>
          </p:nvSpPr>
          <p:spPr>
            <a:xfrm>
              <a:off x="495000" y="5065560"/>
              <a:ext cx="25200" cy="13320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20448" h="163958">
                  <a:moveTo>
                    <a:pt x="18415" y="163957"/>
                  </a:moveTo>
                  <a:lnTo>
                    <a:pt x="9016" y="161925"/>
                  </a:lnTo>
                  <a:lnTo>
                    <a:pt x="0" y="159639"/>
                  </a:lnTo>
                  <a:lnTo>
                    <a:pt x="2032" y="4571"/>
                  </a:lnTo>
                  <a:lnTo>
                    <a:pt x="9016" y="2794"/>
                  </a:lnTo>
                  <a:lnTo>
                    <a:pt x="20447" y="0"/>
                  </a:lnTo>
                  <a:lnTo>
                    <a:pt x="18415" y="163957"/>
                  </a:lnTo>
                  <a:close/>
                </a:path>
              </a:pathLst>
            </a:custGeom>
            <a:solidFill>
              <a:srgbClr val="848484"/>
            </a:solidFill>
            <a:ln w="0">
              <a:solidFill>
                <a:srgbClr val="848484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Freihandform 99"/>
            <p:cNvSpPr/>
            <p:nvPr/>
          </p:nvSpPr>
          <p:spPr>
            <a:xfrm>
              <a:off x="474480" y="5068800"/>
              <a:ext cx="25200" cy="12528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125280"/>
                <a:gd name="textAreaBottom" fmla="*/ 125640 h 125280"/>
              </a:gdLst>
              <a:ahLst/>
              <a:rect l="textAreaLeft" t="textAreaTop" r="textAreaRight" b="textAreaBottom"/>
              <a:pathLst>
                <a:path w="20067" h="155069">
                  <a:moveTo>
                    <a:pt x="18034" y="155068"/>
                  </a:moveTo>
                  <a:lnTo>
                    <a:pt x="10286" y="152908"/>
                  </a:lnTo>
                  <a:lnTo>
                    <a:pt x="0" y="149988"/>
                  </a:lnTo>
                  <a:lnTo>
                    <a:pt x="1650" y="4826"/>
                  </a:lnTo>
                  <a:lnTo>
                    <a:pt x="10286" y="2413"/>
                  </a:lnTo>
                  <a:lnTo>
                    <a:pt x="20066" y="0"/>
                  </a:lnTo>
                  <a:lnTo>
                    <a:pt x="18034" y="155068"/>
                  </a:lnTo>
                  <a:close/>
                </a:path>
              </a:pathLst>
            </a:custGeom>
            <a:solidFill>
              <a:srgbClr val="818181"/>
            </a:solidFill>
            <a:ln w="0">
              <a:solidFill>
                <a:srgbClr val="81818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Freihandform 100"/>
            <p:cNvSpPr/>
            <p:nvPr/>
          </p:nvSpPr>
          <p:spPr>
            <a:xfrm>
              <a:off x="452160" y="5073480"/>
              <a:ext cx="23760" cy="11736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9940" h="145289">
                  <a:moveTo>
                    <a:pt x="18161" y="145288"/>
                  </a:moveTo>
                  <a:lnTo>
                    <a:pt x="12700" y="143637"/>
                  </a:lnTo>
                  <a:lnTo>
                    <a:pt x="0" y="139828"/>
                  </a:lnTo>
                  <a:lnTo>
                    <a:pt x="1525" y="5716"/>
                  </a:lnTo>
                  <a:lnTo>
                    <a:pt x="12700" y="2160"/>
                  </a:lnTo>
                  <a:lnTo>
                    <a:pt x="19939" y="0"/>
                  </a:lnTo>
                  <a:lnTo>
                    <a:pt x="18161" y="145288"/>
                  </a:lnTo>
                  <a:close/>
                </a:path>
              </a:pathLst>
            </a:custGeom>
            <a:solidFill>
              <a:srgbClr val="7e7e7e"/>
            </a:solidFill>
            <a:ln w="0">
              <a:solidFill>
                <a:srgbClr val="7e7e7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Freihandform 101"/>
            <p:cNvSpPr/>
            <p:nvPr/>
          </p:nvSpPr>
          <p:spPr>
            <a:xfrm>
              <a:off x="429840" y="5076720"/>
              <a:ext cx="25200" cy="10944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19687" h="134113">
                  <a:moveTo>
                    <a:pt x="18161" y="134112"/>
                  </a:moveTo>
                  <a:lnTo>
                    <a:pt x="16129" y="133478"/>
                  </a:lnTo>
                  <a:lnTo>
                    <a:pt x="2413" y="128651"/>
                  </a:lnTo>
                  <a:lnTo>
                    <a:pt x="0" y="127636"/>
                  </a:lnTo>
                  <a:lnTo>
                    <a:pt x="1397" y="6350"/>
                  </a:lnTo>
                  <a:lnTo>
                    <a:pt x="2413" y="5969"/>
                  </a:lnTo>
                  <a:lnTo>
                    <a:pt x="16129" y="1143"/>
                  </a:lnTo>
                  <a:lnTo>
                    <a:pt x="19686" y="0"/>
                  </a:lnTo>
                  <a:lnTo>
                    <a:pt x="18161" y="134112"/>
                  </a:lnTo>
                  <a:close/>
                </a:path>
              </a:pathLst>
            </a:custGeom>
            <a:solidFill>
              <a:srgbClr val="7b7b7b"/>
            </a:solidFill>
            <a:ln w="0">
              <a:solidFill>
                <a:srgbClr val="7b7b7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Freihandform 102"/>
            <p:cNvSpPr/>
            <p:nvPr/>
          </p:nvSpPr>
          <p:spPr>
            <a:xfrm>
              <a:off x="407880" y="5081400"/>
              <a:ext cx="23760" cy="9972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99720"/>
                <a:gd name="textAreaBottom" fmla="*/ 100080 h 99720"/>
              </a:gdLst>
              <a:ahLst/>
              <a:rect l="textAreaLeft" t="textAreaTop" r="textAreaRight" b="textAreaBottom"/>
              <a:pathLst>
                <a:path w="19686" h="121667">
                  <a:moveTo>
                    <a:pt x="18160" y="121666"/>
                  </a:moveTo>
                  <a:lnTo>
                    <a:pt x="7746" y="117601"/>
                  </a:lnTo>
                  <a:lnTo>
                    <a:pt x="0" y="114173"/>
                  </a:lnTo>
                  <a:lnTo>
                    <a:pt x="1269" y="7493"/>
                  </a:lnTo>
                  <a:lnTo>
                    <a:pt x="7746" y="4825"/>
                  </a:lnTo>
                  <a:lnTo>
                    <a:pt x="19685" y="0"/>
                  </a:lnTo>
                  <a:lnTo>
                    <a:pt x="18160" y="121666"/>
                  </a:lnTo>
                  <a:close/>
                </a:path>
              </a:pathLst>
            </a:custGeom>
            <a:solidFill>
              <a:srgbClr val="787878"/>
            </a:solidFill>
            <a:ln w="0">
              <a:solidFill>
                <a:srgbClr val="78787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ihandform 103"/>
            <p:cNvSpPr/>
            <p:nvPr/>
          </p:nvSpPr>
          <p:spPr>
            <a:xfrm>
              <a:off x="383760" y="5087520"/>
              <a:ext cx="23760" cy="8712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87120"/>
                <a:gd name="textAreaBottom" fmla="*/ 87480 h 87120"/>
              </a:gdLst>
              <a:ahLst/>
              <a:rect l="textAreaLeft" t="textAreaTop" r="textAreaRight" b="textAreaBottom"/>
              <a:pathLst>
                <a:path w="19431" h="106681">
                  <a:moveTo>
                    <a:pt x="18161" y="106680"/>
                  </a:moveTo>
                  <a:lnTo>
                    <a:pt x="14096" y="104901"/>
                  </a:lnTo>
                  <a:lnTo>
                    <a:pt x="3428" y="99694"/>
                  </a:lnTo>
                  <a:lnTo>
                    <a:pt x="0" y="97663"/>
                  </a:lnTo>
                  <a:lnTo>
                    <a:pt x="1143" y="9017"/>
                  </a:lnTo>
                  <a:lnTo>
                    <a:pt x="3428" y="7493"/>
                  </a:lnTo>
                  <a:lnTo>
                    <a:pt x="14096" y="2286"/>
                  </a:lnTo>
                  <a:lnTo>
                    <a:pt x="19430" y="0"/>
                  </a:lnTo>
                  <a:lnTo>
                    <a:pt x="18161" y="106680"/>
                  </a:lnTo>
                  <a:close/>
                </a:path>
              </a:pathLst>
            </a:custGeom>
            <a:solidFill>
              <a:srgbClr val="757575"/>
            </a:solidFill>
            <a:ln w="0">
              <a:solidFill>
                <a:srgbClr val="75757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Freihandform 104"/>
            <p:cNvSpPr/>
            <p:nvPr/>
          </p:nvSpPr>
          <p:spPr>
            <a:xfrm>
              <a:off x="363240" y="5095800"/>
              <a:ext cx="23760" cy="7128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19306" h="88647">
                  <a:moveTo>
                    <a:pt x="18162" y="88646"/>
                  </a:moveTo>
                  <a:lnTo>
                    <a:pt x="12319" y="85344"/>
                  </a:lnTo>
                  <a:lnTo>
                    <a:pt x="4064" y="79756"/>
                  </a:lnTo>
                  <a:lnTo>
                    <a:pt x="0" y="76708"/>
                  </a:lnTo>
                  <a:lnTo>
                    <a:pt x="889" y="11810"/>
                  </a:lnTo>
                  <a:lnTo>
                    <a:pt x="4064" y="9397"/>
                  </a:lnTo>
                  <a:lnTo>
                    <a:pt x="12319" y="3936"/>
                  </a:lnTo>
                  <a:lnTo>
                    <a:pt x="19305" y="0"/>
                  </a:lnTo>
                  <a:lnTo>
                    <a:pt x="18162" y="88646"/>
                  </a:lnTo>
                  <a:close/>
                </a:path>
              </a:pathLst>
            </a:custGeom>
            <a:solidFill>
              <a:srgbClr val="727272"/>
            </a:solidFill>
            <a:ln w="0">
              <a:solidFill>
                <a:srgbClr val="72727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Freihandform 105"/>
            <p:cNvSpPr/>
            <p:nvPr/>
          </p:nvSpPr>
          <p:spPr>
            <a:xfrm>
              <a:off x="339480" y="5105160"/>
              <a:ext cx="23760" cy="5220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18796" h="64899">
                  <a:moveTo>
                    <a:pt x="18034" y="-638"/>
                  </a:moveTo>
                  <a:lnTo>
                    <a:pt x="14732" y="-3051"/>
                  </a:lnTo>
                  <a:lnTo>
                    <a:pt x="6222" y="-11687"/>
                  </a:lnTo>
                  <a:lnTo>
                    <a:pt x="761" y="-20577"/>
                  </a:lnTo>
                  <a:lnTo>
                    <a:pt x="0" y="-22863"/>
                  </a:lnTo>
                  <a:lnTo>
                    <a:pt x="127" y="22225"/>
                  </a:lnTo>
                  <a:lnTo>
                    <a:pt x="761" y="20701"/>
                  </a:lnTo>
                  <a:lnTo>
                    <a:pt x="6222" y="11938"/>
                  </a:lnTo>
                  <a:lnTo>
                    <a:pt x="14732" y="3303"/>
                  </a:lnTo>
                  <a:lnTo>
                    <a:pt x="18795" y="0"/>
                  </a:lnTo>
                  <a:lnTo>
                    <a:pt x="18034" y="-638"/>
                  </a:lnTo>
                  <a:close/>
                </a:path>
              </a:pathLst>
            </a:custGeom>
            <a:solidFill>
              <a:srgbClr val="6f6f6f"/>
            </a:solidFill>
            <a:ln w="0">
              <a:solidFill>
                <a:srgbClr val="6f6f6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ihandform 106"/>
            <p:cNvSpPr/>
            <p:nvPr/>
          </p:nvSpPr>
          <p:spPr>
            <a:xfrm>
              <a:off x="338040" y="5122800"/>
              <a:ext cx="1440" cy="172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2160" h="20575">
                  <a:moveTo>
                    <a:pt x="1904" y="20574"/>
                  </a:moveTo>
                  <a:lnTo>
                    <a:pt x="634" y="16763"/>
                  </a:lnTo>
                  <a:lnTo>
                    <a:pt x="0" y="10541"/>
                  </a:lnTo>
                  <a:lnTo>
                    <a:pt x="634" y="4572"/>
                  </a:lnTo>
                  <a:lnTo>
                    <a:pt x="2159" y="0"/>
                  </a:lnTo>
                  <a:lnTo>
                    <a:pt x="1904" y="20574"/>
                  </a:lnTo>
                  <a:close/>
                </a:path>
              </a:pathLst>
            </a:custGeom>
            <a:solidFill>
              <a:srgbClr val="6c6c6c"/>
            </a:solidFill>
            <a:ln w="0">
              <a:solidFill>
                <a:srgbClr val="6c6c6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Freihandform 107"/>
            <p:cNvSpPr/>
            <p:nvPr/>
          </p:nvSpPr>
          <p:spPr>
            <a:xfrm>
              <a:off x="338040" y="5035320"/>
              <a:ext cx="1306440" cy="191880"/>
            </a:xfrm>
            <a:custGeom>
              <a:avLst/>
              <a:gdLst>
                <a:gd name="textAreaLeft" fmla="*/ 0 w 1306440"/>
                <a:gd name="textAreaRight" fmla="*/ 1306800 w 1306440"/>
                <a:gd name="textAreaTop" fmla="*/ 0 h 191880"/>
                <a:gd name="textAreaBottom" fmla="*/ 192240 h 191880"/>
              </a:gdLst>
              <a:ahLst/>
              <a:rect l="textAreaLeft" t="textAreaTop" r="textAreaRight" b="textAreaBottom"/>
              <a:pathLst>
                <a:path w="1062309" h="236968">
                  <a:moveTo>
                    <a:pt x="0" y="118268"/>
                  </a:moveTo>
                  <a:lnTo>
                    <a:pt x="842" y="124289"/>
                  </a:lnTo>
                  <a:lnTo>
                    <a:pt x="2948" y="130310"/>
                  </a:lnTo>
                  <a:lnTo>
                    <a:pt x="6318" y="136331"/>
                  </a:lnTo>
                  <a:lnTo>
                    <a:pt x="10951" y="142352"/>
                  </a:lnTo>
                  <a:lnTo>
                    <a:pt x="16848" y="147943"/>
                  </a:lnTo>
                  <a:lnTo>
                    <a:pt x="24009" y="153534"/>
                  </a:lnTo>
                  <a:lnTo>
                    <a:pt x="32433" y="159125"/>
                  </a:lnTo>
                  <a:lnTo>
                    <a:pt x="41700" y="164285"/>
                  </a:lnTo>
                  <a:lnTo>
                    <a:pt x="52652" y="169877"/>
                  </a:lnTo>
                  <a:lnTo>
                    <a:pt x="64024" y="175037"/>
                  </a:lnTo>
                  <a:lnTo>
                    <a:pt x="77082" y="179768"/>
                  </a:lnTo>
                  <a:lnTo>
                    <a:pt x="90982" y="184499"/>
                  </a:lnTo>
                  <a:lnTo>
                    <a:pt x="105725" y="189230"/>
                  </a:lnTo>
                  <a:lnTo>
                    <a:pt x="121310" y="193530"/>
                  </a:lnTo>
                  <a:lnTo>
                    <a:pt x="138159" y="197831"/>
                  </a:lnTo>
                  <a:lnTo>
                    <a:pt x="155850" y="202132"/>
                  </a:lnTo>
                  <a:lnTo>
                    <a:pt x="174383" y="206002"/>
                  </a:lnTo>
                  <a:lnTo>
                    <a:pt x="193338" y="209873"/>
                  </a:lnTo>
                  <a:lnTo>
                    <a:pt x="213556" y="213313"/>
                  </a:lnTo>
                  <a:lnTo>
                    <a:pt x="234196" y="216754"/>
                  </a:lnTo>
                  <a:lnTo>
                    <a:pt x="255678" y="219764"/>
                  </a:lnTo>
                  <a:lnTo>
                    <a:pt x="278002" y="222345"/>
                  </a:lnTo>
                  <a:lnTo>
                    <a:pt x="324336" y="227506"/>
                  </a:lnTo>
                  <a:lnTo>
                    <a:pt x="373197" y="231376"/>
                  </a:lnTo>
                  <a:lnTo>
                    <a:pt x="424165" y="234387"/>
                  </a:lnTo>
                  <a:lnTo>
                    <a:pt x="476817" y="236107"/>
                  </a:lnTo>
                  <a:lnTo>
                    <a:pt x="531154" y="236967"/>
                  </a:lnTo>
                  <a:lnTo>
                    <a:pt x="585491" y="236107"/>
                  </a:lnTo>
                  <a:lnTo>
                    <a:pt x="638143" y="234387"/>
                  </a:lnTo>
                  <a:lnTo>
                    <a:pt x="689110" y="231376"/>
                  </a:lnTo>
                  <a:lnTo>
                    <a:pt x="737971" y="227506"/>
                  </a:lnTo>
                  <a:lnTo>
                    <a:pt x="784305" y="222345"/>
                  </a:lnTo>
                  <a:lnTo>
                    <a:pt x="806629" y="219764"/>
                  </a:lnTo>
                  <a:lnTo>
                    <a:pt x="828111" y="216754"/>
                  </a:lnTo>
                  <a:lnTo>
                    <a:pt x="848751" y="213313"/>
                  </a:lnTo>
                  <a:lnTo>
                    <a:pt x="868969" y="209873"/>
                  </a:lnTo>
                  <a:lnTo>
                    <a:pt x="888345" y="206002"/>
                  </a:lnTo>
                  <a:lnTo>
                    <a:pt x="906879" y="202132"/>
                  </a:lnTo>
                  <a:lnTo>
                    <a:pt x="924149" y="197831"/>
                  </a:lnTo>
                  <a:lnTo>
                    <a:pt x="940997" y="193530"/>
                  </a:lnTo>
                  <a:lnTo>
                    <a:pt x="956582" y="189230"/>
                  </a:lnTo>
                  <a:lnTo>
                    <a:pt x="971746" y="184499"/>
                  </a:lnTo>
                  <a:lnTo>
                    <a:pt x="985225" y="179768"/>
                  </a:lnTo>
                  <a:lnTo>
                    <a:pt x="998283" y="175037"/>
                  </a:lnTo>
                  <a:lnTo>
                    <a:pt x="1009656" y="169877"/>
                  </a:lnTo>
                  <a:lnTo>
                    <a:pt x="1020607" y="164285"/>
                  </a:lnTo>
                  <a:lnTo>
                    <a:pt x="1029874" y="159125"/>
                  </a:lnTo>
                  <a:lnTo>
                    <a:pt x="1038298" y="153534"/>
                  </a:lnTo>
                  <a:lnTo>
                    <a:pt x="1045459" y="147943"/>
                  </a:lnTo>
                  <a:lnTo>
                    <a:pt x="1051356" y="142352"/>
                  </a:lnTo>
                  <a:lnTo>
                    <a:pt x="1055990" y="136331"/>
                  </a:lnTo>
                  <a:lnTo>
                    <a:pt x="1059359" y="130310"/>
                  </a:lnTo>
                  <a:lnTo>
                    <a:pt x="1061465" y="124289"/>
                  </a:lnTo>
                  <a:lnTo>
                    <a:pt x="1062308" y="118268"/>
                  </a:lnTo>
                  <a:lnTo>
                    <a:pt x="1061465" y="112248"/>
                  </a:lnTo>
                  <a:lnTo>
                    <a:pt x="1059359" y="106227"/>
                  </a:lnTo>
                  <a:lnTo>
                    <a:pt x="1055990" y="100635"/>
                  </a:lnTo>
                  <a:lnTo>
                    <a:pt x="1051356" y="94614"/>
                  </a:lnTo>
                  <a:lnTo>
                    <a:pt x="1045459" y="89024"/>
                  </a:lnTo>
                  <a:lnTo>
                    <a:pt x="1038298" y="83003"/>
                  </a:lnTo>
                  <a:lnTo>
                    <a:pt x="1029874" y="77842"/>
                  </a:lnTo>
                  <a:lnTo>
                    <a:pt x="1020607" y="72251"/>
                  </a:lnTo>
                  <a:lnTo>
                    <a:pt x="1009656" y="67090"/>
                  </a:lnTo>
                  <a:lnTo>
                    <a:pt x="998283" y="61930"/>
                  </a:lnTo>
                  <a:lnTo>
                    <a:pt x="985225" y="57199"/>
                  </a:lnTo>
                  <a:lnTo>
                    <a:pt x="971746" y="52468"/>
                  </a:lnTo>
                  <a:lnTo>
                    <a:pt x="956582" y="47737"/>
                  </a:lnTo>
                  <a:lnTo>
                    <a:pt x="940997" y="43006"/>
                  </a:lnTo>
                  <a:lnTo>
                    <a:pt x="924149" y="38706"/>
                  </a:lnTo>
                  <a:lnTo>
                    <a:pt x="906879" y="34835"/>
                  </a:lnTo>
                  <a:lnTo>
                    <a:pt x="888345" y="30965"/>
                  </a:lnTo>
                  <a:lnTo>
                    <a:pt x="868969" y="27094"/>
                  </a:lnTo>
                  <a:lnTo>
                    <a:pt x="848751" y="23653"/>
                  </a:lnTo>
                  <a:lnTo>
                    <a:pt x="828111" y="20213"/>
                  </a:lnTo>
                  <a:lnTo>
                    <a:pt x="806629" y="17203"/>
                  </a:lnTo>
                  <a:lnTo>
                    <a:pt x="784305" y="14622"/>
                  </a:lnTo>
                  <a:lnTo>
                    <a:pt x="737971" y="9461"/>
                  </a:lnTo>
                  <a:lnTo>
                    <a:pt x="689110" y="5161"/>
                  </a:lnTo>
                  <a:lnTo>
                    <a:pt x="638143" y="2580"/>
                  </a:lnTo>
                  <a:lnTo>
                    <a:pt x="585491" y="430"/>
                  </a:lnTo>
                  <a:lnTo>
                    <a:pt x="531154" y="0"/>
                  </a:lnTo>
                  <a:lnTo>
                    <a:pt x="476817" y="430"/>
                  </a:lnTo>
                  <a:lnTo>
                    <a:pt x="424165" y="2580"/>
                  </a:lnTo>
                  <a:lnTo>
                    <a:pt x="373197" y="5161"/>
                  </a:lnTo>
                  <a:lnTo>
                    <a:pt x="324336" y="9461"/>
                  </a:lnTo>
                  <a:lnTo>
                    <a:pt x="278002" y="14622"/>
                  </a:lnTo>
                  <a:lnTo>
                    <a:pt x="255678" y="17203"/>
                  </a:lnTo>
                  <a:lnTo>
                    <a:pt x="234196" y="20213"/>
                  </a:lnTo>
                  <a:lnTo>
                    <a:pt x="213556" y="23653"/>
                  </a:lnTo>
                  <a:lnTo>
                    <a:pt x="193338" y="27094"/>
                  </a:lnTo>
                  <a:lnTo>
                    <a:pt x="174383" y="30965"/>
                  </a:lnTo>
                  <a:lnTo>
                    <a:pt x="155850" y="34835"/>
                  </a:lnTo>
                  <a:lnTo>
                    <a:pt x="138159" y="38706"/>
                  </a:lnTo>
                  <a:lnTo>
                    <a:pt x="121310" y="43006"/>
                  </a:lnTo>
                  <a:lnTo>
                    <a:pt x="105725" y="47737"/>
                  </a:lnTo>
                  <a:lnTo>
                    <a:pt x="90982" y="52468"/>
                  </a:lnTo>
                  <a:lnTo>
                    <a:pt x="77082" y="57199"/>
                  </a:lnTo>
                  <a:lnTo>
                    <a:pt x="64024" y="61930"/>
                  </a:lnTo>
                  <a:lnTo>
                    <a:pt x="52652" y="67090"/>
                  </a:lnTo>
                  <a:lnTo>
                    <a:pt x="41700" y="72251"/>
                  </a:lnTo>
                  <a:lnTo>
                    <a:pt x="32433" y="77842"/>
                  </a:lnTo>
                  <a:lnTo>
                    <a:pt x="24009" y="83003"/>
                  </a:lnTo>
                  <a:lnTo>
                    <a:pt x="16848" y="89024"/>
                  </a:lnTo>
                  <a:lnTo>
                    <a:pt x="10951" y="94614"/>
                  </a:lnTo>
                  <a:lnTo>
                    <a:pt x="6318" y="100635"/>
                  </a:lnTo>
                  <a:lnTo>
                    <a:pt x="2948" y="106227"/>
                  </a:lnTo>
                  <a:lnTo>
                    <a:pt x="842" y="112248"/>
                  </a:lnTo>
                  <a:lnTo>
                    <a:pt x="0" y="118268"/>
                  </a:lnTo>
                  <a:close/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Freihandform 108"/>
            <p:cNvSpPr/>
            <p:nvPr/>
          </p:nvSpPr>
          <p:spPr>
            <a:xfrm>
              <a:off x="536400" y="5784840"/>
              <a:ext cx="909720" cy="8568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85680"/>
                <a:gd name="textAreaBottom" fmla="*/ 86040 h 85680"/>
              </a:gdLst>
              <a:ahLst/>
              <a:rect l="textAreaLeft" t="textAreaTop" r="textAreaRight" b="textAreaBottom"/>
              <a:pathLst>
                <a:path w="738814" h="105369">
                  <a:moveTo>
                    <a:pt x="0" y="0"/>
                  </a:moveTo>
                  <a:lnTo>
                    <a:pt x="842" y="5591"/>
                  </a:lnTo>
                  <a:lnTo>
                    <a:pt x="2106" y="10752"/>
                  </a:lnTo>
                  <a:lnTo>
                    <a:pt x="4212" y="15913"/>
                  </a:lnTo>
                  <a:lnTo>
                    <a:pt x="7582" y="21504"/>
                  </a:lnTo>
                  <a:lnTo>
                    <a:pt x="11794" y="26665"/>
                  </a:lnTo>
                  <a:lnTo>
                    <a:pt x="16848" y="31395"/>
                  </a:lnTo>
                  <a:lnTo>
                    <a:pt x="22324" y="36126"/>
                  </a:lnTo>
                  <a:lnTo>
                    <a:pt x="29064" y="41287"/>
                  </a:lnTo>
                  <a:lnTo>
                    <a:pt x="36645" y="46018"/>
                  </a:lnTo>
                  <a:lnTo>
                    <a:pt x="44649" y="50318"/>
                  </a:lnTo>
                  <a:lnTo>
                    <a:pt x="63182" y="58920"/>
                  </a:lnTo>
                  <a:lnTo>
                    <a:pt x="84243" y="67091"/>
                  </a:lnTo>
                  <a:lnTo>
                    <a:pt x="108252" y="74402"/>
                  </a:lnTo>
                  <a:lnTo>
                    <a:pt x="134368" y="81283"/>
                  </a:lnTo>
                  <a:lnTo>
                    <a:pt x="163010" y="87304"/>
                  </a:lnTo>
                  <a:lnTo>
                    <a:pt x="193338" y="92465"/>
                  </a:lnTo>
                  <a:lnTo>
                    <a:pt x="225771" y="97196"/>
                  </a:lnTo>
                  <a:lnTo>
                    <a:pt x="259890" y="100636"/>
                  </a:lnTo>
                  <a:lnTo>
                    <a:pt x="294851" y="103216"/>
                  </a:lnTo>
                  <a:lnTo>
                    <a:pt x="331497" y="104937"/>
                  </a:lnTo>
                  <a:lnTo>
                    <a:pt x="369406" y="105368"/>
                  </a:lnTo>
                  <a:lnTo>
                    <a:pt x="407316" y="104937"/>
                  </a:lnTo>
                  <a:lnTo>
                    <a:pt x="443961" y="103216"/>
                  </a:lnTo>
                  <a:lnTo>
                    <a:pt x="479343" y="100636"/>
                  </a:lnTo>
                  <a:lnTo>
                    <a:pt x="513462" y="97196"/>
                  </a:lnTo>
                  <a:lnTo>
                    <a:pt x="545474" y="92465"/>
                  </a:lnTo>
                  <a:lnTo>
                    <a:pt x="575802" y="87304"/>
                  </a:lnTo>
                  <a:lnTo>
                    <a:pt x="604445" y="81283"/>
                  </a:lnTo>
                  <a:lnTo>
                    <a:pt x="630560" y="74402"/>
                  </a:lnTo>
                  <a:lnTo>
                    <a:pt x="654569" y="67091"/>
                  </a:lnTo>
                  <a:lnTo>
                    <a:pt x="675630" y="58920"/>
                  </a:lnTo>
                  <a:lnTo>
                    <a:pt x="694164" y="50318"/>
                  </a:lnTo>
                  <a:lnTo>
                    <a:pt x="702588" y="46018"/>
                  </a:lnTo>
                  <a:lnTo>
                    <a:pt x="709749" y="41287"/>
                  </a:lnTo>
                  <a:lnTo>
                    <a:pt x="716488" y="36126"/>
                  </a:lnTo>
                  <a:lnTo>
                    <a:pt x="721964" y="31395"/>
                  </a:lnTo>
                  <a:lnTo>
                    <a:pt x="727018" y="26665"/>
                  </a:lnTo>
                  <a:lnTo>
                    <a:pt x="731231" y="21504"/>
                  </a:lnTo>
                  <a:lnTo>
                    <a:pt x="734600" y="15913"/>
                  </a:lnTo>
                  <a:lnTo>
                    <a:pt x="736706" y="10752"/>
                  </a:lnTo>
                  <a:lnTo>
                    <a:pt x="738391" y="5591"/>
                  </a:lnTo>
                  <a:lnTo>
                    <a:pt x="738813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Freihandform 109"/>
            <p:cNvSpPr/>
            <p:nvPr/>
          </p:nvSpPr>
          <p:spPr>
            <a:xfrm>
              <a:off x="707760" y="5186160"/>
              <a:ext cx="37800" cy="1872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30100" h="22734">
                  <a:moveTo>
                    <a:pt x="6222" y="0"/>
                  </a:moveTo>
                  <a:lnTo>
                    <a:pt x="10922" y="0"/>
                  </a:lnTo>
                  <a:lnTo>
                    <a:pt x="15747" y="1142"/>
                  </a:lnTo>
                  <a:lnTo>
                    <a:pt x="20700" y="3428"/>
                  </a:lnTo>
                  <a:lnTo>
                    <a:pt x="25018" y="6350"/>
                  </a:lnTo>
                  <a:lnTo>
                    <a:pt x="28447" y="9906"/>
                  </a:lnTo>
                  <a:lnTo>
                    <a:pt x="30099" y="13715"/>
                  </a:lnTo>
                  <a:lnTo>
                    <a:pt x="30099" y="17526"/>
                  </a:lnTo>
                  <a:lnTo>
                    <a:pt x="28575" y="20320"/>
                  </a:lnTo>
                  <a:lnTo>
                    <a:pt x="25780" y="21971"/>
                  </a:lnTo>
                  <a:lnTo>
                    <a:pt x="22351" y="22733"/>
                  </a:lnTo>
                  <a:lnTo>
                    <a:pt x="18415" y="22606"/>
                  </a:lnTo>
                  <a:lnTo>
                    <a:pt x="10032" y="20320"/>
                  </a:lnTo>
                  <a:lnTo>
                    <a:pt x="6350" y="18541"/>
                  </a:lnTo>
                  <a:lnTo>
                    <a:pt x="3555" y="16256"/>
                  </a:lnTo>
                  <a:lnTo>
                    <a:pt x="1269" y="12827"/>
                  </a:lnTo>
                  <a:lnTo>
                    <a:pt x="0" y="8635"/>
                  </a:lnTo>
                  <a:lnTo>
                    <a:pt x="254" y="4445"/>
                  </a:lnTo>
                  <a:lnTo>
                    <a:pt x="1015" y="2666"/>
                  </a:lnTo>
                  <a:lnTo>
                    <a:pt x="2286" y="1270"/>
                  </a:lnTo>
                  <a:lnTo>
                    <a:pt x="62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Freihandform 110"/>
            <p:cNvSpPr/>
            <p:nvPr/>
          </p:nvSpPr>
          <p:spPr>
            <a:xfrm>
              <a:off x="707760" y="5186160"/>
              <a:ext cx="37800" cy="1872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30329" h="22795">
                  <a:moveTo>
                    <a:pt x="2106" y="1291"/>
                  </a:moveTo>
                  <a:lnTo>
                    <a:pt x="843" y="2581"/>
                  </a:lnTo>
                  <a:lnTo>
                    <a:pt x="421" y="4301"/>
                  </a:lnTo>
                  <a:lnTo>
                    <a:pt x="0" y="8602"/>
                  </a:lnTo>
                  <a:lnTo>
                    <a:pt x="1264" y="12902"/>
                  </a:lnTo>
                  <a:lnTo>
                    <a:pt x="3370" y="16343"/>
                  </a:lnTo>
                  <a:lnTo>
                    <a:pt x="6319" y="18493"/>
                  </a:lnTo>
                  <a:lnTo>
                    <a:pt x="10110" y="20213"/>
                  </a:lnTo>
                  <a:lnTo>
                    <a:pt x="18534" y="22794"/>
                  </a:lnTo>
                  <a:lnTo>
                    <a:pt x="22325" y="22794"/>
                  </a:lnTo>
                  <a:lnTo>
                    <a:pt x="25695" y="21934"/>
                  </a:lnTo>
                  <a:lnTo>
                    <a:pt x="28643" y="20213"/>
                  </a:lnTo>
                  <a:lnTo>
                    <a:pt x="30328" y="17633"/>
                  </a:lnTo>
                  <a:lnTo>
                    <a:pt x="30328" y="13763"/>
                  </a:lnTo>
                  <a:lnTo>
                    <a:pt x="28222" y="9892"/>
                  </a:lnTo>
                  <a:lnTo>
                    <a:pt x="24852" y="6452"/>
                  </a:lnTo>
                  <a:lnTo>
                    <a:pt x="20640" y="3441"/>
                  </a:lnTo>
                  <a:lnTo>
                    <a:pt x="16007" y="1291"/>
                  </a:lnTo>
                  <a:lnTo>
                    <a:pt x="10952" y="0"/>
                  </a:lnTo>
                  <a:lnTo>
                    <a:pt x="6319" y="0"/>
                  </a:lnTo>
                  <a:lnTo>
                    <a:pt x="2106" y="1291"/>
                  </a:lnTo>
                  <a:close/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Freihandform 111"/>
            <p:cNvSpPr/>
            <p:nvPr/>
          </p:nvSpPr>
          <p:spPr>
            <a:xfrm>
              <a:off x="682560" y="5163840"/>
              <a:ext cx="83880" cy="58680"/>
            </a:xfrm>
            <a:custGeom>
              <a:avLst/>
              <a:gdLst>
                <a:gd name="textAreaLeft" fmla="*/ 0 w 83880"/>
                <a:gd name="textAreaRight" fmla="*/ 84240 w 8388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67819" h="72773">
                  <a:moveTo>
                    <a:pt x="5079" y="64771"/>
                  </a:moveTo>
                  <a:lnTo>
                    <a:pt x="3047" y="60834"/>
                  </a:lnTo>
                  <a:lnTo>
                    <a:pt x="1397" y="56261"/>
                  </a:lnTo>
                  <a:lnTo>
                    <a:pt x="0" y="46355"/>
                  </a:lnTo>
                  <a:lnTo>
                    <a:pt x="635" y="35560"/>
                  </a:lnTo>
                  <a:lnTo>
                    <a:pt x="3175" y="25147"/>
                  </a:lnTo>
                  <a:lnTo>
                    <a:pt x="7619" y="15622"/>
                  </a:lnTo>
                  <a:lnTo>
                    <a:pt x="10668" y="11430"/>
                  </a:lnTo>
                  <a:lnTo>
                    <a:pt x="14223" y="7621"/>
                  </a:lnTo>
                  <a:lnTo>
                    <a:pt x="18161" y="4573"/>
                  </a:lnTo>
                  <a:lnTo>
                    <a:pt x="22605" y="2033"/>
                  </a:lnTo>
                  <a:lnTo>
                    <a:pt x="27558" y="635"/>
                  </a:lnTo>
                  <a:lnTo>
                    <a:pt x="32893" y="0"/>
                  </a:lnTo>
                  <a:lnTo>
                    <a:pt x="38735" y="128"/>
                  </a:lnTo>
                  <a:lnTo>
                    <a:pt x="43942" y="1398"/>
                  </a:lnTo>
                  <a:lnTo>
                    <a:pt x="48640" y="3429"/>
                  </a:lnTo>
                  <a:lnTo>
                    <a:pt x="52578" y="6223"/>
                  </a:lnTo>
                  <a:lnTo>
                    <a:pt x="56261" y="9525"/>
                  </a:lnTo>
                  <a:lnTo>
                    <a:pt x="59054" y="13462"/>
                  </a:lnTo>
                  <a:lnTo>
                    <a:pt x="61594" y="18035"/>
                  </a:lnTo>
                  <a:lnTo>
                    <a:pt x="63754" y="22860"/>
                  </a:lnTo>
                  <a:lnTo>
                    <a:pt x="66547" y="33783"/>
                  </a:lnTo>
                  <a:lnTo>
                    <a:pt x="67818" y="45593"/>
                  </a:lnTo>
                  <a:lnTo>
                    <a:pt x="67564" y="57659"/>
                  </a:lnTo>
                  <a:lnTo>
                    <a:pt x="66293" y="69597"/>
                  </a:lnTo>
                  <a:lnTo>
                    <a:pt x="65278" y="71374"/>
                  </a:lnTo>
                  <a:lnTo>
                    <a:pt x="63500" y="72517"/>
                  </a:lnTo>
                  <a:lnTo>
                    <a:pt x="61086" y="72772"/>
                  </a:lnTo>
                  <a:lnTo>
                    <a:pt x="58293" y="72517"/>
                  </a:lnTo>
                  <a:lnTo>
                    <a:pt x="52197" y="70867"/>
                  </a:lnTo>
                  <a:lnTo>
                    <a:pt x="46990" y="68961"/>
                  </a:lnTo>
                  <a:lnTo>
                    <a:pt x="46990" y="52833"/>
                  </a:lnTo>
                  <a:lnTo>
                    <a:pt x="46608" y="44704"/>
                  </a:lnTo>
                  <a:lnTo>
                    <a:pt x="45847" y="36830"/>
                  </a:lnTo>
                  <a:lnTo>
                    <a:pt x="44322" y="29973"/>
                  </a:lnTo>
                  <a:lnTo>
                    <a:pt x="41529" y="24511"/>
                  </a:lnTo>
                  <a:lnTo>
                    <a:pt x="39878" y="22606"/>
                  </a:lnTo>
                  <a:lnTo>
                    <a:pt x="37592" y="21083"/>
                  </a:lnTo>
                  <a:lnTo>
                    <a:pt x="35179" y="20193"/>
                  </a:lnTo>
                  <a:lnTo>
                    <a:pt x="32258" y="19940"/>
                  </a:lnTo>
                  <a:lnTo>
                    <a:pt x="29464" y="20448"/>
                  </a:lnTo>
                  <a:lnTo>
                    <a:pt x="27050" y="21464"/>
                  </a:lnTo>
                  <a:lnTo>
                    <a:pt x="23494" y="25019"/>
                  </a:lnTo>
                  <a:lnTo>
                    <a:pt x="21208" y="30227"/>
                  </a:lnTo>
                  <a:lnTo>
                    <a:pt x="20065" y="36577"/>
                  </a:lnTo>
                  <a:lnTo>
                    <a:pt x="19939" y="43942"/>
                  </a:lnTo>
                  <a:lnTo>
                    <a:pt x="20573" y="51562"/>
                  </a:lnTo>
                  <a:lnTo>
                    <a:pt x="21971" y="59183"/>
                  </a:lnTo>
                  <a:lnTo>
                    <a:pt x="24129" y="66294"/>
                  </a:lnTo>
                  <a:lnTo>
                    <a:pt x="19430" y="68454"/>
                  </a:lnTo>
                  <a:lnTo>
                    <a:pt x="13843" y="69089"/>
                  </a:lnTo>
                  <a:lnTo>
                    <a:pt x="8636" y="67946"/>
                  </a:lnTo>
                  <a:lnTo>
                    <a:pt x="6604" y="66675"/>
                  </a:lnTo>
                  <a:lnTo>
                    <a:pt x="5079" y="64771"/>
                  </a:lnTo>
                  <a:close/>
                </a:path>
              </a:pathLst>
            </a:custGeom>
            <a:solidFill>
              <a:srgbClr val="e5e5e5"/>
            </a:solidFill>
            <a:ln w="0">
              <a:solidFill>
                <a:srgbClr val="e5e5e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Freihandform 112"/>
            <p:cNvSpPr/>
            <p:nvPr/>
          </p:nvSpPr>
          <p:spPr>
            <a:xfrm>
              <a:off x="682560" y="5163840"/>
              <a:ext cx="83880" cy="58680"/>
            </a:xfrm>
            <a:custGeom>
              <a:avLst/>
              <a:gdLst>
                <a:gd name="textAreaLeft" fmla="*/ 0 w 83880"/>
                <a:gd name="textAreaRight" fmla="*/ 84240 w 8388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67817" h="72683">
                  <a:moveTo>
                    <a:pt x="5055" y="64941"/>
                  </a:moveTo>
                  <a:lnTo>
                    <a:pt x="2949" y="61070"/>
                  </a:lnTo>
                  <a:lnTo>
                    <a:pt x="1685" y="56340"/>
                  </a:lnTo>
                  <a:lnTo>
                    <a:pt x="0" y="46448"/>
                  </a:lnTo>
                  <a:lnTo>
                    <a:pt x="842" y="35696"/>
                  </a:lnTo>
                  <a:lnTo>
                    <a:pt x="3370" y="25374"/>
                  </a:lnTo>
                  <a:lnTo>
                    <a:pt x="7582" y="15483"/>
                  </a:lnTo>
                  <a:lnTo>
                    <a:pt x="10530" y="11612"/>
                  </a:lnTo>
                  <a:lnTo>
                    <a:pt x="14321" y="7741"/>
                  </a:lnTo>
                  <a:lnTo>
                    <a:pt x="18112" y="4731"/>
                  </a:lnTo>
                  <a:lnTo>
                    <a:pt x="22746" y="2150"/>
                  </a:lnTo>
                  <a:lnTo>
                    <a:pt x="27800" y="860"/>
                  </a:lnTo>
                  <a:lnTo>
                    <a:pt x="32855" y="0"/>
                  </a:lnTo>
                  <a:lnTo>
                    <a:pt x="38752" y="430"/>
                  </a:lnTo>
                  <a:lnTo>
                    <a:pt x="43807" y="1720"/>
                  </a:lnTo>
                  <a:lnTo>
                    <a:pt x="48440" y="3440"/>
                  </a:lnTo>
                  <a:lnTo>
                    <a:pt x="52652" y="6451"/>
                  </a:lnTo>
                  <a:lnTo>
                    <a:pt x="56443" y="9461"/>
                  </a:lnTo>
                  <a:lnTo>
                    <a:pt x="58970" y="13762"/>
                  </a:lnTo>
                  <a:lnTo>
                    <a:pt x="61498" y="18063"/>
                  </a:lnTo>
                  <a:lnTo>
                    <a:pt x="63604" y="22794"/>
                  </a:lnTo>
                  <a:lnTo>
                    <a:pt x="66552" y="33976"/>
                  </a:lnTo>
                  <a:lnTo>
                    <a:pt x="67816" y="45588"/>
                  </a:lnTo>
                  <a:lnTo>
                    <a:pt x="67395" y="57630"/>
                  </a:lnTo>
                  <a:lnTo>
                    <a:pt x="66131" y="69672"/>
                  </a:lnTo>
                  <a:lnTo>
                    <a:pt x="65289" y="71392"/>
                  </a:lnTo>
                  <a:lnTo>
                    <a:pt x="63604" y="72682"/>
                  </a:lnTo>
                  <a:lnTo>
                    <a:pt x="61076" y="72682"/>
                  </a:lnTo>
                  <a:lnTo>
                    <a:pt x="58128" y="72682"/>
                  </a:lnTo>
                  <a:lnTo>
                    <a:pt x="52231" y="70962"/>
                  </a:lnTo>
                  <a:lnTo>
                    <a:pt x="47176" y="68812"/>
                  </a:lnTo>
                  <a:lnTo>
                    <a:pt x="47176" y="52899"/>
                  </a:lnTo>
                  <a:lnTo>
                    <a:pt x="46755" y="44728"/>
                  </a:lnTo>
                  <a:lnTo>
                    <a:pt x="45913" y="36987"/>
                  </a:lnTo>
                  <a:lnTo>
                    <a:pt x="44228" y="30105"/>
                  </a:lnTo>
                  <a:lnTo>
                    <a:pt x="41700" y="24514"/>
                  </a:lnTo>
                  <a:lnTo>
                    <a:pt x="40016" y="22794"/>
                  </a:lnTo>
                  <a:lnTo>
                    <a:pt x="37488" y="21074"/>
                  </a:lnTo>
                  <a:lnTo>
                    <a:pt x="35382" y="20214"/>
                  </a:lnTo>
                  <a:lnTo>
                    <a:pt x="32013" y="20214"/>
                  </a:lnTo>
                  <a:lnTo>
                    <a:pt x="29485" y="20644"/>
                  </a:lnTo>
                  <a:lnTo>
                    <a:pt x="26958" y="21504"/>
                  </a:lnTo>
                  <a:lnTo>
                    <a:pt x="23588" y="24944"/>
                  </a:lnTo>
                  <a:lnTo>
                    <a:pt x="21061" y="30105"/>
                  </a:lnTo>
                  <a:lnTo>
                    <a:pt x="20218" y="36556"/>
                  </a:lnTo>
                  <a:lnTo>
                    <a:pt x="19797" y="43867"/>
                  </a:lnTo>
                  <a:lnTo>
                    <a:pt x="20640" y="51609"/>
                  </a:lnTo>
                  <a:lnTo>
                    <a:pt x="21903" y="59350"/>
                  </a:lnTo>
                  <a:lnTo>
                    <a:pt x="24009" y="66231"/>
                  </a:lnTo>
                  <a:lnTo>
                    <a:pt x="19376" y="68381"/>
                  </a:lnTo>
                  <a:lnTo>
                    <a:pt x="13900" y="69242"/>
                  </a:lnTo>
                  <a:lnTo>
                    <a:pt x="8846" y="67952"/>
                  </a:lnTo>
                  <a:lnTo>
                    <a:pt x="6740" y="66661"/>
                  </a:lnTo>
                  <a:lnTo>
                    <a:pt x="5055" y="64941"/>
                  </a:lnTo>
                  <a:close/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Freihandform 113"/>
            <p:cNvSpPr/>
            <p:nvPr/>
          </p:nvSpPr>
          <p:spPr>
            <a:xfrm>
              <a:off x="363240" y="4952880"/>
              <a:ext cx="947880" cy="258840"/>
            </a:xfrm>
            <a:custGeom>
              <a:avLst/>
              <a:gdLst>
                <a:gd name="textAreaLeft" fmla="*/ 0 w 947880"/>
                <a:gd name="textAreaRight" fmla="*/ 948240 w 947880"/>
                <a:gd name="textAreaTop" fmla="*/ 0 h 258840"/>
                <a:gd name="textAreaBottom" fmla="*/ 259200 h 258840"/>
              </a:gdLst>
              <a:ahLst/>
              <a:rect l="textAreaLeft" t="textAreaTop" r="textAreaRight" b="textAreaBottom"/>
              <a:pathLst>
                <a:path w="772162" h="316357">
                  <a:moveTo>
                    <a:pt x="285243" y="315341"/>
                  </a:moveTo>
                  <a:lnTo>
                    <a:pt x="252604" y="304164"/>
                  </a:lnTo>
                  <a:lnTo>
                    <a:pt x="221361" y="292481"/>
                  </a:lnTo>
                  <a:lnTo>
                    <a:pt x="191771" y="280035"/>
                  </a:lnTo>
                  <a:lnTo>
                    <a:pt x="163704" y="267207"/>
                  </a:lnTo>
                  <a:lnTo>
                    <a:pt x="137669" y="253873"/>
                  </a:lnTo>
                  <a:lnTo>
                    <a:pt x="113411" y="240283"/>
                  </a:lnTo>
                  <a:lnTo>
                    <a:pt x="91314" y="226441"/>
                  </a:lnTo>
                  <a:lnTo>
                    <a:pt x="71248" y="212089"/>
                  </a:lnTo>
                  <a:lnTo>
                    <a:pt x="53468" y="197866"/>
                  </a:lnTo>
                  <a:lnTo>
                    <a:pt x="37973" y="183387"/>
                  </a:lnTo>
                  <a:lnTo>
                    <a:pt x="25019" y="168910"/>
                  </a:lnTo>
                  <a:lnTo>
                    <a:pt x="14732" y="154431"/>
                  </a:lnTo>
                  <a:lnTo>
                    <a:pt x="6986" y="140081"/>
                  </a:lnTo>
                  <a:lnTo>
                    <a:pt x="2032" y="125856"/>
                  </a:lnTo>
                  <a:lnTo>
                    <a:pt x="0" y="111887"/>
                  </a:lnTo>
                  <a:lnTo>
                    <a:pt x="1016" y="98170"/>
                  </a:lnTo>
                  <a:lnTo>
                    <a:pt x="3303" y="89788"/>
                  </a:lnTo>
                  <a:lnTo>
                    <a:pt x="6605" y="81661"/>
                  </a:lnTo>
                  <a:lnTo>
                    <a:pt x="11050" y="73913"/>
                  </a:lnTo>
                  <a:lnTo>
                    <a:pt x="16637" y="66675"/>
                  </a:lnTo>
                  <a:lnTo>
                    <a:pt x="23368" y="59689"/>
                  </a:lnTo>
                  <a:lnTo>
                    <a:pt x="31116" y="52958"/>
                  </a:lnTo>
                  <a:lnTo>
                    <a:pt x="39878" y="46608"/>
                  </a:lnTo>
                  <a:lnTo>
                    <a:pt x="49530" y="40767"/>
                  </a:lnTo>
                  <a:lnTo>
                    <a:pt x="60198" y="35306"/>
                  </a:lnTo>
                  <a:lnTo>
                    <a:pt x="71882" y="30099"/>
                  </a:lnTo>
                  <a:lnTo>
                    <a:pt x="84455" y="25400"/>
                  </a:lnTo>
                  <a:lnTo>
                    <a:pt x="97791" y="20955"/>
                  </a:lnTo>
                  <a:lnTo>
                    <a:pt x="112015" y="17018"/>
                  </a:lnTo>
                  <a:lnTo>
                    <a:pt x="127001" y="13462"/>
                  </a:lnTo>
                  <a:lnTo>
                    <a:pt x="142748" y="10413"/>
                  </a:lnTo>
                  <a:lnTo>
                    <a:pt x="159258" y="7619"/>
                  </a:lnTo>
                  <a:lnTo>
                    <a:pt x="176404" y="5206"/>
                  </a:lnTo>
                  <a:lnTo>
                    <a:pt x="194311" y="3301"/>
                  </a:lnTo>
                  <a:lnTo>
                    <a:pt x="212726" y="1777"/>
                  </a:lnTo>
                  <a:lnTo>
                    <a:pt x="231903" y="762"/>
                  </a:lnTo>
                  <a:lnTo>
                    <a:pt x="251587" y="126"/>
                  </a:lnTo>
                  <a:lnTo>
                    <a:pt x="271780" y="0"/>
                  </a:lnTo>
                  <a:lnTo>
                    <a:pt x="292736" y="126"/>
                  </a:lnTo>
                  <a:lnTo>
                    <a:pt x="313818" y="762"/>
                  </a:lnTo>
                  <a:lnTo>
                    <a:pt x="357759" y="3556"/>
                  </a:lnTo>
                  <a:lnTo>
                    <a:pt x="403226" y="8127"/>
                  </a:lnTo>
                  <a:lnTo>
                    <a:pt x="449961" y="14605"/>
                  </a:lnTo>
                  <a:lnTo>
                    <a:pt x="497714" y="23113"/>
                  </a:lnTo>
                  <a:lnTo>
                    <a:pt x="536703" y="31242"/>
                  </a:lnTo>
                  <a:lnTo>
                    <a:pt x="574675" y="40386"/>
                  </a:lnTo>
                  <a:lnTo>
                    <a:pt x="611252" y="50164"/>
                  </a:lnTo>
                  <a:lnTo>
                    <a:pt x="646558" y="61087"/>
                  </a:lnTo>
                  <a:lnTo>
                    <a:pt x="680466" y="72644"/>
                  </a:lnTo>
                  <a:lnTo>
                    <a:pt x="712852" y="84836"/>
                  </a:lnTo>
                  <a:lnTo>
                    <a:pt x="743331" y="97536"/>
                  </a:lnTo>
                  <a:lnTo>
                    <a:pt x="772033" y="110870"/>
                  </a:lnTo>
                  <a:lnTo>
                    <a:pt x="772161" y="112775"/>
                  </a:lnTo>
                  <a:lnTo>
                    <a:pt x="771525" y="114554"/>
                  </a:lnTo>
                  <a:lnTo>
                    <a:pt x="768858" y="117220"/>
                  </a:lnTo>
                  <a:lnTo>
                    <a:pt x="764414" y="118744"/>
                  </a:lnTo>
                  <a:lnTo>
                    <a:pt x="758825" y="119125"/>
                  </a:lnTo>
                  <a:lnTo>
                    <a:pt x="752603" y="118363"/>
                  </a:lnTo>
                  <a:lnTo>
                    <a:pt x="745999" y="116586"/>
                  </a:lnTo>
                  <a:lnTo>
                    <a:pt x="739775" y="113537"/>
                  </a:lnTo>
                  <a:lnTo>
                    <a:pt x="734188" y="109346"/>
                  </a:lnTo>
                  <a:lnTo>
                    <a:pt x="707264" y="98679"/>
                  </a:lnTo>
                  <a:lnTo>
                    <a:pt x="678942" y="88773"/>
                  </a:lnTo>
                  <a:lnTo>
                    <a:pt x="649478" y="79756"/>
                  </a:lnTo>
                  <a:lnTo>
                    <a:pt x="618744" y="71374"/>
                  </a:lnTo>
                  <a:lnTo>
                    <a:pt x="587249" y="63500"/>
                  </a:lnTo>
                  <a:lnTo>
                    <a:pt x="554610" y="56133"/>
                  </a:lnTo>
                  <a:lnTo>
                    <a:pt x="521081" y="48768"/>
                  </a:lnTo>
                  <a:lnTo>
                    <a:pt x="486919" y="41656"/>
                  </a:lnTo>
                  <a:lnTo>
                    <a:pt x="447929" y="34162"/>
                  </a:lnTo>
                  <a:lnTo>
                    <a:pt x="408433" y="27939"/>
                  </a:lnTo>
                  <a:lnTo>
                    <a:pt x="369062" y="23368"/>
                  </a:lnTo>
                  <a:lnTo>
                    <a:pt x="330073" y="20319"/>
                  </a:lnTo>
                  <a:lnTo>
                    <a:pt x="291719" y="18669"/>
                  </a:lnTo>
                  <a:lnTo>
                    <a:pt x="254636" y="18542"/>
                  </a:lnTo>
                  <a:lnTo>
                    <a:pt x="218822" y="19938"/>
                  </a:lnTo>
                  <a:lnTo>
                    <a:pt x="201804" y="21208"/>
                  </a:lnTo>
                  <a:lnTo>
                    <a:pt x="185040" y="22732"/>
                  </a:lnTo>
                  <a:lnTo>
                    <a:pt x="169037" y="24892"/>
                  </a:lnTo>
                  <a:lnTo>
                    <a:pt x="153544" y="27177"/>
                  </a:lnTo>
                  <a:lnTo>
                    <a:pt x="138684" y="30099"/>
                  </a:lnTo>
                  <a:lnTo>
                    <a:pt x="124587" y="33146"/>
                  </a:lnTo>
                  <a:lnTo>
                    <a:pt x="111253" y="36702"/>
                  </a:lnTo>
                  <a:lnTo>
                    <a:pt x="98680" y="40639"/>
                  </a:lnTo>
                  <a:lnTo>
                    <a:pt x="86868" y="44831"/>
                  </a:lnTo>
                  <a:lnTo>
                    <a:pt x="75946" y="49530"/>
                  </a:lnTo>
                  <a:lnTo>
                    <a:pt x="66168" y="54610"/>
                  </a:lnTo>
                  <a:lnTo>
                    <a:pt x="57278" y="60198"/>
                  </a:lnTo>
                  <a:lnTo>
                    <a:pt x="49277" y="66039"/>
                  </a:lnTo>
                  <a:lnTo>
                    <a:pt x="42418" y="72262"/>
                  </a:lnTo>
                  <a:lnTo>
                    <a:pt x="36703" y="78867"/>
                  </a:lnTo>
                  <a:lnTo>
                    <a:pt x="32259" y="85851"/>
                  </a:lnTo>
                  <a:lnTo>
                    <a:pt x="28957" y="93091"/>
                  </a:lnTo>
                  <a:lnTo>
                    <a:pt x="26925" y="100964"/>
                  </a:lnTo>
                  <a:lnTo>
                    <a:pt x="26162" y="113664"/>
                  </a:lnTo>
                  <a:lnTo>
                    <a:pt x="28448" y="126364"/>
                  </a:lnTo>
                  <a:lnTo>
                    <a:pt x="33528" y="138937"/>
                  </a:lnTo>
                  <a:lnTo>
                    <a:pt x="41148" y="151637"/>
                  </a:lnTo>
                  <a:lnTo>
                    <a:pt x="51309" y="164337"/>
                  </a:lnTo>
                  <a:lnTo>
                    <a:pt x="63882" y="176911"/>
                  </a:lnTo>
                  <a:lnTo>
                    <a:pt x="78741" y="189356"/>
                  </a:lnTo>
                  <a:lnTo>
                    <a:pt x="95632" y="201675"/>
                  </a:lnTo>
                  <a:lnTo>
                    <a:pt x="114428" y="213741"/>
                  </a:lnTo>
                  <a:lnTo>
                    <a:pt x="135001" y="225806"/>
                  </a:lnTo>
                  <a:lnTo>
                    <a:pt x="157480" y="237489"/>
                  </a:lnTo>
                  <a:lnTo>
                    <a:pt x="181357" y="249046"/>
                  </a:lnTo>
                  <a:lnTo>
                    <a:pt x="206883" y="260223"/>
                  </a:lnTo>
                  <a:lnTo>
                    <a:pt x="233426" y="271271"/>
                  </a:lnTo>
                  <a:lnTo>
                    <a:pt x="261112" y="281812"/>
                  </a:lnTo>
                  <a:lnTo>
                    <a:pt x="289941" y="292100"/>
                  </a:lnTo>
                  <a:lnTo>
                    <a:pt x="296926" y="294258"/>
                  </a:lnTo>
                  <a:lnTo>
                    <a:pt x="302641" y="297814"/>
                  </a:lnTo>
                  <a:lnTo>
                    <a:pt x="306705" y="302387"/>
                  </a:lnTo>
                  <a:lnTo>
                    <a:pt x="308611" y="307086"/>
                  </a:lnTo>
                  <a:lnTo>
                    <a:pt x="308483" y="309499"/>
                  </a:lnTo>
                  <a:lnTo>
                    <a:pt x="307848" y="311404"/>
                  </a:lnTo>
                  <a:lnTo>
                    <a:pt x="306197" y="313308"/>
                  </a:lnTo>
                  <a:lnTo>
                    <a:pt x="303784" y="314706"/>
                  </a:lnTo>
                  <a:lnTo>
                    <a:pt x="300609" y="315849"/>
                  </a:lnTo>
                  <a:lnTo>
                    <a:pt x="296546" y="316356"/>
                  </a:lnTo>
                  <a:lnTo>
                    <a:pt x="291465" y="316230"/>
                  </a:lnTo>
                  <a:lnTo>
                    <a:pt x="285243" y="315341"/>
                  </a:lnTo>
                  <a:close/>
                </a:path>
              </a:pathLst>
            </a:custGeom>
            <a:solidFill>
              <a:srgbClr val="999999"/>
            </a:solidFill>
            <a:ln w="0">
              <a:solidFill>
                <a:srgbClr val="9999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Freihandform 114"/>
            <p:cNvSpPr/>
            <p:nvPr/>
          </p:nvSpPr>
          <p:spPr>
            <a:xfrm>
              <a:off x="363240" y="4952880"/>
              <a:ext cx="947880" cy="258840"/>
            </a:xfrm>
            <a:custGeom>
              <a:avLst/>
              <a:gdLst>
                <a:gd name="textAreaLeft" fmla="*/ 0 w 947880"/>
                <a:gd name="textAreaRight" fmla="*/ 948240 w 947880"/>
                <a:gd name="textAreaTop" fmla="*/ 0 h 258840"/>
                <a:gd name="textAreaBottom" fmla="*/ 258840 h 258840"/>
              </a:gdLst>
              <a:ahLst/>
              <a:rect l="textAreaLeft" t="textAreaTop" r="textAreaRight" b="textAreaBottom"/>
              <a:pathLst>
                <a:path w="772091" h="316531">
                  <a:moveTo>
                    <a:pt x="285164" y="315240"/>
                  </a:moveTo>
                  <a:lnTo>
                    <a:pt x="252309" y="304058"/>
                  </a:lnTo>
                  <a:lnTo>
                    <a:pt x="221139" y="292446"/>
                  </a:lnTo>
                  <a:lnTo>
                    <a:pt x="191654" y="279974"/>
                  </a:lnTo>
                  <a:lnTo>
                    <a:pt x="163432" y="267072"/>
                  </a:lnTo>
                  <a:lnTo>
                    <a:pt x="137317" y="253740"/>
                  </a:lnTo>
                  <a:lnTo>
                    <a:pt x="113307" y="240408"/>
                  </a:lnTo>
                  <a:lnTo>
                    <a:pt x="90983" y="226645"/>
                  </a:lnTo>
                  <a:lnTo>
                    <a:pt x="71186" y="212023"/>
                  </a:lnTo>
                  <a:lnTo>
                    <a:pt x="53073" y="197831"/>
                  </a:lnTo>
                  <a:lnTo>
                    <a:pt x="37909" y="183209"/>
                  </a:lnTo>
                  <a:lnTo>
                    <a:pt x="24852" y="169016"/>
                  </a:lnTo>
                  <a:lnTo>
                    <a:pt x="14321" y="154394"/>
                  </a:lnTo>
                  <a:lnTo>
                    <a:pt x="6739" y="140202"/>
                  </a:lnTo>
                  <a:lnTo>
                    <a:pt x="1685" y="126010"/>
                  </a:lnTo>
                  <a:lnTo>
                    <a:pt x="0" y="111817"/>
                  </a:lnTo>
                  <a:lnTo>
                    <a:pt x="842" y="98055"/>
                  </a:lnTo>
                  <a:lnTo>
                    <a:pt x="2948" y="89884"/>
                  </a:lnTo>
                  <a:lnTo>
                    <a:pt x="6318" y="81712"/>
                  </a:lnTo>
                  <a:lnTo>
                    <a:pt x="10952" y="73971"/>
                  </a:lnTo>
                  <a:lnTo>
                    <a:pt x="16427" y="66660"/>
                  </a:lnTo>
                  <a:lnTo>
                    <a:pt x="23167" y="59779"/>
                  </a:lnTo>
                  <a:lnTo>
                    <a:pt x="30749" y="52898"/>
                  </a:lnTo>
                  <a:lnTo>
                    <a:pt x="39594" y="46877"/>
                  </a:lnTo>
                  <a:lnTo>
                    <a:pt x="49282" y="40856"/>
                  </a:lnTo>
                  <a:lnTo>
                    <a:pt x="60234" y="35265"/>
                  </a:lnTo>
                  <a:lnTo>
                    <a:pt x="71607" y="30104"/>
                  </a:lnTo>
                  <a:lnTo>
                    <a:pt x="84243" y="25374"/>
                  </a:lnTo>
                  <a:lnTo>
                    <a:pt x="97722" y="21073"/>
                  </a:lnTo>
                  <a:lnTo>
                    <a:pt x="111622" y="17202"/>
                  </a:lnTo>
                  <a:lnTo>
                    <a:pt x="126786" y="13332"/>
                  </a:lnTo>
                  <a:lnTo>
                    <a:pt x="142371" y="10321"/>
                  </a:lnTo>
                  <a:lnTo>
                    <a:pt x="159220" y="7741"/>
                  </a:lnTo>
                  <a:lnTo>
                    <a:pt x="176069" y="5160"/>
                  </a:lnTo>
                  <a:lnTo>
                    <a:pt x="194181" y="3440"/>
                  </a:lnTo>
                  <a:lnTo>
                    <a:pt x="212714" y="1720"/>
                  </a:lnTo>
                  <a:lnTo>
                    <a:pt x="231669" y="860"/>
                  </a:lnTo>
                  <a:lnTo>
                    <a:pt x="251466" y="0"/>
                  </a:lnTo>
                  <a:lnTo>
                    <a:pt x="271685" y="0"/>
                  </a:lnTo>
                  <a:lnTo>
                    <a:pt x="292324" y="0"/>
                  </a:lnTo>
                  <a:lnTo>
                    <a:pt x="313806" y="860"/>
                  </a:lnTo>
                  <a:lnTo>
                    <a:pt x="357613" y="3440"/>
                  </a:lnTo>
                  <a:lnTo>
                    <a:pt x="403104" y="8171"/>
                  </a:lnTo>
                  <a:lnTo>
                    <a:pt x="449859" y="14622"/>
                  </a:lnTo>
                  <a:lnTo>
                    <a:pt x="497457" y="23223"/>
                  </a:lnTo>
                  <a:lnTo>
                    <a:pt x="536630" y="31395"/>
                  </a:lnTo>
                  <a:lnTo>
                    <a:pt x="574539" y="40426"/>
                  </a:lnTo>
                  <a:lnTo>
                    <a:pt x="611185" y="50317"/>
                  </a:lnTo>
                  <a:lnTo>
                    <a:pt x="646568" y="61069"/>
                  </a:lnTo>
                  <a:lnTo>
                    <a:pt x="680265" y="72681"/>
                  </a:lnTo>
                  <a:lnTo>
                    <a:pt x="712699" y="84723"/>
                  </a:lnTo>
                  <a:lnTo>
                    <a:pt x="743026" y="97625"/>
                  </a:lnTo>
                  <a:lnTo>
                    <a:pt x="771669" y="110957"/>
                  </a:lnTo>
                  <a:lnTo>
                    <a:pt x="772090" y="112678"/>
                  </a:lnTo>
                  <a:lnTo>
                    <a:pt x="771248" y="114828"/>
                  </a:lnTo>
                  <a:lnTo>
                    <a:pt x="768720" y="117408"/>
                  </a:lnTo>
                  <a:lnTo>
                    <a:pt x="764087" y="118698"/>
                  </a:lnTo>
                  <a:lnTo>
                    <a:pt x="758611" y="119128"/>
                  </a:lnTo>
                  <a:lnTo>
                    <a:pt x="752293" y="118268"/>
                  </a:lnTo>
                  <a:lnTo>
                    <a:pt x="745554" y="116548"/>
                  </a:lnTo>
                  <a:lnTo>
                    <a:pt x="739657" y="113538"/>
                  </a:lnTo>
                  <a:lnTo>
                    <a:pt x="733759" y="109237"/>
                  </a:lnTo>
                  <a:lnTo>
                    <a:pt x="706802" y="98915"/>
                  </a:lnTo>
                  <a:lnTo>
                    <a:pt x="678580" y="88594"/>
                  </a:lnTo>
                  <a:lnTo>
                    <a:pt x="649095" y="79992"/>
                  </a:lnTo>
                  <a:lnTo>
                    <a:pt x="618346" y="71391"/>
                  </a:lnTo>
                  <a:lnTo>
                    <a:pt x="586755" y="63650"/>
                  </a:lnTo>
                  <a:lnTo>
                    <a:pt x="554321" y="55909"/>
                  </a:lnTo>
                  <a:lnTo>
                    <a:pt x="521045" y="48597"/>
                  </a:lnTo>
                  <a:lnTo>
                    <a:pt x="486505" y="41716"/>
                  </a:lnTo>
                  <a:lnTo>
                    <a:pt x="447753" y="33975"/>
                  </a:lnTo>
                  <a:lnTo>
                    <a:pt x="408159" y="27954"/>
                  </a:lnTo>
                  <a:lnTo>
                    <a:pt x="368986" y="23653"/>
                  </a:lnTo>
                  <a:lnTo>
                    <a:pt x="329813" y="20213"/>
                  </a:lnTo>
                  <a:lnTo>
                    <a:pt x="291482" y="18922"/>
                  </a:lnTo>
                  <a:lnTo>
                    <a:pt x="254415" y="18493"/>
                  </a:lnTo>
                  <a:lnTo>
                    <a:pt x="218611" y="20213"/>
                  </a:lnTo>
                  <a:lnTo>
                    <a:pt x="201763" y="21073"/>
                  </a:lnTo>
                  <a:lnTo>
                    <a:pt x="184914" y="22793"/>
                  </a:lnTo>
                  <a:lnTo>
                    <a:pt x="168908" y="24943"/>
                  </a:lnTo>
                  <a:lnTo>
                    <a:pt x="153323" y="27094"/>
                  </a:lnTo>
                  <a:lnTo>
                    <a:pt x="138580" y="30104"/>
                  </a:lnTo>
                  <a:lnTo>
                    <a:pt x="124259" y="33115"/>
                  </a:lnTo>
                  <a:lnTo>
                    <a:pt x="111201" y="36985"/>
                  </a:lnTo>
                  <a:lnTo>
                    <a:pt x="98565" y="40856"/>
                  </a:lnTo>
                  <a:lnTo>
                    <a:pt x="86771" y="44727"/>
                  </a:lnTo>
                  <a:lnTo>
                    <a:pt x="75819" y="49457"/>
                  </a:lnTo>
                  <a:lnTo>
                    <a:pt x="66131" y="54618"/>
                  </a:lnTo>
                  <a:lnTo>
                    <a:pt x="56864" y="60209"/>
                  </a:lnTo>
                  <a:lnTo>
                    <a:pt x="48861" y="66230"/>
                  </a:lnTo>
                  <a:lnTo>
                    <a:pt x="42122" y="72251"/>
                  </a:lnTo>
                  <a:lnTo>
                    <a:pt x="36646" y="78702"/>
                  </a:lnTo>
                  <a:lnTo>
                    <a:pt x="32012" y="86013"/>
                  </a:lnTo>
                  <a:lnTo>
                    <a:pt x="28643" y="93324"/>
                  </a:lnTo>
                  <a:lnTo>
                    <a:pt x="26958" y="101065"/>
                  </a:lnTo>
                  <a:lnTo>
                    <a:pt x="26115" y="113538"/>
                  </a:lnTo>
                  <a:lnTo>
                    <a:pt x="28221" y="126439"/>
                  </a:lnTo>
                  <a:lnTo>
                    <a:pt x="33276" y="138912"/>
                  </a:lnTo>
                  <a:lnTo>
                    <a:pt x="40858" y="151814"/>
                  </a:lnTo>
                  <a:lnTo>
                    <a:pt x="50967" y="164286"/>
                  </a:lnTo>
                  <a:lnTo>
                    <a:pt x="63604" y="176758"/>
                  </a:lnTo>
                  <a:lnTo>
                    <a:pt x="78346" y="189229"/>
                  </a:lnTo>
                  <a:lnTo>
                    <a:pt x="95195" y="201702"/>
                  </a:lnTo>
                  <a:lnTo>
                    <a:pt x="114150" y="213743"/>
                  </a:lnTo>
                  <a:lnTo>
                    <a:pt x="134789" y="225785"/>
                  </a:lnTo>
                  <a:lnTo>
                    <a:pt x="157114" y="237397"/>
                  </a:lnTo>
                  <a:lnTo>
                    <a:pt x="181123" y="249009"/>
                  </a:lnTo>
                  <a:lnTo>
                    <a:pt x="206817" y="260191"/>
                  </a:lnTo>
                  <a:lnTo>
                    <a:pt x="233354" y="271373"/>
                  </a:lnTo>
                  <a:lnTo>
                    <a:pt x="261154" y="281694"/>
                  </a:lnTo>
                  <a:lnTo>
                    <a:pt x="289797" y="292016"/>
                  </a:lnTo>
                  <a:lnTo>
                    <a:pt x="296958" y="294166"/>
                  </a:lnTo>
                  <a:lnTo>
                    <a:pt x="302434" y="298037"/>
                  </a:lnTo>
                  <a:lnTo>
                    <a:pt x="306646" y="302338"/>
                  </a:lnTo>
                  <a:lnTo>
                    <a:pt x="308331" y="307068"/>
                  </a:lnTo>
                  <a:lnTo>
                    <a:pt x="308331" y="309649"/>
                  </a:lnTo>
                  <a:lnTo>
                    <a:pt x="307488" y="311369"/>
                  </a:lnTo>
                  <a:lnTo>
                    <a:pt x="305803" y="313089"/>
                  </a:lnTo>
                  <a:lnTo>
                    <a:pt x="303697" y="314809"/>
                  </a:lnTo>
                  <a:lnTo>
                    <a:pt x="300327" y="315670"/>
                  </a:lnTo>
                  <a:lnTo>
                    <a:pt x="296115" y="316530"/>
                  </a:lnTo>
                  <a:lnTo>
                    <a:pt x="291061" y="316100"/>
                  </a:lnTo>
                  <a:lnTo>
                    <a:pt x="285164" y="315240"/>
                  </a:lnTo>
                  <a:close/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Freihandform 115"/>
            <p:cNvSpPr/>
            <p:nvPr/>
          </p:nvSpPr>
          <p:spPr>
            <a:xfrm>
              <a:off x="1266840" y="5011560"/>
              <a:ext cx="63360" cy="4284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53214" h="52580">
                  <a:moveTo>
                    <a:pt x="3936" y="-18672"/>
                  </a:moveTo>
                  <a:lnTo>
                    <a:pt x="1269" y="-24769"/>
                  </a:lnTo>
                  <a:lnTo>
                    <a:pt x="0" y="-31881"/>
                  </a:lnTo>
                  <a:lnTo>
                    <a:pt x="508" y="25781"/>
                  </a:lnTo>
                  <a:lnTo>
                    <a:pt x="2539" y="18161"/>
                  </a:lnTo>
                  <a:lnTo>
                    <a:pt x="5969" y="11304"/>
                  </a:lnTo>
                  <a:lnTo>
                    <a:pt x="11175" y="5461"/>
                  </a:lnTo>
                  <a:lnTo>
                    <a:pt x="14097" y="3175"/>
                  </a:lnTo>
                  <a:lnTo>
                    <a:pt x="17653" y="1652"/>
                  </a:lnTo>
                  <a:lnTo>
                    <a:pt x="21463" y="381"/>
                  </a:lnTo>
                  <a:lnTo>
                    <a:pt x="25780" y="0"/>
                  </a:lnTo>
                  <a:lnTo>
                    <a:pt x="30225" y="128"/>
                  </a:lnTo>
                  <a:lnTo>
                    <a:pt x="-31120" y="890"/>
                  </a:lnTo>
                  <a:lnTo>
                    <a:pt x="-27436" y="2414"/>
                  </a:lnTo>
                  <a:lnTo>
                    <a:pt x="-24261" y="4318"/>
                  </a:lnTo>
                  <a:lnTo>
                    <a:pt x="-19181" y="9779"/>
                  </a:lnTo>
                  <a:lnTo>
                    <a:pt x="-15498" y="16510"/>
                  </a:lnTo>
                  <a:lnTo>
                    <a:pt x="-13339" y="24511"/>
                  </a:lnTo>
                  <a:lnTo>
                    <a:pt x="-12323" y="-32388"/>
                  </a:lnTo>
                  <a:lnTo>
                    <a:pt x="-12578" y="-23626"/>
                  </a:lnTo>
                  <a:lnTo>
                    <a:pt x="-13594" y="-15116"/>
                  </a:lnTo>
                  <a:lnTo>
                    <a:pt x="-14228" y="-13720"/>
                  </a:lnTo>
                  <a:lnTo>
                    <a:pt x="-15753" y="-13084"/>
                  </a:lnTo>
                  <a:lnTo>
                    <a:pt x="-19817" y="-12957"/>
                  </a:lnTo>
                  <a:lnTo>
                    <a:pt x="-24642" y="-14101"/>
                  </a:lnTo>
                  <a:lnTo>
                    <a:pt x="-28580" y="-15625"/>
                  </a:lnTo>
                  <a:lnTo>
                    <a:pt x="-28706" y="-27182"/>
                  </a:lnTo>
                  <a:lnTo>
                    <a:pt x="-28961" y="32259"/>
                  </a:lnTo>
                  <a:lnTo>
                    <a:pt x="-29595" y="26671"/>
                  </a:lnTo>
                  <a:lnTo>
                    <a:pt x="-30866" y="21717"/>
                  </a:lnTo>
                  <a:lnTo>
                    <a:pt x="32639" y="17908"/>
                  </a:lnTo>
                  <a:lnTo>
                    <a:pt x="29464" y="15241"/>
                  </a:lnTo>
                  <a:lnTo>
                    <a:pt x="25272" y="14605"/>
                  </a:lnTo>
                  <a:lnTo>
                    <a:pt x="21336" y="15622"/>
                  </a:lnTo>
                  <a:lnTo>
                    <a:pt x="18414" y="18161"/>
                  </a:lnTo>
                  <a:lnTo>
                    <a:pt x="16510" y="21845"/>
                  </a:lnTo>
                  <a:lnTo>
                    <a:pt x="15747" y="26671"/>
                  </a:lnTo>
                  <a:lnTo>
                    <a:pt x="15620" y="31878"/>
                  </a:lnTo>
                  <a:lnTo>
                    <a:pt x="16002" y="-28197"/>
                  </a:lnTo>
                  <a:lnTo>
                    <a:pt x="18795" y="-17402"/>
                  </a:lnTo>
                  <a:lnTo>
                    <a:pt x="15113" y="-15878"/>
                  </a:lnTo>
                  <a:lnTo>
                    <a:pt x="10794" y="-15497"/>
                  </a:lnTo>
                  <a:lnTo>
                    <a:pt x="6858" y="-16387"/>
                  </a:lnTo>
                  <a:lnTo>
                    <a:pt x="3936" y="-18672"/>
                  </a:lnTo>
                  <a:close/>
                </a:path>
              </a:pathLst>
            </a:custGeom>
            <a:solidFill>
              <a:srgbClr val="e5e5e5"/>
            </a:solidFill>
            <a:ln w="0">
              <a:solidFill>
                <a:srgbClr val="e5e5e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Freihandform 116"/>
            <p:cNvSpPr/>
            <p:nvPr/>
          </p:nvSpPr>
          <p:spPr>
            <a:xfrm>
              <a:off x="1266840" y="5011560"/>
              <a:ext cx="64800" cy="4284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53496" h="52472">
                  <a:moveTo>
                    <a:pt x="4212" y="-18656"/>
                  </a:moveTo>
                  <a:lnTo>
                    <a:pt x="1264" y="-24678"/>
                  </a:lnTo>
                  <a:lnTo>
                    <a:pt x="0" y="-31989"/>
                  </a:lnTo>
                  <a:lnTo>
                    <a:pt x="422" y="25805"/>
                  </a:lnTo>
                  <a:lnTo>
                    <a:pt x="2528" y="18064"/>
                  </a:lnTo>
                  <a:lnTo>
                    <a:pt x="6319" y="11182"/>
                  </a:lnTo>
                  <a:lnTo>
                    <a:pt x="11373" y="5160"/>
                  </a:lnTo>
                  <a:lnTo>
                    <a:pt x="14322" y="3010"/>
                  </a:lnTo>
                  <a:lnTo>
                    <a:pt x="17691" y="1290"/>
                  </a:lnTo>
                  <a:lnTo>
                    <a:pt x="21483" y="430"/>
                  </a:lnTo>
                  <a:lnTo>
                    <a:pt x="26116" y="0"/>
                  </a:lnTo>
                  <a:lnTo>
                    <a:pt x="30328" y="0"/>
                  </a:lnTo>
                  <a:lnTo>
                    <a:pt x="-30996" y="860"/>
                  </a:lnTo>
                  <a:lnTo>
                    <a:pt x="-27205" y="2150"/>
                  </a:lnTo>
                  <a:lnTo>
                    <a:pt x="-24256" y="4300"/>
                  </a:lnTo>
                  <a:lnTo>
                    <a:pt x="-19202" y="9461"/>
                  </a:lnTo>
                  <a:lnTo>
                    <a:pt x="-15411" y="16343"/>
                  </a:lnTo>
                  <a:lnTo>
                    <a:pt x="-13304" y="24515"/>
                  </a:lnTo>
                  <a:lnTo>
                    <a:pt x="-12041" y="-32420"/>
                  </a:lnTo>
                  <a:lnTo>
                    <a:pt x="-12462" y="-23818"/>
                  </a:lnTo>
                  <a:lnTo>
                    <a:pt x="-13304" y="-15216"/>
                  </a:lnTo>
                  <a:lnTo>
                    <a:pt x="-14147" y="-13925"/>
                  </a:lnTo>
                  <a:lnTo>
                    <a:pt x="-15411" y="-13065"/>
                  </a:lnTo>
                  <a:lnTo>
                    <a:pt x="-19623" y="-13065"/>
                  </a:lnTo>
                  <a:lnTo>
                    <a:pt x="-24677" y="-14355"/>
                  </a:lnTo>
                  <a:lnTo>
                    <a:pt x="-28468" y="-15646"/>
                  </a:lnTo>
                  <a:lnTo>
                    <a:pt x="-28468" y="-27258"/>
                  </a:lnTo>
                  <a:lnTo>
                    <a:pt x="-28890" y="32256"/>
                  </a:lnTo>
                  <a:lnTo>
                    <a:pt x="-29311" y="26665"/>
                  </a:lnTo>
                  <a:lnTo>
                    <a:pt x="-30575" y="21504"/>
                  </a:lnTo>
                  <a:lnTo>
                    <a:pt x="-32681" y="17633"/>
                  </a:lnTo>
                  <a:lnTo>
                    <a:pt x="29486" y="15053"/>
                  </a:lnTo>
                  <a:lnTo>
                    <a:pt x="25273" y="14623"/>
                  </a:lnTo>
                  <a:lnTo>
                    <a:pt x="21483" y="15483"/>
                  </a:lnTo>
                  <a:lnTo>
                    <a:pt x="18534" y="18064"/>
                  </a:lnTo>
                  <a:lnTo>
                    <a:pt x="16849" y="21934"/>
                  </a:lnTo>
                  <a:lnTo>
                    <a:pt x="16007" y="26665"/>
                  </a:lnTo>
                  <a:lnTo>
                    <a:pt x="15585" y="31826"/>
                  </a:lnTo>
                  <a:lnTo>
                    <a:pt x="16007" y="-28119"/>
                  </a:lnTo>
                  <a:lnTo>
                    <a:pt x="18955" y="-17366"/>
                  </a:lnTo>
                  <a:lnTo>
                    <a:pt x="15164" y="-16076"/>
                  </a:lnTo>
                  <a:lnTo>
                    <a:pt x="10952" y="-15646"/>
                  </a:lnTo>
                  <a:lnTo>
                    <a:pt x="7161" y="-16506"/>
                  </a:lnTo>
                  <a:lnTo>
                    <a:pt x="4212" y="-18656"/>
                  </a:lnTo>
                  <a:close/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Freihandform 117"/>
            <p:cNvSpPr/>
            <p:nvPr/>
          </p:nvSpPr>
          <p:spPr>
            <a:xfrm>
              <a:off x="1274760" y="5035320"/>
              <a:ext cx="36360" cy="1872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30354" h="22735">
                  <a:moveTo>
                    <a:pt x="6350" y="0"/>
                  </a:moveTo>
                  <a:lnTo>
                    <a:pt x="10922" y="0"/>
                  </a:lnTo>
                  <a:lnTo>
                    <a:pt x="15875" y="1143"/>
                  </a:lnTo>
                  <a:lnTo>
                    <a:pt x="20828" y="3430"/>
                  </a:lnTo>
                  <a:lnTo>
                    <a:pt x="25019" y="6350"/>
                  </a:lnTo>
                  <a:lnTo>
                    <a:pt x="28449" y="9906"/>
                  </a:lnTo>
                  <a:lnTo>
                    <a:pt x="30353" y="13590"/>
                  </a:lnTo>
                  <a:lnTo>
                    <a:pt x="30227" y="17780"/>
                  </a:lnTo>
                  <a:lnTo>
                    <a:pt x="28575" y="20321"/>
                  </a:lnTo>
                  <a:lnTo>
                    <a:pt x="25908" y="21972"/>
                  </a:lnTo>
                  <a:lnTo>
                    <a:pt x="22352" y="22734"/>
                  </a:lnTo>
                  <a:lnTo>
                    <a:pt x="18416" y="22606"/>
                  </a:lnTo>
                  <a:lnTo>
                    <a:pt x="10161" y="20448"/>
                  </a:lnTo>
                  <a:lnTo>
                    <a:pt x="6605" y="18542"/>
                  </a:lnTo>
                  <a:lnTo>
                    <a:pt x="3683" y="16256"/>
                  </a:lnTo>
                  <a:lnTo>
                    <a:pt x="1397" y="12828"/>
                  </a:lnTo>
                  <a:lnTo>
                    <a:pt x="0" y="8636"/>
                  </a:lnTo>
                  <a:lnTo>
                    <a:pt x="255" y="4446"/>
                  </a:lnTo>
                  <a:lnTo>
                    <a:pt x="1016" y="2794"/>
                  </a:lnTo>
                  <a:lnTo>
                    <a:pt x="2286" y="1524"/>
                  </a:lnTo>
                  <a:lnTo>
                    <a:pt x="6350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solidFill>
                <a:srgbClr val="9999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Freihandform 118"/>
            <p:cNvSpPr/>
            <p:nvPr/>
          </p:nvSpPr>
          <p:spPr>
            <a:xfrm>
              <a:off x="1274760" y="5035320"/>
              <a:ext cx="36360" cy="1872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30329" h="22795">
                  <a:moveTo>
                    <a:pt x="2106" y="1290"/>
                  </a:moveTo>
                  <a:lnTo>
                    <a:pt x="842" y="2581"/>
                  </a:lnTo>
                  <a:lnTo>
                    <a:pt x="421" y="4301"/>
                  </a:lnTo>
                  <a:lnTo>
                    <a:pt x="0" y="8602"/>
                  </a:lnTo>
                  <a:lnTo>
                    <a:pt x="1264" y="12903"/>
                  </a:lnTo>
                  <a:lnTo>
                    <a:pt x="3791" y="16343"/>
                  </a:lnTo>
                  <a:lnTo>
                    <a:pt x="6740" y="18493"/>
                  </a:lnTo>
                  <a:lnTo>
                    <a:pt x="10109" y="20214"/>
                  </a:lnTo>
                  <a:lnTo>
                    <a:pt x="18534" y="22364"/>
                  </a:lnTo>
                  <a:lnTo>
                    <a:pt x="22325" y="22794"/>
                  </a:lnTo>
                  <a:lnTo>
                    <a:pt x="25694" y="21934"/>
                  </a:lnTo>
                  <a:lnTo>
                    <a:pt x="28643" y="20214"/>
                  </a:lnTo>
                  <a:lnTo>
                    <a:pt x="30328" y="17633"/>
                  </a:lnTo>
                  <a:lnTo>
                    <a:pt x="30328" y="13763"/>
                  </a:lnTo>
                  <a:lnTo>
                    <a:pt x="28222" y="9892"/>
                  </a:lnTo>
                  <a:lnTo>
                    <a:pt x="25273" y="6451"/>
                  </a:lnTo>
                  <a:lnTo>
                    <a:pt x="20640" y="3441"/>
                  </a:lnTo>
                  <a:lnTo>
                    <a:pt x="16006" y="860"/>
                  </a:lnTo>
                  <a:lnTo>
                    <a:pt x="10952" y="0"/>
                  </a:lnTo>
                  <a:lnTo>
                    <a:pt x="6318" y="0"/>
                  </a:lnTo>
                  <a:lnTo>
                    <a:pt x="2106" y="1290"/>
                  </a:lnTo>
                  <a:close/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Gerade Verbindung 119"/>
            <p:cNvSpPr/>
            <p:nvPr/>
          </p:nvSpPr>
          <p:spPr>
            <a:xfrm>
              <a:off x="582480" y="5262480"/>
              <a:ext cx="48960" cy="2206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Gerade Verbindung 120"/>
            <p:cNvSpPr/>
            <p:nvPr/>
          </p:nvSpPr>
          <p:spPr>
            <a:xfrm>
              <a:off x="653760" y="5554440"/>
              <a:ext cx="45720" cy="2188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Freihandform 121"/>
            <p:cNvSpPr/>
            <p:nvPr/>
          </p:nvSpPr>
          <p:spPr>
            <a:xfrm>
              <a:off x="377640" y="4955760"/>
              <a:ext cx="172800" cy="79200"/>
            </a:xfrm>
            <a:custGeom>
              <a:avLst/>
              <a:gdLst>
                <a:gd name="textAreaLeft" fmla="*/ 0 w 172800"/>
                <a:gd name="textAreaRight" fmla="*/ 173160 w 17280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140971" h="97917">
                  <a:moveTo>
                    <a:pt x="103885" y="4317"/>
                  </a:moveTo>
                  <a:lnTo>
                    <a:pt x="109474" y="1778"/>
                  </a:lnTo>
                  <a:lnTo>
                    <a:pt x="114553" y="380"/>
                  </a:lnTo>
                  <a:lnTo>
                    <a:pt x="119506" y="0"/>
                  </a:lnTo>
                  <a:lnTo>
                    <a:pt x="123824" y="761"/>
                  </a:lnTo>
                  <a:lnTo>
                    <a:pt x="127762" y="2159"/>
                  </a:lnTo>
                  <a:lnTo>
                    <a:pt x="131317" y="4317"/>
                  </a:lnTo>
                  <a:lnTo>
                    <a:pt x="134366" y="6858"/>
                  </a:lnTo>
                  <a:lnTo>
                    <a:pt x="136906" y="10159"/>
                  </a:lnTo>
                  <a:lnTo>
                    <a:pt x="138810" y="13715"/>
                  </a:lnTo>
                  <a:lnTo>
                    <a:pt x="140081" y="17653"/>
                  </a:lnTo>
                  <a:lnTo>
                    <a:pt x="140970" y="25908"/>
                  </a:lnTo>
                  <a:lnTo>
                    <a:pt x="139064" y="34163"/>
                  </a:lnTo>
                  <a:lnTo>
                    <a:pt x="137160" y="37846"/>
                  </a:lnTo>
                  <a:lnTo>
                    <a:pt x="134366" y="41528"/>
                  </a:lnTo>
                  <a:lnTo>
                    <a:pt x="29337" y="97916"/>
                  </a:lnTo>
                  <a:lnTo>
                    <a:pt x="29591" y="86867"/>
                  </a:lnTo>
                  <a:lnTo>
                    <a:pt x="28575" y="77851"/>
                  </a:lnTo>
                  <a:lnTo>
                    <a:pt x="26543" y="70739"/>
                  </a:lnTo>
                  <a:lnTo>
                    <a:pt x="23368" y="65151"/>
                  </a:lnTo>
                  <a:lnTo>
                    <a:pt x="19050" y="60705"/>
                  </a:lnTo>
                  <a:lnTo>
                    <a:pt x="13843" y="56769"/>
                  </a:lnTo>
                  <a:lnTo>
                    <a:pt x="7493" y="53340"/>
                  </a:lnTo>
                  <a:lnTo>
                    <a:pt x="0" y="50165"/>
                  </a:lnTo>
                  <a:lnTo>
                    <a:pt x="103885" y="4317"/>
                  </a:lnTo>
                  <a:close/>
                </a:path>
              </a:pathLst>
            </a:custGeom>
            <a:solidFill>
              <a:srgbClr val="999999"/>
            </a:solidFill>
            <a:ln w="0">
              <a:solidFill>
                <a:srgbClr val="9999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Freihandform 122"/>
            <p:cNvSpPr/>
            <p:nvPr/>
          </p:nvSpPr>
          <p:spPr>
            <a:xfrm>
              <a:off x="377640" y="4955760"/>
              <a:ext cx="172800" cy="79200"/>
            </a:xfrm>
            <a:custGeom>
              <a:avLst/>
              <a:gdLst>
                <a:gd name="textAreaLeft" fmla="*/ 0 w 172800"/>
                <a:gd name="textAreaRight" fmla="*/ 173160 w 17280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141109" h="97625">
                  <a:moveTo>
                    <a:pt x="0" y="49887"/>
                  </a:moveTo>
                  <a:lnTo>
                    <a:pt x="7582" y="53328"/>
                  </a:lnTo>
                  <a:lnTo>
                    <a:pt x="13900" y="56768"/>
                  </a:lnTo>
                  <a:lnTo>
                    <a:pt x="18955" y="60639"/>
                  </a:lnTo>
                  <a:lnTo>
                    <a:pt x="23588" y="64939"/>
                  </a:lnTo>
                  <a:lnTo>
                    <a:pt x="26537" y="70530"/>
                  </a:lnTo>
                  <a:lnTo>
                    <a:pt x="28643" y="77841"/>
                  </a:lnTo>
                  <a:lnTo>
                    <a:pt x="29485" y="86872"/>
                  </a:lnTo>
                  <a:lnTo>
                    <a:pt x="29485" y="97624"/>
                  </a:lnTo>
                  <a:lnTo>
                    <a:pt x="134368" y="41286"/>
                  </a:lnTo>
                  <a:lnTo>
                    <a:pt x="137317" y="37845"/>
                  </a:lnTo>
                  <a:lnTo>
                    <a:pt x="139001" y="33975"/>
                  </a:lnTo>
                  <a:lnTo>
                    <a:pt x="141108" y="25804"/>
                  </a:lnTo>
                  <a:lnTo>
                    <a:pt x="140265" y="17633"/>
                  </a:lnTo>
                  <a:lnTo>
                    <a:pt x="139001" y="13762"/>
                  </a:lnTo>
                  <a:lnTo>
                    <a:pt x="136895" y="9891"/>
                  </a:lnTo>
                  <a:lnTo>
                    <a:pt x="134368" y="6881"/>
                  </a:lnTo>
                  <a:lnTo>
                    <a:pt x="131420" y="4301"/>
                  </a:lnTo>
                  <a:lnTo>
                    <a:pt x="128050" y="2150"/>
                  </a:lnTo>
                  <a:lnTo>
                    <a:pt x="123838" y="430"/>
                  </a:lnTo>
                  <a:lnTo>
                    <a:pt x="119626" y="0"/>
                  </a:lnTo>
                  <a:lnTo>
                    <a:pt x="114571" y="430"/>
                  </a:lnTo>
                  <a:lnTo>
                    <a:pt x="109516" y="1720"/>
                  </a:lnTo>
                  <a:lnTo>
                    <a:pt x="104041" y="4301"/>
                  </a:lnTo>
                  <a:lnTo>
                    <a:pt x="0" y="49887"/>
                  </a:lnTo>
                  <a:close/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Freihandform 123"/>
            <p:cNvSpPr/>
            <p:nvPr/>
          </p:nvSpPr>
          <p:spPr>
            <a:xfrm>
              <a:off x="353880" y="4995720"/>
              <a:ext cx="68040" cy="4572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45720"/>
                <a:gd name="textAreaBottom" fmla="*/ 46080 h 45720"/>
              </a:gdLst>
              <a:ahLst/>
              <a:rect l="textAreaLeft" t="textAreaTop" r="textAreaRight" b="textAreaBottom"/>
              <a:pathLst>
                <a:path w="56007" h="57277">
                  <a:moveTo>
                    <a:pt x="507" y="23495"/>
                  </a:moveTo>
                  <a:lnTo>
                    <a:pt x="2286" y="17907"/>
                  </a:lnTo>
                  <a:lnTo>
                    <a:pt x="4825" y="12826"/>
                  </a:lnTo>
                  <a:lnTo>
                    <a:pt x="8127" y="8636"/>
                  </a:lnTo>
                  <a:lnTo>
                    <a:pt x="12445" y="5080"/>
                  </a:lnTo>
                  <a:lnTo>
                    <a:pt x="17018" y="2286"/>
                  </a:lnTo>
                  <a:lnTo>
                    <a:pt x="22479" y="634"/>
                  </a:lnTo>
                  <a:lnTo>
                    <a:pt x="28066" y="0"/>
                  </a:lnTo>
                  <a:lnTo>
                    <a:pt x="-31755" y="634"/>
                  </a:lnTo>
                  <a:lnTo>
                    <a:pt x="-26548" y="2286"/>
                  </a:lnTo>
                  <a:lnTo>
                    <a:pt x="-21721" y="5080"/>
                  </a:lnTo>
                  <a:lnTo>
                    <a:pt x="-17657" y="8636"/>
                  </a:lnTo>
                  <a:lnTo>
                    <a:pt x="-14229" y="12826"/>
                  </a:lnTo>
                  <a:lnTo>
                    <a:pt x="-11689" y="17907"/>
                  </a:lnTo>
                  <a:lnTo>
                    <a:pt x="-9911" y="23495"/>
                  </a:lnTo>
                  <a:lnTo>
                    <a:pt x="-9530" y="29337"/>
                  </a:lnTo>
                  <a:lnTo>
                    <a:pt x="-9784" y="-31373"/>
                  </a:lnTo>
                  <a:lnTo>
                    <a:pt x="-10927" y="-26802"/>
                  </a:lnTo>
                  <a:lnTo>
                    <a:pt x="-12705" y="-22610"/>
                  </a:lnTo>
                  <a:lnTo>
                    <a:pt x="-15118" y="-18673"/>
                  </a:lnTo>
                  <a:lnTo>
                    <a:pt x="-18039" y="-15244"/>
                  </a:lnTo>
                  <a:lnTo>
                    <a:pt x="-21468" y="-12323"/>
                  </a:lnTo>
                  <a:lnTo>
                    <a:pt x="-25277" y="-9910"/>
                  </a:lnTo>
                  <a:lnTo>
                    <a:pt x="-29341" y="-8260"/>
                  </a:lnTo>
                  <a:lnTo>
                    <a:pt x="-30866" y="-8894"/>
                  </a:lnTo>
                  <a:lnTo>
                    <a:pt x="-31627" y="-10165"/>
                  </a:lnTo>
                  <a:lnTo>
                    <a:pt x="-32009" y="-12069"/>
                  </a:lnTo>
                  <a:lnTo>
                    <a:pt x="-31755" y="-14355"/>
                  </a:lnTo>
                  <a:lnTo>
                    <a:pt x="-30739" y="-19690"/>
                  </a:lnTo>
                  <a:lnTo>
                    <a:pt x="-29087" y="-25785"/>
                  </a:lnTo>
                  <a:lnTo>
                    <a:pt x="-27945" y="-32135"/>
                  </a:lnTo>
                  <a:lnTo>
                    <a:pt x="-27945" y="27686"/>
                  </a:lnTo>
                  <a:lnTo>
                    <a:pt x="-28580" y="25400"/>
                  </a:lnTo>
                  <a:lnTo>
                    <a:pt x="-30104" y="23240"/>
                  </a:lnTo>
                  <a:lnTo>
                    <a:pt x="-32009" y="21844"/>
                  </a:lnTo>
                  <a:lnTo>
                    <a:pt x="30734" y="20701"/>
                  </a:lnTo>
                  <a:lnTo>
                    <a:pt x="25907" y="20193"/>
                  </a:lnTo>
                  <a:lnTo>
                    <a:pt x="21716" y="21463"/>
                  </a:lnTo>
                  <a:lnTo>
                    <a:pt x="18034" y="24511"/>
                  </a:lnTo>
                  <a:lnTo>
                    <a:pt x="14731" y="28701"/>
                  </a:lnTo>
                  <a:lnTo>
                    <a:pt x="9906" y="-27055"/>
                  </a:lnTo>
                  <a:lnTo>
                    <a:pt x="8127" y="-22103"/>
                  </a:lnTo>
                  <a:lnTo>
                    <a:pt x="6604" y="-17911"/>
                  </a:lnTo>
                  <a:lnTo>
                    <a:pt x="4825" y="-19943"/>
                  </a:lnTo>
                  <a:lnTo>
                    <a:pt x="2540" y="-23880"/>
                  </a:lnTo>
                  <a:lnTo>
                    <a:pt x="634" y="-29977"/>
                  </a:lnTo>
                  <a:lnTo>
                    <a:pt x="0" y="29337"/>
                  </a:lnTo>
                  <a:lnTo>
                    <a:pt x="507" y="2349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Freihandform 124"/>
            <p:cNvSpPr/>
            <p:nvPr/>
          </p:nvSpPr>
          <p:spPr>
            <a:xfrm>
              <a:off x="353880" y="4995720"/>
              <a:ext cx="68040" cy="4572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45720"/>
                <a:gd name="textAreaBottom" fmla="*/ 46080 h 45720"/>
              </a:gdLst>
              <a:ahLst/>
              <a:rect l="textAreaLeft" t="textAreaTop" r="textAreaRight" b="textAreaBottom"/>
              <a:pathLst>
                <a:path w="56023" h="57201">
                  <a:moveTo>
                    <a:pt x="0" y="29245"/>
                  </a:moveTo>
                  <a:lnTo>
                    <a:pt x="842" y="-29839"/>
                  </a:lnTo>
                  <a:lnTo>
                    <a:pt x="2527" y="-23818"/>
                  </a:lnTo>
                  <a:lnTo>
                    <a:pt x="5055" y="-19948"/>
                  </a:lnTo>
                  <a:lnTo>
                    <a:pt x="6740" y="-17798"/>
                  </a:lnTo>
                  <a:lnTo>
                    <a:pt x="8424" y="-22098"/>
                  </a:lnTo>
                  <a:lnTo>
                    <a:pt x="10109" y="-27259"/>
                  </a:lnTo>
                  <a:lnTo>
                    <a:pt x="14743" y="28385"/>
                  </a:lnTo>
                  <a:lnTo>
                    <a:pt x="18112" y="24515"/>
                  </a:lnTo>
                  <a:lnTo>
                    <a:pt x="21903" y="21504"/>
                  </a:lnTo>
                  <a:lnTo>
                    <a:pt x="26115" y="20214"/>
                  </a:lnTo>
                  <a:lnTo>
                    <a:pt x="30749" y="20644"/>
                  </a:lnTo>
                  <a:lnTo>
                    <a:pt x="-31839" y="21504"/>
                  </a:lnTo>
                  <a:lnTo>
                    <a:pt x="-29733" y="23224"/>
                  </a:lnTo>
                  <a:lnTo>
                    <a:pt x="-28469" y="25375"/>
                  </a:lnTo>
                  <a:lnTo>
                    <a:pt x="-27627" y="27525"/>
                  </a:lnTo>
                  <a:lnTo>
                    <a:pt x="-27627" y="-32420"/>
                  </a:lnTo>
                  <a:lnTo>
                    <a:pt x="-28890" y="-25969"/>
                  </a:lnTo>
                  <a:lnTo>
                    <a:pt x="-30575" y="-19948"/>
                  </a:lnTo>
                  <a:lnTo>
                    <a:pt x="-31839" y="-14357"/>
                  </a:lnTo>
                  <a:lnTo>
                    <a:pt x="-31839" y="-12206"/>
                  </a:lnTo>
                  <a:lnTo>
                    <a:pt x="-31417" y="-10486"/>
                  </a:lnTo>
                  <a:lnTo>
                    <a:pt x="-30575" y="-9196"/>
                  </a:lnTo>
                  <a:lnTo>
                    <a:pt x="-29311" y="-8336"/>
                  </a:lnTo>
                  <a:lnTo>
                    <a:pt x="-25099" y="-10056"/>
                  </a:lnTo>
                  <a:lnTo>
                    <a:pt x="-21308" y="-12637"/>
                  </a:lnTo>
                  <a:lnTo>
                    <a:pt x="-17939" y="-15217"/>
                  </a:lnTo>
                  <a:lnTo>
                    <a:pt x="-14990" y="-18658"/>
                  </a:lnTo>
                  <a:lnTo>
                    <a:pt x="-12463" y="-22528"/>
                  </a:lnTo>
                  <a:lnTo>
                    <a:pt x="-10778" y="-26829"/>
                  </a:lnTo>
                  <a:lnTo>
                    <a:pt x="-9514" y="-31560"/>
                  </a:lnTo>
                  <a:lnTo>
                    <a:pt x="-9514" y="29245"/>
                  </a:lnTo>
                  <a:lnTo>
                    <a:pt x="-9935" y="23224"/>
                  </a:lnTo>
                  <a:lnTo>
                    <a:pt x="-11620" y="17633"/>
                  </a:lnTo>
                  <a:lnTo>
                    <a:pt x="-14148" y="12903"/>
                  </a:lnTo>
                  <a:lnTo>
                    <a:pt x="-17517" y="8602"/>
                  </a:lnTo>
                  <a:lnTo>
                    <a:pt x="-21729" y="5161"/>
                  </a:lnTo>
                  <a:lnTo>
                    <a:pt x="-26363" y="2151"/>
                  </a:lnTo>
                  <a:lnTo>
                    <a:pt x="-31839" y="431"/>
                  </a:lnTo>
                  <a:lnTo>
                    <a:pt x="28222" y="0"/>
                  </a:lnTo>
                  <a:lnTo>
                    <a:pt x="22746" y="431"/>
                  </a:lnTo>
                  <a:lnTo>
                    <a:pt x="17270" y="2151"/>
                  </a:lnTo>
                  <a:lnTo>
                    <a:pt x="12637" y="5161"/>
                  </a:lnTo>
                  <a:lnTo>
                    <a:pt x="8424" y="8602"/>
                  </a:lnTo>
                  <a:lnTo>
                    <a:pt x="5055" y="12903"/>
                  </a:lnTo>
                  <a:lnTo>
                    <a:pt x="2527" y="17633"/>
                  </a:lnTo>
                  <a:lnTo>
                    <a:pt x="421" y="23224"/>
                  </a:lnTo>
                  <a:lnTo>
                    <a:pt x="0" y="29245"/>
                  </a:lnTo>
                  <a:close/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Freihandform 125"/>
            <p:cNvSpPr/>
            <p:nvPr/>
          </p:nvSpPr>
          <p:spPr>
            <a:xfrm>
              <a:off x="417240" y="4984560"/>
              <a:ext cx="34920" cy="3960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28643" h="46880">
                  <a:moveTo>
                    <a:pt x="26536" y="-18657"/>
                  </a:moveTo>
                  <a:lnTo>
                    <a:pt x="28642" y="-28549"/>
                  </a:lnTo>
                  <a:lnTo>
                    <a:pt x="28642" y="28386"/>
                  </a:lnTo>
                  <a:lnTo>
                    <a:pt x="26536" y="20644"/>
                  </a:lnTo>
                  <a:lnTo>
                    <a:pt x="23167" y="13763"/>
                  </a:lnTo>
                  <a:lnTo>
                    <a:pt x="18533" y="8172"/>
                  </a:lnTo>
                  <a:lnTo>
                    <a:pt x="13058" y="3871"/>
                  </a:lnTo>
                  <a:lnTo>
                    <a:pt x="6739" y="1291"/>
                  </a:lnTo>
                  <a:lnTo>
                    <a:pt x="0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Freihandform 126"/>
            <p:cNvSpPr/>
            <p:nvPr/>
          </p:nvSpPr>
          <p:spPr>
            <a:xfrm>
              <a:off x="491760" y="4963680"/>
              <a:ext cx="26640" cy="3780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22747" h="47311">
                  <a:moveTo>
                    <a:pt x="15585" y="-18226"/>
                  </a:moveTo>
                  <a:lnTo>
                    <a:pt x="18112" y="-20807"/>
                  </a:lnTo>
                  <a:lnTo>
                    <a:pt x="20218" y="-24248"/>
                  </a:lnTo>
                  <a:lnTo>
                    <a:pt x="22746" y="-31559"/>
                  </a:lnTo>
                  <a:lnTo>
                    <a:pt x="22746" y="26235"/>
                  </a:lnTo>
                  <a:lnTo>
                    <a:pt x="20640" y="18494"/>
                  </a:lnTo>
                  <a:lnTo>
                    <a:pt x="17270" y="11182"/>
                  </a:lnTo>
                  <a:lnTo>
                    <a:pt x="12636" y="5161"/>
                  </a:lnTo>
                  <a:lnTo>
                    <a:pt x="6740" y="1290"/>
                  </a:lnTo>
                  <a:lnTo>
                    <a:pt x="3370" y="430"/>
                  </a:lnTo>
                  <a:lnTo>
                    <a:pt x="0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Textfeld 128"/>
          <p:cNvSpPr/>
          <p:nvPr/>
        </p:nvSpPr>
        <p:spPr>
          <a:xfrm>
            <a:off x="1170000" y="1738440"/>
            <a:ext cx="11152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Verdana"/>
                <a:ea typeface="Arial"/>
              </a:rPr>
              <a:t>Fischers Fritz fischt frische Fische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Verdana"/>
                <a:ea typeface="Arial"/>
              </a:rPr>
              <a:t>frische Fische fischt Fischers Fritz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2" name="Grafik 129" descr="Catfish.png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390600" y="4863960"/>
            <a:ext cx="1684440" cy="493920"/>
          </a:xfrm>
          <a:prstGeom prst="rect">
            <a:avLst/>
          </a:prstGeom>
          <a:ln w="0">
            <a:noFill/>
          </a:ln>
        </p:spPr>
      </p:pic>
      <p:pic>
        <p:nvPicPr>
          <p:cNvPr id="473" name="Grafik 130" descr="SailFish.png"/>
          <p:cNvPicPr/>
          <p:nvPr/>
        </p:nvPicPr>
        <p:blipFill>
          <a:blip r:embed="rId2">
            <a:alphaModFix amt="0"/>
          </a:blip>
          <a:stretch/>
        </p:blipFill>
        <p:spPr>
          <a:xfrm>
            <a:off x="184320" y="4568760"/>
            <a:ext cx="1304640" cy="507960"/>
          </a:xfrm>
          <a:prstGeom prst="rect">
            <a:avLst/>
          </a:prstGeom>
          <a:ln w="0">
            <a:noFill/>
          </a:ln>
        </p:spPr>
      </p:pic>
      <p:pic>
        <p:nvPicPr>
          <p:cNvPr id="474" name="Grafik 131" descr="Tuna.png"/>
          <p:cNvPicPr/>
          <p:nvPr/>
        </p:nvPicPr>
        <p:blipFill>
          <a:blip r:embed="rId3">
            <a:alphaModFix amt="0"/>
          </a:blip>
          <a:stretch/>
        </p:blipFill>
        <p:spPr>
          <a:xfrm>
            <a:off x="343080" y="4749840"/>
            <a:ext cx="1454040" cy="399960"/>
          </a:xfrm>
          <a:prstGeom prst="rect">
            <a:avLst/>
          </a:prstGeom>
          <a:ln w="0">
            <a:noFill/>
          </a:ln>
        </p:spPr>
      </p:pic>
      <p:sp>
        <p:nvSpPr>
          <p:cNvPr id="475" name="Textfeld 132"/>
          <p:cNvSpPr/>
          <p:nvPr/>
        </p:nvSpPr>
        <p:spPr>
          <a:xfrm>
            <a:off x="608040" y="326880"/>
            <a:ext cx="1182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b"/>
                </a:solidFill>
                <a:latin typeface="Verdana"/>
                <a:ea typeface="Arial"/>
              </a:rPr>
              <a:t>Working with a partner, try to say the tongue twister correctl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6" name="Gruppieren 204"/>
          <p:cNvGrpSpPr/>
          <p:nvPr/>
        </p:nvGrpSpPr>
        <p:grpSpPr>
          <a:xfrm>
            <a:off x="3002040" y="3370320"/>
            <a:ext cx="5600520" cy="2717640"/>
            <a:chOff x="3002040" y="3370320"/>
            <a:chExt cx="5600520" cy="2717640"/>
          </a:xfrm>
        </p:grpSpPr>
        <p:sp>
          <p:nvSpPr>
            <p:cNvPr id="477" name="Freihandform 133"/>
            <p:cNvSpPr/>
            <p:nvPr/>
          </p:nvSpPr>
          <p:spPr>
            <a:xfrm>
              <a:off x="4137120" y="4462560"/>
              <a:ext cx="245880" cy="14256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142560"/>
                <a:gd name="textAreaBottom" fmla="*/ 142920 h 142560"/>
              </a:gdLst>
              <a:ahLst/>
              <a:rect l="textAreaLeft" t="textAreaTop" r="textAreaRight" b="textAreaBottom"/>
              <a:pathLst>
                <a:path w="206756" h="150624">
                  <a:moveTo>
                    <a:pt x="0" y="72644"/>
                  </a:moveTo>
                  <a:lnTo>
                    <a:pt x="2666" y="53214"/>
                  </a:lnTo>
                  <a:lnTo>
                    <a:pt x="10032" y="37339"/>
                  </a:lnTo>
                  <a:lnTo>
                    <a:pt x="22224" y="24130"/>
                  </a:lnTo>
                  <a:lnTo>
                    <a:pt x="37211" y="13971"/>
                  </a:lnTo>
                  <a:lnTo>
                    <a:pt x="54863" y="6223"/>
                  </a:lnTo>
                  <a:lnTo>
                    <a:pt x="73913" y="1524"/>
                  </a:lnTo>
                  <a:lnTo>
                    <a:pt x="94995" y="0"/>
                  </a:lnTo>
                  <a:lnTo>
                    <a:pt x="115950" y="762"/>
                  </a:lnTo>
                  <a:lnTo>
                    <a:pt x="136270" y="4192"/>
                  </a:lnTo>
                  <a:lnTo>
                    <a:pt x="155320" y="10415"/>
                  </a:lnTo>
                  <a:lnTo>
                    <a:pt x="172847" y="18669"/>
                  </a:lnTo>
                  <a:lnTo>
                    <a:pt x="187198" y="29846"/>
                  </a:lnTo>
                  <a:lnTo>
                    <a:pt x="197993" y="43561"/>
                  </a:lnTo>
                  <a:lnTo>
                    <a:pt x="204850" y="60198"/>
                  </a:lnTo>
                  <a:lnTo>
                    <a:pt x="206755" y="78105"/>
                  </a:lnTo>
                  <a:lnTo>
                    <a:pt x="202818" y="98934"/>
                  </a:lnTo>
                  <a:lnTo>
                    <a:pt x="196087" y="115443"/>
                  </a:lnTo>
                  <a:lnTo>
                    <a:pt x="186562" y="127762"/>
                  </a:lnTo>
                  <a:lnTo>
                    <a:pt x="176275" y="138304"/>
                  </a:lnTo>
                  <a:lnTo>
                    <a:pt x="164084" y="145161"/>
                  </a:lnTo>
                  <a:lnTo>
                    <a:pt x="150622" y="148717"/>
                  </a:lnTo>
                  <a:lnTo>
                    <a:pt x="136270" y="150623"/>
                  </a:lnTo>
                  <a:lnTo>
                    <a:pt x="106425" y="146431"/>
                  </a:lnTo>
                  <a:lnTo>
                    <a:pt x="75184" y="134748"/>
                  </a:lnTo>
                  <a:lnTo>
                    <a:pt x="46100" y="118110"/>
                  </a:lnTo>
                  <a:lnTo>
                    <a:pt x="20319" y="96012"/>
                  </a:lnTo>
                  <a:lnTo>
                    <a:pt x="0" y="72644"/>
                  </a:lnTo>
                  <a:close/>
                </a:path>
              </a:pathLst>
            </a:custGeom>
            <a:solidFill>
              <a:srgbClr val="e3906a"/>
            </a:solidFill>
            <a:ln w="0">
              <a:solidFill>
                <a:srgbClr val="e3906a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Freihandform 134"/>
            <p:cNvSpPr/>
            <p:nvPr/>
          </p:nvSpPr>
          <p:spPr>
            <a:xfrm>
              <a:off x="4137120" y="4462560"/>
              <a:ext cx="245880" cy="14436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06473" h="151738">
                  <a:moveTo>
                    <a:pt x="0" y="73127"/>
                  </a:moveTo>
                  <a:lnTo>
                    <a:pt x="1795" y="53017"/>
                  </a:lnTo>
                  <a:lnTo>
                    <a:pt x="8977" y="38391"/>
                  </a:lnTo>
                  <a:lnTo>
                    <a:pt x="21545" y="23766"/>
                  </a:lnTo>
                  <a:lnTo>
                    <a:pt x="37703" y="14625"/>
                  </a:lnTo>
                  <a:lnTo>
                    <a:pt x="53862" y="7313"/>
                  </a:lnTo>
                  <a:lnTo>
                    <a:pt x="73612" y="1828"/>
                  </a:lnTo>
                  <a:lnTo>
                    <a:pt x="95157" y="0"/>
                  </a:lnTo>
                  <a:lnTo>
                    <a:pt x="116702" y="1828"/>
                  </a:lnTo>
                  <a:lnTo>
                    <a:pt x="136452" y="3656"/>
                  </a:lnTo>
                  <a:lnTo>
                    <a:pt x="154405" y="10969"/>
                  </a:lnTo>
                  <a:lnTo>
                    <a:pt x="172360" y="18281"/>
                  </a:lnTo>
                  <a:lnTo>
                    <a:pt x="186723" y="31079"/>
                  </a:lnTo>
                  <a:lnTo>
                    <a:pt x="197495" y="43876"/>
                  </a:lnTo>
                  <a:lnTo>
                    <a:pt x="204677" y="60329"/>
                  </a:lnTo>
                  <a:lnTo>
                    <a:pt x="206472" y="78611"/>
                  </a:lnTo>
                  <a:lnTo>
                    <a:pt x="202882" y="98721"/>
                  </a:lnTo>
                  <a:lnTo>
                    <a:pt x="195700" y="115174"/>
                  </a:lnTo>
                  <a:lnTo>
                    <a:pt x="186723" y="127971"/>
                  </a:lnTo>
                  <a:lnTo>
                    <a:pt x="175951" y="138940"/>
                  </a:lnTo>
                  <a:lnTo>
                    <a:pt x="163383" y="146253"/>
                  </a:lnTo>
                  <a:lnTo>
                    <a:pt x="150815" y="149909"/>
                  </a:lnTo>
                  <a:lnTo>
                    <a:pt x="136452" y="151737"/>
                  </a:lnTo>
                  <a:lnTo>
                    <a:pt x="105929" y="146253"/>
                  </a:lnTo>
                  <a:lnTo>
                    <a:pt x="75407" y="135284"/>
                  </a:lnTo>
                  <a:lnTo>
                    <a:pt x="46680" y="118830"/>
                  </a:lnTo>
                  <a:lnTo>
                    <a:pt x="19749" y="96893"/>
                  </a:lnTo>
                  <a:lnTo>
                    <a:pt x="0" y="73127"/>
                  </a:lnTo>
                  <a:close/>
                </a:path>
              </a:pathLst>
            </a:custGeom>
            <a:noFill/>
            <a:ln w="18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Freihandform 135"/>
            <p:cNvSpPr/>
            <p:nvPr/>
          </p:nvSpPr>
          <p:spPr>
            <a:xfrm>
              <a:off x="4252680" y="3981240"/>
              <a:ext cx="4172040" cy="966600"/>
            </a:xfrm>
            <a:custGeom>
              <a:avLst/>
              <a:gdLst>
                <a:gd name="textAreaLeft" fmla="*/ 0 w 4172040"/>
                <a:gd name="textAreaRight" fmla="*/ 4172400 w 4172040"/>
                <a:gd name="textAreaTop" fmla="*/ 0 h 966600"/>
                <a:gd name="textAreaBottom" fmla="*/ 966960 h 966600"/>
              </a:gdLst>
              <a:ahLst/>
              <a:rect l="textAreaLeft" t="textAreaTop" r="textAreaRight" b="textAreaBottom"/>
              <a:pathLst>
                <a:path w="3511842" h="1027437">
                  <a:moveTo>
                    <a:pt x="188519" y="736756"/>
                  </a:moveTo>
                  <a:lnTo>
                    <a:pt x="0" y="605127"/>
                  </a:lnTo>
                  <a:lnTo>
                    <a:pt x="1071865" y="318103"/>
                  </a:lnTo>
                  <a:lnTo>
                    <a:pt x="2398681" y="0"/>
                  </a:lnTo>
                  <a:lnTo>
                    <a:pt x="3511841" y="237663"/>
                  </a:lnTo>
                  <a:lnTo>
                    <a:pt x="3510046" y="1027436"/>
                  </a:lnTo>
                </a:path>
              </a:pathLst>
            </a:custGeom>
            <a:noFill/>
            <a:ln w="18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Freihandform 136"/>
            <p:cNvSpPr/>
            <p:nvPr/>
          </p:nvSpPr>
          <p:spPr>
            <a:xfrm>
              <a:off x="3703680" y="3370320"/>
              <a:ext cx="458640" cy="330120"/>
            </a:xfrm>
            <a:custGeom>
              <a:avLst/>
              <a:gdLst>
                <a:gd name="textAreaLeft" fmla="*/ 0 w 458640"/>
                <a:gd name="textAreaRight" fmla="*/ 459000 w 45864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386209" h="351030">
                  <a:moveTo>
                    <a:pt x="4953" y="315723"/>
                  </a:moveTo>
                  <a:lnTo>
                    <a:pt x="763" y="292100"/>
                  </a:lnTo>
                  <a:lnTo>
                    <a:pt x="0" y="267336"/>
                  </a:lnTo>
                  <a:lnTo>
                    <a:pt x="763" y="241808"/>
                  </a:lnTo>
                  <a:lnTo>
                    <a:pt x="4953" y="189231"/>
                  </a:lnTo>
                  <a:lnTo>
                    <a:pt x="8256" y="138176"/>
                  </a:lnTo>
                  <a:lnTo>
                    <a:pt x="9525" y="132588"/>
                  </a:lnTo>
                  <a:lnTo>
                    <a:pt x="12319" y="125731"/>
                  </a:lnTo>
                  <a:lnTo>
                    <a:pt x="23241" y="107696"/>
                  </a:lnTo>
                  <a:lnTo>
                    <a:pt x="38863" y="86233"/>
                  </a:lnTo>
                  <a:lnTo>
                    <a:pt x="59182" y="63374"/>
                  </a:lnTo>
                  <a:lnTo>
                    <a:pt x="82804" y="41530"/>
                  </a:lnTo>
                  <a:lnTo>
                    <a:pt x="108713" y="22099"/>
                  </a:lnTo>
                  <a:lnTo>
                    <a:pt x="135128" y="8256"/>
                  </a:lnTo>
                  <a:lnTo>
                    <a:pt x="160910" y="1270"/>
                  </a:lnTo>
                  <a:lnTo>
                    <a:pt x="173101" y="0"/>
                  </a:lnTo>
                  <a:lnTo>
                    <a:pt x="187325" y="0"/>
                  </a:lnTo>
                  <a:lnTo>
                    <a:pt x="221235" y="4064"/>
                  </a:lnTo>
                  <a:lnTo>
                    <a:pt x="258572" y="12446"/>
                  </a:lnTo>
                  <a:lnTo>
                    <a:pt x="296672" y="24131"/>
                  </a:lnTo>
                  <a:lnTo>
                    <a:pt x="330582" y="40768"/>
                  </a:lnTo>
                  <a:lnTo>
                    <a:pt x="345441" y="51055"/>
                  </a:lnTo>
                  <a:lnTo>
                    <a:pt x="358394" y="61469"/>
                  </a:lnTo>
                  <a:lnTo>
                    <a:pt x="368428" y="73152"/>
                  </a:lnTo>
                  <a:lnTo>
                    <a:pt x="375285" y="86233"/>
                  </a:lnTo>
                  <a:lnTo>
                    <a:pt x="377952" y="99442"/>
                  </a:lnTo>
                  <a:lnTo>
                    <a:pt x="377445" y="114682"/>
                  </a:lnTo>
                  <a:lnTo>
                    <a:pt x="378714" y="128525"/>
                  </a:lnTo>
                  <a:lnTo>
                    <a:pt x="383540" y="144400"/>
                  </a:lnTo>
                  <a:lnTo>
                    <a:pt x="386208" y="160275"/>
                  </a:lnTo>
                  <a:lnTo>
                    <a:pt x="384810" y="167132"/>
                  </a:lnTo>
                  <a:lnTo>
                    <a:pt x="380873" y="173356"/>
                  </a:lnTo>
                  <a:lnTo>
                    <a:pt x="379477" y="172720"/>
                  </a:lnTo>
                  <a:lnTo>
                    <a:pt x="376047" y="170054"/>
                  </a:lnTo>
                  <a:lnTo>
                    <a:pt x="364491" y="161544"/>
                  </a:lnTo>
                  <a:lnTo>
                    <a:pt x="352298" y="153417"/>
                  </a:lnTo>
                  <a:lnTo>
                    <a:pt x="347472" y="149861"/>
                  </a:lnTo>
                  <a:lnTo>
                    <a:pt x="344044" y="148463"/>
                  </a:lnTo>
                  <a:lnTo>
                    <a:pt x="334010" y="144400"/>
                  </a:lnTo>
                  <a:lnTo>
                    <a:pt x="324485" y="138176"/>
                  </a:lnTo>
                  <a:lnTo>
                    <a:pt x="314960" y="133986"/>
                  </a:lnTo>
                  <a:lnTo>
                    <a:pt x="303531" y="132588"/>
                  </a:lnTo>
                  <a:lnTo>
                    <a:pt x="298578" y="144907"/>
                  </a:lnTo>
                  <a:lnTo>
                    <a:pt x="290576" y="160275"/>
                  </a:lnTo>
                  <a:lnTo>
                    <a:pt x="279019" y="176276"/>
                  </a:lnTo>
                  <a:lnTo>
                    <a:pt x="265431" y="193421"/>
                  </a:lnTo>
                  <a:lnTo>
                    <a:pt x="229997" y="229998"/>
                  </a:lnTo>
                  <a:lnTo>
                    <a:pt x="189993" y="267336"/>
                  </a:lnTo>
                  <a:lnTo>
                    <a:pt x="148718" y="301244"/>
                  </a:lnTo>
                  <a:lnTo>
                    <a:pt x="128397" y="315723"/>
                  </a:lnTo>
                  <a:lnTo>
                    <a:pt x="108713" y="328169"/>
                  </a:lnTo>
                  <a:lnTo>
                    <a:pt x="91060" y="338582"/>
                  </a:lnTo>
                  <a:lnTo>
                    <a:pt x="74803" y="345568"/>
                  </a:lnTo>
                  <a:lnTo>
                    <a:pt x="61088" y="350267"/>
                  </a:lnTo>
                  <a:lnTo>
                    <a:pt x="51054" y="351029"/>
                  </a:lnTo>
                  <a:lnTo>
                    <a:pt x="45466" y="349505"/>
                  </a:lnTo>
                  <a:lnTo>
                    <a:pt x="39370" y="347473"/>
                  </a:lnTo>
                  <a:lnTo>
                    <a:pt x="25147" y="341376"/>
                  </a:lnTo>
                  <a:lnTo>
                    <a:pt x="13716" y="337058"/>
                  </a:lnTo>
                  <a:lnTo>
                    <a:pt x="11557" y="336424"/>
                  </a:lnTo>
                  <a:lnTo>
                    <a:pt x="12319" y="337820"/>
                  </a:lnTo>
                  <a:lnTo>
                    <a:pt x="4953" y="315723"/>
                  </a:lnTo>
                  <a:close/>
                </a:path>
              </a:pathLst>
            </a:custGeom>
            <a:solidFill>
              <a:srgbClr val="aa7157"/>
            </a:solidFill>
            <a:ln w="0">
              <a:solidFill>
                <a:srgbClr val="aa715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Freihandform 137"/>
            <p:cNvSpPr/>
            <p:nvPr/>
          </p:nvSpPr>
          <p:spPr>
            <a:xfrm>
              <a:off x="3703680" y="3370320"/>
              <a:ext cx="458640" cy="330120"/>
            </a:xfrm>
            <a:custGeom>
              <a:avLst/>
              <a:gdLst>
                <a:gd name="textAreaLeft" fmla="*/ 0 w 458640"/>
                <a:gd name="textAreaRight" fmla="*/ 459000 w 45864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386017" h="351011">
                  <a:moveTo>
                    <a:pt x="10773" y="338213"/>
                  </a:moveTo>
                  <a:lnTo>
                    <a:pt x="10773" y="336385"/>
                  </a:lnTo>
                  <a:lnTo>
                    <a:pt x="12568" y="336385"/>
                  </a:lnTo>
                  <a:lnTo>
                    <a:pt x="23341" y="341870"/>
                  </a:lnTo>
                  <a:lnTo>
                    <a:pt x="37704" y="347354"/>
                  </a:lnTo>
                  <a:lnTo>
                    <a:pt x="44886" y="349182"/>
                  </a:lnTo>
                  <a:lnTo>
                    <a:pt x="50272" y="351010"/>
                  </a:lnTo>
                  <a:lnTo>
                    <a:pt x="59249" y="351010"/>
                  </a:lnTo>
                  <a:lnTo>
                    <a:pt x="73613" y="345526"/>
                  </a:lnTo>
                  <a:lnTo>
                    <a:pt x="89771" y="338213"/>
                  </a:lnTo>
                  <a:lnTo>
                    <a:pt x="107726" y="327244"/>
                  </a:lnTo>
                  <a:lnTo>
                    <a:pt x="127475" y="316275"/>
                  </a:lnTo>
                  <a:lnTo>
                    <a:pt x="147225" y="301650"/>
                  </a:lnTo>
                  <a:lnTo>
                    <a:pt x="188520" y="266914"/>
                  </a:lnTo>
                  <a:lnTo>
                    <a:pt x="229814" y="230351"/>
                  </a:lnTo>
                  <a:lnTo>
                    <a:pt x="263927" y="193787"/>
                  </a:lnTo>
                  <a:lnTo>
                    <a:pt x="278291" y="175505"/>
                  </a:lnTo>
                  <a:lnTo>
                    <a:pt x="289063" y="160880"/>
                  </a:lnTo>
                  <a:lnTo>
                    <a:pt x="298040" y="144426"/>
                  </a:lnTo>
                  <a:lnTo>
                    <a:pt x="301631" y="131629"/>
                  </a:lnTo>
                  <a:lnTo>
                    <a:pt x="314199" y="133457"/>
                  </a:lnTo>
                  <a:lnTo>
                    <a:pt x="323176" y="137113"/>
                  </a:lnTo>
                  <a:lnTo>
                    <a:pt x="332153" y="144426"/>
                  </a:lnTo>
                  <a:lnTo>
                    <a:pt x="342926" y="148083"/>
                  </a:lnTo>
                  <a:lnTo>
                    <a:pt x="346517" y="149911"/>
                  </a:lnTo>
                  <a:lnTo>
                    <a:pt x="351903" y="153567"/>
                  </a:lnTo>
                  <a:lnTo>
                    <a:pt x="364471" y="160880"/>
                  </a:lnTo>
                  <a:lnTo>
                    <a:pt x="375243" y="170021"/>
                  </a:lnTo>
                  <a:lnTo>
                    <a:pt x="378834" y="171849"/>
                  </a:lnTo>
                  <a:lnTo>
                    <a:pt x="380629" y="173677"/>
                  </a:lnTo>
                  <a:lnTo>
                    <a:pt x="384220" y="166364"/>
                  </a:lnTo>
                  <a:lnTo>
                    <a:pt x="386016" y="160880"/>
                  </a:lnTo>
                  <a:lnTo>
                    <a:pt x="382425" y="144426"/>
                  </a:lnTo>
                  <a:lnTo>
                    <a:pt x="377039" y="127973"/>
                  </a:lnTo>
                  <a:lnTo>
                    <a:pt x="377039" y="115175"/>
                  </a:lnTo>
                  <a:lnTo>
                    <a:pt x="377039" y="98722"/>
                  </a:lnTo>
                  <a:lnTo>
                    <a:pt x="373448" y="85924"/>
                  </a:lnTo>
                  <a:lnTo>
                    <a:pt x="368062" y="73127"/>
                  </a:lnTo>
                  <a:lnTo>
                    <a:pt x="357289" y="60330"/>
                  </a:lnTo>
                  <a:lnTo>
                    <a:pt x="344721" y="51189"/>
                  </a:lnTo>
                  <a:lnTo>
                    <a:pt x="330358" y="40220"/>
                  </a:lnTo>
                  <a:lnTo>
                    <a:pt x="296245" y="23766"/>
                  </a:lnTo>
                  <a:lnTo>
                    <a:pt x="256746" y="12797"/>
                  </a:lnTo>
                  <a:lnTo>
                    <a:pt x="220837" y="3656"/>
                  </a:lnTo>
                  <a:lnTo>
                    <a:pt x="186724" y="0"/>
                  </a:lnTo>
                  <a:lnTo>
                    <a:pt x="172361" y="0"/>
                  </a:lnTo>
                  <a:lnTo>
                    <a:pt x="159793" y="1828"/>
                  </a:lnTo>
                  <a:lnTo>
                    <a:pt x="134657" y="7313"/>
                  </a:lnTo>
                  <a:lnTo>
                    <a:pt x="107726" y="21938"/>
                  </a:lnTo>
                  <a:lnTo>
                    <a:pt x="82590" y="42048"/>
                  </a:lnTo>
                  <a:lnTo>
                    <a:pt x="57454" y="63987"/>
                  </a:lnTo>
                  <a:lnTo>
                    <a:pt x="37704" y="85924"/>
                  </a:lnTo>
                  <a:lnTo>
                    <a:pt x="21545" y="107863"/>
                  </a:lnTo>
                  <a:lnTo>
                    <a:pt x="10773" y="126144"/>
                  </a:lnTo>
                  <a:lnTo>
                    <a:pt x="8978" y="131629"/>
                  </a:lnTo>
                  <a:lnTo>
                    <a:pt x="7182" y="137113"/>
                  </a:lnTo>
                  <a:lnTo>
                    <a:pt x="3591" y="188303"/>
                  </a:lnTo>
                  <a:lnTo>
                    <a:pt x="0" y="241320"/>
                  </a:lnTo>
                  <a:lnTo>
                    <a:pt x="0" y="266914"/>
                  </a:lnTo>
                  <a:lnTo>
                    <a:pt x="0" y="292509"/>
                  </a:lnTo>
                  <a:lnTo>
                    <a:pt x="3591" y="316275"/>
                  </a:lnTo>
                  <a:lnTo>
                    <a:pt x="10773" y="338213"/>
                  </a:lnTo>
                  <a:close/>
                </a:path>
              </a:pathLst>
            </a:custGeom>
            <a:noFill/>
            <a:ln w="18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Freihandform 138"/>
            <p:cNvSpPr/>
            <p:nvPr/>
          </p:nvSpPr>
          <p:spPr>
            <a:xfrm>
              <a:off x="3774960" y="3450960"/>
              <a:ext cx="392040" cy="441000"/>
            </a:xfrm>
            <a:custGeom>
              <a:avLst/>
              <a:gdLst>
                <a:gd name="textAreaLeft" fmla="*/ 0 w 392040"/>
                <a:gd name="textAreaRight" fmla="*/ 392400 w 392040"/>
                <a:gd name="textAreaTop" fmla="*/ 0 h 441000"/>
                <a:gd name="textAreaBottom" fmla="*/ 441360 h 441000"/>
              </a:gdLst>
              <a:ahLst/>
              <a:rect l="textAreaLeft" t="textAreaTop" r="textAreaRight" b="textAreaBottom"/>
              <a:pathLst>
                <a:path w="329820" h="469265">
                  <a:moveTo>
                    <a:pt x="314197" y="89915"/>
                  </a:moveTo>
                  <a:lnTo>
                    <a:pt x="315595" y="103124"/>
                  </a:lnTo>
                  <a:lnTo>
                    <a:pt x="316357" y="118237"/>
                  </a:lnTo>
                  <a:lnTo>
                    <a:pt x="316357" y="136144"/>
                  </a:lnTo>
                  <a:lnTo>
                    <a:pt x="316357" y="143128"/>
                  </a:lnTo>
                  <a:lnTo>
                    <a:pt x="310769" y="150621"/>
                  </a:lnTo>
                  <a:lnTo>
                    <a:pt x="304672" y="158241"/>
                  </a:lnTo>
                  <a:lnTo>
                    <a:pt x="301244" y="166496"/>
                  </a:lnTo>
                  <a:lnTo>
                    <a:pt x="303403" y="180339"/>
                  </a:lnTo>
                  <a:lnTo>
                    <a:pt x="308863" y="192151"/>
                  </a:lnTo>
                  <a:lnTo>
                    <a:pt x="315595" y="204470"/>
                  </a:lnTo>
                  <a:lnTo>
                    <a:pt x="321690" y="218439"/>
                  </a:lnTo>
                  <a:lnTo>
                    <a:pt x="324484" y="225933"/>
                  </a:lnTo>
                  <a:lnTo>
                    <a:pt x="327914" y="235584"/>
                  </a:lnTo>
                  <a:lnTo>
                    <a:pt x="329819" y="244601"/>
                  </a:lnTo>
                  <a:lnTo>
                    <a:pt x="327914" y="251459"/>
                  </a:lnTo>
                  <a:lnTo>
                    <a:pt x="319785" y="255015"/>
                  </a:lnTo>
                  <a:lnTo>
                    <a:pt x="309499" y="254253"/>
                  </a:lnTo>
                  <a:lnTo>
                    <a:pt x="298577" y="251459"/>
                  </a:lnTo>
                  <a:lnTo>
                    <a:pt x="291210" y="248031"/>
                  </a:lnTo>
                  <a:lnTo>
                    <a:pt x="289052" y="262635"/>
                  </a:lnTo>
                  <a:lnTo>
                    <a:pt x="286384" y="272414"/>
                  </a:lnTo>
                  <a:lnTo>
                    <a:pt x="279019" y="275082"/>
                  </a:lnTo>
                  <a:lnTo>
                    <a:pt x="272160" y="274320"/>
                  </a:lnTo>
                  <a:lnTo>
                    <a:pt x="259969" y="267462"/>
                  </a:lnTo>
                  <a:lnTo>
                    <a:pt x="269494" y="276351"/>
                  </a:lnTo>
                  <a:lnTo>
                    <a:pt x="272160" y="281305"/>
                  </a:lnTo>
                  <a:lnTo>
                    <a:pt x="271525" y="287527"/>
                  </a:lnTo>
                  <a:lnTo>
                    <a:pt x="266065" y="292989"/>
                  </a:lnTo>
                  <a:lnTo>
                    <a:pt x="257302" y="295020"/>
                  </a:lnTo>
                  <a:lnTo>
                    <a:pt x="247777" y="295783"/>
                  </a:lnTo>
                  <a:lnTo>
                    <a:pt x="240284" y="299974"/>
                  </a:lnTo>
                  <a:lnTo>
                    <a:pt x="235584" y="309626"/>
                  </a:lnTo>
                  <a:lnTo>
                    <a:pt x="233553" y="322580"/>
                  </a:lnTo>
                  <a:lnTo>
                    <a:pt x="230759" y="335788"/>
                  </a:lnTo>
                  <a:lnTo>
                    <a:pt x="225297" y="344805"/>
                  </a:lnTo>
                  <a:lnTo>
                    <a:pt x="218566" y="346964"/>
                  </a:lnTo>
                  <a:lnTo>
                    <a:pt x="209041" y="347726"/>
                  </a:lnTo>
                  <a:lnTo>
                    <a:pt x="185293" y="344170"/>
                  </a:lnTo>
                  <a:lnTo>
                    <a:pt x="161544" y="341249"/>
                  </a:lnTo>
                  <a:lnTo>
                    <a:pt x="152019" y="341249"/>
                  </a:lnTo>
                  <a:lnTo>
                    <a:pt x="145922" y="343534"/>
                  </a:lnTo>
                  <a:lnTo>
                    <a:pt x="144525" y="353187"/>
                  </a:lnTo>
                  <a:lnTo>
                    <a:pt x="141859" y="364870"/>
                  </a:lnTo>
                  <a:lnTo>
                    <a:pt x="136397" y="378078"/>
                  </a:lnTo>
                  <a:lnTo>
                    <a:pt x="130302" y="393191"/>
                  </a:lnTo>
                  <a:lnTo>
                    <a:pt x="113537" y="427735"/>
                  </a:lnTo>
                  <a:lnTo>
                    <a:pt x="92963" y="465074"/>
                  </a:lnTo>
                  <a:lnTo>
                    <a:pt x="88391" y="469264"/>
                  </a:lnTo>
                  <a:lnTo>
                    <a:pt x="83438" y="467740"/>
                  </a:lnTo>
                  <a:lnTo>
                    <a:pt x="77343" y="463041"/>
                  </a:lnTo>
                  <a:lnTo>
                    <a:pt x="70612" y="454025"/>
                  </a:lnTo>
                  <a:lnTo>
                    <a:pt x="63246" y="442214"/>
                  </a:lnTo>
                  <a:lnTo>
                    <a:pt x="55625" y="427735"/>
                  </a:lnTo>
                  <a:lnTo>
                    <a:pt x="40005" y="393191"/>
                  </a:lnTo>
                  <a:lnTo>
                    <a:pt x="25907" y="355219"/>
                  </a:lnTo>
                  <a:lnTo>
                    <a:pt x="12953" y="317881"/>
                  </a:lnTo>
                  <a:lnTo>
                    <a:pt x="8255" y="300482"/>
                  </a:lnTo>
                  <a:lnTo>
                    <a:pt x="4190" y="285369"/>
                  </a:lnTo>
                  <a:lnTo>
                    <a:pt x="1397" y="272414"/>
                  </a:lnTo>
                  <a:lnTo>
                    <a:pt x="0" y="262635"/>
                  </a:lnTo>
                  <a:lnTo>
                    <a:pt x="3428" y="257047"/>
                  </a:lnTo>
                  <a:lnTo>
                    <a:pt x="10287" y="250189"/>
                  </a:lnTo>
                  <a:lnTo>
                    <a:pt x="31241" y="234822"/>
                  </a:lnTo>
                  <a:lnTo>
                    <a:pt x="52959" y="216915"/>
                  </a:lnTo>
                  <a:lnTo>
                    <a:pt x="61722" y="207264"/>
                  </a:lnTo>
                  <a:lnTo>
                    <a:pt x="66675" y="198374"/>
                  </a:lnTo>
                  <a:lnTo>
                    <a:pt x="65150" y="188595"/>
                  </a:lnTo>
                  <a:lnTo>
                    <a:pt x="59816" y="181737"/>
                  </a:lnTo>
                  <a:lnTo>
                    <a:pt x="55625" y="163702"/>
                  </a:lnTo>
                  <a:lnTo>
                    <a:pt x="56387" y="145160"/>
                  </a:lnTo>
                  <a:lnTo>
                    <a:pt x="60452" y="127253"/>
                  </a:lnTo>
                  <a:lnTo>
                    <a:pt x="67818" y="109855"/>
                  </a:lnTo>
                  <a:lnTo>
                    <a:pt x="76707" y="96901"/>
                  </a:lnTo>
                  <a:lnTo>
                    <a:pt x="86868" y="87121"/>
                  </a:lnTo>
                  <a:lnTo>
                    <a:pt x="97155" y="83693"/>
                  </a:lnTo>
                  <a:lnTo>
                    <a:pt x="105918" y="87757"/>
                  </a:lnTo>
                  <a:lnTo>
                    <a:pt x="112013" y="93345"/>
                  </a:lnTo>
                  <a:lnTo>
                    <a:pt x="116712" y="100202"/>
                  </a:lnTo>
                  <a:lnTo>
                    <a:pt x="122300" y="116839"/>
                  </a:lnTo>
                  <a:lnTo>
                    <a:pt x="126237" y="133476"/>
                  </a:lnTo>
                  <a:lnTo>
                    <a:pt x="130302" y="147827"/>
                  </a:lnTo>
                  <a:lnTo>
                    <a:pt x="134493" y="152019"/>
                  </a:lnTo>
                  <a:lnTo>
                    <a:pt x="139827" y="152019"/>
                  </a:lnTo>
                  <a:lnTo>
                    <a:pt x="145287" y="149351"/>
                  </a:lnTo>
                  <a:lnTo>
                    <a:pt x="151384" y="143890"/>
                  </a:lnTo>
                  <a:lnTo>
                    <a:pt x="164337" y="129920"/>
                  </a:lnTo>
                  <a:lnTo>
                    <a:pt x="169672" y="124459"/>
                  </a:lnTo>
                  <a:lnTo>
                    <a:pt x="174497" y="120269"/>
                  </a:lnTo>
                  <a:lnTo>
                    <a:pt x="184531" y="112014"/>
                  </a:lnTo>
                  <a:lnTo>
                    <a:pt x="189484" y="105028"/>
                  </a:lnTo>
                  <a:lnTo>
                    <a:pt x="189484" y="99568"/>
                  </a:lnTo>
                  <a:lnTo>
                    <a:pt x="186690" y="95376"/>
                  </a:lnTo>
                  <a:lnTo>
                    <a:pt x="179197" y="87121"/>
                  </a:lnTo>
                  <a:lnTo>
                    <a:pt x="177165" y="82931"/>
                  </a:lnTo>
                  <a:lnTo>
                    <a:pt x="179197" y="77470"/>
                  </a:lnTo>
                  <a:lnTo>
                    <a:pt x="184022" y="72516"/>
                  </a:lnTo>
                  <a:lnTo>
                    <a:pt x="189484" y="69850"/>
                  </a:lnTo>
                  <a:lnTo>
                    <a:pt x="202946" y="69088"/>
                  </a:lnTo>
                  <a:lnTo>
                    <a:pt x="214503" y="69088"/>
                  </a:lnTo>
                  <a:lnTo>
                    <a:pt x="219202" y="66294"/>
                  </a:lnTo>
                  <a:lnTo>
                    <a:pt x="222631" y="61595"/>
                  </a:lnTo>
                  <a:lnTo>
                    <a:pt x="222631" y="58801"/>
                  </a:lnTo>
                  <a:lnTo>
                    <a:pt x="221234" y="53213"/>
                  </a:lnTo>
                  <a:lnTo>
                    <a:pt x="215772" y="38734"/>
                  </a:lnTo>
                  <a:lnTo>
                    <a:pt x="209677" y="19303"/>
                  </a:lnTo>
                  <a:lnTo>
                    <a:pt x="207009" y="0"/>
                  </a:lnTo>
                  <a:lnTo>
                    <a:pt x="217297" y="634"/>
                  </a:lnTo>
                  <a:lnTo>
                    <a:pt x="226822" y="4190"/>
                  </a:lnTo>
                  <a:lnTo>
                    <a:pt x="236347" y="15366"/>
                  </a:lnTo>
                  <a:lnTo>
                    <a:pt x="247015" y="23495"/>
                  </a:lnTo>
                  <a:lnTo>
                    <a:pt x="271525" y="35306"/>
                  </a:lnTo>
                  <a:lnTo>
                    <a:pt x="282956" y="42164"/>
                  </a:lnTo>
                  <a:lnTo>
                    <a:pt x="293878" y="50419"/>
                  </a:lnTo>
                  <a:lnTo>
                    <a:pt x="303403" y="62357"/>
                  </a:lnTo>
                  <a:lnTo>
                    <a:pt x="310260" y="77977"/>
                  </a:lnTo>
                  <a:lnTo>
                    <a:pt x="314197" y="89915"/>
                  </a:lnTo>
                  <a:close/>
                </a:path>
              </a:pathLst>
            </a:custGeom>
            <a:solidFill>
              <a:srgbClr val="e3906a"/>
            </a:solidFill>
            <a:ln w="0">
              <a:solidFill>
                <a:srgbClr val="e3906a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Freihandform 139"/>
            <p:cNvSpPr/>
            <p:nvPr/>
          </p:nvSpPr>
          <p:spPr>
            <a:xfrm>
              <a:off x="3773520" y="3450960"/>
              <a:ext cx="393480" cy="441000"/>
            </a:xfrm>
            <a:custGeom>
              <a:avLst/>
              <a:gdLst>
                <a:gd name="textAreaLeft" fmla="*/ 0 w 393480"/>
                <a:gd name="textAreaRight" fmla="*/ 393840 w 393480"/>
                <a:gd name="textAreaTop" fmla="*/ 0 h 441000"/>
                <a:gd name="textAreaBottom" fmla="*/ 441360 h 441000"/>
              </a:gdLst>
              <a:ahLst/>
              <a:rect l="textAreaLeft" t="textAreaTop" r="textAreaRight" b="textAreaBottom"/>
              <a:pathLst>
                <a:path w="330359" h="468015">
                  <a:moveTo>
                    <a:pt x="310609" y="76783"/>
                  </a:moveTo>
                  <a:lnTo>
                    <a:pt x="305222" y="62158"/>
                  </a:lnTo>
                  <a:lnTo>
                    <a:pt x="294450" y="49361"/>
                  </a:lnTo>
                  <a:lnTo>
                    <a:pt x="283677" y="42048"/>
                  </a:lnTo>
                  <a:lnTo>
                    <a:pt x="272905" y="34735"/>
                  </a:lnTo>
                  <a:lnTo>
                    <a:pt x="247769" y="23766"/>
                  </a:lnTo>
                  <a:lnTo>
                    <a:pt x="236996" y="14625"/>
                  </a:lnTo>
                  <a:lnTo>
                    <a:pt x="228019" y="3656"/>
                  </a:lnTo>
                  <a:lnTo>
                    <a:pt x="219042" y="0"/>
                  </a:lnTo>
                  <a:lnTo>
                    <a:pt x="208269" y="0"/>
                  </a:lnTo>
                  <a:lnTo>
                    <a:pt x="210065" y="18282"/>
                  </a:lnTo>
                  <a:lnTo>
                    <a:pt x="217247" y="38392"/>
                  </a:lnTo>
                  <a:lnTo>
                    <a:pt x="222633" y="53017"/>
                  </a:lnTo>
                  <a:lnTo>
                    <a:pt x="224428" y="58502"/>
                  </a:lnTo>
                  <a:lnTo>
                    <a:pt x="224428" y="60330"/>
                  </a:lnTo>
                  <a:lnTo>
                    <a:pt x="220837" y="65814"/>
                  </a:lnTo>
                  <a:lnTo>
                    <a:pt x="215451" y="69471"/>
                  </a:lnTo>
                  <a:lnTo>
                    <a:pt x="204679" y="69471"/>
                  </a:lnTo>
                  <a:lnTo>
                    <a:pt x="190315" y="69471"/>
                  </a:lnTo>
                  <a:lnTo>
                    <a:pt x="184929" y="71299"/>
                  </a:lnTo>
                  <a:lnTo>
                    <a:pt x="179543" y="76783"/>
                  </a:lnTo>
                  <a:lnTo>
                    <a:pt x="177747" y="82268"/>
                  </a:lnTo>
                  <a:lnTo>
                    <a:pt x="179543" y="85924"/>
                  </a:lnTo>
                  <a:lnTo>
                    <a:pt x="188520" y="95065"/>
                  </a:lnTo>
                  <a:lnTo>
                    <a:pt x="190315" y="98722"/>
                  </a:lnTo>
                  <a:lnTo>
                    <a:pt x="190315" y="104206"/>
                  </a:lnTo>
                  <a:lnTo>
                    <a:pt x="184929" y="111519"/>
                  </a:lnTo>
                  <a:lnTo>
                    <a:pt x="175952" y="120660"/>
                  </a:lnTo>
                  <a:lnTo>
                    <a:pt x="170565" y="124316"/>
                  </a:lnTo>
                  <a:lnTo>
                    <a:pt x="165179" y="129801"/>
                  </a:lnTo>
                  <a:lnTo>
                    <a:pt x="152611" y="142598"/>
                  </a:lnTo>
                  <a:lnTo>
                    <a:pt x="145429" y="148083"/>
                  </a:lnTo>
                  <a:lnTo>
                    <a:pt x="140043" y="151739"/>
                  </a:lnTo>
                  <a:lnTo>
                    <a:pt x="134657" y="151739"/>
                  </a:lnTo>
                  <a:lnTo>
                    <a:pt x="131066" y="148083"/>
                  </a:lnTo>
                  <a:lnTo>
                    <a:pt x="127475" y="133457"/>
                  </a:lnTo>
                  <a:lnTo>
                    <a:pt x="123884" y="117003"/>
                  </a:lnTo>
                  <a:lnTo>
                    <a:pt x="116703" y="100550"/>
                  </a:lnTo>
                  <a:lnTo>
                    <a:pt x="113112" y="93237"/>
                  </a:lnTo>
                  <a:lnTo>
                    <a:pt x="107726" y="87752"/>
                  </a:lnTo>
                  <a:lnTo>
                    <a:pt x="98749" y="84096"/>
                  </a:lnTo>
                  <a:lnTo>
                    <a:pt x="87976" y="85924"/>
                  </a:lnTo>
                  <a:lnTo>
                    <a:pt x="77203" y="96893"/>
                  </a:lnTo>
                  <a:lnTo>
                    <a:pt x="68226" y="109691"/>
                  </a:lnTo>
                  <a:lnTo>
                    <a:pt x="61044" y="126144"/>
                  </a:lnTo>
                  <a:lnTo>
                    <a:pt x="57454" y="144426"/>
                  </a:lnTo>
                  <a:lnTo>
                    <a:pt x="57454" y="162708"/>
                  </a:lnTo>
                  <a:lnTo>
                    <a:pt x="61044" y="180990"/>
                  </a:lnTo>
                  <a:lnTo>
                    <a:pt x="66431" y="188303"/>
                  </a:lnTo>
                  <a:lnTo>
                    <a:pt x="68226" y="197443"/>
                  </a:lnTo>
                  <a:lnTo>
                    <a:pt x="62840" y="206584"/>
                  </a:lnTo>
                  <a:lnTo>
                    <a:pt x="53863" y="215725"/>
                  </a:lnTo>
                  <a:lnTo>
                    <a:pt x="32318" y="234007"/>
                  </a:lnTo>
                  <a:lnTo>
                    <a:pt x="10773" y="250461"/>
                  </a:lnTo>
                  <a:lnTo>
                    <a:pt x="3591" y="255945"/>
                  </a:lnTo>
                  <a:lnTo>
                    <a:pt x="0" y="261430"/>
                  </a:lnTo>
                  <a:lnTo>
                    <a:pt x="1796" y="272399"/>
                  </a:lnTo>
                  <a:lnTo>
                    <a:pt x="5386" y="285196"/>
                  </a:lnTo>
                  <a:lnTo>
                    <a:pt x="8977" y="299821"/>
                  </a:lnTo>
                  <a:lnTo>
                    <a:pt x="14364" y="318103"/>
                  </a:lnTo>
                  <a:lnTo>
                    <a:pt x="26931" y="354667"/>
                  </a:lnTo>
                  <a:lnTo>
                    <a:pt x="41295" y="393059"/>
                  </a:lnTo>
                  <a:lnTo>
                    <a:pt x="57454" y="427794"/>
                  </a:lnTo>
                  <a:lnTo>
                    <a:pt x="64635" y="442420"/>
                  </a:lnTo>
                  <a:lnTo>
                    <a:pt x="71817" y="453389"/>
                  </a:lnTo>
                  <a:lnTo>
                    <a:pt x="78999" y="462530"/>
                  </a:lnTo>
                  <a:lnTo>
                    <a:pt x="84385" y="468014"/>
                  </a:lnTo>
                  <a:lnTo>
                    <a:pt x="89771" y="468014"/>
                  </a:lnTo>
                  <a:lnTo>
                    <a:pt x="93362" y="464358"/>
                  </a:lnTo>
                  <a:lnTo>
                    <a:pt x="114907" y="427794"/>
                  </a:lnTo>
                  <a:lnTo>
                    <a:pt x="131066" y="393059"/>
                  </a:lnTo>
                  <a:lnTo>
                    <a:pt x="138248" y="378433"/>
                  </a:lnTo>
                  <a:lnTo>
                    <a:pt x="143634" y="363808"/>
                  </a:lnTo>
                  <a:lnTo>
                    <a:pt x="145429" y="352839"/>
                  </a:lnTo>
                  <a:lnTo>
                    <a:pt x="147225" y="343698"/>
                  </a:lnTo>
                  <a:lnTo>
                    <a:pt x="152611" y="340041"/>
                  </a:lnTo>
                  <a:lnTo>
                    <a:pt x="161588" y="340041"/>
                  </a:lnTo>
                  <a:lnTo>
                    <a:pt x="186724" y="343698"/>
                  </a:lnTo>
                  <a:lnTo>
                    <a:pt x="210065" y="347354"/>
                  </a:lnTo>
                  <a:lnTo>
                    <a:pt x="219042" y="347354"/>
                  </a:lnTo>
                  <a:lnTo>
                    <a:pt x="226224" y="343698"/>
                  </a:lnTo>
                  <a:lnTo>
                    <a:pt x="231610" y="334557"/>
                  </a:lnTo>
                  <a:lnTo>
                    <a:pt x="235201" y="321760"/>
                  </a:lnTo>
                  <a:lnTo>
                    <a:pt x="236996" y="308962"/>
                  </a:lnTo>
                  <a:lnTo>
                    <a:pt x="240587" y="299821"/>
                  </a:lnTo>
                  <a:lnTo>
                    <a:pt x="249564" y="296165"/>
                  </a:lnTo>
                  <a:lnTo>
                    <a:pt x="258541" y="294337"/>
                  </a:lnTo>
                  <a:lnTo>
                    <a:pt x="267518" y="292509"/>
                  </a:lnTo>
                  <a:lnTo>
                    <a:pt x="272905" y="287024"/>
                  </a:lnTo>
                  <a:lnTo>
                    <a:pt x="272905" y="281539"/>
                  </a:lnTo>
                  <a:lnTo>
                    <a:pt x="271109" y="276055"/>
                  </a:lnTo>
                  <a:lnTo>
                    <a:pt x="260337" y="266914"/>
                  </a:lnTo>
                  <a:lnTo>
                    <a:pt x="272905" y="274227"/>
                  </a:lnTo>
                  <a:lnTo>
                    <a:pt x="280086" y="274227"/>
                  </a:lnTo>
                  <a:lnTo>
                    <a:pt x="287268" y="272399"/>
                  </a:lnTo>
                  <a:lnTo>
                    <a:pt x="290859" y="261430"/>
                  </a:lnTo>
                  <a:lnTo>
                    <a:pt x="292654" y="246804"/>
                  </a:lnTo>
                  <a:lnTo>
                    <a:pt x="299836" y="250461"/>
                  </a:lnTo>
                  <a:lnTo>
                    <a:pt x="310609" y="254117"/>
                  </a:lnTo>
                  <a:lnTo>
                    <a:pt x="321381" y="254117"/>
                  </a:lnTo>
                  <a:lnTo>
                    <a:pt x="328563" y="250461"/>
                  </a:lnTo>
                  <a:lnTo>
                    <a:pt x="330358" y="243148"/>
                  </a:lnTo>
                  <a:lnTo>
                    <a:pt x="328563" y="235835"/>
                  </a:lnTo>
                  <a:lnTo>
                    <a:pt x="324972" y="224866"/>
                  </a:lnTo>
                  <a:lnTo>
                    <a:pt x="323177" y="217553"/>
                  </a:lnTo>
                  <a:lnTo>
                    <a:pt x="315995" y="204756"/>
                  </a:lnTo>
                  <a:lnTo>
                    <a:pt x="308813" y="191959"/>
                  </a:lnTo>
                  <a:lnTo>
                    <a:pt x="305222" y="179162"/>
                  </a:lnTo>
                  <a:lnTo>
                    <a:pt x="301632" y="166364"/>
                  </a:lnTo>
                  <a:lnTo>
                    <a:pt x="305222" y="157223"/>
                  </a:lnTo>
                  <a:lnTo>
                    <a:pt x="312404" y="149911"/>
                  </a:lnTo>
                  <a:lnTo>
                    <a:pt x="317790" y="142598"/>
                  </a:lnTo>
                  <a:lnTo>
                    <a:pt x="317790" y="135285"/>
                  </a:lnTo>
                  <a:lnTo>
                    <a:pt x="317790" y="117003"/>
                  </a:lnTo>
                  <a:lnTo>
                    <a:pt x="315995" y="102378"/>
                  </a:lnTo>
                  <a:lnTo>
                    <a:pt x="314199" y="89581"/>
                  </a:lnTo>
                  <a:lnTo>
                    <a:pt x="310609" y="76783"/>
                  </a:lnTo>
                  <a:close/>
                </a:path>
              </a:pathLst>
            </a:custGeom>
            <a:noFill/>
            <a:ln w="18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Freihandform 140"/>
            <p:cNvSpPr/>
            <p:nvPr/>
          </p:nvSpPr>
          <p:spPr>
            <a:xfrm>
              <a:off x="3971880" y="5934240"/>
              <a:ext cx="493560" cy="118800"/>
            </a:xfrm>
            <a:custGeom>
              <a:avLst/>
              <a:gdLst>
                <a:gd name="textAreaLeft" fmla="*/ 0 w 493560"/>
                <a:gd name="textAreaRight" fmla="*/ 493920 w 493560"/>
                <a:gd name="textAreaTop" fmla="*/ 0 h 118800"/>
                <a:gd name="textAreaBottom" fmla="*/ 119160 h 118800"/>
              </a:gdLst>
              <a:ahLst/>
              <a:rect l="textAreaLeft" t="textAreaTop" r="textAreaRight" b="textAreaBottom"/>
              <a:pathLst>
                <a:path w="417197" h="127128">
                  <a:moveTo>
                    <a:pt x="4065" y="17272"/>
                  </a:moveTo>
                  <a:lnTo>
                    <a:pt x="18923" y="25400"/>
                  </a:lnTo>
                  <a:lnTo>
                    <a:pt x="39244" y="31623"/>
                  </a:lnTo>
                  <a:lnTo>
                    <a:pt x="65787" y="35178"/>
                  </a:lnTo>
                  <a:lnTo>
                    <a:pt x="96394" y="35814"/>
                  </a:lnTo>
                  <a:lnTo>
                    <a:pt x="128144" y="33147"/>
                  </a:lnTo>
                  <a:lnTo>
                    <a:pt x="161545" y="26924"/>
                  </a:lnTo>
                  <a:lnTo>
                    <a:pt x="194057" y="16002"/>
                  </a:lnTo>
                  <a:lnTo>
                    <a:pt x="225298" y="0"/>
                  </a:lnTo>
                  <a:lnTo>
                    <a:pt x="259208" y="21463"/>
                  </a:lnTo>
                  <a:lnTo>
                    <a:pt x="291720" y="38100"/>
                  </a:lnTo>
                  <a:lnTo>
                    <a:pt x="320929" y="49784"/>
                  </a:lnTo>
                  <a:lnTo>
                    <a:pt x="347346" y="58039"/>
                  </a:lnTo>
                  <a:lnTo>
                    <a:pt x="370587" y="64897"/>
                  </a:lnTo>
                  <a:lnTo>
                    <a:pt x="389383" y="70485"/>
                  </a:lnTo>
                  <a:lnTo>
                    <a:pt x="402971" y="76580"/>
                  </a:lnTo>
                  <a:lnTo>
                    <a:pt x="411100" y="83565"/>
                  </a:lnTo>
                  <a:lnTo>
                    <a:pt x="415290" y="92582"/>
                  </a:lnTo>
                  <a:lnTo>
                    <a:pt x="417196" y="100711"/>
                  </a:lnTo>
                  <a:lnTo>
                    <a:pt x="415926" y="107695"/>
                  </a:lnTo>
                  <a:lnTo>
                    <a:pt x="412496" y="113918"/>
                  </a:lnTo>
                  <a:lnTo>
                    <a:pt x="405765" y="118872"/>
                  </a:lnTo>
                  <a:lnTo>
                    <a:pt x="397638" y="122301"/>
                  </a:lnTo>
                  <a:lnTo>
                    <a:pt x="386715" y="124332"/>
                  </a:lnTo>
                  <a:lnTo>
                    <a:pt x="373889" y="125094"/>
                  </a:lnTo>
                  <a:lnTo>
                    <a:pt x="348743" y="125856"/>
                  </a:lnTo>
                  <a:lnTo>
                    <a:pt x="327026" y="126365"/>
                  </a:lnTo>
                  <a:lnTo>
                    <a:pt x="289052" y="125856"/>
                  </a:lnTo>
                  <a:lnTo>
                    <a:pt x="257048" y="124332"/>
                  </a:lnTo>
                  <a:lnTo>
                    <a:pt x="227203" y="121665"/>
                  </a:lnTo>
                  <a:lnTo>
                    <a:pt x="191389" y="118110"/>
                  </a:lnTo>
                  <a:lnTo>
                    <a:pt x="160147" y="113918"/>
                  </a:lnTo>
                  <a:lnTo>
                    <a:pt x="135637" y="108457"/>
                  </a:lnTo>
                  <a:lnTo>
                    <a:pt x="116713" y="100711"/>
                  </a:lnTo>
                  <a:lnTo>
                    <a:pt x="109856" y="116713"/>
                  </a:lnTo>
                  <a:lnTo>
                    <a:pt x="105157" y="127127"/>
                  </a:lnTo>
                  <a:lnTo>
                    <a:pt x="72010" y="126365"/>
                  </a:lnTo>
                  <a:lnTo>
                    <a:pt x="40768" y="126365"/>
                  </a:lnTo>
                  <a:lnTo>
                    <a:pt x="15622" y="125856"/>
                  </a:lnTo>
                  <a:lnTo>
                    <a:pt x="6732" y="124332"/>
                  </a:lnTo>
                  <a:lnTo>
                    <a:pt x="1397" y="122936"/>
                  </a:lnTo>
                  <a:lnTo>
                    <a:pt x="635" y="118872"/>
                  </a:lnTo>
                  <a:lnTo>
                    <a:pt x="0" y="106934"/>
                  </a:lnTo>
                  <a:lnTo>
                    <a:pt x="635" y="91313"/>
                  </a:lnTo>
                  <a:lnTo>
                    <a:pt x="1397" y="72390"/>
                  </a:lnTo>
                  <a:lnTo>
                    <a:pt x="3303" y="36576"/>
                  </a:lnTo>
                  <a:lnTo>
                    <a:pt x="4065" y="23494"/>
                  </a:lnTo>
                  <a:lnTo>
                    <a:pt x="4065" y="1727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Freihandform 141"/>
            <p:cNvSpPr/>
            <p:nvPr/>
          </p:nvSpPr>
          <p:spPr>
            <a:xfrm>
              <a:off x="3058920" y="5965920"/>
              <a:ext cx="507960" cy="122040"/>
            </a:xfrm>
            <a:custGeom>
              <a:avLst/>
              <a:gdLst>
                <a:gd name="textAreaLeft" fmla="*/ 0 w 507960"/>
                <a:gd name="textAreaRight" fmla="*/ 508320 w 507960"/>
                <a:gd name="textAreaTop" fmla="*/ 0 h 122040"/>
                <a:gd name="textAreaBottom" fmla="*/ 122400 h 122040"/>
              </a:gdLst>
              <a:ahLst/>
              <a:rect l="textAreaLeft" t="textAreaTop" r="textAreaRight" b="textAreaBottom"/>
              <a:pathLst>
                <a:path w="429388" h="130683">
                  <a:moveTo>
                    <a:pt x="3937" y="18160"/>
                  </a:moveTo>
                  <a:lnTo>
                    <a:pt x="18796" y="27051"/>
                  </a:lnTo>
                  <a:lnTo>
                    <a:pt x="40514" y="33274"/>
                  </a:lnTo>
                  <a:lnTo>
                    <a:pt x="67818" y="36703"/>
                  </a:lnTo>
                  <a:lnTo>
                    <a:pt x="98299" y="37338"/>
                  </a:lnTo>
                  <a:lnTo>
                    <a:pt x="131572" y="34543"/>
                  </a:lnTo>
                  <a:lnTo>
                    <a:pt x="166243" y="27558"/>
                  </a:lnTo>
                  <a:lnTo>
                    <a:pt x="199390" y="16637"/>
                  </a:lnTo>
                  <a:lnTo>
                    <a:pt x="231268" y="0"/>
                  </a:lnTo>
                  <a:lnTo>
                    <a:pt x="266574" y="22097"/>
                  </a:lnTo>
                  <a:lnTo>
                    <a:pt x="299847" y="39496"/>
                  </a:lnTo>
                  <a:lnTo>
                    <a:pt x="330328" y="51180"/>
                  </a:lnTo>
                  <a:lnTo>
                    <a:pt x="358140" y="60197"/>
                  </a:lnTo>
                  <a:lnTo>
                    <a:pt x="381255" y="67055"/>
                  </a:lnTo>
                  <a:lnTo>
                    <a:pt x="400178" y="73279"/>
                  </a:lnTo>
                  <a:lnTo>
                    <a:pt x="414528" y="79502"/>
                  </a:lnTo>
                  <a:lnTo>
                    <a:pt x="423291" y="86487"/>
                  </a:lnTo>
                  <a:lnTo>
                    <a:pt x="427990" y="95504"/>
                  </a:lnTo>
                  <a:lnTo>
                    <a:pt x="429387" y="104393"/>
                  </a:lnTo>
                  <a:lnTo>
                    <a:pt x="427990" y="111379"/>
                  </a:lnTo>
                  <a:lnTo>
                    <a:pt x="424815" y="117602"/>
                  </a:lnTo>
                  <a:lnTo>
                    <a:pt x="417958" y="122301"/>
                  </a:lnTo>
                  <a:lnTo>
                    <a:pt x="409194" y="126492"/>
                  </a:lnTo>
                  <a:lnTo>
                    <a:pt x="397511" y="128524"/>
                  </a:lnTo>
                  <a:lnTo>
                    <a:pt x="384684" y="129285"/>
                  </a:lnTo>
                  <a:lnTo>
                    <a:pt x="358903" y="130047"/>
                  </a:lnTo>
                  <a:lnTo>
                    <a:pt x="336424" y="130682"/>
                  </a:lnTo>
                  <a:lnTo>
                    <a:pt x="297053" y="130047"/>
                  </a:lnTo>
                  <a:lnTo>
                    <a:pt x="264668" y="128524"/>
                  </a:lnTo>
                  <a:lnTo>
                    <a:pt x="234062" y="125730"/>
                  </a:lnTo>
                  <a:lnTo>
                    <a:pt x="196724" y="122301"/>
                  </a:lnTo>
                  <a:lnTo>
                    <a:pt x="164846" y="117602"/>
                  </a:lnTo>
                  <a:lnTo>
                    <a:pt x="138939" y="112141"/>
                  </a:lnTo>
                  <a:lnTo>
                    <a:pt x="119381" y="104393"/>
                  </a:lnTo>
                  <a:lnTo>
                    <a:pt x="112522" y="120268"/>
                  </a:lnTo>
                  <a:lnTo>
                    <a:pt x="107824" y="130682"/>
                  </a:lnTo>
                  <a:lnTo>
                    <a:pt x="73915" y="130682"/>
                  </a:lnTo>
                  <a:lnTo>
                    <a:pt x="42037" y="130682"/>
                  </a:lnTo>
                  <a:lnTo>
                    <a:pt x="16130" y="129285"/>
                  </a:lnTo>
                  <a:lnTo>
                    <a:pt x="6605" y="128524"/>
                  </a:lnTo>
                  <a:lnTo>
                    <a:pt x="509" y="126492"/>
                  </a:lnTo>
                  <a:lnTo>
                    <a:pt x="0" y="122301"/>
                  </a:lnTo>
                  <a:lnTo>
                    <a:pt x="0" y="110617"/>
                  </a:lnTo>
                  <a:lnTo>
                    <a:pt x="509" y="93980"/>
                  </a:lnTo>
                  <a:lnTo>
                    <a:pt x="1271" y="74549"/>
                  </a:lnTo>
                  <a:lnTo>
                    <a:pt x="2668" y="38100"/>
                  </a:lnTo>
                  <a:lnTo>
                    <a:pt x="3175" y="24892"/>
                  </a:lnTo>
                  <a:lnTo>
                    <a:pt x="3937" y="1816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Freihandform 142"/>
            <p:cNvSpPr/>
            <p:nvPr/>
          </p:nvSpPr>
          <p:spPr>
            <a:xfrm>
              <a:off x="3574800" y="4821120"/>
              <a:ext cx="755640" cy="1157040"/>
            </a:xfrm>
            <a:custGeom>
              <a:avLst/>
              <a:gdLst>
                <a:gd name="textAreaLeft" fmla="*/ 0 w 755640"/>
                <a:gd name="textAreaRight" fmla="*/ 756000 w 755640"/>
                <a:gd name="textAreaTop" fmla="*/ 0 h 1157040"/>
                <a:gd name="textAreaBottom" fmla="*/ 1157400 h 1157040"/>
              </a:gdLst>
              <a:ahLst/>
              <a:rect l="textAreaLeft" t="textAreaTop" r="textAreaRight" b="textAreaBottom"/>
              <a:pathLst>
                <a:path w="635001" h="1228473">
                  <a:moveTo>
                    <a:pt x="265429" y="162306"/>
                  </a:moveTo>
                  <a:lnTo>
                    <a:pt x="278129" y="203836"/>
                  </a:lnTo>
                  <a:lnTo>
                    <a:pt x="287654" y="248539"/>
                  </a:lnTo>
                  <a:lnTo>
                    <a:pt x="297179" y="296292"/>
                  </a:lnTo>
                  <a:lnTo>
                    <a:pt x="301244" y="332360"/>
                  </a:lnTo>
                  <a:lnTo>
                    <a:pt x="304672" y="370841"/>
                  </a:lnTo>
                  <a:lnTo>
                    <a:pt x="310769" y="407670"/>
                  </a:lnTo>
                  <a:lnTo>
                    <a:pt x="315468" y="422783"/>
                  </a:lnTo>
                  <a:lnTo>
                    <a:pt x="322960" y="435992"/>
                  </a:lnTo>
                  <a:lnTo>
                    <a:pt x="335915" y="464820"/>
                  </a:lnTo>
                  <a:lnTo>
                    <a:pt x="345947" y="490475"/>
                  </a:lnTo>
                  <a:lnTo>
                    <a:pt x="354203" y="513335"/>
                  </a:lnTo>
                  <a:lnTo>
                    <a:pt x="359663" y="532004"/>
                  </a:lnTo>
                  <a:lnTo>
                    <a:pt x="363093" y="547879"/>
                  </a:lnTo>
                  <a:lnTo>
                    <a:pt x="363728" y="561087"/>
                  </a:lnTo>
                  <a:lnTo>
                    <a:pt x="363728" y="570738"/>
                  </a:lnTo>
                  <a:lnTo>
                    <a:pt x="361060" y="578231"/>
                  </a:lnTo>
                  <a:lnTo>
                    <a:pt x="356997" y="602362"/>
                  </a:lnTo>
                  <a:lnTo>
                    <a:pt x="356235" y="620395"/>
                  </a:lnTo>
                  <a:lnTo>
                    <a:pt x="358901" y="633476"/>
                  </a:lnTo>
                  <a:lnTo>
                    <a:pt x="363728" y="643129"/>
                  </a:lnTo>
                  <a:lnTo>
                    <a:pt x="375919" y="658495"/>
                  </a:lnTo>
                  <a:lnTo>
                    <a:pt x="382016" y="666750"/>
                  </a:lnTo>
                  <a:lnTo>
                    <a:pt x="386079" y="677164"/>
                  </a:lnTo>
                  <a:lnTo>
                    <a:pt x="399669" y="722631"/>
                  </a:lnTo>
                  <a:lnTo>
                    <a:pt x="416051" y="770382"/>
                  </a:lnTo>
                  <a:lnTo>
                    <a:pt x="450469" y="867030"/>
                  </a:lnTo>
                  <a:lnTo>
                    <a:pt x="465582" y="911987"/>
                  </a:lnTo>
                  <a:lnTo>
                    <a:pt x="477012" y="951358"/>
                  </a:lnTo>
                  <a:lnTo>
                    <a:pt x="480441" y="967995"/>
                  </a:lnTo>
                  <a:lnTo>
                    <a:pt x="482472" y="983108"/>
                  </a:lnTo>
                  <a:lnTo>
                    <a:pt x="482472" y="995554"/>
                  </a:lnTo>
                  <a:lnTo>
                    <a:pt x="480441" y="1005333"/>
                  </a:lnTo>
                  <a:lnTo>
                    <a:pt x="505587" y="1030859"/>
                  </a:lnTo>
                  <a:lnTo>
                    <a:pt x="526541" y="1058546"/>
                  </a:lnTo>
                  <a:lnTo>
                    <a:pt x="561847" y="1115949"/>
                  </a:lnTo>
                  <a:lnTo>
                    <a:pt x="594995" y="1170306"/>
                  </a:lnTo>
                  <a:lnTo>
                    <a:pt x="613537" y="1194562"/>
                  </a:lnTo>
                  <a:lnTo>
                    <a:pt x="635000" y="1215391"/>
                  </a:lnTo>
                  <a:lnTo>
                    <a:pt x="633729" y="1217296"/>
                  </a:lnTo>
                  <a:lnTo>
                    <a:pt x="628396" y="1218820"/>
                  </a:lnTo>
                  <a:lnTo>
                    <a:pt x="618108" y="1220851"/>
                  </a:lnTo>
                  <a:lnTo>
                    <a:pt x="604520" y="1222248"/>
                  </a:lnTo>
                  <a:lnTo>
                    <a:pt x="587628" y="1224281"/>
                  </a:lnTo>
                  <a:lnTo>
                    <a:pt x="567944" y="1225805"/>
                  </a:lnTo>
                  <a:lnTo>
                    <a:pt x="521081" y="1227709"/>
                  </a:lnTo>
                  <a:lnTo>
                    <a:pt x="469519" y="1228472"/>
                  </a:lnTo>
                  <a:lnTo>
                    <a:pt x="415290" y="1225805"/>
                  </a:lnTo>
                  <a:lnTo>
                    <a:pt x="362331" y="1220089"/>
                  </a:lnTo>
                  <a:lnTo>
                    <a:pt x="337185" y="1215391"/>
                  </a:lnTo>
                  <a:lnTo>
                    <a:pt x="314960" y="1209802"/>
                  </a:lnTo>
                  <a:lnTo>
                    <a:pt x="306704" y="1201421"/>
                  </a:lnTo>
                  <a:lnTo>
                    <a:pt x="302513" y="1193166"/>
                  </a:lnTo>
                  <a:lnTo>
                    <a:pt x="302513" y="1175259"/>
                  </a:lnTo>
                  <a:lnTo>
                    <a:pt x="310134" y="1157224"/>
                  </a:lnTo>
                  <a:lnTo>
                    <a:pt x="320294" y="1138556"/>
                  </a:lnTo>
                  <a:lnTo>
                    <a:pt x="310769" y="1142747"/>
                  </a:lnTo>
                  <a:lnTo>
                    <a:pt x="302513" y="1144779"/>
                  </a:lnTo>
                  <a:lnTo>
                    <a:pt x="295910" y="1143509"/>
                  </a:lnTo>
                  <a:lnTo>
                    <a:pt x="289051" y="1140714"/>
                  </a:lnTo>
                  <a:lnTo>
                    <a:pt x="278129" y="1128269"/>
                  </a:lnTo>
                  <a:lnTo>
                    <a:pt x="268732" y="1107441"/>
                  </a:lnTo>
                  <a:lnTo>
                    <a:pt x="257810" y="1079882"/>
                  </a:lnTo>
                  <a:lnTo>
                    <a:pt x="246379" y="1046734"/>
                  </a:lnTo>
                  <a:lnTo>
                    <a:pt x="231394" y="1007999"/>
                  </a:lnTo>
                  <a:lnTo>
                    <a:pt x="211709" y="965200"/>
                  </a:lnTo>
                  <a:lnTo>
                    <a:pt x="203581" y="962534"/>
                  </a:lnTo>
                  <a:lnTo>
                    <a:pt x="196850" y="957581"/>
                  </a:lnTo>
                  <a:lnTo>
                    <a:pt x="184531" y="940944"/>
                  </a:lnTo>
                  <a:lnTo>
                    <a:pt x="175006" y="915544"/>
                  </a:lnTo>
                  <a:lnTo>
                    <a:pt x="167004" y="881000"/>
                  </a:lnTo>
                  <a:lnTo>
                    <a:pt x="158750" y="839470"/>
                  </a:lnTo>
                  <a:lnTo>
                    <a:pt x="149987" y="789687"/>
                  </a:lnTo>
                  <a:lnTo>
                    <a:pt x="139700" y="733044"/>
                  </a:lnTo>
                  <a:lnTo>
                    <a:pt x="127507" y="669418"/>
                  </a:lnTo>
                  <a:lnTo>
                    <a:pt x="128904" y="659004"/>
                  </a:lnTo>
                  <a:lnTo>
                    <a:pt x="130937" y="652273"/>
                  </a:lnTo>
                  <a:lnTo>
                    <a:pt x="116713" y="621666"/>
                  </a:lnTo>
                  <a:lnTo>
                    <a:pt x="99060" y="590677"/>
                  </a:lnTo>
                  <a:lnTo>
                    <a:pt x="59054" y="529210"/>
                  </a:lnTo>
                  <a:lnTo>
                    <a:pt x="39369" y="500126"/>
                  </a:lnTo>
                  <a:lnTo>
                    <a:pt x="21716" y="474600"/>
                  </a:lnTo>
                  <a:lnTo>
                    <a:pt x="8128" y="451105"/>
                  </a:lnTo>
                  <a:lnTo>
                    <a:pt x="0" y="432562"/>
                  </a:lnTo>
                  <a:lnTo>
                    <a:pt x="3937" y="381381"/>
                  </a:lnTo>
                  <a:lnTo>
                    <a:pt x="8763" y="323977"/>
                  </a:lnTo>
                  <a:lnTo>
                    <a:pt x="19050" y="203074"/>
                  </a:lnTo>
                  <a:lnTo>
                    <a:pt x="23748" y="143637"/>
                  </a:lnTo>
                  <a:lnTo>
                    <a:pt x="28575" y="88266"/>
                  </a:lnTo>
                  <a:lnTo>
                    <a:pt x="33273" y="39244"/>
                  </a:lnTo>
                  <a:lnTo>
                    <a:pt x="37845" y="0"/>
                  </a:lnTo>
                  <a:lnTo>
                    <a:pt x="61722" y="16383"/>
                  </a:lnTo>
                  <a:lnTo>
                    <a:pt x="88900" y="35814"/>
                  </a:lnTo>
                  <a:lnTo>
                    <a:pt x="146557" y="74550"/>
                  </a:lnTo>
                  <a:lnTo>
                    <a:pt x="175006" y="91694"/>
                  </a:lnTo>
                  <a:lnTo>
                    <a:pt x="202184" y="106935"/>
                  </a:lnTo>
                  <a:lnTo>
                    <a:pt x="226568" y="118111"/>
                  </a:lnTo>
                  <a:lnTo>
                    <a:pt x="247650" y="124333"/>
                  </a:lnTo>
                  <a:lnTo>
                    <a:pt x="265429" y="162306"/>
                  </a:lnTo>
                  <a:close/>
                </a:path>
              </a:pathLst>
            </a:custGeom>
            <a:solidFill>
              <a:srgbClr val="5e9400"/>
            </a:solidFill>
            <a:ln w="0">
              <a:solidFill>
                <a:srgbClr val="5e94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Freihandform 143"/>
            <p:cNvSpPr/>
            <p:nvPr/>
          </p:nvSpPr>
          <p:spPr>
            <a:xfrm>
              <a:off x="3574800" y="4821120"/>
              <a:ext cx="757080" cy="1155600"/>
            </a:xfrm>
            <a:custGeom>
              <a:avLst/>
              <a:gdLst>
                <a:gd name="textAreaLeft" fmla="*/ 0 w 757080"/>
                <a:gd name="textAreaRight" fmla="*/ 757440 w 757080"/>
                <a:gd name="textAreaTop" fmla="*/ 0 h 1155600"/>
                <a:gd name="textAreaBottom" fmla="*/ 1155960 h 1155600"/>
              </a:gdLst>
              <a:ahLst/>
              <a:rect l="textAreaLeft" t="textAreaTop" r="textAreaRight" b="textAreaBottom"/>
              <a:pathLst>
                <a:path w="635579" h="1228543">
                  <a:moveTo>
                    <a:pt x="247768" y="126145"/>
                  </a:moveTo>
                  <a:lnTo>
                    <a:pt x="226223" y="118833"/>
                  </a:lnTo>
                  <a:lnTo>
                    <a:pt x="202882" y="107863"/>
                  </a:lnTo>
                  <a:lnTo>
                    <a:pt x="175951" y="93238"/>
                  </a:lnTo>
                  <a:lnTo>
                    <a:pt x="147224" y="74956"/>
                  </a:lnTo>
                  <a:lnTo>
                    <a:pt x="89771" y="36564"/>
                  </a:lnTo>
                  <a:lnTo>
                    <a:pt x="62839" y="16454"/>
                  </a:lnTo>
                  <a:lnTo>
                    <a:pt x="37703" y="0"/>
                  </a:lnTo>
                  <a:lnTo>
                    <a:pt x="34113" y="40220"/>
                  </a:lnTo>
                  <a:lnTo>
                    <a:pt x="28727" y="89581"/>
                  </a:lnTo>
                  <a:lnTo>
                    <a:pt x="23340" y="144427"/>
                  </a:lnTo>
                  <a:lnTo>
                    <a:pt x="19749" y="204757"/>
                  </a:lnTo>
                  <a:lnTo>
                    <a:pt x="8977" y="325418"/>
                  </a:lnTo>
                  <a:lnTo>
                    <a:pt x="3591" y="382091"/>
                  </a:lnTo>
                  <a:lnTo>
                    <a:pt x="0" y="433280"/>
                  </a:lnTo>
                  <a:lnTo>
                    <a:pt x="8977" y="451562"/>
                  </a:lnTo>
                  <a:lnTo>
                    <a:pt x="21545" y="475329"/>
                  </a:lnTo>
                  <a:lnTo>
                    <a:pt x="39499" y="500924"/>
                  </a:lnTo>
                  <a:lnTo>
                    <a:pt x="59249" y="530174"/>
                  </a:lnTo>
                  <a:lnTo>
                    <a:pt x="98748" y="592333"/>
                  </a:lnTo>
                  <a:lnTo>
                    <a:pt x="116702" y="623412"/>
                  </a:lnTo>
                  <a:lnTo>
                    <a:pt x="131065" y="652663"/>
                  </a:lnTo>
                  <a:lnTo>
                    <a:pt x="129270" y="659976"/>
                  </a:lnTo>
                  <a:lnTo>
                    <a:pt x="127475" y="670945"/>
                  </a:lnTo>
                  <a:lnTo>
                    <a:pt x="140042" y="734931"/>
                  </a:lnTo>
                  <a:lnTo>
                    <a:pt x="150815" y="789777"/>
                  </a:lnTo>
                  <a:lnTo>
                    <a:pt x="159792" y="840966"/>
                  </a:lnTo>
                  <a:lnTo>
                    <a:pt x="166974" y="881186"/>
                  </a:lnTo>
                  <a:lnTo>
                    <a:pt x="175951" y="915922"/>
                  </a:lnTo>
                  <a:lnTo>
                    <a:pt x="184928" y="941517"/>
                  </a:lnTo>
                  <a:lnTo>
                    <a:pt x="197496" y="957970"/>
                  </a:lnTo>
                  <a:lnTo>
                    <a:pt x="204678" y="963455"/>
                  </a:lnTo>
                  <a:lnTo>
                    <a:pt x="211859" y="967111"/>
                  </a:lnTo>
                  <a:lnTo>
                    <a:pt x="231609" y="1009159"/>
                  </a:lnTo>
                  <a:lnTo>
                    <a:pt x="245972" y="1047551"/>
                  </a:lnTo>
                  <a:lnTo>
                    <a:pt x="258540" y="1080459"/>
                  </a:lnTo>
                  <a:lnTo>
                    <a:pt x="269313" y="1107881"/>
                  </a:lnTo>
                  <a:lnTo>
                    <a:pt x="278290" y="1129820"/>
                  </a:lnTo>
                  <a:lnTo>
                    <a:pt x="289062" y="1142617"/>
                  </a:lnTo>
                  <a:lnTo>
                    <a:pt x="296244" y="1144446"/>
                  </a:lnTo>
                  <a:lnTo>
                    <a:pt x="303425" y="1146273"/>
                  </a:lnTo>
                  <a:lnTo>
                    <a:pt x="310607" y="1144446"/>
                  </a:lnTo>
                  <a:lnTo>
                    <a:pt x="321380" y="1138961"/>
                  </a:lnTo>
                  <a:lnTo>
                    <a:pt x="310607" y="1159071"/>
                  </a:lnTo>
                  <a:lnTo>
                    <a:pt x="303425" y="1175525"/>
                  </a:lnTo>
                  <a:lnTo>
                    <a:pt x="303425" y="1193806"/>
                  </a:lnTo>
                  <a:lnTo>
                    <a:pt x="307016" y="1202947"/>
                  </a:lnTo>
                  <a:lnTo>
                    <a:pt x="315993" y="1210260"/>
                  </a:lnTo>
                  <a:lnTo>
                    <a:pt x="337538" y="1215744"/>
                  </a:lnTo>
                  <a:lnTo>
                    <a:pt x="362674" y="1221229"/>
                  </a:lnTo>
                  <a:lnTo>
                    <a:pt x="416537" y="1226713"/>
                  </a:lnTo>
                  <a:lnTo>
                    <a:pt x="470399" y="1228542"/>
                  </a:lnTo>
                  <a:lnTo>
                    <a:pt x="520671" y="1228542"/>
                  </a:lnTo>
                  <a:lnTo>
                    <a:pt x="569148" y="1226713"/>
                  </a:lnTo>
                  <a:lnTo>
                    <a:pt x="588897" y="1224886"/>
                  </a:lnTo>
                  <a:lnTo>
                    <a:pt x="605056" y="1223057"/>
                  </a:lnTo>
                  <a:lnTo>
                    <a:pt x="619419" y="1221229"/>
                  </a:lnTo>
                  <a:lnTo>
                    <a:pt x="628396" y="1219401"/>
                  </a:lnTo>
                  <a:lnTo>
                    <a:pt x="633783" y="1217573"/>
                  </a:lnTo>
                  <a:lnTo>
                    <a:pt x="635578" y="1215744"/>
                  </a:lnTo>
                  <a:lnTo>
                    <a:pt x="614033" y="1195635"/>
                  </a:lnTo>
                  <a:lnTo>
                    <a:pt x="596079" y="1171868"/>
                  </a:lnTo>
                  <a:lnTo>
                    <a:pt x="561966" y="1117022"/>
                  </a:lnTo>
                  <a:lnTo>
                    <a:pt x="526058" y="1060349"/>
                  </a:lnTo>
                  <a:lnTo>
                    <a:pt x="506308" y="1031097"/>
                  </a:lnTo>
                  <a:lnTo>
                    <a:pt x="481172" y="1005503"/>
                  </a:lnTo>
                  <a:lnTo>
                    <a:pt x="482967" y="996362"/>
                  </a:lnTo>
                  <a:lnTo>
                    <a:pt x="482967" y="983565"/>
                  </a:lnTo>
                  <a:lnTo>
                    <a:pt x="481172" y="968939"/>
                  </a:lnTo>
                  <a:lnTo>
                    <a:pt x="477581" y="952486"/>
                  </a:lnTo>
                  <a:lnTo>
                    <a:pt x="466809" y="912265"/>
                  </a:lnTo>
                  <a:lnTo>
                    <a:pt x="450650" y="868389"/>
                  </a:lnTo>
                  <a:lnTo>
                    <a:pt x="416537" y="771495"/>
                  </a:lnTo>
                  <a:lnTo>
                    <a:pt x="400378" y="723962"/>
                  </a:lnTo>
                  <a:lnTo>
                    <a:pt x="386015" y="678258"/>
                  </a:lnTo>
                  <a:lnTo>
                    <a:pt x="382424" y="667289"/>
                  </a:lnTo>
                  <a:lnTo>
                    <a:pt x="377038" y="659976"/>
                  </a:lnTo>
                  <a:lnTo>
                    <a:pt x="364470" y="643522"/>
                  </a:lnTo>
                  <a:lnTo>
                    <a:pt x="359083" y="634381"/>
                  </a:lnTo>
                  <a:lnTo>
                    <a:pt x="357288" y="621584"/>
                  </a:lnTo>
                  <a:lnTo>
                    <a:pt x="357288" y="603302"/>
                  </a:lnTo>
                  <a:lnTo>
                    <a:pt x="360879" y="579535"/>
                  </a:lnTo>
                  <a:lnTo>
                    <a:pt x="364470" y="572223"/>
                  </a:lnTo>
                  <a:lnTo>
                    <a:pt x="364470" y="561254"/>
                  </a:lnTo>
                  <a:lnTo>
                    <a:pt x="362674" y="548456"/>
                  </a:lnTo>
                  <a:lnTo>
                    <a:pt x="359083" y="533831"/>
                  </a:lnTo>
                  <a:lnTo>
                    <a:pt x="355493" y="513721"/>
                  </a:lnTo>
                  <a:lnTo>
                    <a:pt x="346516" y="491783"/>
                  </a:lnTo>
                  <a:lnTo>
                    <a:pt x="335743" y="466188"/>
                  </a:lnTo>
                  <a:lnTo>
                    <a:pt x="323175" y="436937"/>
                  </a:lnTo>
                  <a:lnTo>
                    <a:pt x="315993" y="424139"/>
                  </a:lnTo>
                  <a:lnTo>
                    <a:pt x="310607" y="409514"/>
                  </a:lnTo>
                  <a:lnTo>
                    <a:pt x="305221" y="371122"/>
                  </a:lnTo>
                  <a:lnTo>
                    <a:pt x="301630" y="332730"/>
                  </a:lnTo>
                  <a:lnTo>
                    <a:pt x="298039" y="297995"/>
                  </a:lnTo>
                  <a:lnTo>
                    <a:pt x="287267" y="250462"/>
                  </a:lnTo>
                  <a:lnTo>
                    <a:pt x="278290" y="204757"/>
                  </a:lnTo>
                  <a:lnTo>
                    <a:pt x="265722" y="162709"/>
                  </a:lnTo>
                  <a:lnTo>
                    <a:pt x="247768" y="126145"/>
                  </a:lnTo>
                  <a:close/>
                </a:path>
              </a:pathLst>
            </a:custGeom>
            <a:noFill/>
            <a:ln w="18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Freihandform 144"/>
            <p:cNvSpPr/>
            <p:nvPr/>
          </p:nvSpPr>
          <p:spPr>
            <a:xfrm>
              <a:off x="4456080" y="3929040"/>
              <a:ext cx="3973320" cy="576000"/>
            </a:xfrm>
            <a:custGeom>
              <a:avLst/>
              <a:gdLst>
                <a:gd name="textAreaLeft" fmla="*/ 0 w 3973320"/>
                <a:gd name="textAreaRight" fmla="*/ 3973680 w 3973320"/>
                <a:gd name="textAreaTop" fmla="*/ 0 h 576000"/>
                <a:gd name="textAreaBottom" fmla="*/ 576360 h 576000"/>
              </a:gdLst>
              <a:ahLst/>
              <a:rect l="textAreaLeft" t="textAreaTop" r="textAreaRight" b="textAreaBottom"/>
              <a:pathLst>
                <a:path w="3342006" h="610870">
                  <a:moveTo>
                    <a:pt x="73278" y="548639"/>
                  </a:moveTo>
                  <a:lnTo>
                    <a:pt x="152653" y="524510"/>
                  </a:lnTo>
                  <a:lnTo>
                    <a:pt x="238252" y="497458"/>
                  </a:lnTo>
                  <a:lnTo>
                    <a:pt x="331089" y="468630"/>
                  </a:lnTo>
                  <a:lnTo>
                    <a:pt x="429514" y="438023"/>
                  </a:lnTo>
                  <a:lnTo>
                    <a:pt x="534161" y="406273"/>
                  </a:lnTo>
                  <a:lnTo>
                    <a:pt x="642620" y="373125"/>
                  </a:lnTo>
                  <a:lnTo>
                    <a:pt x="755903" y="339343"/>
                  </a:lnTo>
                  <a:lnTo>
                    <a:pt x="873378" y="305562"/>
                  </a:lnTo>
                  <a:lnTo>
                    <a:pt x="993521" y="272287"/>
                  </a:lnTo>
                  <a:lnTo>
                    <a:pt x="1241297" y="205867"/>
                  </a:lnTo>
                  <a:lnTo>
                    <a:pt x="1494916" y="145161"/>
                  </a:lnTo>
                  <a:lnTo>
                    <a:pt x="1751457" y="91312"/>
                  </a:lnTo>
                  <a:lnTo>
                    <a:pt x="1878457" y="67818"/>
                  </a:lnTo>
                  <a:lnTo>
                    <a:pt x="2004695" y="46989"/>
                  </a:lnTo>
                  <a:lnTo>
                    <a:pt x="2128773" y="29844"/>
                  </a:lnTo>
                  <a:lnTo>
                    <a:pt x="2250313" y="16637"/>
                  </a:lnTo>
                  <a:lnTo>
                    <a:pt x="2368930" y="6985"/>
                  </a:lnTo>
                  <a:lnTo>
                    <a:pt x="2485135" y="1524"/>
                  </a:lnTo>
                  <a:lnTo>
                    <a:pt x="2596388" y="0"/>
                  </a:lnTo>
                  <a:lnTo>
                    <a:pt x="2703576" y="4318"/>
                  </a:lnTo>
                  <a:lnTo>
                    <a:pt x="2805429" y="13969"/>
                  </a:lnTo>
                  <a:lnTo>
                    <a:pt x="2901696" y="29082"/>
                  </a:lnTo>
                  <a:lnTo>
                    <a:pt x="2947796" y="38862"/>
                  </a:lnTo>
                  <a:lnTo>
                    <a:pt x="2991993" y="49783"/>
                  </a:lnTo>
                  <a:lnTo>
                    <a:pt x="3034665" y="62992"/>
                  </a:lnTo>
                  <a:lnTo>
                    <a:pt x="3075431" y="77343"/>
                  </a:lnTo>
                  <a:lnTo>
                    <a:pt x="3114040" y="93980"/>
                  </a:lnTo>
                  <a:lnTo>
                    <a:pt x="3151378" y="111887"/>
                  </a:lnTo>
                  <a:lnTo>
                    <a:pt x="3186048" y="131318"/>
                  </a:lnTo>
                  <a:lnTo>
                    <a:pt x="3219195" y="152654"/>
                  </a:lnTo>
                  <a:lnTo>
                    <a:pt x="3250438" y="176275"/>
                  </a:lnTo>
                  <a:lnTo>
                    <a:pt x="3279013" y="201930"/>
                  </a:lnTo>
                  <a:lnTo>
                    <a:pt x="3305429" y="228726"/>
                  </a:lnTo>
                  <a:lnTo>
                    <a:pt x="3329813" y="258572"/>
                  </a:lnTo>
                  <a:lnTo>
                    <a:pt x="3339338" y="269493"/>
                  </a:lnTo>
                  <a:lnTo>
                    <a:pt x="3342005" y="277241"/>
                  </a:lnTo>
                  <a:lnTo>
                    <a:pt x="3340861" y="279273"/>
                  </a:lnTo>
                  <a:lnTo>
                    <a:pt x="3338703" y="279273"/>
                  </a:lnTo>
                  <a:lnTo>
                    <a:pt x="3334639" y="277241"/>
                  </a:lnTo>
                  <a:lnTo>
                    <a:pt x="3329813" y="272287"/>
                  </a:lnTo>
                  <a:lnTo>
                    <a:pt x="3303396" y="243331"/>
                  </a:lnTo>
                  <a:lnTo>
                    <a:pt x="3274186" y="217043"/>
                  </a:lnTo>
                  <a:lnTo>
                    <a:pt x="3243706" y="191516"/>
                  </a:lnTo>
                  <a:lnTo>
                    <a:pt x="3211194" y="168656"/>
                  </a:lnTo>
                  <a:lnTo>
                    <a:pt x="3175761" y="147193"/>
                  </a:lnTo>
                  <a:lnTo>
                    <a:pt x="3139185" y="127888"/>
                  </a:lnTo>
                  <a:lnTo>
                    <a:pt x="3100578" y="110617"/>
                  </a:lnTo>
                  <a:lnTo>
                    <a:pt x="3060572" y="94742"/>
                  </a:lnTo>
                  <a:lnTo>
                    <a:pt x="3019043" y="80263"/>
                  </a:lnTo>
                  <a:lnTo>
                    <a:pt x="2975102" y="67818"/>
                  </a:lnTo>
                  <a:lnTo>
                    <a:pt x="2930144" y="56768"/>
                  </a:lnTo>
                  <a:lnTo>
                    <a:pt x="2883280" y="47751"/>
                  </a:lnTo>
                  <a:lnTo>
                    <a:pt x="2786379" y="33274"/>
                  </a:lnTo>
                  <a:lnTo>
                    <a:pt x="2683890" y="24892"/>
                  </a:lnTo>
                  <a:lnTo>
                    <a:pt x="2576703" y="21462"/>
                  </a:lnTo>
                  <a:lnTo>
                    <a:pt x="2465323" y="23622"/>
                  </a:lnTo>
                  <a:lnTo>
                    <a:pt x="2350134" y="29844"/>
                  </a:lnTo>
                  <a:lnTo>
                    <a:pt x="2231897" y="40131"/>
                  </a:lnTo>
                  <a:lnTo>
                    <a:pt x="2111883" y="55244"/>
                  </a:lnTo>
                  <a:lnTo>
                    <a:pt x="1989073" y="73406"/>
                  </a:lnTo>
                  <a:lnTo>
                    <a:pt x="1864740" y="94742"/>
                  </a:lnTo>
                  <a:lnTo>
                    <a:pt x="1739265" y="118872"/>
                  </a:lnTo>
                  <a:lnTo>
                    <a:pt x="1488313" y="174879"/>
                  </a:lnTo>
                  <a:lnTo>
                    <a:pt x="1238503" y="237743"/>
                  </a:lnTo>
                  <a:lnTo>
                    <a:pt x="995679" y="305562"/>
                  </a:lnTo>
                  <a:lnTo>
                    <a:pt x="877442" y="340106"/>
                  </a:lnTo>
                  <a:lnTo>
                    <a:pt x="763523" y="374650"/>
                  </a:lnTo>
                  <a:lnTo>
                    <a:pt x="652145" y="409193"/>
                  </a:lnTo>
                  <a:lnTo>
                    <a:pt x="544957" y="442341"/>
                  </a:lnTo>
                  <a:lnTo>
                    <a:pt x="443229" y="475361"/>
                  </a:lnTo>
                  <a:lnTo>
                    <a:pt x="345440" y="506602"/>
                  </a:lnTo>
                  <a:lnTo>
                    <a:pt x="254508" y="536320"/>
                  </a:lnTo>
                  <a:lnTo>
                    <a:pt x="169036" y="563880"/>
                  </a:lnTo>
                  <a:lnTo>
                    <a:pt x="91059" y="588772"/>
                  </a:lnTo>
                  <a:lnTo>
                    <a:pt x="19811" y="610869"/>
                  </a:lnTo>
                  <a:lnTo>
                    <a:pt x="11048" y="603885"/>
                  </a:lnTo>
                  <a:lnTo>
                    <a:pt x="3428" y="593725"/>
                  </a:lnTo>
                  <a:lnTo>
                    <a:pt x="0" y="581787"/>
                  </a:lnTo>
                  <a:lnTo>
                    <a:pt x="2032" y="570864"/>
                  </a:lnTo>
                  <a:lnTo>
                    <a:pt x="73278" y="548639"/>
                  </a:lnTo>
                  <a:close/>
                </a:path>
              </a:pathLst>
            </a:custGeom>
            <a:solidFill>
              <a:srgbClr val="ccba9e"/>
            </a:solidFill>
            <a:ln w="0">
              <a:solidFill>
                <a:srgbClr val="ccba9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Freihandform 145"/>
            <p:cNvSpPr/>
            <p:nvPr/>
          </p:nvSpPr>
          <p:spPr>
            <a:xfrm>
              <a:off x="4456080" y="3929040"/>
              <a:ext cx="3970440" cy="576000"/>
            </a:xfrm>
            <a:custGeom>
              <a:avLst/>
              <a:gdLst>
                <a:gd name="textAreaLeft" fmla="*/ 0 w 3970440"/>
                <a:gd name="textAreaRight" fmla="*/ 3970800 w 3970440"/>
                <a:gd name="textAreaTop" fmla="*/ 0 h 576000"/>
                <a:gd name="textAreaBottom" fmla="*/ 576360 h 576000"/>
              </a:gdLst>
              <a:ahLst/>
              <a:rect l="textAreaLeft" t="textAreaTop" r="textAreaRight" b="textAreaBottom"/>
              <a:pathLst>
                <a:path w="3341276" h="610614">
                  <a:moveTo>
                    <a:pt x="1796" y="570393"/>
                  </a:moveTo>
                  <a:lnTo>
                    <a:pt x="0" y="581362"/>
                  </a:lnTo>
                  <a:lnTo>
                    <a:pt x="3591" y="594159"/>
                  </a:lnTo>
                  <a:lnTo>
                    <a:pt x="10773" y="603300"/>
                  </a:lnTo>
                  <a:lnTo>
                    <a:pt x="19750" y="610613"/>
                  </a:lnTo>
                  <a:lnTo>
                    <a:pt x="91567" y="588675"/>
                  </a:lnTo>
                  <a:lnTo>
                    <a:pt x="168770" y="563080"/>
                  </a:lnTo>
                  <a:lnTo>
                    <a:pt x="254950" y="535657"/>
                  </a:lnTo>
                  <a:lnTo>
                    <a:pt x="344721" y="506406"/>
                  </a:lnTo>
                  <a:lnTo>
                    <a:pt x="443469" y="475327"/>
                  </a:lnTo>
                  <a:lnTo>
                    <a:pt x="544013" y="442420"/>
                  </a:lnTo>
                  <a:lnTo>
                    <a:pt x="651737" y="409513"/>
                  </a:lnTo>
                  <a:lnTo>
                    <a:pt x="763053" y="374778"/>
                  </a:lnTo>
                  <a:lnTo>
                    <a:pt x="877960" y="340042"/>
                  </a:lnTo>
                  <a:lnTo>
                    <a:pt x="994663" y="305307"/>
                  </a:lnTo>
                  <a:lnTo>
                    <a:pt x="1238840" y="237664"/>
                  </a:lnTo>
                  <a:lnTo>
                    <a:pt x="1488403" y="175506"/>
                  </a:lnTo>
                  <a:lnTo>
                    <a:pt x="1739761" y="118832"/>
                  </a:lnTo>
                  <a:lnTo>
                    <a:pt x="1863645" y="95066"/>
                  </a:lnTo>
                  <a:lnTo>
                    <a:pt x="1989325" y="73128"/>
                  </a:lnTo>
                  <a:lnTo>
                    <a:pt x="2111413" y="54846"/>
                  </a:lnTo>
                  <a:lnTo>
                    <a:pt x="2231706" y="40220"/>
                  </a:lnTo>
                  <a:lnTo>
                    <a:pt x="2350204" y="29251"/>
                  </a:lnTo>
                  <a:lnTo>
                    <a:pt x="2465111" y="23767"/>
                  </a:lnTo>
                  <a:lnTo>
                    <a:pt x="2576426" y="21939"/>
                  </a:lnTo>
                  <a:lnTo>
                    <a:pt x="2684152" y="25595"/>
                  </a:lnTo>
                  <a:lnTo>
                    <a:pt x="2786490" y="32908"/>
                  </a:lnTo>
                  <a:lnTo>
                    <a:pt x="2883443" y="47533"/>
                  </a:lnTo>
                  <a:lnTo>
                    <a:pt x="2930124" y="56674"/>
                  </a:lnTo>
                  <a:lnTo>
                    <a:pt x="2975010" y="67643"/>
                  </a:lnTo>
                  <a:lnTo>
                    <a:pt x="3018100" y="80440"/>
                  </a:lnTo>
                  <a:lnTo>
                    <a:pt x="3061190" y="95066"/>
                  </a:lnTo>
                  <a:lnTo>
                    <a:pt x="3100689" y="109691"/>
                  </a:lnTo>
                  <a:lnTo>
                    <a:pt x="3138393" y="127973"/>
                  </a:lnTo>
                  <a:lnTo>
                    <a:pt x="3176097" y="146255"/>
                  </a:lnTo>
                  <a:lnTo>
                    <a:pt x="3210209" y="168193"/>
                  </a:lnTo>
                  <a:lnTo>
                    <a:pt x="3244322" y="191959"/>
                  </a:lnTo>
                  <a:lnTo>
                    <a:pt x="3273049" y="217554"/>
                  </a:lnTo>
                  <a:lnTo>
                    <a:pt x="3303571" y="243148"/>
                  </a:lnTo>
                  <a:lnTo>
                    <a:pt x="3330503" y="272399"/>
                  </a:lnTo>
                  <a:lnTo>
                    <a:pt x="3334093" y="277884"/>
                  </a:lnTo>
                  <a:lnTo>
                    <a:pt x="3337684" y="279712"/>
                  </a:lnTo>
                  <a:lnTo>
                    <a:pt x="3341275" y="279712"/>
                  </a:lnTo>
                  <a:lnTo>
                    <a:pt x="3341275" y="277884"/>
                  </a:lnTo>
                  <a:lnTo>
                    <a:pt x="3339479" y="268743"/>
                  </a:lnTo>
                  <a:lnTo>
                    <a:pt x="3330503" y="257774"/>
                  </a:lnTo>
                  <a:lnTo>
                    <a:pt x="3305366" y="228523"/>
                  </a:lnTo>
                  <a:lnTo>
                    <a:pt x="3278436" y="201100"/>
                  </a:lnTo>
                  <a:lnTo>
                    <a:pt x="3249709" y="175506"/>
                  </a:lnTo>
                  <a:lnTo>
                    <a:pt x="3219186" y="151739"/>
                  </a:lnTo>
                  <a:lnTo>
                    <a:pt x="3185074" y="131630"/>
                  </a:lnTo>
                  <a:lnTo>
                    <a:pt x="3150960" y="111520"/>
                  </a:lnTo>
                  <a:lnTo>
                    <a:pt x="3113257" y="93238"/>
                  </a:lnTo>
                  <a:lnTo>
                    <a:pt x="3075553" y="76784"/>
                  </a:lnTo>
                  <a:lnTo>
                    <a:pt x="3034258" y="62159"/>
                  </a:lnTo>
                  <a:lnTo>
                    <a:pt x="2991169" y="49361"/>
                  </a:lnTo>
                  <a:lnTo>
                    <a:pt x="2948078" y="38392"/>
                  </a:lnTo>
                  <a:lnTo>
                    <a:pt x="2901397" y="29251"/>
                  </a:lnTo>
                  <a:lnTo>
                    <a:pt x="2804445" y="12798"/>
                  </a:lnTo>
                  <a:lnTo>
                    <a:pt x="2703902" y="3657"/>
                  </a:lnTo>
                  <a:lnTo>
                    <a:pt x="2596176" y="0"/>
                  </a:lnTo>
                  <a:lnTo>
                    <a:pt x="2484860" y="1829"/>
                  </a:lnTo>
                  <a:lnTo>
                    <a:pt x="2368158" y="7313"/>
                  </a:lnTo>
                  <a:lnTo>
                    <a:pt x="2249660" y="16454"/>
                  </a:lnTo>
                  <a:lnTo>
                    <a:pt x="2129367" y="29251"/>
                  </a:lnTo>
                  <a:lnTo>
                    <a:pt x="2003688" y="47533"/>
                  </a:lnTo>
                  <a:lnTo>
                    <a:pt x="1878009" y="67643"/>
                  </a:lnTo>
                  <a:lnTo>
                    <a:pt x="1750534" y="91410"/>
                  </a:lnTo>
                  <a:lnTo>
                    <a:pt x="1495584" y="144427"/>
                  </a:lnTo>
                  <a:lnTo>
                    <a:pt x="1240635" y="204757"/>
                  </a:lnTo>
                  <a:lnTo>
                    <a:pt x="992867" y="272399"/>
                  </a:lnTo>
                  <a:lnTo>
                    <a:pt x="872574" y="305307"/>
                  </a:lnTo>
                  <a:lnTo>
                    <a:pt x="755872" y="340042"/>
                  </a:lnTo>
                  <a:lnTo>
                    <a:pt x="642760" y="372949"/>
                  </a:lnTo>
                  <a:lnTo>
                    <a:pt x="533240" y="405857"/>
                  </a:lnTo>
                  <a:lnTo>
                    <a:pt x="429106" y="436936"/>
                  </a:lnTo>
                  <a:lnTo>
                    <a:pt x="330357" y="468014"/>
                  </a:lnTo>
                  <a:lnTo>
                    <a:pt x="238791" y="497265"/>
                  </a:lnTo>
                  <a:lnTo>
                    <a:pt x="152611" y="524688"/>
                  </a:lnTo>
                  <a:lnTo>
                    <a:pt x="73613" y="548455"/>
                  </a:lnTo>
                  <a:lnTo>
                    <a:pt x="1796" y="570393"/>
                  </a:lnTo>
                  <a:close/>
                </a:path>
              </a:pathLst>
            </a:custGeom>
            <a:noFill/>
            <a:ln w="18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Freihandform 146"/>
            <p:cNvSpPr/>
            <p:nvPr/>
          </p:nvSpPr>
          <p:spPr>
            <a:xfrm>
              <a:off x="3002040" y="3659040"/>
              <a:ext cx="1150920" cy="1292040"/>
            </a:xfrm>
            <a:custGeom>
              <a:avLst/>
              <a:gdLst>
                <a:gd name="textAreaLeft" fmla="*/ 0 w 1150920"/>
                <a:gd name="textAreaRight" fmla="*/ 1151280 w 1150920"/>
                <a:gd name="textAreaTop" fmla="*/ 0 h 1292040"/>
                <a:gd name="textAreaBottom" fmla="*/ 1292400 h 1292040"/>
              </a:gdLst>
              <a:ahLst/>
              <a:rect l="textAreaLeft" t="textAreaTop" r="textAreaRight" b="textAreaBottom"/>
              <a:pathLst>
                <a:path w="968249" h="1373633">
                  <a:moveTo>
                    <a:pt x="28575" y="1072388"/>
                  </a:moveTo>
                  <a:lnTo>
                    <a:pt x="54865" y="1007999"/>
                  </a:lnTo>
                  <a:lnTo>
                    <a:pt x="78613" y="946659"/>
                  </a:lnTo>
                  <a:lnTo>
                    <a:pt x="100331" y="885191"/>
                  </a:lnTo>
                  <a:lnTo>
                    <a:pt x="120778" y="822834"/>
                  </a:lnTo>
                  <a:lnTo>
                    <a:pt x="139066" y="757937"/>
                  </a:lnTo>
                  <a:lnTo>
                    <a:pt x="155956" y="688849"/>
                  </a:lnTo>
                  <a:lnTo>
                    <a:pt x="171578" y="614935"/>
                  </a:lnTo>
                  <a:lnTo>
                    <a:pt x="177674" y="595630"/>
                  </a:lnTo>
                  <a:lnTo>
                    <a:pt x="185802" y="578359"/>
                  </a:lnTo>
                  <a:lnTo>
                    <a:pt x="208916" y="546609"/>
                  </a:lnTo>
                  <a:lnTo>
                    <a:pt x="230632" y="515493"/>
                  </a:lnTo>
                  <a:lnTo>
                    <a:pt x="239522" y="499618"/>
                  </a:lnTo>
                  <a:lnTo>
                    <a:pt x="244856" y="482219"/>
                  </a:lnTo>
                  <a:lnTo>
                    <a:pt x="247016" y="467106"/>
                  </a:lnTo>
                  <a:lnTo>
                    <a:pt x="247016" y="453137"/>
                  </a:lnTo>
                  <a:lnTo>
                    <a:pt x="242952" y="427737"/>
                  </a:lnTo>
                  <a:lnTo>
                    <a:pt x="238760" y="402844"/>
                  </a:lnTo>
                  <a:lnTo>
                    <a:pt x="239522" y="375793"/>
                  </a:lnTo>
                  <a:lnTo>
                    <a:pt x="241428" y="371094"/>
                  </a:lnTo>
                  <a:lnTo>
                    <a:pt x="244856" y="364110"/>
                  </a:lnTo>
                  <a:lnTo>
                    <a:pt x="256413" y="346711"/>
                  </a:lnTo>
                  <a:lnTo>
                    <a:pt x="272034" y="324612"/>
                  </a:lnTo>
                  <a:lnTo>
                    <a:pt x="290322" y="300482"/>
                  </a:lnTo>
                  <a:lnTo>
                    <a:pt x="308103" y="275718"/>
                  </a:lnTo>
                  <a:lnTo>
                    <a:pt x="324231" y="252223"/>
                  </a:lnTo>
                  <a:lnTo>
                    <a:pt x="337185" y="232156"/>
                  </a:lnTo>
                  <a:lnTo>
                    <a:pt x="341250" y="223901"/>
                  </a:lnTo>
                  <a:lnTo>
                    <a:pt x="343916" y="216917"/>
                  </a:lnTo>
                  <a:lnTo>
                    <a:pt x="331725" y="193422"/>
                  </a:lnTo>
                  <a:lnTo>
                    <a:pt x="325628" y="171959"/>
                  </a:lnTo>
                  <a:lnTo>
                    <a:pt x="324231" y="154051"/>
                  </a:lnTo>
                  <a:lnTo>
                    <a:pt x="327153" y="139700"/>
                  </a:lnTo>
                  <a:lnTo>
                    <a:pt x="333756" y="127255"/>
                  </a:lnTo>
                  <a:lnTo>
                    <a:pt x="344678" y="117475"/>
                  </a:lnTo>
                  <a:lnTo>
                    <a:pt x="358903" y="110618"/>
                  </a:lnTo>
                  <a:lnTo>
                    <a:pt x="375921" y="107062"/>
                  </a:lnTo>
                  <a:lnTo>
                    <a:pt x="388112" y="80011"/>
                  </a:lnTo>
                  <a:lnTo>
                    <a:pt x="403099" y="55118"/>
                  </a:lnTo>
                  <a:lnTo>
                    <a:pt x="421387" y="35306"/>
                  </a:lnTo>
                  <a:lnTo>
                    <a:pt x="443103" y="20574"/>
                  </a:lnTo>
                  <a:lnTo>
                    <a:pt x="456057" y="14351"/>
                  </a:lnTo>
                  <a:lnTo>
                    <a:pt x="472822" y="7620"/>
                  </a:lnTo>
                  <a:lnTo>
                    <a:pt x="488443" y="3430"/>
                  </a:lnTo>
                  <a:lnTo>
                    <a:pt x="493396" y="2668"/>
                  </a:lnTo>
                  <a:lnTo>
                    <a:pt x="494666" y="4192"/>
                  </a:lnTo>
                  <a:lnTo>
                    <a:pt x="500000" y="1398"/>
                  </a:lnTo>
                  <a:lnTo>
                    <a:pt x="507493" y="0"/>
                  </a:lnTo>
                  <a:lnTo>
                    <a:pt x="517779" y="0"/>
                  </a:lnTo>
                  <a:lnTo>
                    <a:pt x="529209" y="1398"/>
                  </a:lnTo>
                  <a:lnTo>
                    <a:pt x="554991" y="7620"/>
                  </a:lnTo>
                  <a:lnTo>
                    <a:pt x="582803" y="16637"/>
                  </a:lnTo>
                  <a:lnTo>
                    <a:pt x="610109" y="26289"/>
                  </a:lnTo>
                  <a:lnTo>
                    <a:pt x="633096" y="35942"/>
                  </a:lnTo>
                  <a:lnTo>
                    <a:pt x="650113" y="43435"/>
                  </a:lnTo>
                  <a:lnTo>
                    <a:pt x="654050" y="45720"/>
                  </a:lnTo>
                  <a:lnTo>
                    <a:pt x="656718" y="46991"/>
                  </a:lnTo>
                  <a:lnTo>
                    <a:pt x="668402" y="62104"/>
                  </a:lnTo>
                  <a:lnTo>
                    <a:pt x="678434" y="80011"/>
                  </a:lnTo>
                  <a:lnTo>
                    <a:pt x="694818" y="122301"/>
                  </a:lnTo>
                  <a:lnTo>
                    <a:pt x="709041" y="167260"/>
                  </a:lnTo>
                  <a:lnTo>
                    <a:pt x="716534" y="187961"/>
                  </a:lnTo>
                  <a:lnTo>
                    <a:pt x="724028" y="205868"/>
                  </a:lnTo>
                  <a:lnTo>
                    <a:pt x="727965" y="210693"/>
                  </a:lnTo>
                  <a:lnTo>
                    <a:pt x="734060" y="212091"/>
                  </a:lnTo>
                  <a:lnTo>
                    <a:pt x="747777" y="208535"/>
                  </a:lnTo>
                  <a:lnTo>
                    <a:pt x="762635" y="201804"/>
                  </a:lnTo>
                  <a:lnTo>
                    <a:pt x="769494" y="200280"/>
                  </a:lnTo>
                  <a:lnTo>
                    <a:pt x="776352" y="201042"/>
                  </a:lnTo>
                  <a:lnTo>
                    <a:pt x="783718" y="207264"/>
                  </a:lnTo>
                  <a:lnTo>
                    <a:pt x="792481" y="217679"/>
                  </a:lnTo>
                  <a:lnTo>
                    <a:pt x="800735" y="229362"/>
                  </a:lnTo>
                  <a:lnTo>
                    <a:pt x="807340" y="237618"/>
                  </a:lnTo>
                  <a:lnTo>
                    <a:pt x="810260" y="241809"/>
                  </a:lnTo>
                  <a:lnTo>
                    <a:pt x="810260" y="244603"/>
                  </a:lnTo>
                  <a:lnTo>
                    <a:pt x="810769" y="248031"/>
                  </a:lnTo>
                  <a:lnTo>
                    <a:pt x="812928" y="254255"/>
                  </a:lnTo>
                  <a:lnTo>
                    <a:pt x="815594" y="257049"/>
                  </a:lnTo>
                  <a:lnTo>
                    <a:pt x="821056" y="262001"/>
                  </a:lnTo>
                  <a:lnTo>
                    <a:pt x="825628" y="266700"/>
                  </a:lnTo>
                  <a:lnTo>
                    <a:pt x="828549" y="269494"/>
                  </a:lnTo>
                  <a:lnTo>
                    <a:pt x="846837" y="333122"/>
                  </a:lnTo>
                  <a:lnTo>
                    <a:pt x="861822" y="395987"/>
                  </a:lnTo>
                  <a:lnTo>
                    <a:pt x="888112" y="518795"/>
                  </a:lnTo>
                  <a:lnTo>
                    <a:pt x="902590" y="578359"/>
                  </a:lnTo>
                  <a:lnTo>
                    <a:pt x="919353" y="636398"/>
                  </a:lnTo>
                  <a:lnTo>
                    <a:pt x="941071" y="691516"/>
                  </a:lnTo>
                  <a:lnTo>
                    <a:pt x="968248" y="744729"/>
                  </a:lnTo>
                  <a:lnTo>
                    <a:pt x="968248" y="749681"/>
                  </a:lnTo>
                  <a:lnTo>
                    <a:pt x="963550" y="755143"/>
                  </a:lnTo>
                  <a:lnTo>
                    <a:pt x="953390" y="760730"/>
                  </a:lnTo>
                  <a:lnTo>
                    <a:pt x="939674" y="766318"/>
                  </a:lnTo>
                  <a:lnTo>
                    <a:pt x="903097" y="778003"/>
                  </a:lnTo>
                  <a:lnTo>
                    <a:pt x="859663" y="789687"/>
                  </a:lnTo>
                  <a:lnTo>
                    <a:pt x="814197" y="802894"/>
                  </a:lnTo>
                  <a:lnTo>
                    <a:pt x="774193" y="818135"/>
                  </a:lnTo>
                  <a:lnTo>
                    <a:pt x="757302" y="826262"/>
                  </a:lnTo>
                  <a:lnTo>
                    <a:pt x="743585" y="834772"/>
                  </a:lnTo>
                  <a:lnTo>
                    <a:pt x="734060" y="843662"/>
                  </a:lnTo>
                  <a:lnTo>
                    <a:pt x="729488" y="853313"/>
                  </a:lnTo>
                  <a:lnTo>
                    <a:pt x="719963" y="911987"/>
                  </a:lnTo>
                  <a:lnTo>
                    <a:pt x="716534" y="974218"/>
                  </a:lnTo>
                  <a:lnTo>
                    <a:pt x="716534" y="1038606"/>
                  </a:lnTo>
                  <a:lnTo>
                    <a:pt x="719963" y="1104138"/>
                  </a:lnTo>
                  <a:lnTo>
                    <a:pt x="729488" y="1236726"/>
                  </a:lnTo>
                  <a:lnTo>
                    <a:pt x="733425" y="1303148"/>
                  </a:lnTo>
                  <a:lnTo>
                    <a:pt x="735584" y="1367410"/>
                  </a:lnTo>
                  <a:lnTo>
                    <a:pt x="725297" y="1372870"/>
                  </a:lnTo>
                  <a:lnTo>
                    <a:pt x="712344" y="1373632"/>
                  </a:lnTo>
                  <a:lnTo>
                    <a:pt x="696215" y="1368680"/>
                  </a:lnTo>
                  <a:lnTo>
                    <a:pt x="675768" y="1358519"/>
                  </a:lnTo>
                  <a:lnTo>
                    <a:pt x="651384" y="1341882"/>
                  </a:lnTo>
                  <a:lnTo>
                    <a:pt x="622809" y="1318261"/>
                  </a:lnTo>
                  <a:lnTo>
                    <a:pt x="590297" y="1288669"/>
                  </a:lnTo>
                  <a:lnTo>
                    <a:pt x="572009" y="1271270"/>
                  </a:lnTo>
                  <a:lnTo>
                    <a:pt x="552197" y="1251331"/>
                  </a:lnTo>
                  <a:lnTo>
                    <a:pt x="548259" y="1249173"/>
                  </a:lnTo>
                  <a:lnTo>
                    <a:pt x="543434" y="1249173"/>
                  </a:lnTo>
                  <a:lnTo>
                    <a:pt x="532638" y="1253363"/>
                  </a:lnTo>
                  <a:lnTo>
                    <a:pt x="520954" y="1260984"/>
                  </a:lnTo>
                  <a:lnTo>
                    <a:pt x="510287" y="1267206"/>
                  </a:lnTo>
                  <a:lnTo>
                    <a:pt x="489966" y="1274192"/>
                  </a:lnTo>
                  <a:lnTo>
                    <a:pt x="462662" y="1278255"/>
                  </a:lnTo>
                  <a:lnTo>
                    <a:pt x="430150" y="1279653"/>
                  </a:lnTo>
                  <a:lnTo>
                    <a:pt x="393574" y="1277493"/>
                  </a:lnTo>
                  <a:lnTo>
                    <a:pt x="352806" y="1274192"/>
                  </a:lnTo>
                  <a:lnTo>
                    <a:pt x="310007" y="1267968"/>
                  </a:lnTo>
                  <a:lnTo>
                    <a:pt x="221869" y="1250569"/>
                  </a:lnTo>
                  <a:lnTo>
                    <a:pt x="179197" y="1239648"/>
                  </a:lnTo>
                  <a:lnTo>
                    <a:pt x="138431" y="1227201"/>
                  </a:lnTo>
                  <a:lnTo>
                    <a:pt x="100331" y="1214120"/>
                  </a:lnTo>
                  <a:lnTo>
                    <a:pt x="67056" y="1199388"/>
                  </a:lnTo>
                  <a:lnTo>
                    <a:pt x="39244" y="1185037"/>
                  </a:lnTo>
                  <a:lnTo>
                    <a:pt x="18288" y="1170560"/>
                  </a:lnTo>
                  <a:lnTo>
                    <a:pt x="4700" y="1155193"/>
                  </a:lnTo>
                  <a:lnTo>
                    <a:pt x="0" y="1140080"/>
                  </a:lnTo>
                  <a:lnTo>
                    <a:pt x="28575" y="1072388"/>
                  </a:lnTo>
                  <a:close/>
                </a:path>
              </a:pathLst>
            </a:cu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Freihandform 147"/>
            <p:cNvSpPr/>
            <p:nvPr/>
          </p:nvSpPr>
          <p:spPr>
            <a:xfrm>
              <a:off x="3002040" y="3657600"/>
              <a:ext cx="1150920" cy="1293840"/>
            </a:xfrm>
            <a:custGeom>
              <a:avLst/>
              <a:gdLst>
                <a:gd name="textAreaLeft" fmla="*/ 0 w 1150920"/>
                <a:gd name="textAreaRight" fmla="*/ 1151280 w 1150920"/>
                <a:gd name="textAreaTop" fmla="*/ 0 h 1293840"/>
                <a:gd name="textAreaBottom" fmla="*/ 1294200 h 1293840"/>
              </a:gdLst>
              <a:ahLst/>
              <a:rect l="textAreaLeft" t="textAreaTop" r="textAreaRight" b="textAreaBottom"/>
              <a:pathLst>
                <a:path w="967733" h="1374793">
                  <a:moveTo>
                    <a:pt x="0" y="1140785"/>
                  </a:moveTo>
                  <a:lnTo>
                    <a:pt x="5387" y="1155411"/>
                  </a:lnTo>
                  <a:lnTo>
                    <a:pt x="17955" y="1171864"/>
                  </a:lnTo>
                  <a:lnTo>
                    <a:pt x="39500" y="1186489"/>
                  </a:lnTo>
                  <a:lnTo>
                    <a:pt x="66431" y="1199287"/>
                  </a:lnTo>
                  <a:lnTo>
                    <a:pt x="100544" y="1213912"/>
                  </a:lnTo>
                  <a:lnTo>
                    <a:pt x="138248" y="1228538"/>
                  </a:lnTo>
                  <a:lnTo>
                    <a:pt x="179542" y="1239507"/>
                  </a:lnTo>
                  <a:lnTo>
                    <a:pt x="222633" y="1250476"/>
                  </a:lnTo>
                  <a:lnTo>
                    <a:pt x="310608" y="1268758"/>
                  </a:lnTo>
                  <a:lnTo>
                    <a:pt x="353698" y="1274242"/>
                  </a:lnTo>
                  <a:lnTo>
                    <a:pt x="393197" y="1277898"/>
                  </a:lnTo>
                  <a:lnTo>
                    <a:pt x="430901" y="1279727"/>
                  </a:lnTo>
                  <a:lnTo>
                    <a:pt x="463219" y="1279727"/>
                  </a:lnTo>
                  <a:lnTo>
                    <a:pt x="490150" y="1274242"/>
                  </a:lnTo>
                  <a:lnTo>
                    <a:pt x="509900" y="1268758"/>
                  </a:lnTo>
                  <a:lnTo>
                    <a:pt x="520672" y="1261445"/>
                  </a:lnTo>
                  <a:lnTo>
                    <a:pt x="533240" y="1254132"/>
                  </a:lnTo>
                  <a:lnTo>
                    <a:pt x="544013" y="1250476"/>
                  </a:lnTo>
                  <a:lnTo>
                    <a:pt x="549399" y="1250476"/>
                  </a:lnTo>
                  <a:lnTo>
                    <a:pt x="552990" y="1252304"/>
                  </a:lnTo>
                  <a:lnTo>
                    <a:pt x="572739" y="1272414"/>
                  </a:lnTo>
                  <a:lnTo>
                    <a:pt x="590694" y="1288868"/>
                  </a:lnTo>
                  <a:lnTo>
                    <a:pt x="623011" y="1318119"/>
                  </a:lnTo>
                  <a:lnTo>
                    <a:pt x="651738" y="1341885"/>
                  </a:lnTo>
                  <a:lnTo>
                    <a:pt x="676874" y="1358339"/>
                  </a:lnTo>
                  <a:lnTo>
                    <a:pt x="696623" y="1369308"/>
                  </a:lnTo>
                  <a:lnTo>
                    <a:pt x="712782" y="1374792"/>
                  </a:lnTo>
                  <a:lnTo>
                    <a:pt x="725350" y="1372964"/>
                  </a:lnTo>
                  <a:lnTo>
                    <a:pt x="736122" y="1367479"/>
                  </a:lnTo>
                  <a:lnTo>
                    <a:pt x="734327" y="1303493"/>
                  </a:lnTo>
                  <a:lnTo>
                    <a:pt x="728941" y="1237678"/>
                  </a:lnTo>
                  <a:lnTo>
                    <a:pt x="719964" y="1104221"/>
                  </a:lnTo>
                  <a:lnTo>
                    <a:pt x="716373" y="1038407"/>
                  </a:lnTo>
                  <a:lnTo>
                    <a:pt x="716373" y="974421"/>
                  </a:lnTo>
                  <a:lnTo>
                    <a:pt x="719964" y="912263"/>
                  </a:lnTo>
                  <a:lnTo>
                    <a:pt x="728941" y="853761"/>
                  </a:lnTo>
                  <a:lnTo>
                    <a:pt x="734327" y="844620"/>
                  </a:lnTo>
                  <a:lnTo>
                    <a:pt x="743304" y="835479"/>
                  </a:lnTo>
                  <a:lnTo>
                    <a:pt x="757668" y="826338"/>
                  </a:lnTo>
                  <a:lnTo>
                    <a:pt x="773826" y="819025"/>
                  </a:lnTo>
                  <a:lnTo>
                    <a:pt x="815121" y="804400"/>
                  </a:lnTo>
                  <a:lnTo>
                    <a:pt x="860006" y="789774"/>
                  </a:lnTo>
                  <a:lnTo>
                    <a:pt x="903096" y="778805"/>
                  </a:lnTo>
                  <a:lnTo>
                    <a:pt x="940800" y="767836"/>
                  </a:lnTo>
                  <a:lnTo>
                    <a:pt x="953368" y="760523"/>
                  </a:lnTo>
                  <a:lnTo>
                    <a:pt x="964141" y="755039"/>
                  </a:lnTo>
                  <a:lnTo>
                    <a:pt x="967732" y="749554"/>
                  </a:lnTo>
                  <a:lnTo>
                    <a:pt x="967732" y="745898"/>
                  </a:lnTo>
                  <a:lnTo>
                    <a:pt x="940800" y="692881"/>
                  </a:lnTo>
                  <a:lnTo>
                    <a:pt x="919256" y="636207"/>
                  </a:lnTo>
                  <a:lnTo>
                    <a:pt x="903096" y="579534"/>
                  </a:lnTo>
                  <a:lnTo>
                    <a:pt x="888733" y="519204"/>
                  </a:lnTo>
                  <a:lnTo>
                    <a:pt x="861802" y="396716"/>
                  </a:lnTo>
                  <a:lnTo>
                    <a:pt x="847439" y="332729"/>
                  </a:lnTo>
                  <a:lnTo>
                    <a:pt x="829484" y="270571"/>
                  </a:lnTo>
                  <a:lnTo>
                    <a:pt x="825893" y="266915"/>
                  </a:lnTo>
                  <a:lnTo>
                    <a:pt x="820507" y="263258"/>
                  </a:lnTo>
                  <a:lnTo>
                    <a:pt x="815121" y="257774"/>
                  </a:lnTo>
                  <a:lnTo>
                    <a:pt x="813326" y="254118"/>
                  </a:lnTo>
                  <a:lnTo>
                    <a:pt x="811530" y="248633"/>
                  </a:lnTo>
                  <a:lnTo>
                    <a:pt x="809735" y="244977"/>
                  </a:lnTo>
                  <a:lnTo>
                    <a:pt x="809735" y="243148"/>
                  </a:lnTo>
                  <a:lnTo>
                    <a:pt x="807939" y="237664"/>
                  </a:lnTo>
                  <a:lnTo>
                    <a:pt x="800758" y="230351"/>
                  </a:lnTo>
                  <a:lnTo>
                    <a:pt x="793576" y="217554"/>
                  </a:lnTo>
                  <a:lnTo>
                    <a:pt x="784599" y="208413"/>
                  </a:lnTo>
                  <a:lnTo>
                    <a:pt x="775622" y="201100"/>
                  </a:lnTo>
                  <a:lnTo>
                    <a:pt x="770236" y="201100"/>
                  </a:lnTo>
                  <a:lnTo>
                    <a:pt x="763054" y="202928"/>
                  </a:lnTo>
                  <a:lnTo>
                    <a:pt x="748691" y="208413"/>
                  </a:lnTo>
                  <a:lnTo>
                    <a:pt x="734327" y="212069"/>
                  </a:lnTo>
                  <a:lnTo>
                    <a:pt x="728941" y="212069"/>
                  </a:lnTo>
                  <a:lnTo>
                    <a:pt x="723555" y="206585"/>
                  </a:lnTo>
                  <a:lnTo>
                    <a:pt x="716373" y="188303"/>
                  </a:lnTo>
                  <a:lnTo>
                    <a:pt x="709191" y="168193"/>
                  </a:lnTo>
                  <a:lnTo>
                    <a:pt x="694828" y="122488"/>
                  </a:lnTo>
                  <a:lnTo>
                    <a:pt x="678669" y="80441"/>
                  </a:lnTo>
                  <a:lnTo>
                    <a:pt x="667897" y="62159"/>
                  </a:lnTo>
                  <a:lnTo>
                    <a:pt x="657124" y="47533"/>
                  </a:lnTo>
                  <a:lnTo>
                    <a:pt x="653533" y="45705"/>
                  </a:lnTo>
                  <a:lnTo>
                    <a:pt x="649942" y="43877"/>
                  </a:lnTo>
                  <a:lnTo>
                    <a:pt x="633784" y="36564"/>
                  </a:lnTo>
                  <a:lnTo>
                    <a:pt x="610443" y="27423"/>
                  </a:lnTo>
                  <a:lnTo>
                    <a:pt x="583512" y="16454"/>
                  </a:lnTo>
                  <a:lnTo>
                    <a:pt x="554785" y="9141"/>
                  </a:lnTo>
                  <a:lnTo>
                    <a:pt x="529649" y="1829"/>
                  </a:lnTo>
                  <a:lnTo>
                    <a:pt x="518877" y="0"/>
                  </a:lnTo>
                  <a:lnTo>
                    <a:pt x="508104" y="0"/>
                  </a:lnTo>
                  <a:lnTo>
                    <a:pt x="500923" y="1829"/>
                  </a:lnTo>
                  <a:lnTo>
                    <a:pt x="495536" y="5485"/>
                  </a:lnTo>
                  <a:lnTo>
                    <a:pt x="493741" y="3657"/>
                  </a:lnTo>
                  <a:lnTo>
                    <a:pt x="488355" y="3657"/>
                  </a:lnTo>
                  <a:lnTo>
                    <a:pt x="473991" y="9141"/>
                  </a:lnTo>
                  <a:lnTo>
                    <a:pt x="456037" y="14626"/>
                  </a:lnTo>
                  <a:lnTo>
                    <a:pt x="443469" y="21939"/>
                  </a:lnTo>
                  <a:lnTo>
                    <a:pt x="421924" y="36564"/>
                  </a:lnTo>
                  <a:lnTo>
                    <a:pt x="403970" y="56674"/>
                  </a:lnTo>
                  <a:lnTo>
                    <a:pt x="387811" y="80441"/>
                  </a:lnTo>
                  <a:lnTo>
                    <a:pt x="375243" y="107863"/>
                  </a:lnTo>
                  <a:lnTo>
                    <a:pt x="359084" y="111520"/>
                  </a:lnTo>
                  <a:lnTo>
                    <a:pt x="344721" y="118832"/>
                  </a:lnTo>
                  <a:lnTo>
                    <a:pt x="333948" y="127973"/>
                  </a:lnTo>
                  <a:lnTo>
                    <a:pt x="326767" y="140770"/>
                  </a:lnTo>
                  <a:lnTo>
                    <a:pt x="324971" y="155396"/>
                  </a:lnTo>
                  <a:lnTo>
                    <a:pt x="326767" y="171849"/>
                  </a:lnTo>
                  <a:lnTo>
                    <a:pt x="332153" y="193787"/>
                  </a:lnTo>
                  <a:lnTo>
                    <a:pt x="344721" y="217554"/>
                  </a:lnTo>
                  <a:lnTo>
                    <a:pt x="341130" y="224867"/>
                  </a:lnTo>
                  <a:lnTo>
                    <a:pt x="337539" y="232179"/>
                  </a:lnTo>
                  <a:lnTo>
                    <a:pt x="324971" y="252289"/>
                  </a:lnTo>
                  <a:lnTo>
                    <a:pt x="308813" y="276056"/>
                  </a:lnTo>
                  <a:lnTo>
                    <a:pt x="290858" y="301650"/>
                  </a:lnTo>
                  <a:lnTo>
                    <a:pt x="272904" y="325417"/>
                  </a:lnTo>
                  <a:lnTo>
                    <a:pt x="256745" y="347355"/>
                  </a:lnTo>
                  <a:lnTo>
                    <a:pt x="245973" y="365637"/>
                  </a:lnTo>
                  <a:lnTo>
                    <a:pt x="242382" y="371121"/>
                  </a:lnTo>
                  <a:lnTo>
                    <a:pt x="238791" y="376606"/>
                  </a:lnTo>
                  <a:lnTo>
                    <a:pt x="238791" y="404029"/>
                  </a:lnTo>
                  <a:lnTo>
                    <a:pt x="242382" y="427795"/>
                  </a:lnTo>
                  <a:lnTo>
                    <a:pt x="247768" y="453389"/>
                  </a:lnTo>
                  <a:lnTo>
                    <a:pt x="247768" y="468015"/>
                  </a:lnTo>
                  <a:lnTo>
                    <a:pt x="245973" y="482640"/>
                  </a:lnTo>
                  <a:lnTo>
                    <a:pt x="238791" y="500922"/>
                  </a:lnTo>
                  <a:lnTo>
                    <a:pt x="231609" y="515547"/>
                  </a:lnTo>
                  <a:lnTo>
                    <a:pt x="210064" y="546626"/>
                  </a:lnTo>
                  <a:lnTo>
                    <a:pt x="186724" y="579534"/>
                  </a:lnTo>
                  <a:lnTo>
                    <a:pt x="177747" y="595987"/>
                  </a:lnTo>
                  <a:lnTo>
                    <a:pt x="172361" y="616097"/>
                  </a:lnTo>
                  <a:lnTo>
                    <a:pt x="156202" y="689225"/>
                  </a:lnTo>
                  <a:lnTo>
                    <a:pt x="140043" y="758695"/>
                  </a:lnTo>
                  <a:lnTo>
                    <a:pt x="120293" y="822682"/>
                  </a:lnTo>
                  <a:lnTo>
                    <a:pt x="100544" y="886668"/>
                  </a:lnTo>
                  <a:lnTo>
                    <a:pt x="78999" y="946998"/>
                  </a:lnTo>
                  <a:lnTo>
                    <a:pt x="55658" y="1009156"/>
                  </a:lnTo>
                  <a:lnTo>
                    <a:pt x="28727" y="1073142"/>
                  </a:lnTo>
                  <a:lnTo>
                    <a:pt x="0" y="1140785"/>
                  </a:lnTo>
                  <a:close/>
                </a:path>
              </a:pathLst>
            </a:custGeom>
            <a:noFill/>
            <a:ln w="18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Freihandform 148"/>
            <p:cNvSpPr/>
            <p:nvPr/>
          </p:nvSpPr>
          <p:spPr>
            <a:xfrm>
              <a:off x="3009960" y="4254480"/>
              <a:ext cx="422280" cy="554040"/>
            </a:xfrm>
            <a:custGeom>
              <a:avLst/>
              <a:gdLst>
                <a:gd name="textAreaLeft" fmla="*/ 0 w 422280"/>
                <a:gd name="textAreaRight" fmla="*/ 422640 w 422280"/>
                <a:gd name="textAreaTop" fmla="*/ 0 h 554040"/>
                <a:gd name="textAreaBottom" fmla="*/ 554400 h 554040"/>
              </a:gdLst>
              <a:ahLst/>
              <a:rect l="textAreaLeft" t="textAreaTop" r="textAreaRight" b="textAreaBottom"/>
              <a:pathLst>
                <a:path w="354839" h="586486">
                  <a:moveTo>
                    <a:pt x="180468" y="69596"/>
                  </a:moveTo>
                  <a:lnTo>
                    <a:pt x="202185" y="138176"/>
                  </a:lnTo>
                  <a:lnTo>
                    <a:pt x="228600" y="205104"/>
                  </a:lnTo>
                  <a:lnTo>
                    <a:pt x="261875" y="268732"/>
                  </a:lnTo>
                  <a:lnTo>
                    <a:pt x="267971" y="279146"/>
                  </a:lnTo>
                  <a:lnTo>
                    <a:pt x="277496" y="293623"/>
                  </a:lnTo>
                  <a:lnTo>
                    <a:pt x="300610" y="329564"/>
                  </a:lnTo>
                  <a:lnTo>
                    <a:pt x="312166" y="347471"/>
                  </a:lnTo>
                  <a:lnTo>
                    <a:pt x="323088" y="363982"/>
                  </a:lnTo>
                  <a:lnTo>
                    <a:pt x="332613" y="377189"/>
                  </a:lnTo>
                  <a:lnTo>
                    <a:pt x="339218" y="386841"/>
                  </a:lnTo>
                  <a:lnTo>
                    <a:pt x="344806" y="393827"/>
                  </a:lnTo>
                  <a:lnTo>
                    <a:pt x="351410" y="401446"/>
                  </a:lnTo>
                  <a:lnTo>
                    <a:pt x="354838" y="408177"/>
                  </a:lnTo>
                  <a:lnTo>
                    <a:pt x="354838" y="410971"/>
                  </a:lnTo>
                  <a:lnTo>
                    <a:pt x="352806" y="412369"/>
                  </a:lnTo>
                  <a:lnTo>
                    <a:pt x="341885" y="412369"/>
                  </a:lnTo>
                  <a:lnTo>
                    <a:pt x="329693" y="408939"/>
                  </a:lnTo>
                  <a:lnTo>
                    <a:pt x="317500" y="402716"/>
                  </a:lnTo>
                  <a:lnTo>
                    <a:pt x="304038" y="393827"/>
                  </a:lnTo>
                  <a:lnTo>
                    <a:pt x="276860" y="370332"/>
                  </a:lnTo>
                  <a:lnTo>
                    <a:pt x="249682" y="342010"/>
                  </a:lnTo>
                  <a:lnTo>
                    <a:pt x="223901" y="313689"/>
                  </a:lnTo>
                  <a:lnTo>
                    <a:pt x="200788" y="288797"/>
                  </a:lnTo>
                  <a:lnTo>
                    <a:pt x="191263" y="278383"/>
                  </a:lnTo>
                  <a:lnTo>
                    <a:pt x="182500" y="270764"/>
                  </a:lnTo>
                  <a:lnTo>
                    <a:pt x="175641" y="265938"/>
                  </a:lnTo>
                  <a:lnTo>
                    <a:pt x="170943" y="263778"/>
                  </a:lnTo>
                  <a:lnTo>
                    <a:pt x="173737" y="267970"/>
                  </a:lnTo>
                  <a:lnTo>
                    <a:pt x="179071" y="275716"/>
                  </a:lnTo>
                  <a:lnTo>
                    <a:pt x="185928" y="285877"/>
                  </a:lnTo>
                  <a:lnTo>
                    <a:pt x="193422" y="299084"/>
                  </a:lnTo>
                  <a:lnTo>
                    <a:pt x="212979" y="329564"/>
                  </a:lnTo>
                  <a:lnTo>
                    <a:pt x="234697" y="363982"/>
                  </a:lnTo>
                  <a:lnTo>
                    <a:pt x="256413" y="398526"/>
                  </a:lnTo>
                  <a:lnTo>
                    <a:pt x="276225" y="427608"/>
                  </a:lnTo>
                  <a:lnTo>
                    <a:pt x="284988" y="439293"/>
                  </a:lnTo>
                  <a:lnTo>
                    <a:pt x="292481" y="448437"/>
                  </a:lnTo>
                  <a:lnTo>
                    <a:pt x="298578" y="453897"/>
                  </a:lnTo>
                  <a:lnTo>
                    <a:pt x="302641" y="455929"/>
                  </a:lnTo>
                  <a:lnTo>
                    <a:pt x="288418" y="453135"/>
                  </a:lnTo>
                  <a:lnTo>
                    <a:pt x="274701" y="445008"/>
                  </a:lnTo>
                  <a:lnTo>
                    <a:pt x="248413" y="420115"/>
                  </a:lnTo>
                  <a:lnTo>
                    <a:pt x="221235" y="395732"/>
                  </a:lnTo>
                  <a:lnTo>
                    <a:pt x="206884" y="387603"/>
                  </a:lnTo>
                  <a:lnTo>
                    <a:pt x="191263" y="384047"/>
                  </a:lnTo>
                  <a:lnTo>
                    <a:pt x="195453" y="390271"/>
                  </a:lnTo>
                  <a:lnTo>
                    <a:pt x="201550" y="398526"/>
                  </a:lnTo>
                  <a:lnTo>
                    <a:pt x="218568" y="419353"/>
                  </a:lnTo>
                  <a:lnTo>
                    <a:pt x="240793" y="442721"/>
                  </a:lnTo>
                  <a:lnTo>
                    <a:pt x="263272" y="467614"/>
                  </a:lnTo>
                  <a:lnTo>
                    <a:pt x="284226" y="490473"/>
                  </a:lnTo>
                  <a:lnTo>
                    <a:pt x="293116" y="500888"/>
                  </a:lnTo>
                  <a:lnTo>
                    <a:pt x="299847" y="509143"/>
                  </a:lnTo>
                  <a:lnTo>
                    <a:pt x="304800" y="516763"/>
                  </a:lnTo>
                  <a:lnTo>
                    <a:pt x="307468" y="521589"/>
                  </a:lnTo>
                  <a:lnTo>
                    <a:pt x="306706" y="525018"/>
                  </a:lnTo>
                  <a:lnTo>
                    <a:pt x="302641" y="525779"/>
                  </a:lnTo>
                  <a:lnTo>
                    <a:pt x="282322" y="521589"/>
                  </a:lnTo>
                  <a:lnTo>
                    <a:pt x="259081" y="516127"/>
                  </a:lnTo>
                  <a:lnTo>
                    <a:pt x="236221" y="509904"/>
                  </a:lnTo>
                  <a:lnTo>
                    <a:pt x="216409" y="502158"/>
                  </a:lnTo>
                  <a:lnTo>
                    <a:pt x="206375" y="498728"/>
                  </a:lnTo>
                  <a:lnTo>
                    <a:pt x="199518" y="498221"/>
                  </a:lnTo>
                  <a:lnTo>
                    <a:pt x="196850" y="499490"/>
                  </a:lnTo>
                  <a:lnTo>
                    <a:pt x="196850" y="502158"/>
                  </a:lnTo>
                  <a:lnTo>
                    <a:pt x="200279" y="507872"/>
                  </a:lnTo>
                  <a:lnTo>
                    <a:pt x="204978" y="514096"/>
                  </a:lnTo>
                  <a:lnTo>
                    <a:pt x="220600" y="529208"/>
                  </a:lnTo>
                  <a:lnTo>
                    <a:pt x="260604" y="561085"/>
                  </a:lnTo>
                  <a:lnTo>
                    <a:pt x="277496" y="572008"/>
                  </a:lnTo>
                  <a:lnTo>
                    <a:pt x="284226" y="575437"/>
                  </a:lnTo>
                  <a:lnTo>
                    <a:pt x="289179" y="576198"/>
                  </a:lnTo>
                  <a:lnTo>
                    <a:pt x="279654" y="582421"/>
                  </a:lnTo>
                  <a:lnTo>
                    <a:pt x="266700" y="585215"/>
                  </a:lnTo>
                  <a:lnTo>
                    <a:pt x="249682" y="586485"/>
                  </a:lnTo>
                  <a:lnTo>
                    <a:pt x="230760" y="586485"/>
                  </a:lnTo>
                  <a:lnTo>
                    <a:pt x="208281" y="584453"/>
                  </a:lnTo>
                  <a:lnTo>
                    <a:pt x="185166" y="581025"/>
                  </a:lnTo>
                  <a:lnTo>
                    <a:pt x="135637" y="570738"/>
                  </a:lnTo>
                  <a:lnTo>
                    <a:pt x="87503" y="557529"/>
                  </a:lnTo>
                  <a:lnTo>
                    <a:pt x="45466" y="542416"/>
                  </a:lnTo>
                  <a:lnTo>
                    <a:pt x="28448" y="534670"/>
                  </a:lnTo>
                  <a:lnTo>
                    <a:pt x="14987" y="527050"/>
                  </a:lnTo>
                  <a:lnTo>
                    <a:pt x="5462" y="520319"/>
                  </a:lnTo>
                  <a:lnTo>
                    <a:pt x="0" y="514096"/>
                  </a:lnTo>
                  <a:lnTo>
                    <a:pt x="10160" y="490473"/>
                  </a:lnTo>
                  <a:lnTo>
                    <a:pt x="21082" y="464312"/>
                  </a:lnTo>
                  <a:lnTo>
                    <a:pt x="44704" y="405510"/>
                  </a:lnTo>
                  <a:lnTo>
                    <a:pt x="69216" y="339852"/>
                  </a:lnTo>
                  <a:lnTo>
                    <a:pt x="94362" y="270002"/>
                  </a:lnTo>
                  <a:lnTo>
                    <a:pt x="117348" y="198120"/>
                  </a:lnTo>
                  <a:lnTo>
                    <a:pt x="137796" y="127762"/>
                  </a:lnTo>
                  <a:lnTo>
                    <a:pt x="153416" y="61468"/>
                  </a:lnTo>
                  <a:lnTo>
                    <a:pt x="159513" y="29590"/>
                  </a:lnTo>
                  <a:lnTo>
                    <a:pt x="164212" y="0"/>
                  </a:lnTo>
                  <a:lnTo>
                    <a:pt x="180468" y="69596"/>
                  </a:lnTo>
                  <a:close/>
                </a:path>
              </a:pathLst>
            </a:custGeom>
            <a:solidFill>
              <a:srgbClr val="ddc100"/>
            </a:solidFill>
            <a:ln w="0">
              <a:solidFill>
                <a:srgbClr val="ddc1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Freihandform 149"/>
            <p:cNvSpPr/>
            <p:nvPr/>
          </p:nvSpPr>
          <p:spPr>
            <a:xfrm>
              <a:off x="3402000" y="3944880"/>
              <a:ext cx="452160" cy="631800"/>
            </a:xfrm>
            <a:custGeom>
              <a:avLst/>
              <a:gdLst>
                <a:gd name="textAreaLeft" fmla="*/ 0 w 452160"/>
                <a:gd name="textAreaRight" fmla="*/ 452520 w 452160"/>
                <a:gd name="textAreaTop" fmla="*/ 0 h 631800"/>
                <a:gd name="textAreaBottom" fmla="*/ 632160 h 631800"/>
              </a:gdLst>
              <a:ahLst/>
              <a:rect l="textAreaLeft" t="textAreaTop" r="textAreaRight" b="textAreaBottom"/>
              <a:pathLst>
                <a:path w="382016" h="671577">
                  <a:moveTo>
                    <a:pt x="36575" y="0"/>
                  </a:moveTo>
                  <a:lnTo>
                    <a:pt x="40005" y="3430"/>
                  </a:lnTo>
                  <a:lnTo>
                    <a:pt x="42037" y="5461"/>
                  </a:lnTo>
                  <a:lnTo>
                    <a:pt x="42671" y="2667"/>
                  </a:lnTo>
                  <a:lnTo>
                    <a:pt x="46100" y="77979"/>
                  </a:lnTo>
                  <a:lnTo>
                    <a:pt x="56896" y="147829"/>
                  </a:lnTo>
                  <a:lnTo>
                    <a:pt x="73913" y="214757"/>
                  </a:lnTo>
                  <a:lnTo>
                    <a:pt x="98425" y="277623"/>
                  </a:lnTo>
                  <a:lnTo>
                    <a:pt x="130175" y="337059"/>
                  </a:lnTo>
                  <a:lnTo>
                    <a:pt x="168909" y="395224"/>
                  </a:lnTo>
                  <a:lnTo>
                    <a:pt x="214375" y="450469"/>
                  </a:lnTo>
                  <a:lnTo>
                    <a:pt x="268096" y="504317"/>
                  </a:lnTo>
                  <a:lnTo>
                    <a:pt x="280796" y="514097"/>
                  </a:lnTo>
                  <a:lnTo>
                    <a:pt x="296418" y="525146"/>
                  </a:lnTo>
                  <a:lnTo>
                    <a:pt x="331724" y="545847"/>
                  </a:lnTo>
                  <a:lnTo>
                    <a:pt x="363600" y="566548"/>
                  </a:lnTo>
                  <a:lnTo>
                    <a:pt x="374522" y="576199"/>
                  </a:lnTo>
                  <a:lnTo>
                    <a:pt x="380618" y="586613"/>
                  </a:lnTo>
                  <a:lnTo>
                    <a:pt x="382015" y="595630"/>
                  </a:lnTo>
                  <a:lnTo>
                    <a:pt x="382015" y="606553"/>
                  </a:lnTo>
                  <a:lnTo>
                    <a:pt x="377190" y="630174"/>
                  </a:lnTo>
                  <a:lnTo>
                    <a:pt x="371093" y="653542"/>
                  </a:lnTo>
                  <a:lnTo>
                    <a:pt x="369062" y="663194"/>
                  </a:lnTo>
                  <a:lnTo>
                    <a:pt x="367665" y="671576"/>
                  </a:lnTo>
                  <a:lnTo>
                    <a:pt x="366394" y="670180"/>
                  </a:lnTo>
                  <a:lnTo>
                    <a:pt x="362331" y="666750"/>
                  </a:lnTo>
                  <a:lnTo>
                    <a:pt x="355472" y="661924"/>
                  </a:lnTo>
                  <a:lnTo>
                    <a:pt x="345947" y="656463"/>
                  </a:lnTo>
                  <a:lnTo>
                    <a:pt x="323468" y="642621"/>
                  </a:lnTo>
                  <a:lnTo>
                    <a:pt x="296418" y="626618"/>
                  </a:lnTo>
                  <a:lnTo>
                    <a:pt x="268096" y="609474"/>
                  </a:lnTo>
                  <a:lnTo>
                    <a:pt x="241427" y="592074"/>
                  </a:lnTo>
                  <a:lnTo>
                    <a:pt x="219075" y="576199"/>
                  </a:lnTo>
                  <a:lnTo>
                    <a:pt x="210184" y="569215"/>
                  </a:lnTo>
                  <a:lnTo>
                    <a:pt x="203581" y="563754"/>
                  </a:lnTo>
                  <a:lnTo>
                    <a:pt x="155956" y="509779"/>
                  </a:lnTo>
                  <a:lnTo>
                    <a:pt x="109093" y="446405"/>
                  </a:lnTo>
                  <a:lnTo>
                    <a:pt x="87375" y="411861"/>
                  </a:lnTo>
                  <a:lnTo>
                    <a:pt x="67183" y="375793"/>
                  </a:lnTo>
                  <a:lnTo>
                    <a:pt x="48768" y="338582"/>
                  </a:lnTo>
                  <a:lnTo>
                    <a:pt x="32512" y="300482"/>
                  </a:lnTo>
                  <a:lnTo>
                    <a:pt x="19558" y="261874"/>
                  </a:lnTo>
                  <a:lnTo>
                    <a:pt x="9525" y="223140"/>
                  </a:lnTo>
                  <a:lnTo>
                    <a:pt x="2666" y="183642"/>
                  </a:lnTo>
                  <a:lnTo>
                    <a:pt x="0" y="145161"/>
                  </a:lnTo>
                  <a:lnTo>
                    <a:pt x="1269" y="107824"/>
                  </a:lnTo>
                  <a:lnTo>
                    <a:pt x="8000" y="70486"/>
                  </a:lnTo>
                  <a:lnTo>
                    <a:pt x="19558" y="34544"/>
                  </a:lnTo>
                  <a:lnTo>
                    <a:pt x="36575" y="0"/>
                  </a:lnTo>
                  <a:close/>
                </a:path>
              </a:pathLst>
            </a:custGeom>
            <a:solidFill>
              <a:srgbClr val="ddc100"/>
            </a:solidFill>
            <a:ln w="0">
              <a:solidFill>
                <a:srgbClr val="ddc1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Freihandform 150"/>
            <p:cNvSpPr/>
            <p:nvPr/>
          </p:nvSpPr>
          <p:spPr>
            <a:xfrm>
              <a:off x="3159000" y="4335480"/>
              <a:ext cx="706320" cy="420480"/>
            </a:xfrm>
            <a:custGeom>
              <a:avLst/>
              <a:gdLst>
                <a:gd name="textAreaLeft" fmla="*/ 0 w 706320"/>
                <a:gd name="textAreaRight" fmla="*/ 706680 w 706320"/>
                <a:gd name="textAreaTop" fmla="*/ 0 h 420480"/>
                <a:gd name="textAreaBottom" fmla="*/ 420840 h 420480"/>
              </a:gdLst>
              <a:ahLst/>
              <a:rect l="textAreaLeft" t="textAreaTop" r="textAreaRight" b="textAreaBottom"/>
              <a:pathLst>
                <a:path w="595123" h="446406">
                  <a:moveTo>
                    <a:pt x="3430" y="44959"/>
                  </a:moveTo>
                  <a:lnTo>
                    <a:pt x="762" y="44197"/>
                  </a:lnTo>
                  <a:lnTo>
                    <a:pt x="0" y="40767"/>
                  </a:lnTo>
                  <a:lnTo>
                    <a:pt x="2032" y="27686"/>
                  </a:lnTo>
                  <a:lnTo>
                    <a:pt x="6097" y="11811"/>
                  </a:lnTo>
                  <a:lnTo>
                    <a:pt x="8763" y="0"/>
                  </a:lnTo>
                  <a:lnTo>
                    <a:pt x="11431" y="636"/>
                  </a:lnTo>
                  <a:lnTo>
                    <a:pt x="19812" y="4826"/>
                  </a:lnTo>
                  <a:lnTo>
                    <a:pt x="33275" y="11811"/>
                  </a:lnTo>
                  <a:lnTo>
                    <a:pt x="50800" y="20829"/>
                  </a:lnTo>
                  <a:lnTo>
                    <a:pt x="72009" y="32512"/>
                  </a:lnTo>
                  <a:lnTo>
                    <a:pt x="96394" y="46863"/>
                  </a:lnTo>
                  <a:lnTo>
                    <a:pt x="122809" y="63500"/>
                  </a:lnTo>
                  <a:lnTo>
                    <a:pt x="152655" y="83693"/>
                  </a:lnTo>
                  <a:lnTo>
                    <a:pt x="183134" y="105792"/>
                  </a:lnTo>
                  <a:lnTo>
                    <a:pt x="215138" y="130684"/>
                  </a:lnTo>
                  <a:lnTo>
                    <a:pt x="278893" y="187325"/>
                  </a:lnTo>
                  <a:lnTo>
                    <a:pt x="310769" y="219711"/>
                  </a:lnTo>
                  <a:lnTo>
                    <a:pt x="340615" y="254255"/>
                  </a:lnTo>
                  <a:lnTo>
                    <a:pt x="369825" y="291592"/>
                  </a:lnTo>
                  <a:lnTo>
                    <a:pt x="395478" y="331724"/>
                  </a:lnTo>
                  <a:lnTo>
                    <a:pt x="405003" y="340742"/>
                  </a:lnTo>
                  <a:lnTo>
                    <a:pt x="414528" y="346203"/>
                  </a:lnTo>
                  <a:lnTo>
                    <a:pt x="431674" y="350393"/>
                  </a:lnTo>
                  <a:lnTo>
                    <a:pt x="443865" y="350393"/>
                  </a:lnTo>
                  <a:lnTo>
                    <a:pt x="447294" y="351663"/>
                  </a:lnTo>
                  <a:lnTo>
                    <a:pt x="448437" y="353187"/>
                  </a:lnTo>
                  <a:lnTo>
                    <a:pt x="452628" y="350393"/>
                  </a:lnTo>
                  <a:lnTo>
                    <a:pt x="459487" y="345441"/>
                  </a:lnTo>
                  <a:lnTo>
                    <a:pt x="467487" y="338582"/>
                  </a:lnTo>
                  <a:lnTo>
                    <a:pt x="477012" y="329566"/>
                  </a:lnTo>
                  <a:lnTo>
                    <a:pt x="498730" y="309626"/>
                  </a:lnTo>
                  <a:lnTo>
                    <a:pt x="522478" y="286767"/>
                  </a:lnTo>
                  <a:lnTo>
                    <a:pt x="545593" y="265430"/>
                  </a:lnTo>
                  <a:lnTo>
                    <a:pt x="565912" y="247269"/>
                  </a:lnTo>
                  <a:lnTo>
                    <a:pt x="574040" y="240538"/>
                  </a:lnTo>
                  <a:lnTo>
                    <a:pt x="580263" y="235586"/>
                  </a:lnTo>
                  <a:lnTo>
                    <a:pt x="584962" y="232792"/>
                  </a:lnTo>
                  <a:lnTo>
                    <a:pt x="587630" y="232156"/>
                  </a:lnTo>
                  <a:lnTo>
                    <a:pt x="589662" y="240538"/>
                  </a:lnTo>
                  <a:lnTo>
                    <a:pt x="589662" y="252985"/>
                  </a:lnTo>
                  <a:lnTo>
                    <a:pt x="590297" y="264668"/>
                  </a:lnTo>
                  <a:lnTo>
                    <a:pt x="592456" y="268098"/>
                  </a:lnTo>
                  <a:lnTo>
                    <a:pt x="595122" y="269367"/>
                  </a:lnTo>
                  <a:lnTo>
                    <a:pt x="591059" y="272161"/>
                  </a:lnTo>
                  <a:lnTo>
                    <a:pt x="582931" y="279781"/>
                  </a:lnTo>
                  <a:lnTo>
                    <a:pt x="570738" y="291592"/>
                  </a:lnTo>
                  <a:lnTo>
                    <a:pt x="555625" y="306705"/>
                  </a:lnTo>
                  <a:lnTo>
                    <a:pt x="521209" y="342011"/>
                  </a:lnTo>
                  <a:lnTo>
                    <a:pt x="486537" y="377953"/>
                  </a:lnTo>
                  <a:lnTo>
                    <a:pt x="481712" y="400178"/>
                  </a:lnTo>
                  <a:lnTo>
                    <a:pt x="473584" y="417323"/>
                  </a:lnTo>
                  <a:lnTo>
                    <a:pt x="463424" y="429006"/>
                  </a:lnTo>
                  <a:lnTo>
                    <a:pt x="452628" y="437388"/>
                  </a:lnTo>
                  <a:lnTo>
                    <a:pt x="442341" y="442215"/>
                  </a:lnTo>
                  <a:lnTo>
                    <a:pt x="433578" y="444881"/>
                  </a:lnTo>
                  <a:lnTo>
                    <a:pt x="427482" y="445643"/>
                  </a:lnTo>
                  <a:lnTo>
                    <a:pt x="425578" y="445643"/>
                  </a:lnTo>
                  <a:lnTo>
                    <a:pt x="410591" y="446405"/>
                  </a:lnTo>
                  <a:lnTo>
                    <a:pt x="397003" y="444374"/>
                  </a:lnTo>
                  <a:lnTo>
                    <a:pt x="385446" y="438659"/>
                  </a:lnTo>
                  <a:lnTo>
                    <a:pt x="375921" y="429768"/>
                  </a:lnTo>
                  <a:lnTo>
                    <a:pt x="369825" y="416561"/>
                  </a:lnTo>
                  <a:lnTo>
                    <a:pt x="365760" y="399416"/>
                  </a:lnTo>
                  <a:lnTo>
                    <a:pt x="366396" y="377317"/>
                  </a:lnTo>
                  <a:lnTo>
                    <a:pt x="371094" y="349631"/>
                  </a:lnTo>
                  <a:lnTo>
                    <a:pt x="331852" y="302006"/>
                  </a:lnTo>
                  <a:lnTo>
                    <a:pt x="286385" y="253492"/>
                  </a:lnTo>
                  <a:lnTo>
                    <a:pt x="236856" y="204471"/>
                  </a:lnTo>
                  <a:lnTo>
                    <a:pt x="185294" y="159005"/>
                  </a:lnTo>
                  <a:lnTo>
                    <a:pt x="133731" y="118237"/>
                  </a:lnTo>
                  <a:lnTo>
                    <a:pt x="108585" y="100076"/>
                  </a:lnTo>
                  <a:lnTo>
                    <a:pt x="84709" y="83693"/>
                  </a:lnTo>
                  <a:lnTo>
                    <a:pt x="61722" y="69724"/>
                  </a:lnTo>
                  <a:lnTo>
                    <a:pt x="40006" y="58801"/>
                  </a:lnTo>
                  <a:lnTo>
                    <a:pt x="20321" y="50419"/>
                  </a:lnTo>
                  <a:lnTo>
                    <a:pt x="3430" y="44959"/>
                  </a:lnTo>
                  <a:close/>
                </a:path>
              </a:pathLst>
            </a:custGeom>
            <a:solidFill>
              <a:srgbClr val="945b00"/>
            </a:solidFill>
            <a:ln w="0">
              <a:solidFill>
                <a:srgbClr val="945b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Freihandform 151"/>
            <p:cNvSpPr/>
            <p:nvPr/>
          </p:nvSpPr>
          <p:spPr>
            <a:xfrm>
              <a:off x="3159000" y="4335480"/>
              <a:ext cx="706320" cy="420480"/>
            </a:xfrm>
            <a:custGeom>
              <a:avLst/>
              <a:gdLst>
                <a:gd name="textAreaLeft" fmla="*/ 0 w 706320"/>
                <a:gd name="textAreaRight" fmla="*/ 706680 w 706320"/>
                <a:gd name="textAreaTop" fmla="*/ 0 h 420480"/>
                <a:gd name="textAreaBottom" fmla="*/ 420840 h 420480"/>
              </a:gdLst>
              <a:ahLst/>
              <a:rect l="textAreaLeft" t="textAreaTop" r="textAreaRight" b="textAreaBottom"/>
              <a:pathLst>
                <a:path w="596080" h="446080">
                  <a:moveTo>
                    <a:pt x="3590" y="45705"/>
                  </a:moveTo>
                  <a:lnTo>
                    <a:pt x="1795" y="43877"/>
                  </a:lnTo>
                  <a:lnTo>
                    <a:pt x="0" y="40221"/>
                  </a:lnTo>
                  <a:lnTo>
                    <a:pt x="3590" y="27423"/>
                  </a:lnTo>
                  <a:lnTo>
                    <a:pt x="7181" y="12798"/>
                  </a:lnTo>
                  <a:lnTo>
                    <a:pt x="8977" y="0"/>
                  </a:lnTo>
                  <a:lnTo>
                    <a:pt x="12568" y="1829"/>
                  </a:lnTo>
                  <a:lnTo>
                    <a:pt x="19749" y="5485"/>
                  </a:lnTo>
                  <a:lnTo>
                    <a:pt x="34113" y="12798"/>
                  </a:lnTo>
                  <a:lnTo>
                    <a:pt x="52067" y="20110"/>
                  </a:lnTo>
                  <a:lnTo>
                    <a:pt x="71816" y="32908"/>
                  </a:lnTo>
                  <a:lnTo>
                    <a:pt x="96952" y="47534"/>
                  </a:lnTo>
                  <a:lnTo>
                    <a:pt x="123884" y="63987"/>
                  </a:lnTo>
                  <a:lnTo>
                    <a:pt x="152610" y="84097"/>
                  </a:lnTo>
                  <a:lnTo>
                    <a:pt x="183132" y="106036"/>
                  </a:lnTo>
                  <a:lnTo>
                    <a:pt x="215450" y="131630"/>
                  </a:lnTo>
                  <a:lnTo>
                    <a:pt x="280085" y="188304"/>
                  </a:lnTo>
                  <a:lnTo>
                    <a:pt x="312403" y="219384"/>
                  </a:lnTo>
                  <a:lnTo>
                    <a:pt x="341129" y="254119"/>
                  </a:lnTo>
                  <a:lnTo>
                    <a:pt x="369856" y="292511"/>
                  </a:lnTo>
                  <a:lnTo>
                    <a:pt x="396787" y="332732"/>
                  </a:lnTo>
                  <a:lnTo>
                    <a:pt x="405764" y="340044"/>
                  </a:lnTo>
                  <a:lnTo>
                    <a:pt x="414742" y="347357"/>
                  </a:lnTo>
                  <a:lnTo>
                    <a:pt x="432696" y="351013"/>
                  </a:lnTo>
                  <a:lnTo>
                    <a:pt x="445264" y="351013"/>
                  </a:lnTo>
                  <a:lnTo>
                    <a:pt x="447059" y="351013"/>
                  </a:lnTo>
                  <a:lnTo>
                    <a:pt x="448855" y="352842"/>
                  </a:lnTo>
                  <a:lnTo>
                    <a:pt x="454241" y="351013"/>
                  </a:lnTo>
                  <a:lnTo>
                    <a:pt x="459627" y="345529"/>
                  </a:lnTo>
                  <a:lnTo>
                    <a:pt x="468604" y="338216"/>
                  </a:lnTo>
                  <a:lnTo>
                    <a:pt x="477581" y="329075"/>
                  </a:lnTo>
                  <a:lnTo>
                    <a:pt x="499126" y="310793"/>
                  </a:lnTo>
                  <a:lnTo>
                    <a:pt x="522467" y="287027"/>
                  </a:lnTo>
                  <a:lnTo>
                    <a:pt x="545807" y="265089"/>
                  </a:lnTo>
                  <a:lnTo>
                    <a:pt x="567352" y="246806"/>
                  </a:lnTo>
                  <a:lnTo>
                    <a:pt x="574534" y="241322"/>
                  </a:lnTo>
                  <a:lnTo>
                    <a:pt x="581716" y="235837"/>
                  </a:lnTo>
                  <a:lnTo>
                    <a:pt x="585307" y="232181"/>
                  </a:lnTo>
                  <a:lnTo>
                    <a:pt x="588897" y="232181"/>
                  </a:lnTo>
                  <a:lnTo>
                    <a:pt x="590693" y="241322"/>
                  </a:lnTo>
                  <a:lnTo>
                    <a:pt x="590693" y="254119"/>
                  </a:lnTo>
                  <a:lnTo>
                    <a:pt x="590693" y="265089"/>
                  </a:lnTo>
                  <a:lnTo>
                    <a:pt x="592488" y="268745"/>
                  </a:lnTo>
                  <a:lnTo>
                    <a:pt x="596079" y="268745"/>
                  </a:lnTo>
                  <a:lnTo>
                    <a:pt x="592488" y="272401"/>
                  </a:lnTo>
                  <a:lnTo>
                    <a:pt x="583511" y="279714"/>
                  </a:lnTo>
                  <a:lnTo>
                    <a:pt x="570943" y="292511"/>
                  </a:lnTo>
                  <a:lnTo>
                    <a:pt x="556580" y="307137"/>
                  </a:lnTo>
                  <a:lnTo>
                    <a:pt x="522467" y="341873"/>
                  </a:lnTo>
                  <a:lnTo>
                    <a:pt x="486558" y="378436"/>
                  </a:lnTo>
                  <a:lnTo>
                    <a:pt x="482968" y="400374"/>
                  </a:lnTo>
                  <a:lnTo>
                    <a:pt x="473990" y="416828"/>
                  </a:lnTo>
                  <a:lnTo>
                    <a:pt x="465013" y="429626"/>
                  </a:lnTo>
                  <a:lnTo>
                    <a:pt x="454241" y="436938"/>
                  </a:lnTo>
                  <a:lnTo>
                    <a:pt x="443468" y="442423"/>
                  </a:lnTo>
                  <a:lnTo>
                    <a:pt x="434491" y="446079"/>
                  </a:lnTo>
                  <a:lnTo>
                    <a:pt x="429105" y="446079"/>
                  </a:lnTo>
                  <a:lnTo>
                    <a:pt x="425514" y="446079"/>
                  </a:lnTo>
                  <a:lnTo>
                    <a:pt x="411151" y="446079"/>
                  </a:lnTo>
                  <a:lnTo>
                    <a:pt x="396787" y="444251"/>
                  </a:lnTo>
                  <a:lnTo>
                    <a:pt x="386015" y="438767"/>
                  </a:lnTo>
                  <a:lnTo>
                    <a:pt x="377038" y="429626"/>
                  </a:lnTo>
                  <a:lnTo>
                    <a:pt x="369856" y="416828"/>
                  </a:lnTo>
                  <a:lnTo>
                    <a:pt x="366265" y="400374"/>
                  </a:lnTo>
                  <a:lnTo>
                    <a:pt x="366265" y="376608"/>
                  </a:lnTo>
                  <a:lnTo>
                    <a:pt x="371652" y="349185"/>
                  </a:lnTo>
                  <a:lnTo>
                    <a:pt x="332152" y="301652"/>
                  </a:lnTo>
                  <a:lnTo>
                    <a:pt x="287267" y="254119"/>
                  </a:lnTo>
                  <a:lnTo>
                    <a:pt x="236995" y="204758"/>
                  </a:lnTo>
                  <a:lnTo>
                    <a:pt x="186723" y="159053"/>
                  </a:lnTo>
                  <a:lnTo>
                    <a:pt x="134656" y="118833"/>
                  </a:lnTo>
                  <a:lnTo>
                    <a:pt x="109520" y="100551"/>
                  </a:lnTo>
                  <a:lnTo>
                    <a:pt x="86180" y="84097"/>
                  </a:lnTo>
                  <a:lnTo>
                    <a:pt x="62839" y="69472"/>
                  </a:lnTo>
                  <a:lnTo>
                    <a:pt x="41294" y="58503"/>
                  </a:lnTo>
                  <a:lnTo>
                    <a:pt x="21545" y="51190"/>
                  </a:lnTo>
                  <a:lnTo>
                    <a:pt x="3590" y="45705"/>
                  </a:lnTo>
                  <a:close/>
                </a:path>
              </a:pathLst>
            </a:custGeom>
            <a:noFill/>
            <a:ln w="18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Freihandform 152"/>
            <p:cNvSpPr/>
            <p:nvPr/>
          </p:nvSpPr>
          <p:spPr>
            <a:xfrm>
              <a:off x="3867120" y="3963960"/>
              <a:ext cx="177480" cy="396720"/>
            </a:xfrm>
            <a:custGeom>
              <a:avLst/>
              <a:gdLst>
                <a:gd name="textAreaLeft" fmla="*/ 0 w 177480"/>
                <a:gd name="textAreaRight" fmla="*/ 177840 w 177480"/>
                <a:gd name="textAreaTop" fmla="*/ 0 h 396720"/>
                <a:gd name="textAreaBottom" fmla="*/ 397080 h 396720"/>
              </a:gdLst>
              <a:ahLst/>
              <a:rect l="textAreaLeft" t="textAreaTop" r="textAreaRight" b="textAreaBottom"/>
              <a:pathLst>
                <a:path w="148718" h="422910">
                  <a:moveTo>
                    <a:pt x="9525" y="290830"/>
                  </a:moveTo>
                  <a:lnTo>
                    <a:pt x="11557" y="262508"/>
                  </a:lnTo>
                  <a:lnTo>
                    <a:pt x="15620" y="205105"/>
                  </a:lnTo>
                  <a:lnTo>
                    <a:pt x="16382" y="174751"/>
                  </a:lnTo>
                  <a:lnTo>
                    <a:pt x="14858" y="142239"/>
                  </a:lnTo>
                  <a:lnTo>
                    <a:pt x="9525" y="105663"/>
                  </a:lnTo>
                  <a:lnTo>
                    <a:pt x="0" y="64896"/>
                  </a:lnTo>
                  <a:lnTo>
                    <a:pt x="8763" y="75819"/>
                  </a:lnTo>
                  <a:lnTo>
                    <a:pt x="16382" y="82042"/>
                  </a:lnTo>
                  <a:lnTo>
                    <a:pt x="23114" y="85598"/>
                  </a:lnTo>
                  <a:lnTo>
                    <a:pt x="28575" y="86994"/>
                  </a:lnTo>
                  <a:lnTo>
                    <a:pt x="38100" y="80771"/>
                  </a:lnTo>
                  <a:lnTo>
                    <a:pt x="45466" y="67690"/>
                  </a:lnTo>
                  <a:lnTo>
                    <a:pt x="50800" y="49783"/>
                  </a:lnTo>
                  <a:lnTo>
                    <a:pt x="55626" y="31114"/>
                  </a:lnTo>
                  <a:lnTo>
                    <a:pt x="59817" y="12954"/>
                  </a:lnTo>
                  <a:lnTo>
                    <a:pt x="65151" y="0"/>
                  </a:lnTo>
                  <a:lnTo>
                    <a:pt x="69342" y="27558"/>
                  </a:lnTo>
                  <a:lnTo>
                    <a:pt x="69850" y="55880"/>
                  </a:lnTo>
                  <a:lnTo>
                    <a:pt x="66420" y="111887"/>
                  </a:lnTo>
                  <a:lnTo>
                    <a:pt x="65151" y="136017"/>
                  </a:lnTo>
                  <a:lnTo>
                    <a:pt x="67182" y="157352"/>
                  </a:lnTo>
                  <a:lnTo>
                    <a:pt x="73914" y="174751"/>
                  </a:lnTo>
                  <a:lnTo>
                    <a:pt x="80136" y="181737"/>
                  </a:lnTo>
                  <a:lnTo>
                    <a:pt x="86867" y="186436"/>
                  </a:lnTo>
                  <a:lnTo>
                    <a:pt x="70611" y="197612"/>
                  </a:lnTo>
                  <a:lnTo>
                    <a:pt x="58292" y="212089"/>
                  </a:lnTo>
                  <a:lnTo>
                    <a:pt x="49529" y="228726"/>
                  </a:lnTo>
                  <a:lnTo>
                    <a:pt x="44704" y="245871"/>
                  </a:lnTo>
                  <a:lnTo>
                    <a:pt x="44195" y="261112"/>
                  </a:lnTo>
                  <a:lnTo>
                    <a:pt x="47625" y="274193"/>
                  </a:lnTo>
                  <a:lnTo>
                    <a:pt x="55626" y="282448"/>
                  </a:lnTo>
                  <a:lnTo>
                    <a:pt x="67817" y="284607"/>
                  </a:lnTo>
                  <a:lnTo>
                    <a:pt x="63754" y="294386"/>
                  </a:lnTo>
                  <a:lnTo>
                    <a:pt x="61722" y="302513"/>
                  </a:lnTo>
                  <a:lnTo>
                    <a:pt x="65913" y="318515"/>
                  </a:lnTo>
                  <a:lnTo>
                    <a:pt x="76707" y="332358"/>
                  </a:lnTo>
                  <a:lnTo>
                    <a:pt x="92329" y="346075"/>
                  </a:lnTo>
                  <a:lnTo>
                    <a:pt x="109854" y="361188"/>
                  </a:lnTo>
                  <a:lnTo>
                    <a:pt x="127635" y="377825"/>
                  </a:lnTo>
                  <a:lnTo>
                    <a:pt x="141097" y="398018"/>
                  </a:lnTo>
                  <a:lnTo>
                    <a:pt x="145288" y="409701"/>
                  </a:lnTo>
                  <a:lnTo>
                    <a:pt x="148717" y="422909"/>
                  </a:lnTo>
                  <a:lnTo>
                    <a:pt x="139192" y="420115"/>
                  </a:lnTo>
                  <a:lnTo>
                    <a:pt x="128904" y="415925"/>
                  </a:lnTo>
                  <a:lnTo>
                    <a:pt x="106426" y="403479"/>
                  </a:lnTo>
                  <a:lnTo>
                    <a:pt x="59054" y="368934"/>
                  </a:lnTo>
                  <a:lnTo>
                    <a:pt x="38100" y="351027"/>
                  </a:lnTo>
                  <a:lnTo>
                    <a:pt x="21717" y="335788"/>
                  </a:lnTo>
                  <a:lnTo>
                    <a:pt x="15620" y="329564"/>
                  </a:lnTo>
                  <a:lnTo>
                    <a:pt x="11557" y="324738"/>
                  </a:lnTo>
                  <a:lnTo>
                    <a:pt x="9525" y="321944"/>
                  </a:lnTo>
                  <a:lnTo>
                    <a:pt x="10286" y="320420"/>
                  </a:lnTo>
                  <a:lnTo>
                    <a:pt x="9525" y="290830"/>
                  </a:lnTo>
                  <a:close/>
                </a:path>
              </a:pathLst>
            </a:custGeom>
            <a:solidFill>
              <a:srgbClr val="ddc100"/>
            </a:solidFill>
            <a:ln w="0">
              <a:solidFill>
                <a:srgbClr val="ddc1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Freihandform 153"/>
            <p:cNvSpPr/>
            <p:nvPr/>
          </p:nvSpPr>
          <p:spPr>
            <a:xfrm>
              <a:off x="3649680" y="4497480"/>
              <a:ext cx="711000" cy="218880"/>
            </a:xfrm>
            <a:custGeom>
              <a:avLst/>
              <a:gdLst>
                <a:gd name="textAreaLeft" fmla="*/ 0 w 711000"/>
                <a:gd name="textAreaRight" fmla="*/ 711360 w 711000"/>
                <a:gd name="textAreaTop" fmla="*/ 0 h 218880"/>
                <a:gd name="textAreaBottom" fmla="*/ 219240 h 218880"/>
              </a:gdLst>
              <a:ahLst/>
              <a:rect l="textAreaLeft" t="textAreaTop" r="textAreaRight" b="textAreaBottom"/>
              <a:pathLst>
                <a:path w="597155" h="232666">
                  <a:moveTo>
                    <a:pt x="138429" y="130556"/>
                  </a:moveTo>
                  <a:lnTo>
                    <a:pt x="276860" y="85599"/>
                  </a:lnTo>
                  <a:lnTo>
                    <a:pt x="421386" y="41275"/>
                  </a:lnTo>
                  <a:lnTo>
                    <a:pt x="496061" y="19940"/>
                  </a:lnTo>
                  <a:lnTo>
                    <a:pt x="573278" y="0"/>
                  </a:lnTo>
                  <a:lnTo>
                    <a:pt x="584961" y="9653"/>
                  </a:lnTo>
                  <a:lnTo>
                    <a:pt x="593851" y="24892"/>
                  </a:lnTo>
                  <a:lnTo>
                    <a:pt x="597154" y="39243"/>
                  </a:lnTo>
                  <a:lnTo>
                    <a:pt x="595756" y="44197"/>
                  </a:lnTo>
                  <a:lnTo>
                    <a:pt x="591692" y="47499"/>
                  </a:lnTo>
                  <a:lnTo>
                    <a:pt x="546226" y="64136"/>
                  </a:lnTo>
                  <a:lnTo>
                    <a:pt x="504190" y="80011"/>
                  </a:lnTo>
                  <a:lnTo>
                    <a:pt x="464947" y="94488"/>
                  </a:lnTo>
                  <a:lnTo>
                    <a:pt x="427481" y="107697"/>
                  </a:lnTo>
                  <a:lnTo>
                    <a:pt x="358901" y="131954"/>
                  </a:lnTo>
                  <a:lnTo>
                    <a:pt x="294513" y="153924"/>
                  </a:lnTo>
                  <a:lnTo>
                    <a:pt x="168275" y="194184"/>
                  </a:lnTo>
                  <a:lnTo>
                    <a:pt x="100456" y="212725"/>
                  </a:lnTo>
                  <a:lnTo>
                    <a:pt x="25146" y="232665"/>
                  </a:lnTo>
                  <a:lnTo>
                    <a:pt x="17653" y="232665"/>
                  </a:lnTo>
                  <a:lnTo>
                    <a:pt x="11556" y="228728"/>
                  </a:lnTo>
                  <a:lnTo>
                    <a:pt x="6857" y="220980"/>
                  </a:lnTo>
                  <a:lnTo>
                    <a:pt x="2794" y="211329"/>
                  </a:lnTo>
                  <a:lnTo>
                    <a:pt x="0" y="189866"/>
                  </a:lnTo>
                  <a:lnTo>
                    <a:pt x="0" y="180213"/>
                  </a:lnTo>
                  <a:lnTo>
                    <a:pt x="2794" y="171324"/>
                  </a:lnTo>
                  <a:lnTo>
                    <a:pt x="138429" y="130556"/>
                  </a:lnTo>
                  <a:close/>
                </a:path>
              </a:pathLst>
            </a:custGeom>
            <a:solidFill>
              <a:srgbClr val="ccba9e"/>
            </a:solidFill>
            <a:ln w="0">
              <a:solidFill>
                <a:srgbClr val="ccba9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Freihandform 154"/>
            <p:cNvSpPr/>
            <p:nvPr/>
          </p:nvSpPr>
          <p:spPr>
            <a:xfrm>
              <a:off x="3651120" y="4497480"/>
              <a:ext cx="706320" cy="218880"/>
            </a:xfrm>
            <a:custGeom>
              <a:avLst/>
              <a:gdLst>
                <a:gd name="textAreaLeft" fmla="*/ 0 w 706320"/>
                <a:gd name="textAreaRight" fmla="*/ 706680 w 706320"/>
                <a:gd name="textAreaTop" fmla="*/ 0 h 218880"/>
                <a:gd name="textAreaBottom" fmla="*/ 219240 h 218880"/>
              </a:gdLst>
              <a:ahLst/>
              <a:rect l="textAreaLeft" t="textAreaTop" r="textAreaRight" b="textAreaBottom"/>
              <a:pathLst>
                <a:path w="596081" h="232181">
                  <a:moveTo>
                    <a:pt x="1796" y="171850"/>
                  </a:moveTo>
                  <a:lnTo>
                    <a:pt x="0" y="179162"/>
                  </a:lnTo>
                  <a:lnTo>
                    <a:pt x="0" y="190132"/>
                  </a:lnTo>
                  <a:lnTo>
                    <a:pt x="1796" y="212070"/>
                  </a:lnTo>
                  <a:lnTo>
                    <a:pt x="5387" y="221211"/>
                  </a:lnTo>
                  <a:lnTo>
                    <a:pt x="10773" y="228523"/>
                  </a:lnTo>
                  <a:lnTo>
                    <a:pt x="16159" y="232180"/>
                  </a:lnTo>
                  <a:lnTo>
                    <a:pt x="25136" y="232180"/>
                  </a:lnTo>
                  <a:lnTo>
                    <a:pt x="98749" y="212070"/>
                  </a:lnTo>
                  <a:lnTo>
                    <a:pt x="166975" y="193788"/>
                  </a:lnTo>
                  <a:lnTo>
                    <a:pt x="294449" y="153568"/>
                  </a:lnTo>
                  <a:lnTo>
                    <a:pt x="359085" y="131629"/>
                  </a:lnTo>
                  <a:lnTo>
                    <a:pt x="427310" y="107863"/>
                  </a:lnTo>
                  <a:lnTo>
                    <a:pt x="463219" y="95066"/>
                  </a:lnTo>
                  <a:lnTo>
                    <a:pt x="502718" y="80440"/>
                  </a:lnTo>
                  <a:lnTo>
                    <a:pt x="545809" y="63987"/>
                  </a:lnTo>
                  <a:lnTo>
                    <a:pt x="590694" y="47533"/>
                  </a:lnTo>
                  <a:lnTo>
                    <a:pt x="594285" y="43876"/>
                  </a:lnTo>
                  <a:lnTo>
                    <a:pt x="596080" y="38392"/>
                  </a:lnTo>
                  <a:lnTo>
                    <a:pt x="592490" y="23766"/>
                  </a:lnTo>
                  <a:lnTo>
                    <a:pt x="583512" y="9141"/>
                  </a:lnTo>
                  <a:lnTo>
                    <a:pt x="572740" y="0"/>
                  </a:lnTo>
                  <a:lnTo>
                    <a:pt x="495537" y="20110"/>
                  </a:lnTo>
                  <a:lnTo>
                    <a:pt x="420129" y="40220"/>
                  </a:lnTo>
                  <a:lnTo>
                    <a:pt x="276495" y="85925"/>
                  </a:lnTo>
                  <a:lnTo>
                    <a:pt x="138248" y="129801"/>
                  </a:lnTo>
                  <a:lnTo>
                    <a:pt x="1796" y="171850"/>
                  </a:lnTo>
                  <a:close/>
                </a:path>
              </a:pathLst>
            </a:custGeom>
            <a:noFill/>
            <a:ln w="18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Freihandform 155"/>
            <p:cNvSpPr/>
            <p:nvPr/>
          </p:nvSpPr>
          <p:spPr>
            <a:xfrm>
              <a:off x="4147920" y="4403520"/>
              <a:ext cx="109440" cy="19188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191880"/>
                <a:gd name="textAreaBottom" fmla="*/ 192240 h 191880"/>
              </a:gdLst>
              <a:ahLst/>
              <a:rect l="textAreaLeft" t="textAreaTop" r="textAreaRight" b="textAreaBottom"/>
              <a:pathLst>
                <a:path w="92966" h="204344">
                  <a:moveTo>
                    <a:pt x="92965" y="19938"/>
                  </a:moveTo>
                  <a:lnTo>
                    <a:pt x="92329" y="40767"/>
                  </a:lnTo>
                  <a:lnTo>
                    <a:pt x="87630" y="61468"/>
                  </a:lnTo>
                  <a:lnTo>
                    <a:pt x="79375" y="81533"/>
                  </a:lnTo>
                  <a:lnTo>
                    <a:pt x="58421" y="119380"/>
                  </a:lnTo>
                  <a:lnTo>
                    <a:pt x="47625" y="137413"/>
                  </a:lnTo>
                  <a:lnTo>
                    <a:pt x="38736" y="153415"/>
                  </a:lnTo>
                  <a:lnTo>
                    <a:pt x="27813" y="173989"/>
                  </a:lnTo>
                  <a:lnTo>
                    <a:pt x="15622" y="193420"/>
                  </a:lnTo>
                  <a:lnTo>
                    <a:pt x="12954" y="196214"/>
                  </a:lnTo>
                  <a:lnTo>
                    <a:pt x="7493" y="199644"/>
                  </a:lnTo>
                  <a:lnTo>
                    <a:pt x="2160" y="203073"/>
                  </a:lnTo>
                  <a:lnTo>
                    <a:pt x="0" y="204343"/>
                  </a:lnTo>
                  <a:lnTo>
                    <a:pt x="0" y="187198"/>
                  </a:lnTo>
                  <a:lnTo>
                    <a:pt x="762" y="185165"/>
                  </a:lnTo>
                  <a:lnTo>
                    <a:pt x="1398" y="179577"/>
                  </a:lnTo>
                  <a:lnTo>
                    <a:pt x="3429" y="170561"/>
                  </a:lnTo>
                  <a:lnTo>
                    <a:pt x="5588" y="160146"/>
                  </a:lnTo>
                  <a:lnTo>
                    <a:pt x="12192" y="132588"/>
                  </a:lnTo>
                  <a:lnTo>
                    <a:pt x="20955" y="100711"/>
                  </a:lnTo>
                  <a:lnTo>
                    <a:pt x="32640" y="69088"/>
                  </a:lnTo>
                  <a:lnTo>
                    <a:pt x="46102" y="39243"/>
                  </a:lnTo>
                  <a:lnTo>
                    <a:pt x="61723" y="16382"/>
                  </a:lnTo>
                  <a:lnTo>
                    <a:pt x="70612" y="8255"/>
                  </a:lnTo>
                  <a:lnTo>
                    <a:pt x="79375" y="2794"/>
                  </a:lnTo>
                  <a:lnTo>
                    <a:pt x="84202" y="507"/>
                  </a:lnTo>
                  <a:lnTo>
                    <a:pt x="88392" y="0"/>
                  </a:lnTo>
                  <a:lnTo>
                    <a:pt x="92965" y="19938"/>
                  </a:lnTo>
                  <a:close/>
                </a:path>
              </a:pathLst>
            </a:custGeom>
            <a:solidFill>
              <a:srgbClr val="ddc100"/>
            </a:solidFill>
            <a:ln w="0">
              <a:solidFill>
                <a:srgbClr val="ddc1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Freihandform 156"/>
            <p:cNvSpPr/>
            <p:nvPr/>
          </p:nvSpPr>
          <p:spPr>
            <a:xfrm>
              <a:off x="4146480" y="4403520"/>
              <a:ext cx="110880" cy="19188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191880"/>
                <a:gd name="textAreaBottom" fmla="*/ 192240 h 191880"/>
              </a:gdLst>
              <a:ahLst/>
              <a:rect l="textAreaLeft" t="textAreaTop" r="textAreaRight" b="textAreaBottom"/>
              <a:pathLst>
                <a:path w="93363" h="204759">
                  <a:moveTo>
                    <a:pt x="89771" y="0"/>
                  </a:moveTo>
                  <a:lnTo>
                    <a:pt x="84385" y="0"/>
                  </a:lnTo>
                  <a:lnTo>
                    <a:pt x="80794" y="3657"/>
                  </a:lnTo>
                  <a:lnTo>
                    <a:pt x="71817" y="9141"/>
                  </a:lnTo>
                  <a:lnTo>
                    <a:pt x="62840" y="16454"/>
                  </a:lnTo>
                  <a:lnTo>
                    <a:pt x="46681" y="40220"/>
                  </a:lnTo>
                  <a:lnTo>
                    <a:pt x="34113" y="69472"/>
                  </a:lnTo>
                  <a:lnTo>
                    <a:pt x="21545" y="100551"/>
                  </a:lnTo>
                  <a:lnTo>
                    <a:pt x="12568" y="133459"/>
                  </a:lnTo>
                  <a:lnTo>
                    <a:pt x="7181" y="160881"/>
                  </a:lnTo>
                  <a:lnTo>
                    <a:pt x="3591" y="170022"/>
                  </a:lnTo>
                  <a:lnTo>
                    <a:pt x="1795" y="179163"/>
                  </a:lnTo>
                  <a:lnTo>
                    <a:pt x="1795" y="184648"/>
                  </a:lnTo>
                  <a:lnTo>
                    <a:pt x="0" y="186476"/>
                  </a:lnTo>
                  <a:lnTo>
                    <a:pt x="0" y="204758"/>
                  </a:lnTo>
                  <a:lnTo>
                    <a:pt x="3591" y="202929"/>
                  </a:lnTo>
                  <a:lnTo>
                    <a:pt x="8977" y="199273"/>
                  </a:lnTo>
                  <a:lnTo>
                    <a:pt x="14363" y="195617"/>
                  </a:lnTo>
                  <a:lnTo>
                    <a:pt x="16158" y="193789"/>
                  </a:lnTo>
                  <a:lnTo>
                    <a:pt x="28727" y="173679"/>
                  </a:lnTo>
                  <a:lnTo>
                    <a:pt x="39499" y="153569"/>
                  </a:lnTo>
                  <a:lnTo>
                    <a:pt x="48476" y="137115"/>
                  </a:lnTo>
                  <a:lnTo>
                    <a:pt x="59249" y="118833"/>
                  </a:lnTo>
                  <a:lnTo>
                    <a:pt x="80794" y="82269"/>
                  </a:lnTo>
                  <a:lnTo>
                    <a:pt x="87976" y="62159"/>
                  </a:lnTo>
                  <a:lnTo>
                    <a:pt x="93362" y="40220"/>
                  </a:lnTo>
                  <a:lnTo>
                    <a:pt x="93362" y="20110"/>
                  </a:lnTo>
                  <a:lnTo>
                    <a:pt x="89771" y="0"/>
                  </a:lnTo>
                  <a:close/>
                </a:path>
              </a:pathLst>
            </a:custGeom>
            <a:noFill/>
            <a:ln w="18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Freihandform 157"/>
            <p:cNvSpPr/>
            <p:nvPr/>
          </p:nvSpPr>
          <p:spPr>
            <a:xfrm>
              <a:off x="4173480" y="4410000"/>
              <a:ext cx="349200" cy="182520"/>
            </a:xfrm>
            <a:custGeom>
              <a:avLst/>
              <a:gdLst/>
              <a:ahLst/>
              <a:rect l="l" t="t" r="r" b="b"/>
              <a:pathLst>
                <a:path w="293244" h="194819">
                  <a:moveTo>
                    <a:pt x="65279" y="1396"/>
                  </a:moveTo>
                  <a:lnTo>
                    <a:pt x="85725" y="0"/>
                  </a:lnTo>
                  <a:lnTo>
                    <a:pt x="123572" y="0"/>
                  </a:lnTo>
                  <a:lnTo>
                    <a:pt x="162306" y="2794"/>
                  </a:lnTo>
                  <a:lnTo>
                    <a:pt x="207011" y="6984"/>
                  </a:lnTo>
                  <a:lnTo>
                    <a:pt x="224156" y="11683"/>
                  </a:lnTo>
                  <a:lnTo>
                    <a:pt x="242443" y="22859"/>
                  </a:lnTo>
                  <a:lnTo>
                    <a:pt x="259335" y="37972"/>
                  </a:lnTo>
                  <a:lnTo>
                    <a:pt x="274193" y="55880"/>
                  </a:lnTo>
                  <a:lnTo>
                    <a:pt x="285878" y="76072"/>
                  </a:lnTo>
                  <a:lnTo>
                    <a:pt x="292481" y="96139"/>
                  </a:lnTo>
                  <a:lnTo>
                    <a:pt x="293243" y="115315"/>
                  </a:lnTo>
                  <a:lnTo>
                    <a:pt x="287910" y="131318"/>
                  </a:lnTo>
                  <a:lnTo>
                    <a:pt x="280289" y="138176"/>
                  </a:lnTo>
                  <a:lnTo>
                    <a:pt x="272924" y="139700"/>
                  </a:lnTo>
                  <a:lnTo>
                    <a:pt x="265431" y="136144"/>
                  </a:lnTo>
                  <a:lnTo>
                    <a:pt x="257303" y="129285"/>
                  </a:lnTo>
                  <a:lnTo>
                    <a:pt x="239776" y="111378"/>
                  </a:lnTo>
                  <a:lnTo>
                    <a:pt x="221488" y="96646"/>
                  </a:lnTo>
                  <a:lnTo>
                    <a:pt x="241047" y="111887"/>
                  </a:lnTo>
                  <a:lnTo>
                    <a:pt x="253874" y="126491"/>
                  </a:lnTo>
                  <a:lnTo>
                    <a:pt x="257303" y="133476"/>
                  </a:lnTo>
                  <a:lnTo>
                    <a:pt x="258573" y="138938"/>
                  </a:lnTo>
                  <a:lnTo>
                    <a:pt x="258064" y="143128"/>
                  </a:lnTo>
                  <a:lnTo>
                    <a:pt x="255398" y="145922"/>
                  </a:lnTo>
                  <a:lnTo>
                    <a:pt x="254636" y="148589"/>
                  </a:lnTo>
                  <a:lnTo>
                    <a:pt x="247778" y="152145"/>
                  </a:lnTo>
                  <a:lnTo>
                    <a:pt x="239776" y="154051"/>
                  </a:lnTo>
                  <a:lnTo>
                    <a:pt x="234188" y="154051"/>
                  </a:lnTo>
                  <a:lnTo>
                    <a:pt x="234950" y="159639"/>
                  </a:lnTo>
                  <a:lnTo>
                    <a:pt x="233681" y="164591"/>
                  </a:lnTo>
                  <a:lnTo>
                    <a:pt x="225425" y="170688"/>
                  </a:lnTo>
                  <a:lnTo>
                    <a:pt x="213233" y="172084"/>
                  </a:lnTo>
                  <a:lnTo>
                    <a:pt x="201676" y="167258"/>
                  </a:lnTo>
                  <a:lnTo>
                    <a:pt x="203708" y="173482"/>
                  </a:lnTo>
                  <a:lnTo>
                    <a:pt x="203708" y="177672"/>
                  </a:lnTo>
                  <a:lnTo>
                    <a:pt x="199010" y="183133"/>
                  </a:lnTo>
                  <a:lnTo>
                    <a:pt x="190755" y="183133"/>
                  </a:lnTo>
                  <a:lnTo>
                    <a:pt x="180722" y="179705"/>
                  </a:lnTo>
                  <a:lnTo>
                    <a:pt x="181356" y="188721"/>
                  </a:lnTo>
                  <a:lnTo>
                    <a:pt x="176531" y="193420"/>
                  </a:lnTo>
                  <a:lnTo>
                    <a:pt x="168530" y="194818"/>
                  </a:lnTo>
                  <a:lnTo>
                    <a:pt x="159005" y="192913"/>
                  </a:lnTo>
                  <a:lnTo>
                    <a:pt x="149480" y="187197"/>
                  </a:lnTo>
                  <a:lnTo>
                    <a:pt x="141860" y="178181"/>
                  </a:lnTo>
                  <a:lnTo>
                    <a:pt x="135763" y="169290"/>
                  </a:lnTo>
                  <a:lnTo>
                    <a:pt x="127000" y="162306"/>
                  </a:lnTo>
                  <a:lnTo>
                    <a:pt x="114047" y="156083"/>
                  </a:lnTo>
                  <a:lnTo>
                    <a:pt x="98425" y="147955"/>
                  </a:lnTo>
                  <a:lnTo>
                    <a:pt x="64517" y="129285"/>
                  </a:lnTo>
                  <a:lnTo>
                    <a:pt x="30099" y="109855"/>
                  </a:lnTo>
                  <a:lnTo>
                    <a:pt x="14479" y="100964"/>
                  </a:lnTo>
                  <a:lnTo>
                    <a:pt x="0" y="93980"/>
                  </a:lnTo>
                  <a:lnTo>
                    <a:pt x="762" y="86487"/>
                  </a:lnTo>
                  <a:lnTo>
                    <a:pt x="4192" y="75310"/>
                  </a:lnTo>
                  <a:lnTo>
                    <a:pt x="9018" y="61595"/>
                  </a:lnTo>
                  <a:lnTo>
                    <a:pt x="15113" y="46227"/>
                  </a:lnTo>
                  <a:lnTo>
                    <a:pt x="30099" y="17907"/>
                  </a:lnTo>
                  <a:lnTo>
                    <a:pt x="36831" y="9016"/>
                  </a:lnTo>
                  <a:lnTo>
                    <a:pt x="43562" y="4190"/>
                  </a:lnTo>
                  <a:lnTo>
                    <a:pt x="65279" y="1396"/>
                  </a:lnTo>
                  <a:close/>
                </a:path>
              </a:pathLst>
            </a:custGeom>
            <a:solidFill>
              <a:srgbClr val="e3906a"/>
            </a:solidFill>
            <a:ln w="0">
              <a:solidFill>
                <a:srgbClr val="e3906a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Freihandform 158"/>
            <p:cNvSpPr/>
            <p:nvPr/>
          </p:nvSpPr>
          <p:spPr>
            <a:xfrm>
              <a:off x="4173480" y="4408560"/>
              <a:ext cx="347400" cy="1854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185400"/>
                <a:gd name="textAreaBottom" fmla="*/ 185760 h 185400"/>
              </a:gdLst>
              <a:ahLst/>
              <a:rect l="textAreaLeft" t="textAreaTop" r="textAreaRight" b="textAreaBottom"/>
              <a:pathLst>
                <a:path w="292654" h="195618">
                  <a:moveTo>
                    <a:pt x="43090" y="5484"/>
                  </a:moveTo>
                  <a:lnTo>
                    <a:pt x="37703" y="9140"/>
                  </a:lnTo>
                  <a:lnTo>
                    <a:pt x="30522" y="18281"/>
                  </a:lnTo>
                  <a:lnTo>
                    <a:pt x="16159" y="47533"/>
                  </a:lnTo>
                  <a:lnTo>
                    <a:pt x="8977" y="62158"/>
                  </a:lnTo>
                  <a:lnTo>
                    <a:pt x="5386" y="74956"/>
                  </a:lnTo>
                  <a:lnTo>
                    <a:pt x="1795" y="87753"/>
                  </a:lnTo>
                  <a:lnTo>
                    <a:pt x="0" y="95066"/>
                  </a:lnTo>
                  <a:lnTo>
                    <a:pt x="14363" y="100550"/>
                  </a:lnTo>
                  <a:lnTo>
                    <a:pt x="30522" y="109691"/>
                  </a:lnTo>
                  <a:lnTo>
                    <a:pt x="64635" y="129802"/>
                  </a:lnTo>
                  <a:lnTo>
                    <a:pt x="98748" y="148084"/>
                  </a:lnTo>
                  <a:lnTo>
                    <a:pt x="114906" y="157224"/>
                  </a:lnTo>
                  <a:lnTo>
                    <a:pt x="127474" y="162709"/>
                  </a:lnTo>
                  <a:lnTo>
                    <a:pt x="136452" y="170022"/>
                  </a:lnTo>
                  <a:lnTo>
                    <a:pt x="141838" y="179163"/>
                  </a:lnTo>
                  <a:lnTo>
                    <a:pt x="149020" y="188304"/>
                  </a:lnTo>
                  <a:lnTo>
                    <a:pt x="159792" y="193789"/>
                  </a:lnTo>
                  <a:lnTo>
                    <a:pt x="168769" y="195617"/>
                  </a:lnTo>
                  <a:lnTo>
                    <a:pt x="175950" y="193789"/>
                  </a:lnTo>
                  <a:lnTo>
                    <a:pt x="181337" y="188304"/>
                  </a:lnTo>
                  <a:lnTo>
                    <a:pt x="181337" y="179163"/>
                  </a:lnTo>
                  <a:lnTo>
                    <a:pt x="190314" y="182819"/>
                  </a:lnTo>
                  <a:lnTo>
                    <a:pt x="199291" y="182819"/>
                  </a:lnTo>
                  <a:lnTo>
                    <a:pt x="204677" y="177335"/>
                  </a:lnTo>
                  <a:lnTo>
                    <a:pt x="204677" y="173679"/>
                  </a:lnTo>
                  <a:lnTo>
                    <a:pt x="202882" y="168194"/>
                  </a:lnTo>
                  <a:lnTo>
                    <a:pt x="213654" y="171850"/>
                  </a:lnTo>
                  <a:lnTo>
                    <a:pt x="226222" y="171850"/>
                  </a:lnTo>
                  <a:lnTo>
                    <a:pt x="233404" y="164537"/>
                  </a:lnTo>
                  <a:lnTo>
                    <a:pt x="235200" y="160881"/>
                  </a:lnTo>
                  <a:lnTo>
                    <a:pt x="235200" y="153568"/>
                  </a:lnTo>
                  <a:lnTo>
                    <a:pt x="240586" y="153568"/>
                  </a:lnTo>
                  <a:lnTo>
                    <a:pt x="247767" y="151740"/>
                  </a:lnTo>
                  <a:lnTo>
                    <a:pt x="254949" y="149912"/>
                  </a:lnTo>
                  <a:lnTo>
                    <a:pt x="254949" y="146255"/>
                  </a:lnTo>
                  <a:lnTo>
                    <a:pt x="258540" y="142599"/>
                  </a:lnTo>
                  <a:lnTo>
                    <a:pt x="258540" y="138943"/>
                  </a:lnTo>
                  <a:lnTo>
                    <a:pt x="256744" y="133458"/>
                  </a:lnTo>
                  <a:lnTo>
                    <a:pt x="254949" y="126145"/>
                  </a:lnTo>
                  <a:lnTo>
                    <a:pt x="240586" y="111520"/>
                  </a:lnTo>
                  <a:lnTo>
                    <a:pt x="220836" y="96894"/>
                  </a:lnTo>
                  <a:lnTo>
                    <a:pt x="240586" y="111520"/>
                  </a:lnTo>
                  <a:lnTo>
                    <a:pt x="256744" y="129802"/>
                  </a:lnTo>
                  <a:lnTo>
                    <a:pt x="265721" y="137114"/>
                  </a:lnTo>
                  <a:lnTo>
                    <a:pt x="272903" y="140771"/>
                  </a:lnTo>
                  <a:lnTo>
                    <a:pt x="280085" y="138943"/>
                  </a:lnTo>
                  <a:lnTo>
                    <a:pt x="289062" y="131630"/>
                  </a:lnTo>
                  <a:lnTo>
                    <a:pt x="292653" y="115176"/>
                  </a:lnTo>
                  <a:lnTo>
                    <a:pt x="292653" y="96894"/>
                  </a:lnTo>
                  <a:lnTo>
                    <a:pt x="285471" y="76784"/>
                  </a:lnTo>
                  <a:lnTo>
                    <a:pt x="274698" y="56674"/>
                  </a:lnTo>
                  <a:lnTo>
                    <a:pt x="260335" y="38392"/>
                  </a:lnTo>
                  <a:lnTo>
                    <a:pt x="242381" y="23766"/>
                  </a:lnTo>
                  <a:lnTo>
                    <a:pt x="224427" y="12797"/>
                  </a:lnTo>
                  <a:lnTo>
                    <a:pt x="208268" y="7312"/>
                  </a:lnTo>
                  <a:lnTo>
                    <a:pt x="163383" y="3656"/>
                  </a:lnTo>
                  <a:lnTo>
                    <a:pt x="123883" y="0"/>
                  </a:lnTo>
                  <a:lnTo>
                    <a:pt x="86180" y="0"/>
                  </a:lnTo>
                  <a:lnTo>
                    <a:pt x="66430" y="1828"/>
                  </a:lnTo>
                  <a:lnTo>
                    <a:pt x="43090" y="5484"/>
                  </a:lnTo>
                  <a:close/>
                </a:path>
              </a:pathLst>
            </a:custGeom>
            <a:noFill/>
            <a:ln w="18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Freihandform 159"/>
            <p:cNvSpPr/>
            <p:nvPr/>
          </p:nvSpPr>
          <p:spPr>
            <a:xfrm>
              <a:off x="4087800" y="4557600"/>
              <a:ext cx="406080" cy="241200"/>
            </a:xfrm>
            <a:custGeom>
              <a:avLst/>
              <a:gdLst>
                <a:gd name="textAreaLeft" fmla="*/ 0 w 406080"/>
                <a:gd name="textAreaRight" fmla="*/ 406440 w 406080"/>
                <a:gd name="textAreaTop" fmla="*/ 0 h 241200"/>
                <a:gd name="textAreaBottom" fmla="*/ 241560 h 241200"/>
              </a:gdLst>
              <a:ahLst/>
              <a:rect l="textAreaLeft" t="textAreaTop" r="textAreaRight" b="textAreaBottom"/>
              <a:pathLst>
                <a:path w="341250" h="257048">
                  <a:moveTo>
                    <a:pt x="210186" y="104266"/>
                  </a:moveTo>
                  <a:lnTo>
                    <a:pt x="223902" y="105664"/>
                  </a:lnTo>
                  <a:lnTo>
                    <a:pt x="236855" y="102234"/>
                  </a:lnTo>
                  <a:lnTo>
                    <a:pt x="232029" y="91058"/>
                  </a:lnTo>
                  <a:lnTo>
                    <a:pt x="229998" y="81533"/>
                  </a:lnTo>
                  <a:lnTo>
                    <a:pt x="230760" y="73151"/>
                  </a:lnTo>
                  <a:lnTo>
                    <a:pt x="234823" y="65658"/>
                  </a:lnTo>
                  <a:lnTo>
                    <a:pt x="245618" y="55245"/>
                  </a:lnTo>
                  <a:lnTo>
                    <a:pt x="259208" y="51053"/>
                  </a:lnTo>
                  <a:lnTo>
                    <a:pt x="278130" y="55245"/>
                  </a:lnTo>
                  <a:lnTo>
                    <a:pt x="296418" y="65658"/>
                  </a:lnTo>
                  <a:lnTo>
                    <a:pt x="312802" y="81533"/>
                  </a:lnTo>
                  <a:lnTo>
                    <a:pt x="326391" y="102234"/>
                  </a:lnTo>
                  <a:lnTo>
                    <a:pt x="335916" y="124333"/>
                  </a:lnTo>
                  <a:lnTo>
                    <a:pt x="341249" y="147193"/>
                  </a:lnTo>
                  <a:lnTo>
                    <a:pt x="341249" y="168528"/>
                  </a:lnTo>
                  <a:lnTo>
                    <a:pt x="333756" y="186435"/>
                  </a:lnTo>
                  <a:lnTo>
                    <a:pt x="328423" y="193420"/>
                  </a:lnTo>
                  <a:lnTo>
                    <a:pt x="321056" y="196850"/>
                  </a:lnTo>
                  <a:lnTo>
                    <a:pt x="312802" y="198120"/>
                  </a:lnTo>
                  <a:lnTo>
                    <a:pt x="303277" y="197612"/>
                  </a:lnTo>
                  <a:lnTo>
                    <a:pt x="282956" y="191389"/>
                  </a:lnTo>
                  <a:lnTo>
                    <a:pt x="262002" y="179577"/>
                  </a:lnTo>
                  <a:lnTo>
                    <a:pt x="259842" y="188468"/>
                  </a:lnTo>
                  <a:lnTo>
                    <a:pt x="259842" y="200406"/>
                  </a:lnTo>
                  <a:lnTo>
                    <a:pt x="259208" y="210058"/>
                  </a:lnTo>
                  <a:lnTo>
                    <a:pt x="255143" y="216789"/>
                  </a:lnTo>
                  <a:lnTo>
                    <a:pt x="234061" y="227964"/>
                  </a:lnTo>
                  <a:lnTo>
                    <a:pt x="215773" y="236982"/>
                  </a:lnTo>
                  <a:lnTo>
                    <a:pt x="198755" y="244601"/>
                  </a:lnTo>
                  <a:lnTo>
                    <a:pt x="184531" y="250825"/>
                  </a:lnTo>
                  <a:lnTo>
                    <a:pt x="170942" y="254889"/>
                  </a:lnTo>
                  <a:lnTo>
                    <a:pt x="158750" y="257047"/>
                  </a:lnTo>
                  <a:lnTo>
                    <a:pt x="147955" y="257047"/>
                  </a:lnTo>
                  <a:lnTo>
                    <a:pt x="137668" y="254126"/>
                  </a:lnTo>
                  <a:lnTo>
                    <a:pt x="126873" y="248665"/>
                  </a:lnTo>
                  <a:lnTo>
                    <a:pt x="116713" y="241172"/>
                  </a:lnTo>
                  <a:lnTo>
                    <a:pt x="101092" y="219583"/>
                  </a:lnTo>
                  <a:lnTo>
                    <a:pt x="91567" y="194690"/>
                  </a:lnTo>
                  <a:lnTo>
                    <a:pt x="90171" y="181737"/>
                  </a:lnTo>
                  <a:lnTo>
                    <a:pt x="90805" y="169290"/>
                  </a:lnTo>
                  <a:lnTo>
                    <a:pt x="94235" y="159639"/>
                  </a:lnTo>
                  <a:lnTo>
                    <a:pt x="99061" y="151130"/>
                  </a:lnTo>
                  <a:lnTo>
                    <a:pt x="114681" y="138176"/>
                  </a:lnTo>
                  <a:lnTo>
                    <a:pt x="135002" y="127000"/>
                  </a:lnTo>
                  <a:lnTo>
                    <a:pt x="158750" y="114681"/>
                  </a:lnTo>
                  <a:lnTo>
                    <a:pt x="147193" y="100202"/>
                  </a:lnTo>
                  <a:lnTo>
                    <a:pt x="132335" y="80771"/>
                  </a:lnTo>
                  <a:lnTo>
                    <a:pt x="115317" y="62864"/>
                  </a:lnTo>
                  <a:lnTo>
                    <a:pt x="95631" y="49783"/>
                  </a:lnTo>
                  <a:lnTo>
                    <a:pt x="82042" y="48259"/>
                  </a:lnTo>
                  <a:lnTo>
                    <a:pt x="66422" y="50419"/>
                  </a:lnTo>
                  <a:lnTo>
                    <a:pt x="31750" y="59435"/>
                  </a:lnTo>
                  <a:lnTo>
                    <a:pt x="16891" y="63500"/>
                  </a:lnTo>
                  <a:lnTo>
                    <a:pt x="6097" y="65658"/>
                  </a:lnTo>
                  <a:lnTo>
                    <a:pt x="762" y="63500"/>
                  </a:lnTo>
                  <a:lnTo>
                    <a:pt x="0" y="61468"/>
                  </a:lnTo>
                  <a:lnTo>
                    <a:pt x="2033" y="57276"/>
                  </a:lnTo>
                  <a:lnTo>
                    <a:pt x="10796" y="49783"/>
                  </a:lnTo>
                  <a:lnTo>
                    <a:pt x="25655" y="40766"/>
                  </a:lnTo>
                  <a:lnTo>
                    <a:pt x="46863" y="31622"/>
                  </a:lnTo>
                  <a:lnTo>
                    <a:pt x="70612" y="23368"/>
                  </a:lnTo>
                  <a:lnTo>
                    <a:pt x="120778" y="8255"/>
                  </a:lnTo>
                  <a:lnTo>
                    <a:pt x="142494" y="2794"/>
                  </a:lnTo>
                  <a:lnTo>
                    <a:pt x="160148" y="0"/>
                  </a:lnTo>
                  <a:lnTo>
                    <a:pt x="162179" y="4064"/>
                  </a:lnTo>
                  <a:lnTo>
                    <a:pt x="160148" y="9651"/>
                  </a:lnTo>
                  <a:lnTo>
                    <a:pt x="149225" y="19176"/>
                  </a:lnTo>
                  <a:lnTo>
                    <a:pt x="137034" y="30352"/>
                  </a:lnTo>
                  <a:lnTo>
                    <a:pt x="133604" y="35814"/>
                  </a:lnTo>
                  <a:lnTo>
                    <a:pt x="133604" y="41275"/>
                  </a:lnTo>
                  <a:lnTo>
                    <a:pt x="149861" y="57912"/>
                  </a:lnTo>
                  <a:lnTo>
                    <a:pt x="164085" y="71120"/>
                  </a:lnTo>
                  <a:lnTo>
                    <a:pt x="176277" y="82803"/>
                  </a:lnTo>
                  <a:lnTo>
                    <a:pt x="184531" y="94488"/>
                  </a:lnTo>
                  <a:lnTo>
                    <a:pt x="210186" y="104266"/>
                  </a:lnTo>
                  <a:close/>
                </a:path>
              </a:pathLst>
            </a:custGeom>
            <a:solidFill>
              <a:srgbClr val="cccccc"/>
            </a:solidFill>
            <a:ln w="0">
              <a:solidFill>
                <a:srgbClr val="cccc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Freihandform 160"/>
            <p:cNvSpPr/>
            <p:nvPr/>
          </p:nvSpPr>
          <p:spPr>
            <a:xfrm>
              <a:off x="4087800" y="4556160"/>
              <a:ext cx="406080" cy="242640"/>
            </a:xfrm>
            <a:custGeom>
              <a:avLst/>
              <a:gdLst>
                <a:gd name="textAreaLeft" fmla="*/ 0 w 406080"/>
                <a:gd name="textAreaRight" fmla="*/ 406440 w 406080"/>
                <a:gd name="textAreaTop" fmla="*/ 0 h 242640"/>
                <a:gd name="textAreaBottom" fmla="*/ 243000 h 242640"/>
              </a:gdLst>
              <a:ahLst/>
              <a:rect l="textAreaLeft" t="textAreaTop" r="textAreaRight" b="textAreaBottom"/>
              <a:pathLst>
                <a:path w="341131" h="257774">
                  <a:moveTo>
                    <a:pt x="184928" y="95065"/>
                  </a:moveTo>
                  <a:lnTo>
                    <a:pt x="175951" y="84096"/>
                  </a:lnTo>
                  <a:lnTo>
                    <a:pt x="165178" y="71299"/>
                  </a:lnTo>
                  <a:lnTo>
                    <a:pt x="150815" y="58501"/>
                  </a:lnTo>
                  <a:lnTo>
                    <a:pt x="134657" y="42047"/>
                  </a:lnTo>
                  <a:lnTo>
                    <a:pt x="134657" y="36563"/>
                  </a:lnTo>
                  <a:lnTo>
                    <a:pt x="138247" y="31079"/>
                  </a:lnTo>
                  <a:lnTo>
                    <a:pt x="149020" y="20110"/>
                  </a:lnTo>
                  <a:lnTo>
                    <a:pt x="159792" y="10969"/>
                  </a:lnTo>
                  <a:lnTo>
                    <a:pt x="161588" y="5484"/>
                  </a:lnTo>
                  <a:lnTo>
                    <a:pt x="159792" y="0"/>
                  </a:lnTo>
                  <a:lnTo>
                    <a:pt x="143633" y="3656"/>
                  </a:lnTo>
                  <a:lnTo>
                    <a:pt x="122088" y="9140"/>
                  </a:lnTo>
                  <a:lnTo>
                    <a:pt x="71817" y="23766"/>
                  </a:lnTo>
                  <a:lnTo>
                    <a:pt x="46681" y="32907"/>
                  </a:lnTo>
                  <a:lnTo>
                    <a:pt x="26931" y="42047"/>
                  </a:lnTo>
                  <a:lnTo>
                    <a:pt x="10772" y="51188"/>
                  </a:lnTo>
                  <a:lnTo>
                    <a:pt x="1795" y="58501"/>
                  </a:lnTo>
                  <a:lnTo>
                    <a:pt x="0" y="62158"/>
                  </a:lnTo>
                  <a:lnTo>
                    <a:pt x="1795" y="63986"/>
                  </a:lnTo>
                  <a:lnTo>
                    <a:pt x="7182" y="65814"/>
                  </a:lnTo>
                  <a:lnTo>
                    <a:pt x="17954" y="63986"/>
                  </a:lnTo>
                  <a:lnTo>
                    <a:pt x="32318" y="60329"/>
                  </a:lnTo>
                  <a:lnTo>
                    <a:pt x="66430" y="51188"/>
                  </a:lnTo>
                  <a:lnTo>
                    <a:pt x="82589" y="49360"/>
                  </a:lnTo>
                  <a:lnTo>
                    <a:pt x="95157" y="51188"/>
                  </a:lnTo>
                  <a:lnTo>
                    <a:pt x="114907" y="63986"/>
                  </a:lnTo>
                  <a:lnTo>
                    <a:pt x="132861" y="80439"/>
                  </a:lnTo>
                  <a:lnTo>
                    <a:pt x="147224" y="100549"/>
                  </a:lnTo>
                  <a:lnTo>
                    <a:pt x="159792" y="115175"/>
                  </a:lnTo>
                  <a:lnTo>
                    <a:pt x="134657" y="127972"/>
                  </a:lnTo>
                  <a:lnTo>
                    <a:pt x="114907" y="138941"/>
                  </a:lnTo>
                  <a:lnTo>
                    <a:pt x="98748" y="151738"/>
                  </a:lnTo>
                  <a:lnTo>
                    <a:pt x="95157" y="160879"/>
                  </a:lnTo>
                  <a:lnTo>
                    <a:pt x="91567" y="170020"/>
                  </a:lnTo>
                  <a:lnTo>
                    <a:pt x="89771" y="182817"/>
                  </a:lnTo>
                  <a:lnTo>
                    <a:pt x="91567" y="195614"/>
                  </a:lnTo>
                  <a:lnTo>
                    <a:pt x="102339" y="219381"/>
                  </a:lnTo>
                  <a:lnTo>
                    <a:pt x="116702" y="241319"/>
                  </a:lnTo>
                  <a:lnTo>
                    <a:pt x="127475" y="248632"/>
                  </a:lnTo>
                  <a:lnTo>
                    <a:pt x="138247" y="254116"/>
                  </a:lnTo>
                  <a:lnTo>
                    <a:pt x="149020" y="257773"/>
                  </a:lnTo>
                  <a:lnTo>
                    <a:pt x="159792" y="257773"/>
                  </a:lnTo>
                  <a:lnTo>
                    <a:pt x="170565" y="255944"/>
                  </a:lnTo>
                  <a:lnTo>
                    <a:pt x="184928" y="252288"/>
                  </a:lnTo>
                  <a:lnTo>
                    <a:pt x="199291" y="244975"/>
                  </a:lnTo>
                  <a:lnTo>
                    <a:pt x="215450" y="237663"/>
                  </a:lnTo>
                  <a:lnTo>
                    <a:pt x="235200" y="228522"/>
                  </a:lnTo>
                  <a:lnTo>
                    <a:pt x="254950" y="217553"/>
                  </a:lnTo>
                  <a:lnTo>
                    <a:pt x="260336" y="210240"/>
                  </a:lnTo>
                  <a:lnTo>
                    <a:pt x="260336" y="201099"/>
                  </a:lnTo>
                  <a:lnTo>
                    <a:pt x="260336" y="188302"/>
                  </a:lnTo>
                  <a:lnTo>
                    <a:pt x="262131" y="179161"/>
                  </a:lnTo>
                  <a:lnTo>
                    <a:pt x="283676" y="191958"/>
                  </a:lnTo>
                  <a:lnTo>
                    <a:pt x="303426" y="197443"/>
                  </a:lnTo>
                  <a:lnTo>
                    <a:pt x="312403" y="199271"/>
                  </a:lnTo>
                  <a:lnTo>
                    <a:pt x="321380" y="197443"/>
                  </a:lnTo>
                  <a:lnTo>
                    <a:pt x="328562" y="193786"/>
                  </a:lnTo>
                  <a:lnTo>
                    <a:pt x="333948" y="186473"/>
                  </a:lnTo>
                  <a:lnTo>
                    <a:pt x="341130" y="170020"/>
                  </a:lnTo>
                  <a:lnTo>
                    <a:pt x="341130" y="148082"/>
                  </a:lnTo>
                  <a:lnTo>
                    <a:pt x="335743" y="124316"/>
                  </a:lnTo>
                  <a:lnTo>
                    <a:pt x="326766" y="102377"/>
                  </a:lnTo>
                  <a:lnTo>
                    <a:pt x="312403" y="82267"/>
                  </a:lnTo>
                  <a:lnTo>
                    <a:pt x="296244" y="65814"/>
                  </a:lnTo>
                  <a:lnTo>
                    <a:pt x="278290" y="56673"/>
                  </a:lnTo>
                  <a:lnTo>
                    <a:pt x="260336" y="51188"/>
                  </a:lnTo>
                  <a:lnTo>
                    <a:pt x="245972" y="56673"/>
                  </a:lnTo>
                  <a:lnTo>
                    <a:pt x="235200" y="65814"/>
                  </a:lnTo>
                  <a:lnTo>
                    <a:pt x="231609" y="73126"/>
                  </a:lnTo>
                  <a:lnTo>
                    <a:pt x="229814" y="82267"/>
                  </a:lnTo>
                  <a:lnTo>
                    <a:pt x="231609" y="91408"/>
                  </a:lnTo>
                  <a:lnTo>
                    <a:pt x="236995" y="102377"/>
                  </a:lnTo>
                  <a:lnTo>
                    <a:pt x="224427" y="106034"/>
                  </a:lnTo>
                  <a:lnTo>
                    <a:pt x="210064" y="104206"/>
                  </a:lnTo>
                  <a:lnTo>
                    <a:pt x="184928" y="95065"/>
                  </a:lnTo>
                  <a:close/>
                </a:path>
              </a:pathLst>
            </a:custGeom>
            <a:noFill/>
            <a:ln w="18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Freihandform 161"/>
            <p:cNvSpPr/>
            <p:nvPr/>
          </p:nvSpPr>
          <p:spPr>
            <a:xfrm>
              <a:off x="3436920" y="3851280"/>
              <a:ext cx="815760" cy="745920"/>
            </a:xfrm>
            <a:custGeom>
              <a:avLst/>
              <a:gdLst>
                <a:gd name="textAreaLeft" fmla="*/ 0 w 815760"/>
                <a:gd name="textAreaRight" fmla="*/ 816120 w 815760"/>
                <a:gd name="textAreaTop" fmla="*/ 0 h 745920"/>
                <a:gd name="textAreaBottom" fmla="*/ 746280 h 745920"/>
              </a:gdLst>
              <a:ahLst/>
              <a:rect l="textAreaLeft" t="textAreaTop" r="textAreaRight" b="textAreaBottom"/>
              <a:pathLst>
                <a:path w="685293" h="791211">
                  <a:moveTo>
                    <a:pt x="103759" y="6857"/>
                  </a:moveTo>
                  <a:lnTo>
                    <a:pt x="124715" y="2158"/>
                  </a:lnTo>
                  <a:lnTo>
                    <a:pt x="143765" y="0"/>
                  </a:lnTo>
                  <a:lnTo>
                    <a:pt x="161418" y="1396"/>
                  </a:lnTo>
                  <a:lnTo>
                    <a:pt x="177039" y="5587"/>
                  </a:lnTo>
                  <a:lnTo>
                    <a:pt x="190627" y="12445"/>
                  </a:lnTo>
                  <a:lnTo>
                    <a:pt x="202820" y="21589"/>
                  </a:lnTo>
                  <a:lnTo>
                    <a:pt x="213615" y="32512"/>
                  </a:lnTo>
                  <a:lnTo>
                    <a:pt x="231902" y="58038"/>
                  </a:lnTo>
                  <a:lnTo>
                    <a:pt x="246889" y="87756"/>
                  </a:lnTo>
                  <a:lnTo>
                    <a:pt x="258572" y="118744"/>
                  </a:lnTo>
                  <a:lnTo>
                    <a:pt x="267843" y="148589"/>
                  </a:lnTo>
                  <a:lnTo>
                    <a:pt x="302515" y="254254"/>
                  </a:lnTo>
                  <a:lnTo>
                    <a:pt x="321565" y="306196"/>
                  </a:lnTo>
                  <a:lnTo>
                    <a:pt x="343281" y="355854"/>
                  </a:lnTo>
                  <a:lnTo>
                    <a:pt x="369062" y="401446"/>
                  </a:lnTo>
                  <a:lnTo>
                    <a:pt x="400940" y="442975"/>
                  </a:lnTo>
                  <a:lnTo>
                    <a:pt x="419227" y="462280"/>
                  </a:lnTo>
                  <a:lnTo>
                    <a:pt x="439674" y="479425"/>
                  </a:lnTo>
                  <a:lnTo>
                    <a:pt x="462662" y="495426"/>
                  </a:lnTo>
                  <a:lnTo>
                    <a:pt x="487046" y="509269"/>
                  </a:lnTo>
                  <a:lnTo>
                    <a:pt x="504699" y="516255"/>
                  </a:lnTo>
                  <a:lnTo>
                    <a:pt x="531242" y="523748"/>
                  </a:lnTo>
                  <a:lnTo>
                    <a:pt x="561721" y="531368"/>
                  </a:lnTo>
                  <a:lnTo>
                    <a:pt x="594234" y="539623"/>
                  </a:lnTo>
                  <a:lnTo>
                    <a:pt x="626237" y="549275"/>
                  </a:lnTo>
                  <a:lnTo>
                    <a:pt x="654050" y="559688"/>
                  </a:lnTo>
                  <a:lnTo>
                    <a:pt x="674371" y="571500"/>
                  </a:lnTo>
                  <a:lnTo>
                    <a:pt x="681102" y="576961"/>
                  </a:lnTo>
                  <a:lnTo>
                    <a:pt x="685292" y="583819"/>
                  </a:lnTo>
                  <a:lnTo>
                    <a:pt x="672339" y="590804"/>
                  </a:lnTo>
                  <a:lnTo>
                    <a:pt x="660909" y="601218"/>
                  </a:lnTo>
                  <a:lnTo>
                    <a:pt x="651384" y="614171"/>
                  </a:lnTo>
                  <a:lnTo>
                    <a:pt x="642493" y="629538"/>
                  </a:lnTo>
                  <a:lnTo>
                    <a:pt x="629666" y="662686"/>
                  </a:lnTo>
                  <a:lnTo>
                    <a:pt x="622809" y="695198"/>
                  </a:lnTo>
                  <a:lnTo>
                    <a:pt x="618617" y="713867"/>
                  </a:lnTo>
                  <a:lnTo>
                    <a:pt x="612014" y="737235"/>
                  </a:lnTo>
                  <a:lnTo>
                    <a:pt x="596393" y="790448"/>
                  </a:lnTo>
                  <a:lnTo>
                    <a:pt x="585471" y="791210"/>
                  </a:lnTo>
                  <a:lnTo>
                    <a:pt x="571246" y="787019"/>
                  </a:lnTo>
                  <a:lnTo>
                    <a:pt x="554990" y="779525"/>
                  </a:lnTo>
                  <a:lnTo>
                    <a:pt x="536575" y="770508"/>
                  </a:lnTo>
                  <a:lnTo>
                    <a:pt x="500762" y="750443"/>
                  </a:lnTo>
                  <a:lnTo>
                    <a:pt x="484378" y="742695"/>
                  </a:lnTo>
                  <a:lnTo>
                    <a:pt x="471424" y="737996"/>
                  </a:lnTo>
                  <a:lnTo>
                    <a:pt x="443103" y="731774"/>
                  </a:lnTo>
                  <a:lnTo>
                    <a:pt x="410465" y="724788"/>
                  </a:lnTo>
                  <a:lnTo>
                    <a:pt x="379858" y="715137"/>
                  </a:lnTo>
                  <a:lnTo>
                    <a:pt x="366268" y="708151"/>
                  </a:lnTo>
                  <a:lnTo>
                    <a:pt x="356871" y="700658"/>
                  </a:lnTo>
                  <a:lnTo>
                    <a:pt x="328296" y="676529"/>
                  </a:lnTo>
                  <a:lnTo>
                    <a:pt x="295656" y="656462"/>
                  </a:lnTo>
                  <a:lnTo>
                    <a:pt x="226568" y="619887"/>
                  </a:lnTo>
                  <a:lnTo>
                    <a:pt x="193295" y="600456"/>
                  </a:lnTo>
                  <a:lnTo>
                    <a:pt x="163322" y="576961"/>
                  </a:lnTo>
                  <a:lnTo>
                    <a:pt x="150622" y="563752"/>
                  </a:lnTo>
                  <a:lnTo>
                    <a:pt x="138939" y="549275"/>
                  </a:lnTo>
                  <a:lnTo>
                    <a:pt x="129414" y="532637"/>
                  </a:lnTo>
                  <a:lnTo>
                    <a:pt x="122047" y="514731"/>
                  </a:lnTo>
                  <a:lnTo>
                    <a:pt x="105665" y="475487"/>
                  </a:lnTo>
                  <a:lnTo>
                    <a:pt x="85471" y="437387"/>
                  </a:lnTo>
                  <a:lnTo>
                    <a:pt x="40514" y="362838"/>
                  </a:lnTo>
                  <a:lnTo>
                    <a:pt x="20955" y="322580"/>
                  </a:lnTo>
                  <a:lnTo>
                    <a:pt x="6605" y="278511"/>
                  </a:lnTo>
                  <a:lnTo>
                    <a:pt x="1905" y="255016"/>
                  </a:lnTo>
                  <a:lnTo>
                    <a:pt x="0" y="230124"/>
                  </a:lnTo>
                  <a:lnTo>
                    <a:pt x="0" y="203835"/>
                  </a:lnTo>
                  <a:lnTo>
                    <a:pt x="2668" y="174879"/>
                  </a:lnTo>
                  <a:lnTo>
                    <a:pt x="3937" y="156210"/>
                  </a:lnTo>
                  <a:lnTo>
                    <a:pt x="4699" y="134746"/>
                  </a:lnTo>
                  <a:lnTo>
                    <a:pt x="10796" y="89916"/>
                  </a:lnTo>
                  <a:lnTo>
                    <a:pt x="18796" y="67818"/>
                  </a:lnTo>
                  <a:lnTo>
                    <a:pt x="31750" y="47625"/>
                  </a:lnTo>
                  <a:lnTo>
                    <a:pt x="52197" y="29718"/>
                  </a:lnTo>
                  <a:lnTo>
                    <a:pt x="65024" y="22860"/>
                  </a:lnTo>
                  <a:lnTo>
                    <a:pt x="80646" y="15875"/>
                  </a:lnTo>
                  <a:lnTo>
                    <a:pt x="103759" y="6857"/>
                  </a:lnTo>
                  <a:close/>
                </a:path>
              </a:pathLst>
            </a:cu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Freihandform 162"/>
            <p:cNvSpPr/>
            <p:nvPr/>
          </p:nvSpPr>
          <p:spPr>
            <a:xfrm>
              <a:off x="3440160" y="3851280"/>
              <a:ext cx="812520" cy="745920"/>
            </a:xfrm>
            <a:custGeom>
              <a:avLst/>
              <a:gdLst>
                <a:gd name="textAreaLeft" fmla="*/ 0 w 812520"/>
                <a:gd name="textAreaRight" fmla="*/ 812880 w 812520"/>
                <a:gd name="textAreaTop" fmla="*/ 0 h 745920"/>
                <a:gd name="textAreaBottom" fmla="*/ 746280 h 745920"/>
              </a:gdLst>
              <a:ahLst/>
              <a:rect l="textAreaLeft" t="textAreaTop" r="textAreaRight" b="textAreaBottom"/>
              <a:pathLst>
                <a:path w="684056" h="791605">
                  <a:moveTo>
                    <a:pt x="78999" y="16453"/>
                  </a:moveTo>
                  <a:lnTo>
                    <a:pt x="64635" y="21938"/>
                  </a:lnTo>
                  <a:lnTo>
                    <a:pt x="52067" y="29250"/>
                  </a:lnTo>
                  <a:lnTo>
                    <a:pt x="30522" y="47532"/>
                  </a:lnTo>
                  <a:lnTo>
                    <a:pt x="17954" y="67642"/>
                  </a:lnTo>
                  <a:lnTo>
                    <a:pt x="10773" y="89581"/>
                  </a:lnTo>
                  <a:lnTo>
                    <a:pt x="3591" y="135285"/>
                  </a:lnTo>
                  <a:lnTo>
                    <a:pt x="3591" y="155395"/>
                  </a:lnTo>
                  <a:lnTo>
                    <a:pt x="1796" y="175506"/>
                  </a:lnTo>
                  <a:lnTo>
                    <a:pt x="0" y="202928"/>
                  </a:lnTo>
                  <a:lnTo>
                    <a:pt x="0" y="230351"/>
                  </a:lnTo>
                  <a:lnTo>
                    <a:pt x="1796" y="254117"/>
                  </a:lnTo>
                  <a:lnTo>
                    <a:pt x="5387" y="277884"/>
                  </a:lnTo>
                  <a:lnTo>
                    <a:pt x="19750" y="321760"/>
                  </a:lnTo>
                  <a:lnTo>
                    <a:pt x="39500" y="361980"/>
                  </a:lnTo>
                  <a:lnTo>
                    <a:pt x="84385" y="436936"/>
                  </a:lnTo>
                  <a:lnTo>
                    <a:pt x="105930" y="475328"/>
                  </a:lnTo>
                  <a:lnTo>
                    <a:pt x="122089" y="515548"/>
                  </a:lnTo>
                  <a:lnTo>
                    <a:pt x="129270" y="532002"/>
                  </a:lnTo>
                  <a:lnTo>
                    <a:pt x="138248" y="548455"/>
                  </a:lnTo>
                  <a:lnTo>
                    <a:pt x="150815" y="563081"/>
                  </a:lnTo>
                  <a:lnTo>
                    <a:pt x="163383" y="577706"/>
                  </a:lnTo>
                  <a:lnTo>
                    <a:pt x="192110" y="599644"/>
                  </a:lnTo>
                  <a:lnTo>
                    <a:pt x="226223" y="619754"/>
                  </a:lnTo>
                  <a:lnTo>
                    <a:pt x="294449" y="656318"/>
                  </a:lnTo>
                  <a:lnTo>
                    <a:pt x="326767" y="676428"/>
                  </a:lnTo>
                  <a:lnTo>
                    <a:pt x="355493" y="700195"/>
                  </a:lnTo>
                  <a:lnTo>
                    <a:pt x="366266" y="707507"/>
                  </a:lnTo>
                  <a:lnTo>
                    <a:pt x="378834" y="714820"/>
                  </a:lnTo>
                  <a:lnTo>
                    <a:pt x="409356" y="723961"/>
                  </a:lnTo>
                  <a:lnTo>
                    <a:pt x="441674" y="731274"/>
                  </a:lnTo>
                  <a:lnTo>
                    <a:pt x="470400" y="738587"/>
                  </a:lnTo>
                  <a:lnTo>
                    <a:pt x="482968" y="742243"/>
                  </a:lnTo>
                  <a:lnTo>
                    <a:pt x="500923" y="749556"/>
                  </a:lnTo>
                  <a:lnTo>
                    <a:pt x="536831" y="769666"/>
                  </a:lnTo>
                  <a:lnTo>
                    <a:pt x="554785" y="778807"/>
                  </a:lnTo>
                  <a:lnTo>
                    <a:pt x="570944" y="786119"/>
                  </a:lnTo>
                  <a:lnTo>
                    <a:pt x="585307" y="791604"/>
                  </a:lnTo>
                  <a:lnTo>
                    <a:pt x="596080" y="789776"/>
                  </a:lnTo>
                  <a:lnTo>
                    <a:pt x="612238" y="736758"/>
                  </a:lnTo>
                  <a:lnTo>
                    <a:pt x="617625" y="712992"/>
                  </a:lnTo>
                  <a:lnTo>
                    <a:pt x="623011" y="694710"/>
                  </a:lnTo>
                  <a:lnTo>
                    <a:pt x="628398" y="661803"/>
                  </a:lnTo>
                  <a:lnTo>
                    <a:pt x="640965" y="628895"/>
                  </a:lnTo>
                  <a:lnTo>
                    <a:pt x="649942" y="614270"/>
                  </a:lnTo>
                  <a:lnTo>
                    <a:pt x="660715" y="601473"/>
                  </a:lnTo>
                  <a:lnTo>
                    <a:pt x="671488" y="590503"/>
                  </a:lnTo>
                  <a:lnTo>
                    <a:pt x="684055" y="583191"/>
                  </a:lnTo>
                  <a:lnTo>
                    <a:pt x="680465" y="577706"/>
                  </a:lnTo>
                  <a:lnTo>
                    <a:pt x="673283" y="570393"/>
                  </a:lnTo>
                  <a:lnTo>
                    <a:pt x="653533" y="559424"/>
                  </a:lnTo>
                  <a:lnTo>
                    <a:pt x="624807" y="548455"/>
                  </a:lnTo>
                  <a:lnTo>
                    <a:pt x="594284" y="539314"/>
                  </a:lnTo>
                  <a:lnTo>
                    <a:pt x="560171" y="532002"/>
                  </a:lnTo>
                  <a:lnTo>
                    <a:pt x="531445" y="522861"/>
                  </a:lnTo>
                  <a:lnTo>
                    <a:pt x="504513" y="515548"/>
                  </a:lnTo>
                  <a:lnTo>
                    <a:pt x="486559" y="510063"/>
                  </a:lnTo>
                  <a:lnTo>
                    <a:pt x="461423" y="495438"/>
                  </a:lnTo>
                  <a:lnTo>
                    <a:pt x="438083" y="478984"/>
                  </a:lnTo>
                  <a:lnTo>
                    <a:pt x="418333" y="462531"/>
                  </a:lnTo>
                  <a:lnTo>
                    <a:pt x="400379" y="442421"/>
                  </a:lnTo>
                  <a:lnTo>
                    <a:pt x="368061" y="400372"/>
                  </a:lnTo>
                  <a:lnTo>
                    <a:pt x="342925" y="356496"/>
                  </a:lnTo>
                  <a:lnTo>
                    <a:pt x="321381" y="305306"/>
                  </a:lnTo>
                  <a:lnTo>
                    <a:pt x="301631" y="254117"/>
                  </a:lnTo>
                  <a:lnTo>
                    <a:pt x="267518" y="148082"/>
                  </a:lnTo>
                  <a:lnTo>
                    <a:pt x="258541" y="118831"/>
                  </a:lnTo>
                  <a:lnTo>
                    <a:pt x="245973" y="87752"/>
                  </a:lnTo>
                  <a:lnTo>
                    <a:pt x="231610" y="58501"/>
                  </a:lnTo>
                  <a:lnTo>
                    <a:pt x="213655" y="32907"/>
                  </a:lnTo>
                  <a:lnTo>
                    <a:pt x="202883" y="21938"/>
                  </a:lnTo>
                  <a:lnTo>
                    <a:pt x="190315" y="12797"/>
                  </a:lnTo>
                  <a:lnTo>
                    <a:pt x="175952" y="5484"/>
                  </a:lnTo>
                  <a:lnTo>
                    <a:pt x="159793" y="1828"/>
                  </a:lnTo>
                  <a:lnTo>
                    <a:pt x="143634" y="0"/>
                  </a:lnTo>
                  <a:lnTo>
                    <a:pt x="123884" y="1828"/>
                  </a:lnTo>
                  <a:lnTo>
                    <a:pt x="102339" y="7312"/>
                  </a:lnTo>
                  <a:lnTo>
                    <a:pt x="78999" y="16453"/>
                  </a:lnTo>
                  <a:close/>
                </a:path>
              </a:pathLst>
            </a:custGeom>
            <a:noFill/>
            <a:ln w="18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Freihandform 163"/>
            <p:cNvSpPr/>
            <p:nvPr/>
          </p:nvSpPr>
          <p:spPr>
            <a:xfrm>
              <a:off x="3051000" y="4816440"/>
              <a:ext cx="569880" cy="1193760"/>
            </a:xfrm>
            <a:custGeom>
              <a:avLst/>
              <a:gdLst>
                <a:gd name="textAreaLeft" fmla="*/ 0 w 569880"/>
                <a:gd name="textAreaRight" fmla="*/ 570240 w 569880"/>
                <a:gd name="textAreaTop" fmla="*/ 0 h 1193760"/>
                <a:gd name="textAreaBottom" fmla="*/ 1194120 h 1193760"/>
              </a:gdLst>
              <a:ahLst/>
              <a:rect l="textAreaLeft" t="textAreaTop" r="textAreaRight" b="textAreaBottom"/>
              <a:pathLst>
                <a:path w="479680" h="1269366">
                  <a:moveTo>
                    <a:pt x="95504" y="761"/>
                  </a:moveTo>
                  <a:lnTo>
                    <a:pt x="98932" y="0"/>
                  </a:lnTo>
                  <a:lnTo>
                    <a:pt x="109092" y="1270"/>
                  </a:lnTo>
                  <a:lnTo>
                    <a:pt x="124079" y="4698"/>
                  </a:lnTo>
                  <a:lnTo>
                    <a:pt x="145034" y="8254"/>
                  </a:lnTo>
                  <a:lnTo>
                    <a:pt x="169417" y="13715"/>
                  </a:lnTo>
                  <a:lnTo>
                    <a:pt x="197992" y="18669"/>
                  </a:lnTo>
                  <a:lnTo>
                    <a:pt x="260476" y="28321"/>
                  </a:lnTo>
                  <a:lnTo>
                    <a:pt x="326389" y="34544"/>
                  </a:lnTo>
                  <a:lnTo>
                    <a:pt x="358901" y="35814"/>
                  </a:lnTo>
                  <a:lnTo>
                    <a:pt x="388619" y="35305"/>
                  </a:lnTo>
                  <a:lnTo>
                    <a:pt x="417194" y="32384"/>
                  </a:lnTo>
                  <a:lnTo>
                    <a:pt x="442341" y="26923"/>
                  </a:lnTo>
                  <a:lnTo>
                    <a:pt x="463295" y="18669"/>
                  </a:lnTo>
                  <a:lnTo>
                    <a:pt x="479679" y="6984"/>
                  </a:lnTo>
                  <a:lnTo>
                    <a:pt x="479679" y="11684"/>
                  </a:lnTo>
                  <a:lnTo>
                    <a:pt x="478282" y="25653"/>
                  </a:lnTo>
                  <a:lnTo>
                    <a:pt x="477519" y="48259"/>
                  </a:lnTo>
                  <a:lnTo>
                    <a:pt x="476250" y="77342"/>
                  </a:lnTo>
                  <a:lnTo>
                    <a:pt x="474853" y="113410"/>
                  </a:lnTo>
                  <a:lnTo>
                    <a:pt x="472820" y="153415"/>
                  </a:lnTo>
                  <a:lnTo>
                    <a:pt x="470916" y="197611"/>
                  </a:lnTo>
                  <a:lnTo>
                    <a:pt x="467994" y="245364"/>
                  </a:lnTo>
                  <a:lnTo>
                    <a:pt x="461898" y="343280"/>
                  </a:lnTo>
                  <a:lnTo>
                    <a:pt x="455294" y="440054"/>
                  </a:lnTo>
                  <a:lnTo>
                    <a:pt x="450469" y="485013"/>
                  </a:lnTo>
                  <a:lnTo>
                    <a:pt x="445769" y="526541"/>
                  </a:lnTo>
                  <a:lnTo>
                    <a:pt x="440944" y="563117"/>
                  </a:lnTo>
                  <a:lnTo>
                    <a:pt x="436244" y="594105"/>
                  </a:lnTo>
                  <a:lnTo>
                    <a:pt x="431419" y="601853"/>
                  </a:lnTo>
                  <a:lnTo>
                    <a:pt x="422656" y="611504"/>
                  </a:lnTo>
                  <a:lnTo>
                    <a:pt x="412495" y="621791"/>
                  </a:lnTo>
                  <a:lnTo>
                    <a:pt x="403606" y="634872"/>
                  </a:lnTo>
                  <a:lnTo>
                    <a:pt x="409194" y="650113"/>
                  </a:lnTo>
                  <a:lnTo>
                    <a:pt x="409701" y="662559"/>
                  </a:lnTo>
                  <a:lnTo>
                    <a:pt x="407035" y="672210"/>
                  </a:lnTo>
                  <a:lnTo>
                    <a:pt x="401573" y="680592"/>
                  </a:lnTo>
                  <a:lnTo>
                    <a:pt x="394081" y="686815"/>
                  </a:lnTo>
                  <a:lnTo>
                    <a:pt x="385953" y="691641"/>
                  </a:lnTo>
                  <a:lnTo>
                    <a:pt x="369061" y="694309"/>
                  </a:lnTo>
                  <a:lnTo>
                    <a:pt x="372491" y="701294"/>
                  </a:lnTo>
                  <a:lnTo>
                    <a:pt x="374523" y="713740"/>
                  </a:lnTo>
                  <a:lnTo>
                    <a:pt x="375157" y="729615"/>
                  </a:lnTo>
                  <a:lnTo>
                    <a:pt x="375157" y="749680"/>
                  </a:lnTo>
                  <a:lnTo>
                    <a:pt x="371729" y="795273"/>
                  </a:lnTo>
                  <a:lnTo>
                    <a:pt x="364998" y="844930"/>
                  </a:lnTo>
                  <a:lnTo>
                    <a:pt x="355473" y="892683"/>
                  </a:lnTo>
                  <a:lnTo>
                    <a:pt x="350011" y="913384"/>
                  </a:lnTo>
                  <a:lnTo>
                    <a:pt x="343916" y="930782"/>
                  </a:lnTo>
                  <a:lnTo>
                    <a:pt x="337185" y="944498"/>
                  </a:lnTo>
                  <a:lnTo>
                    <a:pt x="330326" y="953643"/>
                  </a:lnTo>
                  <a:lnTo>
                    <a:pt x="322960" y="956818"/>
                  </a:lnTo>
                  <a:lnTo>
                    <a:pt x="315467" y="953643"/>
                  </a:lnTo>
                  <a:lnTo>
                    <a:pt x="308610" y="974979"/>
                  </a:lnTo>
                  <a:lnTo>
                    <a:pt x="301751" y="999870"/>
                  </a:lnTo>
                  <a:lnTo>
                    <a:pt x="288289" y="1057782"/>
                  </a:lnTo>
                  <a:lnTo>
                    <a:pt x="282956" y="1086104"/>
                  </a:lnTo>
                  <a:lnTo>
                    <a:pt x="278129" y="1112393"/>
                  </a:lnTo>
                  <a:lnTo>
                    <a:pt x="274701" y="1133856"/>
                  </a:lnTo>
                  <a:lnTo>
                    <a:pt x="273431" y="1149731"/>
                  </a:lnTo>
                  <a:lnTo>
                    <a:pt x="273938" y="1162939"/>
                  </a:lnTo>
                  <a:lnTo>
                    <a:pt x="276098" y="1175384"/>
                  </a:lnTo>
                  <a:lnTo>
                    <a:pt x="283463" y="1197482"/>
                  </a:lnTo>
                  <a:lnTo>
                    <a:pt x="289560" y="1220851"/>
                  </a:lnTo>
                  <a:lnTo>
                    <a:pt x="289560" y="1234058"/>
                  </a:lnTo>
                  <a:lnTo>
                    <a:pt x="286892" y="1249171"/>
                  </a:lnTo>
                  <a:lnTo>
                    <a:pt x="278129" y="1253363"/>
                  </a:lnTo>
                  <a:lnTo>
                    <a:pt x="263144" y="1255394"/>
                  </a:lnTo>
                  <a:lnTo>
                    <a:pt x="243459" y="1257554"/>
                  </a:lnTo>
                  <a:lnTo>
                    <a:pt x="221741" y="1258189"/>
                  </a:lnTo>
                  <a:lnTo>
                    <a:pt x="178942" y="1258189"/>
                  </a:lnTo>
                  <a:lnTo>
                    <a:pt x="162051" y="1258189"/>
                  </a:lnTo>
                  <a:lnTo>
                    <a:pt x="150622" y="1258189"/>
                  </a:lnTo>
                  <a:lnTo>
                    <a:pt x="131572" y="1260347"/>
                  </a:lnTo>
                  <a:lnTo>
                    <a:pt x="111125" y="1263777"/>
                  </a:lnTo>
                  <a:lnTo>
                    <a:pt x="69088" y="1269365"/>
                  </a:lnTo>
                  <a:lnTo>
                    <a:pt x="49276" y="1269365"/>
                  </a:lnTo>
                  <a:lnTo>
                    <a:pt x="31750" y="1265808"/>
                  </a:lnTo>
                  <a:lnTo>
                    <a:pt x="17526" y="1258951"/>
                  </a:lnTo>
                  <a:lnTo>
                    <a:pt x="8001" y="1246505"/>
                  </a:lnTo>
                  <a:lnTo>
                    <a:pt x="3175" y="1234820"/>
                  </a:lnTo>
                  <a:lnTo>
                    <a:pt x="507" y="1222375"/>
                  </a:lnTo>
                  <a:lnTo>
                    <a:pt x="0" y="1195323"/>
                  </a:lnTo>
                  <a:lnTo>
                    <a:pt x="3175" y="1166876"/>
                  </a:lnTo>
                  <a:lnTo>
                    <a:pt x="8001" y="1139317"/>
                  </a:lnTo>
                  <a:lnTo>
                    <a:pt x="18288" y="1093089"/>
                  </a:lnTo>
                  <a:lnTo>
                    <a:pt x="30479" y="1044067"/>
                  </a:lnTo>
                  <a:lnTo>
                    <a:pt x="58801" y="943102"/>
                  </a:lnTo>
                  <a:lnTo>
                    <a:pt x="54863" y="936243"/>
                  </a:lnTo>
                  <a:lnTo>
                    <a:pt x="53466" y="925829"/>
                  </a:lnTo>
                  <a:lnTo>
                    <a:pt x="53466" y="912876"/>
                  </a:lnTo>
                  <a:lnTo>
                    <a:pt x="56134" y="896873"/>
                  </a:lnTo>
                  <a:lnTo>
                    <a:pt x="60325" y="879602"/>
                  </a:lnTo>
                  <a:lnTo>
                    <a:pt x="65659" y="860171"/>
                  </a:lnTo>
                  <a:lnTo>
                    <a:pt x="79375" y="817371"/>
                  </a:lnTo>
                  <a:lnTo>
                    <a:pt x="109092" y="724915"/>
                  </a:lnTo>
                  <a:lnTo>
                    <a:pt x="121285" y="680592"/>
                  </a:lnTo>
                  <a:lnTo>
                    <a:pt x="126238" y="660527"/>
                  </a:lnTo>
                  <a:lnTo>
                    <a:pt x="129413" y="641858"/>
                  </a:lnTo>
                  <a:lnTo>
                    <a:pt x="134238" y="629411"/>
                  </a:lnTo>
                  <a:lnTo>
                    <a:pt x="141604" y="618997"/>
                  </a:lnTo>
                  <a:lnTo>
                    <a:pt x="143763" y="612775"/>
                  </a:lnTo>
                  <a:lnTo>
                    <a:pt x="143763" y="605916"/>
                  </a:lnTo>
                  <a:lnTo>
                    <a:pt x="140335" y="598423"/>
                  </a:lnTo>
                  <a:lnTo>
                    <a:pt x="132841" y="588009"/>
                  </a:lnTo>
                  <a:lnTo>
                    <a:pt x="130810" y="581786"/>
                  </a:lnTo>
                  <a:lnTo>
                    <a:pt x="131572" y="573532"/>
                  </a:lnTo>
                  <a:lnTo>
                    <a:pt x="132841" y="562355"/>
                  </a:lnTo>
                  <a:lnTo>
                    <a:pt x="135001" y="549402"/>
                  </a:lnTo>
                  <a:lnTo>
                    <a:pt x="141097" y="517525"/>
                  </a:lnTo>
                  <a:lnTo>
                    <a:pt x="144526" y="478028"/>
                  </a:lnTo>
                  <a:lnTo>
                    <a:pt x="145034" y="442976"/>
                  </a:lnTo>
                  <a:lnTo>
                    <a:pt x="144526" y="405003"/>
                  </a:lnTo>
                  <a:lnTo>
                    <a:pt x="141604" y="326135"/>
                  </a:lnTo>
                  <a:lnTo>
                    <a:pt x="136906" y="249428"/>
                  </a:lnTo>
                  <a:lnTo>
                    <a:pt x="135001" y="213486"/>
                  </a:lnTo>
                  <a:lnTo>
                    <a:pt x="132841" y="181736"/>
                  </a:lnTo>
                  <a:lnTo>
                    <a:pt x="130175" y="156845"/>
                  </a:lnTo>
                  <a:lnTo>
                    <a:pt x="125476" y="134746"/>
                  </a:lnTo>
                  <a:lnTo>
                    <a:pt x="111760" y="93979"/>
                  </a:lnTo>
                  <a:lnTo>
                    <a:pt x="99567" y="51180"/>
                  </a:lnTo>
                  <a:lnTo>
                    <a:pt x="95504" y="27559"/>
                  </a:lnTo>
                  <a:lnTo>
                    <a:pt x="95504" y="761"/>
                  </a:lnTo>
                  <a:close/>
                </a:path>
              </a:pathLst>
            </a:custGeom>
            <a:solidFill>
              <a:srgbClr val="7fb500"/>
            </a:solidFill>
            <a:ln w="0">
              <a:solidFill>
                <a:srgbClr val="7fb5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Freihandform 164"/>
            <p:cNvSpPr/>
            <p:nvPr/>
          </p:nvSpPr>
          <p:spPr>
            <a:xfrm>
              <a:off x="3051000" y="4816440"/>
              <a:ext cx="569880" cy="1193760"/>
            </a:xfrm>
            <a:custGeom>
              <a:avLst/>
              <a:gdLst>
                <a:gd name="textAreaLeft" fmla="*/ 0 w 569880"/>
                <a:gd name="textAreaRight" fmla="*/ 570240 w 569880"/>
                <a:gd name="textAreaTop" fmla="*/ 0 h 1193760"/>
                <a:gd name="textAreaBottom" fmla="*/ 1194120 h 1193760"/>
              </a:gdLst>
              <a:ahLst/>
              <a:rect l="textAreaLeft" t="textAreaTop" r="textAreaRight" b="textAreaBottom"/>
              <a:pathLst>
                <a:path w="479378" h="1268760">
                  <a:moveTo>
                    <a:pt x="95158" y="0"/>
                  </a:moveTo>
                  <a:lnTo>
                    <a:pt x="98748" y="0"/>
                  </a:lnTo>
                  <a:lnTo>
                    <a:pt x="109521" y="0"/>
                  </a:lnTo>
                  <a:lnTo>
                    <a:pt x="123884" y="3657"/>
                  </a:lnTo>
                  <a:lnTo>
                    <a:pt x="145429" y="7313"/>
                  </a:lnTo>
                  <a:lnTo>
                    <a:pt x="168770" y="12798"/>
                  </a:lnTo>
                  <a:lnTo>
                    <a:pt x="197496" y="18282"/>
                  </a:lnTo>
                  <a:lnTo>
                    <a:pt x="260336" y="27423"/>
                  </a:lnTo>
                  <a:lnTo>
                    <a:pt x="326767" y="34736"/>
                  </a:lnTo>
                  <a:lnTo>
                    <a:pt x="359084" y="34736"/>
                  </a:lnTo>
                  <a:lnTo>
                    <a:pt x="387811" y="34736"/>
                  </a:lnTo>
                  <a:lnTo>
                    <a:pt x="416538" y="31079"/>
                  </a:lnTo>
                  <a:lnTo>
                    <a:pt x="441673" y="25595"/>
                  </a:lnTo>
                  <a:lnTo>
                    <a:pt x="463218" y="18282"/>
                  </a:lnTo>
                  <a:lnTo>
                    <a:pt x="479377" y="5485"/>
                  </a:lnTo>
                  <a:lnTo>
                    <a:pt x="479377" y="10969"/>
                  </a:lnTo>
                  <a:lnTo>
                    <a:pt x="477582" y="25595"/>
                  </a:lnTo>
                  <a:lnTo>
                    <a:pt x="477582" y="47533"/>
                  </a:lnTo>
                  <a:lnTo>
                    <a:pt x="475786" y="76784"/>
                  </a:lnTo>
                  <a:lnTo>
                    <a:pt x="473991" y="113348"/>
                  </a:lnTo>
                  <a:lnTo>
                    <a:pt x="472196" y="153568"/>
                  </a:lnTo>
                  <a:lnTo>
                    <a:pt x="470400" y="197444"/>
                  </a:lnTo>
                  <a:lnTo>
                    <a:pt x="468605" y="244977"/>
                  </a:lnTo>
                  <a:lnTo>
                    <a:pt x="461423" y="341870"/>
                  </a:lnTo>
                  <a:lnTo>
                    <a:pt x="454241" y="438764"/>
                  </a:lnTo>
                  <a:lnTo>
                    <a:pt x="450651" y="484468"/>
                  </a:lnTo>
                  <a:lnTo>
                    <a:pt x="445264" y="526517"/>
                  </a:lnTo>
                  <a:lnTo>
                    <a:pt x="439878" y="563080"/>
                  </a:lnTo>
                  <a:lnTo>
                    <a:pt x="436287" y="594159"/>
                  </a:lnTo>
                  <a:lnTo>
                    <a:pt x="430901" y="601472"/>
                  </a:lnTo>
                  <a:lnTo>
                    <a:pt x="421924" y="610613"/>
                  </a:lnTo>
                  <a:lnTo>
                    <a:pt x="412947" y="621582"/>
                  </a:lnTo>
                  <a:lnTo>
                    <a:pt x="403970" y="634379"/>
                  </a:lnTo>
                  <a:lnTo>
                    <a:pt x="409356" y="649005"/>
                  </a:lnTo>
                  <a:lnTo>
                    <a:pt x="409356" y="661802"/>
                  </a:lnTo>
                  <a:lnTo>
                    <a:pt x="405765" y="670943"/>
                  </a:lnTo>
                  <a:lnTo>
                    <a:pt x="402174" y="680084"/>
                  </a:lnTo>
                  <a:lnTo>
                    <a:pt x="393197" y="685569"/>
                  </a:lnTo>
                  <a:lnTo>
                    <a:pt x="386015" y="691053"/>
                  </a:lnTo>
                  <a:lnTo>
                    <a:pt x="368061" y="694710"/>
                  </a:lnTo>
                  <a:lnTo>
                    <a:pt x="371652" y="700194"/>
                  </a:lnTo>
                  <a:lnTo>
                    <a:pt x="373448" y="712991"/>
                  </a:lnTo>
                  <a:lnTo>
                    <a:pt x="375243" y="729445"/>
                  </a:lnTo>
                  <a:lnTo>
                    <a:pt x="375243" y="749555"/>
                  </a:lnTo>
                  <a:lnTo>
                    <a:pt x="371652" y="795260"/>
                  </a:lnTo>
                  <a:lnTo>
                    <a:pt x="364470" y="844621"/>
                  </a:lnTo>
                  <a:lnTo>
                    <a:pt x="355493" y="892153"/>
                  </a:lnTo>
                  <a:lnTo>
                    <a:pt x="350107" y="912263"/>
                  </a:lnTo>
                  <a:lnTo>
                    <a:pt x="342925" y="930545"/>
                  </a:lnTo>
                  <a:lnTo>
                    <a:pt x="337539" y="943343"/>
                  </a:lnTo>
                  <a:lnTo>
                    <a:pt x="330358" y="952483"/>
                  </a:lnTo>
                  <a:lnTo>
                    <a:pt x="323176" y="956140"/>
                  </a:lnTo>
                  <a:lnTo>
                    <a:pt x="315994" y="952483"/>
                  </a:lnTo>
                  <a:lnTo>
                    <a:pt x="308813" y="974422"/>
                  </a:lnTo>
                  <a:lnTo>
                    <a:pt x="301631" y="1000016"/>
                  </a:lnTo>
                  <a:lnTo>
                    <a:pt x="287267" y="1056689"/>
                  </a:lnTo>
                  <a:lnTo>
                    <a:pt x="281881" y="1085940"/>
                  </a:lnTo>
                  <a:lnTo>
                    <a:pt x="278290" y="1111535"/>
                  </a:lnTo>
                  <a:lnTo>
                    <a:pt x="274699" y="1133473"/>
                  </a:lnTo>
                  <a:lnTo>
                    <a:pt x="272904" y="1149927"/>
                  </a:lnTo>
                  <a:lnTo>
                    <a:pt x="272904" y="1162724"/>
                  </a:lnTo>
                  <a:lnTo>
                    <a:pt x="276495" y="1175522"/>
                  </a:lnTo>
                  <a:lnTo>
                    <a:pt x="283676" y="1197460"/>
                  </a:lnTo>
                  <a:lnTo>
                    <a:pt x="289063" y="1221226"/>
                  </a:lnTo>
                  <a:lnTo>
                    <a:pt x="289063" y="1234023"/>
                  </a:lnTo>
                  <a:lnTo>
                    <a:pt x="287267" y="1248649"/>
                  </a:lnTo>
                  <a:lnTo>
                    <a:pt x="278290" y="1252305"/>
                  </a:lnTo>
                  <a:lnTo>
                    <a:pt x="262131" y="1254133"/>
                  </a:lnTo>
                  <a:lnTo>
                    <a:pt x="242382" y="1257789"/>
                  </a:lnTo>
                  <a:lnTo>
                    <a:pt x="220837" y="1257789"/>
                  </a:lnTo>
                  <a:lnTo>
                    <a:pt x="179542" y="1257789"/>
                  </a:lnTo>
                  <a:lnTo>
                    <a:pt x="161588" y="1257789"/>
                  </a:lnTo>
                  <a:lnTo>
                    <a:pt x="150816" y="1257789"/>
                  </a:lnTo>
                  <a:lnTo>
                    <a:pt x="131066" y="1259618"/>
                  </a:lnTo>
                  <a:lnTo>
                    <a:pt x="111316" y="1263274"/>
                  </a:lnTo>
                  <a:lnTo>
                    <a:pt x="68226" y="1268759"/>
                  </a:lnTo>
                  <a:lnTo>
                    <a:pt x="48477" y="1268759"/>
                  </a:lnTo>
                  <a:lnTo>
                    <a:pt x="32318" y="1265102"/>
                  </a:lnTo>
                  <a:lnTo>
                    <a:pt x="17955" y="1257789"/>
                  </a:lnTo>
                  <a:lnTo>
                    <a:pt x="7182" y="1246820"/>
                  </a:lnTo>
                  <a:lnTo>
                    <a:pt x="3591" y="1234023"/>
                  </a:lnTo>
                  <a:lnTo>
                    <a:pt x="0" y="1221226"/>
                  </a:lnTo>
                  <a:lnTo>
                    <a:pt x="0" y="1193803"/>
                  </a:lnTo>
                  <a:lnTo>
                    <a:pt x="3591" y="1166380"/>
                  </a:lnTo>
                  <a:lnTo>
                    <a:pt x="7182" y="1138958"/>
                  </a:lnTo>
                  <a:lnTo>
                    <a:pt x="17955" y="1093253"/>
                  </a:lnTo>
                  <a:lnTo>
                    <a:pt x="30523" y="1043892"/>
                  </a:lnTo>
                  <a:lnTo>
                    <a:pt x="59249" y="943343"/>
                  </a:lnTo>
                  <a:lnTo>
                    <a:pt x="53863" y="936029"/>
                  </a:lnTo>
                  <a:lnTo>
                    <a:pt x="53863" y="925061"/>
                  </a:lnTo>
                  <a:lnTo>
                    <a:pt x="53863" y="912263"/>
                  </a:lnTo>
                  <a:lnTo>
                    <a:pt x="55658" y="895810"/>
                  </a:lnTo>
                  <a:lnTo>
                    <a:pt x="59249" y="879356"/>
                  </a:lnTo>
                  <a:lnTo>
                    <a:pt x="64635" y="859246"/>
                  </a:lnTo>
                  <a:lnTo>
                    <a:pt x="78999" y="817198"/>
                  </a:lnTo>
                  <a:lnTo>
                    <a:pt x="109521" y="723960"/>
                  </a:lnTo>
                  <a:lnTo>
                    <a:pt x="120293" y="680084"/>
                  </a:lnTo>
                  <a:lnTo>
                    <a:pt x="125680" y="659974"/>
                  </a:lnTo>
                  <a:lnTo>
                    <a:pt x="129271" y="641692"/>
                  </a:lnTo>
                  <a:lnTo>
                    <a:pt x="134657" y="628895"/>
                  </a:lnTo>
                  <a:lnTo>
                    <a:pt x="141838" y="617926"/>
                  </a:lnTo>
                  <a:lnTo>
                    <a:pt x="143634" y="612441"/>
                  </a:lnTo>
                  <a:lnTo>
                    <a:pt x="143634" y="605129"/>
                  </a:lnTo>
                  <a:lnTo>
                    <a:pt x="140043" y="597816"/>
                  </a:lnTo>
                  <a:lnTo>
                    <a:pt x="132861" y="586847"/>
                  </a:lnTo>
                  <a:lnTo>
                    <a:pt x="131066" y="581362"/>
                  </a:lnTo>
                  <a:lnTo>
                    <a:pt x="131066" y="572221"/>
                  </a:lnTo>
                  <a:lnTo>
                    <a:pt x="132861" y="561252"/>
                  </a:lnTo>
                  <a:lnTo>
                    <a:pt x="134657" y="548455"/>
                  </a:lnTo>
                  <a:lnTo>
                    <a:pt x="140043" y="517376"/>
                  </a:lnTo>
                  <a:lnTo>
                    <a:pt x="143634" y="477156"/>
                  </a:lnTo>
                  <a:lnTo>
                    <a:pt x="145429" y="442420"/>
                  </a:lnTo>
                  <a:lnTo>
                    <a:pt x="143634" y="404028"/>
                  </a:lnTo>
                  <a:lnTo>
                    <a:pt x="141838" y="325417"/>
                  </a:lnTo>
                  <a:lnTo>
                    <a:pt x="136452" y="248633"/>
                  </a:lnTo>
                  <a:lnTo>
                    <a:pt x="134657" y="213898"/>
                  </a:lnTo>
                  <a:lnTo>
                    <a:pt x="132861" y="180990"/>
                  </a:lnTo>
                  <a:lnTo>
                    <a:pt x="129271" y="157224"/>
                  </a:lnTo>
                  <a:lnTo>
                    <a:pt x="125680" y="133458"/>
                  </a:lnTo>
                  <a:lnTo>
                    <a:pt x="111316" y="93238"/>
                  </a:lnTo>
                  <a:lnTo>
                    <a:pt x="98748" y="51189"/>
                  </a:lnTo>
                  <a:lnTo>
                    <a:pt x="95158" y="27423"/>
                  </a:lnTo>
                  <a:lnTo>
                    <a:pt x="95158" y="0"/>
                  </a:lnTo>
                  <a:close/>
                </a:path>
              </a:pathLst>
            </a:custGeom>
            <a:noFill/>
            <a:ln w="18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Freihandform 165"/>
            <p:cNvSpPr/>
            <p:nvPr/>
          </p:nvSpPr>
          <p:spPr>
            <a:xfrm>
              <a:off x="3444840" y="3890880"/>
              <a:ext cx="731520" cy="698400"/>
            </a:xfrm>
            <a:custGeom>
              <a:avLst/>
              <a:gdLst>
                <a:gd name="textAreaLeft" fmla="*/ 0 w 731520"/>
                <a:gd name="textAreaRight" fmla="*/ 731880 w 731520"/>
                <a:gd name="textAreaTop" fmla="*/ 0 h 698400"/>
                <a:gd name="textAreaBottom" fmla="*/ 698760 h 698400"/>
              </a:gdLst>
              <a:ahLst/>
              <a:rect l="textAreaLeft" t="textAreaTop" r="textAreaRight" b="textAreaBottom"/>
              <a:pathLst>
                <a:path w="615952" h="742825">
                  <a:moveTo>
                    <a:pt x="13463" y="56007"/>
                  </a:moveTo>
                  <a:lnTo>
                    <a:pt x="16129" y="51943"/>
                  </a:lnTo>
                  <a:lnTo>
                    <a:pt x="22988" y="44324"/>
                  </a:lnTo>
                  <a:lnTo>
                    <a:pt x="32513" y="34544"/>
                  </a:lnTo>
                  <a:lnTo>
                    <a:pt x="43943" y="24130"/>
                  </a:lnTo>
                  <a:lnTo>
                    <a:pt x="55500" y="13970"/>
                  </a:lnTo>
                  <a:lnTo>
                    <a:pt x="66422" y="6224"/>
                  </a:lnTo>
                  <a:lnTo>
                    <a:pt x="74550" y="1524"/>
                  </a:lnTo>
                  <a:lnTo>
                    <a:pt x="79375" y="0"/>
                  </a:lnTo>
                  <a:lnTo>
                    <a:pt x="81281" y="4954"/>
                  </a:lnTo>
                  <a:lnTo>
                    <a:pt x="80646" y="12447"/>
                  </a:lnTo>
                  <a:lnTo>
                    <a:pt x="79375" y="21463"/>
                  </a:lnTo>
                  <a:lnTo>
                    <a:pt x="75947" y="32640"/>
                  </a:lnTo>
                  <a:lnTo>
                    <a:pt x="58294" y="82297"/>
                  </a:lnTo>
                  <a:lnTo>
                    <a:pt x="52197" y="102998"/>
                  </a:lnTo>
                  <a:lnTo>
                    <a:pt x="50800" y="110618"/>
                  </a:lnTo>
                  <a:lnTo>
                    <a:pt x="51563" y="115443"/>
                  </a:lnTo>
                  <a:lnTo>
                    <a:pt x="54229" y="116841"/>
                  </a:lnTo>
                  <a:lnTo>
                    <a:pt x="59563" y="114809"/>
                  </a:lnTo>
                  <a:lnTo>
                    <a:pt x="67691" y="108586"/>
                  </a:lnTo>
                  <a:lnTo>
                    <a:pt x="79375" y="97536"/>
                  </a:lnTo>
                  <a:lnTo>
                    <a:pt x="79375" y="147955"/>
                  </a:lnTo>
                  <a:lnTo>
                    <a:pt x="81281" y="199136"/>
                  </a:lnTo>
                  <a:lnTo>
                    <a:pt x="87376" y="250825"/>
                  </a:lnTo>
                  <a:lnTo>
                    <a:pt x="99569" y="301372"/>
                  </a:lnTo>
                  <a:lnTo>
                    <a:pt x="106426" y="315215"/>
                  </a:lnTo>
                  <a:lnTo>
                    <a:pt x="113284" y="318643"/>
                  </a:lnTo>
                  <a:lnTo>
                    <a:pt x="120650" y="315215"/>
                  </a:lnTo>
                  <a:lnTo>
                    <a:pt x="126747" y="306832"/>
                  </a:lnTo>
                  <a:lnTo>
                    <a:pt x="137669" y="287401"/>
                  </a:lnTo>
                  <a:lnTo>
                    <a:pt x="141097" y="281179"/>
                  </a:lnTo>
                  <a:lnTo>
                    <a:pt x="143129" y="280670"/>
                  </a:lnTo>
                  <a:lnTo>
                    <a:pt x="145034" y="297816"/>
                  </a:lnTo>
                  <a:lnTo>
                    <a:pt x="148463" y="320675"/>
                  </a:lnTo>
                  <a:lnTo>
                    <a:pt x="155322" y="373888"/>
                  </a:lnTo>
                  <a:lnTo>
                    <a:pt x="159385" y="399543"/>
                  </a:lnTo>
                  <a:lnTo>
                    <a:pt x="163322" y="420879"/>
                  </a:lnTo>
                  <a:lnTo>
                    <a:pt x="168275" y="436118"/>
                  </a:lnTo>
                  <a:lnTo>
                    <a:pt x="172340" y="442342"/>
                  </a:lnTo>
                  <a:lnTo>
                    <a:pt x="176276" y="440818"/>
                  </a:lnTo>
                  <a:lnTo>
                    <a:pt x="182372" y="434086"/>
                  </a:lnTo>
                  <a:lnTo>
                    <a:pt x="195326" y="413259"/>
                  </a:lnTo>
                  <a:lnTo>
                    <a:pt x="208281" y="389763"/>
                  </a:lnTo>
                  <a:lnTo>
                    <a:pt x="213615" y="381381"/>
                  </a:lnTo>
                  <a:lnTo>
                    <a:pt x="217806" y="375159"/>
                  </a:lnTo>
                  <a:lnTo>
                    <a:pt x="218441" y="393828"/>
                  </a:lnTo>
                  <a:lnTo>
                    <a:pt x="219710" y="414655"/>
                  </a:lnTo>
                  <a:lnTo>
                    <a:pt x="226569" y="458217"/>
                  </a:lnTo>
                  <a:lnTo>
                    <a:pt x="231903" y="479553"/>
                  </a:lnTo>
                  <a:lnTo>
                    <a:pt x="239522" y="499745"/>
                  </a:lnTo>
                  <a:lnTo>
                    <a:pt x="249047" y="517653"/>
                  </a:lnTo>
                  <a:lnTo>
                    <a:pt x="261240" y="532766"/>
                  </a:lnTo>
                  <a:lnTo>
                    <a:pt x="263144" y="532766"/>
                  </a:lnTo>
                  <a:lnTo>
                    <a:pt x="265176" y="528574"/>
                  </a:lnTo>
                  <a:lnTo>
                    <a:pt x="270765" y="514097"/>
                  </a:lnTo>
                  <a:lnTo>
                    <a:pt x="273940" y="507238"/>
                  </a:lnTo>
                  <a:lnTo>
                    <a:pt x="278131" y="502412"/>
                  </a:lnTo>
                  <a:lnTo>
                    <a:pt x="283465" y="501016"/>
                  </a:lnTo>
                  <a:lnTo>
                    <a:pt x="290322" y="505206"/>
                  </a:lnTo>
                  <a:lnTo>
                    <a:pt x="309372" y="523875"/>
                  </a:lnTo>
                  <a:lnTo>
                    <a:pt x="325628" y="543180"/>
                  </a:lnTo>
                  <a:lnTo>
                    <a:pt x="356871" y="578993"/>
                  </a:lnTo>
                  <a:lnTo>
                    <a:pt x="358141" y="578486"/>
                  </a:lnTo>
                  <a:lnTo>
                    <a:pt x="358903" y="575056"/>
                  </a:lnTo>
                  <a:lnTo>
                    <a:pt x="360807" y="559817"/>
                  </a:lnTo>
                  <a:lnTo>
                    <a:pt x="362331" y="545211"/>
                  </a:lnTo>
                  <a:lnTo>
                    <a:pt x="363601" y="541148"/>
                  </a:lnTo>
                  <a:lnTo>
                    <a:pt x="365760" y="539750"/>
                  </a:lnTo>
                  <a:lnTo>
                    <a:pt x="377191" y="547370"/>
                  </a:lnTo>
                  <a:lnTo>
                    <a:pt x="385953" y="556895"/>
                  </a:lnTo>
                  <a:lnTo>
                    <a:pt x="394844" y="577088"/>
                  </a:lnTo>
                  <a:lnTo>
                    <a:pt x="400178" y="599186"/>
                  </a:lnTo>
                  <a:lnTo>
                    <a:pt x="408432" y="620523"/>
                  </a:lnTo>
                  <a:lnTo>
                    <a:pt x="413766" y="627507"/>
                  </a:lnTo>
                  <a:lnTo>
                    <a:pt x="417957" y="625984"/>
                  </a:lnTo>
                  <a:lnTo>
                    <a:pt x="421387" y="620523"/>
                  </a:lnTo>
                  <a:lnTo>
                    <a:pt x="424816" y="612268"/>
                  </a:lnTo>
                  <a:lnTo>
                    <a:pt x="427991" y="603886"/>
                  </a:lnTo>
                  <a:lnTo>
                    <a:pt x="432816" y="597662"/>
                  </a:lnTo>
                  <a:lnTo>
                    <a:pt x="438913" y="596393"/>
                  </a:lnTo>
                  <a:lnTo>
                    <a:pt x="447803" y="602616"/>
                  </a:lnTo>
                  <a:lnTo>
                    <a:pt x="453137" y="609600"/>
                  </a:lnTo>
                  <a:lnTo>
                    <a:pt x="460629" y="620523"/>
                  </a:lnTo>
                  <a:lnTo>
                    <a:pt x="479044" y="647574"/>
                  </a:lnTo>
                  <a:lnTo>
                    <a:pt x="489204" y="660019"/>
                  </a:lnTo>
                  <a:lnTo>
                    <a:pt x="499238" y="669672"/>
                  </a:lnTo>
                  <a:lnTo>
                    <a:pt x="508763" y="674498"/>
                  </a:lnTo>
                  <a:lnTo>
                    <a:pt x="518288" y="673736"/>
                  </a:lnTo>
                  <a:lnTo>
                    <a:pt x="519812" y="672466"/>
                  </a:lnTo>
                  <a:lnTo>
                    <a:pt x="523749" y="668274"/>
                  </a:lnTo>
                  <a:lnTo>
                    <a:pt x="533909" y="655829"/>
                  </a:lnTo>
                  <a:lnTo>
                    <a:pt x="547625" y="639954"/>
                  </a:lnTo>
                  <a:lnTo>
                    <a:pt x="563246" y="624713"/>
                  </a:lnTo>
                  <a:lnTo>
                    <a:pt x="579375" y="613537"/>
                  </a:lnTo>
                  <a:lnTo>
                    <a:pt x="594233" y="609600"/>
                  </a:lnTo>
                  <a:lnTo>
                    <a:pt x="601091" y="611632"/>
                  </a:lnTo>
                  <a:lnTo>
                    <a:pt x="607188" y="617093"/>
                  </a:lnTo>
                  <a:lnTo>
                    <a:pt x="612014" y="625984"/>
                  </a:lnTo>
                  <a:lnTo>
                    <a:pt x="615951" y="639192"/>
                  </a:lnTo>
                  <a:lnTo>
                    <a:pt x="609346" y="666750"/>
                  </a:lnTo>
                  <a:lnTo>
                    <a:pt x="604520" y="692405"/>
                  </a:lnTo>
                  <a:lnTo>
                    <a:pt x="599821" y="714503"/>
                  </a:lnTo>
                  <a:lnTo>
                    <a:pt x="593726" y="731140"/>
                  </a:lnTo>
                  <a:lnTo>
                    <a:pt x="588900" y="736600"/>
                  </a:lnTo>
                  <a:lnTo>
                    <a:pt x="584200" y="740792"/>
                  </a:lnTo>
                  <a:lnTo>
                    <a:pt x="577343" y="742824"/>
                  </a:lnTo>
                  <a:lnTo>
                    <a:pt x="569850" y="742061"/>
                  </a:lnTo>
                  <a:lnTo>
                    <a:pt x="560325" y="739394"/>
                  </a:lnTo>
                  <a:lnTo>
                    <a:pt x="548894" y="733934"/>
                  </a:lnTo>
                  <a:lnTo>
                    <a:pt x="535941" y="724917"/>
                  </a:lnTo>
                  <a:lnTo>
                    <a:pt x="520319" y="713232"/>
                  </a:lnTo>
                  <a:lnTo>
                    <a:pt x="514224" y="711074"/>
                  </a:lnTo>
                  <a:lnTo>
                    <a:pt x="501397" y="706248"/>
                  </a:lnTo>
                  <a:lnTo>
                    <a:pt x="483109" y="700786"/>
                  </a:lnTo>
                  <a:lnTo>
                    <a:pt x="460629" y="693167"/>
                  </a:lnTo>
                  <a:lnTo>
                    <a:pt x="412369" y="677926"/>
                  </a:lnTo>
                  <a:lnTo>
                    <a:pt x="389382" y="670306"/>
                  </a:lnTo>
                  <a:lnTo>
                    <a:pt x="370332" y="664718"/>
                  </a:lnTo>
                  <a:lnTo>
                    <a:pt x="351409" y="654305"/>
                  </a:lnTo>
                  <a:lnTo>
                    <a:pt x="327660" y="639954"/>
                  </a:lnTo>
                  <a:lnTo>
                    <a:pt x="299085" y="622047"/>
                  </a:lnTo>
                  <a:lnTo>
                    <a:pt x="267335" y="601218"/>
                  </a:lnTo>
                  <a:lnTo>
                    <a:pt x="200660" y="556387"/>
                  </a:lnTo>
                  <a:lnTo>
                    <a:pt x="168275" y="533528"/>
                  </a:lnTo>
                  <a:lnTo>
                    <a:pt x="138431" y="512065"/>
                  </a:lnTo>
                  <a:lnTo>
                    <a:pt x="128906" y="485013"/>
                  </a:lnTo>
                  <a:lnTo>
                    <a:pt x="117222" y="456693"/>
                  </a:lnTo>
                  <a:lnTo>
                    <a:pt x="103759" y="427101"/>
                  </a:lnTo>
                  <a:lnTo>
                    <a:pt x="88138" y="395351"/>
                  </a:lnTo>
                  <a:lnTo>
                    <a:pt x="53468" y="330455"/>
                  </a:lnTo>
                  <a:lnTo>
                    <a:pt x="13463" y="262001"/>
                  </a:lnTo>
                  <a:lnTo>
                    <a:pt x="2668" y="214376"/>
                  </a:lnTo>
                  <a:lnTo>
                    <a:pt x="0" y="164593"/>
                  </a:lnTo>
                  <a:lnTo>
                    <a:pt x="3938" y="111887"/>
                  </a:lnTo>
                  <a:lnTo>
                    <a:pt x="13463" y="56007"/>
                  </a:lnTo>
                  <a:close/>
                </a:path>
              </a:pathLst>
            </a:custGeom>
            <a:solidFill>
              <a:srgbClr val="ddc100"/>
            </a:solidFill>
            <a:ln w="0">
              <a:solidFill>
                <a:srgbClr val="ddc1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Freihandform 166"/>
            <p:cNvSpPr/>
            <p:nvPr/>
          </p:nvSpPr>
          <p:spPr>
            <a:xfrm>
              <a:off x="3243240" y="4095720"/>
              <a:ext cx="190440" cy="28080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160148" h="298579">
                  <a:moveTo>
                    <a:pt x="48769" y="12447"/>
                  </a:moveTo>
                  <a:lnTo>
                    <a:pt x="54229" y="29084"/>
                  </a:lnTo>
                  <a:lnTo>
                    <a:pt x="61722" y="48514"/>
                  </a:lnTo>
                  <a:lnTo>
                    <a:pt x="69088" y="70612"/>
                  </a:lnTo>
                  <a:lnTo>
                    <a:pt x="86741" y="118873"/>
                  </a:lnTo>
                  <a:lnTo>
                    <a:pt x="105791" y="170054"/>
                  </a:lnTo>
                  <a:lnTo>
                    <a:pt x="124079" y="218313"/>
                  </a:lnTo>
                  <a:lnTo>
                    <a:pt x="132335" y="240412"/>
                  </a:lnTo>
                  <a:lnTo>
                    <a:pt x="140335" y="259843"/>
                  </a:lnTo>
                  <a:lnTo>
                    <a:pt x="146431" y="275718"/>
                  </a:lnTo>
                  <a:lnTo>
                    <a:pt x="152654" y="288163"/>
                  </a:lnTo>
                  <a:lnTo>
                    <a:pt x="156719" y="295784"/>
                  </a:lnTo>
                  <a:lnTo>
                    <a:pt x="160147" y="298578"/>
                  </a:lnTo>
                  <a:lnTo>
                    <a:pt x="154051" y="297180"/>
                  </a:lnTo>
                  <a:lnTo>
                    <a:pt x="146431" y="292355"/>
                  </a:lnTo>
                  <a:lnTo>
                    <a:pt x="130175" y="275718"/>
                  </a:lnTo>
                  <a:lnTo>
                    <a:pt x="111888" y="253619"/>
                  </a:lnTo>
                  <a:lnTo>
                    <a:pt x="92838" y="229489"/>
                  </a:lnTo>
                  <a:lnTo>
                    <a:pt x="76709" y="207392"/>
                  </a:lnTo>
                  <a:lnTo>
                    <a:pt x="69088" y="197612"/>
                  </a:lnTo>
                  <a:lnTo>
                    <a:pt x="62993" y="190755"/>
                  </a:lnTo>
                  <a:lnTo>
                    <a:pt x="58294" y="185929"/>
                  </a:lnTo>
                  <a:lnTo>
                    <a:pt x="55626" y="184531"/>
                  </a:lnTo>
                  <a:lnTo>
                    <a:pt x="54229" y="185929"/>
                  </a:lnTo>
                  <a:lnTo>
                    <a:pt x="55626" y="192151"/>
                  </a:lnTo>
                  <a:lnTo>
                    <a:pt x="62993" y="215519"/>
                  </a:lnTo>
                  <a:lnTo>
                    <a:pt x="73915" y="239142"/>
                  </a:lnTo>
                  <a:lnTo>
                    <a:pt x="84710" y="264795"/>
                  </a:lnTo>
                  <a:lnTo>
                    <a:pt x="93472" y="293624"/>
                  </a:lnTo>
                  <a:lnTo>
                    <a:pt x="78613" y="279147"/>
                  </a:lnTo>
                  <a:lnTo>
                    <a:pt x="62231" y="259080"/>
                  </a:lnTo>
                  <a:lnTo>
                    <a:pt x="45466" y="235712"/>
                  </a:lnTo>
                  <a:lnTo>
                    <a:pt x="29084" y="208788"/>
                  </a:lnTo>
                  <a:lnTo>
                    <a:pt x="15622" y="180975"/>
                  </a:lnTo>
                  <a:lnTo>
                    <a:pt x="5335" y="152147"/>
                  </a:lnTo>
                  <a:lnTo>
                    <a:pt x="0" y="123825"/>
                  </a:lnTo>
                  <a:lnTo>
                    <a:pt x="509" y="96774"/>
                  </a:lnTo>
                  <a:lnTo>
                    <a:pt x="7366" y="81535"/>
                  </a:lnTo>
                  <a:lnTo>
                    <a:pt x="19559" y="64898"/>
                  </a:lnTo>
                  <a:lnTo>
                    <a:pt x="32513" y="48514"/>
                  </a:lnTo>
                  <a:lnTo>
                    <a:pt x="41275" y="31878"/>
                  </a:lnTo>
                  <a:lnTo>
                    <a:pt x="42672" y="23623"/>
                  </a:lnTo>
                  <a:lnTo>
                    <a:pt x="43435" y="13209"/>
                  </a:lnTo>
                  <a:lnTo>
                    <a:pt x="43435" y="4192"/>
                  </a:lnTo>
                  <a:lnTo>
                    <a:pt x="43943" y="0"/>
                  </a:lnTo>
                  <a:lnTo>
                    <a:pt x="48769" y="12447"/>
                  </a:lnTo>
                  <a:close/>
                </a:path>
              </a:pathLst>
            </a:custGeom>
            <a:solidFill>
              <a:srgbClr val="ddc100"/>
            </a:solidFill>
            <a:ln w="0">
              <a:solidFill>
                <a:srgbClr val="ddc1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Freihandform 167"/>
            <p:cNvSpPr/>
            <p:nvPr/>
          </p:nvSpPr>
          <p:spPr>
            <a:xfrm>
              <a:off x="3394080" y="3741480"/>
              <a:ext cx="480960" cy="307800"/>
            </a:xfrm>
            <a:custGeom>
              <a:avLst/>
              <a:gdLst>
                <a:gd name="textAreaLeft" fmla="*/ 0 w 480960"/>
                <a:gd name="textAreaRight" fmla="*/ 481320 w 480960"/>
                <a:gd name="textAreaTop" fmla="*/ 0 h 307800"/>
                <a:gd name="textAreaBottom" fmla="*/ 308160 h 307800"/>
              </a:gdLst>
              <a:ahLst/>
              <a:rect l="textAreaLeft" t="textAreaTop" r="textAreaRight" b="textAreaBottom"/>
              <a:pathLst>
                <a:path w="405004" h="325503">
                  <a:moveTo>
                    <a:pt x="12700" y="112523"/>
                  </a:moveTo>
                  <a:lnTo>
                    <a:pt x="6605" y="97410"/>
                  </a:lnTo>
                  <a:lnTo>
                    <a:pt x="2668" y="84455"/>
                  </a:lnTo>
                  <a:lnTo>
                    <a:pt x="0" y="73279"/>
                  </a:lnTo>
                  <a:lnTo>
                    <a:pt x="0" y="63500"/>
                  </a:lnTo>
                  <a:lnTo>
                    <a:pt x="3937" y="48387"/>
                  </a:lnTo>
                  <a:lnTo>
                    <a:pt x="12193" y="37973"/>
                  </a:lnTo>
                  <a:lnTo>
                    <a:pt x="21718" y="31750"/>
                  </a:lnTo>
                  <a:lnTo>
                    <a:pt x="30988" y="28956"/>
                  </a:lnTo>
                  <a:lnTo>
                    <a:pt x="37338" y="27686"/>
                  </a:lnTo>
                  <a:lnTo>
                    <a:pt x="38609" y="27686"/>
                  </a:lnTo>
                  <a:lnTo>
                    <a:pt x="57659" y="26290"/>
                  </a:lnTo>
                  <a:lnTo>
                    <a:pt x="75947" y="22098"/>
                  </a:lnTo>
                  <a:lnTo>
                    <a:pt x="111760" y="11049"/>
                  </a:lnTo>
                  <a:lnTo>
                    <a:pt x="149860" y="2160"/>
                  </a:lnTo>
                  <a:lnTo>
                    <a:pt x="170943" y="0"/>
                  </a:lnTo>
                  <a:lnTo>
                    <a:pt x="193294" y="1398"/>
                  </a:lnTo>
                  <a:lnTo>
                    <a:pt x="206249" y="5589"/>
                  </a:lnTo>
                  <a:lnTo>
                    <a:pt x="222378" y="13843"/>
                  </a:lnTo>
                  <a:lnTo>
                    <a:pt x="239522" y="27052"/>
                  </a:lnTo>
                  <a:lnTo>
                    <a:pt x="258572" y="43689"/>
                  </a:lnTo>
                  <a:lnTo>
                    <a:pt x="277368" y="63500"/>
                  </a:lnTo>
                  <a:lnTo>
                    <a:pt x="297053" y="85725"/>
                  </a:lnTo>
                  <a:lnTo>
                    <a:pt x="335915" y="134621"/>
                  </a:lnTo>
                  <a:lnTo>
                    <a:pt x="369062" y="187834"/>
                  </a:lnTo>
                  <a:lnTo>
                    <a:pt x="382525" y="214885"/>
                  </a:lnTo>
                  <a:lnTo>
                    <a:pt x="393574" y="240539"/>
                  </a:lnTo>
                  <a:lnTo>
                    <a:pt x="400940" y="265430"/>
                  </a:lnTo>
                  <a:lnTo>
                    <a:pt x="405003" y="288036"/>
                  </a:lnTo>
                  <a:lnTo>
                    <a:pt x="404241" y="308229"/>
                  </a:lnTo>
                  <a:lnTo>
                    <a:pt x="398908" y="325502"/>
                  </a:lnTo>
                  <a:lnTo>
                    <a:pt x="397510" y="322073"/>
                  </a:lnTo>
                  <a:lnTo>
                    <a:pt x="394843" y="313691"/>
                  </a:lnTo>
                  <a:lnTo>
                    <a:pt x="391415" y="305435"/>
                  </a:lnTo>
                  <a:lnTo>
                    <a:pt x="389383" y="299212"/>
                  </a:lnTo>
                  <a:lnTo>
                    <a:pt x="382016" y="281814"/>
                  </a:lnTo>
                  <a:lnTo>
                    <a:pt x="373000" y="265430"/>
                  </a:lnTo>
                  <a:lnTo>
                    <a:pt x="354203" y="233554"/>
                  </a:lnTo>
                  <a:lnTo>
                    <a:pt x="321565" y="169927"/>
                  </a:lnTo>
                  <a:lnTo>
                    <a:pt x="302515" y="139573"/>
                  </a:lnTo>
                  <a:lnTo>
                    <a:pt x="281433" y="112015"/>
                  </a:lnTo>
                  <a:lnTo>
                    <a:pt x="256413" y="87123"/>
                  </a:lnTo>
                  <a:lnTo>
                    <a:pt x="226568" y="66295"/>
                  </a:lnTo>
                  <a:lnTo>
                    <a:pt x="191135" y="49911"/>
                  </a:lnTo>
                  <a:lnTo>
                    <a:pt x="170181" y="42927"/>
                  </a:lnTo>
                  <a:lnTo>
                    <a:pt x="147956" y="37466"/>
                  </a:lnTo>
                  <a:lnTo>
                    <a:pt x="128143" y="35941"/>
                  </a:lnTo>
                  <a:lnTo>
                    <a:pt x="109093" y="38735"/>
                  </a:lnTo>
                  <a:lnTo>
                    <a:pt x="90806" y="44959"/>
                  </a:lnTo>
                  <a:lnTo>
                    <a:pt x="73280" y="54610"/>
                  </a:lnTo>
                  <a:lnTo>
                    <a:pt x="56134" y="67056"/>
                  </a:lnTo>
                  <a:lnTo>
                    <a:pt x="40513" y="81535"/>
                  </a:lnTo>
                  <a:lnTo>
                    <a:pt x="12700" y="112523"/>
                  </a:lnTo>
                  <a:close/>
                </a:path>
              </a:pathLst>
            </a:custGeom>
            <a:solidFill>
              <a:srgbClr val="ddc100"/>
            </a:solidFill>
            <a:ln w="0">
              <a:solidFill>
                <a:srgbClr val="ddc1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Freihandform 168"/>
            <p:cNvSpPr/>
            <p:nvPr/>
          </p:nvSpPr>
          <p:spPr>
            <a:xfrm>
              <a:off x="3498840" y="3714480"/>
              <a:ext cx="93600" cy="3168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78867" h="35943">
                  <a:moveTo>
                    <a:pt x="0" y="35942"/>
                  </a:moveTo>
                  <a:lnTo>
                    <a:pt x="2666" y="26289"/>
                  </a:lnTo>
                  <a:lnTo>
                    <a:pt x="8254" y="18669"/>
                  </a:lnTo>
                  <a:lnTo>
                    <a:pt x="16382" y="11812"/>
                  </a:lnTo>
                  <a:lnTo>
                    <a:pt x="25907" y="6986"/>
                  </a:lnTo>
                  <a:lnTo>
                    <a:pt x="47625" y="1398"/>
                  </a:lnTo>
                  <a:lnTo>
                    <a:pt x="67182" y="0"/>
                  </a:lnTo>
                  <a:lnTo>
                    <a:pt x="74041" y="763"/>
                  </a:lnTo>
                  <a:lnTo>
                    <a:pt x="78104" y="3430"/>
                  </a:lnTo>
                  <a:lnTo>
                    <a:pt x="78866" y="6224"/>
                  </a:lnTo>
                  <a:lnTo>
                    <a:pt x="74676" y="10414"/>
                  </a:lnTo>
                  <a:lnTo>
                    <a:pt x="65913" y="15875"/>
                  </a:lnTo>
                  <a:lnTo>
                    <a:pt x="51054" y="21337"/>
                  </a:lnTo>
                  <a:lnTo>
                    <a:pt x="29336" y="28321"/>
                  </a:lnTo>
                  <a:lnTo>
                    <a:pt x="0" y="35942"/>
                  </a:lnTo>
                  <a:close/>
                </a:path>
              </a:pathLst>
            </a:custGeom>
            <a:solidFill>
              <a:srgbClr val="ddc100"/>
            </a:solidFill>
            <a:ln w="0">
              <a:solidFill>
                <a:srgbClr val="ddc1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Freihandform 169"/>
            <p:cNvSpPr/>
            <p:nvPr/>
          </p:nvSpPr>
          <p:spPr>
            <a:xfrm>
              <a:off x="3686040" y="3673440"/>
              <a:ext cx="249120" cy="222120"/>
            </a:xfrm>
            <a:custGeom>
              <a:avLst/>
              <a:gdLst>
                <a:gd name="textAreaLeft" fmla="*/ 0 w 249120"/>
                <a:gd name="textAreaRight" fmla="*/ 249480 w 24912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209551" h="236221">
                  <a:moveTo>
                    <a:pt x="0" y="0"/>
                  </a:moveTo>
                  <a:lnTo>
                    <a:pt x="18415" y="8129"/>
                  </a:lnTo>
                  <a:lnTo>
                    <a:pt x="37974" y="15113"/>
                  </a:lnTo>
                  <a:lnTo>
                    <a:pt x="56262" y="22861"/>
                  </a:lnTo>
                  <a:lnTo>
                    <a:pt x="68453" y="31750"/>
                  </a:lnTo>
                  <a:lnTo>
                    <a:pt x="75312" y="48261"/>
                  </a:lnTo>
                  <a:lnTo>
                    <a:pt x="81407" y="70358"/>
                  </a:lnTo>
                  <a:lnTo>
                    <a:pt x="96266" y="121539"/>
                  </a:lnTo>
                  <a:lnTo>
                    <a:pt x="105791" y="147193"/>
                  </a:lnTo>
                  <a:lnTo>
                    <a:pt x="117349" y="171324"/>
                  </a:lnTo>
                  <a:lnTo>
                    <a:pt x="130937" y="190627"/>
                  </a:lnTo>
                  <a:lnTo>
                    <a:pt x="147956" y="204598"/>
                  </a:lnTo>
                  <a:lnTo>
                    <a:pt x="154687" y="205868"/>
                  </a:lnTo>
                  <a:lnTo>
                    <a:pt x="162180" y="205106"/>
                  </a:lnTo>
                  <a:lnTo>
                    <a:pt x="178562" y="198375"/>
                  </a:lnTo>
                  <a:lnTo>
                    <a:pt x="191262" y="189866"/>
                  </a:lnTo>
                  <a:lnTo>
                    <a:pt x="196088" y="187199"/>
                  </a:lnTo>
                  <a:lnTo>
                    <a:pt x="197359" y="185675"/>
                  </a:lnTo>
                  <a:lnTo>
                    <a:pt x="200280" y="187961"/>
                  </a:lnTo>
                  <a:lnTo>
                    <a:pt x="205613" y="193422"/>
                  </a:lnTo>
                  <a:lnTo>
                    <a:pt x="209550" y="201550"/>
                  </a:lnTo>
                  <a:lnTo>
                    <a:pt x="208281" y="211329"/>
                  </a:lnTo>
                  <a:lnTo>
                    <a:pt x="199518" y="218949"/>
                  </a:lnTo>
                  <a:lnTo>
                    <a:pt x="185166" y="225933"/>
                  </a:lnTo>
                  <a:lnTo>
                    <a:pt x="171705" y="232156"/>
                  </a:lnTo>
                  <a:lnTo>
                    <a:pt x="166244" y="234188"/>
                  </a:lnTo>
                  <a:lnTo>
                    <a:pt x="162941" y="234824"/>
                  </a:lnTo>
                  <a:lnTo>
                    <a:pt x="155322" y="236220"/>
                  </a:lnTo>
                  <a:lnTo>
                    <a:pt x="147321" y="234188"/>
                  </a:lnTo>
                  <a:lnTo>
                    <a:pt x="128906" y="223139"/>
                  </a:lnTo>
                  <a:lnTo>
                    <a:pt x="109221" y="205106"/>
                  </a:lnTo>
                  <a:lnTo>
                    <a:pt x="90932" y="180975"/>
                  </a:lnTo>
                  <a:lnTo>
                    <a:pt x="74041" y="153289"/>
                  </a:lnTo>
                  <a:lnTo>
                    <a:pt x="61087" y="124968"/>
                  </a:lnTo>
                  <a:lnTo>
                    <a:pt x="53594" y="96648"/>
                  </a:lnTo>
                  <a:lnTo>
                    <a:pt x="52325" y="83567"/>
                  </a:lnTo>
                  <a:lnTo>
                    <a:pt x="52325" y="71756"/>
                  </a:lnTo>
                  <a:lnTo>
                    <a:pt x="54991" y="64136"/>
                  </a:lnTo>
                  <a:lnTo>
                    <a:pt x="51562" y="54483"/>
                  </a:lnTo>
                  <a:lnTo>
                    <a:pt x="44069" y="44197"/>
                  </a:lnTo>
                  <a:lnTo>
                    <a:pt x="34544" y="33782"/>
                  </a:lnTo>
                  <a:lnTo>
                    <a:pt x="13462" y="13717"/>
                  </a:lnTo>
                  <a:lnTo>
                    <a:pt x="4700" y="546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dc100"/>
            </a:solidFill>
            <a:ln w="0">
              <a:solidFill>
                <a:srgbClr val="ddc1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Freihandform 170"/>
            <p:cNvSpPr/>
            <p:nvPr/>
          </p:nvSpPr>
          <p:spPr>
            <a:xfrm>
              <a:off x="4065480" y="3597120"/>
              <a:ext cx="41040" cy="792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34114" h="7314">
                  <a:moveTo>
                    <a:pt x="0" y="7313"/>
                  </a:moveTo>
                  <a:lnTo>
                    <a:pt x="12568" y="1828"/>
                  </a:lnTo>
                  <a:lnTo>
                    <a:pt x="21545" y="1828"/>
                  </a:lnTo>
                  <a:lnTo>
                    <a:pt x="-31423" y="0"/>
                  </a:lnTo>
                </a:path>
              </a:pathLst>
            </a:custGeom>
            <a:noFill/>
            <a:ln w="18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Freihandform 171"/>
            <p:cNvSpPr/>
            <p:nvPr/>
          </p:nvSpPr>
          <p:spPr>
            <a:xfrm>
              <a:off x="4092480" y="3663720"/>
              <a:ext cx="29880" cy="2196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25138" h="23768">
                  <a:moveTo>
                    <a:pt x="25137" y="23767"/>
                  </a:moveTo>
                  <a:lnTo>
                    <a:pt x="14364" y="23767"/>
                  </a:lnTo>
                  <a:lnTo>
                    <a:pt x="10773" y="21938"/>
                  </a:lnTo>
                  <a:lnTo>
                    <a:pt x="3591" y="20110"/>
                  </a:lnTo>
                  <a:lnTo>
                    <a:pt x="0" y="14626"/>
                  </a:lnTo>
                  <a:lnTo>
                    <a:pt x="1796" y="7313"/>
                  </a:lnTo>
                  <a:lnTo>
                    <a:pt x="10773" y="0"/>
                  </a:lnTo>
                  <a:lnTo>
                    <a:pt x="25137" y="0"/>
                  </a:lnTo>
                </a:path>
              </a:pathLst>
            </a:custGeom>
            <a:noFill/>
            <a:ln w="18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Freihandform 172"/>
            <p:cNvSpPr/>
            <p:nvPr/>
          </p:nvSpPr>
          <p:spPr>
            <a:xfrm>
              <a:off x="4079880" y="3598920"/>
              <a:ext cx="29880" cy="1728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25146" h="18543">
                  <a:moveTo>
                    <a:pt x="25145" y="12319"/>
                  </a:moveTo>
                  <a:lnTo>
                    <a:pt x="21717" y="17907"/>
                  </a:lnTo>
                  <a:lnTo>
                    <a:pt x="17779" y="18542"/>
                  </a:lnTo>
                  <a:lnTo>
                    <a:pt x="13589" y="17271"/>
                  </a:lnTo>
                  <a:lnTo>
                    <a:pt x="7492" y="14605"/>
                  </a:lnTo>
                  <a:lnTo>
                    <a:pt x="2158" y="11049"/>
                  </a:lnTo>
                  <a:lnTo>
                    <a:pt x="0" y="6095"/>
                  </a:lnTo>
                  <a:lnTo>
                    <a:pt x="5333" y="3428"/>
                  </a:lnTo>
                  <a:lnTo>
                    <a:pt x="12192" y="1905"/>
                  </a:lnTo>
                  <a:lnTo>
                    <a:pt x="23876" y="0"/>
                  </a:lnTo>
                  <a:lnTo>
                    <a:pt x="25145" y="4826"/>
                  </a:lnTo>
                  <a:lnTo>
                    <a:pt x="25145" y="12319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Freihandform 173"/>
            <p:cNvSpPr/>
            <p:nvPr/>
          </p:nvSpPr>
          <p:spPr>
            <a:xfrm>
              <a:off x="4079880" y="3598920"/>
              <a:ext cx="29880" cy="1728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17280"/>
                <a:gd name="textAreaBottom" fmla="*/ 17280 h 17280"/>
              </a:gdLst>
              <a:ahLst/>
              <a:rect l="textAreaLeft" t="textAreaTop" r="textAreaRight" b="textAreaBottom"/>
              <a:pathLst>
                <a:path w="25137" h="18283">
                  <a:moveTo>
                    <a:pt x="25136" y="12797"/>
                  </a:moveTo>
                  <a:lnTo>
                    <a:pt x="21545" y="18282"/>
                  </a:lnTo>
                  <a:lnTo>
                    <a:pt x="17955" y="18282"/>
                  </a:lnTo>
                  <a:lnTo>
                    <a:pt x="14364" y="16454"/>
                  </a:lnTo>
                  <a:lnTo>
                    <a:pt x="7182" y="14626"/>
                  </a:lnTo>
                  <a:lnTo>
                    <a:pt x="1796" y="10969"/>
                  </a:lnTo>
                  <a:lnTo>
                    <a:pt x="0" y="5485"/>
                  </a:lnTo>
                  <a:lnTo>
                    <a:pt x="5386" y="3656"/>
                  </a:lnTo>
                  <a:lnTo>
                    <a:pt x="12568" y="1828"/>
                  </a:lnTo>
                  <a:lnTo>
                    <a:pt x="23341" y="0"/>
                  </a:lnTo>
                  <a:lnTo>
                    <a:pt x="25136" y="5485"/>
                  </a:lnTo>
                  <a:lnTo>
                    <a:pt x="25136" y="12797"/>
                  </a:lnTo>
                  <a:close/>
                </a:path>
              </a:pathLst>
            </a:custGeom>
            <a:noFill/>
            <a:ln w="18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Freihandform 174"/>
            <p:cNvSpPr/>
            <p:nvPr/>
          </p:nvSpPr>
          <p:spPr>
            <a:xfrm>
              <a:off x="4100400" y="3601800"/>
              <a:ext cx="9360" cy="1404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8002" h="15115">
                  <a:moveTo>
                    <a:pt x="7366" y="8255"/>
                  </a:moveTo>
                  <a:lnTo>
                    <a:pt x="5335" y="13843"/>
                  </a:lnTo>
                  <a:lnTo>
                    <a:pt x="1906" y="15114"/>
                  </a:lnTo>
                  <a:lnTo>
                    <a:pt x="0" y="11685"/>
                  </a:lnTo>
                  <a:lnTo>
                    <a:pt x="0" y="6223"/>
                  </a:lnTo>
                  <a:lnTo>
                    <a:pt x="2668" y="1398"/>
                  </a:lnTo>
                  <a:lnTo>
                    <a:pt x="6097" y="0"/>
                  </a:lnTo>
                  <a:lnTo>
                    <a:pt x="8001" y="2667"/>
                  </a:lnTo>
                  <a:lnTo>
                    <a:pt x="7366" y="8255"/>
                  </a:lnTo>
                  <a:close/>
                </a:path>
              </a:pathLst>
            </a:custGeom>
            <a:solidFill>
              <a:srgbClr val="945b00"/>
            </a:solidFill>
            <a:ln w="0">
              <a:solidFill>
                <a:srgbClr val="945b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Freihandform 175"/>
            <p:cNvSpPr/>
            <p:nvPr/>
          </p:nvSpPr>
          <p:spPr>
            <a:xfrm>
              <a:off x="4105080" y="3606840"/>
              <a:ext cx="4680" cy="468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2795" h="4955">
                  <a:moveTo>
                    <a:pt x="2794" y="2922"/>
                  </a:moveTo>
                  <a:lnTo>
                    <a:pt x="763" y="4954"/>
                  </a:lnTo>
                  <a:lnTo>
                    <a:pt x="0" y="2922"/>
                  </a:lnTo>
                  <a:lnTo>
                    <a:pt x="1525" y="0"/>
                  </a:lnTo>
                  <a:lnTo>
                    <a:pt x="2794" y="292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Freihandform 176"/>
            <p:cNvSpPr/>
            <p:nvPr/>
          </p:nvSpPr>
          <p:spPr>
            <a:xfrm>
              <a:off x="4073400" y="3582720"/>
              <a:ext cx="68040" cy="288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57454" h="3657">
                  <a:moveTo>
                    <a:pt x="0" y="3656"/>
                  </a:moveTo>
                  <a:lnTo>
                    <a:pt x="16158" y="0"/>
                  </a:lnTo>
                  <a:lnTo>
                    <a:pt x="-31424" y="0"/>
                  </a:lnTo>
                  <a:lnTo>
                    <a:pt x="-18856" y="1828"/>
                  </a:lnTo>
                  <a:lnTo>
                    <a:pt x="-8083" y="1828"/>
                  </a:lnTo>
                </a:path>
              </a:pathLst>
            </a:custGeom>
            <a:noFill/>
            <a:ln w="18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Freihandform 177"/>
            <p:cNvSpPr/>
            <p:nvPr/>
          </p:nvSpPr>
          <p:spPr>
            <a:xfrm>
              <a:off x="8275680" y="5380200"/>
              <a:ext cx="87120" cy="153720"/>
            </a:xfrm>
            <a:custGeom>
              <a:avLst/>
              <a:gdLst>
                <a:gd name="textAreaLeft" fmla="*/ 0 w 87120"/>
                <a:gd name="textAreaRight" fmla="*/ 87480 w 87120"/>
                <a:gd name="textAreaTop" fmla="*/ 0 h 153720"/>
                <a:gd name="textAreaBottom" fmla="*/ 153720 h 153720"/>
              </a:gdLst>
              <a:ahLst/>
              <a:rect l="textAreaLeft" t="textAreaTop" r="textAreaRight" b="textAreaBottom"/>
              <a:pathLst>
                <a:path w="73281" h="164339">
                  <a:moveTo>
                    <a:pt x="72518" y="112523"/>
                  </a:moveTo>
                  <a:lnTo>
                    <a:pt x="72009" y="116713"/>
                  </a:lnTo>
                  <a:lnTo>
                    <a:pt x="70612" y="131954"/>
                  </a:lnTo>
                  <a:lnTo>
                    <a:pt x="70612" y="149098"/>
                  </a:lnTo>
                  <a:lnTo>
                    <a:pt x="72009" y="164338"/>
                  </a:lnTo>
                  <a:lnTo>
                    <a:pt x="70612" y="163068"/>
                  </a:lnTo>
                  <a:lnTo>
                    <a:pt x="67183" y="159512"/>
                  </a:lnTo>
                  <a:lnTo>
                    <a:pt x="56896" y="149098"/>
                  </a:lnTo>
                  <a:lnTo>
                    <a:pt x="45467" y="138177"/>
                  </a:lnTo>
                  <a:lnTo>
                    <a:pt x="40768" y="133223"/>
                  </a:lnTo>
                  <a:lnTo>
                    <a:pt x="36577" y="130430"/>
                  </a:lnTo>
                  <a:lnTo>
                    <a:pt x="33274" y="127762"/>
                  </a:lnTo>
                  <a:lnTo>
                    <a:pt x="28575" y="122302"/>
                  </a:lnTo>
                  <a:lnTo>
                    <a:pt x="17654" y="106299"/>
                  </a:lnTo>
                  <a:lnTo>
                    <a:pt x="8129" y="89662"/>
                  </a:lnTo>
                  <a:lnTo>
                    <a:pt x="4192" y="82805"/>
                  </a:lnTo>
                  <a:lnTo>
                    <a:pt x="2668" y="77979"/>
                  </a:lnTo>
                  <a:lnTo>
                    <a:pt x="1270" y="67565"/>
                  </a:lnTo>
                  <a:lnTo>
                    <a:pt x="0" y="53848"/>
                  </a:lnTo>
                  <a:lnTo>
                    <a:pt x="0" y="41403"/>
                  </a:lnTo>
                  <a:lnTo>
                    <a:pt x="2032" y="34544"/>
                  </a:lnTo>
                  <a:lnTo>
                    <a:pt x="6858" y="26798"/>
                  </a:lnTo>
                  <a:lnTo>
                    <a:pt x="13462" y="15875"/>
                  </a:lnTo>
                  <a:lnTo>
                    <a:pt x="20956" y="5461"/>
                  </a:lnTo>
                  <a:lnTo>
                    <a:pt x="28575" y="0"/>
                  </a:lnTo>
                  <a:lnTo>
                    <a:pt x="28575" y="1271"/>
                  </a:lnTo>
                  <a:lnTo>
                    <a:pt x="29845" y="4192"/>
                  </a:lnTo>
                  <a:lnTo>
                    <a:pt x="34671" y="15875"/>
                  </a:lnTo>
                  <a:lnTo>
                    <a:pt x="42037" y="32512"/>
                  </a:lnTo>
                  <a:lnTo>
                    <a:pt x="49531" y="51690"/>
                  </a:lnTo>
                  <a:lnTo>
                    <a:pt x="57658" y="71121"/>
                  </a:lnTo>
                  <a:lnTo>
                    <a:pt x="65152" y="89028"/>
                  </a:lnTo>
                  <a:lnTo>
                    <a:pt x="70612" y="102871"/>
                  </a:lnTo>
                  <a:lnTo>
                    <a:pt x="73280" y="110491"/>
                  </a:lnTo>
                  <a:lnTo>
                    <a:pt x="72518" y="112523"/>
                  </a:lnTo>
                  <a:close/>
                </a:path>
              </a:pathLst>
            </a:custGeom>
            <a:solidFill>
              <a:srgbClr val="d89f4f"/>
            </a:solidFill>
            <a:ln w="0">
              <a:solidFill>
                <a:srgbClr val="d89f4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Freihandform 178"/>
            <p:cNvSpPr/>
            <p:nvPr/>
          </p:nvSpPr>
          <p:spPr>
            <a:xfrm>
              <a:off x="8275680" y="5380200"/>
              <a:ext cx="87120" cy="153720"/>
            </a:xfrm>
            <a:custGeom>
              <a:avLst/>
              <a:gdLst>
                <a:gd name="textAreaLeft" fmla="*/ 0 w 87120"/>
                <a:gd name="textAreaRight" fmla="*/ 87480 w 87120"/>
                <a:gd name="textAreaTop" fmla="*/ 0 h 153720"/>
                <a:gd name="textAreaBottom" fmla="*/ 153720 h 153720"/>
              </a:gdLst>
              <a:ahLst/>
              <a:rect l="textAreaLeft" t="textAreaTop" r="textAreaRight" b="textAreaBottom"/>
              <a:pathLst>
                <a:path w="73614" h="164538">
                  <a:moveTo>
                    <a:pt x="73613" y="109692"/>
                  </a:moveTo>
                  <a:lnTo>
                    <a:pt x="70022" y="102379"/>
                  </a:lnTo>
                  <a:lnTo>
                    <a:pt x="64636" y="89581"/>
                  </a:lnTo>
                  <a:lnTo>
                    <a:pt x="57454" y="71300"/>
                  </a:lnTo>
                  <a:lnTo>
                    <a:pt x="50272" y="51189"/>
                  </a:lnTo>
                  <a:lnTo>
                    <a:pt x="41295" y="32907"/>
                  </a:lnTo>
                  <a:lnTo>
                    <a:pt x="34113" y="16454"/>
                  </a:lnTo>
                  <a:lnTo>
                    <a:pt x="28727" y="3657"/>
                  </a:lnTo>
                  <a:lnTo>
                    <a:pt x="28727" y="1828"/>
                  </a:lnTo>
                  <a:lnTo>
                    <a:pt x="28727" y="0"/>
                  </a:lnTo>
                  <a:lnTo>
                    <a:pt x="21545" y="5485"/>
                  </a:lnTo>
                  <a:lnTo>
                    <a:pt x="12568" y="16454"/>
                  </a:lnTo>
                  <a:lnTo>
                    <a:pt x="7182" y="27423"/>
                  </a:lnTo>
                  <a:lnTo>
                    <a:pt x="1795" y="34736"/>
                  </a:lnTo>
                  <a:lnTo>
                    <a:pt x="0" y="42048"/>
                  </a:lnTo>
                  <a:lnTo>
                    <a:pt x="0" y="54846"/>
                  </a:lnTo>
                  <a:lnTo>
                    <a:pt x="1795" y="67643"/>
                  </a:lnTo>
                  <a:lnTo>
                    <a:pt x="1795" y="78612"/>
                  </a:lnTo>
                  <a:lnTo>
                    <a:pt x="3591" y="82269"/>
                  </a:lnTo>
                  <a:lnTo>
                    <a:pt x="7182" y="89581"/>
                  </a:lnTo>
                  <a:lnTo>
                    <a:pt x="17955" y="106035"/>
                  </a:lnTo>
                  <a:lnTo>
                    <a:pt x="28727" y="122489"/>
                  </a:lnTo>
                  <a:lnTo>
                    <a:pt x="32318" y="127973"/>
                  </a:lnTo>
                  <a:lnTo>
                    <a:pt x="35909" y="129802"/>
                  </a:lnTo>
                  <a:lnTo>
                    <a:pt x="41295" y="133458"/>
                  </a:lnTo>
                  <a:lnTo>
                    <a:pt x="44886" y="138942"/>
                  </a:lnTo>
                  <a:lnTo>
                    <a:pt x="57454" y="149912"/>
                  </a:lnTo>
                  <a:lnTo>
                    <a:pt x="66431" y="159052"/>
                  </a:lnTo>
                  <a:lnTo>
                    <a:pt x="70022" y="162709"/>
                  </a:lnTo>
                  <a:lnTo>
                    <a:pt x="71817" y="164537"/>
                  </a:lnTo>
                  <a:lnTo>
                    <a:pt x="70022" y="149912"/>
                  </a:lnTo>
                  <a:lnTo>
                    <a:pt x="70022" y="131630"/>
                  </a:lnTo>
                  <a:lnTo>
                    <a:pt x="71817" y="117004"/>
                  </a:lnTo>
                  <a:lnTo>
                    <a:pt x="71817" y="113348"/>
                  </a:lnTo>
                  <a:lnTo>
                    <a:pt x="73613" y="109692"/>
                  </a:lnTo>
                  <a:close/>
                </a:path>
              </a:pathLst>
            </a:custGeom>
            <a:noFill/>
            <a:ln w="18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Freihandform 179"/>
            <p:cNvSpPr/>
            <p:nvPr/>
          </p:nvSpPr>
          <p:spPr>
            <a:xfrm>
              <a:off x="8275680" y="5380200"/>
              <a:ext cx="87120" cy="153720"/>
            </a:xfrm>
            <a:custGeom>
              <a:avLst/>
              <a:gdLst>
                <a:gd name="textAreaLeft" fmla="*/ 0 w 87120"/>
                <a:gd name="textAreaRight" fmla="*/ 87480 w 87120"/>
                <a:gd name="textAreaTop" fmla="*/ 0 h 153720"/>
                <a:gd name="textAreaBottom" fmla="*/ 153720 h 153720"/>
              </a:gdLst>
              <a:ahLst/>
              <a:rect l="textAreaLeft" t="textAreaTop" r="textAreaRight" b="textAreaBottom"/>
              <a:pathLst>
                <a:path w="73614" h="164538">
                  <a:moveTo>
                    <a:pt x="73613" y="109692"/>
                  </a:moveTo>
                  <a:lnTo>
                    <a:pt x="70022" y="102379"/>
                  </a:lnTo>
                  <a:lnTo>
                    <a:pt x="64636" y="89581"/>
                  </a:lnTo>
                  <a:lnTo>
                    <a:pt x="57454" y="71300"/>
                  </a:lnTo>
                  <a:lnTo>
                    <a:pt x="50272" y="51189"/>
                  </a:lnTo>
                  <a:lnTo>
                    <a:pt x="41295" y="32907"/>
                  </a:lnTo>
                  <a:lnTo>
                    <a:pt x="34113" y="16454"/>
                  </a:lnTo>
                  <a:lnTo>
                    <a:pt x="28727" y="3657"/>
                  </a:lnTo>
                  <a:lnTo>
                    <a:pt x="28727" y="1828"/>
                  </a:lnTo>
                  <a:lnTo>
                    <a:pt x="28727" y="0"/>
                  </a:lnTo>
                  <a:lnTo>
                    <a:pt x="21545" y="5485"/>
                  </a:lnTo>
                  <a:lnTo>
                    <a:pt x="12568" y="16454"/>
                  </a:lnTo>
                  <a:lnTo>
                    <a:pt x="7182" y="27423"/>
                  </a:lnTo>
                  <a:lnTo>
                    <a:pt x="1795" y="34736"/>
                  </a:lnTo>
                  <a:lnTo>
                    <a:pt x="0" y="42048"/>
                  </a:lnTo>
                  <a:lnTo>
                    <a:pt x="0" y="54846"/>
                  </a:lnTo>
                  <a:lnTo>
                    <a:pt x="1795" y="67643"/>
                  </a:lnTo>
                  <a:lnTo>
                    <a:pt x="1795" y="78612"/>
                  </a:lnTo>
                  <a:lnTo>
                    <a:pt x="3591" y="82269"/>
                  </a:lnTo>
                  <a:lnTo>
                    <a:pt x="7182" y="89581"/>
                  </a:lnTo>
                  <a:lnTo>
                    <a:pt x="17955" y="106035"/>
                  </a:lnTo>
                  <a:lnTo>
                    <a:pt x="28727" y="122489"/>
                  </a:lnTo>
                  <a:lnTo>
                    <a:pt x="32318" y="127973"/>
                  </a:lnTo>
                  <a:lnTo>
                    <a:pt x="35909" y="129802"/>
                  </a:lnTo>
                  <a:lnTo>
                    <a:pt x="41295" y="133458"/>
                  </a:lnTo>
                  <a:lnTo>
                    <a:pt x="44886" y="138942"/>
                  </a:lnTo>
                  <a:lnTo>
                    <a:pt x="57454" y="149912"/>
                  </a:lnTo>
                  <a:lnTo>
                    <a:pt x="66431" y="159052"/>
                  </a:lnTo>
                  <a:lnTo>
                    <a:pt x="70022" y="162709"/>
                  </a:lnTo>
                  <a:lnTo>
                    <a:pt x="71817" y="164537"/>
                  </a:lnTo>
                  <a:lnTo>
                    <a:pt x="70022" y="149912"/>
                  </a:lnTo>
                  <a:lnTo>
                    <a:pt x="70022" y="131630"/>
                  </a:lnTo>
                  <a:lnTo>
                    <a:pt x="71817" y="117004"/>
                  </a:lnTo>
                  <a:lnTo>
                    <a:pt x="71817" y="113348"/>
                  </a:lnTo>
                  <a:lnTo>
                    <a:pt x="73613" y="109692"/>
                  </a:lnTo>
                  <a:close/>
                </a:path>
              </a:pathLst>
            </a:custGeom>
            <a:noFill/>
            <a:ln w="18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Freihandform 180"/>
            <p:cNvSpPr/>
            <p:nvPr/>
          </p:nvSpPr>
          <p:spPr>
            <a:xfrm>
              <a:off x="8475840" y="5361120"/>
              <a:ext cx="79200" cy="17748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177480"/>
                <a:gd name="textAreaBottom" fmla="*/ 177480 h 177480"/>
              </a:gdLst>
              <a:ahLst/>
              <a:rect l="textAreaLeft" t="textAreaTop" r="textAreaRight" b="textAreaBottom"/>
              <a:pathLst>
                <a:path w="67058" h="189231">
                  <a:moveTo>
                    <a:pt x="38735" y="1271"/>
                  </a:moveTo>
                  <a:lnTo>
                    <a:pt x="40768" y="5461"/>
                  </a:lnTo>
                  <a:lnTo>
                    <a:pt x="47498" y="18669"/>
                  </a:lnTo>
                  <a:lnTo>
                    <a:pt x="54357" y="31750"/>
                  </a:lnTo>
                  <a:lnTo>
                    <a:pt x="57023" y="36576"/>
                  </a:lnTo>
                  <a:lnTo>
                    <a:pt x="59056" y="40005"/>
                  </a:lnTo>
                  <a:lnTo>
                    <a:pt x="62484" y="47625"/>
                  </a:lnTo>
                  <a:lnTo>
                    <a:pt x="65914" y="63628"/>
                  </a:lnTo>
                  <a:lnTo>
                    <a:pt x="67057" y="85725"/>
                  </a:lnTo>
                  <a:lnTo>
                    <a:pt x="64390" y="112523"/>
                  </a:lnTo>
                  <a:lnTo>
                    <a:pt x="54865" y="144399"/>
                  </a:lnTo>
                  <a:lnTo>
                    <a:pt x="40768" y="169926"/>
                  </a:lnTo>
                  <a:lnTo>
                    <a:pt x="33909" y="178943"/>
                  </a:lnTo>
                  <a:lnTo>
                    <a:pt x="26544" y="185929"/>
                  </a:lnTo>
                  <a:lnTo>
                    <a:pt x="20447" y="189230"/>
                  </a:lnTo>
                  <a:lnTo>
                    <a:pt x="14859" y="189230"/>
                  </a:lnTo>
                  <a:lnTo>
                    <a:pt x="12828" y="187961"/>
                  </a:lnTo>
                  <a:lnTo>
                    <a:pt x="10160" y="184405"/>
                  </a:lnTo>
                  <a:lnTo>
                    <a:pt x="6732" y="177547"/>
                  </a:lnTo>
                  <a:lnTo>
                    <a:pt x="3430" y="170561"/>
                  </a:lnTo>
                  <a:lnTo>
                    <a:pt x="1397" y="167260"/>
                  </a:lnTo>
                  <a:lnTo>
                    <a:pt x="0" y="165100"/>
                  </a:lnTo>
                  <a:lnTo>
                    <a:pt x="37973" y="0"/>
                  </a:lnTo>
                  <a:lnTo>
                    <a:pt x="38735" y="1271"/>
                  </a:lnTo>
                  <a:close/>
                </a:path>
              </a:pathLst>
            </a:custGeom>
            <a:solidFill>
              <a:srgbClr val="eaea99"/>
            </a:solidFill>
            <a:ln w="0">
              <a:solidFill>
                <a:srgbClr val="eaea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Freihandform 181"/>
            <p:cNvSpPr/>
            <p:nvPr/>
          </p:nvSpPr>
          <p:spPr>
            <a:xfrm>
              <a:off x="8475840" y="5361120"/>
              <a:ext cx="79200" cy="17748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177480"/>
                <a:gd name="textAreaBottom" fmla="*/ 177840 h 177480"/>
              </a:gdLst>
              <a:ahLst/>
              <a:rect l="textAreaLeft" t="textAreaTop" r="textAreaRight" b="textAreaBottom"/>
              <a:pathLst>
                <a:path w="66430" h="188305">
                  <a:moveTo>
                    <a:pt x="37704" y="0"/>
                  </a:moveTo>
                  <a:lnTo>
                    <a:pt x="0" y="164537"/>
                  </a:lnTo>
                  <a:lnTo>
                    <a:pt x="0" y="166366"/>
                  </a:lnTo>
                  <a:lnTo>
                    <a:pt x="3590" y="170022"/>
                  </a:lnTo>
                  <a:lnTo>
                    <a:pt x="5386" y="177335"/>
                  </a:lnTo>
                  <a:lnTo>
                    <a:pt x="8977" y="184648"/>
                  </a:lnTo>
                  <a:lnTo>
                    <a:pt x="12567" y="188304"/>
                  </a:lnTo>
                  <a:lnTo>
                    <a:pt x="14363" y="188304"/>
                  </a:lnTo>
                  <a:lnTo>
                    <a:pt x="19749" y="188304"/>
                  </a:lnTo>
                  <a:lnTo>
                    <a:pt x="25136" y="184648"/>
                  </a:lnTo>
                  <a:lnTo>
                    <a:pt x="32317" y="179163"/>
                  </a:lnTo>
                  <a:lnTo>
                    <a:pt x="39498" y="170022"/>
                  </a:lnTo>
                  <a:lnTo>
                    <a:pt x="53862" y="144427"/>
                  </a:lnTo>
                  <a:lnTo>
                    <a:pt x="64635" y="111520"/>
                  </a:lnTo>
                  <a:lnTo>
                    <a:pt x="66429" y="85925"/>
                  </a:lnTo>
                  <a:lnTo>
                    <a:pt x="64635" y="63987"/>
                  </a:lnTo>
                  <a:lnTo>
                    <a:pt x="61043" y="47533"/>
                  </a:lnTo>
                  <a:lnTo>
                    <a:pt x="59248" y="40221"/>
                  </a:lnTo>
                  <a:lnTo>
                    <a:pt x="55658" y="36564"/>
                  </a:lnTo>
                  <a:lnTo>
                    <a:pt x="53862" y="31080"/>
                  </a:lnTo>
                  <a:lnTo>
                    <a:pt x="46681" y="18282"/>
                  </a:lnTo>
                  <a:lnTo>
                    <a:pt x="39498" y="5485"/>
                  </a:lnTo>
                  <a:lnTo>
                    <a:pt x="37704" y="0"/>
                  </a:lnTo>
                  <a:close/>
                </a:path>
              </a:pathLst>
            </a:custGeom>
            <a:noFill/>
            <a:ln w="18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Freihandform 182"/>
            <p:cNvSpPr/>
            <p:nvPr/>
          </p:nvSpPr>
          <p:spPr>
            <a:xfrm>
              <a:off x="8521920" y="5153040"/>
              <a:ext cx="80640" cy="206280"/>
            </a:xfrm>
            <a:custGeom>
              <a:avLst/>
              <a:gdLst>
                <a:gd name="textAreaLeft" fmla="*/ 0 w 80640"/>
                <a:gd name="textAreaRight" fmla="*/ 81000 w 80640"/>
                <a:gd name="textAreaTop" fmla="*/ 0 h 206280"/>
                <a:gd name="textAreaBottom" fmla="*/ 206640 h 206280"/>
              </a:gdLst>
              <a:ahLst/>
              <a:rect l="textAreaLeft" t="textAreaTop" r="textAreaRight" b="textAreaBottom"/>
              <a:pathLst>
                <a:path w="67947" h="218948">
                  <a:moveTo>
                    <a:pt x="26417" y="634"/>
                  </a:moveTo>
                  <a:lnTo>
                    <a:pt x="38609" y="6857"/>
                  </a:lnTo>
                  <a:lnTo>
                    <a:pt x="51562" y="20065"/>
                  </a:lnTo>
                  <a:lnTo>
                    <a:pt x="65786" y="42163"/>
                  </a:lnTo>
                  <a:lnTo>
                    <a:pt x="66422" y="46227"/>
                  </a:lnTo>
                  <a:lnTo>
                    <a:pt x="67184" y="57403"/>
                  </a:lnTo>
                  <a:lnTo>
                    <a:pt x="67946" y="73278"/>
                  </a:lnTo>
                  <a:lnTo>
                    <a:pt x="67184" y="92582"/>
                  </a:lnTo>
                  <a:lnTo>
                    <a:pt x="65279" y="114807"/>
                  </a:lnTo>
                  <a:lnTo>
                    <a:pt x="61087" y="137413"/>
                  </a:lnTo>
                  <a:lnTo>
                    <a:pt x="53595" y="160274"/>
                  </a:lnTo>
                  <a:lnTo>
                    <a:pt x="42799" y="180339"/>
                  </a:lnTo>
                  <a:lnTo>
                    <a:pt x="40768" y="183895"/>
                  </a:lnTo>
                  <a:lnTo>
                    <a:pt x="35942" y="192151"/>
                  </a:lnTo>
                  <a:lnTo>
                    <a:pt x="30608" y="202564"/>
                  </a:lnTo>
                  <a:lnTo>
                    <a:pt x="27179" y="211455"/>
                  </a:lnTo>
                  <a:lnTo>
                    <a:pt x="24511" y="210057"/>
                  </a:lnTo>
                  <a:lnTo>
                    <a:pt x="22480" y="210057"/>
                  </a:lnTo>
                  <a:lnTo>
                    <a:pt x="20321" y="213487"/>
                  </a:lnTo>
                  <a:lnTo>
                    <a:pt x="19559" y="212217"/>
                  </a:lnTo>
                  <a:lnTo>
                    <a:pt x="18416" y="210057"/>
                  </a:lnTo>
                  <a:lnTo>
                    <a:pt x="16384" y="210057"/>
                  </a:lnTo>
                  <a:lnTo>
                    <a:pt x="13462" y="215011"/>
                  </a:lnTo>
                  <a:lnTo>
                    <a:pt x="10796" y="213487"/>
                  </a:lnTo>
                  <a:lnTo>
                    <a:pt x="5461" y="218439"/>
                  </a:lnTo>
                  <a:lnTo>
                    <a:pt x="762" y="218947"/>
                  </a:lnTo>
                  <a:lnTo>
                    <a:pt x="0" y="218439"/>
                  </a:lnTo>
                  <a:lnTo>
                    <a:pt x="0" y="215011"/>
                  </a:lnTo>
                  <a:lnTo>
                    <a:pt x="2033" y="189357"/>
                  </a:lnTo>
                  <a:lnTo>
                    <a:pt x="6097" y="165226"/>
                  </a:lnTo>
                  <a:lnTo>
                    <a:pt x="14224" y="118237"/>
                  </a:lnTo>
                  <a:lnTo>
                    <a:pt x="17654" y="93218"/>
                  </a:lnTo>
                  <a:lnTo>
                    <a:pt x="19050" y="65532"/>
                  </a:lnTo>
                  <a:lnTo>
                    <a:pt x="19050" y="35178"/>
                  </a:lnTo>
                  <a:lnTo>
                    <a:pt x="16384" y="0"/>
                  </a:lnTo>
                  <a:lnTo>
                    <a:pt x="26417" y="634"/>
                  </a:lnTo>
                  <a:close/>
                </a:path>
              </a:pathLst>
            </a:custGeom>
            <a:solidFill>
              <a:srgbClr val="75c129"/>
            </a:solidFill>
            <a:ln w="0">
              <a:solidFill>
                <a:srgbClr val="75c1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Freihandform 183"/>
            <p:cNvSpPr/>
            <p:nvPr/>
          </p:nvSpPr>
          <p:spPr>
            <a:xfrm>
              <a:off x="8521920" y="5153040"/>
              <a:ext cx="80640" cy="206280"/>
            </a:xfrm>
            <a:custGeom>
              <a:avLst/>
              <a:gdLst>
                <a:gd name="textAreaLeft" fmla="*/ 0 w 80640"/>
                <a:gd name="textAreaRight" fmla="*/ 81000 w 80640"/>
                <a:gd name="textAreaTop" fmla="*/ 0 h 206280"/>
                <a:gd name="textAreaBottom" fmla="*/ 206640 h 206280"/>
              </a:gdLst>
              <a:ahLst/>
              <a:rect l="textAreaLeft" t="textAreaTop" r="textAreaRight" b="textAreaBottom"/>
              <a:pathLst>
                <a:path w="68226" h="219382">
                  <a:moveTo>
                    <a:pt x="16158" y="0"/>
                  </a:moveTo>
                  <a:lnTo>
                    <a:pt x="17954" y="36563"/>
                  </a:lnTo>
                  <a:lnTo>
                    <a:pt x="17954" y="65814"/>
                  </a:lnTo>
                  <a:lnTo>
                    <a:pt x="17954" y="93237"/>
                  </a:lnTo>
                  <a:lnTo>
                    <a:pt x="14363" y="118831"/>
                  </a:lnTo>
                  <a:lnTo>
                    <a:pt x="5386" y="166364"/>
                  </a:lnTo>
                  <a:lnTo>
                    <a:pt x="1795" y="190130"/>
                  </a:lnTo>
                  <a:lnTo>
                    <a:pt x="0" y="215725"/>
                  </a:lnTo>
                  <a:lnTo>
                    <a:pt x="0" y="219381"/>
                  </a:lnTo>
                  <a:lnTo>
                    <a:pt x="0" y="219381"/>
                  </a:lnTo>
                  <a:lnTo>
                    <a:pt x="5386" y="219381"/>
                  </a:lnTo>
                  <a:lnTo>
                    <a:pt x="10772" y="213896"/>
                  </a:lnTo>
                  <a:lnTo>
                    <a:pt x="12568" y="215725"/>
                  </a:lnTo>
                  <a:lnTo>
                    <a:pt x="16158" y="210240"/>
                  </a:lnTo>
                  <a:lnTo>
                    <a:pt x="17954" y="210240"/>
                  </a:lnTo>
                  <a:lnTo>
                    <a:pt x="19748" y="212068"/>
                  </a:lnTo>
                  <a:lnTo>
                    <a:pt x="19748" y="213896"/>
                  </a:lnTo>
                  <a:lnTo>
                    <a:pt x="21544" y="210240"/>
                  </a:lnTo>
                  <a:lnTo>
                    <a:pt x="23340" y="210240"/>
                  </a:lnTo>
                  <a:lnTo>
                    <a:pt x="26931" y="212068"/>
                  </a:lnTo>
                  <a:lnTo>
                    <a:pt x="30521" y="202927"/>
                  </a:lnTo>
                  <a:lnTo>
                    <a:pt x="35908" y="191958"/>
                  </a:lnTo>
                  <a:lnTo>
                    <a:pt x="39498" y="184645"/>
                  </a:lnTo>
                  <a:lnTo>
                    <a:pt x="43089" y="180989"/>
                  </a:lnTo>
                  <a:lnTo>
                    <a:pt x="53861" y="160879"/>
                  </a:lnTo>
                  <a:lnTo>
                    <a:pt x="61043" y="137113"/>
                  </a:lnTo>
                  <a:lnTo>
                    <a:pt x="64633" y="115175"/>
                  </a:lnTo>
                  <a:lnTo>
                    <a:pt x="66429" y="93237"/>
                  </a:lnTo>
                  <a:lnTo>
                    <a:pt x="68225" y="73127"/>
                  </a:lnTo>
                  <a:lnTo>
                    <a:pt x="66429" y="58502"/>
                  </a:lnTo>
                  <a:lnTo>
                    <a:pt x="66429" y="47532"/>
                  </a:lnTo>
                  <a:lnTo>
                    <a:pt x="64633" y="42048"/>
                  </a:lnTo>
                  <a:lnTo>
                    <a:pt x="50271" y="20110"/>
                  </a:lnTo>
                  <a:lnTo>
                    <a:pt x="37702" y="7313"/>
                  </a:lnTo>
                  <a:lnTo>
                    <a:pt x="26931" y="1828"/>
                  </a:lnTo>
                  <a:lnTo>
                    <a:pt x="16158" y="0"/>
                  </a:lnTo>
                  <a:close/>
                </a:path>
              </a:pathLst>
            </a:custGeom>
            <a:noFill/>
            <a:ln w="18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Freihandform 184"/>
            <p:cNvSpPr/>
            <p:nvPr/>
          </p:nvSpPr>
          <p:spPr>
            <a:xfrm>
              <a:off x="8264520" y="4933800"/>
              <a:ext cx="285480" cy="699840"/>
            </a:xfrm>
            <a:custGeom>
              <a:avLst/>
              <a:gdLst>
                <a:gd name="textAreaLeft" fmla="*/ 0 w 285480"/>
                <a:gd name="textAreaRight" fmla="*/ 285840 w 285480"/>
                <a:gd name="textAreaTop" fmla="*/ 0 h 699840"/>
                <a:gd name="textAreaBottom" fmla="*/ 700200 h 699840"/>
              </a:gdLst>
              <a:ahLst/>
              <a:rect l="textAreaLeft" t="textAreaTop" r="textAreaRight" b="textAreaBottom"/>
              <a:pathLst>
                <a:path w="239523" h="743966">
                  <a:moveTo>
                    <a:pt x="160909" y="27558"/>
                  </a:moveTo>
                  <a:lnTo>
                    <a:pt x="170434" y="45465"/>
                  </a:lnTo>
                  <a:lnTo>
                    <a:pt x="177800" y="64896"/>
                  </a:lnTo>
                  <a:lnTo>
                    <a:pt x="182627" y="80771"/>
                  </a:lnTo>
                  <a:lnTo>
                    <a:pt x="183896" y="85725"/>
                  </a:lnTo>
                  <a:lnTo>
                    <a:pt x="184532" y="86995"/>
                  </a:lnTo>
                  <a:lnTo>
                    <a:pt x="186564" y="98678"/>
                  </a:lnTo>
                  <a:lnTo>
                    <a:pt x="189231" y="107060"/>
                  </a:lnTo>
                  <a:lnTo>
                    <a:pt x="195327" y="118745"/>
                  </a:lnTo>
                  <a:lnTo>
                    <a:pt x="202184" y="129794"/>
                  </a:lnTo>
                  <a:lnTo>
                    <a:pt x="207010" y="138938"/>
                  </a:lnTo>
                  <a:lnTo>
                    <a:pt x="212345" y="150621"/>
                  </a:lnTo>
                  <a:lnTo>
                    <a:pt x="227331" y="197612"/>
                  </a:lnTo>
                  <a:lnTo>
                    <a:pt x="236094" y="241045"/>
                  </a:lnTo>
                  <a:lnTo>
                    <a:pt x="239522" y="281813"/>
                  </a:lnTo>
                  <a:lnTo>
                    <a:pt x="239522" y="318389"/>
                  </a:lnTo>
                  <a:lnTo>
                    <a:pt x="236856" y="349503"/>
                  </a:lnTo>
                  <a:lnTo>
                    <a:pt x="232665" y="373760"/>
                  </a:lnTo>
                  <a:lnTo>
                    <a:pt x="229235" y="391033"/>
                  </a:lnTo>
                  <a:lnTo>
                    <a:pt x="227966" y="399414"/>
                  </a:lnTo>
                  <a:lnTo>
                    <a:pt x="226569" y="410337"/>
                  </a:lnTo>
                  <a:lnTo>
                    <a:pt x="223902" y="424307"/>
                  </a:lnTo>
                  <a:lnTo>
                    <a:pt x="221234" y="435990"/>
                  </a:lnTo>
                  <a:lnTo>
                    <a:pt x="219965" y="439420"/>
                  </a:lnTo>
                  <a:lnTo>
                    <a:pt x="219965" y="440689"/>
                  </a:lnTo>
                  <a:lnTo>
                    <a:pt x="218568" y="465074"/>
                  </a:lnTo>
                  <a:lnTo>
                    <a:pt x="214377" y="491235"/>
                  </a:lnTo>
                  <a:lnTo>
                    <a:pt x="200915" y="543051"/>
                  </a:lnTo>
                  <a:lnTo>
                    <a:pt x="194057" y="565784"/>
                  </a:lnTo>
                  <a:lnTo>
                    <a:pt x="187960" y="584453"/>
                  </a:lnTo>
                  <a:lnTo>
                    <a:pt x="183896" y="596264"/>
                  </a:lnTo>
                  <a:lnTo>
                    <a:pt x="181865" y="601090"/>
                  </a:lnTo>
                  <a:lnTo>
                    <a:pt x="172340" y="637666"/>
                  </a:lnTo>
                  <a:lnTo>
                    <a:pt x="170943" y="654939"/>
                  </a:lnTo>
                  <a:lnTo>
                    <a:pt x="170434" y="670178"/>
                  </a:lnTo>
                  <a:lnTo>
                    <a:pt x="170434" y="683387"/>
                  </a:lnTo>
                  <a:lnTo>
                    <a:pt x="170943" y="693039"/>
                  </a:lnTo>
                  <a:lnTo>
                    <a:pt x="171705" y="699262"/>
                  </a:lnTo>
                  <a:lnTo>
                    <a:pt x="172340" y="701928"/>
                  </a:lnTo>
                  <a:lnTo>
                    <a:pt x="173864" y="706755"/>
                  </a:lnTo>
                  <a:lnTo>
                    <a:pt x="174371" y="714375"/>
                  </a:lnTo>
                  <a:lnTo>
                    <a:pt x="174371" y="720597"/>
                  </a:lnTo>
                  <a:lnTo>
                    <a:pt x="174371" y="723391"/>
                  </a:lnTo>
                  <a:lnTo>
                    <a:pt x="169672" y="732282"/>
                  </a:lnTo>
                  <a:lnTo>
                    <a:pt x="163577" y="738505"/>
                  </a:lnTo>
                  <a:lnTo>
                    <a:pt x="148718" y="743965"/>
                  </a:lnTo>
                  <a:lnTo>
                    <a:pt x="135002" y="743965"/>
                  </a:lnTo>
                  <a:lnTo>
                    <a:pt x="130937" y="743458"/>
                  </a:lnTo>
                  <a:lnTo>
                    <a:pt x="128906" y="743458"/>
                  </a:lnTo>
                  <a:lnTo>
                    <a:pt x="116714" y="742060"/>
                  </a:lnTo>
                  <a:lnTo>
                    <a:pt x="107189" y="737234"/>
                  </a:lnTo>
                  <a:lnTo>
                    <a:pt x="100331" y="731646"/>
                  </a:lnTo>
                  <a:lnTo>
                    <a:pt x="98425" y="729614"/>
                  </a:lnTo>
                  <a:lnTo>
                    <a:pt x="103759" y="698500"/>
                  </a:lnTo>
                  <a:lnTo>
                    <a:pt x="104521" y="670940"/>
                  </a:lnTo>
                  <a:lnTo>
                    <a:pt x="102490" y="646810"/>
                  </a:lnTo>
                  <a:lnTo>
                    <a:pt x="97664" y="627380"/>
                  </a:lnTo>
                  <a:lnTo>
                    <a:pt x="92330" y="611505"/>
                  </a:lnTo>
                  <a:lnTo>
                    <a:pt x="86869" y="599820"/>
                  </a:lnTo>
                  <a:lnTo>
                    <a:pt x="82805" y="592835"/>
                  </a:lnTo>
                  <a:lnTo>
                    <a:pt x="80772" y="590676"/>
                  </a:lnTo>
                  <a:lnTo>
                    <a:pt x="59056" y="547115"/>
                  </a:lnTo>
                  <a:lnTo>
                    <a:pt x="51562" y="526414"/>
                  </a:lnTo>
                  <a:lnTo>
                    <a:pt x="44705" y="508508"/>
                  </a:lnTo>
                  <a:lnTo>
                    <a:pt x="40768" y="492633"/>
                  </a:lnTo>
                  <a:lnTo>
                    <a:pt x="37339" y="480821"/>
                  </a:lnTo>
                  <a:lnTo>
                    <a:pt x="35942" y="472566"/>
                  </a:lnTo>
                  <a:lnTo>
                    <a:pt x="35433" y="469772"/>
                  </a:lnTo>
                  <a:lnTo>
                    <a:pt x="25146" y="440182"/>
                  </a:lnTo>
                  <a:lnTo>
                    <a:pt x="16892" y="411860"/>
                  </a:lnTo>
                  <a:lnTo>
                    <a:pt x="10287" y="385571"/>
                  </a:lnTo>
                  <a:lnTo>
                    <a:pt x="5334" y="360680"/>
                  </a:lnTo>
                  <a:lnTo>
                    <a:pt x="2668" y="338582"/>
                  </a:lnTo>
                  <a:lnTo>
                    <a:pt x="762" y="317881"/>
                  </a:lnTo>
                  <a:lnTo>
                    <a:pt x="0" y="281813"/>
                  </a:lnTo>
                  <a:lnTo>
                    <a:pt x="2032" y="252730"/>
                  </a:lnTo>
                  <a:lnTo>
                    <a:pt x="6096" y="230632"/>
                  </a:lnTo>
                  <a:lnTo>
                    <a:pt x="9525" y="215519"/>
                  </a:lnTo>
                  <a:lnTo>
                    <a:pt x="12193" y="206501"/>
                  </a:lnTo>
                  <a:lnTo>
                    <a:pt x="14859" y="198882"/>
                  </a:lnTo>
                  <a:lnTo>
                    <a:pt x="19050" y="187197"/>
                  </a:lnTo>
                  <a:lnTo>
                    <a:pt x="32512" y="158114"/>
                  </a:lnTo>
                  <a:lnTo>
                    <a:pt x="38608" y="143637"/>
                  </a:lnTo>
                  <a:lnTo>
                    <a:pt x="44705" y="131952"/>
                  </a:lnTo>
                  <a:lnTo>
                    <a:pt x="48895" y="122935"/>
                  </a:lnTo>
                  <a:lnTo>
                    <a:pt x="50293" y="120269"/>
                  </a:lnTo>
                  <a:lnTo>
                    <a:pt x="51562" y="112521"/>
                  </a:lnTo>
                  <a:lnTo>
                    <a:pt x="55627" y="103632"/>
                  </a:lnTo>
                  <a:lnTo>
                    <a:pt x="65914" y="82169"/>
                  </a:lnTo>
                  <a:lnTo>
                    <a:pt x="75946" y="64134"/>
                  </a:lnTo>
                  <a:lnTo>
                    <a:pt x="78614" y="58674"/>
                  </a:lnTo>
                  <a:lnTo>
                    <a:pt x="80137" y="56641"/>
                  </a:lnTo>
                  <a:lnTo>
                    <a:pt x="88900" y="35814"/>
                  </a:lnTo>
                  <a:lnTo>
                    <a:pt x="96902" y="21335"/>
                  </a:lnTo>
                  <a:lnTo>
                    <a:pt x="104521" y="10921"/>
                  </a:lnTo>
                  <a:lnTo>
                    <a:pt x="110618" y="4699"/>
                  </a:lnTo>
                  <a:lnTo>
                    <a:pt x="115444" y="1396"/>
                  </a:lnTo>
                  <a:lnTo>
                    <a:pt x="119381" y="0"/>
                  </a:lnTo>
                  <a:lnTo>
                    <a:pt x="122809" y="0"/>
                  </a:lnTo>
                  <a:lnTo>
                    <a:pt x="127000" y="0"/>
                  </a:lnTo>
                  <a:lnTo>
                    <a:pt x="127635" y="1396"/>
                  </a:lnTo>
                  <a:lnTo>
                    <a:pt x="126239" y="4190"/>
                  </a:lnTo>
                  <a:lnTo>
                    <a:pt x="118110" y="14351"/>
                  </a:lnTo>
                  <a:lnTo>
                    <a:pt x="112522" y="26289"/>
                  </a:lnTo>
                  <a:lnTo>
                    <a:pt x="110618" y="35814"/>
                  </a:lnTo>
                  <a:lnTo>
                    <a:pt x="109856" y="40005"/>
                  </a:lnTo>
                  <a:lnTo>
                    <a:pt x="112015" y="37210"/>
                  </a:lnTo>
                  <a:lnTo>
                    <a:pt x="115444" y="33020"/>
                  </a:lnTo>
                  <a:lnTo>
                    <a:pt x="124842" y="22859"/>
                  </a:lnTo>
                  <a:lnTo>
                    <a:pt x="133732" y="12445"/>
                  </a:lnTo>
                  <a:lnTo>
                    <a:pt x="136398" y="8889"/>
                  </a:lnTo>
                  <a:lnTo>
                    <a:pt x="137669" y="8127"/>
                  </a:lnTo>
                  <a:lnTo>
                    <a:pt x="139193" y="3428"/>
                  </a:lnTo>
                  <a:lnTo>
                    <a:pt x="141097" y="1905"/>
                  </a:lnTo>
                  <a:lnTo>
                    <a:pt x="147194" y="5460"/>
                  </a:lnTo>
                  <a:lnTo>
                    <a:pt x="154052" y="14351"/>
                  </a:lnTo>
                  <a:lnTo>
                    <a:pt x="158750" y="23368"/>
                  </a:lnTo>
                  <a:lnTo>
                    <a:pt x="160147" y="26289"/>
                  </a:lnTo>
                  <a:lnTo>
                    <a:pt x="160909" y="27558"/>
                  </a:lnTo>
                  <a:close/>
                </a:path>
              </a:pathLst>
            </a:custGeom>
            <a:solidFill>
              <a:srgbClr val="51a300"/>
            </a:solidFill>
            <a:ln w="0">
              <a:solidFill>
                <a:srgbClr val="51a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Freihandform 185"/>
            <p:cNvSpPr/>
            <p:nvPr/>
          </p:nvSpPr>
          <p:spPr>
            <a:xfrm>
              <a:off x="8264520" y="4932360"/>
              <a:ext cx="285480" cy="701640"/>
            </a:xfrm>
            <a:custGeom>
              <a:avLst/>
              <a:gdLst>
                <a:gd name="textAreaLeft" fmla="*/ 0 w 285480"/>
                <a:gd name="textAreaRight" fmla="*/ 285840 w 285480"/>
                <a:gd name="textAreaTop" fmla="*/ 0 h 701640"/>
                <a:gd name="textAreaBottom" fmla="*/ 702000 h 701640"/>
              </a:gdLst>
              <a:ahLst/>
              <a:rect l="textAreaLeft" t="textAreaTop" r="textAreaRight" b="textAreaBottom"/>
              <a:pathLst>
                <a:path w="238792" h="744069">
                  <a:moveTo>
                    <a:pt x="159793" y="27423"/>
                  </a:moveTo>
                  <a:lnTo>
                    <a:pt x="170565" y="45705"/>
                  </a:lnTo>
                  <a:lnTo>
                    <a:pt x="177747" y="65814"/>
                  </a:lnTo>
                  <a:lnTo>
                    <a:pt x="181337" y="80440"/>
                  </a:lnTo>
                  <a:lnTo>
                    <a:pt x="183133" y="85924"/>
                  </a:lnTo>
                  <a:lnTo>
                    <a:pt x="183133" y="87753"/>
                  </a:lnTo>
                  <a:lnTo>
                    <a:pt x="184929" y="98722"/>
                  </a:lnTo>
                  <a:lnTo>
                    <a:pt x="188520" y="107863"/>
                  </a:lnTo>
                  <a:lnTo>
                    <a:pt x="193906" y="118832"/>
                  </a:lnTo>
                  <a:lnTo>
                    <a:pt x="201087" y="129801"/>
                  </a:lnTo>
                  <a:lnTo>
                    <a:pt x="206474" y="138942"/>
                  </a:lnTo>
                  <a:lnTo>
                    <a:pt x="211860" y="151739"/>
                  </a:lnTo>
                  <a:lnTo>
                    <a:pt x="226223" y="197443"/>
                  </a:lnTo>
                  <a:lnTo>
                    <a:pt x="235200" y="241320"/>
                  </a:lnTo>
                  <a:lnTo>
                    <a:pt x="238791" y="281540"/>
                  </a:lnTo>
                  <a:lnTo>
                    <a:pt x="238791" y="318103"/>
                  </a:lnTo>
                  <a:lnTo>
                    <a:pt x="236996" y="349182"/>
                  </a:lnTo>
                  <a:lnTo>
                    <a:pt x="231609" y="374776"/>
                  </a:lnTo>
                  <a:lnTo>
                    <a:pt x="228018" y="391230"/>
                  </a:lnTo>
                  <a:lnTo>
                    <a:pt x="228018" y="400371"/>
                  </a:lnTo>
                  <a:lnTo>
                    <a:pt x="226223" y="411340"/>
                  </a:lnTo>
                  <a:lnTo>
                    <a:pt x="222632" y="424137"/>
                  </a:lnTo>
                  <a:lnTo>
                    <a:pt x="220837" y="436934"/>
                  </a:lnTo>
                  <a:lnTo>
                    <a:pt x="219041" y="438763"/>
                  </a:lnTo>
                  <a:lnTo>
                    <a:pt x="219041" y="440591"/>
                  </a:lnTo>
                  <a:lnTo>
                    <a:pt x="217246" y="464357"/>
                  </a:lnTo>
                  <a:lnTo>
                    <a:pt x="213656" y="491780"/>
                  </a:lnTo>
                  <a:lnTo>
                    <a:pt x="201087" y="542969"/>
                  </a:lnTo>
                  <a:lnTo>
                    <a:pt x="193906" y="566735"/>
                  </a:lnTo>
                  <a:lnTo>
                    <a:pt x="186724" y="585017"/>
                  </a:lnTo>
                  <a:lnTo>
                    <a:pt x="183133" y="595986"/>
                  </a:lnTo>
                  <a:lnTo>
                    <a:pt x="181337" y="601470"/>
                  </a:lnTo>
                  <a:lnTo>
                    <a:pt x="172360" y="638034"/>
                  </a:lnTo>
                  <a:lnTo>
                    <a:pt x="170565" y="654488"/>
                  </a:lnTo>
                  <a:lnTo>
                    <a:pt x="170565" y="670941"/>
                  </a:lnTo>
                  <a:lnTo>
                    <a:pt x="170565" y="683738"/>
                  </a:lnTo>
                  <a:lnTo>
                    <a:pt x="170565" y="692879"/>
                  </a:lnTo>
                  <a:lnTo>
                    <a:pt x="170565" y="700192"/>
                  </a:lnTo>
                  <a:lnTo>
                    <a:pt x="172360" y="702020"/>
                  </a:lnTo>
                  <a:lnTo>
                    <a:pt x="172360" y="707505"/>
                  </a:lnTo>
                  <a:lnTo>
                    <a:pt x="174156" y="714817"/>
                  </a:lnTo>
                  <a:lnTo>
                    <a:pt x="174156" y="720302"/>
                  </a:lnTo>
                  <a:lnTo>
                    <a:pt x="174156" y="723958"/>
                  </a:lnTo>
                  <a:lnTo>
                    <a:pt x="168770" y="733099"/>
                  </a:lnTo>
                  <a:lnTo>
                    <a:pt x="163383" y="738584"/>
                  </a:lnTo>
                  <a:lnTo>
                    <a:pt x="147225" y="744068"/>
                  </a:lnTo>
                  <a:lnTo>
                    <a:pt x="134656" y="744068"/>
                  </a:lnTo>
                  <a:lnTo>
                    <a:pt x="129271" y="744068"/>
                  </a:lnTo>
                  <a:lnTo>
                    <a:pt x="127475" y="744068"/>
                  </a:lnTo>
                  <a:lnTo>
                    <a:pt x="116703" y="742240"/>
                  </a:lnTo>
                  <a:lnTo>
                    <a:pt x="105930" y="736756"/>
                  </a:lnTo>
                  <a:lnTo>
                    <a:pt x="100544" y="731271"/>
                  </a:lnTo>
                  <a:lnTo>
                    <a:pt x="96953" y="729443"/>
                  </a:lnTo>
                  <a:lnTo>
                    <a:pt x="102339" y="698364"/>
                  </a:lnTo>
                  <a:lnTo>
                    <a:pt x="104135" y="670941"/>
                  </a:lnTo>
                  <a:lnTo>
                    <a:pt x="102339" y="647175"/>
                  </a:lnTo>
                  <a:lnTo>
                    <a:pt x="96953" y="627065"/>
                  </a:lnTo>
                  <a:lnTo>
                    <a:pt x="91567" y="612439"/>
                  </a:lnTo>
                  <a:lnTo>
                    <a:pt x="86180" y="599642"/>
                  </a:lnTo>
                  <a:lnTo>
                    <a:pt x="82590" y="592329"/>
                  </a:lnTo>
                  <a:lnTo>
                    <a:pt x="80794" y="590501"/>
                  </a:lnTo>
                  <a:lnTo>
                    <a:pt x="59249" y="546625"/>
                  </a:lnTo>
                  <a:lnTo>
                    <a:pt x="50272" y="526515"/>
                  </a:lnTo>
                  <a:lnTo>
                    <a:pt x="44886" y="508233"/>
                  </a:lnTo>
                  <a:lnTo>
                    <a:pt x="39499" y="493608"/>
                  </a:lnTo>
                  <a:lnTo>
                    <a:pt x="35909" y="480811"/>
                  </a:lnTo>
                  <a:lnTo>
                    <a:pt x="35909" y="473498"/>
                  </a:lnTo>
                  <a:lnTo>
                    <a:pt x="34114" y="469842"/>
                  </a:lnTo>
                  <a:lnTo>
                    <a:pt x="25136" y="440591"/>
                  </a:lnTo>
                  <a:lnTo>
                    <a:pt x="16159" y="411340"/>
                  </a:lnTo>
                  <a:lnTo>
                    <a:pt x="8977" y="385746"/>
                  </a:lnTo>
                  <a:lnTo>
                    <a:pt x="5387" y="360151"/>
                  </a:lnTo>
                  <a:lnTo>
                    <a:pt x="1796" y="338213"/>
                  </a:lnTo>
                  <a:lnTo>
                    <a:pt x="0" y="318103"/>
                  </a:lnTo>
                  <a:lnTo>
                    <a:pt x="0" y="281540"/>
                  </a:lnTo>
                  <a:lnTo>
                    <a:pt x="1796" y="252289"/>
                  </a:lnTo>
                  <a:lnTo>
                    <a:pt x="5387" y="230350"/>
                  </a:lnTo>
                  <a:lnTo>
                    <a:pt x="8977" y="215725"/>
                  </a:lnTo>
                  <a:lnTo>
                    <a:pt x="10773" y="206584"/>
                  </a:lnTo>
                  <a:lnTo>
                    <a:pt x="14364" y="199271"/>
                  </a:lnTo>
                  <a:lnTo>
                    <a:pt x="17954" y="188302"/>
                  </a:lnTo>
                  <a:lnTo>
                    <a:pt x="32318" y="159052"/>
                  </a:lnTo>
                  <a:lnTo>
                    <a:pt x="37704" y="144426"/>
                  </a:lnTo>
                  <a:lnTo>
                    <a:pt x="44886" y="131629"/>
                  </a:lnTo>
                  <a:lnTo>
                    <a:pt x="48476" y="122488"/>
                  </a:lnTo>
                  <a:lnTo>
                    <a:pt x="50272" y="120660"/>
                  </a:lnTo>
                  <a:lnTo>
                    <a:pt x="50272" y="113347"/>
                  </a:lnTo>
                  <a:lnTo>
                    <a:pt x="55658" y="104206"/>
                  </a:lnTo>
                  <a:lnTo>
                    <a:pt x="64636" y="82268"/>
                  </a:lnTo>
                  <a:lnTo>
                    <a:pt x="75408" y="63986"/>
                  </a:lnTo>
                  <a:lnTo>
                    <a:pt x="77203" y="58502"/>
                  </a:lnTo>
                  <a:lnTo>
                    <a:pt x="78999" y="56673"/>
                  </a:lnTo>
                  <a:lnTo>
                    <a:pt x="87976" y="36564"/>
                  </a:lnTo>
                  <a:lnTo>
                    <a:pt x="96953" y="21938"/>
                  </a:lnTo>
                  <a:lnTo>
                    <a:pt x="104135" y="10969"/>
                  </a:lnTo>
                  <a:lnTo>
                    <a:pt x="109521" y="5485"/>
                  </a:lnTo>
                  <a:lnTo>
                    <a:pt x="114907" y="1828"/>
                  </a:lnTo>
                  <a:lnTo>
                    <a:pt x="118498" y="0"/>
                  </a:lnTo>
                  <a:lnTo>
                    <a:pt x="122089" y="0"/>
                  </a:lnTo>
                  <a:lnTo>
                    <a:pt x="125679" y="0"/>
                  </a:lnTo>
                  <a:lnTo>
                    <a:pt x="127475" y="1828"/>
                  </a:lnTo>
                  <a:lnTo>
                    <a:pt x="125679" y="3657"/>
                  </a:lnTo>
                  <a:lnTo>
                    <a:pt x="116703" y="14626"/>
                  </a:lnTo>
                  <a:lnTo>
                    <a:pt x="111316" y="25595"/>
                  </a:lnTo>
                  <a:lnTo>
                    <a:pt x="109521" y="36564"/>
                  </a:lnTo>
                  <a:lnTo>
                    <a:pt x="109521" y="40220"/>
                  </a:lnTo>
                  <a:lnTo>
                    <a:pt x="111316" y="36564"/>
                  </a:lnTo>
                  <a:lnTo>
                    <a:pt x="114907" y="32907"/>
                  </a:lnTo>
                  <a:lnTo>
                    <a:pt x="123884" y="23767"/>
                  </a:lnTo>
                  <a:lnTo>
                    <a:pt x="132861" y="12797"/>
                  </a:lnTo>
                  <a:lnTo>
                    <a:pt x="136452" y="9141"/>
                  </a:lnTo>
                  <a:lnTo>
                    <a:pt x="136452" y="9141"/>
                  </a:lnTo>
                  <a:lnTo>
                    <a:pt x="138248" y="3657"/>
                  </a:lnTo>
                  <a:lnTo>
                    <a:pt x="140043" y="1828"/>
                  </a:lnTo>
                  <a:lnTo>
                    <a:pt x="147225" y="5485"/>
                  </a:lnTo>
                  <a:lnTo>
                    <a:pt x="152611" y="14626"/>
                  </a:lnTo>
                  <a:lnTo>
                    <a:pt x="157998" y="23767"/>
                  </a:lnTo>
                  <a:lnTo>
                    <a:pt x="159793" y="25595"/>
                  </a:lnTo>
                  <a:lnTo>
                    <a:pt x="159793" y="27423"/>
                  </a:lnTo>
                  <a:close/>
                </a:path>
              </a:pathLst>
            </a:custGeom>
            <a:noFill/>
            <a:ln w="18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Freihandform 186"/>
            <p:cNvSpPr/>
            <p:nvPr/>
          </p:nvSpPr>
          <p:spPr>
            <a:xfrm>
              <a:off x="8348760" y="4935600"/>
              <a:ext cx="201600" cy="671400"/>
            </a:xfrm>
            <a:custGeom>
              <a:avLst/>
              <a:gdLst>
                <a:gd name="textAreaLeft" fmla="*/ 0 w 201600"/>
                <a:gd name="textAreaRight" fmla="*/ 201960 w 201600"/>
                <a:gd name="textAreaTop" fmla="*/ 0 h 671400"/>
                <a:gd name="textAreaBottom" fmla="*/ 671400 h 671400"/>
              </a:gdLst>
              <a:ahLst/>
              <a:rect l="textAreaLeft" t="textAreaTop" r="textAreaRight" b="textAreaBottom"/>
              <a:pathLst>
                <a:path w="169673" h="713995">
                  <a:moveTo>
                    <a:pt x="70612" y="0"/>
                  </a:moveTo>
                  <a:lnTo>
                    <a:pt x="77344" y="4317"/>
                  </a:lnTo>
                  <a:lnTo>
                    <a:pt x="83440" y="13208"/>
                  </a:lnTo>
                  <a:lnTo>
                    <a:pt x="88900" y="22225"/>
                  </a:lnTo>
                  <a:lnTo>
                    <a:pt x="90297" y="24891"/>
                  </a:lnTo>
                  <a:lnTo>
                    <a:pt x="91059" y="26415"/>
                  </a:lnTo>
                  <a:lnTo>
                    <a:pt x="99822" y="44322"/>
                  </a:lnTo>
                  <a:lnTo>
                    <a:pt x="107189" y="63627"/>
                  </a:lnTo>
                  <a:lnTo>
                    <a:pt x="112777" y="79628"/>
                  </a:lnTo>
                  <a:lnTo>
                    <a:pt x="114046" y="83820"/>
                  </a:lnTo>
                  <a:lnTo>
                    <a:pt x="114682" y="85852"/>
                  </a:lnTo>
                  <a:lnTo>
                    <a:pt x="116714" y="97535"/>
                  </a:lnTo>
                  <a:lnTo>
                    <a:pt x="118872" y="105917"/>
                  </a:lnTo>
                  <a:lnTo>
                    <a:pt x="124969" y="116840"/>
                  </a:lnTo>
                  <a:lnTo>
                    <a:pt x="132334" y="128523"/>
                  </a:lnTo>
                  <a:lnTo>
                    <a:pt x="137160" y="137540"/>
                  </a:lnTo>
                  <a:lnTo>
                    <a:pt x="141859" y="149478"/>
                  </a:lnTo>
                  <a:lnTo>
                    <a:pt x="157481" y="195707"/>
                  </a:lnTo>
                  <a:lnTo>
                    <a:pt x="166244" y="239903"/>
                  </a:lnTo>
                  <a:lnTo>
                    <a:pt x="169672" y="280670"/>
                  </a:lnTo>
                  <a:lnTo>
                    <a:pt x="168910" y="317246"/>
                  </a:lnTo>
                  <a:lnTo>
                    <a:pt x="166244" y="348360"/>
                  </a:lnTo>
                  <a:lnTo>
                    <a:pt x="162815" y="372490"/>
                  </a:lnTo>
                  <a:lnTo>
                    <a:pt x="159385" y="389890"/>
                  </a:lnTo>
                  <a:lnTo>
                    <a:pt x="158116" y="398017"/>
                  </a:lnTo>
                  <a:lnTo>
                    <a:pt x="156719" y="409194"/>
                  </a:lnTo>
                  <a:lnTo>
                    <a:pt x="154052" y="422909"/>
                  </a:lnTo>
                  <a:lnTo>
                    <a:pt x="151384" y="434847"/>
                  </a:lnTo>
                  <a:lnTo>
                    <a:pt x="150115" y="438277"/>
                  </a:lnTo>
                  <a:lnTo>
                    <a:pt x="150115" y="439546"/>
                  </a:lnTo>
                  <a:lnTo>
                    <a:pt x="148718" y="463677"/>
                  </a:lnTo>
                  <a:lnTo>
                    <a:pt x="144019" y="489965"/>
                  </a:lnTo>
                  <a:lnTo>
                    <a:pt x="131065" y="541782"/>
                  </a:lnTo>
                  <a:lnTo>
                    <a:pt x="124207" y="564641"/>
                  </a:lnTo>
                  <a:lnTo>
                    <a:pt x="118110" y="582548"/>
                  </a:lnTo>
                  <a:lnTo>
                    <a:pt x="113284" y="594995"/>
                  </a:lnTo>
                  <a:lnTo>
                    <a:pt x="112015" y="599185"/>
                  </a:lnTo>
                  <a:lnTo>
                    <a:pt x="102490" y="636396"/>
                  </a:lnTo>
                  <a:lnTo>
                    <a:pt x="100584" y="653034"/>
                  </a:lnTo>
                  <a:lnTo>
                    <a:pt x="99822" y="669035"/>
                  </a:lnTo>
                  <a:lnTo>
                    <a:pt x="100584" y="682116"/>
                  </a:lnTo>
                  <a:lnTo>
                    <a:pt x="101093" y="691896"/>
                  </a:lnTo>
                  <a:lnTo>
                    <a:pt x="101855" y="698119"/>
                  </a:lnTo>
                  <a:lnTo>
                    <a:pt x="102490" y="700023"/>
                  </a:lnTo>
                  <a:lnTo>
                    <a:pt x="103252" y="709803"/>
                  </a:lnTo>
                  <a:lnTo>
                    <a:pt x="101855" y="713994"/>
                  </a:lnTo>
                  <a:lnTo>
                    <a:pt x="98425" y="713994"/>
                  </a:lnTo>
                  <a:lnTo>
                    <a:pt x="92965" y="711072"/>
                  </a:lnTo>
                  <a:lnTo>
                    <a:pt x="82805" y="702817"/>
                  </a:lnTo>
                  <a:lnTo>
                    <a:pt x="79375" y="700023"/>
                  </a:lnTo>
                  <a:lnTo>
                    <a:pt x="77344" y="700023"/>
                  </a:lnTo>
                  <a:lnTo>
                    <a:pt x="56389" y="691134"/>
                  </a:lnTo>
                  <a:lnTo>
                    <a:pt x="46102" y="682752"/>
                  </a:lnTo>
                  <a:lnTo>
                    <a:pt x="43434" y="675894"/>
                  </a:lnTo>
                  <a:lnTo>
                    <a:pt x="46102" y="669671"/>
                  </a:lnTo>
                  <a:lnTo>
                    <a:pt x="52197" y="664083"/>
                  </a:lnTo>
                  <a:lnTo>
                    <a:pt x="59056" y="660780"/>
                  </a:lnTo>
                  <a:lnTo>
                    <a:pt x="65914" y="658621"/>
                  </a:lnTo>
                  <a:lnTo>
                    <a:pt x="68581" y="658621"/>
                  </a:lnTo>
                  <a:lnTo>
                    <a:pt x="78106" y="657352"/>
                  </a:lnTo>
                  <a:lnTo>
                    <a:pt x="84202" y="655065"/>
                  </a:lnTo>
                  <a:lnTo>
                    <a:pt x="88900" y="648842"/>
                  </a:lnTo>
                  <a:lnTo>
                    <a:pt x="85471" y="643382"/>
                  </a:lnTo>
                  <a:lnTo>
                    <a:pt x="76073" y="641984"/>
                  </a:lnTo>
                  <a:lnTo>
                    <a:pt x="59056" y="633729"/>
                  </a:lnTo>
                  <a:lnTo>
                    <a:pt x="46864" y="626745"/>
                  </a:lnTo>
                  <a:lnTo>
                    <a:pt x="38100" y="621284"/>
                  </a:lnTo>
                  <a:lnTo>
                    <a:pt x="32640" y="616584"/>
                  </a:lnTo>
                  <a:lnTo>
                    <a:pt x="30481" y="612266"/>
                  </a:lnTo>
                  <a:lnTo>
                    <a:pt x="30481" y="608838"/>
                  </a:lnTo>
                  <a:lnTo>
                    <a:pt x="36577" y="604139"/>
                  </a:lnTo>
                  <a:lnTo>
                    <a:pt x="47625" y="601217"/>
                  </a:lnTo>
                  <a:lnTo>
                    <a:pt x="59818" y="599947"/>
                  </a:lnTo>
                  <a:lnTo>
                    <a:pt x="69978" y="599947"/>
                  </a:lnTo>
                  <a:lnTo>
                    <a:pt x="73915" y="599947"/>
                  </a:lnTo>
                  <a:lnTo>
                    <a:pt x="84964" y="597153"/>
                  </a:lnTo>
                  <a:lnTo>
                    <a:pt x="93727" y="594359"/>
                  </a:lnTo>
                  <a:lnTo>
                    <a:pt x="104521" y="586740"/>
                  </a:lnTo>
                  <a:lnTo>
                    <a:pt x="107189" y="579246"/>
                  </a:lnTo>
                  <a:lnTo>
                    <a:pt x="104521" y="571500"/>
                  </a:lnTo>
                  <a:lnTo>
                    <a:pt x="97791" y="564641"/>
                  </a:lnTo>
                  <a:lnTo>
                    <a:pt x="88900" y="557657"/>
                  </a:lnTo>
                  <a:lnTo>
                    <a:pt x="80137" y="553592"/>
                  </a:lnTo>
                  <a:lnTo>
                    <a:pt x="72771" y="551434"/>
                  </a:lnTo>
                  <a:lnTo>
                    <a:pt x="54992" y="549402"/>
                  </a:lnTo>
                  <a:lnTo>
                    <a:pt x="40768" y="547370"/>
                  </a:lnTo>
                  <a:lnTo>
                    <a:pt x="29210" y="544703"/>
                  </a:lnTo>
                  <a:lnTo>
                    <a:pt x="19812" y="541146"/>
                  </a:lnTo>
                  <a:lnTo>
                    <a:pt x="8764" y="534923"/>
                  </a:lnTo>
                  <a:lnTo>
                    <a:pt x="7494" y="527303"/>
                  </a:lnTo>
                  <a:lnTo>
                    <a:pt x="13590" y="520319"/>
                  </a:lnTo>
                  <a:lnTo>
                    <a:pt x="26544" y="514096"/>
                  </a:lnTo>
                  <a:lnTo>
                    <a:pt x="44196" y="509396"/>
                  </a:lnTo>
                  <a:lnTo>
                    <a:pt x="67183" y="506603"/>
                  </a:lnTo>
                  <a:lnTo>
                    <a:pt x="86233" y="505205"/>
                  </a:lnTo>
                  <a:lnTo>
                    <a:pt x="101093" y="502411"/>
                  </a:lnTo>
                  <a:lnTo>
                    <a:pt x="112777" y="500379"/>
                  </a:lnTo>
                  <a:lnTo>
                    <a:pt x="121540" y="496951"/>
                  </a:lnTo>
                  <a:lnTo>
                    <a:pt x="131065" y="491490"/>
                  </a:lnTo>
                  <a:lnTo>
                    <a:pt x="133732" y="484504"/>
                  </a:lnTo>
                  <a:lnTo>
                    <a:pt x="130303" y="478282"/>
                  </a:lnTo>
                  <a:lnTo>
                    <a:pt x="124969" y="473328"/>
                  </a:lnTo>
                  <a:lnTo>
                    <a:pt x="119381" y="469391"/>
                  </a:lnTo>
                  <a:lnTo>
                    <a:pt x="117475" y="467867"/>
                  </a:lnTo>
                  <a:lnTo>
                    <a:pt x="82170" y="461645"/>
                  </a:lnTo>
                  <a:lnTo>
                    <a:pt x="49531" y="457453"/>
                  </a:lnTo>
                  <a:lnTo>
                    <a:pt x="35433" y="454025"/>
                  </a:lnTo>
                  <a:lnTo>
                    <a:pt x="24384" y="448564"/>
                  </a:lnTo>
                  <a:lnTo>
                    <a:pt x="17019" y="440309"/>
                  </a:lnTo>
                  <a:lnTo>
                    <a:pt x="14352" y="427101"/>
                  </a:lnTo>
                  <a:lnTo>
                    <a:pt x="14859" y="416686"/>
                  </a:lnTo>
                  <a:lnTo>
                    <a:pt x="16383" y="408432"/>
                  </a:lnTo>
                  <a:lnTo>
                    <a:pt x="23115" y="396747"/>
                  </a:lnTo>
                  <a:lnTo>
                    <a:pt x="33909" y="390525"/>
                  </a:lnTo>
                  <a:lnTo>
                    <a:pt x="47625" y="387858"/>
                  </a:lnTo>
                  <a:lnTo>
                    <a:pt x="79375" y="387858"/>
                  </a:lnTo>
                  <a:lnTo>
                    <a:pt x="95758" y="387858"/>
                  </a:lnTo>
                  <a:lnTo>
                    <a:pt x="110618" y="384302"/>
                  </a:lnTo>
                  <a:lnTo>
                    <a:pt x="118110" y="380872"/>
                  </a:lnTo>
                  <a:lnTo>
                    <a:pt x="122302" y="377444"/>
                  </a:lnTo>
                  <a:lnTo>
                    <a:pt x="122809" y="373888"/>
                  </a:lnTo>
                  <a:lnTo>
                    <a:pt x="120143" y="370459"/>
                  </a:lnTo>
                  <a:lnTo>
                    <a:pt x="108585" y="364235"/>
                  </a:lnTo>
                  <a:lnTo>
                    <a:pt x="91695" y="357251"/>
                  </a:lnTo>
                  <a:lnTo>
                    <a:pt x="71247" y="352552"/>
                  </a:lnTo>
                  <a:lnTo>
                    <a:pt x="52959" y="347598"/>
                  </a:lnTo>
                  <a:lnTo>
                    <a:pt x="39370" y="344804"/>
                  </a:lnTo>
                  <a:lnTo>
                    <a:pt x="35433" y="344170"/>
                  </a:lnTo>
                  <a:lnTo>
                    <a:pt x="33909" y="344170"/>
                  </a:lnTo>
                  <a:lnTo>
                    <a:pt x="21718" y="337946"/>
                  </a:lnTo>
                  <a:lnTo>
                    <a:pt x="12193" y="332485"/>
                  </a:lnTo>
                  <a:lnTo>
                    <a:pt x="5589" y="326897"/>
                  </a:lnTo>
                  <a:lnTo>
                    <a:pt x="1397" y="322707"/>
                  </a:lnTo>
                  <a:lnTo>
                    <a:pt x="0" y="314452"/>
                  </a:lnTo>
                  <a:lnTo>
                    <a:pt x="6096" y="308228"/>
                  </a:lnTo>
                  <a:lnTo>
                    <a:pt x="18289" y="303403"/>
                  </a:lnTo>
                  <a:lnTo>
                    <a:pt x="35433" y="299339"/>
                  </a:lnTo>
                  <a:lnTo>
                    <a:pt x="76073" y="295147"/>
                  </a:lnTo>
                  <a:lnTo>
                    <a:pt x="93727" y="296545"/>
                  </a:lnTo>
                  <a:lnTo>
                    <a:pt x="107950" y="295909"/>
                  </a:lnTo>
                  <a:lnTo>
                    <a:pt x="120143" y="294385"/>
                  </a:lnTo>
                  <a:lnTo>
                    <a:pt x="129668" y="292353"/>
                  </a:lnTo>
                  <a:lnTo>
                    <a:pt x="141859" y="286892"/>
                  </a:lnTo>
                  <a:lnTo>
                    <a:pt x="146685" y="279908"/>
                  </a:lnTo>
                  <a:lnTo>
                    <a:pt x="145923" y="272288"/>
                  </a:lnTo>
                  <a:lnTo>
                    <a:pt x="141097" y="266065"/>
                  </a:lnTo>
                  <a:lnTo>
                    <a:pt x="135002" y="260603"/>
                  </a:lnTo>
                  <a:lnTo>
                    <a:pt x="129668" y="258571"/>
                  </a:lnTo>
                  <a:lnTo>
                    <a:pt x="112777" y="259841"/>
                  </a:lnTo>
                  <a:lnTo>
                    <a:pt x="98425" y="260603"/>
                  </a:lnTo>
                  <a:lnTo>
                    <a:pt x="76073" y="259841"/>
                  </a:lnTo>
                  <a:lnTo>
                    <a:pt x="60453" y="257809"/>
                  </a:lnTo>
                  <a:lnTo>
                    <a:pt x="50928" y="253619"/>
                  </a:lnTo>
                  <a:lnTo>
                    <a:pt x="46102" y="250190"/>
                  </a:lnTo>
                  <a:lnTo>
                    <a:pt x="44196" y="246888"/>
                  </a:lnTo>
                  <a:lnTo>
                    <a:pt x="44196" y="242696"/>
                  </a:lnTo>
                  <a:lnTo>
                    <a:pt x="49531" y="231521"/>
                  </a:lnTo>
                  <a:lnTo>
                    <a:pt x="57785" y="219836"/>
                  </a:lnTo>
                  <a:lnTo>
                    <a:pt x="64517" y="210820"/>
                  </a:lnTo>
                  <a:lnTo>
                    <a:pt x="67183" y="208153"/>
                  </a:lnTo>
                  <a:lnTo>
                    <a:pt x="68581" y="206628"/>
                  </a:lnTo>
                  <a:lnTo>
                    <a:pt x="84964" y="201167"/>
                  </a:lnTo>
                  <a:lnTo>
                    <a:pt x="98425" y="195707"/>
                  </a:lnTo>
                  <a:lnTo>
                    <a:pt x="118872" y="184530"/>
                  </a:lnTo>
                  <a:lnTo>
                    <a:pt x="130303" y="175514"/>
                  </a:lnTo>
                  <a:lnTo>
                    <a:pt x="135764" y="168021"/>
                  </a:lnTo>
                  <a:lnTo>
                    <a:pt x="136398" y="161797"/>
                  </a:lnTo>
                  <a:lnTo>
                    <a:pt x="135002" y="157607"/>
                  </a:lnTo>
                  <a:lnTo>
                    <a:pt x="132334" y="154940"/>
                  </a:lnTo>
                  <a:lnTo>
                    <a:pt x="131065" y="153415"/>
                  </a:lnTo>
                  <a:lnTo>
                    <a:pt x="120778" y="151384"/>
                  </a:lnTo>
                  <a:lnTo>
                    <a:pt x="108585" y="151384"/>
                  </a:lnTo>
                  <a:lnTo>
                    <a:pt x="98425" y="152146"/>
                  </a:lnTo>
                  <a:lnTo>
                    <a:pt x="94489" y="152908"/>
                  </a:lnTo>
                  <a:lnTo>
                    <a:pt x="90297" y="154178"/>
                  </a:lnTo>
                  <a:lnTo>
                    <a:pt x="89535" y="149986"/>
                  </a:lnTo>
                  <a:lnTo>
                    <a:pt x="91695" y="141732"/>
                  </a:lnTo>
                  <a:lnTo>
                    <a:pt x="94489" y="131317"/>
                  </a:lnTo>
                  <a:lnTo>
                    <a:pt x="102490" y="109982"/>
                  </a:lnTo>
                  <a:lnTo>
                    <a:pt x="105157" y="102996"/>
                  </a:lnTo>
                  <a:lnTo>
                    <a:pt x="106681" y="100203"/>
                  </a:lnTo>
                  <a:lnTo>
                    <a:pt x="107189" y="95503"/>
                  </a:lnTo>
                  <a:lnTo>
                    <a:pt x="105919" y="89280"/>
                  </a:lnTo>
                  <a:lnTo>
                    <a:pt x="104521" y="83820"/>
                  </a:lnTo>
                  <a:lnTo>
                    <a:pt x="104014" y="80898"/>
                  </a:lnTo>
                  <a:lnTo>
                    <a:pt x="95758" y="52704"/>
                  </a:lnTo>
                  <a:lnTo>
                    <a:pt x="84964" y="27178"/>
                  </a:lnTo>
                  <a:lnTo>
                    <a:pt x="79375" y="16002"/>
                  </a:lnTo>
                  <a:lnTo>
                    <a:pt x="75439" y="7746"/>
                  </a:lnTo>
                  <a:lnTo>
                    <a:pt x="72009" y="2285"/>
                  </a:lnTo>
                  <a:lnTo>
                    <a:pt x="70612" y="0"/>
                  </a:lnTo>
                  <a:close/>
                </a:path>
              </a:pathLst>
            </a:custGeom>
            <a:solidFill>
              <a:srgbClr val="51a300"/>
            </a:solidFill>
            <a:ln w="0">
              <a:solidFill>
                <a:srgbClr val="51a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Freihandform 187"/>
            <p:cNvSpPr/>
            <p:nvPr/>
          </p:nvSpPr>
          <p:spPr>
            <a:xfrm>
              <a:off x="8358120" y="4935600"/>
              <a:ext cx="191880" cy="671400"/>
            </a:xfrm>
            <a:custGeom>
              <a:avLst/>
              <a:gdLst>
                <a:gd name="textAreaLeft" fmla="*/ 0 w 191880"/>
                <a:gd name="textAreaRight" fmla="*/ 192240 w 191880"/>
                <a:gd name="textAreaTop" fmla="*/ 0 h 671400"/>
                <a:gd name="textAreaBottom" fmla="*/ 671760 h 671400"/>
              </a:gdLst>
              <a:ahLst/>
              <a:rect l="textAreaLeft" t="textAreaTop" r="textAreaRight" b="textAreaBottom"/>
              <a:pathLst>
                <a:path w="161417" h="712471">
                  <a:moveTo>
                    <a:pt x="62356" y="0"/>
                  </a:moveTo>
                  <a:lnTo>
                    <a:pt x="69088" y="3555"/>
                  </a:lnTo>
                  <a:lnTo>
                    <a:pt x="75184" y="12446"/>
                  </a:lnTo>
                  <a:lnTo>
                    <a:pt x="80644" y="21463"/>
                  </a:lnTo>
                  <a:lnTo>
                    <a:pt x="82041" y="24384"/>
                  </a:lnTo>
                  <a:lnTo>
                    <a:pt x="82803" y="25653"/>
                  </a:lnTo>
                  <a:lnTo>
                    <a:pt x="91566" y="43560"/>
                  </a:lnTo>
                  <a:lnTo>
                    <a:pt x="98933" y="62991"/>
                  </a:lnTo>
                  <a:lnTo>
                    <a:pt x="104521" y="78866"/>
                  </a:lnTo>
                  <a:lnTo>
                    <a:pt x="105790" y="83820"/>
                  </a:lnTo>
                  <a:lnTo>
                    <a:pt x="106426" y="85090"/>
                  </a:lnTo>
                  <a:lnTo>
                    <a:pt x="108458" y="96773"/>
                  </a:lnTo>
                  <a:lnTo>
                    <a:pt x="110616" y="105155"/>
                  </a:lnTo>
                  <a:lnTo>
                    <a:pt x="116713" y="116840"/>
                  </a:lnTo>
                  <a:lnTo>
                    <a:pt x="124078" y="127889"/>
                  </a:lnTo>
                  <a:lnTo>
                    <a:pt x="128904" y="137033"/>
                  </a:lnTo>
                  <a:lnTo>
                    <a:pt x="133603" y="148716"/>
                  </a:lnTo>
                  <a:lnTo>
                    <a:pt x="149225" y="195707"/>
                  </a:lnTo>
                  <a:lnTo>
                    <a:pt x="157988" y="239140"/>
                  </a:lnTo>
                  <a:lnTo>
                    <a:pt x="161416" y="279908"/>
                  </a:lnTo>
                  <a:lnTo>
                    <a:pt x="160654" y="316484"/>
                  </a:lnTo>
                  <a:lnTo>
                    <a:pt x="157988" y="347598"/>
                  </a:lnTo>
                  <a:lnTo>
                    <a:pt x="154559" y="371855"/>
                  </a:lnTo>
                  <a:lnTo>
                    <a:pt x="151129" y="389128"/>
                  </a:lnTo>
                  <a:lnTo>
                    <a:pt x="149860" y="397509"/>
                  </a:lnTo>
                  <a:lnTo>
                    <a:pt x="148463" y="408432"/>
                  </a:lnTo>
                  <a:lnTo>
                    <a:pt x="145796" y="422402"/>
                  </a:lnTo>
                  <a:lnTo>
                    <a:pt x="143128" y="434085"/>
                  </a:lnTo>
                  <a:lnTo>
                    <a:pt x="141859" y="437515"/>
                  </a:lnTo>
                  <a:lnTo>
                    <a:pt x="141859" y="438784"/>
                  </a:lnTo>
                  <a:lnTo>
                    <a:pt x="140462" y="463169"/>
                  </a:lnTo>
                  <a:lnTo>
                    <a:pt x="135763" y="489330"/>
                  </a:lnTo>
                  <a:lnTo>
                    <a:pt x="122809" y="541146"/>
                  </a:lnTo>
                  <a:lnTo>
                    <a:pt x="115951" y="563879"/>
                  </a:lnTo>
                  <a:lnTo>
                    <a:pt x="109854" y="582548"/>
                  </a:lnTo>
                  <a:lnTo>
                    <a:pt x="105028" y="594359"/>
                  </a:lnTo>
                  <a:lnTo>
                    <a:pt x="103759" y="599185"/>
                  </a:lnTo>
                  <a:lnTo>
                    <a:pt x="94234" y="635761"/>
                  </a:lnTo>
                  <a:lnTo>
                    <a:pt x="92328" y="653034"/>
                  </a:lnTo>
                  <a:lnTo>
                    <a:pt x="91566" y="668273"/>
                  </a:lnTo>
                  <a:lnTo>
                    <a:pt x="92328" y="681482"/>
                  </a:lnTo>
                  <a:lnTo>
                    <a:pt x="92837" y="691134"/>
                  </a:lnTo>
                  <a:lnTo>
                    <a:pt x="93599" y="697357"/>
                  </a:lnTo>
                  <a:lnTo>
                    <a:pt x="94234" y="700023"/>
                  </a:lnTo>
                  <a:lnTo>
                    <a:pt x="95758" y="709040"/>
                  </a:lnTo>
                  <a:lnTo>
                    <a:pt x="94234" y="712470"/>
                  </a:lnTo>
                  <a:lnTo>
                    <a:pt x="91566" y="712470"/>
                  </a:lnTo>
                  <a:lnTo>
                    <a:pt x="88138" y="709040"/>
                  </a:lnTo>
                  <a:lnTo>
                    <a:pt x="79375" y="699389"/>
                  </a:lnTo>
                  <a:lnTo>
                    <a:pt x="76708" y="695833"/>
                  </a:lnTo>
                  <a:lnTo>
                    <a:pt x="74549" y="695833"/>
                  </a:lnTo>
                  <a:lnTo>
                    <a:pt x="62991" y="691896"/>
                  </a:lnTo>
                  <a:lnTo>
                    <a:pt x="54228" y="687578"/>
                  </a:lnTo>
                  <a:lnTo>
                    <a:pt x="43434" y="680720"/>
                  </a:lnTo>
                  <a:lnTo>
                    <a:pt x="40004" y="675259"/>
                  </a:lnTo>
                  <a:lnTo>
                    <a:pt x="42799" y="670940"/>
                  </a:lnTo>
                  <a:lnTo>
                    <a:pt x="48133" y="668273"/>
                  </a:lnTo>
                  <a:lnTo>
                    <a:pt x="54990" y="666241"/>
                  </a:lnTo>
                  <a:lnTo>
                    <a:pt x="61087" y="665479"/>
                  </a:lnTo>
                  <a:lnTo>
                    <a:pt x="64515" y="666241"/>
                  </a:lnTo>
                  <a:lnTo>
                    <a:pt x="73278" y="664083"/>
                  </a:lnTo>
                  <a:lnTo>
                    <a:pt x="79375" y="660780"/>
                  </a:lnTo>
                  <a:lnTo>
                    <a:pt x="84074" y="650366"/>
                  </a:lnTo>
                  <a:lnTo>
                    <a:pt x="81279" y="641350"/>
                  </a:lnTo>
                  <a:lnTo>
                    <a:pt x="75184" y="637921"/>
                  </a:lnTo>
                  <a:lnTo>
                    <a:pt x="60325" y="630935"/>
                  </a:lnTo>
                  <a:lnTo>
                    <a:pt x="49529" y="625475"/>
                  </a:lnTo>
                  <a:lnTo>
                    <a:pt x="41275" y="620521"/>
                  </a:lnTo>
                  <a:lnTo>
                    <a:pt x="36576" y="616458"/>
                  </a:lnTo>
                  <a:lnTo>
                    <a:pt x="33909" y="610870"/>
                  </a:lnTo>
                  <a:lnTo>
                    <a:pt x="37846" y="607440"/>
                  </a:lnTo>
                  <a:lnTo>
                    <a:pt x="46101" y="606044"/>
                  </a:lnTo>
                  <a:lnTo>
                    <a:pt x="55626" y="605409"/>
                  </a:lnTo>
                  <a:lnTo>
                    <a:pt x="62991" y="605409"/>
                  </a:lnTo>
                  <a:lnTo>
                    <a:pt x="66421" y="606044"/>
                  </a:lnTo>
                  <a:lnTo>
                    <a:pt x="77977" y="603377"/>
                  </a:lnTo>
                  <a:lnTo>
                    <a:pt x="86740" y="599185"/>
                  </a:lnTo>
                  <a:lnTo>
                    <a:pt x="97663" y="590930"/>
                  </a:lnTo>
                  <a:lnTo>
                    <a:pt x="101091" y="581278"/>
                  </a:lnTo>
                  <a:lnTo>
                    <a:pt x="98933" y="571500"/>
                  </a:lnTo>
                  <a:lnTo>
                    <a:pt x="92837" y="561847"/>
                  </a:lnTo>
                  <a:lnTo>
                    <a:pt x="84709" y="553592"/>
                  </a:lnTo>
                  <a:lnTo>
                    <a:pt x="75946" y="548004"/>
                  </a:lnTo>
                  <a:lnTo>
                    <a:pt x="68452" y="545210"/>
                  </a:lnTo>
                  <a:lnTo>
                    <a:pt x="38608" y="541782"/>
                  </a:lnTo>
                  <a:lnTo>
                    <a:pt x="18796" y="537717"/>
                  </a:lnTo>
                  <a:lnTo>
                    <a:pt x="8127" y="532257"/>
                  </a:lnTo>
                  <a:lnTo>
                    <a:pt x="6096" y="527303"/>
                  </a:lnTo>
                  <a:lnTo>
                    <a:pt x="10794" y="521842"/>
                  </a:lnTo>
                  <a:lnTo>
                    <a:pt x="22225" y="516890"/>
                  </a:lnTo>
                  <a:lnTo>
                    <a:pt x="40004" y="512826"/>
                  </a:lnTo>
                  <a:lnTo>
                    <a:pt x="62356" y="510666"/>
                  </a:lnTo>
                  <a:lnTo>
                    <a:pt x="80644" y="508634"/>
                  </a:lnTo>
                  <a:lnTo>
                    <a:pt x="95758" y="505967"/>
                  </a:lnTo>
                  <a:lnTo>
                    <a:pt x="107950" y="503173"/>
                  </a:lnTo>
                  <a:lnTo>
                    <a:pt x="116713" y="499745"/>
                  </a:lnTo>
                  <a:lnTo>
                    <a:pt x="126746" y="491490"/>
                  </a:lnTo>
                  <a:lnTo>
                    <a:pt x="128904" y="482346"/>
                  </a:lnTo>
                  <a:lnTo>
                    <a:pt x="126238" y="474090"/>
                  </a:lnTo>
                  <a:lnTo>
                    <a:pt x="120650" y="466471"/>
                  </a:lnTo>
                  <a:lnTo>
                    <a:pt x="115951" y="461645"/>
                  </a:lnTo>
                  <a:lnTo>
                    <a:pt x="113284" y="459613"/>
                  </a:lnTo>
                  <a:lnTo>
                    <a:pt x="79375" y="453390"/>
                  </a:lnTo>
                  <a:lnTo>
                    <a:pt x="47371" y="449198"/>
                  </a:lnTo>
                  <a:lnTo>
                    <a:pt x="34416" y="446532"/>
                  </a:lnTo>
                  <a:lnTo>
                    <a:pt x="24384" y="442976"/>
                  </a:lnTo>
                  <a:lnTo>
                    <a:pt x="17652" y="436753"/>
                  </a:lnTo>
                  <a:lnTo>
                    <a:pt x="15621" y="427863"/>
                  </a:lnTo>
                  <a:lnTo>
                    <a:pt x="15621" y="419480"/>
                  </a:lnTo>
                  <a:lnTo>
                    <a:pt x="17652" y="412622"/>
                  </a:lnTo>
                  <a:lnTo>
                    <a:pt x="25018" y="403733"/>
                  </a:lnTo>
                  <a:lnTo>
                    <a:pt x="35940" y="398779"/>
                  </a:lnTo>
                  <a:lnTo>
                    <a:pt x="50038" y="396747"/>
                  </a:lnTo>
                  <a:lnTo>
                    <a:pt x="82803" y="395985"/>
                  </a:lnTo>
                  <a:lnTo>
                    <a:pt x="98933" y="395351"/>
                  </a:lnTo>
                  <a:lnTo>
                    <a:pt x="114553" y="391159"/>
                  </a:lnTo>
                  <a:lnTo>
                    <a:pt x="124078" y="386334"/>
                  </a:lnTo>
                  <a:lnTo>
                    <a:pt x="128904" y="380872"/>
                  </a:lnTo>
                  <a:lnTo>
                    <a:pt x="129666" y="374650"/>
                  </a:lnTo>
                  <a:lnTo>
                    <a:pt x="126238" y="369189"/>
                  </a:lnTo>
                  <a:lnTo>
                    <a:pt x="111887" y="358775"/>
                  </a:lnTo>
                  <a:lnTo>
                    <a:pt x="89535" y="349758"/>
                  </a:lnTo>
                  <a:lnTo>
                    <a:pt x="71119" y="344804"/>
                  </a:lnTo>
                  <a:lnTo>
                    <a:pt x="53466" y="341376"/>
                  </a:lnTo>
                  <a:lnTo>
                    <a:pt x="40639" y="340105"/>
                  </a:lnTo>
                  <a:lnTo>
                    <a:pt x="35940" y="339344"/>
                  </a:lnTo>
                  <a:lnTo>
                    <a:pt x="22987" y="333121"/>
                  </a:lnTo>
                  <a:lnTo>
                    <a:pt x="13462" y="328421"/>
                  </a:lnTo>
                  <a:lnTo>
                    <a:pt x="6603" y="323469"/>
                  </a:lnTo>
                  <a:lnTo>
                    <a:pt x="2031" y="319278"/>
                  </a:lnTo>
                  <a:lnTo>
                    <a:pt x="0" y="313054"/>
                  </a:lnTo>
                  <a:lnTo>
                    <a:pt x="4699" y="308990"/>
                  </a:lnTo>
                  <a:lnTo>
                    <a:pt x="16128" y="306323"/>
                  </a:lnTo>
                  <a:lnTo>
                    <a:pt x="31750" y="304800"/>
                  </a:lnTo>
                  <a:lnTo>
                    <a:pt x="71119" y="302767"/>
                  </a:lnTo>
                  <a:lnTo>
                    <a:pt x="88900" y="302767"/>
                  </a:lnTo>
                  <a:lnTo>
                    <a:pt x="103759" y="302133"/>
                  </a:lnTo>
                  <a:lnTo>
                    <a:pt x="115951" y="300101"/>
                  </a:lnTo>
                  <a:lnTo>
                    <a:pt x="125476" y="296545"/>
                  </a:lnTo>
                  <a:lnTo>
                    <a:pt x="137667" y="288163"/>
                  </a:lnTo>
                  <a:lnTo>
                    <a:pt x="143128" y="277240"/>
                  </a:lnTo>
                  <a:lnTo>
                    <a:pt x="142366" y="266065"/>
                  </a:lnTo>
                  <a:lnTo>
                    <a:pt x="138429" y="256413"/>
                  </a:lnTo>
                  <a:lnTo>
                    <a:pt x="132334" y="249554"/>
                  </a:lnTo>
                  <a:lnTo>
                    <a:pt x="126746" y="246126"/>
                  </a:lnTo>
                  <a:lnTo>
                    <a:pt x="109854" y="247396"/>
                  </a:lnTo>
                  <a:lnTo>
                    <a:pt x="95758" y="248158"/>
                  </a:lnTo>
                  <a:lnTo>
                    <a:pt x="73914" y="248920"/>
                  </a:lnTo>
                  <a:lnTo>
                    <a:pt x="59563" y="247396"/>
                  </a:lnTo>
                  <a:lnTo>
                    <a:pt x="51562" y="245364"/>
                  </a:lnTo>
                  <a:lnTo>
                    <a:pt x="47371" y="242696"/>
                  </a:lnTo>
                  <a:lnTo>
                    <a:pt x="46736" y="239903"/>
                  </a:lnTo>
                  <a:lnTo>
                    <a:pt x="47371" y="237235"/>
                  </a:lnTo>
                  <a:lnTo>
                    <a:pt x="52197" y="227457"/>
                  </a:lnTo>
                  <a:lnTo>
                    <a:pt x="58927" y="219075"/>
                  </a:lnTo>
                  <a:lnTo>
                    <a:pt x="65659" y="212852"/>
                  </a:lnTo>
                  <a:lnTo>
                    <a:pt x="68452" y="210820"/>
                  </a:lnTo>
                  <a:lnTo>
                    <a:pt x="85471" y="205359"/>
                  </a:lnTo>
                  <a:lnTo>
                    <a:pt x="98933" y="199135"/>
                  </a:lnTo>
                  <a:lnTo>
                    <a:pt x="117983" y="187452"/>
                  </a:lnTo>
                  <a:lnTo>
                    <a:pt x="128142" y="177038"/>
                  </a:lnTo>
                  <a:lnTo>
                    <a:pt x="131572" y="168021"/>
                  </a:lnTo>
                  <a:lnTo>
                    <a:pt x="130937" y="159639"/>
                  </a:lnTo>
                  <a:lnTo>
                    <a:pt x="127508" y="153415"/>
                  </a:lnTo>
                  <a:lnTo>
                    <a:pt x="124078" y="149986"/>
                  </a:lnTo>
                  <a:lnTo>
                    <a:pt x="122809" y="148716"/>
                  </a:lnTo>
                  <a:lnTo>
                    <a:pt x="112522" y="145922"/>
                  </a:lnTo>
                  <a:lnTo>
                    <a:pt x="101091" y="146684"/>
                  </a:lnTo>
                  <a:lnTo>
                    <a:pt x="90804" y="147954"/>
                  </a:lnTo>
                  <a:lnTo>
                    <a:pt x="87502" y="148716"/>
                  </a:lnTo>
                  <a:lnTo>
                    <a:pt x="83439" y="149986"/>
                  </a:lnTo>
                  <a:lnTo>
                    <a:pt x="82803" y="146684"/>
                  </a:lnTo>
                  <a:lnTo>
                    <a:pt x="84074" y="139700"/>
                  </a:lnTo>
                  <a:lnTo>
                    <a:pt x="87502" y="130809"/>
                  </a:lnTo>
                  <a:lnTo>
                    <a:pt x="95758" y="112648"/>
                  </a:lnTo>
                  <a:lnTo>
                    <a:pt x="98425" y="106426"/>
                  </a:lnTo>
                  <a:lnTo>
                    <a:pt x="99694" y="104394"/>
                  </a:lnTo>
                  <a:lnTo>
                    <a:pt x="99694" y="98171"/>
                  </a:lnTo>
                  <a:lnTo>
                    <a:pt x="98933" y="89280"/>
                  </a:lnTo>
                  <a:lnTo>
                    <a:pt x="96901" y="80898"/>
                  </a:lnTo>
                  <a:lnTo>
                    <a:pt x="96265" y="77596"/>
                  </a:lnTo>
                  <a:lnTo>
                    <a:pt x="88900" y="49276"/>
                  </a:lnTo>
                  <a:lnTo>
                    <a:pt x="77215" y="24384"/>
                  </a:lnTo>
                  <a:lnTo>
                    <a:pt x="71119" y="14732"/>
                  </a:lnTo>
                  <a:lnTo>
                    <a:pt x="67183" y="6984"/>
                  </a:lnTo>
                  <a:lnTo>
                    <a:pt x="63753" y="1523"/>
                  </a:lnTo>
                  <a:lnTo>
                    <a:pt x="62356" y="0"/>
                  </a:lnTo>
                  <a:close/>
                </a:path>
              </a:pathLst>
            </a:custGeom>
            <a:solidFill>
              <a:srgbClr val="007400"/>
            </a:solidFill>
            <a:ln w="0">
              <a:solidFill>
                <a:srgbClr val="0074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Freihandform 188"/>
            <p:cNvSpPr/>
            <p:nvPr/>
          </p:nvSpPr>
          <p:spPr>
            <a:xfrm>
              <a:off x="8334360" y="5603760"/>
              <a:ext cx="177480" cy="122040"/>
            </a:xfrm>
            <a:custGeom>
              <a:avLst/>
              <a:gdLst>
                <a:gd name="textAreaLeft" fmla="*/ 0 w 177480"/>
                <a:gd name="textAreaRight" fmla="*/ 177840 w 177480"/>
                <a:gd name="textAreaTop" fmla="*/ 0 h 122040"/>
                <a:gd name="textAreaBottom" fmla="*/ 122400 h 122040"/>
              </a:gdLst>
              <a:ahLst/>
              <a:rect l="textAreaLeft" t="textAreaTop" r="textAreaRight" b="textAreaBottom"/>
              <a:pathLst>
                <a:path w="148717" h="130429">
                  <a:moveTo>
                    <a:pt x="116713" y="4191"/>
                  </a:moveTo>
                  <a:lnTo>
                    <a:pt x="119379" y="13081"/>
                  </a:lnTo>
                  <a:lnTo>
                    <a:pt x="122809" y="24764"/>
                  </a:lnTo>
                  <a:lnTo>
                    <a:pt x="125476" y="33781"/>
                  </a:lnTo>
                  <a:lnTo>
                    <a:pt x="127508" y="39243"/>
                  </a:lnTo>
                  <a:lnTo>
                    <a:pt x="130937" y="47625"/>
                  </a:lnTo>
                  <a:lnTo>
                    <a:pt x="139700" y="70357"/>
                  </a:lnTo>
                  <a:lnTo>
                    <a:pt x="147192" y="95885"/>
                  </a:lnTo>
                  <a:lnTo>
                    <a:pt x="148716" y="107695"/>
                  </a:lnTo>
                  <a:lnTo>
                    <a:pt x="147954" y="118744"/>
                  </a:lnTo>
                  <a:lnTo>
                    <a:pt x="147954" y="121539"/>
                  </a:lnTo>
                  <a:lnTo>
                    <a:pt x="144526" y="127762"/>
                  </a:lnTo>
                  <a:lnTo>
                    <a:pt x="140462" y="129793"/>
                  </a:lnTo>
                  <a:lnTo>
                    <a:pt x="135001" y="130428"/>
                  </a:lnTo>
                  <a:lnTo>
                    <a:pt x="127508" y="129158"/>
                  </a:lnTo>
                  <a:lnTo>
                    <a:pt x="117475" y="124967"/>
                  </a:lnTo>
                  <a:lnTo>
                    <a:pt x="115315" y="123570"/>
                  </a:lnTo>
                  <a:lnTo>
                    <a:pt x="111378" y="120777"/>
                  </a:lnTo>
                  <a:lnTo>
                    <a:pt x="97663" y="112522"/>
                  </a:lnTo>
                  <a:lnTo>
                    <a:pt x="83565" y="102869"/>
                  </a:lnTo>
                  <a:lnTo>
                    <a:pt x="77977" y="98678"/>
                  </a:lnTo>
                  <a:lnTo>
                    <a:pt x="75311" y="95885"/>
                  </a:lnTo>
                  <a:lnTo>
                    <a:pt x="73278" y="94615"/>
                  </a:lnTo>
                  <a:lnTo>
                    <a:pt x="70612" y="95885"/>
                  </a:lnTo>
                  <a:lnTo>
                    <a:pt x="64515" y="100203"/>
                  </a:lnTo>
                  <a:lnTo>
                    <a:pt x="58419" y="102107"/>
                  </a:lnTo>
                  <a:lnTo>
                    <a:pt x="56388" y="103631"/>
                  </a:lnTo>
                  <a:lnTo>
                    <a:pt x="52324" y="106299"/>
                  </a:lnTo>
                  <a:lnTo>
                    <a:pt x="40766" y="113283"/>
                  </a:lnTo>
                  <a:lnTo>
                    <a:pt x="28575" y="120015"/>
                  </a:lnTo>
                  <a:lnTo>
                    <a:pt x="22987" y="122936"/>
                  </a:lnTo>
                  <a:lnTo>
                    <a:pt x="20319" y="123570"/>
                  </a:lnTo>
                  <a:lnTo>
                    <a:pt x="14224" y="122936"/>
                  </a:lnTo>
                  <a:lnTo>
                    <a:pt x="6858" y="119506"/>
                  </a:lnTo>
                  <a:lnTo>
                    <a:pt x="1269" y="112522"/>
                  </a:lnTo>
                  <a:lnTo>
                    <a:pt x="0" y="101473"/>
                  </a:lnTo>
                  <a:lnTo>
                    <a:pt x="3937" y="77977"/>
                  </a:lnTo>
                  <a:lnTo>
                    <a:pt x="11556" y="59436"/>
                  </a:lnTo>
                  <a:lnTo>
                    <a:pt x="23749" y="42037"/>
                  </a:lnTo>
                  <a:lnTo>
                    <a:pt x="29083" y="35813"/>
                  </a:lnTo>
                  <a:lnTo>
                    <a:pt x="31750" y="31750"/>
                  </a:lnTo>
                  <a:lnTo>
                    <a:pt x="33909" y="27558"/>
                  </a:lnTo>
                  <a:lnTo>
                    <a:pt x="37338" y="20574"/>
                  </a:lnTo>
                  <a:lnTo>
                    <a:pt x="40766" y="12445"/>
                  </a:lnTo>
                  <a:lnTo>
                    <a:pt x="42037" y="4699"/>
                  </a:lnTo>
                  <a:lnTo>
                    <a:pt x="46227" y="5461"/>
                  </a:lnTo>
                  <a:lnTo>
                    <a:pt x="55626" y="6223"/>
                  </a:lnTo>
                  <a:lnTo>
                    <a:pt x="79375" y="8889"/>
                  </a:lnTo>
                  <a:lnTo>
                    <a:pt x="92328" y="9651"/>
                  </a:lnTo>
                  <a:lnTo>
                    <a:pt x="103124" y="8127"/>
                  </a:lnTo>
                  <a:lnTo>
                    <a:pt x="111378" y="5461"/>
                  </a:lnTo>
                  <a:lnTo>
                    <a:pt x="115315" y="0"/>
                  </a:lnTo>
                  <a:lnTo>
                    <a:pt x="116713" y="4191"/>
                  </a:lnTo>
                  <a:close/>
                </a:path>
              </a:pathLst>
            </a:custGeom>
            <a:solidFill>
              <a:srgbClr val="91a90e"/>
            </a:solidFill>
            <a:ln w="0">
              <a:solidFill>
                <a:srgbClr val="91a90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Freihandform 189"/>
            <p:cNvSpPr/>
            <p:nvPr/>
          </p:nvSpPr>
          <p:spPr>
            <a:xfrm>
              <a:off x="8336160" y="5602320"/>
              <a:ext cx="174600" cy="12348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123480"/>
                <a:gd name="textAreaBottom" fmla="*/ 123840 h 123480"/>
              </a:gdLst>
              <a:ahLst/>
              <a:rect l="textAreaLeft" t="textAreaTop" r="textAreaRight" b="textAreaBottom"/>
              <a:pathLst>
                <a:path w="147227" h="131631">
                  <a:moveTo>
                    <a:pt x="114908" y="0"/>
                  </a:moveTo>
                  <a:lnTo>
                    <a:pt x="111318" y="5484"/>
                  </a:lnTo>
                  <a:lnTo>
                    <a:pt x="102340" y="9141"/>
                  </a:lnTo>
                  <a:lnTo>
                    <a:pt x="91568" y="10969"/>
                  </a:lnTo>
                  <a:lnTo>
                    <a:pt x="78999" y="9141"/>
                  </a:lnTo>
                  <a:lnTo>
                    <a:pt x="53863" y="7313"/>
                  </a:lnTo>
                  <a:lnTo>
                    <a:pt x="44886" y="5484"/>
                  </a:lnTo>
                  <a:lnTo>
                    <a:pt x="41295" y="5484"/>
                  </a:lnTo>
                  <a:lnTo>
                    <a:pt x="39500" y="12797"/>
                  </a:lnTo>
                  <a:lnTo>
                    <a:pt x="35908" y="21938"/>
                  </a:lnTo>
                  <a:lnTo>
                    <a:pt x="32318" y="29251"/>
                  </a:lnTo>
                  <a:lnTo>
                    <a:pt x="30522" y="32907"/>
                  </a:lnTo>
                  <a:lnTo>
                    <a:pt x="28727" y="36564"/>
                  </a:lnTo>
                  <a:lnTo>
                    <a:pt x="23341" y="42048"/>
                  </a:lnTo>
                  <a:lnTo>
                    <a:pt x="10773" y="60330"/>
                  </a:lnTo>
                  <a:lnTo>
                    <a:pt x="3590" y="78612"/>
                  </a:lnTo>
                  <a:lnTo>
                    <a:pt x="0" y="102379"/>
                  </a:lnTo>
                  <a:lnTo>
                    <a:pt x="0" y="113348"/>
                  </a:lnTo>
                  <a:lnTo>
                    <a:pt x="5386" y="120661"/>
                  </a:lnTo>
                  <a:lnTo>
                    <a:pt x="12568" y="124318"/>
                  </a:lnTo>
                  <a:lnTo>
                    <a:pt x="19750" y="124318"/>
                  </a:lnTo>
                  <a:lnTo>
                    <a:pt x="21545" y="124318"/>
                  </a:lnTo>
                  <a:lnTo>
                    <a:pt x="26931" y="120661"/>
                  </a:lnTo>
                  <a:lnTo>
                    <a:pt x="39500" y="113348"/>
                  </a:lnTo>
                  <a:lnTo>
                    <a:pt x="52068" y="107864"/>
                  </a:lnTo>
                  <a:lnTo>
                    <a:pt x="55658" y="104207"/>
                  </a:lnTo>
                  <a:lnTo>
                    <a:pt x="57454" y="102379"/>
                  </a:lnTo>
                  <a:lnTo>
                    <a:pt x="62840" y="100551"/>
                  </a:lnTo>
                  <a:lnTo>
                    <a:pt x="70022" y="96894"/>
                  </a:lnTo>
                  <a:lnTo>
                    <a:pt x="71818" y="95066"/>
                  </a:lnTo>
                  <a:lnTo>
                    <a:pt x="73613" y="96894"/>
                  </a:lnTo>
                  <a:lnTo>
                    <a:pt x="77203" y="98722"/>
                  </a:lnTo>
                  <a:lnTo>
                    <a:pt x="82590" y="104207"/>
                  </a:lnTo>
                  <a:lnTo>
                    <a:pt x="96953" y="113348"/>
                  </a:lnTo>
                  <a:lnTo>
                    <a:pt x="111318" y="120661"/>
                  </a:lnTo>
                  <a:lnTo>
                    <a:pt x="114908" y="124318"/>
                  </a:lnTo>
                  <a:lnTo>
                    <a:pt x="116703" y="126145"/>
                  </a:lnTo>
                  <a:lnTo>
                    <a:pt x="125681" y="129802"/>
                  </a:lnTo>
                  <a:lnTo>
                    <a:pt x="134658" y="131630"/>
                  </a:lnTo>
                  <a:lnTo>
                    <a:pt x="140044" y="129802"/>
                  </a:lnTo>
                  <a:lnTo>
                    <a:pt x="143635" y="127974"/>
                  </a:lnTo>
                  <a:lnTo>
                    <a:pt x="147226" y="122489"/>
                  </a:lnTo>
                  <a:lnTo>
                    <a:pt x="147226" y="118833"/>
                  </a:lnTo>
                  <a:lnTo>
                    <a:pt x="147226" y="107864"/>
                  </a:lnTo>
                  <a:lnTo>
                    <a:pt x="147226" y="96894"/>
                  </a:lnTo>
                  <a:lnTo>
                    <a:pt x="138249" y="71300"/>
                  </a:lnTo>
                  <a:lnTo>
                    <a:pt x="129272" y="47533"/>
                  </a:lnTo>
                  <a:lnTo>
                    <a:pt x="125681" y="40220"/>
                  </a:lnTo>
                  <a:lnTo>
                    <a:pt x="123885" y="34735"/>
                  </a:lnTo>
                  <a:lnTo>
                    <a:pt x="122090" y="25595"/>
                  </a:lnTo>
                  <a:lnTo>
                    <a:pt x="118499" y="14625"/>
                  </a:lnTo>
                  <a:lnTo>
                    <a:pt x="114908" y="5484"/>
                  </a:lnTo>
                  <a:lnTo>
                    <a:pt x="114908" y="0"/>
                  </a:lnTo>
                  <a:close/>
                </a:path>
              </a:pathLst>
            </a:custGeom>
            <a:noFill/>
            <a:ln w="18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Freihandform 190"/>
            <p:cNvSpPr/>
            <p:nvPr/>
          </p:nvSpPr>
          <p:spPr>
            <a:xfrm>
              <a:off x="8423280" y="4997520"/>
              <a:ext cx="37800" cy="3312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31751" h="36831">
                  <a:moveTo>
                    <a:pt x="30481" y="26416"/>
                  </a:moveTo>
                  <a:lnTo>
                    <a:pt x="27051" y="31876"/>
                  </a:lnTo>
                  <a:lnTo>
                    <a:pt x="22987" y="-30230"/>
                  </a:lnTo>
                  <a:lnTo>
                    <a:pt x="16891" y="-28706"/>
                  </a:lnTo>
                  <a:lnTo>
                    <a:pt x="11431" y="-29468"/>
                  </a:lnTo>
                  <a:lnTo>
                    <a:pt x="6097" y="32512"/>
                  </a:lnTo>
                  <a:lnTo>
                    <a:pt x="1906" y="27050"/>
                  </a:lnTo>
                  <a:lnTo>
                    <a:pt x="0" y="18161"/>
                  </a:lnTo>
                  <a:lnTo>
                    <a:pt x="1271" y="11175"/>
                  </a:lnTo>
                  <a:lnTo>
                    <a:pt x="3937" y="5714"/>
                  </a:lnTo>
                  <a:lnTo>
                    <a:pt x="9525" y="2286"/>
                  </a:lnTo>
                  <a:lnTo>
                    <a:pt x="14860" y="0"/>
                  </a:lnTo>
                  <a:lnTo>
                    <a:pt x="20956" y="762"/>
                  </a:lnTo>
                  <a:lnTo>
                    <a:pt x="25654" y="4191"/>
                  </a:lnTo>
                  <a:lnTo>
                    <a:pt x="29719" y="9779"/>
                  </a:lnTo>
                  <a:lnTo>
                    <a:pt x="31750" y="18669"/>
                  </a:lnTo>
                  <a:lnTo>
                    <a:pt x="30481" y="26416"/>
                  </a:lnTo>
                  <a:close/>
                </a:path>
              </a:pathLst>
            </a:custGeom>
            <a:solidFill>
              <a:srgbClr val="cce699"/>
            </a:solidFill>
            <a:ln w="0">
              <a:solidFill>
                <a:srgbClr val="cce6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Freihandform 191"/>
            <p:cNvSpPr/>
            <p:nvPr/>
          </p:nvSpPr>
          <p:spPr>
            <a:xfrm>
              <a:off x="8423280" y="4997520"/>
              <a:ext cx="36360" cy="3312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30525" h="36562">
                  <a:moveTo>
                    <a:pt x="30524" y="18281"/>
                  </a:moveTo>
                  <a:lnTo>
                    <a:pt x="28728" y="9140"/>
                  </a:lnTo>
                  <a:lnTo>
                    <a:pt x="25136" y="3656"/>
                  </a:lnTo>
                  <a:lnTo>
                    <a:pt x="19750" y="1828"/>
                  </a:lnTo>
                  <a:lnTo>
                    <a:pt x="14363" y="0"/>
                  </a:lnTo>
                  <a:lnTo>
                    <a:pt x="8978" y="1828"/>
                  </a:lnTo>
                  <a:lnTo>
                    <a:pt x="3591" y="5484"/>
                  </a:lnTo>
                  <a:lnTo>
                    <a:pt x="0" y="10968"/>
                  </a:lnTo>
                  <a:lnTo>
                    <a:pt x="0" y="18281"/>
                  </a:lnTo>
                  <a:lnTo>
                    <a:pt x="1795" y="27421"/>
                  </a:lnTo>
                  <a:lnTo>
                    <a:pt x="5386" y="-32631"/>
                  </a:lnTo>
                  <a:lnTo>
                    <a:pt x="10773" y="-28975"/>
                  </a:lnTo>
                  <a:lnTo>
                    <a:pt x="16159" y="-28975"/>
                  </a:lnTo>
                  <a:lnTo>
                    <a:pt x="23341" y="-30803"/>
                  </a:lnTo>
                  <a:lnTo>
                    <a:pt x="26932" y="31077"/>
                  </a:lnTo>
                  <a:lnTo>
                    <a:pt x="30524" y="27421"/>
                  </a:lnTo>
                  <a:lnTo>
                    <a:pt x="30524" y="18281"/>
                  </a:lnTo>
                  <a:close/>
                </a:path>
              </a:pathLst>
            </a:custGeom>
            <a:noFill/>
            <a:ln w="18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Freihandform 192"/>
            <p:cNvSpPr/>
            <p:nvPr/>
          </p:nvSpPr>
          <p:spPr>
            <a:xfrm>
              <a:off x="8434440" y="5005440"/>
              <a:ext cx="17280" cy="1728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14861" h="17272">
                  <a:moveTo>
                    <a:pt x="12193" y="15113"/>
                  </a:moveTo>
                  <a:lnTo>
                    <a:pt x="7366" y="17271"/>
                  </a:lnTo>
                  <a:lnTo>
                    <a:pt x="1906" y="15113"/>
                  </a:lnTo>
                  <a:lnTo>
                    <a:pt x="0" y="8382"/>
                  </a:lnTo>
                  <a:lnTo>
                    <a:pt x="1906" y="2158"/>
                  </a:lnTo>
                  <a:lnTo>
                    <a:pt x="6604" y="0"/>
                  </a:lnTo>
                  <a:lnTo>
                    <a:pt x="12193" y="2158"/>
                  </a:lnTo>
                  <a:lnTo>
                    <a:pt x="14860" y="8890"/>
                  </a:lnTo>
                  <a:lnTo>
                    <a:pt x="12193" y="15113"/>
                  </a:lnTo>
                  <a:close/>
                </a:path>
              </a:pathLst>
            </a:custGeom>
            <a:solidFill>
              <a:srgbClr val="191919"/>
            </a:solidFill>
            <a:ln w="0">
              <a:solidFill>
                <a:srgbClr val="19191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Freihandform 193"/>
            <p:cNvSpPr/>
            <p:nvPr/>
          </p:nvSpPr>
          <p:spPr>
            <a:xfrm>
              <a:off x="8321760" y="5153040"/>
              <a:ext cx="79200" cy="12348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123480"/>
                <a:gd name="textAreaBottom" fmla="*/ 123840 h 123480"/>
              </a:gdLst>
              <a:ahLst/>
              <a:rect l="textAreaLeft" t="textAreaTop" r="textAreaRight" b="textAreaBottom"/>
              <a:pathLst>
                <a:path w="67058" h="130683">
                  <a:moveTo>
                    <a:pt x="63755" y="118237"/>
                  </a:moveTo>
                  <a:lnTo>
                    <a:pt x="60960" y="124459"/>
                  </a:lnTo>
                  <a:lnTo>
                    <a:pt x="55499" y="129920"/>
                  </a:lnTo>
                  <a:lnTo>
                    <a:pt x="50800" y="130682"/>
                  </a:lnTo>
                  <a:lnTo>
                    <a:pt x="45340" y="129920"/>
                  </a:lnTo>
                  <a:lnTo>
                    <a:pt x="43943" y="129158"/>
                  </a:lnTo>
                  <a:lnTo>
                    <a:pt x="40514" y="127762"/>
                  </a:lnTo>
                  <a:lnTo>
                    <a:pt x="35815" y="124968"/>
                  </a:lnTo>
                  <a:lnTo>
                    <a:pt x="29083" y="121031"/>
                  </a:lnTo>
                  <a:lnTo>
                    <a:pt x="21464" y="114045"/>
                  </a:lnTo>
                  <a:lnTo>
                    <a:pt x="14097" y="104394"/>
                  </a:lnTo>
                  <a:lnTo>
                    <a:pt x="6605" y="91186"/>
                  </a:lnTo>
                  <a:lnTo>
                    <a:pt x="0" y="74549"/>
                  </a:lnTo>
                  <a:lnTo>
                    <a:pt x="508" y="72517"/>
                  </a:lnTo>
                  <a:lnTo>
                    <a:pt x="1270" y="67056"/>
                  </a:lnTo>
                  <a:lnTo>
                    <a:pt x="3937" y="46989"/>
                  </a:lnTo>
                  <a:lnTo>
                    <a:pt x="10795" y="22097"/>
                  </a:lnTo>
                  <a:lnTo>
                    <a:pt x="20194" y="0"/>
                  </a:lnTo>
                  <a:lnTo>
                    <a:pt x="23622" y="0"/>
                  </a:lnTo>
                  <a:lnTo>
                    <a:pt x="30989" y="634"/>
                  </a:lnTo>
                  <a:lnTo>
                    <a:pt x="40006" y="2667"/>
                  </a:lnTo>
                  <a:lnTo>
                    <a:pt x="44705" y="6222"/>
                  </a:lnTo>
                  <a:lnTo>
                    <a:pt x="46609" y="11049"/>
                  </a:lnTo>
                  <a:lnTo>
                    <a:pt x="50039" y="19303"/>
                  </a:lnTo>
                  <a:lnTo>
                    <a:pt x="54865" y="30988"/>
                  </a:lnTo>
                  <a:lnTo>
                    <a:pt x="59564" y="44957"/>
                  </a:lnTo>
                  <a:lnTo>
                    <a:pt x="66421" y="78739"/>
                  </a:lnTo>
                  <a:lnTo>
                    <a:pt x="67057" y="96646"/>
                  </a:lnTo>
                  <a:lnTo>
                    <a:pt x="64897" y="114807"/>
                  </a:lnTo>
                  <a:lnTo>
                    <a:pt x="63755" y="118237"/>
                  </a:lnTo>
                  <a:close/>
                </a:path>
              </a:pathLst>
            </a:custGeom>
            <a:solidFill>
              <a:srgbClr val="e6b34e"/>
            </a:solidFill>
            <a:ln w="0">
              <a:solidFill>
                <a:srgbClr val="e6b34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Freihandform 194"/>
            <p:cNvSpPr/>
            <p:nvPr/>
          </p:nvSpPr>
          <p:spPr>
            <a:xfrm>
              <a:off x="8321760" y="5153040"/>
              <a:ext cx="79200" cy="12528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125280"/>
                <a:gd name="textAreaBottom" fmla="*/ 125640 h 125280"/>
              </a:gdLst>
              <a:ahLst/>
              <a:rect l="textAreaLeft" t="textAreaTop" r="textAreaRight" b="textAreaBottom"/>
              <a:pathLst>
                <a:path w="66431" h="131630">
                  <a:moveTo>
                    <a:pt x="64634" y="115176"/>
                  </a:moveTo>
                  <a:lnTo>
                    <a:pt x="66430" y="96894"/>
                  </a:lnTo>
                  <a:lnTo>
                    <a:pt x="66430" y="78612"/>
                  </a:lnTo>
                  <a:lnTo>
                    <a:pt x="59248" y="45704"/>
                  </a:lnTo>
                  <a:lnTo>
                    <a:pt x="55657" y="31079"/>
                  </a:lnTo>
                  <a:lnTo>
                    <a:pt x="50271" y="20110"/>
                  </a:lnTo>
                  <a:lnTo>
                    <a:pt x="46680" y="10969"/>
                  </a:lnTo>
                  <a:lnTo>
                    <a:pt x="44885" y="7313"/>
                  </a:lnTo>
                  <a:lnTo>
                    <a:pt x="39498" y="3656"/>
                  </a:lnTo>
                  <a:lnTo>
                    <a:pt x="30521" y="1828"/>
                  </a:lnTo>
                  <a:lnTo>
                    <a:pt x="23340" y="0"/>
                  </a:lnTo>
                  <a:lnTo>
                    <a:pt x="19749" y="0"/>
                  </a:lnTo>
                  <a:lnTo>
                    <a:pt x="10772" y="21938"/>
                  </a:lnTo>
                  <a:lnTo>
                    <a:pt x="3590" y="47533"/>
                  </a:lnTo>
                  <a:lnTo>
                    <a:pt x="1795" y="67643"/>
                  </a:lnTo>
                  <a:lnTo>
                    <a:pt x="0" y="73127"/>
                  </a:lnTo>
                  <a:lnTo>
                    <a:pt x="0" y="74955"/>
                  </a:lnTo>
                  <a:lnTo>
                    <a:pt x="7181" y="91409"/>
                  </a:lnTo>
                  <a:lnTo>
                    <a:pt x="14363" y="104207"/>
                  </a:lnTo>
                  <a:lnTo>
                    <a:pt x="21544" y="115176"/>
                  </a:lnTo>
                  <a:lnTo>
                    <a:pt x="28726" y="120660"/>
                  </a:lnTo>
                  <a:lnTo>
                    <a:pt x="35908" y="126145"/>
                  </a:lnTo>
                  <a:lnTo>
                    <a:pt x="41294" y="127973"/>
                  </a:lnTo>
                  <a:lnTo>
                    <a:pt x="44885" y="129801"/>
                  </a:lnTo>
                  <a:lnTo>
                    <a:pt x="44885" y="129801"/>
                  </a:lnTo>
                  <a:lnTo>
                    <a:pt x="50271" y="131629"/>
                  </a:lnTo>
                  <a:lnTo>
                    <a:pt x="55657" y="129801"/>
                  </a:lnTo>
                  <a:lnTo>
                    <a:pt x="61043" y="124317"/>
                  </a:lnTo>
                  <a:lnTo>
                    <a:pt x="64634" y="118832"/>
                  </a:lnTo>
                  <a:lnTo>
                    <a:pt x="64634" y="115176"/>
                  </a:lnTo>
                  <a:close/>
                </a:path>
              </a:pathLst>
            </a:custGeom>
            <a:noFill/>
            <a:ln w="18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Freihandform 195"/>
            <p:cNvSpPr/>
            <p:nvPr/>
          </p:nvSpPr>
          <p:spPr>
            <a:xfrm>
              <a:off x="8321760" y="5151600"/>
              <a:ext cx="80640" cy="118800"/>
            </a:xfrm>
            <a:custGeom>
              <a:avLst/>
              <a:gdLst>
                <a:gd name="textAreaLeft" fmla="*/ 0 w 80640"/>
                <a:gd name="textAreaRight" fmla="*/ 81000 w 80640"/>
                <a:gd name="textAreaTop" fmla="*/ 0 h 118800"/>
                <a:gd name="textAreaBottom" fmla="*/ 119160 h 118800"/>
              </a:gdLst>
              <a:ahLst/>
              <a:rect l="textAreaLeft" t="textAreaTop" r="textAreaRight" b="textAreaBottom"/>
              <a:pathLst>
                <a:path w="67820" h="125731">
                  <a:moveTo>
                    <a:pt x="44705" y="6222"/>
                  </a:moveTo>
                  <a:lnTo>
                    <a:pt x="48769" y="15239"/>
                  </a:lnTo>
                  <a:lnTo>
                    <a:pt x="54230" y="29082"/>
                  </a:lnTo>
                  <a:lnTo>
                    <a:pt x="60325" y="45720"/>
                  </a:lnTo>
                  <a:lnTo>
                    <a:pt x="64897" y="64896"/>
                  </a:lnTo>
                  <a:lnTo>
                    <a:pt x="67819" y="84963"/>
                  </a:lnTo>
                  <a:lnTo>
                    <a:pt x="67057" y="105664"/>
                  </a:lnTo>
                  <a:lnTo>
                    <a:pt x="62231" y="125730"/>
                  </a:lnTo>
                  <a:lnTo>
                    <a:pt x="62231" y="123063"/>
                  </a:lnTo>
                  <a:lnTo>
                    <a:pt x="63755" y="116077"/>
                  </a:lnTo>
                  <a:lnTo>
                    <a:pt x="64897" y="105664"/>
                  </a:lnTo>
                  <a:lnTo>
                    <a:pt x="64897" y="90551"/>
                  </a:lnTo>
                  <a:lnTo>
                    <a:pt x="63755" y="73278"/>
                  </a:lnTo>
                  <a:lnTo>
                    <a:pt x="59564" y="52451"/>
                  </a:lnTo>
                  <a:lnTo>
                    <a:pt x="51435" y="30352"/>
                  </a:lnTo>
                  <a:lnTo>
                    <a:pt x="40006" y="5461"/>
                  </a:lnTo>
                  <a:lnTo>
                    <a:pt x="40514" y="8255"/>
                  </a:lnTo>
                  <a:lnTo>
                    <a:pt x="42037" y="14477"/>
                  </a:lnTo>
                  <a:lnTo>
                    <a:pt x="46102" y="28320"/>
                  </a:lnTo>
                  <a:lnTo>
                    <a:pt x="47371" y="31876"/>
                  </a:lnTo>
                  <a:lnTo>
                    <a:pt x="46102" y="31114"/>
                  </a:lnTo>
                  <a:lnTo>
                    <a:pt x="43181" y="22859"/>
                  </a:lnTo>
                  <a:lnTo>
                    <a:pt x="40514" y="15875"/>
                  </a:lnTo>
                  <a:lnTo>
                    <a:pt x="37084" y="6222"/>
                  </a:lnTo>
                  <a:lnTo>
                    <a:pt x="37846" y="9016"/>
                  </a:lnTo>
                  <a:lnTo>
                    <a:pt x="39244" y="15875"/>
                  </a:lnTo>
                  <a:lnTo>
                    <a:pt x="42037" y="32512"/>
                  </a:lnTo>
                  <a:lnTo>
                    <a:pt x="42037" y="37338"/>
                  </a:lnTo>
                  <a:lnTo>
                    <a:pt x="41275" y="36068"/>
                  </a:lnTo>
                  <a:lnTo>
                    <a:pt x="39244" y="26924"/>
                  </a:lnTo>
                  <a:lnTo>
                    <a:pt x="36577" y="18669"/>
                  </a:lnTo>
                  <a:lnTo>
                    <a:pt x="33909" y="6984"/>
                  </a:lnTo>
                  <a:lnTo>
                    <a:pt x="34418" y="10414"/>
                  </a:lnTo>
                  <a:lnTo>
                    <a:pt x="35180" y="17399"/>
                  </a:lnTo>
                  <a:lnTo>
                    <a:pt x="37084" y="35306"/>
                  </a:lnTo>
                  <a:lnTo>
                    <a:pt x="37084" y="40005"/>
                  </a:lnTo>
                  <a:lnTo>
                    <a:pt x="36577" y="38734"/>
                  </a:lnTo>
                  <a:lnTo>
                    <a:pt x="35180" y="28320"/>
                  </a:lnTo>
                  <a:lnTo>
                    <a:pt x="33147" y="18669"/>
                  </a:lnTo>
                  <a:lnTo>
                    <a:pt x="30989" y="6222"/>
                  </a:lnTo>
                  <a:lnTo>
                    <a:pt x="31750" y="9651"/>
                  </a:lnTo>
                  <a:lnTo>
                    <a:pt x="31750" y="17907"/>
                  </a:lnTo>
                  <a:lnTo>
                    <a:pt x="32512" y="36576"/>
                  </a:lnTo>
                  <a:lnTo>
                    <a:pt x="32512" y="42290"/>
                  </a:lnTo>
                  <a:lnTo>
                    <a:pt x="31750" y="40005"/>
                  </a:lnTo>
                  <a:lnTo>
                    <a:pt x="30989" y="29082"/>
                  </a:lnTo>
                  <a:lnTo>
                    <a:pt x="29719" y="19431"/>
                  </a:lnTo>
                  <a:lnTo>
                    <a:pt x="29083" y="5461"/>
                  </a:lnTo>
                  <a:lnTo>
                    <a:pt x="29083" y="9016"/>
                  </a:lnTo>
                  <a:lnTo>
                    <a:pt x="29083" y="17399"/>
                  </a:lnTo>
                  <a:lnTo>
                    <a:pt x="28321" y="36068"/>
                  </a:lnTo>
                  <a:lnTo>
                    <a:pt x="28321" y="40766"/>
                  </a:lnTo>
                  <a:lnTo>
                    <a:pt x="28321" y="39496"/>
                  </a:lnTo>
                  <a:lnTo>
                    <a:pt x="27814" y="28320"/>
                  </a:lnTo>
                  <a:lnTo>
                    <a:pt x="27052" y="18669"/>
                  </a:lnTo>
                  <a:lnTo>
                    <a:pt x="27052" y="5461"/>
                  </a:lnTo>
                  <a:lnTo>
                    <a:pt x="27052" y="9651"/>
                  </a:lnTo>
                  <a:lnTo>
                    <a:pt x="25655" y="18669"/>
                  </a:lnTo>
                  <a:lnTo>
                    <a:pt x="24384" y="40766"/>
                  </a:lnTo>
                  <a:lnTo>
                    <a:pt x="22987" y="46227"/>
                  </a:lnTo>
                  <a:lnTo>
                    <a:pt x="22987" y="44195"/>
                  </a:lnTo>
                  <a:lnTo>
                    <a:pt x="22987" y="39496"/>
                  </a:lnTo>
                  <a:lnTo>
                    <a:pt x="22987" y="31876"/>
                  </a:lnTo>
                  <a:lnTo>
                    <a:pt x="23622" y="20065"/>
                  </a:lnTo>
                  <a:lnTo>
                    <a:pt x="24384" y="4952"/>
                  </a:lnTo>
                  <a:lnTo>
                    <a:pt x="20956" y="18669"/>
                  </a:lnTo>
                  <a:lnTo>
                    <a:pt x="18796" y="29845"/>
                  </a:lnTo>
                  <a:lnTo>
                    <a:pt x="16892" y="37338"/>
                  </a:lnTo>
                  <a:lnTo>
                    <a:pt x="15368" y="42290"/>
                  </a:lnTo>
                  <a:lnTo>
                    <a:pt x="14859" y="44957"/>
                  </a:lnTo>
                  <a:lnTo>
                    <a:pt x="14859" y="40005"/>
                  </a:lnTo>
                  <a:lnTo>
                    <a:pt x="16892" y="31114"/>
                  </a:lnTo>
                  <a:lnTo>
                    <a:pt x="18796" y="20065"/>
                  </a:lnTo>
                  <a:lnTo>
                    <a:pt x="20194" y="10414"/>
                  </a:lnTo>
                  <a:lnTo>
                    <a:pt x="21464" y="3428"/>
                  </a:lnTo>
                  <a:lnTo>
                    <a:pt x="20956" y="5461"/>
                  </a:lnTo>
                  <a:lnTo>
                    <a:pt x="18796" y="9651"/>
                  </a:lnTo>
                  <a:lnTo>
                    <a:pt x="16130" y="16637"/>
                  </a:lnTo>
                  <a:lnTo>
                    <a:pt x="12193" y="25653"/>
                  </a:lnTo>
                  <a:lnTo>
                    <a:pt x="5334" y="50419"/>
                  </a:lnTo>
                  <a:lnTo>
                    <a:pt x="0" y="80264"/>
                  </a:lnTo>
                  <a:lnTo>
                    <a:pt x="0" y="78105"/>
                  </a:lnTo>
                  <a:lnTo>
                    <a:pt x="508" y="71120"/>
                  </a:lnTo>
                  <a:lnTo>
                    <a:pt x="3175" y="49021"/>
                  </a:lnTo>
                  <a:lnTo>
                    <a:pt x="9271" y="23621"/>
                  </a:lnTo>
                  <a:lnTo>
                    <a:pt x="13462" y="11683"/>
                  </a:lnTo>
                  <a:lnTo>
                    <a:pt x="18796" y="2794"/>
                  </a:lnTo>
                  <a:lnTo>
                    <a:pt x="19558" y="762"/>
                  </a:lnTo>
                  <a:lnTo>
                    <a:pt x="20194" y="0"/>
                  </a:lnTo>
                  <a:lnTo>
                    <a:pt x="22987" y="762"/>
                  </a:lnTo>
                  <a:lnTo>
                    <a:pt x="30989" y="2794"/>
                  </a:lnTo>
                  <a:lnTo>
                    <a:pt x="37846" y="2794"/>
                  </a:lnTo>
                  <a:lnTo>
                    <a:pt x="40514" y="2032"/>
                  </a:lnTo>
                  <a:lnTo>
                    <a:pt x="42672" y="3428"/>
                  </a:lnTo>
                  <a:lnTo>
                    <a:pt x="44705" y="6222"/>
                  </a:lnTo>
                  <a:close/>
                </a:path>
              </a:pathLst>
            </a:custGeom>
            <a:solidFill>
              <a:srgbClr val="e68034"/>
            </a:solidFill>
            <a:ln w="0">
              <a:solidFill>
                <a:srgbClr val="e68034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Freihandform 196"/>
            <p:cNvSpPr/>
            <p:nvPr/>
          </p:nvSpPr>
          <p:spPr>
            <a:xfrm>
              <a:off x="8321760" y="5151600"/>
              <a:ext cx="80640" cy="117360"/>
            </a:xfrm>
            <a:custGeom>
              <a:avLst/>
              <a:gdLst>
                <a:gd name="textAreaLeft" fmla="*/ 0 w 80640"/>
                <a:gd name="textAreaRight" fmla="*/ 81000 w 8064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68224" h="124317">
                  <a:moveTo>
                    <a:pt x="43088" y="3657"/>
                  </a:moveTo>
                  <a:lnTo>
                    <a:pt x="41293" y="1829"/>
                  </a:lnTo>
                  <a:lnTo>
                    <a:pt x="37702" y="1829"/>
                  </a:lnTo>
                  <a:lnTo>
                    <a:pt x="30521" y="1829"/>
                  </a:lnTo>
                  <a:lnTo>
                    <a:pt x="23339" y="0"/>
                  </a:lnTo>
                  <a:lnTo>
                    <a:pt x="19749" y="0"/>
                  </a:lnTo>
                  <a:lnTo>
                    <a:pt x="19749" y="0"/>
                  </a:lnTo>
                  <a:lnTo>
                    <a:pt x="19749" y="1829"/>
                  </a:lnTo>
                  <a:lnTo>
                    <a:pt x="14362" y="10969"/>
                  </a:lnTo>
                  <a:lnTo>
                    <a:pt x="8977" y="23767"/>
                  </a:lnTo>
                  <a:lnTo>
                    <a:pt x="3590" y="49361"/>
                  </a:lnTo>
                  <a:lnTo>
                    <a:pt x="0" y="71299"/>
                  </a:lnTo>
                  <a:lnTo>
                    <a:pt x="0" y="76784"/>
                  </a:lnTo>
                  <a:lnTo>
                    <a:pt x="0" y="80440"/>
                  </a:lnTo>
                  <a:lnTo>
                    <a:pt x="5386" y="49361"/>
                  </a:lnTo>
                  <a:lnTo>
                    <a:pt x="12567" y="25595"/>
                  </a:lnTo>
                  <a:lnTo>
                    <a:pt x="16158" y="16454"/>
                  </a:lnTo>
                  <a:lnTo>
                    <a:pt x="19749" y="9141"/>
                  </a:lnTo>
                  <a:lnTo>
                    <a:pt x="21544" y="5485"/>
                  </a:lnTo>
                  <a:lnTo>
                    <a:pt x="21544" y="3657"/>
                  </a:lnTo>
                  <a:lnTo>
                    <a:pt x="19749" y="9141"/>
                  </a:lnTo>
                  <a:lnTo>
                    <a:pt x="19749" y="20110"/>
                  </a:lnTo>
                  <a:lnTo>
                    <a:pt x="17954" y="31079"/>
                  </a:lnTo>
                  <a:lnTo>
                    <a:pt x="14362" y="40220"/>
                  </a:lnTo>
                  <a:lnTo>
                    <a:pt x="14362" y="43877"/>
                  </a:lnTo>
                  <a:lnTo>
                    <a:pt x="16158" y="42049"/>
                  </a:lnTo>
                  <a:lnTo>
                    <a:pt x="17954" y="36564"/>
                  </a:lnTo>
                  <a:lnTo>
                    <a:pt x="19749" y="29251"/>
                  </a:lnTo>
                  <a:lnTo>
                    <a:pt x="21544" y="18282"/>
                  </a:lnTo>
                  <a:lnTo>
                    <a:pt x="25135" y="3657"/>
                  </a:lnTo>
                  <a:lnTo>
                    <a:pt x="23339" y="20110"/>
                  </a:lnTo>
                  <a:lnTo>
                    <a:pt x="23339" y="31079"/>
                  </a:lnTo>
                  <a:lnTo>
                    <a:pt x="23339" y="38392"/>
                  </a:lnTo>
                  <a:lnTo>
                    <a:pt x="23339" y="43877"/>
                  </a:lnTo>
                  <a:lnTo>
                    <a:pt x="23339" y="45705"/>
                  </a:lnTo>
                  <a:lnTo>
                    <a:pt x="25135" y="40220"/>
                  </a:lnTo>
                  <a:lnTo>
                    <a:pt x="25135" y="18282"/>
                  </a:lnTo>
                  <a:lnTo>
                    <a:pt x="26931" y="9141"/>
                  </a:lnTo>
                  <a:lnTo>
                    <a:pt x="26931" y="5485"/>
                  </a:lnTo>
                  <a:lnTo>
                    <a:pt x="26931" y="18282"/>
                  </a:lnTo>
                  <a:lnTo>
                    <a:pt x="28725" y="27423"/>
                  </a:lnTo>
                  <a:lnTo>
                    <a:pt x="28725" y="38392"/>
                  </a:lnTo>
                  <a:lnTo>
                    <a:pt x="28725" y="40220"/>
                  </a:lnTo>
                  <a:lnTo>
                    <a:pt x="28725" y="34736"/>
                  </a:lnTo>
                  <a:lnTo>
                    <a:pt x="28725" y="16454"/>
                  </a:lnTo>
                  <a:lnTo>
                    <a:pt x="28725" y="9141"/>
                  </a:lnTo>
                  <a:lnTo>
                    <a:pt x="28725" y="5485"/>
                  </a:lnTo>
                  <a:lnTo>
                    <a:pt x="30521" y="18282"/>
                  </a:lnTo>
                  <a:lnTo>
                    <a:pt x="30521" y="29251"/>
                  </a:lnTo>
                  <a:lnTo>
                    <a:pt x="32316" y="40220"/>
                  </a:lnTo>
                  <a:lnTo>
                    <a:pt x="32316" y="42049"/>
                  </a:lnTo>
                  <a:lnTo>
                    <a:pt x="32316" y="36564"/>
                  </a:lnTo>
                  <a:lnTo>
                    <a:pt x="32316" y="18282"/>
                  </a:lnTo>
                  <a:lnTo>
                    <a:pt x="32316" y="9141"/>
                  </a:lnTo>
                  <a:lnTo>
                    <a:pt x="30521" y="5485"/>
                  </a:lnTo>
                  <a:lnTo>
                    <a:pt x="34112" y="18282"/>
                  </a:lnTo>
                  <a:lnTo>
                    <a:pt x="35907" y="27423"/>
                  </a:lnTo>
                  <a:lnTo>
                    <a:pt x="35907" y="38392"/>
                  </a:lnTo>
                  <a:lnTo>
                    <a:pt x="37702" y="40220"/>
                  </a:lnTo>
                  <a:lnTo>
                    <a:pt x="37702" y="34736"/>
                  </a:lnTo>
                  <a:lnTo>
                    <a:pt x="35907" y="16454"/>
                  </a:lnTo>
                  <a:lnTo>
                    <a:pt x="34112" y="9141"/>
                  </a:lnTo>
                  <a:lnTo>
                    <a:pt x="34112" y="5485"/>
                  </a:lnTo>
                  <a:lnTo>
                    <a:pt x="35907" y="18282"/>
                  </a:lnTo>
                  <a:lnTo>
                    <a:pt x="39498" y="25595"/>
                  </a:lnTo>
                  <a:lnTo>
                    <a:pt x="41293" y="34736"/>
                  </a:lnTo>
                  <a:lnTo>
                    <a:pt x="43088" y="36564"/>
                  </a:lnTo>
                  <a:lnTo>
                    <a:pt x="43088" y="31079"/>
                  </a:lnTo>
                  <a:lnTo>
                    <a:pt x="39498" y="14626"/>
                  </a:lnTo>
                  <a:lnTo>
                    <a:pt x="37702" y="9141"/>
                  </a:lnTo>
                  <a:lnTo>
                    <a:pt x="37702" y="5485"/>
                  </a:lnTo>
                  <a:lnTo>
                    <a:pt x="41293" y="14626"/>
                  </a:lnTo>
                  <a:lnTo>
                    <a:pt x="43088" y="21939"/>
                  </a:lnTo>
                  <a:lnTo>
                    <a:pt x="46679" y="31079"/>
                  </a:lnTo>
                  <a:lnTo>
                    <a:pt x="48474" y="31079"/>
                  </a:lnTo>
                  <a:lnTo>
                    <a:pt x="46679" y="27423"/>
                  </a:lnTo>
                  <a:lnTo>
                    <a:pt x="43088" y="14626"/>
                  </a:lnTo>
                  <a:lnTo>
                    <a:pt x="41293" y="7313"/>
                  </a:lnTo>
                  <a:lnTo>
                    <a:pt x="39498" y="5485"/>
                  </a:lnTo>
                  <a:lnTo>
                    <a:pt x="52065" y="29251"/>
                  </a:lnTo>
                  <a:lnTo>
                    <a:pt x="59247" y="51189"/>
                  </a:lnTo>
                  <a:lnTo>
                    <a:pt x="64633" y="73127"/>
                  </a:lnTo>
                  <a:lnTo>
                    <a:pt x="64633" y="89581"/>
                  </a:lnTo>
                  <a:lnTo>
                    <a:pt x="64633" y="104206"/>
                  </a:lnTo>
                  <a:lnTo>
                    <a:pt x="64633" y="115176"/>
                  </a:lnTo>
                  <a:lnTo>
                    <a:pt x="62838" y="122488"/>
                  </a:lnTo>
                  <a:lnTo>
                    <a:pt x="62838" y="124316"/>
                  </a:lnTo>
                  <a:lnTo>
                    <a:pt x="66428" y="104206"/>
                  </a:lnTo>
                  <a:lnTo>
                    <a:pt x="68223" y="84096"/>
                  </a:lnTo>
                  <a:lnTo>
                    <a:pt x="64633" y="63986"/>
                  </a:lnTo>
                  <a:lnTo>
                    <a:pt x="61042" y="45705"/>
                  </a:lnTo>
                  <a:lnTo>
                    <a:pt x="53861" y="29251"/>
                  </a:lnTo>
                  <a:lnTo>
                    <a:pt x="48474" y="14626"/>
                  </a:lnTo>
                  <a:lnTo>
                    <a:pt x="44884" y="5485"/>
                  </a:lnTo>
                  <a:lnTo>
                    <a:pt x="43088" y="3657"/>
                  </a:lnTo>
                  <a:close/>
                </a:path>
              </a:pathLst>
            </a:custGeom>
            <a:noFill/>
            <a:ln w="18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Freihandform 197"/>
            <p:cNvSpPr/>
            <p:nvPr/>
          </p:nvSpPr>
          <p:spPr>
            <a:xfrm>
              <a:off x="8210520" y="5137200"/>
              <a:ext cx="88560" cy="11268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75439" h="118874">
                  <a:moveTo>
                    <a:pt x="69850" y="13717"/>
                  </a:moveTo>
                  <a:lnTo>
                    <a:pt x="72518" y="19940"/>
                  </a:lnTo>
                  <a:lnTo>
                    <a:pt x="74676" y="28322"/>
                  </a:lnTo>
                  <a:lnTo>
                    <a:pt x="75438" y="35180"/>
                  </a:lnTo>
                  <a:lnTo>
                    <a:pt x="74676" y="40132"/>
                  </a:lnTo>
                  <a:lnTo>
                    <a:pt x="73280" y="46991"/>
                  </a:lnTo>
                  <a:lnTo>
                    <a:pt x="70485" y="65660"/>
                  </a:lnTo>
                  <a:lnTo>
                    <a:pt x="67819" y="84329"/>
                  </a:lnTo>
                  <a:lnTo>
                    <a:pt x="66421" y="91313"/>
                  </a:lnTo>
                  <a:lnTo>
                    <a:pt x="65151" y="95250"/>
                  </a:lnTo>
                  <a:lnTo>
                    <a:pt x="62993" y="98044"/>
                  </a:lnTo>
                  <a:lnTo>
                    <a:pt x="59056" y="102998"/>
                  </a:lnTo>
                  <a:lnTo>
                    <a:pt x="45340" y="112649"/>
                  </a:lnTo>
                  <a:lnTo>
                    <a:pt x="35815" y="116713"/>
                  </a:lnTo>
                  <a:lnTo>
                    <a:pt x="25782" y="118873"/>
                  </a:lnTo>
                  <a:lnTo>
                    <a:pt x="14097" y="117349"/>
                  </a:lnTo>
                  <a:lnTo>
                    <a:pt x="1397" y="113411"/>
                  </a:lnTo>
                  <a:lnTo>
                    <a:pt x="0" y="108459"/>
                  </a:lnTo>
                  <a:lnTo>
                    <a:pt x="0" y="102236"/>
                  </a:lnTo>
                  <a:lnTo>
                    <a:pt x="1397" y="93218"/>
                  </a:lnTo>
                  <a:lnTo>
                    <a:pt x="2668" y="86361"/>
                  </a:lnTo>
                  <a:lnTo>
                    <a:pt x="6096" y="76581"/>
                  </a:lnTo>
                  <a:lnTo>
                    <a:pt x="10160" y="64898"/>
                  </a:lnTo>
                  <a:lnTo>
                    <a:pt x="16257" y="51817"/>
                  </a:lnTo>
                  <a:lnTo>
                    <a:pt x="33147" y="24893"/>
                  </a:lnTo>
                  <a:lnTo>
                    <a:pt x="44705" y="11049"/>
                  </a:lnTo>
                  <a:lnTo>
                    <a:pt x="59818" y="0"/>
                  </a:lnTo>
                  <a:lnTo>
                    <a:pt x="61722" y="0"/>
                  </a:lnTo>
                  <a:lnTo>
                    <a:pt x="64390" y="2794"/>
                  </a:lnTo>
                  <a:lnTo>
                    <a:pt x="68581" y="10287"/>
                  </a:lnTo>
                  <a:lnTo>
                    <a:pt x="69850" y="13717"/>
                  </a:lnTo>
                  <a:close/>
                </a:path>
              </a:pathLst>
            </a:custGeom>
            <a:solidFill>
              <a:srgbClr val="e6b34e"/>
            </a:solidFill>
            <a:ln w="0">
              <a:solidFill>
                <a:srgbClr val="e6b34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Freihandform 198"/>
            <p:cNvSpPr/>
            <p:nvPr/>
          </p:nvSpPr>
          <p:spPr>
            <a:xfrm>
              <a:off x="8210520" y="5137200"/>
              <a:ext cx="88560" cy="11268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75409" h="118831">
                  <a:moveTo>
                    <a:pt x="68227" y="9140"/>
                  </a:moveTo>
                  <a:lnTo>
                    <a:pt x="64636" y="1828"/>
                  </a:lnTo>
                  <a:lnTo>
                    <a:pt x="61045" y="0"/>
                  </a:lnTo>
                  <a:lnTo>
                    <a:pt x="59250" y="0"/>
                  </a:lnTo>
                  <a:lnTo>
                    <a:pt x="44886" y="10969"/>
                  </a:lnTo>
                  <a:lnTo>
                    <a:pt x="32318" y="23766"/>
                  </a:lnTo>
                  <a:lnTo>
                    <a:pt x="16159" y="51188"/>
                  </a:lnTo>
                  <a:lnTo>
                    <a:pt x="10773" y="63985"/>
                  </a:lnTo>
                  <a:lnTo>
                    <a:pt x="5386" y="76782"/>
                  </a:lnTo>
                  <a:lnTo>
                    <a:pt x="1796" y="85923"/>
                  </a:lnTo>
                  <a:lnTo>
                    <a:pt x="1796" y="93236"/>
                  </a:lnTo>
                  <a:lnTo>
                    <a:pt x="0" y="102377"/>
                  </a:lnTo>
                  <a:lnTo>
                    <a:pt x="0" y="107861"/>
                  </a:lnTo>
                  <a:lnTo>
                    <a:pt x="1796" y="113345"/>
                  </a:lnTo>
                  <a:lnTo>
                    <a:pt x="14364" y="117002"/>
                  </a:lnTo>
                  <a:lnTo>
                    <a:pt x="25136" y="118830"/>
                  </a:lnTo>
                  <a:lnTo>
                    <a:pt x="35909" y="117002"/>
                  </a:lnTo>
                  <a:lnTo>
                    <a:pt x="44886" y="111518"/>
                  </a:lnTo>
                  <a:lnTo>
                    <a:pt x="59250" y="102377"/>
                  </a:lnTo>
                  <a:lnTo>
                    <a:pt x="62841" y="96892"/>
                  </a:lnTo>
                  <a:lnTo>
                    <a:pt x="64636" y="95064"/>
                  </a:lnTo>
                  <a:lnTo>
                    <a:pt x="66431" y="91408"/>
                  </a:lnTo>
                  <a:lnTo>
                    <a:pt x="68227" y="84095"/>
                  </a:lnTo>
                  <a:lnTo>
                    <a:pt x="70023" y="65813"/>
                  </a:lnTo>
                  <a:lnTo>
                    <a:pt x="73613" y="45703"/>
                  </a:lnTo>
                  <a:lnTo>
                    <a:pt x="75408" y="40219"/>
                  </a:lnTo>
                  <a:lnTo>
                    <a:pt x="75408" y="34735"/>
                  </a:lnTo>
                  <a:lnTo>
                    <a:pt x="75408" y="27422"/>
                  </a:lnTo>
                  <a:lnTo>
                    <a:pt x="71818" y="20110"/>
                  </a:lnTo>
                  <a:lnTo>
                    <a:pt x="70023" y="12797"/>
                  </a:lnTo>
                  <a:lnTo>
                    <a:pt x="68227" y="9140"/>
                  </a:lnTo>
                  <a:close/>
                </a:path>
              </a:pathLst>
            </a:custGeom>
            <a:noFill/>
            <a:ln w="18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Freihandform 199"/>
            <p:cNvSpPr/>
            <p:nvPr/>
          </p:nvSpPr>
          <p:spPr>
            <a:xfrm>
              <a:off x="8210520" y="5135400"/>
              <a:ext cx="90360" cy="102960"/>
            </a:xfrm>
            <a:custGeom>
              <a:avLst/>
              <a:gdLst>
                <a:gd name="textAreaLeft" fmla="*/ 0 w 90360"/>
                <a:gd name="textAreaRight" fmla="*/ 90720 w 9036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75312" h="109094">
                  <a:moveTo>
                    <a:pt x="59690" y="0"/>
                  </a:moveTo>
                  <a:lnTo>
                    <a:pt x="65278" y="4190"/>
                  </a:lnTo>
                  <a:lnTo>
                    <a:pt x="69215" y="12445"/>
                  </a:lnTo>
                  <a:lnTo>
                    <a:pt x="71883" y="20827"/>
                  </a:lnTo>
                  <a:lnTo>
                    <a:pt x="73280" y="24130"/>
                  </a:lnTo>
                  <a:lnTo>
                    <a:pt x="75311" y="37211"/>
                  </a:lnTo>
                  <a:lnTo>
                    <a:pt x="74041" y="50419"/>
                  </a:lnTo>
                  <a:lnTo>
                    <a:pt x="71374" y="61595"/>
                  </a:lnTo>
                  <a:lnTo>
                    <a:pt x="69850" y="65658"/>
                  </a:lnTo>
                  <a:lnTo>
                    <a:pt x="71883" y="55880"/>
                  </a:lnTo>
                  <a:lnTo>
                    <a:pt x="72645" y="47751"/>
                  </a:lnTo>
                  <a:lnTo>
                    <a:pt x="72645" y="37211"/>
                  </a:lnTo>
                  <a:lnTo>
                    <a:pt x="71374" y="29718"/>
                  </a:lnTo>
                  <a:lnTo>
                    <a:pt x="69215" y="21336"/>
                  </a:lnTo>
                  <a:lnTo>
                    <a:pt x="64516" y="8889"/>
                  </a:lnTo>
                  <a:lnTo>
                    <a:pt x="61849" y="4190"/>
                  </a:lnTo>
                  <a:lnTo>
                    <a:pt x="61087" y="2032"/>
                  </a:lnTo>
                  <a:lnTo>
                    <a:pt x="45466" y="14605"/>
                  </a:lnTo>
                  <a:lnTo>
                    <a:pt x="31877" y="30352"/>
                  </a:lnTo>
                  <a:lnTo>
                    <a:pt x="21718" y="48387"/>
                  </a:lnTo>
                  <a:lnTo>
                    <a:pt x="12955" y="65658"/>
                  </a:lnTo>
                  <a:lnTo>
                    <a:pt x="6859" y="82295"/>
                  </a:lnTo>
                  <a:lnTo>
                    <a:pt x="2795" y="96139"/>
                  </a:lnTo>
                  <a:lnTo>
                    <a:pt x="762" y="105664"/>
                  </a:lnTo>
                  <a:lnTo>
                    <a:pt x="0" y="109093"/>
                  </a:lnTo>
                  <a:lnTo>
                    <a:pt x="2795" y="87757"/>
                  </a:lnTo>
                  <a:lnTo>
                    <a:pt x="8128" y="68326"/>
                  </a:lnTo>
                  <a:lnTo>
                    <a:pt x="14986" y="52451"/>
                  </a:lnTo>
                  <a:lnTo>
                    <a:pt x="22352" y="39496"/>
                  </a:lnTo>
                  <a:lnTo>
                    <a:pt x="29846" y="29082"/>
                  </a:lnTo>
                  <a:lnTo>
                    <a:pt x="35941" y="21336"/>
                  </a:lnTo>
                  <a:lnTo>
                    <a:pt x="40768" y="16637"/>
                  </a:lnTo>
                  <a:lnTo>
                    <a:pt x="42799" y="15113"/>
                  </a:lnTo>
                  <a:lnTo>
                    <a:pt x="59690" y="0"/>
                  </a:lnTo>
                  <a:close/>
                </a:path>
              </a:pathLst>
            </a:custGeom>
            <a:solidFill>
              <a:srgbClr val="e68034"/>
            </a:solidFill>
            <a:ln w="0">
              <a:solidFill>
                <a:srgbClr val="e68034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Freihandform 200"/>
            <p:cNvSpPr/>
            <p:nvPr/>
          </p:nvSpPr>
          <p:spPr>
            <a:xfrm>
              <a:off x="8210520" y="5135400"/>
              <a:ext cx="88560" cy="10296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75409" h="109689">
                  <a:moveTo>
                    <a:pt x="61045" y="0"/>
                  </a:moveTo>
                  <a:lnTo>
                    <a:pt x="66431" y="3656"/>
                  </a:lnTo>
                  <a:lnTo>
                    <a:pt x="70023" y="12796"/>
                  </a:lnTo>
                  <a:lnTo>
                    <a:pt x="71818" y="20109"/>
                  </a:lnTo>
                  <a:lnTo>
                    <a:pt x="73613" y="23766"/>
                  </a:lnTo>
                  <a:lnTo>
                    <a:pt x="75408" y="36562"/>
                  </a:lnTo>
                  <a:lnTo>
                    <a:pt x="75408" y="51188"/>
                  </a:lnTo>
                  <a:lnTo>
                    <a:pt x="71818" y="62156"/>
                  </a:lnTo>
                  <a:lnTo>
                    <a:pt x="70023" y="65813"/>
                  </a:lnTo>
                  <a:lnTo>
                    <a:pt x="71818" y="56672"/>
                  </a:lnTo>
                  <a:lnTo>
                    <a:pt x="73613" y="47531"/>
                  </a:lnTo>
                  <a:lnTo>
                    <a:pt x="73613" y="36562"/>
                  </a:lnTo>
                  <a:lnTo>
                    <a:pt x="71818" y="29250"/>
                  </a:lnTo>
                  <a:lnTo>
                    <a:pt x="70023" y="21937"/>
                  </a:lnTo>
                  <a:lnTo>
                    <a:pt x="64636" y="9140"/>
                  </a:lnTo>
                  <a:lnTo>
                    <a:pt x="62841" y="3656"/>
                  </a:lnTo>
                  <a:lnTo>
                    <a:pt x="61045" y="1828"/>
                  </a:lnTo>
                  <a:lnTo>
                    <a:pt x="46681" y="14625"/>
                  </a:lnTo>
                  <a:lnTo>
                    <a:pt x="32318" y="31078"/>
                  </a:lnTo>
                  <a:lnTo>
                    <a:pt x="21546" y="47531"/>
                  </a:lnTo>
                  <a:lnTo>
                    <a:pt x="12569" y="65813"/>
                  </a:lnTo>
                  <a:lnTo>
                    <a:pt x="7182" y="82266"/>
                  </a:lnTo>
                  <a:lnTo>
                    <a:pt x="3591" y="96891"/>
                  </a:lnTo>
                  <a:lnTo>
                    <a:pt x="1796" y="106031"/>
                  </a:lnTo>
                  <a:lnTo>
                    <a:pt x="0" y="109688"/>
                  </a:lnTo>
                  <a:lnTo>
                    <a:pt x="3591" y="87750"/>
                  </a:lnTo>
                  <a:lnTo>
                    <a:pt x="8977" y="67641"/>
                  </a:lnTo>
                  <a:lnTo>
                    <a:pt x="16159" y="53016"/>
                  </a:lnTo>
                  <a:lnTo>
                    <a:pt x="23341" y="40219"/>
                  </a:lnTo>
                  <a:lnTo>
                    <a:pt x="30523" y="29250"/>
                  </a:lnTo>
                  <a:lnTo>
                    <a:pt x="35909" y="21937"/>
                  </a:lnTo>
                  <a:lnTo>
                    <a:pt x="41296" y="16453"/>
                  </a:lnTo>
                  <a:lnTo>
                    <a:pt x="43091" y="14625"/>
                  </a:lnTo>
                  <a:lnTo>
                    <a:pt x="61045" y="0"/>
                  </a:lnTo>
                  <a:close/>
                </a:path>
              </a:pathLst>
            </a:custGeom>
            <a:noFill/>
            <a:ln w="18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Gerade Verbindung 201"/>
            <p:cNvSpPr/>
            <p:nvPr/>
          </p:nvSpPr>
          <p:spPr>
            <a:xfrm>
              <a:off x="5476680" y="4213080"/>
              <a:ext cx="20520" cy="68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Gerade Verbindung 202"/>
            <p:cNvSpPr/>
            <p:nvPr/>
          </p:nvSpPr>
          <p:spPr>
            <a:xfrm>
              <a:off x="7077240" y="3938400"/>
              <a:ext cx="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Freihandform 203"/>
            <p:cNvSpPr/>
            <p:nvPr/>
          </p:nvSpPr>
          <p:spPr>
            <a:xfrm>
              <a:off x="8421840" y="4179960"/>
              <a:ext cx="2880" cy="316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3592" h="32909">
                  <a:moveTo>
                    <a:pt x="0" y="-32628"/>
                  </a:moveTo>
                  <a:lnTo>
                    <a:pt x="1796" y="16454"/>
                  </a:lnTo>
                  <a:lnTo>
                    <a:pt x="3591" y="0"/>
                  </a:lnTo>
                </a:path>
              </a:pathLst>
            </a:custGeom>
            <a:noFill/>
            <a:ln w="18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48" name="Grafik 205" descr="Fish - Big mouth bass.png"/>
          <p:cNvPicPr/>
          <p:nvPr/>
        </p:nvPicPr>
        <p:blipFill>
          <a:blip r:embed="rId4">
            <a:alphaModFix amt="0"/>
          </a:blip>
          <a:stretch/>
        </p:blipFill>
        <p:spPr>
          <a:xfrm>
            <a:off x="293760" y="4632480"/>
            <a:ext cx="677880" cy="447480"/>
          </a:xfrm>
          <a:prstGeom prst="rect">
            <a:avLst/>
          </a:prstGeom>
          <a:ln w="0">
            <a:noFill/>
          </a:ln>
        </p:spPr>
      </p:pic>
      <p:sp>
        <p:nvSpPr>
          <p:cNvPr id="549" name="Rechteck 207"/>
          <p:cNvSpPr/>
          <p:nvPr/>
        </p:nvSpPr>
        <p:spPr>
          <a:xfrm>
            <a:off x="625320" y="622440"/>
            <a:ext cx="1137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b"/>
                </a:solidFill>
                <a:latin typeface="Verdana"/>
                <a:ea typeface="Arial"/>
              </a:rPr>
              <a:t>Now throw a dice to see how many times you need to say the tongue twiste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b"/>
                </a:solidFill>
                <a:latin typeface="Verdana"/>
                <a:ea typeface="Arial"/>
              </a:rPr>
              <a:t>Start again, if you make a mistak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2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2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6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3a2c7"/>
            </a:gs>
            <a:gs pos="100000">
              <a:srgbClr val="ffff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Textfeld 6"/>
          <p:cNvSpPr/>
          <p:nvPr/>
        </p:nvSpPr>
        <p:spPr>
          <a:xfrm>
            <a:off x="655560" y="371520"/>
            <a:ext cx="9296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Verdana"/>
                <a:ea typeface="Arial"/>
              </a:rPr>
              <a:t>How good is your pronunciation now? Read the words out loud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1" name="Gruppieren 53"/>
          <p:cNvGrpSpPr/>
          <p:nvPr/>
        </p:nvGrpSpPr>
        <p:grpSpPr>
          <a:xfrm>
            <a:off x="10206000" y="7304040"/>
            <a:ext cx="1542960" cy="887400"/>
            <a:chOff x="10206000" y="7304040"/>
            <a:chExt cx="1542960" cy="887400"/>
          </a:xfrm>
        </p:grpSpPr>
        <p:grpSp>
          <p:nvGrpSpPr>
            <p:cNvPr id="552" name="Gruppieren 30"/>
            <p:cNvGrpSpPr/>
            <p:nvPr/>
          </p:nvGrpSpPr>
          <p:grpSpPr>
            <a:xfrm>
              <a:off x="10206000" y="7304040"/>
              <a:ext cx="1542960" cy="887400"/>
              <a:chOff x="10206000" y="7304040"/>
              <a:chExt cx="1542960" cy="887400"/>
            </a:xfrm>
          </p:grpSpPr>
          <p:sp>
            <p:nvSpPr>
              <p:cNvPr id="553" name="Freihandform 28"/>
              <p:cNvSpPr/>
              <p:nvPr/>
            </p:nvSpPr>
            <p:spPr>
              <a:xfrm flipH="1">
                <a:off x="10206000" y="7304040"/>
                <a:ext cx="1542960" cy="887400"/>
              </a:xfrm>
              <a:custGeom>
                <a:avLst/>
                <a:gdLst>
                  <a:gd name="textAreaLeft" fmla="*/ 360 w 1542960"/>
                  <a:gd name="textAreaRight" fmla="*/ 1543680 w 1542960"/>
                  <a:gd name="textAreaTop" fmla="*/ 0 h 887400"/>
                  <a:gd name="textAreaBottom" fmla="*/ 887760 h 887400"/>
                </a:gdLst>
                <a:ahLst/>
                <a:rect l="textAreaLeft" t="textAreaTop" r="textAreaRight" b="textAreaBottom"/>
                <a:pathLst>
                  <a:path w="1066927" h="1090931">
                    <a:moveTo>
                      <a:pt x="634492" y="381"/>
                    </a:moveTo>
                    <a:lnTo>
                      <a:pt x="662177" y="1650"/>
                    </a:lnTo>
                    <a:lnTo>
                      <a:pt x="689229" y="4063"/>
                    </a:lnTo>
                    <a:lnTo>
                      <a:pt x="714882" y="7238"/>
                    </a:lnTo>
                    <a:lnTo>
                      <a:pt x="739775" y="11302"/>
                    </a:lnTo>
                    <a:lnTo>
                      <a:pt x="763777" y="16129"/>
                    </a:lnTo>
                    <a:lnTo>
                      <a:pt x="786764" y="21844"/>
                    </a:lnTo>
                    <a:lnTo>
                      <a:pt x="808608" y="28067"/>
                    </a:lnTo>
                    <a:lnTo>
                      <a:pt x="829563" y="35306"/>
                    </a:lnTo>
                    <a:lnTo>
                      <a:pt x="849630" y="43307"/>
                    </a:lnTo>
                    <a:lnTo>
                      <a:pt x="868680" y="51815"/>
                    </a:lnTo>
                    <a:lnTo>
                      <a:pt x="887094" y="60833"/>
                    </a:lnTo>
                    <a:lnTo>
                      <a:pt x="904113" y="70611"/>
                    </a:lnTo>
                    <a:lnTo>
                      <a:pt x="920623" y="80898"/>
                    </a:lnTo>
                    <a:lnTo>
                      <a:pt x="935989" y="91694"/>
                    </a:lnTo>
                    <a:lnTo>
                      <a:pt x="950594" y="103250"/>
                    </a:lnTo>
                    <a:lnTo>
                      <a:pt x="964311" y="114935"/>
                    </a:lnTo>
                    <a:lnTo>
                      <a:pt x="977011" y="127254"/>
                    </a:lnTo>
                    <a:lnTo>
                      <a:pt x="988949" y="140081"/>
                    </a:lnTo>
                    <a:lnTo>
                      <a:pt x="999998" y="153035"/>
                    </a:lnTo>
                    <a:lnTo>
                      <a:pt x="1010157" y="166750"/>
                    </a:lnTo>
                    <a:lnTo>
                      <a:pt x="1019429" y="180467"/>
                    </a:lnTo>
                    <a:lnTo>
                      <a:pt x="1035431" y="209042"/>
                    </a:lnTo>
                    <a:lnTo>
                      <a:pt x="1048257" y="238506"/>
                    </a:lnTo>
                    <a:lnTo>
                      <a:pt x="1057656" y="268732"/>
                    </a:lnTo>
                    <a:lnTo>
                      <a:pt x="1064006" y="299465"/>
                    </a:lnTo>
                    <a:lnTo>
                      <a:pt x="1066926" y="330454"/>
                    </a:lnTo>
                    <a:lnTo>
                      <a:pt x="1066926" y="361314"/>
                    </a:lnTo>
                    <a:lnTo>
                      <a:pt x="1064006" y="392048"/>
                    </a:lnTo>
                    <a:lnTo>
                      <a:pt x="1057909" y="422274"/>
                    </a:lnTo>
                    <a:lnTo>
                      <a:pt x="1049019" y="451738"/>
                    </a:lnTo>
                    <a:lnTo>
                      <a:pt x="1037463" y="480440"/>
                    </a:lnTo>
                    <a:lnTo>
                      <a:pt x="1022857" y="507746"/>
                    </a:lnTo>
                    <a:lnTo>
                      <a:pt x="1005586" y="533526"/>
                    </a:lnTo>
                    <a:lnTo>
                      <a:pt x="985646" y="557657"/>
                    </a:lnTo>
                    <a:lnTo>
                      <a:pt x="962913" y="579882"/>
                    </a:lnTo>
                    <a:lnTo>
                      <a:pt x="950849" y="590169"/>
                    </a:lnTo>
                    <a:lnTo>
                      <a:pt x="937894" y="599947"/>
                    </a:lnTo>
                    <a:lnTo>
                      <a:pt x="924559" y="608964"/>
                    </a:lnTo>
                    <a:lnTo>
                      <a:pt x="910463" y="617727"/>
                    </a:lnTo>
                    <a:lnTo>
                      <a:pt x="895731" y="625474"/>
                    </a:lnTo>
                    <a:lnTo>
                      <a:pt x="880363" y="632713"/>
                    </a:lnTo>
                    <a:lnTo>
                      <a:pt x="864615" y="638936"/>
                    </a:lnTo>
                    <a:lnTo>
                      <a:pt x="848232" y="644651"/>
                    </a:lnTo>
                    <a:lnTo>
                      <a:pt x="831088" y="649605"/>
                    </a:lnTo>
                    <a:lnTo>
                      <a:pt x="813307" y="653542"/>
                    </a:lnTo>
                    <a:lnTo>
                      <a:pt x="795146" y="656717"/>
                    </a:lnTo>
                    <a:lnTo>
                      <a:pt x="776477" y="659130"/>
                    </a:lnTo>
                    <a:lnTo>
                      <a:pt x="757300" y="660399"/>
                    </a:lnTo>
                    <a:lnTo>
                      <a:pt x="737362" y="661035"/>
                    </a:lnTo>
                    <a:lnTo>
                      <a:pt x="739394" y="692276"/>
                    </a:lnTo>
                    <a:lnTo>
                      <a:pt x="737869" y="724154"/>
                    </a:lnTo>
                    <a:lnTo>
                      <a:pt x="733298" y="756538"/>
                    </a:lnTo>
                    <a:lnTo>
                      <a:pt x="725932" y="788543"/>
                    </a:lnTo>
                    <a:lnTo>
                      <a:pt x="716025" y="820673"/>
                    </a:lnTo>
                    <a:lnTo>
                      <a:pt x="703452" y="852423"/>
                    </a:lnTo>
                    <a:lnTo>
                      <a:pt x="688720" y="883158"/>
                    </a:lnTo>
                    <a:lnTo>
                      <a:pt x="672083" y="913130"/>
                    </a:lnTo>
                    <a:lnTo>
                      <a:pt x="653542" y="941959"/>
                    </a:lnTo>
                    <a:lnTo>
                      <a:pt x="633602" y="969518"/>
                    </a:lnTo>
                    <a:lnTo>
                      <a:pt x="612139" y="995298"/>
                    </a:lnTo>
                    <a:lnTo>
                      <a:pt x="589661" y="1019174"/>
                    </a:lnTo>
                    <a:lnTo>
                      <a:pt x="566419" y="1040892"/>
                    </a:lnTo>
                    <a:lnTo>
                      <a:pt x="542289" y="1060196"/>
                    </a:lnTo>
                    <a:lnTo>
                      <a:pt x="517906" y="1077086"/>
                    </a:lnTo>
                    <a:lnTo>
                      <a:pt x="493268" y="1090930"/>
                    </a:lnTo>
                    <a:lnTo>
                      <a:pt x="516763" y="1054988"/>
                    </a:lnTo>
                    <a:lnTo>
                      <a:pt x="538099" y="1020952"/>
                    </a:lnTo>
                    <a:lnTo>
                      <a:pt x="557021" y="989075"/>
                    </a:lnTo>
                    <a:lnTo>
                      <a:pt x="573658" y="958596"/>
                    </a:lnTo>
                    <a:lnTo>
                      <a:pt x="588263" y="930021"/>
                    </a:lnTo>
                    <a:lnTo>
                      <a:pt x="600582" y="902715"/>
                    </a:lnTo>
                    <a:lnTo>
                      <a:pt x="610488" y="876426"/>
                    </a:lnTo>
                    <a:lnTo>
                      <a:pt x="618489" y="851281"/>
                    </a:lnTo>
                    <a:lnTo>
                      <a:pt x="624077" y="826770"/>
                    </a:lnTo>
                    <a:lnTo>
                      <a:pt x="627761" y="802894"/>
                    </a:lnTo>
                    <a:lnTo>
                      <a:pt x="629284" y="779525"/>
                    </a:lnTo>
                    <a:lnTo>
                      <a:pt x="628650" y="756031"/>
                    </a:lnTo>
                    <a:lnTo>
                      <a:pt x="625982" y="732917"/>
                    </a:lnTo>
                    <a:lnTo>
                      <a:pt x="621283" y="709422"/>
                    </a:lnTo>
                    <a:lnTo>
                      <a:pt x="614425" y="685292"/>
                    </a:lnTo>
                    <a:lnTo>
                      <a:pt x="605536" y="661035"/>
                    </a:lnTo>
                    <a:lnTo>
                      <a:pt x="567563" y="660399"/>
                    </a:lnTo>
                    <a:lnTo>
                      <a:pt x="530859" y="659130"/>
                    </a:lnTo>
                    <a:lnTo>
                      <a:pt x="495426" y="656717"/>
                    </a:lnTo>
                    <a:lnTo>
                      <a:pt x="461009" y="653542"/>
                    </a:lnTo>
                    <a:lnTo>
                      <a:pt x="428117" y="649605"/>
                    </a:lnTo>
                    <a:lnTo>
                      <a:pt x="396367" y="644651"/>
                    </a:lnTo>
                    <a:lnTo>
                      <a:pt x="365887" y="638936"/>
                    </a:lnTo>
                    <a:lnTo>
                      <a:pt x="336423" y="632713"/>
                    </a:lnTo>
                    <a:lnTo>
                      <a:pt x="308609" y="625474"/>
                    </a:lnTo>
                    <a:lnTo>
                      <a:pt x="281813" y="617727"/>
                    </a:lnTo>
                    <a:lnTo>
                      <a:pt x="256286" y="608964"/>
                    </a:lnTo>
                    <a:lnTo>
                      <a:pt x="231775" y="599947"/>
                    </a:lnTo>
                    <a:lnTo>
                      <a:pt x="208661" y="590169"/>
                    </a:lnTo>
                    <a:lnTo>
                      <a:pt x="186817" y="579882"/>
                    </a:lnTo>
                    <a:lnTo>
                      <a:pt x="165988" y="569086"/>
                    </a:lnTo>
                    <a:lnTo>
                      <a:pt x="146812" y="557657"/>
                    </a:lnTo>
                    <a:lnTo>
                      <a:pt x="128396" y="545846"/>
                    </a:lnTo>
                    <a:lnTo>
                      <a:pt x="111506" y="533526"/>
                    </a:lnTo>
                    <a:lnTo>
                      <a:pt x="95757" y="520699"/>
                    </a:lnTo>
                    <a:lnTo>
                      <a:pt x="81025" y="507746"/>
                    </a:lnTo>
                    <a:lnTo>
                      <a:pt x="67690" y="494030"/>
                    </a:lnTo>
                    <a:lnTo>
                      <a:pt x="55499" y="480440"/>
                    </a:lnTo>
                    <a:lnTo>
                      <a:pt x="44704" y="466344"/>
                    </a:lnTo>
                    <a:lnTo>
                      <a:pt x="34925" y="451738"/>
                    </a:lnTo>
                    <a:lnTo>
                      <a:pt x="26288" y="437260"/>
                    </a:lnTo>
                    <a:lnTo>
                      <a:pt x="19050" y="422274"/>
                    </a:lnTo>
                    <a:lnTo>
                      <a:pt x="12954" y="407288"/>
                    </a:lnTo>
                    <a:lnTo>
                      <a:pt x="8000" y="392048"/>
                    </a:lnTo>
                    <a:lnTo>
                      <a:pt x="4063" y="376682"/>
                    </a:lnTo>
                    <a:lnTo>
                      <a:pt x="1524" y="361314"/>
                    </a:lnTo>
                    <a:lnTo>
                      <a:pt x="126" y="345947"/>
                    </a:lnTo>
                    <a:lnTo>
                      <a:pt x="0" y="330454"/>
                    </a:lnTo>
                    <a:lnTo>
                      <a:pt x="762" y="314960"/>
                    </a:lnTo>
                    <a:lnTo>
                      <a:pt x="2920" y="299465"/>
                    </a:lnTo>
                    <a:lnTo>
                      <a:pt x="6476" y="284098"/>
                    </a:lnTo>
                    <a:lnTo>
                      <a:pt x="10921" y="268732"/>
                    </a:lnTo>
                    <a:lnTo>
                      <a:pt x="16637" y="253492"/>
                    </a:lnTo>
                    <a:lnTo>
                      <a:pt x="23494" y="238506"/>
                    </a:lnTo>
                    <a:lnTo>
                      <a:pt x="31495" y="223647"/>
                    </a:lnTo>
                    <a:lnTo>
                      <a:pt x="40639" y="209042"/>
                    </a:lnTo>
                    <a:lnTo>
                      <a:pt x="50926" y="194690"/>
                    </a:lnTo>
                    <a:lnTo>
                      <a:pt x="62611" y="180467"/>
                    </a:lnTo>
                    <a:lnTo>
                      <a:pt x="75183" y="166750"/>
                    </a:lnTo>
                    <a:lnTo>
                      <a:pt x="89026" y="153035"/>
                    </a:lnTo>
                    <a:lnTo>
                      <a:pt x="104013" y="140081"/>
                    </a:lnTo>
                    <a:lnTo>
                      <a:pt x="120269" y="127254"/>
                    </a:lnTo>
                    <a:lnTo>
                      <a:pt x="137540" y="114935"/>
                    </a:lnTo>
                    <a:lnTo>
                      <a:pt x="155829" y="103250"/>
                    </a:lnTo>
                    <a:lnTo>
                      <a:pt x="175513" y="91694"/>
                    </a:lnTo>
                    <a:lnTo>
                      <a:pt x="196342" y="80898"/>
                    </a:lnTo>
                    <a:lnTo>
                      <a:pt x="218186" y="70611"/>
                    </a:lnTo>
                    <a:lnTo>
                      <a:pt x="241300" y="60833"/>
                    </a:lnTo>
                    <a:lnTo>
                      <a:pt x="265302" y="51815"/>
                    </a:lnTo>
                    <a:lnTo>
                      <a:pt x="290575" y="43307"/>
                    </a:lnTo>
                    <a:lnTo>
                      <a:pt x="316992" y="35306"/>
                    </a:lnTo>
                    <a:lnTo>
                      <a:pt x="344677" y="28067"/>
                    </a:lnTo>
                    <a:lnTo>
                      <a:pt x="373380" y="21844"/>
                    </a:lnTo>
                    <a:lnTo>
                      <a:pt x="403098" y="16129"/>
                    </a:lnTo>
                    <a:lnTo>
                      <a:pt x="433958" y="11302"/>
                    </a:lnTo>
                    <a:lnTo>
                      <a:pt x="466217" y="7238"/>
                    </a:lnTo>
                    <a:lnTo>
                      <a:pt x="499363" y="4063"/>
                    </a:lnTo>
                    <a:lnTo>
                      <a:pt x="533654" y="1650"/>
                    </a:lnTo>
                    <a:lnTo>
                      <a:pt x="568959" y="381"/>
                    </a:lnTo>
                    <a:lnTo>
                      <a:pt x="605536" y="0"/>
                    </a:lnTo>
                    <a:lnTo>
                      <a:pt x="634492" y="38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" name="Freihandform 29"/>
              <p:cNvSpPr/>
              <p:nvPr/>
            </p:nvSpPr>
            <p:spPr>
              <a:xfrm flipH="1">
                <a:off x="10206000" y="7304040"/>
                <a:ext cx="1542960" cy="887400"/>
              </a:xfrm>
              <a:custGeom>
                <a:avLst/>
                <a:gdLst>
                  <a:gd name="textAreaLeft" fmla="*/ 360 w 1542960"/>
                  <a:gd name="textAreaRight" fmla="*/ 1543680 w 1542960"/>
                  <a:gd name="textAreaTop" fmla="*/ 0 h 887400"/>
                  <a:gd name="textAreaBottom" fmla="*/ 887760 h 887400"/>
                </a:gdLst>
                <a:ahLst/>
                <a:rect l="textAreaLeft" t="textAreaTop" r="textAreaRight" b="textAreaBottom"/>
                <a:pathLst>
                  <a:path w="1067156" h="1090973">
                    <a:moveTo>
                      <a:pt x="605389" y="0"/>
                    </a:moveTo>
                    <a:lnTo>
                      <a:pt x="568768" y="574"/>
                    </a:lnTo>
                    <a:lnTo>
                      <a:pt x="533863" y="1722"/>
                    </a:lnTo>
                    <a:lnTo>
                      <a:pt x="499531" y="4017"/>
                    </a:lnTo>
                    <a:lnTo>
                      <a:pt x="466344" y="7461"/>
                    </a:lnTo>
                    <a:lnTo>
                      <a:pt x="434301" y="11478"/>
                    </a:lnTo>
                    <a:lnTo>
                      <a:pt x="403402" y="16069"/>
                    </a:lnTo>
                    <a:lnTo>
                      <a:pt x="373647" y="21808"/>
                    </a:lnTo>
                    <a:lnTo>
                      <a:pt x="345037" y="28121"/>
                    </a:lnTo>
                    <a:lnTo>
                      <a:pt x="316999" y="35582"/>
                    </a:lnTo>
                    <a:lnTo>
                      <a:pt x="290678" y="43616"/>
                    </a:lnTo>
                    <a:lnTo>
                      <a:pt x="265501" y="51650"/>
                    </a:lnTo>
                    <a:lnTo>
                      <a:pt x="241469" y="60833"/>
                    </a:lnTo>
                    <a:lnTo>
                      <a:pt x="218008" y="70589"/>
                    </a:lnTo>
                    <a:lnTo>
                      <a:pt x="196265" y="80919"/>
                    </a:lnTo>
                    <a:lnTo>
                      <a:pt x="175666" y="91823"/>
                    </a:lnTo>
                    <a:lnTo>
                      <a:pt x="156211" y="103301"/>
                    </a:lnTo>
                    <a:lnTo>
                      <a:pt x="137328" y="114779"/>
                    </a:lnTo>
                    <a:lnTo>
                      <a:pt x="120162" y="127405"/>
                    </a:lnTo>
                    <a:lnTo>
                      <a:pt x="104140" y="140030"/>
                    </a:lnTo>
                    <a:lnTo>
                      <a:pt x="89263" y="153229"/>
                    </a:lnTo>
                    <a:lnTo>
                      <a:pt x="75530" y="167003"/>
                    </a:lnTo>
                    <a:lnTo>
                      <a:pt x="62942" y="180777"/>
                    </a:lnTo>
                    <a:lnTo>
                      <a:pt x="50926" y="194550"/>
                    </a:lnTo>
                    <a:lnTo>
                      <a:pt x="40626" y="208897"/>
                    </a:lnTo>
                    <a:lnTo>
                      <a:pt x="31471" y="223819"/>
                    </a:lnTo>
                    <a:lnTo>
                      <a:pt x="23460" y="238740"/>
                    </a:lnTo>
                    <a:lnTo>
                      <a:pt x="16594" y="253661"/>
                    </a:lnTo>
                    <a:lnTo>
                      <a:pt x="10871" y="268582"/>
                    </a:lnTo>
                    <a:lnTo>
                      <a:pt x="6294" y="284077"/>
                    </a:lnTo>
                    <a:lnTo>
                      <a:pt x="2861" y="299573"/>
                    </a:lnTo>
                    <a:lnTo>
                      <a:pt x="1144" y="315068"/>
                    </a:lnTo>
                    <a:lnTo>
                      <a:pt x="0" y="330563"/>
                    </a:lnTo>
                    <a:lnTo>
                      <a:pt x="0" y="346058"/>
                    </a:lnTo>
                    <a:lnTo>
                      <a:pt x="1716" y="361553"/>
                    </a:lnTo>
                    <a:lnTo>
                      <a:pt x="4005" y="377048"/>
                    </a:lnTo>
                    <a:lnTo>
                      <a:pt x="8010" y="391970"/>
                    </a:lnTo>
                    <a:lnTo>
                      <a:pt x="13160" y="407464"/>
                    </a:lnTo>
                    <a:lnTo>
                      <a:pt x="18882" y="422386"/>
                    </a:lnTo>
                    <a:lnTo>
                      <a:pt x="26321" y="437308"/>
                    </a:lnTo>
                    <a:lnTo>
                      <a:pt x="34904" y="451655"/>
                    </a:lnTo>
                    <a:lnTo>
                      <a:pt x="44631" y="466575"/>
                    </a:lnTo>
                    <a:lnTo>
                      <a:pt x="55503" y="480349"/>
                    </a:lnTo>
                    <a:lnTo>
                      <a:pt x="67519" y="494123"/>
                    </a:lnTo>
                    <a:lnTo>
                      <a:pt x="81252" y="507896"/>
                    </a:lnTo>
                    <a:lnTo>
                      <a:pt x="96129" y="521095"/>
                    </a:lnTo>
                    <a:lnTo>
                      <a:pt x="111579" y="533721"/>
                    </a:lnTo>
                    <a:lnTo>
                      <a:pt x="128745" y="545773"/>
                    </a:lnTo>
                    <a:lnTo>
                      <a:pt x="147055" y="557825"/>
                    </a:lnTo>
                    <a:lnTo>
                      <a:pt x="165938" y="569303"/>
                    </a:lnTo>
                    <a:lnTo>
                      <a:pt x="187109" y="580207"/>
                    </a:lnTo>
                    <a:lnTo>
                      <a:pt x="208853" y="589963"/>
                    </a:lnTo>
                    <a:lnTo>
                      <a:pt x="231741" y="599719"/>
                    </a:lnTo>
                    <a:lnTo>
                      <a:pt x="256346" y="608902"/>
                    </a:lnTo>
                    <a:lnTo>
                      <a:pt x="282095" y="617510"/>
                    </a:lnTo>
                    <a:lnTo>
                      <a:pt x="308416" y="625544"/>
                    </a:lnTo>
                    <a:lnTo>
                      <a:pt x="336454" y="633005"/>
                    </a:lnTo>
                    <a:lnTo>
                      <a:pt x="366209" y="638744"/>
                    </a:lnTo>
                    <a:lnTo>
                      <a:pt x="396535" y="644483"/>
                    </a:lnTo>
                    <a:lnTo>
                      <a:pt x="428006" y="649648"/>
                    </a:lnTo>
                    <a:lnTo>
                      <a:pt x="461194" y="653665"/>
                    </a:lnTo>
                    <a:lnTo>
                      <a:pt x="495526" y="656534"/>
                    </a:lnTo>
                    <a:lnTo>
                      <a:pt x="531002" y="659404"/>
                    </a:lnTo>
                    <a:lnTo>
                      <a:pt x="567623" y="660552"/>
                    </a:lnTo>
                    <a:lnTo>
                      <a:pt x="605389" y="661126"/>
                    </a:lnTo>
                    <a:lnTo>
                      <a:pt x="614544" y="685230"/>
                    </a:lnTo>
                    <a:lnTo>
                      <a:pt x="621410" y="709333"/>
                    </a:lnTo>
                    <a:lnTo>
                      <a:pt x="625988" y="732862"/>
                    </a:lnTo>
                    <a:lnTo>
                      <a:pt x="628849" y="756392"/>
                    </a:lnTo>
                    <a:lnTo>
                      <a:pt x="629421" y="779348"/>
                    </a:lnTo>
                    <a:lnTo>
                      <a:pt x="627705" y="802877"/>
                    </a:lnTo>
                    <a:lnTo>
                      <a:pt x="624272" y="826981"/>
                    </a:lnTo>
                    <a:lnTo>
                      <a:pt x="618549" y="851658"/>
                    </a:lnTo>
                    <a:lnTo>
                      <a:pt x="610539" y="876336"/>
                    </a:lnTo>
                    <a:lnTo>
                      <a:pt x="600811" y="902735"/>
                    </a:lnTo>
                    <a:lnTo>
                      <a:pt x="588223" y="930282"/>
                    </a:lnTo>
                    <a:lnTo>
                      <a:pt x="573918" y="958976"/>
                    </a:lnTo>
                    <a:lnTo>
                      <a:pt x="557324" y="989393"/>
                    </a:lnTo>
                    <a:lnTo>
                      <a:pt x="537869" y="1020957"/>
                    </a:lnTo>
                    <a:lnTo>
                      <a:pt x="516697" y="1054817"/>
                    </a:lnTo>
                    <a:lnTo>
                      <a:pt x="493237" y="1090972"/>
                    </a:lnTo>
                    <a:lnTo>
                      <a:pt x="517842" y="1077199"/>
                    </a:lnTo>
                    <a:lnTo>
                      <a:pt x="542447" y="1059982"/>
                    </a:lnTo>
                    <a:lnTo>
                      <a:pt x="566479" y="1041044"/>
                    </a:lnTo>
                    <a:lnTo>
                      <a:pt x="589939" y="1019236"/>
                    </a:lnTo>
                    <a:lnTo>
                      <a:pt x="612255" y="995132"/>
                    </a:lnTo>
                    <a:lnTo>
                      <a:pt x="633427" y="969307"/>
                    </a:lnTo>
                    <a:lnTo>
                      <a:pt x="653453" y="941760"/>
                    </a:lnTo>
                    <a:lnTo>
                      <a:pt x="672336" y="913065"/>
                    </a:lnTo>
                    <a:lnTo>
                      <a:pt x="688930" y="883223"/>
                    </a:lnTo>
                    <a:lnTo>
                      <a:pt x="703807" y="852233"/>
                    </a:lnTo>
                    <a:lnTo>
                      <a:pt x="715824" y="820668"/>
                    </a:lnTo>
                    <a:lnTo>
                      <a:pt x="726123" y="788530"/>
                    </a:lnTo>
                    <a:lnTo>
                      <a:pt x="733562" y="756392"/>
                    </a:lnTo>
                    <a:lnTo>
                      <a:pt x="738139" y="724254"/>
                    </a:lnTo>
                    <a:lnTo>
                      <a:pt x="739284" y="692116"/>
                    </a:lnTo>
                    <a:lnTo>
                      <a:pt x="737567" y="661126"/>
                    </a:lnTo>
                    <a:lnTo>
                      <a:pt x="757594" y="660552"/>
                    </a:lnTo>
                    <a:lnTo>
                      <a:pt x="776477" y="659404"/>
                    </a:lnTo>
                    <a:lnTo>
                      <a:pt x="795360" y="656534"/>
                    </a:lnTo>
                    <a:lnTo>
                      <a:pt x="813098" y="653665"/>
                    </a:lnTo>
                    <a:lnTo>
                      <a:pt x="831409" y="649648"/>
                    </a:lnTo>
                    <a:lnTo>
                      <a:pt x="848002" y="644483"/>
                    </a:lnTo>
                    <a:lnTo>
                      <a:pt x="864596" y="638744"/>
                    </a:lnTo>
                    <a:lnTo>
                      <a:pt x="880618" y="633005"/>
                    </a:lnTo>
                    <a:lnTo>
                      <a:pt x="895495" y="625544"/>
                    </a:lnTo>
                    <a:lnTo>
                      <a:pt x="910372" y="617510"/>
                    </a:lnTo>
                    <a:lnTo>
                      <a:pt x="924677" y="608902"/>
                    </a:lnTo>
                    <a:lnTo>
                      <a:pt x="937838" y="599719"/>
                    </a:lnTo>
                    <a:lnTo>
                      <a:pt x="950998" y="589963"/>
                    </a:lnTo>
                    <a:lnTo>
                      <a:pt x="963015" y="580207"/>
                    </a:lnTo>
                    <a:lnTo>
                      <a:pt x="985903" y="557825"/>
                    </a:lnTo>
                    <a:lnTo>
                      <a:pt x="1005930" y="533721"/>
                    </a:lnTo>
                    <a:lnTo>
                      <a:pt x="1023096" y="507896"/>
                    </a:lnTo>
                    <a:lnTo>
                      <a:pt x="1037401" y="480349"/>
                    </a:lnTo>
                    <a:lnTo>
                      <a:pt x="1048845" y="451655"/>
                    </a:lnTo>
                    <a:lnTo>
                      <a:pt x="1058000" y="422386"/>
                    </a:lnTo>
                    <a:lnTo>
                      <a:pt x="1063722" y="391970"/>
                    </a:lnTo>
                    <a:lnTo>
                      <a:pt x="1067155" y="361553"/>
                    </a:lnTo>
                    <a:lnTo>
                      <a:pt x="1067155" y="330563"/>
                    </a:lnTo>
                    <a:lnTo>
                      <a:pt x="1063722" y="299573"/>
                    </a:lnTo>
                    <a:lnTo>
                      <a:pt x="1058000" y="268582"/>
                    </a:lnTo>
                    <a:lnTo>
                      <a:pt x="1048273" y="238740"/>
                    </a:lnTo>
                    <a:lnTo>
                      <a:pt x="1035684" y="208897"/>
                    </a:lnTo>
                    <a:lnTo>
                      <a:pt x="1019663" y="180777"/>
                    </a:lnTo>
                    <a:lnTo>
                      <a:pt x="1009935" y="167003"/>
                    </a:lnTo>
                    <a:lnTo>
                      <a:pt x="1000208" y="153229"/>
                    </a:lnTo>
                    <a:lnTo>
                      <a:pt x="988764" y="140030"/>
                    </a:lnTo>
                    <a:lnTo>
                      <a:pt x="977320" y="127405"/>
                    </a:lnTo>
                    <a:lnTo>
                      <a:pt x="964159" y="114779"/>
                    </a:lnTo>
                    <a:lnTo>
                      <a:pt x="950426" y="103301"/>
                    </a:lnTo>
                    <a:lnTo>
                      <a:pt x="936121" y="91823"/>
                    </a:lnTo>
                    <a:lnTo>
                      <a:pt x="920672" y="80919"/>
                    </a:lnTo>
                    <a:lnTo>
                      <a:pt x="904078" y="70589"/>
                    </a:lnTo>
                    <a:lnTo>
                      <a:pt x="886912" y="60833"/>
                    </a:lnTo>
                    <a:lnTo>
                      <a:pt x="868602" y="51650"/>
                    </a:lnTo>
                    <a:lnTo>
                      <a:pt x="849719" y="43616"/>
                    </a:lnTo>
                    <a:lnTo>
                      <a:pt x="829692" y="35582"/>
                    </a:lnTo>
                    <a:lnTo>
                      <a:pt x="808520" y="28121"/>
                    </a:lnTo>
                    <a:lnTo>
                      <a:pt x="786777" y="21808"/>
                    </a:lnTo>
                    <a:lnTo>
                      <a:pt x="763889" y="16069"/>
                    </a:lnTo>
                    <a:lnTo>
                      <a:pt x="739856" y="11478"/>
                    </a:lnTo>
                    <a:lnTo>
                      <a:pt x="715251" y="7461"/>
                    </a:lnTo>
                    <a:lnTo>
                      <a:pt x="689502" y="4017"/>
                    </a:lnTo>
                    <a:lnTo>
                      <a:pt x="662037" y="1722"/>
                    </a:lnTo>
                    <a:lnTo>
                      <a:pt x="634571" y="574"/>
                    </a:lnTo>
                    <a:lnTo>
                      <a:pt x="605389" y="0"/>
                    </a:lnTo>
                    <a:close/>
                  </a:path>
                </a:pathLst>
              </a:custGeom>
              <a:noFill/>
              <a:ln w="11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5" name="Textfeld 31"/>
            <p:cNvSpPr/>
            <p:nvPr/>
          </p:nvSpPr>
          <p:spPr>
            <a:xfrm>
              <a:off x="10516680" y="7439040"/>
              <a:ext cx="753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Toll!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6" name="Rechteck 32"/>
          <p:cNvSpPr/>
          <p:nvPr/>
        </p:nvSpPr>
        <p:spPr>
          <a:xfrm>
            <a:off x="9648000" y="6375240"/>
            <a:ext cx="232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schwim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hteck 33"/>
          <p:cNvSpPr/>
          <p:nvPr/>
        </p:nvSpPr>
        <p:spPr>
          <a:xfrm>
            <a:off x="3277800" y="3476520"/>
            <a:ext cx="103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zeh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hteck 34"/>
          <p:cNvSpPr/>
          <p:nvPr/>
        </p:nvSpPr>
        <p:spPr>
          <a:xfrm>
            <a:off x="3330360" y="4214880"/>
            <a:ext cx="161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zwanzi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hteck 36"/>
          <p:cNvSpPr/>
          <p:nvPr/>
        </p:nvSpPr>
        <p:spPr>
          <a:xfrm>
            <a:off x="3389040" y="5727600"/>
            <a:ext cx="290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Zungenbrec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hteck 37"/>
          <p:cNvSpPr/>
          <p:nvPr/>
        </p:nvSpPr>
        <p:spPr>
          <a:xfrm>
            <a:off x="3306960" y="7743960"/>
            <a:ext cx="145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spie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hteck 38"/>
          <p:cNvSpPr/>
          <p:nvPr/>
        </p:nvSpPr>
        <p:spPr>
          <a:xfrm>
            <a:off x="3338280" y="7095960"/>
            <a:ext cx="214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wunderb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Rechteck 39"/>
          <p:cNvSpPr/>
          <p:nvPr/>
        </p:nvSpPr>
        <p:spPr>
          <a:xfrm>
            <a:off x="3305520" y="6448320"/>
            <a:ext cx="128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Fis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Rechteck 40"/>
          <p:cNvSpPr/>
          <p:nvPr/>
        </p:nvSpPr>
        <p:spPr>
          <a:xfrm>
            <a:off x="3326400" y="8464680"/>
            <a:ext cx="173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wasch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Rechteck 41"/>
          <p:cNvSpPr/>
          <p:nvPr/>
        </p:nvSpPr>
        <p:spPr>
          <a:xfrm>
            <a:off x="9978480" y="5727600"/>
            <a:ext cx="141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Wet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Rechteck 42"/>
          <p:cNvSpPr/>
          <p:nvPr/>
        </p:nvSpPr>
        <p:spPr>
          <a:xfrm>
            <a:off x="7339680" y="3476520"/>
            <a:ext cx="180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zwisch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Rechteck 43"/>
          <p:cNvSpPr/>
          <p:nvPr/>
        </p:nvSpPr>
        <p:spPr>
          <a:xfrm>
            <a:off x="7246800" y="4214880"/>
            <a:ext cx="96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ac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Rechteck 44"/>
          <p:cNvSpPr/>
          <p:nvPr/>
        </p:nvSpPr>
        <p:spPr>
          <a:xfrm>
            <a:off x="7293960" y="5006880"/>
            <a:ext cx="178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Schl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Rechteck 45"/>
          <p:cNvSpPr/>
          <p:nvPr/>
        </p:nvSpPr>
        <p:spPr>
          <a:xfrm>
            <a:off x="7266960" y="5708520"/>
            <a:ext cx="113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S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Rechteck 46"/>
          <p:cNvSpPr/>
          <p:nvPr/>
        </p:nvSpPr>
        <p:spPr>
          <a:xfrm>
            <a:off x="7299720" y="6375240"/>
            <a:ext cx="190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das Zeb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Rechteck 47"/>
          <p:cNvSpPr/>
          <p:nvPr/>
        </p:nvSpPr>
        <p:spPr>
          <a:xfrm>
            <a:off x="9974520" y="5008680"/>
            <a:ext cx="102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Spi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Rechteck 50"/>
          <p:cNvSpPr/>
          <p:nvPr/>
        </p:nvSpPr>
        <p:spPr>
          <a:xfrm>
            <a:off x="3339720" y="5008680"/>
            <a:ext cx="308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achtundzwanzi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Rechteck 51"/>
          <p:cNvSpPr/>
          <p:nvPr/>
        </p:nvSpPr>
        <p:spPr>
          <a:xfrm>
            <a:off x="9925920" y="3476520"/>
            <a:ext cx="144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Schn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Rechteck 52"/>
          <p:cNvSpPr/>
          <p:nvPr/>
        </p:nvSpPr>
        <p:spPr>
          <a:xfrm>
            <a:off x="7253280" y="7095960"/>
            <a:ext cx="250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Wiederseh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4" name="Gruppieren 3"/>
          <p:cNvGrpSpPr/>
          <p:nvPr/>
        </p:nvGrpSpPr>
        <p:grpSpPr>
          <a:xfrm>
            <a:off x="291960" y="1405080"/>
            <a:ext cx="3322800" cy="2209680"/>
            <a:chOff x="291960" y="1405080"/>
            <a:chExt cx="3322800" cy="2209680"/>
          </a:xfrm>
        </p:grpSpPr>
        <p:sp>
          <p:nvSpPr>
            <p:cNvPr id="575" name="Freihandform 68"/>
            <p:cNvSpPr/>
            <p:nvPr/>
          </p:nvSpPr>
          <p:spPr>
            <a:xfrm>
              <a:off x="291960" y="1405080"/>
              <a:ext cx="3322800" cy="2209680"/>
            </a:xfrm>
            <a:custGeom>
              <a:avLst/>
              <a:gdLst>
                <a:gd name="textAreaLeft" fmla="*/ 0 w 3322800"/>
                <a:gd name="textAreaRight" fmla="*/ 3323160 w 3322800"/>
                <a:gd name="textAreaTop" fmla="*/ 0 h 2209680"/>
                <a:gd name="textAreaBottom" fmla="*/ 2210040 h 2209680"/>
              </a:gdLst>
              <a:ahLst/>
              <a:rect l="textAreaLeft" t="textAreaTop" r="textAreaRight" b="textAreaBottom"/>
              <a:pathLst>
                <a:path w="2893315" h="2948306">
                  <a:moveTo>
                    <a:pt x="1720597" y="1270"/>
                  </a:moveTo>
                  <a:lnTo>
                    <a:pt x="1795654" y="4698"/>
                  </a:lnTo>
                  <a:lnTo>
                    <a:pt x="1869060" y="11176"/>
                  </a:lnTo>
                  <a:lnTo>
                    <a:pt x="1938656" y="19811"/>
                  </a:lnTo>
                  <a:lnTo>
                    <a:pt x="2006220" y="30607"/>
                  </a:lnTo>
                  <a:lnTo>
                    <a:pt x="2071244" y="43942"/>
                  </a:lnTo>
                  <a:lnTo>
                    <a:pt x="2133473" y="59308"/>
                  </a:lnTo>
                  <a:lnTo>
                    <a:pt x="2192656" y="76200"/>
                  </a:lnTo>
                  <a:lnTo>
                    <a:pt x="2249424" y="95504"/>
                  </a:lnTo>
                  <a:lnTo>
                    <a:pt x="2304035" y="117220"/>
                  </a:lnTo>
                  <a:lnTo>
                    <a:pt x="2355723" y="140080"/>
                  </a:lnTo>
                  <a:lnTo>
                    <a:pt x="2405508" y="164719"/>
                  </a:lnTo>
                  <a:lnTo>
                    <a:pt x="2451735" y="191135"/>
                  </a:lnTo>
                  <a:lnTo>
                    <a:pt x="2496439" y="218694"/>
                  </a:lnTo>
                  <a:lnTo>
                    <a:pt x="2538096" y="248030"/>
                  </a:lnTo>
                  <a:lnTo>
                    <a:pt x="2577973" y="279019"/>
                  </a:lnTo>
                  <a:lnTo>
                    <a:pt x="2614804" y="310642"/>
                  </a:lnTo>
                  <a:lnTo>
                    <a:pt x="2649474" y="344170"/>
                  </a:lnTo>
                  <a:lnTo>
                    <a:pt x="2681733" y="378713"/>
                  </a:lnTo>
                  <a:lnTo>
                    <a:pt x="2711705" y="413766"/>
                  </a:lnTo>
                  <a:lnTo>
                    <a:pt x="2739136" y="450723"/>
                  </a:lnTo>
                  <a:lnTo>
                    <a:pt x="2764410" y="487807"/>
                  </a:lnTo>
                  <a:lnTo>
                    <a:pt x="2807844" y="565023"/>
                  </a:lnTo>
                  <a:lnTo>
                    <a:pt x="2842514" y="644651"/>
                  </a:lnTo>
                  <a:lnTo>
                    <a:pt x="2868296" y="726313"/>
                  </a:lnTo>
                  <a:lnTo>
                    <a:pt x="2885186" y="809498"/>
                  </a:lnTo>
                  <a:lnTo>
                    <a:pt x="2893314" y="893317"/>
                  </a:lnTo>
                  <a:lnTo>
                    <a:pt x="2893314" y="976630"/>
                  </a:lnTo>
                  <a:lnTo>
                    <a:pt x="2885186" y="1059687"/>
                  </a:lnTo>
                  <a:lnTo>
                    <a:pt x="2868804" y="1141349"/>
                  </a:lnTo>
                  <a:lnTo>
                    <a:pt x="2844800" y="1220978"/>
                  </a:lnTo>
                  <a:lnTo>
                    <a:pt x="2813177" y="1298448"/>
                  </a:lnTo>
                  <a:lnTo>
                    <a:pt x="2773681" y="1372235"/>
                  </a:lnTo>
                  <a:lnTo>
                    <a:pt x="2726945" y="1441957"/>
                  </a:lnTo>
                  <a:lnTo>
                    <a:pt x="2672843" y="1506981"/>
                  </a:lnTo>
                  <a:lnTo>
                    <a:pt x="2611247" y="1567306"/>
                  </a:lnTo>
                  <a:lnTo>
                    <a:pt x="2578609" y="1594866"/>
                  </a:lnTo>
                  <a:lnTo>
                    <a:pt x="2543302" y="1621281"/>
                  </a:lnTo>
                  <a:lnTo>
                    <a:pt x="2506981" y="1645919"/>
                  </a:lnTo>
                  <a:lnTo>
                    <a:pt x="2468881" y="1669414"/>
                  </a:lnTo>
                  <a:lnTo>
                    <a:pt x="2429002" y="1690497"/>
                  </a:lnTo>
                  <a:lnTo>
                    <a:pt x="2387347" y="1709800"/>
                  </a:lnTo>
                  <a:lnTo>
                    <a:pt x="2344547" y="1726692"/>
                  </a:lnTo>
                  <a:lnTo>
                    <a:pt x="2300097" y="1742058"/>
                  </a:lnTo>
                  <a:lnTo>
                    <a:pt x="2253615" y="1755648"/>
                  </a:lnTo>
                  <a:lnTo>
                    <a:pt x="2205610" y="1766188"/>
                  </a:lnTo>
                  <a:lnTo>
                    <a:pt x="2156334" y="1774824"/>
                  </a:lnTo>
                  <a:lnTo>
                    <a:pt x="2105787" y="1781301"/>
                  </a:lnTo>
                  <a:lnTo>
                    <a:pt x="2053718" y="1784857"/>
                  </a:lnTo>
                  <a:lnTo>
                    <a:pt x="1999615" y="1786636"/>
                  </a:lnTo>
                  <a:lnTo>
                    <a:pt x="2004949" y="1870963"/>
                  </a:lnTo>
                  <a:lnTo>
                    <a:pt x="2000885" y="1957197"/>
                  </a:lnTo>
                  <a:lnTo>
                    <a:pt x="1988694" y="2044573"/>
                  </a:lnTo>
                  <a:lnTo>
                    <a:pt x="1968627" y="2131187"/>
                  </a:lnTo>
                  <a:lnTo>
                    <a:pt x="1941576" y="2218055"/>
                  </a:lnTo>
                  <a:lnTo>
                    <a:pt x="1907668" y="2303653"/>
                  </a:lnTo>
                  <a:lnTo>
                    <a:pt x="1867789" y="2386837"/>
                  </a:lnTo>
                  <a:lnTo>
                    <a:pt x="1822577" y="2467737"/>
                  </a:lnTo>
                  <a:lnTo>
                    <a:pt x="1772159" y="2545587"/>
                  </a:lnTo>
                  <a:lnTo>
                    <a:pt x="1718184" y="2620010"/>
                  </a:lnTo>
                  <a:lnTo>
                    <a:pt x="1660145" y="2689860"/>
                  </a:lnTo>
                  <a:lnTo>
                    <a:pt x="1599185" y="2754375"/>
                  </a:lnTo>
                  <a:lnTo>
                    <a:pt x="1535938" y="2812923"/>
                  </a:lnTo>
                  <a:lnTo>
                    <a:pt x="1470787" y="2865119"/>
                  </a:lnTo>
                  <a:lnTo>
                    <a:pt x="1404494" y="2910839"/>
                  </a:lnTo>
                  <a:lnTo>
                    <a:pt x="1337564" y="2948305"/>
                  </a:lnTo>
                  <a:lnTo>
                    <a:pt x="1401572" y="2851149"/>
                  </a:lnTo>
                  <a:lnTo>
                    <a:pt x="1459104" y="2758948"/>
                  </a:lnTo>
                  <a:lnTo>
                    <a:pt x="1510665" y="2672968"/>
                  </a:lnTo>
                  <a:lnTo>
                    <a:pt x="1555750" y="2590673"/>
                  </a:lnTo>
                  <a:lnTo>
                    <a:pt x="1595121" y="2513456"/>
                  </a:lnTo>
                  <a:lnTo>
                    <a:pt x="1628522" y="2439543"/>
                  </a:lnTo>
                  <a:lnTo>
                    <a:pt x="1655572" y="2368676"/>
                  </a:lnTo>
                  <a:lnTo>
                    <a:pt x="1677289" y="2300731"/>
                  </a:lnTo>
                  <a:lnTo>
                    <a:pt x="1692402" y="2234437"/>
                  </a:lnTo>
                  <a:lnTo>
                    <a:pt x="1702435" y="2169922"/>
                  </a:lnTo>
                  <a:lnTo>
                    <a:pt x="1706626" y="2106675"/>
                  </a:lnTo>
                  <a:lnTo>
                    <a:pt x="1704722" y="2043303"/>
                  </a:lnTo>
                  <a:lnTo>
                    <a:pt x="1697736" y="1980564"/>
                  </a:lnTo>
                  <a:lnTo>
                    <a:pt x="1684910" y="1917318"/>
                  </a:lnTo>
                  <a:lnTo>
                    <a:pt x="1666113" y="1852168"/>
                  </a:lnTo>
                  <a:lnTo>
                    <a:pt x="1641984" y="1786636"/>
                  </a:lnTo>
                  <a:lnTo>
                    <a:pt x="1539368" y="1784857"/>
                  </a:lnTo>
                  <a:lnTo>
                    <a:pt x="1439672" y="1781301"/>
                  </a:lnTo>
                  <a:lnTo>
                    <a:pt x="1343534" y="1774824"/>
                  </a:lnTo>
                  <a:lnTo>
                    <a:pt x="1250315" y="1766188"/>
                  </a:lnTo>
                  <a:lnTo>
                    <a:pt x="1161161" y="1755648"/>
                  </a:lnTo>
                  <a:lnTo>
                    <a:pt x="1074929" y="1742058"/>
                  </a:lnTo>
                  <a:lnTo>
                    <a:pt x="992251" y="1726692"/>
                  </a:lnTo>
                  <a:lnTo>
                    <a:pt x="912496" y="1709800"/>
                  </a:lnTo>
                  <a:lnTo>
                    <a:pt x="836931" y="1690497"/>
                  </a:lnTo>
                  <a:lnTo>
                    <a:pt x="764160" y="1669414"/>
                  </a:lnTo>
                  <a:lnTo>
                    <a:pt x="694945" y="1645919"/>
                  </a:lnTo>
                  <a:lnTo>
                    <a:pt x="628650" y="1621281"/>
                  </a:lnTo>
                  <a:lnTo>
                    <a:pt x="565912" y="1594866"/>
                  </a:lnTo>
                  <a:lnTo>
                    <a:pt x="506731" y="1567306"/>
                  </a:lnTo>
                  <a:lnTo>
                    <a:pt x="450470" y="1537969"/>
                  </a:lnTo>
                  <a:lnTo>
                    <a:pt x="398146" y="1506981"/>
                  </a:lnTo>
                  <a:lnTo>
                    <a:pt x="348361" y="1475358"/>
                  </a:lnTo>
                  <a:lnTo>
                    <a:pt x="302514" y="1441957"/>
                  </a:lnTo>
                  <a:lnTo>
                    <a:pt x="259843" y="1407413"/>
                  </a:lnTo>
                  <a:lnTo>
                    <a:pt x="219964" y="1372235"/>
                  </a:lnTo>
                  <a:lnTo>
                    <a:pt x="183515" y="1335278"/>
                  </a:lnTo>
                  <a:lnTo>
                    <a:pt x="150876" y="1298448"/>
                  </a:lnTo>
                  <a:lnTo>
                    <a:pt x="121539" y="1260220"/>
                  </a:lnTo>
                  <a:lnTo>
                    <a:pt x="94997" y="1220978"/>
                  </a:lnTo>
                  <a:lnTo>
                    <a:pt x="71501" y="1181735"/>
                  </a:lnTo>
                  <a:lnTo>
                    <a:pt x="51689" y="1141349"/>
                  </a:lnTo>
                  <a:lnTo>
                    <a:pt x="35180" y="1100836"/>
                  </a:lnTo>
                  <a:lnTo>
                    <a:pt x="21718" y="1059687"/>
                  </a:lnTo>
                  <a:lnTo>
                    <a:pt x="11176" y="1018158"/>
                  </a:lnTo>
                  <a:lnTo>
                    <a:pt x="4192" y="976630"/>
                  </a:lnTo>
                  <a:lnTo>
                    <a:pt x="635" y="934847"/>
                  </a:lnTo>
                  <a:lnTo>
                    <a:pt x="0" y="893317"/>
                  </a:lnTo>
                  <a:lnTo>
                    <a:pt x="2286" y="851154"/>
                  </a:lnTo>
                  <a:lnTo>
                    <a:pt x="8256" y="809498"/>
                  </a:lnTo>
                  <a:lnTo>
                    <a:pt x="17654" y="767842"/>
                  </a:lnTo>
                  <a:lnTo>
                    <a:pt x="29972" y="726313"/>
                  </a:lnTo>
                  <a:lnTo>
                    <a:pt x="45212" y="685164"/>
                  </a:lnTo>
                  <a:lnTo>
                    <a:pt x="63882" y="644651"/>
                  </a:lnTo>
                  <a:lnTo>
                    <a:pt x="85598" y="604392"/>
                  </a:lnTo>
                  <a:lnTo>
                    <a:pt x="110363" y="565023"/>
                  </a:lnTo>
                  <a:lnTo>
                    <a:pt x="138431" y="526414"/>
                  </a:lnTo>
                  <a:lnTo>
                    <a:pt x="170054" y="487807"/>
                  </a:lnTo>
                  <a:lnTo>
                    <a:pt x="204089" y="450723"/>
                  </a:lnTo>
                  <a:lnTo>
                    <a:pt x="241555" y="413766"/>
                  </a:lnTo>
                  <a:lnTo>
                    <a:pt x="282068" y="378713"/>
                  </a:lnTo>
                  <a:lnTo>
                    <a:pt x="326136" y="344170"/>
                  </a:lnTo>
                  <a:lnTo>
                    <a:pt x="372999" y="310642"/>
                  </a:lnTo>
                  <a:lnTo>
                    <a:pt x="422784" y="279019"/>
                  </a:lnTo>
                  <a:lnTo>
                    <a:pt x="476250" y="248030"/>
                  </a:lnTo>
                  <a:lnTo>
                    <a:pt x="532511" y="218694"/>
                  </a:lnTo>
                  <a:lnTo>
                    <a:pt x="591821" y="191135"/>
                  </a:lnTo>
                  <a:lnTo>
                    <a:pt x="654432" y="164719"/>
                  </a:lnTo>
                  <a:lnTo>
                    <a:pt x="719583" y="140080"/>
                  </a:lnTo>
                  <a:lnTo>
                    <a:pt x="788162" y="117220"/>
                  </a:lnTo>
                  <a:lnTo>
                    <a:pt x="859790" y="95504"/>
                  </a:lnTo>
                  <a:lnTo>
                    <a:pt x="934847" y="76200"/>
                  </a:lnTo>
                  <a:lnTo>
                    <a:pt x="1012698" y="59308"/>
                  </a:lnTo>
                  <a:lnTo>
                    <a:pt x="1093089" y="43942"/>
                  </a:lnTo>
                  <a:lnTo>
                    <a:pt x="1177036" y="30607"/>
                  </a:lnTo>
                  <a:lnTo>
                    <a:pt x="1264412" y="19811"/>
                  </a:lnTo>
                  <a:lnTo>
                    <a:pt x="1354074" y="11176"/>
                  </a:lnTo>
                  <a:lnTo>
                    <a:pt x="1447293" y="4698"/>
                  </a:lnTo>
                  <a:lnTo>
                    <a:pt x="1542923" y="1270"/>
                  </a:lnTo>
                  <a:lnTo>
                    <a:pt x="1641984" y="0"/>
                  </a:lnTo>
                  <a:lnTo>
                    <a:pt x="1720597" y="127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Freihandform 69"/>
            <p:cNvSpPr/>
            <p:nvPr/>
          </p:nvSpPr>
          <p:spPr>
            <a:xfrm>
              <a:off x="291960" y="1405080"/>
              <a:ext cx="3322800" cy="2209680"/>
            </a:xfrm>
            <a:custGeom>
              <a:avLst/>
              <a:gdLst>
                <a:gd name="textAreaLeft" fmla="*/ 0 w 3322800"/>
                <a:gd name="textAreaRight" fmla="*/ 3323160 w 3322800"/>
                <a:gd name="textAreaTop" fmla="*/ 0 h 2209680"/>
                <a:gd name="textAreaBottom" fmla="*/ 2210040 h 2209680"/>
              </a:gdLst>
              <a:ahLst/>
              <a:rect l="textAreaLeft" t="textAreaTop" r="textAreaRight" b="textAreaBottom"/>
              <a:pathLst>
                <a:path w="2893668" h="2948195">
                  <a:moveTo>
                    <a:pt x="1641555" y="0"/>
                  </a:moveTo>
                  <a:lnTo>
                    <a:pt x="1542254" y="1551"/>
                  </a:lnTo>
                  <a:lnTo>
                    <a:pt x="1447609" y="4652"/>
                  </a:lnTo>
                  <a:lnTo>
                    <a:pt x="1354515" y="10856"/>
                  </a:lnTo>
                  <a:lnTo>
                    <a:pt x="1264525" y="20161"/>
                  </a:lnTo>
                  <a:lnTo>
                    <a:pt x="1177637" y="31017"/>
                  </a:lnTo>
                  <a:lnTo>
                    <a:pt x="1093853" y="43424"/>
                  </a:lnTo>
                  <a:lnTo>
                    <a:pt x="1013171" y="58933"/>
                  </a:lnTo>
                  <a:lnTo>
                    <a:pt x="935593" y="75992"/>
                  </a:lnTo>
                  <a:lnTo>
                    <a:pt x="859567" y="96153"/>
                  </a:lnTo>
                  <a:lnTo>
                    <a:pt x="788195" y="117866"/>
                  </a:lnTo>
                  <a:lnTo>
                    <a:pt x="719926" y="139578"/>
                  </a:lnTo>
                  <a:lnTo>
                    <a:pt x="654761" y="164392"/>
                  </a:lnTo>
                  <a:lnTo>
                    <a:pt x="591147" y="190756"/>
                  </a:lnTo>
                  <a:lnTo>
                    <a:pt x="532187" y="218672"/>
                  </a:lnTo>
                  <a:lnTo>
                    <a:pt x="476330" y="248138"/>
                  </a:lnTo>
                  <a:lnTo>
                    <a:pt x="423577" y="279156"/>
                  </a:lnTo>
                  <a:lnTo>
                    <a:pt x="372375" y="310173"/>
                  </a:lnTo>
                  <a:lnTo>
                    <a:pt x="325829" y="344292"/>
                  </a:lnTo>
                  <a:lnTo>
                    <a:pt x="282385" y="378411"/>
                  </a:lnTo>
                  <a:lnTo>
                    <a:pt x="242045" y="414081"/>
                  </a:lnTo>
                  <a:lnTo>
                    <a:pt x="204807" y="451302"/>
                  </a:lnTo>
                  <a:lnTo>
                    <a:pt x="170672" y="488522"/>
                  </a:lnTo>
                  <a:lnTo>
                    <a:pt x="138090" y="525743"/>
                  </a:lnTo>
                  <a:lnTo>
                    <a:pt x="110161" y="564515"/>
                  </a:lnTo>
                  <a:lnTo>
                    <a:pt x="85336" y="604837"/>
                  </a:lnTo>
                  <a:lnTo>
                    <a:pt x="63614" y="645160"/>
                  </a:lnTo>
                  <a:lnTo>
                    <a:pt x="44996" y="685482"/>
                  </a:lnTo>
                  <a:lnTo>
                    <a:pt x="29480" y="725805"/>
                  </a:lnTo>
                  <a:lnTo>
                    <a:pt x="17068" y="767678"/>
                  </a:lnTo>
                  <a:lnTo>
                    <a:pt x="7758" y="809551"/>
                  </a:lnTo>
                  <a:lnTo>
                    <a:pt x="3103" y="851425"/>
                  </a:lnTo>
                  <a:lnTo>
                    <a:pt x="0" y="893298"/>
                  </a:lnTo>
                  <a:lnTo>
                    <a:pt x="0" y="935171"/>
                  </a:lnTo>
                  <a:lnTo>
                    <a:pt x="4655" y="977045"/>
                  </a:lnTo>
                  <a:lnTo>
                    <a:pt x="10861" y="1018918"/>
                  </a:lnTo>
                  <a:lnTo>
                    <a:pt x="21722" y="1059240"/>
                  </a:lnTo>
                  <a:lnTo>
                    <a:pt x="35687" y="1101114"/>
                  </a:lnTo>
                  <a:lnTo>
                    <a:pt x="51202" y="1141436"/>
                  </a:lnTo>
                  <a:lnTo>
                    <a:pt x="71372" y="1181759"/>
                  </a:lnTo>
                  <a:lnTo>
                    <a:pt x="94646" y="1220530"/>
                  </a:lnTo>
                  <a:lnTo>
                    <a:pt x="121023" y="1260853"/>
                  </a:lnTo>
                  <a:lnTo>
                    <a:pt x="150502" y="1298074"/>
                  </a:lnTo>
                  <a:lnTo>
                    <a:pt x="183085" y="1335295"/>
                  </a:lnTo>
                  <a:lnTo>
                    <a:pt x="220323" y="1372515"/>
                  </a:lnTo>
                  <a:lnTo>
                    <a:pt x="260663" y="1408185"/>
                  </a:lnTo>
                  <a:lnTo>
                    <a:pt x="302556" y="1442304"/>
                  </a:lnTo>
                  <a:lnTo>
                    <a:pt x="349102" y="1474872"/>
                  </a:lnTo>
                  <a:lnTo>
                    <a:pt x="398752" y="1507440"/>
                  </a:lnTo>
                  <a:lnTo>
                    <a:pt x="449954" y="1538458"/>
                  </a:lnTo>
                  <a:lnTo>
                    <a:pt x="507362" y="1567924"/>
                  </a:lnTo>
                  <a:lnTo>
                    <a:pt x="566321" y="1594289"/>
                  </a:lnTo>
                  <a:lnTo>
                    <a:pt x="628384" y="1620653"/>
                  </a:lnTo>
                  <a:lnTo>
                    <a:pt x="695101" y="1645467"/>
                  </a:lnTo>
                  <a:lnTo>
                    <a:pt x="764921" y="1668730"/>
                  </a:lnTo>
                  <a:lnTo>
                    <a:pt x="836293" y="1690443"/>
                  </a:lnTo>
                  <a:lnTo>
                    <a:pt x="912320" y="1710603"/>
                  </a:lnTo>
                  <a:lnTo>
                    <a:pt x="993001" y="1726113"/>
                  </a:lnTo>
                  <a:lnTo>
                    <a:pt x="1075234" y="1741621"/>
                  </a:lnTo>
                  <a:lnTo>
                    <a:pt x="1160570" y="1755579"/>
                  </a:lnTo>
                  <a:lnTo>
                    <a:pt x="1250561" y="1766435"/>
                  </a:lnTo>
                  <a:lnTo>
                    <a:pt x="1343654" y="1774189"/>
                  </a:lnTo>
                  <a:lnTo>
                    <a:pt x="1439851" y="1781943"/>
                  </a:lnTo>
                  <a:lnTo>
                    <a:pt x="1539152" y="1785045"/>
                  </a:lnTo>
                  <a:lnTo>
                    <a:pt x="1641555" y="1786596"/>
                  </a:lnTo>
                  <a:lnTo>
                    <a:pt x="1666380" y="1851732"/>
                  </a:lnTo>
                  <a:lnTo>
                    <a:pt x="1684998" y="1916868"/>
                  </a:lnTo>
                  <a:lnTo>
                    <a:pt x="1697411" y="1980454"/>
                  </a:lnTo>
                  <a:lnTo>
                    <a:pt x="1705169" y="2044040"/>
                  </a:lnTo>
                  <a:lnTo>
                    <a:pt x="1706720" y="2106074"/>
                  </a:lnTo>
                  <a:lnTo>
                    <a:pt x="1702066" y="2169659"/>
                  </a:lnTo>
                  <a:lnTo>
                    <a:pt x="1692756" y="2234796"/>
                  </a:lnTo>
                  <a:lnTo>
                    <a:pt x="1677241" y="2301483"/>
                  </a:lnTo>
                  <a:lnTo>
                    <a:pt x="1655519" y="2368170"/>
                  </a:lnTo>
                  <a:lnTo>
                    <a:pt x="1629142" y="2439510"/>
                  </a:lnTo>
                  <a:lnTo>
                    <a:pt x="1595008" y="2513951"/>
                  </a:lnTo>
                  <a:lnTo>
                    <a:pt x="1556219" y="2591495"/>
                  </a:lnTo>
                  <a:lnTo>
                    <a:pt x="1511224" y="2673690"/>
                  </a:lnTo>
                  <a:lnTo>
                    <a:pt x="1458470" y="2758988"/>
                  </a:lnTo>
                  <a:lnTo>
                    <a:pt x="1401062" y="2850489"/>
                  </a:lnTo>
                  <a:lnTo>
                    <a:pt x="1337448" y="2948194"/>
                  </a:lnTo>
                  <a:lnTo>
                    <a:pt x="1404165" y="2910973"/>
                  </a:lnTo>
                  <a:lnTo>
                    <a:pt x="1470883" y="2864447"/>
                  </a:lnTo>
                  <a:lnTo>
                    <a:pt x="1536049" y="2813268"/>
                  </a:lnTo>
                  <a:lnTo>
                    <a:pt x="1599663" y="2754336"/>
                  </a:lnTo>
                  <a:lnTo>
                    <a:pt x="1660174" y="2689199"/>
                  </a:lnTo>
                  <a:lnTo>
                    <a:pt x="1717582" y="2619410"/>
                  </a:lnTo>
                  <a:lnTo>
                    <a:pt x="1771886" y="2544969"/>
                  </a:lnTo>
                  <a:lnTo>
                    <a:pt x="1823088" y="2467425"/>
                  </a:lnTo>
                  <a:lnTo>
                    <a:pt x="1868083" y="2386781"/>
                  </a:lnTo>
                  <a:lnTo>
                    <a:pt x="1908424" y="2303034"/>
                  </a:lnTo>
                  <a:lnTo>
                    <a:pt x="1941007" y="2217736"/>
                  </a:lnTo>
                  <a:lnTo>
                    <a:pt x="1968935" y="2130888"/>
                  </a:lnTo>
                  <a:lnTo>
                    <a:pt x="1989105" y="2044040"/>
                  </a:lnTo>
                  <a:lnTo>
                    <a:pt x="2001518" y="1957191"/>
                  </a:lnTo>
                  <a:lnTo>
                    <a:pt x="2004621" y="1870342"/>
                  </a:lnTo>
                  <a:lnTo>
                    <a:pt x="1999966" y="1786596"/>
                  </a:lnTo>
                  <a:lnTo>
                    <a:pt x="2054270" y="1785045"/>
                  </a:lnTo>
                  <a:lnTo>
                    <a:pt x="2105472" y="1781943"/>
                  </a:lnTo>
                  <a:lnTo>
                    <a:pt x="2156674" y="1774189"/>
                  </a:lnTo>
                  <a:lnTo>
                    <a:pt x="2204772" y="1766435"/>
                  </a:lnTo>
                  <a:lnTo>
                    <a:pt x="2254423" y="1755579"/>
                  </a:lnTo>
                  <a:lnTo>
                    <a:pt x="2299418" y="1741621"/>
                  </a:lnTo>
                  <a:lnTo>
                    <a:pt x="2344413" y="1726113"/>
                  </a:lnTo>
                  <a:lnTo>
                    <a:pt x="2387857" y="1710603"/>
                  </a:lnTo>
                  <a:lnTo>
                    <a:pt x="2428197" y="1690443"/>
                  </a:lnTo>
                  <a:lnTo>
                    <a:pt x="2468538" y="1668730"/>
                  </a:lnTo>
                  <a:lnTo>
                    <a:pt x="2507327" y="1645467"/>
                  </a:lnTo>
                  <a:lnTo>
                    <a:pt x="2543013" y="1620653"/>
                  </a:lnTo>
                  <a:lnTo>
                    <a:pt x="2578699" y="1594289"/>
                  </a:lnTo>
                  <a:lnTo>
                    <a:pt x="2611282" y="1567924"/>
                  </a:lnTo>
                  <a:lnTo>
                    <a:pt x="2673344" y="1507440"/>
                  </a:lnTo>
                  <a:lnTo>
                    <a:pt x="2727650" y="1442304"/>
                  </a:lnTo>
                  <a:lnTo>
                    <a:pt x="2774196" y="1372515"/>
                  </a:lnTo>
                  <a:lnTo>
                    <a:pt x="2812985" y="1298074"/>
                  </a:lnTo>
                  <a:lnTo>
                    <a:pt x="2844017" y="1220530"/>
                  </a:lnTo>
                  <a:lnTo>
                    <a:pt x="2868842" y="1141436"/>
                  </a:lnTo>
                  <a:lnTo>
                    <a:pt x="2884357" y="1059240"/>
                  </a:lnTo>
                  <a:lnTo>
                    <a:pt x="2893667" y="977045"/>
                  </a:lnTo>
                  <a:lnTo>
                    <a:pt x="2893667" y="893298"/>
                  </a:lnTo>
                  <a:lnTo>
                    <a:pt x="2884357" y="809551"/>
                  </a:lnTo>
                  <a:lnTo>
                    <a:pt x="2868842" y="725805"/>
                  </a:lnTo>
                  <a:lnTo>
                    <a:pt x="2842465" y="645160"/>
                  </a:lnTo>
                  <a:lnTo>
                    <a:pt x="2808331" y="564515"/>
                  </a:lnTo>
                  <a:lnTo>
                    <a:pt x="2764887" y="488522"/>
                  </a:lnTo>
                  <a:lnTo>
                    <a:pt x="2738510" y="451302"/>
                  </a:lnTo>
                  <a:lnTo>
                    <a:pt x="2712133" y="414081"/>
                  </a:lnTo>
                  <a:lnTo>
                    <a:pt x="2681103" y="378411"/>
                  </a:lnTo>
                  <a:lnTo>
                    <a:pt x="2650071" y="344292"/>
                  </a:lnTo>
                  <a:lnTo>
                    <a:pt x="2614385" y="310173"/>
                  </a:lnTo>
                  <a:lnTo>
                    <a:pt x="2577148" y="279156"/>
                  </a:lnTo>
                  <a:lnTo>
                    <a:pt x="2538359" y="248138"/>
                  </a:lnTo>
                  <a:lnTo>
                    <a:pt x="2496466" y="218672"/>
                  </a:lnTo>
                  <a:lnTo>
                    <a:pt x="2451471" y="190756"/>
                  </a:lnTo>
                  <a:lnTo>
                    <a:pt x="2404924" y="164392"/>
                  </a:lnTo>
                  <a:lnTo>
                    <a:pt x="2355274" y="139578"/>
                  </a:lnTo>
                  <a:lnTo>
                    <a:pt x="2304072" y="117866"/>
                  </a:lnTo>
                  <a:lnTo>
                    <a:pt x="2249768" y="96153"/>
                  </a:lnTo>
                  <a:lnTo>
                    <a:pt x="2192360" y="75992"/>
                  </a:lnTo>
                  <a:lnTo>
                    <a:pt x="2133401" y="58933"/>
                  </a:lnTo>
                  <a:lnTo>
                    <a:pt x="2071338" y="43424"/>
                  </a:lnTo>
                  <a:lnTo>
                    <a:pt x="2006172" y="31017"/>
                  </a:lnTo>
                  <a:lnTo>
                    <a:pt x="1939455" y="20161"/>
                  </a:lnTo>
                  <a:lnTo>
                    <a:pt x="1869634" y="10856"/>
                  </a:lnTo>
                  <a:lnTo>
                    <a:pt x="1795160" y="4652"/>
                  </a:lnTo>
                  <a:lnTo>
                    <a:pt x="1720685" y="1551"/>
                  </a:lnTo>
                  <a:lnTo>
                    <a:pt x="1641555" y="0"/>
                  </a:lnTo>
                  <a:close/>
                </a:path>
              </a:pathLst>
            </a:custGeom>
            <a:noFill/>
            <a:ln w="30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7" name="Textfeld 4"/>
          <p:cNvSpPr/>
          <p:nvPr/>
        </p:nvSpPr>
        <p:spPr>
          <a:xfrm>
            <a:off x="868320" y="1693800"/>
            <a:ext cx="2746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Verdana"/>
                <a:ea typeface="Arial"/>
              </a:rPr>
              <a:t>Sprich die Worte laut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8" name="Grafik 5" descr="MSOfficePNG(3).png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0" y="2390760"/>
            <a:ext cx="2822400" cy="3625920"/>
          </a:xfrm>
          <a:prstGeom prst="rect">
            <a:avLst/>
          </a:prstGeom>
          <a:ln w="0">
            <a:noFill/>
          </a:ln>
        </p:spPr>
      </p:pic>
      <p:sp>
        <p:nvSpPr>
          <p:cNvPr id="579" name="Rechteck 73"/>
          <p:cNvSpPr/>
          <p:nvPr/>
        </p:nvSpPr>
        <p:spPr>
          <a:xfrm>
            <a:off x="9884880" y="4195800"/>
            <a:ext cx="87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w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Rechteck 35"/>
          <p:cNvSpPr/>
          <p:nvPr/>
        </p:nvSpPr>
        <p:spPr>
          <a:xfrm>
            <a:off x="7754400" y="10717200"/>
            <a:ext cx="95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st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Rechteck 72"/>
          <p:cNvSpPr/>
          <p:nvPr/>
        </p:nvSpPr>
        <p:spPr>
          <a:xfrm>
            <a:off x="7290000" y="7743960"/>
            <a:ext cx="162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schwar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2" name="Picture 2" descr=""/>
          <p:cNvPicPr/>
          <p:nvPr/>
        </p:nvPicPr>
        <p:blipFill>
          <a:blip r:embed="rId2"/>
          <a:stretch/>
        </p:blipFill>
        <p:spPr>
          <a:xfrm>
            <a:off x="10860120" y="8191440"/>
            <a:ext cx="1249200" cy="79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749 -0.02658 C -0.14021 -0.09302 -0.25293 -0.15947 -0.29924 -0.17292 C -0.34555 -0.18636 -0.3257 -0.10694 -0.30535 -0.10725 C -0.28499 -0.10756 -0.19619 -0.16354 -0.1771 -0.17479 E">
                                      <p:cBhvr>
                                        <p:cTn id="212" dur="2000" fill="hold"/>
                                        <p:tgtEl>
                                          <p:spTgt spid="5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path" presetID="0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6718E-006 -1.13196E-006 C 0.01935 -0.00798 0.04288 0.00422 0.06108 0.01313 C 0.08652 0.01188 0.11197 0.01172 0.13741 0.00938 C 0.15433 0.00781 0.16158 -0.02471 0.16947 -0.03753 C 0.17087 -0.05175 0.17431 -0.06489 0.17711 -0.0788 C 0.17494 -0.0971 0.17901 -0.12977 0.16337 -0.14259 C 0.16031 -0.15213 0.15484 -0.15807 0.15115 -0.16698 C 0.14746 -0.17589 0.14377 -0.18684 0.13894 -0.19513 C 0.12647 -0.21655 0.14136 -0.19215 0.12978 -0.20638 C 0.11807 -0.22077 0.11095 -0.24078 0.09924 -0.25516 C 0.08181 -0.27658 0.06744 -0.30488 0.05955 -0.33396 C 0.05904 -0.33959 0.05942 -0.34553 0.05802 -0.35085 C 0.05739 -0.35335 0.0537 -0.35382 0.05344 -0.35648 C 0.05268 -0.36398 0.05421 -0.37149 0.05497 -0.37899 C 0.05611 -0.38947 0.06375 -0.39244 0.06871 -0.39963 C 0.08334 -0.4212 0.09695 -0.42574 0.11909 -0.42965 C 0.12723 -0.43293 0.12927 -0.42965 0.13436 -0.43903 C 0.13321 -0.44888 0.13372 -0.45482 0.12825 -0.46154 E">
                                      <p:cBhvr>
                                        <p:cTn id="216" dur="2000" fill="hold"/>
                                        <p:tgtEl>
                                          <p:spTgt spid="5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0" dur="2000">
                                          <p:stCondLst>
                                            <p:cond delay="200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3999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509 -0.03784 L -0.06984 -0.39963 E">
                                      <p:cBhvr>
                                        <p:cTn id="225" dur="2000" fill="hold"/>
                                        <p:tgtEl>
                                          <p:spTgt spid="5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9" dur="20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2000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str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str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2000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7379 -0.01548 C 0.08702 -0.01813 0.09694 -0.02298 0.11043 -0.02486 C 0.11246 -0.02611 0.11437 -0.02783 0.11653 -0.02861 C 0.1215 -0.03033 0.1318 -0.03236 0.1318 -0.03236 C 0.13575 -0.03471 0.14007 -0.03565 0.14402 -0.03799 C 0.14631 -0.0394 0.14783 -0.04221 0.15012 -0.04362 C 0.15445 -0.04628 0.15954 -0.04659 0.16386 -0.04925 C 0.17799 -0.05785 0.17162 -0.05535 0.18218 -0.05863 C 0.18765 -0.06316 0.19325 -0.06269 0.19898 -0.06613 C 0.20954 -0.07254 0.19694 -0.06785 0.20966 -0.07176 C 0.21463 -0.07583 0.2201 -0.0788 0.22493 -0.08302 C 0.22671 -0.08458 0.22786 -0.08693 0.22951 -0.08865 C 0.23091 -0.09005 0.23257 -0.09115 0.23409 -0.0924 C 0.23969 -0.11288 0.23078 -0.08177 0.23867 -0.10366 C 0.24185 -0.11257 0.24198 -0.11679 0.24325 -0.12617 C 0.24262 -0.13821 0.24414 -0.15056 0.2402 -0.16182 C 0.236 -0.17386 0.23931 -0.16573 0.23257 -0.17308 C 0.22773 -0.17839 0.22239 -0.18339 0.21882 -0.18996 C 0.21781 -0.19184 0.21717 -0.19418 0.21577 -0.19559 C 0.21259 -0.19887 0.20852 -0.20028 0.20508 -0.20309 C 0.19987 -0.21279 0.1986 -0.20732 0.19287 -0.21435 C 0.18155 -0.22827 0.19452 -0.2167 0.18371 -0.22561 C 0.17773 -0.23671 0.17175 -0.24406 0.16386 -0.25375 C 0.15916 -0.25954 0.1533 -0.26298 0.1486 -0.26876 C 0.14491 -0.28221 0.14732 -0.27673 0.14249 -0.28565 C 0.14198 -0.28877 0.1416 -0.2919 0.14096 -0.29503 C 0.14007 -0.30003 0.13791 -0.31004 0.13791 -0.31004 C 0.13842 -0.31692 0.13753 -0.32426 0.13944 -0.33067 C 0.14478 -0.3485 0.14618 -0.34193 0.15318 -0.34944 C 0.17709 -0.37508 0.20687 -0.38524 0.23867 -0.38696 C 0.26564 -0.38837 0.29262 -0.38821 0.31959 -0.38884 C 0.33994 -0.39134 0.3603 -0.39165 0.38066 -0.39446 C 0.39033 -0.40244 0.37926 -0.39446 0.39592 -0.40009 C 0.39809 -0.40087 0.39987 -0.40291 0.40203 -0.40384 C 0.40597 -0.40541 0.41424 -0.4076 0.41424 -0.4076 C 0.41577 -0.40947 0.41692 -0.41197 0.41882 -0.41323 C 0.42837 -0.41995 0.42213 -0.40869 0.43104 -0.42073 C 0.43613 -0.42761 0.44351 -0.44043 0.44783 -0.44887 C 0.45063 -0.45434 0.4561 -0.47014 0.46005 -0.47326 C 0.46157 -0.47451 0.46335 -0.4753 0.46463 -0.47702 C 0.46921 -0.48327 0.47417 -0.4914 0.47684 -0.49953 C 0.47799 -0.50313 0.47989 -0.51079 0.47989 -0.51079 C 0.47862 -0.52845 0.48231 -0.53486 0.46921 -0.53893 C 0.45699 -0.54894 0.47175 -0.5358 0.46157 -0.54831 C 0.4603 -0.54987 0.45699 -0.55206 0.45699 -0.55206 E">
                                      <p:cBhvr>
                                        <p:cTn id="236" dur="2000" fill="hold"/>
                                        <p:tgtEl>
                                          <p:spTgt spid="5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0" dur="20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613 0.03252 C 0.02354 0.03768 0.0159 0.02174 0.00865 0.01189 C 0.00025 0.00063 -0.00713 -0.00594 -0.0173 -0.01438 C -0.01947 -0.0161 -0.0201 -0.0197 -0.02188 -0.02188 C -0.02316 -0.02345 -0.02494 -0.02439 -0.02646 -0.02564 C -0.02837 -0.02908 -0.02901 -0.03345 -0.03104 -0.03689 C -0.0327 -0.03971 -0.03537 -0.04158 -0.03715 -0.0444 C -0.03944 -0.04799 -0.04326 -0.05566 -0.04326 -0.05566 C -0.04377 -0.05816 -0.04402 -0.06081 -0.04479 -0.06316 C -0.04606 -0.06707 -0.04835 -0.07051 -0.04937 -0.07442 C -0.05153 -0.08223 -0.05178 -0.09083 -0.05395 -0.09881 C -0.05293 -0.10319 -0.05395 -0.10944 -0.05089 -0.11194 C -0.04669 -0.11538 -0.04071 -0.11429 -0.03562 -0.11382 C -0.0243 -0.11288 -0.01323 -0.11006 -0.00204 -0.10819 C 0.00852 -0.09959 0.00369 -0.10209 0.0117 -0.09881 C 0.01361 -0.09693 0.03117 -0.08051 0.0346 -0.07629 C 0.03893 -0.07098 0.04249 -0.06472 0.04682 -0.05941 C 0.0486 -0.05722 0.05114 -0.05612 0.05292 -0.05378 C 0.05687 -0.04846 0.06005 -0.04252 0.06361 -0.03689 C 0.06717 -0.03127 0.07583 -0.02188 0.07583 -0.02188 C 0.07875 -0.01094 0.07506 -0.02095 0.08193 -0.0125 C 0.08499 -0.00875 0.08651 -0.00312 0.08957 0.00063 C 0.09822 0.01126 0.11056 0.01767 0.1201 0.0269 C 0.12723 0.03362 0.12812 0.03643 0.13689 0.04003 C 0.14198 0.04941 0.15114 0.05426 0.1598 0.05691 C 0.17659 0.07239 0.20496 0.08005 0.22544 0.08318 C 0.27583 0.08068 0.32633 0.08052 0.37659 0.07568 C 0.39529 0.07396 0.40929 0.05989 0.42697 0.05504 C 0.44147 0.04488 0.45776 0.04175 0.47277 0.03252 C 0.47964 0.02158 0.48448 0.01142 0.49109 0.00063 C 0.49211 -0.00312 0.49338 -0.00672 0.49415 -0.01063 C 0.49593 -0.02001 0.49873 -0.03877 0.49873 -0.03877 C 0.49822 -0.09068 0.5 -0.14274 0.4972 -0.19449 C 0.49695 -0.20043 0.49147 -0.20403 0.48957 -0.2095 C 0.48791 -0.21419 0.48817 -0.21982 0.48651 -0.22451 C 0.48295 -0.23483 0.47837 -0.24452 0.4743 -0.25453 C 0.46374 -0.28048 0.44822 -0.29971 0.43155 -0.3202 C 0.42557 -0.32754 0.42099 -0.33771 0.41476 -0.34459 C 0.40191 -0.35897 0.3846 -0.36851 0.36896 -0.37648 C 0.36616 -0.37789 0.36285 -0.37758 0.3598 -0.37836 C 0.33664 -0.38492 0.31488 -0.38899 0.29109 -0.39149 C 0.27354 -0.39774 0.25292 -0.39993 0.23613 -0.38961 E">
                                      <p:cBhvr>
                                        <p:cTn id="245" dur="2000" fill="hold"/>
                                        <p:tgtEl>
                                          <p:spTgt spid="5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9.66921E-007 -4.19012E-006 C -0.00152 -0.0025 -0.0033 -0.00484 -0.00458 -0.0075 C -0.00534 -0.00922 -0.00508 -0.01157 -0.0061 -0.01313 C -0.00776 -0.01547 -0.01043 -0.01657 -0.01221 -0.01876 C -0.01348 -0.02032 -0.01399 -0.02267 -0.01526 -0.02439 C -0.01526 -0.02439 -0.02671 -0.03846 -0.029 -0.04127 C -0.03473 -0.04831 -0.03905 -0.04878 -0.0458 -0.05253 C -0.06234 -0.0616 -0.04084 -0.05018 -0.05801 -0.06191 C -0.06272 -0.06519 -0.06666 -0.06597 -0.07175 -0.06754 C -0.08193 -0.07504 -0.09313 -0.0802 -0.10381 -0.0863 C -0.11234 -0.09115 -0.12251 -0.09224 -0.12977 -0.09943 C -0.13778 -0.10725 -0.14656 -0.11444 -0.15572 -0.12007 C -0.16666 -0.12679 -0.16043 -0.12038 -0.17099 -0.12945 C -0.18193 -0.13883 -0.19211 -0.14962 -0.20458 -0.15572 C -0.20877 -0.16338 -0.21335 -0.16354 -0.21984 -0.16885 C -0.22837 -0.17589 -0.23562 -0.18261 -0.2458 -0.18574 C -0.24987 -0.18886 -0.25343 -0.19324 -0.25801 -0.19512 C -0.26234 -0.19684 -0.27061 -0.19996 -0.27481 -0.20262 C -0.28524 -0.20903 -0.27226 -0.20466 -0.28702 -0.20825 C -0.30572 -0.22201 -0.3243 -0.22154 -0.3374 -0.24577 C -0.33689 -0.25453 -0.33702 -0.26344 -0.33587 -0.27204 C -0.33447 -0.2822 -0.32633 -0.28861 -0.32061 -0.29456 C -0.30992 -0.3055 -0.29898 -0.3105 -0.28702 -0.31895 C -0.28129 -0.32301 -0.27773 -0.32833 -0.27175 -0.33208 C -0.26844 -0.33818 -0.2659 -0.34474 -0.26259 -0.35084 C -0.26132 -0.36163 -0.25928 -0.37054 -0.25648 -0.38086 C -0.25598 -0.38274 -0.25547 -0.38461 -0.25496 -0.38649 C -0.25445 -0.38836 -0.25343 -0.39212 -0.25343 -0.39212 E">
                                      <p:cBhvr>
                                        <p:cTn id="261" dur="2000" fill="hold"/>
                                        <p:tgtEl>
                                          <p:spTgt spid="5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5" dur="500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99491E-006 1.72608E-006 C -0.01425 -0.00438 -0.02977 -0.00641 -0.04427 -0.00938 C -0.04835 -0.01125 -0.05229 -0.01344 -0.05649 -0.01501 C -0.05891 -0.01594 -0.0617 -0.01548 -0.06412 -0.01688 C -0.09504 -0.03439 -0.06603 -0.02204 -0.08092 -0.02814 C -0.09504 -0.04549 -0.07748 -0.02579 -0.1084 -0.0469 C -0.12112 -0.05566 -0.13295 -0.0616 -0.14656 -0.06754 C -0.17659 -0.08052 -0.14758 -0.06879 -0.17557 -0.08443 C -0.18588 -0.09021 -0.19822 -0.0949 -0.20916 -0.09943 C -0.22735 -0.11616 -0.2042 -0.09646 -0.22137 -0.10694 C -0.22366 -0.10835 -0.22532 -0.111 -0.22748 -0.11257 C -0.23117 -0.11507 -0.24746 -0.12132 -0.24885 -0.12195 C -0.25356 -0.12382 -0.25827 -0.12648 -0.26259 -0.12945 C -0.26578 -0.13164 -0.26819 -0.13571 -0.27176 -0.13696 C -0.2799 -0.13977 -0.28715 -0.1418 -0.29466 -0.14634 C -0.29822 -0.15291 -0.3028 -0.15541 -0.30687 -0.16135 C -0.31132 -0.16807 -0.31209 -0.17667 -0.31603 -0.18386 C -0.32036 -0.20544 -0.31425 -0.17886 -0.32061 -0.197 C -0.32137 -0.19934 -0.32214 -0.2045 -0.32214 -0.2045 E">
                                      <p:cBhvr>
                                        <p:cTn id="271" dur="2000" fill="hold"/>
                                        <p:tgtEl>
                                          <p:spTgt spid="5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5" dur="1000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/>
                                        <p:tgtEl>
                                          <p:spTgt spid="5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78" dur="10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01781E-007 2.93934E-006 C 0.02927 0.00406 0.02672 -0.00094 0.04428 0.02064 C 0.04619 0.02767 0.05 0.03236 0.05191 0.0394 C 0.05217 0.05566 0.04542 0.13977 0.06107 0.17448 C 0.06438 0.18183 0.07138 0.18777 0.07634 0.19325 C 0.09326 0.21216 0.08219 0.20435 0.09466 0.21201 C 0.10611 0.23311 0.12596 0.24437 0.14352 0.25516 C 0.15344 0.26126 0.16145 0.26939 0.17252 0.27204 C 0.18486 0.28346 0.17227 0.27392 0.19542 0.27955 C 0.2028 0.28143 0.21235 0.2858 0.21985 0.28893 C 0.22952 0.2883 0.23919 0.28846 0.24886 0.28705 C 0.25408 0.28627 0.25891 0.28268 0.26413 0.28143 C 0.26718 0.27955 0.27011 0.2772 0.27329 0.2758 C 0.2757 0.2747 0.2785 0.27517 0.28092 0.27392 C 0.28423 0.27204 0.2869 0.2686 0.29008 0.26642 C 0.30344 0.25735 0.28232 0.27674 0.30229 0.25891 C 0.30547 0.2561 0.30827 0.2525 0.31145 0.24953 C 0.31285 0.24812 0.31451 0.24703 0.31603 0.24578 C 0.31807 0.24203 0.32011 0.23827 0.32214 0.23452 C 0.33181 0.21685 0.31871 0.1984 0.30993 0.18762 C 0.30662 0.17558 0.31095 0.18871 0.30382 0.17636 C 0.29377 0.15901 0.30815 0.17792 0.29619 0.16323 C 0.29262 0.15025 0.27863 0.13602 0.27176 0.12758 C 0.26095 0.11429 0.24975 0.10209 0.24123 0.0863 C 0.23919 0.06911 0.23308 0.05644 0.22596 0.04128 C 0.2271 0.02502 0.22316 0.0061 0.23054 -0.00751 C 0.23894 -0.02298 0.25815 -0.02752 0.27176 -0.02814 C 0.29568 -0.02924 0.3196 -0.02939 0.34352 -0.03002 C 0.34504 -0.03252 0.34797 -0.0344 0.3481 -0.03752 C 0.34899 -0.05816 0.34746 -0.0788 0.34657 -0.09944 C 0.34644 -0.10194 0.34631 -0.10491 0.34504 -0.10694 C 0.34352 -0.10944 0.34097 -0.11069 0.33894 -0.11257 C 0.33588 -0.1157 0.33257 -0.11851 0.32978 -0.12195 C 0.32799 -0.12414 0.32723 -0.12758 0.32519 -0.12946 C 0.31654 -0.13727 0.31362 -0.13571 0.30535 -0.14071 C 0.29084 -0.14963 0.30433 -0.14259 0.29008 -0.15572 C 0.28346 -0.16182 0.27354 -0.1637 0.26565 -0.1651 C 0.25535 -0.16932 0.24581 -0.1737 0.23512 -0.17636 C 0.22532 -0.1823 0.21705 -0.18402 0.20611 -0.18574 C 0.19453 -0.19278 0.20229 -0.18949 0.18168 -0.18949 E">
                                      <p:cBhvr>
                                        <p:cTn id="283" dur="2000" fill="hold"/>
                                        <p:tgtEl>
                                          <p:spTgt spid="5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4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486E-006 4.79675E-006 C -0.04618 -0.00157 -0.05102 0.00094 -0.08549 -0.01314 C -0.0916 -0.02439 -0.10292 -0.02424 -0.11298 -0.02627 C -0.12748 -0.03721 -0.14211 -0.04894 -0.1542 -0.06379 C -0.15598 -0.06598 -0.15687 -0.06926 -0.15878 -0.0713 C -0.17188 -0.08568 -0.18791 -0.0924 -0.19389 -0.11445 C -0.19338 -0.12633 -0.19415 -0.13837 -0.19237 -0.1501 C -0.19173 -0.15416 -0.1832 -0.15572 -0.1832 -0.15572 E">
                                      <p:cBhvr>
                                        <p:cTn id="293" dur="2000" fill="hold"/>
                                        <p:tgtEl>
                                          <p:spTgt spid="5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7" dur="500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99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588 0.04488 C 0.03537 0.03612 0.03703 0.02674 0.03436 0.01861 C 0.03117 0.00907 0.02494 0.00141 0.01909 -0.00578 C 0.014 -0.01204 0.00942 -0.01891 0.00382 -0.02454 C -0.00598 -0.03439 -0.01908 -0.04518 -0.02824 -0.05644 C -0.0472 -0.07973 -0.06692 -0.10194 -0.08473 -0.12586 C -0.09211 -0.13571 -0.10254 -0.1454 -0.10763 -0.15775 C -0.11234 -0.16932 -0.11475 -0.1812 -0.11832 -0.1934 C -0.12302 -0.20903 -0.12417 -0.2095 -0.12595 -0.22717 C -0.12519 -0.24906 -0.13104 -0.26344 -0.12137 -0.27783 C -0.11424 -0.2883 -0.10776 -0.28471 -0.09694 -0.28908 C -0.09389 -0.29033 -0.08778 -0.29284 -0.08778 -0.29268 C -0.08473 -0.30394 -0.08905 -0.33052 -0.08015 -0.33786 C -0.07837 -0.33927 -0.07608 -0.33911 -0.07404 -0.33974 C -0.07124 -0.34209 -0.06768 -0.34302 -0.06488 -0.34537 C -0.0631 -0.34678 -0.06195 -0.34928 -0.0603 -0.351 C -0.0589 -0.3524 -0.05737 -0.35381 -0.05572 -0.35475 C -0.05381 -0.35569 -0.04961 -0.35663 -0.04961 -0.35647 E">
                                      <p:cBhvr>
                                        <p:cTn id="304" dur="2000" fill="hold"/>
                                        <p:tgtEl>
                                          <p:spTgt spid="5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8" dur="1000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10" dur="10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328 0.03377 C 0.02709 0.04784 0.02582 0.05691 0.02786 0.07317 C 0.02888 0.08083 0.03091 0.08818 0.03244 0.09569 C 0.03562 0.14306 0.04287 0.18824 0.08129 0.21013 C 0.09274 0.21654 0.08931 0.21514 0.09961 0.21764 C 0.1159 0.21701 0.13231 0.21779 0.14847 0.21576 C 0.1519 0.21529 0.15445 0.2117 0.15763 0.21013 C 0.16361 0.20732 0.17595 0.20263 0.17595 0.20263 C 0.19007 0.18527 0.19821 0.17871 0.20496 0.15385 C 0.20877 0.1207 0.20419 0.1637 0.20801 0.09756 C 0.20852 0.08881 0.21259 0.08318 0.21412 0.07505 C 0.21526 0.06879 0.21615 0.06254 0.21717 0.05629 C 0.21615 0.04315 0.21692 0.02971 0.21412 0.01689 C 0.21272 0.01032 0.20839 0.00532 0.20496 -5.62852E-007 C 0.19605 -0.01376 0.18524 -0.03033 0.1729 -0.0394 C 0.16654 -0.04987 0.16056 -0.05863 0.15 -0.06191 C 0.14109 -0.07286 0.13282 -0.0849 0.12404 -0.09568 C 0.11946 -0.10131 0.11399 -0.10585 0.1103 -0.11257 C 0.10839 -0.11601 0.1075 -0.12023 0.10572 -0.12383 C 0.09516 -0.14478 0.09033 -0.15385 0.08587 -0.17824 C 0.08867 -0.21529 0.08397 -0.18855 0.09045 -0.2045 C 0.09122 -0.20622 0.09084 -0.20872 0.09198 -0.21013 C 0.09313 -0.21154 0.09516 -0.21107 0.09656 -0.21201 C 0.09974 -0.2142 0.10572 -0.21951 0.10572 -0.21951 C 0.1089 -0.2253 0.11145 -0.22764 0.11641 -0.23077 E">
                                      <p:cBhvr>
                                        <p:cTn id="315" dur="2000" fill="hold"/>
                                        <p:tgtEl>
                                          <p:spTgt spid="5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9" dur="10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1000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03562E-006 6.19137E-007 C 0.01743 0.00532 0.00535 0.0308 0.00306 0.05066 C 0.0014 0.06582 -0.00407 0.0752 -0.01068 0.08818 C -0.01577 0.11304 -0.02748 0.1293 -0.03358 0.15197 C -0.03766 0.16714 -0.04414 0.17949 -0.05038 0.19325 C -0.05165 0.19622 -0.05178 0.19981 -0.05343 0.20263 C -0.05445 0.2045 -0.05661 0.20497 -0.05801 0.20638 C -0.06285 0.21154 -0.06832 0.22076 -0.07481 0.22326 C -0.07977 0.22514 -0.09007 0.22702 -0.09007 0.22702 C -0.09885 0.23421 -0.11361 0.23765 -0.11755 0.22326 C -0.11705 0.21076 -0.11844 0.19794 -0.11603 0.18574 C -0.11476 0.17964 -0.10992 0.17573 -0.10687 0.17073 C -0.10101 0.16151 -0.09605 0.15338 -0.08855 0.14634 C -0.08753 0.14321 -0.08727 0.13946 -0.08549 0.13696 C -0.08308 0.13352 -0.07939 0.13196 -0.07633 0.12946 C -0.07392 0.12742 -0.07252 0.12398 -0.07023 0.12195 C -0.06895 0.12086 -0.06717 0.1207 -0.06565 0.12007 C -0.01666 0.07505 0.08232 0.08709 0.1313 0.0863 C 0.14453 0.08443 0.15776 0.08224 0.171 0.08068 C 0.19949 0.06895 0.15916 0.08474 0.19084 0.07505 C 0.20471 0.07083 0.21527 0.05722 0.22278 0.04315 C 0.22418 0.03315 0.22685 0.0247 0.22901 0.01501 C 0.23016 -0.00328 0.23257 -0.0197 0.23512 -0.03752 C 0.2341 -0.06692 0.23385 -0.09631 0.23206 -0.1257 C 0.23194 -0.12789 0.2299 -0.1293 0.22901 -0.13133 C 0.22494 -0.14024 0.2201 -0.14587 0.21527 -0.15385 C 0.20547 -0.16964 0.20115 -0.18934 0.19084 -0.2045 C 0.1855 -0.21232 0.18626 -0.20935 0.17863 -0.21576 C 0.1743 -0.21936 0.17049 -0.22326 0.16642 -0.22702 C 0.16438 -0.22889 0.16158 -0.22999 0.16031 -0.23265 C 0.15916 -0.23452 0.15853 -0.23671 0.15725 -0.23827 C 0.15128 -0.24547 0.14326 -0.24984 0.13741 -0.25704 E">
                                      <p:cBhvr>
                                        <p:cTn id="326" dur="2000" fill="hold"/>
                                        <p:tgtEl>
                                          <p:spTgt spid="5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0" dur="5000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0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09669E-006 1.25078E-008 C -0.02392 -0.00125 -0.04326 -0.0025 -0.06565 -0.00938 C -0.12048 -0.00797 -0.17456 -0.02455 -0.22443 1.25078E-008 C -0.23104 0.00813 -0.24275 0.02627 -0.24275 0.02627 C -0.24326 0.02939 -0.24338 0.03268 -0.24428 0.03565 C -0.24593 0.04081 -0.25038 0.05066 -0.25038 0.05066 C -0.25127 0.06379 -0.25496 0.07692 -0.25344 0.09006 C -0.25076 0.1132 -0.23982 0.1318 -0.22748 0.14822 C -0.21514 0.16479 -0.20318 0.18433 -0.18779 0.197 C -0.1813 0.20231 -0.1813 0.19966 -0.17405 0.2045 C -0.15636 0.21639 -0.13779 0.22483 -0.11908 0.23452 C -0.08639 0.25141 -0.07137 0.26079 -0.03817 0.27017 C -0.01361 0.28533 0.01183 0.29409 0.03817 0.30394 C 0.04326 0.30582 0.04809 0.30894 0.05343 0.30957 C 0.06463 0.31082 0.08702 0.31332 0.08702 0.31332 C 0.15992 0.3313 0.27735 0.31754 0.32824 0.31707 C 0.3313 0.31332 0.3355 0.31051 0.3374 0.30582 C 0.34071 0.29769 0.34542 0.29002 0.34809 0.28143 C 0.35331 0.26423 0.34427 0.28487 0.3542 0.26454 C 0.36272 0.22248 0.35649 0.16792 0.3542 0.13133 C 0.35331 0.1171 0.34148 0.10538 0.33435 0.09568 C 0.33168 0.09209 0.32913 0.08834 0.32672 0.08443 C 0.32455 0.08083 0.32303 0.07661 0.32061 0.07317 C 0.31158 0.06066 0.30127 0.04941 0.2916 0.03752 C 0.27888 0.02189 0.26336 0.00969 0.25038 -0.00563 C 0.24109 -0.01673 0.23219 -0.0283 0.2229 -0.0394 C 0.21145 -0.053 0.19771 -0.06551 0.18779 -0.08068 C 0.18295 -0.08802 0.18028 -0.09615 0.17405 -0.10131 C 0.16972 -0.1121 0.16259 -0.11914 0.15572 -0.12758 C 0.14847 -0.13649 0.14008 -0.15072 0.13435 -0.15947 C 0.11438 -0.18965 0.13715 -0.15478 0.12519 -0.17448 C 0.12176 -0.18011 0.1145 -0.19137 0.1145 -0.19137 C 0.1098 -0.20857 0.10191 -0.21998 0.0916 -0.23265 E">
                                      <p:cBhvr>
                                        <p:cTn id="336" dur="2000" fill="hold"/>
                                        <p:tgtEl>
                                          <p:spTgt spid="5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0" dur="20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2000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str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str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2000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904 -0.03049 C 0.03601 -0.03518 0.01553 -0.02892 -0.00661 -0.02486 C -0.02061 -0.0222 -0.03524 -0.02111 -0.04936 -0.01923 C -0.06564 -0.02173 -0.08193 -0.02392 -0.09821 -0.02673 C -0.10559 -0.02798 -0.10496 -0.03361 -0.11501 -0.03611 C -0.11755 -0.03799 -0.12023 -0.03955 -0.12264 -0.04174 C -0.12442 -0.04331 -0.12544 -0.04596 -0.12722 -0.04737 C -0.13308 -0.05222 -0.14554 -0.06051 -0.14554 -0.06051 C -0.14911 -0.06613 -0.15267 -0.07176 -0.15623 -0.07739 C -0.15776 -0.07989 -0.16081 -0.0849 -0.16081 -0.0849 C -0.17137 -0.12398 -0.16488 -0.16088 -0.16234 -0.20122 C -0.16259 -0.21638 -0.15445 -0.28909 -0.17455 -0.31379 C -0.1771 -0.32317 -0.18206 -0.32677 -0.18676 -0.33443 C -0.18816 -0.33662 -0.18855 -0.33959 -0.18982 -0.34193 C -0.19313 -0.34772 -0.19796 -0.35381 -0.20203 -0.35882 C -0.20254 -0.36069 -0.20241 -0.36304 -0.20356 -0.36444 C -0.2061 -0.36757 -0.21272 -0.37195 -0.21272 -0.37195 C -0.21374 -0.37398 -0.21768 -0.38008 -0.2173 -0.38321 C -0.21654 -0.38852 -0.21246 -0.38977 -0.20967 -0.39259 C -0.20241 -0.39994 -0.19796 -0.41072 -0.19134 -0.41885 E">
                                      <p:cBhvr>
                                        <p:cTn id="347" dur="2000" fill="hold"/>
                                        <p:tgtEl>
                                          <p:spTgt spid="5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1" dur="5000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0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03053E-006 1.62602E-007 C -0.00153 0.00126 -0.00293 0.00282 -0.00459 0.00376 C -0.00751 0.00532 -0.01375 0.00751 -0.01375 0.00751 C -0.04937 0.00688 -0.08499 0.00751 -0.12062 0.00563 C -0.13092 0.00501 -0.15115 1.62602E-007 -0.15115 1.62602E-007 C -0.17023 -0.01172 -0.18996 -0.01141 -0.21069 -0.01501 C -0.21973 -0.02048 -0.21744 -0.02251 -0.22291 -0.03377 C -0.22342 -0.03814 -0.22367 -0.04252 -0.22443 -0.0469 C -0.22469 -0.04878 -0.22609 -0.0505 -0.22596 -0.05253 C -0.22507 -0.06644 -0.22342 -0.0802 -0.22138 -0.0938 C -0.21769 -0.11835 -0.18919 -0.12976 -0.17253 -0.1332 C -0.128 -0.13133 -0.08079 -0.13399 -0.03665 -0.12195 C -0.01502 -0.12289 0.02608 -0.12101 0.04885 -0.13508 C 0.05623 -0.13961 0.06284 -0.14556 0.07022 -0.15009 C 0.07264 -0.15462 0.07608 -0.15838 0.07786 -0.16322 C 0.08002 -0.16916 0.08078 -0.17573 0.08244 -0.18198 C 0.08193 -0.19824 0.08218 -0.2145 0.08091 -0.23076 C 0.08053 -0.23561 0.0734 -0.24499 0.07175 -0.24765 C 0.05445 -0.27611 0.03129 -0.29455 0.00457 -0.30769 C -0.01324 -0.30706 -0.03105 -0.30738 -0.04886 -0.30581 C -0.06451 -0.30456 -0.0598 -0.30143 -0.07329 -0.29643 C -0.09339 -0.28893 -0.11197 -0.28314 -0.13283 -0.28142 C -0.17113 -0.26798 -0.21998 -0.27673 -0.2626 -0.27204 C -0.28003 -0.26672 -0.29263 -0.26579 -0.31146 -0.26454 C -0.33041 -0.26157 -0.34683 -0.25828 -0.36642 -0.25703 C -0.39148 -0.25265 -0.40955 -0.24874 -0.4397 -0.25703 C -0.44899 -0.25953 -0.43919 -0.27079 -0.43665 -0.27392 E">
                                      <p:cBhvr>
                                        <p:cTn id="357" dur="2000" fill="hold"/>
                                        <p:tgtEl>
                                          <p:spTgt spid="5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1" dur="1000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3" dur="10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1374E-006 -3.57098E-006 C -0.01005 0.00172 -0.01883 0.00422 -0.029 0.00563 C -0.03206 0.00688 -0.03498 0.00938 -0.03816 0.00938 C -0.06208 0.00938 -0.086 0.00782 -0.10992 0.00563 C -0.12277 0.00438 -0.13206 -0.00844 -0.14351 -0.01313 C -0.14974 -0.02079 -0.15585 -0.02314 -0.16335 -0.02814 C -0.18244 -0.04096 -0.16272 -0.03095 -0.18168 -0.04127 C -0.18765 -0.04456 -0.19402 -0.04518 -0.2 -0.04878 C -0.20801 -0.05378 -0.21552 -0.05925 -0.22442 -0.06191 C -0.24185 -0.07536 -0.25776 -0.09115 -0.2748 -0.10506 C -0.28702 -0.11507 -0.30089 -0.12132 -0.31297 -0.13133 C -0.31564 -0.13352 -0.31832 -0.13602 -0.32061 -0.13883 C -0.32188 -0.1404 -0.32226 -0.14305 -0.32366 -0.14446 C -0.32544 -0.14618 -0.32799 -0.14649 -0.32977 -0.14821 C -0.33765 -0.15619 -0.34631 -0.16604 -0.34961 -0.17823 C -0.3486 -0.1923 -0.34949 -0.19918 -0.34503 -0.21013 E">
                                      <p:cBhvr>
                                        <p:cTn id="368" dur="2000" fill="hold"/>
                                        <p:tgtEl>
                                          <p:spTgt spid="5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2" dur="1000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4" dur="1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56234E-007 2.08881E-006 C 0.00204 0.00062 0.00433 0.00047 0.00611 0.00187 C 0.01069 0.00562 0.00827 0.01 0.01069 0.01501 C 0.0117 0.01735 0.01374 0.01876 0.01527 0.02063 C 0.01756 0.03439 0.0201 0.04831 0.0229 0.06191 C 0.02455 0.06988 0.02863 0.07661 0.03053 0.08442 C 0.0313 0.08755 0.03079 0.09099 0.03206 0.0938 C 0.03473 0.09959 0.03969 0.10334 0.04275 0.10881 C 0.04733 0.1171 0.05064 0.12601 0.05649 0.1332 C 0.05827 0.13539 0.06081 0.13664 0.0626 0.13883 C 0.06387 0.1404 0.06425 0.14305 0.06565 0.14446 C 0.06743 0.14618 0.06997 0.14649 0.07176 0.14821 C 0.08308 0.15869 0.07226 0.154 0.08397 0.15759 C 0.09529 0.16807 0.08435 0.15963 0.09771 0.1651 C 0.10763 0.16916 0.11641 0.17385 0.12672 0.17636 C 0.20929 0.17448 0.19962 0.19778 0.22748 0.14634 C 0.22697 0.13633 0.22723 0.12617 0.22595 0.11632 C 0.22494 0.10756 0.21349 0.10053 0.20916 0.09568 C 0.19593 0.08114 0.17748 0.0616 0.16031 0.05628 C 0.15509 0.04674 0.13944 0.03392 0.12977 0.03001 C 0.11349 0.01501 0.13333 0.03439 0.11908 0.01688 C 0.09873 -0.00813 0.07684 -0.03331 0.05496 -0.05629 C 0.04644 -0.06536 0.0341 -0.07271 0.02748 -0.08443 C 0.01412 -0.10788 0.01094 -0.13431 0.00611 -0.16135 C 0.00789 -0.1834 0.00331 -0.20904 0.01374 -0.22702 C 0.01641 -0.23171 0.02112 -0.23421 0.02443 -0.23828 C 0.02723 -0.24875 0.03664 -0.25423 0.04427 -0.25892 C 0.0486 -0.26157 0.05165 -0.26611 0.05496 -0.27017 E">
                                      <p:cBhvr>
                                        <p:cTn id="379" dur="2000" fill="hold"/>
                                        <p:tgtEl>
                                          <p:spTgt spid="5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3" dur="500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9.41476E-007 2.35772E-006 C 0.00305 0.00062 0.00649 -0.00016 0.00916 0.00187 C 0.01896 0.00922 0.02023 0.01923 0.02748 0.02814 C 0.03244 0.05269 0.02456 0.01892 0.03359 0.04127 C 0.03473 0.04409 0.03435 0.04768 0.03511 0.05065 C 0.0374 0.05894 0.04173 0.06676 0.04428 0.07504 C 0.04555 0.07927 0.04618 0.0838 0.04733 0.08818 C 0.04682 0.09693 0.04847 0.10631 0.0458 0.11444 C 0.04478 0.11741 0.04071 0.11632 0.03817 0.11632 C 0.02545 0.11632 0.01272 0.11507 9.41476E-007 0.11444 C -0.007 0.11163 -0.01489 0.11132 -0.02137 0.10694 C -0.05051 0.08708 -0.02557 0.09459 -0.04427 0.09005 C -0.05509 0.08208 -0.06705 0.07614 -0.07939 0.07317 C -0.08295 0.07442 -0.08868 0.0727 -0.09008 0.07692 C -0.09351 0.0874 -0.09109 0.09943 -0.0916 0.11069 C -0.09198 0.11898 -0.09351 0.14915 -0.09466 0.15947 C -0.09746 0.1848 -0.11107 0.21138 -0.12366 0.23077 C -0.12621 0.23452 -0.12812 0.23905 -0.1313 0.24202 C -0.13333 0.2439 -0.13562 0.24546 -0.1374 0.24765 C -0.15 0.26313 -0.15891 0.27579 -0.1771 0.28142 C -0.19249 0.29284 -0.17646 0.28252 -0.19389 0.28893 C -0.19606 0.28971 -0.19784 0.29174 -0.2 0.29268 C -0.2117 0.29753 -0.22621 0.2969 -0.23817 0.29831 C -0.28448 0.29362 -0.28995 0.30003 -0.32061 0.27579 C -0.36768 0.23858 -0.30076 0.29096 -0.33893 0.25703 C -0.34517 0.2514 -0.35878 0.24202 -0.35878 0.24202 C -0.36387 0.23327 -0.36896 0.22451 -0.37405 0.21576 C -0.37557 0.21326 -0.37863 0.20825 -0.37863 0.20825 C -0.38092 0.19418 -0.37977 0.17917 -0.3771 0.1651 C -0.37634 0.16119 -0.37506 0.1576 -0.37405 0.15384 C -0.37354 0.15197 -0.37252 0.14822 -0.37252 0.14822 C -0.37112 0.13446 -0.3701 0.13164 -0.36641 0.12007 C -0.36527 0.11648 -0.36336 0.10882 -0.36336 0.10882 C -0.36565 0.09787 -0.36959 0.09302 -0.3771 0.0863 C -0.38003 0.08364 -0.38397 0.08239 -0.38626 0.0788 C -0.39504 0.06535 -0.40916 0.053 -0.4229 0.04878 C -0.4313 0.0419 -0.45522 0.02595 -0.46107 0.01876 C -0.46743 0.01094 -0.46349 0.0136 -0.47328 0.01125 C -0.47977 -0.00485 -0.47226 0.01063 -0.48092 2.35772E-006 C -0.48282 -0.00235 -0.48677 -0.01001 -0.48855 -0.01314 C -0.48702 -0.02439 -0.48613 -0.03581 -0.48397 -0.04691 C -0.48257 -0.05426 -0.47468 -0.05707 -0.47023 -0.06004 C -0.46221 -0.06551 -0.45407 -0.06817 -0.4458 -0.07317 C -0.44287 -0.08396 -0.43969 -0.09537 -0.43969 -0.10694 E">
                                      <p:cBhvr>
                                        <p:cTn id="389" dur="2000" fill="hold"/>
                                        <p:tgtEl>
                                          <p:spTgt spid="5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3" dur="500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5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5827E-006 -3.20826E-006 C 0.00801 0.00328 0.0145 0.00735 0.0229 0.00938 C 0.03435 0.01986 0.02303 0.01126 0.03817 0.01689 C 0.04033 0.01767 0.04211 0.0197 0.04427 0.02064 C 0.05445 0.02486 0.06577 0.02658 0.07633 0.02814 C 0.0916 0.02752 0.10687 0.02736 0.12213 0.02627 C 0.12468 0.02611 0.12748 0.02595 0.12977 0.02439 C 0.13613 0.02001 0.13778 0.01423 0.14504 0.01126 C 0.1575 -0.00406 0.15267 0.00313 0.1603 -0.00938 C 0.16476 -0.03127 0.16476 -0.04847 0.16641 -0.07317 C 0.1659 -0.0838 0.16755 -0.0949 0.16488 -0.10507 C 0.16272 -0.1132 0.15623 -0.11835 0.15267 -0.1257 C 0.14516 -0.14118 0.15012 -0.13258 0.13588 -0.15009 C 0.1332 -0.15447 0.13155 -0.15979 0.12824 -0.16323 C 0.12646 -0.16495 0.12404 -0.16542 0.12213 -0.16698 C 0.11743 -0.1712 0.11043 -0.17839 0.10687 -0.18386 C 0.10458 -0.18746 0.1028 -0.19137 0.10076 -0.19512 C 0.09974 -0.197 0.09771 -0.20075 0.09771 -0.20075 C 0.09593 -0.20966 0.09338 -0.2181 0.0916 -0.22702 C 0.09262 -0.23515 0.093 -0.24343 0.09465 -0.25141 C 0.0958 -0.25672 0.09911 -0.25797 0.10229 -0.26079 C 0.11208 -0.26986 0.11883 -0.27361 0.1313 -0.2758 C 0.13397 -0.27564 0.17264 -0.27611 0.18626 -0.26829 C 0.19058 -0.26579 0.19415 -0.26157 0.19847 -0.25891 C 0.21056 -0.25141 0.20432 -0.25891 0.21526 -0.25141 C 0.22939 -0.24171 0.21387 -0.25047 0.22595 -0.23827 C 0.22964 -0.23452 0.23422 -0.23218 0.23817 -0.22889 C 0.24262 -0.22514 0.24567 -0.21889 0.25038 -0.21576 C 0.25929 -0.20982 0.26997 -0.20544 0.27939 -0.20075 C 0.29211 -0.20138 0.30496 -0.20044 0.31755 -0.20263 C 0.32824 -0.2045 0.3285 -0.22655 0.33282 -0.23452 C 0.33715 -0.2561 0.33104 -0.22952 0.3374 -0.24765 C 0.33817 -0.25 0.3402 -0.26282 0.34046 -0.26454 C 0.33918 -0.2758 0.34173 -0.2894 0.33588 -0.29831 C 0.33473 -0.30003 0.33269 -0.30066 0.3313 -0.30206 C 0.32659 -0.30691 0.32188 -0.31207 0.31603 -0.3152 C 0.31259 -0.31692 0.30878 -0.31723 0.30534 -0.31895 C 0.2972 -0.32317 0.30012 -0.32364 0.29007 -0.32645 C 0.27977 -0.32942 0.28142 -0.32692 0.27328 -0.33021 C 0.25661 -0.33709 0.24033 -0.3435 0.2229 -0.34709 C 0.19873 -0.36194 0.17277 -0.36695 0.14656 -0.37336 C 0.14707 -0.37899 0.14593 -0.38524 0.14809 -0.39024 C 0.14974 -0.39415 0.15979 -0.399 0.16336 -0.4015 C 0.17582 -0.41041 0.17582 -0.41182 0.18931 -0.41463 C 0.1986 -0.41917 0.20331 -0.42058 0.21374 -0.42214 C 0.24504 -0.44778 0.28906 -0.42652 0.32672 -0.42589 C 0.35432 -0.42167 0.37977 -0.41651 0.40763 -0.41651 L 0.4 -0.45591 E">
                                      <p:cBhvr>
                                        <p:cTn id="400" dur="2000" fill="hold"/>
                                        <p:tgtEl>
                                          <p:spTgt spid="5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404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7.88804E-007 -9.40588E-006 C -0.02099 -0.00235 -0.0299 -0.00391 -0.04733 -0.00751 C -0.05776 -0.01392 -0.06896 -0.01799 -0.07939 -0.0244 C -0.08435 -0.02737 -0.09834 -0.03925 -0.10076 -0.04128 C -0.10471 -0.04441 -0.10623 -0.05082 -0.10992 -0.05441 C -0.11209 -0.0566 -0.11514 -0.05645 -0.11756 -0.05817 C -0.12137 -0.06082 -0.12468 -0.06426 -0.12824 -0.06755 C -0.15038 -0.08803 -0.16832 -0.11461 -0.17862 -0.14635 C -0.18002 -0.15807 -0.18104 -0.17058 -0.1771 -0.18199 C -0.17214 -0.19622 -0.15547 -0.20529 -0.14351 -0.20826 C -0.13448 -0.21655 -0.12544 -0.21608 -0.1145 -0.21952 C -0.10852 -0.22139 -0.09618 -0.22327 -0.09618 -0.22327 C -0.08689 -0.23187 -0.08448 -0.23093 -0.07175 -0.23265 C -0.06387 -0.23906 -0.05483 -0.24016 -0.0458 -0.24203 C -0.03778 -0.25188 -0.03448 -0.26439 -0.04275 -0.27955 C -0.04504 -0.28378 -0.05089 -0.28081 -0.05496 -0.28143 C -0.06285 -0.288 -0.07315 -0.28972 -0.08091 -0.29644 C -0.08588 -0.30082 -0.08549 -0.29988 -0.08549 -0.30395 E">
                                      <p:cBhvr>
                                        <p:cTn id="409" dur="2000" fill="hold"/>
                                        <p:tgtEl>
                                          <p:spTgt spid="5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box(out)" transition="out">
                                      <p:cBhvr additive="repl">
                                        <p:cTn id="413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3" name="Group 8"/>
          <p:cNvGrpSpPr/>
          <p:nvPr/>
        </p:nvGrpSpPr>
        <p:grpSpPr>
          <a:xfrm>
            <a:off x="-669960" y="903240"/>
            <a:ext cx="14371560" cy="6226200"/>
            <a:chOff x="-669960" y="903240"/>
            <a:chExt cx="14371560" cy="6226200"/>
          </a:xfrm>
        </p:grpSpPr>
        <p:grpSp>
          <p:nvGrpSpPr>
            <p:cNvPr id="584" name="Group 4"/>
            <p:cNvGrpSpPr/>
            <p:nvPr/>
          </p:nvGrpSpPr>
          <p:grpSpPr>
            <a:xfrm>
              <a:off x="-669960" y="903240"/>
              <a:ext cx="14371560" cy="6226200"/>
              <a:chOff x="-669960" y="903240"/>
              <a:chExt cx="14371560" cy="6226200"/>
            </a:xfrm>
          </p:grpSpPr>
          <p:pic>
            <p:nvPicPr>
              <p:cNvPr id="585" name="Picture 2" descr=""/>
              <p:cNvPicPr/>
              <p:nvPr/>
            </p:nvPicPr>
            <p:blipFill>
              <a:blip r:embed="rId1">
                <a:alphaModFix amt="0"/>
              </a:blip>
              <a:stretch/>
            </p:blipFill>
            <p:spPr>
              <a:xfrm>
                <a:off x="-669960" y="903240"/>
                <a:ext cx="14371560" cy="6226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6" name="TextBox 3"/>
              <p:cNvSpPr/>
              <p:nvPr/>
            </p:nvSpPr>
            <p:spPr>
              <a:xfrm>
                <a:off x="4300560" y="1242720"/>
                <a:ext cx="4975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ff0000"/>
                    </a:solidFill>
                    <a:latin typeface="Verdana"/>
                    <a:ea typeface="Verdana"/>
                  </a:rPr>
                  <a:t>Franzi's Kalender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7" name="Group 7"/>
            <p:cNvGrpSpPr/>
            <p:nvPr/>
          </p:nvGrpSpPr>
          <p:grpSpPr>
            <a:xfrm>
              <a:off x="-365400" y="1033560"/>
              <a:ext cx="13277160" cy="562320"/>
              <a:chOff x="-365400" y="1033560"/>
              <a:chExt cx="13277160" cy="562320"/>
            </a:xfrm>
          </p:grpSpPr>
          <p:sp>
            <p:nvSpPr>
              <p:cNvPr id="588" name="Freeform: Shape 5"/>
              <p:cNvSpPr/>
              <p:nvPr/>
            </p:nvSpPr>
            <p:spPr>
              <a:xfrm>
                <a:off x="-365400" y="1033560"/>
                <a:ext cx="13277160" cy="562320"/>
              </a:xfrm>
              <a:custGeom>
                <a:avLst/>
                <a:gdLst>
                  <a:gd name="textAreaLeft" fmla="*/ 0 w 13277160"/>
                  <a:gd name="textAreaRight" fmla="*/ 13277520 w 13277160"/>
                  <a:gd name="textAreaTop" fmla="*/ 0 h 562320"/>
                  <a:gd name="textAreaBottom" fmla="*/ 562680 h 562320"/>
                </a:gdLst>
                <a:ahLst/>
                <a:rect l="textAreaLeft" t="textAreaTop" r="textAreaRight" b="textAreaBottom"/>
                <a:pathLst>
                  <a:path w="4028258" h="464076">
                    <a:moveTo>
                      <a:pt x="0" y="0"/>
                    </a:moveTo>
                    <a:lnTo>
                      <a:pt x="4028257" y="0"/>
                    </a:lnTo>
                    <a:lnTo>
                      <a:pt x="4028257" y="464075"/>
                    </a:lnTo>
                    <a:lnTo>
                      <a:pt x="0" y="46407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8000"/>
              </a:solidFill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TextBox 6"/>
              <p:cNvSpPr/>
              <p:nvPr/>
            </p:nvSpPr>
            <p:spPr>
              <a:xfrm>
                <a:off x="4300560" y="1033560"/>
                <a:ext cx="3894480" cy="44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300" spc="-1" strike="noStrike">
                    <a:solidFill>
                      <a:srgbClr val="000000"/>
                    </a:solidFill>
                    <a:latin typeface="Verdana"/>
                    <a:ea typeface="Verdana"/>
                  </a:rPr>
                  <a:t>Wir buchstabieren!</a:t>
                </a:r>
                <a:endParaRPr b="0" lang="en-US" sz="2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0" name="Textfeld 1"/>
          <p:cNvSpPr/>
          <p:nvPr/>
        </p:nvSpPr>
        <p:spPr>
          <a:xfrm>
            <a:off x="7126200" y="3448080"/>
            <a:ext cx="1030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000000"/>
                </a:solidFill>
                <a:latin typeface="Verdana"/>
                <a:ea typeface="Arial"/>
              </a:rPr>
              <a:t>z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Textfeld 2"/>
          <p:cNvSpPr/>
          <p:nvPr/>
        </p:nvSpPr>
        <p:spPr>
          <a:xfrm>
            <a:off x="3433680" y="8961480"/>
            <a:ext cx="107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c00000"/>
                </a:solidFill>
                <a:latin typeface="Verdana"/>
                <a:ea typeface="Arial"/>
              </a:rPr>
              <a:t>e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Gerade Verbindung 3"/>
          <p:cNvSpPr/>
          <p:nvPr/>
        </p:nvSpPr>
        <p:spPr>
          <a:xfrm>
            <a:off x="-527040" y="1611360"/>
            <a:ext cx="13424040" cy="6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Gerade Verbindung 4"/>
          <p:cNvSpPr/>
          <p:nvPr/>
        </p:nvSpPr>
        <p:spPr>
          <a:xfrm>
            <a:off x="11037960" y="1690560"/>
            <a:ext cx="0" cy="4383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Textfeld 5"/>
          <p:cNvSpPr/>
          <p:nvPr/>
        </p:nvSpPr>
        <p:spPr>
          <a:xfrm>
            <a:off x="6886440" y="1760400"/>
            <a:ext cx="432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  <a:ea typeface="Arial"/>
              </a:rPr>
              <a:t>Mittwoch, den 9. Febru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Gerade Verbindung 6"/>
          <p:cNvSpPr/>
          <p:nvPr/>
        </p:nvSpPr>
        <p:spPr>
          <a:xfrm>
            <a:off x="7077240" y="2293920"/>
            <a:ext cx="396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Gruppieren 9"/>
          <p:cNvGrpSpPr/>
          <p:nvPr/>
        </p:nvGrpSpPr>
        <p:grpSpPr>
          <a:xfrm>
            <a:off x="11523600" y="1801800"/>
            <a:ext cx="1055880" cy="781200"/>
            <a:chOff x="11523600" y="1801800"/>
            <a:chExt cx="1055880" cy="781200"/>
          </a:xfrm>
        </p:grpSpPr>
        <p:sp>
          <p:nvSpPr>
            <p:cNvPr id="597" name="Freihandform 7"/>
            <p:cNvSpPr/>
            <p:nvPr/>
          </p:nvSpPr>
          <p:spPr>
            <a:xfrm>
              <a:off x="11523600" y="1801800"/>
              <a:ext cx="1055880" cy="781200"/>
            </a:xfrm>
            <a:custGeom>
              <a:avLst/>
              <a:gdLst>
                <a:gd name="textAreaLeft" fmla="*/ 0 w 1055880"/>
                <a:gd name="textAreaRight" fmla="*/ 1056240 w 1055880"/>
                <a:gd name="textAreaTop" fmla="*/ 0 h 781200"/>
                <a:gd name="textAreaBottom" fmla="*/ 781560 h 781200"/>
              </a:gdLst>
              <a:ahLst/>
              <a:rect l="textAreaLeft" t="textAreaTop" r="textAreaRight" b="textAreaBottom"/>
              <a:pathLst>
                <a:path w="268732" h="261493">
                  <a:moveTo>
                    <a:pt x="220980" y="32385"/>
                  </a:moveTo>
                  <a:lnTo>
                    <a:pt x="222122" y="32385"/>
                  </a:lnTo>
                  <a:lnTo>
                    <a:pt x="212597" y="65405"/>
                  </a:lnTo>
                  <a:lnTo>
                    <a:pt x="209931" y="80899"/>
                  </a:lnTo>
                  <a:lnTo>
                    <a:pt x="210439" y="89788"/>
                  </a:lnTo>
                  <a:lnTo>
                    <a:pt x="217931" y="94614"/>
                  </a:lnTo>
                  <a:lnTo>
                    <a:pt x="233171" y="100330"/>
                  </a:lnTo>
                  <a:lnTo>
                    <a:pt x="249555" y="105028"/>
                  </a:lnTo>
                  <a:lnTo>
                    <a:pt x="254634" y="106680"/>
                  </a:lnTo>
                  <a:lnTo>
                    <a:pt x="268731" y="109982"/>
                  </a:lnTo>
                  <a:lnTo>
                    <a:pt x="265938" y="111886"/>
                  </a:lnTo>
                  <a:lnTo>
                    <a:pt x="258953" y="115697"/>
                  </a:lnTo>
                  <a:lnTo>
                    <a:pt x="249555" y="122047"/>
                  </a:lnTo>
                  <a:lnTo>
                    <a:pt x="232156" y="136144"/>
                  </a:lnTo>
                  <a:lnTo>
                    <a:pt x="223139" y="144525"/>
                  </a:lnTo>
                  <a:lnTo>
                    <a:pt x="221233" y="148463"/>
                  </a:lnTo>
                  <a:lnTo>
                    <a:pt x="221233" y="149478"/>
                  </a:lnTo>
                  <a:lnTo>
                    <a:pt x="225170" y="159130"/>
                  </a:lnTo>
                  <a:lnTo>
                    <a:pt x="236219" y="178180"/>
                  </a:lnTo>
                  <a:lnTo>
                    <a:pt x="240918" y="185674"/>
                  </a:lnTo>
                  <a:lnTo>
                    <a:pt x="246760" y="193928"/>
                  </a:lnTo>
                  <a:lnTo>
                    <a:pt x="249935" y="197485"/>
                  </a:lnTo>
                  <a:lnTo>
                    <a:pt x="251714" y="200533"/>
                  </a:lnTo>
                  <a:lnTo>
                    <a:pt x="250952" y="200533"/>
                  </a:lnTo>
                  <a:lnTo>
                    <a:pt x="247650" y="200278"/>
                  </a:lnTo>
                  <a:lnTo>
                    <a:pt x="239776" y="199136"/>
                  </a:lnTo>
                  <a:lnTo>
                    <a:pt x="205740" y="197992"/>
                  </a:lnTo>
                  <a:lnTo>
                    <a:pt x="193675" y="199389"/>
                  </a:lnTo>
                  <a:lnTo>
                    <a:pt x="188848" y="201930"/>
                  </a:lnTo>
                  <a:lnTo>
                    <a:pt x="186690" y="209041"/>
                  </a:lnTo>
                  <a:lnTo>
                    <a:pt x="181991" y="240411"/>
                  </a:lnTo>
                  <a:lnTo>
                    <a:pt x="180975" y="261492"/>
                  </a:lnTo>
                  <a:lnTo>
                    <a:pt x="178434" y="258952"/>
                  </a:lnTo>
                  <a:lnTo>
                    <a:pt x="173101" y="253238"/>
                  </a:lnTo>
                  <a:lnTo>
                    <a:pt x="165354" y="245491"/>
                  </a:lnTo>
                  <a:lnTo>
                    <a:pt x="158368" y="239267"/>
                  </a:lnTo>
                  <a:lnTo>
                    <a:pt x="144780" y="228091"/>
                  </a:lnTo>
                  <a:lnTo>
                    <a:pt x="134239" y="222122"/>
                  </a:lnTo>
                  <a:lnTo>
                    <a:pt x="132333" y="222503"/>
                  </a:lnTo>
                  <a:lnTo>
                    <a:pt x="123317" y="228091"/>
                  </a:lnTo>
                  <a:lnTo>
                    <a:pt x="109855" y="239267"/>
                  </a:lnTo>
                  <a:lnTo>
                    <a:pt x="95250" y="253238"/>
                  </a:lnTo>
                  <a:lnTo>
                    <a:pt x="88138" y="260858"/>
                  </a:lnTo>
                  <a:lnTo>
                    <a:pt x="85979" y="232028"/>
                  </a:lnTo>
                  <a:lnTo>
                    <a:pt x="82931" y="213994"/>
                  </a:lnTo>
                  <a:lnTo>
                    <a:pt x="80136" y="204088"/>
                  </a:lnTo>
                  <a:lnTo>
                    <a:pt x="74041" y="198627"/>
                  </a:lnTo>
                  <a:lnTo>
                    <a:pt x="58039" y="196722"/>
                  </a:lnTo>
                  <a:lnTo>
                    <a:pt x="30353" y="199136"/>
                  </a:lnTo>
                  <a:lnTo>
                    <a:pt x="16509" y="201675"/>
                  </a:lnTo>
                  <a:lnTo>
                    <a:pt x="17271" y="199389"/>
                  </a:lnTo>
                  <a:lnTo>
                    <a:pt x="19177" y="197485"/>
                  </a:lnTo>
                  <a:lnTo>
                    <a:pt x="27051" y="186055"/>
                  </a:lnTo>
                  <a:lnTo>
                    <a:pt x="43815" y="157480"/>
                  </a:lnTo>
                  <a:lnTo>
                    <a:pt x="46735" y="149478"/>
                  </a:lnTo>
                  <a:lnTo>
                    <a:pt x="46735" y="148716"/>
                  </a:lnTo>
                  <a:lnTo>
                    <a:pt x="44704" y="145669"/>
                  </a:lnTo>
                  <a:lnTo>
                    <a:pt x="32511" y="134366"/>
                  </a:lnTo>
                  <a:lnTo>
                    <a:pt x="10032" y="117602"/>
                  </a:lnTo>
                  <a:lnTo>
                    <a:pt x="0" y="111378"/>
                  </a:lnTo>
                  <a:lnTo>
                    <a:pt x="1778" y="110236"/>
                  </a:lnTo>
                  <a:lnTo>
                    <a:pt x="15493" y="106425"/>
                  </a:lnTo>
                  <a:lnTo>
                    <a:pt x="51434" y="95503"/>
                  </a:lnTo>
                  <a:lnTo>
                    <a:pt x="56133" y="93091"/>
                  </a:lnTo>
                  <a:lnTo>
                    <a:pt x="59435" y="90932"/>
                  </a:lnTo>
                  <a:lnTo>
                    <a:pt x="59435" y="87249"/>
                  </a:lnTo>
                  <a:lnTo>
                    <a:pt x="59055" y="78358"/>
                  </a:lnTo>
                  <a:lnTo>
                    <a:pt x="58039" y="70738"/>
                  </a:lnTo>
                  <a:lnTo>
                    <a:pt x="53975" y="49275"/>
                  </a:lnTo>
                  <a:lnTo>
                    <a:pt x="50292" y="35178"/>
                  </a:lnTo>
                  <a:lnTo>
                    <a:pt x="49403" y="32003"/>
                  </a:lnTo>
                  <a:lnTo>
                    <a:pt x="59055" y="35941"/>
                  </a:lnTo>
                  <a:lnTo>
                    <a:pt x="73279" y="42036"/>
                  </a:lnTo>
                  <a:lnTo>
                    <a:pt x="86232" y="46863"/>
                  </a:lnTo>
                  <a:lnTo>
                    <a:pt x="99821" y="51053"/>
                  </a:lnTo>
                  <a:lnTo>
                    <a:pt x="105918" y="51816"/>
                  </a:lnTo>
                  <a:lnTo>
                    <a:pt x="106553" y="51435"/>
                  </a:lnTo>
                  <a:lnTo>
                    <a:pt x="112014" y="44958"/>
                  </a:lnTo>
                  <a:lnTo>
                    <a:pt x="120395" y="31622"/>
                  </a:lnTo>
                  <a:lnTo>
                    <a:pt x="129540" y="12319"/>
                  </a:lnTo>
                  <a:lnTo>
                    <a:pt x="133857" y="3555"/>
                  </a:lnTo>
                  <a:lnTo>
                    <a:pt x="135255" y="0"/>
                  </a:lnTo>
                  <a:lnTo>
                    <a:pt x="138683" y="6858"/>
                  </a:lnTo>
                  <a:lnTo>
                    <a:pt x="151130" y="32003"/>
                  </a:lnTo>
                  <a:lnTo>
                    <a:pt x="155193" y="39497"/>
                  </a:lnTo>
                  <a:lnTo>
                    <a:pt x="162179" y="49657"/>
                  </a:lnTo>
                  <a:lnTo>
                    <a:pt x="164972" y="52197"/>
                  </a:lnTo>
                  <a:lnTo>
                    <a:pt x="165861" y="52450"/>
                  </a:lnTo>
                  <a:lnTo>
                    <a:pt x="174117" y="51053"/>
                  </a:lnTo>
                  <a:lnTo>
                    <a:pt x="189356" y="46100"/>
                  </a:lnTo>
                  <a:lnTo>
                    <a:pt x="205613" y="39497"/>
                  </a:lnTo>
                  <a:lnTo>
                    <a:pt x="220726" y="30607"/>
                  </a:lnTo>
                  <a:lnTo>
                    <a:pt x="221233" y="31241"/>
                  </a:lnTo>
                  <a:lnTo>
                    <a:pt x="220980" y="32385"/>
                  </a:lnTo>
                  <a:close/>
                </a:path>
              </a:pathLst>
            </a:custGeom>
            <a:solidFill>
              <a:srgbClr val="ff9900"/>
            </a:solidFill>
            <a:ln w="0">
              <a:solidFill>
                <a:srgbClr val="ff99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Ellipse 8"/>
            <p:cNvSpPr/>
            <p:nvPr/>
          </p:nvSpPr>
          <p:spPr>
            <a:xfrm>
              <a:off x="11721960" y="1965240"/>
              <a:ext cx="665280" cy="478080"/>
            </a:xfrm>
            <a:prstGeom prst="ellipse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9" name="Textfeld 10"/>
          <p:cNvSpPr/>
          <p:nvPr/>
        </p:nvSpPr>
        <p:spPr>
          <a:xfrm>
            <a:off x="7156440" y="4888080"/>
            <a:ext cx="1030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000000"/>
                </a:solidFill>
                <a:latin typeface="Verdana"/>
                <a:ea typeface="Arial"/>
              </a:rPr>
              <a:t>z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Textfeld 11"/>
          <p:cNvSpPr/>
          <p:nvPr/>
        </p:nvSpPr>
        <p:spPr>
          <a:xfrm>
            <a:off x="7835760" y="7446960"/>
            <a:ext cx="1862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c00000"/>
                </a:solidFill>
                <a:latin typeface="Verdana"/>
                <a:ea typeface="Arial"/>
              </a:rPr>
              <a:t>anzi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Textfeld 12"/>
          <p:cNvSpPr/>
          <p:nvPr/>
        </p:nvSpPr>
        <p:spPr>
          <a:xfrm>
            <a:off x="3579840" y="3076560"/>
            <a:ext cx="71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000000"/>
                </a:solidFill>
                <a:latin typeface="Verdana"/>
                <a:ea typeface="Arial"/>
              </a:rPr>
              <a:t>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Gerade Verbindung 13"/>
          <p:cNvSpPr/>
          <p:nvPr/>
        </p:nvSpPr>
        <p:spPr>
          <a:xfrm>
            <a:off x="3362400" y="1717560"/>
            <a:ext cx="0" cy="4721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Textfeld 14"/>
          <p:cNvSpPr/>
          <p:nvPr/>
        </p:nvSpPr>
        <p:spPr>
          <a:xfrm>
            <a:off x="8042400" y="8862840"/>
            <a:ext cx="2995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c00000"/>
                </a:solidFill>
                <a:latin typeface="Verdana"/>
                <a:ea typeface="Arial"/>
              </a:rPr>
              <a:t>underb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Textfeld 15"/>
          <p:cNvSpPr/>
          <p:nvPr/>
        </p:nvSpPr>
        <p:spPr>
          <a:xfrm>
            <a:off x="3508200" y="4394160"/>
            <a:ext cx="862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000000"/>
                </a:solidFill>
                <a:latin typeface="Verdana"/>
                <a:ea typeface="Arial"/>
              </a:rPr>
              <a:t>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Textfeld 16"/>
          <p:cNvSpPr/>
          <p:nvPr/>
        </p:nvSpPr>
        <p:spPr>
          <a:xfrm>
            <a:off x="5235480" y="9002880"/>
            <a:ext cx="1654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c00000"/>
                </a:solidFill>
                <a:latin typeface="Verdana"/>
                <a:ea typeface="Arial"/>
              </a:rPr>
              <a:t>ett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Textfeld 17"/>
          <p:cNvSpPr/>
          <p:nvPr/>
        </p:nvSpPr>
        <p:spPr>
          <a:xfrm>
            <a:off x="3579840" y="5584680"/>
            <a:ext cx="71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000000"/>
                </a:solidFill>
                <a:latin typeface="Verdana"/>
                <a:ea typeface="Arial"/>
              </a:rPr>
              <a:t>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Textfeld 18"/>
          <p:cNvSpPr/>
          <p:nvPr/>
        </p:nvSpPr>
        <p:spPr>
          <a:xfrm>
            <a:off x="5859360" y="8259840"/>
            <a:ext cx="69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c00000"/>
                </a:solidFill>
                <a:latin typeface="Verdana"/>
                <a:ea typeface="Arial"/>
              </a:rPr>
              <a:t>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Gerade Verbindung 19"/>
          <p:cNvSpPr/>
          <p:nvPr/>
        </p:nvSpPr>
        <p:spPr>
          <a:xfrm flipH="1">
            <a:off x="7056000" y="1698480"/>
            <a:ext cx="12600" cy="4721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Textfeld 20"/>
          <p:cNvSpPr/>
          <p:nvPr/>
        </p:nvSpPr>
        <p:spPr>
          <a:xfrm>
            <a:off x="219240" y="3519360"/>
            <a:ext cx="48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000000"/>
                </a:solidFill>
                <a:latin typeface="Verdana"/>
                <a:ea typeface="Arial"/>
              </a:rPr>
              <a:t>z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Textfeld 21"/>
          <p:cNvSpPr/>
          <p:nvPr/>
        </p:nvSpPr>
        <p:spPr>
          <a:xfrm>
            <a:off x="1704960" y="8199360"/>
            <a:ext cx="129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c00000"/>
                </a:solidFill>
                <a:latin typeface="Verdana"/>
                <a:ea typeface="Arial"/>
              </a:rPr>
              <a:t>eh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Textfeld 22"/>
          <p:cNvSpPr/>
          <p:nvPr/>
        </p:nvSpPr>
        <p:spPr>
          <a:xfrm>
            <a:off x="187200" y="5041800"/>
            <a:ext cx="654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000000"/>
                </a:solidFill>
                <a:latin typeface="Verdana"/>
                <a:ea typeface="Arial"/>
              </a:rPr>
              <a:t>Z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Textfeld 23"/>
          <p:cNvSpPr/>
          <p:nvPr/>
        </p:nvSpPr>
        <p:spPr>
          <a:xfrm>
            <a:off x="5521320" y="7446960"/>
            <a:ext cx="158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c00000"/>
                </a:solidFill>
                <a:latin typeface="Verdana"/>
                <a:ea typeface="Arial"/>
              </a:rPr>
              <a:t>ebr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Gerade Verbindung 25"/>
          <p:cNvSpPr/>
          <p:nvPr/>
        </p:nvSpPr>
        <p:spPr>
          <a:xfrm flipH="1" flipV="1">
            <a:off x="9410760" y="4284720"/>
            <a:ext cx="1008000" cy="1403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Textfeld 26"/>
          <p:cNvSpPr/>
          <p:nvPr/>
        </p:nvSpPr>
        <p:spPr>
          <a:xfrm>
            <a:off x="63360" y="-41400"/>
            <a:ext cx="12795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3735"/>
                </a:solidFill>
                <a:latin typeface="Verdana"/>
                <a:ea typeface="Arial"/>
              </a:rPr>
              <a:t>Can you help Franzi to form some words starting with the three key German soun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Rectangle 23"/>
          <p:cNvSpPr/>
          <p:nvPr/>
        </p:nvSpPr>
        <p:spPr>
          <a:xfrm>
            <a:off x="10779120" y="3014640"/>
            <a:ext cx="2281320" cy="20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c00000"/>
                </a:solidFill>
                <a:latin typeface="Verdana"/>
                <a:ea typeface="Verdana"/>
              </a:rPr>
              <a:t>21</a:t>
            </a:r>
            <a:br>
              <a:rPr sz="3200"/>
            </a:br>
            <a:r>
              <a:rPr b="1" lang="en-GB" sz="3200" spc="-1" strike="noStrike">
                <a:solidFill>
                  <a:srgbClr val="c00000"/>
                </a:solidFill>
                <a:latin typeface="Verdana"/>
                <a:ea typeface="Verdana"/>
              </a:rPr>
              <a:t>12</a:t>
            </a:r>
            <a:br>
              <a:rPr sz="3200"/>
            </a:br>
            <a:r>
              <a:rPr b="1" lang="en-GB" sz="4000" spc="-1" strike="noStrike">
                <a:solidFill>
                  <a:srgbClr val="c00000"/>
                </a:solidFill>
                <a:latin typeface="Verdana"/>
                <a:ea typeface="Verdana"/>
              </a:rPr>
              <a:t>3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Gerade Verbindung 6"/>
          <p:cNvSpPr/>
          <p:nvPr/>
        </p:nvSpPr>
        <p:spPr>
          <a:xfrm>
            <a:off x="11017080" y="4216320"/>
            <a:ext cx="2136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7" name="Grafik 24" descr="Franzi_1 Kopie.gif"/>
          <p:cNvPicPr/>
          <p:nvPr/>
        </p:nvPicPr>
        <p:blipFill>
          <a:blip r:embed="rId2">
            <a:alphaModFix amt="0"/>
          </a:blip>
          <a:stretch/>
        </p:blipFill>
        <p:spPr>
          <a:xfrm>
            <a:off x="9982080" y="4349880"/>
            <a:ext cx="2786040" cy="3825720"/>
          </a:xfrm>
          <a:prstGeom prst="rect">
            <a:avLst/>
          </a:prstGeom>
          <a:ln w="0">
            <a:noFill/>
          </a:ln>
        </p:spPr>
      </p:pic>
      <p:sp>
        <p:nvSpPr>
          <p:cNvPr id="618" name="Plus Sign 27"/>
          <p:cNvSpPr/>
          <p:nvPr/>
        </p:nvSpPr>
        <p:spPr>
          <a:xfrm flipH="1">
            <a:off x="11281680" y="3591000"/>
            <a:ext cx="274680" cy="304560"/>
          </a:xfrm>
          <a:custGeom>
            <a:avLst/>
            <a:gdLst/>
            <a:ahLst/>
            <a:rect l="l" t="t" r="r" b="b"/>
            <a:pathLst>
              <a:path w="274637" h="304800">
                <a:moveTo>
                  <a:pt x="36403" y="120103"/>
                </a:moveTo>
                <a:lnTo>
                  <a:pt x="105021" y="120103"/>
                </a:lnTo>
                <a:lnTo>
                  <a:pt x="105021" y="40401"/>
                </a:lnTo>
                <a:lnTo>
                  <a:pt x="169616" y="40401"/>
                </a:lnTo>
                <a:lnTo>
                  <a:pt x="169616" y="120103"/>
                </a:lnTo>
                <a:lnTo>
                  <a:pt x="238234" y="120103"/>
                </a:lnTo>
                <a:lnTo>
                  <a:pt x="238234" y="184697"/>
                </a:lnTo>
                <a:lnTo>
                  <a:pt x="169616" y="184697"/>
                </a:lnTo>
                <a:lnTo>
                  <a:pt x="169616" y="264399"/>
                </a:lnTo>
                <a:lnTo>
                  <a:pt x="105021" y="264399"/>
                </a:lnTo>
                <a:lnTo>
                  <a:pt x="105021" y="184697"/>
                </a:lnTo>
                <a:lnTo>
                  <a:pt x="36403" y="184697"/>
                </a:lnTo>
                <a:lnTo>
                  <a:pt x="36403" y="120103"/>
                </a:lnTo>
                <a:close/>
              </a:path>
            </a:pathLst>
          </a:custGeom>
          <a:solidFill>
            <a:srgbClr val="00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20" dur="20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585 0.00375 L -0.39216 -0.2375 E">
                                      <p:cBhvr>
                                        <p:cTn id="424" dur="2000" fill="hold"/>
                                        <p:tgtEl>
                                          <p:spTgt spid="6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-2.44151E-006 2.5E-006 L -2.44151E-006 -0.07219 E">
                                      <p:cBhvr>
                                        <p:cTn id="42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29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30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31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32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path" presetID="6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-0.00394 0.00469 L -0.1414 -0.50391 E">
                                      <p:cBhvr>
                                        <p:cTn id="436" dur="2000" fill="hold"/>
                                        <p:tgtEl>
                                          <p:spTgt spid="6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40" dur="20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457 0.00922 L -0.09219 -0.46016 E">
                                      <p:cBhvr>
                                        <p:cTn id="444" dur="2000" fill="hold"/>
                                        <p:tgtEl>
                                          <p:spTgt spid="6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44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44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45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45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path" presetID="5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.05799 0.0036 L 0.36089 -0.54079 E">
                                      <p:cBhvr>
                                        <p:cTn id="455" dur="2000" fill="hold"/>
                                        <p:tgtEl>
                                          <p:spTgt spid="5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59" dur="20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92 0.00719 L -0.08761 -0.45406 E">
                                      <p:cBhvr>
                                        <p:cTn id="463" dur="2000" fill="hold"/>
                                        <p:tgtEl>
                                          <p:spTgt spid="6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6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68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9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70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71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path" presetID="6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.06828 0.01563 L 0.01119 -0.25 E">
                                      <p:cBhvr>
                                        <p:cTn id="475" dur="2000" fill="hold"/>
                                        <p:tgtEl>
                                          <p:spTgt spid="6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47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8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8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8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268 -0.0311 L -0.31777 -0.32219 E">
                                      <p:cBhvr>
                                        <p:cTn id="487" dur="2000" fill="hold"/>
                                        <p:tgtEl>
                                          <p:spTgt spid="6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ffff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Rechteck 54"/>
          <p:cNvSpPr/>
          <p:nvPr/>
        </p:nvSpPr>
        <p:spPr>
          <a:xfrm>
            <a:off x="770040" y="184320"/>
            <a:ext cx="11714040" cy="16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700" spc="-1" strike="noStrike">
                <a:solidFill>
                  <a:srgbClr val="0000ff"/>
                </a:solidFill>
                <a:latin typeface="Verdana"/>
                <a:ea typeface="Arial"/>
              </a:rPr>
              <a:t>Auf die Plätze, fertig, los</a:t>
            </a:r>
            <a:r>
              <a:rPr b="1" lang="de-DE" sz="2400" spc="-1" strike="noStrike">
                <a:solidFill>
                  <a:srgbClr val="0000ff"/>
                </a:solidFill>
                <a:latin typeface="Verdana"/>
                <a:ea typeface="Arial"/>
              </a:rPr>
              <a:t>! </a:t>
            </a:r>
            <a:r>
              <a:rPr b="0" lang="de-DE" sz="2000" spc="-1" strike="noStrike">
                <a:solidFill>
                  <a:srgbClr val="0000ff"/>
                </a:solidFill>
                <a:latin typeface="Verdana"/>
                <a:ea typeface="Arial"/>
              </a:rPr>
              <a:t>(On your marks, get set, go!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Verdana"/>
                <a:ea typeface="Arial"/>
              </a:rPr>
              <a:t>Lies den Zugenbrecher so schnell wie möglich (as fast as possible), achte auf deine Aussprache</a:t>
            </a:r>
            <a:r>
              <a:rPr b="0" lang="en-US" sz="2700" spc="-1" strike="noStrike">
                <a:solidFill>
                  <a:srgbClr val="0000ff"/>
                </a:solidFill>
                <a:latin typeface="Verdana"/>
                <a:ea typeface="Arial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Verdana"/>
                <a:ea typeface="Arial"/>
              </a:rPr>
              <a:t>(pay attention to the correct pronunci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0" name="Picture 3" descr="F:\Felix und Franzi Clipart\Clipart Sammlung Friede\Cliparts Felix+Franzi Positionen\Franzi rennend Kopie.gif"/>
          <p:cNvPicPr/>
          <p:nvPr/>
        </p:nvPicPr>
        <p:blipFill>
          <a:blip r:embed="rId1"/>
          <a:stretch/>
        </p:blipFill>
        <p:spPr>
          <a:xfrm>
            <a:off x="0" y="2127240"/>
            <a:ext cx="1795320" cy="1728720"/>
          </a:xfrm>
          <a:prstGeom prst="rect">
            <a:avLst/>
          </a:prstGeom>
          <a:ln w="0">
            <a:noFill/>
          </a:ln>
        </p:spPr>
      </p:pic>
      <p:sp>
        <p:nvSpPr>
          <p:cNvPr id="621" name="Rechteck 58"/>
          <p:cNvSpPr/>
          <p:nvPr/>
        </p:nvSpPr>
        <p:spPr>
          <a:xfrm>
            <a:off x="2496960" y="2200320"/>
            <a:ext cx="82090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Verdana"/>
                <a:ea typeface="Arial"/>
              </a:rPr>
              <a:t>Franzi fragt Felix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Verdana"/>
                <a:ea typeface="Arial"/>
              </a:rPr>
              <a:t>Fressen freche Frös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Verdana"/>
                <a:ea typeface="Arial"/>
              </a:rPr>
              <a:t>frische Früchte gern zum Frühstück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Verdana"/>
                <a:ea typeface="Arial"/>
              </a:rPr>
              <a:t>wenn sie Hunger habe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Verdana"/>
                <a:ea typeface="Arial"/>
              </a:rPr>
              <a:t>Ja, sagt Felix, morgens früh am Freita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Verdana"/>
                <a:ea typeface="Arial"/>
              </a:rPr>
              <a:t>machen frische Frücht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Verdana"/>
                <a:ea typeface="Arial"/>
              </a:rPr>
              <a:t>viele freche Frösche fröhlic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2" name="Picture 4" descr="F:\Felix und Franzi Clipart\Clipart Sammlung Friede\Cliparts Felix+Franzi Positionen\Felix rennend Kopie.gif"/>
          <p:cNvPicPr/>
          <p:nvPr/>
        </p:nvPicPr>
        <p:blipFill>
          <a:blip r:embed="rId2"/>
          <a:stretch/>
        </p:blipFill>
        <p:spPr>
          <a:xfrm>
            <a:off x="10418760" y="1550880"/>
            <a:ext cx="1635120" cy="15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01T21:44:05Z</dcterms:created>
  <dc:creator>Naomi</dc:creator>
  <dc:description/>
  <dc:language>en-US</dc:language>
  <cp:lastModifiedBy>Caroline</cp:lastModifiedBy>
  <dcterms:modified xsi:type="dcterms:W3CDTF">2018-02-27T12:54:34Z</dcterms:modified>
  <cp:revision>83</cp:revision>
  <dc:subject/>
  <dc:title>Folie 1</dc:title>
</cp:coreProperties>
</file>