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10399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22400" y="1142640"/>
            <a:ext cx="30132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497-8877-409F-B877-1AC1B80CC6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922400" y="1143000"/>
            <a:ext cx="3013200" cy="3086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1D28-47C2-4036-9257-3BBD0D261F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922400" y="1143000"/>
            <a:ext cx="3013200" cy="308628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3A1D-9DF9-43AB-84D5-2F54CF2B61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F59-B53D-4B65-966D-96AED1A3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87631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6215400"/>
            <a:ext cx="87631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72F-9F70-4FD1-BB6E-E480E68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5A3-5CBF-488E-90F5-8FBAD7B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1200" y="2768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00" y="2768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6215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1200" y="6215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000" y="6215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89A-D3B0-4505-BEE5-EA1DDDF4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768400"/>
            <a:ext cx="8763120" cy="65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4FD-12D4-444B-8790-5241CFDA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876312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64A-5E78-44D9-9F4A-97BC29B1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3CD-182A-4D84-9767-42776E9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A81-0E38-4075-AF54-22FE46FF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553680"/>
            <a:ext cx="876312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36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FF7-032A-43EB-B740-BDEA4790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0AC-F8D5-46DB-B227-4EFCB1E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145-56CE-4797-829B-F1241BF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6215400"/>
            <a:ext cx="87631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674-ACEC-42D1-AE9F-7E9D591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768400"/>
            <a:ext cx="876312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400" y="9640440"/>
            <a:ext cx="2286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9640440"/>
            <a:ext cx="3429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5520" y="9640440"/>
            <a:ext cx="2286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F47-2618-43B5-A58A-51DF29BDB059}" type="slidenum">
              <a:rPr b="0" lang="en-GB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477800" y="2622600"/>
            <a:ext cx="75279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oethe FF Clan"/>
              </a:rPr>
              <a:t>© Goethe-Institut London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WW.GOETHE.DE/FELIXUNDFRANZ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E THANK THE AUTHORS KATJA NEUMANN, NIGEL PEARSON AND EMMA WHITTLE FOR THEIR CONTRIBUTIO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A THANK YOU TO BRITTA SCHELLENS AND NAOMI SCHÖNHAGEN FOR THEIR WORK WITH THE WHITEBOARD APPS AND POWERPOI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PROJECT MANAGEMENT: ROMA FRANZISKA SCHULTZ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SELECTED ILLUSTRATIONS: FRIEDERIKE SCHUHMAN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219320" y="6535800"/>
            <a:ext cx="56800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b4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685800" y="965160"/>
            <a:ext cx="8705880" cy="5850000"/>
            <a:chOff x="685800" y="965160"/>
            <a:chExt cx="8705880" cy="5850000"/>
          </a:xfrm>
        </p:grpSpPr>
        <p:grpSp>
          <p:nvGrpSpPr>
            <p:cNvPr id="51" name="Group 39"/>
            <p:cNvGrpSpPr/>
            <p:nvPr/>
          </p:nvGrpSpPr>
          <p:grpSpPr>
            <a:xfrm>
              <a:off x="685800" y="1352520"/>
              <a:ext cx="8705880" cy="5462640"/>
              <a:chOff x="685800" y="1352520"/>
              <a:chExt cx="8705880" cy="5462640"/>
            </a:xfrm>
          </p:grpSpPr>
          <p:grpSp>
            <p:nvGrpSpPr>
              <p:cNvPr id="52" name="Group 29"/>
              <p:cNvGrpSpPr/>
              <p:nvPr/>
            </p:nvGrpSpPr>
            <p:grpSpPr>
              <a:xfrm>
                <a:off x="1226520" y="1352520"/>
                <a:ext cx="8165160" cy="5462640"/>
                <a:chOff x="1226520" y="1352520"/>
                <a:chExt cx="8165160" cy="5462640"/>
              </a:xfrm>
            </p:grpSpPr>
            <p:grpSp>
              <p:nvGrpSpPr>
                <p:cNvPr id="53" name="Group 21"/>
                <p:cNvGrpSpPr/>
                <p:nvPr/>
              </p:nvGrpSpPr>
              <p:grpSpPr>
                <a:xfrm>
                  <a:off x="1269000" y="1993680"/>
                  <a:ext cx="8122680" cy="4821480"/>
                  <a:chOff x="1269000" y="1993680"/>
                  <a:chExt cx="8122680" cy="4821480"/>
                </a:xfrm>
              </p:grpSpPr>
              <p:sp>
                <p:nvSpPr>
                  <p:cNvPr id="54" name="Freeform: Shape 1"/>
                  <p:cNvSpPr/>
                  <p:nvPr/>
                </p:nvSpPr>
                <p:spPr>
                  <a:xfrm>
                    <a:off x="126900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" name="Freeform: Shape 2"/>
                  <p:cNvSpPr/>
                  <p:nvPr/>
                </p:nvSpPr>
                <p:spPr>
                  <a:xfrm>
                    <a:off x="288684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Freeform: Shape 3"/>
                  <p:cNvSpPr/>
                  <p:nvPr/>
                </p:nvSpPr>
                <p:spPr>
                  <a:xfrm>
                    <a:off x="4528440" y="199368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" name="Freeform: Shape 4"/>
                  <p:cNvSpPr/>
                  <p:nvPr/>
                </p:nvSpPr>
                <p:spPr>
                  <a:xfrm>
                    <a:off x="614808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" name="Freeform: Shape 5"/>
                  <p:cNvSpPr/>
                  <p:nvPr/>
                </p:nvSpPr>
                <p:spPr>
                  <a:xfrm>
                    <a:off x="776592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Freeform: Shape 6"/>
                  <p:cNvSpPr/>
                  <p:nvPr/>
                </p:nvSpPr>
                <p:spPr>
                  <a:xfrm>
                    <a:off x="126900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" name="Freeform: Shape 7"/>
                  <p:cNvSpPr/>
                  <p:nvPr/>
                </p:nvSpPr>
                <p:spPr>
                  <a:xfrm>
                    <a:off x="288684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" name="Freeform: Shape 8"/>
                  <p:cNvSpPr/>
                  <p:nvPr/>
                </p:nvSpPr>
                <p:spPr>
                  <a:xfrm>
                    <a:off x="4528440" y="319212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Freeform: Shape 9"/>
                  <p:cNvSpPr/>
                  <p:nvPr/>
                </p:nvSpPr>
                <p:spPr>
                  <a:xfrm>
                    <a:off x="614808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" name="Freeform: Shape 10"/>
                  <p:cNvSpPr/>
                  <p:nvPr/>
                </p:nvSpPr>
                <p:spPr>
                  <a:xfrm>
                    <a:off x="776592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" name="Freeform: Shape 11"/>
                  <p:cNvSpPr/>
                  <p:nvPr/>
                </p:nvSpPr>
                <p:spPr>
                  <a:xfrm>
                    <a:off x="126900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Freeform: Shape 12"/>
                  <p:cNvSpPr/>
                  <p:nvPr/>
                </p:nvSpPr>
                <p:spPr>
                  <a:xfrm>
                    <a:off x="288684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" name="Freeform: Shape 13"/>
                  <p:cNvSpPr/>
                  <p:nvPr/>
                </p:nvSpPr>
                <p:spPr>
                  <a:xfrm>
                    <a:off x="4528440" y="440676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" name="Freeform: Shape 14"/>
                  <p:cNvSpPr/>
                  <p:nvPr/>
                </p:nvSpPr>
                <p:spPr>
                  <a:xfrm>
                    <a:off x="614808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Freeform: Shape 15"/>
                  <p:cNvSpPr/>
                  <p:nvPr/>
                </p:nvSpPr>
                <p:spPr>
                  <a:xfrm>
                    <a:off x="776592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Freeform: Shape 16"/>
                  <p:cNvSpPr/>
                  <p:nvPr/>
                </p:nvSpPr>
                <p:spPr>
                  <a:xfrm>
                    <a:off x="126900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" name="Freeform: Shape 17"/>
                  <p:cNvSpPr/>
                  <p:nvPr/>
                </p:nvSpPr>
                <p:spPr>
                  <a:xfrm>
                    <a:off x="288684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Freeform: Shape 18"/>
                  <p:cNvSpPr/>
                  <p:nvPr/>
                </p:nvSpPr>
                <p:spPr>
                  <a:xfrm>
                    <a:off x="4528440" y="560556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" name="Freeform: Shape 19"/>
                  <p:cNvSpPr/>
                  <p:nvPr/>
                </p:nvSpPr>
                <p:spPr>
                  <a:xfrm>
                    <a:off x="614808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" name="Freeform: Shape 20"/>
                  <p:cNvSpPr/>
                  <p:nvPr/>
                </p:nvSpPr>
                <p:spPr>
                  <a:xfrm>
                    <a:off x="776592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4" name="Straight Connector 22"/>
                <p:cNvSpPr/>
                <p:nvPr/>
              </p:nvSpPr>
              <p:spPr>
                <a:xfrm>
                  <a:off x="1226520" y="1371240"/>
                  <a:ext cx="8143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Straight Connector 23"/>
                <p:cNvSpPr/>
                <p:nvPr/>
              </p:nvSpPr>
              <p:spPr>
                <a:xfrm>
                  <a:off x="2888640" y="1380960"/>
                  <a:ext cx="0" cy="61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Straight Connector 24"/>
                <p:cNvSpPr/>
                <p:nvPr/>
              </p:nvSpPr>
              <p:spPr>
                <a:xfrm flipV="1">
                  <a:off x="4527000" y="1389960"/>
                  <a:ext cx="0" cy="56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Straight Connector 25"/>
                <p:cNvSpPr/>
                <p:nvPr/>
              </p:nvSpPr>
              <p:spPr>
                <a:xfrm flipV="1">
                  <a:off x="6140160" y="1352520"/>
                  <a:ext cx="0" cy="61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Straight Connector 26"/>
                <p:cNvSpPr/>
                <p:nvPr/>
              </p:nvSpPr>
              <p:spPr>
                <a:xfrm>
                  <a:off x="7780320" y="1380960"/>
                  <a:ext cx="0" cy="60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traight Connector 27"/>
                <p:cNvSpPr/>
                <p:nvPr/>
              </p:nvSpPr>
              <p:spPr>
                <a:xfrm flipV="1">
                  <a:off x="1256400" y="1361520"/>
                  <a:ext cx="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Straight Connector 28"/>
                <p:cNvSpPr/>
                <p:nvPr/>
              </p:nvSpPr>
              <p:spPr>
                <a:xfrm flipV="1">
                  <a:off x="9380880" y="1400040"/>
                  <a:ext cx="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1" name="Straight Connector 30"/>
              <p:cNvSpPr/>
              <p:nvPr/>
            </p:nvSpPr>
            <p:spPr>
              <a:xfrm>
                <a:off x="1285560" y="2600280"/>
                <a:ext cx="809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Straight Connector 31"/>
              <p:cNvSpPr/>
              <p:nvPr/>
            </p:nvSpPr>
            <p:spPr>
              <a:xfrm>
                <a:off x="1269720" y="3787920"/>
                <a:ext cx="809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Straight Connector 32"/>
              <p:cNvSpPr/>
              <p:nvPr/>
            </p:nvSpPr>
            <p:spPr>
              <a:xfrm>
                <a:off x="1279440" y="4992840"/>
                <a:ext cx="809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Box 33"/>
              <p:cNvSpPr/>
              <p:nvPr/>
            </p:nvSpPr>
            <p:spPr>
              <a:xfrm>
                <a:off x="691920" y="3289320"/>
                <a:ext cx="50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TextBox 34"/>
              <p:cNvSpPr/>
              <p:nvPr/>
            </p:nvSpPr>
            <p:spPr>
              <a:xfrm>
                <a:off x="702000" y="3873600"/>
                <a:ext cx="524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xtBox 35"/>
              <p:cNvSpPr/>
              <p:nvPr/>
            </p:nvSpPr>
            <p:spPr>
              <a:xfrm>
                <a:off x="685800" y="2133360"/>
                <a:ext cx="54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Box 36"/>
              <p:cNvSpPr/>
              <p:nvPr/>
            </p:nvSpPr>
            <p:spPr>
              <a:xfrm>
                <a:off x="688680" y="2679480"/>
                <a:ext cx="537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37"/>
              <p:cNvSpPr/>
              <p:nvPr/>
            </p:nvSpPr>
            <p:spPr>
              <a:xfrm>
                <a:off x="702000" y="5092560"/>
                <a:ext cx="49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Box 38"/>
              <p:cNvSpPr/>
              <p:nvPr/>
            </p:nvSpPr>
            <p:spPr>
              <a:xfrm>
                <a:off x="702000" y="4483080"/>
                <a:ext cx="49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TextBox 40"/>
            <p:cNvSpPr/>
            <p:nvPr/>
          </p:nvSpPr>
          <p:spPr>
            <a:xfrm>
              <a:off x="4107600" y="965160"/>
              <a:ext cx="23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Mein Stundenpl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3" descr=""/>
          <p:cNvPicPr/>
          <p:nvPr/>
        </p:nvPicPr>
        <p:blipFill>
          <a:blip r:embed="rId1">
            <a:alphaModFix amt="0"/>
          </a:blip>
          <a:stretch/>
        </p:blipFill>
        <p:spPr>
          <a:xfrm rot="1143000">
            <a:off x="8762760" y="501660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4"/>
          <p:cNvSpPr/>
          <p:nvPr/>
        </p:nvSpPr>
        <p:spPr>
          <a:xfrm>
            <a:off x="7416720" y="71629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5"/>
          <p:cNvSpPr/>
          <p:nvPr/>
        </p:nvSpPr>
        <p:spPr>
          <a:xfrm>
            <a:off x="6121440" y="78231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6"/>
          <p:cNvSpPr/>
          <p:nvPr/>
        </p:nvSpPr>
        <p:spPr>
          <a:xfrm>
            <a:off x="4406760" y="78105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on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7"/>
          <p:cNvSpPr/>
          <p:nvPr/>
        </p:nvSpPr>
        <p:spPr>
          <a:xfrm>
            <a:off x="190440" y="7404120"/>
            <a:ext cx="11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ien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8"/>
          <p:cNvSpPr/>
          <p:nvPr/>
        </p:nvSpPr>
        <p:spPr>
          <a:xfrm>
            <a:off x="2717640" y="735336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ittwo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9"/>
          <p:cNvSpPr/>
          <p:nvPr/>
        </p:nvSpPr>
        <p:spPr>
          <a:xfrm>
            <a:off x="7658280" y="7709040"/>
            <a:ext cx="14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onner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0"/>
          <p:cNvSpPr/>
          <p:nvPr/>
        </p:nvSpPr>
        <p:spPr>
          <a:xfrm>
            <a:off x="6159600" y="734076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Frei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1"/>
          <p:cNvSpPr/>
          <p:nvPr/>
        </p:nvSpPr>
        <p:spPr>
          <a:xfrm>
            <a:off x="8312040" y="7113600"/>
            <a:ext cx="16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300"/>
                </a:solidFill>
                <a:latin typeface="Verdana"/>
                <a:ea typeface="Verdana"/>
              </a:rPr>
              <a:t>Haus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2"/>
          <p:cNvSpPr/>
          <p:nvPr/>
        </p:nvSpPr>
        <p:spPr>
          <a:xfrm>
            <a:off x="673200" y="78487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3"/>
          <p:cNvSpPr/>
          <p:nvPr/>
        </p:nvSpPr>
        <p:spPr>
          <a:xfrm>
            <a:off x="1765440" y="7149960"/>
            <a:ext cx="8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5054760" y="734076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5"/>
          <p:cNvSpPr/>
          <p:nvPr/>
        </p:nvSpPr>
        <p:spPr>
          <a:xfrm>
            <a:off x="3708360" y="6997680"/>
            <a:ext cx="111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Religion / Eth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6"/>
          <p:cNvSpPr/>
          <p:nvPr/>
        </p:nvSpPr>
        <p:spPr>
          <a:xfrm>
            <a:off x="5842080" y="69213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7"/>
          <p:cNvSpPr/>
          <p:nvPr/>
        </p:nvSpPr>
        <p:spPr>
          <a:xfrm>
            <a:off x="2666880" y="787392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8"/>
          <p:cNvSpPr/>
          <p:nvPr/>
        </p:nvSpPr>
        <p:spPr>
          <a:xfrm>
            <a:off x="685800" y="7035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0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-96840" y="-7920"/>
            <a:ext cx="1560600" cy="1136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1"/>
          <p:cNvSpPr/>
          <p:nvPr/>
        </p:nvSpPr>
        <p:spPr>
          <a:xfrm>
            <a:off x="1397160" y="152280"/>
            <a:ext cx="919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See the days of the week and the subjects into the timetable and form sentences like:</a:t>
            </a:r>
            <a:r>
              <a:rPr b="1" i="1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 /'In der ersten/zweiten/dritten/vierten/fünften/sechsten Stunde habe ich ...‘  'Am ... (Montag) habe ich ...'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6"/>
          <p:cNvSpPr/>
          <p:nvPr/>
        </p:nvSpPr>
        <p:spPr>
          <a:xfrm>
            <a:off x="1569960" y="15397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on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1592280" y="213840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7"/>
          <p:cNvSpPr/>
          <p:nvPr/>
        </p:nvSpPr>
        <p:spPr>
          <a:xfrm>
            <a:off x="4600440" y="213516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7"/>
          <p:cNvSpPr/>
          <p:nvPr/>
        </p:nvSpPr>
        <p:spPr>
          <a:xfrm>
            <a:off x="7829640" y="215280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4"/>
          <p:cNvSpPr/>
          <p:nvPr/>
        </p:nvSpPr>
        <p:spPr>
          <a:xfrm>
            <a:off x="1636560" y="2698920"/>
            <a:ext cx="8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4"/>
          <p:cNvSpPr/>
          <p:nvPr/>
        </p:nvSpPr>
        <p:spPr>
          <a:xfrm>
            <a:off x="3138480" y="33336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4"/>
          <p:cNvSpPr/>
          <p:nvPr/>
        </p:nvSpPr>
        <p:spPr>
          <a:xfrm>
            <a:off x="4603680" y="27129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4"/>
          <p:cNvSpPr/>
          <p:nvPr/>
        </p:nvSpPr>
        <p:spPr>
          <a:xfrm>
            <a:off x="6210360" y="33386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7"/>
          <p:cNvSpPr/>
          <p:nvPr/>
        </p:nvSpPr>
        <p:spPr>
          <a:xfrm>
            <a:off x="6200640" y="272880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7"/>
          <p:cNvSpPr/>
          <p:nvPr/>
        </p:nvSpPr>
        <p:spPr>
          <a:xfrm>
            <a:off x="3084480" y="453564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5"/>
          <p:cNvSpPr/>
          <p:nvPr/>
        </p:nvSpPr>
        <p:spPr>
          <a:xfrm>
            <a:off x="1568520" y="33368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7791480" y="33512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3095640" y="2143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5"/>
          <p:cNvSpPr/>
          <p:nvPr/>
        </p:nvSpPr>
        <p:spPr>
          <a:xfrm>
            <a:off x="6237360" y="21398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3041640" y="1535040"/>
            <a:ext cx="11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ien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4587840" y="15508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ittwo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6114960" y="15494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onner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805880" y="156060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Frei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1319040" y="5111640"/>
            <a:ext cx="16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300"/>
                </a:solidFill>
                <a:latin typeface="Verdana"/>
                <a:ea typeface="Verdana"/>
              </a:rPr>
              <a:t>Haus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8"/>
          <p:cNvSpPr/>
          <p:nvPr/>
        </p:nvSpPr>
        <p:spPr>
          <a:xfrm>
            <a:off x="1574640" y="4533840"/>
            <a:ext cx="10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6"/>
          <p:cNvSpPr/>
          <p:nvPr/>
        </p:nvSpPr>
        <p:spPr>
          <a:xfrm>
            <a:off x="4610160" y="5111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4"/>
          <p:cNvSpPr/>
          <p:nvPr/>
        </p:nvSpPr>
        <p:spPr>
          <a:xfrm>
            <a:off x="3144960" y="272088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4"/>
          <p:cNvSpPr/>
          <p:nvPr/>
        </p:nvSpPr>
        <p:spPr>
          <a:xfrm>
            <a:off x="7824960" y="2720880"/>
            <a:ext cx="8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5"/>
          <p:cNvSpPr/>
          <p:nvPr/>
        </p:nvSpPr>
        <p:spPr>
          <a:xfrm>
            <a:off x="3079800" y="3867120"/>
            <a:ext cx="111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Religion / Eth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5"/>
          <p:cNvSpPr/>
          <p:nvPr/>
        </p:nvSpPr>
        <p:spPr>
          <a:xfrm>
            <a:off x="6188040" y="38941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och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4"/>
          <p:cNvSpPr/>
          <p:nvPr/>
        </p:nvSpPr>
        <p:spPr>
          <a:xfrm>
            <a:off x="4578480" y="392112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2"/>
          <p:cNvSpPr/>
          <p:nvPr/>
        </p:nvSpPr>
        <p:spPr>
          <a:xfrm>
            <a:off x="4535640" y="45403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2"/>
          <p:cNvSpPr/>
          <p:nvPr/>
        </p:nvSpPr>
        <p:spPr>
          <a:xfrm>
            <a:off x="7758000" y="39574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3"/>
          <p:cNvSpPr/>
          <p:nvPr/>
        </p:nvSpPr>
        <p:spPr>
          <a:xfrm>
            <a:off x="1579680" y="3909960"/>
            <a:ext cx="8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3"/>
          <p:cNvSpPr/>
          <p:nvPr/>
        </p:nvSpPr>
        <p:spPr>
          <a:xfrm>
            <a:off x="6234120" y="4532400"/>
            <a:ext cx="8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8"/>
          <p:cNvSpPr/>
          <p:nvPr/>
        </p:nvSpPr>
        <p:spPr>
          <a:xfrm>
            <a:off x="7794720" y="45594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6"/>
          <p:cNvSpPr/>
          <p:nvPr/>
        </p:nvSpPr>
        <p:spPr>
          <a:xfrm>
            <a:off x="7816680" y="51339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1"/>
          <p:cNvSpPr/>
          <p:nvPr/>
        </p:nvSpPr>
        <p:spPr>
          <a:xfrm>
            <a:off x="6135840" y="5111640"/>
            <a:ext cx="16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300"/>
                </a:solidFill>
                <a:latin typeface="Verdana"/>
                <a:ea typeface="Verdana"/>
              </a:rPr>
              <a:t>Haus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8"/>
          <p:cNvSpPr/>
          <p:nvPr/>
        </p:nvSpPr>
        <p:spPr>
          <a:xfrm>
            <a:off x="4589640" y="3336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2"/>
          <p:cNvSpPr/>
          <p:nvPr/>
        </p:nvSpPr>
        <p:spPr>
          <a:xfrm>
            <a:off x="2984400" y="51181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2"/>
          <p:cNvSpPr/>
          <p:nvPr/>
        </p:nvSpPr>
        <p:spPr>
          <a:xfrm>
            <a:off x="1463760" y="845028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och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2"/>
          <p:cNvGrpSpPr/>
          <p:nvPr/>
        </p:nvGrpSpPr>
        <p:grpSpPr>
          <a:xfrm>
            <a:off x="341280" y="495360"/>
            <a:ext cx="9151920" cy="6340320"/>
            <a:chOff x="341280" y="495360"/>
            <a:chExt cx="9151920" cy="6340320"/>
          </a:xfrm>
        </p:grpSpPr>
        <p:grpSp>
          <p:nvGrpSpPr>
            <p:cNvPr id="146" name="Group 8"/>
            <p:cNvGrpSpPr/>
            <p:nvPr/>
          </p:nvGrpSpPr>
          <p:grpSpPr>
            <a:xfrm>
              <a:off x="341280" y="495360"/>
              <a:ext cx="9151920" cy="6340320"/>
              <a:chOff x="341280" y="495360"/>
              <a:chExt cx="9151920" cy="6340320"/>
            </a:xfrm>
          </p:grpSpPr>
          <p:grpSp>
            <p:nvGrpSpPr>
              <p:cNvPr id="147" name="Group 4"/>
              <p:cNvGrpSpPr/>
              <p:nvPr/>
            </p:nvGrpSpPr>
            <p:grpSpPr>
              <a:xfrm>
                <a:off x="341280" y="495360"/>
                <a:ext cx="9151920" cy="6340320"/>
                <a:chOff x="341280" y="495360"/>
                <a:chExt cx="9151920" cy="6340320"/>
              </a:xfrm>
            </p:grpSpPr>
            <p:pic>
              <p:nvPicPr>
                <p:cNvPr id="148" name="Picture 2" descr=""/>
                <p:cNvPicPr/>
                <p:nvPr/>
              </p:nvPicPr>
              <p:blipFill>
                <a:blip r:embed="rId1">
                  <a:alphaModFix amt="0"/>
                </a:blip>
                <a:stretch/>
              </p:blipFill>
              <p:spPr>
                <a:xfrm>
                  <a:off x="341280" y="495360"/>
                  <a:ext cx="9151920" cy="634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Box 3"/>
                <p:cNvSpPr/>
                <p:nvPr/>
              </p:nvSpPr>
              <p:spPr>
                <a:xfrm>
                  <a:off x="3517920" y="838080"/>
                  <a:ext cx="313776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0000"/>
                      </a:solidFill>
                      <a:latin typeface="Verdana"/>
                      <a:ea typeface="Verdana"/>
                    </a:rPr>
                    <a:t>Franzi's Kalender</a:t>
                  </a:r>
                  <a:endParaRPr b="0" lang="en-US" sz="1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0" name="Group 7"/>
              <p:cNvGrpSpPr/>
              <p:nvPr/>
            </p:nvGrpSpPr>
            <p:grpSpPr>
              <a:xfrm>
                <a:off x="2419920" y="838080"/>
                <a:ext cx="4995000" cy="578880"/>
                <a:chOff x="2419920" y="838080"/>
                <a:chExt cx="4995000" cy="578880"/>
              </a:xfrm>
            </p:grpSpPr>
            <p:sp>
              <p:nvSpPr>
                <p:cNvPr id="151" name="Freeform: Shape 5"/>
                <p:cNvSpPr/>
                <p:nvPr/>
              </p:nvSpPr>
              <p:spPr>
                <a:xfrm>
                  <a:off x="2419920" y="840960"/>
                  <a:ext cx="4995000" cy="576000"/>
                </a:xfrm>
                <a:custGeom>
                  <a:avLst/>
                  <a:gdLst>
                    <a:gd name="textAreaLeft" fmla="*/ 0 w 4995000"/>
                    <a:gd name="textAreaRight" fmla="*/ 4995360 w 499500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4995331" h="575488">
                      <a:moveTo>
                        <a:pt x="0" y="0"/>
                      </a:moveTo>
                      <a:lnTo>
                        <a:pt x="4995330" y="0"/>
                      </a:lnTo>
                      <a:lnTo>
                        <a:pt x="4995330" y="575487"/>
                      </a:lnTo>
                      <a:lnTo>
                        <a:pt x="0" y="5754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extBox 6"/>
                <p:cNvSpPr/>
                <p:nvPr/>
              </p:nvSpPr>
              <p:spPr>
                <a:xfrm>
                  <a:off x="2540880" y="838080"/>
                  <a:ext cx="47750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0" spc="-1" strike="noStrike">
                      <a:solidFill>
                        <a:srgbClr val="000000"/>
                      </a:solidFill>
                      <a:latin typeface="Verdana"/>
                      <a:ea typeface="Verdana"/>
                    </a:rPr>
                    <a:t>Wir buchstabieren!</a:t>
                  </a:r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3" name="Group 11"/>
            <p:cNvGrpSpPr/>
            <p:nvPr/>
          </p:nvGrpSpPr>
          <p:grpSpPr>
            <a:xfrm>
              <a:off x="2222280" y="799920"/>
              <a:ext cx="5730840" cy="696600"/>
              <a:chOff x="2222280" y="799920"/>
              <a:chExt cx="5730840" cy="696600"/>
            </a:xfrm>
          </p:grpSpPr>
          <p:sp>
            <p:nvSpPr>
              <p:cNvPr id="154" name="Freeform: Shape 9"/>
              <p:cNvSpPr/>
              <p:nvPr/>
            </p:nvSpPr>
            <p:spPr>
              <a:xfrm>
                <a:off x="2222280" y="799920"/>
                <a:ext cx="5246640" cy="696600"/>
              </a:xfrm>
              <a:custGeom>
                <a:avLst/>
                <a:gdLst>
                  <a:gd name="textAreaLeft" fmla="*/ 0 w 5246640"/>
                  <a:gd name="textAreaRight" fmla="*/ 5247000 w 524664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5245525" h="696888">
                    <a:moveTo>
                      <a:pt x="0" y="0"/>
                    </a:moveTo>
                    <a:lnTo>
                      <a:pt x="5245524" y="0"/>
                    </a:lnTo>
                    <a:lnTo>
                      <a:pt x="5245524" y="696887"/>
                    </a:lnTo>
                    <a:lnTo>
                      <a:pt x="0" y="696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Box 10"/>
              <p:cNvSpPr/>
              <p:nvPr/>
            </p:nvSpPr>
            <p:spPr>
              <a:xfrm>
                <a:off x="2691360" y="952200"/>
                <a:ext cx="52617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Wie heißt das Schulfach?</a:t>
                </a: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6" name="Group 16"/>
          <p:cNvGrpSpPr/>
          <p:nvPr/>
        </p:nvGrpSpPr>
        <p:grpSpPr>
          <a:xfrm>
            <a:off x="5613120" y="5122800"/>
            <a:ext cx="2981160" cy="4029120"/>
            <a:chOff x="5613120" y="5122800"/>
            <a:chExt cx="2981160" cy="4029120"/>
          </a:xfrm>
        </p:grpSpPr>
        <p:pic>
          <p:nvPicPr>
            <p:cNvPr id="157" name="Picture 14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 flipH="1">
              <a:off x="6076800" y="6203880"/>
              <a:ext cx="2517480" cy="29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Straight Connector 15"/>
            <p:cNvSpPr/>
            <p:nvPr/>
          </p:nvSpPr>
          <p:spPr>
            <a:xfrm flipH="1" flipV="1">
              <a:off x="5613120" y="5122800"/>
              <a:ext cx="1106280" cy="14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17"/>
          <p:cNvSpPr/>
          <p:nvPr/>
        </p:nvSpPr>
        <p:spPr>
          <a:xfrm>
            <a:off x="1346040" y="2692440"/>
            <a:ext cx="237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6438960" y="5105520"/>
            <a:ext cx="196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241880" y="4826160"/>
            <a:ext cx="12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3733920" y="2971800"/>
            <a:ext cx="1481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6654960" y="209556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Religion / Eth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1384200" y="4813200"/>
            <a:ext cx="159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162240" y="19810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Hausaufga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1587600" y="3746520"/>
            <a:ext cx="23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Biolog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5943600" y="4076640"/>
            <a:ext cx="23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Geschich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066680" y="1663560"/>
            <a:ext cx="237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3924360" y="3962520"/>
            <a:ext cx="146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6324480" y="2971800"/>
            <a:ext cx="232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36"/>
          <p:cNvGrpSpPr/>
          <p:nvPr/>
        </p:nvGrpSpPr>
        <p:grpSpPr>
          <a:xfrm>
            <a:off x="1575720" y="2918520"/>
            <a:ext cx="1968840" cy="2070360"/>
            <a:chOff x="1575720" y="2918520"/>
            <a:chExt cx="1968840" cy="2070360"/>
          </a:xfrm>
        </p:grpSpPr>
        <p:sp>
          <p:nvSpPr>
            <p:cNvPr id="172" name="Freeform: Shape 29"/>
            <p:cNvSpPr/>
            <p:nvPr/>
          </p:nvSpPr>
          <p:spPr>
            <a:xfrm rot="3391800">
              <a:off x="3300120" y="4147200"/>
              <a:ext cx="185760" cy="2156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7199" h="216282">
                  <a:moveTo>
                    <a:pt x="128143" y="65659"/>
                  </a:moveTo>
                  <a:lnTo>
                    <a:pt x="116840" y="55118"/>
                  </a:lnTo>
                  <a:lnTo>
                    <a:pt x="104648" y="46990"/>
                  </a:lnTo>
                  <a:lnTo>
                    <a:pt x="90551" y="40386"/>
                  </a:lnTo>
                  <a:lnTo>
                    <a:pt x="73914" y="34544"/>
                  </a:lnTo>
                  <a:lnTo>
                    <a:pt x="53721" y="28448"/>
                  </a:lnTo>
                  <a:lnTo>
                    <a:pt x="42164" y="25146"/>
                  </a:lnTo>
                  <a:lnTo>
                    <a:pt x="29337" y="21209"/>
                  </a:lnTo>
                  <a:lnTo>
                    <a:pt x="15367" y="17018"/>
                  </a:lnTo>
                  <a:lnTo>
                    <a:pt x="0" y="12065"/>
                  </a:lnTo>
                  <a:lnTo>
                    <a:pt x="18542" y="6350"/>
                  </a:lnTo>
                  <a:lnTo>
                    <a:pt x="36068" y="2540"/>
                  </a:lnTo>
                  <a:lnTo>
                    <a:pt x="52324" y="381"/>
                  </a:lnTo>
                  <a:lnTo>
                    <a:pt x="67691" y="0"/>
                  </a:lnTo>
                  <a:lnTo>
                    <a:pt x="82169" y="1143"/>
                  </a:lnTo>
                  <a:lnTo>
                    <a:pt x="95377" y="3810"/>
                  </a:lnTo>
                  <a:lnTo>
                    <a:pt x="107569" y="7747"/>
                  </a:lnTo>
                  <a:lnTo>
                    <a:pt x="118999" y="13081"/>
                  </a:lnTo>
                  <a:lnTo>
                    <a:pt x="129286" y="19304"/>
                  </a:lnTo>
                  <a:lnTo>
                    <a:pt x="138684" y="26543"/>
                  </a:lnTo>
                  <a:lnTo>
                    <a:pt x="147193" y="34798"/>
                  </a:lnTo>
                  <a:lnTo>
                    <a:pt x="154813" y="43815"/>
                  </a:lnTo>
                  <a:lnTo>
                    <a:pt x="161544" y="53594"/>
                  </a:lnTo>
                  <a:lnTo>
                    <a:pt x="167513" y="63754"/>
                  </a:lnTo>
                  <a:lnTo>
                    <a:pt x="176911" y="85471"/>
                  </a:lnTo>
                  <a:lnTo>
                    <a:pt x="183261" y="108077"/>
                  </a:lnTo>
                  <a:lnTo>
                    <a:pt x="186563" y="130683"/>
                  </a:lnTo>
                  <a:lnTo>
                    <a:pt x="187198" y="152400"/>
                  </a:lnTo>
                  <a:lnTo>
                    <a:pt x="185293" y="172212"/>
                  </a:lnTo>
                  <a:lnTo>
                    <a:pt x="183515" y="181229"/>
                  </a:lnTo>
                  <a:lnTo>
                    <a:pt x="180975" y="189484"/>
                  </a:lnTo>
                  <a:lnTo>
                    <a:pt x="178054" y="196850"/>
                  </a:lnTo>
                  <a:lnTo>
                    <a:pt x="174498" y="203200"/>
                  </a:lnTo>
                  <a:lnTo>
                    <a:pt x="170434" y="208407"/>
                  </a:lnTo>
                  <a:lnTo>
                    <a:pt x="165862" y="212471"/>
                  </a:lnTo>
                  <a:lnTo>
                    <a:pt x="160909" y="215011"/>
                  </a:lnTo>
                  <a:lnTo>
                    <a:pt x="155448" y="216281"/>
                  </a:lnTo>
                  <a:lnTo>
                    <a:pt x="159131" y="200533"/>
                  </a:lnTo>
                  <a:lnTo>
                    <a:pt x="161544" y="183515"/>
                  </a:lnTo>
                  <a:lnTo>
                    <a:pt x="162433" y="165481"/>
                  </a:lnTo>
                  <a:lnTo>
                    <a:pt x="161671" y="147066"/>
                  </a:lnTo>
                  <a:lnTo>
                    <a:pt x="159131" y="128778"/>
                  </a:lnTo>
                  <a:lnTo>
                    <a:pt x="154686" y="110998"/>
                  </a:lnTo>
                  <a:lnTo>
                    <a:pt x="148082" y="94361"/>
                  </a:lnTo>
                  <a:lnTo>
                    <a:pt x="139192" y="79375"/>
                  </a:lnTo>
                  <a:lnTo>
                    <a:pt x="128143" y="6565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: Shape 30"/>
            <p:cNvSpPr/>
            <p:nvPr/>
          </p:nvSpPr>
          <p:spPr>
            <a:xfrm rot="3391800">
              <a:off x="3191400" y="4105080"/>
              <a:ext cx="255600" cy="249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54890" h="250572">
                  <a:moveTo>
                    <a:pt x="113919" y="1778"/>
                  </a:moveTo>
                  <a:lnTo>
                    <a:pt x="137287" y="5080"/>
                  </a:lnTo>
                  <a:lnTo>
                    <a:pt x="158115" y="9906"/>
                  </a:lnTo>
                  <a:lnTo>
                    <a:pt x="176911" y="16256"/>
                  </a:lnTo>
                  <a:lnTo>
                    <a:pt x="193421" y="23876"/>
                  </a:lnTo>
                  <a:lnTo>
                    <a:pt x="207772" y="33020"/>
                  </a:lnTo>
                  <a:lnTo>
                    <a:pt x="219964" y="43306"/>
                  </a:lnTo>
                  <a:lnTo>
                    <a:pt x="230251" y="54864"/>
                  </a:lnTo>
                  <a:lnTo>
                    <a:pt x="238760" y="67437"/>
                  </a:lnTo>
                  <a:lnTo>
                    <a:pt x="245364" y="81153"/>
                  </a:lnTo>
                  <a:lnTo>
                    <a:pt x="250063" y="95758"/>
                  </a:lnTo>
                  <a:lnTo>
                    <a:pt x="253365" y="111252"/>
                  </a:lnTo>
                  <a:lnTo>
                    <a:pt x="254889" y="127635"/>
                  </a:lnTo>
                  <a:lnTo>
                    <a:pt x="254889" y="144780"/>
                  </a:lnTo>
                  <a:lnTo>
                    <a:pt x="253365" y="162560"/>
                  </a:lnTo>
                  <a:lnTo>
                    <a:pt x="250571" y="180975"/>
                  </a:lnTo>
                  <a:lnTo>
                    <a:pt x="243078" y="190881"/>
                  </a:lnTo>
                  <a:lnTo>
                    <a:pt x="236093" y="199771"/>
                  </a:lnTo>
                  <a:lnTo>
                    <a:pt x="221234" y="215900"/>
                  </a:lnTo>
                  <a:lnTo>
                    <a:pt x="212725" y="223774"/>
                  </a:lnTo>
                  <a:lnTo>
                    <a:pt x="202692" y="231902"/>
                  </a:lnTo>
                  <a:lnTo>
                    <a:pt x="190754" y="240665"/>
                  </a:lnTo>
                  <a:lnTo>
                    <a:pt x="176403" y="250571"/>
                  </a:lnTo>
                  <a:lnTo>
                    <a:pt x="171831" y="218693"/>
                  </a:lnTo>
                  <a:lnTo>
                    <a:pt x="168021" y="203200"/>
                  </a:lnTo>
                  <a:lnTo>
                    <a:pt x="163195" y="187833"/>
                  </a:lnTo>
                  <a:lnTo>
                    <a:pt x="157226" y="173101"/>
                  </a:lnTo>
                  <a:lnTo>
                    <a:pt x="149987" y="158623"/>
                  </a:lnTo>
                  <a:lnTo>
                    <a:pt x="141478" y="144906"/>
                  </a:lnTo>
                  <a:lnTo>
                    <a:pt x="131826" y="131699"/>
                  </a:lnTo>
                  <a:lnTo>
                    <a:pt x="120523" y="119253"/>
                  </a:lnTo>
                  <a:lnTo>
                    <a:pt x="108077" y="107568"/>
                  </a:lnTo>
                  <a:lnTo>
                    <a:pt x="93980" y="96647"/>
                  </a:lnTo>
                  <a:lnTo>
                    <a:pt x="78486" y="86868"/>
                  </a:lnTo>
                  <a:lnTo>
                    <a:pt x="61341" y="77978"/>
                  </a:lnTo>
                  <a:lnTo>
                    <a:pt x="42672" y="70231"/>
                  </a:lnTo>
                  <a:lnTo>
                    <a:pt x="22225" y="63500"/>
                  </a:lnTo>
                  <a:lnTo>
                    <a:pt x="0" y="58039"/>
                  </a:lnTo>
                  <a:lnTo>
                    <a:pt x="16383" y="44450"/>
                  </a:lnTo>
                  <a:lnTo>
                    <a:pt x="35433" y="30861"/>
                  </a:lnTo>
                  <a:lnTo>
                    <a:pt x="46482" y="23622"/>
                  </a:lnTo>
                  <a:lnTo>
                    <a:pt x="58801" y="16256"/>
                  </a:lnTo>
                  <a:lnTo>
                    <a:pt x="72517" y="8509"/>
                  </a:lnTo>
                  <a:lnTo>
                    <a:pt x="88265" y="0"/>
                  </a:lnTo>
                  <a:lnTo>
                    <a:pt x="113919" y="1778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: Shape 31"/>
            <p:cNvSpPr/>
            <p:nvPr/>
          </p:nvSpPr>
          <p:spPr>
            <a:xfrm rot="3391800">
              <a:off x="1975680" y="3487680"/>
              <a:ext cx="1244880" cy="973440"/>
            </a:xfrm>
            <a:custGeom>
              <a:avLst/>
              <a:gdLst>
                <a:gd name="textAreaLeft" fmla="*/ 0 w 1244880"/>
                <a:gd name="textAreaRight" fmla="*/ 1245240 w 1244880"/>
                <a:gd name="textAreaTop" fmla="*/ 0 h 973440"/>
                <a:gd name="textAreaBottom" fmla="*/ 973800 h 973440"/>
              </a:gdLst>
              <a:ahLst/>
              <a:rect l="textAreaLeft" t="textAreaTop" r="textAreaRight" b="textAreaBottom"/>
              <a:pathLst>
                <a:path w="1243458" h="973583">
                  <a:moveTo>
                    <a:pt x="1243457" y="69596"/>
                  </a:moveTo>
                  <a:lnTo>
                    <a:pt x="1212977" y="94488"/>
                  </a:lnTo>
                  <a:lnTo>
                    <a:pt x="1181354" y="119888"/>
                  </a:lnTo>
                  <a:lnTo>
                    <a:pt x="1148715" y="146050"/>
                  </a:lnTo>
                  <a:lnTo>
                    <a:pt x="1115060" y="172593"/>
                  </a:lnTo>
                  <a:lnTo>
                    <a:pt x="1080389" y="199517"/>
                  </a:lnTo>
                  <a:lnTo>
                    <a:pt x="1044956" y="226949"/>
                  </a:lnTo>
                  <a:lnTo>
                    <a:pt x="971423" y="283083"/>
                  </a:lnTo>
                  <a:lnTo>
                    <a:pt x="895350" y="340360"/>
                  </a:lnTo>
                  <a:lnTo>
                    <a:pt x="817245" y="398780"/>
                  </a:lnTo>
                  <a:lnTo>
                    <a:pt x="737616" y="457835"/>
                  </a:lnTo>
                  <a:lnTo>
                    <a:pt x="656971" y="517398"/>
                  </a:lnTo>
                  <a:lnTo>
                    <a:pt x="495173" y="636397"/>
                  </a:lnTo>
                  <a:lnTo>
                    <a:pt x="415036" y="695325"/>
                  </a:lnTo>
                  <a:lnTo>
                    <a:pt x="336423" y="753364"/>
                  </a:lnTo>
                  <a:lnTo>
                    <a:pt x="259588" y="810514"/>
                  </a:lnTo>
                  <a:lnTo>
                    <a:pt x="185293" y="866140"/>
                  </a:lnTo>
                  <a:lnTo>
                    <a:pt x="149098" y="893317"/>
                  </a:lnTo>
                  <a:lnTo>
                    <a:pt x="113919" y="920115"/>
                  </a:lnTo>
                  <a:lnTo>
                    <a:pt x="79629" y="946404"/>
                  </a:lnTo>
                  <a:lnTo>
                    <a:pt x="46228" y="972058"/>
                  </a:lnTo>
                  <a:lnTo>
                    <a:pt x="42926" y="973328"/>
                  </a:lnTo>
                  <a:lnTo>
                    <a:pt x="38989" y="973582"/>
                  </a:lnTo>
                  <a:lnTo>
                    <a:pt x="34798" y="972820"/>
                  </a:lnTo>
                  <a:lnTo>
                    <a:pt x="30226" y="971169"/>
                  </a:lnTo>
                  <a:lnTo>
                    <a:pt x="20955" y="965200"/>
                  </a:lnTo>
                  <a:lnTo>
                    <a:pt x="12319" y="956183"/>
                  </a:lnTo>
                  <a:lnTo>
                    <a:pt x="8382" y="950467"/>
                  </a:lnTo>
                  <a:lnTo>
                    <a:pt x="5207" y="944117"/>
                  </a:lnTo>
                  <a:lnTo>
                    <a:pt x="2667" y="937005"/>
                  </a:lnTo>
                  <a:lnTo>
                    <a:pt x="889" y="929258"/>
                  </a:lnTo>
                  <a:lnTo>
                    <a:pt x="0" y="921004"/>
                  </a:lnTo>
                  <a:lnTo>
                    <a:pt x="254" y="912241"/>
                  </a:lnTo>
                  <a:lnTo>
                    <a:pt x="1651" y="902970"/>
                  </a:lnTo>
                  <a:lnTo>
                    <a:pt x="4445" y="893191"/>
                  </a:lnTo>
                  <a:lnTo>
                    <a:pt x="34417" y="870077"/>
                  </a:lnTo>
                  <a:lnTo>
                    <a:pt x="65532" y="845820"/>
                  </a:lnTo>
                  <a:lnTo>
                    <a:pt x="97917" y="820928"/>
                  </a:lnTo>
                  <a:lnTo>
                    <a:pt x="131191" y="794892"/>
                  </a:lnTo>
                  <a:lnTo>
                    <a:pt x="165481" y="768096"/>
                  </a:lnTo>
                  <a:lnTo>
                    <a:pt x="200533" y="740664"/>
                  </a:lnTo>
                  <a:lnTo>
                    <a:pt x="236601" y="712470"/>
                  </a:lnTo>
                  <a:lnTo>
                    <a:pt x="273431" y="683767"/>
                  </a:lnTo>
                  <a:lnTo>
                    <a:pt x="348615" y="624840"/>
                  </a:lnTo>
                  <a:lnTo>
                    <a:pt x="425958" y="564515"/>
                  </a:lnTo>
                  <a:lnTo>
                    <a:pt x="504698" y="503174"/>
                  </a:lnTo>
                  <a:lnTo>
                    <a:pt x="584200" y="441452"/>
                  </a:lnTo>
                  <a:lnTo>
                    <a:pt x="663956" y="379857"/>
                  </a:lnTo>
                  <a:lnTo>
                    <a:pt x="743204" y="318897"/>
                  </a:lnTo>
                  <a:lnTo>
                    <a:pt x="821436" y="259207"/>
                  </a:lnTo>
                  <a:lnTo>
                    <a:pt x="898017" y="201422"/>
                  </a:lnTo>
                  <a:lnTo>
                    <a:pt x="935482" y="173482"/>
                  </a:lnTo>
                  <a:lnTo>
                    <a:pt x="972439" y="146177"/>
                  </a:lnTo>
                  <a:lnTo>
                    <a:pt x="1008634" y="119634"/>
                  </a:lnTo>
                  <a:lnTo>
                    <a:pt x="1044067" y="93726"/>
                  </a:lnTo>
                  <a:lnTo>
                    <a:pt x="1078484" y="68834"/>
                  </a:lnTo>
                  <a:lnTo>
                    <a:pt x="1112139" y="44831"/>
                  </a:lnTo>
                  <a:lnTo>
                    <a:pt x="1144651" y="21844"/>
                  </a:lnTo>
                  <a:lnTo>
                    <a:pt x="1176147" y="0"/>
                  </a:lnTo>
                  <a:lnTo>
                    <a:pt x="1185418" y="4572"/>
                  </a:lnTo>
                  <a:lnTo>
                    <a:pt x="1193800" y="9144"/>
                  </a:lnTo>
                  <a:lnTo>
                    <a:pt x="1207135" y="17653"/>
                  </a:lnTo>
                  <a:lnTo>
                    <a:pt x="1217168" y="25908"/>
                  </a:lnTo>
                  <a:lnTo>
                    <a:pt x="1224534" y="33909"/>
                  </a:lnTo>
                  <a:lnTo>
                    <a:pt x="1229995" y="42037"/>
                  </a:lnTo>
                  <a:lnTo>
                    <a:pt x="1234567" y="50546"/>
                  </a:lnTo>
                  <a:lnTo>
                    <a:pt x="1238758" y="59690"/>
                  </a:lnTo>
                  <a:lnTo>
                    <a:pt x="1243457" y="6959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: Shape 32"/>
            <p:cNvSpPr/>
            <p:nvPr/>
          </p:nvSpPr>
          <p:spPr>
            <a:xfrm rot="3391800">
              <a:off x="1967400" y="3408480"/>
              <a:ext cx="1248120" cy="932040"/>
            </a:xfrm>
            <a:custGeom>
              <a:avLst/>
              <a:gdLst>
                <a:gd name="textAreaLeft" fmla="*/ 0 w 1248120"/>
                <a:gd name="textAreaRight" fmla="*/ 1248480 w 124812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1247141" h="933704">
                  <a:moveTo>
                    <a:pt x="1242187" y="48768"/>
                  </a:moveTo>
                  <a:lnTo>
                    <a:pt x="1211834" y="73533"/>
                  </a:lnTo>
                  <a:lnTo>
                    <a:pt x="1180719" y="98806"/>
                  </a:lnTo>
                  <a:lnTo>
                    <a:pt x="1115949" y="150622"/>
                  </a:lnTo>
                  <a:lnTo>
                    <a:pt x="1048385" y="203708"/>
                  </a:lnTo>
                  <a:lnTo>
                    <a:pt x="978154" y="258191"/>
                  </a:lnTo>
                  <a:lnTo>
                    <a:pt x="906018" y="313690"/>
                  </a:lnTo>
                  <a:lnTo>
                    <a:pt x="832231" y="369951"/>
                  </a:lnTo>
                  <a:lnTo>
                    <a:pt x="757174" y="426720"/>
                  </a:lnTo>
                  <a:lnTo>
                    <a:pt x="681228" y="483870"/>
                  </a:lnTo>
                  <a:lnTo>
                    <a:pt x="528828" y="598170"/>
                  </a:lnTo>
                  <a:lnTo>
                    <a:pt x="453136" y="654939"/>
                  </a:lnTo>
                  <a:lnTo>
                    <a:pt x="378206" y="711072"/>
                  </a:lnTo>
                  <a:lnTo>
                    <a:pt x="304673" y="766445"/>
                  </a:lnTo>
                  <a:lnTo>
                    <a:pt x="232918" y="820801"/>
                  </a:lnTo>
                  <a:lnTo>
                    <a:pt x="163195" y="874014"/>
                  </a:lnTo>
                  <a:lnTo>
                    <a:pt x="96012" y="925703"/>
                  </a:lnTo>
                  <a:lnTo>
                    <a:pt x="77089" y="930782"/>
                  </a:lnTo>
                  <a:lnTo>
                    <a:pt x="57658" y="933577"/>
                  </a:lnTo>
                  <a:lnTo>
                    <a:pt x="39243" y="933703"/>
                  </a:lnTo>
                  <a:lnTo>
                    <a:pt x="30734" y="932815"/>
                  </a:lnTo>
                  <a:lnTo>
                    <a:pt x="22987" y="931036"/>
                  </a:lnTo>
                  <a:lnTo>
                    <a:pt x="16002" y="928369"/>
                  </a:lnTo>
                  <a:lnTo>
                    <a:pt x="10160" y="924814"/>
                  </a:lnTo>
                  <a:lnTo>
                    <a:pt x="5461" y="920622"/>
                  </a:lnTo>
                  <a:lnTo>
                    <a:pt x="2032" y="915289"/>
                  </a:lnTo>
                  <a:lnTo>
                    <a:pt x="254" y="909065"/>
                  </a:lnTo>
                  <a:lnTo>
                    <a:pt x="0" y="901699"/>
                  </a:lnTo>
                  <a:lnTo>
                    <a:pt x="1778" y="893444"/>
                  </a:lnTo>
                  <a:lnTo>
                    <a:pt x="5588" y="884046"/>
                  </a:lnTo>
                  <a:lnTo>
                    <a:pt x="35433" y="860805"/>
                  </a:lnTo>
                  <a:lnTo>
                    <a:pt x="66421" y="836803"/>
                  </a:lnTo>
                  <a:lnTo>
                    <a:pt x="98552" y="811910"/>
                  </a:lnTo>
                  <a:lnTo>
                    <a:pt x="131699" y="786003"/>
                  </a:lnTo>
                  <a:lnTo>
                    <a:pt x="165735" y="759459"/>
                  </a:lnTo>
                  <a:lnTo>
                    <a:pt x="200406" y="732281"/>
                  </a:lnTo>
                  <a:lnTo>
                    <a:pt x="235966" y="704468"/>
                  </a:lnTo>
                  <a:lnTo>
                    <a:pt x="272161" y="676021"/>
                  </a:lnTo>
                  <a:lnTo>
                    <a:pt x="346456" y="617854"/>
                  </a:lnTo>
                  <a:lnTo>
                    <a:pt x="422656" y="558165"/>
                  </a:lnTo>
                  <a:lnTo>
                    <a:pt x="500126" y="497712"/>
                  </a:lnTo>
                  <a:lnTo>
                    <a:pt x="578358" y="436753"/>
                  </a:lnTo>
                  <a:lnTo>
                    <a:pt x="656717" y="376047"/>
                  </a:lnTo>
                  <a:lnTo>
                    <a:pt x="734822" y="315976"/>
                  </a:lnTo>
                  <a:lnTo>
                    <a:pt x="811784" y="257175"/>
                  </a:lnTo>
                  <a:lnTo>
                    <a:pt x="887476" y="200152"/>
                  </a:lnTo>
                  <a:lnTo>
                    <a:pt x="924433" y="172339"/>
                  </a:lnTo>
                  <a:lnTo>
                    <a:pt x="960882" y="145287"/>
                  </a:lnTo>
                  <a:lnTo>
                    <a:pt x="996696" y="118999"/>
                  </a:lnTo>
                  <a:lnTo>
                    <a:pt x="1031875" y="93345"/>
                  </a:lnTo>
                  <a:lnTo>
                    <a:pt x="1066038" y="68580"/>
                  </a:lnTo>
                  <a:lnTo>
                    <a:pt x="1099439" y="44831"/>
                  </a:lnTo>
                  <a:lnTo>
                    <a:pt x="1131824" y="21971"/>
                  </a:lnTo>
                  <a:lnTo>
                    <a:pt x="1163193" y="0"/>
                  </a:lnTo>
                  <a:lnTo>
                    <a:pt x="1178433" y="3683"/>
                  </a:lnTo>
                  <a:lnTo>
                    <a:pt x="1191895" y="6985"/>
                  </a:lnTo>
                  <a:lnTo>
                    <a:pt x="1203452" y="9906"/>
                  </a:lnTo>
                  <a:lnTo>
                    <a:pt x="1213485" y="12573"/>
                  </a:lnTo>
                  <a:lnTo>
                    <a:pt x="1222121" y="15112"/>
                  </a:lnTo>
                  <a:lnTo>
                    <a:pt x="1229233" y="17399"/>
                  </a:lnTo>
                  <a:lnTo>
                    <a:pt x="1235075" y="19685"/>
                  </a:lnTo>
                  <a:lnTo>
                    <a:pt x="1239647" y="21971"/>
                  </a:lnTo>
                  <a:lnTo>
                    <a:pt x="1243076" y="24256"/>
                  </a:lnTo>
                  <a:lnTo>
                    <a:pt x="1245362" y="26797"/>
                  </a:lnTo>
                  <a:lnTo>
                    <a:pt x="1247140" y="32512"/>
                  </a:lnTo>
                  <a:lnTo>
                    <a:pt x="1245870" y="39624"/>
                  </a:lnTo>
                  <a:lnTo>
                    <a:pt x="1242187" y="4876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: Shape 33"/>
            <p:cNvSpPr/>
            <p:nvPr/>
          </p:nvSpPr>
          <p:spPr>
            <a:xfrm rot="3391800">
              <a:off x="1938960" y="3548520"/>
              <a:ext cx="1229040" cy="100512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1226821" h="1004571">
                  <a:moveTo>
                    <a:pt x="1221486" y="90424"/>
                  </a:moveTo>
                  <a:lnTo>
                    <a:pt x="1191133" y="115316"/>
                  </a:lnTo>
                  <a:lnTo>
                    <a:pt x="1159891" y="140970"/>
                  </a:lnTo>
                  <a:lnTo>
                    <a:pt x="1127506" y="167132"/>
                  </a:lnTo>
                  <a:lnTo>
                    <a:pt x="1094232" y="193929"/>
                  </a:lnTo>
                  <a:lnTo>
                    <a:pt x="1059942" y="221107"/>
                  </a:lnTo>
                  <a:lnTo>
                    <a:pt x="1025017" y="248920"/>
                  </a:lnTo>
                  <a:lnTo>
                    <a:pt x="953008" y="305689"/>
                  </a:lnTo>
                  <a:lnTo>
                    <a:pt x="878459" y="363855"/>
                  </a:lnTo>
                  <a:lnTo>
                    <a:pt x="802005" y="423291"/>
                  </a:lnTo>
                  <a:lnTo>
                    <a:pt x="724408" y="483489"/>
                  </a:lnTo>
                  <a:lnTo>
                    <a:pt x="645668" y="544068"/>
                  </a:lnTo>
                  <a:lnTo>
                    <a:pt x="487553" y="665099"/>
                  </a:lnTo>
                  <a:lnTo>
                    <a:pt x="409321" y="725043"/>
                  </a:lnTo>
                  <a:lnTo>
                    <a:pt x="332105" y="784098"/>
                  </a:lnTo>
                  <a:lnTo>
                    <a:pt x="256794" y="841883"/>
                  </a:lnTo>
                  <a:lnTo>
                    <a:pt x="183388" y="898144"/>
                  </a:lnTo>
                  <a:lnTo>
                    <a:pt x="147701" y="925576"/>
                  </a:lnTo>
                  <a:lnTo>
                    <a:pt x="112776" y="952373"/>
                  </a:lnTo>
                  <a:lnTo>
                    <a:pt x="78613" y="978789"/>
                  </a:lnTo>
                  <a:lnTo>
                    <a:pt x="45339" y="1004570"/>
                  </a:lnTo>
                  <a:lnTo>
                    <a:pt x="32512" y="998982"/>
                  </a:lnTo>
                  <a:lnTo>
                    <a:pt x="21209" y="990727"/>
                  </a:lnTo>
                  <a:lnTo>
                    <a:pt x="11811" y="980059"/>
                  </a:lnTo>
                  <a:lnTo>
                    <a:pt x="4826" y="967105"/>
                  </a:lnTo>
                  <a:lnTo>
                    <a:pt x="2413" y="959866"/>
                  </a:lnTo>
                  <a:lnTo>
                    <a:pt x="762" y="952246"/>
                  </a:lnTo>
                  <a:lnTo>
                    <a:pt x="0" y="944118"/>
                  </a:lnTo>
                  <a:lnTo>
                    <a:pt x="127" y="935482"/>
                  </a:lnTo>
                  <a:lnTo>
                    <a:pt x="1143" y="926592"/>
                  </a:lnTo>
                  <a:lnTo>
                    <a:pt x="3175" y="917321"/>
                  </a:lnTo>
                  <a:lnTo>
                    <a:pt x="6223" y="907669"/>
                  </a:lnTo>
                  <a:lnTo>
                    <a:pt x="10414" y="897890"/>
                  </a:lnTo>
                  <a:lnTo>
                    <a:pt x="40767" y="874776"/>
                  </a:lnTo>
                  <a:lnTo>
                    <a:pt x="72644" y="850519"/>
                  </a:lnTo>
                  <a:lnTo>
                    <a:pt x="106045" y="825246"/>
                  </a:lnTo>
                  <a:lnTo>
                    <a:pt x="140843" y="799211"/>
                  </a:lnTo>
                  <a:lnTo>
                    <a:pt x="177038" y="772287"/>
                  </a:lnTo>
                  <a:lnTo>
                    <a:pt x="214376" y="744728"/>
                  </a:lnTo>
                  <a:lnTo>
                    <a:pt x="252857" y="716280"/>
                  </a:lnTo>
                  <a:lnTo>
                    <a:pt x="292227" y="687324"/>
                  </a:lnTo>
                  <a:lnTo>
                    <a:pt x="332486" y="657860"/>
                  </a:lnTo>
                  <a:lnTo>
                    <a:pt x="373507" y="628015"/>
                  </a:lnTo>
                  <a:lnTo>
                    <a:pt x="457073" y="567055"/>
                  </a:lnTo>
                  <a:lnTo>
                    <a:pt x="542036" y="505079"/>
                  </a:lnTo>
                  <a:lnTo>
                    <a:pt x="627634" y="442849"/>
                  </a:lnTo>
                  <a:lnTo>
                    <a:pt x="712724" y="380619"/>
                  </a:lnTo>
                  <a:lnTo>
                    <a:pt x="796417" y="319278"/>
                  </a:lnTo>
                  <a:lnTo>
                    <a:pt x="877951" y="259334"/>
                  </a:lnTo>
                  <a:lnTo>
                    <a:pt x="917321" y="230124"/>
                  </a:lnTo>
                  <a:lnTo>
                    <a:pt x="955929" y="201295"/>
                  </a:lnTo>
                  <a:lnTo>
                    <a:pt x="993521" y="173228"/>
                  </a:lnTo>
                  <a:lnTo>
                    <a:pt x="1029970" y="145669"/>
                  </a:lnTo>
                  <a:lnTo>
                    <a:pt x="1065022" y="118999"/>
                  </a:lnTo>
                  <a:lnTo>
                    <a:pt x="1098677" y="93218"/>
                  </a:lnTo>
                  <a:lnTo>
                    <a:pt x="1130808" y="68453"/>
                  </a:lnTo>
                  <a:lnTo>
                    <a:pt x="1161415" y="44450"/>
                  </a:lnTo>
                  <a:lnTo>
                    <a:pt x="1190117" y="21717"/>
                  </a:lnTo>
                  <a:lnTo>
                    <a:pt x="1216914" y="0"/>
                  </a:lnTo>
                  <a:lnTo>
                    <a:pt x="1219073" y="18161"/>
                  </a:lnTo>
                  <a:lnTo>
                    <a:pt x="1221486" y="32766"/>
                  </a:lnTo>
                  <a:lnTo>
                    <a:pt x="1223772" y="44831"/>
                  </a:lnTo>
                  <a:lnTo>
                    <a:pt x="1225677" y="54991"/>
                  </a:lnTo>
                  <a:lnTo>
                    <a:pt x="1226820" y="63754"/>
                  </a:lnTo>
                  <a:lnTo>
                    <a:pt x="1226820" y="72263"/>
                  </a:lnTo>
                  <a:lnTo>
                    <a:pt x="1225169" y="80899"/>
                  </a:lnTo>
                  <a:lnTo>
                    <a:pt x="1221486" y="9042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: Shape 34"/>
            <p:cNvSpPr/>
            <p:nvPr/>
          </p:nvSpPr>
          <p:spPr>
            <a:xfrm rot="3391800">
              <a:off x="1678680" y="3548520"/>
              <a:ext cx="296640" cy="26964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97562" h="269622">
                  <a:moveTo>
                    <a:pt x="127762" y="0"/>
                  </a:moveTo>
                  <a:lnTo>
                    <a:pt x="130556" y="635"/>
                  </a:lnTo>
                  <a:lnTo>
                    <a:pt x="131953" y="2540"/>
                  </a:lnTo>
                  <a:lnTo>
                    <a:pt x="132461" y="5334"/>
                  </a:lnTo>
                  <a:lnTo>
                    <a:pt x="131699" y="12700"/>
                  </a:lnTo>
                  <a:lnTo>
                    <a:pt x="131953" y="21463"/>
                  </a:lnTo>
                  <a:lnTo>
                    <a:pt x="133477" y="26035"/>
                  </a:lnTo>
                  <a:lnTo>
                    <a:pt x="136271" y="30353"/>
                  </a:lnTo>
                  <a:lnTo>
                    <a:pt x="140970" y="34290"/>
                  </a:lnTo>
                  <a:lnTo>
                    <a:pt x="147828" y="37719"/>
                  </a:lnTo>
                  <a:lnTo>
                    <a:pt x="157480" y="40386"/>
                  </a:lnTo>
                  <a:lnTo>
                    <a:pt x="170307" y="42164"/>
                  </a:lnTo>
                  <a:lnTo>
                    <a:pt x="177800" y="42545"/>
                  </a:lnTo>
                  <a:lnTo>
                    <a:pt x="186436" y="42799"/>
                  </a:lnTo>
                  <a:lnTo>
                    <a:pt x="195961" y="42672"/>
                  </a:lnTo>
                  <a:lnTo>
                    <a:pt x="206502" y="42164"/>
                  </a:lnTo>
                  <a:lnTo>
                    <a:pt x="206502" y="56007"/>
                  </a:lnTo>
                  <a:lnTo>
                    <a:pt x="207137" y="67564"/>
                  </a:lnTo>
                  <a:lnTo>
                    <a:pt x="208534" y="76708"/>
                  </a:lnTo>
                  <a:lnTo>
                    <a:pt x="210312" y="84074"/>
                  </a:lnTo>
                  <a:lnTo>
                    <a:pt x="212725" y="89535"/>
                  </a:lnTo>
                  <a:lnTo>
                    <a:pt x="215773" y="93726"/>
                  </a:lnTo>
                  <a:lnTo>
                    <a:pt x="218948" y="96774"/>
                  </a:lnTo>
                  <a:lnTo>
                    <a:pt x="222377" y="98679"/>
                  </a:lnTo>
                  <a:lnTo>
                    <a:pt x="230124" y="100965"/>
                  </a:lnTo>
                  <a:lnTo>
                    <a:pt x="238252" y="102489"/>
                  </a:lnTo>
                  <a:lnTo>
                    <a:pt x="245999" y="105410"/>
                  </a:lnTo>
                  <a:lnTo>
                    <a:pt x="249555" y="108077"/>
                  </a:lnTo>
                  <a:lnTo>
                    <a:pt x="252857" y="111760"/>
                  </a:lnTo>
                  <a:lnTo>
                    <a:pt x="249809" y="123825"/>
                  </a:lnTo>
                  <a:lnTo>
                    <a:pt x="247396" y="134620"/>
                  </a:lnTo>
                  <a:lnTo>
                    <a:pt x="245618" y="144399"/>
                  </a:lnTo>
                  <a:lnTo>
                    <a:pt x="244602" y="153035"/>
                  </a:lnTo>
                  <a:lnTo>
                    <a:pt x="243967" y="160782"/>
                  </a:lnTo>
                  <a:lnTo>
                    <a:pt x="243967" y="167513"/>
                  </a:lnTo>
                  <a:lnTo>
                    <a:pt x="244475" y="173482"/>
                  </a:lnTo>
                  <a:lnTo>
                    <a:pt x="245491" y="178435"/>
                  </a:lnTo>
                  <a:lnTo>
                    <a:pt x="248539" y="186436"/>
                  </a:lnTo>
                  <a:lnTo>
                    <a:pt x="252857" y="191770"/>
                  </a:lnTo>
                  <a:lnTo>
                    <a:pt x="258318" y="194945"/>
                  </a:lnTo>
                  <a:lnTo>
                    <a:pt x="264414" y="196469"/>
                  </a:lnTo>
                  <a:lnTo>
                    <a:pt x="277241" y="196469"/>
                  </a:lnTo>
                  <a:lnTo>
                    <a:pt x="288671" y="195326"/>
                  </a:lnTo>
                  <a:lnTo>
                    <a:pt x="293116" y="195580"/>
                  </a:lnTo>
                  <a:lnTo>
                    <a:pt x="296164" y="196850"/>
                  </a:lnTo>
                  <a:lnTo>
                    <a:pt x="297561" y="199644"/>
                  </a:lnTo>
                  <a:lnTo>
                    <a:pt x="297053" y="204597"/>
                  </a:lnTo>
                  <a:lnTo>
                    <a:pt x="262509" y="221742"/>
                  </a:lnTo>
                  <a:lnTo>
                    <a:pt x="228600" y="235204"/>
                  </a:lnTo>
                  <a:lnTo>
                    <a:pt x="195580" y="245618"/>
                  </a:lnTo>
                  <a:lnTo>
                    <a:pt x="162941" y="253619"/>
                  </a:lnTo>
                  <a:lnTo>
                    <a:pt x="131064" y="259334"/>
                  </a:lnTo>
                  <a:lnTo>
                    <a:pt x="99949" y="263652"/>
                  </a:lnTo>
                  <a:lnTo>
                    <a:pt x="69469" y="266827"/>
                  </a:lnTo>
                  <a:lnTo>
                    <a:pt x="39497" y="269621"/>
                  </a:lnTo>
                  <a:lnTo>
                    <a:pt x="34290" y="260096"/>
                  </a:lnTo>
                  <a:lnTo>
                    <a:pt x="32131" y="250190"/>
                  </a:lnTo>
                  <a:lnTo>
                    <a:pt x="30988" y="229362"/>
                  </a:lnTo>
                  <a:lnTo>
                    <a:pt x="28956" y="219075"/>
                  </a:lnTo>
                  <a:lnTo>
                    <a:pt x="24130" y="209423"/>
                  </a:lnTo>
                  <a:lnTo>
                    <a:pt x="20193" y="204851"/>
                  </a:lnTo>
                  <a:lnTo>
                    <a:pt x="14859" y="200660"/>
                  </a:lnTo>
                  <a:lnTo>
                    <a:pt x="8382" y="196723"/>
                  </a:lnTo>
                  <a:lnTo>
                    <a:pt x="0" y="192913"/>
                  </a:lnTo>
                  <a:lnTo>
                    <a:pt x="14478" y="167513"/>
                  </a:lnTo>
                  <a:lnTo>
                    <a:pt x="29718" y="141605"/>
                  </a:lnTo>
                  <a:lnTo>
                    <a:pt x="61468" y="90678"/>
                  </a:lnTo>
                  <a:lnTo>
                    <a:pt x="77470" y="66167"/>
                  </a:lnTo>
                  <a:lnTo>
                    <a:pt x="93345" y="42672"/>
                  </a:lnTo>
                  <a:lnTo>
                    <a:pt x="108585" y="20701"/>
                  </a:lnTo>
                  <a:lnTo>
                    <a:pt x="123063" y="381"/>
                  </a:lnTo>
                  <a:lnTo>
                    <a:pt x="127762" y="0"/>
                  </a:lnTo>
                  <a:close/>
                </a:path>
              </a:pathLst>
            </a:custGeom>
            <a:solidFill>
              <a:srgbClr val="ffcca5"/>
            </a:solidFill>
            <a:ln w="0">
              <a:solidFill>
                <a:srgbClr val="ffcc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: Shape 35"/>
            <p:cNvSpPr/>
            <p:nvPr/>
          </p:nvSpPr>
          <p:spPr>
            <a:xfrm rot="3391800">
              <a:off x="1741320" y="3314520"/>
              <a:ext cx="1636920" cy="1278000"/>
            </a:xfrm>
            <a:custGeom>
              <a:avLst/>
              <a:gdLst>
                <a:gd name="textAreaLeft" fmla="*/ 0 w 1636920"/>
                <a:gd name="textAreaRight" fmla="*/ 1637280 w 163692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636015" h="1278637">
                  <a:moveTo>
                    <a:pt x="26289" y="1278636"/>
                  </a:moveTo>
                  <a:lnTo>
                    <a:pt x="19431" y="1276223"/>
                  </a:lnTo>
                  <a:lnTo>
                    <a:pt x="13589" y="1273429"/>
                  </a:lnTo>
                  <a:lnTo>
                    <a:pt x="8763" y="1270254"/>
                  </a:lnTo>
                  <a:lnTo>
                    <a:pt x="5080" y="1266571"/>
                  </a:lnTo>
                  <a:lnTo>
                    <a:pt x="2286" y="1262126"/>
                  </a:lnTo>
                  <a:lnTo>
                    <a:pt x="635" y="1257173"/>
                  </a:lnTo>
                  <a:lnTo>
                    <a:pt x="0" y="1251458"/>
                  </a:lnTo>
                  <a:lnTo>
                    <a:pt x="381" y="1244981"/>
                  </a:lnTo>
                  <a:lnTo>
                    <a:pt x="2032" y="1237488"/>
                  </a:lnTo>
                  <a:lnTo>
                    <a:pt x="4445" y="1229106"/>
                  </a:lnTo>
                  <a:lnTo>
                    <a:pt x="8255" y="1219835"/>
                  </a:lnTo>
                  <a:lnTo>
                    <a:pt x="12954" y="1209421"/>
                  </a:lnTo>
                  <a:lnTo>
                    <a:pt x="18669" y="1197864"/>
                  </a:lnTo>
                  <a:lnTo>
                    <a:pt x="25527" y="1185037"/>
                  </a:lnTo>
                  <a:lnTo>
                    <a:pt x="33401" y="1170940"/>
                  </a:lnTo>
                  <a:lnTo>
                    <a:pt x="42545" y="1155573"/>
                  </a:lnTo>
                  <a:lnTo>
                    <a:pt x="45974" y="1150620"/>
                  </a:lnTo>
                  <a:lnTo>
                    <a:pt x="50800" y="1143635"/>
                  </a:lnTo>
                  <a:lnTo>
                    <a:pt x="56642" y="1134618"/>
                  </a:lnTo>
                  <a:lnTo>
                    <a:pt x="63627" y="1124076"/>
                  </a:lnTo>
                  <a:lnTo>
                    <a:pt x="71120" y="1112139"/>
                  </a:lnTo>
                  <a:lnTo>
                    <a:pt x="79502" y="1098931"/>
                  </a:lnTo>
                  <a:lnTo>
                    <a:pt x="97409" y="1070483"/>
                  </a:lnTo>
                  <a:lnTo>
                    <a:pt x="116332" y="1040765"/>
                  </a:lnTo>
                  <a:lnTo>
                    <a:pt x="134747" y="1011936"/>
                  </a:lnTo>
                  <a:lnTo>
                    <a:pt x="143383" y="998474"/>
                  </a:lnTo>
                  <a:lnTo>
                    <a:pt x="151511" y="986028"/>
                  </a:lnTo>
                  <a:lnTo>
                    <a:pt x="158877" y="974851"/>
                  </a:lnTo>
                  <a:lnTo>
                    <a:pt x="165481" y="965326"/>
                  </a:lnTo>
                  <a:lnTo>
                    <a:pt x="168910" y="962660"/>
                  </a:lnTo>
                  <a:lnTo>
                    <a:pt x="173863" y="958850"/>
                  </a:lnTo>
                  <a:lnTo>
                    <a:pt x="179959" y="954024"/>
                  </a:lnTo>
                  <a:lnTo>
                    <a:pt x="187579" y="948182"/>
                  </a:lnTo>
                  <a:lnTo>
                    <a:pt x="196342" y="941324"/>
                  </a:lnTo>
                  <a:lnTo>
                    <a:pt x="206248" y="933450"/>
                  </a:lnTo>
                  <a:lnTo>
                    <a:pt x="217424" y="924687"/>
                  </a:lnTo>
                  <a:lnTo>
                    <a:pt x="229743" y="915035"/>
                  </a:lnTo>
                  <a:lnTo>
                    <a:pt x="243078" y="904494"/>
                  </a:lnTo>
                  <a:lnTo>
                    <a:pt x="257556" y="893064"/>
                  </a:lnTo>
                  <a:lnTo>
                    <a:pt x="273050" y="880999"/>
                  </a:lnTo>
                  <a:lnTo>
                    <a:pt x="289433" y="868172"/>
                  </a:lnTo>
                  <a:lnTo>
                    <a:pt x="306832" y="854456"/>
                  </a:lnTo>
                  <a:lnTo>
                    <a:pt x="324993" y="840105"/>
                  </a:lnTo>
                  <a:lnTo>
                    <a:pt x="344043" y="825119"/>
                  </a:lnTo>
                  <a:lnTo>
                    <a:pt x="363982" y="809625"/>
                  </a:lnTo>
                  <a:lnTo>
                    <a:pt x="384556" y="793496"/>
                  </a:lnTo>
                  <a:lnTo>
                    <a:pt x="405892" y="776732"/>
                  </a:lnTo>
                  <a:lnTo>
                    <a:pt x="450596" y="741680"/>
                  </a:lnTo>
                  <a:lnTo>
                    <a:pt x="497586" y="704976"/>
                  </a:lnTo>
                  <a:lnTo>
                    <a:pt x="546735" y="666876"/>
                  </a:lnTo>
                  <a:lnTo>
                    <a:pt x="597535" y="627380"/>
                  </a:lnTo>
                  <a:lnTo>
                    <a:pt x="649478" y="586994"/>
                  </a:lnTo>
                  <a:lnTo>
                    <a:pt x="702691" y="545973"/>
                  </a:lnTo>
                  <a:lnTo>
                    <a:pt x="756539" y="504571"/>
                  </a:lnTo>
                  <a:lnTo>
                    <a:pt x="864870" y="421640"/>
                  </a:lnTo>
                  <a:lnTo>
                    <a:pt x="918591" y="380746"/>
                  </a:lnTo>
                  <a:lnTo>
                    <a:pt x="971931" y="340614"/>
                  </a:lnTo>
                  <a:lnTo>
                    <a:pt x="1024128" y="301371"/>
                  </a:lnTo>
                  <a:lnTo>
                    <a:pt x="1074928" y="263525"/>
                  </a:lnTo>
                  <a:lnTo>
                    <a:pt x="1124204" y="227076"/>
                  </a:lnTo>
                  <a:lnTo>
                    <a:pt x="1171448" y="192659"/>
                  </a:lnTo>
                  <a:lnTo>
                    <a:pt x="1194054" y="176276"/>
                  </a:lnTo>
                  <a:lnTo>
                    <a:pt x="1216279" y="160274"/>
                  </a:lnTo>
                  <a:lnTo>
                    <a:pt x="1237742" y="145034"/>
                  </a:lnTo>
                  <a:lnTo>
                    <a:pt x="1258443" y="130301"/>
                  </a:lnTo>
                  <a:lnTo>
                    <a:pt x="1278509" y="116332"/>
                  </a:lnTo>
                  <a:lnTo>
                    <a:pt x="1297686" y="102997"/>
                  </a:lnTo>
                  <a:lnTo>
                    <a:pt x="1316101" y="90551"/>
                  </a:lnTo>
                  <a:lnTo>
                    <a:pt x="1333500" y="78740"/>
                  </a:lnTo>
                  <a:lnTo>
                    <a:pt x="1350010" y="67691"/>
                  </a:lnTo>
                  <a:lnTo>
                    <a:pt x="1365758" y="57531"/>
                  </a:lnTo>
                  <a:lnTo>
                    <a:pt x="1380363" y="48387"/>
                  </a:lnTo>
                  <a:lnTo>
                    <a:pt x="1393952" y="40005"/>
                  </a:lnTo>
                  <a:lnTo>
                    <a:pt x="1406398" y="32512"/>
                  </a:lnTo>
                  <a:lnTo>
                    <a:pt x="1417701" y="26162"/>
                  </a:lnTo>
                  <a:lnTo>
                    <a:pt x="1427861" y="20828"/>
                  </a:lnTo>
                  <a:lnTo>
                    <a:pt x="1436878" y="16383"/>
                  </a:lnTo>
                  <a:lnTo>
                    <a:pt x="1456182" y="8636"/>
                  </a:lnTo>
                  <a:lnTo>
                    <a:pt x="1474597" y="3301"/>
                  </a:lnTo>
                  <a:lnTo>
                    <a:pt x="1491996" y="381"/>
                  </a:lnTo>
                  <a:lnTo>
                    <a:pt x="1508633" y="0"/>
                  </a:lnTo>
                  <a:lnTo>
                    <a:pt x="1524381" y="1905"/>
                  </a:lnTo>
                  <a:lnTo>
                    <a:pt x="1539240" y="5969"/>
                  </a:lnTo>
                  <a:lnTo>
                    <a:pt x="1553337" y="12446"/>
                  </a:lnTo>
                  <a:lnTo>
                    <a:pt x="1566799" y="21082"/>
                  </a:lnTo>
                  <a:lnTo>
                    <a:pt x="1585341" y="36957"/>
                  </a:lnTo>
                  <a:lnTo>
                    <a:pt x="1601597" y="55118"/>
                  </a:lnTo>
                  <a:lnTo>
                    <a:pt x="1608836" y="65024"/>
                  </a:lnTo>
                  <a:lnTo>
                    <a:pt x="1615313" y="75565"/>
                  </a:lnTo>
                  <a:lnTo>
                    <a:pt x="1621155" y="86487"/>
                  </a:lnTo>
                  <a:lnTo>
                    <a:pt x="1625981" y="98044"/>
                  </a:lnTo>
                  <a:lnTo>
                    <a:pt x="1630045" y="109982"/>
                  </a:lnTo>
                  <a:lnTo>
                    <a:pt x="1632966" y="122428"/>
                  </a:lnTo>
                  <a:lnTo>
                    <a:pt x="1634998" y="135255"/>
                  </a:lnTo>
                  <a:lnTo>
                    <a:pt x="1636014" y="148463"/>
                  </a:lnTo>
                  <a:lnTo>
                    <a:pt x="1635887" y="162179"/>
                  </a:lnTo>
                  <a:lnTo>
                    <a:pt x="1634617" y="176403"/>
                  </a:lnTo>
                  <a:lnTo>
                    <a:pt x="1632077" y="190754"/>
                  </a:lnTo>
                  <a:lnTo>
                    <a:pt x="1628267" y="205486"/>
                  </a:lnTo>
                  <a:lnTo>
                    <a:pt x="1626997" y="207772"/>
                  </a:lnTo>
                  <a:lnTo>
                    <a:pt x="1623822" y="211328"/>
                  </a:lnTo>
                  <a:lnTo>
                    <a:pt x="1618869" y="216154"/>
                  </a:lnTo>
                  <a:lnTo>
                    <a:pt x="1612392" y="222123"/>
                  </a:lnTo>
                  <a:lnTo>
                    <a:pt x="1604137" y="229362"/>
                  </a:lnTo>
                  <a:lnTo>
                    <a:pt x="1594485" y="237744"/>
                  </a:lnTo>
                  <a:lnTo>
                    <a:pt x="1583309" y="247015"/>
                  </a:lnTo>
                  <a:lnTo>
                    <a:pt x="1570736" y="257556"/>
                  </a:lnTo>
                  <a:lnTo>
                    <a:pt x="1556639" y="268986"/>
                  </a:lnTo>
                  <a:lnTo>
                    <a:pt x="1541399" y="281432"/>
                  </a:lnTo>
                  <a:lnTo>
                    <a:pt x="1524762" y="294767"/>
                  </a:lnTo>
                  <a:lnTo>
                    <a:pt x="1506982" y="308991"/>
                  </a:lnTo>
                  <a:lnTo>
                    <a:pt x="1488059" y="323976"/>
                  </a:lnTo>
                  <a:lnTo>
                    <a:pt x="1468120" y="339851"/>
                  </a:lnTo>
                  <a:lnTo>
                    <a:pt x="1447038" y="356489"/>
                  </a:lnTo>
                  <a:lnTo>
                    <a:pt x="1425067" y="373761"/>
                  </a:lnTo>
                  <a:lnTo>
                    <a:pt x="1402080" y="391795"/>
                  </a:lnTo>
                  <a:lnTo>
                    <a:pt x="1378204" y="410337"/>
                  </a:lnTo>
                  <a:lnTo>
                    <a:pt x="1353566" y="429387"/>
                  </a:lnTo>
                  <a:lnTo>
                    <a:pt x="1328293" y="449072"/>
                  </a:lnTo>
                  <a:lnTo>
                    <a:pt x="1275461" y="489966"/>
                  </a:lnTo>
                  <a:lnTo>
                    <a:pt x="1220343" y="532384"/>
                  </a:lnTo>
                  <a:lnTo>
                    <a:pt x="1163574" y="576072"/>
                  </a:lnTo>
                  <a:lnTo>
                    <a:pt x="1105027" y="620776"/>
                  </a:lnTo>
                  <a:lnTo>
                    <a:pt x="986028" y="711835"/>
                  </a:lnTo>
                  <a:lnTo>
                    <a:pt x="866775" y="802513"/>
                  </a:lnTo>
                  <a:lnTo>
                    <a:pt x="808228" y="846963"/>
                  </a:lnTo>
                  <a:lnTo>
                    <a:pt x="751078" y="890270"/>
                  </a:lnTo>
                  <a:lnTo>
                    <a:pt x="695579" y="932180"/>
                  </a:lnTo>
                  <a:lnTo>
                    <a:pt x="642366" y="972312"/>
                  </a:lnTo>
                  <a:lnTo>
                    <a:pt x="616712" y="991743"/>
                  </a:lnTo>
                  <a:lnTo>
                    <a:pt x="591820" y="1010539"/>
                  </a:lnTo>
                  <a:lnTo>
                    <a:pt x="567817" y="1028573"/>
                  </a:lnTo>
                  <a:lnTo>
                    <a:pt x="544576" y="1046099"/>
                  </a:lnTo>
                  <a:lnTo>
                    <a:pt x="522224" y="1062863"/>
                  </a:lnTo>
                  <a:lnTo>
                    <a:pt x="500761" y="1078992"/>
                  </a:lnTo>
                  <a:lnTo>
                    <a:pt x="480314" y="1094359"/>
                  </a:lnTo>
                  <a:lnTo>
                    <a:pt x="461010" y="1108837"/>
                  </a:lnTo>
                  <a:lnTo>
                    <a:pt x="442849" y="1122426"/>
                  </a:lnTo>
                  <a:lnTo>
                    <a:pt x="425831" y="1135126"/>
                  </a:lnTo>
                  <a:lnTo>
                    <a:pt x="410210" y="1146810"/>
                  </a:lnTo>
                  <a:lnTo>
                    <a:pt x="395732" y="1157605"/>
                  </a:lnTo>
                  <a:lnTo>
                    <a:pt x="382524" y="1167384"/>
                  </a:lnTo>
                  <a:lnTo>
                    <a:pt x="370967" y="1176020"/>
                  </a:lnTo>
                  <a:lnTo>
                    <a:pt x="360680" y="1183513"/>
                  </a:lnTo>
                  <a:lnTo>
                    <a:pt x="351917" y="1189990"/>
                  </a:lnTo>
                  <a:lnTo>
                    <a:pt x="344932" y="1195197"/>
                  </a:lnTo>
                  <a:lnTo>
                    <a:pt x="339471" y="1199134"/>
                  </a:lnTo>
                  <a:lnTo>
                    <a:pt x="335788" y="1201801"/>
                  </a:lnTo>
                  <a:lnTo>
                    <a:pt x="333629" y="1203198"/>
                  </a:lnTo>
                  <a:lnTo>
                    <a:pt x="325628" y="1207389"/>
                  </a:lnTo>
                  <a:lnTo>
                    <a:pt x="315722" y="1211580"/>
                  </a:lnTo>
                  <a:lnTo>
                    <a:pt x="303784" y="1215898"/>
                  </a:lnTo>
                  <a:lnTo>
                    <a:pt x="290449" y="1220216"/>
                  </a:lnTo>
                  <a:lnTo>
                    <a:pt x="260477" y="1228852"/>
                  </a:lnTo>
                  <a:lnTo>
                    <a:pt x="227838" y="1236980"/>
                  </a:lnTo>
                  <a:lnTo>
                    <a:pt x="194818" y="1244346"/>
                  </a:lnTo>
                  <a:lnTo>
                    <a:pt x="163703" y="1250696"/>
                  </a:lnTo>
                  <a:lnTo>
                    <a:pt x="149352" y="1253363"/>
                  </a:lnTo>
                  <a:lnTo>
                    <a:pt x="136525" y="1255649"/>
                  </a:lnTo>
                  <a:lnTo>
                    <a:pt x="125095" y="1257427"/>
                  </a:lnTo>
                  <a:lnTo>
                    <a:pt x="115570" y="1258824"/>
                  </a:lnTo>
                  <a:lnTo>
                    <a:pt x="1606677" y="189611"/>
                  </a:lnTo>
                  <a:lnTo>
                    <a:pt x="1607312" y="174751"/>
                  </a:lnTo>
                  <a:lnTo>
                    <a:pt x="1607185" y="160782"/>
                  </a:lnTo>
                  <a:lnTo>
                    <a:pt x="1606169" y="147701"/>
                  </a:lnTo>
                  <a:lnTo>
                    <a:pt x="1604518" y="135509"/>
                  </a:lnTo>
                  <a:lnTo>
                    <a:pt x="1602105" y="124206"/>
                  </a:lnTo>
                  <a:lnTo>
                    <a:pt x="1598930" y="113538"/>
                  </a:lnTo>
                  <a:lnTo>
                    <a:pt x="1595120" y="103759"/>
                  </a:lnTo>
                  <a:lnTo>
                    <a:pt x="1590929" y="94742"/>
                  </a:lnTo>
                  <a:lnTo>
                    <a:pt x="1586103" y="86487"/>
                  </a:lnTo>
                  <a:lnTo>
                    <a:pt x="1575181" y="72009"/>
                  </a:lnTo>
                  <a:lnTo>
                    <a:pt x="1562862" y="60071"/>
                  </a:lnTo>
                  <a:lnTo>
                    <a:pt x="1549400" y="50419"/>
                  </a:lnTo>
                  <a:lnTo>
                    <a:pt x="1535303" y="42926"/>
                  </a:lnTo>
                  <a:lnTo>
                    <a:pt x="1520952" y="37211"/>
                  </a:lnTo>
                  <a:lnTo>
                    <a:pt x="1506855" y="33147"/>
                  </a:lnTo>
                  <a:lnTo>
                    <a:pt x="1493266" y="30480"/>
                  </a:lnTo>
                  <a:lnTo>
                    <a:pt x="1480566" y="28956"/>
                  </a:lnTo>
                  <a:lnTo>
                    <a:pt x="1469136" y="28448"/>
                  </a:lnTo>
                  <a:lnTo>
                    <a:pt x="1459484" y="28575"/>
                  </a:lnTo>
                  <a:lnTo>
                    <a:pt x="1451991" y="29083"/>
                  </a:lnTo>
                  <a:lnTo>
                    <a:pt x="1470533" y="21082"/>
                  </a:lnTo>
                  <a:lnTo>
                    <a:pt x="1489202" y="17145"/>
                  </a:lnTo>
                  <a:lnTo>
                    <a:pt x="1507617" y="16891"/>
                  </a:lnTo>
                  <a:lnTo>
                    <a:pt x="1525905" y="19939"/>
                  </a:lnTo>
                  <a:lnTo>
                    <a:pt x="1543304" y="26162"/>
                  </a:lnTo>
                  <a:lnTo>
                    <a:pt x="1559814" y="35306"/>
                  </a:lnTo>
                  <a:lnTo>
                    <a:pt x="1574927" y="46736"/>
                  </a:lnTo>
                  <a:lnTo>
                    <a:pt x="1588643" y="60325"/>
                  </a:lnTo>
                  <a:lnTo>
                    <a:pt x="1600200" y="75692"/>
                  </a:lnTo>
                  <a:lnTo>
                    <a:pt x="1609725" y="92456"/>
                  </a:lnTo>
                  <a:lnTo>
                    <a:pt x="1616837" y="110363"/>
                  </a:lnTo>
                  <a:lnTo>
                    <a:pt x="1621155" y="129032"/>
                  </a:lnTo>
                  <a:lnTo>
                    <a:pt x="1622425" y="148336"/>
                  </a:lnTo>
                  <a:lnTo>
                    <a:pt x="1620393" y="167640"/>
                  </a:lnTo>
                  <a:lnTo>
                    <a:pt x="1614678" y="186944"/>
                  </a:lnTo>
                  <a:lnTo>
                    <a:pt x="1605153" y="205486"/>
                  </a:lnTo>
                  <a:lnTo>
                    <a:pt x="1483741" y="71755"/>
                  </a:lnTo>
                  <a:lnTo>
                    <a:pt x="1463548" y="86106"/>
                  </a:lnTo>
                  <a:lnTo>
                    <a:pt x="1454023" y="92329"/>
                  </a:lnTo>
                  <a:lnTo>
                    <a:pt x="1445006" y="98044"/>
                  </a:lnTo>
                  <a:lnTo>
                    <a:pt x="1436878" y="103124"/>
                  </a:lnTo>
                  <a:lnTo>
                    <a:pt x="1430020" y="107696"/>
                  </a:lnTo>
                  <a:lnTo>
                    <a:pt x="1423035" y="105791"/>
                  </a:lnTo>
                  <a:lnTo>
                    <a:pt x="1414907" y="103378"/>
                  </a:lnTo>
                  <a:lnTo>
                    <a:pt x="1396365" y="97917"/>
                  </a:lnTo>
                  <a:lnTo>
                    <a:pt x="1376934" y="92456"/>
                  </a:lnTo>
                  <a:lnTo>
                    <a:pt x="1367663" y="90170"/>
                  </a:lnTo>
                  <a:lnTo>
                    <a:pt x="1359535" y="88392"/>
                  </a:lnTo>
                  <a:lnTo>
                    <a:pt x="1394841" y="64516"/>
                  </a:lnTo>
                  <a:lnTo>
                    <a:pt x="1413129" y="54483"/>
                  </a:lnTo>
                  <a:lnTo>
                    <a:pt x="1431417" y="47498"/>
                  </a:lnTo>
                  <a:lnTo>
                    <a:pt x="1448054" y="44831"/>
                  </a:lnTo>
                  <a:lnTo>
                    <a:pt x="1465199" y="45720"/>
                  </a:lnTo>
                  <a:lnTo>
                    <a:pt x="1483614" y="49276"/>
                  </a:lnTo>
                  <a:lnTo>
                    <a:pt x="1504188" y="55118"/>
                  </a:lnTo>
                  <a:lnTo>
                    <a:pt x="1537843" y="70993"/>
                  </a:lnTo>
                  <a:lnTo>
                    <a:pt x="1544828" y="75692"/>
                  </a:lnTo>
                  <a:lnTo>
                    <a:pt x="1551559" y="81407"/>
                  </a:lnTo>
                  <a:lnTo>
                    <a:pt x="1557782" y="87884"/>
                  </a:lnTo>
                  <a:lnTo>
                    <a:pt x="1568577" y="102235"/>
                  </a:lnTo>
                  <a:lnTo>
                    <a:pt x="1577340" y="117348"/>
                  </a:lnTo>
                  <a:lnTo>
                    <a:pt x="1507236" y="171069"/>
                  </a:lnTo>
                  <a:lnTo>
                    <a:pt x="1493520" y="158876"/>
                  </a:lnTo>
                  <a:lnTo>
                    <a:pt x="1481455" y="146812"/>
                  </a:lnTo>
                  <a:lnTo>
                    <a:pt x="1469390" y="135001"/>
                  </a:lnTo>
                  <a:lnTo>
                    <a:pt x="1455420" y="123951"/>
                  </a:lnTo>
                  <a:lnTo>
                    <a:pt x="1474216" y="110490"/>
                  </a:lnTo>
                  <a:lnTo>
                    <a:pt x="1493774" y="95758"/>
                  </a:lnTo>
                  <a:lnTo>
                    <a:pt x="1513078" y="81026"/>
                  </a:lnTo>
                  <a:lnTo>
                    <a:pt x="1522095" y="74041"/>
                  </a:lnTo>
                  <a:lnTo>
                    <a:pt x="1530477" y="67564"/>
                  </a:lnTo>
                  <a:lnTo>
                    <a:pt x="1401953" y="129921"/>
                  </a:lnTo>
                  <a:lnTo>
                    <a:pt x="1397000" y="133985"/>
                  </a:lnTo>
                  <a:lnTo>
                    <a:pt x="1390777" y="139319"/>
                  </a:lnTo>
                  <a:lnTo>
                    <a:pt x="1383284" y="145415"/>
                  </a:lnTo>
                  <a:lnTo>
                    <a:pt x="1374521" y="152400"/>
                  </a:lnTo>
                  <a:lnTo>
                    <a:pt x="1364615" y="160401"/>
                  </a:lnTo>
                  <a:lnTo>
                    <a:pt x="1353693" y="169164"/>
                  </a:lnTo>
                  <a:lnTo>
                    <a:pt x="1341628" y="178689"/>
                  </a:lnTo>
                  <a:lnTo>
                    <a:pt x="1328420" y="188976"/>
                  </a:lnTo>
                  <a:lnTo>
                    <a:pt x="1314450" y="200025"/>
                  </a:lnTo>
                  <a:lnTo>
                    <a:pt x="1299337" y="211709"/>
                  </a:lnTo>
                  <a:lnTo>
                    <a:pt x="1283462" y="224282"/>
                  </a:lnTo>
                  <a:lnTo>
                    <a:pt x="1266571" y="237236"/>
                  </a:lnTo>
                  <a:lnTo>
                    <a:pt x="1248918" y="250951"/>
                  </a:lnTo>
                  <a:lnTo>
                    <a:pt x="1230376" y="265303"/>
                  </a:lnTo>
                  <a:lnTo>
                    <a:pt x="1211199" y="280162"/>
                  </a:lnTo>
                  <a:lnTo>
                    <a:pt x="1170686" y="311276"/>
                  </a:lnTo>
                  <a:lnTo>
                    <a:pt x="1127887" y="344297"/>
                  </a:lnTo>
                  <a:lnTo>
                    <a:pt x="1082802" y="378841"/>
                  </a:lnTo>
                  <a:lnTo>
                    <a:pt x="1036066" y="414655"/>
                  </a:lnTo>
                  <a:lnTo>
                    <a:pt x="987806" y="451612"/>
                  </a:lnTo>
                  <a:lnTo>
                    <a:pt x="938530" y="489204"/>
                  </a:lnTo>
                  <a:lnTo>
                    <a:pt x="837946" y="565912"/>
                  </a:lnTo>
                  <a:lnTo>
                    <a:pt x="736981" y="642493"/>
                  </a:lnTo>
                  <a:lnTo>
                    <a:pt x="687324" y="680339"/>
                  </a:lnTo>
                  <a:lnTo>
                    <a:pt x="638429" y="717296"/>
                  </a:lnTo>
                  <a:lnTo>
                    <a:pt x="591058" y="753237"/>
                  </a:lnTo>
                  <a:lnTo>
                    <a:pt x="545084" y="787908"/>
                  </a:lnTo>
                  <a:lnTo>
                    <a:pt x="501269" y="821055"/>
                  </a:lnTo>
                  <a:lnTo>
                    <a:pt x="459613" y="852424"/>
                  </a:lnTo>
                  <a:lnTo>
                    <a:pt x="439801" y="867283"/>
                  </a:lnTo>
                  <a:lnTo>
                    <a:pt x="420624" y="881634"/>
                  </a:lnTo>
                  <a:lnTo>
                    <a:pt x="402209" y="895604"/>
                  </a:lnTo>
                  <a:lnTo>
                    <a:pt x="384556" y="908812"/>
                  </a:lnTo>
                  <a:lnTo>
                    <a:pt x="367792" y="921385"/>
                  </a:lnTo>
                  <a:lnTo>
                    <a:pt x="351790" y="933196"/>
                  </a:lnTo>
                  <a:lnTo>
                    <a:pt x="336931" y="944372"/>
                  </a:lnTo>
                  <a:lnTo>
                    <a:pt x="322961" y="954913"/>
                  </a:lnTo>
                  <a:lnTo>
                    <a:pt x="309880" y="964565"/>
                  </a:lnTo>
                  <a:lnTo>
                    <a:pt x="297815" y="973455"/>
                  </a:lnTo>
                  <a:lnTo>
                    <a:pt x="287020" y="981583"/>
                  </a:lnTo>
                  <a:lnTo>
                    <a:pt x="277241" y="988822"/>
                  </a:lnTo>
                  <a:lnTo>
                    <a:pt x="268605" y="995045"/>
                  </a:lnTo>
                  <a:lnTo>
                    <a:pt x="261239" y="1000379"/>
                  </a:lnTo>
                  <a:lnTo>
                    <a:pt x="254889" y="1004824"/>
                  </a:lnTo>
                  <a:lnTo>
                    <a:pt x="250190" y="1008253"/>
                  </a:lnTo>
                  <a:lnTo>
                    <a:pt x="241173" y="1011174"/>
                  </a:lnTo>
                  <a:lnTo>
                    <a:pt x="232537" y="1013333"/>
                  </a:lnTo>
                  <a:lnTo>
                    <a:pt x="224790" y="1014857"/>
                  </a:lnTo>
                  <a:lnTo>
                    <a:pt x="217551" y="1015619"/>
                  </a:lnTo>
                  <a:lnTo>
                    <a:pt x="211074" y="1015873"/>
                  </a:lnTo>
                  <a:lnTo>
                    <a:pt x="205232" y="1015365"/>
                  </a:lnTo>
                  <a:lnTo>
                    <a:pt x="200025" y="1014349"/>
                  </a:lnTo>
                  <a:lnTo>
                    <a:pt x="195580" y="1012571"/>
                  </a:lnTo>
                  <a:lnTo>
                    <a:pt x="192024" y="1010412"/>
                  </a:lnTo>
                  <a:lnTo>
                    <a:pt x="189230" y="1007491"/>
                  </a:lnTo>
                  <a:lnTo>
                    <a:pt x="187071" y="1004189"/>
                  </a:lnTo>
                  <a:lnTo>
                    <a:pt x="185928" y="1000379"/>
                  </a:lnTo>
                  <a:lnTo>
                    <a:pt x="185547" y="996188"/>
                  </a:lnTo>
                  <a:lnTo>
                    <a:pt x="186055" y="991362"/>
                  </a:lnTo>
                  <a:lnTo>
                    <a:pt x="187452" y="986028"/>
                  </a:lnTo>
                  <a:lnTo>
                    <a:pt x="189865" y="980440"/>
                  </a:lnTo>
                  <a:lnTo>
                    <a:pt x="193040" y="977138"/>
                  </a:lnTo>
                  <a:lnTo>
                    <a:pt x="197612" y="972947"/>
                  </a:lnTo>
                  <a:lnTo>
                    <a:pt x="203581" y="967613"/>
                  </a:lnTo>
                  <a:lnTo>
                    <a:pt x="210693" y="961390"/>
                  </a:lnTo>
                  <a:lnTo>
                    <a:pt x="219075" y="954278"/>
                  </a:lnTo>
                  <a:lnTo>
                    <a:pt x="228727" y="946150"/>
                  </a:lnTo>
                  <a:lnTo>
                    <a:pt x="239522" y="937133"/>
                  </a:lnTo>
                  <a:lnTo>
                    <a:pt x="251333" y="927354"/>
                  </a:lnTo>
                  <a:lnTo>
                    <a:pt x="264287" y="916686"/>
                  </a:lnTo>
                  <a:lnTo>
                    <a:pt x="278130" y="905256"/>
                  </a:lnTo>
                  <a:lnTo>
                    <a:pt x="293243" y="893064"/>
                  </a:lnTo>
                  <a:lnTo>
                    <a:pt x="308991" y="880237"/>
                  </a:lnTo>
                  <a:lnTo>
                    <a:pt x="325755" y="866775"/>
                  </a:lnTo>
                  <a:lnTo>
                    <a:pt x="343281" y="852678"/>
                  </a:lnTo>
                  <a:lnTo>
                    <a:pt x="361696" y="837946"/>
                  </a:lnTo>
                  <a:lnTo>
                    <a:pt x="380873" y="822579"/>
                  </a:lnTo>
                  <a:lnTo>
                    <a:pt x="421259" y="790448"/>
                  </a:lnTo>
                  <a:lnTo>
                    <a:pt x="464185" y="756539"/>
                  </a:lnTo>
                  <a:lnTo>
                    <a:pt x="509143" y="721106"/>
                  </a:lnTo>
                  <a:lnTo>
                    <a:pt x="556006" y="684276"/>
                  </a:lnTo>
                  <a:lnTo>
                    <a:pt x="604266" y="646430"/>
                  </a:lnTo>
                  <a:lnTo>
                    <a:pt x="653669" y="607949"/>
                  </a:lnTo>
                  <a:lnTo>
                    <a:pt x="754380" y="529971"/>
                  </a:lnTo>
                  <a:lnTo>
                    <a:pt x="855345" y="452501"/>
                  </a:lnTo>
                  <a:lnTo>
                    <a:pt x="905002" y="414528"/>
                  </a:lnTo>
                  <a:lnTo>
                    <a:pt x="953643" y="377444"/>
                  </a:lnTo>
                  <a:lnTo>
                    <a:pt x="1000887" y="341757"/>
                  </a:lnTo>
                  <a:lnTo>
                    <a:pt x="1046607" y="307594"/>
                  </a:lnTo>
                  <a:lnTo>
                    <a:pt x="1090041" y="275082"/>
                  </a:lnTo>
                  <a:lnTo>
                    <a:pt x="1110996" y="259588"/>
                  </a:lnTo>
                  <a:lnTo>
                    <a:pt x="1131316" y="244729"/>
                  </a:lnTo>
                  <a:lnTo>
                    <a:pt x="1150747" y="230378"/>
                  </a:lnTo>
                  <a:lnTo>
                    <a:pt x="1169670" y="216662"/>
                  </a:lnTo>
                  <a:lnTo>
                    <a:pt x="1187704" y="203708"/>
                  </a:lnTo>
                  <a:lnTo>
                    <a:pt x="1205103" y="191262"/>
                  </a:lnTo>
                  <a:lnTo>
                    <a:pt x="1221359" y="179578"/>
                  </a:lnTo>
                  <a:lnTo>
                    <a:pt x="1236980" y="168656"/>
                  </a:lnTo>
                  <a:lnTo>
                    <a:pt x="1251458" y="158623"/>
                  </a:lnTo>
                  <a:lnTo>
                    <a:pt x="1265047" y="149351"/>
                  </a:lnTo>
                  <a:lnTo>
                    <a:pt x="1277493" y="140970"/>
                  </a:lnTo>
                  <a:lnTo>
                    <a:pt x="1289050" y="133476"/>
                  </a:lnTo>
                  <a:lnTo>
                    <a:pt x="1299337" y="126873"/>
                  </a:lnTo>
                  <a:lnTo>
                    <a:pt x="1308354" y="121285"/>
                  </a:lnTo>
                  <a:lnTo>
                    <a:pt x="1316355" y="116713"/>
                  </a:lnTo>
                  <a:lnTo>
                    <a:pt x="1322959" y="113157"/>
                  </a:lnTo>
                  <a:lnTo>
                    <a:pt x="1328420" y="110617"/>
                  </a:lnTo>
                  <a:lnTo>
                    <a:pt x="1332484" y="109220"/>
                  </a:lnTo>
                  <a:lnTo>
                    <a:pt x="1338580" y="109601"/>
                  </a:lnTo>
                  <a:lnTo>
                    <a:pt x="1345692" y="110617"/>
                  </a:lnTo>
                  <a:lnTo>
                    <a:pt x="1353820" y="112268"/>
                  </a:lnTo>
                  <a:lnTo>
                    <a:pt x="1362837" y="114300"/>
                  </a:lnTo>
                  <a:lnTo>
                    <a:pt x="1382903" y="119888"/>
                  </a:lnTo>
                  <a:lnTo>
                    <a:pt x="1405509" y="126619"/>
                  </a:lnTo>
                  <a:lnTo>
                    <a:pt x="1587500" y="156210"/>
                  </a:lnTo>
                  <a:lnTo>
                    <a:pt x="1589659" y="175006"/>
                  </a:lnTo>
                  <a:lnTo>
                    <a:pt x="1589405" y="193294"/>
                  </a:lnTo>
                  <a:lnTo>
                    <a:pt x="1587627" y="210947"/>
                  </a:lnTo>
                  <a:lnTo>
                    <a:pt x="1584071" y="218948"/>
                  </a:lnTo>
                  <a:lnTo>
                    <a:pt x="1578229" y="227203"/>
                  </a:lnTo>
                  <a:lnTo>
                    <a:pt x="1570355" y="235204"/>
                  </a:lnTo>
                  <a:lnTo>
                    <a:pt x="1561338" y="243078"/>
                  </a:lnTo>
                  <a:lnTo>
                    <a:pt x="1541399" y="257556"/>
                  </a:lnTo>
                  <a:lnTo>
                    <a:pt x="1531620" y="263779"/>
                  </a:lnTo>
                  <a:lnTo>
                    <a:pt x="1522730" y="269367"/>
                  </a:lnTo>
                  <a:lnTo>
                    <a:pt x="1521333" y="255397"/>
                  </a:lnTo>
                  <a:lnTo>
                    <a:pt x="1520317" y="243459"/>
                  </a:lnTo>
                  <a:lnTo>
                    <a:pt x="1519428" y="233172"/>
                  </a:lnTo>
                  <a:lnTo>
                    <a:pt x="1518666" y="224282"/>
                  </a:lnTo>
                  <a:lnTo>
                    <a:pt x="1517269" y="209550"/>
                  </a:lnTo>
                  <a:lnTo>
                    <a:pt x="1515745" y="197358"/>
                  </a:lnTo>
                  <a:lnTo>
                    <a:pt x="1548130" y="168275"/>
                  </a:lnTo>
                  <a:lnTo>
                    <a:pt x="1582166" y="137160"/>
                  </a:lnTo>
                  <a:lnTo>
                    <a:pt x="1445387" y="148209"/>
                  </a:lnTo>
                  <a:lnTo>
                    <a:pt x="1457579" y="159131"/>
                  </a:lnTo>
                  <a:lnTo>
                    <a:pt x="1463802" y="165735"/>
                  </a:lnTo>
                  <a:lnTo>
                    <a:pt x="1470152" y="173228"/>
                  </a:lnTo>
                  <a:lnTo>
                    <a:pt x="1477137" y="181737"/>
                  </a:lnTo>
                  <a:lnTo>
                    <a:pt x="1484503" y="191643"/>
                  </a:lnTo>
                  <a:lnTo>
                    <a:pt x="1480566" y="195453"/>
                  </a:lnTo>
                  <a:lnTo>
                    <a:pt x="1475486" y="200279"/>
                  </a:lnTo>
                  <a:lnTo>
                    <a:pt x="1469009" y="205994"/>
                  </a:lnTo>
                  <a:lnTo>
                    <a:pt x="1461389" y="212471"/>
                  </a:lnTo>
                  <a:lnTo>
                    <a:pt x="1452499" y="219837"/>
                  </a:lnTo>
                  <a:lnTo>
                    <a:pt x="1442593" y="228092"/>
                  </a:lnTo>
                  <a:lnTo>
                    <a:pt x="1431417" y="237109"/>
                  </a:lnTo>
                  <a:lnTo>
                    <a:pt x="1419352" y="246888"/>
                  </a:lnTo>
                  <a:lnTo>
                    <a:pt x="1406144" y="257301"/>
                  </a:lnTo>
                  <a:lnTo>
                    <a:pt x="1391920" y="268478"/>
                  </a:lnTo>
                  <a:lnTo>
                    <a:pt x="1376807" y="280289"/>
                  </a:lnTo>
                  <a:lnTo>
                    <a:pt x="1360805" y="292608"/>
                  </a:lnTo>
                  <a:lnTo>
                    <a:pt x="1343914" y="305689"/>
                  </a:lnTo>
                  <a:lnTo>
                    <a:pt x="1326134" y="319405"/>
                  </a:lnTo>
                  <a:lnTo>
                    <a:pt x="1307719" y="333501"/>
                  </a:lnTo>
                  <a:lnTo>
                    <a:pt x="1288415" y="348234"/>
                  </a:lnTo>
                  <a:lnTo>
                    <a:pt x="1248029" y="378968"/>
                  </a:lnTo>
                  <a:lnTo>
                    <a:pt x="1205230" y="411480"/>
                  </a:lnTo>
                  <a:lnTo>
                    <a:pt x="1160018" y="445516"/>
                  </a:lnTo>
                  <a:lnTo>
                    <a:pt x="1113155" y="480695"/>
                  </a:lnTo>
                  <a:lnTo>
                    <a:pt x="1064895" y="516890"/>
                  </a:lnTo>
                  <a:lnTo>
                    <a:pt x="1015492" y="553847"/>
                  </a:lnTo>
                  <a:lnTo>
                    <a:pt x="914527" y="629158"/>
                  </a:lnTo>
                  <a:lnTo>
                    <a:pt x="812927" y="704723"/>
                  </a:lnTo>
                  <a:lnTo>
                    <a:pt x="762635" y="742061"/>
                  </a:lnTo>
                  <a:lnTo>
                    <a:pt x="713359" y="778637"/>
                  </a:lnTo>
                  <a:lnTo>
                    <a:pt x="665226" y="814451"/>
                  </a:lnTo>
                  <a:lnTo>
                    <a:pt x="618490" y="848868"/>
                  </a:lnTo>
                  <a:lnTo>
                    <a:pt x="573659" y="882269"/>
                  </a:lnTo>
                  <a:lnTo>
                    <a:pt x="531114" y="913765"/>
                  </a:lnTo>
                  <a:lnTo>
                    <a:pt x="490855" y="943737"/>
                  </a:lnTo>
                  <a:lnTo>
                    <a:pt x="471805" y="957834"/>
                  </a:lnTo>
                  <a:lnTo>
                    <a:pt x="453517" y="971423"/>
                  </a:lnTo>
                  <a:lnTo>
                    <a:pt x="435864" y="984504"/>
                  </a:lnTo>
                  <a:lnTo>
                    <a:pt x="419227" y="996950"/>
                  </a:lnTo>
                  <a:lnTo>
                    <a:pt x="403479" y="1008634"/>
                  </a:lnTo>
                  <a:lnTo>
                    <a:pt x="388493" y="1019810"/>
                  </a:lnTo>
                  <a:lnTo>
                    <a:pt x="374523" y="1030224"/>
                  </a:lnTo>
                  <a:lnTo>
                    <a:pt x="361569" y="1040003"/>
                  </a:lnTo>
                  <a:lnTo>
                    <a:pt x="349631" y="1048893"/>
                  </a:lnTo>
                  <a:lnTo>
                    <a:pt x="338836" y="1057148"/>
                  </a:lnTo>
                  <a:lnTo>
                    <a:pt x="329057" y="1064387"/>
                  </a:lnTo>
                  <a:lnTo>
                    <a:pt x="320548" y="1070991"/>
                  </a:lnTo>
                  <a:lnTo>
                    <a:pt x="313182" y="1076579"/>
                  </a:lnTo>
                  <a:lnTo>
                    <a:pt x="306959" y="1081278"/>
                  </a:lnTo>
                  <a:lnTo>
                    <a:pt x="299974" y="1081913"/>
                  </a:lnTo>
                  <a:lnTo>
                    <a:pt x="293751" y="1081532"/>
                  </a:lnTo>
                  <a:lnTo>
                    <a:pt x="288290" y="1080516"/>
                  </a:lnTo>
                  <a:lnTo>
                    <a:pt x="283591" y="1078865"/>
                  </a:lnTo>
                  <a:lnTo>
                    <a:pt x="279527" y="1076579"/>
                  </a:lnTo>
                  <a:lnTo>
                    <a:pt x="275971" y="1073785"/>
                  </a:lnTo>
                  <a:lnTo>
                    <a:pt x="270891" y="1066673"/>
                  </a:lnTo>
                  <a:lnTo>
                    <a:pt x="267843" y="1058037"/>
                  </a:lnTo>
                  <a:lnTo>
                    <a:pt x="266700" y="1048131"/>
                  </a:lnTo>
                  <a:lnTo>
                    <a:pt x="267081" y="1037717"/>
                  </a:lnTo>
                  <a:lnTo>
                    <a:pt x="268732" y="1026795"/>
                  </a:lnTo>
                  <a:lnTo>
                    <a:pt x="270764" y="1024509"/>
                  </a:lnTo>
                  <a:lnTo>
                    <a:pt x="274320" y="1021080"/>
                  </a:lnTo>
                  <a:lnTo>
                    <a:pt x="279400" y="1016762"/>
                  </a:lnTo>
                  <a:lnTo>
                    <a:pt x="285877" y="1011301"/>
                  </a:lnTo>
                  <a:lnTo>
                    <a:pt x="293624" y="1004824"/>
                  </a:lnTo>
                  <a:lnTo>
                    <a:pt x="302895" y="997331"/>
                  </a:lnTo>
                  <a:lnTo>
                    <a:pt x="313309" y="988949"/>
                  </a:lnTo>
                  <a:lnTo>
                    <a:pt x="324866" y="979678"/>
                  </a:lnTo>
                  <a:lnTo>
                    <a:pt x="337820" y="969645"/>
                  </a:lnTo>
                  <a:lnTo>
                    <a:pt x="351790" y="958596"/>
                  </a:lnTo>
                  <a:lnTo>
                    <a:pt x="366776" y="946912"/>
                  </a:lnTo>
                  <a:lnTo>
                    <a:pt x="382905" y="934466"/>
                  </a:lnTo>
                  <a:lnTo>
                    <a:pt x="399923" y="921258"/>
                  </a:lnTo>
                  <a:lnTo>
                    <a:pt x="417957" y="907415"/>
                  </a:lnTo>
                  <a:lnTo>
                    <a:pt x="436753" y="892937"/>
                  </a:lnTo>
                  <a:lnTo>
                    <a:pt x="456692" y="877697"/>
                  </a:lnTo>
                  <a:lnTo>
                    <a:pt x="477139" y="862203"/>
                  </a:lnTo>
                  <a:lnTo>
                    <a:pt x="498475" y="845947"/>
                  </a:lnTo>
                  <a:lnTo>
                    <a:pt x="542925" y="812038"/>
                  </a:lnTo>
                  <a:lnTo>
                    <a:pt x="589788" y="776478"/>
                  </a:lnTo>
                  <a:lnTo>
                    <a:pt x="638683" y="739394"/>
                  </a:lnTo>
                  <a:lnTo>
                    <a:pt x="689229" y="701294"/>
                  </a:lnTo>
                  <a:lnTo>
                    <a:pt x="740918" y="662305"/>
                  </a:lnTo>
                  <a:lnTo>
                    <a:pt x="846328" y="582803"/>
                  </a:lnTo>
                  <a:lnTo>
                    <a:pt x="951865" y="503301"/>
                  </a:lnTo>
                  <a:lnTo>
                    <a:pt x="1003681" y="464312"/>
                  </a:lnTo>
                  <a:lnTo>
                    <a:pt x="1054481" y="426212"/>
                  </a:lnTo>
                  <a:lnTo>
                    <a:pt x="1103503" y="389128"/>
                  </a:lnTo>
                  <a:lnTo>
                    <a:pt x="1150874" y="353568"/>
                  </a:lnTo>
                  <a:lnTo>
                    <a:pt x="1195832" y="319786"/>
                  </a:lnTo>
                  <a:lnTo>
                    <a:pt x="1217295" y="303530"/>
                  </a:lnTo>
                  <a:lnTo>
                    <a:pt x="1238123" y="287782"/>
                  </a:lnTo>
                  <a:lnTo>
                    <a:pt x="1258062" y="272669"/>
                  </a:lnTo>
                  <a:lnTo>
                    <a:pt x="1277239" y="258191"/>
                  </a:lnTo>
                  <a:lnTo>
                    <a:pt x="1295654" y="244348"/>
                  </a:lnTo>
                  <a:lnTo>
                    <a:pt x="1313053" y="231140"/>
                  </a:lnTo>
                  <a:lnTo>
                    <a:pt x="1329309" y="218694"/>
                  </a:lnTo>
                  <a:lnTo>
                    <a:pt x="1344803" y="207010"/>
                  </a:lnTo>
                  <a:lnTo>
                    <a:pt x="1359154" y="195961"/>
                  </a:lnTo>
                  <a:lnTo>
                    <a:pt x="1372362" y="185928"/>
                  </a:lnTo>
                  <a:lnTo>
                    <a:pt x="1384427" y="176530"/>
                  </a:lnTo>
                  <a:lnTo>
                    <a:pt x="1395222" y="168275"/>
                  </a:lnTo>
                  <a:lnTo>
                    <a:pt x="1404874" y="160782"/>
                  </a:lnTo>
                  <a:lnTo>
                    <a:pt x="1413129" y="154305"/>
                  </a:lnTo>
                  <a:lnTo>
                    <a:pt x="1420114" y="148717"/>
                  </a:lnTo>
                  <a:lnTo>
                    <a:pt x="1425575" y="144399"/>
                  </a:lnTo>
                  <a:lnTo>
                    <a:pt x="1429639" y="140970"/>
                  </a:lnTo>
                  <a:lnTo>
                    <a:pt x="1432306" y="138684"/>
                  </a:lnTo>
                  <a:lnTo>
                    <a:pt x="1493901" y="248920"/>
                  </a:lnTo>
                  <a:lnTo>
                    <a:pt x="1496187" y="266192"/>
                  </a:lnTo>
                  <a:lnTo>
                    <a:pt x="1498346" y="284480"/>
                  </a:lnTo>
                  <a:lnTo>
                    <a:pt x="1489202" y="292481"/>
                  </a:lnTo>
                  <a:lnTo>
                    <a:pt x="1479169" y="301244"/>
                  </a:lnTo>
                  <a:lnTo>
                    <a:pt x="1468120" y="310642"/>
                  </a:lnTo>
                  <a:lnTo>
                    <a:pt x="1456182" y="320675"/>
                  </a:lnTo>
                  <a:lnTo>
                    <a:pt x="1443228" y="331343"/>
                  </a:lnTo>
                  <a:lnTo>
                    <a:pt x="1429385" y="342773"/>
                  </a:lnTo>
                  <a:lnTo>
                    <a:pt x="1414780" y="354584"/>
                  </a:lnTo>
                  <a:lnTo>
                    <a:pt x="1399286" y="367030"/>
                  </a:lnTo>
                  <a:lnTo>
                    <a:pt x="1383030" y="379984"/>
                  </a:lnTo>
                  <a:lnTo>
                    <a:pt x="1366012" y="393573"/>
                  </a:lnTo>
                  <a:lnTo>
                    <a:pt x="1330071" y="422021"/>
                  </a:lnTo>
                  <a:lnTo>
                    <a:pt x="1291590" y="452120"/>
                  </a:lnTo>
                  <a:lnTo>
                    <a:pt x="1250696" y="483743"/>
                  </a:lnTo>
                  <a:lnTo>
                    <a:pt x="1208024" y="516636"/>
                  </a:lnTo>
                  <a:lnTo>
                    <a:pt x="1163574" y="550926"/>
                  </a:lnTo>
                  <a:lnTo>
                    <a:pt x="1117854" y="585851"/>
                  </a:lnTo>
                  <a:lnTo>
                    <a:pt x="1070864" y="621538"/>
                  </a:lnTo>
                  <a:lnTo>
                    <a:pt x="974852" y="694309"/>
                  </a:lnTo>
                  <a:lnTo>
                    <a:pt x="877697" y="767715"/>
                  </a:lnTo>
                  <a:lnTo>
                    <a:pt x="829564" y="804037"/>
                  </a:lnTo>
                  <a:lnTo>
                    <a:pt x="781812" y="839851"/>
                  </a:lnTo>
                  <a:lnTo>
                    <a:pt x="735203" y="874903"/>
                  </a:lnTo>
                  <a:lnTo>
                    <a:pt x="689483" y="909066"/>
                  </a:lnTo>
                  <a:lnTo>
                    <a:pt x="645287" y="942213"/>
                  </a:lnTo>
                  <a:lnTo>
                    <a:pt x="602869" y="974090"/>
                  </a:lnTo>
                  <a:lnTo>
                    <a:pt x="562356" y="1004316"/>
                  </a:lnTo>
                  <a:lnTo>
                    <a:pt x="524129" y="1033018"/>
                  </a:lnTo>
                  <a:lnTo>
                    <a:pt x="488569" y="1059688"/>
                  </a:lnTo>
                  <a:lnTo>
                    <a:pt x="471805" y="1072261"/>
                  </a:lnTo>
                  <a:lnTo>
                    <a:pt x="455803" y="1084326"/>
                  </a:lnTo>
                  <a:lnTo>
                    <a:pt x="440563" y="1095756"/>
                  </a:lnTo>
                  <a:lnTo>
                    <a:pt x="426212" y="1106678"/>
                  </a:lnTo>
                  <a:lnTo>
                    <a:pt x="412623" y="1116838"/>
                  </a:lnTo>
                  <a:lnTo>
                    <a:pt x="399923" y="1126363"/>
                  </a:lnTo>
                  <a:lnTo>
                    <a:pt x="388112" y="1135380"/>
                  </a:lnTo>
                  <a:lnTo>
                    <a:pt x="377444" y="1143508"/>
                  </a:lnTo>
                  <a:lnTo>
                    <a:pt x="367665" y="1150874"/>
                  </a:lnTo>
                  <a:lnTo>
                    <a:pt x="358902" y="1157732"/>
                  </a:lnTo>
                  <a:lnTo>
                    <a:pt x="351155" y="1163574"/>
                  </a:lnTo>
                  <a:lnTo>
                    <a:pt x="344678" y="1168781"/>
                  </a:lnTo>
                  <a:lnTo>
                    <a:pt x="339090" y="1172972"/>
                  </a:lnTo>
                  <a:lnTo>
                    <a:pt x="334899" y="1176401"/>
                  </a:lnTo>
                  <a:lnTo>
                    <a:pt x="327406" y="1175639"/>
                  </a:lnTo>
                  <a:lnTo>
                    <a:pt x="318262" y="1172972"/>
                  </a:lnTo>
                  <a:lnTo>
                    <a:pt x="308864" y="1168273"/>
                  </a:lnTo>
                  <a:lnTo>
                    <a:pt x="304673" y="1164971"/>
                  </a:lnTo>
                  <a:lnTo>
                    <a:pt x="301117" y="1161034"/>
                  </a:lnTo>
                  <a:lnTo>
                    <a:pt x="298069" y="1156335"/>
                  </a:lnTo>
                  <a:lnTo>
                    <a:pt x="296164" y="1150874"/>
                  </a:lnTo>
                  <a:lnTo>
                    <a:pt x="295275" y="1144778"/>
                  </a:lnTo>
                  <a:lnTo>
                    <a:pt x="295783" y="1137793"/>
                  </a:lnTo>
                  <a:lnTo>
                    <a:pt x="297942" y="1129919"/>
                  </a:lnTo>
                  <a:lnTo>
                    <a:pt x="301625" y="1121283"/>
                  </a:lnTo>
                  <a:lnTo>
                    <a:pt x="307340" y="1111631"/>
                  </a:lnTo>
                  <a:lnTo>
                    <a:pt x="315087" y="1100963"/>
                  </a:lnTo>
                  <a:lnTo>
                    <a:pt x="321437" y="1096010"/>
                  </a:lnTo>
                  <a:lnTo>
                    <a:pt x="328930" y="1090041"/>
                  </a:lnTo>
                  <a:lnTo>
                    <a:pt x="337693" y="1083183"/>
                  </a:lnTo>
                  <a:lnTo>
                    <a:pt x="347599" y="1075563"/>
                  </a:lnTo>
                  <a:lnTo>
                    <a:pt x="358648" y="1066926"/>
                  </a:lnTo>
                  <a:lnTo>
                    <a:pt x="370840" y="1057656"/>
                  </a:lnTo>
                  <a:lnTo>
                    <a:pt x="384048" y="1047623"/>
                  </a:lnTo>
                  <a:lnTo>
                    <a:pt x="398272" y="1036955"/>
                  </a:lnTo>
                  <a:lnTo>
                    <a:pt x="413385" y="1025398"/>
                  </a:lnTo>
                  <a:lnTo>
                    <a:pt x="429514" y="1013206"/>
                  </a:lnTo>
                  <a:lnTo>
                    <a:pt x="446532" y="1000506"/>
                  </a:lnTo>
                  <a:lnTo>
                    <a:pt x="464312" y="987171"/>
                  </a:lnTo>
                  <a:lnTo>
                    <a:pt x="482981" y="973201"/>
                  </a:lnTo>
                  <a:lnTo>
                    <a:pt x="502412" y="958723"/>
                  </a:lnTo>
                  <a:lnTo>
                    <a:pt x="543179" y="928243"/>
                  </a:lnTo>
                  <a:lnTo>
                    <a:pt x="586359" y="895985"/>
                  </a:lnTo>
                  <a:lnTo>
                    <a:pt x="631952" y="862330"/>
                  </a:lnTo>
                  <a:lnTo>
                    <a:pt x="679323" y="827278"/>
                  </a:lnTo>
                  <a:lnTo>
                    <a:pt x="728091" y="791083"/>
                  </a:lnTo>
                  <a:lnTo>
                    <a:pt x="777875" y="753999"/>
                  </a:lnTo>
                  <a:lnTo>
                    <a:pt x="828675" y="716407"/>
                  </a:lnTo>
                  <a:lnTo>
                    <a:pt x="931037" y="640334"/>
                  </a:lnTo>
                  <a:lnTo>
                    <a:pt x="1032510" y="564896"/>
                  </a:lnTo>
                  <a:lnTo>
                    <a:pt x="1082167" y="527939"/>
                  </a:lnTo>
                  <a:lnTo>
                    <a:pt x="1130427" y="491871"/>
                  </a:lnTo>
                  <a:lnTo>
                    <a:pt x="1177163" y="456946"/>
                  </a:lnTo>
                  <a:lnTo>
                    <a:pt x="1221994" y="423418"/>
                  </a:lnTo>
                  <a:lnTo>
                    <a:pt x="1264539" y="391414"/>
                  </a:lnTo>
                  <a:lnTo>
                    <a:pt x="1284859" y="376047"/>
                  </a:lnTo>
                  <a:lnTo>
                    <a:pt x="1304417" y="361188"/>
                  </a:lnTo>
                  <a:lnTo>
                    <a:pt x="1323340" y="346964"/>
                  </a:lnTo>
                  <a:lnTo>
                    <a:pt x="1341374" y="333121"/>
                  </a:lnTo>
                  <a:lnTo>
                    <a:pt x="1358773" y="319786"/>
                  </a:lnTo>
                  <a:lnTo>
                    <a:pt x="1375156" y="307340"/>
                  </a:lnTo>
                  <a:lnTo>
                    <a:pt x="1390650" y="295401"/>
                  </a:lnTo>
                  <a:lnTo>
                    <a:pt x="1405255" y="284099"/>
                  </a:lnTo>
                  <a:lnTo>
                    <a:pt x="1418844" y="273431"/>
                  </a:lnTo>
                  <a:lnTo>
                    <a:pt x="1431290" y="263651"/>
                  </a:lnTo>
                  <a:lnTo>
                    <a:pt x="1442720" y="254508"/>
                  </a:lnTo>
                  <a:lnTo>
                    <a:pt x="1453007" y="246253"/>
                  </a:lnTo>
                  <a:lnTo>
                    <a:pt x="1462151" y="238887"/>
                  </a:lnTo>
                  <a:lnTo>
                    <a:pt x="1470152" y="232156"/>
                  </a:lnTo>
                  <a:lnTo>
                    <a:pt x="1476883" y="226441"/>
                  </a:lnTo>
                  <a:lnTo>
                    <a:pt x="1482217" y="221615"/>
                  </a:lnTo>
                  <a:lnTo>
                    <a:pt x="1486408" y="217678"/>
                  </a:lnTo>
                  <a:lnTo>
                    <a:pt x="1489075" y="214884"/>
                  </a:lnTo>
                  <a:lnTo>
                    <a:pt x="163830" y="1015492"/>
                  </a:lnTo>
                  <a:lnTo>
                    <a:pt x="169291" y="1022476"/>
                  </a:lnTo>
                  <a:lnTo>
                    <a:pt x="174879" y="1028573"/>
                  </a:lnTo>
                  <a:lnTo>
                    <a:pt x="181483" y="1033780"/>
                  </a:lnTo>
                  <a:lnTo>
                    <a:pt x="190119" y="1037717"/>
                  </a:lnTo>
                  <a:lnTo>
                    <a:pt x="195580" y="1038987"/>
                  </a:lnTo>
                  <a:lnTo>
                    <a:pt x="201930" y="1039876"/>
                  </a:lnTo>
                  <a:lnTo>
                    <a:pt x="209296" y="1040257"/>
                  </a:lnTo>
                  <a:lnTo>
                    <a:pt x="217932" y="1040130"/>
                  </a:lnTo>
                  <a:lnTo>
                    <a:pt x="227711" y="1039495"/>
                  </a:lnTo>
                  <a:lnTo>
                    <a:pt x="239014" y="1038351"/>
                  </a:lnTo>
                  <a:lnTo>
                    <a:pt x="237998" y="1052576"/>
                  </a:lnTo>
                  <a:lnTo>
                    <a:pt x="239522" y="1064895"/>
                  </a:lnTo>
                  <a:lnTo>
                    <a:pt x="243078" y="1075563"/>
                  </a:lnTo>
                  <a:lnTo>
                    <a:pt x="248539" y="1084326"/>
                  </a:lnTo>
                  <a:lnTo>
                    <a:pt x="255778" y="1091819"/>
                  </a:lnTo>
                  <a:lnTo>
                    <a:pt x="264160" y="1097915"/>
                  </a:lnTo>
                  <a:lnTo>
                    <a:pt x="273558" y="1102868"/>
                  </a:lnTo>
                  <a:lnTo>
                    <a:pt x="283718" y="1106805"/>
                  </a:lnTo>
                  <a:lnTo>
                    <a:pt x="280670" y="1113155"/>
                  </a:lnTo>
                  <a:lnTo>
                    <a:pt x="278511" y="1119759"/>
                  </a:lnTo>
                  <a:lnTo>
                    <a:pt x="276606" y="1133601"/>
                  </a:lnTo>
                  <a:lnTo>
                    <a:pt x="277368" y="1147572"/>
                  </a:lnTo>
                  <a:lnTo>
                    <a:pt x="280543" y="1161161"/>
                  </a:lnTo>
                  <a:lnTo>
                    <a:pt x="285623" y="1173734"/>
                  </a:lnTo>
                  <a:lnTo>
                    <a:pt x="292481" y="1184401"/>
                  </a:lnTo>
                  <a:lnTo>
                    <a:pt x="300482" y="1192403"/>
                  </a:lnTo>
                  <a:lnTo>
                    <a:pt x="309372" y="1197356"/>
                  </a:lnTo>
                  <a:lnTo>
                    <a:pt x="282829" y="1205484"/>
                  </a:lnTo>
                  <a:lnTo>
                    <a:pt x="257683" y="1213358"/>
                  </a:lnTo>
                  <a:lnTo>
                    <a:pt x="233553" y="1220851"/>
                  </a:lnTo>
                  <a:lnTo>
                    <a:pt x="209931" y="1227582"/>
                  </a:lnTo>
                  <a:lnTo>
                    <a:pt x="186182" y="1233424"/>
                  </a:lnTo>
                  <a:lnTo>
                    <a:pt x="161925" y="1238123"/>
                  </a:lnTo>
                  <a:lnTo>
                    <a:pt x="136525" y="1241679"/>
                  </a:lnTo>
                  <a:lnTo>
                    <a:pt x="109855" y="1243711"/>
                  </a:lnTo>
                  <a:lnTo>
                    <a:pt x="109601" y="1230630"/>
                  </a:lnTo>
                  <a:lnTo>
                    <a:pt x="106807" y="1217168"/>
                  </a:lnTo>
                  <a:lnTo>
                    <a:pt x="102108" y="1204214"/>
                  </a:lnTo>
                  <a:lnTo>
                    <a:pt x="95504" y="1192022"/>
                  </a:lnTo>
                  <a:lnTo>
                    <a:pt x="87630" y="1181481"/>
                  </a:lnTo>
                  <a:lnTo>
                    <a:pt x="78867" y="1173480"/>
                  </a:lnTo>
                  <a:lnTo>
                    <a:pt x="69977" y="1168400"/>
                  </a:lnTo>
                  <a:lnTo>
                    <a:pt x="61087" y="1167257"/>
                  </a:lnTo>
                  <a:lnTo>
                    <a:pt x="73406" y="1145159"/>
                  </a:lnTo>
                  <a:lnTo>
                    <a:pt x="87122" y="1123061"/>
                  </a:lnTo>
                  <a:lnTo>
                    <a:pt x="115824" y="1079881"/>
                  </a:lnTo>
                  <a:lnTo>
                    <a:pt x="129413" y="1059561"/>
                  </a:lnTo>
                  <a:lnTo>
                    <a:pt x="141351" y="1040638"/>
                  </a:lnTo>
                  <a:lnTo>
                    <a:pt x="146431" y="1031748"/>
                  </a:lnTo>
                  <a:lnTo>
                    <a:pt x="150876" y="1023239"/>
                  </a:lnTo>
                  <a:lnTo>
                    <a:pt x="154559" y="1015492"/>
                  </a:lnTo>
                  <a:lnTo>
                    <a:pt x="157353" y="1008253"/>
                  </a:lnTo>
                  <a:lnTo>
                    <a:pt x="26289" y="12786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44"/>
          <p:cNvGrpSpPr/>
          <p:nvPr/>
        </p:nvGrpSpPr>
        <p:grpSpPr>
          <a:xfrm>
            <a:off x="6413040" y="1373040"/>
            <a:ext cx="2011320" cy="2069280"/>
            <a:chOff x="6413040" y="1373040"/>
            <a:chExt cx="2011320" cy="2069280"/>
          </a:xfrm>
        </p:grpSpPr>
        <p:sp>
          <p:nvSpPr>
            <p:cNvPr id="180" name="Freeform: Shape 37"/>
            <p:cNvSpPr/>
            <p:nvPr/>
          </p:nvSpPr>
          <p:spPr>
            <a:xfrm flipH="1" rot="18518400">
              <a:off x="6465240" y="2516400"/>
              <a:ext cx="185760" cy="213840"/>
            </a:xfrm>
            <a:custGeom>
              <a:avLst/>
              <a:gdLst>
                <a:gd name="textAreaLeft" fmla="*/ 360 w 185760"/>
                <a:gd name="textAreaRight" fmla="*/ 186480 w 1857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87198" h="216282">
                  <a:moveTo>
                    <a:pt x="128143" y="65658"/>
                  </a:moveTo>
                  <a:lnTo>
                    <a:pt x="116840" y="55117"/>
                  </a:lnTo>
                  <a:lnTo>
                    <a:pt x="104647" y="46989"/>
                  </a:lnTo>
                  <a:lnTo>
                    <a:pt x="90550" y="40385"/>
                  </a:lnTo>
                  <a:lnTo>
                    <a:pt x="73914" y="34543"/>
                  </a:lnTo>
                  <a:lnTo>
                    <a:pt x="53719" y="28447"/>
                  </a:lnTo>
                  <a:lnTo>
                    <a:pt x="42164" y="25145"/>
                  </a:lnTo>
                  <a:lnTo>
                    <a:pt x="29337" y="21208"/>
                  </a:lnTo>
                  <a:lnTo>
                    <a:pt x="15367" y="17017"/>
                  </a:lnTo>
                  <a:lnTo>
                    <a:pt x="0" y="12064"/>
                  </a:lnTo>
                  <a:lnTo>
                    <a:pt x="18542" y="6350"/>
                  </a:lnTo>
                  <a:lnTo>
                    <a:pt x="36068" y="2539"/>
                  </a:lnTo>
                  <a:lnTo>
                    <a:pt x="52323" y="381"/>
                  </a:lnTo>
                  <a:lnTo>
                    <a:pt x="67691" y="0"/>
                  </a:lnTo>
                  <a:lnTo>
                    <a:pt x="82168" y="1142"/>
                  </a:lnTo>
                  <a:lnTo>
                    <a:pt x="95376" y="3809"/>
                  </a:lnTo>
                  <a:lnTo>
                    <a:pt x="107568" y="7746"/>
                  </a:lnTo>
                  <a:lnTo>
                    <a:pt x="118998" y="13081"/>
                  </a:lnTo>
                  <a:lnTo>
                    <a:pt x="129285" y="19303"/>
                  </a:lnTo>
                  <a:lnTo>
                    <a:pt x="138682" y="26542"/>
                  </a:lnTo>
                  <a:lnTo>
                    <a:pt x="147193" y="34797"/>
                  </a:lnTo>
                  <a:lnTo>
                    <a:pt x="154813" y="43814"/>
                  </a:lnTo>
                  <a:lnTo>
                    <a:pt x="161543" y="53593"/>
                  </a:lnTo>
                  <a:lnTo>
                    <a:pt x="167513" y="63753"/>
                  </a:lnTo>
                  <a:lnTo>
                    <a:pt x="176910" y="85470"/>
                  </a:lnTo>
                  <a:lnTo>
                    <a:pt x="183260" y="108076"/>
                  </a:lnTo>
                  <a:lnTo>
                    <a:pt x="186563" y="130682"/>
                  </a:lnTo>
                  <a:lnTo>
                    <a:pt x="187197" y="152400"/>
                  </a:lnTo>
                  <a:lnTo>
                    <a:pt x="185293" y="172212"/>
                  </a:lnTo>
                  <a:lnTo>
                    <a:pt x="183515" y="181228"/>
                  </a:lnTo>
                  <a:lnTo>
                    <a:pt x="180975" y="189483"/>
                  </a:lnTo>
                  <a:lnTo>
                    <a:pt x="178053" y="196850"/>
                  </a:lnTo>
                  <a:lnTo>
                    <a:pt x="174497" y="203200"/>
                  </a:lnTo>
                  <a:lnTo>
                    <a:pt x="170432" y="208406"/>
                  </a:lnTo>
                  <a:lnTo>
                    <a:pt x="165862" y="212470"/>
                  </a:lnTo>
                  <a:lnTo>
                    <a:pt x="160907" y="215010"/>
                  </a:lnTo>
                  <a:lnTo>
                    <a:pt x="155447" y="216281"/>
                  </a:lnTo>
                  <a:lnTo>
                    <a:pt x="159130" y="200532"/>
                  </a:lnTo>
                  <a:lnTo>
                    <a:pt x="161543" y="183514"/>
                  </a:lnTo>
                  <a:lnTo>
                    <a:pt x="162431" y="165481"/>
                  </a:lnTo>
                  <a:lnTo>
                    <a:pt x="161669" y="147065"/>
                  </a:lnTo>
                  <a:lnTo>
                    <a:pt x="159130" y="128777"/>
                  </a:lnTo>
                  <a:lnTo>
                    <a:pt x="154685" y="110997"/>
                  </a:lnTo>
                  <a:lnTo>
                    <a:pt x="148081" y="94360"/>
                  </a:lnTo>
                  <a:lnTo>
                    <a:pt x="139192" y="79375"/>
                  </a:lnTo>
                  <a:lnTo>
                    <a:pt x="128143" y="656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: Shape 38"/>
            <p:cNvSpPr/>
            <p:nvPr/>
          </p:nvSpPr>
          <p:spPr>
            <a:xfrm flipH="1" rot="18518400">
              <a:off x="6509520" y="2496240"/>
              <a:ext cx="255600" cy="2466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54890" h="250572">
                  <a:moveTo>
                    <a:pt x="113918" y="1778"/>
                  </a:moveTo>
                  <a:lnTo>
                    <a:pt x="137287" y="5080"/>
                  </a:lnTo>
                  <a:lnTo>
                    <a:pt x="158115" y="9906"/>
                  </a:lnTo>
                  <a:lnTo>
                    <a:pt x="176910" y="16256"/>
                  </a:lnTo>
                  <a:lnTo>
                    <a:pt x="193419" y="23877"/>
                  </a:lnTo>
                  <a:lnTo>
                    <a:pt x="207770" y="33021"/>
                  </a:lnTo>
                  <a:lnTo>
                    <a:pt x="219964" y="43305"/>
                  </a:lnTo>
                  <a:lnTo>
                    <a:pt x="230251" y="54865"/>
                  </a:lnTo>
                  <a:lnTo>
                    <a:pt x="238759" y="67437"/>
                  </a:lnTo>
                  <a:lnTo>
                    <a:pt x="245364" y="81153"/>
                  </a:lnTo>
                  <a:lnTo>
                    <a:pt x="250063" y="95758"/>
                  </a:lnTo>
                  <a:lnTo>
                    <a:pt x="253365" y="111252"/>
                  </a:lnTo>
                  <a:lnTo>
                    <a:pt x="254889" y="127635"/>
                  </a:lnTo>
                  <a:lnTo>
                    <a:pt x="254889" y="144780"/>
                  </a:lnTo>
                  <a:lnTo>
                    <a:pt x="253365" y="162560"/>
                  </a:lnTo>
                  <a:lnTo>
                    <a:pt x="250569" y="180975"/>
                  </a:lnTo>
                  <a:lnTo>
                    <a:pt x="243078" y="190881"/>
                  </a:lnTo>
                  <a:lnTo>
                    <a:pt x="236093" y="199771"/>
                  </a:lnTo>
                  <a:lnTo>
                    <a:pt x="221232" y="215900"/>
                  </a:lnTo>
                  <a:lnTo>
                    <a:pt x="212725" y="223774"/>
                  </a:lnTo>
                  <a:lnTo>
                    <a:pt x="202692" y="231902"/>
                  </a:lnTo>
                  <a:lnTo>
                    <a:pt x="190754" y="240665"/>
                  </a:lnTo>
                  <a:lnTo>
                    <a:pt x="176403" y="250571"/>
                  </a:lnTo>
                  <a:lnTo>
                    <a:pt x="171830" y="218692"/>
                  </a:lnTo>
                  <a:lnTo>
                    <a:pt x="168019" y="203200"/>
                  </a:lnTo>
                  <a:lnTo>
                    <a:pt x="163193" y="187833"/>
                  </a:lnTo>
                  <a:lnTo>
                    <a:pt x="157226" y="173102"/>
                  </a:lnTo>
                  <a:lnTo>
                    <a:pt x="149987" y="158623"/>
                  </a:lnTo>
                  <a:lnTo>
                    <a:pt x="141478" y="144905"/>
                  </a:lnTo>
                  <a:lnTo>
                    <a:pt x="131826" y="131699"/>
                  </a:lnTo>
                  <a:lnTo>
                    <a:pt x="120522" y="119253"/>
                  </a:lnTo>
                  <a:lnTo>
                    <a:pt x="108077" y="107567"/>
                  </a:lnTo>
                  <a:lnTo>
                    <a:pt x="93980" y="96647"/>
                  </a:lnTo>
                  <a:lnTo>
                    <a:pt x="78485" y="86868"/>
                  </a:lnTo>
                  <a:lnTo>
                    <a:pt x="61341" y="77978"/>
                  </a:lnTo>
                  <a:lnTo>
                    <a:pt x="42670" y="70231"/>
                  </a:lnTo>
                  <a:lnTo>
                    <a:pt x="22225" y="63500"/>
                  </a:lnTo>
                  <a:lnTo>
                    <a:pt x="0" y="58040"/>
                  </a:lnTo>
                  <a:lnTo>
                    <a:pt x="16381" y="44450"/>
                  </a:lnTo>
                  <a:lnTo>
                    <a:pt x="35431" y="30861"/>
                  </a:lnTo>
                  <a:lnTo>
                    <a:pt x="46481" y="23622"/>
                  </a:lnTo>
                  <a:lnTo>
                    <a:pt x="58801" y="16256"/>
                  </a:lnTo>
                  <a:lnTo>
                    <a:pt x="72517" y="8509"/>
                  </a:lnTo>
                  <a:lnTo>
                    <a:pt x="88265" y="0"/>
                  </a:lnTo>
                  <a:lnTo>
                    <a:pt x="113918" y="1778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: Shape 39"/>
            <p:cNvSpPr/>
            <p:nvPr/>
          </p:nvSpPr>
          <p:spPr>
            <a:xfrm flipH="1" rot="18518400">
              <a:off x="6717240" y="1962720"/>
              <a:ext cx="1244880" cy="96444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243458" h="973582">
                  <a:moveTo>
                    <a:pt x="1243457" y="69595"/>
                  </a:moveTo>
                  <a:lnTo>
                    <a:pt x="1212976" y="94488"/>
                  </a:lnTo>
                  <a:lnTo>
                    <a:pt x="1181353" y="119888"/>
                  </a:lnTo>
                  <a:lnTo>
                    <a:pt x="1148714" y="146050"/>
                  </a:lnTo>
                  <a:lnTo>
                    <a:pt x="1115060" y="172592"/>
                  </a:lnTo>
                  <a:lnTo>
                    <a:pt x="1080389" y="199516"/>
                  </a:lnTo>
                  <a:lnTo>
                    <a:pt x="1044957" y="226948"/>
                  </a:lnTo>
                  <a:lnTo>
                    <a:pt x="971423" y="283082"/>
                  </a:lnTo>
                  <a:lnTo>
                    <a:pt x="895350" y="340359"/>
                  </a:lnTo>
                  <a:lnTo>
                    <a:pt x="817245" y="398779"/>
                  </a:lnTo>
                  <a:lnTo>
                    <a:pt x="737615" y="457834"/>
                  </a:lnTo>
                  <a:lnTo>
                    <a:pt x="656971" y="517397"/>
                  </a:lnTo>
                  <a:lnTo>
                    <a:pt x="495173" y="636396"/>
                  </a:lnTo>
                  <a:lnTo>
                    <a:pt x="415036" y="695325"/>
                  </a:lnTo>
                  <a:lnTo>
                    <a:pt x="336423" y="753363"/>
                  </a:lnTo>
                  <a:lnTo>
                    <a:pt x="259588" y="810513"/>
                  </a:lnTo>
                  <a:lnTo>
                    <a:pt x="185293" y="866139"/>
                  </a:lnTo>
                  <a:lnTo>
                    <a:pt x="149098" y="893315"/>
                  </a:lnTo>
                  <a:lnTo>
                    <a:pt x="113919" y="920114"/>
                  </a:lnTo>
                  <a:lnTo>
                    <a:pt x="79628" y="946403"/>
                  </a:lnTo>
                  <a:lnTo>
                    <a:pt x="46227" y="972057"/>
                  </a:lnTo>
                  <a:lnTo>
                    <a:pt x="42926" y="973327"/>
                  </a:lnTo>
                  <a:lnTo>
                    <a:pt x="38989" y="973581"/>
                  </a:lnTo>
                  <a:lnTo>
                    <a:pt x="34798" y="972819"/>
                  </a:lnTo>
                  <a:lnTo>
                    <a:pt x="30226" y="971169"/>
                  </a:lnTo>
                  <a:lnTo>
                    <a:pt x="20955" y="965200"/>
                  </a:lnTo>
                  <a:lnTo>
                    <a:pt x="12319" y="956182"/>
                  </a:lnTo>
                  <a:lnTo>
                    <a:pt x="8383" y="950465"/>
                  </a:lnTo>
                  <a:lnTo>
                    <a:pt x="5208" y="944115"/>
                  </a:lnTo>
                  <a:lnTo>
                    <a:pt x="2667" y="937003"/>
                  </a:lnTo>
                  <a:lnTo>
                    <a:pt x="889" y="929256"/>
                  </a:lnTo>
                  <a:lnTo>
                    <a:pt x="0" y="921003"/>
                  </a:lnTo>
                  <a:lnTo>
                    <a:pt x="253" y="912240"/>
                  </a:lnTo>
                  <a:lnTo>
                    <a:pt x="1651" y="902969"/>
                  </a:lnTo>
                  <a:lnTo>
                    <a:pt x="4445" y="893190"/>
                  </a:lnTo>
                  <a:lnTo>
                    <a:pt x="34417" y="870076"/>
                  </a:lnTo>
                  <a:lnTo>
                    <a:pt x="65533" y="845819"/>
                  </a:lnTo>
                  <a:lnTo>
                    <a:pt x="97917" y="820927"/>
                  </a:lnTo>
                  <a:lnTo>
                    <a:pt x="131190" y="794890"/>
                  </a:lnTo>
                  <a:lnTo>
                    <a:pt x="165482" y="768095"/>
                  </a:lnTo>
                  <a:lnTo>
                    <a:pt x="200534" y="740663"/>
                  </a:lnTo>
                  <a:lnTo>
                    <a:pt x="236601" y="712469"/>
                  </a:lnTo>
                  <a:lnTo>
                    <a:pt x="273432" y="683765"/>
                  </a:lnTo>
                  <a:lnTo>
                    <a:pt x="348614" y="624839"/>
                  </a:lnTo>
                  <a:lnTo>
                    <a:pt x="425959" y="564514"/>
                  </a:lnTo>
                  <a:lnTo>
                    <a:pt x="504698" y="503173"/>
                  </a:lnTo>
                  <a:lnTo>
                    <a:pt x="584200" y="441451"/>
                  </a:lnTo>
                  <a:lnTo>
                    <a:pt x="663957" y="379856"/>
                  </a:lnTo>
                  <a:lnTo>
                    <a:pt x="743203" y="318896"/>
                  </a:lnTo>
                  <a:lnTo>
                    <a:pt x="821436" y="259206"/>
                  </a:lnTo>
                  <a:lnTo>
                    <a:pt x="898017" y="201421"/>
                  </a:lnTo>
                  <a:lnTo>
                    <a:pt x="935483" y="173481"/>
                  </a:lnTo>
                  <a:lnTo>
                    <a:pt x="972439" y="146176"/>
                  </a:lnTo>
                  <a:lnTo>
                    <a:pt x="1008634" y="119633"/>
                  </a:lnTo>
                  <a:lnTo>
                    <a:pt x="1044067" y="93725"/>
                  </a:lnTo>
                  <a:lnTo>
                    <a:pt x="1078484" y="68833"/>
                  </a:lnTo>
                  <a:lnTo>
                    <a:pt x="1112139" y="44830"/>
                  </a:lnTo>
                  <a:lnTo>
                    <a:pt x="1144651" y="21844"/>
                  </a:lnTo>
                  <a:lnTo>
                    <a:pt x="1176147" y="0"/>
                  </a:lnTo>
                  <a:lnTo>
                    <a:pt x="1185418" y="4571"/>
                  </a:lnTo>
                  <a:lnTo>
                    <a:pt x="1193800" y="9144"/>
                  </a:lnTo>
                  <a:lnTo>
                    <a:pt x="1207135" y="17652"/>
                  </a:lnTo>
                  <a:lnTo>
                    <a:pt x="1217168" y="25907"/>
                  </a:lnTo>
                  <a:lnTo>
                    <a:pt x="1224534" y="33908"/>
                  </a:lnTo>
                  <a:lnTo>
                    <a:pt x="1229995" y="42036"/>
                  </a:lnTo>
                  <a:lnTo>
                    <a:pt x="1234567" y="50545"/>
                  </a:lnTo>
                  <a:lnTo>
                    <a:pt x="1238758" y="59689"/>
                  </a:lnTo>
                  <a:lnTo>
                    <a:pt x="1243457" y="69595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: Shape 40"/>
            <p:cNvSpPr/>
            <p:nvPr/>
          </p:nvSpPr>
          <p:spPr>
            <a:xfrm flipH="1" rot="18518400">
              <a:off x="6735960" y="1878480"/>
              <a:ext cx="1248120" cy="923760"/>
            </a:xfrm>
            <a:custGeom>
              <a:avLst/>
              <a:gdLst>
                <a:gd name="textAreaLeft" fmla="*/ -360 w 1248120"/>
                <a:gd name="textAreaRight" fmla="*/ 1248120 w 1248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247141" h="933703">
                  <a:moveTo>
                    <a:pt x="1242187" y="48768"/>
                  </a:moveTo>
                  <a:lnTo>
                    <a:pt x="1211833" y="73533"/>
                  </a:lnTo>
                  <a:lnTo>
                    <a:pt x="1180717" y="98806"/>
                  </a:lnTo>
                  <a:lnTo>
                    <a:pt x="1115949" y="150622"/>
                  </a:lnTo>
                  <a:lnTo>
                    <a:pt x="1048384" y="203708"/>
                  </a:lnTo>
                  <a:lnTo>
                    <a:pt x="978154" y="258191"/>
                  </a:lnTo>
                  <a:lnTo>
                    <a:pt x="906017" y="313690"/>
                  </a:lnTo>
                  <a:lnTo>
                    <a:pt x="832231" y="369952"/>
                  </a:lnTo>
                  <a:lnTo>
                    <a:pt x="757174" y="426721"/>
                  </a:lnTo>
                  <a:lnTo>
                    <a:pt x="681228" y="483871"/>
                  </a:lnTo>
                  <a:lnTo>
                    <a:pt x="528828" y="598171"/>
                  </a:lnTo>
                  <a:lnTo>
                    <a:pt x="453136" y="654940"/>
                  </a:lnTo>
                  <a:lnTo>
                    <a:pt x="378206" y="711071"/>
                  </a:lnTo>
                  <a:lnTo>
                    <a:pt x="304673" y="766446"/>
                  </a:lnTo>
                  <a:lnTo>
                    <a:pt x="232917" y="820802"/>
                  </a:lnTo>
                  <a:lnTo>
                    <a:pt x="163193" y="874015"/>
                  </a:lnTo>
                  <a:lnTo>
                    <a:pt x="96012" y="925703"/>
                  </a:lnTo>
                  <a:lnTo>
                    <a:pt x="77089" y="930781"/>
                  </a:lnTo>
                  <a:lnTo>
                    <a:pt x="57656" y="933577"/>
                  </a:lnTo>
                  <a:lnTo>
                    <a:pt x="39242" y="933702"/>
                  </a:lnTo>
                  <a:lnTo>
                    <a:pt x="30733" y="932815"/>
                  </a:lnTo>
                  <a:lnTo>
                    <a:pt x="22987" y="931037"/>
                  </a:lnTo>
                  <a:lnTo>
                    <a:pt x="16002" y="928368"/>
                  </a:lnTo>
                  <a:lnTo>
                    <a:pt x="10159" y="924815"/>
                  </a:lnTo>
                  <a:lnTo>
                    <a:pt x="5461" y="920621"/>
                  </a:lnTo>
                  <a:lnTo>
                    <a:pt x="2030" y="915290"/>
                  </a:lnTo>
                  <a:lnTo>
                    <a:pt x="254" y="909064"/>
                  </a:lnTo>
                  <a:lnTo>
                    <a:pt x="0" y="901698"/>
                  </a:lnTo>
                  <a:lnTo>
                    <a:pt x="1778" y="893443"/>
                  </a:lnTo>
                  <a:lnTo>
                    <a:pt x="5588" y="884045"/>
                  </a:lnTo>
                  <a:lnTo>
                    <a:pt x="35431" y="860806"/>
                  </a:lnTo>
                  <a:lnTo>
                    <a:pt x="66419" y="836803"/>
                  </a:lnTo>
                  <a:lnTo>
                    <a:pt x="98552" y="811909"/>
                  </a:lnTo>
                  <a:lnTo>
                    <a:pt x="131699" y="786003"/>
                  </a:lnTo>
                  <a:lnTo>
                    <a:pt x="165734" y="759458"/>
                  </a:lnTo>
                  <a:lnTo>
                    <a:pt x="200406" y="732280"/>
                  </a:lnTo>
                  <a:lnTo>
                    <a:pt x="235965" y="704467"/>
                  </a:lnTo>
                  <a:lnTo>
                    <a:pt x="272161" y="676021"/>
                  </a:lnTo>
                  <a:lnTo>
                    <a:pt x="346456" y="617853"/>
                  </a:lnTo>
                  <a:lnTo>
                    <a:pt x="422656" y="558165"/>
                  </a:lnTo>
                  <a:lnTo>
                    <a:pt x="500126" y="497711"/>
                  </a:lnTo>
                  <a:lnTo>
                    <a:pt x="578356" y="436753"/>
                  </a:lnTo>
                  <a:lnTo>
                    <a:pt x="656716" y="376047"/>
                  </a:lnTo>
                  <a:lnTo>
                    <a:pt x="734821" y="315977"/>
                  </a:lnTo>
                  <a:lnTo>
                    <a:pt x="811783" y="257175"/>
                  </a:lnTo>
                  <a:lnTo>
                    <a:pt x="887476" y="200152"/>
                  </a:lnTo>
                  <a:lnTo>
                    <a:pt x="924431" y="172340"/>
                  </a:lnTo>
                  <a:lnTo>
                    <a:pt x="960880" y="145286"/>
                  </a:lnTo>
                  <a:lnTo>
                    <a:pt x="996694" y="118999"/>
                  </a:lnTo>
                  <a:lnTo>
                    <a:pt x="1031875" y="93346"/>
                  </a:lnTo>
                  <a:lnTo>
                    <a:pt x="1066038" y="68580"/>
                  </a:lnTo>
                  <a:lnTo>
                    <a:pt x="1099439" y="44831"/>
                  </a:lnTo>
                  <a:lnTo>
                    <a:pt x="1131824" y="21971"/>
                  </a:lnTo>
                  <a:lnTo>
                    <a:pt x="1163192" y="0"/>
                  </a:lnTo>
                  <a:lnTo>
                    <a:pt x="1178431" y="3683"/>
                  </a:lnTo>
                  <a:lnTo>
                    <a:pt x="1191893" y="6985"/>
                  </a:lnTo>
                  <a:lnTo>
                    <a:pt x="1203452" y="9906"/>
                  </a:lnTo>
                  <a:lnTo>
                    <a:pt x="1213484" y="12573"/>
                  </a:lnTo>
                  <a:lnTo>
                    <a:pt x="1222119" y="15111"/>
                  </a:lnTo>
                  <a:lnTo>
                    <a:pt x="1229231" y="17399"/>
                  </a:lnTo>
                  <a:lnTo>
                    <a:pt x="1235075" y="19685"/>
                  </a:lnTo>
                  <a:lnTo>
                    <a:pt x="1239646" y="21971"/>
                  </a:lnTo>
                  <a:lnTo>
                    <a:pt x="1243076" y="24255"/>
                  </a:lnTo>
                  <a:lnTo>
                    <a:pt x="1245362" y="26797"/>
                  </a:lnTo>
                  <a:lnTo>
                    <a:pt x="1247140" y="32512"/>
                  </a:lnTo>
                  <a:lnTo>
                    <a:pt x="1245868" y="39624"/>
                  </a:lnTo>
                  <a:lnTo>
                    <a:pt x="1242187" y="4876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: Shape 41"/>
            <p:cNvSpPr/>
            <p:nvPr/>
          </p:nvSpPr>
          <p:spPr>
            <a:xfrm flipH="1" rot="18518400">
              <a:off x="6777720" y="2016000"/>
              <a:ext cx="1229040" cy="995760"/>
            </a:xfrm>
            <a:custGeom>
              <a:avLst/>
              <a:gdLst>
                <a:gd name="textAreaLeft" fmla="*/ 360 w 1229040"/>
                <a:gd name="textAreaRight" fmla="*/ 1229760 w 1229040"/>
                <a:gd name="textAreaTop" fmla="*/ 0 h 995760"/>
                <a:gd name="textAreaBottom" fmla="*/ 996120 h 995760"/>
              </a:gdLst>
              <a:ahLst/>
              <a:rect l="textAreaLeft" t="textAreaTop" r="textAreaRight" b="textAreaBottom"/>
              <a:pathLst>
                <a:path w="1226821" h="1004571">
                  <a:moveTo>
                    <a:pt x="1221486" y="90424"/>
                  </a:moveTo>
                  <a:lnTo>
                    <a:pt x="1191133" y="115316"/>
                  </a:lnTo>
                  <a:lnTo>
                    <a:pt x="1159891" y="140970"/>
                  </a:lnTo>
                  <a:lnTo>
                    <a:pt x="1127506" y="167132"/>
                  </a:lnTo>
                  <a:lnTo>
                    <a:pt x="1094232" y="193930"/>
                  </a:lnTo>
                  <a:lnTo>
                    <a:pt x="1059942" y="221107"/>
                  </a:lnTo>
                  <a:lnTo>
                    <a:pt x="1025017" y="248920"/>
                  </a:lnTo>
                  <a:lnTo>
                    <a:pt x="953008" y="305689"/>
                  </a:lnTo>
                  <a:lnTo>
                    <a:pt x="878459" y="363855"/>
                  </a:lnTo>
                  <a:lnTo>
                    <a:pt x="802006" y="423291"/>
                  </a:lnTo>
                  <a:lnTo>
                    <a:pt x="724408" y="483489"/>
                  </a:lnTo>
                  <a:lnTo>
                    <a:pt x="645668" y="544068"/>
                  </a:lnTo>
                  <a:lnTo>
                    <a:pt x="487552" y="665099"/>
                  </a:lnTo>
                  <a:lnTo>
                    <a:pt x="409321" y="725043"/>
                  </a:lnTo>
                  <a:lnTo>
                    <a:pt x="332106" y="784099"/>
                  </a:lnTo>
                  <a:lnTo>
                    <a:pt x="256794" y="841883"/>
                  </a:lnTo>
                  <a:lnTo>
                    <a:pt x="183388" y="898144"/>
                  </a:lnTo>
                  <a:lnTo>
                    <a:pt x="147700" y="925576"/>
                  </a:lnTo>
                  <a:lnTo>
                    <a:pt x="112775" y="952374"/>
                  </a:lnTo>
                  <a:lnTo>
                    <a:pt x="78613" y="978789"/>
                  </a:lnTo>
                  <a:lnTo>
                    <a:pt x="45338" y="1004570"/>
                  </a:lnTo>
                  <a:lnTo>
                    <a:pt x="32512" y="998982"/>
                  </a:lnTo>
                  <a:lnTo>
                    <a:pt x="21209" y="990727"/>
                  </a:lnTo>
                  <a:lnTo>
                    <a:pt x="11811" y="980059"/>
                  </a:lnTo>
                  <a:lnTo>
                    <a:pt x="4825" y="967105"/>
                  </a:lnTo>
                  <a:lnTo>
                    <a:pt x="2413" y="959866"/>
                  </a:lnTo>
                  <a:lnTo>
                    <a:pt x="762" y="952246"/>
                  </a:lnTo>
                  <a:lnTo>
                    <a:pt x="0" y="944118"/>
                  </a:lnTo>
                  <a:lnTo>
                    <a:pt x="126" y="935482"/>
                  </a:lnTo>
                  <a:lnTo>
                    <a:pt x="1143" y="926593"/>
                  </a:lnTo>
                  <a:lnTo>
                    <a:pt x="3175" y="917321"/>
                  </a:lnTo>
                  <a:lnTo>
                    <a:pt x="6223" y="907669"/>
                  </a:lnTo>
                  <a:lnTo>
                    <a:pt x="10413" y="897890"/>
                  </a:lnTo>
                  <a:lnTo>
                    <a:pt x="40767" y="874776"/>
                  </a:lnTo>
                  <a:lnTo>
                    <a:pt x="72644" y="850519"/>
                  </a:lnTo>
                  <a:lnTo>
                    <a:pt x="106045" y="825246"/>
                  </a:lnTo>
                  <a:lnTo>
                    <a:pt x="140843" y="799211"/>
                  </a:lnTo>
                  <a:lnTo>
                    <a:pt x="177038" y="772287"/>
                  </a:lnTo>
                  <a:lnTo>
                    <a:pt x="214375" y="744728"/>
                  </a:lnTo>
                  <a:lnTo>
                    <a:pt x="252858" y="716280"/>
                  </a:lnTo>
                  <a:lnTo>
                    <a:pt x="292226" y="687324"/>
                  </a:lnTo>
                  <a:lnTo>
                    <a:pt x="332486" y="657860"/>
                  </a:lnTo>
                  <a:lnTo>
                    <a:pt x="373508" y="628015"/>
                  </a:lnTo>
                  <a:lnTo>
                    <a:pt x="457073" y="567055"/>
                  </a:lnTo>
                  <a:lnTo>
                    <a:pt x="542036" y="505080"/>
                  </a:lnTo>
                  <a:lnTo>
                    <a:pt x="627634" y="442849"/>
                  </a:lnTo>
                  <a:lnTo>
                    <a:pt x="712724" y="380619"/>
                  </a:lnTo>
                  <a:lnTo>
                    <a:pt x="796417" y="319278"/>
                  </a:lnTo>
                  <a:lnTo>
                    <a:pt x="877950" y="259334"/>
                  </a:lnTo>
                  <a:lnTo>
                    <a:pt x="917321" y="230124"/>
                  </a:lnTo>
                  <a:lnTo>
                    <a:pt x="955929" y="201295"/>
                  </a:lnTo>
                  <a:lnTo>
                    <a:pt x="993521" y="173228"/>
                  </a:lnTo>
                  <a:lnTo>
                    <a:pt x="1029970" y="145669"/>
                  </a:lnTo>
                  <a:lnTo>
                    <a:pt x="1065022" y="118999"/>
                  </a:lnTo>
                  <a:lnTo>
                    <a:pt x="1098676" y="93218"/>
                  </a:lnTo>
                  <a:lnTo>
                    <a:pt x="1130808" y="68453"/>
                  </a:lnTo>
                  <a:lnTo>
                    <a:pt x="1161414" y="44450"/>
                  </a:lnTo>
                  <a:lnTo>
                    <a:pt x="1190117" y="21718"/>
                  </a:lnTo>
                  <a:lnTo>
                    <a:pt x="1216913" y="0"/>
                  </a:lnTo>
                  <a:lnTo>
                    <a:pt x="1219073" y="18161"/>
                  </a:lnTo>
                  <a:lnTo>
                    <a:pt x="1221486" y="32766"/>
                  </a:lnTo>
                  <a:lnTo>
                    <a:pt x="1223772" y="44831"/>
                  </a:lnTo>
                  <a:lnTo>
                    <a:pt x="1225676" y="54991"/>
                  </a:lnTo>
                  <a:lnTo>
                    <a:pt x="1226820" y="63755"/>
                  </a:lnTo>
                  <a:lnTo>
                    <a:pt x="1226820" y="72263"/>
                  </a:lnTo>
                  <a:lnTo>
                    <a:pt x="1225169" y="80899"/>
                  </a:lnTo>
                  <a:lnTo>
                    <a:pt x="1221486" y="9042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: Shape 42"/>
            <p:cNvSpPr/>
            <p:nvPr/>
          </p:nvSpPr>
          <p:spPr>
            <a:xfrm flipH="1" rot="18518400">
              <a:off x="8026920" y="2079000"/>
              <a:ext cx="297000" cy="267840"/>
            </a:xfrm>
            <a:custGeom>
              <a:avLst/>
              <a:gdLst>
                <a:gd name="textAreaLeft" fmla="*/ -360 w 297000"/>
                <a:gd name="textAreaRight" fmla="*/ 297000 w 2970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97562" h="269623">
                  <a:moveTo>
                    <a:pt x="127762" y="0"/>
                  </a:moveTo>
                  <a:lnTo>
                    <a:pt x="130556" y="635"/>
                  </a:lnTo>
                  <a:lnTo>
                    <a:pt x="131953" y="2541"/>
                  </a:lnTo>
                  <a:lnTo>
                    <a:pt x="132461" y="5334"/>
                  </a:lnTo>
                  <a:lnTo>
                    <a:pt x="131699" y="12700"/>
                  </a:lnTo>
                  <a:lnTo>
                    <a:pt x="131953" y="21463"/>
                  </a:lnTo>
                  <a:lnTo>
                    <a:pt x="133477" y="26035"/>
                  </a:lnTo>
                  <a:lnTo>
                    <a:pt x="136269" y="30353"/>
                  </a:lnTo>
                  <a:lnTo>
                    <a:pt x="140968" y="34291"/>
                  </a:lnTo>
                  <a:lnTo>
                    <a:pt x="147828" y="37719"/>
                  </a:lnTo>
                  <a:lnTo>
                    <a:pt x="157480" y="40386"/>
                  </a:lnTo>
                  <a:lnTo>
                    <a:pt x="170305" y="42164"/>
                  </a:lnTo>
                  <a:lnTo>
                    <a:pt x="177800" y="42545"/>
                  </a:lnTo>
                  <a:lnTo>
                    <a:pt x="186436" y="42799"/>
                  </a:lnTo>
                  <a:lnTo>
                    <a:pt x="195961" y="42672"/>
                  </a:lnTo>
                  <a:lnTo>
                    <a:pt x="206502" y="42164"/>
                  </a:lnTo>
                  <a:lnTo>
                    <a:pt x="206502" y="56007"/>
                  </a:lnTo>
                  <a:lnTo>
                    <a:pt x="207137" y="67564"/>
                  </a:lnTo>
                  <a:lnTo>
                    <a:pt x="208533" y="76708"/>
                  </a:lnTo>
                  <a:lnTo>
                    <a:pt x="210312" y="84074"/>
                  </a:lnTo>
                  <a:lnTo>
                    <a:pt x="212725" y="89535"/>
                  </a:lnTo>
                  <a:lnTo>
                    <a:pt x="215773" y="93726"/>
                  </a:lnTo>
                  <a:lnTo>
                    <a:pt x="218948" y="96774"/>
                  </a:lnTo>
                  <a:lnTo>
                    <a:pt x="222377" y="98679"/>
                  </a:lnTo>
                  <a:lnTo>
                    <a:pt x="230124" y="100966"/>
                  </a:lnTo>
                  <a:lnTo>
                    <a:pt x="238252" y="102489"/>
                  </a:lnTo>
                  <a:lnTo>
                    <a:pt x="245999" y="105410"/>
                  </a:lnTo>
                  <a:lnTo>
                    <a:pt x="249555" y="108078"/>
                  </a:lnTo>
                  <a:lnTo>
                    <a:pt x="252855" y="111760"/>
                  </a:lnTo>
                  <a:lnTo>
                    <a:pt x="249808" y="123825"/>
                  </a:lnTo>
                  <a:lnTo>
                    <a:pt x="247394" y="134620"/>
                  </a:lnTo>
                  <a:lnTo>
                    <a:pt x="245617" y="144399"/>
                  </a:lnTo>
                  <a:lnTo>
                    <a:pt x="244602" y="153035"/>
                  </a:lnTo>
                  <a:lnTo>
                    <a:pt x="243966" y="160782"/>
                  </a:lnTo>
                  <a:lnTo>
                    <a:pt x="243966" y="167513"/>
                  </a:lnTo>
                  <a:lnTo>
                    <a:pt x="244475" y="173482"/>
                  </a:lnTo>
                  <a:lnTo>
                    <a:pt x="245490" y="178435"/>
                  </a:lnTo>
                  <a:lnTo>
                    <a:pt x="248539" y="186436"/>
                  </a:lnTo>
                  <a:lnTo>
                    <a:pt x="252855" y="191770"/>
                  </a:lnTo>
                  <a:lnTo>
                    <a:pt x="258317" y="194945"/>
                  </a:lnTo>
                  <a:lnTo>
                    <a:pt x="264414" y="196469"/>
                  </a:lnTo>
                  <a:lnTo>
                    <a:pt x="277240" y="196469"/>
                  </a:lnTo>
                  <a:lnTo>
                    <a:pt x="288669" y="195326"/>
                  </a:lnTo>
                  <a:lnTo>
                    <a:pt x="293115" y="195580"/>
                  </a:lnTo>
                  <a:lnTo>
                    <a:pt x="296164" y="196850"/>
                  </a:lnTo>
                  <a:lnTo>
                    <a:pt x="297561" y="199644"/>
                  </a:lnTo>
                  <a:lnTo>
                    <a:pt x="297053" y="204597"/>
                  </a:lnTo>
                  <a:lnTo>
                    <a:pt x="262508" y="221742"/>
                  </a:lnTo>
                  <a:lnTo>
                    <a:pt x="228600" y="235204"/>
                  </a:lnTo>
                  <a:lnTo>
                    <a:pt x="195580" y="245618"/>
                  </a:lnTo>
                  <a:lnTo>
                    <a:pt x="162940" y="253619"/>
                  </a:lnTo>
                  <a:lnTo>
                    <a:pt x="131064" y="259334"/>
                  </a:lnTo>
                  <a:lnTo>
                    <a:pt x="99949" y="263653"/>
                  </a:lnTo>
                  <a:lnTo>
                    <a:pt x="69467" y="266828"/>
                  </a:lnTo>
                  <a:lnTo>
                    <a:pt x="39496" y="269622"/>
                  </a:lnTo>
                  <a:lnTo>
                    <a:pt x="34290" y="260097"/>
                  </a:lnTo>
                  <a:lnTo>
                    <a:pt x="32131" y="250191"/>
                  </a:lnTo>
                  <a:lnTo>
                    <a:pt x="30988" y="229362"/>
                  </a:lnTo>
                  <a:lnTo>
                    <a:pt x="28956" y="219075"/>
                  </a:lnTo>
                  <a:lnTo>
                    <a:pt x="24130" y="209423"/>
                  </a:lnTo>
                  <a:lnTo>
                    <a:pt x="20192" y="204851"/>
                  </a:lnTo>
                  <a:lnTo>
                    <a:pt x="14858" y="200660"/>
                  </a:lnTo>
                  <a:lnTo>
                    <a:pt x="8380" y="196723"/>
                  </a:lnTo>
                  <a:lnTo>
                    <a:pt x="0" y="192913"/>
                  </a:lnTo>
                  <a:lnTo>
                    <a:pt x="14478" y="167513"/>
                  </a:lnTo>
                  <a:lnTo>
                    <a:pt x="29717" y="141605"/>
                  </a:lnTo>
                  <a:lnTo>
                    <a:pt x="61467" y="90678"/>
                  </a:lnTo>
                  <a:lnTo>
                    <a:pt x="77468" y="66167"/>
                  </a:lnTo>
                  <a:lnTo>
                    <a:pt x="93343" y="42672"/>
                  </a:lnTo>
                  <a:lnTo>
                    <a:pt x="108584" y="20701"/>
                  </a:lnTo>
                  <a:lnTo>
                    <a:pt x="123063" y="381"/>
                  </a:lnTo>
                  <a:lnTo>
                    <a:pt x="127762" y="0"/>
                  </a:lnTo>
                  <a:close/>
                </a:path>
              </a:pathLst>
            </a:custGeom>
            <a:solidFill>
              <a:srgbClr val="ffcca5"/>
            </a:solidFill>
            <a:ln w="0">
              <a:solidFill>
                <a:srgbClr val="ffcc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: Shape 43"/>
            <p:cNvSpPr/>
            <p:nvPr/>
          </p:nvSpPr>
          <p:spPr>
            <a:xfrm flipH="1" rot="18518400">
              <a:off x="6599520" y="1774440"/>
              <a:ext cx="1636920" cy="1266480"/>
            </a:xfrm>
            <a:custGeom>
              <a:avLst/>
              <a:gdLst>
                <a:gd name="textAreaLeft" fmla="*/ -360 w 1636920"/>
                <a:gd name="textAreaRight" fmla="*/ 1636920 w 163692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636016" h="1278637">
                  <a:moveTo>
                    <a:pt x="26290" y="1278636"/>
                  </a:moveTo>
                  <a:lnTo>
                    <a:pt x="19432" y="1276223"/>
                  </a:lnTo>
                  <a:lnTo>
                    <a:pt x="13590" y="1273429"/>
                  </a:lnTo>
                  <a:lnTo>
                    <a:pt x="8763" y="1270254"/>
                  </a:lnTo>
                  <a:lnTo>
                    <a:pt x="5081" y="1266571"/>
                  </a:lnTo>
                  <a:lnTo>
                    <a:pt x="2286" y="1262126"/>
                  </a:lnTo>
                  <a:lnTo>
                    <a:pt x="636" y="1257173"/>
                  </a:lnTo>
                  <a:lnTo>
                    <a:pt x="0" y="1251458"/>
                  </a:lnTo>
                  <a:lnTo>
                    <a:pt x="382" y="1244981"/>
                  </a:lnTo>
                  <a:lnTo>
                    <a:pt x="2033" y="1237487"/>
                  </a:lnTo>
                  <a:lnTo>
                    <a:pt x="4447" y="1229106"/>
                  </a:lnTo>
                  <a:lnTo>
                    <a:pt x="8256" y="1219835"/>
                  </a:lnTo>
                  <a:lnTo>
                    <a:pt x="12956" y="1209421"/>
                  </a:lnTo>
                  <a:lnTo>
                    <a:pt x="18671" y="1197864"/>
                  </a:lnTo>
                  <a:lnTo>
                    <a:pt x="25528" y="1185037"/>
                  </a:lnTo>
                  <a:lnTo>
                    <a:pt x="33402" y="1170941"/>
                  </a:lnTo>
                  <a:lnTo>
                    <a:pt x="42547" y="1155573"/>
                  </a:lnTo>
                  <a:lnTo>
                    <a:pt x="45974" y="1150620"/>
                  </a:lnTo>
                  <a:lnTo>
                    <a:pt x="50800" y="1143635"/>
                  </a:lnTo>
                  <a:lnTo>
                    <a:pt x="56644" y="1134618"/>
                  </a:lnTo>
                  <a:lnTo>
                    <a:pt x="63628" y="1124075"/>
                  </a:lnTo>
                  <a:lnTo>
                    <a:pt x="71122" y="1112139"/>
                  </a:lnTo>
                  <a:lnTo>
                    <a:pt x="79503" y="1098931"/>
                  </a:lnTo>
                  <a:lnTo>
                    <a:pt x="97410" y="1070483"/>
                  </a:lnTo>
                  <a:lnTo>
                    <a:pt x="116333" y="1040766"/>
                  </a:lnTo>
                  <a:lnTo>
                    <a:pt x="134748" y="1011936"/>
                  </a:lnTo>
                  <a:lnTo>
                    <a:pt x="143384" y="998474"/>
                  </a:lnTo>
                  <a:lnTo>
                    <a:pt x="151511" y="986029"/>
                  </a:lnTo>
                  <a:lnTo>
                    <a:pt x="158878" y="974850"/>
                  </a:lnTo>
                  <a:lnTo>
                    <a:pt x="165482" y="965325"/>
                  </a:lnTo>
                  <a:lnTo>
                    <a:pt x="168911" y="962660"/>
                  </a:lnTo>
                  <a:lnTo>
                    <a:pt x="173863" y="958850"/>
                  </a:lnTo>
                  <a:lnTo>
                    <a:pt x="179960" y="954024"/>
                  </a:lnTo>
                  <a:lnTo>
                    <a:pt x="187581" y="948182"/>
                  </a:lnTo>
                  <a:lnTo>
                    <a:pt x="196344" y="941324"/>
                  </a:lnTo>
                  <a:lnTo>
                    <a:pt x="206249" y="933450"/>
                  </a:lnTo>
                  <a:lnTo>
                    <a:pt x="217424" y="924687"/>
                  </a:lnTo>
                  <a:lnTo>
                    <a:pt x="229745" y="915035"/>
                  </a:lnTo>
                  <a:lnTo>
                    <a:pt x="243080" y="904494"/>
                  </a:lnTo>
                  <a:lnTo>
                    <a:pt x="257557" y="893064"/>
                  </a:lnTo>
                  <a:lnTo>
                    <a:pt x="273050" y="880999"/>
                  </a:lnTo>
                  <a:lnTo>
                    <a:pt x="289434" y="868172"/>
                  </a:lnTo>
                  <a:lnTo>
                    <a:pt x="306833" y="854456"/>
                  </a:lnTo>
                  <a:lnTo>
                    <a:pt x="324995" y="840105"/>
                  </a:lnTo>
                  <a:lnTo>
                    <a:pt x="344045" y="825119"/>
                  </a:lnTo>
                  <a:lnTo>
                    <a:pt x="363983" y="809625"/>
                  </a:lnTo>
                  <a:lnTo>
                    <a:pt x="384557" y="793496"/>
                  </a:lnTo>
                  <a:lnTo>
                    <a:pt x="405894" y="776732"/>
                  </a:lnTo>
                  <a:lnTo>
                    <a:pt x="450597" y="741680"/>
                  </a:lnTo>
                  <a:lnTo>
                    <a:pt x="497586" y="704975"/>
                  </a:lnTo>
                  <a:lnTo>
                    <a:pt x="546736" y="666875"/>
                  </a:lnTo>
                  <a:lnTo>
                    <a:pt x="597536" y="627380"/>
                  </a:lnTo>
                  <a:lnTo>
                    <a:pt x="649480" y="586994"/>
                  </a:lnTo>
                  <a:lnTo>
                    <a:pt x="702693" y="545973"/>
                  </a:lnTo>
                  <a:lnTo>
                    <a:pt x="756540" y="504571"/>
                  </a:lnTo>
                  <a:lnTo>
                    <a:pt x="864872" y="421641"/>
                  </a:lnTo>
                  <a:lnTo>
                    <a:pt x="918593" y="380746"/>
                  </a:lnTo>
                  <a:lnTo>
                    <a:pt x="971932" y="340614"/>
                  </a:lnTo>
                  <a:lnTo>
                    <a:pt x="1024130" y="301371"/>
                  </a:lnTo>
                  <a:lnTo>
                    <a:pt x="1074930" y="263525"/>
                  </a:lnTo>
                  <a:lnTo>
                    <a:pt x="1124206" y="227076"/>
                  </a:lnTo>
                  <a:lnTo>
                    <a:pt x="1171449" y="192660"/>
                  </a:lnTo>
                  <a:lnTo>
                    <a:pt x="1194056" y="176276"/>
                  </a:lnTo>
                  <a:lnTo>
                    <a:pt x="1216281" y="160274"/>
                  </a:lnTo>
                  <a:lnTo>
                    <a:pt x="1237744" y="145035"/>
                  </a:lnTo>
                  <a:lnTo>
                    <a:pt x="1258445" y="130300"/>
                  </a:lnTo>
                  <a:lnTo>
                    <a:pt x="1278510" y="116332"/>
                  </a:lnTo>
                  <a:lnTo>
                    <a:pt x="1297686" y="102997"/>
                  </a:lnTo>
                  <a:lnTo>
                    <a:pt x="1316102" y="90551"/>
                  </a:lnTo>
                  <a:lnTo>
                    <a:pt x="1333500" y="78741"/>
                  </a:lnTo>
                  <a:lnTo>
                    <a:pt x="1350011" y="67691"/>
                  </a:lnTo>
                  <a:lnTo>
                    <a:pt x="1365759" y="57531"/>
                  </a:lnTo>
                  <a:lnTo>
                    <a:pt x="1380363" y="48387"/>
                  </a:lnTo>
                  <a:lnTo>
                    <a:pt x="1393953" y="40005"/>
                  </a:lnTo>
                  <a:lnTo>
                    <a:pt x="1406399" y="32512"/>
                  </a:lnTo>
                  <a:lnTo>
                    <a:pt x="1417702" y="26162"/>
                  </a:lnTo>
                  <a:lnTo>
                    <a:pt x="1427861" y="20829"/>
                  </a:lnTo>
                  <a:lnTo>
                    <a:pt x="1436880" y="16383"/>
                  </a:lnTo>
                  <a:lnTo>
                    <a:pt x="1456183" y="8636"/>
                  </a:lnTo>
                  <a:lnTo>
                    <a:pt x="1474598" y="3300"/>
                  </a:lnTo>
                  <a:lnTo>
                    <a:pt x="1491998" y="381"/>
                  </a:lnTo>
                  <a:lnTo>
                    <a:pt x="1508634" y="0"/>
                  </a:lnTo>
                  <a:lnTo>
                    <a:pt x="1524382" y="1905"/>
                  </a:lnTo>
                  <a:lnTo>
                    <a:pt x="1539242" y="5969"/>
                  </a:lnTo>
                  <a:lnTo>
                    <a:pt x="1553337" y="12446"/>
                  </a:lnTo>
                  <a:lnTo>
                    <a:pt x="1566799" y="21082"/>
                  </a:lnTo>
                  <a:lnTo>
                    <a:pt x="1585343" y="36957"/>
                  </a:lnTo>
                  <a:lnTo>
                    <a:pt x="1601598" y="55118"/>
                  </a:lnTo>
                  <a:lnTo>
                    <a:pt x="1608836" y="65024"/>
                  </a:lnTo>
                  <a:lnTo>
                    <a:pt x="1615313" y="75566"/>
                  </a:lnTo>
                  <a:lnTo>
                    <a:pt x="1621156" y="86487"/>
                  </a:lnTo>
                  <a:lnTo>
                    <a:pt x="1625982" y="98044"/>
                  </a:lnTo>
                  <a:lnTo>
                    <a:pt x="1630047" y="109982"/>
                  </a:lnTo>
                  <a:lnTo>
                    <a:pt x="1632968" y="122429"/>
                  </a:lnTo>
                  <a:lnTo>
                    <a:pt x="1634999" y="135255"/>
                  </a:lnTo>
                  <a:lnTo>
                    <a:pt x="1636015" y="148463"/>
                  </a:lnTo>
                  <a:lnTo>
                    <a:pt x="1635887" y="162179"/>
                  </a:lnTo>
                  <a:lnTo>
                    <a:pt x="1634619" y="176404"/>
                  </a:lnTo>
                  <a:lnTo>
                    <a:pt x="1632078" y="190754"/>
                  </a:lnTo>
                  <a:lnTo>
                    <a:pt x="1628269" y="205486"/>
                  </a:lnTo>
                  <a:lnTo>
                    <a:pt x="1626998" y="207772"/>
                  </a:lnTo>
                  <a:lnTo>
                    <a:pt x="1623823" y="211329"/>
                  </a:lnTo>
                  <a:lnTo>
                    <a:pt x="1618871" y="216154"/>
                  </a:lnTo>
                  <a:lnTo>
                    <a:pt x="1612394" y="222123"/>
                  </a:lnTo>
                  <a:lnTo>
                    <a:pt x="1604137" y="229362"/>
                  </a:lnTo>
                  <a:lnTo>
                    <a:pt x="1594486" y="237744"/>
                  </a:lnTo>
                  <a:lnTo>
                    <a:pt x="1583310" y="247016"/>
                  </a:lnTo>
                  <a:lnTo>
                    <a:pt x="1570736" y="257556"/>
                  </a:lnTo>
                  <a:lnTo>
                    <a:pt x="1556640" y="268986"/>
                  </a:lnTo>
                  <a:lnTo>
                    <a:pt x="1541399" y="281432"/>
                  </a:lnTo>
                  <a:lnTo>
                    <a:pt x="1524762" y="294767"/>
                  </a:lnTo>
                  <a:lnTo>
                    <a:pt x="1506983" y="308991"/>
                  </a:lnTo>
                  <a:lnTo>
                    <a:pt x="1488060" y="323975"/>
                  </a:lnTo>
                  <a:lnTo>
                    <a:pt x="1468122" y="339850"/>
                  </a:lnTo>
                  <a:lnTo>
                    <a:pt x="1447038" y="356489"/>
                  </a:lnTo>
                  <a:lnTo>
                    <a:pt x="1425069" y="373761"/>
                  </a:lnTo>
                  <a:lnTo>
                    <a:pt x="1402081" y="391795"/>
                  </a:lnTo>
                  <a:lnTo>
                    <a:pt x="1378205" y="410337"/>
                  </a:lnTo>
                  <a:lnTo>
                    <a:pt x="1353568" y="429387"/>
                  </a:lnTo>
                  <a:lnTo>
                    <a:pt x="1328295" y="449072"/>
                  </a:lnTo>
                  <a:lnTo>
                    <a:pt x="1275461" y="489966"/>
                  </a:lnTo>
                  <a:lnTo>
                    <a:pt x="1220345" y="532385"/>
                  </a:lnTo>
                  <a:lnTo>
                    <a:pt x="1163574" y="576072"/>
                  </a:lnTo>
                  <a:lnTo>
                    <a:pt x="1105028" y="620776"/>
                  </a:lnTo>
                  <a:lnTo>
                    <a:pt x="986030" y="711835"/>
                  </a:lnTo>
                  <a:lnTo>
                    <a:pt x="866775" y="802513"/>
                  </a:lnTo>
                  <a:lnTo>
                    <a:pt x="808230" y="846963"/>
                  </a:lnTo>
                  <a:lnTo>
                    <a:pt x="751080" y="890270"/>
                  </a:lnTo>
                  <a:lnTo>
                    <a:pt x="695581" y="932180"/>
                  </a:lnTo>
                  <a:lnTo>
                    <a:pt x="642368" y="972312"/>
                  </a:lnTo>
                  <a:lnTo>
                    <a:pt x="616712" y="991743"/>
                  </a:lnTo>
                  <a:lnTo>
                    <a:pt x="591822" y="1010539"/>
                  </a:lnTo>
                  <a:lnTo>
                    <a:pt x="567819" y="1028573"/>
                  </a:lnTo>
                  <a:lnTo>
                    <a:pt x="544577" y="1046099"/>
                  </a:lnTo>
                  <a:lnTo>
                    <a:pt x="522224" y="1062863"/>
                  </a:lnTo>
                  <a:lnTo>
                    <a:pt x="500761" y="1078992"/>
                  </a:lnTo>
                  <a:lnTo>
                    <a:pt x="480315" y="1094360"/>
                  </a:lnTo>
                  <a:lnTo>
                    <a:pt x="461011" y="1108837"/>
                  </a:lnTo>
                  <a:lnTo>
                    <a:pt x="442849" y="1122426"/>
                  </a:lnTo>
                  <a:lnTo>
                    <a:pt x="425832" y="1135126"/>
                  </a:lnTo>
                  <a:lnTo>
                    <a:pt x="410211" y="1146810"/>
                  </a:lnTo>
                  <a:lnTo>
                    <a:pt x="395733" y="1157605"/>
                  </a:lnTo>
                  <a:lnTo>
                    <a:pt x="382524" y="1167385"/>
                  </a:lnTo>
                  <a:lnTo>
                    <a:pt x="370969" y="1176020"/>
                  </a:lnTo>
                  <a:lnTo>
                    <a:pt x="360681" y="1183513"/>
                  </a:lnTo>
                  <a:lnTo>
                    <a:pt x="351919" y="1189991"/>
                  </a:lnTo>
                  <a:lnTo>
                    <a:pt x="344933" y="1195197"/>
                  </a:lnTo>
                  <a:lnTo>
                    <a:pt x="339472" y="1199135"/>
                  </a:lnTo>
                  <a:lnTo>
                    <a:pt x="335788" y="1201801"/>
                  </a:lnTo>
                  <a:lnTo>
                    <a:pt x="333631" y="1203198"/>
                  </a:lnTo>
                  <a:lnTo>
                    <a:pt x="325630" y="1207389"/>
                  </a:lnTo>
                  <a:lnTo>
                    <a:pt x="315723" y="1211580"/>
                  </a:lnTo>
                  <a:lnTo>
                    <a:pt x="303785" y="1215898"/>
                  </a:lnTo>
                  <a:lnTo>
                    <a:pt x="290449" y="1220216"/>
                  </a:lnTo>
                  <a:lnTo>
                    <a:pt x="260478" y="1228852"/>
                  </a:lnTo>
                  <a:lnTo>
                    <a:pt x="227838" y="1236980"/>
                  </a:lnTo>
                  <a:lnTo>
                    <a:pt x="194820" y="1244346"/>
                  </a:lnTo>
                  <a:lnTo>
                    <a:pt x="163705" y="1250696"/>
                  </a:lnTo>
                  <a:lnTo>
                    <a:pt x="149353" y="1253363"/>
                  </a:lnTo>
                  <a:lnTo>
                    <a:pt x="136525" y="1255649"/>
                  </a:lnTo>
                  <a:lnTo>
                    <a:pt x="125097" y="1257427"/>
                  </a:lnTo>
                  <a:lnTo>
                    <a:pt x="115572" y="1258824"/>
                  </a:lnTo>
                  <a:lnTo>
                    <a:pt x="1606678" y="189611"/>
                  </a:lnTo>
                  <a:lnTo>
                    <a:pt x="1607312" y="174750"/>
                  </a:lnTo>
                  <a:lnTo>
                    <a:pt x="1607186" y="160782"/>
                  </a:lnTo>
                  <a:lnTo>
                    <a:pt x="1606171" y="147701"/>
                  </a:lnTo>
                  <a:lnTo>
                    <a:pt x="1604520" y="135510"/>
                  </a:lnTo>
                  <a:lnTo>
                    <a:pt x="1602106" y="124206"/>
                  </a:lnTo>
                  <a:lnTo>
                    <a:pt x="1598931" y="113538"/>
                  </a:lnTo>
                  <a:lnTo>
                    <a:pt x="1595122" y="103760"/>
                  </a:lnTo>
                  <a:lnTo>
                    <a:pt x="1590930" y="94742"/>
                  </a:lnTo>
                  <a:lnTo>
                    <a:pt x="1586105" y="86487"/>
                  </a:lnTo>
                  <a:lnTo>
                    <a:pt x="1575182" y="72010"/>
                  </a:lnTo>
                  <a:lnTo>
                    <a:pt x="1562862" y="60071"/>
                  </a:lnTo>
                  <a:lnTo>
                    <a:pt x="1549400" y="50419"/>
                  </a:lnTo>
                  <a:lnTo>
                    <a:pt x="1535305" y="42926"/>
                  </a:lnTo>
                  <a:lnTo>
                    <a:pt x="1520953" y="37211"/>
                  </a:lnTo>
                  <a:lnTo>
                    <a:pt x="1506856" y="33147"/>
                  </a:lnTo>
                  <a:lnTo>
                    <a:pt x="1493268" y="30480"/>
                  </a:lnTo>
                  <a:lnTo>
                    <a:pt x="1480568" y="28956"/>
                  </a:lnTo>
                  <a:lnTo>
                    <a:pt x="1469136" y="28448"/>
                  </a:lnTo>
                  <a:lnTo>
                    <a:pt x="1459485" y="28575"/>
                  </a:lnTo>
                  <a:lnTo>
                    <a:pt x="1451993" y="29083"/>
                  </a:lnTo>
                  <a:lnTo>
                    <a:pt x="1470534" y="21082"/>
                  </a:lnTo>
                  <a:lnTo>
                    <a:pt x="1489203" y="17145"/>
                  </a:lnTo>
                  <a:lnTo>
                    <a:pt x="1507619" y="16891"/>
                  </a:lnTo>
                  <a:lnTo>
                    <a:pt x="1525906" y="19939"/>
                  </a:lnTo>
                  <a:lnTo>
                    <a:pt x="1543305" y="26162"/>
                  </a:lnTo>
                  <a:lnTo>
                    <a:pt x="1559815" y="35306"/>
                  </a:lnTo>
                  <a:lnTo>
                    <a:pt x="1574928" y="46736"/>
                  </a:lnTo>
                  <a:lnTo>
                    <a:pt x="1588645" y="60325"/>
                  </a:lnTo>
                  <a:lnTo>
                    <a:pt x="1600200" y="75692"/>
                  </a:lnTo>
                  <a:lnTo>
                    <a:pt x="1609725" y="92456"/>
                  </a:lnTo>
                  <a:lnTo>
                    <a:pt x="1616837" y="110363"/>
                  </a:lnTo>
                  <a:lnTo>
                    <a:pt x="1621156" y="129032"/>
                  </a:lnTo>
                  <a:lnTo>
                    <a:pt x="1622425" y="148336"/>
                  </a:lnTo>
                  <a:lnTo>
                    <a:pt x="1620395" y="167641"/>
                  </a:lnTo>
                  <a:lnTo>
                    <a:pt x="1614680" y="186944"/>
                  </a:lnTo>
                  <a:lnTo>
                    <a:pt x="1605155" y="205486"/>
                  </a:lnTo>
                  <a:lnTo>
                    <a:pt x="1483743" y="71755"/>
                  </a:lnTo>
                  <a:lnTo>
                    <a:pt x="1463549" y="86106"/>
                  </a:lnTo>
                  <a:lnTo>
                    <a:pt x="1454024" y="92329"/>
                  </a:lnTo>
                  <a:lnTo>
                    <a:pt x="1445007" y="98044"/>
                  </a:lnTo>
                  <a:lnTo>
                    <a:pt x="1436880" y="103124"/>
                  </a:lnTo>
                  <a:lnTo>
                    <a:pt x="1430022" y="107696"/>
                  </a:lnTo>
                  <a:lnTo>
                    <a:pt x="1423036" y="105791"/>
                  </a:lnTo>
                  <a:lnTo>
                    <a:pt x="1414908" y="103379"/>
                  </a:lnTo>
                  <a:lnTo>
                    <a:pt x="1396367" y="97917"/>
                  </a:lnTo>
                  <a:lnTo>
                    <a:pt x="1376935" y="92456"/>
                  </a:lnTo>
                  <a:lnTo>
                    <a:pt x="1367663" y="90170"/>
                  </a:lnTo>
                  <a:lnTo>
                    <a:pt x="1359536" y="88392"/>
                  </a:lnTo>
                  <a:lnTo>
                    <a:pt x="1394843" y="64516"/>
                  </a:lnTo>
                  <a:lnTo>
                    <a:pt x="1413130" y="54483"/>
                  </a:lnTo>
                  <a:lnTo>
                    <a:pt x="1431419" y="47498"/>
                  </a:lnTo>
                  <a:lnTo>
                    <a:pt x="1448055" y="44831"/>
                  </a:lnTo>
                  <a:lnTo>
                    <a:pt x="1465199" y="45720"/>
                  </a:lnTo>
                  <a:lnTo>
                    <a:pt x="1483615" y="49276"/>
                  </a:lnTo>
                  <a:lnTo>
                    <a:pt x="1504188" y="55118"/>
                  </a:lnTo>
                  <a:lnTo>
                    <a:pt x="1537845" y="70993"/>
                  </a:lnTo>
                  <a:lnTo>
                    <a:pt x="1544830" y="75692"/>
                  </a:lnTo>
                  <a:lnTo>
                    <a:pt x="1551560" y="81407"/>
                  </a:lnTo>
                  <a:lnTo>
                    <a:pt x="1557783" y="87885"/>
                  </a:lnTo>
                  <a:lnTo>
                    <a:pt x="1568578" y="102235"/>
                  </a:lnTo>
                  <a:lnTo>
                    <a:pt x="1577342" y="117348"/>
                  </a:lnTo>
                  <a:lnTo>
                    <a:pt x="1507236" y="171069"/>
                  </a:lnTo>
                  <a:lnTo>
                    <a:pt x="1493522" y="158875"/>
                  </a:lnTo>
                  <a:lnTo>
                    <a:pt x="1481456" y="146812"/>
                  </a:lnTo>
                  <a:lnTo>
                    <a:pt x="1469392" y="135001"/>
                  </a:lnTo>
                  <a:lnTo>
                    <a:pt x="1455422" y="123950"/>
                  </a:lnTo>
                  <a:lnTo>
                    <a:pt x="1474218" y="110491"/>
                  </a:lnTo>
                  <a:lnTo>
                    <a:pt x="1493774" y="95758"/>
                  </a:lnTo>
                  <a:lnTo>
                    <a:pt x="1513080" y="81026"/>
                  </a:lnTo>
                  <a:lnTo>
                    <a:pt x="1522097" y="74041"/>
                  </a:lnTo>
                  <a:lnTo>
                    <a:pt x="1530478" y="67564"/>
                  </a:lnTo>
                  <a:lnTo>
                    <a:pt x="1401955" y="129921"/>
                  </a:lnTo>
                  <a:lnTo>
                    <a:pt x="1397000" y="133985"/>
                  </a:lnTo>
                  <a:lnTo>
                    <a:pt x="1390778" y="139319"/>
                  </a:lnTo>
                  <a:lnTo>
                    <a:pt x="1383285" y="145416"/>
                  </a:lnTo>
                  <a:lnTo>
                    <a:pt x="1374523" y="152400"/>
                  </a:lnTo>
                  <a:lnTo>
                    <a:pt x="1364617" y="160401"/>
                  </a:lnTo>
                  <a:lnTo>
                    <a:pt x="1353695" y="169164"/>
                  </a:lnTo>
                  <a:lnTo>
                    <a:pt x="1341630" y="178689"/>
                  </a:lnTo>
                  <a:lnTo>
                    <a:pt x="1328422" y="188976"/>
                  </a:lnTo>
                  <a:lnTo>
                    <a:pt x="1314450" y="200025"/>
                  </a:lnTo>
                  <a:lnTo>
                    <a:pt x="1299337" y="211710"/>
                  </a:lnTo>
                  <a:lnTo>
                    <a:pt x="1283462" y="224282"/>
                  </a:lnTo>
                  <a:lnTo>
                    <a:pt x="1266572" y="237236"/>
                  </a:lnTo>
                  <a:lnTo>
                    <a:pt x="1248920" y="250950"/>
                  </a:lnTo>
                  <a:lnTo>
                    <a:pt x="1230377" y="265304"/>
                  </a:lnTo>
                  <a:lnTo>
                    <a:pt x="1211199" y="280162"/>
                  </a:lnTo>
                  <a:lnTo>
                    <a:pt x="1170686" y="311275"/>
                  </a:lnTo>
                  <a:lnTo>
                    <a:pt x="1127887" y="344297"/>
                  </a:lnTo>
                  <a:lnTo>
                    <a:pt x="1082803" y="378841"/>
                  </a:lnTo>
                  <a:lnTo>
                    <a:pt x="1036068" y="414655"/>
                  </a:lnTo>
                  <a:lnTo>
                    <a:pt x="987807" y="451612"/>
                  </a:lnTo>
                  <a:lnTo>
                    <a:pt x="938531" y="489204"/>
                  </a:lnTo>
                  <a:lnTo>
                    <a:pt x="837947" y="565912"/>
                  </a:lnTo>
                  <a:lnTo>
                    <a:pt x="736982" y="642493"/>
                  </a:lnTo>
                  <a:lnTo>
                    <a:pt x="687324" y="680339"/>
                  </a:lnTo>
                  <a:lnTo>
                    <a:pt x="638431" y="717296"/>
                  </a:lnTo>
                  <a:lnTo>
                    <a:pt x="591059" y="753237"/>
                  </a:lnTo>
                  <a:lnTo>
                    <a:pt x="545085" y="787908"/>
                  </a:lnTo>
                  <a:lnTo>
                    <a:pt x="501271" y="821055"/>
                  </a:lnTo>
                  <a:lnTo>
                    <a:pt x="459613" y="852424"/>
                  </a:lnTo>
                  <a:lnTo>
                    <a:pt x="439802" y="867283"/>
                  </a:lnTo>
                  <a:lnTo>
                    <a:pt x="420624" y="881635"/>
                  </a:lnTo>
                  <a:lnTo>
                    <a:pt x="402210" y="895604"/>
                  </a:lnTo>
                  <a:lnTo>
                    <a:pt x="384557" y="908812"/>
                  </a:lnTo>
                  <a:lnTo>
                    <a:pt x="367794" y="921385"/>
                  </a:lnTo>
                  <a:lnTo>
                    <a:pt x="351792" y="933196"/>
                  </a:lnTo>
                  <a:lnTo>
                    <a:pt x="336932" y="944372"/>
                  </a:lnTo>
                  <a:lnTo>
                    <a:pt x="322961" y="954913"/>
                  </a:lnTo>
                  <a:lnTo>
                    <a:pt x="309881" y="964566"/>
                  </a:lnTo>
                  <a:lnTo>
                    <a:pt x="297817" y="973455"/>
                  </a:lnTo>
                  <a:lnTo>
                    <a:pt x="287022" y="981583"/>
                  </a:lnTo>
                  <a:lnTo>
                    <a:pt x="277243" y="988822"/>
                  </a:lnTo>
                  <a:lnTo>
                    <a:pt x="268606" y="995045"/>
                  </a:lnTo>
                  <a:lnTo>
                    <a:pt x="261240" y="1000379"/>
                  </a:lnTo>
                  <a:lnTo>
                    <a:pt x="254890" y="1004824"/>
                  </a:lnTo>
                  <a:lnTo>
                    <a:pt x="250192" y="1008254"/>
                  </a:lnTo>
                  <a:lnTo>
                    <a:pt x="241174" y="1011174"/>
                  </a:lnTo>
                  <a:lnTo>
                    <a:pt x="232537" y="1013333"/>
                  </a:lnTo>
                  <a:lnTo>
                    <a:pt x="224792" y="1014857"/>
                  </a:lnTo>
                  <a:lnTo>
                    <a:pt x="217552" y="1015619"/>
                  </a:lnTo>
                  <a:lnTo>
                    <a:pt x="211074" y="1015873"/>
                  </a:lnTo>
                  <a:lnTo>
                    <a:pt x="205233" y="1015366"/>
                  </a:lnTo>
                  <a:lnTo>
                    <a:pt x="200025" y="1014349"/>
                  </a:lnTo>
                  <a:lnTo>
                    <a:pt x="195581" y="1012571"/>
                  </a:lnTo>
                  <a:lnTo>
                    <a:pt x="192024" y="1010412"/>
                  </a:lnTo>
                  <a:lnTo>
                    <a:pt x="189231" y="1007491"/>
                  </a:lnTo>
                  <a:lnTo>
                    <a:pt x="187072" y="1004189"/>
                  </a:lnTo>
                  <a:lnTo>
                    <a:pt x="185930" y="1000379"/>
                  </a:lnTo>
                  <a:lnTo>
                    <a:pt x="185548" y="996188"/>
                  </a:lnTo>
                  <a:lnTo>
                    <a:pt x="186056" y="991362"/>
                  </a:lnTo>
                  <a:lnTo>
                    <a:pt x="187453" y="986029"/>
                  </a:lnTo>
                  <a:lnTo>
                    <a:pt x="189867" y="980441"/>
                  </a:lnTo>
                  <a:lnTo>
                    <a:pt x="193042" y="977138"/>
                  </a:lnTo>
                  <a:lnTo>
                    <a:pt x="197612" y="972947"/>
                  </a:lnTo>
                  <a:lnTo>
                    <a:pt x="203582" y="967613"/>
                  </a:lnTo>
                  <a:lnTo>
                    <a:pt x="210695" y="961391"/>
                  </a:lnTo>
                  <a:lnTo>
                    <a:pt x="219075" y="954279"/>
                  </a:lnTo>
                  <a:lnTo>
                    <a:pt x="228728" y="946150"/>
                  </a:lnTo>
                  <a:lnTo>
                    <a:pt x="239523" y="937133"/>
                  </a:lnTo>
                  <a:lnTo>
                    <a:pt x="251334" y="927354"/>
                  </a:lnTo>
                  <a:lnTo>
                    <a:pt x="264287" y="916686"/>
                  </a:lnTo>
                  <a:lnTo>
                    <a:pt x="278131" y="905256"/>
                  </a:lnTo>
                  <a:lnTo>
                    <a:pt x="293245" y="893064"/>
                  </a:lnTo>
                  <a:lnTo>
                    <a:pt x="308993" y="880237"/>
                  </a:lnTo>
                  <a:lnTo>
                    <a:pt x="325756" y="866775"/>
                  </a:lnTo>
                  <a:lnTo>
                    <a:pt x="343282" y="852679"/>
                  </a:lnTo>
                  <a:lnTo>
                    <a:pt x="361697" y="837946"/>
                  </a:lnTo>
                  <a:lnTo>
                    <a:pt x="380874" y="822579"/>
                  </a:lnTo>
                  <a:lnTo>
                    <a:pt x="421260" y="790448"/>
                  </a:lnTo>
                  <a:lnTo>
                    <a:pt x="464186" y="756539"/>
                  </a:lnTo>
                  <a:lnTo>
                    <a:pt x="509145" y="721106"/>
                  </a:lnTo>
                  <a:lnTo>
                    <a:pt x="556007" y="684276"/>
                  </a:lnTo>
                  <a:lnTo>
                    <a:pt x="604268" y="646430"/>
                  </a:lnTo>
                  <a:lnTo>
                    <a:pt x="653671" y="607949"/>
                  </a:lnTo>
                  <a:lnTo>
                    <a:pt x="754381" y="529971"/>
                  </a:lnTo>
                  <a:lnTo>
                    <a:pt x="855347" y="452501"/>
                  </a:lnTo>
                  <a:lnTo>
                    <a:pt x="905003" y="414529"/>
                  </a:lnTo>
                  <a:lnTo>
                    <a:pt x="953645" y="377444"/>
                  </a:lnTo>
                  <a:lnTo>
                    <a:pt x="1000887" y="341757"/>
                  </a:lnTo>
                  <a:lnTo>
                    <a:pt x="1046608" y="307594"/>
                  </a:lnTo>
                  <a:lnTo>
                    <a:pt x="1090043" y="275082"/>
                  </a:lnTo>
                  <a:lnTo>
                    <a:pt x="1110997" y="259588"/>
                  </a:lnTo>
                  <a:lnTo>
                    <a:pt x="1131318" y="244729"/>
                  </a:lnTo>
                  <a:lnTo>
                    <a:pt x="1150748" y="230379"/>
                  </a:lnTo>
                  <a:lnTo>
                    <a:pt x="1169672" y="216662"/>
                  </a:lnTo>
                  <a:lnTo>
                    <a:pt x="1187706" y="203708"/>
                  </a:lnTo>
                  <a:lnTo>
                    <a:pt x="1205105" y="191262"/>
                  </a:lnTo>
                  <a:lnTo>
                    <a:pt x="1221360" y="179579"/>
                  </a:lnTo>
                  <a:lnTo>
                    <a:pt x="1236981" y="168656"/>
                  </a:lnTo>
                  <a:lnTo>
                    <a:pt x="1251459" y="158623"/>
                  </a:lnTo>
                  <a:lnTo>
                    <a:pt x="1265048" y="149350"/>
                  </a:lnTo>
                  <a:lnTo>
                    <a:pt x="1277495" y="140970"/>
                  </a:lnTo>
                  <a:lnTo>
                    <a:pt x="1289050" y="133475"/>
                  </a:lnTo>
                  <a:lnTo>
                    <a:pt x="1299337" y="126873"/>
                  </a:lnTo>
                  <a:lnTo>
                    <a:pt x="1308356" y="121285"/>
                  </a:lnTo>
                  <a:lnTo>
                    <a:pt x="1316356" y="116713"/>
                  </a:lnTo>
                  <a:lnTo>
                    <a:pt x="1322960" y="113157"/>
                  </a:lnTo>
                  <a:lnTo>
                    <a:pt x="1328422" y="110617"/>
                  </a:lnTo>
                  <a:lnTo>
                    <a:pt x="1332485" y="109220"/>
                  </a:lnTo>
                  <a:lnTo>
                    <a:pt x="1338581" y="109601"/>
                  </a:lnTo>
                  <a:lnTo>
                    <a:pt x="1345694" y="110617"/>
                  </a:lnTo>
                  <a:lnTo>
                    <a:pt x="1353822" y="112268"/>
                  </a:lnTo>
                  <a:lnTo>
                    <a:pt x="1362837" y="114300"/>
                  </a:lnTo>
                  <a:lnTo>
                    <a:pt x="1382905" y="119888"/>
                  </a:lnTo>
                  <a:lnTo>
                    <a:pt x="1405510" y="126619"/>
                  </a:lnTo>
                  <a:lnTo>
                    <a:pt x="1587500" y="156210"/>
                  </a:lnTo>
                  <a:lnTo>
                    <a:pt x="1589660" y="175006"/>
                  </a:lnTo>
                  <a:lnTo>
                    <a:pt x="1589406" y="193294"/>
                  </a:lnTo>
                  <a:lnTo>
                    <a:pt x="1587628" y="210947"/>
                  </a:lnTo>
                  <a:lnTo>
                    <a:pt x="1584073" y="218948"/>
                  </a:lnTo>
                  <a:lnTo>
                    <a:pt x="1578230" y="227204"/>
                  </a:lnTo>
                  <a:lnTo>
                    <a:pt x="1570356" y="235204"/>
                  </a:lnTo>
                  <a:lnTo>
                    <a:pt x="1561338" y="243079"/>
                  </a:lnTo>
                  <a:lnTo>
                    <a:pt x="1541399" y="257556"/>
                  </a:lnTo>
                  <a:lnTo>
                    <a:pt x="1531622" y="263779"/>
                  </a:lnTo>
                  <a:lnTo>
                    <a:pt x="1522731" y="269367"/>
                  </a:lnTo>
                  <a:lnTo>
                    <a:pt x="1521334" y="255397"/>
                  </a:lnTo>
                  <a:lnTo>
                    <a:pt x="1520319" y="243460"/>
                  </a:lnTo>
                  <a:lnTo>
                    <a:pt x="1519430" y="233172"/>
                  </a:lnTo>
                  <a:lnTo>
                    <a:pt x="1518668" y="224282"/>
                  </a:lnTo>
                  <a:lnTo>
                    <a:pt x="1517271" y="209550"/>
                  </a:lnTo>
                  <a:lnTo>
                    <a:pt x="1515747" y="197358"/>
                  </a:lnTo>
                  <a:lnTo>
                    <a:pt x="1548131" y="168275"/>
                  </a:lnTo>
                  <a:lnTo>
                    <a:pt x="1582168" y="137160"/>
                  </a:lnTo>
                  <a:lnTo>
                    <a:pt x="1445387" y="148210"/>
                  </a:lnTo>
                  <a:lnTo>
                    <a:pt x="1457580" y="159131"/>
                  </a:lnTo>
                  <a:lnTo>
                    <a:pt x="1463803" y="165735"/>
                  </a:lnTo>
                  <a:lnTo>
                    <a:pt x="1470153" y="173229"/>
                  </a:lnTo>
                  <a:lnTo>
                    <a:pt x="1477137" y="181737"/>
                  </a:lnTo>
                  <a:lnTo>
                    <a:pt x="1484505" y="191643"/>
                  </a:lnTo>
                  <a:lnTo>
                    <a:pt x="1480568" y="195454"/>
                  </a:lnTo>
                  <a:lnTo>
                    <a:pt x="1475486" y="200279"/>
                  </a:lnTo>
                  <a:lnTo>
                    <a:pt x="1469010" y="205994"/>
                  </a:lnTo>
                  <a:lnTo>
                    <a:pt x="1461390" y="212471"/>
                  </a:lnTo>
                  <a:lnTo>
                    <a:pt x="1452499" y="219837"/>
                  </a:lnTo>
                  <a:lnTo>
                    <a:pt x="1442595" y="228092"/>
                  </a:lnTo>
                  <a:lnTo>
                    <a:pt x="1431419" y="237110"/>
                  </a:lnTo>
                  <a:lnTo>
                    <a:pt x="1419353" y="246888"/>
                  </a:lnTo>
                  <a:lnTo>
                    <a:pt x="1406146" y="257300"/>
                  </a:lnTo>
                  <a:lnTo>
                    <a:pt x="1391922" y="268479"/>
                  </a:lnTo>
                  <a:lnTo>
                    <a:pt x="1376808" y="280289"/>
                  </a:lnTo>
                  <a:lnTo>
                    <a:pt x="1360806" y="292608"/>
                  </a:lnTo>
                  <a:lnTo>
                    <a:pt x="1343915" y="305689"/>
                  </a:lnTo>
                  <a:lnTo>
                    <a:pt x="1326135" y="319405"/>
                  </a:lnTo>
                  <a:lnTo>
                    <a:pt x="1307721" y="333500"/>
                  </a:lnTo>
                  <a:lnTo>
                    <a:pt x="1288417" y="348235"/>
                  </a:lnTo>
                  <a:lnTo>
                    <a:pt x="1248031" y="378968"/>
                  </a:lnTo>
                  <a:lnTo>
                    <a:pt x="1205231" y="411480"/>
                  </a:lnTo>
                  <a:lnTo>
                    <a:pt x="1160020" y="445516"/>
                  </a:lnTo>
                  <a:lnTo>
                    <a:pt x="1113156" y="480695"/>
                  </a:lnTo>
                  <a:lnTo>
                    <a:pt x="1064897" y="516891"/>
                  </a:lnTo>
                  <a:lnTo>
                    <a:pt x="1015494" y="553847"/>
                  </a:lnTo>
                  <a:lnTo>
                    <a:pt x="914528" y="629158"/>
                  </a:lnTo>
                  <a:lnTo>
                    <a:pt x="812928" y="704723"/>
                  </a:lnTo>
                  <a:lnTo>
                    <a:pt x="762636" y="742061"/>
                  </a:lnTo>
                  <a:lnTo>
                    <a:pt x="713360" y="778637"/>
                  </a:lnTo>
                  <a:lnTo>
                    <a:pt x="665227" y="814451"/>
                  </a:lnTo>
                  <a:lnTo>
                    <a:pt x="618492" y="848868"/>
                  </a:lnTo>
                  <a:lnTo>
                    <a:pt x="573660" y="882269"/>
                  </a:lnTo>
                  <a:lnTo>
                    <a:pt x="531115" y="913766"/>
                  </a:lnTo>
                  <a:lnTo>
                    <a:pt x="490856" y="943737"/>
                  </a:lnTo>
                  <a:lnTo>
                    <a:pt x="471806" y="957835"/>
                  </a:lnTo>
                  <a:lnTo>
                    <a:pt x="453519" y="971423"/>
                  </a:lnTo>
                  <a:lnTo>
                    <a:pt x="435865" y="984504"/>
                  </a:lnTo>
                  <a:lnTo>
                    <a:pt x="419228" y="996950"/>
                  </a:lnTo>
                  <a:lnTo>
                    <a:pt x="403481" y="1008635"/>
                  </a:lnTo>
                  <a:lnTo>
                    <a:pt x="388495" y="1019810"/>
                  </a:lnTo>
                  <a:lnTo>
                    <a:pt x="374524" y="1030224"/>
                  </a:lnTo>
                  <a:lnTo>
                    <a:pt x="361571" y="1040004"/>
                  </a:lnTo>
                  <a:lnTo>
                    <a:pt x="349632" y="1048893"/>
                  </a:lnTo>
                  <a:lnTo>
                    <a:pt x="338836" y="1057148"/>
                  </a:lnTo>
                  <a:lnTo>
                    <a:pt x="329058" y="1064387"/>
                  </a:lnTo>
                  <a:lnTo>
                    <a:pt x="320549" y="1070991"/>
                  </a:lnTo>
                  <a:lnTo>
                    <a:pt x="313183" y="1076579"/>
                  </a:lnTo>
                  <a:lnTo>
                    <a:pt x="306960" y="1081279"/>
                  </a:lnTo>
                  <a:lnTo>
                    <a:pt x="299974" y="1081912"/>
                  </a:lnTo>
                  <a:lnTo>
                    <a:pt x="293752" y="1081532"/>
                  </a:lnTo>
                  <a:lnTo>
                    <a:pt x="288292" y="1080516"/>
                  </a:lnTo>
                  <a:lnTo>
                    <a:pt x="283593" y="1078866"/>
                  </a:lnTo>
                  <a:lnTo>
                    <a:pt x="279528" y="1076579"/>
                  </a:lnTo>
                  <a:lnTo>
                    <a:pt x="275972" y="1073785"/>
                  </a:lnTo>
                  <a:lnTo>
                    <a:pt x="270893" y="1066673"/>
                  </a:lnTo>
                  <a:lnTo>
                    <a:pt x="267845" y="1058037"/>
                  </a:lnTo>
                  <a:lnTo>
                    <a:pt x="266700" y="1048131"/>
                  </a:lnTo>
                  <a:lnTo>
                    <a:pt x="267082" y="1037717"/>
                  </a:lnTo>
                  <a:lnTo>
                    <a:pt x="268733" y="1026795"/>
                  </a:lnTo>
                  <a:lnTo>
                    <a:pt x="270765" y="1024510"/>
                  </a:lnTo>
                  <a:lnTo>
                    <a:pt x="274322" y="1021080"/>
                  </a:lnTo>
                  <a:lnTo>
                    <a:pt x="279400" y="1016762"/>
                  </a:lnTo>
                  <a:lnTo>
                    <a:pt x="285878" y="1011301"/>
                  </a:lnTo>
                  <a:lnTo>
                    <a:pt x="293624" y="1004824"/>
                  </a:lnTo>
                  <a:lnTo>
                    <a:pt x="302897" y="997331"/>
                  </a:lnTo>
                  <a:lnTo>
                    <a:pt x="313310" y="988949"/>
                  </a:lnTo>
                  <a:lnTo>
                    <a:pt x="324868" y="979679"/>
                  </a:lnTo>
                  <a:lnTo>
                    <a:pt x="337822" y="969645"/>
                  </a:lnTo>
                  <a:lnTo>
                    <a:pt x="351792" y="958596"/>
                  </a:lnTo>
                  <a:lnTo>
                    <a:pt x="366777" y="946912"/>
                  </a:lnTo>
                  <a:lnTo>
                    <a:pt x="382906" y="934466"/>
                  </a:lnTo>
                  <a:lnTo>
                    <a:pt x="399924" y="921258"/>
                  </a:lnTo>
                  <a:lnTo>
                    <a:pt x="417958" y="907416"/>
                  </a:lnTo>
                  <a:lnTo>
                    <a:pt x="436755" y="892937"/>
                  </a:lnTo>
                  <a:lnTo>
                    <a:pt x="456694" y="877697"/>
                  </a:lnTo>
                  <a:lnTo>
                    <a:pt x="477140" y="862204"/>
                  </a:lnTo>
                  <a:lnTo>
                    <a:pt x="498475" y="845947"/>
                  </a:lnTo>
                  <a:lnTo>
                    <a:pt x="542925" y="812038"/>
                  </a:lnTo>
                  <a:lnTo>
                    <a:pt x="589788" y="776479"/>
                  </a:lnTo>
                  <a:lnTo>
                    <a:pt x="638684" y="739394"/>
                  </a:lnTo>
                  <a:lnTo>
                    <a:pt x="689231" y="701294"/>
                  </a:lnTo>
                  <a:lnTo>
                    <a:pt x="740920" y="662305"/>
                  </a:lnTo>
                  <a:lnTo>
                    <a:pt x="846330" y="582804"/>
                  </a:lnTo>
                  <a:lnTo>
                    <a:pt x="951867" y="503301"/>
                  </a:lnTo>
                  <a:lnTo>
                    <a:pt x="1003682" y="464312"/>
                  </a:lnTo>
                  <a:lnTo>
                    <a:pt x="1054482" y="426212"/>
                  </a:lnTo>
                  <a:lnTo>
                    <a:pt x="1103505" y="389129"/>
                  </a:lnTo>
                  <a:lnTo>
                    <a:pt x="1150874" y="353568"/>
                  </a:lnTo>
                  <a:lnTo>
                    <a:pt x="1195833" y="319786"/>
                  </a:lnTo>
                  <a:lnTo>
                    <a:pt x="1217297" y="303530"/>
                  </a:lnTo>
                  <a:lnTo>
                    <a:pt x="1238124" y="287782"/>
                  </a:lnTo>
                  <a:lnTo>
                    <a:pt x="1258062" y="272669"/>
                  </a:lnTo>
                  <a:lnTo>
                    <a:pt x="1277240" y="258191"/>
                  </a:lnTo>
                  <a:lnTo>
                    <a:pt x="1295656" y="244348"/>
                  </a:lnTo>
                  <a:lnTo>
                    <a:pt x="1313055" y="231141"/>
                  </a:lnTo>
                  <a:lnTo>
                    <a:pt x="1329310" y="218694"/>
                  </a:lnTo>
                  <a:lnTo>
                    <a:pt x="1344805" y="207010"/>
                  </a:lnTo>
                  <a:lnTo>
                    <a:pt x="1359155" y="195961"/>
                  </a:lnTo>
                  <a:lnTo>
                    <a:pt x="1372362" y="185929"/>
                  </a:lnTo>
                  <a:lnTo>
                    <a:pt x="1384428" y="176530"/>
                  </a:lnTo>
                  <a:lnTo>
                    <a:pt x="1395223" y="168275"/>
                  </a:lnTo>
                  <a:lnTo>
                    <a:pt x="1404874" y="160782"/>
                  </a:lnTo>
                  <a:lnTo>
                    <a:pt x="1413130" y="154305"/>
                  </a:lnTo>
                  <a:lnTo>
                    <a:pt x="1420115" y="148717"/>
                  </a:lnTo>
                  <a:lnTo>
                    <a:pt x="1425575" y="144399"/>
                  </a:lnTo>
                  <a:lnTo>
                    <a:pt x="1429640" y="140970"/>
                  </a:lnTo>
                  <a:lnTo>
                    <a:pt x="1432307" y="138685"/>
                  </a:lnTo>
                  <a:lnTo>
                    <a:pt x="1493902" y="248920"/>
                  </a:lnTo>
                  <a:lnTo>
                    <a:pt x="1496187" y="266192"/>
                  </a:lnTo>
                  <a:lnTo>
                    <a:pt x="1498348" y="284480"/>
                  </a:lnTo>
                  <a:lnTo>
                    <a:pt x="1489203" y="292481"/>
                  </a:lnTo>
                  <a:lnTo>
                    <a:pt x="1479171" y="301244"/>
                  </a:lnTo>
                  <a:lnTo>
                    <a:pt x="1468122" y="310642"/>
                  </a:lnTo>
                  <a:lnTo>
                    <a:pt x="1456183" y="320675"/>
                  </a:lnTo>
                  <a:lnTo>
                    <a:pt x="1443230" y="331343"/>
                  </a:lnTo>
                  <a:lnTo>
                    <a:pt x="1429386" y="342773"/>
                  </a:lnTo>
                  <a:lnTo>
                    <a:pt x="1414781" y="354585"/>
                  </a:lnTo>
                  <a:lnTo>
                    <a:pt x="1399286" y="367030"/>
                  </a:lnTo>
                  <a:lnTo>
                    <a:pt x="1383031" y="379985"/>
                  </a:lnTo>
                  <a:lnTo>
                    <a:pt x="1366012" y="393573"/>
                  </a:lnTo>
                  <a:lnTo>
                    <a:pt x="1330072" y="422021"/>
                  </a:lnTo>
                  <a:lnTo>
                    <a:pt x="1291592" y="452120"/>
                  </a:lnTo>
                  <a:lnTo>
                    <a:pt x="1250697" y="483743"/>
                  </a:lnTo>
                  <a:lnTo>
                    <a:pt x="1208024" y="516636"/>
                  </a:lnTo>
                  <a:lnTo>
                    <a:pt x="1163574" y="550926"/>
                  </a:lnTo>
                  <a:lnTo>
                    <a:pt x="1117856" y="585851"/>
                  </a:lnTo>
                  <a:lnTo>
                    <a:pt x="1070865" y="621538"/>
                  </a:lnTo>
                  <a:lnTo>
                    <a:pt x="974853" y="694310"/>
                  </a:lnTo>
                  <a:lnTo>
                    <a:pt x="877698" y="767716"/>
                  </a:lnTo>
                  <a:lnTo>
                    <a:pt x="829565" y="804037"/>
                  </a:lnTo>
                  <a:lnTo>
                    <a:pt x="781812" y="839851"/>
                  </a:lnTo>
                  <a:lnTo>
                    <a:pt x="735205" y="874904"/>
                  </a:lnTo>
                  <a:lnTo>
                    <a:pt x="689484" y="909066"/>
                  </a:lnTo>
                  <a:lnTo>
                    <a:pt x="645287" y="942213"/>
                  </a:lnTo>
                  <a:lnTo>
                    <a:pt x="602871" y="974091"/>
                  </a:lnTo>
                  <a:lnTo>
                    <a:pt x="562357" y="1004316"/>
                  </a:lnTo>
                  <a:lnTo>
                    <a:pt x="524131" y="1033018"/>
                  </a:lnTo>
                  <a:lnTo>
                    <a:pt x="488571" y="1059688"/>
                  </a:lnTo>
                  <a:lnTo>
                    <a:pt x="471806" y="1072261"/>
                  </a:lnTo>
                  <a:lnTo>
                    <a:pt x="455805" y="1084326"/>
                  </a:lnTo>
                  <a:lnTo>
                    <a:pt x="440563" y="1095756"/>
                  </a:lnTo>
                  <a:lnTo>
                    <a:pt x="426212" y="1106679"/>
                  </a:lnTo>
                  <a:lnTo>
                    <a:pt x="412624" y="1116838"/>
                  </a:lnTo>
                  <a:lnTo>
                    <a:pt x="399924" y="1126363"/>
                  </a:lnTo>
                  <a:lnTo>
                    <a:pt x="388112" y="1135380"/>
                  </a:lnTo>
                  <a:lnTo>
                    <a:pt x="377446" y="1143508"/>
                  </a:lnTo>
                  <a:lnTo>
                    <a:pt x="367667" y="1150874"/>
                  </a:lnTo>
                  <a:lnTo>
                    <a:pt x="358903" y="1157732"/>
                  </a:lnTo>
                  <a:lnTo>
                    <a:pt x="351156" y="1163574"/>
                  </a:lnTo>
                  <a:lnTo>
                    <a:pt x="344680" y="1168781"/>
                  </a:lnTo>
                  <a:lnTo>
                    <a:pt x="339092" y="1172972"/>
                  </a:lnTo>
                  <a:lnTo>
                    <a:pt x="334899" y="1176401"/>
                  </a:lnTo>
                  <a:lnTo>
                    <a:pt x="327407" y="1175639"/>
                  </a:lnTo>
                  <a:lnTo>
                    <a:pt x="318262" y="1172972"/>
                  </a:lnTo>
                  <a:lnTo>
                    <a:pt x="308865" y="1168273"/>
                  </a:lnTo>
                  <a:lnTo>
                    <a:pt x="304674" y="1164971"/>
                  </a:lnTo>
                  <a:lnTo>
                    <a:pt x="301119" y="1161035"/>
                  </a:lnTo>
                  <a:lnTo>
                    <a:pt x="298071" y="1156335"/>
                  </a:lnTo>
                  <a:lnTo>
                    <a:pt x="296165" y="1150874"/>
                  </a:lnTo>
                  <a:lnTo>
                    <a:pt x="295275" y="1144779"/>
                  </a:lnTo>
                  <a:lnTo>
                    <a:pt x="295784" y="1137793"/>
                  </a:lnTo>
                  <a:lnTo>
                    <a:pt x="297944" y="1129918"/>
                  </a:lnTo>
                  <a:lnTo>
                    <a:pt x="301625" y="1121283"/>
                  </a:lnTo>
                  <a:lnTo>
                    <a:pt x="307342" y="1111631"/>
                  </a:lnTo>
                  <a:lnTo>
                    <a:pt x="315087" y="1100963"/>
                  </a:lnTo>
                  <a:lnTo>
                    <a:pt x="321437" y="1096010"/>
                  </a:lnTo>
                  <a:lnTo>
                    <a:pt x="328931" y="1090041"/>
                  </a:lnTo>
                  <a:lnTo>
                    <a:pt x="337695" y="1083183"/>
                  </a:lnTo>
                  <a:lnTo>
                    <a:pt x="347599" y="1075563"/>
                  </a:lnTo>
                  <a:lnTo>
                    <a:pt x="358649" y="1066925"/>
                  </a:lnTo>
                  <a:lnTo>
                    <a:pt x="370842" y="1057656"/>
                  </a:lnTo>
                  <a:lnTo>
                    <a:pt x="384049" y="1047623"/>
                  </a:lnTo>
                  <a:lnTo>
                    <a:pt x="398273" y="1036955"/>
                  </a:lnTo>
                  <a:lnTo>
                    <a:pt x="413386" y="1025398"/>
                  </a:lnTo>
                  <a:lnTo>
                    <a:pt x="429515" y="1013206"/>
                  </a:lnTo>
                  <a:lnTo>
                    <a:pt x="446533" y="1000506"/>
                  </a:lnTo>
                  <a:lnTo>
                    <a:pt x="464312" y="987171"/>
                  </a:lnTo>
                  <a:lnTo>
                    <a:pt x="482982" y="973201"/>
                  </a:lnTo>
                  <a:lnTo>
                    <a:pt x="502412" y="958723"/>
                  </a:lnTo>
                  <a:lnTo>
                    <a:pt x="543181" y="928243"/>
                  </a:lnTo>
                  <a:lnTo>
                    <a:pt x="586360" y="895985"/>
                  </a:lnTo>
                  <a:lnTo>
                    <a:pt x="631953" y="862330"/>
                  </a:lnTo>
                  <a:lnTo>
                    <a:pt x="679324" y="827279"/>
                  </a:lnTo>
                  <a:lnTo>
                    <a:pt x="728093" y="791083"/>
                  </a:lnTo>
                  <a:lnTo>
                    <a:pt x="777875" y="753999"/>
                  </a:lnTo>
                  <a:lnTo>
                    <a:pt x="828675" y="716407"/>
                  </a:lnTo>
                  <a:lnTo>
                    <a:pt x="931037" y="640335"/>
                  </a:lnTo>
                  <a:lnTo>
                    <a:pt x="1032511" y="564896"/>
                  </a:lnTo>
                  <a:lnTo>
                    <a:pt x="1082169" y="527939"/>
                  </a:lnTo>
                  <a:lnTo>
                    <a:pt x="1130428" y="491871"/>
                  </a:lnTo>
                  <a:lnTo>
                    <a:pt x="1177163" y="456946"/>
                  </a:lnTo>
                  <a:lnTo>
                    <a:pt x="1221996" y="423418"/>
                  </a:lnTo>
                  <a:lnTo>
                    <a:pt x="1264540" y="391414"/>
                  </a:lnTo>
                  <a:lnTo>
                    <a:pt x="1284860" y="376047"/>
                  </a:lnTo>
                  <a:lnTo>
                    <a:pt x="1304419" y="361188"/>
                  </a:lnTo>
                  <a:lnTo>
                    <a:pt x="1323342" y="346964"/>
                  </a:lnTo>
                  <a:lnTo>
                    <a:pt x="1341374" y="333121"/>
                  </a:lnTo>
                  <a:lnTo>
                    <a:pt x="1358774" y="319786"/>
                  </a:lnTo>
                  <a:lnTo>
                    <a:pt x="1375157" y="307341"/>
                  </a:lnTo>
                  <a:lnTo>
                    <a:pt x="1390650" y="295400"/>
                  </a:lnTo>
                  <a:lnTo>
                    <a:pt x="1405256" y="284099"/>
                  </a:lnTo>
                  <a:lnTo>
                    <a:pt x="1418846" y="273431"/>
                  </a:lnTo>
                  <a:lnTo>
                    <a:pt x="1431292" y="263650"/>
                  </a:lnTo>
                  <a:lnTo>
                    <a:pt x="1442722" y="254508"/>
                  </a:lnTo>
                  <a:lnTo>
                    <a:pt x="1453008" y="246254"/>
                  </a:lnTo>
                  <a:lnTo>
                    <a:pt x="1462152" y="238887"/>
                  </a:lnTo>
                  <a:lnTo>
                    <a:pt x="1470153" y="232156"/>
                  </a:lnTo>
                  <a:lnTo>
                    <a:pt x="1476884" y="226441"/>
                  </a:lnTo>
                  <a:lnTo>
                    <a:pt x="1482219" y="221616"/>
                  </a:lnTo>
                  <a:lnTo>
                    <a:pt x="1486409" y="217679"/>
                  </a:lnTo>
                  <a:lnTo>
                    <a:pt x="1489075" y="214885"/>
                  </a:lnTo>
                  <a:lnTo>
                    <a:pt x="163831" y="1015492"/>
                  </a:lnTo>
                  <a:lnTo>
                    <a:pt x="169293" y="1022475"/>
                  </a:lnTo>
                  <a:lnTo>
                    <a:pt x="174881" y="1028573"/>
                  </a:lnTo>
                  <a:lnTo>
                    <a:pt x="181484" y="1033780"/>
                  </a:lnTo>
                  <a:lnTo>
                    <a:pt x="190121" y="1037717"/>
                  </a:lnTo>
                  <a:lnTo>
                    <a:pt x="195581" y="1038987"/>
                  </a:lnTo>
                  <a:lnTo>
                    <a:pt x="201931" y="1039876"/>
                  </a:lnTo>
                  <a:lnTo>
                    <a:pt x="209297" y="1040257"/>
                  </a:lnTo>
                  <a:lnTo>
                    <a:pt x="217933" y="1040130"/>
                  </a:lnTo>
                  <a:lnTo>
                    <a:pt x="227711" y="1039495"/>
                  </a:lnTo>
                  <a:lnTo>
                    <a:pt x="239015" y="1038350"/>
                  </a:lnTo>
                  <a:lnTo>
                    <a:pt x="237999" y="1052576"/>
                  </a:lnTo>
                  <a:lnTo>
                    <a:pt x="239523" y="1064895"/>
                  </a:lnTo>
                  <a:lnTo>
                    <a:pt x="243080" y="1075563"/>
                  </a:lnTo>
                  <a:lnTo>
                    <a:pt x="248540" y="1084326"/>
                  </a:lnTo>
                  <a:lnTo>
                    <a:pt x="255780" y="1091818"/>
                  </a:lnTo>
                  <a:lnTo>
                    <a:pt x="264161" y="1097916"/>
                  </a:lnTo>
                  <a:lnTo>
                    <a:pt x="273559" y="1102868"/>
                  </a:lnTo>
                  <a:lnTo>
                    <a:pt x="283720" y="1106805"/>
                  </a:lnTo>
                  <a:lnTo>
                    <a:pt x="280672" y="1113155"/>
                  </a:lnTo>
                  <a:lnTo>
                    <a:pt x="278511" y="1119760"/>
                  </a:lnTo>
                  <a:lnTo>
                    <a:pt x="276607" y="1133600"/>
                  </a:lnTo>
                  <a:lnTo>
                    <a:pt x="277370" y="1147572"/>
                  </a:lnTo>
                  <a:lnTo>
                    <a:pt x="280545" y="1161161"/>
                  </a:lnTo>
                  <a:lnTo>
                    <a:pt x="285624" y="1173735"/>
                  </a:lnTo>
                  <a:lnTo>
                    <a:pt x="292482" y="1184400"/>
                  </a:lnTo>
                  <a:lnTo>
                    <a:pt x="300483" y="1192404"/>
                  </a:lnTo>
                  <a:lnTo>
                    <a:pt x="309373" y="1197356"/>
                  </a:lnTo>
                  <a:lnTo>
                    <a:pt x="282831" y="1205485"/>
                  </a:lnTo>
                  <a:lnTo>
                    <a:pt x="257684" y="1213358"/>
                  </a:lnTo>
                  <a:lnTo>
                    <a:pt x="233555" y="1220851"/>
                  </a:lnTo>
                  <a:lnTo>
                    <a:pt x="209932" y="1227581"/>
                  </a:lnTo>
                  <a:lnTo>
                    <a:pt x="186183" y="1233424"/>
                  </a:lnTo>
                  <a:lnTo>
                    <a:pt x="161925" y="1238123"/>
                  </a:lnTo>
                  <a:lnTo>
                    <a:pt x="136525" y="1241679"/>
                  </a:lnTo>
                  <a:lnTo>
                    <a:pt x="109856" y="1243711"/>
                  </a:lnTo>
                  <a:lnTo>
                    <a:pt x="109602" y="1230630"/>
                  </a:lnTo>
                  <a:lnTo>
                    <a:pt x="106808" y="1217168"/>
                  </a:lnTo>
                  <a:lnTo>
                    <a:pt x="102109" y="1204214"/>
                  </a:lnTo>
                  <a:lnTo>
                    <a:pt x="95506" y="1192022"/>
                  </a:lnTo>
                  <a:lnTo>
                    <a:pt x="87631" y="1181481"/>
                  </a:lnTo>
                  <a:lnTo>
                    <a:pt x="78869" y="1173480"/>
                  </a:lnTo>
                  <a:lnTo>
                    <a:pt x="69978" y="1168400"/>
                  </a:lnTo>
                  <a:lnTo>
                    <a:pt x="61087" y="1167257"/>
                  </a:lnTo>
                  <a:lnTo>
                    <a:pt x="73407" y="1145160"/>
                  </a:lnTo>
                  <a:lnTo>
                    <a:pt x="87123" y="1123061"/>
                  </a:lnTo>
                  <a:lnTo>
                    <a:pt x="115824" y="1079881"/>
                  </a:lnTo>
                  <a:lnTo>
                    <a:pt x="129413" y="1059561"/>
                  </a:lnTo>
                  <a:lnTo>
                    <a:pt x="141352" y="1040638"/>
                  </a:lnTo>
                  <a:lnTo>
                    <a:pt x="146432" y="1031748"/>
                  </a:lnTo>
                  <a:lnTo>
                    <a:pt x="150877" y="1023239"/>
                  </a:lnTo>
                  <a:lnTo>
                    <a:pt x="154560" y="1015492"/>
                  </a:lnTo>
                  <a:lnTo>
                    <a:pt x="157355" y="1008254"/>
                  </a:lnTo>
                  <a:lnTo>
                    <a:pt x="26290" y="12786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50"/>
          <p:cNvGrpSpPr/>
          <p:nvPr/>
        </p:nvGrpSpPr>
        <p:grpSpPr>
          <a:xfrm>
            <a:off x="5919120" y="3335400"/>
            <a:ext cx="1964880" cy="1887480"/>
            <a:chOff x="5919120" y="3335400"/>
            <a:chExt cx="1964880" cy="1887480"/>
          </a:xfrm>
        </p:grpSpPr>
        <p:sp>
          <p:nvSpPr>
            <p:cNvPr id="188" name="Freeform: Shape 45"/>
            <p:cNvSpPr/>
            <p:nvPr/>
          </p:nvSpPr>
          <p:spPr>
            <a:xfrm rot="1030200">
              <a:off x="6322680" y="3970080"/>
              <a:ext cx="819360" cy="73368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817753" h="735077">
                  <a:moveTo>
                    <a:pt x="21590" y="600710"/>
                  </a:moveTo>
                  <a:lnTo>
                    <a:pt x="44196" y="571120"/>
                  </a:lnTo>
                  <a:lnTo>
                    <a:pt x="67691" y="541274"/>
                  </a:lnTo>
                  <a:lnTo>
                    <a:pt x="92202" y="511175"/>
                  </a:lnTo>
                  <a:lnTo>
                    <a:pt x="117475" y="481203"/>
                  </a:lnTo>
                  <a:lnTo>
                    <a:pt x="143637" y="451866"/>
                  </a:lnTo>
                  <a:lnTo>
                    <a:pt x="170688" y="423037"/>
                  </a:lnTo>
                  <a:lnTo>
                    <a:pt x="198627" y="395351"/>
                  </a:lnTo>
                  <a:lnTo>
                    <a:pt x="232790" y="358648"/>
                  </a:lnTo>
                  <a:lnTo>
                    <a:pt x="266064" y="324612"/>
                  </a:lnTo>
                  <a:lnTo>
                    <a:pt x="298576" y="293116"/>
                  </a:lnTo>
                  <a:lnTo>
                    <a:pt x="330073" y="263907"/>
                  </a:lnTo>
                  <a:lnTo>
                    <a:pt x="360932" y="236728"/>
                  </a:lnTo>
                  <a:lnTo>
                    <a:pt x="390651" y="211328"/>
                  </a:lnTo>
                  <a:lnTo>
                    <a:pt x="419481" y="187579"/>
                  </a:lnTo>
                  <a:lnTo>
                    <a:pt x="447039" y="165100"/>
                  </a:lnTo>
                  <a:lnTo>
                    <a:pt x="473583" y="143637"/>
                  </a:lnTo>
                  <a:lnTo>
                    <a:pt x="498983" y="123063"/>
                  </a:lnTo>
                  <a:lnTo>
                    <a:pt x="522986" y="102997"/>
                  </a:lnTo>
                  <a:lnTo>
                    <a:pt x="545844" y="83058"/>
                  </a:lnTo>
                  <a:lnTo>
                    <a:pt x="567307" y="63373"/>
                  </a:lnTo>
                  <a:lnTo>
                    <a:pt x="587375" y="43434"/>
                  </a:lnTo>
                  <a:lnTo>
                    <a:pt x="605917" y="23114"/>
                  </a:lnTo>
                  <a:lnTo>
                    <a:pt x="622933" y="2032"/>
                  </a:lnTo>
                  <a:lnTo>
                    <a:pt x="636395" y="635"/>
                  </a:lnTo>
                  <a:lnTo>
                    <a:pt x="649351" y="0"/>
                  </a:lnTo>
                  <a:lnTo>
                    <a:pt x="661670" y="0"/>
                  </a:lnTo>
                  <a:lnTo>
                    <a:pt x="673481" y="508"/>
                  </a:lnTo>
                  <a:lnTo>
                    <a:pt x="684782" y="1778"/>
                  </a:lnTo>
                  <a:lnTo>
                    <a:pt x="695451" y="3556"/>
                  </a:lnTo>
                  <a:lnTo>
                    <a:pt x="715645" y="8636"/>
                  </a:lnTo>
                  <a:lnTo>
                    <a:pt x="733678" y="15875"/>
                  </a:lnTo>
                  <a:lnTo>
                    <a:pt x="749681" y="24892"/>
                  </a:lnTo>
                  <a:lnTo>
                    <a:pt x="763905" y="35687"/>
                  </a:lnTo>
                  <a:lnTo>
                    <a:pt x="776351" y="47879"/>
                  </a:lnTo>
                  <a:lnTo>
                    <a:pt x="787019" y="61214"/>
                  </a:lnTo>
                  <a:lnTo>
                    <a:pt x="795907" y="75692"/>
                  </a:lnTo>
                  <a:lnTo>
                    <a:pt x="803275" y="91186"/>
                  </a:lnTo>
                  <a:lnTo>
                    <a:pt x="808989" y="107188"/>
                  </a:lnTo>
                  <a:lnTo>
                    <a:pt x="813308" y="123698"/>
                  </a:lnTo>
                  <a:lnTo>
                    <a:pt x="816101" y="140589"/>
                  </a:lnTo>
                  <a:lnTo>
                    <a:pt x="817626" y="157607"/>
                  </a:lnTo>
                  <a:lnTo>
                    <a:pt x="817752" y="174498"/>
                  </a:lnTo>
                  <a:lnTo>
                    <a:pt x="805432" y="179832"/>
                  </a:lnTo>
                  <a:lnTo>
                    <a:pt x="792988" y="186182"/>
                  </a:lnTo>
                  <a:lnTo>
                    <a:pt x="767969" y="201676"/>
                  </a:lnTo>
                  <a:lnTo>
                    <a:pt x="742442" y="220345"/>
                  </a:lnTo>
                  <a:lnTo>
                    <a:pt x="716152" y="241935"/>
                  </a:lnTo>
                  <a:lnTo>
                    <a:pt x="689483" y="265811"/>
                  </a:lnTo>
                  <a:lnTo>
                    <a:pt x="662051" y="291846"/>
                  </a:lnTo>
                  <a:lnTo>
                    <a:pt x="633857" y="319278"/>
                  </a:lnTo>
                  <a:lnTo>
                    <a:pt x="604901" y="347726"/>
                  </a:lnTo>
                  <a:lnTo>
                    <a:pt x="575056" y="376936"/>
                  </a:lnTo>
                  <a:lnTo>
                    <a:pt x="544449" y="406400"/>
                  </a:lnTo>
                  <a:lnTo>
                    <a:pt x="512826" y="435610"/>
                  </a:lnTo>
                  <a:lnTo>
                    <a:pt x="480187" y="464058"/>
                  </a:lnTo>
                  <a:lnTo>
                    <a:pt x="446532" y="491236"/>
                  </a:lnTo>
                  <a:lnTo>
                    <a:pt x="411607" y="517145"/>
                  </a:lnTo>
                  <a:lnTo>
                    <a:pt x="375665" y="540893"/>
                  </a:lnTo>
                  <a:lnTo>
                    <a:pt x="338327" y="562100"/>
                  </a:lnTo>
                  <a:lnTo>
                    <a:pt x="308737" y="588899"/>
                  </a:lnTo>
                  <a:lnTo>
                    <a:pt x="280162" y="612900"/>
                  </a:lnTo>
                  <a:lnTo>
                    <a:pt x="252730" y="634873"/>
                  </a:lnTo>
                  <a:lnTo>
                    <a:pt x="226187" y="655321"/>
                  </a:lnTo>
                  <a:lnTo>
                    <a:pt x="200406" y="675005"/>
                  </a:lnTo>
                  <a:lnTo>
                    <a:pt x="175514" y="694563"/>
                  </a:lnTo>
                  <a:lnTo>
                    <a:pt x="151382" y="714375"/>
                  </a:lnTo>
                  <a:lnTo>
                    <a:pt x="127889" y="735076"/>
                  </a:lnTo>
                  <a:lnTo>
                    <a:pt x="115189" y="709296"/>
                  </a:lnTo>
                  <a:lnTo>
                    <a:pt x="103251" y="686562"/>
                  </a:lnTo>
                  <a:lnTo>
                    <a:pt x="91313" y="667258"/>
                  </a:lnTo>
                  <a:lnTo>
                    <a:pt x="84963" y="659003"/>
                  </a:lnTo>
                  <a:lnTo>
                    <a:pt x="78232" y="651637"/>
                  </a:lnTo>
                  <a:lnTo>
                    <a:pt x="71120" y="645160"/>
                  </a:lnTo>
                  <a:lnTo>
                    <a:pt x="63500" y="639826"/>
                  </a:lnTo>
                  <a:lnTo>
                    <a:pt x="55118" y="635382"/>
                  </a:lnTo>
                  <a:lnTo>
                    <a:pt x="46101" y="631950"/>
                  </a:lnTo>
                  <a:lnTo>
                    <a:pt x="36068" y="629666"/>
                  </a:lnTo>
                  <a:lnTo>
                    <a:pt x="25146" y="628523"/>
                  </a:lnTo>
                  <a:lnTo>
                    <a:pt x="13208" y="628397"/>
                  </a:lnTo>
                  <a:lnTo>
                    <a:pt x="0" y="629539"/>
                  </a:lnTo>
                  <a:lnTo>
                    <a:pt x="21590" y="600710"/>
                  </a:lnTo>
                  <a:close/>
                </a:path>
              </a:pathLst>
            </a:custGeom>
            <a:solidFill>
              <a:srgbClr val="8484e5"/>
            </a:solidFill>
            <a:ln w="0">
              <a:solidFill>
                <a:srgbClr val="8484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: Shape 46"/>
            <p:cNvSpPr/>
            <p:nvPr/>
          </p:nvSpPr>
          <p:spPr>
            <a:xfrm rot="1030200">
              <a:off x="7059600" y="3693600"/>
              <a:ext cx="731880" cy="64944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732156" h="648971">
                  <a:moveTo>
                    <a:pt x="557021" y="0"/>
                  </a:moveTo>
                  <a:lnTo>
                    <a:pt x="579246" y="2159"/>
                  </a:lnTo>
                  <a:lnTo>
                    <a:pt x="600202" y="6477"/>
                  </a:lnTo>
                  <a:lnTo>
                    <a:pt x="619633" y="12700"/>
                  </a:lnTo>
                  <a:lnTo>
                    <a:pt x="637667" y="20701"/>
                  </a:lnTo>
                  <a:lnTo>
                    <a:pt x="654304" y="30480"/>
                  </a:lnTo>
                  <a:lnTo>
                    <a:pt x="669417" y="41529"/>
                  </a:lnTo>
                  <a:lnTo>
                    <a:pt x="683006" y="54102"/>
                  </a:lnTo>
                  <a:lnTo>
                    <a:pt x="694944" y="67818"/>
                  </a:lnTo>
                  <a:lnTo>
                    <a:pt x="705484" y="82423"/>
                  </a:lnTo>
                  <a:lnTo>
                    <a:pt x="714121" y="98044"/>
                  </a:lnTo>
                  <a:lnTo>
                    <a:pt x="721233" y="114300"/>
                  </a:lnTo>
                  <a:lnTo>
                    <a:pt x="726567" y="131192"/>
                  </a:lnTo>
                  <a:lnTo>
                    <a:pt x="730250" y="148463"/>
                  </a:lnTo>
                  <a:lnTo>
                    <a:pt x="732155" y="165989"/>
                  </a:lnTo>
                  <a:lnTo>
                    <a:pt x="732155" y="183515"/>
                  </a:lnTo>
                  <a:lnTo>
                    <a:pt x="704088" y="214504"/>
                  </a:lnTo>
                  <a:lnTo>
                    <a:pt x="673862" y="245999"/>
                  </a:lnTo>
                  <a:lnTo>
                    <a:pt x="641731" y="278004"/>
                  </a:lnTo>
                  <a:lnTo>
                    <a:pt x="608076" y="310261"/>
                  </a:lnTo>
                  <a:lnTo>
                    <a:pt x="537591" y="374777"/>
                  </a:lnTo>
                  <a:lnTo>
                    <a:pt x="464946" y="438150"/>
                  </a:lnTo>
                  <a:lnTo>
                    <a:pt x="428879" y="469011"/>
                  </a:lnTo>
                  <a:lnTo>
                    <a:pt x="393065" y="498856"/>
                  </a:lnTo>
                  <a:lnTo>
                    <a:pt x="358267" y="527685"/>
                  </a:lnTo>
                  <a:lnTo>
                    <a:pt x="324612" y="555244"/>
                  </a:lnTo>
                  <a:lnTo>
                    <a:pt x="292354" y="581279"/>
                  </a:lnTo>
                  <a:lnTo>
                    <a:pt x="262128" y="605790"/>
                  </a:lnTo>
                  <a:lnTo>
                    <a:pt x="247650" y="617347"/>
                  </a:lnTo>
                  <a:lnTo>
                    <a:pt x="233934" y="628396"/>
                  </a:lnTo>
                  <a:lnTo>
                    <a:pt x="220853" y="638939"/>
                  </a:lnTo>
                  <a:lnTo>
                    <a:pt x="208280" y="648970"/>
                  </a:lnTo>
                  <a:lnTo>
                    <a:pt x="208788" y="628270"/>
                  </a:lnTo>
                  <a:lnTo>
                    <a:pt x="207264" y="608331"/>
                  </a:lnTo>
                  <a:lnTo>
                    <a:pt x="203581" y="589281"/>
                  </a:lnTo>
                  <a:lnTo>
                    <a:pt x="198120" y="571246"/>
                  </a:lnTo>
                  <a:lnTo>
                    <a:pt x="190627" y="554229"/>
                  </a:lnTo>
                  <a:lnTo>
                    <a:pt x="181229" y="538354"/>
                  </a:lnTo>
                  <a:lnTo>
                    <a:pt x="170053" y="523621"/>
                  </a:lnTo>
                  <a:lnTo>
                    <a:pt x="157353" y="510286"/>
                  </a:lnTo>
                  <a:lnTo>
                    <a:pt x="142747" y="498221"/>
                  </a:lnTo>
                  <a:lnTo>
                    <a:pt x="126619" y="487807"/>
                  </a:lnTo>
                  <a:lnTo>
                    <a:pt x="109093" y="478790"/>
                  </a:lnTo>
                  <a:lnTo>
                    <a:pt x="89916" y="471424"/>
                  </a:lnTo>
                  <a:lnTo>
                    <a:pt x="69342" y="465836"/>
                  </a:lnTo>
                  <a:lnTo>
                    <a:pt x="47497" y="462026"/>
                  </a:lnTo>
                  <a:lnTo>
                    <a:pt x="24384" y="459994"/>
                  </a:lnTo>
                  <a:lnTo>
                    <a:pt x="0" y="460121"/>
                  </a:lnTo>
                  <a:lnTo>
                    <a:pt x="12572" y="446279"/>
                  </a:lnTo>
                  <a:lnTo>
                    <a:pt x="25908" y="431927"/>
                  </a:lnTo>
                  <a:lnTo>
                    <a:pt x="54483" y="402590"/>
                  </a:lnTo>
                  <a:lnTo>
                    <a:pt x="85471" y="371856"/>
                  </a:lnTo>
                  <a:lnTo>
                    <a:pt x="118364" y="340614"/>
                  </a:lnTo>
                  <a:lnTo>
                    <a:pt x="152908" y="308737"/>
                  </a:lnTo>
                  <a:lnTo>
                    <a:pt x="188721" y="276479"/>
                  </a:lnTo>
                  <a:lnTo>
                    <a:pt x="262509" y="212344"/>
                  </a:lnTo>
                  <a:lnTo>
                    <a:pt x="299720" y="181102"/>
                  </a:lnTo>
                  <a:lnTo>
                    <a:pt x="336804" y="150623"/>
                  </a:lnTo>
                  <a:lnTo>
                    <a:pt x="373253" y="121285"/>
                  </a:lnTo>
                  <a:lnTo>
                    <a:pt x="408685" y="93218"/>
                  </a:lnTo>
                  <a:lnTo>
                    <a:pt x="442721" y="66802"/>
                  </a:lnTo>
                  <a:lnTo>
                    <a:pt x="475234" y="42292"/>
                  </a:lnTo>
                  <a:lnTo>
                    <a:pt x="490601" y="30861"/>
                  </a:lnTo>
                  <a:lnTo>
                    <a:pt x="505587" y="20067"/>
                  </a:lnTo>
                  <a:lnTo>
                    <a:pt x="519810" y="9779"/>
                  </a:lnTo>
                  <a:lnTo>
                    <a:pt x="533400" y="254"/>
                  </a:lnTo>
                  <a:lnTo>
                    <a:pt x="557021" y="0"/>
                  </a:lnTo>
                  <a:close/>
                </a:path>
              </a:pathLst>
            </a:custGeom>
            <a:solidFill>
              <a:srgbClr val="3d3fc9"/>
            </a:solidFill>
            <a:ln w="0">
              <a:solidFill>
                <a:srgbClr val="3d3f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: Shape 47"/>
            <p:cNvSpPr/>
            <p:nvPr/>
          </p:nvSpPr>
          <p:spPr>
            <a:xfrm rot="1030200">
              <a:off x="7202160" y="3729960"/>
              <a:ext cx="534960" cy="4143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35052" h="414402">
                  <a:moveTo>
                    <a:pt x="448691" y="0"/>
                  </a:moveTo>
                  <a:lnTo>
                    <a:pt x="456184" y="508"/>
                  </a:lnTo>
                  <a:lnTo>
                    <a:pt x="472059" y="3557"/>
                  </a:lnTo>
                  <a:lnTo>
                    <a:pt x="487680" y="9398"/>
                  </a:lnTo>
                  <a:lnTo>
                    <a:pt x="502539" y="17145"/>
                  </a:lnTo>
                  <a:lnTo>
                    <a:pt x="515493" y="26797"/>
                  </a:lnTo>
                  <a:lnTo>
                    <a:pt x="521081" y="32385"/>
                  </a:lnTo>
                  <a:lnTo>
                    <a:pt x="525906" y="38354"/>
                  </a:lnTo>
                  <a:lnTo>
                    <a:pt x="529717" y="44450"/>
                  </a:lnTo>
                  <a:lnTo>
                    <a:pt x="532765" y="50927"/>
                  </a:lnTo>
                  <a:lnTo>
                    <a:pt x="534543" y="57785"/>
                  </a:lnTo>
                  <a:lnTo>
                    <a:pt x="535051" y="64770"/>
                  </a:lnTo>
                  <a:lnTo>
                    <a:pt x="523367" y="68961"/>
                  </a:lnTo>
                  <a:lnTo>
                    <a:pt x="512064" y="74041"/>
                  </a:lnTo>
                  <a:lnTo>
                    <a:pt x="490855" y="86107"/>
                  </a:lnTo>
                  <a:lnTo>
                    <a:pt x="471043" y="100457"/>
                  </a:lnTo>
                  <a:lnTo>
                    <a:pt x="452247" y="116459"/>
                  </a:lnTo>
                  <a:lnTo>
                    <a:pt x="434467" y="133350"/>
                  </a:lnTo>
                  <a:lnTo>
                    <a:pt x="417068" y="150749"/>
                  </a:lnTo>
                  <a:lnTo>
                    <a:pt x="399795" y="167894"/>
                  </a:lnTo>
                  <a:lnTo>
                    <a:pt x="382524" y="184150"/>
                  </a:lnTo>
                  <a:lnTo>
                    <a:pt x="374523" y="185674"/>
                  </a:lnTo>
                  <a:lnTo>
                    <a:pt x="366522" y="185420"/>
                  </a:lnTo>
                  <a:lnTo>
                    <a:pt x="350647" y="182880"/>
                  </a:lnTo>
                  <a:lnTo>
                    <a:pt x="334772" y="181102"/>
                  </a:lnTo>
                  <a:lnTo>
                    <a:pt x="326898" y="182119"/>
                  </a:lnTo>
                  <a:lnTo>
                    <a:pt x="318897" y="185166"/>
                  </a:lnTo>
                  <a:lnTo>
                    <a:pt x="301879" y="194945"/>
                  </a:lnTo>
                  <a:lnTo>
                    <a:pt x="284226" y="205740"/>
                  </a:lnTo>
                  <a:lnTo>
                    <a:pt x="266192" y="217678"/>
                  </a:lnTo>
                  <a:lnTo>
                    <a:pt x="248031" y="230251"/>
                  </a:lnTo>
                  <a:lnTo>
                    <a:pt x="211581" y="256921"/>
                  </a:lnTo>
                  <a:lnTo>
                    <a:pt x="176656" y="284353"/>
                  </a:lnTo>
                  <a:lnTo>
                    <a:pt x="160274" y="297688"/>
                  </a:lnTo>
                  <a:lnTo>
                    <a:pt x="144653" y="310769"/>
                  </a:lnTo>
                  <a:lnTo>
                    <a:pt x="130302" y="323088"/>
                  </a:lnTo>
                  <a:lnTo>
                    <a:pt x="117348" y="334519"/>
                  </a:lnTo>
                  <a:lnTo>
                    <a:pt x="105791" y="344805"/>
                  </a:lnTo>
                  <a:lnTo>
                    <a:pt x="96012" y="353822"/>
                  </a:lnTo>
                  <a:lnTo>
                    <a:pt x="88138" y="361569"/>
                  </a:lnTo>
                  <a:lnTo>
                    <a:pt x="82423" y="367538"/>
                  </a:lnTo>
                  <a:lnTo>
                    <a:pt x="84201" y="371475"/>
                  </a:lnTo>
                  <a:lnTo>
                    <a:pt x="86741" y="374777"/>
                  </a:lnTo>
                  <a:lnTo>
                    <a:pt x="92075" y="379476"/>
                  </a:lnTo>
                  <a:lnTo>
                    <a:pt x="96519" y="382778"/>
                  </a:lnTo>
                  <a:lnTo>
                    <a:pt x="97790" y="384048"/>
                  </a:lnTo>
                  <a:lnTo>
                    <a:pt x="97917" y="385319"/>
                  </a:lnTo>
                  <a:lnTo>
                    <a:pt x="82931" y="391288"/>
                  </a:lnTo>
                  <a:lnTo>
                    <a:pt x="68580" y="397002"/>
                  </a:lnTo>
                  <a:lnTo>
                    <a:pt x="54864" y="402082"/>
                  </a:lnTo>
                  <a:lnTo>
                    <a:pt x="42037" y="406400"/>
                  </a:lnTo>
                  <a:lnTo>
                    <a:pt x="29844" y="410083"/>
                  </a:lnTo>
                  <a:lnTo>
                    <a:pt x="18923" y="412623"/>
                  </a:lnTo>
                  <a:lnTo>
                    <a:pt x="8890" y="414147"/>
                  </a:lnTo>
                  <a:lnTo>
                    <a:pt x="0" y="414401"/>
                  </a:lnTo>
                  <a:lnTo>
                    <a:pt x="1778" y="408432"/>
                  </a:lnTo>
                  <a:lnTo>
                    <a:pt x="4064" y="401955"/>
                  </a:lnTo>
                  <a:lnTo>
                    <a:pt x="7239" y="394844"/>
                  </a:lnTo>
                  <a:lnTo>
                    <a:pt x="11556" y="386969"/>
                  </a:lnTo>
                  <a:lnTo>
                    <a:pt x="17399" y="378207"/>
                  </a:lnTo>
                  <a:lnTo>
                    <a:pt x="25018" y="368173"/>
                  </a:lnTo>
                  <a:lnTo>
                    <a:pt x="34798" y="357124"/>
                  </a:lnTo>
                  <a:lnTo>
                    <a:pt x="46863" y="344551"/>
                  </a:lnTo>
                  <a:lnTo>
                    <a:pt x="49022" y="343282"/>
                  </a:lnTo>
                  <a:lnTo>
                    <a:pt x="50292" y="343663"/>
                  </a:lnTo>
                  <a:lnTo>
                    <a:pt x="50927" y="345567"/>
                  </a:lnTo>
                  <a:lnTo>
                    <a:pt x="51307" y="348107"/>
                  </a:lnTo>
                  <a:lnTo>
                    <a:pt x="51689" y="350647"/>
                  </a:lnTo>
                  <a:lnTo>
                    <a:pt x="52451" y="352298"/>
                  </a:lnTo>
                  <a:lnTo>
                    <a:pt x="53848" y="352679"/>
                  </a:lnTo>
                  <a:lnTo>
                    <a:pt x="56261" y="350774"/>
                  </a:lnTo>
                  <a:lnTo>
                    <a:pt x="67310" y="339979"/>
                  </a:lnTo>
                  <a:lnTo>
                    <a:pt x="79248" y="328295"/>
                  </a:lnTo>
                  <a:lnTo>
                    <a:pt x="92075" y="316357"/>
                  </a:lnTo>
                  <a:lnTo>
                    <a:pt x="105410" y="303784"/>
                  </a:lnTo>
                  <a:lnTo>
                    <a:pt x="133857" y="277495"/>
                  </a:lnTo>
                  <a:lnTo>
                    <a:pt x="164084" y="250444"/>
                  </a:lnTo>
                  <a:lnTo>
                    <a:pt x="226441" y="196088"/>
                  </a:lnTo>
                  <a:lnTo>
                    <a:pt x="257175" y="170053"/>
                  </a:lnTo>
                  <a:lnTo>
                    <a:pt x="286639" y="145669"/>
                  </a:lnTo>
                  <a:lnTo>
                    <a:pt x="290576" y="143002"/>
                  </a:lnTo>
                  <a:lnTo>
                    <a:pt x="293116" y="140335"/>
                  </a:lnTo>
                  <a:lnTo>
                    <a:pt x="294513" y="137669"/>
                  </a:lnTo>
                  <a:lnTo>
                    <a:pt x="294893" y="134747"/>
                  </a:lnTo>
                  <a:lnTo>
                    <a:pt x="293624" y="128905"/>
                  </a:lnTo>
                  <a:lnTo>
                    <a:pt x="290956" y="122809"/>
                  </a:lnTo>
                  <a:lnTo>
                    <a:pt x="288036" y="116713"/>
                  </a:lnTo>
                  <a:lnTo>
                    <a:pt x="286766" y="110998"/>
                  </a:lnTo>
                  <a:lnTo>
                    <a:pt x="287147" y="108204"/>
                  </a:lnTo>
                  <a:lnTo>
                    <a:pt x="288543" y="105538"/>
                  </a:lnTo>
                  <a:lnTo>
                    <a:pt x="290956" y="103124"/>
                  </a:lnTo>
                  <a:lnTo>
                    <a:pt x="294893" y="100711"/>
                  </a:lnTo>
                  <a:lnTo>
                    <a:pt x="306959" y="94361"/>
                  </a:lnTo>
                  <a:lnTo>
                    <a:pt x="318007" y="87376"/>
                  </a:lnTo>
                  <a:lnTo>
                    <a:pt x="328294" y="80010"/>
                  </a:lnTo>
                  <a:lnTo>
                    <a:pt x="337947" y="72136"/>
                  </a:lnTo>
                  <a:lnTo>
                    <a:pt x="355727" y="56007"/>
                  </a:lnTo>
                  <a:lnTo>
                    <a:pt x="371982" y="40132"/>
                  </a:lnTo>
                  <a:lnTo>
                    <a:pt x="387857" y="25527"/>
                  </a:lnTo>
                  <a:lnTo>
                    <a:pt x="404114" y="13335"/>
                  </a:lnTo>
                  <a:lnTo>
                    <a:pt x="412750" y="8509"/>
                  </a:lnTo>
                  <a:lnTo>
                    <a:pt x="421640" y="4445"/>
                  </a:lnTo>
                  <a:lnTo>
                    <a:pt x="431165" y="1778"/>
                  </a:lnTo>
                  <a:lnTo>
                    <a:pt x="441325" y="127"/>
                  </a:lnTo>
                  <a:lnTo>
                    <a:pt x="448691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: Shape 48"/>
            <p:cNvSpPr/>
            <p:nvPr/>
          </p:nvSpPr>
          <p:spPr>
            <a:xfrm rot="1030200">
              <a:off x="5986080" y="4440240"/>
              <a:ext cx="358560" cy="3459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358522" h="346585">
                  <a:moveTo>
                    <a:pt x="247396" y="0"/>
                  </a:moveTo>
                  <a:lnTo>
                    <a:pt x="257556" y="635"/>
                  </a:lnTo>
                  <a:lnTo>
                    <a:pt x="267970" y="2413"/>
                  </a:lnTo>
                  <a:lnTo>
                    <a:pt x="278384" y="5588"/>
                  </a:lnTo>
                  <a:lnTo>
                    <a:pt x="288798" y="9654"/>
                  </a:lnTo>
                  <a:lnTo>
                    <a:pt x="298958" y="14733"/>
                  </a:lnTo>
                  <a:lnTo>
                    <a:pt x="308737" y="20701"/>
                  </a:lnTo>
                  <a:lnTo>
                    <a:pt x="318008" y="27433"/>
                  </a:lnTo>
                  <a:lnTo>
                    <a:pt x="326771" y="34925"/>
                  </a:lnTo>
                  <a:lnTo>
                    <a:pt x="334645" y="42926"/>
                  </a:lnTo>
                  <a:lnTo>
                    <a:pt x="341630" y="51435"/>
                  </a:lnTo>
                  <a:lnTo>
                    <a:pt x="347726" y="60325"/>
                  </a:lnTo>
                  <a:lnTo>
                    <a:pt x="352425" y="69723"/>
                  </a:lnTo>
                  <a:lnTo>
                    <a:pt x="355981" y="79248"/>
                  </a:lnTo>
                  <a:lnTo>
                    <a:pt x="358014" y="88900"/>
                  </a:lnTo>
                  <a:lnTo>
                    <a:pt x="358521" y="98681"/>
                  </a:lnTo>
                  <a:lnTo>
                    <a:pt x="357885" y="101600"/>
                  </a:lnTo>
                  <a:lnTo>
                    <a:pt x="356743" y="102109"/>
                  </a:lnTo>
                  <a:lnTo>
                    <a:pt x="354966" y="101094"/>
                  </a:lnTo>
                  <a:lnTo>
                    <a:pt x="352933" y="99187"/>
                  </a:lnTo>
                  <a:lnTo>
                    <a:pt x="348233" y="95885"/>
                  </a:lnTo>
                  <a:lnTo>
                    <a:pt x="346075" y="96141"/>
                  </a:lnTo>
                  <a:lnTo>
                    <a:pt x="343789" y="98681"/>
                  </a:lnTo>
                  <a:lnTo>
                    <a:pt x="335026" y="107570"/>
                  </a:lnTo>
                  <a:lnTo>
                    <a:pt x="325501" y="116967"/>
                  </a:lnTo>
                  <a:lnTo>
                    <a:pt x="305308" y="137416"/>
                  </a:lnTo>
                  <a:lnTo>
                    <a:pt x="283972" y="159132"/>
                  </a:lnTo>
                  <a:lnTo>
                    <a:pt x="262128" y="181737"/>
                  </a:lnTo>
                  <a:lnTo>
                    <a:pt x="240538" y="204598"/>
                  </a:lnTo>
                  <a:lnTo>
                    <a:pt x="219583" y="227330"/>
                  </a:lnTo>
                  <a:lnTo>
                    <a:pt x="200406" y="249174"/>
                  </a:lnTo>
                  <a:lnTo>
                    <a:pt x="191643" y="259588"/>
                  </a:lnTo>
                  <a:lnTo>
                    <a:pt x="183388" y="269495"/>
                  </a:lnTo>
                  <a:lnTo>
                    <a:pt x="167259" y="274955"/>
                  </a:lnTo>
                  <a:lnTo>
                    <a:pt x="152273" y="280035"/>
                  </a:lnTo>
                  <a:lnTo>
                    <a:pt x="138303" y="284988"/>
                  </a:lnTo>
                  <a:lnTo>
                    <a:pt x="125476" y="289816"/>
                  </a:lnTo>
                  <a:lnTo>
                    <a:pt x="101981" y="299085"/>
                  </a:lnTo>
                  <a:lnTo>
                    <a:pt x="80772" y="308104"/>
                  </a:lnTo>
                  <a:lnTo>
                    <a:pt x="41529" y="326392"/>
                  </a:lnTo>
                  <a:lnTo>
                    <a:pt x="21590" y="336170"/>
                  </a:lnTo>
                  <a:lnTo>
                    <a:pt x="0" y="346584"/>
                  </a:lnTo>
                  <a:lnTo>
                    <a:pt x="12827" y="320167"/>
                  </a:lnTo>
                  <a:lnTo>
                    <a:pt x="24384" y="295275"/>
                  </a:lnTo>
                  <a:lnTo>
                    <a:pt x="34925" y="271908"/>
                  </a:lnTo>
                  <a:lnTo>
                    <a:pt x="44069" y="249683"/>
                  </a:lnTo>
                  <a:lnTo>
                    <a:pt x="51689" y="228856"/>
                  </a:lnTo>
                  <a:lnTo>
                    <a:pt x="57785" y="208788"/>
                  </a:lnTo>
                  <a:lnTo>
                    <a:pt x="62103" y="189867"/>
                  </a:lnTo>
                  <a:lnTo>
                    <a:pt x="64643" y="171579"/>
                  </a:lnTo>
                  <a:lnTo>
                    <a:pt x="82550" y="155067"/>
                  </a:lnTo>
                  <a:lnTo>
                    <a:pt x="101600" y="138176"/>
                  </a:lnTo>
                  <a:lnTo>
                    <a:pt x="121793" y="120779"/>
                  </a:lnTo>
                  <a:lnTo>
                    <a:pt x="143129" y="102871"/>
                  </a:lnTo>
                  <a:lnTo>
                    <a:pt x="165100" y="84074"/>
                  </a:lnTo>
                  <a:lnTo>
                    <a:pt x="187960" y="64262"/>
                  </a:lnTo>
                  <a:lnTo>
                    <a:pt x="211455" y="43561"/>
                  </a:lnTo>
                  <a:lnTo>
                    <a:pt x="235585" y="21463"/>
                  </a:lnTo>
                  <a:lnTo>
                    <a:pt x="238379" y="18923"/>
                  </a:lnTo>
                  <a:lnTo>
                    <a:pt x="238887" y="16004"/>
                  </a:lnTo>
                  <a:lnTo>
                    <a:pt x="237871" y="12700"/>
                  </a:lnTo>
                  <a:lnTo>
                    <a:pt x="235966" y="9525"/>
                  </a:lnTo>
                  <a:lnTo>
                    <a:pt x="234188" y="6479"/>
                  </a:lnTo>
                  <a:lnTo>
                    <a:pt x="233426" y="3810"/>
                  </a:lnTo>
                  <a:lnTo>
                    <a:pt x="234188" y="1907"/>
                  </a:lnTo>
                  <a:lnTo>
                    <a:pt x="237617" y="762"/>
                  </a:lnTo>
                  <a:lnTo>
                    <a:pt x="247396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: Shape 49"/>
            <p:cNvSpPr/>
            <p:nvPr/>
          </p:nvSpPr>
          <p:spPr>
            <a:xfrm rot="1030200">
              <a:off x="6102000" y="3538080"/>
              <a:ext cx="1598760" cy="148140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597915" h="1481583">
                  <a:moveTo>
                    <a:pt x="0" y="1466469"/>
                  </a:moveTo>
                  <a:lnTo>
                    <a:pt x="12065" y="1449832"/>
                  </a:lnTo>
                  <a:lnTo>
                    <a:pt x="23368" y="1430909"/>
                  </a:lnTo>
                  <a:lnTo>
                    <a:pt x="33909" y="1410082"/>
                  </a:lnTo>
                  <a:lnTo>
                    <a:pt x="43688" y="1387475"/>
                  </a:lnTo>
                  <a:lnTo>
                    <a:pt x="52832" y="1363472"/>
                  </a:lnTo>
                  <a:lnTo>
                    <a:pt x="61087" y="1338326"/>
                  </a:lnTo>
                  <a:lnTo>
                    <a:pt x="68453" y="1312292"/>
                  </a:lnTo>
                  <a:lnTo>
                    <a:pt x="75184" y="1285748"/>
                  </a:lnTo>
                  <a:lnTo>
                    <a:pt x="94996" y="1264794"/>
                  </a:lnTo>
                  <a:lnTo>
                    <a:pt x="117221" y="1243204"/>
                  </a:lnTo>
                  <a:lnTo>
                    <a:pt x="164973" y="1200658"/>
                  </a:lnTo>
                  <a:lnTo>
                    <a:pt x="188341" y="1180466"/>
                  </a:lnTo>
                  <a:lnTo>
                    <a:pt x="210185" y="1161796"/>
                  </a:lnTo>
                  <a:lnTo>
                    <a:pt x="220091" y="1153160"/>
                  </a:lnTo>
                  <a:lnTo>
                    <a:pt x="229362" y="1145159"/>
                  </a:lnTo>
                  <a:lnTo>
                    <a:pt x="237617" y="1137667"/>
                  </a:lnTo>
                  <a:lnTo>
                    <a:pt x="244856" y="1130808"/>
                  </a:lnTo>
                  <a:lnTo>
                    <a:pt x="245364" y="1128649"/>
                  </a:lnTo>
                  <a:lnTo>
                    <a:pt x="245364" y="1125474"/>
                  </a:lnTo>
                  <a:lnTo>
                    <a:pt x="243967" y="1117473"/>
                  </a:lnTo>
                  <a:lnTo>
                    <a:pt x="241300" y="1108837"/>
                  </a:lnTo>
                  <a:lnTo>
                    <a:pt x="238125" y="1102233"/>
                  </a:lnTo>
                  <a:lnTo>
                    <a:pt x="241046" y="1098805"/>
                  </a:lnTo>
                  <a:lnTo>
                    <a:pt x="244729" y="1094613"/>
                  </a:lnTo>
                  <a:lnTo>
                    <a:pt x="248920" y="1089914"/>
                  </a:lnTo>
                  <a:lnTo>
                    <a:pt x="253746" y="1084454"/>
                  </a:lnTo>
                  <a:lnTo>
                    <a:pt x="264795" y="1072134"/>
                  </a:lnTo>
                  <a:lnTo>
                    <a:pt x="277495" y="1058037"/>
                  </a:lnTo>
                  <a:lnTo>
                    <a:pt x="291719" y="1042544"/>
                  </a:lnTo>
                  <a:lnTo>
                    <a:pt x="306832" y="1026287"/>
                  </a:lnTo>
                  <a:lnTo>
                    <a:pt x="338328" y="992379"/>
                  </a:lnTo>
                  <a:lnTo>
                    <a:pt x="353948" y="975614"/>
                  </a:lnTo>
                  <a:lnTo>
                    <a:pt x="369061" y="959358"/>
                  </a:lnTo>
                  <a:lnTo>
                    <a:pt x="383285" y="944372"/>
                  </a:lnTo>
                  <a:lnTo>
                    <a:pt x="396240" y="930657"/>
                  </a:lnTo>
                  <a:lnTo>
                    <a:pt x="407289" y="918845"/>
                  </a:lnTo>
                  <a:lnTo>
                    <a:pt x="412242" y="913893"/>
                  </a:lnTo>
                  <a:lnTo>
                    <a:pt x="416433" y="909320"/>
                  </a:lnTo>
                  <a:lnTo>
                    <a:pt x="420116" y="905510"/>
                  </a:lnTo>
                  <a:lnTo>
                    <a:pt x="423164" y="902335"/>
                  </a:lnTo>
                  <a:lnTo>
                    <a:pt x="425577" y="900049"/>
                  </a:lnTo>
                  <a:lnTo>
                    <a:pt x="427101" y="898398"/>
                  </a:lnTo>
                  <a:lnTo>
                    <a:pt x="426720" y="896747"/>
                  </a:lnTo>
                  <a:lnTo>
                    <a:pt x="427228" y="894334"/>
                  </a:lnTo>
                  <a:lnTo>
                    <a:pt x="428498" y="891286"/>
                  </a:lnTo>
                  <a:lnTo>
                    <a:pt x="430657" y="887731"/>
                  </a:lnTo>
                  <a:lnTo>
                    <a:pt x="433578" y="883539"/>
                  </a:lnTo>
                  <a:lnTo>
                    <a:pt x="437260" y="878713"/>
                  </a:lnTo>
                  <a:lnTo>
                    <a:pt x="441579" y="873507"/>
                  </a:lnTo>
                  <a:lnTo>
                    <a:pt x="446659" y="867919"/>
                  </a:lnTo>
                  <a:lnTo>
                    <a:pt x="458341" y="855345"/>
                  </a:lnTo>
                  <a:lnTo>
                    <a:pt x="472185" y="841248"/>
                  </a:lnTo>
                  <a:lnTo>
                    <a:pt x="487553" y="826008"/>
                  </a:lnTo>
                  <a:lnTo>
                    <a:pt x="504442" y="809752"/>
                  </a:lnTo>
                  <a:lnTo>
                    <a:pt x="522351" y="792861"/>
                  </a:lnTo>
                  <a:lnTo>
                    <a:pt x="540891" y="775717"/>
                  </a:lnTo>
                  <a:lnTo>
                    <a:pt x="578739" y="741045"/>
                  </a:lnTo>
                  <a:lnTo>
                    <a:pt x="597281" y="724155"/>
                  </a:lnTo>
                  <a:lnTo>
                    <a:pt x="615187" y="707898"/>
                  </a:lnTo>
                  <a:lnTo>
                    <a:pt x="632079" y="692532"/>
                  </a:lnTo>
                  <a:lnTo>
                    <a:pt x="647573" y="678561"/>
                  </a:lnTo>
                  <a:lnTo>
                    <a:pt x="650492" y="675894"/>
                  </a:lnTo>
                  <a:lnTo>
                    <a:pt x="654177" y="672593"/>
                  </a:lnTo>
                  <a:lnTo>
                    <a:pt x="658622" y="668782"/>
                  </a:lnTo>
                  <a:lnTo>
                    <a:pt x="663702" y="664337"/>
                  </a:lnTo>
                  <a:lnTo>
                    <a:pt x="675767" y="653923"/>
                  </a:lnTo>
                  <a:lnTo>
                    <a:pt x="689864" y="641732"/>
                  </a:lnTo>
                  <a:lnTo>
                    <a:pt x="705485" y="628396"/>
                  </a:lnTo>
                  <a:lnTo>
                    <a:pt x="722248" y="613919"/>
                  </a:lnTo>
                  <a:lnTo>
                    <a:pt x="757301" y="583566"/>
                  </a:lnTo>
                  <a:lnTo>
                    <a:pt x="774827" y="568325"/>
                  </a:lnTo>
                  <a:lnTo>
                    <a:pt x="791591" y="553593"/>
                  </a:lnTo>
                  <a:lnTo>
                    <a:pt x="807085" y="539623"/>
                  </a:lnTo>
                  <a:lnTo>
                    <a:pt x="821055" y="526923"/>
                  </a:lnTo>
                  <a:lnTo>
                    <a:pt x="832991" y="515747"/>
                  </a:lnTo>
                  <a:lnTo>
                    <a:pt x="838073" y="510794"/>
                  </a:lnTo>
                  <a:lnTo>
                    <a:pt x="842391" y="506349"/>
                  </a:lnTo>
                  <a:lnTo>
                    <a:pt x="845947" y="502666"/>
                  </a:lnTo>
                  <a:lnTo>
                    <a:pt x="848866" y="499364"/>
                  </a:lnTo>
                  <a:lnTo>
                    <a:pt x="850773" y="496951"/>
                  </a:lnTo>
                  <a:lnTo>
                    <a:pt x="851789" y="495046"/>
                  </a:lnTo>
                  <a:lnTo>
                    <a:pt x="852423" y="491744"/>
                  </a:lnTo>
                  <a:lnTo>
                    <a:pt x="852041" y="488696"/>
                  </a:lnTo>
                  <a:lnTo>
                    <a:pt x="849376" y="483235"/>
                  </a:lnTo>
                  <a:lnTo>
                    <a:pt x="846962" y="478155"/>
                  </a:lnTo>
                  <a:lnTo>
                    <a:pt x="846709" y="475361"/>
                  </a:lnTo>
                  <a:lnTo>
                    <a:pt x="847598" y="472441"/>
                  </a:lnTo>
                  <a:lnTo>
                    <a:pt x="855853" y="463931"/>
                  </a:lnTo>
                  <a:lnTo>
                    <a:pt x="865759" y="453898"/>
                  </a:lnTo>
                  <a:lnTo>
                    <a:pt x="877441" y="442341"/>
                  </a:lnTo>
                  <a:lnTo>
                    <a:pt x="890778" y="429387"/>
                  </a:lnTo>
                  <a:lnTo>
                    <a:pt x="905510" y="415291"/>
                  </a:lnTo>
                  <a:lnTo>
                    <a:pt x="921639" y="400050"/>
                  </a:lnTo>
                  <a:lnTo>
                    <a:pt x="938784" y="383794"/>
                  </a:lnTo>
                  <a:lnTo>
                    <a:pt x="957198" y="366649"/>
                  </a:lnTo>
                  <a:lnTo>
                    <a:pt x="976503" y="348869"/>
                  </a:lnTo>
                  <a:lnTo>
                    <a:pt x="996567" y="330327"/>
                  </a:lnTo>
                  <a:lnTo>
                    <a:pt x="1038733" y="291973"/>
                  </a:lnTo>
                  <a:lnTo>
                    <a:pt x="1082802" y="252476"/>
                  </a:lnTo>
                  <a:lnTo>
                    <a:pt x="1127633" y="212852"/>
                  </a:lnTo>
                  <a:lnTo>
                    <a:pt x="1172083" y="174117"/>
                  </a:lnTo>
                  <a:lnTo>
                    <a:pt x="1193927" y="155321"/>
                  </a:lnTo>
                  <a:lnTo>
                    <a:pt x="1215390" y="137287"/>
                  </a:lnTo>
                  <a:lnTo>
                    <a:pt x="1236345" y="119761"/>
                  </a:lnTo>
                  <a:lnTo>
                    <a:pt x="1256537" y="103124"/>
                  </a:lnTo>
                  <a:lnTo>
                    <a:pt x="1275715" y="87376"/>
                  </a:lnTo>
                  <a:lnTo>
                    <a:pt x="1294257" y="72644"/>
                  </a:lnTo>
                  <a:lnTo>
                    <a:pt x="1311656" y="59055"/>
                  </a:lnTo>
                  <a:lnTo>
                    <a:pt x="1327785" y="46863"/>
                  </a:lnTo>
                  <a:lnTo>
                    <a:pt x="1342642" y="36195"/>
                  </a:lnTo>
                  <a:lnTo>
                    <a:pt x="1355979" y="26924"/>
                  </a:lnTo>
                  <a:lnTo>
                    <a:pt x="1367790" y="19177"/>
                  </a:lnTo>
                  <a:lnTo>
                    <a:pt x="1377949" y="13335"/>
                  </a:lnTo>
                  <a:lnTo>
                    <a:pt x="1386332" y="9398"/>
                  </a:lnTo>
                  <a:lnTo>
                    <a:pt x="1392682" y="7620"/>
                  </a:lnTo>
                  <a:lnTo>
                    <a:pt x="1403604" y="4064"/>
                  </a:lnTo>
                  <a:lnTo>
                    <a:pt x="1414272" y="1651"/>
                  </a:lnTo>
                  <a:lnTo>
                    <a:pt x="1424940" y="254"/>
                  </a:lnTo>
                  <a:lnTo>
                    <a:pt x="1435481" y="0"/>
                  </a:lnTo>
                  <a:lnTo>
                    <a:pt x="1445766" y="635"/>
                  </a:lnTo>
                  <a:lnTo>
                    <a:pt x="1456055" y="2286"/>
                  </a:lnTo>
                  <a:lnTo>
                    <a:pt x="1475867" y="8129"/>
                  </a:lnTo>
                  <a:lnTo>
                    <a:pt x="1494790" y="16891"/>
                  </a:lnTo>
                  <a:lnTo>
                    <a:pt x="1512697" y="28448"/>
                  </a:lnTo>
                  <a:lnTo>
                    <a:pt x="1529334" y="42291"/>
                  </a:lnTo>
                  <a:lnTo>
                    <a:pt x="1544573" y="58039"/>
                  </a:lnTo>
                  <a:lnTo>
                    <a:pt x="1558162" y="75185"/>
                  </a:lnTo>
                  <a:lnTo>
                    <a:pt x="1570228" y="93599"/>
                  </a:lnTo>
                  <a:lnTo>
                    <a:pt x="1580134" y="112395"/>
                  </a:lnTo>
                  <a:lnTo>
                    <a:pt x="1588135" y="131699"/>
                  </a:lnTo>
                  <a:lnTo>
                    <a:pt x="1593849" y="150749"/>
                  </a:lnTo>
                  <a:lnTo>
                    <a:pt x="1597279" y="169291"/>
                  </a:lnTo>
                  <a:lnTo>
                    <a:pt x="1597914" y="186944"/>
                  </a:lnTo>
                  <a:lnTo>
                    <a:pt x="1597279" y="195199"/>
                  </a:lnTo>
                  <a:lnTo>
                    <a:pt x="1596009" y="203073"/>
                  </a:lnTo>
                  <a:lnTo>
                    <a:pt x="1589912" y="211710"/>
                  </a:lnTo>
                  <a:lnTo>
                    <a:pt x="1581531" y="221869"/>
                  </a:lnTo>
                  <a:lnTo>
                    <a:pt x="1570990" y="233554"/>
                  </a:lnTo>
                  <a:lnTo>
                    <a:pt x="1558798" y="246635"/>
                  </a:lnTo>
                  <a:lnTo>
                    <a:pt x="1544955" y="260985"/>
                  </a:lnTo>
                  <a:lnTo>
                    <a:pt x="1529334" y="276479"/>
                  </a:lnTo>
                  <a:lnTo>
                    <a:pt x="1512441" y="292862"/>
                  </a:lnTo>
                  <a:lnTo>
                    <a:pt x="1494409" y="310388"/>
                  </a:lnTo>
                  <a:lnTo>
                    <a:pt x="1475105" y="328422"/>
                  </a:lnTo>
                  <a:lnTo>
                    <a:pt x="1454785" y="347345"/>
                  </a:lnTo>
                  <a:lnTo>
                    <a:pt x="1433703" y="366649"/>
                  </a:lnTo>
                  <a:lnTo>
                    <a:pt x="1411985" y="386461"/>
                  </a:lnTo>
                  <a:lnTo>
                    <a:pt x="1367155" y="426720"/>
                  </a:lnTo>
                  <a:lnTo>
                    <a:pt x="1321308" y="467233"/>
                  </a:lnTo>
                  <a:lnTo>
                    <a:pt x="1275967" y="506857"/>
                  </a:lnTo>
                  <a:lnTo>
                    <a:pt x="1253871" y="526161"/>
                  </a:lnTo>
                  <a:lnTo>
                    <a:pt x="1232154" y="544830"/>
                  </a:lnTo>
                  <a:lnTo>
                    <a:pt x="1211198" y="562864"/>
                  </a:lnTo>
                  <a:lnTo>
                    <a:pt x="1191006" y="580136"/>
                  </a:lnTo>
                  <a:lnTo>
                    <a:pt x="1171829" y="596519"/>
                  </a:lnTo>
                  <a:lnTo>
                    <a:pt x="1153795" y="611632"/>
                  </a:lnTo>
                  <a:lnTo>
                    <a:pt x="1137031" y="625857"/>
                  </a:lnTo>
                  <a:lnTo>
                    <a:pt x="1121664" y="638683"/>
                  </a:lnTo>
                  <a:lnTo>
                    <a:pt x="1107948" y="649986"/>
                  </a:lnTo>
                  <a:lnTo>
                    <a:pt x="1095883" y="659893"/>
                  </a:lnTo>
                  <a:lnTo>
                    <a:pt x="1085723" y="668147"/>
                  </a:lnTo>
                  <a:lnTo>
                    <a:pt x="1077722" y="674624"/>
                  </a:lnTo>
                  <a:lnTo>
                    <a:pt x="1071626" y="679196"/>
                  </a:lnTo>
                  <a:lnTo>
                    <a:pt x="1069592" y="680720"/>
                  </a:lnTo>
                  <a:lnTo>
                    <a:pt x="1068070" y="681736"/>
                  </a:lnTo>
                  <a:lnTo>
                    <a:pt x="1064514" y="681991"/>
                  </a:lnTo>
                  <a:lnTo>
                    <a:pt x="1061847" y="681863"/>
                  </a:lnTo>
                  <a:lnTo>
                    <a:pt x="1057910" y="680085"/>
                  </a:lnTo>
                  <a:lnTo>
                    <a:pt x="1054099" y="677292"/>
                  </a:lnTo>
                  <a:lnTo>
                    <a:pt x="1051306" y="675768"/>
                  </a:lnTo>
                  <a:lnTo>
                    <a:pt x="1047749" y="674244"/>
                  </a:lnTo>
                  <a:lnTo>
                    <a:pt x="1038479" y="681482"/>
                  </a:lnTo>
                  <a:lnTo>
                    <a:pt x="1028699" y="689483"/>
                  </a:lnTo>
                  <a:lnTo>
                    <a:pt x="1007872" y="707263"/>
                  </a:lnTo>
                  <a:lnTo>
                    <a:pt x="985773" y="726948"/>
                  </a:lnTo>
                  <a:lnTo>
                    <a:pt x="963166" y="747776"/>
                  </a:lnTo>
                  <a:lnTo>
                    <a:pt x="940689" y="768605"/>
                  </a:lnTo>
                  <a:lnTo>
                    <a:pt x="919098" y="788924"/>
                  </a:lnTo>
                  <a:lnTo>
                    <a:pt x="898906" y="807720"/>
                  </a:lnTo>
                  <a:lnTo>
                    <a:pt x="889635" y="816483"/>
                  </a:lnTo>
                  <a:lnTo>
                    <a:pt x="880872" y="824357"/>
                  </a:lnTo>
                  <a:lnTo>
                    <a:pt x="873633" y="830961"/>
                  </a:lnTo>
                  <a:lnTo>
                    <a:pt x="865632" y="838200"/>
                  </a:lnTo>
                  <a:lnTo>
                    <a:pt x="848106" y="854202"/>
                  </a:lnTo>
                  <a:lnTo>
                    <a:pt x="828292" y="871729"/>
                  </a:lnTo>
                  <a:lnTo>
                    <a:pt x="807211" y="890651"/>
                  </a:lnTo>
                  <a:lnTo>
                    <a:pt x="784986" y="910209"/>
                  </a:lnTo>
                  <a:lnTo>
                    <a:pt x="762127" y="930148"/>
                  </a:lnTo>
                  <a:lnTo>
                    <a:pt x="716153" y="969392"/>
                  </a:lnTo>
                  <a:lnTo>
                    <a:pt x="694055" y="987807"/>
                  </a:lnTo>
                  <a:lnTo>
                    <a:pt x="673227" y="1004824"/>
                  </a:lnTo>
                  <a:lnTo>
                    <a:pt x="653796" y="1020064"/>
                  </a:lnTo>
                  <a:lnTo>
                    <a:pt x="644779" y="1026922"/>
                  </a:lnTo>
                  <a:lnTo>
                    <a:pt x="636397" y="1033019"/>
                  </a:lnTo>
                  <a:lnTo>
                    <a:pt x="628649" y="1038480"/>
                  </a:lnTo>
                  <a:lnTo>
                    <a:pt x="621665" y="1043306"/>
                  </a:lnTo>
                  <a:lnTo>
                    <a:pt x="615315" y="1047243"/>
                  </a:lnTo>
                  <a:lnTo>
                    <a:pt x="609727" y="1050418"/>
                  </a:lnTo>
                  <a:lnTo>
                    <a:pt x="605028" y="1052704"/>
                  </a:lnTo>
                  <a:lnTo>
                    <a:pt x="601216" y="1054100"/>
                  </a:lnTo>
                  <a:lnTo>
                    <a:pt x="598423" y="1054355"/>
                  </a:lnTo>
                  <a:lnTo>
                    <a:pt x="596517" y="1053593"/>
                  </a:lnTo>
                  <a:lnTo>
                    <a:pt x="593724" y="1055751"/>
                  </a:lnTo>
                  <a:lnTo>
                    <a:pt x="590167" y="1058292"/>
                  </a:lnTo>
                  <a:lnTo>
                    <a:pt x="585978" y="1061467"/>
                  </a:lnTo>
                  <a:lnTo>
                    <a:pt x="581152" y="1065149"/>
                  </a:lnTo>
                  <a:lnTo>
                    <a:pt x="569848" y="1073912"/>
                  </a:lnTo>
                  <a:lnTo>
                    <a:pt x="556514" y="1084199"/>
                  </a:lnTo>
                  <a:lnTo>
                    <a:pt x="541655" y="1095883"/>
                  </a:lnTo>
                  <a:lnTo>
                    <a:pt x="525653" y="1108457"/>
                  </a:lnTo>
                  <a:lnTo>
                    <a:pt x="491617" y="1135634"/>
                  </a:lnTo>
                  <a:lnTo>
                    <a:pt x="457199" y="1163194"/>
                  </a:lnTo>
                  <a:lnTo>
                    <a:pt x="440942" y="1176274"/>
                  </a:lnTo>
                  <a:lnTo>
                    <a:pt x="425449" y="1188720"/>
                  </a:lnTo>
                  <a:lnTo>
                    <a:pt x="411480" y="1200023"/>
                  </a:lnTo>
                  <a:lnTo>
                    <a:pt x="399287" y="1210057"/>
                  </a:lnTo>
                  <a:lnTo>
                    <a:pt x="389255" y="1218313"/>
                  </a:lnTo>
                  <a:lnTo>
                    <a:pt x="385064" y="1221741"/>
                  </a:lnTo>
                  <a:lnTo>
                    <a:pt x="381508" y="1224534"/>
                  </a:lnTo>
                  <a:lnTo>
                    <a:pt x="379730" y="1224663"/>
                  </a:lnTo>
                  <a:lnTo>
                    <a:pt x="377442" y="1224026"/>
                  </a:lnTo>
                  <a:lnTo>
                    <a:pt x="371729" y="1221994"/>
                  </a:lnTo>
                  <a:lnTo>
                    <a:pt x="366014" y="1220217"/>
                  </a:lnTo>
                  <a:lnTo>
                    <a:pt x="363601" y="1219835"/>
                  </a:lnTo>
                  <a:lnTo>
                    <a:pt x="361696" y="1220217"/>
                  </a:lnTo>
                  <a:lnTo>
                    <a:pt x="353822" y="1227074"/>
                  </a:lnTo>
                  <a:lnTo>
                    <a:pt x="344678" y="1235330"/>
                  </a:lnTo>
                  <a:lnTo>
                    <a:pt x="334899" y="1244982"/>
                  </a:lnTo>
                  <a:lnTo>
                    <a:pt x="324358" y="1255776"/>
                  </a:lnTo>
                  <a:lnTo>
                    <a:pt x="313182" y="1267460"/>
                  </a:lnTo>
                  <a:lnTo>
                    <a:pt x="301625" y="1279652"/>
                  </a:lnTo>
                  <a:lnTo>
                    <a:pt x="278003" y="1305180"/>
                  </a:lnTo>
                  <a:lnTo>
                    <a:pt x="254508" y="1330833"/>
                  </a:lnTo>
                  <a:lnTo>
                    <a:pt x="243205" y="1343025"/>
                  </a:lnTo>
                  <a:lnTo>
                    <a:pt x="232410" y="1354582"/>
                  </a:lnTo>
                  <a:lnTo>
                    <a:pt x="222123" y="1365125"/>
                  </a:lnTo>
                  <a:lnTo>
                    <a:pt x="212725" y="1374775"/>
                  </a:lnTo>
                  <a:lnTo>
                    <a:pt x="204089" y="1382776"/>
                  </a:lnTo>
                  <a:lnTo>
                    <a:pt x="196723" y="1389381"/>
                  </a:lnTo>
                  <a:lnTo>
                    <a:pt x="167894" y="1396240"/>
                  </a:lnTo>
                  <a:lnTo>
                    <a:pt x="139446" y="1405765"/>
                  </a:lnTo>
                  <a:lnTo>
                    <a:pt x="111887" y="1417320"/>
                  </a:lnTo>
                  <a:lnTo>
                    <a:pt x="86106" y="1430401"/>
                  </a:lnTo>
                  <a:lnTo>
                    <a:pt x="62357" y="1443991"/>
                  </a:lnTo>
                  <a:lnTo>
                    <a:pt x="41275" y="1457580"/>
                  </a:lnTo>
                  <a:lnTo>
                    <a:pt x="32004" y="1464183"/>
                  </a:lnTo>
                  <a:lnTo>
                    <a:pt x="23495" y="1470280"/>
                  </a:lnTo>
                  <a:lnTo>
                    <a:pt x="16002" y="1476250"/>
                  </a:lnTo>
                  <a:lnTo>
                    <a:pt x="9652" y="1481582"/>
                  </a:lnTo>
                  <a:lnTo>
                    <a:pt x="7620" y="1476757"/>
                  </a:lnTo>
                  <a:lnTo>
                    <a:pt x="5334" y="1473708"/>
                  </a:lnTo>
                  <a:lnTo>
                    <a:pt x="2921" y="1470914"/>
                  </a:lnTo>
                  <a:lnTo>
                    <a:pt x="1573148" y="203327"/>
                  </a:lnTo>
                  <a:lnTo>
                    <a:pt x="1566291" y="212598"/>
                  </a:lnTo>
                  <a:lnTo>
                    <a:pt x="1557782" y="223012"/>
                  </a:lnTo>
                  <a:lnTo>
                    <a:pt x="1547495" y="234569"/>
                  </a:lnTo>
                  <a:lnTo>
                    <a:pt x="1535810" y="247269"/>
                  </a:lnTo>
                  <a:lnTo>
                    <a:pt x="1522603" y="260858"/>
                  </a:lnTo>
                  <a:lnTo>
                    <a:pt x="1507998" y="275210"/>
                  </a:lnTo>
                  <a:lnTo>
                    <a:pt x="1492377" y="290449"/>
                  </a:lnTo>
                  <a:lnTo>
                    <a:pt x="1475485" y="306324"/>
                  </a:lnTo>
                  <a:lnTo>
                    <a:pt x="1457960" y="322835"/>
                  </a:lnTo>
                  <a:lnTo>
                    <a:pt x="1439291" y="339725"/>
                  </a:lnTo>
                  <a:lnTo>
                    <a:pt x="1420114" y="357251"/>
                  </a:lnTo>
                  <a:lnTo>
                    <a:pt x="1379982" y="392938"/>
                  </a:lnTo>
                  <a:lnTo>
                    <a:pt x="1338707" y="429133"/>
                  </a:lnTo>
                  <a:lnTo>
                    <a:pt x="1296923" y="465201"/>
                  </a:lnTo>
                  <a:lnTo>
                    <a:pt x="1255776" y="500507"/>
                  </a:lnTo>
                  <a:lnTo>
                    <a:pt x="1216152" y="534162"/>
                  </a:lnTo>
                  <a:lnTo>
                    <a:pt x="1197356" y="550164"/>
                  </a:lnTo>
                  <a:lnTo>
                    <a:pt x="1179322" y="565531"/>
                  </a:lnTo>
                  <a:lnTo>
                    <a:pt x="1161923" y="580010"/>
                  </a:lnTo>
                  <a:lnTo>
                    <a:pt x="1145792" y="593852"/>
                  </a:lnTo>
                  <a:lnTo>
                    <a:pt x="1130681" y="606680"/>
                  </a:lnTo>
                  <a:lnTo>
                    <a:pt x="1116710" y="618363"/>
                  </a:lnTo>
                  <a:lnTo>
                    <a:pt x="1104265" y="629032"/>
                  </a:lnTo>
                  <a:lnTo>
                    <a:pt x="1093341" y="638430"/>
                  </a:lnTo>
                  <a:lnTo>
                    <a:pt x="1083816" y="646557"/>
                  </a:lnTo>
                  <a:lnTo>
                    <a:pt x="1076324" y="653416"/>
                  </a:lnTo>
                  <a:lnTo>
                    <a:pt x="1076833" y="633349"/>
                  </a:lnTo>
                  <a:lnTo>
                    <a:pt x="1074928" y="614045"/>
                  </a:lnTo>
                  <a:lnTo>
                    <a:pt x="1070864" y="595630"/>
                  </a:lnTo>
                  <a:lnTo>
                    <a:pt x="1064766" y="578231"/>
                  </a:lnTo>
                  <a:lnTo>
                    <a:pt x="1056767" y="561848"/>
                  </a:lnTo>
                  <a:lnTo>
                    <a:pt x="1046860" y="546354"/>
                  </a:lnTo>
                  <a:lnTo>
                    <a:pt x="1035304" y="532130"/>
                  </a:lnTo>
                  <a:lnTo>
                    <a:pt x="1022096" y="519176"/>
                  </a:lnTo>
                  <a:lnTo>
                    <a:pt x="1007616" y="507619"/>
                  </a:lnTo>
                  <a:lnTo>
                    <a:pt x="991741" y="497460"/>
                  </a:lnTo>
                  <a:lnTo>
                    <a:pt x="974598" y="488823"/>
                  </a:lnTo>
                  <a:lnTo>
                    <a:pt x="956310" y="481585"/>
                  </a:lnTo>
                  <a:lnTo>
                    <a:pt x="937260" y="476123"/>
                  </a:lnTo>
                  <a:lnTo>
                    <a:pt x="917321" y="472567"/>
                  </a:lnTo>
                  <a:lnTo>
                    <a:pt x="896747" y="470662"/>
                  </a:lnTo>
                  <a:lnTo>
                    <a:pt x="875537" y="470662"/>
                  </a:lnTo>
                  <a:lnTo>
                    <a:pt x="878840" y="466598"/>
                  </a:lnTo>
                  <a:lnTo>
                    <a:pt x="883158" y="461772"/>
                  </a:lnTo>
                  <a:lnTo>
                    <a:pt x="888110" y="456185"/>
                  </a:lnTo>
                  <a:lnTo>
                    <a:pt x="893953" y="449835"/>
                  </a:lnTo>
                  <a:lnTo>
                    <a:pt x="900557" y="442849"/>
                  </a:lnTo>
                  <a:lnTo>
                    <a:pt x="907796" y="435229"/>
                  </a:lnTo>
                  <a:lnTo>
                    <a:pt x="915797" y="426974"/>
                  </a:lnTo>
                  <a:lnTo>
                    <a:pt x="924306" y="418211"/>
                  </a:lnTo>
                  <a:lnTo>
                    <a:pt x="943229" y="399161"/>
                  </a:lnTo>
                  <a:lnTo>
                    <a:pt x="964310" y="378333"/>
                  </a:lnTo>
                  <a:lnTo>
                    <a:pt x="987298" y="356362"/>
                  </a:lnTo>
                  <a:lnTo>
                    <a:pt x="1011555" y="333248"/>
                  </a:lnTo>
                  <a:lnTo>
                    <a:pt x="1037209" y="309626"/>
                  </a:lnTo>
                  <a:lnTo>
                    <a:pt x="1063624" y="285623"/>
                  </a:lnTo>
                  <a:lnTo>
                    <a:pt x="1118108" y="238252"/>
                  </a:lnTo>
                  <a:lnTo>
                    <a:pt x="1145667" y="215519"/>
                  </a:lnTo>
                  <a:lnTo>
                    <a:pt x="1172716" y="193929"/>
                  </a:lnTo>
                  <a:lnTo>
                    <a:pt x="1199134" y="173736"/>
                  </a:lnTo>
                  <a:lnTo>
                    <a:pt x="1224915" y="155321"/>
                  </a:lnTo>
                  <a:lnTo>
                    <a:pt x="1225296" y="156591"/>
                  </a:lnTo>
                  <a:lnTo>
                    <a:pt x="1227328" y="156591"/>
                  </a:lnTo>
                  <a:lnTo>
                    <a:pt x="1230630" y="155321"/>
                  </a:lnTo>
                  <a:lnTo>
                    <a:pt x="1235074" y="153543"/>
                  </a:lnTo>
                  <a:lnTo>
                    <a:pt x="1245361" y="149352"/>
                  </a:lnTo>
                  <a:lnTo>
                    <a:pt x="1250567" y="147829"/>
                  </a:lnTo>
                  <a:lnTo>
                    <a:pt x="1255395" y="147066"/>
                  </a:lnTo>
                  <a:lnTo>
                    <a:pt x="1256030" y="156591"/>
                  </a:lnTo>
                  <a:lnTo>
                    <a:pt x="1255903" y="165608"/>
                  </a:lnTo>
                  <a:lnTo>
                    <a:pt x="1255141" y="172974"/>
                  </a:lnTo>
                  <a:lnTo>
                    <a:pt x="1253998" y="177673"/>
                  </a:lnTo>
                  <a:lnTo>
                    <a:pt x="1250949" y="180213"/>
                  </a:lnTo>
                  <a:lnTo>
                    <a:pt x="1247140" y="183642"/>
                  </a:lnTo>
                  <a:lnTo>
                    <a:pt x="1242566" y="187706"/>
                  </a:lnTo>
                  <a:lnTo>
                    <a:pt x="1237487" y="192151"/>
                  </a:lnTo>
                  <a:lnTo>
                    <a:pt x="1225677" y="202819"/>
                  </a:lnTo>
                  <a:lnTo>
                    <a:pt x="1211834" y="215266"/>
                  </a:lnTo>
                  <a:lnTo>
                    <a:pt x="1196467" y="229108"/>
                  </a:lnTo>
                  <a:lnTo>
                    <a:pt x="1179703" y="244094"/>
                  </a:lnTo>
                  <a:lnTo>
                    <a:pt x="1162431" y="259969"/>
                  </a:lnTo>
                  <a:lnTo>
                    <a:pt x="1144523" y="276225"/>
                  </a:lnTo>
                  <a:lnTo>
                    <a:pt x="1108964" y="308610"/>
                  </a:lnTo>
                  <a:lnTo>
                    <a:pt x="1091946" y="324231"/>
                  </a:lnTo>
                  <a:lnTo>
                    <a:pt x="1075942" y="338836"/>
                  </a:lnTo>
                  <a:lnTo>
                    <a:pt x="1061466" y="352298"/>
                  </a:lnTo>
                  <a:lnTo>
                    <a:pt x="1048639" y="364110"/>
                  </a:lnTo>
                  <a:lnTo>
                    <a:pt x="1043051" y="369316"/>
                  </a:lnTo>
                  <a:lnTo>
                    <a:pt x="1037971" y="374016"/>
                  </a:lnTo>
                  <a:lnTo>
                    <a:pt x="1033526" y="378206"/>
                  </a:lnTo>
                  <a:lnTo>
                    <a:pt x="1029841" y="381762"/>
                  </a:lnTo>
                  <a:lnTo>
                    <a:pt x="1028317" y="382905"/>
                  </a:lnTo>
                  <a:lnTo>
                    <a:pt x="1027430" y="383032"/>
                  </a:lnTo>
                  <a:lnTo>
                    <a:pt x="1026414" y="381762"/>
                  </a:lnTo>
                  <a:lnTo>
                    <a:pt x="1024509" y="380111"/>
                  </a:lnTo>
                  <a:lnTo>
                    <a:pt x="1022731" y="380111"/>
                  </a:lnTo>
                  <a:lnTo>
                    <a:pt x="1019810" y="380873"/>
                  </a:lnTo>
                  <a:lnTo>
                    <a:pt x="999871" y="406146"/>
                  </a:lnTo>
                  <a:lnTo>
                    <a:pt x="990473" y="417957"/>
                  </a:lnTo>
                  <a:lnTo>
                    <a:pt x="982091" y="428879"/>
                  </a:lnTo>
                  <a:lnTo>
                    <a:pt x="975233" y="438658"/>
                  </a:lnTo>
                  <a:lnTo>
                    <a:pt x="970407" y="446913"/>
                  </a:lnTo>
                  <a:lnTo>
                    <a:pt x="969010" y="450469"/>
                  </a:lnTo>
                  <a:lnTo>
                    <a:pt x="968248" y="453644"/>
                  </a:lnTo>
                  <a:lnTo>
                    <a:pt x="968248" y="456185"/>
                  </a:lnTo>
                  <a:lnTo>
                    <a:pt x="969136" y="458216"/>
                  </a:lnTo>
                  <a:lnTo>
                    <a:pt x="972691" y="459232"/>
                  </a:lnTo>
                  <a:lnTo>
                    <a:pt x="977137" y="459486"/>
                  </a:lnTo>
                  <a:lnTo>
                    <a:pt x="982216" y="459232"/>
                  </a:lnTo>
                  <a:lnTo>
                    <a:pt x="987933" y="458470"/>
                  </a:lnTo>
                  <a:lnTo>
                    <a:pt x="1000886" y="455422"/>
                  </a:lnTo>
                  <a:lnTo>
                    <a:pt x="1015110" y="450977"/>
                  </a:lnTo>
                  <a:lnTo>
                    <a:pt x="1044829" y="439420"/>
                  </a:lnTo>
                  <a:lnTo>
                    <a:pt x="1058545" y="433451"/>
                  </a:lnTo>
                  <a:lnTo>
                    <a:pt x="1070736" y="427736"/>
                  </a:lnTo>
                  <a:lnTo>
                    <a:pt x="1072007" y="425323"/>
                  </a:lnTo>
                  <a:lnTo>
                    <a:pt x="1072515" y="423545"/>
                  </a:lnTo>
                  <a:lnTo>
                    <a:pt x="1072134" y="420497"/>
                  </a:lnTo>
                  <a:lnTo>
                    <a:pt x="1070229" y="418338"/>
                  </a:lnTo>
                  <a:lnTo>
                    <a:pt x="1067435" y="416687"/>
                  </a:lnTo>
                  <a:lnTo>
                    <a:pt x="1064766" y="415163"/>
                  </a:lnTo>
                  <a:lnTo>
                    <a:pt x="1062862" y="413258"/>
                  </a:lnTo>
                  <a:lnTo>
                    <a:pt x="1062735" y="410591"/>
                  </a:lnTo>
                  <a:lnTo>
                    <a:pt x="1063624" y="408941"/>
                  </a:lnTo>
                  <a:lnTo>
                    <a:pt x="1065022" y="406781"/>
                  </a:lnTo>
                  <a:lnTo>
                    <a:pt x="1066673" y="405257"/>
                  </a:lnTo>
                  <a:lnTo>
                    <a:pt x="1068959" y="403098"/>
                  </a:lnTo>
                  <a:lnTo>
                    <a:pt x="1072007" y="400431"/>
                  </a:lnTo>
                  <a:lnTo>
                    <a:pt x="1075817" y="397256"/>
                  </a:lnTo>
                  <a:lnTo>
                    <a:pt x="1085215" y="389763"/>
                  </a:lnTo>
                  <a:lnTo>
                    <a:pt x="1097026" y="380492"/>
                  </a:lnTo>
                  <a:lnTo>
                    <a:pt x="1110867" y="369951"/>
                  </a:lnTo>
                  <a:lnTo>
                    <a:pt x="1126235" y="358394"/>
                  </a:lnTo>
                  <a:lnTo>
                    <a:pt x="1142999" y="345821"/>
                  </a:lnTo>
                  <a:lnTo>
                    <a:pt x="1160653" y="332867"/>
                  </a:lnTo>
                  <a:lnTo>
                    <a:pt x="1197736" y="306070"/>
                  </a:lnTo>
                  <a:lnTo>
                    <a:pt x="1234692" y="279781"/>
                  </a:lnTo>
                  <a:lnTo>
                    <a:pt x="1252347" y="267462"/>
                  </a:lnTo>
                  <a:lnTo>
                    <a:pt x="1268984" y="256032"/>
                  </a:lnTo>
                  <a:lnTo>
                    <a:pt x="1284223" y="245618"/>
                  </a:lnTo>
                  <a:lnTo>
                    <a:pt x="1297812" y="236601"/>
                  </a:lnTo>
                  <a:lnTo>
                    <a:pt x="1307465" y="237110"/>
                  </a:lnTo>
                  <a:lnTo>
                    <a:pt x="1314831" y="236855"/>
                  </a:lnTo>
                  <a:lnTo>
                    <a:pt x="1320673" y="236347"/>
                  </a:lnTo>
                  <a:lnTo>
                    <a:pt x="1325753" y="235585"/>
                  </a:lnTo>
                  <a:lnTo>
                    <a:pt x="1331086" y="234569"/>
                  </a:lnTo>
                  <a:lnTo>
                    <a:pt x="1337436" y="233807"/>
                  </a:lnTo>
                  <a:lnTo>
                    <a:pt x="1345817" y="233299"/>
                  </a:lnTo>
                  <a:lnTo>
                    <a:pt x="1356866" y="233172"/>
                  </a:lnTo>
                  <a:lnTo>
                    <a:pt x="1363726" y="228854"/>
                  </a:lnTo>
                  <a:lnTo>
                    <a:pt x="1371473" y="223520"/>
                  </a:lnTo>
                  <a:lnTo>
                    <a:pt x="1379728" y="217170"/>
                  </a:lnTo>
                  <a:lnTo>
                    <a:pt x="1388364" y="210185"/>
                  </a:lnTo>
                  <a:lnTo>
                    <a:pt x="1407160" y="194056"/>
                  </a:lnTo>
                  <a:lnTo>
                    <a:pt x="1426972" y="176785"/>
                  </a:lnTo>
                  <a:lnTo>
                    <a:pt x="1447037" y="159258"/>
                  </a:lnTo>
                  <a:lnTo>
                    <a:pt x="1467231" y="142748"/>
                  </a:lnTo>
                  <a:lnTo>
                    <a:pt x="1486661" y="128651"/>
                  </a:lnTo>
                  <a:lnTo>
                    <a:pt x="1495933" y="122810"/>
                  </a:lnTo>
                  <a:lnTo>
                    <a:pt x="1504823" y="117983"/>
                  </a:lnTo>
                  <a:lnTo>
                    <a:pt x="1506220" y="117602"/>
                  </a:lnTo>
                  <a:lnTo>
                    <a:pt x="1508633" y="117475"/>
                  </a:lnTo>
                  <a:lnTo>
                    <a:pt x="1511808" y="117729"/>
                  </a:lnTo>
                  <a:lnTo>
                    <a:pt x="1515491" y="118491"/>
                  </a:lnTo>
                  <a:lnTo>
                    <a:pt x="1524127" y="122047"/>
                  </a:lnTo>
                  <a:lnTo>
                    <a:pt x="1533524" y="128905"/>
                  </a:lnTo>
                  <a:lnTo>
                    <a:pt x="1538097" y="133985"/>
                  </a:lnTo>
                  <a:lnTo>
                    <a:pt x="1542415" y="140208"/>
                  </a:lnTo>
                  <a:lnTo>
                    <a:pt x="1546224" y="147829"/>
                  </a:lnTo>
                  <a:lnTo>
                    <a:pt x="1549527" y="156718"/>
                  </a:lnTo>
                  <a:lnTo>
                    <a:pt x="1552067" y="167386"/>
                  </a:lnTo>
                  <a:lnTo>
                    <a:pt x="1553845" y="179579"/>
                  </a:lnTo>
                  <a:lnTo>
                    <a:pt x="1554480" y="193548"/>
                  </a:lnTo>
                  <a:lnTo>
                    <a:pt x="1554098" y="209550"/>
                  </a:lnTo>
                  <a:lnTo>
                    <a:pt x="1555496" y="210566"/>
                  </a:lnTo>
                  <a:lnTo>
                    <a:pt x="1557273" y="209169"/>
                  </a:lnTo>
                  <a:lnTo>
                    <a:pt x="1559306" y="205994"/>
                  </a:lnTo>
                  <a:lnTo>
                    <a:pt x="1561465" y="201930"/>
                  </a:lnTo>
                  <a:lnTo>
                    <a:pt x="1563497" y="197993"/>
                  </a:lnTo>
                  <a:lnTo>
                    <a:pt x="1565402" y="195072"/>
                  </a:lnTo>
                  <a:lnTo>
                    <a:pt x="1566926" y="193929"/>
                  </a:lnTo>
                  <a:lnTo>
                    <a:pt x="1567942" y="195707"/>
                  </a:lnTo>
                  <a:lnTo>
                    <a:pt x="1568449" y="182372"/>
                  </a:lnTo>
                  <a:lnTo>
                    <a:pt x="1567942" y="169672"/>
                  </a:lnTo>
                  <a:lnTo>
                    <a:pt x="1566672" y="157607"/>
                  </a:lnTo>
                  <a:lnTo>
                    <a:pt x="1564640" y="146177"/>
                  </a:lnTo>
                  <a:lnTo>
                    <a:pt x="1561973" y="135510"/>
                  </a:lnTo>
                  <a:lnTo>
                    <a:pt x="1558798" y="125476"/>
                  </a:lnTo>
                  <a:lnTo>
                    <a:pt x="1554860" y="115951"/>
                  </a:lnTo>
                  <a:lnTo>
                    <a:pt x="1550416" y="106935"/>
                  </a:lnTo>
                  <a:lnTo>
                    <a:pt x="1540002" y="90805"/>
                  </a:lnTo>
                  <a:lnTo>
                    <a:pt x="1527936" y="76835"/>
                  </a:lnTo>
                  <a:lnTo>
                    <a:pt x="1514602" y="64897"/>
                  </a:lnTo>
                  <a:lnTo>
                    <a:pt x="1500505" y="54991"/>
                  </a:lnTo>
                  <a:lnTo>
                    <a:pt x="1485646" y="46863"/>
                  </a:lnTo>
                  <a:lnTo>
                    <a:pt x="1470786" y="40513"/>
                  </a:lnTo>
                  <a:lnTo>
                    <a:pt x="1456182" y="35814"/>
                  </a:lnTo>
                  <a:lnTo>
                    <a:pt x="1441958" y="32639"/>
                  </a:lnTo>
                  <a:lnTo>
                    <a:pt x="1428749" y="30861"/>
                  </a:lnTo>
                  <a:lnTo>
                    <a:pt x="1416811" y="30480"/>
                  </a:lnTo>
                  <a:lnTo>
                    <a:pt x="1406779" y="31242"/>
                  </a:lnTo>
                  <a:lnTo>
                    <a:pt x="1398523" y="33147"/>
                  </a:lnTo>
                  <a:lnTo>
                    <a:pt x="1379347" y="42291"/>
                  </a:lnTo>
                  <a:lnTo>
                    <a:pt x="1360805" y="54229"/>
                  </a:lnTo>
                  <a:lnTo>
                    <a:pt x="1342771" y="68072"/>
                  </a:lnTo>
                  <a:lnTo>
                    <a:pt x="1324991" y="83185"/>
                  </a:lnTo>
                  <a:lnTo>
                    <a:pt x="1289811" y="113285"/>
                  </a:lnTo>
                  <a:lnTo>
                    <a:pt x="1272159" y="126873"/>
                  </a:lnTo>
                  <a:lnTo>
                    <a:pt x="1254124" y="138176"/>
                  </a:lnTo>
                  <a:lnTo>
                    <a:pt x="1241171" y="144526"/>
                  </a:lnTo>
                  <a:lnTo>
                    <a:pt x="1228090" y="149098"/>
                  </a:lnTo>
                  <a:lnTo>
                    <a:pt x="1230122" y="147320"/>
                  </a:lnTo>
                  <a:lnTo>
                    <a:pt x="1232789" y="145035"/>
                  </a:lnTo>
                  <a:lnTo>
                    <a:pt x="1239773" y="139066"/>
                  </a:lnTo>
                  <a:lnTo>
                    <a:pt x="1248664" y="131826"/>
                  </a:lnTo>
                  <a:lnTo>
                    <a:pt x="1259459" y="123191"/>
                  </a:lnTo>
                  <a:lnTo>
                    <a:pt x="1271270" y="113666"/>
                  </a:lnTo>
                  <a:lnTo>
                    <a:pt x="1284351" y="103379"/>
                  </a:lnTo>
                  <a:lnTo>
                    <a:pt x="1312036" y="82042"/>
                  </a:lnTo>
                  <a:lnTo>
                    <a:pt x="1339596" y="61341"/>
                  </a:lnTo>
                  <a:lnTo>
                    <a:pt x="1352423" y="51943"/>
                  </a:lnTo>
                  <a:lnTo>
                    <a:pt x="1364487" y="43561"/>
                  </a:lnTo>
                  <a:lnTo>
                    <a:pt x="1375029" y="36449"/>
                  </a:lnTo>
                  <a:lnTo>
                    <a:pt x="1383917" y="30861"/>
                  </a:lnTo>
                  <a:lnTo>
                    <a:pt x="1390777" y="27179"/>
                  </a:lnTo>
                  <a:lnTo>
                    <a:pt x="1393317" y="26162"/>
                  </a:lnTo>
                  <a:lnTo>
                    <a:pt x="1395348" y="25654"/>
                  </a:lnTo>
                  <a:lnTo>
                    <a:pt x="1417320" y="23876"/>
                  </a:lnTo>
                  <a:lnTo>
                    <a:pt x="1438021" y="24638"/>
                  </a:lnTo>
                  <a:lnTo>
                    <a:pt x="1457198" y="27432"/>
                  </a:lnTo>
                  <a:lnTo>
                    <a:pt x="1475105" y="32512"/>
                  </a:lnTo>
                  <a:lnTo>
                    <a:pt x="1491360" y="39370"/>
                  </a:lnTo>
                  <a:lnTo>
                    <a:pt x="1506473" y="48006"/>
                  </a:lnTo>
                  <a:lnTo>
                    <a:pt x="1519935" y="58166"/>
                  </a:lnTo>
                  <a:lnTo>
                    <a:pt x="1532128" y="69850"/>
                  </a:lnTo>
                  <a:lnTo>
                    <a:pt x="1542923" y="82804"/>
                  </a:lnTo>
                  <a:lnTo>
                    <a:pt x="1552192" y="96774"/>
                  </a:lnTo>
                  <a:lnTo>
                    <a:pt x="1560066" y="111887"/>
                  </a:lnTo>
                  <a:lnTo>
                    <a:pt x="1566545" y="127635"/>
                  </a:lnTo>
                  <a:lnTo>
                    <a:pt x="1571498" y="144018"/>
                  </a:lnTo>
                  <a:lnTo>
                    <a:pt x="1575054" y="160910"/>
                  </a:lnTo>
                  <a:lnTo>
                    <a:pt x="1577212" y="178054"/>
                  </a:lnTo>
                  <a:lnTo>
                    <a:pt x="1577974" y="195326"/>
                  </a:lnTo>
                  <a:lnTo>
                    <a:pt x="1397889" y="103251"/>
                  </a:lnTo>
                  <a:lnTo>
                    <a:pt x="1406524" y="57023"/>
                  </a:lnTo>
                  <a:lnTo>
                    <a:pt x="1413383" y="56896"/>
                  </a:lnTo>
                  <a:lnTo>
                    <a:pt x="1427353" y="59055"/>
                  </a:lnTo>
                  <a:lnTo>
                    <a:pt x="1441196" y="63627"/>
                  </a:lnTo>
                  <a:lnTo>
                    <a:pt x="1454277" y="69850"/>
                  </a:lnTo>
                  <a:lnTo>
                    <a:pt x="1466087" y="77089"/>
                  </a:lnTo>
                  <a:lnTo>
                    <a:pt x="1475992" y="84329"/>
                  </a:lnTo>
                  <a:lnTo>
                    <a:pt x="1483233" y="90805"/>
                  </a:lnTo>
                  <a:lnTo>
                    <a:pt x="1485773" y="93472"/>
                  </a:lnTo>
                  <a:lnTo>
                    <a:pt x="1487423" y="95631"/>
                  </a:lnTo>
                  <a:lnTo>
                    <a:pt x="1480947" y="97410"/>
                  </a:lnTo>
                  <a:lnTo>
                    <a:pt x="1473835" y="100966"/>
                  </a:lnTo>
                  <a:lnTo>
                    <a:pt x="1465834" y="106299"/>
                  </a:lnTo>
                  <a:lnTo>
                    <a:pt x="1457198" y="113030"/>
                  </a:lnTo>
                  <a:lnTo>
                    <a:pt x="1448308" y="120777"/>
                  </a:lnTo>
                  <a:lnTo>
                    <a:pt x="1438783" y="129413"/>
                  </a:lnTo>
                  <a:lnTo>
                    <a:pt x="1419479" y="148591"/>
                  </a:lnTo>
                  <a:lnTo>
                    <a:pt x="1399921" y="168402"/>
                  </a:lnTo>
                  <a:lnTo>
                    <a:pt x="1381379" y="186944"/>
                  </a:lnTo>
                  <a:lnTo>
                    <a:pt x="1372616" y="195072"/>
                  </a:lnTo>
                  <a:lnTo>
                    <a:pt x="1364234" y="202185"/>
                  </a:lnTo>
                  <a:lnTo>
                    <a:pt x="1356741" y="208026"/>
                  </a:lnTo>
                  <a:lnTo>
                    <a:pt x="1349883" y="212344"/>
                  </a:lnTo>
                  <a:lnTo>
                    <a:pt x="1337945" y="212471"/>
                  </a:lnTo>
                  <a:lnTo>
                    <a:pt x="1325753" y="212344"/>
                  </a:lnTo>
                  <a:lnTo>
                    <a:pt x="1318641" y="211963"/>
                  </a:lnTo>
                  <a:lnTo>
                    <a:pt x="1310640" y="211201"/>
                  </a:lnTo>
                  <a:lnTo>
                    <a:pt x="1301115" y="209931"/>
                  </a:lnTo>
                  <a:lnTo>
                    <a:pt x="1290191" y="208154"/>
                  </a:lnTo>
                  <a:lnTo>
                    <a:pt x="1287145" y="210693"/>
                  </a:lnTo>
                  <a:lnTo>
                    <a:pt x="1283208" y="213741"/>
                  </a:lnTo>
                  <a:lnTo>
                    <a:pt x="1278509" y="217551"/>
                  </a:lnTo>
                  <a:lnTo>
                    <a:pt x="1273174" y="221742"/>
                  </a:lnTo>
                  <a:lnTo>
                    <a:pt x="1267206" y="226441"/>
                  </a:lnTo>
                  <a:lnTo>
                    <a:pt x="1260602" y="231648"/>
                  </a:lnTo>
                  <a:lnTo>
                    <a:pt x="1245870" y="243332"/>
                  </a:lnTo>
                  <a:lnTo>
                    <a:pt x="1229233" y="256286"/>
                  </a:lnTo>
                  <a:lnTo>
                    <a:pt x="1211198" y="270510"/>
                  </a:lnTo>
                  <a:lnTo>
                    <a:pt x="1192022" y="285496"/>
                  </a:lnTo>
                  <a:lnTo>
                    <a:pt x="1172336" y="301244"/>
                  </a:lnTo>
                  <a:lnTo>
                    <a:pt x="1132712" y="332867"/>
                  </a:lnTo>
                  <a:lnTo>
                    <a:pt x="1113535" y="348361"/>
                  </a:lnTo>
                  <a:lnTo>
                    <a:pt x="1095248" y="363347"/>
                  </a:lnTo>
                  <a:lnTo>
                    <a:pt x="1078484" y="377317"/>
                  </a:lnTo>
                  <a:lnTo>
                    <a:pt x="1063371" y="390144"/>
                  </a:lnTo>
                  <a:lnTo>
                    <a:pt x="1050417" y="401447"/>
                  </a:lnTo>
                  <a:lnTo>
                    <a:pt x="1044829" y="406400"/>
                  </a:lnTo>
                  <a:lnTo>
                    <a:pt x="1040003" y="411099"/>
                  </a:lnTo>
                  <a:lnTo>
                    <a:pt x="1038986" y="413258"/>
                  </a:lnTo>
                  <a:lnTo>
                    <a:pt x="1039748" y="414274"/>
                  </a:lnTo>
                  <a:lnTo>
                    <a:pt x="1042161" y="414910"/>
                  </a:lnTo>
                  <a:lnTo>
                    <a:pt x="1045336" y="415163"/>
                  </a:lnTo>
                  <a:lnTo>
                    <a:pt x="1052830" y="416687"/>
                  </a:lnTo>
                  <a:lnTo>
                    <a:pt x="1056005" y="418719"/>
                  </a:lnTo>
                  <a:lnTo>
                    <a:pt x="1058164" y="422148"/>
                  </a:lnTo>
                  <a:lnTo>
                    <a:pt x="1057529" y="422783"/>
                  </a:lnTo>
                  <a:lnTo>
                    <a:pt x="1055751" y="423926"/>
                  </a:lnTo>
                  <a:lnTo>
                    <a:pt x="1052703" y="425704"/>
                  </a:lnTo>
                  <a:lnTo>
                    <a:pt x="1048639" y="427736"/>
                  </a:lnTo>
                  <a:lnTo>
                    <a:pt x="1038098" y="432435"/>
                  </a:lnTo>
                  <a:lnTo>
                    <a:pt x="1025398" y="437769"/>
                  </a:lnTo>
                  <a:lnTo>
                    <a:pt x="1011682" y="442849"/>
                  </a:lnTo>
                  <a:lnTo>
                    <a:pt x="998347" y="447041"/>
                  </a:lnTo>
                  <a:lnTo>
                    <a:pt x="992251" y="448437"/>
                  </a:lnTo>
                  <a:lnTo>
                    <a:pt x="986535" y="449580"/>
                  </a:lnTo>
                  <a:lnTo>
                    <a:pt x="981583" y="450216"/>
                  </a:lnTo>
                  <a:lnTo>
                    <a:pt x="977517" y="450088"/>
                  </a:lnTo>
                  <a:lnTo>
                    <a:pt x="978535" y="445008"/>
                  </a:lnTo>
                  <a:lnTo>
                    <a:pt x="981074" y="439801"/>
                  </a:lnTo>
                  <a:lnTo>
                    <a:pt x="987298" y="430530"/>
                  </a:lnTo>
                  <a:lnTo>
                    <a:pt x="990981" y="425069"/>
                  </a:lnTo>
                  <a:lnTo>
                    <a:pt x="995426" y="419227"/>
                  </a:lnTo>
                  <a:lnTo>
                    <a:pt x="1005332" y="407289"/>
                  </a:lnTo>
                  <a:lnTo>
                    <a:pt x="1010031" y="401574"/>
                  </a:lnTo>
                  <a:lnTo>
                    <a:pt x="1014095" y="396621"/>
                  </a:lnTo>
                  <a:lnTo>
                    <a:pt x="1017270" y="392176"/>
                  </a:lnTo>
                  <a:lnTo>
                    <a:pt x="1019174" y="388874"/>
                  </a:lnTo>
                  <a:lnTo>
                    <a:pt x="1021460" y="387223"/>
                  </a:lnTo>
                  <a:lnTo>
                    <a:pt x="1022731" y="387731"/>
                  </a:lnTo>
                  <a:lnTo>
                    <a:pt x="1023239" y="389636"/>
                  </a:lnTo>
                  <a:lnTo>
                    <a:pt x="1023366" y="392049"/>
                  </a:lnTo>
                  <a:lnTo>
                    <a:pt x="1023620" y="394589"/>
                  </a:lnTo>
                  <a:lnTo>
                    <a:pt x="1024128" y="396494"/>
                  </a:lnTo>
                  <a:lnTo>
                    <a:pt x="1025271" y="397129"/>
                  </a:lnTo>
                  <a:lnTo>
                    <a:pt x="1027557" y="395732"/>
                  </a:lnTo>
                  <a:lnTo>
                    <a:pt x="1040384" y="384048"/>
                  </a:lnTo>
                  <a:lnTo>
                    <a:pt x="1054099" y="371729"/>
                  </a:lnTo>
                  <a:lnTo>
                    <a:pt x="1083183" y="345567"/>
                  </a:lnTo>
                  <a:lnTo>
                    <a:pt x="1114298" y="318135"/>
                  </a:lnTo>
                  <a:lnTo>
                    <a:pt x="1146683" y="290195"/>
                  </a:lnTo>
                  <a:lnTo>
                    <a:pt x="1179448" y="262510"/>
                  </a:lnTo>
                  <a:lnTo>
                    <a:pt x="1212087" y="235839"/>
                  </a:lnTo>
                  <a:lnTo>
                    <a:pt x="1243710" y="211074"/>
                  </a:lnTo>
                  <a:lnTo>
                    <a:pt x="1258823" y="199517"/>
                  </a:lnTo>
                  <a:lnTo>
                    <a:pt x="1273556" y="188722"/>
                  </a:lnTo>
                  <a:lnTo>
                    <a:pt x="1273174" y="180341"/>
                  </a:lnTo>
                  <a:lnTo>
                    <a:pt x="1272412" y="173229"/>
                  </a:lnTo>
                  <a:lnTo>
                    <a:pt x="1270889" y="161417"/>
                  </a:lnTo>
                  <a:lnTo>
                    <a:pt x="1270381" y="156845"/>
                  </a:lnTo>
                  <a:lnTo>
                    <a:pt x="1270508" y="153035"/>
                  </a:lnTo>
                  <a:lnTo>
                    <a:pt x="1271397" y="149733"/>
                  </a:lnTo>
                  <a:lnTo>
                    <a:pt x="1273556" y="147066"/>
                  </a:lnTo>
                  <a:lnTo>
                    <a:pt x="1301242" y="121920"/>
                  </a:lnTo>
                  <a:lnTo>
                    <a:pt x="1316101" y="109347"/>
                  </a:lnTo>
                  <a:lnTo>
                    <a:pt x="1331595" y="97155"/>
                  </a:lnTo>
                  <a:lnTo>
                    <a:pt x="1347851" y="85598"/>
                  </a:lnTo>
                  <a:lnTo>
                    <a:pt x="1364615" y="75057"/>
                  </a:lnTo>
                  <a:lnTo>
                    <a:pt x="1381886" y="65786"/>
                  </a:lnTo>
                  <a:lnTo>
                    <a:pt x="1399921" y="58039"/>
                  </a:lnTo>
                  <a:lnTo>
                    <a:pt x="897635" y="498475"/>
                  </a:lnTo>
                  <a:lnTo>
                    <a:pt x="913892" y="496951"/>
                  </a:lnTo>
                  <a:lnTo>
                    <a:pt x="929892" y="497205"/>
                  </a:lnTo>
                  <a:lnTo>
                    <a:pt x="945260" y="499237"/>
                  </a:lnTo>
                  <a:lnTo>
                    <a:pt x="960247" y="503174"/>
                  </a:lnTo>
                  <a:lnTo>
                    <a:pt x="974342" y="508635"/>
                  </a:lnTo>
                  <a:lnTo>
                    <a:pt x="987679" y="515874"/>
                  </a:lnTo>
                  <a:lnTo>
                    <a:pt x="999998" y="524637"/>
                  </a:lnTo>
                  <a:lnTo>
                    <a:pt x="1011047" y="534924"/>
                  </a:lnTo>
                  <a:lnTo>
                    <a:pt x="1021080" y="546735"/>
                  </a:lnTo>
                  <a:lnTo>
                    <a:pt x="1029589" y="559943"/>
                  </a:lnTo>
                  <a:lnTo>
                    <a:pt x="1036701" y="574548"/>
                  </a:lnTo>
                  <a:lnTo>
                    <a:pt x="1042161" y="590423"/>
                  </a:lnTo>
                  <a:lnTo>
                    <a:pt x="1045972" y="607442"/>
                  </a:lnTo>
                  <a:lnTo>
                    <a:pt x="1047877" y="625730"/>
                  </a:lnTo>
                  <a:lnTo>
                    <a:pt x="1047749" y="645160"/>
                  </a:lnTo>
                  <a:lnTo>
                    <a:pt x="1013586" y="675894"/>
                  </a:lnTo>
                  <a:lnTo>
                    <a:pt x="979805" y="707898"/>
                  </a:lnTo>
                  <a:lnTo>
                    <a:pt x="912748" y="773176"/>
                  </a:lnTo>
                  <a:lnTo>
                    <a:pt x="878840" y="805688"/>
                  </a:lnTo>
                  <a:lnTo>
                    <a:pt x="844549" y="837311"/>
                  </a:lnTo>
                  <a:lnTo>
                    <a:pt x="809498" y="867792"/>
                  </a:lnTo>
                  <a:lnTo>
                    <a:pt x="773557" y="896620"/>
                  </a:lnTo>
                  <a:lnTo>
                    <a:pt x="763651" y="904368"/>
                  </a:lnTo>
                  <a:lnTo>
                    <a:pt x="752221" y="913766"/>
                  </a:lnTo>
                  <a:lnTo>
                    <a:pt x="739392" y="924307"/>
                  </a:lnTo>
                  <a:lnTo>
                    <a:pt x="725805" y="935863"/>
                  </a:lnTo>
                  <a:lnTo>
                    <a:pt x="696466" y="960756"/>
                  </a:lnTo>
                  <a:lnTo>
                    <a:pt x="666496" y="985901"/>
                  </a:lnTo>
                  <a:lnTo>
                    <a:pt x="651891" y="997712"/>
                  </a:lnTo>
                  <a:lnTo>
                    <a:pt x="638048" y="1008763"/>
                  </a:lnTo>
                  <a:lnTo>
                    <a:pt x="625092" y="1018541"/>
                  </a:lnTo>
                  <a:lnTo>
                    <a:pt x="613283" y="1026922"/>
                  </a:lnTo>
                  <a:lnTo>
                    <a:pt x="603123" y="1033654"/>
                  </a:lnTo>
                  <a:lnTo>
                    <a:pt x="594614" y="1038098"/>
                  </a:lnTo>
                  <a:lnTo>
                    <a:pt x="591185" y="1039495"/>
                  </a:lnTo>
                  <a:lnTo>
                    <a:pt x="588264" y="1040257"/>
                  </a:lnTo>
                  <a:lnTo>
                    <a:pt x="585851" y="1040384"/>
                  </a:lnTo>
                  <a:lnTo>
                    <a:pt x="584073" y="1039749"/>
                  </a:lnTo>
                  <a:lnTo>
                    <a:pt x="574040" y="1047877"/>
                  </a:lnTo>
                  <a:lnTo>
                    <a:pt x="562991" y="1056894"/>
                  </a:lnTo>
                  <a:lnTo>
                    <a:pt x="551053" y="1066673"/>
                  </a:lnTo>
                  <a:lnTo>
                    <a:pt x="538480" y="1077087"/>
                  </a:lnTo>
                  <a:lnTo>
                    <a:pt x="511556" y="1099312"/>
                  </a:lnTo>
                  <a:lnTo>
                    <a:pt x="483361" y="1122554"/>
                  </a:lnTo>
                  <a:lnTo>
                    <a:pt x="455166" y="1145668"/>
                  </a:lnTo>
                  <a:lnTo>
                    <a:pt x="427990" y="1167638"/>
                  </a:lnTo>
                  <a:lnTo>
                    <a:pt x="415162" y="1177925"/>
                  </a:lnTo>
                  <a:lnTo>
                    <a:pt x="403098" y="1187450"/>
                  </a:lnTo>
                  <a:lnTo>
                    <a:pt x="391922" y="1196213"/>
                  </a:lnTo>
                  <a:lnTo>
                    <a:pt x="381508" y="1203960"/>
                  </a:lnTo>
                  <a:lnTo>
                    <a:pt x="374523" y="1181989"/>
                  </a:lnTo>
                  <a:lnTo>
                    <a:pt x="369951" y="1171448"/>
                  </a:lnTo>
                  <a:lnTo>
                    <a:pt x="364617" y="1161416"/>
                  </a:lnTo>
                  <a:lnTo>
                    <a:pt x="358521" y="1151763"/>
                  </a:lnTo>
                  <a:lnTo>
                    <a:pt x="351790" y="1142619"/>
                  </a:lnTo>
                  <a:lnTo>
                    <a:pt x="344551" y="1134237"/>
                  </a:lnTo>
                  <a:lnTo>
                    <a:pt x="336677" y="1126618"/>
                  </a:lnTo>
                  <a:lnTo>
                    <a:pt x="328168" y="1119759"/>
                  </a:lnTo>
                  <a:lnTo>
                    <a:pt x="319151" y="1113791"/>
                  </a:lnTo>
                  <a:lnTo>
                    <a:pt x="309880" y="1108837"/>
                  </a:lnTo>
                  <a:lnTo>
                    <a:pt x="299847" y="1105027"/>
                  </a:lnTo>
                  <a:lnTo>
                    <a:pt x="289687" y="1102360"/>
                  </a:lnTo>
                  <a:lnTo>
                    <a:pt x="279019" y="1100963"/>
                  </a:lnTo>
                  <a:lnTo>
                    <a:pt x="267970" y="1100963"/>
                  </a:lnTo>
                  <a:lnTo>
                    <a:pt x="256667" y="1102233"/>
                  </a:lnTo>
                  <a:lnTo>
                    <a:pt x="266319" y="1092582"/>
                  </a:lnTo>
                  <a:lnTo>
                    <a:pt x="277114" y="1081406"/>
                  </a:lnTo>
                  <a:lnTo>
                    <a:pt x="288925" y="1069213"/>
                  </a:lnTo>
                  <a:lnTo>
                    <a:pt x="301625" y="1056006"/>
                  </a:lnTo>
                  <a:lnTo>
                    <a:pt x="328422" y="1027938"/>
                  </a:lnTo>
                  <a:lnTo>
                    <a:pt x="356108" y="998856"/>
                  </a:lnTo>
                  <a:lnTo>
                    <a:pt x="383159" y="970663"/>
                  </a:lnTo>
                  <a:lnTo>
                    <a:pt x="395985" y="957199"/>
                  </a:lnTo>
                  <a:lnTo>
                    <a:pt x="408178" y="944881"/>
                  </a:lnTo>
                  <a:lnTo>
                    <a:pt x="419354" y="933450"/>
                  </a:lnTo>
                  <a:lnTo>
                    <a:pt x="429514" y="923291"/>
                  </a:lnTo>
                  <a:lnTo>
                    <a:pt x="438277" y="914655"/>
                  </a:lnTo>
                  <a:lnTo>
                    <a:pt x="445641" y="907669"/>
                  </a:lnTo>
                  <a:lnTo>
                    <a:pt x="445897" y="902335"/>
                  </a:lnTo>
                  <a:lnTo>
                    <a:pt x="448310" y="896239"/>
                  </a:lnTo>
                  <a:lnTo>
                    <a:pt x="452373" y="889255"/>
                  </a:lnTo>
                  <a:lnTo>
                    <a:pt x="458089" y="881761"/>
                  </a:lnTo>
                  <a:lnTo>
                    <a:pt x="465201" y="873633"/>
                  </a:lnTo>
                  <a:lnTo>
                    <a:pt x="473456" y="865124"/>
                  </a:lnTo>
                  <a:lnTo>
                    <a:pt x="492124" y="847091"/>
                  </a:lnTo>
                  <a:lnTo>
                    <a:pt x="512698" y="828548"/>
                  </a:lnTo>
                  <a:lnTo>
                    <a:pt x="533399" y="810387"/>
                  </a:lnTo>
                  <a:lnTo>
                    <a:pt x="543179" y="801624"/>
                  </a:lnTo>
                  <a:lnTo>
                    <a:pt x="552323" y="793243"/>
                  </a:lnTo>
                  <a:lnTo>
                    <a:pt x="560705" y="785369"/>
                  </a:lnTo>
                  <a:lnTo>
                    <a:pt x="567942" y="778002"/>
                  </a:lnTo>
                  <a:lnTo>
                    <a:pt x="629666" y="717296"/>
                  </a:lnTo>
                  <a:lnTo>
                    <a:pt x="693291" y="657352"/>
                  </a:lnTo>
                  <a:lnTo>
                    <a:pt x="725805" y="628143"/>
                  </a:lnTo>
                  <a:lnTo>
                    <a:pt x="758952" y="599568"/>
                  </a:lnTo>
                  <a:lnTo>
                    <a:pt x="792480" y="571881"/>
                  </a:lnTo>
                  <a:lnTo>
                    <a:pt x="826770" y="545085"/>
                  </a:lnTo>
                  <a:lnTo>
                    <a:pt x="840867" y="533273"/>
                  </a:lnTo>
                  <a:lnTo>
                    <a:pt x="853440" y="521589"/>
                  </a:lnTo>
                  <a:lnTo>
                    <a:pt x="866392" y="510921"/>
                  </a:lnTo>
                  <a:lnTo>
                    <a:pt x="873379" y="506222"/>
                  </a:lnTo>
                  <a:lnTo>
                    <a:pt x="880872" y="502031"/>
                  </a:lnTo>
                  <a:lnTo>
                    <a:pt x="368173" y="1195324"/>
                  </a:lnTo>
                  <a:lnTo>
                    <a:pt x="347599" y="1217549"/>
                  </a:lnTo>
                  <a:lnTo>
                    <a:pt x="340233" y="1224916"/>
                  </a:lnTo>
                  <a:lnTo>
                    <a:pt x="331597" y="1233679"/>
                  </a:lnTo>
                  <a:lnTo>
                    <a:pt x="322072" y="1243584"/>
                  </a:lnTo>
                  <a:lnTo>
                    <a:pt x="311531" y="1254633"/>
                  </a:lnTo>
                  <a:lnTo>
                    <a:pt x="300355" y="1266571"/>
                  </a:lnTo>
                  <a:lnTo>
                    <a:pt x="276987" y="1291591"/>
                  </a:lnTo>
                  <a:lnTo>
                    <a:pt x="253238" y="1317244"/>
                  </a:lnTo>
                  <a:lnTo>
                    <a:pt x="241681" y="1329691"/>
                  </a:lnTo>
                  <a:lnTo>
                    <a:pt x="230632" y="1341376"/>
                  </a:lnTo>
                  <a:lnTo>
                    <a:pt x="220345" y="1352425"/>
                  </a:lnTo>
                  <a:lnTo>
                    <a:pt x="210947" y="1362457"/>
                  </a:lnTo>
                  <a:lnTo>
                    <a:pt x="202565" y="1371219"/>
                  </a:lnTo>
                  <a:lnTo>
                    <a:pt x="195326" y="1378458"/>
                  </a:lnTo>
                  <a:lnTo>
                    <a:pt x="189865" y="1380365"/>
                  </a:lnTo>
                  <a:lnTo>
                    <a:pt x="183134" y="1382269"/>
                  </a:lnTo>
                  <a:lnTo>
                    <a:pt x="175514" y="1384427"/>
                  </a:lnTo>
                  <a:lnTo>
                    <a:pt x="166751" y="1386968"/>
                  </a:lnTo>
                  <a:lnTo>
                    <a:pt x="157353" y="1389634"/>
                  </a:lnTo>
                  <a:lnTo>
                    <a:pt x="147066" y="1392809"/>
                  </a:lnTo>
                  <a:lnTo>
                    <a:pt x="125095" y="1400175"/>
                  </a:lnTo>
                  <a:lnTo>
                    <a:pt x="101219" y="1409700"/>
                  </a:lnTo>
                  <a:lnTo>
                    <a:pt x="76708" y="1421640"/>
                  </a:lnTo>
                  <a:lnTo>
                    <a:pt x="52451" y="1436244"/>
                  </a:lnTo>
                  <a:lnTo>
                    <a:pt x="40513" y="1444752"/>
                  </a:lnTo>
                  <a:lnTo>
                    <a:pt x="28829" y="1454025"/>
                  </a:lnTo>
                  <a:lnTo>
                    <a:pt x="40513" y="1440690"/>
                  </a:lnTo>
                  <a:lnTo>
                    <a:pt x="54102" y="1425830"/>
                  </a:lnTo>
                  <a:lnTo>
                    <a:pt x="68834" y="1409955"/>
                  </a:lnTo>
                  <a:lnTo>
                    <a:pt x="83947" y="1393571"/>
                  </a:lnTo>
                  <a:lnTo>
                    <a:pt x="99060" y="1377316"/>
                  </a:lnTo>
                  <a:lnTo>
                    <a:pt x="113157" y="1361568"/>
                  </a:lnTo>
                  <a:lnTo>
                    <a:pt x="125603" y="1346708"/>
                  </a:lnTo>
                  <a:lnTo>
                    <a:pt x="130937" y="1339725"/>
                  </a:lnTo>
                  <a:lnTo>
                    <a:pt x="135636" y="1333246"/>
                  </a:lnTo>
                  <a:lnTo>
                    <a:pt x="141351" y="1333627"/>
                  </a:lnTo>
                  <a:lnTo>
                    <a:pt x="146558" y="1332104"/>
                  </a:lnTo>
                  <a:lnTo>
                    <a:pt x="151130" y="1329182"/>
                  </a:lnTo>
                  <a:lnTo>
                    <a:pt x="154432" y="1324992"/>
                  </a:lnTo>
                  <a:lnTo>
                    <a:pt x="156591" y="1320166"/>
                  </a:lnTo>
                  <a:lnTo>
                    <a:pt x="156845" y="1315085"/>
                  </a:lnTo>
                  <a:lnTo>
                    <a:pt x="155321" y="1310006"/>
                  </a:lnTo>
                  <a:lnTo>
                    <a:pt x="151384" y="1305560"/>
                  </a:lnTo>
                  <a:lnTo>
                    <a:pt x="145796" y="1303529"/>
                  </a:lnTo>
                  <a:lnTo>
                    <a:pt x="140716" y="1303529"/>
                  </a:lnTo>
                  <a:lnTo>
                    <a:pt x="136271" y="1305307"/>
                  </a:lnTo>
                  <a:lnTo>
                    <a:pt x="132461" y="1308355"/>
                  </a:lnTo>
                  <a:lnTo>
                    <a:pt x="129921" y="1312545"/>
                  </a:lnTo>
                  <a:lnTo>
                    <a:pt x="128270" y="1317371"/>
                  </a:lnTo>
                  <a:lnTo>
                    <a:pt x="128016" y="1322706"/>
                  </a:lnTo>
                  <a:lnTo>
                    <a:pt x="129286" y="1328294"/>
                  </a:lnTo>
                  <a:lnTo>
                    <a:pt x="116586" y="1341247"/>
                  </a:lnTo>
                  <a:lnTo>
                    <a:pt x="102997" y="1356107"/>
                  </a:lnTo>
                  <a:lnTo>
                    <a:pt x="88646" y="1372489"/>
                  </a:lnTo>
                  <a:lnTo>
                    <a:pt x="74168" y="1389381"/>
                  </a:lnTo>
                  <a:lnTo>
                    <a:pt x="59817" y="1406400"/>
                  </a:lnTo>
                  <a:lnTo>
                    <a:pt x="45720" y="1422908"/>
                  </a:lnTo>
                  <a:lnTo>
                    <a:pt x="32639" y="1438021"/>
                  </a:lnTo>
                  <a:lnTo>
                    <a:pt x="20701" y="1451357"/>
                  </a:lnTo>
                  <a:lnTo>
                    <a:pt x="26924" y="1442720"/>
                  </a:lnTo>
                  <a:lnTo>
                    <a:pt x="33020" y="1433069"/>
                  </a:lnTo>
                  <a:lnTo>
                    <a:pt x="45085" y="1410970"/>
                  </a:lnTo>
                  <a:lnTo>
                    <a:pt x="56515" y="1386715"/>
                  </a:lnTo>
                  <a:lnTo>
                    <a:pt x="67056" y="1361821"/>
                  </a:lnTo>
                  <a:lnTo>
                    <a:pt x="76073" y="1337692"/>
                  </a:lnTo>
                  <a:lnTo>
                    <a:pt x="80010" y="1326516"/>
                  </a:lnTo>
                  <a:lnTo>
                    <a:pt x="83566" y="1315976"/>
                  </a:lnTo>
                  <a:lnTo>
                    <a:pt x="86487" y="1306451"/>
                  </a:lnTo>
                  <a:lnTo>
                    <a:pt x="88900" y="1298068"/>
                  </a:lnTo>
                  <a:lnTo>
                    <a:pt x="90678" y="1291082"/>
                  </a:lnTo>
                  <a:lnTo>
                    <a:pt x="91821" y="1285748"/>
                  </a:lnTo>
                  <a:lnTo>
                    <a:pt x="93980" y="1283717"/>
                  </a:lnTo>
                  <a:lnTo>
                    <a:pt x="96774" y="1280922"/>
                  </a:lnTo>
                  <a:lnTo>
                    <a:pt x="100203" y="1277620"/>
                  </a:lnTo>
                  <a:lnTo>
                    <a:pt x="104267" y="1273810"/>
                  </a:lnTo>
                  <a:lnTo>
                    <a:pt x="113919" y="1264667"/>
                  </a:lnTo>
                  <a:lnTo>
                    <a:pt x="125349" y="1253871"/>
                  </a:lnTo>
                  <a:lnTo>
                    <a:pt x="138176" y="1241807"/>
                  </a:lnTo>
                  <a:lnTo>
                    <a:pt x="152019" y="1228852"/>
                  </a:lnTo>
                  <a:lnTo>
                    <a:pt x="181610" y="1201674"/>
                  </a:lnTo>
                  <a:lnTo>
                    <a:pt x="196342" y="1188085"/>
                  </a:lnTo>
                  <a:lnTo>
                    <a:pt x="210820" y="1175132"/>
                  </a:lnTo>
                  <a:lnTo>
                    <a:pt x="224536" y="1163067"/>
                  </a:lnTo>
                  <a:lnTo>
                    <a:pt x="236982" y="1152271"/>
                  </a:lnTo>
                  <a:lnTo>
                    <a:pt x="248031" y="1143127"/>
                  </a:lnTo>
                  <a:lnTo>
                    <a:pt x="252857" y="1139444"/>
                  </a:lnTo>
                  <a:lnTo>
                    <a:pt x="257048" y="1136016"/>
                  </a:lnTo>
                  <a:lnTo>
                    <a:pt x="260858" y="1133348"/>
                  </a:lnTo>
                  <a:lnTo>
                    <a:pt x="264033" y="1131444"/>
                  </a:lnTo>
                  <a:lnTo>
                    <a:pt x="266446" y="1130046"/>
                  </a:lnTo>
                  <a:lnTo>
                    <a:pt x="268224" y="1129413"/>
                  </a:lnTo>
                  <a:lnTo>
                    <a:pt x="274828" y="1128904"/>
                  </a:lnTo>
                  <a:lnTo>
                    <a:pt x="281813" y="1129538"/>
                  </a:lnTo>
                  <a:lnTo>
                    <a:pt x="288925" y="1131189"/>
                  </a:lnTo>
                  <a:lnTo>
                    <a:pt x="296164" y="1133730"/>
                  </a:lnTo>
                  <a:lnTo>
                    <a:pt x="310642" y="1141604"/>
                  </a:lnTo>
                  <a:lnTo>
                    <a:pt x="324231" y="1152144"/>
                  </a:lnTo>
                  <a:lnTo>
                    <a:pt x="336169" y="1165098"/>
                  </a:lnTo>
                  <a:lnTo>
                    <a:pt x="341249" y="1172210"/>
                  </a:lnTo>
                  <a:lnTo>
                    <a:pt x="345567" y="1179704"/>
                  </a:lnTo>
                  <a:lnTo>
                    <a:pt x="348996" y="1187577"/>
                  </a:lnTo>
                  <a:lnTo>
                    <a:pt x="351662" y="1195579"/>
                  </a:lnTo>
                  <a:lnTo>
                    <a:pt x="353186" y="1203707"/>
                  </a:lnTo>
                  <a:lnTo>
                    <a:pt x="353566" y="1211963"/>
                  </a:lnTo>
                  <a:lnTo>
                    <a:pt x="0" y="14664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56"/>
          <p:cNvGrpSpPr/>
          <p:nvPr/>
        </p:nvGrpSpPr>
        <p:grpSpPr>
          <a:xfrm>
            <a:off x="1098720" y="995400"/>
            <a:ext cx="1826280" cy="1911600"/>
            <a:chOff x="1098720" y="995400"/>
            <a:chExt cx="1826280" cy="1911600"/>
          </a:xfrm>
        </p:grpSpPr>
        <p:sp>
          <p:nvSpPr>
            <p:cNvPr id="194" name="Freeform: Shape 51"/>
            <p:cNvSpPr/>
            <p:nvPr/>
          </p:nvSpPr>
          <p:spPr>
            <a:xfrm rot="15353400">
              <a:off x="1741320" y="1698120"/>
              <a:ext cx="819360" cy="73332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817754" h="735077">
                  <a:moveTo>
                    <a:pt x="21590" y="600710"/>
                  </a:moveTo>
                  <a:lnTo>
                    <a:pt x="44196" y="571120"/>
                  </a:lnTo>
                  <a:lnTo>
                    <a:pt x="67691" y="541274"/>
                  </a:lnTo>
                  <a:lnTo>
                    <a:pt x="92202" y="511175"/>
                  </a:lnTo>
                  <a:lnTo>
                    <a:pt x="117475" y="481203"/>
                  </a:lnTo>
                  <a:lnTo>
                    <a:pt x="143637" y="451866"/>
                  </a:lnTo>
                  <a:lnTo>
                    <a:pt x="170688" y="423037"/>
                  </a:lnTo>
                  <a:lnTo>
                    <a:pt x="198628" y="395351"/>
                  </a:lnTo>
                  <a:lnTo>
                    <a:pt x="232791" y="358649"/>
                  </a:lnTo>
                  <a:lnTo>
                    <a:pt x="266065" y="324613"/>
                  </a:lnTo>
                  <a:lnTo>
                    <a:pt x="298577" y="293116"/>
                  </a:lnTo>
                  <a:lnTo>
                    <a:pt x="330073" y="263908"/>
                  </a:lnTo>
                  <a:lnTo>
                    <a:pt x="360934" y="236728"/>
                  </a:lnTo>
                  <a:lnTo>
                    <a:pt x="390652" y="211328"/>
                  </a:lnTo>
                  <a:lnTo>
                    <a:pt x="419482" y="187579"/>
                  </a:lnTo>
                  <a:lnTo>
                    <a:pt x="447040" y="165101"/>
                  </a:lnTo>
                  <a:lnTo>
                    <a:pt x="473584" y="143638"/>
                  </a:lnTo>
                  <a:lnTo>
                    <a:pt x="498984" y="123064"/>
                  </a:lnTo>
                  <a:lnTo>
                    <a:pt x="522986" y="102997"/>
                  </a:lnTo>
                  <a:lnTo>
                    <a:pt x="545846" y="83058"/>
                  </a:lnTo>
                  <a:lnTo>
                    <a:pt x="567309" y="63374"/>
                  </a:lnTo>
                  <a:lnTo>
                    <a:pt x="587375" y="43434"/>
                  </a:lnTo>
                  <a:lnTo>
                    <a:pt x="605917" y="23114"/>
                  </a:lnTo>
                  <a:lnTo>
                    <a:pt x="622935" y="2032"/>
                  </a:lnTo>
                  <a:lnTo>
                    <a:pt x="636397" y="635"/>
                  </a:lnTo>
                  <a:lnTo>
                    <a:pt x="649351" y="0"/>
                  </a:lnTo>
                  <a:lnTo>
                    <a:pt x="661671" y="0"/>
                  </a:lnTo>
                  <a:lnTo>
                    <a:pt x="673482" y="508"/>
                  </a:lnTo>
                  <a:lnTo>
                    <a:pt x="684784" y="1778"/>
                  </a:lnTo>
                  <a:lnTo>
                    <a:pt x="695452" y="3556"/>
                  </a:lnTo>
                  <a:lnTo>
                    <a:pt x="715646" y="8637"/>
                  </a:lnTo>
                  <a:lnTo>
                    <a:pt x="733679" y="15875"/>
                  </a:lnTo>
                  <a:lnTo>
                    <a:pt x="749682" y="24893"/>
                  </a:lnTo>
                  <a:lnTo>
                    <a:pt x="763905" y="35687"/>
                  </a:lnTo>
                  <a:lnTo>
                    <a:pt x="776351" y="47879"/>
                  </a:lnTo>
                  <a:lnTo>
                    <a:pt x="787020" y="61214"/>
                  </a:lnTo>
                  <a:lnTo>
                    <a:pt x="795910" y="75693"/>
                  </a:lnTo>
                  <a:lnTo>
                    <a:pt x="803275" y="91187"/>
                  </a:lnTo>
                  <a:lnTo>
                    <a:pt x="808990" y="107188"/>
                  </a:lnTo>
                  <a:lnTo>
                    <a:pt x="813309" y="123699"/>
                  </a:lnTo>
                  <a:lnTo>
                    <a:pt x="816102" y="140590"/>
                  </a:lnTo>
                  <a:lnTo>
                    <a:pt x="817626" y="157607"/>
                  </a:lnTo>
                  <a:lnTo>
                    <a:pt x="817753" y="174499"/>
                  </a:lnTo>
                  <a:lnTo>
                    <a:pt x="805435" y="179832"/>
                  </a:lnTo>
                  <a:lnTo>
                    <a:pt x="792988" y="186182"/>
                  </a:lnTo>
                  <a:lnTo>
                    <a:pt x="767970" y="201677"/>
                  </a:lnTo>
                  <a:lnTo>
                    <a:pt x="742442" y="220345"/>
                  </a:lnTo>
                  <a:lnTo>
                    <a:pt x="716153" y="241935"/>
                  </a:lnTo>
                  <a:lnTo>
                    <a:pt x="689484" y="265812"/>
                  </a:lnTo>
                  <a:lnTo>
                    <a:pt x="662051" y="291846"/>
                  </a:lnTo>
                  <a:lnTo>
                    <a:pt x="633858" y="319278"/>
                  </a:lnTo>
                  <a:lnTo>
                    <a:pt x="604901" y="347727"/>
                  </a:lnTo>
                  <a:lnTo>
                    <a:pt x="575057" y="376937"/>
                  </a:lnTo>
                  <a:lnTo>
                    <a:pt x="544449" y="406401"/>
                  </a:lnTo>
                  <a:lnTo>
                    <a:pt x="512826" y="435610"/>
                  </a:lnTo>
                  <a:lnTo>
                    <a:pt x="480187" y="464058"/>
                  </a:lnTo>
                  <a:lnTo>
                    <a:pt x="446533" y="491236"/>
                  </a:lnTo>
                  <a:lnTo>
                    <a:pt x="411608" y="517145"/>
                  </a:lnTo>
                  <a:lnTo>
                    <a:pt x="375666" y="540893"/>
                  </a:lnTo>
                  <a:lnTo>
                    <a:pt x="338328" y="562102"/>
                  </a:lnTo>
                  <a:lnTo>
                    <a:pt x="308737" y="588899"/>
                  </a:lnTo>
                  <a:lnTo>
                    <a:pt x="280162" y="612902"/>
                  </a:lnTo>
                  <a:lnTo>
                    <a:pt x="252730" y="634873"/>
                  </a:lnTo>
                  <a:lnTo>
                    <a:pt x="226187" y="655321"/>
                  </a:lnTo>
                  <a:lnTo>
                    <a:pt x="200407" y="675005"/>
                  </a:lnTo>
                  <a:lnTo>
                    <a:pt x="175514" y="694563"/>
                  </a:lnTo>
                  <a:lnTo>
                    <a:pt x="151384" y="714375"/>
                  </a:lnTo>
                  <a:lnTo>
                    <a:pt x="127889" y="735076"/>
                  </a:lnTo>
                  <a:lnTo>
                    <a:pt x="115189" y="709296"/>
                  </a:lnTo>
                  <a:lnTo>
                    <a:pt x="103251" y="686562"/>
                  </a:lnTo>
                  <a:lnTo>
                    <a:pt x="91313" y="667258"/>
                  </a:lnTo>
                  <a:lnTo>
                    <a:pt x="84963" y="659003"/>
                  </a:lnTo>
                  <a:lnTo>
                    <a:pt x="78233" y="651637"/>
                  </a:lnTo>
                  <a:lnTo>
                    <a:pt x="71121" y="645160"/>
                  </a:lnTo>
                  <a:lnTo>
                    <a:pt x="63500" y="639826"/>
                  </a:lnTo>
                  <a:lnTo>
                    <a:pt x="55118" y="635382"/>
                  </a:lnTo>
                  <a:lnTo>
                    <a:pt x="46101" y="631952"/>
                  </a:lnTo>
                  <a:lnTo>
                    <a:pt x="36068" y="629666"/>
                  </a:lnTo>
                  <a:lnTo>
                    <a:pt x="25146" y="628523"/>
                  </a:lnTo>
                  <a:lnTo>
                    <a:pt x="13209" y="628397"/>
                  </a:lnTo>
                  <a:lnTo>
                    <a:pt x="0" y="629539"/>
                  </a:lnTo>
                  <a:lnTo>
                    <a:pt x="21590" y="600710"/>
                  </a:lnTo>
                  <a:close/>
                </a:path>
              </a:pathLst>
            </a:custGeom>
            <a:solidFill>
              <a:srgbClr val="8484e5"/>
            </a:solidFill>
            <a:ln w="0">
              <a:solidFill>
                <a:srgbClr val="8484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: Shape 52"/>
            <p:cNvSpPr/>
            <p:nvPr/>
          </p:nvSpPr>
          <p:spPr>
            <a:xfrm rot="15353400">
              <a:off x="1149840" y="1310400"/>
              <a:ext cx="731880" cy="64908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732157" h="648970">
                  <a:moveTo>
                    <a:pt x="557022" y="0"/>
                  </a:moveTo>
                  <a:lnTo>
                    <a:pt x="579247" y="2159"/>
                  </a:lnTo>
                  <a:lnTo>
                    <a:pt x="600203" y="6477"/>
                  </a:lnTo>
                  <a:lnTo>
                    <a:pt x="619634" y="12700"/>
                  </a:lnTo>
                  <a:lnTo>
                    <a:pt x="637668" y="20701"/>
                  </a:lnTo>
                  <a:lnTo>
                    <a:pt x="654305" y="30480"/>
                  </a:lnTo>
                  <a:lnTo>
                    <a:pt x="669418" y="41529"/>
                  </a:lnTo>
                  <a:lnTo>
                    <a:pt x="683007" y="54102"/>
                  </a:lnTo>
                  <a:lnTo>
                    <a:pt x="694945" y="67818"/>
                  </a:lnTo>
                  <a:lnTo>
                    <a:pt x="705486" y="82423"/>
                  </a:lnTo>
                  <a:lnTo>
                    <a:pt x="714122" y="98044"/>
                  </a:lnTo>
                  <a:lnTo>
                    <a:pt x="721234" y="114300"/>
                  </a:lnTo>
                  <a:lnTo>
                    <a:pt x="726568" y="131191"/>
                  </a:lnTo>
                  <a:lnTo>
                    <a:pt x="730250" y="148463"/>
                  </a:lnTo>
                  <a:lnTo>
                    <a:pt x="732156" y="165989"/>
                  </a:lnTo>
                  <a:lnTo>
                    <a:pt x="732156" y="183515"/>
                  </a:lnTo>
                  <a:lnTo>
                    <a:pt x="704088" y="214503"/>
                  </a:lnTo>
                  <a:lnTo>
                    <a:pt x="673862" y="245999"/>
                  </a:lnTo>
                  <a:lnTo>
                    <a:pt x="641732" y="278003"/>
                  </a:lnTo>
                  <a:lnTo>
                    <a:pt x="608077" y="310261"/>
                  </a:lnTo>
                  <a:lnTo>
                    <a:pt x="537592" y="374777"/>
                  </a:lnTo>
                  <a:lnTo>
                    <a:pt x="464947" y="438150"/>
                  </a:lnTo>
                  <a:lnTo>
                    <a:pt x="428880" y="469011"/>
                  </a:lnTo>
                  <a:lnTo>
                    <a:pt x="393066" y="498856"/>
                  </a:lnTo>
                  <a:lnTo>
                    <a:pt x="358268" y="527685"/>
                  </a:lnTo>
                  <a:lnTo>
                    <a:pt x="324612" y="555244"/>
                  </a:lnTo>
                  <a:lnTo>
                    <a:pt x="292355" y="581279"/>
                  </a:lnTo>
                  <a:lnTo>
                    <a:pt x="262129" y="605790"/>
                  </a:lnTo>
                  <a:lnTo>
                    <a:pt x="247650" y="617347"/>
                  </a:lnTo>
                  <a:lnTo>
                    <a:pt x="233934" y="628395"/>
                  </a:lnTo>
                  <a:lnTo>
                    <a:pt x="220854" y="638938"/>
                  </a:lnTo>
                  <a:lnTo>
                    <a:pt x="208281" y="648969"/>
                  </a:lnTo>
                  <a:lnTo>
                    <a:pt x="208788" y="628269"/>
                  </a:lnTo>
                  <a:lnTo>
                    <a:pt x="207265" y="608330"/>
                  </a:lnTo>
                  <a:lnTo>
                    <a:pt x="203582" y="589280"/>
                  </a:lnTo>
                  <a:lnTo>
                    <a:pt x="198120" y="571246"/>
                  </a:lnTo>
                  <a:lnTo>
                    <a:pt x="190628" y="554228"/>
                  </a:lnTo>
                  <a:lnTo>
                    <a:pt x="181230" y="538353"/>
                  </a:lnTo>
                  <a:lnTo>
                    <a:pt x="170054" y="523621"/>
                  </a:lnTo>
                  <a:lnTo>
                    <a:pt x="157354" y="510286"/>
                  </a:lnTo>
                  <a:lnTo>
                    <a:pt x="142748" y="498221"/>
                  </a:lnTo>
                  <a:lnTo>
                    <a:pt x="126619" y="487807"/>
                  </a:lnTo>
                  <a:lnTo>
                    <a:pt x="109094" y="478790"/>
                  </a:lnTo>
                  <a:lnTo>
                    <a:pt x="89917" y="471424"/>
                  </a:lnTo>
                  <a:lnTo>
                    <a:pt x="69343" y="465836"/>
                  </a:lnTo>
                  <a:lnTo>
                    <a:pt x="47498" y="462026"/>
                  </a:lnTo>
                  <a:lnTo>
                    <a:pt x="24384" y="459994"/>
                  </a:lnTo>
                  <a:lnTo>
                    <a:pt x="0" y="460121"/>
                  </a:lnTo>
                  <a:lnTo>
                    <a:pt x="12573" y="446278"/>
                  </a:lnTo>
                  <a:lnTo>
                    <a:pt x="25908" y="431927"/>
                  </a:lnTo>
                  <a:lnTo>
                    <a:pt x="54483" y="402590"/>
                  </a:lnTo>
                  <a:lnTo>
                    <a:pt x="85471" y="371856"/>
                  </a:lnTo>
                  <a:lnTo>
                    <a:pt x="118365" y="340614"/>
                  </a:lnTo>
                  <a:lnTo>
                    <a:pt x="152908" y="308737"/>
                  </a:lnTo>
                  <a:lnTo>
                    <a:pt x="188722" y="276479"/>
                  </a:lnTo>
                  <a:lnTo>
                    <a:pt x="262509" y="212344"/>
                  </a:lnTo>
                  <a:lnTo>
                    <a:pt x="299720" y="181102"/>
                  </a:lnTo>
                  <a:lnTo>
                    <a:pt x="336805" y="150622"/>
                  </a:lnTo>
                  <a:lnTo>
                    <a:pt x="373254" y="121285"/>
                  </a:lnTo>
                  <a:lnTo>
                    <a:pt x="408686" y="93218"/>
                  </a:lnTo>
                  <a:lnTo>
                    <a:pt x="442722" y="66802"/>
                  </a:lnTo>
                  <a:lnTo>
                    <a:pt x="475235" y="42291"/>
                  </a:lnTo>
                  <a:lnTo>
                    <a:pt x="490602" y="30861"/>
                  </a:lnTo>
                  <a:lnTo>
                    <a:pt x="505587" y="20066"/>
                  </a:lnTo>
                  <a:lnTo>
                    <a:pt x="519811" y="9779"/>
                  </a:lnTo>
                  <a:lnTo>
                    <a:pt x="533400" y="254"/>
                  </a:lnTo>
                  <a:lnTo>
                    <a:pt x="557022" y="0"/>
                  </a:lnTo>
                  <a:close/>
                </a:path>
              </a:pathLst>
            </a:custGeom>
            <a:solidFill>
              <a:srgbClr val="3d3fc9"/>
            </a:solidFill>
            <a:ln w="0">
              <a:solidFill>
                <a:srgbClr val="3d3f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: Shape 53"/>
            <p:cNvSpPr/>
            <p:nvPr/>
          </p:nvSpPr>
          <p:spPr>
            <a:xfrm rot="15353400">
              <a:off x="1144440" y="1418400"/>
              <a:ext cx="534960" cy="4143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35052" h="414402">
                  <a:moveTo>
                    <a:pt x="448691" y="0"/>
                  </a:moveTo>
                  <a:lnTo>
                    <a:pt x="456183" y="508"/>
                  </a:lnTo>
                  <a:lnTo>
                    <a:pt x="472059" y="3556"/>
                  </a:lnTo>
                  <a:lnTo>
                    <a:pt x="487680" y="9398"/>
                  </a:lnTo>
                  <a:lnTo>
                    <a:pt x="502539" y="17145"/>
                  </a:lnTo>
                  <a:lnTo>
                    <a:pt x="515493" y="26797"/>
                  </a:lnTo>
                  <a:lnTo>
                    <a:pt x="521081" y="32385"/>
                  </a:lnTo>
                  <a:lnTo>
                    <a:pt x="525907" y="38354"/>
                  </a:lnTo>
                  <a:lnTo>
                    <a:pt x="529717" y="44450"/>
                  </a:lnTo>
                  <a:lnTo>
                    <a:pt x="532765" y="50927"/>
                  </a:lnTo>
                  <a:lnTo>
                    <a:pt x="534543" y="57785"/>
                  </a:lnTo>
                  <a:lnTo>
                    <a:pt x="535051" y="64770"/>
                  </a:lnTo>
                  <a:lnTo>
                    <a:pt x="523367" y="68961"/>
                  </a:lnTo>
                  <a:lnTo>
                    <a:pt x="512064" y="74041"/>
                  </a:lnTo>
                  <a:lnTo>
                    <a:pt x="490855" y="86106"/>
                  </a:lnTo>
                  <a:lnTo>
                    <a:pt x="471043" y="100457"/>
                  </a:lnTo>
                  <a:lnTo>
                    <a:pt x="452246" y="116459"/>
                  </a:lnTo>
                  <a:lnTo>
                    <a:pt x="434467" y="133350"/>
                  </a:lnTo>
                  <a:lnTo>
                    <a:pt x="417068" y="150749"/>
                  </a:lnTo>
                  <a:lnTo>
                    <a:pt x="399795" y="167894"/>
                  </a:lnTo>
                  <a:lnTo>
                    <a:pt x="382524" y="184150"/>
                  </a:lnTo>
                  <a:lnTo>
                    <a:pt x="374523" y="185674"/>
                  </a:lnTo>
                  <a:lnTo>
                    <a:pt x="366521" y="185420"/>
                  </a:lnTo>
                  <a:lnTo>
                    <a:pt x="350646" y="182880"/>
                  </a:lnTo>
                  <a:lnTo>
                    <a:pt x="334771" y="181102"/>
                  </a:lnTo>
                  <a:lnTo>
                    <a:pt x="326898" y="182118"/>
                  </a:lnTo>
                  <a:lnTo>
                    <a:pt x="318896" y="185166"/>
                  </a:lnTo>
                  <a:lnTo>
                    <a:pt x="301879" y="194945"/>
                  </a:lnTo>
                  <a:lnTo>
                    <a:pt x="284226" y="205740"/>
                  </a:lnTo>
                  <a:lnTo>
                    <a:pt x="266192" y="217678"/>
                  </a:lnTo>
                  <a:lnTo>
                    <a:pt x="248031" y="230251"/>
                  </a:lnTo>
                  <a:lnTo>
                    <a:pt x="211581" y="256921"/>
                  </a:lnTo>
                  <a:lnTo>
                    <a:pt x="176656" y="284353"/>
                  </a:lnTo>
                  <a:lnTo>
                    <a:pt x="160274" y="297688"/>
                  </a:lnTo>
                  <a:lnTo>
                    <a:pt x="144653" y="310769"/>
                  </a:lnTo>
                  <a:lnTo>
                    <a:pt x="130302" y="323088"/>
                  </a:lnTo>
                  <a:lnTo>
                    <a:pt x="117348" y="334518"/>
                  </a:lnTo>
                  <a:lnTo>
                    <a:pt x="105791" y="344805"/>
                  </a:lnTo>
                  <a:lnTo>
                    <a:pt x="96012" y="353822"/>
                  </a:lnTo>
                  <a:lnTo>
                    <a:pt x="88138" y="361569"/>
                  </a:lnTo>
                  <a:lnTo>
                    <a:pt x="82423" y="367538"/>
                  </a:lnTo>
                  <a:lnTo>
                    <a:pt x="84201" y="371475"/>
                  </a:lnTo>
                  <a:lnTo>
                    <a:pt x="86741" y="374777"/>
                  </a:lnTo>
                  <a:lnTo>
                    <a:pt x="92075" y="379476"/>
                  </a:lnTo>
                  <a:lnTo>
                    <a:pt x="96519" y="382778"/>
                  </a:lnTo>
                  <a:lnTo>
                    <a:pt x="97790" y="384048"/>
                  </a:lnTo>
                  <a:lnTo>
                    <a:pt x="97917" y="385318"/>
                  </a:lnTo>
                  <a:lnTo>
                    <a:pt x="82931" y="391287"/>
                  </a:lnTo>
                  <a:lnTo>
                    <a:pt x="68580" y="397002"/>
                  </a:lnTo>
                  <a:lnTo>
                    <a:pt x="54864" y="402082"/>
                  </a:lnTo>
                  <a:lnTo>
                    <a:pt x="42037" y="406400"/>
                  </a:lnTo>
                  <a:lnTo>
                    <a:pt x="29844" y="410083"/>
                  </a:lnTo>
                  <a:lnTo>
                    <a:pt x="18923" y="412623"/>
                  </a:lnTo>
                  <a:lnTo>
                    <a:pt x="8890" y="414147"/>
                  </a:lnTo>
                  <a:lnTo>
                    <a:pt x="0" y="414401"/>
                  </a:lnTo>
                  <a:lnTo>
                    <a:pt x="1778" y="408432"/>
                  </a:lnTo>
                  <a:lnTo>
                    <a:pt x="4064" y="401955"/>
                  </a:lnTo>
                  <a:lnTo>
                    <a:pt x="7239" y="394843"/>
                  </a:lnTo>
                  <a:lnTo>
                    <a:pt x="11556" y="386969"/>
                  </a:lnTo>
                  <a:lnTo>
                    <a:pt x="17399" y="378206"/>
                  </a:lnTo>
                  <a:lnTo>
                    <a:pt x="25018" y="368173"/>
                  </a:lnTo>
                  <a:lnTo>
                    <a:pt x="34798" y="357124"/>
                  </a:lnTo>
                  <a:lnTo>
                    <a:pt x="46863" y="344551"/>
                  </a:lnTo>
                  <a:lnTo>
                    <a:pt x="49021" y="343281"/>
                  </a:lnTo>
                  <a:lnTo>
                    <a:pt x="50292" y="343662"/>
                  </a:lnTo>
                  <a:lnTo>
                    <a:pt x="50927" y="345567"/>
                  </a:lnTo>
                  <a:lnTo>
                    <a:pt x="51307" y="348107"/>
                  </a:lnTo>
                  <a:lnTo>
                    <a:pt x="51689" y="350647"/>
                  </a:lnTo>
                  <a:lnTo>
                    <a:pt x="52451" y="352298"/>
                  </a:lnTo>
                  <a:lnTo>
                    <a:pt x="53848" y="352679"/>
                  </a:lnTo>
                  <a:lnTo>
                    <a:pt x="56261" y="350774"/>
                  </a:lnTo>
                  <a:lnTo>
                    <a:pt x="67309" y="339979"/>
                  </a:lnTo>
                  <a:lnTo>
                    <a:pt x="79248" y="328295"/>
                  </a:lnTo>
                  <a:lnTo>
                    <a:pt x="92075" y="316357"/>
                  </a:lnTo>
                  <a:lnTo>
                    <a:pt x="105409" y="303784"/>
                  </a:lnTo>
                  <a:lnTo>
                    <a:pt x="133857" y="277495"/>
                  </a:lnTo>
                  <a:lnTo>
                    <a:pt x="164083" y="250444"/>
                  </a:lnTo>
                  <a:lnTo>
                    <a:pt x="226441" y="196088"/>
                  </a:lnTo>
                  <a:lnTo>
                    <a:pt x="257175" y="170053"/>
                  </a:lnTo>
                  <a:lnTo>
                    <a:pt x="286639" y="145669"/>
                  </a:lnTo>
                  <a:lnTo>
                    <a:pt x="290576" y="143002"/>
                  </a:lnTo>
                  <a:lnTo>
                    <a:pt x="293116" y="140335"/>
                  </a:lnTo>
                  <a:lnTo>
                    <a:pt x="294513" y="137668"/>
                  </a:lnTo>
                  <a:lnTo>
                    <a:pt x="294893" y="134747"/>
                  </a:lnTo>
                  <a:lnTo>
                    <a:pt x="293624" y="128905"/>
                  </a:lnTo>
                  <a:lnTo>
                    <a:pt x="290956" y="122809"/>
                  </a:lnTo>
                  <a:lnTo>
                    <a:pt x="288036" y="116713"/>
                  </a:lnTo>
                  <a:lnTo>
                    <a:pt x="286766" y="110998"/>
                  </a:lnTo>
                  <a:lnTo>
                    <a:pt x="287146" y="108204"/>
                  </a:lnTo>
                  <a:lnTo>
                    <a:pt x="288543" y="105537"/>
                  </a:lnTo>
                  <a:lnTo>
                    <a:pt x="290956" y="103124"/>
                  </a:lnTo>
                  <a:lnTo>
                    <a:pt x="294893" y="100711"/>
                  </a:lnTo>
                  <a:lnTo>
                    <a:pt x="306958" y="94361"/>
                  </a:lnTo>
                  <a:lnTo>
                    <a:pt x="318007" y="87376"/>
                  </a:lnTo>
                  <a:lnTo>
                    <a:pt x="328294" y="80010"/>
                  </a:lnTo>
                  <a:lnTo>
                    <a:pt x="337946" y="72136"/>
                  </a:lnTo>
                  <a:lnTo>
                    <a:pt x="355727" y="56007"/>
                  </a:lnTo>
                  <a:lnTo>
                    <a:pt x="371982" y="40132"/>
                  </a:lnTo>
                  <a:lnTo>
                    <a:pt x="387857" y="25527"/>
                  </a:lnTo>
                  <a:lnTo>
                    <a:pt x="404114" y="13335"/>
                  </a:lnTo>
                  <a:lnTo>
                    <a:pt x="412750" y="8509"/>
                  </a:lnTo>
                  <a:lnTo>
                    <a:pt x="421640" y="4445"/>
                  </a:lnTo>
                  <a:lnTo>
                    <a:pt x="431165" y="1778"/>
                  </a:lnTo>
                  <a:lnTo>
                    <a:pt x="441325" y="127"/>
                  </a:lnTo>
                  <a:lnTo>
                    <a:pt x="448691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: Shape 54"/>
            <p:cNvSpPr/>
            <p:nvPr/>
          </p:nvSpPr>
          <p:spPr>
            <a:xfrm rot="15353400">
              <a:off x="2496960" y="2242800"/>
              <a:ext cx="358560" cy="3459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358523" h="346584">
                  <a:moveTo>
                    <a:pt x="247397" y="0"/>
                  </a:moveTo>
                  <a:lnTo>
                    <a:pt x="257557" y="634"/>
                  </a:lnTo>
                  <a:lnTo>
                    <a:pt x="267971" y="2413"/>
                  </a:lnTo>
                  <a:lnTo>
                    <a:pt x="278385" y="5588"/>
                  </a:lnTo>
                  <a:lnTo>
                    <a:pt x="288799" y="9653"/>
                  </a:lnTo>
                  <a:lnTo>
                    <a:pt x="298959" y="14732"/>
                  </a:lnTo>
                  <a:lnTo>
                    <a:pt x="308738" y="20701"/>
                  </a:lnTo>
                  <a:lnTo>
                    <a:pt x="318009" y="27432"/>
                  </a:lnTo>
                  <a:lnTo>
                    <a:pt x="326772" y="34925"/>
                  </a:lnTo>
                  <a:lnTo>
                    <a:pt x="334646" y="42926"/>
                  </a:lnTo>
                  <a:lnTo>
                    <a:pt x="341631" y="51434"/>
                  </a:lnTo>
                  <a:lnTo>
                    <a:pt x="347727" y="60325"/>
                  </a:lnTo>
                  <a:lnTo>
                    <a:pt x="352426" y="69722"/>
                  </a:lnTo>
                  <a:lnTo>
                    <a:pt x="355982" y="79247"/>
                  </a:lnTo>
                  <a:lnTo>
                    <a:pt x="358014" y="88900"/>
                  </a:lnTo>
                  <a:lnTo>
                    <a:pt x="358522" y="98680"/>
                  </a:lnTo>
                  <a:lnTo>
                    <a:pt x="357887" y="101600"/>
                  </a:lnTo>
                  <a:lnTo>
                    <a:pt x="356744" y="102108"/>
                  </a:lnTo>
                  <a:lnTo>
                    <a:pt x="354966" y="101093"/>
                  </a:lnTo>
                  <a:lnTo>
                    <a:pt x="352934" y="99186"/>
                  </a:lnTo>
                  <a:lnTo>
                    <a:pt x="348235" y="95884"/>
                  </a:lnTo>
                  <a:lnTo>
                    <a:pt x="346075" y="96140"/>
                  </a:lnTo>
                  <a:lnTo>
                    <a:pt x="343790" y="98680"/>
                  </a:lnTo>
                  <a:lnTo>
                    <a:pt x="335027" y="107569"/>
                  </a:lnTo>
                  <a:lnTo>
                    <a:pt x="325502" y="116967"/>
                  </a:lnTo>
                  <a:lnTo>
                    <a:pt x="305309" y="137415"/>
                  </a:lnTo>
                  <a:lnTo>
                    <a:pt x="283973" y="159131"/>
                  </a:lnTo>
                  <a:lnTo>
                    <a:pt x="262129" y="181736"/>
                  </a:lnTo>
                  <a:lnTo>
                    <a:pt x="240539" y="204597"/>
                  </a:lnTo>
                  <a:lnTo>
                    <a:pt x="219584" y="227330"/>
                  </a:lnTo>
                  <a:lnTo>
                    <a:pt x="200407" y="249173"/>
                  </a:lnTo>
                  <a:lnTo>
                    <a:pt x="191644" y="259588"/>
                  </a:lnTo>
                  <a:lnTo>
                    <a:pt x="183389" y="269494"/>
                  </a:lnTo>
                  <a:lnTo>
                    <a:pt x="167259" y="274955"/>
                  </a:lnTo>
                  <a:lnTo>
                    <a:pt x="152273" y="280034"/>
                  </a:lnTo>
                  <a:lnTo>
                    <a:pt x="138304" y="284988"/>
                  </a:lnTo>
                  <a:lnTo>
                    <a:pt x="125477" y="289815"/>
                  </a:lnTo>
                  <a:lnTo>
                    <a:pt x="101982" y="299084"/>
                  </a:lnTo>
                  <a:lnTo>
                    <a:pt x="80772" y="308103"/>
                  </a:lnTo>
                  <a:lnTo>
                    <a:pt x="41530" y="326391"/>
                  </a:lnTo>
                  <a:lnTo>
                    <a:pt x="21591" y="336169"/>
                  </a:lnTo>
                  <a:lnTo>
                    <a:pt x="0" y="346583"/>
                  </a:lnTo>
                  <a:lnTo>
                    <a:pt x="12828" y="320167"/>
                  </a:lnTo>
                  <a:lnTo>
                    <a:pt x="24384" y="295275"/>
                  </a:lnTo>
                  <a:lnTo>
                    <a:pt x="34925" y="271907"/>
                  </a:lnTo>
                  <a:lnTo>
                    <a:pt x="44070" y="249682"/>
                  </a:lnTo>
                  <a:lnTo>
                    <a:pt x="51690" y="228855"/>
                  </a:lnTo>
                  <a:lnTo>
                    <a:pt x="57785" y="208788"/>
                  </a:lnTo>
                  <a:lnTo>
                    <a:pt x="62104" y="189866"/>
                  </a:lnTo>
                  <a:lnTo>
                    <a:pt x="64644" y="171578"/>
                  </a:lnTo>
                  <a:lnTo>
                    <a:pt x="82550" y="155067"/>
                  </a:lnTo>
                  <a:lnTo>
                    <a:pt x="101600" y="138176"/>
                  </a:lnTo>
                  <a:lnTo>
                    <a:pt x="121794" y="120778"/>
                  </a:lnTo>
                  <a:lnTo>
                    <a:pt x="143130" y="102870"/>
                  </a:lnTo>
                  <a:lnTo>
                    <a:pt x="165100" y="84073"/>
                  </a:lnTo>
                  <a:lnTo>
                    <a:pt x="187961" y="64261"/>
                  </a:lnTo>
                  <a:lnTo>
                    <a:pt x="211456" y="43560"/>
                  </a:lnTo>
                  <a:lnTo>
                    <a:pt x="235586" y="21463"/>
                  </a:lnTo>
                  <a:lnTo>
                    <a:pt x="238380" y="18922"/>
                  </a:lnTo>
                  <a:lnTo>
                    <a:pt x="238888" y="16003"/>
                  </a:lnTo>
                  <a:lnTo>
                    <a:pt x="237872" y="12700"/>
                  </a:lnTo>
                  <a:lnTo>
                    <a:pt x="235967" y="9525"/>
                  </a:lnTo>
                  <a:lnTo>
                    <a:pt x="234189" y="6478"/>
                  </a:lnTo>
                  <a:lnTo>
                    <a:pt x="233427" y="3809"/>
                  </a:lnTo>
                  <a:lnTo>
                    <a:pt x="234189" y="1906"/>
                  </a:lnTo>
                  <a:lnTo>
                    <a:pt x="237618" y="761"/>
                  </a:lnTo>
                  <a:lnTo>
                    <a:pt x="247397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: Shape 55"/>
            <p:cNvSpPr/>
            <p:nvPr/>
          </p:nvSpPr>
          <p:spPr>
            <a:xfrm rot="15353400">
              <a:off x="1212480" y="1210680"/>
              <a:ext cx="1598760" cy="148104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597915" h="1481582">
                  <a:moveTo>
                    <a:pt x="0" y="1466468"/>
                  </a:moveTo>
                  <a:lnTo>
                    <a:pt x="12066" y="1449831"/>
                  </a:lnTo>
                  <a:lnTo>
                    <a:pt x="23369" y="1430909"/>
                  </a:lnTo>
                  <a:lnTo>
                    <a:pt x="33909" y="1410081"/>
                  </a:lnTo>
                  <a:lnTo>
                    <a:pt x="43688" y="1387475"/>
                  </a:lnTo>
                  <a:lnTo>
                    <a:pt x="52832" y="1363472"/>
                  </a:lnTo>
                  <a:lnTo>
                    <a:pt x="61087" y="1338326"/>
                  </a:lnTo>
                  <a:lnTo>
                    <a:pt x="68454" y="1312291"/>
                  </a:lnTo>
                  <a:lnTo>
                    <a:pt x="75184" y="1285748"/>
                  </a:lnTo>
                  <a:lnTo>
                    <a:pt x="94996" y="1264793"/>
                  </a:lnTo>
                  <a:lnTo>
                    <a:pt x="117221" y="1243203"/>
                  </a:lnTo>
                  <a:lnTo>
                    <a:pt x="164973" y="1200657"/>
                  </a:lnTo>
                  <a:lnTo>
                    <a:pt x="188342" y="1180465"/>
                  </a:lnTo>
                  <a:lnTo>
                    <a:pt x="210185" y="1161795"/>
                  </a:lnTo>
                  <a:lnTo>
                    <a:pt x="220092" y="1153160"/>
                  </a:lnTo>
                  <a:lnTo>
                    <a:pt x="229362" y="1145159"/>
                  </a:lnTo>
                  <a:lnTo>
                    <a:pt x="237618" y="1137666"/>
                  </a:lnTo>
                  <a:lnTo>
                    <a:pt x="244856" y="1130807"/>
                  </a:lnTo>
                  <a:lnTo>
                    <a:pt x="245364" y="1128649"/>
                  </a:lnTo>
                  <a:lnTo>
                    <a:pt x="245364" y="1125474"/>
                  </a:lnTo>
                  <a:lnTo>
                    <a:pt x="243968" y="1117473"/>
                  </a:lnTo>
                  <a:lnTo>
                    <a:pt x="241300" y="1108837"/>
                  </a:lnTo>
                  <a:lnTo>
                    <a:pt x="238125" y="1102232"/>
                  </a:lnTo>
                  <a:lnTo>
                    <a:pt x="241046" y="1098804"/>
                  </a:lnTo>
                  <a:lnTo>
                    <a:pt x="244730" y="1094613"/>
                  </a:lnTo>
                  <a:lnTo>
                    <a:pt x="248921" y="1089914"/>
                  </a:lnTo>
                  <a:lnTo>
                    <a:pt x="253746" y="1084453"/>
                  </a:lnTo>
                  <a:lnTo>
                    <a:pt x="264796" y="1072134"/>
                  </a:lnTo>
                  <a:lnTo>
                    <a:pt x="277496" y="1058037"/>
                  </a:lnTo>
                  <a:lnTo>
                    <a:pt x="291720" y="1042543"/>
                  </a:lnTo>
                  <a:lnTo>
                    <a:pt x="306832" y="1026287"/>
                  </a:lnTo>
                  <a:lnTo>
                    <a:pt x="338329" y="992378"/>
                  </a:lnTo>
                  <a:lnTo>
                    <a:pt x="353949" y="975614"/>
                  </a:lnTo>
                  <a:lnTo>
                    <a:pt x="369062" y="959357"/>
                  </a:lnTo>
                  <a:lnTo>
                    <a:pt x="383286" y="944372"/>
                  </a:lnTo>
                  <a:lnTo>
                    <a:pt x="396241" y="930656"/>
                  </a:lnTo>
                  <a:lnTo>
                    <a:pt x="407289" y="918844"/>
                  </a:lnTo>
                  <a:lnTo>
                    <a:pt x="412243" y="913892"/>
                  </a:lnTo>
                  <a:lnTo>
                    <a:pt x="416433" y="909319"/>
                  </a:lnTo>
                  <a:lnTo>
                    <a:pt x="420117" y="905510"/>
                  </a:lnTo>
                  <a:lnTo>
                    <a:pt x="423164" y="902335"/>
                  </a:lnTo>
                  <a:lnTo>
                    <a:pt x="425577" y="900049"/>
                  </a:lnTo>
                  <a:lnTo>
                    <a:pt x="427101" y="898398"/>
                  </a:lnTo>
                  <a:lnTo>
                    <a:pt x="426721" y="896747"/>
                  </a:lnTo>
                  <a:lnTo>
                    <a:pt x="427229" y="894334"/>
                  </a:lnTo>
                  <a:lnTo>
                    <a:pt x="428498" y="891286"/>
                  </a:lnTo>
                  <a:lnTo>
                    <a:pt x="430657" y="887730"/>
                  </a:lnTo>
                  <a:lnTo>
                    <a:pt x="433579" y="883539"/>
                  </a:lnTo>
                  <a:lnTo>
                    <a:pt x="437261" y="878713"/>
                  </a:lnTo>
                  <a:lnTo>
                    <a:pt x="441580" y="873506"/>
                  </a:lnTo>
                  <a:lnTo>
                    <a:pt x="446659" y="867918"/>
                  </a:lnTo>
                  <a:lnTo>
                    <a:pt x="458344" y="855344"/>
                  </a:lnTo>
                  <a:lnTo>
                    <a:pt x="472186" y="841248"/>
                  </a:lnTo>
                  <a:lnTo>
                    <a:pt x="487554" y="826007"/>
                  </a:lnTo>
                  <a:lnTo>
                    <a:pt x="504445" y="809752"/>
                  </a:lnTo>
                  <a:lnTo>
                    <a:pt x="522351" y="792861"/>
                  </a:lnTo>
                  <a:lnTo>
                    <a:pt x="540894" y="775716"/>
                  </a:lnTo>
                  <a:lnTo>
                    <a:pt x="578739" y="741044"/>
                  </a:lnTo>
                  <a:lnTo>
                    <a:pt x="597281" y="724154"/>
                  </a:lnTo>
                  <a:lnTo>
                    <a:pt x="615188" y="707898"/>
                  </a:lnTo>
                  <a:lnTo>
                    <a:pt x="632080" y="692531"/>
                  </a:lnTo>
                  <a:lnTo>
                    <a:pt x="647573" y="678561"/>
                  </a:lnTo>
                  <a:lnTo>
                    <a:pt x="650495" y="675893"/>
                  </a:lnTo>
                  <a:lnTo>
                    <a:pt x="654177" y="672592"/>
                  </a:lnTo>
                  <a:lnTo>
                    <a:pt x="658622" y="668781"/>
                  </a:lnTo>
                  <a:lnTo>
                    <a:pt x="663702" y="664337"/>
                  </a:lnTo>
                  <a:lnTo>
                    <a:pt x="675768" y="653923"/>
                  </a:lnTo>
                  <a:lnTo>
                    <a:pt x="689864" y="641731"/>
                  </a:lnTo>
                  <a:lnTo>
                    <a:pt x="705485" y="628395"/>
                  </a:lnTo>
                  <a:lnTo>
                    <a:pt x="722249" y="613918"/>
                  </a:lnTo>
                  <a:lnTo>
                    <a:pt x="757301" y="583565"/>
                  </a:lnTo>
                  <a:lnTo>
                    <a:pt x="774827" y="568325"/>
                  </a:lnTo>
                  <a:lnTo>
                    <a:pt x="791592" y="553593"/>
                  </a:lnTo>
                  <a:lnTo>
                    <a:pt x="807085" y="539623"/>
                  </a:lnTo>
                  <a:lnTo>
                    <a:pt x="821055" y="526923"/>
                  </a:lnTo>
                  <a:lnTo>
                    <a:pt x="832994" y="515747"/>
                  </a:lnTo>
                  <a:lnTo>
                    <a:pt x="838073" y="510794"/>
                  </a:lnTo>
                  <a:lnTo>
                    <a:pt x="842392" y="506349"/>
                  </a:lnTo>
                  <a:lnTo>
                    <a:pt x="845947" y="502666"/>
                  </a:lnTo>
                  <a:lnTo>
                    <a:pt x="848869" y="499364"/>
                  </a:lnTo>
                  <a:lnTo>
                    <a:pt x="850773" y="496951"/>
                  </a:lnTo>
                  <a:lnTo>
                    <a:pt x="851789" y="495046"/>
                  </a:lnTo>
                  <a:lnTo>
                    <a:pt x="852424" y="491744"/>
                  </a:lnTo>
                  <a:lnTo>
                    <a:pt x="852044" y="488696"/>
                  </a:lnTo>
                  <a:lnTo>
                    <a:pt x="849376" y="483235"/>
                  </a:lnTo>
                  <a:lnTo>
                    <a:pt x="846963" y="478155"/>
                  </a:lnTo>
                  <a:lnTo>
                    <a:pt x="846709" y="475361"/>
                  </a:lnTo>
                  <a:lnTo>
                    <a:pt x="847598" y="472440"/>
                  </a:lnTo>
                  <a:lnTo>
                    <a:pt x="855854" y="463931"/>
                  </a:lnTo>
                  <a:lnTo>
                    <a:pt x="865759" y="453898"/>
                  </a:lnTo>
                  <a:lnTo>
                    <a:pt x="877444" y="442341"/>
                  </a:lnTo>
                  <a:lnTo>
                    <a:pt x="890779" y="429387"/>
                  </a:lnTo>
                  <a:lnTo>
                    <a:pt x="905510" y="415290"/>
                  </a:lnTo>
                  <a:lnTo>
                    <a:pt x="921639" y="400050"/>
                  </a:lnTo>
                  <a:lnTo>
                    <a:pt x="938784" y="383794"/>
                  </a:lnTo>
                  <a:lnTo>
                    <a:pt x="957199" y="366649"/>
                  </a:lnTo>
                  <a:lnTo>
                    <a:pt x="976504" y="348869"/>
                  </a:lnTo>
                  <a:lnTo>
                    <a:pt x="996570" y="330327"/>
                  </a:lnTo>
                  <a:lnTo>
                    <a:pt x="1038733" y="291973"/>
                  </a:lnTo>
                  <a:lnTo>
                    <a:pt x="1082802" y="252476"/>
                  </a:lnTo>
                  <a:lnTo>
                    <a:pt x="1127633" y="212852"/>
                  </a:lnTo>
                  <a:lnTo>
                    <a:pt x="1172083" y="174117"/>
                  </a:lnTo>
                  <a:lnTo>
                    <a:pt x="1193927" y="155321"/>
                  </a:lnTo>
                  <a:lnTo>
                    <a:pt x="1215391" y="137287"/>
                  </a:lnTo>
                  <a:lnTo>
                    <a:pt x="1236346" y="119761"/>
                  </a:lnTo>
                  <a:lnTo>
                    <a:pt x="1256538" y="103124"/>
                  </a:lnTo>
                  <a:lnTo>
                    <a:pt x="1275716" y="87376"/>
                  </a:lnTo>
                  <a:lnTo>
                    <a:pt x="1294257" y="72644"/>
                  </a:lnTo>
                  <a:lnTo>
                    <a:pt x="1311656" y="59055"/>
                  </a:lnTo>
                  <a:lnTo>
                    <a:pt x="1327785" y="46863"/>
                  </a:lnTo>
                  <a:lnTo>
                    <a:pt x="1342645" y="36195"/>
                  </a:lnTo>
                  <a:lnTo>
                    <a:pt x="1355980" y="26924"/>
                  </a:lnTo>
                  <a:lnTo>
                    <a:pt x="1367791" y="19177"/>
                  </a:lnTo>
                  <a:lnTo>
                    <a:pt x="1377950" y="13335"/>
                  </a:lnTo>
                  <a:lnTo>
                    <a:pt x="1386332" y="9398"/>
                  </a:lnTo>
                  <a:lnTo>
                    <a:pt x="1392682" y="7620"/>
                  </a:lnTo>
                  <a:lnTo>
                    <a:pt x="1403605" y="4064"/>
                  </a:lnTo>
                  <a:lnTo>
                    <a:pt x="1414272" y="1651"/>
                  </a:lnTo>
                  <a:lnTo>
                    <a:pt x="1424941" y="254"/>
                  </a:lnTo>
                  <a:lnTo>
                    <a:pt x="1435481" y="0"/>
                  </a:lnTo>
                  <a:lnTo>
                    <a:pt x="1445769" y="635"/>
                  </a:lnTo>
                  <a:lnTo>
                    <a:pt x="1456055" y="2286"/>
                  </a:lnTo>
                  <a:lnTo>
                    <a:pt x="1475868" y="8128"/>
                  </a:lnTo>
                  <a:lnTo>
                    <a:pt x="1494791" y="16891"/>
                  </a:lnTo>
                  <a:lnTo>
                    <a:pt x="1512697" y="28448"/>
                  </a:lnTo>
                  <a:lnTo>
                    <a:pt x="1529334" y="42291"/>
                  </a:lnTo>
                  <a:lnTo>
                    <a:pt x="1544574" y="58039"/>
                  </a:lnTo>
                  <a:lnTo>
                    <a:pt x="1558163" y="75184"/>
                  </a:lnTo>
                  <a:lnTo>
                    <a:pt x="1570229" y="93599"/>
                  </a:lnTo>
                  <a:lnTo>
                    <a:pt x="1580134" y="112395"/>
                  </a:lnTo>
                  <a:lnTo>
                    <a:pt x="1588135" y="131699"/>
                  </a:lnTo>
                  <a:lnTo>
                    <a:pt x="1593850" y="150749"/>
                  </a:lnTo>
                  <a:lnTo>
                    <a:pt x="1597280" y="169291"/>
                  </a:lnTo>
                  <a:lnTo>
                    <a:pt x="1597914" y="186944"/>
                  </a:lnTo>
                  <a:lnTo>
                    <a:pt x="1597280" y="195199"/>
                  </a:lnTo>
                  <a:lnTo>
                    <a:pt x="1596009" y="203073"/>
                  </a:lnTo>
                  <a:lnTo>
                    <a:pt x="1589913" y="211709"/>
                  </a:lnTo>
                  <a:lnTo>
                    <a:pt x="1581531" y="221869"/>
                  </a:lnTo>
                  <a:lnTo>
                    <a:pt x="1570991" y="233553"/>
                  </a:lnTo>
                  <a:lnTo>
                    <a:pt x="1558798" y="246634"/>
                  </a:lnTo>
                  <a:lnTo>
                    <a:pt x="1544955" y="260985"/>
                  </a:lnTo>
                  <a:lnTo>
                    <a:pt x="1529334" y="276479"/>
                  </a:lnTo>
                  <a:lnTo>
                    <a:pt x="1512444" y="292862"/>
                  </a:lnTo>
                  <a:lnTo>
                    <a:pt x="1494409" y="310388"/>
                  </a:lnTo>
                  <a:lnTo>
                    <a:pt x="1475105" y="328422"/>
                  </a:lnTo>
                  <a:lnTo>
                    <a:pt x="1454785" y="347345"/>
                  </a:lnTo>
                  <a:lnTo>
                    <a:pt x="1433704" y="366649"/>
                  </a:lnTo>
                  <a:lnTo>
                    <a:pt x="1411986" y="386461"/>
                  </a:lnTo>
                  <a:lnTo>
                    <a:pt x="1367155" y="426720"/>
                  </a:lnTo>
                  <a:lnTo>
                    <a:pt x="1321308" y="467233"/>
                  </a:lnTo>
                  <a:lnTo>
                    <a:pt x="1275970" y="506857"/>
                  </a:lnTo>
                  <a:lnTo>
                    <a:pt x="1253871" y="526161"/>
                  </a:lnTo>
                  <a:lnTo>
                    <a:pt x="1232155" y="544830"/>
                  </a:lnTo>
                  <a:lnTo>
                    <a:pt x="1211199" y="562864"/>
                  </a:lnTo>
                  <a:lnTo>
                    <a:pt x="1191006" y="580136"/>
                  </a:lnTo>
                  <a:lnTo>
                    <a:pt x="1171830" y="596519"/>
                  </a:lnTo>
                  <a:lnTo>
                    <a:pt x="1153796" y="611631"/>
                  </a:lnTo>
                  <a:lnTo>
                    <a:pt x="1137031" y="625856"/>
                  </a:lnTo>
                  <a:lnTo>
                    <a:pt x="1121664" y="638682"/>
                  </a:lnTo>
                  <a:lnTo>
                    <a:pt x="1107948" y="649986"/>
                  </a:lnTo>
                  <a:lnTo>
                    <a:pt x="1095883" y="659892"/>
                  </a:lnTo>
                  <a:lnTo>
                    <a:pt x="1085723" y="668147"/>
                  </a:lnTo>
                  <a:lnTo>
                    <a:pt x="1077722" y="674624"/>
                  </a:lnTo>
                  <a:lnTo>
                    <a:pt x="1071626" y="679195"/>
                  </a:lnTo>
                  <a:lnTo>
                    <a:pt x="1069595" y="680719"/>
                  </a:lnTo>
                  <a:lnTo>
                    <a:pt x="1068071" y="681736"/>
                  </a:lnTo>
                  <a:lnTo>
                    <a:pt x="1064514" y="681990"/>
                  </a:lnTo>
                  <a:lnTo>
                    <a:pt x="1061847" y="681863"/>
                  </a:lnTo>
                  <a:lnTo>
                    <a:pt x="1057910" y="680085"/>
                  </a:lnTo>
                  <a:lnTo>
                    <a:pt x="1054100" y="677291"/>
                  </a:lnTo>
                  <a:lnTo>
                    <a:pt x="1051306" y="675767"/>
                  </a:lnTo>
                  <a:lnTo>
                    <a:pt x="1047750" y="674243"/>
                  </a:lnTo>
                  <a:lnTo>
                    <a:pt x="1038480" y="681481"/>
                  </a:lnTo>
                  <a:lnTo>
                    <a:pt x="1028700" y="689482"/>
                  </a:lnTo>
                  <a:lnTo>
                    <a:pt x="1007872" y="707263"/>
                  </a:lnTo>
                  <a:lnTo>
                    <a:pt x="985774" y="726948"/>
                  </a:lnTo>
                  <a:lnTo>
                    <a:pt x="963169" y="747776"/>
                  </a:lnTo>
                  <a:lnTo>
                    <a:pt x="940689" y="768604"/>
                  </a:lnTo>
                  <a:lnTo>
                    <a:pt x="919099" y="788924"/>
                  </a:lnTo>
                  <a:lnTo>
                    <a:pt x="898906" y="807719"/>
                  </a:lnTo>
                  <a:lnTo>
                    <a:pt x="889635" y="816482"/>
                  </a:lnTo>
                  <a:lnTo>
                    <a:pt x="880872" y="824356"/>
                  </a:lnTo>
                  <a:lnTo>
                    <a:pt x="873633" y="830961"/>
                  </a:lnTo>
                  <a:lnTo>
                    <a:pt x="865632" y="838200"/>
                  </a:lnTo>
                  <a:lnTo>
                    <a:pt x="848106" y="854202"/>
                  </a:lnTo>
                  <a:lnTo>
                    <a:pt x="828295" y="871728"/>
                  </a:lnTo>
                  <a:lnTo>
                    <a:pt x="807212" y="890651"/>
                  </a:lnTo>
                  <a:lnTo>
                    <a:pt x="784987" y="910209"/>
                  </a:lnTo>
                  <a:lnTo>
                    <a:pt x="762127" y="930148"/>
                  </a:lnTo>
                  <a:lnTo>
                    <a:pt x="716154" y="969391"/>
                  </a:lnTo>
                  <a:lnTo>
                    <a:pt x="694055" y="987806"/>
                  </a:lnTo>
                  <a:lnTo>
                    <a:pt x="673227" y="1004824"/>
                  </a:lnTo>
                  <a:lnTo>
                    <a:pt x="653796" y="1020064"/>
                  </a:lnTo>
                  <a:lnTo>
                    <a:pt x="644780" y="1026922"/>
                  </a:lnTo>
                  <a:lnTo>
                    <a:pt x="636397" y="1033018"/>
                  </a:lnTo>
                  <a:lnTo>
                    <a:pt x="628650" y="1038479"/>
                  </a:lnTo>
                  <a:lnTo>
                    <a:pt x="621666" y="1043305"/>
                  </a:lnTo>
                  <a:lnTo>
                    <a:pt x="615316" y="1047242"/>
                  </a:lnTo>
                  <a:lnTo>
                    <a:pt x="609727" y="1050417"/>
                  </a:lnTo>
                  <a:lnTo>
                    <a:pt x="605029" y="1052703"/>
                  </a:lnTo>
                  <a:lnTo>
                    <a:pt x="601219" y="1054100"/>
                  </a:lnTo>
                  <a:lnTo>
                    <a:pt x="598424" y="1054354"/>
                  </a:lnTo>
                  <a:lnTo>
                    <a:pt x="596520" y="1053592"/>
                  </a:lnTo>
                  <a:lnTo>
                    <a:pt x="593725" y="1055751"/>
                  </a:lnTo>
                  <a:lnTo>
                    <a:pt x="590170" y="1058291"/>
                  </a:lnTo>
                  <a:lnTo>
                    <a:pt x="585979" y="1061466"/>
                  </a:lnTo>
                  <a:lnTo>
                    <a:pt x="581152" y="1065149"/>
                  </a:lnTo>
                  <a:lnTo>
                    <a:pt x="569849" y="1073912"/>
                  </a:lnTo>
                  <a:lnTo>
                    <a:pt x="556514" y="1084199"/>
                  </a:lnTo>
                  <a:lnTo>
                    <a:pt x="541655" y="1095882"/>
                  </a:lnTo>
                  <a:lnTo>
                    <a:pt x="525654" y="1108456"/>
                  </a:lnTo>
                  <a:lnTo>
                    <a:pt x="491618" y="1135634"/>
                  </a:lnTo>
                  <a:lnTo>
                    <a:pt x="457200" y="1163193"/>
                  </a:lnTo>
                  <a:lnTo>
                    <a:pt x="440945" y="1176274"/>
                  </a:lnTo>
                  <a:lnTo>
                    <a:pt x="425450" y="1188719"/>
                  </a:lnTo>
                  <a:lnTo>
                    <a:pt x="411480" y="1200023"/>
                  </a:lnTo>
                  <a:lnTo>
                    <a:pt x="399288" y="1210056"/>
                  </a:lnTo>
                  <a:lnTo>
                    <a:pt x="389255" y="1218312"/>
                  </a:lnTo>
                  <a:lnTo>
                    <a:pt x="385064" y="1221740"/>
                  </a:lnTo>
                  <a:lnTo>
                    <a:pt x="381508" y="1224534"/>
                  </a:lnTo>
                  <a:lnTo>
                    <a:pt x="379730" y="1224662"/>
                  </a:lnTo>
                  <a:lnTo>
                    <a:pt x="377445" y="1224026"/>
                  </a:lnTo>
                  <a:lnTo>
                    <a:pt x="371730" y="1221993"/>
                  </a:lnTo>
                  <a:lnTo>
                    <a:pt x="366014" y="1220216"/>
                  </a:lnTo>
                  <a:lnTo>
                    <a:pt x="363601" y="1219835"/>
                  </a:lnTo>
                  <a:lnTo>
                    <a:pt x="361696" y="1220216"/>
                  </a:lnTo>
                  <a:lnTo>
                    <a:pt x="353822" y="1227074"/>
                  </a:lnTo>
                  <a:lnTo>
                    <a:pt x="344679" y="1235329"/>
                  </a:lnTo>
                  <a:lnTo>
                    <a:pt x="334899" y="1244981"/>
                  </a:lnTo>
                  <a:lnTo>
                    <a:pt x="324358" y="1255776"/>
                  </a:lnTo>
                  <a:lnTo>
                    <a:pt x="313182" y="1267460"/>
                  </a:lnTo>
                  <a:lnTo>
                    <a:pt x="301625" y="1279652"/>
                  </a:lnTo>
                  <a:lnTo>
                    <a:pt x="278004" y="1305179"/>
                  </a:lnTo>
                  <a:lnTo>
                    <a:pt x="254508" y="1330832"/>
                  </a:lnTo>
                  <a:lnTo>
                    <a:pt x="243205" y="1343025"/>
                  </a:lnTo>
                  <a:lnTo>
                    <a:pt x="232410" y="1354581"/>
                  </a:lnTo>
                  <a:lnTo>
                    <a:pt x="222123" y="1365124"/>
                  </a:lnTo>
                  <a:lnTo>
                    <a:pt x="212725" y="1374775"/>
                  </a:lnTo>
                  <a:lnTo>
                    <a:pt x="204089" y="1382776"/>
                  </a:lnTo>
                  <a:lnTo>
                    <a:pt x="196723" y="1389380"/>
                  </a:lnTo>
                  <a:lnTo>
                    <a:pt x="167895" y="1396239"/>
                  </a:lnTo>
                  <a:lnTo>
                    <a:pt x="139446" y="1405764"/>
                  </a:lnTo>
                  <a:lnTo>
                    <a:pt x="111887" y="1417319"/>
                  </a:lnTo>
                  <a:lnTo>
                    <a:pt x="86106" y="1430401"/>
                  </a:lnTo>
                  <a:lnTo>
                    <a:pt x="62357" y="1443990"/>
                  </a:lnTo>
                  <a:lnTo>
                    <a:pt x="41275" y="1457579"/>
                  </a:lnTo>
                  <a:lnTo>
                    <a:pt x="32005" y="1464182"/>
                  </a:lnTo>
                  <a:lnTo>
                    <a:pt x="23496" y="1470279"/>
                  </a:lnTo>
                  <a:lnTo>
                    <a:pt x="16002" y="1476249"/>
                  </a:lnTo>
                  <a:lnTo>
                    <a:pt x="9652" y="1481581"/>
                  </a:lnTo>
                  <a:lnTo>
                    <a:pt x="7621" y="1476756"/>
                  </a:lnTo>
                  <a:lnTo>
                    <a:pt x="5334" y="1473707"/>
                  </a:lnTo>
                  <a:lnTo>
                    <a:pt x="2921" y="1470914"/>
                  </a:lnTo>
                  <a:lnTo>
                    <a:pt x="1573149" y="203327"/>
                  </a:lnTo>
                  <a:lnTo>
                    <a:pt x="1566292" y="212598"/>
                  </a:lnTo>
                  <a:lnTo>
                    <a:pt x="1557782" y="223012"/>
                  </a:lnTo>
                  <a:lnTo>
                    <a:pt x="1547496" y="234569"/>
                  </a:lnTo>
                  <a:lnTo>
                    <a:pt x="1535811" y="247269"/>
                  </a:lnTo>
                  <a:lnTo>
                    <a:pt x="1522604" y="260858"/>
                  </a:lnTo>
                  <a:lnTo>
                    <a:pt x="1507998" y="275209"/>
                  </a:lnTo>
                  <a:lnTo>
                    <a:pt x="1492377" y="290449"/>
                  </a:lnTo>
                  <a:lnTo>
                    <a:pt x="1475486" y="306324"/>
                  </a:lnTo>
                  <a:lnTo>
                    <a:pt x="1457960" y="322834"/>
                  </a:lnTo>
                  <a:lnTo>
                    <a:pt x="1439292" y="339725"/>
                  </a:lnTo>
                  <a:lnTo>
                    <a:pt x="1420114" y="357251"/>
                  </a:lnTo>
                  <a:lnTo>
                    <a:pt x="1379982" y="392938"/>
                  </a:lnTo>
                  <a:lnTo>
                    <a:pt x="1338707" y="429133"/>
                  </a:lnTo>
                  <a:lnTo>
                    <a:pt x="1296924" y="465201"/>
                  </a:lnTo>
                  <a:lnTo>
                    <a:pt x="1255776" y="500507"/>
                  </a:lnTo>
                  <a:lnTo>
                    <a:pt x="1216152" y="534162"/>
                  </a:lnTo>
                  <a:lnTo>
                    <a:pt x="1197356" y="550164"/>
                  </a:lnTo>
                  <a:lnTo>
                    <a:pt x="1179322" y="565531"/>
                  </a:lnTo>
                  <a:lnTo>
                    <a:pt x="1161923" y="580009"/>
                  </a:lnTo>
                  <a:lnTo>
                    <a:pt x="1145795" y="593852"/>
                  </a:lnTo>
                  <a:lnTo>
                    <a:pt x="1130681" y="606679"/>
                  </a:lnTo>
                  <a:lnTo>
                    <a:pt x="1116711" y="618363"/>
                  </a:lnTo>
                  <a:lnTo>
                    <a:pt x="1104266" y="629031"/>
                  </a:lnTo>
                  <a:lnTo>
                    <a:pt x="1093344" y="638429"/>
                  </a:lnTo>
                  <a:lnTo>
                    <a:pt x="1083819" y="646556"/>
                  </a:lnTo>
                  <a:lnTo>
                    <a:pt x="1076325" y="653415"/>
                  </a:lnTo>
                  <a:lnTo>
                    <a:pt x="1076833" y="633349"/>
                  </a:lnTo>
                  <a:lnTo>
                    <a:pt x="1074929" y="614044"/>
                  </a:lnTo>
                  <a:lnTo>
                    <a:pt x="1070864" y="595630"/>
                  </a:lnTo>
                  <a:lnTo>
                    <a:pt x="1064769" y="578231"/>
                  </a:lnTo>
                  <a:lnTo>
                    <a:pt x="1056768" y="561848"/>
                  </a:lnTo>
                  <a:lnTo>
                    <a:pt x="1046861" y="546354"/>
                  </a:lnTo>
                  <a:lnTo>
                    <a:pt x="1035305" y="532130"/>
                  </a:lnTo>
                  <a:lnTo>
                    <a:pt x="1022096" y="519176"/>
                  </a:lnTo>
                  <a:lnTo>
                    <a:pt x="1007619" y="507619"/>
                  </a:lnTo>
                  <a:lnTo>
                    <a:pt x="991744" y="497459"/>
                  </a:lnTo>
                  <a:lnTo>
                    <a:pt x="974598" y="488823"/>
                  </a:lnTo>
                  <a:lnTo>
                    <a:pt x="956310" y="481584"/>
                  </a:lnTo>
                  <a:lnTo>
                    <a:pt x="937260" y="476123"/>
                  </a:lnTo>
                  <a:lnTo>
                    <a:pt x="917321" y="472567"/>
                  </a:lnTo>
                  <a:lnTo>
                    <a:pt x="896747" y="470662"/>
                  </a:lnTo>
                  <a:lnTo>
                    <a:pt x="875538" y="470662"/>
                  </a:lnTo>
                  <a:lnTo>
                    <a:pt x="878841" y="466598"/>
                  </a:lnTo>
                  <a:lnTo>
                    <a:pt x="883158" y="461772"/>
                  </a:lnTo>
                  <a:lnTo>
                    <a:pt x="888111" y="456184"/>
                  </a:lnTo>
                  <a:lnTo>
                    <a:pt x="893954" y="449834"/>
                  </a:lnTo>
                  <a:lnTo>
                    <a:pt x="900557" y="442849"/>
                  </a:lnTo>
                  <a:lnTo>
                    <a:pt x="907796" y="435229"/>
                  </a:lnTo>
                  <a:lnTo>
                    <a:pt x="915797" y="426974"/>
                  </a:lnTo>
                  <a:lnTo>
                    <a:pt x="924306" y="418211"/>
                  </a:lnTo>
                  <a:lnTo>
                    <a:pt x="943230" y="399161"/>
                  </a:lnTo>
                  <a:lnTo>
                    <a:pt x="964311" y="378333"/>
                  </a:lnTo>
                  <a:lnTo>
                    <a:pt x="987298" y="356362"/>
                  </a:lnTo>
                  <a:lnTo>
                    <a:pt x="1011555" y="333248"/>
                  </a:lnTo>
                  <a:lnTo>
                    <a:pt x="1037209" y="309626"/>
                  </a:lnTo>
                  <a:lnTo>
                    <a:pt x="1063625" y="285623"/>
                  </a:lnTo>
                  <a:lnTo>
                    <a:pt x="1118108" y="238252"/>
                  </a:lnTo>
                  <a:lnTo>
                    <a:pt x="1145668" y="215519"/>
                  </a:lnTo>
                  <a:lnTo>
                    <a:pt x="1172719" y="193929"/>
                  </a:lnTo>
                  <a:lnTo>
                    <a:pt x="1199134" y="173736"/>
                  </a:lnTo>
                  <a:lnTo>
                    <a:pt x="1224916" y="155321"/>
                  </a:lnTo>
                  <a:lnTo>
                    <a:pt x="1225296" y="156591"/>
                  </a:lnTo>
                  <a:lnTo>
                    <a:pt x="1227329" y="156591"/>
                  </a:lnTo>
                  <a:lnTo>
                    <a:pt x="1230630" y="155321"/>
                  </a:lnTo>
                  <a:lnTo>
                    <a:pt x="1235075" y="153543"/>
                  </a:lnTo>
                  <a:lnTo>
                    <a:pt x="1245362" y="149352"/>
                  </a:lnTo>
                  <a:lnTo>
                    <a:pt x="1250570" y="147828"/>
                  </a:lnTo>
                  <a:lnTo>
                    <a:pt x="1255396" y="147066"/>
                  </a:lnTo>
                  <a:lnTo>
                    <a:pt x="1256030" y="156591"/>
                  </a:lnTo>
                  <a:lnTo>
                    <a:pt x="1255904" y="165608"/>
                  </a:lnTo>
                  <a:lnTo>
                    <a:pt x="1255142" y="172974"/>
                  </a:lnTo>
                  <a:lnTo>
                    <a:pt x="1253998" y="177673"/>
                  </a:lnTo>
                  <a:lnTo>
                    <a:pt x="1250950" y="180213"/>
                  </a:lnTo>
                  <a:lnTo>
                    <a:pt x="1247141" y="183642"/>
                  </a:lnTo>
                  <a:lnTo>
                    <a:pt x="1242569" y="187706"/>
                  </a:lnTo>
                  <a:lnTo>
                    <a:pt x="1237488" y="192151"/>
                  </a:lnTo>
                  <a:lnTo>
                    <a:pt x="1225677" y="202819"/>
                  </a:lnTo>
                  <a:lnTo>
                    <a:pt x="1211834" y="215265"/>
                  </a:lnTo>
                  <a:lnTo>
                    <a:pt x="1196468" y="229108"/>
                  </a:lnTo>
                  <a:lnTo>
                    <a:pt x="1179704" y="244094"/>
                  </a:lnTo>
                  <a:lnTo>
                    <a:pt x="1162431" y="259969"/>
                  </a:lnTo>
                  <a:lnTo>
                    <a:pt x="1144524" y="276225"/>
                  </a:lnTo>
                  <a:lnTo>
                    <a:pt x="1108964" y="308610"/>
                  </a:lnTo>
                  <a:lnTo>
                    <a:pt x="1091946" y="324231"/>
                  </a:lnTo>
                  <a:lnTo>
                    <a:pt x="1075945" y="338836"/>
                  </a:lnTo>
                  <a:lnTo>
                    <a:pt x="1061467" y="352298"/>
                  </a:lnTo>
                  <a:lnTo>
                    <a:pt x="1048639" y="364109"/>
                  </a:lnTo>
                  <a:lnTo>
                    <a:pt x="1043051" y="369316"/>
                  </a:lnTo>
                  <a:lnTo>
                    <a:pt x="1037971" y="374015"/>
                  </a:lnTo>
                  <a:lnTo>
                    <a:pt x="1033526" y="378206"/>
                  </a:lnTo>
                  <a:lnTo>
                    <a:pt x="1029844" y="381762"/>
                  </a:lnTo>
                  <a:lnTo>
                    <a:pt x="1028320" y="382905"/>
                  </a:lnTo>
                  <a:lnTo>
                    <a:pt x="1027430" y="383032"/>
                  </a:lnTo>
                  <a:lnTo>
                    <a:pt x="1026414" y="381762"/>
                  </a:lnTo>
                  <a:lnTo>
                    <a:pt x="1024509" y="380111"/>
                  </a:lnTo>
                  <a:lnTo>
                    <a:pt x="1022731" y="380111"/>
                  </a:lnTo>
                  <a:lnTo>
                    <a:pt x="1019810" y="380873"/>
                  </a:lnTo>
                  <a:lnTo>
                    <a:pt x="999871" y="406146"/>
                  </a:lnTo>
                  <a:lnTo>
                    <a:pt x="990473" y="417957"/>
                  </a:lnTo>
                  <a:lnTo>
                    <a:pt x="982092" y="428879"/>
                  </a:lnTo>
                  <a:lnTo>
                    <a:pt x="975233" y="438658"/>
                  </a:lnTo>
                  <a:lnTo>
                    <a:pt x="970407" y="446913"/>
                  </a:lnTo>
                  <a:lnTo>
                    <a:pt x="969010" y="450469"/>
                  </a:lnTo>
                  <a:lnTo>
                    <a:pt x="968248" y="453644"/>
                  </a:lnTo>
                  <a:lnTo>
                    <a:pt x="968248" y="456184"/>
                  </a:lnTo>
                  <a:lnTo>
                    <a:pt x="969137" y="458216"/>
                  </a:lnTo>
                  <a:lnTo>
                    <a:pt x="972694" y="459232"/>
                  </a:lnTo>
                  <a:lnTo>
                    <a:pt x="977138" y="459486"/>
                  </a:lnTo>
                  <a:lnTo>
                    <a:pt x="982219" y="459232"/>
                  </a:lnTo>
                  <a:lnTo>
                    <a:pt x="987933" y="458470"/>
                  </a:lnTo>
                  <a:lnTo>
                    <a:pt x="1000887" y="455422"/>
                  </a:lnTo>
                  <a:lnTo>
                    <a:pt x="1015111" y="450977"/>
                  </a:lnTo>
                  <a:lnTo>
                    <a:pt x="1044830" y="439420"/>
                  </a:lnTo>
                  <a:lnTo>
                    <a:pt x="1058546" y="433451"/>
                  </a:lnTo>
                  <a:lnTo>
                    <a:pt x="1070737" y="427736"/>
                  </a:lnTo>
                  <a:lnTo>
                    <a:pt x="1072007" y="425323"/>
                  </a:lnTo>
                  <a:lnTo>
                    <a:pt x="1072516" y="423545"/>
                  </a:lnTo>
                  <a:lnTo>
                    <a:pt x="1072134" y="420497"/>
                  </a:lnTo>
                  <a:lnTo>
                    <a:pt x="1070230" y="418338"/>
                  </a:lnTo>
                  <a:lnTo>
                    <a:pt x="1067435" y="416687"/>
                  </a:lnTo>
                  <a:lnTo>
                    <a:pt x="1064769" y="415163"/>
                  </a:lnTo>
                  <a:lnTo>
                    <a:pt x="1062863" y="413258"/>
                  </a:lnTo>
                  <a:lnTo>
                    <a:pt x="1062736" y="410591"/>
                  </a:lnTo>
                  <a:lnTo>
                    <a:pt x="1063625" y="408940"/>
                  </a:lnTo>
                  <a:lnTo>
                    <a:pt x="1065022" y="406781"/>
                  </a:lnTo>
                  <a:lnTo>
                    <a:pt x="1066673" y="405257"/>
                  </a:lnTo>
                  <a:lnTo>
                    <a:pt x="1068959" y="403098"/>
                  </a:lnTo>
                  <a:lnTo>
                    <a:pt x="1072007" y="400431"/>
                  </a:lnTo>
                  <a:lnTo>
                    <a:pt x="1075818" y="397256"/>
                  </a:lnTo>
                  <a:lnTo>
                    <a:pt x="1085216" y="389763"/>
                  </a:lnTo>
                  <a:lnTo>
                    <a:pt x="1097026" y="380492"/>
                  </a:lnTo>
                  <a:lnTo>
                    <a:pt x="1110870" y="369951"/>
                  </a:lnTo>
                  <a:lnTo>
                    <a:pt x="1126236" y="358394"/>
                  </a:lnTo>
                  <a:lnTo>
                    <a:pt x="1143000" y="345821"/>
                  </a:lnTo>
                  <a:lnTo>
                    <a:pt x="1160654" y="332867"/>
                  </a:lnTo>
                  <a:lnTo>
                    <a:pt x="1197737" y="306070"/>
                  </a:lnTo>
                  <a:lnTo>
                    <a:pt x="1234695" y="279781"/>
                  </a:lnTo>
                  <a:lnTo>
                    <a:pt x="1252347" y="267462"/>
                  </a:lnTo>
                  <a:lnTo>
                    <a:pt x="1268984" y="256032"/>
                  </a:lnTo>
                  <a:lnTo>
                    <a:pt x="1284224" y="245618"/>
                  </a:lnTo>
                  <a:lnTo>
                    <a:pt x="1297813" y="236601"/>
                  </a:lnTo>
                  <a:lnTo>
                    <a:pt x="1307466" y="237109"/>
                  </a:lnTo>
                  <a:lnTo>
                    <a:pt x="1314831" y="236855"/>
                  </a:lnTo>
                  <a:lnTo>
                    <a:pt x="1320673" y="236347"/>
                  </a:lnTo>
                  <a:lnTo>
                    <a:pt x="1325754" y="235585"/>
                  </a:lnTo>
                  <a:lnTo>
                    <a:pt x="1331087" y="234569"/>
                  </a:lnTo>
                  <a:lnTo>
                    <a:pt x="1337437" y="233807"/>
                  </a:lnTo>
                  <a:lnTo>
                    <a:pt x="1345820" y="233299"/>
                  </a:lnTo>
                  <a:lnTo>
                    <a:pt x="1356869" y="233172"/>
                  </a:lnTo>
                  <a:lnTo>
                    <a:pt x="1363726" y="228854"/>
                  </a:lnTo>
                  <a:lnTo>
                    <a:pt x="1371473" y="223520"/>
                  </a:lnTo>
                  <a:lnTo>
                    <a:pt x="1379729" y="217170"/>
                  </a:lnTo>
                  <a:lnTo>
                    <a:pt x="1388364" y="210185"/>
                  </a:lnTo>
                  <a:lnTo>
                    <a:pt x="1407160" y="194056"/>
                  </a:lnTo>
                  <a:lnTo>
                    <a:pt x="1426972" y="176784"/>
                  </a:lnTo>
                  <a:lnTo>
                    <a:pt x="1447038" y="159258"/>
                  </a:lnTo>
                  <a:lnTo>
                    <a:pt x="1467231" y="142748"/>
                  </a:lnTo>
                  <a:lnTo>
                    <a:pt x="1486662" y="128651"/>
                  </a:lnTo>
                  <a:lnTo>
                    <a:pt x="1495933" y="122809"/>
                  </a:lnTo>
                  <a:lnTo>
                    <a:pt x="1504823" y="117983"/>
                  </a:lnTo>
                  <a:lnTo>
                    <a:pt x="1506221" y="117602"/>
                  </a:lnTo>
                  <a:lnTo>
                    <a:pt x="1508633" y="117475"/>
                  </a:lnTo>
                  <a:lnTo>
                    <a:pt x="1511808" y="117729"/>
                  </a:lnTo>
                  <a:lnTo>
                    <a:pt x="1515492" y="118491"/>
                  </a:lnTo>
                  <a:lnTo>
                    <a:pt x="1524127" y="122047"/>
                  </a:lnTo>
                  <a:lnTo>
                    <a:pt x="1533525" y="128905"/>
                  </a:lnTo>
                  <a:lnTo>
                    <a:pt x="1538097" y="133985"/>
                  </a:lnTo>
                  <a:lnTo>
                    <a:pt x="1542416" y="140208"/>
                  </a:lnTo>
                  <a:lnTo>
                    <a:pt x="1546225" y="147828"/>
                  </a:lnTo>
                  <a:lnTo>
                    <a:pt x="1549527" y="156718"/>
                  </a:lnTo>
                  <a:lnTo>
                    <a:pt x="1552068" y="167386"/>
                  </a:lnTo>
                  <a:lnTo>
                    <a:pt x="1553846" y="179578"/>
                  </a:lnTo>
                  <a:lnTo>
                    <a:pt x="1554480" y="193548"/>
                  </a:lnTo>
                  <a:lnTo>
                    <a:pt x="1554099" y="209550"/>
                  </a:lnTo>
                  <a:lnTo>
                    <a:pt x="1555496" y="210566"/>
                  </a:lnTo>
                  <a:lnTo>
                    <a:pt x="1557274" y="209169"/>
                  </a:lnTo>
                  <a:lnTo>
                    <a:pt x="1559306" y="205994"/>
                  </a:lnTo>
                  <a:lnTo>
                    <a:pt x="1561466" y="201930"/>
                  </a:lnTo>
                  <a:lnTo>
                    <a:pt x="1563497" y="197993"/>
                  </a:lnTo>
                  <a:lnTo>
                    <a:pt x="1565402" y="195072"/>
                  </a:lnTo>
                  <a:lnTo>
                    <a:pt x="1566926" y="193929"/>
                  </a:lnTo>
                  <a:lnTo>
                    <a:pt x="1567943" y="195707"/>
                  </a:lnTo>
                  <a:lnTo>
                    <a:pt x="1568450" y="182372"/>
                  </a:lnTo>
                  <a:lnTo>
                    <a:pt x="1567943" y="169672"/>
                  </a:lnTo>
                  <a:lnTo>
                    <a:pt x="1566672" y="157607"/>
                  </a:lnTo>
                  <a:lnTo>
                    <a:pt x="1564641" y="146177"/>
                  </a:lnTo>
                  <a:lnTo>
                    <a:pt x="1561973" y="135509"/>
                  </a:lnTo>
                  <a:lnTo>
                    <a:pt x="1558798" y="125476"/>
                  </a:lnTo>
                  <a:lnTo>
                    <a:pt x="1554861" y="115951"/>
                  </a:lnTo>
                  <a:lnTo>
                    <a:pt x="1550417" y="106934"/>
                  </a:lnTo>
                  <a:lnTo>
                    <a:pt x="1540002" y="90805"/>
                  </a:lnTo>
                  <a:lnTo>
                    <a:pt x="1527937" y="76835"/>
                  </a:lnTo>
                  <a:lnTo>
                    <a:pt x="1514602" y="64897"/>
                  </a:lnTo>
                  <a:lnTo>
                    <a:pt x="1500505" y="54991"/>
                  </a:lnTo>
                  <a:lnTo>
                    <a:pt x="1485646" y="46863"/>
                  </a:lnTo>
                  <a:lnTo>
                    <a:pt x="1470787" y="40513"/>
                  </a:lnTo>
                  <a:lnTo>
                    <a:pt x="1456182" y="35814"/>
                  </a:lnTo>
                  <a:lnTo>
                    <a:pt x="1441958" y="32639"/>
                  </a:lnTo>
                  <a:lnTo>
                    <a:pt x="1428750" y="30861"/>
                  </a:lnTo>
                  <a:lnTo>
                    <a:pt x="1416812" y="30480"/>
                  </a:lnTo>
                  <a:lnTo>
                    <a:pt x="1406780" y="31242"/>
                  </a:lnTo>
                  <a:lnTo>
                    <a:pt x="1398524" y="33147"/>
                  </a:lnTo>
                  <a:lnTo>
                    <a:pt x="1379347" y="42291"/>
                  </a:lnTo>
                  <a:lnTo>
                    <a:pt x="1360805" y="54229"/>
                  </a:lnTo>
                  <a:lnTo>
                    <a:pt x="1342771" y="68072"/>
                  </a:lnTo>
                  <a:lnTo>
                    <a:pt x="1324992" y="83185"/>
                  </a:lnTo>
                  <a:lnTo>
                    <a:pt x="1289812" y="113284"/>
                  </a:lnTo>
                  <a:lnTo>
                    <a:pt x="1272159" y="126873"/>
                  </a:lnTo>
                  <a:lnTo>
                    <a:pt x="1254125" y="138176"/>
                  </a:lnTo>
                  <a:lnTo>
                    <a:pt x="1241171" y="144526"/>
                  </a:lnTo>
                  <a:lnTo>
                    <a:pt x="1228091" y="149098"/>
                  </a:lnTo>
                  <a:lnTo>
                    <a:pt x="1230122" y="147320"/>
                  </a:lnTo>
                  <a:lnTo>
                    <a:pt x="1232789" y="145034"/>
                  </a:lnTo>
                  <a:lnTo>
                    <a:pt x="1239774" y="139065"/>
                  </a:lnTo>
                  <a:lnTo>
                    <a:pt x="1248664" y="131826"/>
                  </a:lnTo>
                  <a:lnTo>
                    <a:pt x="1259459" y="123190"/>
                  </a:lnTo>
                  <a:lnTo>
                    <a:pt x="1271271" y="113665"/>
                  </a:lnTo>
                  <a:lnTo>
                    <a:pt x="1284351" y="103378"/>
                  </a:lnTo>
                  <a:lnTo>
                    <a:pt x="1312037" y="82042"/>
                  </a:lnTo>
                  <a:lnTo>
                    <a:pt x="1339596" y="61341"/>
                  </a:lnTo>
                  <a:lnTo>
                    <a:pt x="1352423" y="51943"/>
                  </a:lnTo>
                  <a:lnTo>
                    <a:pt x="1364488" y="43561"/>
                  </a:lnTo>
                  <a:lnTo>
                    <a:pt x="1375030" y="36449"/>
                  </a:lnTo>
                  <a:lnTo>
                    <a:pt x="1383920" y="30861"/>
                  </a:lnTo>
                  <a:lnTo>
                    <a:pt x="1390777" y="27178"/>
                  </a:lnTo>
                  <a:lnTo>
                    <a:pt x="1393318" y="26162"/>
                  </a:lnTo>
                  <a:lnTo>
                    <a:pt x="1395349" y="25654"/>
                  </a:lnTo>
                  <a:lnTo>
                    <a:pt x="1417321" y="23876"/>
                  </a:lnTo>
                  <a:lnTo>
                    <a:pt x="1438021" y="24638"/>
                  </a:lnTo>
                  <a:lnTo>
                    <a:pt x="1457198" y="27432"/>
                  </a:lnTo>
                  <a:lnTo>
                    <a:pt x="1475105" y="32512"/>
                  </a:lnTo>
                  <a:lnTo>
                    <a:pt x="1491361" y="39370"/>
                  </a:lnTo>
                  <a:lnTo>
                    <a:pt x="1506474" y="48006"/>
                  </a:lnTo>
                  <a:lnTo>
                    <a:pt x="1519936" y="58166"/>
                  </a:lnTo>
                  <a:lnTo>
                    <a:pt x="1532129" y="69850"/>
                  </a:lnTo>
                  <a:lnTo>
                    <a:pt x="1542923" y="82804"/>
                  </a:lnTo>
                  <a:lnTo>
                    <a:pt x="1552195" y="96774"/>
                  </a:lnTo>
                  <a:lnTo>
                    <a:pt x="1560069" y="111887"/>
                  </a:lnTo>
                  <a:lnTo>
                    <a:pt x="1566546" y="127635"/>
                  </a:lnTo>
                  <a:lnTo>
                    <a:pt x="1571498" y="144018"/>
                  </a:lnTo>
                  <a:lnTo>
                    <a:pt x="1575055" y="160909"/>
                  </a:lnTo>
                  <a:lnTo>
                    <a:pt x="1577213" y="178054"/>
                  </a:lnTo>
                  <a:lnTo>
                    <a:pt x="1577975" y="195326"/>
                  </a:lnTo>
                  <a:lnTo>
                    <a:pt x="1397889" y="103251"/>
                  </a:lnTo>
                  <a:lnTo>
                    <a:pt x="1406525" y="57023"/>
                  </a:lnTo>
                  <a:lnTo>
                    <a:pt x="1413383" y="56896"/>
                  </a:lnTo>
                  <a:lnTo>
                    <a:pt x="1427354" y="59055"/>
                  </a:lnTo>
                  <a:lnTo>
                    <a:pt x="1441196" y="63627"/>
                  </a:lnTo>
                  <a:lnTo>
                    <a:pt x="1454277" y="69850"/>
                  </a:lnTo>
                  <a:lnTo>
                    <a:pt x="1466088" y="77089"/>
                  </a:lnTo>
                  <a:lnTo>
                    <a:pt x="1475995" y="84328"/>
                  </a:lnTo>
                  <a:lnTo>
                    <a:pt x="1483233" y="90805"/>
                  </a:lnTo>
                  <a:lnTo>
                    <a:pt x="1485773" y="93472"/>
                  </a:lnTo>
                  <a:lnTo>
                    <a:pt x="1487424" y="95631"/>
                  </a:lnTo>
                  <a:lnTo>
                    <a:pt x="1480947" y="97409"/>
                  </a:lnTo>
                  <a:lnTo>
                    <a:pt x="1473835" y="100965"/>
                  </a:lnTo>
                  <a:lnTo>
                    <a:pt x="1465834" y="106299"/>
                  </a:lnTo>
                  <a:lnTo>
                    <a:pt x="1457198" y="113030"/>
                  </a:lnTo>
                  <a:lnTo>
                    <a:pt x="1448308" y="120777"/>
                  </a:lnTo>
                  <a:lnTo>
                    <a:pt x="1438783" y="129413"/>
                  </a:lnTo>
                  <a:lnTo>
                    <a:pt x="1419480" y="148590"/>
                  </a:lnTo>
                  <a:lnTo>
                    <a:pt x="1399921" y="168402"/>
                  </a:lnTo>
                  <a:lnTo>
                    <a:pt x="1381380" y="186944"/>
                  </a:lnTo>
                  <a:lnTo>
                    <a:pt x="1372617" y="195072"/>
                  </a:lnTo>
                  <a:lnTo>
                    <a:pt x="1364234" y="202184"/>
                  </a:lnTo>
                  <a:lnTo>
                    <a:pt x="1356742" y="208026"/>
                  </a:lnTo>
                  <a:lnTo>
                    <a:pt x="1349883" y="212344"/>
                  </a:lnTo>
                  <a:lnTo>
                    <a:pt x="1337946" y="212471"/>
                  </a:lnTo>
                  <a:lnTo>
                    <a:pt x="1325754" y="212344"/>
                  </a:lnTo>
                  <a:lnTo>
                    <a:pt x="1318642" y="211963"/>
                  </a:lnTo>
                  <a:lnTo>
                    <a:pt x="1310641" y="211201"/>
                  </a:lnTo>
                  <a:lnTo>
                    <a:pt x="1301116" y="209931"/>
                  </a:lnTo>
                  <a:lnTo>
                    <a:pt x="1290194" y="208153"/>
                  </a:lnTo>
                  <a:lnTo>
                    <a:pt x="1287146" y="210693"/>
                  </a:lnTo>
                  <a:lnTo>
                    <a:pt x="1283208" y="213741"/>
                  </a:lnTo>
                  <a:lnTo>
                    <a:pt x="1278509" y="217551"/>
                  </a:lnTo>
                  <a:lnTo>
                    <a:pt x="1273175" y="221742"/>
                  </a:lnTo>
                  <a:lnTo>
                    <a:pt x="1267206" y="226441"/>
                  </a:lnTo>
                  <a:lnTo>
                    <a:pt x="1260602" y="231648"/>
                  </a:lnTo>
                  <a:lnTo>
                    <a:pt x="1245871" y="243332"/>
                  </a:lnTo>
                  <a:lnTo>
                    <a:pt x="1229233" y="256286"/>
                  </a:lnTo>
                  <a:lnTo>
                    <a:pt x="1211199" y="270510"/>
                  </a:lnTo>
                  <a:lnTo>
                    <a:pt x="1192022" y="285496"/>
                  </a:lnTo>
                  <a:lnTo>
                    <a:pt x="1172337" y="301244"/>
                  </a:lnTo>
                  <a:lnTo>
                    <a:pt x="1132713" y="332867"/>
                  </a:lnTo>
                  <a:lnTo>
                    <a:pt x="1113536" y="348361"/>
                  </a:lnTo>
                  <a:lnTo>
                    <a:pt x="1095248" y="363347"/>
                  </a:lnTo>
                  <a:lnTo>
                    <a:pt x="1078484" y="377317"/>
                  </a:lnTo>
                  <a:lnTo>
                    <a:pt x="1063371" y="390144"/>
                  </a:lnTo>
                  <a:lnTo>
                    <a:pt x="1050418" y="401447"/>
                  </a:lnTo>
                  <a:lnTo>
                    <a:pt x="1044830" y="406400"/>
                  </a:lnTo>
                  <a:lnTo>
                    <a:pt x="1040004" y="411099"/>
                  </a:lnTo>
                  <a:lnTo>
                    <a:pt x="1038987" y="413258"/>
                  </a:lnTo>
                  <a:lnTo>
                    <a:pt x="1039749" y="414274"/>
                  </a:lnTo>
                  <a:lnTo>
                    <a:pt x="1042162" y="414909"/>
                  </a:lnTo>
                  <a:lnTo>
                    <a:pt x="1045337" y="415163"/>
                  </a:lnTo>
                  <a:lnTo>
                    <a:pt x="1052830" y="416687"/>
                  </a:lnTo>
                  <a:lnTo>
                    <a:pt x="1056005" y="418719"/>
                  </a:lnTo>
                  <a:lnTo>
                    <a:pt x="1058164" y="422148"/>
                  </a:lnTo>
                  <a:lnTo>
                    <a:pt x="1057530" y="422783"/>
                  </a:lnTo>
                  <a:lnTo>
                    <a:pt x="1055751" y="423926"/>
                  </a:lnTo>
                  <a:lnTo>
                    <a:pt x="1052704" y="425704"/>
                  </a:lnTo>
                  <a:lnTo>
                    <a:pt x="1048639" y="427736"/>
                  </a:lnTo>
                  <a:lnTo>
                    <a:pt x="1038098" y="432435"/>
                  </a:lnTo>
                  <a:lnTo>
                    <a:pt x="1025398" y="437769"/>
                  </a:lnTo>
                  <a:lnTo>
                    <a:pt x="1011682" y="442849"/>
                  </a:lnTo>
                  <a:lnTo>
                    <a:pt x="998347" y="447040"/>
                  </a:lnTo>
                  <a:lnTo>
                    <a:pt x="992251" y="448437"/>
                  </a:lnTo>
                  <a:lnTo>
                    <a:pt x="986536" y="449580"/>
                  </a:lnTo>
                  <a:lnTo>
                    <a:pt x="981583" y="450215"/>
                  </a:lnTo>
                  <a:lnTo>
                    <a:pt x="977520" y="450088"/>
                  </a:lnTo>
                  <a:lnTo>
                    <a:pt x="978535" y="445008"/>
                  </a:lnTo>
                  <a:lnTo>
                    <a:pt x="981075" y="439801"/>
                  </a:lnTo>
                  <a:lnTo>
                    <a:pt x="987298" y="430530"/>
                  </a:lnTo>
                  <a:lnTo>
                    <a:pt x="990981" y="425069"/>
                  </a:lnTo>
                  <a:lnTo>
                    <a:pt x="995426" y="419227"/>
                  </a:lnTo>
                  <a:lnTo>
                    <a:pt x="1005332" y="407289"/>
                  </a:lnTo>
                  <a:lnTo>
                    <a:pt x="1010031" y="401574"/>
                  </a:lnTo>
                  <a:lnTo>
                    <a:pt x="1014096" y="396621"/>
                  </a:lnTo>
                  <a:lnTo>
                    <a:pt x="1017271" y="392176"/>
                  </a:lnTo>
                  <a:lnTo>
                    <a:pt x="1019175" y="388874"/>
                  </a:lnTo>
                  <a:lnTo>
                    <a:pt x="1021461" y="387223"/>
                  </a:lnTo>
                  <a:lnTo>
                    <a:pt x="1022731" y="387731"/>
                  </a:lnTo>
                  <a:lnTo>
                    <a:pt x="1023239" y="389636"/>
                  </a:lnTo>
                  <a:lnTo>
                    <a:pt x="1023367" y="392049"/>
                  </a:lnTo>
                  <a:lnTo>
                    <a:pt x="1023621" y="394589"/>
                  </a:lnTo>
                  <a:lnTo>
                    <a:pt x="1024129" y="396494"/>
                  </a:lnTo>
                  <a:lnTo>
                    <a:pt x="1025271" y="397129"/>
                  </a:lnTo>
                  <a:lnTo>
                    <a:pt x="1027557" y="395732"/>
                  </a:lnTo>
                  <a:lnTo>
                    <a:pt x="1040384" y="384048"/>
                  </a:lnTo>
                  <a:lnTo>
                    <a:pt x="1054100" y="371729"/>
                  </a:lnTo>
                  <a:lnTo>
                    <a:pt x="1083183" y="345567"/>
                  </a:lnTo>
                  <a:lnTo>
                    <a:pt x="1114298" y="318135"/>
                  </a:lnTo>
                  <a:lnTo>
                    <a:pt x="1146683" y="290195"/>
                  </a:lnTo>
                  <a:lnTo>
                    <a:pt x="1179449" y="262509"/>
                  </a:lnTo>
                  <a:lnTo>
                    <a:pt x="1212088" y="235839"/>
                  </a:lnTo>
                  <a:lnTo>
                    <a:pt x="1243711" y="211074"/>
                  </a:lnTo>
                  <a:lnTo>
                    <a:pt x="1258824" y="199517"/>
                  </a:lnTo>
                  <a:lnTo>
                    <a:pt x="1273556" y="188722"/>
                  </a:lnTo>
                  <a:lnTo>
                    <a:pt x="1273175" y="180340"/>
                  </a:lnTo>
                  <a:lnTo>
                    <a:pt x="1272413" y="173228"/>
                  </a:lnTo>
                  <a:lnTo>
                    <a:pt x="1270889" y="161417"/>
                  </a:lnTo>
                  <a:lnTo>
                    <a:pt x="1270381" y="156845"/>
                  </a:lnTo>
                  <a:lnTo>
                    <a:pt x="1270508" y="153035"/>
                  </a:lnTo>
                  <a:lnTo>
                    <a:pt x="1271397" y="149733"/>
                  </a:lnTo>
                  <a:lnTo>
                    <a:pt x="1273556" y="147066"/>
                  </a:lnTo>
                  <a:lnTo>
                    <a:pt x="1301243" y="121920"/>
                  </a:lnTo>
                  <a:lnTo>
                    <a:pt x="1316101" y="109347"/>
                  </a:lnTo>
                  <a:lnTo>
                    <a:pt x="1331596" y="97155"/>
                  </a:lnTo>
                  <a:lnTo>
                    <a:pt x="1347851" y="85598"/>
                  </a:lnTo>
                  <a:lnTo>
                    <a:pt x="1364616" y="75057"/>
                  </a:lnTo>
                  <a:lnTo>
                    <a:pt x="1381887" y="65786"/>
                  </a:lnTo>
                  <a:lnTo>
                    <a:pt x="1399921" y="58039"/>
                  </a:lnTo>
                  <a:lnTo>
                    <a:pt x="897636" y="498475"/>
                  </a:lnTo>
                  <a:lnTo>
                    <a:pt x="913893" y="496951"/>
                  </a:lnTo>
                  <a:lnTo>
                    <a:pt x="929895" y="497205"/>
                  </a:lnTo>
                  <a:lnTo>
                    <a:pt x="945261" y="499237"/>
                  </a:lnTo>
                  <a:lnTo>
                    <a:pt x="960247" y="503174"/>
                  </a:lnTo>
                  <a:lnTo>
                    <a:pt x="974345" y="508635"/>
                  </a:lnTo>
                  <a:lnTo>
                    <a:pt x="987680" y="515874"/>
                  </a:lnTo>
                  <a:lnTo>
                    <a:pt x="999998" y="524637"/>
                  </a:lnTo>
                  <a:lnTo>
                    <a:pt x="1011047" y="534924"/>
                  </a:lnTo>
                  <a:lnTo>
                    <a:pt x="1021080" y="546735"/>
                  </a:lnTo>
                  <a:lnTo>
                    <a:pt x="1029589" y="559943"/>
                  </a:lnTo>
                  <a:lnTo>
                    <a:pt x="1036701" y="574548"/>
                  </a:lnTo>
                  <a:lnTo>
                    <a:pt x="1042162" y="590423"/>
                  </a:lnTo>
                  <a:lnTo>
                    <a:pt x="1045972" y="607441"/>
                  </a:lnTo>
                  <a:lnTo>
                    <a:pt x="1047877" y="625729"/>
                  </a:lnTo>
                  <a:lnTo>
                    <a:pt x="1047750" y="645160"/>
                  </a:lnTo>
                  <a:lnTo>
                    <a:pt x="1013587" y="675893"/>
                  </a:lnTo>
                  <a:lnTo>
                    <a:pt x="979805" y="707898"/>
                  </a:lnTo>
                  <a:lnTo>
                    <a:pt x="912749" y="773176"/>
                  </a:lnTo>
                  <a:lnTo>
                    <a:pt x="878841" y="805688"/>
                  </a:lnTo>
                  <a:lnTo>
                    <a:pt x="844550" y="837311"/>
                  </a:lnTo>
                  <a:lnTo>
                    <a:pt x="809498" y="867791"/>
                  </a:lnTo>
                  <a:lnTo>
                    <a:pt x="773557" y="896619"/>
                  </a:lnTo>
                  <a:lnTo>
                    <a:pt x="763651" y="904367"/>
                  </a:lnTo>
                  <a:lnTo>
                    <a:pt x="752221" y="913765"/>
                  </a:lnTo>
                  <a:lnTo>
                    <a:pt x="739395" y="924306"/>
                  </a:lnTo>
                  <a:lnTo>
                    <a:pt x="725805" y="935863"/>
                  </a:lnTo>
                  <a:lnTo>
                    <a:pt x="696469" y="960755"/>
                  </a:lnTo>
                  <a:lnTo>
                    <a:pt x="666496" y="985901"/>
                  </a:lnTo>
                  <a:lnTo>
                    <a:pt x="651892" y="997712"/>
                  </a:lnTo>
                  <a:lnTo>
                    <a:pt x="638048" y="1008762"/>
                  </a:lnTo>
                  <a:lnTo>
                    <a:pt x="625095" y="1018540"/>
                  </a:lnTo>
                  <a:lnTo>
                    <a:pt x="613283" y="1026922"/>
                  </a:lnTo>
                  <a:lnTo>
                    <a:pt x="603123" y="1033653"/>
                  </a:lnTo>
                  <a:lnTo>
                    <a:pt x="594614" y="1038098"/>
                  </a:lnTo>
                  <a:lnTo>
                    <a:pt x="591185" y="1039494"/>
                  </a:lnTo>
                  <a:lnTo>
                    <a:pt x="588264" y="1040256"/>
                  </a:lnTo>
                  <a:lnTo>
                    <a:pt x="585851" y="1040384"/>
                  </a:lnTo>
                  <a:lnTo>
                    <a:pt x="584073" y="1039749"/>
                  </a:lnTo>
                  <a:lnTo>
                    <a:pt x="574041" y="1047877"/>
                  </a:lnTo>
                  <a:lnTo>
                    <a:pt x="562992" y="1056892"/>
                  </a:lnTo>
                  <a:lnTo>
                    <a:pt x="551054" y="1066673"/>
                  </a:lnTo>
                  <a:lnTo>
                    <a:pt x="538480" y="1077087"/>
                  </a:lnTo>
                  <a:lnTo>
                    <a:pt x="511556" y="1099312"/>
                  </a:lnTo>
                  <a:lnTo>
                    <a:pt x="483362" y="1122553"/>
                  </a:lnTo>
                  <a:lnTo>
                    <a:pt x="455169" y="1145667"/>
                  </a:lnTo>
                  <a:lnTo>
                    <a:pt x="427991" y="1167638"/>
                  </a:lnTo>
                  <a:lnTo>
                    <a:pt x="415163" y="1177925"/>
                  </a:lnTo>
                  <a:lnTo>
                    <a:pt x="403098" y="1187450"/>
                  </a:lnTo>
                  <a:lnTo>
                    <a:pt x="391922" y="1196213"/>
                  </a:lnTo>
                  <a:lnTo>
                    <a:pt x="381508" y="1203960"/>
                  </a:lnTo>
                  <a:lnTo>
                    <a:pt x="374523" y="1181989"/>
                  </a:lnTo>
                  <a:lnTo>
                    <a:pt x="369951" y="1171448"/>
                  </a:lnTo>
                  <a:lnTo>
                    <a:pt x="364618" y="1161415"/>
                  </a:lnTo>
                  <a:lnTo>
                    <a:pt x="358521" y="1151763"/>
                  </a:lnTo>
                  <a:lnTo>
                    <a:pt x="351791" y="1142618"/>
                  </a:lnTo>
                  <a:lnTo>
                    <a:pt x="344551" y="1134237"/>
                  </a:lnTo>
                  <a:lnTo>
                    <a:pt x="336677" y="1126617"/>
                  </a:lnTo>
                  <a:lnTo>
                    <a:pt x="328169" y="1119759"/>
                  </a:lnTo>
                  <a:lnTo>
                    <a:pt x="319151" y="1113790"/>
                  </a:lnTo>
                  <a:lnTo>
                    <a:pt x="309880" y="1108837"/>
                  </a:lnTo>
                  <a:lnTo>
                    <a:pt x="299847" y="1105027"/>
                  </a:lnTo>
                  <a:lnTo>
                    <a:pt x="289687" y="1102360"/>
                  </a:lnTo>
                  <a:lnTo>
                    <a:pt x="279020" y="1100963"/>
                  </a:lnTo>
                  <a:lnTo>
                    <a:pt x="267971" y="1100963"/>
                  </a:lnTo>
                  <a:lnTo>
                    <a:pt x="256668" y="1102232"/>
                  </a:lnTo>
                  <a:lnTo>
                    <a:pt x="266320" y="1092581"/>
                  </a:lnTo>
                  <a:lnTo>
                    <a:pt x="277114" y="1081405"/>
                  </a:lnTo>
                  <a:lnTo>
                    <a:pt x="288925" y="1069213"/>
                  </a:lnTo>
                  <a:lnTo>
                    <a:pt x="301625" y="1056005"/>
                  </a:lnTo>
                  <a:lnTo>
                    <a:pt x="328422" y="1027938"/>
                  </a:lnTo>
                  <a:lnTo>
                    <a:pt x="356108" y="998855"/>
                  </a:lnTo>
                  <a:lnTo>
                    <a:pt x="383159" y="970662"/>
                  </a:lnTo>
                  <a:lnTo>
                    <a:pt x="395986" y="957199"/>
                  </a:lnTo>
                  <a:lnTo>
                    <a:pt x="408179" y="944880"/>
                  </a:lnTo>
                  <a:lnTo>
                    <a:pt x="419355" y="933450"/>
                  </a:lnTo>
                  <a:lnTo>
                    <a:pt x="429514" y="923290"/>
                  </a:lnTo>
                  <a:lnTo>
                    <a:pt x="438277" y="914654"/>
                  </a:lnTo>
                  <a:lnTo>
                    <a:pt x="445644" y="907668"/>
                  </a:lnTo>
                  <a:lnTo>
                    <a:pt x="445897" y="902335"/>
                  </a:lnTo>
                  <a:lnTo>
                    <a:pt x="448310" y="896239"/>
                  </a:lnTo>
                  <a:lnTo>
                    <a:pt x="452374" y="889254"/>
                  </a:lnTo>
                  <a:lnTo>
                    <a:pt x="458089" y="881761"/>
                  </a:lnTo>
                  <a:lnTo>
                    <a:pt x="465201" y="873632"/>
                  </a:lnTo>
                  <a:lnTo>
                    <a:pt x="473456" y="865124"/>
                  </a:lnTo>
                  <a:lnTo>
                    <a:pt x="492125" y="847090"/>
                  </a:lnTo>
                  <a:lnTo>
                    <a:pt x="512699" y="828548"/>
                  </a:lnTo>
                  <a:lnTo>
                    <a:pt x="533400" y="810387"/>
                  </a:lnTo>
                  <a:lnTo>
                    <a:pt x="543180" y="801624"/>
                  </a:lnTo>
                  <a:lnTo>
                    <a:pt x="552323" y="793242"/>
                  </a:lnTo>
                  <a:lnTo>
                    <a:pt x="560705" y="785368"/>
                  </a:lnTo>
                  <a:lnTo>
                    <a:pt x="567945" y="778002"/>
                  </a:lnTo>
                  <a:lnTo>
                    <a:pt x="629667" y="717295"/>
                  </a:lnTo>
                  <a:lnTo>
                    <a:pt x="693294" y="657352"/>
                  </a:lnTo>
                  <a:lnTo>
                    <a:pt x="725805" y="628142"/>
                  </a:lnTo>
                  <a:lnTo>
                    <a:pt x="758952" y="599567"/>
                  </a:lnTo>
                  <a:lnTo>
                    <a:pt x="792480" y="571881"/>
                  </a:lnTo>
                  <a:lnTo>
                    <a:pt x="826771" y="545084"/>
                  </a:lnTo>
                  <a:lnTo>
                    <a:pt x="840868" y="533273"/>
                  </a:lnTo>
                  <a:lnTo>
                    <a:pt x="853441" y="521589"/>
                  </a:lnTo>
                  <a:lnTo>
                    <a:pt x="866395" y="510921"/>
                  </a:lnTo>
                  <a:lnTo>
                    <a:pt x="873380" y="506222"/>
                  </a:lnTo>
                  <a:lnTo>
                    <a:pt x="880872" y="502031"/>
                  </a:lnTo>
                  <a:lnTo>
                    <a:pt x="368173" y="1195324"/>
                  </a:lnTo>
                  <a:lnTo>
                    <a:pt x="347599" y="1217549"/>
                  </a:lnTo>
                  <a:lnTo>
                    <a:pt x="340233" y="1224915"/>
                  </a:lnTo>
                  <a:lnTo>
                    <a:pt x="331597" y="1233678"/>
                  </a:lnTo>
                  <a:lnTo>
                    <a:pt x="322072" y="1243584"/>
                  </a:lnTo>
                  <a:lnTo>
                    <a:pt x="311531" y="1254632"/>
                  </a:lnTo>
                  <a:lnTo>
                    <a:pt x="300355" y="1266570"/>
                  </a:lnTo>
                  <a:lnTo>
                    <a:pt x="276987" y="1291590"/>
                  </a:lnTo>
                  <a:lnTo>
                    <a:pt x="253238" y="1317243"/>
                  </a:lnTo>
                  <a:lnTo>
                    <a:pt x="241681" y="1329690"/>
                  </a:lnTo>
                  <a:lnTo>
                    <a:pt x="230632" y="1341375"/>
                  </a:lnTo>
                  <a:lnTo>
                    <a:pt x="220346" y="1352424"/>
                  </a:lnTo>
                  <a:lnTo>
                    <a:pt x="210947" y="1362456"/>
                  </a:lnTo>
                  <a:lnTo>
                    <a:pt x="202566" y="1371218"/>
                  </a:lnTo>
                  <a:lnTo>
                    <a:pt x="195326" y="1378457"/>
                  </a:lnTo>
                  <a:lnTo>
                    <a:pt x="189866" y="1380364"/>
                  </a:lnTo>
                  <a:lnTo>
                    <a:pt x="183134" y="1382268"/>
                  </a:lnTo>
                  <a:lnTo>
                    <a:pt x="175514" y="1384427"/>
                  </a:lnTo>
                  <a:lnTo>
                    <a:pt x="166751" y="1386967"/>
                  </a:lnTo>
                  <a:lnTo>
                    <a:pt x="157354" y="1389634"/>
                  </a:lnTo>
                  <a:lnTo>
                    <a:pt x="147067" y="1392809"/>
                  </a:lnTo>
                  <a:lnTo>
                    <a:pt x="125096" y="1400175"/>
                  </a:lnTo>
                  <a:lnTo>
                    <a:pt x="101220" y="1409700"/>
                  </a:lnTo>
                  <a:lnTo>
                    <a:pt x="76708" y="1421639"/>
                  </a:lnTo>
                  <a:lnTo>
                    <a:pt x="52451" y="1436243"/>
                  </a:lnTo>
                  <a:lnTo>
                    <a:pt x="40513" y="1444752"/>
                  </a:lnTo>
                  <a:lnTo>
                    <a:pt x="28830" y="1454024"/>
                  </a:lnTo>
                  <a:lnTo>
                    <a:pt x="40513" y="1440689"/>
                  </a:lnTo>
                  <a:lnTo>
                    <a:pt x="54102" y="1425829"/>
                  </a:lnTo>
                  <a:lnTo>
                    <a:pt x="68834" y="1409954"/>
                  </a:lnTo>
                  <a:lnTo>
                    <a:pt x="83947" y="1393570"/>
                  </a:lnTo>
                  <a:lnTo>
                    <a:pt x="99060" y="1377315"/>
                  </a:lnTo>
                  <a:lnTo>
                    <a:pt x="113157" y="1361567"/>
                  </a:lnTo>
                  <a:lnTo>
                    <a:pt x="125604" y="1346707"/>
                  </a:lnTo>
                  <a:lnTo>
                    <a:pt x="130937" y="1339724"/>
                  </a:lnTo>
                  <a:lnTo>
                    <a:pt x="135636" y="1333245"/>
                  </a:lnTo>
                  <a:lnTo>
                    <a:pt x="141351" y="1333627"/>
                  </a:lnTo>
                  <a:lnTo>
                    <a:pt x="146558" y="1332103"/>
                  </a:lnTo>
                  <a:lnTo>
                    <a:pt x="151130" y="1329180"/>
                  </a:lnTo>
                  <a:lnTo>
                    <a:pt x="154432" y="1324991"/>
                  </a:lnTo>
                  <a:lnTo>
                    <a:pt x="156592" y="1320165"/>
                  </a:lnTo>
                  <a:lnTo>
                    <a:pt x="156846" y="1315085"/>
                  </a:lnTo>
                  <a:lnTo>
                    <a:pt x="155321" y="1310005"/>
                  </a:lnTo>
                  <a:lnTo>
                    <a:pt x="151384" y="1305560"/>
                  </a:lnTo>
                  <a:lnTo>
                    <a:pt x="145796" y="1303528"/>
                  </a:lnTo>
                  <a:lnTo>
                    <a:pt x="140717" y="1303528"/>
                  </a:lnTo>
                  <a:lnTo>
                    <a:pt x="136271" y="1305306"/>
                  </a:lnTo>
                  <a:lnTo>
                    <a:pt x="132461" y="1308354"/>
                  </a:lnTo>
                  <a:lnTo>
                    <a:pt x="129921" y="1312544"/>
                  </a:lnTo>
                  <a:lnTo>
                    <a:pt x="128271" y="1317370"/>
                  </a:lnTo>
                  <a:lnTo>
                    <a:pt x="128017" y="1322705"/>
                  </a:lnTo>
                  <a:lnTo>
                    <a:pt x="129286" y="1328293"/>
                  </a:lnTo>
                  <a:lnTo>
                    <a:pt x="116586" y="1341247"/>
                  </a:lnTo>
                  <a:lnTo>
                    <a:pt x="102997" y="1356106"/>
                  </a:lnTo>
                  <a:lnTo>
                    <a:pt x="88646" y="1372489"/>
                  </a:lnTo>
                  <a:lnTo>
                    <a:pt x="74169" y="1389380"/>
                  </a:lnTo>
                  <a:lnTo>
                    <a:pt x="59818" y="1406399"/>
                  </a:lnTo>
                  <a:lnTo>
                    <a:pt x="45721" y="1422907"/>
                  </a:lnTo>
                  <a:lnTo>
                    <a:pt x="32639" y="1438020"/>
                  </a:lnTo>
                  <a:lnTo>
                    <a:pt x="20701" y="1451356"/>
                  </a:lnTo>
                  <a:lnTo>
                    <a:pt x="26924" y="1442719"/>
                  </a:lnTo>
                  <a:lnTo>
                    <a:pt x="33021" y="1433068"/>
                  </a:lnTo>
                  <a:lnTo>
                    <a:pt x="45085" y="1410969"/>
                  </a:lnTo>
                  <a:lnTo>
                    <a:pt x="56516" y="1386714"/>
                  </a:lnTo>
                  <a:lnTo>
                    <a:pt x="67056" y="1361820"/>
                  </a:lnTo>
                  <a:lnTo>
                    <a:pt x="76073" y="1337691"/>
                  </a:lnTo>
                  <a:lnTo>
                    <a:pt x="80010" y="1326515"/>
                  </a:lnTo>
                  <a:lnTo>
                    <a:pt x="83567" y="1315975"/>
                  </a:lnTo>
                  <a:lnTo>
                    <a:pt x="86487" y="1306450"/>
                  </a:lnTo>
                  <a:lnTo>
                    <a:pt x="88900" y="1298067"/>
                  </a:lnTo>
                  <a:lnTo>
                    <a:pt x="90679" y="1291081"/>
                  </a:lnTo>
                  <a:lnTo>
                    <a:pt x="91821" y="1285748"/>
                  </a:lnTo>
                  <a:lnTo>
                    <a:pt x="93980" y="1283716"/>
                  </a:lnTo>
                  <a:lnTo>
                    <a:pt x="96774" y="1280922"/>
                  </a:lnTo>
                  <a:lnTo>
                    <a:pt x="100204" y="1277619"/>
                  </a:lnTo>
                  <a:lnTo>
                    <a:pt x="104268" y="1273810"/>
                  </a:lnTo>
                  <a:lnTo>
                    <a:pt x="113920" y="1264666"/>
                  </a:lnTo>
                  <a:lnTo>
                    <a:pt x="125349" y="1253870"/>
                  </a:lnTo>
                  <a:lnTo>
                    <a:pt x="138176" y="1241806"/>
                  </a:lnTo>
                  <a:lnTo>
                    <a:pt x="152020" y="1228852"/>
                  </a:lnTo>
                  <a:lnTo>
                    <a:pt x="181610" y="1201674"/>
                  </a:lnTo>
                  <a:lnTo>
                    <a:pt x="196343" y="1188085"/>
                  </a:lnTo>
                  <a:lnTo>
                    <a:pt x="210821" y="1175131"/>
                  </a:lnTo>
                  <a:lnTo>
                    <a:pt x="224536" y="1163066"/>
                  </a:lnTo>
                  <a:lnTo>
                    <a:pt x="236982" y="1152270"/>
                  </a:lnTo>
                  <a:lnTo>
                    <a:pt x="248031" y="1143127"/>
                  </a:lnTo>
                  <a:lnTo>
                    <a:pt x="252857" y="1139443"/>
                  </a:lnTo>
                  <a:lnTo>
                    <a:pt x="257048" y="1136015"/>
                  </a:lnTo>
                  <a:lnTo>
                    <a:pt x="260858" y="1133348"/>
                  </a:lnTo>
                  <a:lnTo>
                    <a:pt x="264033" y="1131443"/>
                  </a:lnTo>
                  <a:lnTo>
                    <a:pt x="266446" y="1130045"/>
                  </a:lnTo>
                  <a:lnTo>
                    <a:pt x="268224" y="1129412"/>
                  </a:lnTo>
                  <a:lnTo>
                    <a:pt x="274829" y="1128903"/>
                  </a:lnTo>
                  <a:lnTo>
                    <a:pt x="281813" y="1129538"/>
                  </a:lnTo>
                  <a:lnTo>
                    <a:pt x="288925" y="1131189"/>
                  </a:lnTo>
                  <a:lnTo>
                    <a:pt x="296164" y="1133729"/>
                  </a:lnTo>
                  <a:lnTo>
                    <a:pt x="310643" y="1141603"/>
                  </a:lnTo>
                  <a:lnTo>
                    <a:pt x="324231" y="1152142"/>
                  </a:lnTo>
                  <a:lnTo>
                    <a:pt x="336170" y="1165098"/>
                  </a:lnTo>
                  <a:lnTo>
                    <a:pt x="341249" y="1172210"/>
                  </a:lnTo>
                  <a:lnTo>
                    <a:pt x="345568" y="1179703"/>
                  </a:lnTo>
                  <a:lnTo>
                    <a:pt x="348996" y="1187577"/>
                  </a:lnTo>
                  <a:lnTo>
                    <a:pt x="351663" y="1195578"/>
                  </a:lnTo>
                  <a:lnTo>
                    <a:pt x="353187" y="1203706"/>
                  </a:lnTo>
                  <a:lnTo>
                    <a:pt x="353569" y="1211962"/>
                  </a:lnTo>
                  <a:lnTo>
                    <a:pt x="0" y="14664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71"/>
          <p:cNvGrpSpPr/>
          <p:nvPr/>
        </p:nvGrpSpPr>
        <p:grpSpPr>
          <a:xfrm>
            <a:off x="3484080" y="2304000"/>
            <a:ext cx="2141640" cy="1868040"/>
            <a:chOff x="3484080" y="2304000"/>
            <a:chExt cx="2141640" cy="1868040"/>
          </a:xfrm>
        </p:grpSpPr>
        <p:sp>
          <p:nvSpPr>
            <p:cNvPr id="200" name="Freeform: Shape 57"/>
            <p:cNvSpPr/>
            <p:nvPr/>
          </p:nvSpPr>
          <p:spPr>
            <a:xfrm rot="12519600">
              <a:off x="5147280" y="3015720"/>
              <a:ext cx="273240" cy="3135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313560"/>
                <a:gd name="textAreaBottom" fmla="*/ 313560 h 313560"/>
              </a:gdLst>
              <a:ahLst/>
              <a:rect l="textAreaLeft" t="textAreaTop" r="textAreaRight" b="textAreaBottom"/>
              <a:pathLst>
                <a:path w="271781" h="316103">
                  <a:moveTo>
                    <a:pt x="22098" y="306069"/>
                  </a:moveTo>
                  <a:lnTo>
                    <a:pt x="16637" y="295656"/>
                  </a:lnTo>
                  <a:lnTo>
                    <a:pt x="11938" y="284988"/>
                  </a:lnTo>
                  <a:lnTo>
                    <a:pt x="8001" y="274064"/>
                  </a:lnTo>
                  <a:lnTo>
                    <a:pt x="4953" y="262763"/>
                  </a:lnTo>
                  <a:lnTo>
                    <a:pt x="2540" y="251332"/>
                  </a:lnTo>
                  <a:lnTo>
                    <a:pt x="0" y="227964"/>
                  </a:lnTo>
                  <a:lnTo>
                    <a:pt x="381" y="204214"/>
                  </a:lnTo>
                  <a:lnTo>
                    <a:pt x="3556" y="180339"/>
                  </a:lnTo>
                  <a:lnTo>
                    <a:pt x="9525" y="156589"/>
                  </a:lnTo>
                  <a:lnTo>
                    <a:pt x="18161" y="133477"/>
                  </a:lnTo>
                  <a:lnTo>
                    <a:pt x="29210" y="111125"/>
                  </a:lnTo>
                  <a:lnTo>
                    <a:pt x="42672" y="89789"/>
                  </a:lnTo>
                  <a:lnTo>
                    <a:pt x="58674" y="69977"/>
                  </a:lnTo>
                  <a:lnTo>
                    <a:pt x="67437" y="60579"/>
                  </a:lnTo>
                  <a:lnTo>
                    <a:pt x="76835" y="51689"/>
                  </a:lnTo>
                  <a:lnTo>
                    <a:pt x="86741" y="43307"/>
                  </a:lnTo>
                  <a:lnTo>
                    <a:pt x="97155" y="35433"/>
                  </a:lnTo>
                  <a:lnTo>
                    <a:pt x="108204" y="28194"/>
                  </a:lnTo>
                  <a:lnTo>
                    <a:pt x="119761" y="21463"/>
                  </a:lnTo>
                  <a:lnTo>
                    <a:pt x="131699" y="15367"/>
                  </a:lnTo>
                  <a:lnTo>
                    <a:pt x="144272" y="10033"/>
                  </a:lnTo>
                  <a:lnTo>
                    <a:pt x="157226" y="5334"/>
                  </a:lnTo>
                  <a:lnTo>
                    <a:pt x="170688" y="1397"/>
                  </a:lnTo>
                  <a:lnTo>
                    <a:pt x="179070" y="127"/>
                  </a:lnTo>
                  <a:lnTo>
                    <a:pt x="187198" y="0"/>
                  </a:lnTo>
                  <a:lnTo>
                    <a:pt x="195072" y="1143"/>
                  </a:lnTo>
                  <a:lnTo>
                    <a:pt x="202819" y="3302"/>
                  </a:lnTo>
                  <a:lnTo>
                    <a:pt x="210312" y="6477"/>
                  </a:lnTo>
                  <a:lnTo>
                    <a:pt x="217551" y="10668"/>
                  </a:lnTo>
                  <a:lnTo>
                    <a:pt x="224536" y="15621"/>
                  </a:lnTo>
                  <a:lnTo>
                    <a:pt x="231267" y="21336"/>
                  </a:lnTo>
                  <a:lnTo>
                    <a:pt x="243840" y="34798"/>
                  </a:lnTo>
                  <a:lnTo>
                    <a:pt x="254762" y="50038"/>
                  </a:lnTo>
                  <a:lnTo>
                    <a:pt x="264287" y="66802"/>
                  </a:lnTo>
                  <a:lnTo>
                    <a:pt x="271780" y="83947"/>
                  </a:lnTo>
                  <a:lnTo>
                    <a:pt x="271780" y="94107"/>
                  </a:lnTo>
                  <a:lnTo>
                    <a:pt x="270637" y="103251"/>
                  </a:lnTo>
                  <a:lnTo>
                    <a:pt x="268605" y="111633"/>
                  </a:lnTo>
                  <a:lnTo>
                    <a:pt x="265811" y="119253"/>
                  </a:lnTo>
                  <a:lnTo>
                    <a:pt x="262001" y="126238"/>
                  </a:lnTo>
                  <a:lnTo>
                    <a:pt x="257556" y="132461"/>
                  </a:lnTo>
                  <a:lnTo>
                    <a:pt x="252349" y="138176"/>
                  </a:lnTo>
                  <a:lnTo>
                    <a:pt x="246380" y="143383"/>
                  </a:lnTo>
                  <a:lnTo>
                    <a:pt x="232537" y="152781"/>
                  </a:lnTo>
                  <a:lnTo>
                    <a:pt x="216662" y="160909"/>
                  </a:lnTo>
                  <a:lnTo>
                    <a:pt x="198882" y="168782"/>
                  </a:lnTo>
                  <a:lnTo>
                    <a:pt x="179959" y="176655"/>
                  </a:lnTo>
                  <a:lnTo>
                    <a:pt x="160020" y="185293"/>
                  </a:lnTo>
                  <a:lnTo>
                    <a:pt x="139573" y="195325"/>
                  </a:lnTo>
                  <a:lnTo>
                    <a:pt x="118999" y="207137"/>
                  </a:lnTo>
                  <a:lnTo>
                    <a:pt x="98679" y="221614"/>
                  </a:lnTo>
                  <a:lnTo>
                    <a:pt x="88773" y="229869"/>
                  </a:lnTo>
                  <a:lnTo>
                    <a:pt x="79121" y="239013"/>
                  </a:lnTo>
                  <a:lnTo>
                    <a:pt x="69596" y="249174"/>
                  </a:lnTo>
                  <a:lnTo>
                    <a:pt x="60452" y="260221"/>
                  </a:lnTo>
                  <a:lnTo>
                    <a:pt x="51816" y="272414"/>
                  </a:lnTo>
                  <a:lnTo>
                    <a:pt x="43434" y="285750"/>
                  </a:lnTo>
                  <a:lnTo>
                    <a:pt x="35560" y="300227"/>
                  </a:lnTo>
                  <a:lnTo>
                    <a:pt x="28321" y="316102"/>
                  </a:lnTo>
                  <a:lnTo>
                    <a:pt x="22098" y="30606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: Shape 58"/>
            <p:cNvSpPr/>
            <p:nvPr/>
          </p:nvSpPr>
          <p:spPr>
            <a:xfrm rot="12519600">
              <a:off x="4842720" y="3112560"/>
              <a:ext cx="308160" cy="25992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08103" h="262131">
                  <a:moveTo>
                    <a:pt x="2413" y="138558"/>
                  </a:moveTo>
                  <a:lnTo>
                    <a:pt x="4699" y="134494"/>
                  </a:lnTo>
                  <a:lnTo>
                    <a:pt x="7620" y="130175"/>
                  </a:lnTo>
                  <a:lnTo>
                    <a:pt x="11303" y="125476"/>
                  </a:lnTo>
                  <a:lnTo>
                    <a:pt x="20447" y="115318"/>
                  </a:lnTo>
                  <a:lnTo>
                    <a:pt x="31750" y="104142"/>
                  </a:lnTo>
                  <a:lnTo>
                    <a:pt x="44704" y="92712"/>
                  </a:lnTo>
                  <a:lnTo>
                    <a:pt x="59055" y="80774"/>
                  </a:lnTo>
                  <a:lnTo>
                    <a:pt x="89916" y="57025"/>
                  </a:lnTo>
                  <a:lnTo>
                    <a:pt x="105663" y="45720"/>
                  </a:lnTo>
                  <a:lnTo>
                    <a:pt x="121158" y="35052"/>
                  </a:lnTo>
                  <a:lnTo>
                    <a:pt x="135890" y="25400"/>
                  </a:lnTo>
                  <a:lnTo>
                    <a:pt x="149479" y="16893"/>
                  </a:lnTo>
                  <a:lnTo>
                    <a:pt x="161544" y="9907"/>
                  </a:lnTo>
                  <a:lnTo>
                    <a:pt x="166878" y="6987"/>
                  </a:lnTo>
                  <a:lnTo>
                    <a:pt x="171577" y="4445"/>
                  </a:lnTo>
                  <a:lnTo>
                    <a:pt x="175895" y="2542"/>
                  </a:lnTo>
                  <a:lnTo>
                    <a:pt x="179451" y="1144"/>
                  </a:lnTo>
                  <a:lnTo>
                    <a:pt x="182372" y="256"/>
                  </a:lnTo>
                  <a:lnTo>
                    <a:pt x="184404" y="0"/>
                  </a:lnTo>
                  <a:lnTo>
                    <a:pt x="189103" y="3050"/>
                  </a:lnTo>
                  <a:lnTo>
                    <a:pt x="194563" y="6987"/>
                  </a:lnTo>
                  <a:lnTo>
                    <a:pt x="200660" y="11686"/>
                  </a:lnTo>
                  <a:lnTo>
                    <a:pt x="207518" y="17019"/>
                  </a:lnTo>
                  <a:lnTo>
                    <a:pt x="214757" y="23243"/>
                  </a:lnTo>
                  <a:lnTo>
                    <a:pt x="222631" y="30226"/>
                  </a:lnTo>
                  <a:lnTo>
                    <a:pt x="230759" y="38100"/>
                  </a:lnTo>
                  <a:lnTo>
                    <a:pt x="239268" y="46738"/>
                  </a:lnTo>
                  <a:lnTo>
                    <a:pt x="247904" y="56388"/>
                  </a:lnTo>
                  <a:lnTo>
                    <a:pt x="256794" y="66802"/>
                  </a:lnTo>
                  <a:lnTo>
                    <a:pt x="265684" y="78232"/>
                  </a:lnTo>
                  <a:lnTo>
                    <a:pt x="274574" y="90551"/>
                  </a:lnTo>
                  <a:lnTo>
                    <a:pt x="283337" y="103888"/>
                  </a:lnTo>
                  <a:lnTo>
                    <a:pt x="291846" y="118112"/>
                  </a:lnTo>
                  <a:lnTo>
                    <a:pt x="300101" y="133350"/>
                  </a:lnTo>
                  <a:lnTo>
                    <a:pt x="308102" y="149733"/>
                  </a:lnTo>
                  <a:lnTo>
                    <a:pt x="292735" y="159894"/>
                  </a:lnTo>
                  <a:lnTo>
                    <a:pt x="277749" y="169164"/>
                  </a:lnTo>
                  <a:lnTo>
                    <a:pt x="248666" y="185802"/>
                  </a:lnTo>
                  <a:lnTo>
                    <a:pt x="220345" y="200026"/>
                  </a:lnTo>
                  <a:lnTo>
                    <a:pt x="192405" y="212852"/>
                  </a:lnTo>
                  <a:lnTo>
                    <a:pt x="136906" y="236602"/>
                  </a:lnTo>
                  <a:lnTo>
                    <a:pt x="108585" y="248794"/>
                  </a:lnTo>
                  <a:lnTo>
                    <a:pt x="79629" y="262130"/>
                  </a:lnTo>
                  <a:lnTo>
                    <a:pt x="74930" y="252350"/>
                  </a:lnTo>
                  <a:lnTo>
                    <a:pt x="69723" y="243842"/>
                  </a:lnTo>
                  <a:lnTo>
                    <a:pt x="64008" y="236221"/>
                  </a:lnTo>
                  <a:lnTo>
                    <a:pt x="58166" y="229618"/>
                  </a:lnTo>
                  <a:lnTo>
                    <a:pt x="45847" y="218442"/>
                  </a:lnTo>
                  <a:lnTo>
                    <a:pt x="33401" y="208917"/>
                  </a:lnTo>
                  <a:lnTo>
                    <a:pt x="21971" y="200026"/>
                  </a:lnTo>
                  <a:lnTo>
                    <a:pt x="12065" y="190756"/>
                  </a:lnTo>
                  <a:lnTo>
                    <a:pt x="8001" y="185549"/>
                  </a:lnTo>
                  <a:lnTo>
                    <a:pt x="4699" y="179705"/>
                  </a:lnTo>
                  <a:lnTo>
                    <a:pt x="2159" y="173230"/>
                  </a:lnTo>
                  <a:lnTo>
                    <a:pt x="762" y="165863"/>
                  </a:lnTo>
                  <a:lnTo>
                    <a:pt x="0" y="153925"/>
                  </a:lnTo>
                  <a:lnTo>
                    <a:pt x="1016" y="142242"/>
                  </a:lnTo>
                  <a:lnTo>
                    <a:pt x="2413" y="138558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: Shape 59"/>
            <p:cNvSpPr/>
            <p:nvPr/>
          </p:nvSpPr>
          <p:spPr>
            <a:xfrm rot="12519600">
              <a:off x="3611160" y="2927520"/>
              <a:ext cx="1226880" cy="842040"/>
            </a:xfrm>
            <a:custGeom>
              <a:avLst/>
              <a:gdLst>
                <a:gd name="textAreaLeft" fmla="*/ 0 w 1226880"/>
                <a:gd name="textAreaRight" fmla="*/ 1226880 w 1226880"/>
                <a:gd name="textAreaTop" fmla="*/ 0 h 842040"/>
                <a:gd name="textAreaBottom" fmla="*/ 842400 h 842040"/>
              </a:gdLst>
              <a:ahLst/>
              <a:rect l="textAreaLeft" t="textAreaTop" r="textAreaRight" b="textAreaBottom"/>
              <a:pathLst>
                <a:path w="1223773" h="847346">
                  <a:moveTo>
                    <a:pt x="10541" y="695833"/>
                  </a:moveTo>
                  <a:lnTo>
                    <a:pt x="21971" y="686436"/>
                  </a:lnTo>
                  <a:lnTo>
                    <a:pt x="34036" y="676911"/>
                  </a:lnTo>
                  <a:lnTo>
                    <a:pt x="46990" y="667005"/>
                  </a:lnTo>
                  <a:lnTo>
                    <a:pt x="74803" y="646558"/>
                  </a:lnTo>
                  <a:lnTo>
                    <a:pt x="105283" y="625221"/>
                  </a:lnTo>
                  <a:lnTo>
                    <a:pt x="138303" y="603250"/>
                  </a:lnTo>
                  <a:lnTo>
                    <a:pt x="173228" y="580517"/>
                  </a:lnTo>
                  <a:lnTo>
                    <a:pt x="210312" y="557149"/>
                  </a:lnTo>
                  <a:lnTo>
                    <a:pt x="249047" y="533273"/>
                  </a:lnTo>
                  <a:lnTo>
                    <a:pt x="289306" y="508889"/>
                  </a:lnTo>
                  <a:lnTo>
                    <a:pt x="330708" y="484378"/>
                  </a:lnTo>
                  <a:lnTo>
                    <a:pt x="373253" y="459486"/>
                  </a:lnTo>
                  <a:lnTo>
                    <a:pt x="416560" y="434467"/>
                  </a:lnTo>
                  <a:lnTo>
                    <a:pt x="504825" y="384302"/>
                  </a:lnTo>
                  <a:lnTo>
                    <a:pt x="593471" y="334645"/>
                  </a:lnTo>
                  <a:lnTo>
                    <a:pt x="637540" y="310261"/>
                  </a:lnTo>
                  <a:lnTo>
                    <a:pt x="680974" y="286131"/>
                  </a:lnTo>
                  <a:lnTo>
                    <a:pt x="723773" y="262509"/>
                  </a:lnTo>
                  <a:lnTo>
                    <a:pt x="765556" y="239395"/>
                  </a:lnTo>
                  <a:lnTo>
                    <a:pt x="806069" y="216917"/>
                  </a:lnTo>
                  <a:lnTo>
                    <a:pt x="845185" y="195328"/>
                  </a:lnTo>
                  <a:lnTo>
                    <a:pt x="882523" y="174373"/>
                  </a:lnTo>
                  <a:lnTo>
                    <a:pt x="918083" y="154434"/>
                  </a:lnTo>
                  <a:lnTo>
                    <a:pt x="951484" y="135384"/>
                  </a:lnTo>
                  <a:lnTo>
                    <a:pt x="982599" y="117475"/>
                  </a:lnTo>
                  <a:lnTo>
                    <a:pt x="997077" y="109093"/>
                  </a:lnTo>
                  <a:lnTo>
                    <a:pt x="1011047" y="100840"/>
                  </a:lnTo>
                  <a:lnTo>
                    <a:pt x="1024255" y="92837"/>
                  </a:lnTo>
                  <a:lnTo>
                    <a:pt x="1036828" y="85345"/>
                  </a:lnTo>
                  <a:lnTo>
                    <a:pt x="1048512" y="78105"/>
                  </a:lnTo>
                  <a:lnTo>
                    <a:pt x="1059561" y="71122"/>
                  </a:lnTo>
                  <a:lnTo>
                    <a:pt x="1069721" y="64643"/>
                  </a:lnTo>
                  <a:lnTo>
                    <a:pt x="1078992" y="58422"/>
                  </a:lnTo>
                  <a:lnTo>
                    <a:pt x="1087501" y="52705"/>
                  </a:lnTo>
                  <a:lnTo>
                    <a:pt x="1094994" y="47245"/>
                  </a:lnTo>
                  <a:lnTo>
                    <a:pt x="1101598" y="42166"/>
                  </a:lnTo>
                  <a:lnTo>
                    <a:pt x="1107313" y="37592"/>
                  </a:lnTo>
                  <a:lnTo>
                    <a:pt x="1119251" y="31750"/>
                  </a:lnTo>
                  <a:lnTo>
                    <a:pt x="1130173" y="26162"/>
                  </a:lnTo>
                  <a:lnTo>
                    <a:pt x="1140333" y="20955"/>
                  </a:lnTo>
                  <a:lnTo>
                    <a:pt x="1149858" y="16130"/>
                  </a:lnTo>
                  <a:lnTo>
                    <a:pt x="1158621" y="11940"/>
                  </a:lnTo>
                  <a:lnTo>
                    <a:pt x="1166622" y="8128"/>
                  </a:lnTo>
                  <a:lnTo>
                    <a:pt x="1174115" y="4953"/>
                  </a:lnTo>
                  <a:lnTo>
                    <a:pt x="1180973" y="2542"/>
                  </a:lnTo>
                  <a:lnTo>
                    <a:pt x="1187323" y="891"/>
                  </a:lnTo>
                  <a:lnTo>
                    <a:pt x="1193165" y="0"/>
                  </a:lnTo>
                  <a:lnTo>
                    <a:pt x="1198626" y="0"/>
                  </a:lnTo>
                  <a:lnTo>
                    <a:pt x="1203706" y="1017"/>
                  </a:lnTo>
                  <a:lnTo>
                    <a:pt x="1208278" y="3048"/>
                  </a:lnTo>
                  <a:lnTo>
                    <a:pt x="1212723" y="6098"/>
                  </a:lnTo>
                  <a:lnTo>
                    <a:pt x="1216914" y="10416"/>
                  </a:lnTo>
                  <a:lnTo>
                    <a:pt x="1220851" y="15875"/>
                  </a:lnTo>
                  <a:lnTo>
                    <a:pt x="1223518" y="21845"/>
                  </a:lnTo>
                  <a:lnTo>
                    <a:pt x="1223772" y="27434"/>
                  </a:lnTo>
                  <a:lnTo>
                    <a:pt x="1221994" y="33022"/>
                  </a:lnTo>
                  <a:lnTo>
                    <a:pt x="1218565" y="38355"/>
                  </a:lnTo>
                  <a:lnTo>
                    <a:pt x="1213612" y="43690"/>
                  </a:lnTo>
                  <a:lnTo>
                    <a:pt x="1207643" y="48897"/>
                  </a:lnTo>
                  <a:lnTo>
                    <a:pt x="1193419" y="59436"/>
                  </a:lnTo>
                  <a:lnTo>
                    <a:pt x="1178560" y="70360"/>
                  </a:lnTo>
                  <a:lnTo>
                    <a:pt x="1171575" y="76073"/>
                  </a:lnTo>
                  <a:lnTo>
                    <a:pt x="1165352" y="82042"/>
                  </a:lnTo>
                  <a:lnTo>
                    <a:pt x="1160018" y="88392"/>
                  </a:lnTo>
                  <a:lnTo>
                    <a:pt x="1156081" y="94998"/>
                  </a:lnTo>
                  <a:lnTo>
                    <a:pt x="1153795" y="101981"/>
                  </a:lnTo>
                  <a:lnTo>
                    <a:pt x="1153541" y="109474"/>
                  </a:lnTo>
                  <a:lnTo>
                    <a:pt x="1097788" y="154815"/>
                  </a:lnTo>
                  <a:lnTo>
                    <a:pt x="1040130" y="200916"/>
                  </a:lnTo>
                  <a:lnTo>
                    <a:pt x="981075" y="247650"/>
                  </a:lnTo>
                  <a:lnTo>
                    <a:pt x="920369" y="294767"/>
                  </a:lnTo>
                  <a:lnTo>
                    <a:pt x="858647" y="342392"/>
                  </a:lnTo>
                  <a:lnTo>
                    <a:pt x="795782" y="390017"/>
                  </a:lnTo>
                  <a:lnTo>
                    <a:pt x="668020" y="485395"/>
                  </a:lnTo>
                  <a:lnTo>
                    <a:pt x="538607" y="580009"/>
                  </a:lnTo>
                  <a:lnTo>
                    <a:pt x="409321" y="672465"/>
                  </a:lnTo>
                  <a:lnTo>
                    <a:pt x="345186" y="717677"/>
                  </a:lnTo>
                  <a:lnTo>
                    <a:pt x="281559" y="762000"/>
                  </a:lnTo>
                  <a:lnTo>
                    <a:pt x="218948" y="805180"/>
                  </a:lnTo>
                  <a:lnTo>
                    <a:pt x="157226" y="847345"/>
                  </a:lnTo>
                  <a:lnTo>
                    <a:pt x="144780" y="845312"/>
                  </a:lnTo>
                  <a:lnTo>
                    <a:pt x="133985" y="842011"/>
                  </a:lnTo>
                  <a:lnTo>
                    <a:pt x="124587" y="837184"/>
                  </a:lnTo>
                  <a:lnTo>
                    <a:pt x="116332" y="831215"/>
                  </a:lnTo>
                  <a:lnTo>
                    <a:pt x="108839" y="824230"/>
                  </a:lnTo>
                  <a:lnTo>
                    <a:pt x="101727" y="816230"/>
                  </a:lnTo>
                  <a:lnTo>
                    <a:pt x="88392" y="797561"/>
                  </a:lnTo>
                  <a:lnTo>
                    <a:pt x="81407" y="787146"/>
                  </a:lnTo>
                  <a:lnTo>
                    <a:pt x="73660" y="776351"/>
                  </a:lnTo>
                  <a:lnTo>
                    <a:pt x="65151" y="764921"/>
                  </a:lnTo>
                  <a:lnTo>
                    <a:pt x="55499" y="753237"/>
                  </a:lnTo>
                  <a:lnTo>
                    <a:pt x="44450" y="741173"/>
                  </a:lnTo>
                  <a:lnTo>
                    <a:pt x="31750" y="729108"/>
                  </a:lnTo>
                  <a:lnTo>
                    <a:pt x="16891" y="717042"/>
                  </a:lnTo>
                  <a:lnTo>
                    <a:pt x="0" y="704977"/>
                  </a:lnTo>
                  <a:lnTo>
                    <a:pt x="10541" y="695833"/>
                  </a:lnTo>
                  <a:close/>
                </a:path>
              </a:pathLst>
            </a:custGeom>
            <a:solidFill>
              <a:srgbClr val="aa7700"/>
            </a:solidFill>
            <a:ln w="0">
              <a:solidFill>
                <a:srgbClr val="aa7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: Shape 60"/>
            <p:cNvSpPr/>
            <p:nvPr/>
          </p:nvSpPr>
          <p:spPr>
            <a:xfrm rot="12519600">
              <a:off x="3682080" y="2617560"/>
              <a:ext cx="1624320" cy="1240920"/>
            </a:xfrm>
            <a:custGeom>
              <a:avLst/>
              <a:gdLst>
                <a:gd name="textAreaLeft" fmla="*/ 0 w 1624320"/>
                <a:gd name="textAreaRight" fmla="*/ 1624680 w 1624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1621537" h="1248411">
                  <a:moveTo>
                    <a:pt x="380365" y="724027"/>
                  </a:moveTo>
                  <a:lnTo>
                    <a:pt x="381127" y="722630"/>
                  </a:lnTo>
                  <a:lnTo>
                    <a:pt x="381889" y="719963"/>
                  </a:lnTo>
                  <a:lnTo>
                    <a:pt x="382905" y="712597"/>
                  </a:lnTo>
                  <a:lnTo>
                    <a:pt x="383794" y="705231"/>
                  </a:lnTo>
                  <a:lnTo>
                    <a:pt x="383921" y="702691"/>
                  </a:lnTo>
                  <a:lnTo>
                    <a:pt x="384175" y="701548"/>
                  </a:lnTo>
                  <a:lnTo>
                    <a:pt x="385953" y="698754"/>
                  </a:lnTo>
                  <a:lnTo>
                    <a:pt x="388493" y="695706"/>
                  </a:lnTo>
                  <a:lnTo>
                    <a:pt x="395732" y="688340"/>
                  </a:lnTo>
                  <a:lnTo>
                    <a:pt x="405257" y="680212"/>
                  </a:lnTo>
                  <a:lnTo>
                    <a:pt x="416941" y="671068"/>
                  </a:lnTo>
                  <a:lnTo>
                    <a:pt x="430276" y="661289"/>
                  </a:lnTo>
                  <a:lnTo>
                    <a:pt x="445008" y="650875"/>
                  </a:lnTo>
                  <a:lnTo>
                    <a:pt x="477012" y="629412"/>
                  </a:lnTo>
                  <a:lnTo>
                    <a:pt x="510032" y="608203"/>
                  </a:lnTo>
                  <a:lnTo>
                    <a:pt x="526034" y="597916"/>
                  </a:lnTo>
                  <a:lnTo>
                    <a:pt x="541274" y="588391"/>
                  </a:lnTo>
                  <a:lnTo>
                    <a:pt x="555244" y="579628"/>
                  </a:lnTo>
                  <a:lnTo>
                    <a:pt x="567690" y="571627"/>
                  </a:lnTo>
                  <a:lnTo>
                    <a:pt x="578104" y="564769"/>
                  </a:lnTo>
                  <a:lnTo>
                    <a:pt x="582549" y="561848"/>
                  </a:lnTo>
                  <a:lnTo>
                    <a:pt x="586486" y="559181"/>
                  </a:lnTo>
                  <a:lnTo>
                    <a:pt x="604266" y="547624"/>
                  </a:lnTo>
                  <a:lnTo>
                    <a:pt x="622681" y="536575"/>
                  </a:lnTo>
                  <a:lnTo>
                    <a:pt x="660908" y="515747"/>
                  </a:lnTo>
                  <a:lnTo>
                    <a:pt x="699262" y="495173"/>
                  </a:lnTo>
                  <a:lnTo>
                    <a:pt x="717931" y="484505"/>
                  </a:lnTo>
                  <a:lnTo>
                    <a:pt x="736219" y="473075"/>
                  </a:lnTo>
                  <a:lnTo>
                    <a:pt x="768858" y="452628"/>
                  </a:lnTo>
                  <a:lnTo>
                    <a:pt x="802005" y="433197"/>
                  </a:lnTo>
                  <a:lnTo>
                    <a:pt x="819531" y="423418"/>
                  </a:lnTo>
                  <a:lnTo>
                    <a:pt x="837819" y="413258"/>
                  </a:lnTo>
                  <a:lnTo>
                    <a:pt x="857504" y="402336"/>
                  </a:lnTo>
                  <a:lnTo>
                    <a:pt x="878586" y="390652"/>
                  </a:lnTo>
                  <a:lnTo>
                    <a:pt x="1045718" y="296799"/>
                  </a:lnTo>
                  <a:lnTo>
                    <a:pt x="1211834" y="203454"/>
                  </a:lnTo>
                  <a:lnTo>
                    <a:pt x="1244346" y="186436"/>
                  </a:lnTo>
                  <a:lnTo>
                    <a:pt x="1277620" y="170180"/>
                  </a:lnTo>
                  <a:lnTo>
                    <a:pt x="1310640" y="153797"/>
                  </a:lnTo>
                  <a:lnTo>
                    <a:pt x="1343025" y="136017"/>
                  </a:lnTo>
                  <a:lnTo>
                    <a:pt x="1346962" y="133604"/>
                  </a:lnTo>
                  <a:lnTo>
                    <a:pt x="1351788" y="130683"/>
                  </a:lnTo>
                  <a:lnTo>
                    <a:pt x="1362710" y="123698"/>
                  </a:lnTo>
                  <a:lnTo>
                    <a:pt x="1375664" y="115316"/>
                  </a:lnTo>
                  <a:lnTo>
                    <a:pt x="1390142" y="105918"/>
                  </a:lnTo>
                  <a:lnTo>
                    <a:pt x="1405890" y="95631"/>
                  </a:lnTo>
                  <a:lnTo>
                    <a:pt x="1422527" y="84709"/>
                  </a:lnTo>
                  <a:lnTo>
                    <a:pt x="1457452" y="62230"/>
                  </a:lnTo>
                  <a:lnTo>
                    <a:pt x="1474978" y="51181"/>
                  </a:lnTo>
                  <a:lnTo>
                    <a:pt x="1491996" y="40513"/>
                  </a:lnTo>
                  <a:lnTo>
                    <a:pt x="1508379" y="30734"/>
                  </a:lnTo>
                  <a:lnTo>
                    <a:pt x="1523746" y="21717"/>
                  </a:lnTo>
                  <a:lnTo>
                    <a:pt x="1537589" y="14097"/>
                  </a:lnTo>
                  <a:lnTo>
                    <a:pt x="1549781" y="8001"/>
                  </a:lnTo>
                  <a:lnTo>
                    <a:pt x="1555115" y="5588"/>
                  </a:lnTo>
                  <a:lnTo>
                    <a:pt x="1559941" y="3556"/>
                  </a:lnTo>
                  <a:lnTo>
                    <a:pt x="1564132" y="2159"/>
                  </a:lnTo>
                  <a:lnTo>
                    <a:pt x="1567688" y="1270"/>
                  </a:lnTo>
                  <a:lnTo>
                    <a:pt x="1577213" y="0"/>
                  </a:lnTo>
                  <a:lnTo>
                    <a:pt x="1586484" y="0"/>
                  </a:lnTo>
                  <a:lnTo>
                    <a:pt x="1595120" y="1270"/>
                  </a:lnTo>
                  <a:lnTo>
                    <a:pt x="1602867" y="3937"/>
                  </a:lnTo>
                  <a:lnTo>
                    <a:pt x="1609598" y="7747"/>
                  </a:lnTo>
                  <a:lnTo>
                    <a:pt x="1614932" y="12954"/>
                  </a:lnTo>
                  <a:lnTo>
                    <a:pt x="1618488" y="19558"/>
                  </a:lnTo>
                  <a:lnTo>
                    <a:pt x="1620139" y="27432"/>
                  </a:lnTo>
                  <a:lnTo>
                    <a:pt x="1621536" y="33274"/>
                  </a:lnTo>
                  <a:lnTo>
                    <a:pt x="1620774" y="40005"/>
                  </a:lnTo>
                  <a:lnTo>
                    <a:pt x="1617853" y="47371"/>
                  </a:lnTo>
                  <a:lnTo>
                    <a:pt x="1613027" y="55499"/>
                  </a:lnTo>
                  <a:lnTo>
                    <a:pt x="1606677" y="64008"/>
                  </a:lnTo>
                  <a:lnTo>
                    <a:pt x="1599057" y="72898"/>
                  </a:lnTo>
                  <a:lnTo>
                    <a:pt x="1590167" y="82042"/>
                  </a:lnTo>
                  <a:lnTo>
                    <a:pt x="1580515" y="91313"/>
                  </a:lnTo>
                  <a:lnTo>
                    <a:pt x="1559687" y="109855"/>
                  </a:lnTo>
                  <a:lnTo>
                    <a:pt x="1538224" y="127635"/>
                  </a:lnTo>
                  <a:lnTo>
                    <a:pt x="1527937" y="136017"/>
                  </a:lnTo>
                  <a:lnTo>
                    <a:pt x="1518285" y="143637"/>
                  </a:lnTo>
                  <a:lnTo>
                    <a:pt x="1509522" y="150749"/>
                  </a:lnTo>
                  <a:lnTo>
                    <a:pt x="1501902" y="156972"/>
                  </a:lnTo>
                  <a:lnTo>
                    <a:pt x="1479042" y="177038"/>
                  </a:lnTo>
                  <a:lnTo>
                    <a:pt x="1456436" y="197612"/>
                  </a:lnTo>
                  <a:lnTo>
                    <a:pt x="1433703" y="218059"/>
                  </a:lnTo>
                  <a:lnTo>
                    <a:pt x="1410335" y="237236"/>
                  </a:lnTo>
                  <a:lnTo>
                    <a:pt x="1323467" y="303657"/>
                  </a:lnTo>
                  <a:lnTo>
                    <a:pt x="1280287" y="337566"/>
                  </a:lnTo>
                  <a:lnTo>
                    <a:pt x="1238123" y="371983"/>
                  </a:lnTo>
                  <a:lnTo>
                    <a:pt x="1177671" y="422910"/>
                  </a:lnTo>
                  <a:lnTo>
                    <a:pt x="1116838" y="473837"/>
                  </a:lnTo>
                  <a:lnTo>
                    <a:pt x="1086104" y="498983"/>
                  </a:lnTo>
                  <a:lnTo>
                    <a:pt x="1054862" y="523621"/>
                  </a:lnTo>
                  <a:lnTo>
                    <a:pt x="1023112" y="547497"/>
                  </a:lnTo>
                  <a:lnTo>
                    <a:pt x="990981" y="570484"/>
                  </a:lnTo>
                  <a:lnTo>
                    <a:pt x="902081" y="631444"/>
                  </a:lnTo>
                  <a:lnTo>
                    <a:pt x="858012" y="662432"/>
                  </a:lnTo>
                  <a:lnTo>
                    <a:pt x="814832" y="694055"/>
                  </a:lnTo>
                  <a:lnTo>
                    <a:pt x="756793" y="739394"/>
                  </a:lnTo>
                  <a:lnTo>
                    <a:pt x="697992" y="785241"/>
                  </a:lnTo>
                  <a:lnTo>
                    <a:pt x="668147" y="807720"/>
                  </a:lnTo>
                  <a:lnTo>
                    <a:pt x="637794" y="829437"/>
                  </a:lnTo>
                  <a:lnTo>
                    <a:pt x="606933" y="850392"/>
                  </a:lnTo>
                  <a:lnTo>
                    <a:pt x="575183" y="870077"/>
                  </a:lnTo>
                  <a:lnTo>
                    <a:pt x="561086" y="877951"/>
                  </a:lnTo>
                  <a:lnTo>
                    <a:pt x="546862" y="884936"/>
                  </a:lnTo>
                  <a:lnTo>
                    <a:pt x="518033" y="898017"/>
                  </a:lnTo>
                  <a:lnTo>
                    <a:pt x="489712" y="911098"/>
                  </a:lnTo>
                  <a:lnTo>
                    <a:pt x="475996" y="918337"/>
                  </a:lnTo>
                  <a:lnTo>
                    <a:pt x="462788" y="926338"/>
                  </a:lnTo>
                  <a:lnTo>
                    <a:pt x="455549" y="930656"/>
                  </a:lnTo>
                  <a:lnTo>
                    <a:pt x="446532" y="935609"/>
                  </a:lnTo>
                  <a:lnTo>
                    <a:pt x="435991" y="940943"/>
                  </a:lnTo>
                  <a:lnTo>
                    <a:pt x="424434" y="946531"/>
                  </a:lnTo>
                  <a:lnTo>
                    <a:pt x="398907" y="958215"/>
                  </a:lnTo>
                  <a:lnTo>
                    <a:pt x="371856" y="970407"/>
                  </a:lnTo>
                  <a:lnTo>
                    <a:pt x="345440" y="982472"/>
                  </a:lnTo>
                  <a:lnTo>
                    <a:pt x="332994" y="988314"/>
                  </a:lnTo>
                  <a:lnTo>
                    <a:pt x="321691" y="993902"/>
                  </a:lnTo>
                  <a:lnTo>
                    <a:pt x="311404" y="999236"/>
                  </a:lnTo>
                  <a:lnTo>
                    <a:pt x="302641" y="1004062"/>
                  </a:lnTo>
                  <a:lnTo>
                    <a:pt x="295656" y="1008507"/>
                  </a:lnTo>
                  <a:lnTo>
                    <a:pt x="290449" y="1012444"/>
                  </a:lnTo>
                  <a:lnTo>
                    <a:pt x="285242" y="1017651"/>
                  </a:lnTo>
                  <a:lnTo>
                    <a:pt x="280670" y="1022604"/>
                  </a:lnTo>
                  <a:lnTo>
                    <a:pt x="273558" y="1032256"/>
                  </a:lnTo>
                  <a:lnTo>
                    <a:pt x="261874" y="1050290"/>
                  </a:lnTo>
                  <a:lnTo>
                    <a:pt x="255016" y="1059180"/>
                  </a:lnTo>
                  <a:lnTo>
                    <a:pt x="245872" y="1068197"/>
                  </a:lnTo>
                  <a:lnTo>
                    <a:pt x="240030" y="1072769"/>
                  </a:lnTo>
                  <a:lnTo>
                    <a:pt x="233045" y="1077468"/>
                  </a:lnTo>
                  <a:lnTo>
                    <a:pt x="225044" y="1082294"/>
                  </a:lnTo>
                  <a:lnTo>
                    <a:pt x="215646" y="1087374"/>
                  </a:lnTo>
                  <a:lnTo>
                    <a:pt x="204978" y="1091946"/>
                  </a:lnTo>
                  <a:lnTo>
                    <a:pt x="193675" y="1095883"/>
                  </a:lnTo>
                  <a:lnTo>
                    <a:pt x="169545" y="1103122"/>
                  </a:lnTo>
                  <a:lnTo>
                    <a:pt x="157480" y="1106678"/>
                  </a:lnTo>
                  <a:lnTo>
                    <a:pt x="146050" y="1110742"/>
                  </a:lnTo>
                  <a:lnTo>
                    <a:pt x="135255" y="1115441"/>
                  </a:lnTo>
                  <a:lnTo>
                    <a:pt x="125730" y="1121029"/>
                  </a:lnTo>
                  <a:lnTo>
                    <a:pt x="118364" y="1126617"/>
                  </a:lnTo>
                  <a:lnTo>
                    <a:pt x="111379" y="1132713"/>
                  </a:lnTo>
                  <a:lnTo>
                    <a:pt x="98806" y="1146302"/>
                  </a:lnTo>
                  <a:lnTo>
                    <a:pt x="87503" y="1161415"/>
                  </a:lnTo>
                  <a:lnTo>
                    <a:pt x="77597" y="1177798"/>
                  </a:lnTo>
                  <a:lnTo>
                    <a:pt x="68326" y="1194943"/>
                  </a:lnTo>
                  <a:lnTo>
                    <a:pt x="59817" y="1212723"/>
                  </a:lnTo>
                  <a:lnTo>
                    <a:pt x="43307" y="1248410"/>
                  </a:lnTo>
                  <a:lnTo>
                    <a:pt x="39624" y="1246759"/>
                  </a:lnTo>
                  <a:lnTo>
                    <a:pt x="35941" y="1243711"/>
                  </a:lnTo>
                  <a:lnTo>
                    <a:pt x="32385" y="1239647"/>
                  </a:lnTo>
                  <a:lnTo>
                    <a:pt x="28956" y="1234567"/>
                  </a:lnTo>
                  <a:lnTo>
                    <a:pt x="22352" y="1222248"/>
                  </a:lnTo>
                  <a:lnTo>
                    <a:pt x="16383" y="1207770"/>
                  </a:lnTo>
                  <a:lnTo>
                    <a:pt x="11176" y="1192657"/>
                  </a:lnTo>
                  <a:lnTo>
                    <a:pt x="6985" y="1177925"/>
                  </a:lnTo>
                  <a:lnTo>
                    <a:pt x="3810" y="1164971"/>
                  </a:lnTo>
                  <a:lnTo>
                    <a:pt x="2794" y="1159383"/>
                  </a:lnTo>
                  <a:lnTo>
                    <a:pt x="2159" y="1154684"/>
                  </a:lnTo>
                  <a:lnTo>
                    <a:pt x="762" y="1141095"/>
                  </a:lnTo>
                  <a:lnTo>
                    <a:pt x="0" y="1127887"/>
                  </a:lnTo>
                  <a:lnTo>
                    <a:pt x="254" y="1114933"/>
                  </a:lnTo>
                  <a:lnTo>
                    <a:pt x="1016" y="1102360"/>
                  </a:lnTo>
                  <a:lnTo>
                    <a:pt x="2413" y="1090168"/>
                  </a:lnTo>
                  <a:lnTo>
                    <a:pt x="4699" y="1078230"/>
                  </a:lnTo>
                  <a:lnTo>
                    <a:pt x="10795" y="1055624"/>
                  </a:lnTo>
                  <a:lnTo>
                    <a:pt x="19050" y="1034415"/>
                  </a:lnTo>
                  <a:lnTo>
                    <a:pt x="29464" y="1014603"/>
                  </a:lnTo>
                  <a:lnTo>
                    <a:pt x="41656" y="996061"/>
                  </a:lnTo>
                  <a:lnTo>
                    <a:pt x="55499" y="978916"/>
                  </a:lnTo>
                  <a:lnTo>
                    <a:pt x="70739" y="963168"/>
                  </a:lnTo>
                  <a:lnTo>
                    <a:pt x="87122" y="948690"/>
                  </a:lnTo>
                  <a:lnTo>
                    <a:pt x="104394" y="935609"/>
                  </a:lnTo>
                  <a:lnTo>
                    <a:pt x="122428" y="923798"/>
                  </a:lnTo>
                  <a:lnTo>
                    <a:pt x="140843" y="913130"/>
                  </a:lnTo>
                  <a:lnTo>
                    <a:pt x="159512" y="903732"/>
                  </a:lnTo>
                  <a:lnTo>
                    <a:pt x="178308" y="895731"/>
                  </a:lnTo>
                  <a:lnTo>
                    <a:pt x="196850" y="888873"/>
                  </a:lnTo>
                  <a:lnTo>
                    <a:pt x="198755" y="886079"/>
                  </a:lnTo>
                  <a:lnTo>
                    <a:pt x="199898" y="882523"/>
                  </a:lnTo>
                  <a:lnTo>
                    <a:pt x="200914" y="874141"/>
                  </a:lnTo>
                  <a:lnTo>
                    <a:pt x="201930" y="865632"/>
                  </a:lnTo>
                  <a:lnTo>
                    <a:pt x="202819" y="861949"/>
                  </a:lnTo>
                  <a:lnTo>
                    <a:pt x="204470" y="858901"/>
                  </a:lnTo>
                  <a:lnTo>
                    <a:pt x="205359" y="857758"/>
                  </a:lnTo>
                  <a:lnTo>
                    <a:pt x="206883" y="856107"/>
                  </a:lnTo>
                  <a:lnTo>
                    <a:pt x="211709" y="851535"/>
                  </a:lnTo>
                  <a:lnTo>
                    <a:pt x="218567" y="845566"/>
                  </a:lnTo>
                  <a:lnTo>
                    <a:pt x="227203" y="838200"/>
                  </a:lnTo>
                  <a:lnTo>
                    <a:pt x="237109" y="829945"/>
                  </a:lnTo>
                  <a:lnTo>
                    <a:pt x="247904" y="820801"/>
                  </a:lnTo>
                  <a:lnTo>
                    <a:pt x="271780" y="801497"/>
                  </a:lnTo>
                  <a:lnTo>
                    <a:pt x="296037" y="782066"/>
                  </a:lnTo>
                  <a:lnTo>
                    <a:pt x="307594" y="772922"/>
                  </a:lnTo>
                  <a:lnTo>
                    <a:pt x="318262" y="764413"/>
                  </a:lnTo>
                  <a:lnTo>
                    <a:pt x="327914" y="756920"/>
                  </a:lnTo>
                  <a:lnTo>
                    <a:pt x="336042" y="750697"/>
                  </a:lnTo>
                  <a:lnTo>
                    <a:pt x="342392" y="745871"/>
                  </a:lnTo>
                  <a:lnTo>
                    <a:pt x="344805" y="744093"/>
                  </a:lnTo>
                  <a:lnTo>
                    <a:pt x="346710" y="742823"/>
                  </a:lnTo>
                  <a:lnTo>
                    <a:pt x="354711" y="737870"/>
                  </a:lnTo>
                  <a:lnTo>
                    <a:pt x="363347" y="733298"/>
                  </a:lnTo>
                  <a:lnTo>
                    <a:pt x="1595120" y="30480"/>
                  </a:lnTo>
                  <a:lnTo>
                    <a:pt x="1595374" y="33655"/>
                  </a:lnTo>
                  <a:lnTo>
                    <a:pt x="1594612" y="36957"/>
                  </a:lnTo>
                  <a:lnTo>
                    <a:pt x="1592961" y="40386"/>
                  </a:lnTo>
                  <a:lnTo>
                    <a:pt x="1587627" y="47498"/>
                  </a:lnTo>
                  <a:lnTo>
                    <a:pt x="1580134" y="54864"/>
                  </a:lnTo>
                  <a:lnTo>
                    <a:pt x="1561973" y="69596"/>
                  </a:lnTo>
                  <a:lnTo>
                    <a:pt x="1553210" y="76581"/>
                  </a:lnTo>
                  <a:lnTo>
                    <a:pt x="1545590" y="83185"/>
                  </a:lnTo>
                  <a:lnTo>
                    <a:pt x="1525651" y="101092"/>
                  </a:lnTo>
                  <a:lnTo>
                    <a:pt x="1504950" y="118237"/>
                  </a:lnTo>
                  <a:lnTo>
                    <a:pt x="1462024" y="150495"/>
                  </a:lnTo>
                  <a:lnTo>
                    <a:pt x="1418590" y="182118"/>
                  </a:lnTo>
                  <a:lnTo>
                    <a:pt x="1397254" y="198120"/>
                  </a:lnTo>
                  <a:lnTo>
                    <a:pt x="1376680" y="214757"/>
                  </a:lnTo>
                  <a:lnTo>
                    <a:pt x="1342644" y="242443"/>
                  </a:lnTo>
                  <a:lnTo>
                    <a:pt x="1307973" y="269875"/>
                  </a:lnTo>
                  <a:lnTo>
                    <a:pt x="1238123" y="323215"/>
                  </a:lnTo>
                  <a:lnTo>
                    <a:pt x="1168019" y="375666"/>
                  </a:lnTo>
                  <a:lnTo>
                    <a:pt x="1097788" y="427355"/>
                  </a:lnTo>
                  <a:lnTo>
                    <a:pt x="1027430" y="480568"/>
                  </a:lnTo>
                  <a:lnTo>
                    <a:pt x="992251" y="508127"/>
                  </a:lnTo>
                  <a:lnTo>
                    <a:pt x="957199" y="536702"/>
                  </a:lnTo>
                  <a:lnTo>
                    <a:pt x="923290" y="563499"/>
                  </a:lnTo>
                  <a:lnTo>
                    <a:pt x="887984" y="589407"/>
                  </a:lnTo>
                  <a:lnTo>
                    <a:pt x="869696" y="602615"/>
                  </a:lnTo>
                  <a:lnTo>
                    <a:pt x="850646" y="616204"/>
                  </a:lnTo>
                  <a:lnTo>
                    <a:pt x="831215" y="630301"/>
                  </a:lnTo>
                  <a:lnTo>
                    <a:pt x="811149" y="645414"/>
                  </a:lnTo>
                  <a:lnTo>
                    <a:pt x="740537" y="698627"/>
                  </a:lnTo>
                  <a:lnTo>
                    <a:pt x="704850" y="724789"/>
                  </a:lnTo>
                  <a:lnTo>
                    <a:pt x="668782" y="750189"/>
                  </a:lnTo>
                  <a:lnTo>
                    <a:pt x="663575" y="753872"/>
                  </a:lnTo>
                  <a:lnTo>
                    <a:pt x="657225" y="758444"/>
                  </a:lnTo>
                  <a:lnTo>
                    <a:pt x="649732" y="763651"/>
                  </a:lnTo>
                  <a:lnTo>
                    <a:pt x="641223" y="769493"/>
                  </a:lnTo>
                  <a:lnTo>
                    <a:pt x="622173" y="781939"/>
                  </a:lnTo>
                  <a:lnTo>
                    <a:pt x="600964" y="794512"/>
                  </a:lnTo>
                  <a:lnTo>
                    <a:pt x="578866" y="805815"/>
                  </a:lnTo>
                  <a:lnTo>
                    <a:pt x="567944" y="810514"/>
                  </a:lnTo>
                  <a:lnTo>
                    <a:pt x="557149" y="814324"/>
                  </a:lnTo>
                  <a:lnTo>
                    <a:pt x="546735" y="817118"/>
                  </a:lnTo>
                  <a:lnTo>
                    <a:pt x="536702" y="818769"/>
                  </a:lnTo>
                  <a:lnTo>
                    <a:pt x="527431" y="819023"/>
                  </a:lnTo>
                  <a:lnTo>
                    <a:pt x="519049" y="817626"/>
                  </a:lnTo>
                  <a:lnTo>
                    <a:pt x="513588" y="815467"/>
                  </a:lnTo>
                  <a:lnTo>
                    <a:pt x="507873" y="811403"/>
                  </a:lnTo>
                  <a:lnTo>
                    <a:pt x="501777" y="806069"/>
                  </a:lnTo>
                  <a:lnTo>
                    <a:pt x="495427" y="799465"/>
                  </a:lnTo>
                  <a:lnTo>
                    <a:pt x="488823" y="791972"/>
                  </a:lnTo>
                  <a:lnTo>
                    <a:pt x="482092" y="783717"/>
                  </a:lnTo>
                  <a:lnTo>
                    <a:pt x="467995" y="766064"/>
                  </a:lnTo>
                  <a:lnTo>
                    <a:pt x="453517" y="748284"/>
                  </a:lnTo>
                  <a:lnTo>
                    <a:pt x="438912" y="732155"/>
                  </a:lnTo>
                  <a:lnTo>
                    <a:pt x="431673" y="725424"/>
                  </a:lnTo>
                  <a:lnTo>
                    <a:pt x="424434" y="719836"/>
                  </a:lnTo>
                  <a:lnTo>
                    <a:pt x="417322" y="715518"/>
                  </a:lnTo>
                  <a:lnTo>
                    <a:pt x="410337" y="712851"/>
                  </a:lnTo>
                  <a:lnTo>
                    <a:pt x="410337" y="697865"/>
                  </a:lnTo>
                  <a:lnTo>
                    <a:pt x="437007" y="676529"/>
                  </a:lnTo>
                  <a:lnTo>
                    <a:pt x="464820" y="656082"/>
                  </a:lnTo>
                  <a:lnTo>
                    <a:pt x="493268" y="636270"/>
                  </a:lnTo>
                  <a:lnTo>
                    <a:pt x="522605" y="617220"/>
                  </a:lnTo>
                  <a:lnTo>
                    <a:pt x="582295" y="580263"/>
                  </a:lnTo>
                  <a:lnTo>
                    <a:pt x="642620" y="544322"/>
                  </a:lnTo>
                  <a:lnTo>
                    <a:pt x="795274" y="454533"/>
                  </a:lnTo>
                  <a:lnTo>
                    <a:pt x="872236" y="410718"/>
                  </a:lnTo>
                  <a:lnTo>
                    <a:pt x="949706" y="368173"/>
                  </a:lnTo>
                  <a:lnTo>
                    <a:pt x="1035939" y="321310"/>
                  </a:lnTo>
                  <a:lnTo>
                    <a:pt x="1120394" y="274193"/>
                  </a:lnTo>
                  <a:lnTo>
                    <a:pt x="1203833" y="227330"/>
                  </a:lnTo>
                  <a:lnTo>
                    <a:pt x="1286764" y="180975"/>
                  </a:lnTo>
                  <a:lnTo>
                    <a:pt x="1337564" y="152146"/>
                  </a:lnTo>
                  <a:lnTo>
                    <a:pt x="1387348" y="123190"/>
                  </a:lnTo>
                  <a:lnTo>
                    <a:pt x="1485265" y="64897"/>
                  </a:lnTo>
                  <a:lnTo>
                    <a:pt x="1489964" y="61976"/>
                  </a:lnTo>
                  <a:lnTo>
                    <a:pt x="1495806" y="58166"/>
                  </a:lnTo>
                  <a:lnTo>
                    <a:pt x="1502410" y="53848"/>
                  </a:lnTo>
                  <a:lnTo>
                    <a:pt x="1509776" y="49149"/>
                  </a:lnTo>
                  <a:lnTo>
                    <a:pt x="1525905" y="39116"/>
                  </a:lnTo>
                  <a:lnTo>
                    <a:pt x="1543050" y="29591"/>
                  </a:lnTo>
                  <a:lnTo>
                    <a:pt x="1551432" y="25527"/>
                  </a:lnTo>
                  <a:lnTo>
                    <a:pt x="1559560" y="22225"/>
                  </a:lnTo>
                  <a:lnTo>
                    <a:pt x="1567307" y="19812"/>
                  </a:lnTo>
                  <a:lnTo>
                    <a:pt x="1574546" y="18415"/>
                  </a:lnTo>
                  <a:lnTo>
                    <a:pt x="1580896" y="18288"/>
                  </a:lnTo>
                  <a:lnTo>
                    <a:pt x="1586357" y="19685"/>
                  </a:lnTo>
                  <a:lnTo>
                    <a:pt x="1590675" y="22606"/>
                  </a:lnTo>
                  <a:lnTo>
                    <a:pt x="1593850" y="27432"/>
                  </a:lnTo>
                  <a:lnTo>
                    <a:pt x="459740" y="903859"/>
                  </a:lnTo>
                  <a:lnTo>
                    <a:pt x="439166" y="915289"/>
                  </a:lnTo>
                  <a:lnTo>
                    <a:pt x="399542" y="938276"/>
                  </a:lnTo>
                  <a:lnTo>
                    <a:pt x="379222" y="949452"/>
                  </a:lnTo>
                  <a:lnTo>
                    <a:pt x="357886" y="959866"/>
                  </a:lnTo>
                  <a:lnTo>
                    <a:pt x="334645" y="969772"/>
                  </a:lnTo>
                  <a:lnTo>
                    <a:pt x="309245" y="978789"/>
                  </a:lnTo>
                  <a:lnTo>
                    <a:pt x="303657" y="975487"/>
                  </a:lnTo>
                  <a:lnTo>
                    <a:pt x="297053" y="971042"/>
                  </a:lnTo>
                  <a:lnTo>
                    <a:pt x="289941" y="965581"/>
                  </a:lnTo>
                  <a:lnTo>
                    <a:pt x="282448" y="959231"/>
                  </a:lnTo>
                  <a:lnTo>
                    <a:pt x="266954" y="944372"/>
                  </a:lnTo>
                  <a:lnTo>
                    <a:pt x="252222" y="927608"/>
                  </a:lnTo>
                  <a:lnTo>
                    <a:pt x="239522" y="910082"/>
                  </a:lnTo>
                  <a:lnTo>
                    <a:pt x="234569" y="901319"/>
                  </a:lnTo>
                  <a:lnTo>
                    <a:pt x="230759" y="892683"/>
                  </a:lnTo>
                  <a:lnTo>
                    <a:pt x="228219" y="884428"/>
                  </a:lnTo>
                  <a:lnTo>
                    <a:pt x="227203" y="876427"/>
                  </a:lnTo>
                  <a:lnTo>
                    <a:pt x="227965" y="869188"/>
                  </a:lnTo>
                  <a:lnTo>
                    <a:pt x="230632" y="862584"/>
                  </a:lnTo>
                  <a:lnTo>
                    <a:pt x="231775" y="861060"/>
                  </a:lnTo>
                  <a:lnTo>
                    <a:pt x="233680" y="858901"/>
                  </a:lnTo>
                  <a:lnTo>
                    <a:pt x="236220" y="856361"/>
                  </a:lnTo>
                  <a:lnTo>
                    <a:pt x="239522" y="853313"/>
                  </a:lnTo>
                  <a:lnTo>
                    <a:pt x="247523" y="846328"/>
                  </a:lnTo>
                  <a:lnTo>
                    <a:pt x="257556" y="838073"/>
                  </a:lnTo>
                  <a:lnTo>
                    <a:pt x="268986" y="828929"/>
                  </a:lnTo>
                  <a:lnTo>
                    <a:pt x="281686" y="819277"/>
                  </a:lnTo>
                  <a:lnTo>
                    <a:pt x="308864" y="798957"/>
                  </a:lnTo>
                  <a:lnTo>
                    <a:pt x="322580" y="788924"/>
                  </a:lnTo>
                  <a:lnTo>
                    <a:pt x="336042" y="779272"/>
                  </a:lnTo>
                  <a:lnTo>
                    <a:pt x="348742" y="770382"/>
                  </a:lnTo>
                  <a:lnTo>
                    <a:pt x="360299" y="762508"/>
                  </a:lnTo>
                  <a:lnTo>
                    <a:pt x="370332" y="756031"/>
                  </a:lnTo>
                  <a:lnTo>
                    <a:pt x="378587" y="750951"/>
                  </a:lnTo>
                  <a:lnTo>
                    <a:pt x="381889" y="749046"/>
                  </a:lnTo>
                  <a:lnTo>
                    <a:pt x="384556" y="747649"/>
                  </a:lnTo>
                  <a:lnTo>
                    <a:pt x="386588" y="746760"/>
                  </a:lnTo>
                  <a:lnTo>
                    <a:pt x="387858" y="746506"/>
                  </a:lnTo>
                  <a:lnTo>
                    <a:pt x="395986" y="747649"/>
                  </a:lnTo>
                  <a:lnTo>
                    <a:pt x="404876" y="751078"/>
                  </a:lnTo>
                  <a:lnTo>
                    <a:pt x="413893" y="756285"/>
                  </a:lnTo>
                  <a:lnTo>
                    <a:pt x="423164" y="763143"/>
                  </a:lnTo>
                  <a:lnTo>
                    <a:pt x="432562" y="771525"/>
                  </a:lnTo>
                  <a:lnTo>
                    <a:pt x="441579" y="781177"/>
                  </a:lnTo>
                  <a:lnTo>
                    <a:pt x="450215" y="791718"/>
                  </a:lnTo>
                  <a:lnTo>
                    <a:pt x="458470" y="803148"/>
                  </a:lnTo>
                  <a:lnTo>
                    <a:pt x="465709" y="814959"/>
                  </a:lnTo>
                  <a:lnTo>
                    <a:pt x="472313" y="827151"/>
                  </a:lnTo>
                  <a:lnTo>
                    <a:pt x="477647" y="839216"/>
                  </a:lnTo>
                  <a:lnTo>
                    <a:pt x="481838" y="851281"/>
                  </a:lnTo>
                  <a:lnTo>
                    <a:pt x="484378" y="862838"/>
                  </a:lnTo>
                  <a:lnTo>
                    <a:pt x="485267" y="873760"/>
                  </a:lnTo>
                  <a:lnTo>
                    <a:pt x="484378" y="883793"/>
                  </a:lnTo>
                  <a:lnTo>
                    <a:pt x="481457" y="892556"/>
                  </a:lnTo>
                  <a:lnTo>
                    <a:pt x="271145" y="994156"/>
                  </a:lnTo>
                  <a:lnTo>
                    <a:pt x="268859" y="1007745"/>
                  </a:lnTo>
                  <a:lnTo>
                    <a:pt x="265049" y="1019683"/>
                  </a:lnTo>
                  <a:lnTo>
                    <a:pt x="259842" y="1030097"/>
                  </a:lnTo>
                  <a:lnTo>
                    <a:pt x="253365" y="1039241"/>
                  </a:lnTo>
                  <a:lnTo>
                    <a:pt x="245745" y="1047115"/>
                  </a:lnTo>
                  <a:lnTo>
                    <a:pt x="237109" y="1054100"/>
                  </a:lnTo>
                  <a:lnTo>
                    <a:pt x="227711" y="1060069"/>
                  </a:lnTo>
                  <a:lnTo>
                    <a:pt x="217424" y="1065276"/>
                  </a:lnTo>
                  <a:lnTo>
                    <a:pt x="206629" y="1070102"/>
                  </a:lnTo>
                  <a:lnTo>
                    <a:pt x="183769" y="1078357"/>
                  </a:lnTo>
                  <a:lnTo>
                    <a:pt x="160274" y="1086231"/>
                  </a:lnTo>
                  <a:lnTo>
                    <a:pt x="137033" y="1094867"/>
                  </a:lnTo>
                  <a:lnTo>
                    <a:pt x="127762" y="1099058"/>
                  </a:lnTo>
                  <a:lnTo>
                    <a:pt x="119253" y="1103884"/>
                  </a:lnTo>
                  <a:lnTo>
                    <a:pt x="111379" y="1109218"/>
                  </a:lnTo>
                  <a:lnTo>
                    <a:pt x="104013" y="1114933"/>
                  </a:lnTo>
                  <a:lnTo>
                    <a:pt x="90805" y="1127760"/>
                  </a:lnTo>
                  <a:lnTo>
                    <a:pt x="79121" y="1142111"/>
                  </a:lnTo>
                  <a:lnTo>
                    <a:pt x="68580" y="1157478"/>
                  </a:lnTo>
                  <a:lnTo>
                    <a:pt x="58801" y="1173734"/>
                  </a:lnTo>
                  <a:lnTo>
                    <a:pt x="39624" y="1207135"/>
                  </a:lnTo>
                  <a:lnTo>
                    <a:pt x="33655" y="1193419"/>
                  </a:lnTo>
                  <a:lnTo>
                    <a:pt x="29083" y="1178941"/>
                  </a:lnTo>
                  <a:lnTo>
                    <a:pt x="25781" y="1164082"/>
                  </a:lnTo>
                  <a:lnTo>
                    <a:pt x="23622" y="1148715"/>
                  </a:lnTo>
                  <a:lnTo>
                    <a:pt x="22733" y="1133221"/>
                  </a:lnTo>
                  <a:lnTo>
                    <a:pt x="22733" y="1117600"/>
                  </a:lnTo>
                  <a:lnTo>
                    <a:pt x="24003" y="1102233"/>
                  </a:lnTo>
                  <a:lnTo>
                    <a:pt x="26289" y="1086739"/>
                  </a:lnTo>
                  <a:lnTo>
                    <a:pt x="29337" y="1071753"/>
                  </a:lnTo>
                  <a:lnTo>
                    <a:pt x="33401" y="1057148"/>
                  </a:lnTo>
                  <a:lnTo>
                    <a:pt x="38227" y="1043178"/>
                  </a:lnTo>
                  <a:lnTo>
                    <a:pt x="43942" y="1029843"/>
                  </a:lnTo>
                  <a:lnTo>
                    <a:pt x="50292" y="1017270"/>
                  </a:lnTo>
                  <a:lnTo>
                    <a:pt x="57277" y="1005840"/>
                  </a:lnTo>
                  <a:lnTo>
                    <a:pt x="65024" y="995426"/>
                  </a:lnTo>
                  <a:lnTo>
                    <a:pt x="73279" y="986155"/>
                  </a:lnTo>
                  <a:lnTo>
                    <a:pt x="97790" y="963168"/>
                  </a:lnTo>
                  <a:lnTo>
                    <a:pt x="110236" y="952754"/>
                  </a:lnTo>
                  <a:lnTo>
                    <a:pt x="122809" y="943356"/>
                  </a:lnTo>
                  <a:lnTo>
                    <a:pt x="135509" y="935101"/>
                  </a:lnTo>
                  <a:lnTo>
                    <a:pt x="148209" y="928243"/>
                  </a:lnTo>
                  <a:lnTo>
                    <a:pt x="160909" y="922909"/>
                  </a:lnTo>
                  <a:lnTo>
                    <a:pt x="173736" y="919480"/>
                  </a:lnTo>
                  <a:lnTo>
                    <a:pt x="186436" y="917829"/>
                  </a:lnTo>
                  <a:lnTo>
                    <a:pt x="199009" y="918464"/>
                  </a:lnTo>
                  <a:lnTo>
                    <a:pt x="211582" y="921512"/>
                  </a:lnTo>
                  <a:lnTo>
                    <a:pt x="223901" y="927100"/>
                  </a:lnTo>
                  <a:lnTo>
                    <a:pt x="236220" y="935482"/>
                  </a:lnTo>
                  <a:lnTo>
                    <a:pt x="248285" y="946658"/>
                  </a:lnTo>
                  <a:lnTo>
                    <a:pt x="260096" y="961009"/>
                  </a:lnTo>
                  <a:lnTo>
                    <a:pt x="271780" y="978789"/>
                  </a:lnTo>
                  <a:lnTo>
                    <a:pt x="380365" y="7240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: Shape 61"/>
            <p:cNvSpPr/>
            <p:nvPr/>
          </p:nvSpPr>
          <p:spPr>
            <a:xfrm rot="12519600">
              <a:off x="4917960" y="330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74804" h="59945">
                  <a:moveTo>
                    <a:pt x="0" y="46482"/>
                  </a:moveTo>
                  <a:lnTo>
                    <a:pt x="16764" y="35052"/>
                  </a:lnTo>
                  <a:lnTo>
                    <a:pt x="33401" y="22607"/>
                  </a:lnTo>
                  <a:lnTo>
                    <a:pt x="51181" y="10414"/>
                  </a:lnTo>
                  <a:lnTo>
                    <a:pt x="60706" y="4955"/>
                  </a:lnTo>
                  <a:lnTo>
                    <a:pt x="70993" y="0"/>
                  </a:lnTo>
                  <a:lnTo>
                    <a:pt x="74803" y="11176"/>
                  </a:lnTo>
                  <a:lnTo>
                    <a:pt x="67564" y="16764"/>
                  </a:lnTo>
                  <a:lnTo>
                    <a:pt x="59563" y="22860"/>
                  </a:lnTo>
                  <a:lnTo>
                    <a:pt x="41910" y="35688"/>
                  </a:lnTo>
                  <a:lnTo>
                    <a:pt x="23749" y="48514"/>
                  </a:lnTo>
                  <a:lnTo>
                    <a:pt x="15240" y="54483"/>
                  </a:lnTo>
                  <a:lnTo>
                    <a:pt x="7366" y="59944"/>
                  </a:lnTo>
                  <a:lnTo>
                    <a:pt x="5842" y="56642"/>
                  </a:lnTo>
                  <a:lnTo>
                    <a:pt x="3937" y="53594"/>
                  </a:lnTo>
                  <a:lnTo>
                    <a:pt x="2032" y="50547"/>
                  </a:lnTo>
                  <a:lnTo>
                    <a:pt x="0" y="464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: Shape 62"/>
            <p:cNvSpPr/>
            <p:nvPr/>
          </p:nvSpPr>
          <p:spPr>
            <a:xfrm rot="12519600">
              <a:off x="4913280" y="3284280"/>
              <a:ext cx="73080" cy="50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2264" h="50801">
                  <a:moveTo>
                    <a:pt x="72263" y="11686"/>
                  </a:moveTo>
                  <a:lnTo>
                    <a:pt x="65913" y="14861"/>
                  </a:lnTo>
                  <a:lnTo>
                    <a:pt x="58293" y="19306"/>
                  </a:lnTo>
                  <a:lnTo>
                    <a:pt x="49911" y="24767"/>
                  </a:lnTo>
                  <a:lnTo>
                    <a:pt x="41021" y="30607"/>
                  </a:lnTo>
                  <a:lnTo>
                    <a:pt x="22606" y="42293"/>
                  </a:lnTo>
                  <a:lnTo>
                    <a:pt x="13716" y="47117"/>
                  </a:lnTo>
                  <a:lnTo>
                    <a:pt x="5461" y="50800"/>
                  </a:lnTo>
                  <a:lnTo>
                    <a:pt x="0" y="43181"/>
                  </a:lnTo>
                  <a:lnTo>
                    <a:pt x="5715" y="38481"/>
                  </a:lnTo>
                  <a:lnTo>
                    <a:pt x="12954" y="33020"/>
                  </a:lnTo>
                  <a:lnTo>
                    <a:pt x="21209" y="27180"/>
                  </a:lnTo>
                  <a:lnTo>
                    <a:pt x="30353" y="21082"/>
                  </a:lnTo>
                  <a:lnTo>
                    <a:pt x="49403" y="9273"/>
                  </a:lnTo>
                  <a:lnTo>
                    <a:pt x="58420" y="4193"/>
                  </a:lnTo>
                  <a:lnTo>
                    <a:pt x="66675" y="0"/>
                  </a:lnTo>
                  <a:lnTo>
                    <a:pt x="69342" y="2032"/>
                  </a:lnTo>
                  <a:lnTo>
                    <a:pt x="70612" y="4826"/>
                  </a:lnTo>
                  <a:lnTo>
                    <a:pt x="72263" y="116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: Shape 63"/>
            <p:cNvSpPr/>
            <p:nvPr/>
          </p:nvSpPr>
          <p:spPr>
            <a:xfrm rot="12519600">
              <a:off x="4920840" y="3221640"/>
              <a:ext cx="75960" cy="48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76963" h="50040">
                  <a:moveTo>
                    <a:pt x="0" y="39751"/>
                  </a:moveTo>
                  <a:lnTo>
                    <a:pt x="5715" y="36450"/>
                  </a:lnTo>
                  <a:lnTo>
                    <a:pt x="12700" y="32006"/>
                  </a:lnTo>
                  <a:lnTo>
                    <a:pt x="20828" y="26799"/>
                  </a:lnTo>
                  <a:lnTo>
                    <a:pt x="29845" y="21082"/>
                  </a:lnTo>
                  <a:lnTo>
                    <a:pt x="49276" y="9525"/>
                  </a:lnTo>
                  <a:lnTo>
                    <a:pt x="59563" y="4445"/>
                  </a:lnTo>
                  <a:lnTo>
                    <a:pt x="69596" y="0"/>
                  </a:lnTo>
                  <a:lnTo>
                    <a:pt x="76962" y="10033"/>
                  </a:lnTo>
                  <a:lnTo>
                    <a:pt x="59563" y="19558"/>
                  </a:lnTo>
                  <a:lnTo>
                    <a:pt x="41910" y="29974"/>
                  </a:lnTo>
                  <a:lnTo>
                    <a:pt x="24257" y="40261"/>
                  </a:lnTo>
                  <a:lnTo>
                    <a:pt x="7112" y="50039"/>
                  </a:lnTo>
                  <a:lnTo>
                    <a:pt x="0" y="397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: Shape 64"/>
            <p:cNvSpPr/>
            <p:nvPr/>
          </p:nvSpPr>
          <p:spPr>
            <a:xfrm rot="12519600">
              <a:off x="4917600" y="3194640"/>
              <a:ext cx="69840" cy="45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0232" h="45721">
                  <a:moveTo>
                    <a:pt x="63500" y="0"/>
                  </a:moveTo>
                  <a:lnTo>
                    <a:pt x="70231" y="8508"/>
                  </a:lnTo>
                  <a:lnTo>
                    <a:pt x="65024" y="12064"/>
                  </a:lnTo>
                  <a:lnTo>
                    <a:pt x="57912" y="16636"/>
                  </a:lnTo>
                  <a:lnTo>
                    <a:pt x="49530" y="21844"/>
                  </a:lnTo>
                  <a:lnTo>
                    <a:pt x="40386" y="27432"/>
                  </a:lnTo>
                  <a:lnTo>
                    <a:pt x="21844" y="38100"/>
                  </a:lnTo>
                  <a:lnTo>
                    <a:pt x="13335" y="42545"/>
                  </a:lnTo>
                  <a:lnTo>
                    <a:pt x="6350" y="45720"/>
                  </a:lnTo>
                  <a:lnTo>
                    <a:pt x="0" y="36576"/>
                  </a:lnTo>
                  <a:lnTo>
                    <a:pt x="6985" y="32003"/>
                  </a:lnTo>
                  <a:lnTo>
                    <a:pt x="15494" y="26923"/>
                  </a:lnTo>
                  <a:lnTo>
                    <a:pt x="34036" y="16255"/>
                  </a:lnTo>
                  <a:lnTo>
                    <a:pt x="43180" y="11050"/>
                  </a:lnTo>
                  <a:lnTo>
                    <a:pt x="51308" y="6476"/>
                  </a:lnTo>
                  <a:lnTo>
                    <a:pt x="58293" y="2794"/>
                  </a:lnTo>
                  <a:lnTo>
                    <a:pt x="63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: Shape 65"/>
            <p:cNvSpPr/>
            <p:nvPr/>
          </p:nvSpPr>
          <p:spPr>
            <a:xfrm rot="12519600">
              <a:off x="4898160" y="3189600"/>
              <a:ext cx="63360" cy="40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3120" h="40767">
                  <a:moveTo>
                    <a:pt x="0" y="32637"/>
                  </a:moveTo>
                  <a:lnTo>
                    <a:pt x="28956" y="15239"/>
                  </a:lnTo>
                  <a:lnTo>
                    <a:pt x="-21975" y="7112"/>
                  </a:lnTo>
                  <a:lnTo>
                    <a:pt x="-6608" y="0"/>
                  </a:lnTo>
                  <a:lnTo>
                    <a:pt x="-2417" y="12064"/>
                  </a:lnTo>
                  <a:lnTo>
                    <a:pt x="-8386" y="14730"/>
                  </a:lnTo>
                  <a:lnTo>
                    <a:pt x="-15244" y="17905"/>
                  </a:lnTo>
                  <a:lnTo>
                    <a:pt x="-30357" y="25398"/>
                  </a:lnTo>
                  <a:lnTo>
                    <a:pt x="20701" y="-32264"/>
                  </a:lnTo>
                  <a:lnTo>
                    <a:pt x="14351" y="-28327"/>
                  </a:lnTo>
                  <a:lnTo>
                    <a:pt x="9271" y="-24770"/>
                  </a:lnTo>
                  <a:lnTo>
                    <a:pt x="6096" y="-26421"/>
                  </a:lnTo>
                  <a:lnTo>
                    <a:pt x="3683" y="-28072"/>
                  </a:lnTo>
                  <a:lnTo>
                    <a:pt x="0" y="326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: Shape 66"/>
            <p:cNvSpPr/>
            <p:nvPr/>
          </p:nvSpPr>
          <p:spPr>
            <a:xfrm rot="12519600">
              <a:off x="5257080" y="3197520"/>
              <a:ext cx="101520" cy="105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02363" h="105919">
                  <a:moveTo>
                    <a:pt x="94869" y="507"/>
                  </a:moveTo>
                  <a:lnTo>
                    <a:pt x="98171" y="0"/>
                  </a:lnTo>
                  <a:lnTo>
                    <a:pt x="100457" y="126"/>
                  </a:lnTo>
                  <a:lnTo>
                    <a:pt x="101727" y="1017"/>
                  </a:lnTo>
                  <a:lnTo>
                    <a:pt x="102362" y="2413"/>
                  </a:lnTo>
                  <a:lnTo>
                    <a:pt x="102362" y="6731"/>
                  </a:lnTo>
                  <a:lnTo>
                    <a:pt x="102235" y="11685"/>
                  </a:lnTo>
                  <a:lnTo>
                    <a:pt x="92710" y="20448"/>
                  </a:lnTo>
                  <a:lnTo>
                    <a:pt x="83820" y="27941"/>
                  </a:lnTo>
                  <a:lnTo>
                    <a:pt x="67310" y="41782"/>
                  </a:lnTo>
                  <a:lnTo>
                    <a:pt x="51054" y="55752"/>
                  </a:lnTo>
                  <a:lnTo>
                    <a:pt x="42418" y="63626"/>
                  </a:lnTo>
                  <a:lnTo>
                    <a:pt x="33147" y="72644"/>
                  </a:lnTo>
                  <a:lnTo>
                    <a:pt x="0" y="105918"/>
                  </a:lnTo>
                  <a:lnTo>
                    <a:pt x="8890" y="88391"/>
                  </a:lnTo>
                  <a:lnTo>
                    <a:pt x="19050" y="72008"/>
                  </a:lnTo>
                  <a:lnTo>
                    <a:pt x="30226" y="56769"/>
                  </a:lnTo>
                  <a:lnTo>
                    <a:pt x="42291" y="42545"/>
                  </a:lnTo>
                  <a:lnTo>
                    <a:pt x="54991" y="29845"/>
                  </a:lnTo>
                  <a:lnTo>
                    <a:pt x="68072" y="18543"/>
                  </a:lnTo>
                  <a:lnTo>
                    <a:pt x="81407" y="8763"/>
                  </a:lnTo>
                  <a:lnTo>
                    <a:pt x="94869" y="50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: Shape 67"/>
            <p:cNvSpPr/>
            <p:nvPr/>
          </p:nvSpPr>
          <p:spPr>
            <a:xfrm rot="12519600">
              <a:off x="5151960" y="3103920"/>
              <a:ext cx="214560" cy="2268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4758" h="228475">
                  <a:moveTo>
                    <a:pt x="136144" y="0"/>
                  </a:moveTo>
                  <a:lnTo>
                    <a:pt x="150622" y="1016"/>
                  </a:lnTo>
                  <a:lnTo>
                    <a:pt x="163449" y="3685"/>
                  </a:lnTo>
                  <a:lnTo>
                    <a:pt x="174625" y="8003"/>
                  </a:lnTo>
                  <a:lnTo>
                    <a:pt x="184531" y="13463"/>
                  </a:lnTo>
                  <a:lnTo>
                    <a:pt x="193167" y="20066"/>
                  </a:lnTo>
                  <a:lnTo>
                    <a:pt x="201041" y="27687"/>
                  </a:lnTo>
                  <a:lnTo>
                    <a:pt x="208153" y="35941"/>
                  </a:lnTo>
                  <a:lnTo>
                    <a:pt x="214757" y="44960"/>
                  </a:lnTo>
                  <a:lnTo>
                    <a:pt x="213995" y="54991"/>
                  </a:lnTo>
                  <a:lnTo>
                    <a:pt x="211709" y="64391"/>
                  </a:lnTo>
                  <a:lnTo>
                    <a:pt x="208280" y="73154"/>
                  </a:lnTo>
                  <a:lnTo>
                    <a:pt x="203962" y="81155"/>
                  </a:lnTo>
                  <a:lnTo>
                    <a:pt x="198882" y="88267"/>
                  </a:lnTo>
                  <a:lnTo>
                    <a:pt x="193167" y="94617"/>
                  </a:lnTo>
                  <a:lnTo>
                    <a:pt x="187198" y="100205"/>
                  </a:lnTo>
                  <a:lnTo>
                    <a:pt x="180975" y="104775"/>
                  </a:lnTo>
                  <a:lnTo>
                    <a:pt x="169545" y="112397"/>
                  </a:lnTo>
                  <a:lnTo>
                    <a:pt x="157607" y="119381"/>
                  </a:lnTo>
                  <a:lnTo>
                    <a:pt x="132842" y="132207"/>
                  </a:lnTo>
                  <a:lnTo>
                    <a:pt x="107823" y="144274"/>
                  </a:lnTo>
                  <a:lnTo>
                    <a:pt x="83312" y="156719"/>
                  </a:lnTo>
                  <a:lnTo>
                    <a:pt x="59817" y="170307"/>
                  </a:lnTo>
                  <a:lnTo>
                    <a:pt x="48895" y="177929"/>
                  </a:lnTo>
                  <a:lnTo>
                    <a:pt x="38481" y="186182"/>
                  </a:lnTo>
                  <a:lnTo>
                    <a:pt x="28829" y="195200"/>
                  </a:lnTo>
                  <a:lnTo>
                    <a:pt x="19939" y="205106"/>
                  </a:lnTo>
                  <a:lnTo>
                    <a:pt x="11938" y="216282"/>
                  </a:lnTo>
                  <a:lnTo>
                    <a:pt x="5080" y="228474"/>
                  </a:lnTo>
                  <a:lnTo>
                    <a:pt x="2794" y="218823"/>
                  </a:lnTo>
                  <a:lnTo>
                    <a:pt x="1397" y="209679"/>
                  </a:lnTo>
                  <a:lnTo>
                    <a:pt x="0" y="192280"/>
                  </a:lnTo>
                  <a:lnTo>
                    <a:pt x="1143" y="175897"/>
                  </a:lnTo>
                  <a:lnTo>
                    <a:pt x="4064" y="160656"/>
                  </a:lnTo>
                  <a:lnTo>
                    <a:pt x="8763" y="146432"/>
                  </a:lnTo>
                  <a:lnTo>
                    <a:pt x="15113" y="133098"/>
                  </a:lnTo>
                  <a:lnTo>
                    <a:pt x="22860" y="120524"/>
                  </a:lnTo>
                  <a:lnTo>
                    <a:pt x="31750" y="108841"/>
                  </a:lnTo>
                  <a:lnTo>
                    <a:pt x="41529" y="97663"/>
                  </a:lnTo>
                  <a:lnTo>
                    <a:pt x="51943" y="87124"/>
                  </a:lnTo>
                  <a:lnTo>
                    <a:pt x="74168" y="67185"/>
                  </a:lnTo>
                  <a:lnTo>
                    <a:pt x="96520" y="48388"/>
                  </a:lnTo>
                  <a:lnTo>
                    <a:pt x="117475" y="29847"/>
                  </a:lnTo>
                  <a:lnTo>
                    <a:pt x="129286" y="33022"/>
                  </a:lnTo>
                  <a:lnTo>
                    <a:pt x="139954" y="37467"/>
                  </a:lnTo>
                  <a:lnTo>
                    <a:pt x="141097" y="43817"/>
                  </a:lnTo>
                  <a:lnTo>
                    <a:pt x="140716" y="49786"/>
                  </a:lnTo>
                  <a:lnTo>
                    <a:pt x="139192" y="55247"/>
                  </a:lnTo>
                  <a:lnTo>
                    <a:pt x="137033" y="60199"/>
                  </a:lnTo>
                  <a:lnTo>
                    <a:pt x="135128" y="64772"/>
                  </a:lnTo>
                  <a:lnTo>
                    <a:pt x="133858" y="68581"/>
                  </a:lnTo>
                  <a:lnTo>
                    <a:pt x="133985" y="72137"/>
                  </a:lnTo>
                  <a:lnTo>
                    <a:pt x="136144" y="74805"/>
                  </a:lnTo>
                  <a:lnTo>
                    <a:pt x="141097" y="67819"/>
                  </a:lnTo>
                  <a:lnTo>
                    <a:pt x="146685" y="61216"/>
                  </a:lnTo>
                  <a:lnTo>
                    <a:pt x="151765" y="53975"/>
                  </a:lnTo>
                  <a:lnTo>
                    <a:pt x="153670" y="49657"/>
                  </a:lnTo>
                  <a:lnTo>
                    <a:pt x="154813" y="44960"/>
                  </a:lnTo>
                  <a:lnTo>
                    <a:pt x="149352" y="37467"/>
                  </a:lnTo>
                  <a:lnTo>
                    <a:pt x="144526" y="28957"/>
                  </a:lnTo>
                  <a:lnTo>
                    <a:pt x="139319" y="21082"/>
                  </a:lnTo>
                  <a:lnTo>
                    <a:pt x="136144" y="17655"/>
                  </a:lnTo>
                  <a:lnTo>
                    <a:pt x="132334" y="14987"/>
                  </a:lnTo>
                  <a:lnTo>
                    <a:pt x="131826" y="11938"/>
                  </a:lnTo>
                  <a:lnTo>
                    <a:pt x="131826" y="9525"/>
                  </a:lnTo>
                  <a:lnTo>
                    <a:pt x="132842" y="5969"/>
                  </a:lnTo>
                  <a:lnTo>
                    <a:pt x="134620" y="3175"/>
                  </a:lnTo>
                  <a:lnTo>
                    <a:pt x="13614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: Shape 68"/>
            <p:cNvSpPr/>
            <p:nvPr/>
          </p:nvSpPr>
          <p:spPr>
            <a:xfrm rot="12519600">
              <a:off x="5468760" y="2848680"/>
              <a:ext cx="106200" cy="2332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06554" h="235585">
                  <a:moveTo>
                    <a:pt x="39116" y="0"/>
                  </a:moveTo>
                  <a:lnTo>
                    <a:pt x="52324" y="18033"/>
                  </a:lnTo>
                  <a:lnTo>
                    <a:pt x="64008" y="36702"/>
                  </a:lnTo>
                  <a:lnTo>
                    <a:pt x="74295" y="56388"/>
                  </a:lnTo>
                  <a:lnTo>
                    <a:pt x="83185" y="77215"/>
                  </a:lnTo>
                  <a:lnTo>
                    <a:pt x="90932" y="99440"/>
                  </a:lnTo>
                  <a:lnTo>
                    <a:pt x="97282" y="123063"/>
                  </a:lnTo>
                  <a:lnTo>
                    <a:pt x="102362" y="148588"/>
                  </a:lnTo>
                  <a:lnTo>
                    <a:pt x="106553" y="176021"/>
                  </a:lnTo>
                  <a:lnTo>
                    <a:pt x="104648" y="182245"/>
                  </a:lnTo>
                  <a:lnTo>
                    <a:pt x="102235" y="188595"/>
                  </a:lnTo>
                  <a:lnTo>
                    <a:pt x="95123" y="201295"/>
                  </a:lnTo>
                  <a:lnTo>
                    <a:pt x="85598" y="213233"/>
                  </a:lnTo>
                  <a:lnTo>
                    <a:pt x="80137" y="218694"/>
                  </a:lnTo>
                  <a:lnTo>
                    <a:pt x="74041" y="223520"/>
                  </a:lnTo>
                  <a:lnTo>
                    <a:pt x="67818" y="227710"/>
                  </a:lnTo>
                  <a:lnTo>
                    <a:pt x="61087" y="231138"/>
                  </a:lnTo>
                  <a:lnTo>
                    <a:pt x="54102" y="233679"/>
                  </a:lnTo>
                  <a:lnTo>
                    <a:pt x="46863" y="235203"/>
                  </a:lnTo>
                  <a:lnTo>
                    <a:pt x="39370" y="235584"/>
                  </a:lnTo>
                  <a:lnTo>
                    <a:pt x="31877" y="234569"/>
                  </a:lnTo>
                  <a:lnTo>
                    <a:pt x="24257" y="232283"/>
                  </a:lnTo>
                  <a:lnTo>
                    <a:pt x="16637" y="228472"/>
                  </a:lnTo>
                  <a:lnTo>
                    <a:pt x="7747" y="215263"/>
                  </a:lnTo>
                  <a:lnTo>
                    <a:pt x="2540" y="202057"/>
                  </a:lnTo>
                  <a:lnTo>
                    <a:pt x="0" y="188721"/>
                  </a:lnTo>
                  <a:lnTo>
                    <a:pt x="127" y="175514"/>
                  </a:lnTo>
                  <a:lnTo>
                    <a:pt x="2286" y="162178"/>
                  </a:lnTo>
                  <a:lnTo>
                    <a:pt x="6096" y="148844"/>
                  </a:lnTo>
                  <a:lnTo>
                    <a:pt x="11049" y="135254"/>
                  </a:lnTo>
                  <a:lnTo>
                    <a:pt x="16891" y="121539"/>
                  </a:lnTo>
                  <a:lnTo>
                    <a:pt x="29083" y="93216"/>
                  </a:lnTo>
                  <a:lnTo>
                    <a:pt x="34544" y="78738"/>
                  </a:lnTo>
                  <a:lnTo>
                    <a:pt x="39243" y="63879"/>
                  </a:lnTo>
                  <a:lnTo>
                    <a:pt x="42291" y="48514"/>
                  </a:lnTo>
                  <a:lnTo>
                    <a:pt x="43688" y="32765"/>
                  </a:lnTo>
                  <a:lnTo>
                    <a:pt x="42799" y="16635"/>
                  </a:lnTo>
                  <a:lnTo>
                    <a:pt x="67564" y="99947"/>
                  </a:lnTo>
                  <a:lnTo>
                    <a:pt x="70739" y="107569"/>
                  </a:lnTo>
                  <a:lnTo>
                    <a:pt x="73406" y="117475"/>
                  </a:lnTo>
                  <a:lnTo>
                    <a:pt x="75565" y="129032"/>
                  </a:lnTo>
                  <a:lnTo>
                    <a:pt x="76708" y="141985"/>
                  </a:lnTo>
                  <a:lnTo>
                    <a:pt x="76581" y="156083"/>
                  </a:lnTo>
                  <a:lnTo>
                    <a:pt x="75057" y="170941"/>
                  </a:lnTo>
                  <a:lnTo>
                    <a:pt x="71882" y="186308"/>
                  </a:lnTo>
                  <a:lnTo>
                    <a:pt x="64770" y="193166"/>
                  </a:lnTo>
                  <a:lnTo>
                    <a:pt x="59055" y="198246"/>
                  </a:lnTo>
                  <a:lnTo>
                    <a:pt x="54229" y="201547"/>
                  </a:lnTo>
                  <a:lnTo>
                    <a:pt x="50292" y="202819"/>
                  </a:lnTo>
                  <a:lnTo>
                    <a:pt x="46863" y="202183"/>
                  </a:lnTo>
                  <a:lnTo>
                    <a:pt x="43942" y="199516"/>
                  </a:lnTo>
                  <a:lnTo>
                    <a:pt x="41021" y="194945"/>
                  </a:lnTo>
                  <a:lnTo>
                    <a:pt x="38100" y="188214"/>
                  </a:lnTo>
                  <a:lnTo>
                    <a:pt x="40894" y="177291"/>
                  </a:lnTo>
                  <a:lnTo>
                    <a:pt x="44704" y="167004"/>
                  </a:lnTo>
                  <a:lnTo>
                    <a:pt x="53594" y="146177"/>
                  </a:lnTo>
                  <a:lnTo>
                    <a:pt x="57785" y="135127"/>
                  </a:lnTo>
                  <a:lnTo>
                    <a:pt x="61214" y="123063"/>
                  </a:lnTo>
                  <a:lnTo>
                    <a:pt x="63626" y="109727"/>
                  </a:lnTo>
                  <a:lnTo>
                    <a:pt x="64389" y="94488"/>
                  </a:lnTo>
                  <a:lnTo>
                    <a:pt x="39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: Shape 69"/>
            <p:cNvSpPr/>
            <p:nvPr/>
          </p:nvSpPr>
          <p:spPr>
            <a:xfrm rot="12519600">
              <a:off x="5508720" y="2838240"/>
              <a:ext cx="82440" cy="1652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83821" h="167387">
                  <a:moveTo>
                    <a:pt x="56515" y="17145"/>
                  </a:moveTo>
                  <a:lnTo>
                    <a:pt x="65278" y="35560"/>
                  </a:lnTo>
                  <a:lnTo>
                    <a:pt x="73025" y="54864"/>
                  </a:lnTo>
                  <a:lnTo>
                    <a:pt x="79248" y="74549"/>
                  </a:lnTo>
                  <a:lnTo>
                    <a:pt x="83058" y="94107"/>
                  </a:lnTo>
                  <a:lnTo>
                    <a:pt x="83820" y="103632"/>
                  </a:lnTo>
                  <a:lnTo>
                    <a:pt x="83693" y="113030"/>
                  </a:lnTo>
                  <a:lnTo>
                    <a:pt x="82677" y="122174"/>
                  </a:lnTo>
                  <a:lnTo>
                    <a:pt x="80518" y="130937"/>
                  </a:lnTo>
                  <a:lnTo>
                    <a:pt x="77216" y="139446"/>
                  </a:lnTo>
                  <a:lnTo>
                    <a:pt x="72644" y="147320"/>
                  </a:lnTo>
                  <a:lnTo>
                    <a:pt x="67437" y="153416"/>
                  </a:lnTo>
                  <a:lnTo>
                    <a:pt x="60452" y="158623"/>
                  </a:lnTo>
                  <a:lnTo>
                    <a:pt x="52451" y="163068"/>
                  </a:lnTo>
                  <a:lnTo>
                    <a:pt x="43688" y="165862"/>
                  </a:lnTo>
                  <a:lnTo>
                    <a:pt x="34925" y="167386"/>
                  </a:lnTo>
                  <a:lnTo>
                    <a:pt x="26416" y="167259"/>
                  </a:lnTo>
                  <a:lnTo>
                    <a:pt x="18796" y="165100"/>
                  </a:lnTo>
                  <a:lnTo>
                    <a:pt x="15494" y="163322"/>
                  </a:lnTo>
                  <a:lnTo>
                    <a:pt x="12446" y="160909"/>
                  </a:lnTo>
                  <a:lnTo>
                    <a:pt x="6350" y="153035"/>
                  </a:lnTo>
                  <a:lnTo>
                    <a:pt x="2413" y="144272"/>
                  </a:lnTo>
                  <a:lnTo>
                    <a:pt x="381" y="134747"/>
                  </a:lnTo>
                  <a:lnTo>
                    <a:pt x="0" y="124587"/>
                  </a:lnTo>
                  <a:lnTo>
                    <a:pt x="1143" y="113665"/>
                  </a:lnTo>
                  <a:lnTo>
                    <a:pt x="3556" y="102616"/>
                  </a:lnTo>
                  <a:lnTo>
                    <a:pt x="6985" y="91059"/>
                  </a:lnTo>
                  <a:lnTo>
                    <a:pt x="11303" y="79629"/>
                  </a:lnTo>
                  <a:lnTo>
                    <a:pt x="21336" y="56642"/>
                  </a:lnTo>
                  <a:lnTo>
                    <a:pt x="32004" y="35052"/>
                  </a:lnTo>
                  <a:lnTo>
                    <a:pt x="36957" y="25019"/>
                  </a:lnTo>
                  <a:lnTo>
                    <a:pt x="41402" y="15748"/>
                  </a:lnTo>
                  <a:lnTo>
                    <a:pt x="45085" y="7366"/>
                  </a:lnTo>
                  <a:lnTo>
                    <a:pt x="47752" y="0"/>
                  </a:lnTo>
                  <a:lnTo>
                    <a:pt x="56515" y="1714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: Shape 70"/>
            <p:cNvSpPr/>
            <p:nvPr/>
          </p:nvSpPr>
          <p:spPr>
            <a:xfrm rot="12519600">
              <a:off x="5513040" y="2893320"/>
              <a:ext cx="31680" cy="97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005" h="98171">
                  <a:moveTo>
                    <a:pt x="24511" y="10795"/>
                  </a:moveTo>
                  <a:lnTo>
                    <a:pt x="26289" y="20320"/>
                  </a:lnTo>
                  <a:lnTo>
                    <a:pt x="27813" y="28830"/>
                  </a:lnTo>
                  <a:lnTo>
                    <a:pt x="29210" y="36449"/>
                  </a:lnTo>
                  <a:lnTo>
                    <a:pt x="30226" y="43179"/>
                  </a:lnTo>
                  <a:lnTo>
                    <a:pt x="31115" y="49276"/>
                  </a:lnTo>
                  <a:lnTo>
                    <a:pt x="32004" y="59563"/>
                  </a:lnTo>
                  <a:lnTo>
                    <a:pt x="31496" y="68326"/>
                  </a:lnTo>
                  <a:lnTo>
                    <a:pt x="29591" y="76326"/>
                  </a:lnTo>
                  <a:lnTo>
                    <a:pt x="26035" y="84454"/>
                  </a:lnTo>
                  <a:lnTo>
                    <a:pt x="20574" y="93345"/>
                  </a:lnTo>
                  <a:lnTo>
                    <a:pt x="18669" y="95631"/>
                  </a:lnTo>
                  <a:lnTo>
                    <a:pt x="16256" y="97408"/>
                  </a:lnTo>
                  <a:lnTo>
                    <a:pt x="13589" y="98170"/>
                  </a:lnTo>
                  <a:lnTo>
                    <a:pt x="11303" y="97535"/>
                  </a:lnTo>
                  <a:lnTo>
                    <a:pt x="6985" y="93726"/>
                  </a:lnTo>
                  <a:lnTo>
                    <a:pt x="3683" y="89281"/>
                  </a:lnTo>
                  <a:lnTo>
                    <a:pt x="1524" y="84582"/>
                  </a:lnTo>
                  <a:lnTo>
                    <a:pt x="381" y="79375"/>
                  </a:lnTo>
                  <a:lnTo>
                    <a:pt x="0" y="73659"/>
                  </a:lnTo>
                  <a:lnTo>
                    <a:pt x="254" y="67818"/>
                  </a:lnTo>
                  <a:lnTo>
                    <a:pt x="2794" y="55118"/>
                  </a:lnTo>
                  <a:lnTo>
                    <a:pt x="7112" y="41782"/>
                  </a:lnTo>
                  <a:lnTo>
                    <a:pt x="12319" y="27941"/>
                  </a:lnTo>
                  <a:lnTo>
                    <a:pt x="17780" y="13843"/>
                  </a:lnTo>
                  <a:lnTo>
                    <a:pt x="22606" y="0"/>
                  </a:lnTo>
                  <a:lnTo>
                    <a:pt x="24511" y="107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86"/>
          <p:cNvGrpSpPr/>
          <p:nvPr/>
        </p:nvGrpSpPr>
        <p:grpSpPr>
          <a:xfrm>
            <a:off x="6461280" y="4547520"/>
            <a:ext cx="1912680" cy="1552320"/>
            <a:chOff x="6461280" y="4547520"/>
            <a:chExt cx="1912680" cy="1552320"/>
          </a:xfrm>
        </p:grpSpPr>
        <p:sp>
          <p:nvSpPr>
            <p:cNvPr id="215" name="Freeform: Shape 72"/>
            <p:cNvSpPr/>
            <p:nvPr/>
          </p:nvSpPr>
          <p:spPr>
            <a:xfrm rot="711000">
              <a:off x="6573960" y="5461920"/>
              <a:ext cx="275040" cy="31428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71781" h="316104">
                  <a:moveTo>
                    <a:pt x="22098" y="306070"/>
                  </a:moveTo>
                  <a:lnTo>
                    <a:pt x="16637" y="295655"/>
                  </a:lnTo>
                  <a:lnTo>
                    <a:pt x="11938" y="284988"/>
                  </a:lnTo>
                  <a:lnTo>
                    <a:pt x="8001" y="274066"/>
                  </a:lnTo>
                  <a:lnTo>
                    <a:pt x="4952" y="262763"/>
                  </a:lnTo>
                  <a:lnTo>
                    <a:pt x="2539" y="251333"/>
                  </a:lnTo>
                  <a:lnTo>
                    <a:pt x="0" y="227965"/>
                  </a:lnTo>
                  <a:lnTo>
                    <a:pt x="382" y="204216"/>
                  </a:lnTo>
                  <a:lnTo>
                    <a:pt x="3557" y="180340"/>
                  </a:lnTo>
                  <a:lnTo>
                    <a:pt x="9525" y="156591"/>
                  </a:lnTo>
                  <a:lnTo>
                    <a:pt x="18161" y="133477"/>
                  </a:lnTo>
                  <a:lnTo>
                    <a:pt x="29210" y="111125"/>
                  </a:lnTo>
                  <a:lnTo>
                    <a:pt x="42672" y="89789"/>
                  </a:lnTo>
                  <a:lnTo>
                    <a:pt x="58674" y="69977"/>
                  </a:lnTo>
                  <a:lnTo>
                    <a:pt x="67437" y="60578"/>
                  </a:lnTo>
                  <a:lnTo>
                    <a:pt x="76835" y="51689"/>
                  </a:lnTo>
                  <a:lnTo>
                    <a:pt x="86740" y="43307"/>
                  </a:lnTo>
                  <a:lnTo>
                    <a:pt x="97155" y="35433"/>
                  </a:lnTo>
                  <a:lnTo>
                    <a:pt x="108203" y="28194"/>
                  </a:lnTo>
                  <a:lnTo>
                    <a:pt x="119761" y="21463"/>
                  </a:lnTo>
                  <a:lnTo>
                    <a:pt x="131699" y="15366"/>
                  </a:lnTo>
                  <a:lnTo>
                    <a:pt x="144272" y="10033"/>
                  </a:lnTo>
                  <a:lnTo>
                    <a:pt x="157226" y="5334"/>
                  </a:lnTo>
                  <a:lnTo>
                    <a:pt x="170688" y="1397"/>
                  </a:lnTo>
                  <a:lnTo>
                    <a:pt x="179070" y="127"/>
                  </a:lnTo>
                  <a:lnTo>
                    <a:pt x="187198" y="0"/>
                  </a:lnTo>
                  <a:lnTo>
                    <a:pt x="195072" y="1142"/>
                  </a:lnTo>
                  <a:lnTo>
                    <a:pt x="202819" y="3302"/>
                  </a:lnTo>
                  <a:lnTo>
                    <a:pt x="210312" y="6477"/>
                  </a:lnTo>
                  <a:lnTo>
                    <a:pt x="217551" y="10667"/>
                  </a:lnTo>
                  <a:lnTo>
                    <a:pt x="224536" y="15621"/>
                  </a:lnTo>
                  <a:lnTo>
                    <a:pt x="231267" y="21336"/>
                  </a:lnTo>
                  <a:lnTo>
                    <a:pt x="243839" y="34798"/>
                  </a:lnTo>
                  <a:lnTo>
                    <a:pt x="254762" y="50038"/>
                  </a:lnTo>
                  <a:lnTo>
                    <a:pt x="264287" y="66802"/>
                  </a:lnTo>
                  <a:lnTo>
                    <a:pt x="271780" y="83947"/>
                  </a:lnTo>
                  <a:lnTo>
                    <a:pt x="271780" y="94107"/>
                  </a:lnTo>
                  <a:lnTo>
                    <a:pt x="270637" y="103251"/>
                  </a:lnTo>
                  <a:lnTo>
                    <a:pt x="268605" y="111633"/>
                  </a:lnTo>
                  <a:lnTo>
                    <a:pt x="265811" y="119253"/>
                  </a:lnTo>
                  <a:lnTo>
                    <a:pt x="262001" y="126238"/>
                  </a:lnTo>
                  <a:lnTo>
                    <a:pt x="257557" y="132461"/>
                  </a:lnTo>
                  <a:lnTo>
                    <a:pt x="252349" y="138176"/>
                  </a:lnTo>
                  <a:lnTo>
                    <a:pt x="246380" y="143383"/>
                  </a:lnTo>
                  <a:lnTo>
                    <a:pt x="232537" y="152780"/>
                  </a:lnTo>
                  <a:lnTo>
                    <a:pt x="216662" y="160909"/>
                  </a:lnTo>
                  <a:lnTo>
                    <a:pt x="198883" y="168783"/>
                  </a:lnTo>
                  <a:lnTo>
                    <a:pt x="179959" y="176657"/>
                  </a:lnTo>
                  <a:lnTo>
                    <a:pt x="160020" y="185292"/>
                  </a:lnTo>
                  <a:lnTo>
                    <a:pt x="139573" y="195326"/>
                  </a:lnTo>
                  <a:lnTo>
                    <a:pt x="118999" y="207137"/>
                  </a:lnTo>
                  <a:lnTo>
                    <a:pt x="98678" y="221615"/>
                  </a:lnTo>
                  <a:lnTo>
                    <a:pt x="88773" y="229870"/>
                  </a:lnTo>
                  <a:lnTo>
                    <a:pt x="79121" y="239014"/>
                  </a:lnTo>
                  <a:lnTo>
                    <a:pt x="69596" y="249174"/>
                  </a:lnTo>
                  <a:lnTo>
                    <a:pt x="60451" y="260223"/>
                  </a:lnTo>
                  <a:lnTo>
                    <a:pt x="51815" y="272415"/>
                  </a:lnTo>
                  <a:lnTo>
                    <a:pt x="43434" y="285750"/>
                  </a:lnTo>
                  <a:lnTo>
                    <a:pt x="35560" y="300228"/>
                  </a:lnTo>
                  <a:lnTo>
                    <a:pt x="28321" y="316103"/>
                  </a:lnTo>
                  <a:lnTo>
                    <a:pt x="22098" y="30607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: Shape 73"/>
            <p:cNvSpPr/>
            <p:nvPr/>
          </p:nvSpPr>
          <p:spPr>
            <a:xfrm rot="711000">
              <a:off x="6808680" y="5329440"/>
              <a:ext cx="310320" cy="2606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308105" h="262128">
                  <a:moveTo>
                    <a:pt x="2414" y="138557"/>
                  </a:moveTo>
                  <a:lnTo>
                    <a:pt x="4699" y="134492"/>
                  </a:lnTo>
                  <a:lnTo>
                    <a:pt x="7621" y="130175"/>
                  </a:lnTo>
                  <a:lnTo>
                    <a:pt x="11305" y="125476"/>
                  </a:lnTo>
                  <a:lnTo>
                    <a:pt x="20448" y="115315"/>
                  </a:lnTo>
                  <a:lnTo>
                    <a:pt x="31750" y="104139"/>
                  </a:lnTo>
                  <a:lnTo>
                    <a:pt x="44706" y="92710"/>
                  </a:lnTo>
                  <a:lnTo>
                    <a:pt x="59057" y="80771"/>
                  </a:lnTo>
                  <a:lnTo>
                    <a:pt x="89918" y="57023"/>
                  </a:lnTo>
                  <a:lnTo>
                    <a:pt x="105665" y="45718"/>
                  </a:lnTo>
                  <a:lnTo>
                    <a:pt x="121159" y="35051"/>
                  </a:lnTo>
                  <a:lnTo>
                    <a:pt x="135892" y="25400"/>
                  </a:lnTo>
                  <a:lnTo>
                    <a:pt x="149481" y="16890"/>
                  </a:lnTo>
                  <a:lnTo>
                    <a:pt x="161545" y="9906"/>
                  </a:lnTo>
                  <a:lnTo>
                    <a:pt x="166880" y="6985"/>
                  </a:lnTo>
                  <a:lnTo>
                    <a:pt x="171579" y="4443"/>
                  </a:lnTo>
                  <a:lnTo>
                    <a:pt x="175896" y="2539"/>
                  </a:lnTo>
                  <a:lnTo>
                    <a:pt x="179452" y="1142"/>
                  </a:lnTo>
                  <a:lnTo>
                    <a:pt x="182373" y="253"/>
                  </a:lnTo>
                  <a:lnTo>
                    <a:pt x="184406" y="0"/>
                  </a:lnTo>
                  <a:lnTo>
                    <a:pt x="189105" y="3048"/>
                  </a:lnTo>
                  <a:lnTo>
                    <a:pt x="194565" y="6985"/>
                  </a:lnTo>
                  <a:lnTo>
                    <a:pt x="200661" y="11684"/>
                  </a:lnTo>
                  <a:lnTo>
                    <a:pt x="207519" y="17017"/>
                  </a:lnTo>
                  <a:lnTo>
                    <a:pt x="214759" y="23240"/>
                  </a:lnTo>
                  <a:lnTo>
                    <a:pt x="222633" y="30226"/>
                  </a:lnTo>
                  <a:lnTo>
                    <a:pt x="230760" y="38100"/>
                  </a:lnTo>
                  <a:lnTo>
                    <a:pt x="239269" y="46736"/>
                  </a:lnTo>
                  <a:lnTo>
                    <a:pt x="247906" y="56388"/>
                  </a:lnTo>
                  <a:lnTo>
                    <a:pt x="256795" y="66801"/>
                  </a:lnTo>
                  <a:lnTo>
                    <a:pt x="265685" y="78232"/>
                  </a:lnTo>
                  <a:lnTo>
                    <a:pt x="274574" y="90551"/>
                  </a:lnTo>
                  <a:lnTo>
                    <a:pt x="283337" y="103886"/>
                  </a:lnTo>
                  <a:lnTo>
                    <a:pt x="291847" y="118110"/>
                  </a:lnTo>
                  <a:lnTo>
                    <a:pt x="300102" y="133350"/>
                  </a:lnTo>
                  <a:lnTo>
                    <a:pt x="308104" y="149733"/>
                  </a:lnTo>
                  <a:lnTo>
                    <a:pt x="292736" y="159892"/>
                  </a:lnTo>
                  <a:lnTo>
                    <a:pt x="277749" y="169164"/>
                  </a:lnTo>
                  <a:lnTo>
                    <a:pt x="248668" y="185801"/>
                  </a:lnTo>
                  <a:lnTo>
                    <a:pt x="220346" y="200025"/>
                  </a:lnTo>
                  <a:lnTo>
                    <a:pt x="192407" y="212851"/>
                  </a:lnTo>
                  <a:lnTo>
                    <a:pt x="136908" y="236601"/>
                  </a:lnTo>
                  <a:lnTo>
                    <a:pt x="108586" y="248792"/>
                  </a:lnTo>
                  <a:lnTo>
                    <a:pt x="79631" y="262127"/>
                  </a:lnTo>
                  <a:lnTo>
                    <a:pt x="74932" y="252349"/>
                  </a:lnTo>
                  <a:lnTo>
                    <a:pt x="69723" y="243839"/>
                  </a:lnTo>
                  <a:lnTo>
                    <a:pt x="64009" y="236218"/>
                  </a:lnTo>
                  <a:lnTo>
                    <a:pt x="58168" y="229615"/>
                  </a:lnTo>
                  <a:lnTo>
                    <a:pt x="45848" y="218439"/>
                  </a:lnTo>
                  <a:lnTo>
                    <a:pt x="33402" y="208914"/>
                  </a:lnTo>
                  <a:lnTo>
                    <a:pt x="21972" y="200025"/>
                  </a:lnTo>
                  <a:lnTo>
                    <a:pt x="12067" y="190753"/>
                  </a:lnTo>
                  <a:lnTo>
                    <a:pt x="8002" y="185546"/>
                  </a:lnTo>
                  <a:lnTo>
                    <a:pt x="4699" y="179705"/>
                  </a:lnTo>
                  <a:lnTo>
                    <a:pt x="2160" y="173227"/>
                  </a:lnTo>
                  <a:lnTo>
                    <a:pt x="762" y="165862"/>
                  </a:lnTo>
                  <a:lnTo>
                    <a:pt x="0" y="153924"/>
                  </a:lnTo>
                  <a:lnTo>
                    <a:pt x="1018" y="142239"/>
                  </a:lnTo>
                  <a:lnTo>
                    <a:pt x="2414" y="138557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: Shape 74"/>
            <p:cNvSpPr/>
            <p:nvPr/>
          </p:nvSpPr>
          <p:spPr>
            <a:xfrm rot="711000">
              <a:off x="7059960" y="4751280"/>
              <a:ext cx="1235160" cy="843480"/>
            </a:xfrm>
            <a:custGeom>
              <a:avLst/>
              <a:gdLst>
                <a:gd name="textAreaLeft" fmla="*/ 0 w 1235160"/>
                <a:gd name="textAreaRight" fmla="*/ 1235520 w 12351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223773" h="847343">
                  <a:moveTo>
                    <a:pt x="10540" y="695833"/>
                  </a:moveTo>
                  <a:lnTo>
                    <a:pt x="21971" y="686436"/>
                  </a:lnTo>
                  <a:lnTo>
                    <a:pt x="34036" y="676911"/>
                  </a:lnTo>
                  <a:lnTo>
                    <a:pt x="46990" y="667004"/>
                  </a:lnTo>
                  <a:lnTo>
                    <a:pt x="74802" y="646557"/>
                  </a:lnTo>
                  <a:lnTo>
                    <a:pt x="105284" y="625222"/>
                  </a:lnTo>
                  <a:lnTo>
                    <a:pt x="138302" y="603250"/>
                  </a:lnTo>
                  <a:lnTo>
                    <a:pt x="173227" y="580516"/>
                  </a:lnTo>
                  <a:lnTo>
                    <a:pt x="210312" y="557150"/>
                  </a:lnTo>
                  <a:lnTo>
                    <a:pt x="249047" y="533274"/>
                  </a:lnTo>
                  <a:lnTo>
                    <a:pt x="289306" y="508889"/>
                  </a:lnTo>
                  <a:lnTo>
                    <a:pt x="330709" y="484378"/>
                  </a:lnTo>
                  <a:lnTo>
                    <a:pt x="373252" y="459487"/>
                  </a:lnTo>
                  <a:lnTo>
                    <a:pt x="416560" y="434466"/>
                  </a:lnTo>
                  <a:lnTo>
                    <a:pt x="504825" y="384302"/>
                  </a:lnTo>
                  <a:lnTo>
                    <a:pt x="593471" y="334645"/>
                  </a:lnTo>
                  <a:lnTo>
                    <a:pt x="637540" y="310262"/>
                  </a:lnTo>
                  <a:lnTo>
                    <a:pt x="680974" y="286129"/>
                  </a:lnTo>
                  <a:lnTo>
                    <a:pt x="723773" y="262510"/>
                  </a:lnTo>
                  <a:lnTo>
                    <a:pt x="765556" y="239395"/>
                  </a:lnTo>
                  <a:lnTo>
                    <a:pt x="806069" y="216916"/>
                  </a:lnTo>
                  <a:lnTo>
                    <a:pt x="845185" y="195326"/>
                  </a:lnTo>
                  <a:lnTo>
                    <a:pt x="882523" y="174372"/>
                  </a:lnTo>
                  <a:lnTo>
                    <a:pt x="918084" y="154432"/>
                  </a:lnTo>
                  <a:lnTo>
                    <a:pt x="951485" y="135382"/>
                  </a:lnTo>
                  <a:lnTo>
                    <a:pt x="982599" y="117475"/>
                  </a:lnTo>
                  <a:lnTo>
                    <a:pt x="997077" y="109092"/>
                  </a:lnTo>
                  <a:lnTo>
                    <a:pt x="1011047" y="100838"/>
                  </a:lnTo>
                  <a:lnTo>
                    <a:pt x="1024254" y="92838"/>
                  </a:lnTo>
                  <a:lnTo>
                    <a:pt x="1036827" y="85342"/>
                  </a:lnTo>
                  <a:lnTo>
                    <a:pt x="1048512" y="78104"/>
                  </a:lnTo>
                  <a:lnTo>
                    <a:pt x="1059561" y="71120"/>
                  </a:lnTo>
                  <a:lnTo>
                    <a:pt x="1069721" y="64642"/>
                  </a:lnTo>
                  <a:lnTo>
                    <a:pt x="1078991" y="58420"/>
                  </a:lnTo>
                  <a:lnTo>
                    <a:pt x="1087501" y="52704"/>
                  </a:lnTo>
                  <a:lnTo>
                    <a:pt x="1094994" y="47242"/>
                  </a:lnTo>
                  <a:lnTo>
                    <a:pt x="1101598" y="42164"/>
                  </a:lnTo>
                  <a:lnTo>
                    <a:pt x="1107313" y="37591"/>
                  </a:lnTo>
                  <a:lnTo>
                    <a:pt x="1119251" y="31750"/>
                  </a:lnTo>
                  <a:lnTo>
                    <a:pt x="1130173" y="26163"/>
                  </a:lnTo>
                  <a:lnTo>
                    <a:pt x="1140334" y="20954"/>
                  </a:lnTo>
                  <a:lnTo>
                    <a:pt x="1149859" y="16129"/>
                  </a:lnTo>
                  <a:lnTo>
                    <a:pt x="1158621" y="11938"/>
                  </a:lnTo>
                  <a:lnTo>
                    <a:pt x="1166622" y="8128"/>
                  </a:lnTo>
                  <a:lnTo>
                    <a:pt x="1174115" y="4953"/>
                  </a:lnTo>
                  <a:lnTo>
                    <a:pt x="1180973" y="2541"/>
                  </a:lnTo>
                  <a:lnTo>
                    <a:pt x="1187323" y="889"/>
                  </a:lnTo>
                  <a:lnTo>
                    <a:pt x="1193165" y="0"/>
                  </a:lnTo>
                  <a:lnTo>
                    <a:pt x="1198626" y="0"/>
                  </a:lnTo>
                  <a:lnTo>
                    <a:pt x="1203706" y="1016"/>
                  </a:lnTo>
                  <a:lnTo>
                    <a:pt x="1208277" y="3049"/>
                  </a:lnTo>
                  <a:lnTo>
                    <a:pt x="1212723" y="6097"/>
                  </a:lnTo>
                  <a:lnTo>
                    <a:pt x="1216914" y="10414"/>
                  </a:lnTo>
                  <a:lnTo>
                    <a:pt x="1220851" y="15875"/>
                  </a:lnTo>
                  <a:lnTo>
                    <a:pt x="1223518" y="21842"/>
                  </a:lnTo>
                  <a:lnTo>
                    <a:pt x="1223772" y="27432"/>
                  </a:lnTo>
                  <a:lnTo>
                    <a:pt x="1221994" y="33020"/>
                  </a:lnTo>
                  <a:lnTo>
                    <a:pt x="1218565" y="38354"/>
                  </a:lnTo>
                  <a:lnTo>
                    <a:pt x="1213612" y="43688"/>
                  </a:lnTo>
                  <a:lnTo>
                    <a:pt x="1207643" y="48895"/>
                  </a:lnTo>
                  <a:lnTo>
                    <a:pt x="1193419" y="59437"/>
                  </a:lnTo>
                  <a:lnTo>
                    <a:pt x="1178560" y="70358"/>
                  </a:lnTo>
                  <a:lnTo>
                    <a:pt x="1171575" y="76074"/>
                  </a:lnTo>
                  <a:lnTo>
                    <a:pt x="1165352" y="82041"/>
                  </a:lnTo>
                  <a:lnTo>
                    <a:pt x="1160018" y="88391"/>
                  </a:lnTo>
                  <a:lnTo>
                    <a:pt x="1156081" y="94997"/>
                  </a:lnTo>
                  <a:lnTo>
                    <a:pt x="1153795" y="101979"/>
                  </a:lnTo>
                  <a:lnTo>
                    <a:pt x="1153540" y="109475"/>
                  </a:lnTo>
                  <a:lnTo>
                    <a:pt x="1097788" y="154813"/>
                  </a:lnTo>
                  <a:lnTo>
                    <a:pt x="1040129" y="200914"/>
                  </a:lnTo>
                  <a:lnTo>
                    <a:pt x="981075" y="247650"/>
                  </a:lnTo>
                  <a:lnTo>
                    <a:pt x="920369" y="294766"/>
                  </a:lnTo>
                  <a:lnTo>
                    <a:pt x="858647" y="342391"/>
                  </a:lnTo>
                  <a:lnTo>
                    <a:pt x="795783" y="390016"/>
                  </a:lnTo>
                  <a:lnTo>
                    <a:pt x="668020" y="485392"/>
                  </a:lnTo>
                  <a:lnTo>
                    <a:pt x="538608" y="580010"/>
                  </a:lnTo>
                  <a:lnTo>
                    <a:pt x="409321" y="672466"/>
                  </a:lnTo>
                  <a:lnTo>
                    <a:pt x="345186" y="717677"/>
                  </a:lnTo>
                  <a:lnTo>
                    <a:pt x="281560" y="762000"/>
                  </a:lnTo>
                  <a:lnTo>
                    <a:pt x="218948" y="805179"/>
                  </a:lnTo>
                  <a:lnTo>
                    <a:pt x="157226" y="847342"/>
                  </a:lnTo>
                  <a:lnTo>
                    <a:pt x="144779" y="845312"/>
                  </a:lnTo>
                  <a:lnTo>
                    <a:pt x="133985" y="842010"/>
                  </a:lnTo>
                  <a:lnTo>
                    <a:pt x="124587" y="837185"/>
                  </a:lnTo>
                  <a:lnTo>
                    <a:pt x="116333" y="831215"/>
                  </a:lnTo>
                  <a:lnTo>
                    <a:pt x="108839" y="824229"/>
                  </a:lnTo>
                  <a:lnTo>
                    <a:pt x="101727" y="816229"/>
                  </a:lnTo>
                  <a:lnTo>
                    <a:pt x="88391" y="797560"/>
                  </a:lnTo>
                  <a:lnTo>
                    <a:pt x="81408" y="787147"/>
                  </a:lnTo>
                  <a:lnTo>
                    <a:pt x="73660" y="776351"/>
                  </a:lnTo>
                  <a:lnTo>
                    <a:pt x="65151" y="764922"/>
                  </a:lnTo>
                  <a:lnTo>
                    <a:pt x="55499" y="753238"/>
                  </a:lnTo>
                  <a:lnTo>
                    <a:pt x="44450" y="741173"/>
                  </a:lnTo>
                  <a:lnTo>
                    <a:pt x="31750" y="729107"/>
                  </a:lnTo>
                  <a:lnTo>
                    <a:pt x="16890" y="717041"/>
                  </a:lnTo>
                  <a:lnTo>
                    <a:pt x="0" y="704977"/>
                  </a:lnTo>
                  <a:lnTo>
                    <a:pt x="10540" y="695833"/>
                  </a:lnTo>
                  <a:close/>
                </a:path>
              </a:pathLst>
            </a:custGeom>
            <a:solidFill>
              <a:srgbClr val="aa7700"/>
            </a:solidFill>
            <a:ln w="0">
              <a:solidFill>
                <a:srgbClr val="aa7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: Shape 75"/>
            <p:cNvSpPr/>
            <p:nvPr/>
          </p:nvSpPr>
          <p:spPr>
            <a:xfrm rot="711000">
              <a:off x="6628680" y="4701960"/>
              <a:ext cx="1635120" cy="12430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1621536" h="1248411">
                  <a:moveTo>
                    <a:pt x="380365" y="724027"/>
                  </a:moveTo>
                  <a:lnTo>
                    <a:pt x="381127" y="722630"/>
                  </a:lnTo>
                  <a:lnTo>
                    <a:pt x="381889" y="719963"/>
                  </a:lnTo>
                  <a:lnTo>
                    <a:pt x="382904" y="712597"/>
                  </a:lnTo>
                  <a:lnTo>
                    <a:pt x="383794" y="705231"/>
                  </a:lnTo>
                  <a:lnTo>
                    <a:pt x="383919" y="702691"/>
                  </a:lnTo>
                  <a:lnTo>
                    <a:pt x="384175" y="701548"/>
                  </a:lnTo>
                  <a:lnTo>
                    <a:pt x="385953" y="698754"/>
                  </a:lnTo>
                  <a:lnTo>
                    <a:pt x="388493" y="695706"/>
                  </a:lnTo>
                  <a:lnTo>
                    <a:pt x="395731" y="688340"/>
                  </a:lnTo>
                  <a:lnTo>
                    <a:pt x="405256" y="680212"/>
                  </a:lnTo>
                  <a:lnTo>
                    <a:pt x="416941" y="671068"/>
                  </a:lnTo>
                  <a:lnTo>
                    <a:pt x="430276" y="661289"/>
                  </a:lnTo>
                  <a:lnTo>
                    <a:pt x="445006" y="650875"/>
                  </a:lnTo>
                  <a:lnTo>
                    <a:pt x="477012" y="629412"/>
                  </a:lnTo>
                  <a:lnTo>
                    <a:pt x="510031" y="608203"/>
                  </a:lnTo>
                  <a:lnTo>
                    <a:pt x="526032" y="597916"/>
                  </a:lnTo>
                  <a:lnTo>
                    <a:pt x="541273" y="588391"/>
                  </a:lnTo>
                  <a:lnTo>
                    <a:pt x="555244" y="579628"/>
                  </a:lnTo>
                  <a:lnTo>
                    <a:pt x="567690" y="571627"/>
                  </a:lnTo>
                  <a:lnTo>
                    <a:pt x="578104" y="564768"/>
                  </a:lnTo>
                  <a:lnTo>
                    <a:pt x="582548" y="561848"/>
                  </a:lnTo>
                  <a:lnTo>
                    <a:pt x="586485" y="559181"/>
                  </a:lnTo>
                  <a:lnTo>
                    <a:pt x="604266" y="547624"/>
                  </a:lnTo>
                  <a:lnTo>
                    <a:pt x="622680" y="536575"/>
                  </a:lnTo>
                  <a:lnTo>
                    <a:pt x="660906" y="515747"/>
                  </a:lnTo>
                  <a:lnTo>
                    <a:pt x="699262" y="495173"/>
                  </a:lnTo>
                  <a:lnTo>
                    <a:pt x="717930" y="484505"/>
                  </a:lnTo>
                  <a:lnTo>
                    <a:pt x="736219" y="473075"/>
                  </a:lnTo>
                  <a:lnTo>
                    <a:pt x="768856" y="452628"/>
                  </a:lnTo>
                  <a:lnTo>
                    <a:pt x="802004" y="433197"/>
                  </a:lnTo>
                  <a:lnTo>
                    <a:pt x="819530" y="423418"/>
                  </a:lnTo>
                  <a:lnTo>
                    <a:pt x="837819" y="413257"/>
                  </a:lnTo>
                  <a:lnTo>
                    <a:pt x="857504" y="402336"/>
                  </a:lnTo>
                  <a:lnTo>
                    <a:pt x="878585" y="390652"/>
                  </a:lnTo>
                  <a:lnTo>
                    <a:pt x="1045718" y="296799"/>
                  </a:lnTo>
                  <a:lnTo>
                    <a:pt x="1211832" y="203454"/>
                  </a:lnTo>
                  <a:lnTo>
                    <a:pt x="1244344" y="186436"/>
                  </a:lnTo>
                  <a:lnTo>
                    <a:pt x="1277620" y="170180"/>
                  </a:lnTo>
                  <a:lnTo>
                    <a:pt x="1310640" y="153797"/>
                  </a:lnTo>
                  <a:lnTo>
                    <a:pt x="1343025" y="136017"/>
                  </a:lnTo>
                  <a:lnTo>
                    <a:pt x="1346962" y="133604"/>
                  </a:lnTo>
                  <a:lnTo>
                    <a:pt x="1351788" y="130682"/>
                  </a:lnTo>
                  <a:lnTo>
                    <a:pt x="1362708" y="123698"/>
                  </a:lnTo>
                  <a:lnTo>
                    <a:pt x="1375664" y="115316"/>
                  </a:lnTo>
                  <a:lnTo>
                    <a:pt x="1390142" y="105918"/>
                  </a:lnTo>
                  <a:lnTo>
                    <a:pt x="1405890" y="95631"/>
                  </a:lnTo>
                  <a:lnTo>
                    <a:pt x="1422527" y="84709"/>
                  </a:lnTo>
                  <a:lnTo>
                    <a:pt x="1457452" y="62230"/>
                  </a:lnTo>
                  <a:lnTo>
                    <a:pt x="1474978" y="51181"/>
                  </a:lnTo>
                  <a:lnTo>
                    <a:pt x="1491994" y="40513"/>
                  </a:lnTo>
                  <a:lnTo>
                    <a:pt x="1508379" y="30734"/>
                  </a:lnTo>
                  <a:lnTo>
                    <a:pt x="1523744" y="21717"/>
                  </a:lnTo>
                  <a:lnTo>
                    <a:pt x="1537589" y="14097"/>
                  </a:lnTo>
                  <a:lnTo>
                    <a:pt x="1549780" y="8001"/>
                  </a:lnTo>
                  <a:lnTo>
                    <a:pt x="1555115" y="5588"/>
                  </a:lnTo>
                  <a:lnTo>
                    <a:pt x="1559941" y="3556"/>
                  </a:lnTo>
                  <a:lnTo>
                    <a:pt x="1564131" y="2159"/>
                  </a:lnTo>
                  <a:lnTo>
                    <a:pt x="1567688" y="1269"/>
                  </a:lnTo>
                  <a:lnTo>
                    <a:pt x="1577213" y="0"/>
                  </a:lnTo>
                  <a:lnTo>
                    <a:pt x="1586482" y="0"/>
                  </a:lnTo>
                  <a:lnTo>
                    <a:pt x="1595120" y="1269"/>
                  </a:lnTo>
                  <a:lnTo>
                    <a:pt x="1602867" y="3937"/>
                  </a:lnTo>
                  <a:lnTo>
                    <a:pt x="1609597" y="7747"/>
                  </a:lnTo>
                  <a:lnTo>
                    <a:pt x="1614931" y="12954"/>
                  </a:lnTo>
                  <a:lnTo>
                    <a:pt x="1618488" y="19557"/>
                  </a:lnTo>
                  <a:lnTo>
                    <a:pt x="1620139" y="27431"/>
                  </a:lnTo>
                  <a:lnTo>
                    <a:pt x="1621535" y="33274"/>
                  </a:lnTo>
                  <a:lnTo>
                    <a:pt x="1620773" y="40005"/>
                  </a:lnTo>
                  <a:lnTo>
                    <a:pt x="1617853" y="47370"/>
                  </a:lnTo>
                  <a:lnTo>
                    <a:pt x="1613027" y="55499"/>
                  </a:lnTo>
                  <a:lnTo>
                    <a:pt x="1606677" y="64007"/>
                  </a:lnTo>
                  <a:lnTo>
                    <a:pt x="1599056" y="72898"/>
                  </a:lnTo>
                  <a:lnTo>
                    <a:pt x="1590167" y="82042"/>
                  </a:lnTo>
                  <a:lnTo>
                    <a:pt x="1580515" y="91313"/>
                  </a:lnTo>
                  <a:lnTo>
                    <a:pt x="1559687" y="109855"/>
                  </a:lnTo>
                  <a:lnTo>
                    <a:pt x="1538223" y="127635"/>
                  </a:lnTo>
                  <a:lnTo>
                    <a:pt x="1527937" y="136017"/>
                  </a:lnTo>
                  <a:lnTo>
                    <a:pt x="1518283" y="143637"/>
                  </a:lnTo>
                  <a:lnTo>
                    <a:pt x="1509520" y="150749"/>
                  </a:lnTo>
                  <a:lnTo>
                    <a:pt x="1501902" y="156972"/>
                  </a:lnTo>
                  <a:lnTo>
                    <a:pt x="1479042" y="177038"/>
                  </a:lnTo>
                  <a:lnTo>
                    <a:pt x="1456435" y="197612"/>
                  </a:lnTo>
                  <a:lnTo>
                    <a:pt x="1433703" y="218059"/>
                  </a:lnTo>
                  <a:lnTo>
                    <a:pt x="1410333" y="237236"/>
                  </a:lnTo>
                  <a:lnTo>
                    <a:pt x="1323467" y="303656"/>
                  </a:lnTo>
                  <a:lnTo>
                    <a:pt x="1280287" y="337566"/>
                  </a:lnTo>
                  <a:lnTo>
                    <a:pt x="1238122" y="371982"/>
                  </a:lnTo>
                  <a:lnTo>
                    <a:pt x="1177669" y="422910"/>
                  </a:lnTo>
                  <a:lnTo>
                    <a:pt x="1116838" y="473837"/>
                  </a:lnTo>
                  <a:lnTo>
                    <a:pt x="1086104" y="498982"/>
                  </a:lnTo>
                  <a:lnTo>
                    <a:pt x="1054862" y="523620"/>
                  </a:lnTo>
                  <a:lnTo>
                    <a:pt x="1023112" y="547497"/>
                  </a:lnTo>
                  <a:lnTo>
                    <a:pt x="990980" y="570484"/>
                  </a:lnTo>
                  <a:lnTo>
                    <a:pt x="902080" y="631443"/>
                  </a:lnTo>
                  <a:lnTo>
                    <a:pt x="858012" y="662431"/>
                  </a:lnTo>
                  <a:lnTo>
                    <a:pt x="814831" y="694055"/>
                  </a:lnTo>
                  <a:lnTo>
                    <a:pt x="756793" y="739393"/>
                  </a:lnTo>
                  <a:lnTo>
                    <a:pt x="697992" y="785241"/>
                  </a:lnTo>
                  <a:lnTo>
                    <a:pt x="668145" y="807719"/>
                  </a:lnTo>
                  <a:lnTo>
                    <a:pt x="637794" y="829437"/>
                  </a:lnTo>
                  <a:lnTo>
                    <a:pt x="606931" y="850392"/>
                  </a:lnTo>
                  <a:lnTo>
                    <a:pt x="575181" y="870077"/>
                  </a:lnTo>
                  <a:lnTo>
                    <a:pt x="561085" y="877951"/>
                  </a:lnTo>
                  <a:lnTo>
                    <a:pt x="546862" y="884936"/>
                  </a:lnTo>
                  <a:lnTo>
                    <a:pt x="518031" y="898017"/>
                  </a:lnTo>
                  <a:lnTo>
                    <a:pt x="489712" y="911098"/>
                  </a:lnTo>
                  <a:lnTo>
                    <a:pt x="475994" y="918337"/>
                  </a:lnTo>
                  <a:lnTo>
                    <a:pt x="462788" y="926338"/>
                  </a:lnTo>
                  <a:lnTo>
                    <a:pt x="455548" y="930656"/>
                  </a:lnTo>
                  <a:lnTo>
                    <a:pt x="446531" y="935609"/>
                  </a:lnTo>
                  <a:lnTo>
                    <a:pt x="435991" y="940943"/>
                  </a:lnTo>
                  <a:lnTo>
                    <a:pt x="424432" y="946531"/>
                  </a:lnTo>
                  <a:lnTo>
                    <a:pt x="398906" y="958215"/>
                  </a:lnTo>
                  <a:lnTo>
                    <a:pt x="371855" y="970406"/>
                  </a:lnTo>
                  <a:lnTo>
                    <a:pt x="345440" y="982472"/>
                  </a:lnTo>
                  <a:lnTo>
                    <a:pt x="332994" y="988314"/>
                  </a:lnTo>
                  <a:lnTo>
                    <a:pt x="321691" y="993902"/>
                  </a:lnTo>
                  <a:lnTo>
                    <a:pt x="311404" y="999236"/>
                  </a:lnTo>
                  <a:lnTo>
                    <a:pt x="302641" y="1004062"/>
                  </a:lnTo>
                  <a:lnTo>
                    <a:pt x="295655" y="1008506"/>
                  </a:lnTo>
                  <a:lnTo>
                    <a:pt x="290448" y="1012443"/>
                  </a:lnTo>
                  <a:lnTo>
                    <a:pt x="285242" y="1017651"/>
                  </a:lnTo>
                  <a:lnTo>
                    <a:pt x="280670" y="1022604"/>
                  </a:lnTo>
                  <a:lnTo>
                    <a:pt x="273556" y="1032256"/>
                  </a:lnTo>
                  <a:lnTo>
                    <a:pt x="261873" y="1050290"/>
                  </a:lnTo>
                  <a:lnTo>
                    <a:pt x="255016" y="1059180"/>
                  </a:lnTo>
                  <a:lnTo>
                    <a:pt x="245870" y="1068197"/>
                  </a:lnTo>
                  <a:lnTo>
                    <a:pt x="240029" y="1072768"/>
                  </a:lnTo>
                  <a:lnTo>
                    <a:pt x="233045" y="1077468"/>
                  </a:lnTo>
                  <a:lnTo>
                    <a:pt x="225044" y="1082293"/>
                  </a:lnTo>
                  <a:lnTo>
                    <a:pt x="215644" y="1087374"/>
                  </a:lnTo>
                  <a:lnTo>
                    <a:pt x="204978" y="1091945"/>
                  </a:lnTo>
                  <a:lnTo>
                    <a:pt x="193675" y="1095882"/>
                  </a:lnTo>
                  <a:lnTo>
                    <a:pt x="169545" y="1103122"/>
                  </a:lnTo>
                  <a:lnTo>
                    <a:pt x="157479" y="1106678"/>
                  </a:lnTo>
                  <a:lnTo>
                    <a:pt x="146050" y="1110742"/>
                  </a:lnTo>
                  <a:lnTo>
                    <a:pt x="135254" y="1115441"/>
                  </a:lnTo>
                  <a:lnTo>
                    <a:pt x="125729" y="1121029"/>
                  </a:lnTo>
                  <a:lnTo>
                    <a:pt x="118364" y="1126617"/>
                  </a:lnTo>
                  <a:lnTo>
                    <a:pt x="111379" y="1132713"/>
                  </a:lnTo>
                  <a:lnTo>
                    <a:pt x="98805" y="1146302"/>
                  </a:lnTo>
                  <a:lnTo>
                    <a:pt x="87503" y="1161415"/>
                  </a:lnTo>
                  <a:lnTo>
                    <a:pt x="77595" y="1177798"/>
                  </a:lnTo>
                  <a:lnTo>
                    <a:pt x="68326" y="1194943"/>
                  </a:lnTo>
                  <a:lnTo>
                    <a:pt x="59817" y="1212723"/>
                  </a:lnTo>
                  <a:lnTo>
                    <a:pt x="43306" y="1248410"/>
                  </a:lnTo>
                  <a:lnTo>
                    <a:pt x="39623" y="1246759"/>
                  </a:lnTo>
                  <a:lnTo>
                    <a:pt x="35941" y="1243711"/>
                  </a:lnTo>
                  <a:lnTo>
                    <a:pt x="32383" y="1239647"/>
                  </a:lnTo>
                  <a:lnTo>
                    <a:pt x="28955" y="1234567"/>
                  </a:lnTo>
                  <a:lnTo>
                    <a:pt x="22352" y="1222248"/>
                  </a:lnTo>
                  <a:lnTo>
                    <a:pt x="16381" y="1207769"/>
                  </a:lnTo>
                  <a:lnTo>
                    <a:pt x="11176" y="1192656"/>
                  </a:lnTo>
                  <a:lnTo>
                    <a:pt x="6983" y="1177925"/>
                  </a:lnTo>
                  <a:lnTo>
                    <a:pt x="3808" y="1164970"/>
                  </a:lnTo>
                  <a:lnTo>
                    <a:pt x="2794" y="1159382"/>
                  </a:lnTo>
                  <a:lnTo>
                    <a:pt x="2157" y="1154684"/>
                  </a:lnTo>
                  <a:lnTo>
                    <a:pt x="762" y="1141094"/>
                  </a:lnTo>
                  <a:lnTo>
                    <a:pt x="0" y="1127887"/>
                  </a:lnTo>
                  <a:lnTo>
                    <a:pt x="254" y="1114932"/>
                  </a:lnTo>
                  <a:lnTo>
                    <a:pt x="1016" y="1102360"/>
                  </a:lnTo>
                  <a:lnTo>
                    <a:pt x="2413" y="1090168"/>
                  </a:lnTo>
                  <a:lnTo>
                    <a:pt x="4698" y="1078230"/>
                  </a:lnTo>
                  <a:lnTo>
                    <a:pt x="10794" y="1055624"/>
                  </a:lnTo>
                  <a:lnTo>
                    <a:pt x="19050" y="1034415"/>
                  </a:lnTo>
                  <a:lnTo>
                    <a:pt x="29464" y="1014603"/>
                  </a:lnTo>
                  <a:lnTo>
                    <a:pt x="41655" y="996061"/>
                  </a:lnTo>
                  <a:lnTo>
                    <a:pt x="55498" y="978916"/>
                  </a:lnTo>
                  <a:lnTo>
                    <a:pt x="70739" y="963168"/>
                  </a:lnTo>
                  <a:lnTo>
                    <a:pt x="87120" y="948690"/>
                  </a:lnTo>
                  <a:lnTo>
                    <a:pt x="104394" y="935609"/>
                  </a:lnTo>
                  <a:lnTo>
                    <a:pt x="122428" y="923798"/>
                  </a:lnTo>
                  <a:lnTo>
                    <a:pt x="140843" y="913130"/>
                  </a:lnTo>
                  <a:lnTo>
                    <a:pt x="159512" y="903731"/>
                  </a:lnTo>
                  <a:lnTo>
                    <a:pt x="178306" y="895731"/>
                  </a:lnTo>
                  <a:lnTo>
                    <a:pt x="196850" y="888873"/>
                  </a:lnTo>
                  <a:lnTo>
                    <a:pt x="198754" y="886079"/>
                  </a:lnTo>
                  <a:lnTo>
                    <a:pt x="199897" y="882523"/>
                  </a:lnTo>
                  <a:lnTo>
                    <a:pt x="200914" y="874141"/>
                  </a:lnTo>
                  <a:lnTo>
                    <a:pt x="201929" y="865631"/>
                  </a:lnTo>
                  <a:lnTo>
                    <a:pt x="202819" y="861949"/>
                  </a:lnTo>
                  <a:lnTo>
                    <a:pt x="204470" y="858901"/>
                  </a:lnTo>
                  <a:lnTo>
                    <a:pt x="205357" y="857757"/>
                  </a:lnTo>
                  <a:lnTo>
                    <a:pt x="206881" y="856106"/>
                  </a:lnTo>
                  <a:lnTo>
                    <a:pt x="211707" y="851535"/>
                  </a:lnTo>
                  <a:lnTo>
                    <a:pt x="218567" y="845566"/>
                  </a:lnTo>
                  <a:lnTo>
                    <a:pt x="227203" y="838200"/>
                  </a:lnTo>
                  <a:lnTo>
                    <a:pt x="237107" y="829944"/>
                  </a:lnTo>
                  <a:lnTo>
                    <a:pt x="247904" y="820801"/>
                  </a:lnTo>
                  <a:lnTo>
                    <a:pt x="271779" y="801497"/>
                  </a:lnTo>
                  <a:lnTo>
                    <a:pt x="296037" y="782066"/>
                  </a:lnTo>
                  <a:lnTo>
                    <a:pt x="307594" y="772922"/>
                  </a:lnTo>
                  <a:lnTo>
                    <a:pt x="318262" y="764413"/>
                  </a:lnTo>
                  <a:lnTo>
                    <a:pt x="327914" y="756919"/>
                  </a:lnTo>
                  <a:lnTo>
                    <a:pt x="336042" y="750697"/>
                  </a:lnTo>
                  <a:lnTo>
                    <a:pt x="342392" y="745870"/>
                  </a:lnTo>
                  <a:lnTo>
                    <a:pt x="344804" y="744093"/>
                  </a:lnTo>
                  <a:lnTo>
                    <a:pt x="346708" y="742823"/>
                  </a:lnTo>
                  <a:lnTo>
                    <a:pt x="354710" y="737869"/>
                  </a:lnTo>
                  <a:lnTo>
                    <a:pt x="363345" y="733298"/>
                  </a:lnTo>
                  <a:lnTo>
                    <a:pt x="1595120" y="30480"/>
                  </a:lnTo>
                  <a:lnTo>
                    <a:pt x="1595373" y="33655"/>
                  </a:lnTo>
                  <a:lnTo>
                    <a:pt x="1594612" y="36956"/>
                  </a:lnTo>
                  <a:lnTo>
                    <a:pt x="1592960" y="40386"/>
                  </a:lnTo>
                  <a:lnTo>
                    <a:pt x="1587627" y="47498"/>
                  </a:lnTo>
                  <a:lnTo>
                    <a:pt x="1580132" y="54864"/>
                  </a:lnTo>
                  <a:lnTo>
                    <a:pt x="1561972" y="69595"/>
                  </a:lnTo>
                  <a:lnTo>
                    <a:pt x="1553208" y="76581"/>
                  </a:lnTo>
                  <a:lnTo>
                    <a:pt x="1545590" y="83185"/>
                  </a:lnTo>
                  <a:lnTo>
                    <a:pt x="1525651" y="101092"/>
                  </a:lnTo>
                  <a:lnTo>
                    <a:pt x="1504950" y="118237"/>
                  </a:lnTo>
                  <a:lnTo>
                    <a:pt x="1462023" y="150494"/>
                  </a:lnTo>
                  <a:lnTo>
                    <a:pt x="1418590" y="182118"/>
                  </a:lnTo>
                  <a:lnTo>
                    <a:pt x="1397254" y="198119"/>
                  </a:lnTo>
                  <a:lnTo>
                    <a:pt x="1376679" y="214756"/>
                  </a:lnTo>
                  <a:lnTo>
                    <a:pt x="1342644" y="242443"/>
                  </a:lnTo>
                  <a:lnTo>
                    <a:pt x="1307972" y="269875"/>
                  </a:lnTo>
                  <a:lnTo>
                    <a:pt x="1238122" y="323215"/>
                  </a:lnTo>
                  <a:lnTo>
                    <a:pt x="1168019" y="375666"/>
                  </a:lnTo>
                  <a:lnTo>
                    <a:pt x="1097788" y="427355"/>
                  </a:lnTo>
                  <a:lnTo>
                    <a:pt x="1027429" y="480568"/>
                  </a:lnTo>
                  <a:lnTo>
                    <a:pt x="992251" y="508127"/>
                  </a:lnTo>
                  <a:lnTo>
                    <a:pt x="957198" y="536702"/>
                  </a:lnTo>
                  <a:lnTo>
                    <a:pt x="923290" y="563499"/>
                  </a:lnTo>
                  <a:lnTo>
                    <a:pt x="887982" y="589406"/>
                  </a:lnTo>
                  <a:lnTo>
                    <a:pt x="869694" y="602615"/>
                  </a:lnTo>
                  <a:lnTo>
                    <a:pt x="850644" y="616204"/>
                  </a:lnTo>
                  <a:lnTo>
                    <a:pt x="831215" y="630301"/>
                  </a:lnTo>
                  <a:lnTo>
                    <a:pt x="811148" y="645414"/>
                  </a:lnTo>
                  <a:lnTo>
                    <a:pt x="740537" y="698627"/>
                  </a:lnTo>
                  <a:lnTo>
                    <a:pt x="704850" y="724789"/>
                  </a:lnTo>
                  <a:lnTo>
                    <a:pt x="668781" y="750189"/>
                  </a:lnTo>
                  <a:lnTo>
                    <a:pt x="663575" y="753872"/>
                  </a:lnTo>
                  <a:lnTo>
                    <a:pt x="657225" y="758443"/>
                  </a:lnTo>
                  <a:lnTo>
                    <a:pt x="649731" y="763651"/>
                  </a:lnTo>
                  <a:lnTo>
                    <a:pt x="641222" y="769493"/>
                  </a:lnTo>
                  <a:lnTo>
                    <a:pt x="622172" y="781939"/>
                  </a:lnTo>
                  <a:lnTo>
                    <a:pt x="600964" y="794512"/>
                  </a:lnTo>
                  <a:lnTo>
                    <a:pt x="578866" y="805815"/>
                  </a:lnTo>
                  <a:lnTo>
                    <a:pt x="567944" y="810514"/>
                  </a:lnTo>
                  <a:lnTo>
                    <a:pt x="557148" y="814324"/>
                  </a:lnTo>
                  <a:lnTo>
                    <a:pt x="546733" y="817118"/>
                  </a:lnTo>
                  <a:lnTo>
                    <a:pt x="536702" y="818768"/>
                  </a:lnTo>
                  <a:lnTo>
                    <a:pt x="527430" y="819023"/>
                  </a:lnTo>
                  <a:lnTo>
                    <a:pt x="519048" y="817626"/>
                  </a:lnTo>
                  <a:lnTo>
                    <a:pt x="513588" y="815467"/>
                  </a:lnTo>
                  <a:lnTo>
                    <a:pt x="507872" y="811403"/>
                  </a:lnTo>
                  <a:lnTo>
                    <a:pt x="501777" y="806068"/>
                  </a:lnTo>
                  <a:lnTo>
                    <a:pt x="495427" y="799465"/>
                  </a:lnTo>
                  <a:lnTo>
                    <a:pt x="488822" y="791972"/>
                  </a:lnTo>
                  <a:lnTo>
                    <a:pt x="482092" y="783717"/>
                  </a:lnTo>
                  <a:lnTo>
                    <a:pt x="467995" y="766064"/>
                  </a:lnTo>
                  <a:lnTo>
                    <a:pt x="453517" y="748284"/>
                  </a:lnTo>
                  <a:lnTo>
                    <a:pt x="438912" y="732155"/>
                  </a:lnTo>
                  <a:lnTo>
                    <a:pt x="431672" y="725424"/>
                  </a:lnTo>
                  <a:lnTo>
                    <a:pt x="424432" y="719836"/>
                  </a:lnTo>
                  <a:lnTo>
                    <a:pt x="417320" y="715518"/>
                  </a:lnTo>
                  <a:lnTo>
                    <a:pt x="410337" y="712851"/>
                  </a:lnTo>
                  <a:lnTo>
                    <a:pt x="410337" y="697865"/>
                  </a:lnTo>
                  <a:lnTo>
                    <a:pt x="437006" y="676529"/>
                  </a:lnTo>
                  <a:lnTo>
                    <a:pt x="464820" y="656081"/>
                  </a:lnTo>
                  <a:lnTo>
                    <a:pt x="493268" y="636269"/>
                  </a:lnTo>
                  <a:lnTo>
                    <a:pt x="522604" y="617219"/>
                  </a:lnTo>
                  <a:lnTo>
                    <a:pt x="582295" y="580263"/>
                  </a:lnTo>
                  <a:lnTo>
                    <a:pt x="642620" y="544322"/>
                  </a:lnTo>
                  <a:lnTo>
                    <a:pt x="795273" y="454532"/>
                  </a:lnTo>
                  <a:lnTo>
                    <a:pt x="872235" y="410718"/>
                  </a:lnTo>
                  <a:lnTo>
                    <a:pt x="949705" y="368173"/>
                  </a:lnTo>
                  <a:lnTo>
                    <a:pt x="1035939" y="321310"/>
                  </a:lnTo>
                  <a:lnTo>
                    <a:pt x="1120394" y="274193"/>
                  </a:lnTo>
                  <a:lnTo>
                    <a:pt x="1203831" y="227330"/>
                  </a:lnTo>
                  <a:lnTo>
                    <a:pt x="1286764" y="180975"/>
                  </a:lnTo>
                  <a:lnTo>
                    <a:pt x="1337564" y="152145"/>
                  </a:lnTo>
                  <a:lnTo>
                    <a:pt x="1387347" y="123190"/>
                  </a:lnTo>
                  <a:lnTo>
                    <a:pt x="1485265" y="64897"/>
                  </a:lnTo>
                  <a:lnTo>
                    <a:pt x="1489964" y="61976"/>
                  </a:lnTo>
                  <a:lnTo>
                    <a:pt x="1495805" y="58166"/>
                  </a:lnTo>
                  <a:lnTo>
                    <a:pt x="1502408" y="53848"/>
                  </a:lnTo>
                  <a:lnTo>
                    <a:pt x="1509776" y="49149"/>
                  </a:lnTo>
                  <a:lnTo>
                    <a:pt x="1525904" y="39116"/>
                  </a:lnTo>
                  <a:lnTo>
                    <a:pt x="1543050" y="29591"/>
                  </a:lnTo>
                  <a:lnTo>
                    <a:pt x="1551431" y="25527"/>
                  </a:lnTo>
                  <a:lnTo>
                    <a:pt x="1559558" y="22225"/>
                  </a:lnTo>
                  <a:lnTo>
                    <a:pt x="1567306" y="19812"/>
                  </a:lnTo>
                  <a:lnTo>
                    <a:pt x="1574544" y="18415"/>
                  </a:lnTo>
                  <a:lnTo>
                    <a:pt x="1580894" y="18288"/>
                  </a:lnTo>
                  <a:lnTo>
                    <a:pt x="1586356" y="19685"/>
                  </a:lnTo>
                  <a:lnTo>
                    <a:pt x="1590675" y="22606"/>
                  </a:lnTo>
                  <a:lnTo>
                    <a:pt x="1593850" y="27431"/>
                  </a:lnTo>
                  <a:lnTo>
                    <a:pt x="459740" y="903859"/>
                  </a:lnTo>
                  <a:lnTo>
                    <a:pt x="439166" y="915289"/>
                  </a:lnTo>
                  <a:lnTo>
                    <a:pt x="399542" y="938276"/>
                  </a:lnTo>
                  <a:lnTo>
                    <a:pt x="379220" y="949452"/>
                  </a:lnTo>
                  <a:lnTo>
                    <a:pt x="357885" y="959866"/>
                  </a:lnTo>
                  <a:lnTo>
                    <a:pt x="334645" y="969772"/>
                  </a:lnTo>
                  <a:lnTo>
                    <a:pt x="309245" y="978789"/>
                  </a:lnTo>
                  <a:lnTo>
                    <a:pt x="303656" y="975487"/>
                  </a:lnTo>
                  <a:lnTo>
                    <a:pt x="297053" y="971042"/>
                  </a:lnTo>
                  <a:lnTo>
                    <a:pt x="289941" y="965581"/>
                  </a:lnTo>
                  <a:lnTo>
                    <a:pt x="282447" y="959231"/>
                  </a:lnTo>
                  <a:lnTo>
                    <a:pt x="266954" y="944372"/>
                  </a:lnTo>
                  <a:lnTo>
                    <a:pt x="252220" y="927607"/>
                  </a:lnTo>
                  <a:lnTo>
                    <a:pt x="239520" y="910081"/>
                  </a:lnTo>
                  <a:lnTo>
                    <a:pt x="234569" y="901318"/>
                  </a:lnTo>
                  <a:lnTo>
                    <a:pt x="230757" y="892682"/>
                  </a:lnTo>
                  <a:lnTo>
                    <a:pt x="228219" y="884428"/>
                  </a:lnTo>
                  <a:lnTo>
                    <a:pt x="227203" y="876427"/>
                  </a:lnTo>
                  <a:lnTo>
                    <a:pt x="227965" y="869188"/>
                  </a:lnTo>
                  <a:lnTo>
                    <a:pt x="230631" y="862584"/>
                  </a:lnTo>
                  <a:lnTo>
                    <a:pt x="231775" y="861060"/>
                  </a:lnTo>
                  <a:lnTo>
                    <a:pt x="233679" y="858901"/>
                  </a:lnTo>
                  <a:lnTo>
                    <a:pt x="236220" y="856361"/>
                  </a:lnTo>
                  <a:lnTo>
                    <a:pt x="239520" y="853313"/>
                  </a:lnTo>
                  <a:lnTo>
                    <a:pt x="247522" y="846328"/>
                  </a:lnTo>
                  <a:lnTo>
                    <a:pt x="257555" y="838073"/>
                  </a:lnTo>
                  <a:lnTo>
                    <a:pt x="268985" y="828929"/>
                  </a:lnTo>
                  <a:lnTo>
                    <a:pt x="281685" y="819277"/>
                  </a:lnTo>
                  <a:lnTo>
                    <a:pt x="308864" y="798956"/>
                  </a:lnTo>
                  <a:lnTo>
                    <a:pt x="322579" y="788924"/>
                  </a:lnTo>
                  <a:lnTo>
                    <a:pt x="336042" y="779272"/>
                  </a:lnTo>
                  <a:lnTo>
                    <a:pt x="348742" y="770381"/>
                  </a:lnTo>
                  <a:lnTo>
                    <a:pt x="360298" y="762507"/>
                  </a:lnTo>
                  <a:lnTo>
                    <a:pt x="370331" y="756031"/>
                  </a:lnTo>
                  <a:lnTo>
                    <a:pt x="378587" y="750951"/>
                  </a:lnTo>
                  <a:lnTo>
                    <a:pt x="381889" y="749045"/>
                  </a:lnTo>
                  <a:lnTo>
                    <a:pt x="384555" y="747649"/>
                  </a:lnTo>
                  <a:lnTo>
                    <a:pt x="386588" y="746760"/>
                  </a:lnTo>
                  <a:lnTo>
                    <a:pt x="387856" y="746506"/>
                  </a:lnTo>
                  <a:lnTo>
                    <a:pt x="395985" y="747649"/>
                  </a:lnTo>
                  <a:lnTo>
                    <a:pt x="404876" y="751078"/>
                  </a:lnTo>
                  <a:lnTo>
                    <a:pt x="413893" y="756285"/>
                  </a:lnTo>
                  <a:lnTo>
                    <a:pt x="423164" y="763143"/>
                  </a:lnTo>
                  <a:lnTo>
                    <a:pt x="432562" y="771525"/>
                  </a:lnTo>
                  <a:lnTo>
                    <a:pt x="441579" y="781177"/>
                  </a:lnTo>
                  <a:lnTo>
                    <a:pt x="450215" y="791718"/>
                  </a:lnTo>
                  <a:lnTo>
                    <a:pt x="458470" y="803148"/>
                  </a:lnTo>
                  <a:lnTo>
                    <a:pt x="465707" y="814959"/>
                  </a:lnTo>
                  <a:lnTo>
                    <a:pt x="472313" y="827151"/>
                  </a:lnTo>
                  <a:lnTo>
                    <a:pt x="477645" y="839216"/>
                  </a:lnTo>
                  <a:lnTo>
                    <a:pt x="481838" y="851281"/>
                  </a:lnTo>
                  <a:lnTo>
                    <a:pt x="484378" y="862838"/>
                  </a:lnTo>
                  <a:lnTo>
                    <a:pt x="485267" y="873760"/>
                  </a:lnTo>
                  <a:lnTo>
                    <a:pt x="484378" y="883793"/>
                  </a:lnTo>
                  <a:lnTo>
                    <a:pt x="481456" y="892556"/>
                  </a:lnTo>
                  <a:lnTo>
                    <a:pt x="271145" y="994156"/>
                  </a:lnTo>
                  <a:lnTo>
                    <a:pt x="268857" y="1007744"/>
                  </a:lnTo>
                  <a:lnTo>
                    <a:pt x="265048" y="1019682"/>
                  </a:lnTo>
                  <a:lnTo>
                    <a:pt x="259842" y="1030097"/>
                  </a:lnTo>
                  <a:lnTo>
                    <a:pt x="253365" y="1039241"/>
                  </a:lnTo>
                  <a:lnTo>
                    <a:pt x="245745" y="1047115"/>
                  </a:lnTo>
                  <a:lnTo>
                    <a:pt x="237107" y="1054100"/>
                  </a:lnTo>
                  <a:lnTo>
                    <a:pt x="227710" y="1060068"/>
                  </a:lnTo>
                  <a:lnTo>
                    <a:pt x="217423" y="1065276"/>
                  </a:lnTo>
                  <a:lnTo>
                    <a:pt x="206629" y="1070102"/>
                  </a:lnTo>
                  <a:lnTo>
                    <a:pt x="183769" y="1078356"/>
                  </a:lnTo>
                  <a:lnTo>
                    <a:pt x="160273" y="1086231"/>
                  </a:lnTo>
                  <a:lnTo>
                    <a:pt x="137031" y="1094867"/>
                  </a:lnTo>
                  <a:lnTo>
                    <a:pt x="127762" y="1099057"/>
                  </a:lnTo>
                  <a:lnTo>
                    <a:pt x="119253" y="1103884"/>
                  </a:lnTo>
                  <a:lnTo>
                    <a:pt x="111379" y="1109218"/>
                  </a:lnTo>
                  <a:lnTo>
                    <a:pt x="104013" y="1114932"/>
                  </a:lnTo>
                  <a:lnTo>
                    <a:pt x="90805" y="1127760"/>
                  </a:lnTo>
                  <a:lnTo>
                    <a:pt x="79119" y="1142111"/>
                  </a:lnTo>
                  <a:lnTo>
                    <a:pt x="68580" y="1157478"/>
                  </a:lnTo>
                  <a:lnTo>
                    <a:pt x="58801" y="1173734"/>
                  </a:lnTo>
                  <a:lnTo>
                    <a:pt x="39623" y="1207135"/>
                  </a:lnTo>
                  <a:lnTo>
                    <a:pt x="33655" y="1193418"/>
                  </a:lnTo>
                  <a:lnTo>
                    <a:pt x="29081" y="1178941"/>
                  </a:lnTo>
                  <a:lnTo>
                    <a:pt x="25780" y="1164081"/>
                  </a:lnTo>
                  <a:lnTo>
                    <a:pt x="23620" y="1148715"/>
                  </a:lnTo>
                  <a:lnTo>
                    <a:pt x="22731" y="1133220"/>
                  </a:lnTo>
                  <a:lnTo>
                    <a:pt x="22731" y="1117600"/>
                  </a:lnTo>
                  <a:lnTo>
                    <a:pt x="24003" y="1102232"/>
                  </a:lnTo>
                  <a:lnTo>
                    <a:pt x="26289" y="1086739"/>
                  </a:lnTo>
                  <a:lnTo>
                    <a:pt x="29337" y="1071753"/>
                  </a:lnTo>
                  <a:lnTo>
                    <a:pt x="33401" y="1057148"/>
                  </a:lnTo>
                  <a:lnTo>
                    <a:pt x="38227" y="1043178"/>
                  </a:lnTo>
                  <a:lnTo>
                    <a:pt x="43942" y="1029843"/>
                  </a:lnTo>
                  <a:lnTo>
                    <a:pt x="50292" y="1017269"/>
                  </a:lnTo>
                  <a:lnTo>
                    <a:pt x="57277" y="1005840"/>
                  </a:lnTo>
                  <a:lnTo>
                    <a:pt x="65023" y="995426"/>
                  </a:lnTo>
                  <a:lnTo>
                    <a:pt x="73279" y="986155"/>
                  </a:lnTo>
                  <a:lnTo>
                    <a:pt x="97790" y="963168"/>
                  </a:lnTo>
                  <a:lnTo>
                    <a:pt x="110235" y="952754"/>
                  </a:lnTo>
                  <a:lnTo>
                    <a:pt x="122807" y="943356"/>
                  </a:lnTo>
                  <a:lnTo>
                    <a:pt x="135507" y="935101"/>
                  </a:lnTo>
                  <a:lnTo>
                    <a:pt x="148207" y="928243"/>
                  </a:lnTo>
                  <a:lnTo>
                    <a:pt x="160907" y="922909"/>
                  </a:lnTo>
                  <a:lnTo>
                    <a:pt x="173735" y="919480"/>
                  </a:lnTo>
                  <a:lnTo>
                    <a:pt x="186435" y="917829"/>
                  </a:lnTo>
                  <a:lnTo>
                    <a:pt x="199007" y="918464"/>
                  </a:lnTo>
                  <a:lnTo>
                    <a:pt x="211581" y="921512"/>
                  </a:lnTo>
                  <a:lnTo>
                    <a:pt x="223901" y="927100"/>
                  </a:lnTo>
                  <a:lnTo>
                    <a:pt x="236220" y="935481"/>
                  </a:lnTo>
                  <a:lnTo>
                    <a:pt x="248283" y="946657"/>
                  </a:lnTo>
                  <a:lnTo>
                    <a:pt x="260094" y="961009"/>
                  </a:lnTo>
                  <a:lnTo>
                    <a:pt x="271779" y="978789"/>
                  </a:lnTo>
                  <a:lnTo>
                    <a:pt x="380365" y="7240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: Shape 76"/>
            <p:cNvSpPr/>
            <p:nvPr/>
          </p:nvSpPr>
          <p:spPr>
            <a:xfrm rot="711000">
              <a:off x="6928200" y="5364000"/>
              <a:ext cx="74880" cy="597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74804" h="59943">
                  <a:moveTo>
                    <a:pt x="0" y="46480"/>
                  </a:moveTo>
                  <a:lnTo>
                    <a:pt x="16764" y="35051"/>
                  </a:lnTo>
                  <a:lnTo>
                    <a:pt x="33401" y="22605"/>
                  </a:lnTo>
                  <a:lnTo>
                    <a:pt x="51180" y="10414"/>
                  </a:lnTo>
                  <a:lnTo>
                    <a:pt x="60705" y="4952"/>
                  </a:lnTo>
                  <a:lnTo>
                    <a:pt x="70993" y="0"/>
                  </a:lnTo>
                  <a:lnTo>
                    <a:pt x="74803" y="11176"/>
                  </a:lnTo>
                  <a:lnTo>
                    <a:pt x="67564" y="16764"/>
                  </a:lnTo>
                  <a:lnTo>
                    <a:pt x="59563" y="22859"/>
                  </a:lnTo>
                  <a:lnTo>
                    <a:pt x="41908" y="35687"/>
                  </a:lnTo>
                  <a:lnTo>
                    <a:pt x="23748" y="48514"/>
                  </a:lnTo>
                  <a:lnTo>
                    <a:pt x="15240" y="54480"/>
                  </a:lnTo>
                  <a:lnTo>
                    <a:pt x="7366" y="59942"/>
                  </a:lnTo>
                  <a:lnTo>
                    <a:pt x="5842" y="56642"/>
                  </a:lnTo>
                  <a:lnTo>
                    <a:pt x="3937" y="53592"/>
                  </a:lnTo>
                  <a:lnTo>
                    <a:pt x="2031" y="50543"/>
                  </a:lnTo>
                  <a:lnTo>
                    <a:pt x="0" y="464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: Shape 77"/>
            <p:cNvSpPr/>
            <p:nvPr/>
          </p:nvSpPr>
          <p:spPr>
            <a:xfrm rot="711000">
              <a:off x="6945840" y="5391000"/>
              <a:ext cx="73440" cy="50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2265" h="50801">
                  <a:moveTo>
                    <a:pt x="72264" y="11683"/>
                  </a:moveTo>
                  <a:lnTo>
                    <a:pt x="65914" y="14858"/>
                  </a:lnTo>
                  <a:lnTo>
                    <a:pt x="58294" y="19304"/>
                  </a:lnTo>
                  <a:lnTo>
                    <a:pt x="49910" y="24764"/>
                  </a:lnTo>
                  <a:lnTo>
                    <a:pt x="41022" y="30605"/>
                  </a:lnTo>
                  <a:lnTo>
                    <a:pt x="22606" y="42290"/>
                  </a:lnTo>
                  <a:lnTo>
                    <a:pt x="13717" y="47117"/>
                  </a:lnTo>
                  <a:lnTo>
                    <a:pt x="5460" y="50800"/>
                  </a:lnTo>
                  <a:lnTo>
                    <a:pt x="0" y="43179"/>
                  </a:lnTo>
                  <a:lnTo>
                    <a:pt x="5716" y="38479"/>
                  </a:lnTo>
                  <a:lnTo>
                    <a:pt x="12955" y="33020"/>
                  </a:lnTo>
                  <a:lnTo>
                    <a:pt x="21208" y="27177"/>
                  </a:lnTo>
                  <a:lnTo>
                    <a:pt x="30354" y="21080"/>
                  </a:lnTo>
                  <a:lnTo>
                    <a:pt x="49404" y="9271"/>
                  </a:lnTo>
                  <a:lnTo>
                    <a:pt x="58421" y="4190"/>
                  </a:lnTo>
                  <a:lnTo>
                    <a:pt x="66675" y="0"/>
                  </a:lnTo>
                  <a:lnTo>
                    <a:pt x="69343" y="2030"/>
                  </a:lnTo>
                  <a:lnTo>
                    <a:pt x="70612" y="4826"/>
                  </a:lnTo>
                  <a:lnTo>
                    <a:pt x="72264" y="1168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: Shape 78"/>
            <p:cNvSpPr/>
            <p:nvPr/>
          </p:nvSpPr>
          <p:spPr>
            <a:xfrm rot="711000">
              <a:off x="6958800" y="5419440"/>
              <a:ext cx="76680" cy="489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6964" h="50039">
                  <a:moveTo>
                    <a:pt x="0" y="39751"/>
                  </a:moveTo>
                  <a:lnTo>
                    <a:pt x="5716" y="36449"/>
                  </a:lnTo>
                  <a:lnTo>
                    <a:pt x="12700" y="32003"/>
                  </a:lnTo>
                  <a:lnTo>
                    <a:pt x="20829" y="26796"/>
                  </a:lnTo>
                  <a:lnTo>
                    <a:pt x="29846" y="21082"/>
                  </a:lnTo>
                  <a:lnTo>
                    <a:pt x="49276" y="9525"/>
                  </a:lnTo>
                  <a:lnTo>
                    <a:pt x="59563" y="4443"/>
                  </a:lnTo>
                  <a:lnTo>
                    <a:pt x="69597" y="0"/>
                  </a:lnTo>
                  <a:lnTo>
                    <a:pt x="76963" y="10033"/>
                  </a:lnTo>
                  <a:lnTo>
                    <a:pt x="59563" y="19558"/>
                  </a:lnTo>
                  <a:lnTo>
                    <a:pt x="41911" y="29971"/>
                  </a:lnTo>
                  <a:lnTo>
                    <a:pt x="24259" y="40259"/>
                  </a:lnTo>
                  <a:lnTo>
                    <a:pt x="7113" y="50038"/>
                  </a:lnTo>
                  <a:lnTo>
                    <a:pt x="0" y="397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: Shape 79"/>
            <p:cNvSpPr/>
            <p:nvPr/>
          </p:nvSpPr>
          <p:spPr>
            <a:xfrm rot="711000">
              <a:off x="6975000" y="5452920"/>
              <a:ext cx="70200" cy="45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0231" h="45719">
                  <a:moveTo>
                    <a:pt x="63500" y="0"/>
                  </a:moveTo>
                  <a:lnTo>
                    <a:pt x="70230" y="8506"/>
                  </a:lnTo>
                  <a:lnTo>
                    <a:pt x="65024" y="12065"/>
                  </a:lnTo>
                  <a:lnTo>
                    <a:pt x="57912" y="16637"/>
                  </a:lnTo>
                  <a:lnTo>
                    <a:pt x="49530" y="21843"/>
                  </a:lnTo>
                  <a:lnTo>
                    <a:pt x="40386" y="27431"/>
                  </a:lnTo>
                  <a:lnTo>
                    <a:pt x="21843" y="38100"/>
                  </a:lnTo>
                  <a:lnTo>
                    <a:pt x="13335" y="42543"/>
                  </a:lnTo>
                  <a:lnTo>
                    <a:pt x="6350" y="45718"/>
                  </a:lnTo>
                  <a:lnTo>
                    <a:pt x="0" y="36576"/>
                  </a:lnTo>
                  <a:lnTo>
                    <a:pt x="6985" y="32003"/>
                  </a:lnTo>
                  <a:lnTo>
                    <a:pt x="15493" y="26924"/>
                  </a:lnTo>
                  <a:lnTo>
                    <a:pt x="34036" y="16255"/>
                  </a:lnTo>
                  <a:lnTo>
                    <a:pt x="43180" y="11049"/>
                  </a:lnTo>
                  <a:lnTo>
                    <a:pt x="51308" y="6477"/>
                  </a:lnTo>
                  <a:lnTo>
                    <a:pt x="58292" y="2793"/>
                  </a:lnTo>
                  <a:lnTo>
                    <a:pt x="63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: Shape 80"/>
            <p:cNvSpPr/>
            <p:nvPr/>
          </p:nvSpPr>
          <p:spPr>
            <a:xfrm rot="711000">
              <a:off x="6995880" y="5486040"/>
              <a:ext cx="63720" cy="41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3121" h="40767">
                  <a:moveTo>
                    <a:pt x="0" y="32640"/>
                  </a:moveTo>
                  <a:lnTo>
                    <a:pt x="28956" y="15240"/>
                  </a:lnTo>
                  <a:lnTo>
                    <a:pt x="-21976" y="7112"/>
                  </a:lnTo>
                  <a:lnTo>
                    <a:pt x="-6607" y="0"/>
                  </a:lnTo>
                  <a:lnTo>
                    <a:pt x="-2416" y="12065"/>
                  </a:lnTo>
                  <a:lnTo>
                    <a:pt x="-8386" y="14732"/>
                  </a:lnTo>
                  <a:lnTo>
                    <a:pt x="-15243" y="17907"/>
                  </a:lnTo>
                  <a:lnTo>
                    <a:pt x="-30356" y="25400"/>
                  </a:lnTo>
                  <a:lnTo>
                    <a:pt x="20702" y="-32262"/>
                  </a:lnTo>
                  <a:lnTo>
                    <a:pt x="14352" y="-28324"/>
                  </a:lnTo>
                  <a:lnTo>
                    <a:pt x="9272" y="-24770"/>
                  </a:lnTo>
                  <a:lnTo>
                    <a:pt x="6097" y="-26421"/>
                  </a:lnTo>
                  <a:lnTo>
                    <a:pt x="3683" y="-28071"/>
                  </a:lnTo>
                  <a:lnTo>
                    <a:pt x="0" y="326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: Shape 81"/>
            <p:cNvSpPr/>
            <p:nvPr/>
          </p:nvSpPr>
          <p:spPr>
            <a:xfrm rot="711000">
              <a:off x="6624720" y="5507640"/>
              <a:ext cx="102240" cy="1058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02363" h="105918">
                  <a:moveTo>
                    <a:pt x="94868" y="505"/>
                  </a:moveTo>
                  <a:lnTo>
                    <a:pt x="98170" y="0"/>
                  </a:lnTo>
                  <a:lnTo>
                    <a:pt x="100456" y="126"/>
                  </a:lnTo>
                  <a:lnTo>
                    <a:pt x="101727" y="1015"/>
                  </a:lnTo>
                  <a:lnTo>
                    <a:pt x="102362" y="2413"/>
                  </a:lnTo>
                  <a:lnTo>
                    <a:pt x="102362" y="6730"/>
                  </a:lnTo>
                  <a:lnTo>
                    <a:pt x="102235" y="11683"/>
                  </a:lnTo>
                  <a:lnTo>
                    <a:pt x="92710" y="20446"/>
                  </a:lnTo>
                  <a:lnTo>
                    <a:pt x="83819" y="27939"/>
                  </a:lnTo>
                  <a:lnTo>
                    <a:pt x="67310" y="41780"/>
                  </a:lnTo>
                  <a:lnTo>
                    <a:pt x="51054" y="55752"/>
                  </a:lnTo>
                  <a:lnTo>
                    <a:pt x="42418" y="63626"/>
                  </a:lnTo>
                  <a:lnTo>
                    <a:pt x="33147" y="72642"/>
                  </a:lnTo>
                  <a:lnTo>
                    <a:pt x="0" y="105917"/>
                  </a:lnTo>
                  <a:lnTo>
                    <a:pt x="8890" y="88392"/>
                  </a:lnTo>
                  <a:lnTo>
                    <a:pt x="19050" y="72008"/>
                  </a:lnTo>
                  <a:lnTo>
                    <a:pt x="30226" y="56767"/>
                  </a:lnTo>
                  <a:lnTo>
                    <a:pt x="42291" y="42543"/>
                  </a:lnTo>
                  <a:lnTo>
                    <a:pt x="54991" y="29843"/>
                  </a:lnTo>
                  <a:lnTo>
                    <a:pt x="68072" y="18542"/>
                  </a:lnTo>
                  <a:lnTo>
                    <a:pt x="81406" y="8763"/>
                  </a:lnTo>
                  <a:lnTo>
                    <a:pt x="94868" y="50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: Shape 82"/>
            <p:cNvSpPr/>
            <p:nvPr/>
          </p:nvSpPr>
          <p:spPr>
            <a:xfrm rot="711000">
              <a:off x="6618600" y="549936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4758" h="228474">
                  <a:moveTo>
                    <a:pt x="136143" y="0"/>
                  </a:moveTo>
                  <a:lnTo>
                    <a:pt x="150620" y="1016"/>
                  </a:lnTo>
                  <a:lnTo>
                    <a:pt x="163448" y="3682"/>
                  </a:lnTo>
                  <a:lnTo>
                    <a:pt x="174625" y="8000"/>
                  </a:lnTo>
                  <a:lnTo>
                    <a:pt x="184531" y="13462"/>
                  </a:lnTo>
                  <a:lnTo>
                    <a:pt x="193167" y="20066"/>
                  </a:lnTo>
                  <a:lnTo>
                    <a:pt x="201041" y="27686"/>
                  </a:lnTo>
                  <a:lnTo>
                    <a:pt x="208153" y="35941"/>
                  </a:lnTo>
                  <a:lnTo>
                    <a:pt x="214757" y="44957"/>
                  </a:lnTo>
                  <a:lnTo>
                    <a:pt x="213994" y="54991"/>
                  </a:lnTo>
                  <a:lnTo>
                    <a:pt x="211707" y="64388"/>
                  </a:lnTo>
                  <a:lnTo>
                    <a:pt x="208280" y="73151"/>
                  </a:lnTo>
                  <a:lnTo>
                    <a:pt x="203961" y="81153"/>
                  </a:lnTo>
                  <a:lnTo>
                    <a:pt x="198882" y="88264"/>
                  </a:lnTo>
                  <a:lnTo>
                    <a:pt x="193167" y="94614"/>
                  </a:lnTo>
                  <a:lnTo>
                    <a:pt x="187196" y="100203"/>
                  </a:lnTo>
                  <a:lnTo>
                    <a:pt x="180975" y="104775"/>
                  </a:lnTo>
                  <a:lnTo>
                    <a:pt x="169544" y="112395"/>
                  </a:lnTo>
                  <a:lnTo>
                    <a:pt x="157607" y="119378"/>
                  </a:lnTo>
                  <a:lnTo>
                    <a:pt x="132842" y="132204"/>
                  </a:lnTo>
                  <a:lnTo>
                    <a:pt x="107821" y="144272"/>
                  </a:lnTo>
                  <a:lnTo>
                    <a:pt x="83311" y="156718"/>
                  </a:lnTo>
                  <a:lnTo>
                    <a:pt x="59817" y="170304"/>
                  </a:lnTo>
                  <a:lnTo>
                    <a:pt x="48894" y="177926"/>
                  </a:lnTo>
                  <a:lnTo>
                    <a:pt x="38481" y="186179"/>
                  </a:lnTo>
                  <a:lnTo>
                    <a:pt x="28829" y="195199"/>
                  </a:lnTo>
                  <a:lnTo>
                    <a:pt x="19939" y="205103"/>
                  </a:lnTo>
                  <a:lnTo>
                    <a:pt x="11938" y="216279"/>
                  </a:lnTo>
                  <a:lnTo>
                    <a:pt x="5080" y="228473"/>
                  </a:lnTo>
                  <a:lnTo>
                    <a:pt x="2793" y="218821"/>
                  </a:lnTo>
                  <a:lnTo>
                    <a:pt x="1395" y="209676"/>
                  </a:lnTo>
                  <a:lnTo>
                    <a:pt x="0" y="192278"/>
                  </a:lnTo>
                  <a:lnTo>
                    <a:pt x="1143" y="175895"/>
                  </a:lnTo>
                  <a:lnTo>
                    <a:pt x="4064" y="160653"/>
                  </a:lnTo>
                  <a:lnTo>
                    <a:pt x="8763" y="146429"/>
                  </a:lnTo>
                  <a:lnTo>
                    <a:pt x="15113" y="133096"/>
                  </a:lnTo>
                  <a:lnTo>
                    <a:pt x="22858" y="120523"/>
                  </a:lnTo>
                  <a:lnTo>
                    <a:pt x="31750" y="108838"/>
                  </a:lnTo>
                  <a:lnTo>
                    <a:pt x="41529" y="97662"/>
                  </a:lnTo>
                  <a:lnTo>
                    <a:pt x="51943" y="87122"/>
                  </a:lnTo>
                  <a:lnTo>
                    <a:pt x="74168" y="67182"/>
                  </a:lnTo>
                  <a:lnTo>
                    <a:pt x="96519" y="48387"/>
                  </a:lnTo>
                  <a:lnTo>
                    <a:pt x="117475" y="29845"/>
                  </a:lnTo>
                  <a:lnTo>
                    <a:pt x="129285" y="33020"/>
                  </a:lnTo>
                  <a:lnTo>
                    <a:pt x="139954" y="37464"/>
                  </a:lnTo>
                  <a:lnTo>
                    <a:pt x="141095" y="43814"/>
                  </a:lnTo>
                  <a:lnTo>
                    <a:pt x="140716" y="49784"/>
                  </a:lnTo>
                  <a:lnTo>
                    <a:pt x="139192" y="55245"/>
                  </a:lnTo>
                  <a:lnTo>
                    <a:pt x="137033" y="60198"/>
                  </a:lnTo>
                  <a:lnTo>
                    <a:pt x="135128" y="64770"/>
                  </a:lnTo>
                  <a:lnTo>
                    <a:pt x="133858" y="68578"/>
                  </a:lnTo>
                  <a:lnTo>
                    <a:pt x="133983" y="72136"/>
                  </a:lnTo>
                  <a:lnTo>
                    <a:pt x="136143" y="74803"/>
                  </a:lnTo>
                  <a:lnTo>
                    <a:pt x="141095" y="67818"/>
                  </a:lnTo>
                  <a:lnTo>
                    <a:pt x="146683" y="61213"/>
                  </a:lnTo>
                  <a:lnTo>
                    <a:pt x="151765" y="53975"/>
                  </a:lnTo>
                  <a:lnTo>
                    <a:pt x="153669" y="49654"/>
                  </a:lnTo>
                  <a:lnTo>
                    <a:pt x="154813" y="44957"/>
                  </a:lnTo>
                  <a:lnTo>
                    <a:pt x="149352" y="37464"/>
                  </a:lnTo>
                  <a:lnTo>
                    <a:pt x="144526" y="28954"/>
                  </a:lnTo>
                  <a:lnTo>
                    <a:pt x="139318" y="21079"/>
                  </a:lnTo>
                  <a:lnTo>
                    <a:pt x="136143" y="17653"/>
                  </a:lnTo>
                  <a:lnTo>
                    <a:pt x="132332" y="14986"/>
                  </a:lnTo>
                  <a:lnTo>
                    <a:pt x="131826" y="11937"/>
                  </a:lnTo>
                  <a:lnTo>
                    <a:pt x="131826" y="9525"/>
                  </a:lnTo>
                  <a:lnTo>
                    <a:pt x="132842" y="5969"/>
                  </a:lnTo>
                  <a:lnTo>
                    <a:pt x="134619" y="3175"/>
                  </a:lnTo>
                  <a:lnTo>
                    <a:pt x="13614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: Shape 83"/>
            <p:cNvSpPr/>
            <p:nvPr/>
          </p:nvSpPr>
          <p:spPr>
            <a:xfrm rot="711000">
              <a:off x="6483960" y="5808960"/>
              <a:ext cx="106920" cy="2336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06556" h="235587">
                  <a:moveTo>
                    <a:pt x="39118" y="0"/>
                  </a:moveTo>
                  <a:lnTo>
                    <a:pt x="52324" y="18035"/>
                  </a:lnTo>
                  <a:lnTo>
                    <a:pt x="64009" y="36703"/>
                  </a:lnTo>
                  <a:lnTo>
                    <a:pt x="74296" y="56388"/>
                  </a:lnTo>
                  <a:lnTo>
                    <a:pt x="83186" y="77217"/>
                  </a:lnTo>
                  <a:lnTo>
                    <a:pt x="90933" y="99442"/>
                  </a:lnTo>
                  <a:lnTo>
                    <a:pt x="97283" y="123063"/>
                  </a:lnTo>
                  <a:lnTo>
                    <a:pt x="102362" y="148591"/>
                  </a:lnTo>
                  <a:lnTo>
                    <a:pt x="106555" y="176023"/>
                  </a:lnTo>
                  <a:lnTo>
                    <a:pt x="104649" y="182246"/>
                  </a:lnTo>
                  <a:lnTo>
                    <a:pt x="102236" y="188596"/>
                  </a:lnTo>
                  <a:lnTo>
                    <a:pt x="95124" y="201296"/>
                  </a:lnTo>
                  <a:lnTo>
                    <a:pt x="85599" y="213234"/>
                  </a:lnTo>
                  <a:lnTo>
                    <a:pt x="80137" y="218695"/>
                  </a:lnTo>
                  <a:lnTo>
                    <a:pt x="74043" y="223521"/>
                  </a:lnTo>
                  <a:lnTo>
                    <a:pt x="67820" y="227712"/>
                  </a:lnTo>
                  <a:lnTo>
                    <a:pt x="61087" y="231141"/>
                  </a:lnTo>
                  <a:lnTo>
                    <a:pt x="54103" y="233679"/>
                  </a:lnTo>
                  <a:lnTo>
                    <a:pt x="46863" y="235203"/>
                  </a:lnTo>
                  <a:lnTo>
                    <a:pt x="39371" y="235586"/>
                  </a:lnTo>
                  <a:lnTo>
                    <a:pt x="31878" y="234570"/>
                  </a:lnTo>
                  <a:lnTo>
                    <a:pt x="24258" y="232284"/>
                  </a:lnTo>
                  <a:lnTo>
                    <a:pt x="16637" y="228474"/>
                  </a:lnTo>
                  <a:lnTo>
                    <a:pt x="7748" y="215266"/>
                  </a:lnTo>
                  <a:lnTo>
                    <a:pt x="2542" y="202057"/>
                  </a:lnTo>
                  <a:lnTo>
                    <a:pt x="0" y="188723"/>
                  </a:lnTo>
                  <a:lnTo>
                    <a:pt x="128" y="175514"/>
                  </a:lnTo>
                  <a:lnTo>
                    <a:pt x="2286" y="162178"/>
                  </a:lnTo>
                  <a:lnTo>
                    <a:pt x="6097" y="148845"/>
                  </a:lnTo>
                  <a:lnTo>
                    <a:pt x="11049" y="135254"/>
                  </a:lnTo>
                  <a:lnTo>
                    <a:pt x="16893" y="121539"/>
                  </a:lnTo>
                  <a:lnTo>
                    <a:pt x="29084" y="93219"/>
                  </a:lnTo>
                  <a:lnTo>
                    <a:pt x="34546" y="78741"/>
                  </a:lnTo>
                  <a:lnTo>
                    <a:pt x="39245" y="63879"/>
                  </a:lnTo>
                  <a:lnTo>
                    <a:pt x="42293" y="48514"/>
                  </a:lnTo>
                  <a:lnTo>
                    <a:pt x="43688" y="32767"/>
                  </a:lnTo>
                  <a:lnTo>
                    <a:pt x="42799" y="16637"/>
                  </a:lnTo>
                  <a:lnTo>
                    <a:pt x="67565" y="99950"/>
                  </a:lnTo>
                  <a:lnTo>
                    <a:pt x="70740" y="107570"/>
                  </a:lnTo>
                  <a:lnTo>
                    <a:pt x="73407" y="117475"/>
                  </a:lnTo>
                  <a:lnTo>
                    <a:pt x="75567" y="129032"/>
                  </a:lnTo>
                  <a:lnTo>
                    <a:pt x="76709" y="141987"/>
                  </a:lnTo>
                  <a:lnTo>
                    <a:pt x="76582" y="156084"/>
                  </a:lnTo>
                  <a:lnTo>
                    <a:pt x="75058" y="170943"/>
                  </a:lnTo>
                  <a:lnTo>
                    <a:pt x="71883" y="186310"/>
                  </a:lnTo>
                  <a:lnTo>
                    <a:pt x="64771" y="193168"/>
                  </a:lnTo>
                  <a:lnTo>
                    <a:pt x="59057" y="198248"/>
                  </a:lnTo>
                  <a:lnTo>
                    <a:pt x="54231" y="201550"/>
                  </a:lnTo>
                  <a:lnTo>
                    <a:pt x="50294" y="202820"/>
                  </a:lnTo>
                  <a:lnTo>
                    <a:pt x="46863" y="202185"/>
                  </a:lnTo>
                  <a:lnTo>
                    <a:pt x="43944" y="199518"/>
                  </a:lnTo>
                  <a:lnTo>
                    <a:pt x="41022" y="194946"/>
                  </a:lnTo>
                  <a:lnTo>
                    <a:pt x="38100" y="188214"/>
                  </a:lnTo>
                  <a:lnTo>
                    <a:pt x="40896" y="177293"/>
                  </a:lnTo>
                  <a:lnTo>
                    <a:pt x="44706" y="167004"/>
                  </a:lnTo>
                  <a:lnTo>
                    <a:pt x="53596" y="146178"/>
                  </a:lnTo>
                  <a:lnTo>
                    <a:pt x="57786" y="135128"/>
                  </a:lnTo>
                  <a:lnTo>
                    <a:pt x="61215" y="123063"/>
                  </a:lnTo>
                  <a:lnTo>
                    <a:pt x="63628" y="109728"/>
                  </a:lnTo>
                  <a:lnTo>
                    <a:pt x="64390" y="94488"/>
                  </a:lnTo>
                  <a:lnTo>
                    <a:pt x="39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: Shape 84"/>
            <p:cNvSpPr/>
            <p:nvPr/>
          </p:nvSpPr>
          <p:spPr>
            <a:xfrm rot="711000">
              <a:off x="6494760" y="5856120"/>
              <a:ext cx="83160" cy="1656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3822" h="167387">
                  <a:moveTo>
                    <a:pt x="56517" y="17145"/>
                  </a:moveTo>
                  <a:lnTo>
                    <a:pt x="65280" y="35560"/>
                  </a:lnTo>
                  <a:lnTo>
                    <a:pt x="73025" y="54864"/>
                  </a:lnTo>
                  <a:lnTo>
                    <a:pt x="79248" y="74549"/>
                  </a:lnTo>
                  <a:lnTo>
                    <a:pt x="83059" y="94107"/>
                  </a:lnTo>
                  <a:lnTo>
                    <a:pt x="83821" y="103632"/>
                  </a:lnTo>
                  <a:lnTo>
                    <a:pt x="83694" y="113029"/>
                  </a:lnTo>
                  <a:lnTo>
                    <a:pt x="82679" y="122174"/>
                  </a:lnTo>
                  <a:lnTo>
                    <a:pt x="80519" y="130937"/>
                  </a:lnTo>
                  <a:lnTo>
                    <a:pt x="77218" y="139446"/>
                  </a:lnTo>
                  <a:lnTo>
                    <a:pt x="72645" y="147320"/>
                  </a:lnTo>
                  <a:lnTo>
                    <a:pt x="67437" y="153416"/>
                  </a:lnTo>
                  <a:lnTo>
                    <a:pt x="60454" y="158623"/>
                  </a:lnTo>
                  <a:lnTo>
                    <a:pt x="52452" y="163067"/>
                  </a:lnTo>
                  <a:lnTo>
                    <a:pt x="43689" y="165862"/>
                  </a:lnTo>
                  <a:lnTo>
                    <a:pt x="34925" y="167386"/>
                  </a:lnTo>
                  <a:lnTo>
                    <a:pt x="26418" y="167259"/>
                  </a:lnTo>
                  <a:lnTo>
                    <a:pt x="18797" y="165100"/>
                  </a:lnTo>
                  <a:lnTo>
                    <a:pt x="15495" y="163322"/>
                  </a:lnTo>
                  <a:lnTo>
                    <a:pt x="12447" y="160909"/>
                  </a:lnTo>
                  <a:lnTo>
                    <a:pt x="6350" y="153035"/>
                  </a:lnTo>
                  <a:lnTo>
                    <a:pt x="2414" y="144272"/>
                  </a:lnTo>
                  <a:lnTo>
                    <a:pt x="383" y="134747"/>
                  </a:lnTo>
                  <a:lnTo>
                    <a:pt x="0" y="124587"/>
                  </a:lnTo>
                  <a:lnTo>
                    <a:pt x="1144" y="113665"/>
                  </a:lnTo>
                  <a:lnTo>
                    <a:pt x="3558" y="102616"/>
                  </a:lnTo>
                  <a:lnTo>
                    <a:pt x="6986" y="91059"/>
                  </a:lnTo>
                  <a:lnTo>
                    <a:pt x="11305" y="79628"/>
                  </a:lnTo>
                  <a:lnTo>
                    <a:pt x="21336" y="56641"/>
                  </a:lnTo>
                  <a:lnTo>
                    <a:pt x="32006" y="35052"/>
                  </a:lnTo>
                  <a:lnTo>
                    <a:pt x="36958" y="25019"/>
                  </a:lnTo>
                  <a:lnTo>
                    <a:pt x="41404" y="15748"/>
                  </a:lnTo>
                  <a:lnTo>
                    <a:pt x="45086" y="7366"/>
                  </a:lnTo>
                  <a:lnTo>
                    <a:pt x="47754" y="0"/>
                  </a:lnTo>
                  <a:lnTo>
                    <a:pt x="56517" y="1714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: Shape 85"/>
            <p:cNvSpPr/>
            <p:nvPr/>
          </p:nvSpPr>
          <p:spPr>
            <a:xfrm rot="711000">
              <a:off x="6515640" y="5888160"/>
              <a:ext cx="31680" cy="97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2006" h="98169">
                  <a:moveTo>
                    <a:pt x="24510" y="10793"/>
                  </a:moveTo>
                  <a:lnTo>
                    <a:pt x="26290" y="20318"/>
                  </a:lnTo>
                  <a:lnTo>
                    <a:pt x="27813" y="28828"/>
                  </a:lnTo>
                  <a:lnTo>
                    <a:pt x="29209" y="36449"/>
                  </a:lnTo>
                  <a:lnTo>
                    <a:pt x="30227" y="43179"/>
                  </a:lnTo>
                  <a:lnTo>
                    <a:pt x="31116" y="49276"/>
                  </a:lnTo>
                  <a:lnTo>
                    <a:pt x="32005" y="59563"/>
                  </a:lnTo>
                  <a:lnTo>
                    <a:pt x="31496" y="68326"/>
                  </a:lnTo>
                  <a:lnTo>
                    <a:pt x="29592" y="76326"/>
                  </a:lnTo>
                  <a:lnTo>
                    <a:pt x="26034" y="84454"/>
                  </a:lnTo>
                  <a:lnTo>
                    <a:pt x="20573" y="93343"/>
                  </a:lnTo>
                  <a:lnTo>
                    <a:pt x="18669" y="95630"/>
                  </a:lnTo>
                  <a:lnTo>
                    <a:pt x="16257" y="97408"/>
                  </a:lnTo>
                  <a:lnTo>
                    <a:pt x="13590" y="98168"/>
                  </a:lnTo>
                  <a:lnTo>
                    <a:pt x="11304" y="97536"/>
                  </a:lnTo>
                  <a:lnTo>
                    <a:pt x="6984" y="93726"/>
                  </a:lnTo>
                  <a:lnTo>
                    <a:pt x="3683" y="89280"/>
                  </a:lnTo>
                  <a:lnTo>
                    <a:pt x="1523" y="84580"/>
                  </a:lnTo>
                  <a:lnTo>
                    <a:pt x="382" y="79375"/>
                  </a:lnTo>
                  <a:lnTo>
                    <a:pt x="0" y="73659"/>
                  </a:lnTo>
                  <a:lnTo>
                    <a:pt x="255" y="67817"/>
                  </a:lnTo>
                  <a:lnTo>
                    <a:pt x="2794" y="55117"/>
                  </a:lnTo>
                  <a:lnTo>
                    <a:pt x="7112" y="41780"/>
                  </a:lnTo>
                  <a:lnTo>
                    <a:pt x="12319" y="27939"/>
                  </a:lnTo>
                  <a:lnTo>
                    <a:pt x="17781" y="13842"/>
                  </a:lnTo>
                  <a:lnTo>
                    <a:pt x="22607" y="0"/>
                  </a:lnTo>
                  <a:lnTo>
                    <a:pt x="24510" y="1079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100"/>
          <p:cNvGrpSpPr/>
          <p:nvPr/>
        </p:nvGrpSpPr>
        <p:grpSpPr>
          <a:xfrm>
            <a:off x="1770120" y="2567160"/>
            <a:ext cx="1008000" cy="1009440"/>
            <a:chOff x="1770120" y="2567160"/>
            <a:chExt cx="1008000" cy="1009440"/>
          </a:xfrm>
        </p:grpSpPr>
        <p:sp>
          <p:nvSpPr>
            <p:cNvPr id="230" name="Oval 87"/>
            <p:cNvSpPr/>
            <p:nvPr/>
          </p:nvSpPr>
          <p:spPr>
            <a:xfrm>
              <a:off x="1770120" y="2567160"/>
              <a:ext cx="1008000" cy="1009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: Shape 88"/>
            <p:cNvSpPr/>
            <p:nvPr/>
          </p:nvSpPr>
          <p:spPr>
            <a:xfrm>
              <a:off x="2144880" y="2567160"/>
              <a:ext cx="342720" cy="101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42539" h="101236">
                  <a:moveTo>
                    <a:pt x="342538" y="63235"/>
                  </a:moveTo>
                  <a:lnTo>
                    <a:pt x="232111" y="101235"/>
                  </a:lnTo>
                  <a:lnTo>
                    <a:pt x="41371" y="73570"/>
                  </a:lnTo>
                  <a:lnTo>
                    <a:pt x="0" y="25232"/>
                  </a:lnTo>
                  <a:lnTo>
                    <a:pt x="81527" y="0"/>
                  </a:lnTo>
                  <a:lnTo>
                    <a:pt x="166706" y="0"/>
                  </a:lnTo>
                  <a:lnTo>
                    <a:pt x="264356" y="16113"/>
                  </a:lnTo>
                  <a:lnTo>
                    <a:pt x="342538" y="632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: Shape 89"/>
            <p:cNvSpPr/>
            <p:nvPr/>
          </p:nvSpPr>
          <p:spPr>
            <a:xfrm>
              <a:off x="2073240" y="2655720"/>
              <a:ext cx="363600" cy="284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63229" h="284858">
                  <a:moveTo>
                    <a:pt x="354101" y="129812"/>
                  </a:moveTo>
                  <a:lnTo>
                    <a:pt x="363228" y="171158"/>
                  </a:lnTo>
                  <a:lnTo>
                    <a:pt x="234546" y="284857"/>
                  </a:lnTo>
                  <a:lnTo>
                    <a:pt x="46849" y="241384"/>
                  </a:lnTo>
                  <a:lnTo>
                    <a:pt x="0" y="101236"/>
                  </a:lnTo>
                  <a:lnTo>
                    <a:pt x="100998" y="0"/>
                  </a:lnTo>
                  <a:lnTo>
                    <a:pt x="303299" y="21889"/>
                  </a:lnTo>
                  <a:lnTo>
                    <a:pt x="354101" y="1298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: Shape 90"/>
            <p:cNvSpPr/>
            <p:nvPr/>
          </p:nvSpPr>
          <p:spPr>
            <a:xfrm>
              <a:off x="1805040" y="2712960"/>
              <a:ext cx="123840" cy="209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4129" h="209163">
                  <a:moveTo>
                    <a:pt x="3348" y="209162"/>
                  </a:moveTo>
                  <a:lnTo>
                    <a:pt x="0" y="181497"/>
                  </a:lnTo>
                  <a:lnTo>
                    <a:pt x="43810" y="85124"/>
                  </a:lnTo>
                  <a:lnTo>
                    <a:pt x="98876" y="16112"/>
                  </a:lnTo>
                  <a:lnTo>
                    <a:pt x="124128" y="0"/>
                  </a:lnTo>
                  <a:lnTo>
                    <a:pt x="124128" y="25233"/>
                  </a:lnTo>
                  <a:lnTo>
                    <a:pt x="63281" y="113702"/>
                  </a:lnTo>
                  <a:lnTo>
                    <a:pt x="3348" y="209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: Shape 91"/>
            <p:cNvSpPr/>
            <p:nvPr/>
          </p:nvSpPr>
          <p:spPr>
            <a:xfrm>
              <a:off x="1817640" y="2735280"/>
              <a:ext cx="299880" cy="3585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01167" h="359643">
                  <a:moveTo>
                    <a:pt x="301166" y="171158"/>
                  </a:moveTo>
                  <a:lnTo>
                    <a:pt x="212641" y="340186"/>
                  </a:lnTo>
                  <a:lnTo>
                    <a:pt x="50499" y="359642"/>
                  </a:lnTo>
                  <a:lnTo>
                    <a:pt x="0" y="197605"/>
                  </a:lnTo>
                  <a:lnTo>
                    <a:pt x="53845" y="100931"/>
                  </a:lnTo>
                  <a:lnTo>
                    <a:pt x="121684" y="0"/>
                  </a:lnTo>
                  <a:lnTo>
                    <a:pt x="250667" y="27361"/>
                  </a:lnTo>
                  <a:lnTo>
                    <a:pt x="301166" y="1711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: Shape 92"/>
            <p:cNvSpPr/>
            <p:nvPr/>
          </p:nvSpPr>
          <p:spPr>
            <a:xfrm>
              <a:off x="2606760" y="2797200"/>
              <a:ext cx="153720" cy="353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53015" h="353883">
                  <a:moveTo>
                    <a:pt x="51715" y="0"/>
                  </a:moveTo>
                  <a:lnTo>
                    <a:pt x="121985" y="83910"/>
                  </a:lnTo>
                  <a:lnTo>
                    <a:pt x="147234" y="191837"/>
                  </a:lnTo>
                  <a:lnTo>
                    <a:pt x="153014" y="288517"/>
                  </a:lnTo>
                  <a:lnTo>
                    <a:pt x="109209" y="353882"/>
                  </a:lnTo>
                  <a:lnTo>
                    <a:pt x="24336" y="288517"/>
                  </a:lnTo>
                  <a:lnTo>
                    <a:pt x="0" y="107927"/>
                  </a:lnTo>
                  <a:lnTo>
                    <a:pt x="517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: Shape 93"/>
            <p:cNvSpPr/>
            <p:nvPr/>
          </p:nvSpPr>
          <p:spPr>
            <a:xfrm>
              <a:off x="2317680" y="2835360"/>
              <a:ext cx="304560" cy="382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304521" h="383664">
                  <a:moveTo>
                    <a:pt x="304520" y="259626"/>
                  </a:moveTo>
                  <a:lnTo>
                    <a:pt x="168841" y="383663"/>
                  </a:lnTo>
                  <a:lnTo>
                    <a:pt x="18253" y="291851"/>
                  </a:lnTo>
                  <a:lnTo>
                    <a:pt x="0" y="113701"/>
                  </a:lnTo>
                  <a:lnTo>
                    <a:pt x="127467" y="0"/>
                  </a:lnTo>
                  <a:lnTo>
                    <a:pt x="279269" y="69922"/>
                  </a:lnTo>
                  <a:lnTo>
                    <a:pt x="304520" y="2596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: Shape 94"/>
            <p:cNvSpPr/>
            <p:nvPr/>
          </p:nvSpPr>
          <p:spPr>
            <a:xfrm>
              <a:off x="1844640" y="3087720"/>
              <a:ext cx="301680" cy="3301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301472" h="331082">
                  <a:moveTo>
                    <a:pt x="18556" y="16113"/>
                  </a:moveTo>
                  <a:lnTo>
                    <a:pt x="185262" y="0"/>
                  </a:lnTo>
                  <a:lnTo>
                    <a:pt x="301471" y="136811"/>
                  </a:lnTo>
                  <a:lnTo>
                    <a:pt x="294473" y="307975"/>
                  </a:lnTo>
                  <a:lnTo>
                    <a:pt x="135676" y="331081"/>
                  </a:lnTo>
                  <a:lnTo>
                    <a:pt x="62362" y="274532"/>
                  </a:lnTo>
                  <a:lnTo>
                    <a:pt x="0" y="172381"/>
                  </a:lnTo>
                  <a:lnTo>
                    <a:pt x="18556" y="16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: Shape 95"/>
            <p:cNvSpPr/>
            <p:nvPr/>
          </p:nvSpPr>
          <p:spPr>
            <a:xfrm>
              <a:off x="2151000" y="3140280"/>
              <a:ext cx="322200" cy="3394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21858" h="340200">
                  <a:moveTo>
                    <a:pt x="321857" y="86039"/>
                  </a:moveTo>
                  <a:lnTo>
                    <a:pt x="319422" y="253856"/>
                  </a:lnTo>
                  <a:lnTo>
                    <a:pt x="150584" y="340199"/>
                  </a:lnTo>
                  <a:lnTo>
                    <a:pt x="0" y="257505"/>
                  </a:lnTo>
                  <a:lnTo>
                    <a:pt x="5475" y="80566"/>
                  </a:lnTo>
                  <a:lnTo>
                    <a:pt x="188307" y="0"/>
                  </a:lnTo>
                  <a:lnTo>
                    <a:pt x="321857" y="860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: Shape 96"/>
            <p:cNvSpPr/>
            <p:nvPr/>
          </p:nvSpPr>
          <p:spPr>
            <a:xfrm>
              <a:off x="1825560" y="3264120"/>
              <a:ext cx="150840" cy="185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49375" h="186051">
                  <a:moveTo>
                    <a:pt x="7910" y="0"/>
                  </a:moveTo>
                  <a:lnTo>
                    <a:pt x="67841" y="96674"/>
                  </a:lnTo>
                  <a:lnTo>
                    <a:pt x="141464" y="154129"/>
                  </a:lnTo>
                  <a:lnTo>
                    <a:pt x="149374" y="186050"/>
                  </a:lnTo>
                  <a:lnTo>
                    <a:pt x="127470" y="178146"/>
                  </a:lnTo>
                  <a:lnTo>
                    <a:pt x="62061" y="118259"/>
                  </a:lnTo>
                  <a:lnTo>
                    <a:pt x="16123" y="54113"/>
                  </a:lnTo>
                  <a:lnTo>
                    <a:pt x="0" y="24321"/>
                  </a:lnTo>
                  <a:lnTo>
                    <a:pt x="79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: Shape 97"/>
            <p:cNvSpPr/>
            <p:nvPr/>
          </p:nvSpPr>
          <p:spPr>
            <a:xfrm>
              <a:off x="2295720" y="3375000"/>
              <a:ext cx="301680" cy="169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01169" h="169942">
                  <a:moveTo>
                    <a:pt x="18253" y="116131"/>
                  </a:moveTo>
                  <a:lnTo>
                    <a:pt x="184959" y="32225"/>
                  </a:lnTo>
                  <a:lnTo>
                    <a:pt x="301168" y="0"/>
                  </a:lnTo>
                  <a:lnTo>
                    <a:pt x="301168" y="50466"/>
                  </a:lnTo>
                  <a:lnTo>
                    <a:pt x="266792" y="86034"/>
                  </a:lnTo>
                  <a:lnTo>
                    <a:pt x="175833" y="135589"/>
                  </a:lnTo>
                  <a:lnTo>
                    <a:pt x="116208" y="153829"/>
                  </a:lnTo>
                  <a:lnTo>
                    <a:pt x="59929" y="169941"/>
                  </a:lnTo>
                  <a:lnTo>
                    <a:pt x="0" y="164165"/>
                  </a:lnTo>
                  <a:lnTo>
                    <a:pt x="18253" y="116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: Shape 98"/>
            <p:cNvSpPr/>
            <p:nvPr/>
          </p:nvSpPr>
          <p:spPr>
            <a:xfrm>
              <a:off x="2481480" y="3094200"/>
              <a:ext cx="234720" cy="298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34546" h="298537">
                  <a:moveTo>
                    <a:pt x="234545" y="64145"/>
                  </a:moveTo>
                  <a:lnTo>
                    <a:pt x="226635" y="150484"/>
                  </a:lnTo>
                  <a:lnTo>
                    <a:pt x="123203" y="260839"/>
                  </a:lnTo>
                  <a:lnTo>
                    <a:pt x="0" y="298536"/>
                  </a:lnTo>
                  <a:lnTo>
                    <a:pt x="9430" y="134371"/>
                  </a:lnTo>
                  <a:lnTo>
                    <a:pt x="150584" y="0"/>
                  </a:lnTo>
                  <a:lnTo>
                    <a:pt x="234545" y="64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: Shape 99"/>
            <p:cNvSpPr/>
            <p:nvPr/>
          </p:nvSpPr>
          <p:spPr>
            <a:xfrm>
              <a:off x="1770120" y="2938680"/>
              <a:ext cx="80640" cy="312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80313" h="313746">
                  <a:moveTo>
                    <a:pt x="80312" y="156264"/>
                  </a:moveTo>
                  <a:lnTo>
                    <a:pt x="65406" y="313745"/>
                  </a:lnTo>
                  <a:lnTo>
                    <a:pt x="25250" y="277872"/>
                  </a:lnTo>
                  <a:lnTo>
                    <a:pt x="0" y="183626"/>
                  </a:lnTo>
                  <a:lnTo>
                    <a:pt x="0" y="62019"/>
                  </a:lnTo>
                  <a:lnTo>
                    <a:pt x="31030" y="0"/>
                  </a:lnTo>
                  <a:lnTo>
                    <a:pt x="80312" y="1562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114"/>
          <p:cNvGrpSpPr/>
          <p:nvPr/>
        </p:nvGrpSpPr>
        <p:grpSpPr>
          <a:xfrm>
            <a:off x="4537080" y="4826160"/>
            <a:ext cx="1008000" cy="1009440"/>
            <a:chOff x="4537080" y="4826160"/>
            <a:chExt cx="1008000" cy="1009440"/>
          </a:xfrm>
        </p:grpSpPr>
        <p:sp>
          <p:nvSpPr>
            <p:cNvPr id="244" name="Oval 101"/>
            <p:cNvSpPr/>
            <p:nvPr/>
          </p:nvSpPr>
          <p:spPr>
            <a:xfrm>
              <a:off x="4537080" y="4826160"/>
              <a:ext cx="1008000" cy="1009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: Shape 102"/>
            <p:cNvSpPr/>
            <p:nvPr/>
          </p:nvSpPr>
          <p:spPr>
            <a:xfrm>
              <a:off x="4911480" y="4826160"/>
              <a:ext cx="342720" cy="101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42539" h="101237">
                  <a:moveTo>
                    <a:pt x="342538" y="63235"/>
                  </a:moveTo>
                  <a:lnTo>
                    <a:pt x="232112" y="101236"/>
                  </a:lnTo>
                  <a:lnTo>
                    <a:pt x="41372" y="73570"/>
                  </a:lnTo>
                  <a:lnTo>
                    <a:pt x="0" y="25232"/>
                  </a:lnTo>
                  <a:lnTo>
                    <a:pt x="81528" y="0"/>
                  </a:lnTo>
                  <a:lnTo>
                    <a:pt x="166707" y="0"/>
                  </a:lnTo>
                  <a:lnTo>
                    <a:pt x="264358" y="16113"/>
                  </a:lnTo>
                  <a:lnTo>
                    <a:pt x="342538" y="632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: Shape 103"/>
            <p:cNvSpPr/>
            <p:nvPr/>
          </p:nvSpPr>
          <p:spPr>
            <a:xfrm>
              <a:off x="4840200" y="4914720"/>
              <a:ext cx="363600" cy="284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63229" h="284858">
                  <a:moveTo>
                    <a:pt x="354101" y="129812"/>
                  </a:moveTo>
                  <a:lnTo>
                    <a:pt x="363228" y="171158"/>
                  </a:lnTo>
                  <a:lnTo>
                    <a:pt x="234546" y="284857"/>
                  </a:lnTo>
                  <a:lnTo>
                    <a:pt x="46849" y="241384"/>
                  </a:lnTo>
                  <a:lnTo>
                    <a:pt x="0" y="101235"/>
                  </a:lnTo>
                  <a:lnTo>
                    <a:pt x="100998" y="0"/>
                  </a:lnTo>
                  <a:lnTo>
                    <a:pt x="303299" y="21888"/>
                  </a:lnTo>
                  <a:lnTo>
                    <a:pt x="354101" y="1298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: Shape 104"/>
            <p:cNvSpPr/>
            <p:nvPr/>
          </p:nvSpPr>
          <p:spPr>
            <a:xfrm>
              <a:off x="4572000" y="4971960"/>
              <a:ext cx="123840" cy="209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4129" h="209164">
                  <a:moveTo>
                    <a:pt x="3348" y="209163"/>
                  </a:moveTo>
                  <a:lnTo>
                    <a:pt x="0" y="181497"/>
                  </a:lnTo>
                  <a:lnTo>
                    <a:pt x="43810" y="85124"/>
                  </a:lnTo>
                  <a:lnTo>
                    <a:pt x="98876" y="16112"/>
                  </a:lnTo>
                  <a:lnTo>
                    <a:pt x="124128" y="0"/>
                  </a:lnTo>
                  <a:lnTo>
                    <a:pt x="124128" y="25233"/>
                  </a:lnTo>
                  <a:lnTo>
                    <a:pt x="63281" y="113702"/>
                  </a:lnTo>
                  <a:lnTo>
                    <a:pt x="3348" y="2091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: Shape 105"/>
            <p:cNvSpPr/>
            <p:nvPr/>
          </p:nvSpPr>
          <p:spPr>
            <a:xfrm>
              <a:off x="4584600" y="4994280"/>
              <a:ext cx="299880" cy="3585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01167" h="359644">
                  <a:moveTo>
                    <a:pt x="301166" y="171158"/>
                  </a:moveTo>
                  <a:lnTo>
                    <a:pt x="212641" y="340187"/>
                  </a:lnTo>
                  <a:lnTo>
                    <a:pt x="50499" y="359643"/>
                  </a:lnTo>
                  <a:lnTo>
                    <a:pt x="0" y="197605"/>
                  </a:lnTo>
                  <a:lnTo>
                    <a:pt x="53845" y="100930"/>
                  </a:lnTo>
                  <a:lnTo>
                    <a:pt x="121684" y="0"/>
                  </a:lnTo>
                  <a:lnTo>
                    <a:pt x="250667" y="27360"/>
                  </a:lnTo>
                  <a:lnTo>
                    <a:pt x="301166" y="1711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: Shape 106"/>
            <p:cNvSpPr/>
            <p:nvPr/>
          </p:nvSpPr>
          <p:spPr>
            <a:xfrm>
              <a:off x="5373720" y="5056200"/>
              <a:ext cx="153720" cy="353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53015" h="353883">
                  <a:moveTo>
                    <a:pt x="51715" y="0"/>
                  </a:moveTo>
                  <a:lnTo>
                    <a:pt x="121985" y="83910"/>
                  </a:lnTo>
                  <a:lnTo>
                    <a:pt x="147234" y="191837"/>
                  </a:lnTo>
                  <a:lnTo>
                    <a:pt x="153014" y="288517"/>
                  </a:lnTo>
                  <a:lnTo>
                    <a:pt x="109209" y="353882"/>
                  </a:lnTo>
                  <a:lnTo>
                    <a:pt x="24336" y="288517"/>
                  </a:lnTo>
                  <a:lnTo>
                    <a:pt x="0" y="107927"/>
                  </a:lnTo>
                  <a:lnTo>
                    <a:pt x="517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: Shape 107"/>
            <p:cNvSpPr/>
            <p:nvPr/>
          </p:nvSpPr>
          <p:spPr>
            <a:xfrm>
              <a:off x="5084640" y="5094360"/>
              <a:ext cx="304560" cy="382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304521" h="383664">
                  <a:moveTo>
                    <a:pt x="304520" y="259626"/>
                  </a:moveTo>
                  <a:lnTo>
                    <a:pt x="168841" y="383663"/>
                  </a:lnTo>
                  <a:lnTo>
                    <a:pt x="18253" y="291851"/>
                  </a:lnTo>
                  <a:lnTo>
                    <a:pt x="0" y="113699"/>
                  </a:lnTo>
                  <a:lnTo>
                    <a:pt x="127466" y="0"/>
                  </a:lnTo>
                  <a:lnTo>
                    <a:pt x="279269" y="69922"/>
                  </a:lnTo>
                  <a:lnTo>
                    <a:pt x="304520" y="2596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: Shape 108"/>
            <p:cNvSpPr/>
            <p:nvPr/>
          </p:nvSpPr>
          <p:spPr>
            <a:xfrm>
              <a:off x="4611600" y="5346720"/>
              <a:ext cx="301680" cy="3301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301472" h="331082">
                  <a:moveTo>
                    <a:pt x="18556" y="16114"/>
                  </a:moveTo>
                  <a:lnTo>
                    <a:pt x="185262" y="0"/>
                  </a:lnTo>
                  <a:lnTo>
                    <a:pt x="301471" y="136811"/>
                  </a:lnTo>
                  <a:lnTo>
                    <a:pt x="294473" y="307975"/>
                  </a:lnTo>
                  <a:lnTo>
                    <a:pt x="135676" y="331081"/>
                  </a:lnTo>
                  <a:lnTo>
                    <a:pt x="62362" y="274532"/>
                  </a:lnTo>
                  <a:lnTo>
                    <a:pt x="0" y="172380"/>
                  </a:lnTo>
                  <a:lnTo>
                    <a:pt x="18556" y="161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: Shape 109"/>
            <p:cNvSpPr/>
            <p:nvPr/>
          </p:nvSpPr>
          <p:spPr>
            <a:xfrm>
              <a:off x="4917960" y="5399280"/>
              <a:ext cx="322200" cy="3394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21857" h="340200">
                  <a:moveTo>
                    <a:pt x="321856" y="86037"/>
                  </a:moveTo>
                  <a:lnTo>
                    <a:pt x="319421" y="253856"/>
                  </a:lnTo>
                  <a:lnTo>
                    <a:pt x="150583" y="340199"/>
                  </a:lnTo>
                  <a:lnTo>
                    <a:pt x="0" y="257505"/>
                  </a:lnTo>
                  <a:lnTo>
                    <a:pt x="5474" y="80566"/>
                  </a:lnTo>
                  <a:lnTo>
                    <a:pt x="188306" y="0"/>
                  </a:lnTo>
                  <a:lnTo>
                    <a:pt x="321856" y="860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: Shape 110"/>
            <p:cNvSpPr/>
            <p:nvPr/>
          </p:nvSpPr>
          <p:spPr>
            <a:xfrm>
              <a:off x="4592520" y="5523120"/>
              <a:ext cx="150840" cy="185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49375" h="186050">
                  <a:moveTo>
                    <a:pt x="7909" y="0"/>
                  </a:moveTo>
                  <a:lnTo>
                    <a:pt x="67841" y="96672"/>
                  </a:lnTo>
                  <a:lnTo>
                    <a:pt x="141464" y="154128"/>
                  </a:lnTo>
                  <a:lnTo>
                    <a:pt x="149374" y="186049"/>
                  </a:lnTo>
                  <a:lnTo>
                    <a:pt x="127470" y="178144"/>
                  </a:lnTo>
                  <a:lnTo>
                    <a:pt x="62061" y="118257"/>
                  </a:lnTo>
                  <a:lnTo>
                    <a:pt x="16123" y="54112"/>
                  </a:lnTo>
                  <a:lnTo>
                    <a:pt x="0" y="24320"/>
                  </a:lnTo>
                  <a:lnTo>
                    <a:pt x="79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: Shape 111"/>
            <p:cNvSpPr/>
            <p:nvPr/>
          </p:nvSpPr>
          <p:spPr>
            <a:xfrm>
              <a:off x="5062680" y="5634000"/>
              <a:ext cx="301680" cy="169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01169" h="169942">
                  <a:moveTo>
                    <a:pt x="18252" y="116131"/>
                  </a:moveTo>
                  <a:lnTo>
                    <a:pt x="184959" y="32225"/>
                  </a:lnTo>
                  <a:lnTo>
                    <a:pt x="301168" y="0"/>
                  </a:lnTo>
                  <a:lnTo>
                    <a:pt x="301168" y="50466"/>
                  </a:lnTo>
                  <a:lnTo>
                    <a:pt x="266792" y="86034"/>
                  </a:lnTo>
                  <a:lnTo>
                    <a:pt x="175833" y="135589"/>
                  </a:lnTo>
                  <a:lnTo>
                    <a:pt x="116208" y="153829"/>
                  </a:lnTo>
                  <a:lnTo>
                    <a:pt x="59929" y="169941"/>
                  </a:lnTo>
                  <a:lnTo>
                    <a:pt x="0" y="164165"/>
                  </a:lnTo>
                  <a:lnTo>
                    <a:pt x="18252" y="116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: Shape 112"/>
            <p:cNvSpPr/>
            <p:nvPr/>
          </p:nvSpPr>
          <p:spPr>
            <a:xfrm>
              <a:off x="5248440" y="5353200"/>
              <a:ext cx="234720" cy="298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34546" h="298537">
                  <a:moveTo>
                    <a:pt x="234545" y="64145"/>
                  </a:moveTo>
                  <a:lnTo>
                    <a:pt x="226635" y="150484"/>
                  </a:lnTo>
                  <a:lnTo>
                    <a:pt x="123203" y="260839"/>
                  </a:lnTo>
                  <a:lnTo>
                    <a:pt x="0" y="298536"/>
                  </a:lnTo>
                  <a:lnTo>
                    <a:pt x="9430" y="134371"/>
                  </a:lnTo>
                  <a:lnTo>
                    <a:pt x="150584" y="0"/>
                  </a:lnTo>
                  <a:lnTo>
                    <a:pt x="234545" y="64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: Shape 113"/>
            <p:cNvSpPr/>
            <p:nvPr/>
          </p:nvSpPr>
          <p:spPr>
            <a:xfrm>
              <a:off x="4537080" y="5197680"/>
              <a:ext cx="80640" cy="312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80313" h="313746">
                  <a:moveTo>
                    <a:pt x="80312" y="156264"/>
                  </a:moveTo>
                  <a:lnTo>
                    <a:pt x="65406" y="313745"/>
                  </a:lnTo>
                  <a:lnTo>
                    <a:pt x="25250" y="277872"/>
                  </a:lnTo>
                  <a:lnTo>
                    <a:pt x="0" y="183626"/>
                  </a:lnTo>
                  <a:lnTo>
                    <a:pt x="0" y="62019"/>
                  </a:lnTo>
                  <a:lnTo>
                    <a:pt x="31030" y="0"/>
                  </a:lnTo>
                  <a:lnTo>
                    <a:pt x="80312" y="1562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121"/>
          <p:cNvGrpSpPr/>
          <p:nvPr/>
        </p:nvGrpSpPr>
        <p:grpSpPr>
          <a:xfrm>
            <a:off x="1212120" y="4652280"/>
            <a:ext cx="2012400" cy="1366920"/>
            <a:chOff x="1212120" y="4652280"/>
            <a:chExt cx="2012400" cy="1366920"/>
          </a:xfrm>
        </p:grpSpPr>
        <p:sp>
          <p:nvSpPr>
            <p:cNvPr id="258" name="Freeform: Shape 115"/>
            <p:cNvSpPr/>
            <p:nvPr/>
          </p:nvSpPr>
          <p:spPr>
            <a:xfrm rot="20412000">
              <a:off x="1327680" y="5122080"/>
              <a:ext cx="1851840" cy="587520"/>
            </a:xfrm>
            <a:custGeom>
              <a:avLst/>
              <a:gdLst>
                <a:gd name="textAreaLeft" fmla="*/ 0 w 1851840"/>
                <a:gd name="textAreaRight" fmla="*/ 1852200 w 1851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486536" h="485395">
                  <a:moveTo>
                    <a:pt x="8509" y="199771"/>
                  </a:moveTo>
                  <a:lnTo>
                    <a:pt x="19304" y="187833"/>
                  </a:lnTo>
                  <a:lnTo>
                    <a:pt x="32004" y="175006"/>
                  </a:lnTo>
                  <a:lnTo>
                    <a:pt x="46355" y="161544"/>
                  </a:lnTo>
                  <a:lnTo>
                    <a:pt x="62357" y="147320"/>
                  </a:lnTo>
                  <a:lnTo>
                    <a:pt x="79756" y="132715"/>
                  </a:lnTo>
                  <a:lnTo>
                    <a:pt x="98298" y="117983"/>
                  </a:lnTo>
                  <a:lnTo>
                    <a:pt x="117856" y="103124"/>
                  </a:lnTo>
                  <a:lnTo>
                    <a:pt x="158877" y="73660"/>
                  </a:lnTo>
                  <a:lnTo>
                    <a:pt x="201295" y="45720"/>
                  </a:lnTo>
                  <a:lnTo>
                    <a:pt x="222504" y="32893"/>
                  </a:lnTo>
                  <a:lnTo>
                    <a:pt x="243332" y="20828"/>
                  </a:lnTo>
                  <a:lnTo>
                    <a:pt x="264033" y="9779"/>
                  </a:lnTo>
                  <a:lnTo>
                    <a:pt x="283718" y="0"/>
                  </a:lnTo>
                  <a:lnTo>
                    <a:pt x="295656" y="5842"/>
                  </a:lnTo>
                  <a:lnTo>
                    <a:pt x="308483" y="12319"/>
                  </a:lnTo>
                  <a:lnTo>
                    <a:pt x="321818" y="19431"/>
                  </a:lnTo>
                  <a:lnTo>
                    <a:pt x="336042" y="27051"/>
                  </a:lnTo>
                  <a:lnTo>
                    <a:pt x="350901" y="35306"/>
                  </a:lnTo>
                  <a:lnTo>
                    <a:pt x="366141" y="43942"/>
                  </a:lnTo>
                  <a:lnTo>
                    <a:pt x="398272" y="62611"/>
                  </a:lnTo>
                  <a:lnTo>
                    <a:pt x="431546" y="82550"/>
                  </a:lnTo>
                  <a:lnTo>
                    <a:pt x="465963" y="103251"/>
                  </a:lnTo>
                  <a:lnTo>
                    <a:pt x="534924" y="145923"/>
                  </a:lnTo>
                  <a:lnTo>
                    <a:pt x="568452" y="166751"/>
                  </a:lnTo>
                  <a:lnTo>
                    <a:pt x="600710" y="186944"/>
                  </a:lnTo>
                  <a:lnTo>
                    <a:pt x="631190" y="205867"/>
                  </a:lnTo>
                  <a:lnTo>
                    <a:pt x="645414" y="214757"/>
                  </a:lnTo>
                  <a:lnTo>
                    <a:pt x="659003" y="223266"/>
                  </a:lnTo>
                  <a:lnTo>
                    <a:pt x="671957" y="231140"/>
                  </a:lnTo>
                  <a:lnTo>
                    <a:pt x="683895" y="238633"/>
                  </a:lnTo>
                  <a:lnTo>
                    <a:pt x="695198" y="245491"/>
                  </a:lnTo>
                  <a:lnTo>
                    <a:pt x="705485" y="251587"/>
                  </a:lnTo>
                  <a:lnTo>
                    <a:pt x="714629" y="257048"/>
                  </a:lnTo>
                  <a:lnTo>
                    <a:pt x="722757" y="261747"/>
                  </a:lnTo>
                  <a:lnTo>
                    <a:pt x="729869" y="265557"/>
                  </a:lnTo>
                  <a:lnTo>
                    <a:pt x="735584" y="268732"/>
                  </a:lnTo>
                  <a:lnTo>
                    <a:pt x="756285" y="265303"/>
                  </a:lnTo>
                  <a:lnTo>
                    <a:pt x="777748" y="261620"/>
                  </a:lnTo>
                  <a:lnTo>
                    <a:pt x="799973" y="257429"/>
                  </a:lnTo>
                  <a:lnTo>
                    <a:pt x="822833" y="253111"/>
                  </a:lnTo>
                  <a:lnTo>
                    <a:pt x="870204" y="243459"/>
                  </a:lnTo>
                  <a:lnTo>
                    <a:pt x="919607" y="232664"/>
                  </a:lnTo>
                  <a:lnTo>
                    <a:pt x="970153" y="221361"/>
                  </a:lnTo>
                  <a:lnTo>
                    <a:pt x="1021715" y="209423"/>
                  </a:lnTo>
                  <a:lnTo>
                    <a:pt x="1125982" y="185039"/>
                  </a:lnTo>
                  <a:lnTo>
                    <a:pt x="1177544" y="173101"/>
                  </a:lnTo>
                  <a:lnTo>
                    <a:pt x="1228217" y="161544"/>
                  </a:lnTo>
                  <a:lnTo>
                    <a:pt x="1277493" y="150368"/>
                  </a:lnTo>
                  <a:lnTo>
                    <a:pt x="1324991" y="140335"/>
                  </a:lnTo>
                  <a:lnTo>
                    <a:pt x="1347851" y="135636"/>
                  </a:lnTo>
                  <a:lnTo>
                    <a:pt x="1369949" y="131191"/>
                  </a:lnTo>
                  <a:lnTo>
                    <a:pt x="1391539" y="127254"/>
                  </a:lnTo>
                  <a:lnTo>
                    <a:pt x="1412367" y="123571"/>
                  </a:lnTo>
                  <a:lnTo>
                    <a:pt x="1432306" y="120269"/>
                  </a:lnTo>
                  <a:lnTo>
                    <a:pt x="1451229" y="117348"/>
                  </a:lnTo>
                  <a:lnTo>
                    <a:pt x="1469390" y="114935"/>
                  </a:lnTo>
                  <a:lnTo>
                    <a:pt x="1486535" y="112903"/>
                  </a:lnTo>
                  <a:lnTo>
                    <a:pt x="1472311" y="133096"/>
                  </a:lnTo>
                  <a:lnTo>
                    <a:pt x="1457706" y="152400"/>
                  </a:lnTo>
                  <a:lnTo>
                    <a:pt x="1442466" y="170815"/>
                  </a:lnTo>
                  <a:lnTo>
                    <a:pt x="1426718" y="188341"/>
                  </a:lnTo>
                  <a:lnTo>
                    <a:pt x="1410716" y="205105"/>
                  </a:lnTo>
                  <a:lnTo>
                    <a:pt x="1394333" y="220980"/>
                  </a:lnTo>
                  <a:lnTo>
                    <a:pt x="1361059" y="250698"/>
                  </a:lnTo>
                  <a:lnTo>
                    <a:pt x="1327531" y="277749"/>
                  </a:lnTo>
                  <a:lnTo>
                    <a:pt x="1294638" y="302260"/>
                  </a:lnTo>
                  <a:lnTo>
                    <a:pt x="1278636" y="313817"/>
                  </a:lnTo>
                  <a:lnTo>
                    <a:pt x="1262888" y="324612"/>
                  </a:lnTo>
                  <a:lnTo>
                    <a:pt x="1247775" y="335026"/>
                  </a:lnTo>
                  <a:lnTo>
                    <a:pt x="1233170" y="344932"/>
                  </a:lnTo>
                  <a:lnTo>
                    <a:pt x="1177671" y="358140"/>
                  </a:lnTo>
                  <a:lnTo>
                    <a:pt x="1121156" y="371094"/>
                  </a:lnTo>
                  <a:lnTo>
                    <a:pt x="1006348" y="396113"/>
                  </a:lnTo>
                  <a:lnTo>
                    <a:pt x="891286" y="419354"/>
                  </a:lnTo>
                  <a:lnTo>
                    <a:pt x="834390" y="430148"/>
                  </a:lnTo>
                  <a:lnTo>
                    <a:pt x="778256" y="440309"/>
                  </a:lnTo>
                  <a:lnTo>
                    <a:pt x="723519" y="449707"/>
                  </a:lnTo>
                  <a:lnTo>
                    <a:pt x="670052" y="458088"/>
                  </a:lnTo>
                  <a:lnTo>
                    <a:pt x="618363" y="465582"/>
                  </a:lnTo>
                  <a:lnTo>
                    <a:pt x="568706" y="472059"/>
                  </a:lnTo>
                  <a:lnTo>
                    <a:pt x="544703" y="474852"/>
                  </a:lnTo>
                  <a:lnTo>
                    <a:pt x="521335" y="477393"/>
                  </a:lnTo>
                  <a:lnTo>
                    <a:pt x="498729" y="479425"/>
                  </a:lnTo>
                  <a:lnTo>
                    <a:pt x="476758" y="481329"/>
                  </a:lnTo>
                  <a:lnTo>
                    <a:pt x="455549" y="482853"/>
                  </a:lnTo>
                  <a:lnTo>
                    <a:pt x="435102" y="484123"/>
                  </a:lnTo>
                  <a:lnTo>
                    <a:pt x="415544" y="485013"/>
                  </a:lnTo>
                  <a:lnTo>
                    <a:pt x="396748" y="485394"/>
                  </a:lnTo>
                  <a:lnTo>
                    <a:pt x="370586" y="474472"/>
                  </a:lnTo>
                  <a:lnTo>
                    <a:pt x="342519" y="462534"/>
                  </a:lnTo>
                  <a:lnTo>
                    <a:pt x="313182" y="449579"/>
                  </a:lnTo>
                  <a:lnTo>
                    <a:pt x="282829" y="435483"/>
                  </a:lnTo>
                  <a:lnTo>
                    <a:pt x="251968" y="420623"/>
                  </a:lnTo>
                  <a:lnTo>
                    <a:pt x="220980" y="404876"/>
                  </a:lnTo>
                  <a:lnTo>
                    <a:pt x="190373" y="388366"/>
                  </a:lnTo>
                  <a:lnTo>
                    <a:pt x="160655" y="370840"/>
                  </a:lnTo>
                  <a:lnTo>
                    <a:pt x="131826" y="352806"/>
                  </a:lnTo>
                  <a:lnTo>
                    <a:pt x="104902" y="334010"/>
                  </a:lnTo>
                  <a:lnTo>
                    <a:pt x="79756" y="314706"/>
                  </a:lnTo>
                  <a:lnTo>
                    <a:pt x="57150" y="294767"/>
                  </a:lnTo>
                  <a:lnTo>
                    <a:pt x="37465" y="274320"/>
                  </a:lnTo>
                  <a:lnTo>
                    <a:pt x="28829" y="264033"/>
                  </a:lnTo>
                  <a:lnTo>
                    <a:pt x="21082" y="253492"/>
                  </a:lnTo>
                  <a:lnTo>
                    <a:pt x="14351" y="242951"/>
                  </a:lnTo>
                  <a:lnTo>
                    <a:pt x="8509" y="232283"/>
                  </a:lnTo>
                  <a:lnTo>
                    <a:pt x="3556" y="221488"/>
                  </a:lnTo>
                  <a:lnTo>
                    <a:pt x="0" y="210693"/>
                  </a:lnTo>
                  <a:lnTo>
                    <a:pt x="8509" y="199771"/>
                  </a:lnTo>
                  <a:close/>
                </a:path>
              </a:pathLst>
            </a:custGeom>
            <a:solidFill>
              <a:srgbClr val="89bb89"/>
            </a:solidFill>
            <a:ln w="0">
              <a:solidFill>
                <a:srgbClr val="89bb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: Shape 116"/>
            <p:cNvSpPr/>
            <p:nvPr/>
          </p:nvSpPr>
          <p:spPr>
            <a:xfrm rot="20412000">
              <a:off x="1578960" y="4892760"/>
              <a:ext cx="1483200" cy="492480"/>
            </a:xfrm>
            <a:custGeom>
              <a:avLst/>
              <a:gdLst>
                <a:gd name="textAreaLeft" fmla="*/ 0 w 1483200"/>
                <a:gd name="textAreaRight" fmla="*/ 1483560 w 148320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190499" h="406147">
                  <a:moveTo>
                    <a:pt x="35941" y="131445"/>
                  </a:moveTo>
                  <a:lnTo>
                    <a:pt x="73914" y="122428"/>
                  </a:lnTo>
                  <a:lnTo>
                    <a:pt x="113538" y="113538"/>
                  </a:lnTo>
                  <a:lnTo>
                    <a:pt x="154940" y="104775"/>
                  </a:lnTo>
                  <a:lnTo>
                    <a:pt x="197612" y="96139"/>
                  </a:lnTo>
                  <a:lnTo>
                    <a:pt x="241681" y="87503"/>
                  </a:lnTo>
                  <a:lnTo>
                    <a:pt x="286766" y="78867"/>
                  </a:lnTo>
                  <a:lnTo>
                    <a:pt x="332740" y="70231"/>
                  </a:lnTo>
                  <a:lnTo>
                    <a:pt x="426593" y="53086"/>
                  </a:lnTo>
                  <a:lnTo>
                    <a:pt x="521970" y="35687"/>
                  </a:lnTo>
                  <a:lnTo>
                    <a:pt x="617347" y="18034"/>
                  </a:lnTo>
                  <a:lnTo>
                    <a:pt x="711200" y="0"/>
                  </a:lnTo>
                  <a:lnTo>
                    <a:pt x="778256" y="25908"/>
                  </a:lnTo>
                  <a:lnTo>
                    <a:pt x="845693" y="53340"/>
                  </a:lnTo>
                  <a:lnTo>
                    <a:pt x="912495" y="82423"/>
                  </a:lnTo>
                  <a:lnTo>
                    <a:pt x="945134" y="97536"/>
                  </a:lnTo>
                  <a:lnTo>
                    <a:pt x="977138" y="113030"/>
                  </a:lnTo>
                  <a:lnTo>
                    <a:pt x="1008380" y="128905"/>
                  </a:lnTo>
                  <a:lnTo>
                    <a:pt x="1038479" y="145288"/>
                  </a:lnTo>
                  <a:lnTo>
                    <a:pt x="1067689" y="162179"/>
                  </a:lnTo>
                  <a:lnTo>
                    <a:pt x="1095375" y="179451"/>
                  </a:lnTo>
                  <a:lnTo>
                    <a:pt x="1121791" y="197231"/>
                  </a:lnTo>
                  <a:lnTo>
                    <a:pt x="1146429" y="215519"/>
                  </a:lnTo>
                  <a:lnTo>
                    <a:pt x="1169416" y="234188"/>
                  </a:lnTo>
                  <a:lnTo>
                    <a:pt x="1190498" y="253492"/>
                  </a:lnTo>
                  <a:lnTo>
                    <a:pt x="1175639" y="259080"/>
                  </a:lnTo>
                  <a:lnTo>
                    <a:pt x="1159510" y="264795"/>
                  </a:lnTo>
                  <a:lnTo>
                    <a:pt x="1142492" y="270510"/>
                  </a:lnTo>
                  <a:lnTo>
                    <a:pt x="1124458" y="276098"/>
                  </a:lnTo>
                  <a:lnTo>
                    <a:pt x="1105408" y="281686"/>
                  </a:lnTo>
                  <a:lnTo>
                    <a:pt x="1085469" y="287401"/>
                  </a:lnTo>
                  <a:lnTo>
                    <a:pt x="1043178" y="298196"/>
                  </a:lnTo>
                  <a:lnTo>
                    <a:pt x="997966" y="309118"/>
                  </a:lnTo>
                  <a:lnTo>
                    <a:pt x="950341" y="319659"/>
                  </a:lnTo>
                  <a:lnTo>
                    <a:pt x="900811" y="330073"/>
                  </a:lnTo>
                  <a:lnTo>
                    <a:pt x="849757" y="340106"/>
                  </a:lnTo>
                  <a:lnTo>
                    <a:pt x="797687" y="349758"/>
                  </a:lnTo>
                  <a:lnTo>
                    <a:pt x="744982" y="359029"/>
                  </a:lnTo>
                  <a:lnTo>
                    <a:pt x="639699" y="376682"/>
                  </a:lnTo>
                  <a:lnTo>
                    <a:pt x="588137" y="384683"/>
                  </a:lnTo>
                  <a:lnTo>
                    <a:pt x="537591" y="392303"/>
                  </a:lnTo>
                  <a:lnTo>
                    <a:pt x="489077" y="399542"/>
                  </a:lnTo>
                  <a:lnTo>
                    <a:pt x="442595" y="406146"/>
                  </a:lnTo>
                  <a:lnTo>
                    <a:pt x="412877" y="390017"/>
                  </a:lnTo>
                  <a:lnTo>
                    <a:pt x="382397" y="373634"/>
                  </a:lnTo>
                  <a:lnTo>
                    <a:pt x="319786" y="340106"/>
                  </a:lnTo>
                  <a:lnTo>
                    <a:pt x="256667" y="306197"/>
                  </a:lnTo>
                  <a:lnTo>
                    <a:pt x="194945" y="272161"/>
                  </a:lnTo>
                  <a:lnTo>
                    <a:pt x="165227" y="255143"/>
                  </a:lnTo>
                  <a:lnTo>
                    <a:pt x="136525" y="238252"/>
                  </a:lnTo>
                  <a:lnTo>
                    <a:pt x="109220" y="221488"/>
                  </a:lnTo>
                  <a:lnTo>
                    <a:pt x="83312" y="204724"/>
                  </a:lnTo>
                  <a:lnTo>
                    <a:pt x="59182" y="188214"/>
                  </a:lnTo>
                  <a:lnTo>
                    <a:pt x="37084" y="172085"/>
                  </a:lnTo>
                  <a:lnTo>
                    <a:pt x="17272" y="156083"/>
                  </a:lnTo>
                  <a:lnTo>
                    <a:pt x="0" y="140462"/>
                  </a:lnTo>
                  <a:lnTo>
                    <a:pt x="35941" y="131445"/>
                  </a:lnTo>
                  <a:close/>
                </a:path>
              </a:pathLst>
            </a:custGeom>
            <a:solidFill>
              <a:srgbClr val="91d394"/>
            </a:solidFill>
            <a:ln w="0">
              <a:solidFill>
                <a:srgbClr val="91d3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: Shape 117"/>
            <p:cNvSpPr/>
            <p:nvPr/>
          </p:nvSpPr>
          <p:spPr>
            <a:xfrm rot="20412000">
              <a:off x="1674720" y="5253840"/>
              <a:ext cx="481680" cy="265320"/>
            </a:xfrm>
            <a:custGeom>
              <a:avLst/>
              <a:gdLst>
                <a:gd name="textAreaLeft" fmla="*/ 0 w 481680"/>
                <a:gd name="textAreaRight" fmla="*/ 482040 w 4816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386843" h="219584">
                  <a:moveTo>
                    <a:pt x="4064" y="0"/>
                  </a:moveTo>
                  <a:lnTo>
                    <a:pt x="29210" y="11811"/>
                  </a:lnTo>
                  <a:lnTo>
                    <a:pt x="53721" y="24384"/>
                  </a:lnTo>
                  <a:lnTo>
                    <a:pt x="101473" y="50419"/>
                  </a:lnTo>
                  <a:lnTo>
                    <a:pt x="148082" y="77724"/>
                  </a:lnTo>
                  <a:lnTo>
                    <a:pt x="194183" y="105664"/>
                  </a:lnTo>
                  <a:lnTo>
                    <a:pt x="240411" y="133350"/>
                  </a:lnTo>
                  <a:lnTo>
                    <a:pt x="287401" y="160274"/>
                  </a:lnTo>
                  <a:lnTo>
                    <a:pt x="311404" y="173228"/>
                  </a:lnTo>
                  <a:lnTo>
                    <a:pt x="335788" y="185674"/>
                  </a:lnTo>
                  <a:lnTo>
                    <a:pt x="360807" y="197612"/>
                  </a:lnTo>
                  <a:lnTo>
                    <a:pt x="386588" y="208915"/>
                  </a:lnTo>
                  <a:lnTo>
                    <a:pt x="386842" y="211582"/>
                  </a:lnTo>
                  <a:lnTo>
                    <a:pt x="385826" y="213233"/>
                  </a:lnTo>
                  <a:lnTo>
                    <a:pt x="383921" y="214249"/>
                  </a:lnTo>
                  <a:lnTo>
                    <a:pt x="381508" y="214757"/>
                  </a:lnTo>
                  <a:lnTo>
                    <a:pt x="377063" y="216281"/>
                  </a:lnTo>
                  <a:lnTo>
                    <a:pt x="375920" y="217551"/>
                  </a:lnTo>
                  <a:lnTo>
                    <a:pt x="375920" y="219583"/>
                  </a:lnTo>
                  <a:lnTo>
                    <a:pt x="350520" y="208788"/>
                  </a:lnTo>
                  <a:lnTo>
                    <a:pt x="325501" y="197358"/>
                  </a:lnTo>
                  <a:lnTo>
                    <a:pt x="301244" y="185420"/>
                  </a:lnTo>
                  <a:lnTo>
                    <a:pt x="277241" y="172974"/>
                  </a:lnTo>
                  <a:lnTo>
                    <a:pt x="230505" y="147193"/>
                  </a:lnTo>
                  <a:lnTo>
                    <a:pt x="184785" y="120396"/>
                  </a:lnTo>
                  <a:lnTo>
                    <a:pt x="93980" y="66167"/>
                  </a:lnTo>
                  <a:lnTo>
                    <a:pt x="47752" y="39624"/>
                  </a:lnTo>
                  <a:lnTo>
                    <a:pt x="508" y="14224"/>
                  </a:lnTo>
                  <a:lnTo>
                    <a:pt x="0" y="11430"/>
                  </a:lnTo>
                  <a:lnTo>
                    <a:pt x="0" y="9144"/>
                  </a:lnTo>
                  <a:lnTo>
                    <a:pt x="1016" y="5842"/>
                  </a:lnTo>
                  <a:lnTo>
                    <a:pt x="2667" y="304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: Shape 118"/>
            <p:cNvSpPr/>
            <p:nvPr/>
          </p:nvSpPr>
          <p:spPr>
            <a:xfrm rot="20412000">
              <a:off x="2188080" y="5127480"/>
              <a:ext cx="891720" cy="1879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715646" h="155830">
                  <a:moveTo>
                    <a:pt x="3937" y="138176"/>
                  </a:moveTo>
                  <a:lnTo>
                    <a:pt x="37211" y="127508"/>
                  </a:lnTo>
                  <a:lnTo>
                    <a:pt x="71628" y="118618"/>
                  </a:lnTo>
                  <a:lnTo>
                    <a:pt x="107061" y="110998"/>
                  </a:lnTo>
                  <a:lnTo>
                    <a:pt x="143637" y="104394"/>
                  </a:lnTo>
                  <a:lnTo>
                    <a:pt x="180593" y="98552"/>
                  </a:lnTo>
                  <a:lnTo>
                    <a:pt x="218186" y="92964"/>
                  </a:lnTo>
                  <a:lnTo>
                    <a:pt x="294259" y="81407"/>
                  </a:lnTo>
                  <a:lnTo>
                    <a:pt x="314325" y="77851"/>
                  </a:lnTo>
                  <a:lnTo>
                    <a:pt x="334772" y="73660"/>
                  </a:lnTo>
                  <a:lnTo>
                    <a:pt x="375920" y="64262"/>
                  </a:lnTo>
                  <a:lnTo>
                    <a:pt x="416941" y="54610"/>
                  </a:lnTo>
                  <a:lnTo>
                    <a:pt x="457200" y="45974"/>
                  </a:lnTo>
                  <a:lnTo>
                    <a:pt x="488568" y="39497"/>
                  </a:lnTo>
                  <a:lnTo>
                    <a:pt x="519303" y="32639"/>
                  </a:lnTo>
                  <a:lnTo>
                    <a:pt x="580643" y="18923"/>
                  </a:lnTo>
                  <a:lnTo>
                    <a:pt x="611631" y="12573"/>
                  </a:lnTo>
                  <a:lnTo>
                    <a:pt x="643890" y="7112"/>
                  </a:lnTo>
                  <a:lnTo>
                    <a:pt x="677163" y="2921"/>
                  </a:lnTo>
                  <a:lnTo>
                    <a:pt x="712088" y="0"/>
                  </a:lnTo>
                  <a:lnTo>
                    <a:pt x="715645" y="6985"/>
                  </a:lnTo>
                  <a:lnTo>
                    <a:pt x="617981" y="28956"/>
                  </a:lnTo>
                  <a:lnTo>
                    <a:pt x="519556" y="52324"/>
                  </a:lnTo>
                  <a:lnTo>
                    <a:pt x="420878" y="75057"/>
                  </a:lnTo>
                  <a:lnTo>
                    <a:pt x="371729" y="85725"/>
                  </a:lnTo>
                  <a:lnTo>
                    <a:pt x="322579" y="95631"/>
                  </a:lnTo>
                  <a:lnTo>
                    <a:pt x="281686" y="102870"/>
                  </a:lnTo>
                  <a:lnTo>
                    <a:pt x="240284" y="109474"/>
                  </a:lnTo>
                  <a:lnTo>
                    <a:pt x="157480" y="121793"/>
                  </a:lnTo>
                  <a:lnTo>
                    <a:pt x="116713" y="128524"/>
                  </a:lnTo>
                  <a:lnTo>
                    <a:pt x="76581" y="136144"/>
                  </a:lnTo>
                  <a:lnTo>
                    <a:pt x="37718" y="145034"/>
                  </a:lnTo>
                  <a:lnTo>
                    <a:pt x="18796" y="150114"/>
                  </a:lnTo>
                  <a:lnTo>
                    <a:pt x="381" y="155829"/>
                  </a:lnTo>
                  <a:lnTo>
                    <a:pt x="0" y="149987"/>
                  </a:lnTo>
                  <a:lnTo>
                    <a:pt x="635" y="145415"/>
                  </a:lnTo>
                  <a:lnTo>
                    <a:pt x="1905" y="141478"/>
                  </a:lnTo>
                  <a:lnTo>
                    <a:pt x="3937" y="1381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: Shape 119"/>
            <p:cNvSpPr/>
            <p:nvPr/>
          </p:nvSpPr>
          <p:spPr>
            <a:xfrm rot="20412000">
              <a:off x="1955520" y="5509440"/>
              <a:ext cx="282960" cy="20052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27331" h="166371">
                  <a:moveTo>
                    <a:pt x="216154" y="0"/>
                  </a:moveTo>
                  <a:lnTo>
                    <a:pt x="217678" y="1143"/>
                  </a:lnTo>
                  <a:lnTo>
                    <a:pt x="219456" y="1905"/>
                  </a:lnTo>
                  <a:lnTo>
                    <a:pt x="223774" y="3048"/>
                  </a:lnTo>
                  <a:lnTo>
                    <a:pt x="225552" y="3937"/>
                  </a:lnTo>
                  <a:lnTo>
                    <a:pt x="226822" y="5207"/>
                  </a:lnTo>
                  <a:lnTo>
                    <a:pt x="227330" y="7366"/>
                  </a:lnTo>
                  <a:lnTo>
                    <a:pt x="226822" y="10668"/>
                  </a:lnTo>
                  <a:lnTo>
                    <a:pt x="195453" y="26416"/>
                  </a:lnTo>
                  <a:lnTo>
                    <a:pt x="165989" y="43688"/>
                  </a:lnTo>
                  <a:lnTo>
                    <a:pt x="137668" y="62357"/>
                  </a:lnTo>
                  <a:lnTo>
                    <a:pt x="110490" y="82042"/>
                  </a:lnTo>
                  <a:lnTo>
                    <a:pt x="83947" y="102489"/>
                  </a:lnTo>
                  <a:lnTo>
                    <a:pt x="58039" y="123571"/>
                  </a:lnTo>
                  <a:lnTo>
                    <a:pt x="7112" y="166370"/>
                  </a:lnTo>
                  <a:lnTo>
                    <a:pt x="0" y="162814"/>
                  </a:lnTo>
                  <a:lnTo>
                    <a:pt x="23749" y="139065"/>
                  </a:lnTo>
                  <a:lnTo>
                    <a:pt x="48133" y="116205"/>
                  </a:lnTo>
                  <a:lnTo>
                    <a:pt x="73660" y="94361"/>
                  </a:lnTo>
                  <a:lnTo>
                    <a:pt x="100076" y="73533"/>
                  </a:lnTo>
                  <a:lnTo>
                    <a:pt x="127635" y="53594"/>
                  </a:lnTo>
                  <a:lnTo>
                    <a:pt x="156083" y="34671"/>
                  </a:lnTo>
                  <a:lnTo>
                    <a:pt x="185547" y="16891"/>
                  </a:lnTo>
                  <a:lnTo>
                    <a:pt x="216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: Shape 120"/>
            <p:cNvSpPr/>
            <p:nvPr/>
          </p:nvSpPr>
          <p:spPr>
            <a:xfrm rot="20412000">
              <a:off x="1289880" y="4943160"/>
              <a:ext cx="1855080" cy="784800"/>
            </a:xfrm>
            <a:custGeom>
              <a:avLst/>
              <a:gdLst>
                <a:gd name="textAreaLeft" fmla="*/ 0 w 1855080"/>
                <a:gd name="textAreaRight" fmla="*/ 1855440 w 185508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1490219" h="648463">
                  <a:moveTo>
                    <a:pt x="5588" y="344043"/>
                  </a:moveTo>
                  <a:lnTo>
                    <a:pt x="54610" y="302387"/>
                  </a:lnTo>
                  <a:lnTo>
                    <a:pt x="104775" y="260604"/>
                  </a:lnTo>
                  <a:lnTo>
                    <a:pt x="155956" y="219837"/>
                  </a:lnTo>
                  <a:lnTo>
                    <a:pt x="207518" y="181102"/>
                  </a:lnTo>
                  <a:lnTo>
                    <a:pt x="219837" y="172212"/>
                  </a:lnTo>
                  <a:lnTo>
                    <a:pt x="230759" y="164592"/>
                  </a:lnTo>
                  <a:lnTo>
                    <a:pt x="240157" y="157988"/>
                  </a:lnTo>
                  <a:lnTo>
                    <a:pt x="248539" y="152527"/>
                  </a:lnTo>
                  <a:lnTo>
                    <a:pt x="256032" y="147955"/>
                  </a:lnTo>
                  <a:lnTo>
                    <a:pt x="263017" y="143891"/>
                  </a:lnTo>
                  <a:lnTo>
                    <a:pt x="276479" y="137922"/>
                  </a:lnTo>
                  <a:lnTo>
                    <a:pt x="291211" y="133096"/>
                  </a:lnTo>
                  <a:lnTo>
                    <a:pt x="299593" y="131064"/>
                  </a:lnTo>
                  <a:lnTo>
                    <a:pt x="309245" y="128778"/>
                  </a:lnTo>
                  <a:lnTo>
                    <a:pt x="320040" y="126492"/>
                  </a:lnTo>
                  <a:lnTo>
                    <a:pt x="332613" y="123698"/>
                  </a:lnTo>
                  <a:lnTo>
                    <a:pt x="347091" y="120650"/>
                  </a:lnTo>
                  <a:lnTo>
                    <a:pt x="363855" y="116967"/>
                  </a:lnTo>
                  <a:lnTo>
                    <a:pt x="364998" y="116713"/>
                  </a:lnTo>
                  <a:lnTo>
                    <a:pt x="367030" y="116205"/>
                  </a:lnTo>
                  <a:lnTo>
                    <a:pt x="373380" y="114935"/>
                  </a:lnTo>
                  <a:lnTo>
                    <a:pt x="382524" y="113284"/>
                  </a:lnTo>
                  <a:lnTo>
                    <a:pt x="394716" y="110871"/>
                  </a:lnTo>
                  <a:lnTo>
                    <a:pt x="409067" y="108077"/>
                  </a:lnTo>
                  <a:lnTo>
                    <a:pt x="425831" y="104902"/>
                  </a:lnTo>
                  <a:lnTo>
                    <a:pt x="444754" y="101346"/>
                  </a:lnTo>
                  <a:lnTo>
                    <a:pt x="465455" y="97282"/>
                  </a:lnTo>
                  <a:lnTo>
                    <a:pt x="487807" y="92964"/>
                  </a:lnTo>
                  <a:lnTo>
                    <a:pt x="511683" y="88392"/>
                  </a:lnTo>
                  <a:lnTo>
                    <a:pt x="536702" y="83693"/>
                  </a:lnTo>
                  <a:lnTo>
                    <a:pt x="562864" y="78613"/>
                  </a:lnTo>
                  <a:lnTo>
                    <a:pt x="617220" y="68199"/>
                  </a:lnTo>
                  <a:lnTo>
                    <a:pt x="673354" y="57658"/>
                  </a:lnTo>
                  <a:lnTo>
                    <a:pt x="729234" y="46990"/>
                  </a:lnTo>
                  <a:lnTo>
                    <a:pt x="783463" y="36703"/>
                  </a:lnTo>
                  <a:lnTo>
                    <a:pt x="809244" y="31750"/>
                  </a:lnTo>
                  <a:lnTo>
                    <a:pt x="834009" y="27051"/>
                  </a:lnTo>
                  <a:lnTo>
                    <a:pt x="857504" y="22606"/>
                  </a:lnTo>
                  <a:lnTo>
                    <a:pt x="879475" y="18542"/>
                  </a:lnTo>
                  <a:lnTo>
                    <a:pt x="899795" y="14605"/>
                  </a:lnTo>
                  <a:lnTo>
                    <a:pt x="918210" y="11303"/>
                  </a:lnTo>
                  <a:lnTo>
                    <a:pt x="934339" y="8255"/>
                  </a:lnTo>
                  <a:lnTo>
                    <a:pt x="948182" y="5588"/>
                  </a:lnTo>
                  <a:lnTo>
                    <a:pt x="959485" y="3556"/>
                  </a:lnTo>
                  <a:lnTo>
                    <a:pt x="967994" y="1905"/>
                  </a:lnTo>
                  <a:lnTo>
                    <a:pt x="971169" y="1397"/>
                  </a:lnTo>
                  <a:lnTo>
                    <a:pt x="973455" y="889"/>
                  </a:lnTo>
                  <a:lnTo>
                    <a:pt x="975106" y="635"/>
                  </a:lnTo>
                  <a:lnTo>
                    <a:pt x="975868" y="508"/>
                  </a:lnTo>
                  <a:lnTo>
                    <a:pt x="988822" y="0"/>
                  </a:lnTo>
                  <a:lnTo>
                    <a:pt x="1002284" y="889"/>
                  </a:lnTo>
                  <a:lnTo>
                    <a:pt x="1016127" y="3048"/>
                  </a:lnTo>
                  <a:lnTo>
                    <a:pt x="1030351" y="6223"/>
                  </a:lnTo>
                  <a:lnTo>
                    <a:pt x="1044575" y="10287"/>
                  </a:lnTo>
                  <a:lnTo>
                    <a:pt x="1058926" y="15240"/>
                  </a:lnTo>
                  <a:lnTo>
                    <a:pt x="1087501" y="26797"/>
                  </a:lnTo>
                  <a:lnTo>
                    <a:pt x="1115187" y="39751"/>
                  </a:lnTo>
                  <a:lnTo>
                    <a:pt x="1141095" y="52832"/>
                  </a:lnTo>
                  <a:lnTo>
                    <a:pt x="1153160" y="59055"/>
                  </a:lnTo>
                  <a:lnTo>
                    <a:pt x="1164590" y="64897"/>
                  </a:lnTo>
                  <a:lnTo>
                    <a:pt x="1175131" y="70231"/>
                  </a:lnTo>
                  <a:lnTo>
                    <a:pt x="1184656" y="74803"/>
                  </a:lnTo>
                  <a:lnTo>
                    <a:pt x="1224153" y="93726"/>
                  </a:lnTo>
                  <a:lnTo>
                    <a:pt x="1262888" y="113411"/>
                  </a:lnTo>
                  <a:lnTo>
                    <a:pt x="1300988" y="133731"/>
                  </a:lnTo>
                  <a:lnTo>
                    <a:pt x="1338580" y="154686"/>
                  </a:lnTo>
                  <a:lnTo>
                    <a:pt x="1412749" y="197612"/>
                  </a:lnTo>
                  <a:lnTo>
                    <a:pt x="1485774" y="241300"/>
                  </a:lnTo>
                  <a:lnTo>
                    <a:pt x="1486916" y="243459"/>
                  </a:lnTo>
                  <a:lnTo>
                    <a:pt x="1488059" y="247523"/>
                  </a:lnTo>
                  <a:lnTo>
                    <a:pt x="1488949" y="252984"/>
                  </a:lnTo>
                  <a:lnTo>
                    <a:pt x="1489710" y="259207"/>
                  </a:lnTo>
                  <a:lnTo>
                    <a:pt x="1490218" y="271526"/>
                  </a:lnTo>
                  <a:lnTo>
                    <a:pt x="1489964" y="276606"/>
                  </a:lnTo>
                  <a:lnTo>
                    <a:pt x="1489329" y="280162"/>
                  </a:lnTo>
                  <a:lnTo>
                    <a:pt x="1488440" y="282448"/>
                  </a:lnTo>
                  <a:lnTo>
                    <a:pt x="1486916" y="284988"/>
                  </a:lnTo>
                  <a:lnTo>
                    <a:pt x="1482344" y="291465"/>
                  </a:lnTo>
                  <a:lnTo>
                    <a:pt x="1475867" y="299466"/>
                  </a:lnTo>
                  <a:lnTo>
                    <a:pt x="1467993" y="308610"/>
                  </a:lnTo>
                  <a:lnTo>
                    <a:pt x="1458595" y="318897"/>
                  </a:lnTo>
                  <a:lnTo>
                    <a:pt x="1448308" y="329819"/>
                  </a:lnTo>
                  <a:lnTo>
                    <a:pt x="1425829" y="352933"/>
                  </a:lnTo>
                  <a:lnTo>
                    <a:pt x="1402715" y="376047"/>
                  </a:lnTo>
                  <a:lnTo>
                    <a:pt x="1391539" y="386969"/>
                  </a:lnTo>
                  <a:lnTo>
                    <a:pt x="1380999" y="397129"/>
                  </a:lnTo>
                  <a:lnTo>
                    <a:pt x="1371474" y="406400"/>
                  </a:lnTo>
                  <a:lnTo>
                    <a:pt x="1363091" y="414274"/>
                  </a:lnTo>
                  <a:lnTo>
                    <a:pt x="1356233" y="420751"/>
                  </a:lnTo>
                  <a:lnTo>
                    <a:pt x="1353566" y="423291"/>
                  </a:lnTo>
                  <a:lnTo>
                    <a:pt x="1351153" y="425450"/>
                  </a:lnTo>
                  <a:lnTo>
                    <a:pt x="1339089" y="435864"/>
                  </a:lnTo>
                  <a:lnTo>
                    <a:pt x="1326642" y="445897"/>
                  </a:lnTo>
                  <a:lnTo>
                    <a:pt x="1313562" y="455295"/>
                  </a:lnTo>
                  <a:lnTo>
                    <a:pt x="1299972" y="464312"/>
                  </a:lnTo>
                  <a:lnTo>
                    <a:pt x="1285748" y="472948"/>
                  </a:lnTo>
                  <a:lnTo>
                    <a:pt x="1271143" y="480949"/>
                  </a:lnTo>
                  <a:lnTo>
                    <a:pt x="1256030" y="488569"/>
                  </a:lnTo>
                  <a:lnTo>
                    <a:pt x="1240537" y="495554"/>
                  </a:lnTo>
                  <a:lnTo>
                    <a:pt x="1224534" y="502158"/>
                  </a:lnTo>
                  <a:lnTo>
                    <a:pt x="1207897" y="508254"/>
                  </a:lnTo>
                  <a:lnTo>
                    <a:pt x="1173607" y="519049"/>
                  </a:lnTo>
                  <a:lnTo>
                    <a:pt x="1137412" y="528066"/>
                  </a:lnTo>
                  <a:lnTo>
                    <a:pt x="1099693" y="535178"/>
                  </a:lnTo>
                  <a:lnTo>
                    <a:pt x="1092835" y="536321"/>
                  </a:lnTo>
                  <a:lnTo>
                    <a:pt x="1084834" y="537718"/>
                  </a:lnTo>
                  <a:lnTo>
                    <a:pt x="1075944" y="539496"/>
                  </a:lnTo>
                  <a:lnTo>
                    <a:pt x="1065912" y="541147"/>
                  </a:lnTo>
                  <a:lnTo>
                    <a:pt x="1055243" y="543306"/>
                  </a:lnTo>
                  <a:lnTo>
                    <a:pt x="1043687" y="545465"/>
                  </a:lnTo>
                  <a:lnTo>
                    <a:pt x="1018667" y="550291"/>
                  </a:lnTo>
                  <a:lnTo>
                    <a:pt x="991362" y="555752"/>
                  </a:lnTo>
                  <a:lnTo>
                    <a:pt x="962406" y="561467"/>
                  </a:lnTo>
                  <a:lnTo>
                    <a:pt x="901700" y="573405"/>
                  </a:lnTo>
                  <a:lnTo>
                    <a:pt x="871093" y="579501"/>
                  </a:lnTo>
                  <a:lnTo>
                    <a:pt x="841248" y="585343"/>
                  </a:lnTo>
                  <a:lnTo>
                    <a:pt x="812546" y="590931"/>
                  </a:lnTo>
                  <a:lnTo>
                    <a:pt x="785495" y="596011"/>
                  </a:lnTo>
                  <a:lnTo>
                    <a:pt x="760857" y="600583"/>
                  </a:lnTo>
                  <a:lnTo>
                    <a:pt x="749681" y="602615"/>
                  </a:lnTo>
                  <a:lnTo>
                    <a:pt x="739140" y="604393"/>
                  </a:lnTo>
                  <a:lnTo>
                    <a:pt x="729488" y="606171"/>
                  </a:lnTo>
                  <a:lnTo>
                    <a:pt x="720852" y="607568"/>
                  </a:lnTo>
                  <a:lnTo>
                    <a:pt x="713359" y="608584"/>
                  </a:lnTo>
                  <a:lnTo>
                    <a:pt x="706755" y="609473"/>
                  </a:lnTo>
                  <a:lnTo>
                    <a:pt x="696468" y="610997"/>
                  </a:lnTo>
                  <a:lnTo>
                    <a:pt x="684022" y="613029"/>
                  </a:lnTo>
                  <a:lnTo>
                    <a:pt x="669798" y="615442"/>
                  </a:lnTo>
                  <a:lnTo>
                    <a:pt x="654050" y="618236"/>
                  </a:lnTo>
                  <a:lnTo>
                    <a:pt x="637286" y="621284"/>
                  </a:lnTo>
                  <a:lnTo>
                    <a:pt x="619760" y="624586"/>
                  </a:lnTo>
                  <a:lnTo>
                    <a:pt x="584073" y="631317"/>
                  </a:lnTo>
                  <a:lnTo>
                    <a:pt x="566674" y="634619"/>
                  </a:lnTo>
                  <a:lnTo>
                    <a:pt x="550037" y="637794"/>
                  </a:lnTo>
                  <a:lnTo>
                    <a:pt x="534543" y="640715"/>
                  </a:lnTo>
                  <a:lnTo>
                    <a:pt x="520573" y="643255"/>
                  </a:lnTo>
                  <a:lnTo>
                    <a:pt x="508381" y="645414"/>
                  </a:lnTo>
                  <a:lnTo>
                    <a:pt x="498602" y="647065"/>
                  </a:lnTo>
                  <a:lnTo>
                    <a:pt x="491363" y="648208"/>
                  </a:lnTo>
                  <a:lnTo>
                    <a:pt x="488823" y="648462"/>
                  </a:lnTo>
                  <a:lnTo>
                    <a:pt x="487299" y="648462"/>
                  </a:lnTo>
                  <a:lnTo>
                    <a:pt x="464058" y="647827"/>
                  </a:lnTo>
                  <a:lnTo>
                    <a:pt x="442087" y="646049"/>
                  </a:lnTo>
                  <a:lnTo>
                    <a:pt x="421132" y="643001"/>
                  </a:lnTo>
                  <a:lnTo>
                    <a:pt x="401066" y="638937"/>
                  </a:lnTo>
                  <a:lnTo>
                    <a:pt x="381889" y="633984"/>
                  </a:lnTo>
                  <a:lnTo>
                    <a:pt x="363474" y="628142"/>
                  </a:lnTo>
                  <a:lnTo>
                    <a:pt x="345821" y="621538"/>
                  </a:lnTo>
                  <a:lnTo>
                    <a:pt x="328803" y="614172"/>
                  </a:lnTo>
                  <a:lnTo>
                    <a:pt x="312293" y="606298"/>
                  </a:lnTo>
                  <a:lnTo>
                    <a:pt x="296291" y="597916"/>
                  </a:lnTo>
                  <a:lnTo>
                    <a:pt x="265811" y="580009"/>
                  </a:lnTo>
                  <a:lnTo>
                    <a:pt x="236220" y="561213"/>
                  </a:lnTo>
                  <a:lnTo>
                    <a:pt x="207518" y="542290"/>
                  </a:lnTo>
                  <a:lnTo>
                    <a:pt x="192913" y="533146"/>
                  </a:lnTo>
                  <a:lnTo>
                    <a:pt x="176403" y="523494"/>
                  </a:lnTo>
                  <a:lnTo>
                    <a:pt x="158623" y="513461"/>
                  </a:lnTo>
                  <a:lnTo>
                    <a:pt x="139954" y="502793"/>
                  </a:lnTo>
                  <a:lnTo>
                    <a:pt x="101600" y="480314"/>
                  </a:lnTo>
                  <a:lnTo>
                    <a:pt x="82804" y="468249"/>
                  </a:lnTo>
                  <a:lnTo>
                    <a:pt x="64897" y="455803"/>
                  </a:lnTo>
                  <a:lnTo>
                    <a:pt x="48260" y="443103"/>
                  </a:lnTo>
                  <a:lnTo>
                    <a:pt x="33401" y="430022"/>
                  </a:lnTo>
                  <a:lnTo>
                    <a:pt x="20828" y="416433"/>
                  </a:lnTo>
                  <a:lnTo>
                    <a:pt x="10668" y="402590"/>
                  </a:lnTo>
                  <a:lnTo>
                    <a:pt x="6731" y="395478"/>
                  </a:lnTo>
                  <a:lnTo>
                    <a:pt x="3683" y="388366"/>
                  </a:lnTo>
                  <a:lnTo>
                    <a:pt x="1524" y="381127"/>
                  </a:lnTo>
                  <a:lnTo>
                    <a:pt x="254" y="373888"/>
                  </a:lnTo>
                  <a:lnTo>
                    <a:pt x="0" y="366522"/>
                  </a:lnTo>
                  <a:lnTo>
                    <a:pt x="762" y="359156"/>
                  </a:lnTo>
                  <a:lnTo>
                    <a:pt x="2667" y="351536"/>
                  </a:lnTo>
                  <a:lnTo>
                    <a:pt x="65405" y="311658"/>
                  </a:lnTo>
                  <a:lnTo>
                    <a:pt x="101219" y="283845"/>
                  </a:lnTo>
                  <a:lnTo>
                    <a:pt x="111252" y="276098"/>
                  </a:lnTo>
                  <a:lnTo>
                    <a:pt x="122301" y="267589"/>
                  </a:lnTo>
                  <a:lnTo>
                    <a:pt x="133858" y="258191"/>
                  </a:lnTo>
                  <a:lnTo>
                    <a:pt x="146177" y="248539"/>
                  </a:lnTo>
                  <a:lnTo>
                    <a:pt x="172339" y="228092"/>
                  </a:lnTo>
                  <a:lnTo>
                    <a:pt x="199898" y="207518"/>
                  </a:lnTo>
                  <a:lnTo>
                    <a:pt x="228346" y="188087"/>
                  </a:lnTo>
                  <a:lnTo>
                    <a:pt x="242570" y="179197"/>
                  </a:lnTo>
                  <a:lnTo>
                    <a:pt x="256667" y="171196"/>
                  </a:lnTo>
                  <a:lnTo>
                    <a:pt x="270637" y="163830"/>
                  </a:lnTo>
                  <a:lnTo>
                    <a:pt x="284226" y="157734"/>
                  </a:lnTo>
                  <a:lnTo>
                    <a:pt x="297434" y="152781"/>
                  </a:lnTo>
                  <a:lnTo>
                    <a:pt x="310134" y="149225"/>
                  </a:lnTo>
                  <a:lnTo>
                    <a:pt x="312674" y="148717"/>
                  </a:lnTo>
                  <a:lnTo>
                    <a:pt x="316357" y="147955"/>
                  </a:lnTo>
                  <a:lnTo>
                    <a:pt x="320802" y="147066"/>
                  </a:lnTo>
                  <a:lnTo>
                    <a:pt x="326263" y="145923"/>
                  </a:lnTo>
                  <a:lnTo>
                    <a:pt x="339471" y="143383"/>
                  </a:lnTo>
                  <a:lnTo>
                    <a:pt x="355346" y="140335"/>
                  </a:lnTo>
                  <a:lnTo>
                    <a:pt x="373634" y="136906"/>
                  </a:lnTo>
                  <a:lnTo>
                    <a:pt x="393954" y="132969"/>
                  </a:lnTo>
                  <a:lnTo>
                    <a:pt x="415671" y="128905"/>
                  </a:lnTo>
                  <a:lnTo>
                    <a:pt x="438531" y="124460"/>
                  </a:lnTo>
                  <a:lnTo>
                    <a:pt x="485648" y="115697"/>
                  </a:lnTo>
                  <a:lnTo>
                    <a:pt x="509016" y="111379"/>
                  </a:lnTo>
                  <a:lnTo>
                    <a:pt x="531749" y="106934"/>
                  </a:lnTo>
                  <a:lnTo>
                    <a:pt x="553466" y="102870"/>
                  </a:lnTo>
                  <a:lnTo>
                    <a:pt x="573532" y="99060"/>
                  </a:lnTo>
                  <a:lnTo>
                    <a:pt x="591820" y="95631"/>
                  </a:lnTo>
                  <a:lnTo>
                    <a:pt x="607568" y="92583"/>
                  </a:lnTo>
                  <a:lnTo>
                    <a:pt x="639953" y="85979"/>
                  </a:lnTo>
                  <a:lnTo>
                    <a:pt x="669671" y="79883"/>
                  </a:lnTo>
                  <a:lnTo>
                    <a:pt x="697230" y="74295"/>
                  </a:lnTo>
                  <a:lnTo>
                    <a:pt x="722630" y="69342"/>
                  </a:lnTo>
                  <a:lnTo>
                    <a:pt x="745998" y="64643"/>
                  </a:lnTo>
                  <a:lnTo>
                    <a:pt x="767588" y="60579"/>
                  </a:lnTo>
                  <a:lnTo>
                    <a:pt x="787527" y="56769"/>
                  </a:lnTo>
                  <a:lnTo>
                    <a:pt x="805942" y="53340"/>
                  </a:lnTo>
                  <a:lnTo>
                    <a:pt x="823087" y="50165"/>
                  </a:lnTo>
                  <a:lnTo>
                    <a:pt x="838962" y="47244"/>
                  </a:lnTo>
                  <a:lnTo>
                    <a:pt x="853948" y="44577"/>
                  </a:lnTo>
                  <a:lnTo>
                    <a:pt x="868045" y="41910"/>
                  </a:lnTo>
                  <a:lnTo>
                    <a:pt x="894334" y="37084"/>
                  </a:lnTo>
                  <a:lnTo>
                    <a:pt x="919226" y="32385"/>
                  </a:lnTo>
                  <a:lnTo>
                    <a:pt x="931799" y="30099"/>
                  </a:lnTo>
                  <a:lnTo>
                    <a:pt x="943864" y="28194"/>
                  </a:lnTo>
                  <a:lnTo>
                    <a:pt x="955040" y="26670"/>
                  </a:lnTo>
                  <a:lnTo>
                    <a:pt x="965962" y="25400"/>
                  </a:lnTo>
                  <a:lnTo>
                    <a:pt x="985774" y="24130"/>
                  </a:lnTo>
                  <a:lnTo>
                    <a:pt x="1003681" y="24257"/>
                  </a:lnTo>
                  <a:lnTo>
                    <a:pt x="1019937" y="25654"/>
                  </a:lnTo>
                  <a:lnTo>
                    <a:pt x="1035050" y="28067"/>
                  </a:lnTo>
                  <a:lnTo>
                    <a:pt x="1048893" y="31496"/>
                  </a:lnTo>
                  <a:lnTo>
                    <a:pt x="1062355" y="35941"/>
                  </a:lnTo>
                  <a:lnTo>
                    <a:pt x="1075182" y="41148"/>
                  </a:lnTo>
                  <a:lnTo>
                    <a:pt x="1088137" y="46990"/>
                  </a:lnTo>
                  <a:lnTo>
                    <a:pt x="1101217" y="53721"/>
                  </a:lnTo>
                  <a:lnTo>
                    <a:pt x="1114933" y="60833"/>
                  </a:lnTo>
                  <a:lnTo>
                    <a:pt x="1129412" y="68326"/>
                  </a:lnTo>
                  <a:lnTo>
                    <a:pt x="1145032" y="76327"/>
                  </a:lnTo>
                  <a:lnTo>
                    <a:pt x="1162177" y="84328"/>
                  </a:lnTo>
                  <a:lnTo>
                    <a:pt x="1181227" y="92583"/>
                  </a:lnTo>
                  <a:lnTo>
                    <a:pt x="1185672" y="94488"/>
                  </a:lnTo>
                  <a:lnTo>
                    <a:pt x="1191260" y="97028"/>
                  </a:lnTo>
                  <a:lnTo>
                    <a:pt x="1197737" y="100076"/>
                  </a:lnTo>
                  <a:lnTo>
                    <a:pt x="1205357" y="103759"/>
                  </a:lnTo>
                  <a:lnTo>
                    <a:pt x="1213739" y="107823"/>
                  </a:lnTo>
                  <a:lnTo>
                    <a:pt x="1223010" y="112395"/>
                  </a:lnTo>
                  <a:lnTo>
                    <a:pt x="1233043" y="117348"/>
                  </a:lnTo>
                  <a:lnTo>
                    <a:pt x="1243584" y="122809"/>
                  </a:lnTo>
                  <a:lnTo>
                    <a:pt x="1266190" y="134366"/>
                  </a:lnTo>
                  <a:lnTo>
                    <a:pt x="1290447" y="147066"/>
                  </a:lnTo>
                  <a:lnTo>
                    <a:pt x="1315593" y="160528"/>
                  </a:lnTo>
                  <a:lnTo>
                    <a:pt x="1340866" y="174371"/>
                  </a:lnTo>
                  <a:lnTo>
                    <a:pt x="1365631" y="188341"/>
                  </a:lnTo>
                  <a:lnTo>
                    <a:pt x="1389380" y="201930"/>
                  </a:lnTo>
                  <a:lnTo>
                    <a:pt x="1411478" y="215265"/>
                  </a:lnTo>
                  <a:lnTo>
                    <a:pt x="1421512" y="221488"/>
                  </a:lnTo>
                  <a:lnTo>
                    <a:pt x="1430909" y="227584"/>
                  </a:lnTo>
                  <a:lnTo>
                    <a:pt x="1439545" y="233426"/>
                  </a:lnTo>
                  <a:lnTo>
                    <a:pt x="1447419" y="238760"/>
                  </a:lnTo>
                  <a:lnTo>
                    <a:pt x="1454277" y="243840"/>
                  </a:lnTo>
                  <a:lnTo>
                    <a:pt x="1460119" y="248666"/>
                  </a:lnTo>
                  <a:lnTo>
                    <a:pt x="1464691" y="252857"/>
                  </a:lnTo>
                  <a:lnTo>
                    <a:pt x="1468375" y="256667"/>
                  </a:lnTo>
                  <a:lnTo>
                    <a:pt x="1470660" y="259842"/>
                  </a:lnTo>
                  <a:lnTo>
                    <a:pt x="1471550" y="262509"/>
                  </a:lnTo>
                  <a:lnTo>
                    <a:pt x="1471550" y="265430"/>
                  </a:lnTo>
                  <a:lnTo>
                    <a:pt x="1470788" y="268732"/>
                  </a:lnTo>
                  <a:lnTo>
                    <a:pt x="1469264" y="272415"/>
                  </a:lnTo>
                  <a:lnTo>
                    <a:pt x="1467358" y="276479"/>
                  </a:lnTo>
                  <a:lnTo>
                    <a:pt x="1461770" y="285496"/>
                  </a:lnTo>
                  <a:lnTo>
                    <a:pt x="1454277" y="295656"/>
                  </a:lnTo>
                  <a:lnTo>
                    <a:pt x="1445260" y="306705"/>
                  </a:lnTo>
                  <a:lnTo>
                    <a:pt x="1434974" y="318262"/>
                  </a:lnTo>
                  <a:lnTo>
                    <a:pt x="1423797" y="330073"/>
                  </a:lnTo>
                  <a:lnTo>
                    <a:pt x="1411987" y="342265"/>
                  </a:lnTo>
                  <a:lnTo>
                    <a:pt x="1387729" y="365887"/>
                  </a:lnTo>
                  <a:lnTo>
                    <a:pt x="1376045" y="376936"/>
                  </a:lnTo>
                  <a:lnTo>
                    <a:pt x="1364869" y="386969"/>
                  </a:lnTo>
                  <a:lnTo>
                    <a:pt x="1354709" y="396240"/>
                  </a:lnTo>
                  <a:lnTo>
                    <a:pt x="1345946" y="403987"/>
                  </a:lnTo>
                  <a:lnTo>
                    <a:pt x="1338834" y="410337"/>
                  </a:lnTo>
                  <a:lnTo>
                    <a:pt x="1335914" y="412750"/>
                  </a:lnTo>
                  <a:lnTo>
                    <a:pt x="1333500" y="414782"/>
                  </a:lnTo>
                  <a:lnTo>
                    <a:pt x="1316990" y="428117"/>
                  </a:lnTo>
                  <a:lnTo>
                    <a:pt x="1300988" y="439801"/>
                  </a:lnTo>
                  <a:lnTo>
                    <a:pt x="1285621" y="450215"/>
                  </a:lnTo>
                  <a:lnTo>
                    <a:pt x="1270127" y="459486"/>
                  </a:lnTo>
                  <a:lnTo>
                    <a:pt x="1255014" y="467614"/>
                  </a:lnTo>
                  <a:lnTo>
                    <a:pt x="1239901" y="474726"/>
                  </a:lnTo>
                  <a:lnTo>
                    <a:pt x="1224534" y="481076"/>
                  </a:lnTo>
                  <a:lnTo>
                    <a:pt x="1208913" y="486791"/>
                  </a:lnTo>
                  <a:lnTo>
                    <a:pt x="1192657" y="491871"/>
                  </a:lnTo>
                  <a:lnTo>
                    <a:pt x="1175766" y="496697"/>
                  </a:lnTo>
                  <a:lnTo>
                    <a:pt x="1158367" y="501142"/>
                  </a:lnTo>
                  <a:lnTo>
                    <a:pt x="1139825" y="505587"/>
                  </a:lnTo>
                  <a:lnTo>
                    <a:pt x="1120267" y="510032"/>
                  </a:lnTo>
                  <a:lnTo>
                    <a:pt x="1099439" y="514604"/>
                  </a:lnTo>
                  <a:lnTo>
                    <a:pt x="1077468" y="519430"/>
                  </a:lnTo>
                  <a:lnTo>
                    <a:pt x="1053719" y="524510"/>
                  </a:lnTo>
                  <a:lnTo>
                    <a:pt x="1047115" y="526034"/>
                  </a:lnTo>
                  <a:lnTo>
                    <a:pt x="1039114" y="527685"/>
                  </a:lnTo>
                  <a:lnTo>
                    <a:pt x="1029462" y="529590"/>
                  </a:lnTo>
                  <a:lnTo>
                    <a:pt x="1018413" y="531622"/>
                  </a:lnTo>
                  <a:lnTo>
                    <a:pt x="1006221" y="533908"/>
                  </a:lnTo>
                  <a:lnTo>
                    <a:pt x="992887" y="536321"/>
                  </a:lnTo>
                  <a:lnTo>
                    <a:pt x="978535" y="538988"/>
                  </a:lnTo>
                  <a:lnTo>
                    <a:pt x="963168" y="541528"/>
                  </a:lnTo>
                  <a:lnTo>
                    <a:pt x="930148" y="547370"/>
                  </a:lnTo>
                  <a:lnTo>
                    <a:pt x="894842" y="553466"/>
                  </a:lnTo>
                  <a:lnTo>
                    <a:pt x="857885" y="559689"/>
                  </a:lnTo>
                  <a:lnTo>
                    <a:pt x="820420" y="566039"/>
                  </a:lnTo>
                  <a:lnTo>
                    <a:pt x="783209" y="572389"/>
                  </a:lnTo>
                  <a:lnTo>
                    <a:pt x="746887" y="578358"/>
                  </a:lnTo>
                  <a:lnTo>
                    <a:pt x="712597" y="584073"/>
                  </a:lnTo>
                  <a:lnTo>
                    <a:pt x="696468" y="586740"/>
                  </a:lnTo>
                  <a:lnTo>
                    <a:pt x="681101" y="589280"/>
                  </a:lnTo>
                  <a:lnTo>
                    <a:pt x="666623" y="591693"/>
                  </a:lnTo>
                  <a:lnTo>
                    <a:pt x="653288" y="593852"/>
                  </a:lnTo>
                  <a:lnTo>
                    <a:pt x="640969" y="595884"/>
                  </a:lnTo>
                  <a:lnTo>
                    <a:pt x="630047" y="597789"/>
                  </a:lnTo>
                  <a:lnTo>
                    <a:pt x="620268" y="599313"/>
                  </a:lnTo>
                  <a:lnTo>
                    <a:pt x="612140" y="600583"/>
                  </a:lnTo>
                  <a:lnTo>
                    <a:pt x="605536" y="601599"/>
                  </a:lnTo>
                  <a:lnTo>
                    <a:pt x="600456" y="602488"/>
                  </a:lnTo>
                  <a:lnTo>
                    <a:pt x="583565" y="605282"/>
                  </a:lnTo>
                  <a:lnTo>
                    <a:pt x="567817" y="607949"/>
                  </a:lnTo>
                  <a:lnTo>
                    <a:pt x="553085" y="610489"/>
                  </a:lnTo>
                  <a:lnTo>
                    <a:pt x="539369" y="612902"/>
                  </a:lnTo>
                  <a:lnTo>
                    <a:pt x="526542" y="615188"/>
                  </a:lnTo>
                  <a:lnTo>
                    <a:pt x="514604" y="617093"/>
                  </a:lnTo>
                  <a:lnTo>
                    <a:pt x="503428" y="618998"/>
                  </a:lnTo>
                  <a:lnTo>
                    <a:pt x="492887" y="620776"/>
                  </a:lnTo>
                  <a:lnTo>
                    <a:pt x="473964" y="623443"/>
                  </a:lnTo>
                  <a:lnTo>
                    <a:pt x="456946" y="625094"/>
                  </a:lnTo>
                  <a:lnTo>
                    <a:pt x="441452" y="625729"/>
                  </a:lnTo>
                  <a:lnTo>
                    <a:pt x="426974" y="625221"/>
                  </a:lnTo>
                  <a:lnTo>
                    <a:pt x="412623" y="623316"/>
                  </a:lnTo>
                  <a:lnTo>
                    <a:pt x="398399" y="620014"/>
                  </a:lnTo>
                  <a:lnTo>
                    <a:pt x="383286" y="615061"/>
                  </a:lnTo>
                  <a:lnTo>
                    <a:pt x="367157" y="608457"/>
                  </a:lnTo>
                  <a:lnTo>
                    <a:pt x="358394" y="604647"/>
                  </a:lnTo>
                  <a:lnTo>
                    <a:pt x="348996" y="600202"/>
                  </a:lnTo>
                  <a:lnTo>
                    <a:pt x="339090" y="595376"/>
                  </a:lnTo>
                  <a:lnTo>
                    <a:pt x="328549" y="590042"/>
                  </a:lnTo>
                  <a:lnTo>
                    <a:pt x="317246" y="584200"/>
                  </a:lnTo>
                  <a:lnTo>
                    <a:pt x="305181" y="577850"/>
                  </a:lnTo>
                  <a:lnTo>
                    <a:pt x="292227" y="570992"/>
                  </a:lnTo>
                  <a:lnTo>
                    <a:pt x="278257" y="563499"/>
                  </a:lnTo>
                  <a:lnTo>
                    <a:pt x="268478" y="558165"/>
                  </a:lnTo>
                  <a:lnTo>
                    <a:pt x="256921" y="551942"/>
                  </a:lnTo>
                  <a:lnTo>
                    <a:pt x="243586" y="544576"/>
                  </a:lnTo>
                  <a:lnTo>
                    <a:pt x="229235" y="536448"/>
                  </a:lnTo>
                  <a:lnTo>
                    <a:pt x="213868" y="527685"/>
                  </a:lnTo>
                  <a:lnTo>
                    <a:pt x="197866" y="518287"/>
                  </a:lnTo>
                  <a:lnTo>
                    <a:pt x="164719" y="498856"/>
                  </a:lnTo>
                  <a:lnTo>
                    <a:pt x="132334" y="479044"/>
                  </a:lnTo>
                  <a:lnTo>
                    <a:pt x="117221" y="469392"/>
                  </a:lnTo>
                  <a:lnTo>
                    <a:pt x="102997" y="459994"/>
                  </a:lnTo>
                  <a:lnTo>
                    <a:pt x="90043" y="451231"/>
                  </a:lnTo>
                  <a:lnTo>
                    <a:pt x="78867" y="442976"/>
                  </a:lnTo>
                  <a:lnTo>
                    <a:pt x="69596" y="435610"/>
                  </a:lnTo>
                  <a:lnTo>
                    <a:pt x="62357" y="429006"/>
                  </a:lnTo>
                  <a:lnTo>
                    <a:pt x="55372" y="421640"/>
                  </a:lnTo>
                  <a:lnTo>
                    <a:pt x="48260" y="412750"/>
                  </a:lnTo>
                  <a:lnTo>
                    <a:pt x="41275" y="402717"/>
                  </a:lnTo>
                  <a:lnTo>
                    <a:pt x="35179" y="391414"/>
                  </a:lnTo>
                  <a:lnTo>
                    <a:pt x="30480" y="379349"/>
                  </a:lnTo>
                  <a:lnTo>
                    <a:pt x="27686" y="366776"/>
                  </a:lnTo>
                  <a:lnTo>
                    <a:pt x="27559" y="353568"/>
                  </a:lnTo>
                  <a:lnTo>
                    <a:pt x="30480" y="340487"/>
                  </a:lnTo>
                  <a:lnTo>
                    <a:pt x="5588" y="3440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28"/>
          <p:cNvGrpSpPr/>
          <p:nvPr/>
        </p:nvGrpSpPr>
        <p:grpSpPr>
          <a:xfrm>
            <a:off x="3865320" y="3808800"/>
            <a:ext cx="1621440" cy="1109160"/>
            <a:chOff x="3865320" y="3808800"/>
            <a:chExt cx="1621440" cy="1109160"/>
          </a:xfrm>
        </p:grpSpPr>
        <p:sp>
          <p:nvSpPr>
            <p:cNvPr id="265" name="Freeform: Shape 122"/>
            <p:cNvSpPr/>
            <p:nvPr/>
          </p:nvSpPr>
          <p:spPr>
            <a:xfrm rot="20428800">
              <a:off x="3960360" y="4177440"/>
              <a:ext cx="1487880" cy="484560"/>
            </a:xfrm>
            <a:custGeom>
              <a:avLst/>
              <a:gdLst>
                <a:gd name="textAreaLeft" fmla="*/ 0 w 1487880"/>
                <a:gd name="textAreaRight" fmla="*/ 1488240 w 148788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1486535" h="485395">
                  <a:moveTo>
                    <a:pt x="8508" y="199771"/>
                  </a:moveTo>
                  <a:lnTo>
                    <a:pt x="19303" y="187833"/>
                  </a:lnTo>
                  <a:lnTo>
                    <a:pt x="32003" y="175006"/>
                  </a:lnTo>
                  <a:lnTo>
                    <a:pt x="46354" y="161544"/>
                  </a:lnTo>
                  <a:lnTo>
                    <a:pt x="62356" y="147320"/>
                  </a:lnTo>
                  <a:lnTo>
                    <a:pt x="79755" y="132715"/>
                  </a:lnTo>
                  <a:lnTo>
                    <a:pt x="98297" y="117983"/>
                  </a:lnTo>
                  <a:lnTo>
                    <a:pt x="117855" y="103124"/>
                  </a:lnTo>
                  <a:lnTo>
                    <a:pt x="158876" y="73660"/>
                  </a:lnTo>
                  <a:lnTo>
                    <a:pt x="201294" y="45720"/>
                  </a:lnTo>
                  <a:lnTo>
                    <a:pt x="222503" y="32893"/>
                  </a:lnTo>
                  <a:lnTo>
                    <a:pt x="243331" y="20828"/>
                  </a:lnTo>
                  <a:lnTo>
                    <a:pt x="264032" y="9779"/>
                  </a:lnTo>
                  <a:lnTo>
                    <a:pt x="283717" y="0"/>
                  </a:lnTo>
                  <a:lnTo>
                    <a:pt x="295655" y="5842"/>
                  </a:lnTo>
                  <a:lnTo>
                    <a:pt x="308482" y="12319"/>
                  </a:lnTo>
                  <a:lnTo>
                    <a:pt x="321817" y="19431"/>
                  </a:lnTo>
                  <a:lnTo>
                    <a:pt x="336041" y="27051"/>
                  </a:lnTo>
                  <a:lnTo>
                    <a:pt x="350900" y="35306"/>
                  </a:lnTo>
                  <a:lnTo>
                    <a:pt x="366140" y="43942"/>
                  </a:lnTo>
                  <a:lnTo>
                    <a:pt x="398271" y="62611"/>
                  </a:lnTo>
                  <a:lnTo>
                    <a:pt x="431545" y="82550"/>
                  </a:lnTo>
                  <a:lnTo>
                    <a:pt x="465962" y="103251"/>
                  </a:lnTo>
                  <a:lnTo>
                    <a:pt x="534923" y="145923"/>
                  </a:lnTo>
                  <a:lnTo>
                    <a:pt x="568451" y="166751"/>
                  </a:lnTo>
                  <a:lnTo>
                    <a:pt x="600709" y="186944"/>
                  </a:lnTo>
                  <a:lnTo>
                    <a:pt x="631189" y="205867"/>
                  </a:lnTo>
                  <a:lnTo>
                    <a:pt x="645413" y="214757"/>
                  </a:lnTo>
                  <a:lnTo>
                    <a:pt x="659002" y="223266"/>
                  </a:lnTo>
                  <a:lnTo>
                    <a:pt x="671956" y="231140"/>
                  </a:lnTo>
                  <a:lnTo>
                    <a:pt x="683894" y="238633"/>
                  </a:lnTo>
                  <a:lnTo>
                    <a:pt x="695197" y="245491"/>
                  </a:lnTo>
                  <a:lnTo>
                    <a:pt x="705484" y="251587"/>
                  </a:lnTo>
                  <a:lnTo>
                    <a:pt x="714628" y="257048"/>
                  </a:lnTo>
                  <a:lnTo>
                    <a:pt x="722756" y="261747"/>
                  </a:lnTo>
                  <a:lnTo>
                    <a:pt x="729868" y="265557"/>
                  </a:lnTo>
                  <a:lnTo>
                    <a:pt x="735583" y="268732"/>
                  </a:lnTo>
                  <a:lnTo>
                    <a:pt x="756284" y="265303"/>
                  </a:lnTo>
                  <a:lnTo>
                    <a:pt x="777747" y="261620"/>
                  </a:lnTo>
                  <a:lnTo>
                    <a:pt x="799972" y="257429"/>
                  </a:lnTo>
                  <a:lnTo>
                    <a:pt x="822832" y="253111"/>
                  </a:lnTo>
                  <a:lnTo>
                    <a:pt x="870203" y="243459"/>
                  </a:lnTo>
                  <a:lnTo>
                    <a:pt x="919606" y="232664"/>
                  </a:lnTo>
                  <a:lnTo>
                    <a:pt x="970152" y="221361"/>
                  </a:lnTo>
                  <a:lnTo>
                    <a:pt x="1021714" y="209423"/>
                  </a:lnTo>
                  <a:lnTo>
                    <a:pt x="1125981" y="185039"/>
                  </a:lnTo>
                  <a:lnTo>
                    <a:pt x="1177543" y="173101"/>
                  </a:lnTo>
                  <a:lnTo>
                    <a:pt x="1228216" y="161544"/>
                  </a:lnTo>
                  <a:lnTo>
                    <a:pt x="1277492" y="150368"/>
                  </a:lnTo>
                  <a:lnTo>
                    <a:pt x="1324990" y="140335"/>
                  </a:lnTo>
                  <a:lnTo>
                    <a:pt x="1347850" y="135636"/>
                  </a:lnTo>
                  <a:lnTo>
                    <a:pt x="1369948" y="131191"/>
                  </a:lnTo>
                  <a:lnTo>
                    <a:pt x="1391538" y="127254"/>
                  </a:lnTo>
                  <a:lnTo>
                    <a:pt x="1412366" y="123571"/>
                  </a:lnTo>
                  <a:lnTo>
                    <a:pt x="1432305" y="120269"/>
                  </a:lnTo>
                  <a:lnTo>
                    <a:pt x="1451228" y="117348"/>
                  </a:lnTo>
                  <a:lnTo>
                    <a:pt x="1469389" y="114935"/>
                  </a:lnTo>
                  <a:lnTo>
                    <a:pt x="1486534" y="112903"/>
                  </a:lnTo>
                  <a:lnTo>
                    <a:pt x="1472310" y="133096"/>
                  </a:lnTo>
                  <a:lnTo>
                    <a:pt x="1457705" y="152400"/>
                  </a:lnTo>
                  <a:lnTo>
                    <a:pt x="1442465" y="170815"/>
                  </a:lnTo>
                  <a:lnTo>
                    <a:pt x="1426717" y="188341"/>
                  </a:lnTo>
                  <a:lnTo>
                    <a:pt x="1410715" y="205105"/>
                  </a:lnTo>
                  <a:lnTo>
                    <a:pt x="1394332" y="220980"/>
                  </a:lnTo>
                  <a:lnTo>
                    <a:pt x="1361058" y="250698"/>
                  </a:lnTo>
                  <a:lnTo>
                    <a:pt x="1327530" y="277749"/>
                  </a:lnTo>
                  <a:lnTo>
                    <a:pt x="1294637" y="302260"/>
                  </a:lnTo>
                  <a:lnTo>
                    <a:pt x="1278635" y="313817"/>
                  </a:lnTo>
                  <a:lnTo>
                    <a:pt x="1262887" y="324612"/>
                  </a:lnTo>
                  <a:lnTo>
                    <a:pt x="1247774" y="335026"/>
                  </a:lnTo>
                  <a:lnTo>
                    <a:pt x="1233169" y="344932"/>
                  </a:lnTo>
                  <a:lnTo>
                    <a:pt x="1177670" y="358140"/>
                  </a:lnTo>
                  <a:lnTo>
                    <a:pt x="1121155" y="371094"/>
                  </a:lnTo>
                  <a:lnTo>
                    <a:pt x="1006347" y="396113"/>
                  </a:lnTo>
                  <a:lnTo>
                    <a:pt x="891285" y="419354"/>
                  </a:lnTo>
                  <a:lnTo>
                    <a:pt x="834389" y="430148"/>
                  </a:lnTo>
                  <a:lnTo>
                    <a:pt x="778255" y="440309"/>
                  </a:lnTo>
                  <a:lnTo>
                    <a:pt x="723518" y="449707"/>
                  </a:lnTo>
                  <a:lnTo>
                    <a:pt x="670051" y="458088"/>
                  </a:lnTo>
                  <a:lnTo>
                    <a:pt x="618362" y="465582"/>
                  </a:lnTo>
                  <a:lnTo>
                    <a:pt x="568705" y="472059"/>
                  </a:lnTo>
                  <a:lnTo>
                    <a:pt x="544702" y="474852"/>
                  </a:lnTo>
                  <a:lnTo>
                    <a:pt x="521334" y="477393"/>
                  </a:lnTo>
                  <a:lnTo>
                    <a:pt x="498728" y="479425"/>
                  </a:lnTo>
                  <a:lnTo>
                    <a:pt x="476757" y="481329"/>
                  </a:lnTo>
                  <a:lnTo>
                    <a:pt x="455548" y="482853"/>
                  </a:lnTo>
                  <a:lnTo>
                    <a:pt x="435101" y="484123"/>
                  </a:lnTo>
                  <a:lnTo>
                    <a:pt x="415544" y="485013"/>
                  </a:lnTo>
                  <a:lnTo>
                    <a:pt x="396747" y="485394"/>
                  </a:lnTo>
                  <a:lnTo>
                    <a:pt x="370585" y="474472"/>
                  </a:lnTo>
                  <a:lnTo>
                    <a:pt x="342519" y="462534"/>
                  </a:lnTo>
                  <a:lnTo>
                    <a:pt x="313181" y="449579"/>
                  </a:lnTo>
                  <a:lnTo>
                    <a:pt x="282828" y="435483"/>
                  </a:lnTo>
                  <a:lnTo>
                    <a:pt x="251967" y="420623"/>
                  </a:lnTo>
                  <a:lnTo>
                    <a:pt x="220979" y="404876"/>
                  </a:lnTo>
                  <a:lnTo>
                    <a:pt x="190372" y="388366"/>
                  </a:lnTo>
                  <a:lnTo>
                    <a:pt x="160654" y="370840"/>
                  </a:lnTo>
                  <a:lnTo>
                    <a:pt x="131825" y="352806"/>
                  </a:lnTo>
                  <a:lnTo>
                    <a:pt x="104901" y="334010"/>
                  </a:lnTo>
                  <a:lnTo>
                    <a:pt x="79755" y="314706"/>
                  </a:lnTo>
                  <a:lnTo>
                    <a:pt x="57150" y="294767"/>
                  </a:lnTo>
                  <a:lnTo>
                    <a:pt x="37464" y="274320"/>
                  </a:lnTo>
                  <a:lnTo>
                    <a:pt x="28828" y="264033"/>
                  </a:lnTo>
                  <a:lnTo>
                    <a:pt x="21081" y="253492"/>
                  </a:lnTo>
                  <a:lnTo>
                    <a:pt x="14350" y="242951"/>
                  </a:lnTo>
                  <a:lnTo>
                    <a:pt x="8508" y="232283"/>
                  </a:lnTo>
                  <a:lnTo>
                    <a:pt x="3555" y="221488"/>
                  </a:lnTo>
                  <a:lnTo>
                    <a:pt x="0" y="210693"/>
                  </a:lnTo>
                  <a:lnTo>
                    <a:pt x="8508" y="199771"/>
                  </a:lnTo>
                  <a:close/>
                </a:path>
              </a:pathLst>
            </a:custGeom>
            <a:solidFill>
              <a:srgbClr val="89bb89"/>
            </a:solidFill>
            <a:ln w="0">
              <a:solidFill>
                <a:srgbClr val="89bb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: Shape 123"/>
            <p:cNvSpPr/>
            <p:nvPr/>
          </p:nvSpPr>
          <p:spPr>
            <a:xfrm rot="20428800">
              <a:off x="4176000" y="4010400"/>
              <a:ext cx="1190880" cy="40680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1190498" h="406148">
                  <a:moveTo>
                    <a:pt x="35941" y="131445"/>
                  </a:moveTo>
                  <a:lnTo>
                    <a:pt x="73914" y="122428"/>
                  </a:lnTo>
                  <a:lnTo>
                    <a:pt x="113538" y="113538"/>
                  </a:lnTo>
                  <a:lnTo>
                    <a:pt x="154940" y="104775"/>
                  </a:lnTo>
                  <a:lnTo>
                    <a:pt x="197612" y="96139"/>
                  </a:lnTo>
                  <a:lnTo>
                    <a:pt x="241681" y="87503"/>
                  </a:lnTo>
                  <a:lnTo>
                    <a:pt x="286766" y="78867"/>
                  </a:lnTo>
                  <a:lnTo>
                    <a:pt x="332740" y="70231"/>
                  </a:lnTo>
                  <a:lnTo>
                    <a:pt x="426591" y="53086"/>
                  </a:lnTo>
                  <a:lnTo>
                    <a:pt x="521970" y="35687"/>
                  </a:lnTo>
                  <a:lnTo>
                    <a:pt x="617347" y="18034"/>
                  </a:lnTo>
                  <a:lnTo>
                    <a:pt x="711200" y="0"/>
                  </a:lnTo>
                  <a:lnTo>
                    <a:pt x="778256" y="25908"/>
                  </a:lnTo>
                  <a:lnTo>
                    <a:pt x="845691" y="53340"/>
                  </a:lnTo>
                  <a:lnTo>
                    <a:pt x="912493" y="82423"/>
                  </a:lnTo>
                  <a:lnTo>
                    <a:pt x="945133" y="97536"/>
                  </a:lnTo>
                  <a:lnTo>
                    <a:pt x="977136" y="113030"/>
                  </a:lnTo>
                  <a:lnTo>
                    <a:pt x="1008378" y="128905"/>
                  </a:lnTo>
                  <a:lnTo>
                    <a:pt x="1038478" y="145288"/>
                  </a:lnTo>
                  <a:lnTo>
                    <a:pt x="1067687" y="162179"/>
                  </a:lnTo>
                  <a:lnTo>
                    <a:pt x="1095373" y="179451"/>
                  </a:lnTo>
                  <a:lnTo>
                    <a:pt x="1121790" y="197231"/>
                  </a:lnTo>
                  <a:lnTo>
                    <a:pt x="1146428" y="215519"/>
                  </a:lnTo>
                  <a:lnTo>
                    <a:pt x="1169415" y="234188"/>
                  </a:lnTo>
                  <a:lnTo>
                    <a:pt x="1190497" y="253492"/>
                  </a:lnTo>
                  <a:lnTo>
                    <a:pt x="1175637" y="259080"/>
                  </a:lnTo>
                  <a:lnTo>
                    <a:pt x="1159509" y="264795"/>
                  </a:lnTo>
                  <a:lnTo>
                    <a:pt x="1142491" y="270510"/>
                  </a:lnTo>
                  <a:lnTo>
                    <a:pt x="1124456" y="276098"/>
                  </a:lnTo>
                  <a:lnTo>
                    <a:pt x="1105406" y="281686"/>
                  </a:lnTo>
                  <a:lnTo>
                    <a:pt x="1085467" y="287401"/>
                  </a:lnTo>
                  <a:lnTo>
                    <a:pt x="1043177" y="298196"/>
                  </a:lnTo>
                  <a:lnTo>
                    <a:pt x="997965" y="309118"/>
                  </a:lnTo>
                  <a:lnTo>
                    <a:pt x="950340" y="319660"/>
                  </a:lnTo>
                  <a:lnTo>
                    <a:pt x="900810" y="330073"/>
                  </a:lnTo>
                  <a:lnTo>
                    <a:pt x="849755" y="340107"/>
                  </a:lnTo>
                  <a:lnTo>
                    <a:pt x="797685" y="349759"/>
                  </a:lnTo>
                  <a:lnTo>
                    <a:pt x="744980" y="359029"/>
                  </a:lnTo>
                  <a:lnTo>
                    <a:pt x="639697" y="376683"/>
                  </a:lnTo>
                  <a:lnTo>
                    <a:pt x="588135" y="384684"/>
                  </a:lnTo>
                  <a:lnTo>
                    <a:pt x="537591" y="392304"/>
                  </a:lnTo>
                  <a:lnTo>
                    <a:pt x="489077" y="399543"/>
                  </a:lnTo>
                  <a:lnTo>
                    <a:pt x="442595" y="406147"/>
                  </a:lnTo>
                  <a:lnTo>
                    <a:pt x="412877" y="390018"/>
                  </a:lnTo>
                  <a:lnTo>
                    <a:pt x="382397" y="373635"/>
                  </a:lnTo>
                  <a:lnTo>
                    <a:pt x="319785" y="340107"/>
                  </a:lnTo>
                  <a:lnTo>
                    <a:pt x="256667" y="306197"/>
                  </a:lnTo>
                  <a:lnTo>
                    <a:pt x="194945" y="272161"/>
                  </a:lnTo>
                  <a:lnTo>
                    <a:pt x="165227" y="255143"/>
                  </a:lnTo>
                  <a:lnTo>
                    <a:pt x="136525" y="238252"/>
                  </a:lnTo>
                  <a:lnTo>
                    <a:pt x="109220" y="221488"/>
                  </a:lnTo>
                  <a:lnTo>
                    <a:pt x="83312" y="204724"/>
                  </a:lnTo>
                  <a:lnTo>
                    <a:pt x="59182" y="188214"/>
                  </a:lnTo>
                  <a:lnTo>
                    <a:pt x="37084" y="172085"/>
                  </a:lnTo>
                  <a:lnTo>
                    <a:pt x="17272" y="156083"/>
                  </a:lnTo>
                  <a:lnTo>
                    <a:pt x="0" y="140462"/>
                  </a:lnTo>
                  <a:lnTo>
                    <a:pt x="35941" y="131445"/>
                  </a:lnTo>
                  <a:close/>
                </a:path>
              </a:pathLst>
            </a:custGeom>
            <a:solidFill>
              <a:srgbClr val="91d394"/>
            </a:solidFill>
            <a:ln w="0">
              <a:solidFill>
                <a:srgbClr val="91d3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: Shape 124"/>
            <p:cNvSpPr/>
            <p:nvPr/>
          </p:nvSpPr>
          <p:spPr>
            <a:xfrm rot="20428800">
              <a:off x="4231800" y="4288680"/>
              <a:ext cx="387360" cy="219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86844" h="219584">
                  <a:moveTo>
                    <a:pt x="4064" y="0"/>
                  </a:moveTo>
                  <a:lnTo>
                    <a:pt x="29211" y="11811"/>
                  </a:lnTo>
                  <a:lnTo>
                    <a:pt x="53721" y="24384"/>
                  </a:lnTo>
                  <a:lnTo>
                    <a:pt x="101473" y="50419"/>
                  </a:lnTo>
                  <a:lnTo>
                    <a:pt x="148082" y="77724"/>
                  </a:lnTo>
                  <a:lnTo>
                    <a:pt x="194183" y="105664"/>
                  </a:lnTo>
                  <a:lnTo>
                    <a:pt x="240412" y="133350"/>
                  </a:lnTo>
                  <a:lnTo>
                    <a:pt x="287401" y="160274"/>
                  </a:lnTo>
                  <a:lnTo>
                    <a:pt x="311405" y="173228"/>
                  </a:lnTo>
                  <a:lnTo>
                    <a:pt x="335789" y="185674"/>
                  </a:lnTo>
                  <a:lnTo>
                    <a:pt x="360808" y="197612"/>
                  </a:lnTo>
                  <a:lnTo>
                    <a:pt x="386589" y="208915"/>
                  </a:lnTo>
                  <a:lnTo>
                    <a:pt x="386843" y="211582"/>
                  </a:lnTo>
                  <a:lnTo>
                    <a:pt x="385826" y="213233"/>
                  </a:lnTo>
                  <a:lnTo>
                    <a:pt x="383922" y="214249"/>
                  </a:lnTo>
                  <a:lnTo>
                    <a:pt x="381509" y="214757"/>
                  </a:lnTo>
                  <a:lnTo>
                    <a:pt x="377064" y="216281"/>
                  </a:lnTo>
                  <a:lnTo>
                    <a:pt x="375921" y="217551"/>
                  </a:lnTo>
                  <a:lnTo>
                    <a:pt x="375921" y="219583"/>
                  </a:lnTo>
                  <a:lnTo>
                    <a:pt x="350520" y="208788"/>
                  </a:lnTo>
                  <a:lnTo>
                    <a:pt x="325501" y="197358"/>
                  </a:lnTo>
                  <a:lnTo>
                    <a:pt x="301245" y="185420"/>
                  </a:lnTo>
                  <a:lnTo>
                    <a:pt x="277242" y="172974"/>
                  </a:lnTo>
                  <a:lnTo>
                    <a:pt x="230506" y="147193"/>
                  </a:lnTo>
                  <a:lnTo>
                    <a:pt x="184786" y="120396"/>
                  </a:lnTo>
                  <a:lnTo>
                    <a:pt x="93980" y="66167"/>
                  </a:lnTo>
                  <a:lnTo>
                    <a:pt x="47752" y="39624"/>
                  </a:lnTo>
                  <a:lnTo>
                    <a:pt x="508" y="14224"/>
                  </a:lnTo>
                  <a:lnTo>
                    <a:pt x="0" y="11430"/>
                  </a:lnTo>
                  <a:lnTo>
                    <a:pt x="0" y="9144"/>
                  </a:lnTo>
                  <a:lnTo>
                    <a:pt x="1017" y="5842"/>
                  </a:lnTo>
                  <a:lnTo>
                    <a:pt x="2667" y="304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: Shape 125"/>
            <p:cNvSpPr/>
            <p:nvPr/>
          </p:nvSpPr>
          <p:spPr>
            <a:xfrm rot="20428800">
              <a:off x="4654800" y="4199760"/>
              <a:ext cx="716040" cy="1555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15644" h="155829">
                  <a:moveTo>
                    <a:pt x="3937" y="138176"/>
                  </a:moveTo>
                  <a:lnTo>
                    <a:pt x="37209" y="127508"/>
                  </a:lnTo>
                  <a:lnTo>
                    <a:pt x="71627" y="118618"/>
                  </a:lnTo>
                  <a:lnTo>
                    <a:pt x="107059" y="110998"/>
                  </a:lnTo>
                  <a:lnTo>
                    <a:pt x="143635" y="104394"/>
                  </a:lnTo>
                  <a:lnTo>
                    <a:pt x="180591" y="98552"/>
                  </a:lnTo>
                  <a:lnTo>
                    <a:pt x="218184" y="92964"/>
                  </a:lnTo>
                  <a:lnTo>
                    <a:pt x="294258" y="81407"/>
                  </a:lnTo>
                  <a:lnTo>
                    <a:pt x="314323" y="77851"/>
                  </a:lnTo>
                  <a:lnTo>
                    <a:pt x="334771" y="73660"/>
                  </a:lnTo>
                  <a:lnTo>
                    <a:pt x="375918" y="64262"/>
                  </a:lnTo>
                  <a:lnTo>
                    <a:pt x="416940" y="54610"/>
                  </a:lnTo>
                  <a:lnTo>
                    <a:pt x="457198" y="45974"/>
                  </a:lnTo>
                  <a:lnTo>
                    <a:pt x="488566" y="39497"/>
                  </a:lnTo>
                  <a:lnTo>
                    <a:pt x="519302" y="32639"/>
                  </a:lnTo>
                  <a:lnTo>
                    <a:pt x="580641" y="18923"/>
                  </a:lnTo>
                  <a:lnTo>
                    <a:pt x="611629" y="12573"/>
                  </a:lnTo>
                  <a:lnTo>
                    <a:pt x="643887" y="7112"/>
                  </a:lnTo>
                  <a:lnTo>
                    <a:pt x="677160" y="2921"/>
                  </a:lnTo>
                  <a:lnTo>
                    <a:pt x="712085" y="0"/>
                  </a:lnTo>
                  <a:lnTo>
                    <a:pt x="715643" y="6985"/>
                  </a:lnTo>
                  <a:lnTo>
                    <a:pt x="617979" y="28956"/>
                  </a:lnTo>
                  <a:lnTo>
                    <a:pt x="519554" y="52324"/>
                  </a:lnTo>
                  <a:lnTo>
                    <a:pt x="420877" y="75057"/>
                  </a:lnTo>
                  <a:lnTo>
                    <a:pt x="371728" y="85725"/>
                  </a:lnTo>
                  <a:lnTo>
                    <a:pt x="322577" y="95631"/>
                  </a:lnTo>
                  <a:lnTo>
                    <a:pt x="281684" y="102870"/>
                  </a:lnTo>
                  <a:lnTo>
                    <a:pt x="240283" y="109474"/>
                  </a:lnTo>
                  <a:lnTo>
                    <a:pt x="157478" y="121793"/>
                  </a:lnTo>
                  <a:lnTo>
                    <a:pt x="116711" y="128524"/>
                  </a:lnTo>
                  <a:lnTo>
                    <a:pt x="76581" y="136143"/>
                  </a:lnTo>
                  <a:lnTo>
                    <a:pt x="37716" y="145033"/>
                  </a:lnTo>
                  <a:lnTo>
                    <a:pt x="18795" y="150113"/>
                  </a:lnTo>
                  <a:lnTo>
                    <a:pt x="381" y="155828"/>
                  </a:lnTo>
                  <a:lnTo>
                    <a:pt x="0" y="149986"/>
                  </a:lnTo>
                  <a:lnTo>
                    <a:pt x="634" y="145414"/>
                  </a:lnTo>
                  <a:lnTo>
                    <a:pt x="1903" y="141477"/>
                  </a:lnTo>
                  <a:lnTo>
                    <a:pt x="3937" y="1381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: Shape 126"/>
            <p:cNvSpPr/>
            <p:nvPr/>
          </p:nvSpPr>
          <p:spPr>
            <a:xfrm rot="20428800">
              <a:off x="4471920" y="4509720"/>
              <a:ext cx="226800" cy="16524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7331" h="166371">
                  <a:moveTo>
                    <a:pt x="216154" y="0"/>
                  </a:moveTo>
                  <a:lnTo>
                    <a:pt x="217678" y="1143"/>
                  </a:lnTo>
                  <a:lnTo>
                    <a:pt x="219456" y="1905"/>
                  </a:lnTo>
                  <a:lnTo>
                    <a:pt x="223774" y="3048"/>
                  </a:lnTo>
                  <a:lnTo>
                    <a:pt x="225552" y="3937"/>
                  </a:lnTo>
                  <a:lnTo>
                    <a:pt x="226822" y="5207"/>
                  </a:lnTo>
                  <a:lnTo>
                    <a:pt x="227330" y="7366"/>
                  </a:lnTo>
                  <a:lnTo>
                    <a:pt x="226822" y="10668"/>
                  </a:lnTo>
                  <a:lnTo>
                    <a:pt x="195453" y="26416"/>
                  </a:lnTo>
                  <a:lnTo>
                    <a:pt x="165989" y="43688"/>
                  </a:lnTo>
                  <a:lnTo>
                    <a:pt x="137668" y="62357"/>
                  </a:lnTo>
                  <a:lnTo>
                    <a:pt x="110490" y="82042"/>
                  </a:lnTo>
                  <a:lnTo>
                    <a:pt x="83947" y="102489"/>
                  </a:lnTo>
                  <a:lnTo>
                    <a:pt x="58039" y="123571"/>
                  </a:lnTo>
                  <a:lnTo>
                    <a:pt x="7112" y="166370"/>
                  </a:lnTo>
                  <a:lnTo>
                    <a:pt x="0" y="162814"/>
                  </a:lnTo>
                  <a:lnTo>
                    <a:pt x="23749" y="139065"/>
                  </a:lnTo>
                  <a:lnTo>
                    <a:pt x="48133" y="116205"/>
                  </a:lnTo>
                  <a:lnTo>
                    <a:pt x="73660" y="94361"/>
                  </a:lnTo>
                  <a:lnTo>
                    <a:pt x="100076" y="73533"/>
                  </a:lnTo>
                  <a:lnTo>
                    <a:pt x="127635" y="53594"/>
                  </a:lnTo>
                  <a:lnTo>
                    <a:pt x="156083" y="34671"/>
                  </a:lnTo>
                  <a:lnTo>
                    <a:pt x="185547" y="16891"/>
                  </a:lnTo>
                  <a:lnTo>
                    <a:pt x="216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: Shape 127"/>
            <p:cNvSpPr/>
            <p:nvPr/>
          </p:nvSpPr>
          <p:spPr>
            <a:xfrm rot="20428800">
              <a:off x="3930480" y="4039200"/>
              <a:ext cx="1490760" cy="64800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490218" h="648463">
                  <a:moveTo>
                    <a:pt x="5588" y="344043"/>
                  </a:moveTo>
                  <a:lnTo>
                    <a:pt x="54610" y="302387"/>
                  </a:lnTo>
                  <a:lnTo>
                    <a:pt x="104775" y="260604"/>
                  </a:lnTo>
                  <a:lnTo>
                    <a:pt x="155956" y="219837"/>
                  </a:lnTo>
                  <a:lnTo>
                    <a:pt x="207518" y="181102"/>
                  </a:lnTo>
                  <a:lnTo>
                    <a:pt x="219837" y="172212"/>
                  </a:lnTo>
                  <a:lnTo>
                    <a:pt x="230759" y="164592"/>
                  </a:lnTo>
                  <a:lnTo>
                    <a:pt x="240157" y="157988"/>
                  </a:lnTo>
                  <a:lnTo>
                    <a:pt x="248539" y="152527"/>
                  </a:lnTo>
                  <a:lnTo>
                    <a:pt x="256032" y="147955"/>
                  </a:lnTo>
                  <a:lnTo>
                    <a:pt x="263017" y="143891"/>
                  </a:lnTo>
                  <a:lnTo>
                    <a:pt x="276479" y="137922"/>
                  </a:lnTo>
                  <a:lnTo>
                    <a:pt x="291211" y="133096"/>
                  </a:lnTo>
                  <a:lnTo>
                    <a:pt x="299593" y="131064"/>
                  </a:lnTo>
                  <a:lnTo>
                    <a:pt x="309245" y="128778"/>
                  </a:lnTo>
                  <a:lnTo>
                    <a:pt x="320040" y="126492"/>
                  </a:lnTo>
                  <a:lnTo>
                    <a:pt x="332613" y="123698"/>
                  </a:lnTo>
                  <a:lnTo>
                    <a:pt x="347091" y="120650"/>
                  </a:lnTo>
                  <a:lnTo>
                    <a:pt x="363855" y="116967"/>
                  </a:lnTo>
                  <a:lnTo>
                    <a:pt x="364998" y="116713"/>
                  </a:lnTo>
                  <a:lnTo>
                    <a:pt x="367030" y="116205"/>
                  </a:lnTo>
                  <a:lnTo>
                    <a:pt x="373380" y="114935"/>
                  </a:lnTo>
                  <a:lnTo>
                    <a:pt x="382524" y="113284"/>
                  </a:lnTo>
                  <a:lnTo>
                    <a:pt x="394716" y="110871"/>
                  </a:lnTo>
                  <a:lnTo>
                    <a:pt x="409067" y="108077"/>
                  </a:lnTo>
                  <a:lnTo>
                    <a:pt x="425831" y="104902"/>
                  </a:lnTo>
                  <a:lnTo>
                    <a:pt x="444754" y="101346"/>
                  </a:lnTo>
                  <a:lnTo>
                    <a:pt x="465455" y="97282"/>
                  </a:lnTo>
                  <a:lnTo>
                    <a:pt x="487807" y="92964"/>
                  </a:lnTo>
                  <a:lnTo>
                    <a:pt x="511683" y="88392"/>
                  </a:lnTo>
                  <a:lnTo>
                    <a:pt x="536701" y="83693"/>
                  </a:lnTo>
                  <a:lnTo>
                    <a:pt x="562864" y="78613"/>
                  </a:lnTo>
                  <a:lnTo>
                    <a:pt x="617220" y="68199"/>
                  </a:lnTo>
                  <a:lnTo>
                    <a:pt x="673354" y="57658"/>
                  </a:lnTo>
                  <a:lnTo>
                    <a:pt x="729234" y="46990"/>
                  </a:lnTo>
                  <a:lnTo>
                    <a:pt x="783462" y="36703"/>
                  </a:lnTo>
                  <a:lnTo>
                    <a:pt x="809243" y="31750"/>
                  </a:lnTo>
                  <a:lnTo>
                    <a:pt x="834009" y="27051"/>
                  </a:lnTo>
                  <a:lnTo>
                    <a:pt x="857504" y="22606"/>
                  </a:lnTo>
                  <a:lnTo>
                    <a:pt x="879474" y="18542"/>
                  </a:lnTo>
                  <a:lnTo>
                    <a:pt x="899794" y="14605"/>
                  </a:lnTo>
                  <a:lnTo>
                    <a:pt x="918210" y="11303"/>
                  </a:lnTo>
                  <a:lnTo>
                    <a:pt x="934338" y="8255"/>
                  </a:lnTo>
                  <a:lnTo>
                    <a:pt x="948181" y="5588"/>
                  </a:lnTo>
                  <a:lnTo>
                    <a:pt x="959484" y="3556"/>
                  </a:lnTo>
                  <a:lnTo>
                    <a:pt x="967993" y="1905"/>
                  </a:lnTo>
                  <a:lnTo>
                    <a:pt x="971168" y="1397"/>
                  </a:lnTo>
                  <a:lnTo>
                    <a:pt x="973454" y="889"/>
                  </a:lnTo>
                  <a:lnTo>
                    <a:pt x="975105" y="635"/>
                  </a:lnTo>
                  <a:lnTo>
                    <a:pt x="975867" y="508"/>
                  </a:lnTo>
                  <a:lnTo>
                    <a:pt x="988821" y="0"/>
                  </a:lnTo>
                  <a:lnTo>
                    <a:pt x="1002283" y="889"/>
                  </a:lnTo>
                  <a:lnTo>
                    <a:pt x="1016126" y="3048"/>
                  </a:lnTo>
                  <a:lnTo>
                    <a:pt x="1030350" y="6223"/>
                  </a:lnTo>
                  <a:lnTo>
                    <a:pt x="1044574" y="10287"/>
                  </a:lnTo>
                  <a:lnTo>
                    <a:pt x="1058925" y="15240"/>
                  </a:lnTo>
                  <a:lnTo>
                    <a:pt x="1087500" y="26797"/>
                  </a:lnTo>
                  <a:lnTo>
                    <a:pt x="1115186" y="39751"/>
                  </a:lnTo>
                  <a:lnTo>
                    <a:pt x="1141094" y="52832"/>
                  </a:lnTo>
                  <a:lnTo>
                    <a:pt x="1153159" y="59055"/>
                  </a:lnTo>
                  <a:lnTo>
                    <a:pt x="1164589" y="64897"/>
                  </a:lnTo>
                  <a:lnTo>
                    <a:pt x="1175130" y="70231"/>
                  </a:lnTo>
                  <a:lnTo>
                    <a:pt x="1184655" y="74803"/>
                  </a:lnTo>
                  <a:lnTo>
                    <a:pt x="1224152" y="93726"/>
                  </a:lnTo>
                  <a:lnTo>
                    <a:pt x="1262887" y="113411"/>
                  </a:lnTo>
                  <a:lnTo>
                    <a:pt x="1300987" y="133731"/>
                  </a:lnTo>
                  <a:lnTo>
                    <a:pt x="1338579" y="154686"/>
                  </a:lnTo>
                  <a:lnTo>
                    <a:pt x="1412748" y="197612"/>
                  </a:lnTo>
                  <a:lnTo>
                    <a:pt x="1485773" y="241300"/>
                  </a:lnTo>
                  <a:lnTo>
                    <a:pt x="1486915" y="243459"/>
                  </a:lnTo>
                  <a:lnTo>
                    <a:pt x="1488058" y="247523"/>
                  </a:lnTo>
                  <a:lnTo>
                    <a:pt x="1488948" y="252984"/>
                  </a:lnTo>
                  <a:lnTo>
                    <a:pt x="1489709" y="259207"/>
                  </a:lnTo>
                  <a:lnTo>
                    <a:pt x="1490217" y="271526"/>
                  </a:lnTo>
                  <a:lnTo>
                    <a:pt x="1489963" y="276606"/>
                  </a:lnTo>
                  <a:lnTo>
                    <a:pt x="1489328" y="280162"/>
                  </a:lnTo>
                  <a:lnTo>
                    <a:pt x="1488439" y="282448"/>
                  </a:lnTo>
                  <a:lnTo>
                    <a:pt x="1486915" y="284988"/>
                  </a:lnTo>
                  <a:lnTo>
                    <a:pt x="1482343" y="291465"/>
                  </a:lnTo>
                  <a:lnTo>
                    <a:pt x="1475866" y="299466"/>
                  </a:lnTo>
                  <a:lnTo>
                    <a:pt x="1467992" y="308610"/>
                  </a:lnTo>
                  <a:lnTo>
                    <a:pt x="1458594" y="318897"/>
                  </a:lnTo>
                  <a:lnTo>
                    <a:pt x="1448307" y="329819"/>
                  </a:lnTo>
                  <a:lnTo>
                    <a:pt x="1425828" y="352933"/>
                  </a:lnTo>
                  <a:lnTo>
                    <a:pt x="1402714" y="376047"/>
                  </a:lnTo>
                  <a:lnTo>
                    <a:pt x="1391538" y="386969"/>
                  </a:lnTo>
                  <a:lnTo>
                    <a:pt x="1380998" y="397129"/>
                  </a:lnTo>
                  <a:lnTo>
                    <a:pt x="1371473" y="406400"/>
                  </a:lnTo>
                  <a:lnTo>
                    <a:pt x="1363090" y="414274"/>
                  </a:lnTo>
                  <a:lnTo>
                    <a:pt x="1356232" y="420751"/>
                  </a:lnTo>
                  <a:lnTo>
                    <a:pt x="1353565" y="423291"/>
                  </a:lnTo>
                  <a:lnTo>
                    <a:pt x="1351152" y="425450"/>
                  </a:lnTo>
                  <a:lnTo>
                    <a:pt x="1339088" y="435864"/>
                  </a:lnTo>
                  <a:lnTo>
                    <a:pt x="1326641" y="445897"/>
                  </a:lnTo>
                  <a:lnTo>
                    <a:pt x="1313561" y="455295"/>
                  </a:lnTo>
                  <a:lnTo>
                    <a:pt x="1299971" y="464312"/>
                  </a:lnTo>
                  <a:lnTo>
                    <a:pt x="1285747" y="472948"/>
                  </a:lnTo>
                  <a:lnTo>
                    <a:pt x="1271142" y="480949"/>
                  </a:lnTo>
                  <a:lnTo>
                    <a:pt x="1256029" y="488569"/>
                  </a:lnTo>
                  <a:lnTo>
                    <a:pt x="1240536" y="495554"/>
                  </a:lnTo>
                  <a:lnTo>
                    <a:pt x="1224533" y="502158"/>
                  </a:lnTo>
                  <a:lnTo>
                    <a:pt x="1207896" y="508254"/>
                  </a:lnTo>
                  <a:lnTo>
                    <a:pt x="1173606" y="519049"/>
                  </a:lnTo>
                  <a:lnTo>
                    <a:pt x="1137411" y="528066"/>
                  </a:lnTo>
                  <a:lnTo>
                    <a:pt x="1099692" y="535178"/>
                  </a:lnTo>
                  <a:lnTo>
                    <a:pt x="1092834" y="536321"/>
                  </a:lnTo>
                  <a:lnTo>
                    <a:pt x="1084833" y="537718"/>
                  </a:lnTo>
                  <a:lnTo>
                    <a:pt x="1075943" y="539496"/>
                  </a:lnTo>
                  <a:lnTo>
                    <a:pt x="1065911" y="541147"/>
                  </a:lnTo>
                  <a:lnTo>
                    <a:pt x="1055242" y="543306"/>
                  </a:lnTo>
                  <a:lnTo>
                    <a:pt x="1043687" y="545465"/>
                  </a:lnTo>
                  <a:lnTo>
                    <a:pt x="1018667" y="550291"/>
                  </a:lnTo>
                  <a:lnTo>
                    <a:pt x="991361" y="555752"/>
                  </a:lnTo>
                  <a:lnTo>
                    <a:pt x="962405" y="561467"/>
                  </a:lnTo>
                  <a:lnTo>
                    <a:pt x="901699" y="573405"/>
                  </a:lnTo>
                  <a:lnTo>
                    <a:pt x="871092" y="579501"/>
                  </a:lnTo>
                  <a:lnTo>
                    <a:pt x="841248" y="585343"/>
                  </a:lnTo>
                  <a:lnTo>
                    <a:pt x="812545" y="590931"/>
                  </a:lnTo>
                  <a:lnTo>
                    <a:pt x="785494" y="596011"/>
                  </a:lnTo>
                  <a:lnTo>
                    <a:pt x="760857" y="600583"/>
                  </a:lnTo>
                  <a:lnTo>
                    <a:pt x="749681" y="602615"/>
                  </a:lnTo>
                  <a:lnTo>
                    <a:pt x="739140" y="604393"/>
                  </a:lnTo>
                  <a:lnTo>
                    <a:pt x="729487" y="606171"/>
                  </a:lnTo>
                  <a:lnTo>
                    <a:pt x="720851" y="607568"/>
                  </a:lnTo>
                  <a:lnTo>
                    <a:pt x="713359" y="608584"/>
                  </a:lnTo>
                  <a:lnTo>
                    <a:pt x="706755" y="609473"/>
                  </a:lnTo>
                  <a:lnTo>
                    <a:pt x="696468" y="610997"/>
                  </a:lnTo>
                  <a:lnTo>
                    <a:pt x="684022" y="613029"/>
                  </a:lnTo>
                  <a:lnTo>
                    <a:pt x="669798" y="615442"/>
                  </a:lnTo>
                  <a:lnTo>
                    <a:pt x="654050" y="618236"/>
                  </a:lnTo>
                  <a:lnTo>
                    <a:pt x="637286" y="621284"/>
                  </a:lnTo>
                  <a:lnTo>
                    <a:pt x="619760" y="624586"/>
                  </a:lnTo>
                  <a:lnTo>
                    <a:pt x="584073" y="631317"/>
                  </a:lnTo>
                  <a:lnTo>
                    <a:pt x="566674" y="634619"/>
                  </a:lnTo>
                  <a:lnTo>
                    <a:pt x="550037" y="637794"/>
                  </a:lnTo>
                  <a:lnTo>
                    <a:pt x="534543" y="640715"/>
                  </a:lnTo>
                  <a:lnTo>
                    <a:pt x="520573" y="643255"/>
                  </a:lnTo>
                  <a:lnTo>
                    <a:pt x="508381" y="645414"/>
                  </a:lnTo>
                  <a:lnTo>
                    <a:pt x="498601" y="647065"/>
                  </a:lnTo>
                  <a:lnTo>
                    <a:pt x="491363" y="648208"/>
                  </a:lnTo>
                  <a:lnTo>
                    <a:pt x="488823" y="648462"/>
                  </a:lnTo>
                  <a:lnTo>
                    <a:pt x="487299" y="648462"/>
                  </a:lnTo>
                  <a:lnTo>
                    <a:pt x="464058" y="647827"/>
                  </a:lnTo>
                  <a:lnTo>
                    <a:pt x="442087" y="646049"/>
                  </a:lnTo>
                  <a:lnTo>
                    <a:pt x="421132" y="643001"/>
                  </a:lnTo>
                  <a:lnTo>
                    <a:pt x="401066" y="638937"/>
                  </a:lnTo>
                  <a:lnTo>
                    <a:pt x="381889" y="633984"/>
                  </a:lnTo>
                  <a:lnTo>
                    <a:pt x="363474" y="628142"/>
                  </a:lnTo>
                  <a:lnTo>
                    <a:pt x="345821" y="621538"/>
                  </a:lnTo>
                  <a:lnTo>
                    <a:pt x="328803" y="614172"/>
                  </a:lnTo>
                  <a:lnTo>
                    <a:pt x="312293" y="606298"/>
                  </a:lnTo>
                  <a:lnTo>
                    <a:pt x="296291" y="597916"/>
                  </a:lnTo>
                  <a:lnTo>
                    <a:pt x="265811" y="580009"/>
                  </a:lnTo>
                  <a:lnTo>
                    <a:pt x="236220" y="561213"/>
                  </a:lnTo>
                  <a:lnTo>
                    <a:pt x="207518" y="542290"/>
                  </a:lnTo>
                  <a:lnTo>
                    <a:pt x="192913" y="533146"/>
                  </a:lnTo>
                  <a:lnTo>
                    <a:pt x="176403" y="523494"/>
                  </a:lnTo>
                  <a:lnTo>
                    <a:pt x="158623" y="513461"/>
                  </a:lnTo>
                  <a:lnTo>
                    <a:pt x="139954" y="502793"/>
                  </a:lnTo>
                  <a:lnTo>
                    <a:pt x="101600" y="480314"/>
                  </a:lnTo>
                  <a:lnTo>
                    <a:pt x="82804" y="468249"/>
                  </a:lnTo>
                  <a:lnTo>
                    <a:pt x="64897" y="455803"/>
                  </a:lnTo>
                  <a:lnTo>
                    <a:pt x="48260" y="443103"/>
                  </a:lnTo>
                  <a:lnTo>
                    <a:pt x="33401" y="430022"/>
                  </a:lnTo>
                  <a:lnTo>
                    <a:pt x="20828" y="416433"/>
                  </a:lnTo>
                  <a:lnTo>
                    <a:pt x="10668" y="402590"/>
                  </a:lnTo>
                  <a:lnTo>
                    <a:pt x="6731" y="395478"/>
                  </a:lnTo>
                  <a:lnTo>
                    <a:pt x="3683" y="388366"/>
                  </a:lnTo>
                  <a:lnTo>
                    <a:pt x="1524" y="381127"/>
                  </a:lnTo>
                  <a:lnTo>
                    <a:pt x="254" y="373888"/>
                  </a:lnTo>
                  <a:lnTo>
                    <a:pt x="0" y="366522"/>
                  </a:lnTo>
                  <a:lnTo>
                    <a:pt x="762" y="359156"/>
                  </a:lnTo>
                  <a:lnTo>
                    <a:pt x="2667" y="351536"/>
                  </a:lnTo>
                  <a:lnTo>
                    <a:pt x="65405" y="311658"/>
                  </a:lnTo>
                  <a:lnTo>
                    <a:pt x="101219" y="283845"/>
                  </a:lnTo>
                  <a:lnTo>
                    <a:pt x="111252" y="276098"/>
                  </a:lnTo>
                  <a:lnTo>
                    <a:pt x="122301" y="267589"/>
                  </a:lnTo>
                  <a:lnTo>
                    <a:pt x="133858" y="258191"/>
                  </a:lnTo>
                  <a:lnTo>
                    <a:pt x="146177" y="248539"/>
                  </a:lnTo>
                  <a:lnTo>
                    <a:pt x="172339" y="228092"/>
                  </a:lnTo>
                  <a:lnTo>
                    <a:pt x="199898" y="207518"/>
                  </a:lnTo>
                  <a:lnTo>
                    <a:pt x="228346" y="188087"/>
                  </a:lnTo>
                  <a:lnTo>
                    <a:pt x="242570" y="179197"/>
                  </a:lnTo>
                  <a:lnTo>
                    <a:pt x="256667" y="171196"/>
                  </a:lnTo>
                  <a:lnTo>
                    <a:pt x="270637" y="163830"/>
                  </a:lnTo>
                  <a:lnTo>
                    <a:pt x="284226" y="157734"/>
                  </a:lnTo>
                  <a:lnTo>
                    <a:pt x="297434" y="152781"/>
                  </a:lnTo>
                  <a:lnTo>
                    <a:pt x="310134" y="149225"/>
                  </a:lnTo>
                  <a:lnTo>
                    <a:pt x="312674" y="148717"/>
                  </a:lnTo>
                  <a:lnTo>
                    <a:pt x="316357" y="147955"/>
                  </a:lnTo>
                  <a:lnTo>
                    <a:pt x="320802" y="147066"/>
                  </a:lnTo>
                  <a:lnTo>
                    <a:pt x="326263" y="145923"/>
                  </a:lnTo>
                  <a:lnTo>
                    <a:pt x="339471" y="143383"/>
                  </a:lnTo>
                  <a:lnTo>
                    <a:pt x="355346" y="140335"/>
                  </a:lnTo>
                  <a:lnTo>
                    <a:pt x="373634" y="136906"/>
                  </a:lnTo>
                  <a:lnTo>
                    <a:pt x="393954" y="132969"/>
                  </a:lnTo>
                  <a:lnTo>
                    <a:pt x="415671" y="128905"/>
                  </a:lnTo>
                  <a:lnTo>
                    <a:pt x="438531" y="124460"/>
                  </a:lnTo>
                  <a:lnTo>
                    <a:pt x="485648" y="115697"/>
                  </a:lnTo>
                  <a:lnTo>
                    <a:pt x="509016" y="111379"/>
                  </a:lnTo>
                  <a:lnTo>
                    <a:pt x="531749" y="106934"/>
                  </a:lnTo>
                  <a:lnTo>
                    <a:pt x="553466" y="102870"/>
                  </a:lnTo>
                  <a:lnTo>
                    <a:pt x="573532" y="99060"/>
                  </a:lnTo>
                  <a:lnTo>
                    <a:pt x="591820" y="95631"/>
                  </a:lnTo>
                  <a:lnTo>
                    <a:pt x="607568" y="92583"/>
                  </a:lnTo>
                  <a:lnTo>
                    <a:pt x="639953" y="85979"/>
                  </a:lnTo>
                  <a:lnTo>
                    <a:pt x="669670" y="79883"/>
                  </a:lnTo>
                  <a:lnTo>
                    <a:pt x="697230" y="74295"/>
                  </a:lnTo>
                  <a:lnTo>
                    <a:pt x="722630" y="69342"/>
                  </a:lnTo>
                  <a:lnTo>
                    <a:pt x="745998" y="64643"/>
                  </a:lnTo>
                  <a:lnTo>
                    <a:pt x="767587" y="60579"/>
                  </a:lnTo>
                  <a:lnTo>
                    <a:pt x="787526" y="56769"/>
                  </a:lnTo>
                  <a:lnTo>
                    <a:pt x="805942" y="53340"/>
                  </a:lnTo>
                  <a:lnTo>
                    <a:pt x="823086" y="50165"/>
                  </a:lnTo>
                  <a:lnTo>
                    <a:pt x="838961" y="47244"/>
                  </a:lnTo>
                  <a:lnTo>
                    <a:pt x="853948" y="44577"/>
                  </a:lnTo>
                  <a:lnTo>
                    <a:pt x="868044" y="41910"/>
                  </a:lnTo>
                  <a:lnTo>
                    <a:pt x="894334" y="37084"/>
                  </a:lnTo>
                  <a:lnTo>
                    <a:pt x="919225" y="32385"/>
                  </a:lnTo>
                  <a:lnTo>
                    <a:pt x="931798" y="30099"/>
                  </a:lnTo>
                  <a:lnTo>
                    <a:pt x="943863" y="28194"/>
                  </a:lnTo>
                  <a:lnTo>
                    <a:pt x="955040" y="26670"/>
                  </a:lnTo>
                  <a:lnTo>
                    <a:pt x="965961" y="25400"/>
                  </a:lnTo>
                  <a:lnTo>
                    <a:pt x="985773" y="24130"/>
                  </a:lnTo>
                  <a:lnTo>
                    <a:pt x="1003680" y="24257"/>
                  </a:lnTo>
                  <a:lnTo>
                    <a:pt x="1019936" y="25654"/>
                  </a:lnTo>
                  <a:lnTo>
                    <a:pt x="1035049" y="28067"/>
                  </a:lnTo>
                  <a:lnTo>
                    <a:pt x="1048892" y="31496"/>
                  </a:lnTo>
                  <a:lnTo>
                    <a:pt x="1062354" y="35941"/>
                  </a:lnTo>
                  <a:lnTo>
                    <a:pt x="1075181" y="41148"/>
                  </a:lnTo>
                  <a:lnTo>
                    <a:pt x="1088136" y="46990"/>
                  </a:lnTo>
                  <a:lnTo>
                    <a:pt x="1101216" y="53721"/>
                  </a:lnTo>
                  <a:lnTo>
                    <a:pt x="1114932" y="60833"/>
                  </a:lnTo>
                  <a:lnTo>
                    <a:pt x="1129411" y="68326"/>
                  </a:lnTo>
                  <a:lnTo>
                    <a:pt x="1145031" y="76327"/>
                  </a:lnTo>
                  <a:lnTo>
                    <a:pt x="1162176" y="84328"/>
                  </a:lnTo>
                  <a:lnTo>
                    <a:pt x="1181226" y="92583"/>
                  </a:lnTo>
                  <a:lnTo>
                    <a:pt x="1185671" y="94488"/>
                  </a:lnTo>
                  <a:lnTo>
                    <a:pt x="1191259" y="97028"/>
                  </a:lnTo>
                  <a:lnTo>
                    <a:pt x="1197736" y="100076"/>
                  </a:lnTo>
                  <a:lnTo>
                    <a:pt x="1205356" y="103759"/>
                  </a:lnTo>
                  <a:lnTo>
                    <a:pt x="1213738" y="107823"/>
                  </a:lnTo>
                  <a:lnTo>
                    <a:pt x="1223009" y="112395"/>
                  </a:lnTo>
                  <a:lnTo>
                    <a:pt x="1233042" y="117348"/>
                  </a:lnTo>
                  <a:lnTo>
                    <a:pt x="1243583" y="122809"/>
                  </a:lnTo>
                  <a:lnTo>
                    <a:pt x="1266189" y="134366"/>
                  </a:lnTo>
                  <a:lnTo>
                    <a:pt x="1290446" y="147066"/>
                  </a:lnTo>
                  <a:lnTo>
                    <a:pt x="1315592" y="160528"/>
                  </a:lnTo>
                  <a:lnTo>
                    <a:pt x="1340865" y="174371"/>
                  </a:lnTo>
                  <a:lnTo>
                    <a:pt x="1365630" y="188341"/>
                  </a:lnTo>
                  <a:lnTo>
                    <a:pt x="1389379" y="201930"/>
                  </a:lnTo>
                  <a:lnTo>
                    <a:pt x="1411477" y="215265"/>
                  </a:lnTo>
                  <a:lnTo>
                    <a:pt x="1421511" y="221488"/>
                  </a:lnTo>
                  <a:lnTo>
                    <a:pt x="1430908" y="227584"/>
                  </a:lnTo>
                  <a:lnTo>
                    <a:pt x="1439544" y="233426"/>
                  </a:lnTo>
                  <a:lnTo>
                    <a:pt x="1447418" y="238760"/>
                  </a:lnTo>
                  <a:lnTo>
                    <a:pt x="1454276" y="243840"/>
                  </a:lnTo>
                  <a:lnTo>
                    <a:pt x="1460118" y="248666"/>
                  </a:lnTo>
                  <a:lnTo>
                    <a:pt x="1464690" y="252857"/>
                  </a:lnTo>
                  <a:lnTo>
                    <a:pt x="1468374" y="256667"/>
                  </a:lnTo>
                  <a:lnTo>
                    <a:pt x="1470659" y="259842"/>
                  </a:lnTo>
                  <a:lnTo>
                    <a:pt x="1471549" y="262509"/>
                  </a:lnTo>
                  <a:lnTo>
                    <a:pt x="1471549" y="265430"/>
                  </a:lnTo>
                  <a:lnTo>
                    <a:pt x="1470787" y="268732"/>
                  </a:lnTo>
                  <a:lnTo>
                    <a:pt x="1469263" y="272415"/>
                  </a:lnTo>
                  <a:lnTo>
                    <a:pt x="1467357" y="276479"/>
                  </a:lnTo>
                  <a:lnTo>
                    <a:pt x="1461769" y="285496"/>
                  </a:lnTo>
                  <a:lnTo>
                    <a:pt x="1454276" y="295656"/>
                  </a:lnTo>
                  <a:lnTo>
                    <a:pt x="1445259" y="306705"/>
                  </a:lnTo>
                  <a:lnTo>
                    <a:pt x="1434973" y="318262"/>
                  </a:lnTo>
                  <a:lnTo>
                    <a:pt x="1423796" y="330073"/>
                  </a:lnTo>
                  <a:lnTo>
                    <a:pt x="1411986" y="342265"/>
                  </a:lnTo>
                  <a:lnTo>
                    <a:pt x="1387728" y="365887"/>
                  </a:lnTo>
                  <a:lnTo>
                    <a:pt x="1376044" y="376936"/>
                  </a:lnTo>
                  <a:lnTo>
                    <a:pt x="1364868" y="386969"/>
                  </a:lnTo>
                  <a:lnTo>
                    <a:pt x="1354708" y="396240"/>
                  </a:lnTo>
                  <a:lnTo>
                    <a:pt x="1345945" y="403987"/>
                  </a:lnTo>
                  <a:lnTo>
                    <a:pt x="1338833" y="410337"/>
                  </a:lnTo>
                  <a:lnTo>
                    <a:pt x="1335913" y="412750"/>
                  </a:lnTo>
                  <a:lnTo>
                    <a:pt x="1333499" y="414782"/>
                  </a:lnTo>
                  <a:lnTo>
                    <a:pt x="1316989" y="428117"/>
                  </a:lnTo>
                  <a:lnTo>
                    <a:pt x="1300987" y="439801"/>
                  </a:lnTo>
                  <a:lnTo>
                    <a:pt x="1285620" y="450215"/>
                  </a:lnTo>
                  <a:lnTo>
                    <a:pt x="1270126" y="459486"/>
                  </a:lnTo>
                  <a:lnTo>
                    <a:pt x="1255013" y="467614"/>
                  </a:lnTo>
                  <a:lnTo>
                    <a:pt x="1239900" y="474726"/>
                  </a:lnTo>
                  <a:lnTo>
                    <a:pt x="1224533" y="481076"/>
                  </a:lnTo>
                  <a:lnTo>
                    <a:pt x="1208912" y="486791"/>
                  </a:lnTo>
                  <a:lnTo>
                    <a:pt x="1192656" y="491871"/>
                  </a:lnTo>
                  <a:lnTo>
                    <a:pt x="1175765" y="496697"/>
                  </a:lnTo>
                  <a:lnTo>
                    <a:pt x="1158366" y="501142"/>
                  </a:lnTo>
                  <a:lnTo>
                    <a:pt x="1139824" y="505587"/>
                  </a:lnTo>
                  <a:lnTo>
                    <a:pt x="1120266" y="510032"/>
                  </a:lnTo>
                  <a:lnTo>
                    <a:pt x="1099438" y="514604"/>
                  </a:lnTo>
                  <a:lnTo>
                    <a:pt x="1077467" y="519430"/>
                  </a:lnTo>
                  <a:lnTo>
                    <a:pt x="1053718" y="524510"/>
                  </a:lnTo>
                  <a:lnTo>
                    <a:pt x="1047115" y="526034"/>
                  </a:lnTo>
                  <a:lnTo>
                    <a:pt x="1039113" y="527685"/>
                  </a:lnTo>
                  <a:lnTo>
                    <a:pt x="1029461" y="529590"/>
                  </a:lnTo>
                  <a:lnTo>
                    <a:pt x="1018412" y="531622"/>
                  </a:lnTo>
                  <a:lnTo>
                    <a:pt x="1006220" y="533908"/>
                  </a:lnTo>
                  <a:lnTo>
                    <a:pt x="992887" y="536321"/>
                  </a:lnTo>
                  <a:lnTo>
                    <a:pt x="978534" y="538988"/>
                  </a:lnTo>
                  <a:lnTo>
                    <a:pt x="963167" y="541528"/>
                  </a:lnTo>
                  <a:lnTo>
                    <a:pt x="930148" y="547370"/>
                  </a:lnTo>
                  <a:lnTo>
                    <a:pt x="894842" y="553466"/>
                  </a:lnTo>
                  <a:lnTo>
                    <a:pt x="857885" y="559689"/>
                  </a:lnTo>
                  <a:lnTo>
                    <a:pt x="820419" y="566039"/>
                  </a:lnTo>
                  <a:lnTo>
                    <a:pt x="783209" y="572389"/>
                  </a:lnTo>
                  <a:lnTo>
                    <a:pt x="746886" y="578358"/>
                  </a:lnTo>
                  <a:lnTo>
                    <a:pt x="712597" y="584073"/>
                  </a:lnTo>
                  <a:lnTo>
                    <a:pt x="696468" y="586740"/>
                  </a:lnTo>
                  <a:lnTo>
                    <a:pt x="681101" y="589280"/>
                  </a:lnTo>
                  <a:lnTo>
                    <a:pt x="666623" y="591693"/>
                  </a:lnTo>
                  <a:lnTo>
                    <a:pt x="653288" y="593852"/>
                  </a:lnTo>
                  <a:lnTo>
                    <a:pt x="640969" y="595884"/>
                  </a:lnTo>
                  <a:lnTo>
                    <a:pt x="630047" y="597789"/>
                  </a:lnTo>
                  <a:lnTo>
                    <a:pt x="620268" y="599313"/>
                  </a:lnTo>
                  <a:lnTo>
                    <a:pt x="612140" y="600583"/>
                  </a:lnTo>
                  <a:lnTo>
                    <a:pt x="605536" y="601599"/>
                  </a:lnTo>
                  <a:lnTo>
                    <a:pt x="600456" y="602488"/>
                  </a:lnTo>
                  <a:lnTo>
                    <a:pt x="583565" y="605282"/>
                  </a:lnTo>
                  <a:lnTo>
                    <a:pt x="567817" y="607949"/>
                  </a:lnTo>
                  <a:lnTo>
                    <a:pt x="553085" y="610489"/>
                  </a:lnTo>
                  <a:lnTo>
                    <a:pt x="539369" y="612902"/>
                  </a:lnTo>
                  <a:lnTo>
                    <a:pt x="526542" y="615188"/>
                  </a:lnTo>
                  <a:lnTo>
                    <a:pt x="514604" y="617093"/>
                  </a:lnTo>
                  <a:lnTo>
                    <a:pt x="503428" y="618998"/>
                  </a:lnTo>
                  <a:lnTo>
                    <a:pt x="492887" y="620776"/>
                  </a:lnTo>
                  <a:lnTo>
                    <a:pt x="473964" y="623443"/>
                  </a:lnTo>
                  <a:lnTo>
                    <a:pt x="456946" y="625094"/>
                  </a:lnTo>
                  <a:lnTo>
                    <a:pt x="441452" y="625729"/>
                  </a:lnTo>
                  <a:lnTo>
                    <a:pt x="426974" y="625221"/>
                  </a:lnTo>
                  <a:lnTo>
                    <a:pt x="412623" y="623316"/>
                  </a:lnTo>
                  <a:lnTo>
                    <a:pt x="398399" y="620014"/>
                  </a:lnTo>
                  <a:lnTo>
                    <a:pt x="383286" y="615061"/>
                  </a:lnTo>
                  <a:lnTo>
                    <a:pt x="367157" y="608457"/>
                  </a:lnTo>
                  <a:lnTo>
                    <a:pt x="358394" y="604647"/>
                  </a:lnTo>
                  <a:lnTo>
                    <a:pt x="348996" y="600202"/>
                  </a:lnTo>
                  <a:lnTo>
                    <a:pt x="339090" y="595376"/>
                  </a:lnTo>
                  <a:lnTo>
                    <a:pt x="328549" y="590042"/>
                  </a:lnTo>
                  <a:lnTo>
                    <a:pt x="317246" y="584200"/>
                  </a:lnTo>
                  <a:lnTo>
                    <a:pt x="305181" y="577850"/>
                  </a:lnTo>
                  <a:lnTo>
                    <a:pt x="292227" y="570992"/>
                  </a:lnTo>
                  <a:lnTo>
                    <a:pt x="278257" y="563499"/>
                  </a:lnTo>
                  <a:lnTo>
                    <a:pt x="268478" y="558165"/>
                  </a:lnTo>
                  <a:lnTo>
                    <a:pt x="256921" y="551942"/>
                  </a:lnTo>
                  <a:lnTo>
                    <a:pt x="243586" y="544576"/>
                  </a:lnTo>
                  <a:lnTo>
                    <a:pt x="229235" y="536448"/>
                  </a:lnTo>
                  <a:lnTo>
                    <a:pt x="213868" y="527685"/>
                  </a:lnTo>
                  <a:lnTo>
                    <a:pt x="197866" y="518287"/>
                  </a:lnTo>
                  <a:lnTo>
                    <a:pt x="164719" y="498856"/>
                  </a:lnTo>
                  <a:lnTo>
                    <a:pt x="132334" y="479044"/>
                  </a:lnTo>
                  <a:lnTo>
                    <a:pt x="117221" y="469392"/>
                  </a:lnTo>
                  <a:lnTo>
                    <a:pt x="102997" y="459994"/>
                  </a:lnTo>
                  <a:lnTo>
                    <a:pt x="90043" y="451231"/>
                  </a:lnTo>
                  <a:lnTo>
                    <a:pt x="78867" y="442976"/>
                  </a:lnTo>
                  <a:lnTo>
                    <a:pt x="69596" y="435610"/>
                  </a:lnTo>
                  <a:lnTo>
                    <a:pt x="62357" y="429006"/>
                  </a:lnTo>
                  <a:lnTo>
                    <a:pt x="55372" y="421640"/>
                  </a:lnTo>
                  <a:lnTo>
                    <a:pt x="48260" y="412750"/>
                  </a:lnTo>
                  <a:lnTo>
                    <a:pt x="41275" y="402717"/>
                  </a:lnTo>
                  <a:lnTo>
                    <a:pt x="35179" y="391414"/>
                  </a:lnTo>
                  <a:lnTo>
                    <a:pt x="30480" y="379349"/>
                  </a:lnTo>
                  <a:lnTo>
                    <a:pt x="27686" y="366776"/>
                  </a:lnTo>
                  <a:lnTo>
                    <a:pt x="27559" y="353568"/>
                  </a:lnTo>
                  <a:lnTo>
                    <a:pt x="30480" y="340487"/>
                  </a:lnTo>
                  <a:lnTo>
                    <a:pt x="5588" y="3440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195"/>
          <p:cNvGrpSpPr/>
          <p:nvPr/>
        </p:nvGrpSpPr>
        <p:grpSpPr>
          <a:xfrm>
            <a:off x="3008160" y="991800"/>
            <a:ext cx="2935080" cy="3009960"/>
            <a:chOff x="3008160" y="991800"/>
            <a:chExt cx="2935080" cy="3009960"/>
          </a:xfrm>
        </p:grpSpPr>
        <p:sp>
          <p:nvSpPr>
            <p:cNvPr id="272" name="Freeform: Shape 129"/>
            <p:cNvSpPr/>
            <p:nvPr/>
          </p:nvSpPr>
          <p:spPr>
            <a:xfrm flipV="1" rot="2812200">
              <a:off x="3180960" y="1713240"/>
              <a:ext cx="2589480" cy="159588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-360 h 1595880"/>
                <a:gd name="textAreaBottom" fmla="*/ 1595880 h 1595880"/>
              </a:gdLst>
              <a:ahLst/>
              <a:rect l="textAreaLeft" t="textAreaTop" r="textAreaRight" b="textAreaBottom"/>
              <a:pathLst>
                <a:path w="2585611" h="1603920">
                  <a:moveTo>
                    <a:pt x="304742" y="0"/>
                  </a:moveTo>
                  <a:lnTo>
                    <a:pt x="2585610" y="1184608"/>
                  </a:lnTo>
                  <a:lnTo>
                    <a:pt x="2444756" y="1603919"/>
                  </a:lnTo>
                  <a:lnTo>
                    <a:pt x="0" y="334278"/>
                  </a:lnTo>
                  <a:lnTo>
                    <a:pt x="304742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: Shape 130"/>
            <p:cNvSpPr/>
            <p:nvPr/>
          </p:nvSpPr>
          <p:spPr>
            <a:xfrm flipV="1" rot="2812200">
              <a:off x="3180960" y="1713240"/>
              <a:ext cx="2589480" cy="159588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-360 h 1595880"/>
                <a:gd name="textAreaBottom" fmla="*/ 1595880 h 1595880"/>
              </a:gdLst>
              <a:ahLst/>
              <a:rect l="textAreaLeft" t="textAreaTop" r="textAreaRight" b="textAreaBottom"/>
              <a:pathLst>
                <a:path w="2585975" h="1604284">
                  <a:moveTo>
                    <a:pt x="0" y="334136"/>
                  </a:moveTo>
                  <a:lnTo>
                    <a:pt x="2445121" y="1604283"/>
                  </a:lnTo>
                  <a:lnTo>
                    <a:pt x="2585974" y="1184470"/>
                  </a:lnTo>
                  <a:lnTo>
                    <a:pt x="304448" y="0"/>
                  </a:lnTo>
                  <a:lnTo>
                    <a:pt x="0" y="33413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traight Connector 131"/>
            <p:cNvSpPr/>
            <p:nvPr/>
          </p:nvSpPr>
          <p:spPr>
            <a:xfrm flipV="1">
              <a:off x="3242160" y="1875960"/>
              <a:ext cx="1872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132"/>
            <p:cNvSpPr/>
            <p:nvPr/>
          </p:nvSpPr>
          <p:spPr>
            <a:xfrm flipV="1">
              <a:off x="3489480" y="1989720"/>
              <a:ext cx="190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Straight Connector 133"/>
            <p:cNvSpPr/>
            <p:nvPr/>
          </p:nvSpPr>
          <p:spPr>
            <a:xfrm flipV="1">
              <a:off x="3742200" y="2076120"/>
              <a:ext cx="3420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traight Connector 134"/>
            <p:cNvSpPr/>
            <p:nvPr/>
          </p:nvSpPr>
          <p:spPr>
            <a:xfrm flipV="1">
              <a:off x="3983400" y="2173680"/>
              <a:ext cx="4464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Straight Connector 135"/>
            <p:cNvSpPr/>
            <p:nvPr/>
          </p:nvSpPr>
          <p:spPr>
            <a:xfrm flipV="1">
              <a:off x="4232160" y="2260080"/>
              <a:ext cx="5436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Straight Connector 136"/>
            <p:cNvSpPr/>
            <p:nvPr/>
          </p:nvSpPr>
          <p:spPr>
            <a:xfrm flipV="1">
              <a:off x="4491000" y="2359080"/>
              <a:ext cx="6480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traight Connector 137"/>
            <p:cNvSpPr/>
            <p:nvPr/>
          </p:nvSpPr>
          <p:spPr>
            <a:xfrm flipV="1">
              <a:off x="4746960" y="2436120"/>
              <a:ext cx="702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Straight Connector 138"/>
            <p:cNvSpPr/>
            <p:nvPr/>
          </p:nvSpPr>
          <p:spPr>
            <a:xfrm flipV="1">
              <a:off x="4986360" y="2539440"/>
              <a:ext cx="8136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Straight Connector 139"/>
            <p:cNvSpPr/>
            <p:nvPr/>
          </p:nvSpPr>
          <p:spPr>
            <a:xfrm flipV="1">
              <a:off x="5226480" y="2629800"/>
              <a:ext cx="9612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traight Connector 140"/>
            <p:cNvSpPr/>
            <p:nvPr/>
          </p:nvSpPr>
          <p:spPr>
            <a:xfrm flipV="1">
              <a:off x="5487120" y="2726640"/>
              <a:ext cx="105840" cy="21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Straight Connector 141"/>
            <p:cNvSpPr/>
            <p:nvPr/>
          </p:nvSpPr>
          <p:spPr>
            <a:xfrm flipV="1">
              <a:off x="5741280" y="2812680"/>
              <a:ext cx="11160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: Shape 142"/>
            <p:cNvSpPr/>
            <p:nvPr/>
          </p:nvSpPr>
          <p:spPr>
            <a:xfrm flipV="1" rot="2812200">
              <a:off x="3354480" y="1677960"/>
              <a:ext cx="2448000" cy="13071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-360 h 1307160"/>
                <a:gd name="textAreaBottom" fmla="*/ 1307160 h 1307160"/>
              </a:gdLst>
              <a:ahLst/>
              <a:rect l="textAreaLeft" t="textAreaTop" r="textAreaRight" b="textAreaBottom"/>
              <a:pathLst>
                <a:path w="2444759" h="1314411">
                  <a:moveTo>
                    <a:pt x="0" y="0"/>
                  </a:moveTo>
                  <a:lnTo>
                    <a:pt x="2444758" y="1269644"/>
                  </a:lnTo>
                  <a:lnTo>
                    <a:pt x="2408958" y="1314410"/>
                  </a:lnTo>
                  <a:lnTo>
                    <a:pt x="5576" y="507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: Shape 143"/>
            <p:cNvSpPr/>
            <p:nvPr/>
          </p:nvSpPr>
          <p:spPr>
            <a:xfrm flipV="1" rot="2812200">
              <a:off x="3354480" y="1677960"/>
              <a:ext cx="2448000" cy="13071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-360 h 1307160"/>
                <a:gd name="textAreaBottom" fmla="*/ 1307160 h 1307160"/>
              </a:gdLst>
              <a:ahLst/>
              <a:rect l="textAreaLeft" t="textAreaTop" r="textAreaRight" b="textAreaBottom"/>
              <a:pathLst>
                <a:path w="2445123" h="1314411">
                  <a:moveTo>
                    <a:pt x="0" y="0"/>
                  </a:moveTo>
                  <a:lnTo>
                    <a:pt x="2445122" y="1270144"/>
                  </a:lnTo>
                  <a:lnTo>
                    <a:pt x="2409175" y="1314410"/>
                  </a:lnTo>
                  <a:lnTo>
                    <a:pt x="5868" y="506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Straight Connector 144"/>
            <p:cNvSpPr/>
            <p:nvPr/>
          </p:nvSpPr>
          <p:spPr>
            <a:xfrm flipV="1">
              <a:off x="3245040" y="1891440"/>
              <a:ext cx="720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Straight Connector 145"/>
            <p:cNvSpPr/>
            <p:nvPr/>
          </p:nvSpPr>
          <p:spPr>
            <a:xfrm flipV="1">
              <a:off x="3295080" y="1913400"/>
              <a:ext cx="10440" cy="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Straight Connector 146"/>
            <p:cNvSpPr/>
            <p:nvPr/>
          </p:nvSpPr>
          <p:spPr>
            <a:xfrm flipV="1">
              <a:off x="3345120" y="1921680"/>
              <a:ext cx="720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Straight Connector 147"/>
            <p:cNvSpPr/>
            <p:nvPr/>
          </p:nvSpPr>
          <p:spPr>
            <a:xfrm flipV="1">
              <a:off x="3395880" y="1950840"/>
              <a:ext cx="720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traight Connector 148"/>
            <p:cNvSpPr/>
            <p:nvPr/>
          </p:nvSpPr>
          <p:spPr>
            <a:xfrm flipV="1">
              <a:off x="3442320" y="1965600"/>
              <a:ext cx="122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Straight Connector 149"/>
            <p:cNvSpPr/>
            <p:nvPr/>
          </p:nvSpPr>
          <p:spPr>
            <a:xfrm flipV="1">
              <a:off x="3500280" y="1984680"/>
              <a:ext cx="612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Straight Connector 150"/>
            <p:cNvSpPr/>
            <p:nvPr/>
          </p:nvSpPr>
          <p:spPr>
            <a:xfrm flipV="1">
              <a:off x="3553200" y="2006280"/>
              <a:ext cx="11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traight Connector 151"/>
            <p:cNvSpPr/>
            <p:nvPr/>
          </p:nvSpPr>
          <p:spPr>
            <a:xfrm flipV="1">
              <a:off x="3598560" y="2019240"/>
              <a:ext cx="172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Straight Connector 152"/>
            <p:cNvSpPr/>
            <p:nvPr/>
          </p:nvSpPr>
          <p:spPr>
            <a:xfrm flipV="1">
              <a:off x="3652200" y="2039400"/>
              <a:ext cx="11520" cy="9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Straight Connector 153"/>
            <p:cNvSpPr/>
            <p:nvPr/>
          </p:nvSpPr>
          <p:spPr>
            <a:xfrm flipV="1">
              <a:off x="3695760" y="2053080"/>
              <a:ext cx="1620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Straight Connector 154"/>
            <p:cNvSpPr/>
            <p:nvPr/>
          </p:nvSpPr>
          <p:spPr>
            <a:xfrm flipV="1">
              <a:off x="3744720" y="207828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Straight Connector 155"/>
            <p:cNvSpPr/>
            <p:nvPr/>
          </p:nvSpPr>
          <p:spPr>
            <a:xfrm flipV="1">
              <a:off x="3805200" y="2094480"/>
              <a:ext cx="1620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Straight Connector 156"/>
            <p:cNvSpPr/>
            <p:nvPr/>
          </p:nvSpPr>
          <p:spPr>
            <a:xfrm flipV="1">
              <a:off x="3852360" y="211068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Straight Connector 157"/>
            <p:cNvSpPr/>
            <p:nvPr/>
          </p:nvSpPr>
          <p:spPr>
            <a:xfrm flipV="1">
              <a:off x="3895560" y="212652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Straight Connector 158"/>
            <p:cNvSpPr/>
            <p:nvPr/>
          </p:nvSpPr>
          <p:spPr>
            <a:xfrm flipV="1">
              <a:off x="3938040" y="214884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Straight Connector 159"/>
            <p:cNvSpPr/>
            <p:nvPr/>
          </p:nvSpPr>
          <p:spPr>
            <a:xfrm flipV="1">
              <a:off x="4014360" y="217440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traight Connector 160"/>
            <p:cNvSpPr/>
            <p:nvPr/>
          </p:nvSpPr>
          <p:spPr>
            <a:xfrm flipV="1">
              <a:off x="4058640" y="2187720"/>
              <a:ext cx="2592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Straight Connector 161"/>
            <p:cNvSpPr/>
            <p:nvPr/>
          </p:nvSpPr>
          <p:spPr>
            <a:xfrm flipV="1">
              <a:off x="4114440" y="2209680"/>
              <a:ext cx="1692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Straight Connector 162"/>
            <p:cNvSpPr/>
            <p:nvPr/>
          </p:nvSpPr>
          <p:spPr>
            <a:xfrm flipV="1">
              <a:off x="4161960" y="2226960"/>
              <a:ext cx="2736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traight Connector 163"/>
            <p:cNvSpPr/>
            <p:nvPr/>
          </p:nvSpPr>
          <p:spPr>
            <a:xfrm flipV="1">
              <a:off x="4211640" y="2242440"/>
              <a:ext cx="216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Straight Connector 164"/>
            <p:cNvSpPr/>
            <p:nvPr/>
          </p:nvSpPr>
          <p:spPr>
            <a:xfrm flipV="1">
              <a:off x="4251240" y="2257200"/>
              <a:ext cx="2160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Straight Connector 165"/>
            <p:cNvSpPr/>
            <p:nvPr/>
          </p:nvSpPr>
          <p:spPr>
            <a:xfrm flipV="1">
              <a:off x="4318200" y="2288880"/>
              <a:ext cx="216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Straight Connector 166"/>
            <p:cNvSpPr/>
            <p:nvPr/>
          </p:nvSpPr>
          <p:spPr>
            <a:xfrm flipV="1">
              <a:off x="4369680" y="2295720"/>
              <a:ext cx="2736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Straight Connector 167"/>
            <p:cNvSpPr/>
            <p:nvPr/>
          </p:nvSpPr>
          <p:spPr>
            <a:xfrm flipV="1">
              <a:off x="4414680" y="2316240"/>
              <a:ext cx="216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Straight Connector 168"/>
            <p:cNvSpPr/>
            <p:nvPr/>
          </p:nvSpPr>
          <p:spPr>
            <a:xfrm flipV="1">
              <a:off x="4471200" y="2334600"/>
              <a:ext cx="2592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Straight Connector 169"/>
            <p:cNvSpPr/>
            <p:nvPr/>
          </p:nvSpPr>
          <p:spPr>
            <a:xfrm flipV="1">
              <a:off x="4523040" y="2355480"/>
              <a:ext cx="270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Straight Connector 170"/>
            <p:cNvSpPr/>
            <p:nvPr/>
          </p:nvSpPr>
          <p:spPr>
            <a:xfrm flipV="1">
              <a:off x="4573080" y="2374200"/>
              <a:ext cx="2700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Straight Connector 171"/>
            <p:cNvSpPr/>
            <p:nvPr/>
          </p:nvSpPr>
          <p:spPr>
            <a:xfrm flipV="1">
              <a:off x="4631040" y="2383560"/>
              <a:ext cx="2808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Straight Connector 172"/>
            <p:cNvSpPr/>
            <p:nvPr/>
          </p:nvSpPr>
          <p:spPr>
            <a:xfrm flipV="1">
              <a:off x="4671360" y="2415240"/>
              <a:ext cx="3132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Straight Connector 173"/>
            <p:cNvSpPr/>
            <p:nvPr/>
          </p:nvSpPr>
          <p:spPr>
            <a:xfrm flipV="1">
              <a:off x="4727160" y="2419920"/>
              <a:ext cx="327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traight Connector 174"/>
            <p:cNvSpPr/>
            <p:nvPr/>
          </p:nvSpPr>
          <p:spPr>
            <a:xfrm flipV="1">
              <a:off x="4782240" y="2453760"/>
              <a:ext cx="27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Straight Connector 175"/>
            <p:cNvSpPr/>
            <p:nvPr/>
          </p:nvSpPr>
          <p:spPr>
            <a:xfrm flipV="1">
              <a:off x="4828320" y="2465640"/>
              <a:ext cx="360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Straight Connector 176"/>
            <p:cNvSpPr/>
            <p:nvPr/>
          </p:nvSpPr>
          <p:spPr>
            <a:xfrm flipV="1">
              <a:off x="4869360" y="2480760"/>
              <a:ext cx="2592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traight Connector 177"/>
            <p:cNvSpPr/>
            <p:nvPr/>
          </p:nvSpPr>
          <p:spPr>
            <a:xfrm flipV="1">
              <a:off x="4929840" y="2488320"/>
              <a:ext cx="363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Straight Connector 178"/>
            <p:cNvSpPr/>
            <p:nvPr/>
          </p:nvSpPr>
          <p:spPr>
            <a:xfrm flipV="1">
              <a:off x="4986720" y="252144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Straight Connector 179"/>
            <p:cNvSpPr/>
            <p:nvPr/>
          </p:nvSpPr>
          <p:spPr>
            <a:xfrm flipV="1">
              <a:off x="5036400" y="2539800"/>
              <a:ext cx="327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Straight Connector 180"/>
            <p:cNvSpPr/>
            <p:nvPr/>
          </p:nvSpPr>
          <p:spPr>
            <a:xfrm flipV="1">
              <a:off x="5089680" y="255960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Straight Connector 181"/>
            <p:cNvSpPr/>
            <p:nvPr/>
          </p:nvSpPr>
          <p:spPr>
            <a:xfrm flipV="1">
              <a:off x="5138640" y="2572920"/>
              <a:ext cx="3744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Straight Connector 182"/>
            <p:cNvSpPr/>
            <p:nvPr/>
          </p:nvSpPr>
          <p:spPr>
            <a:xfrm flipV="1">
              <a:off x="5189400" y="2594880"/>
              <a:ext cx="3744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Straight Connector 183"/>
            <p:cNvSpPr/>
            <p:nvPr/>
          </p:nvSpPr>
          <p:spPr>
            <a:xfrm flipV="1">
              <a:off x="5241600" y="2611080"/>
              <a:ext cx="3744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Straight Connector 184"/>
            <p:cNvSpPr/>
            <p:nvPr/>
          </p:nvSpPr>
          <p:spPr>
            <a:xfrm flipV="1">
              <a:off x="5297400" y="263340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Straight Connector 185"/>
            <p:cNvSpPr/>
            <p:nvPr/>
          </p:nvSpPr>
          <p:spPr>
            <a:xfrm flipV="1">
              <a:off x="5342400" y="2646360"/>
              <a:ext cx="360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traight Connector 186"/>
            <p:cNvSpPr/>
            <p:nvPr/>
          </p:nvSpPr>
          <p:spPr>
            <a:xfrm flipV="1">
              <a:off x="5396040" y="267192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Straight Connector 187"/>
            <p:cNvSpPr/>
            <p:nvPr/>
          </p:nvSpPr>
          <p:spPr>
            <a:xfrm flipV="1">
              <a:off x="5443560" y="2686320"/>
              <a:ext cx="46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Straight Connector 188"/>
            <p:cNvSpPr/>
            <p:nvPr/>
          </p:nvSpPr>
          <p:spPr>
            <a:xfrm flipV="1">
              <a:off x="5500440" y="270216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traight Connector 189"/>
            <p:cNvSpPr/>
            <p:nvPr/>
          </p:nvSpPr>
          <p:spPr>
            <a:xfrm flipV="1">
              <a:off x="5542200" y="2725560"/>
              <a:ext cx="4716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190"/>
            <p:cNvSpPr/>
            <p:nvPr/>
          </p:nvSpPr>
          <p:spPr>
            <a:xfrm flipV="1">
              <a:off x="5605920" y="2736720"/>
              <a:ext cx="417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Straight Connector 191"/>
            <p:cNvSpPr/>
            <p:nvPr/>
          </p:nvSpPr>
          <p:spPr>
            <a:xfrm flipV="1">
              <a:off x="5652000" y="2760840"/>
              <a:ext cx="421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Straight Connector 192"/>
            <p:cNvSpPr/>
            <p:nvPr/>
          </p:nvSpPr>
          <p:spPr>
            <a:xfrm flipV="1">
              <a:off x="5702400" y="2787480"/>
              <a:ext cx="4284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Straight Connector 193"/>
            <p:cNvSpPr/>
            <p:nvPr/>
          </p:nvSpPr>
          <p:spPr>
            <a:xfrm flipV="1">
              <a:off x="5747760" y="2802240"/>
              <a:ext cx="482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Straight Connector 194"/>
            <p:cNvSpPr/>
            <p:nvPr/>
          </p:nvSpPr>
          <p:spPr>
            <a:xfrm flipV="1">
              <a:off x="5796720" y="2812680"/>
              <a:ext cx="47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262"/>
          <p:cNvGrpSpPr/>
          <p:nvPr/>
        </p:nvGrpSpPr>
        <p:grpSpPr>
          <a:xfrm>
            <a:off x="5973480" y="2124720"/>
            <a:ext cx="2995200" cy="2475000"/>
            <a:chOff x="5973480" y="2124720"/>
            <a:chExt cx="2995200" cy="2475000"/>
          </a:xfrm>
        </p:grpSpPr>
        <p:sp>
          <p:nvSpPr>
            <p:cNvPr id="339" name="Freeform: Shape 196"/>
            <p:cNvSpPr/>
            <p:nvPr/>
          </p:nvSpPr>
          <p:spPr>
            <a:xfrm flipV="1" rot="1281000">
              <a:off x="6176160" y="2580120"/>
              <a:ext cx="2589480" cy="160272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360 h 1602720"/>
                <a:gd name="textAreaBottom" fmla="*/ 1603440 h 1602720"/>
              </a:gdLst>
              <a:ahLst/>
              <a:rect l="textAreaLeft" t="textAreaTop" r="textAreaRight" b="textAreaBottom"/>
              <a:pathLst>
                <a:path w="2585610" h="1603919">
                  <a:moveTo>
                    <a:pt x="304741" y="0"/>
                  </a:moveTo>
                  <a:lnTo>
                    <a:pt x="2585609" y="1184607"/>
                  </a:lnTo>
                  <a:lnTo>
                    <a:pt x="2444757" y="1603918"/>
                  </a:lnTo>
                  <a:lnTo>
                    <a:pt x="0" y="334276"/>
                  </a:lnTo>
                  <a:lnTo>
                    <a:pt x="304741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: Shape 197"/>
            <p:cNvSpPr/>
            <p:nvPr/>
          </p:nvSpPr>
          <p:spPr>
            <a:xfrm flipV="1" rot="1281000">
              <a:off x="6176160" y="2580120"/>
              <a:ext cx="2589480" cy="160272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360 h 1602720"/>
                <a:gd name="textAreaBottom" fmla="*/ 1603440 h 1602720"/>
              </a:gdLst>
              <a:ahLst/>
              <a:rect l="textAreaLeft" t="textAreaTop" r="textAreaRight" b="textAreaBottom"/>
              <a:pathLst>
                <a:path w="2585975" h="1604284">
                  <a:moveTo>
                    <a:pt x="0" y="334136"/>
                  </a:moveTo>
                  <a:lnTo>
                    <a:pt x="2445120" y="1604283"/>
                  </a:lnTo>
                  <a:lnTo>
                    <a:pt x="2585974" y="1184470"/>
                  </a:lnTo>
                  <a:lnTo>
                    <a:pt x="304448" y="0"/>
                  </a:lnTo>
                  <a:lnTo>
                    <a:pt x="0" y="33413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traight Connector 198"/>
            <p:cNvSpPr/>
            <p:nvPr/>
          </p:nvSpPr>
          <p:spPr>
            <a:xfrm flipH="1" flipV="1">
              <a:off x="6107760" y="3364200"/>
              <a:ext cx="8136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Straight Connector 199"/>
            <p:cNvSpPr/>
            <p:nvPr/>
          </p:nvSpPr>
          <p:spPr>
            <a:xfrm flipH="1" flipV="1">
              <a:off x="6373440" y="3339000"/>
              <a:ext cx="8136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Straight Connector 200"/>
            <p:cNvSpPr/>
            <p:nvPr/>
          </p:nvSpPr>
          <p:spPr>
            <a:xfrm flipH="1" flipV="1">
              <a:off x="6650640" y="3308760"/>
              <a:ext cx="640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traight Connector 201"/>
            <p:cNvSpPr/>
            <p:nvPr/>
          </p:nvSpPr>
          <p:spPr>
            <a:xfrm flipH="1" flipV="1">
              <a:off x="6928560" y="3282120"/>
              <a:ext cx="5508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Straight Connector 202"/>
            <p:cNvSpPr/>
            <p:nvPr/>
          </p:nvSpPr>
          <p:spPr>
            <a:xfrm flipH="1" flipV="1">
              <a:off x="7194600" y="3243240"/>
              <a:ext cx="45360" cy="22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Straight Connector 203"/>
            <p:cNvSpPr/>
            <p:nvPr/>
          </p:nvSpPr>
          <p:spPr>
            <a:xfrm flipH="1" flipV="1">
              <a:off x="7480080" y="3216240"/>
              <a:ext cx="367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Straight Connector 204"/>
            <p:cNvSpPr/>
            <p:nvPr/>
          </p:nvSpPr>
          <p:spPr>
            <a:xfrm flipH="1" flipV="1">
              <a:off x="7751880" y="3198960"/>
              <a:ext cx="291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Straight Connector 205"/>
            <p:cNvSpPr/>
            <p:nvPr/>
          </p:nvSpPr>
          <p:spPr>
            <a:xfrm flipH="1" flipV="1">
              <a:off x="8018280" y="3162960"/>
              <a:ext cx="19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Straight Connector 206"/>
            <p:cNvSpPr/>
            <p:nvPr/>
          </p:nvSpPr>
          <p:spPr>
            <a:xfrm flipH="1" flipV="1">
              <a:off x="8292240" y="3129480"/>
              <a:ext cx="3240" cy="23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Straight Connector 207"/>
            <p:cNvSpPr/>
            <p:nvPr/>
          </p:nvSpPr>
          <p:spPr>
            <a:xfrm flipV="1">
              <a:off x="8570880" y="3105720"/>
              <a:ext cx="5040" cy="2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Straight Connector 208"/>
            <p:cNvSpPr/>
            <p:nvPr/>
          </p:nvSpPr>
          <p:spPr>
            <a:xfrm flipV="1">
              <a:off x="8831880" y="3061800"/>
              <a:ext cx="93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: Shape 209"/>
            <p:cNvSpPr/>
            <p:nvPr/>
          </p:nvSpPr>
          <p:spPr>
            <a:xfrm flipV="1" rot="1281000">
              <a:off x="6261480" y="2525040"/>
              <a:ext cx="2448000" cy="13125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360 h 1312560"/>
                <a:gd name="textAreaBottom" fmla="*/ 1313280 h 1312560"/>
              </a:gdLst>
              <a:ahLst/>
              <a:rect l="textAreaLeft" t="textAreaTop" r="textAreaRight" b="textAreaBottom"/>
              <a:pathLst>
                <a:path w="2444758" h="1314412">
                  <a:moveTo>
                    <a:pt x="0" y="0"/>
                  </a:moveTo>
                  <a:lnTo>
                    <a:pt x="2444757" y="1269645"/>
                  </a:lnTo>
                  <a:lnTo>
                    <a:pt x="2408957" y="1314411"/>
                  </a:lnTo>
                  <a:lnTo>
                    <a:pt x="5575" y="507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: Shape 210"/>
            <p:cNvSpPr/>
            <p:nvPr/>
          </p:nvSpPr>
          <p:spPr>
            <a:xfrm flipV="1" rot="1281000">
              <a:off x="6261480" y="2525040"/>
              <a:ext cx="2448000" cy="13125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360 h 1312560"/>
                <a:gd name="textAreaBottom" fmla="*/ 1313280 h 1312560"/>
              </a:gdLst>
              <a:ahLst/>
              <a:rect l="textAreaLeft" t="textAreaTop" r="textAreaRight" b="textAreaBottom"/>
              <a:pathLst>
                <a:path w="2445124" h="1314411">
                  <a:moveTo>
                    <a:pt x="0" y="0"/>
                  </a:moveTo>
                  <a:lnTo>
                    <a:pt x="2445123" y="1270144"/>
                  </a:lnTo>
                  <a:lnTo>
                    <a:pt x="2409176" y="1314410"/>
                  </a:lnTo>
                  <a:lnTo>
                    <a:pt x="5868" y="506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Straight Connector 211"/>
            <p:cNvSpPr/>
            <p:nvPr/>
          </p:nvSpPr>
          <p:spPr>
            <a:xfrm flipH="1" flipV="1">
              <a:off x="6107400" y="3368160"/>
              <a:ext cx="309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Straight Connector 212"/>
            <p:cNvSpPr/>
            <p:nvPr/>
          </p:nvSpPr>
          <p:spPr>
            <a:xfrm flipH="1" flipV="1">
              <a:off x="6159240" y="3366000"/>
              <a:ext cx="2556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Straight Connector 213"/>
            <p:cNvSpPr/>
            <p:nvPr/>
          </p:nvSpPr>
          <p:spPr>
            <a:xfrm flipH="1" flipV="1">
              <a:off x="6209280" y="3349080"/>
              <a:ext cx="309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Straight Connector 214"/>
            <p:cNvSpPr/>
            <p:nvPr/>
          </p:nvSpPr>
          <p:spPr>
            <a:xfrm flipH="1" flipV="1">
              <a:off x="6258240" y="3341520"/>
              <a:ext cx="309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Straight Connector 215"/>
            <p:cNvSpPr/>
            <p:nvPr/>
          </p:nvSpPr>
          <p:spPr>
            <a:xfrm flipH="1" flipV="1">
              <a:off x="6320160" y="3336480"/>
              <a:ext cx="2340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Straight Connector 216"/>
            <p:cNvSpPr/>
            <p:nvPr/>
          </p:nvSpPr>
          <p:spPr>
            <a:xfrm flipH="1" flipV="1">
              <a:off x="6377400" y="3337920"/>
              <a:ext cx="3168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traight Connector 217"/>
            <p:cNvSpPr/>
            <p:nvPr/>
          </p:nvSpPr>
          <p:spPr>
            <a:xfrm flipH="1" flipV="1">
              <a:off x="6424560" y="3317400"/>
              <a:ext cx="24120" cy="7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Straight Connector 218"/>
            <p:cNvSpPr/>
            <p:nvPr/>
          </p:nvSpPr>
          <p:spPr>
            <a:xfrm flipH="1" flipV="1">
              <a:off x="6492960" y="332568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Straight Connector 219"/>
            <p:cNvSpPr/>
            <p:nvPr/>
          </p:nvSpPr>
          <p:spPr>
            <a:xfrm flipH="1" flipV="1">
              <a:off x="6532560" y="3314520"/>
              <a:ext cx="2880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traight Connector 220"/>
            <p:cNvSpPr/>
            <p:nvPr/>
          </p:nvSpPr>
          <p:spPr>
            <a:xfrm flipH="1" flipV="1">
              <a:off x="6597720" y="3314520"/>
              <a:ext cx="226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Straight Connector 221"/>
            <p:cNvSpPr/>
            <p:nvPr/>
          </p:nvSpPr>
          <p:spPr>
            <a:xfrm flipH="1" flipV="1">
              <a:off x="6656400" y="3313080"/>
              <a:ext cx="2160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Straight Connector 222"/>
            <p:cNvSpPr/>
            <p:nvPr/>
          </p:nvSpPr>
          <p:spPr>
            <a:xfrm flipH="1" flipV="1">
              <a:off x="6696360" y="3298320"/>
              <a:ext cx="226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Straight Connector 223"/>
            <p:cNvSpPr/>
            <p:nvPr/>
          </p:nvSpPr>
          <p:spPr>
            <a:xfrm flipH="1" flipV="1">
              <a:off x="6762960" y="330192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Straight Connector 224"/>
            <p:cNvSpPr/>
            <p:nvPr/>
          </p:nvSpPr>
          <p:spPr>
            <a:xfrm flipH="1" flipV="1">
              <a:off x="6815520" y="328320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Straight Connector 225"/>
            <p:cNvSpPr/>
            <p:nvPr/>
          </p:nvSpPr>
          <p:spPr>
            <a:xfrm flipH="1" flipV="1">
              <a:off x="6858360" y="327348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Straight Connector 226"/>
            <p:cNvSpPr/>
            <p:nvPr/>
          </p:nvSpPr>
          <p:spPr>
            <a:xfrm flipH="1" flipV="1">
              <a:off x="6922080" y="327672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Straight Connector 227"/>
            <p:cNvSpPr/>
            <p:nvPr/>
          </p:nvSpPr>
          <p:spPr>
            <a:xfrm flipH="1" flipV="1">
              <a:off x="6965640" y="3256560"/>
              <a:ext cx="12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Straight Connector 228"/>
            <p:cNvSpPr/>
            <p:nvPr/>
          </p:nvSpPr>
          <p:spPr>
            <a:xfrm flipH="1" flipV="1">
              <a:off x="7031520" y="326592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traight Connector 229"/>
            <p:cNvSpPr/>
            <p:nvPr/>
          </p:nvSpPr>
          <p:spPr>
            <a:xfrm flipH="1" flipV="1">
              <a:off x="7093080" y="3261240"/>
              <a:ext cx="1260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traight Connector 230"/>
            <p:cNvSpPr/>
            <p:nvPr/>
          </p:nvSpPr>
          <p:spPr>
            <a:xfrm flipH="1" flipV="1">
              <a:off x="7139160" y="3245040"/>
              <a:ext cx="1548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Straight Connector 231"/>
            <p:cNvSpPr/>
            <p:nvPr/>
          </p:nvSpPr>
          <p:spPr>
            <a:xfrm flipH="1" flipV="1">
              <a:off x="7201080" y="3252240"/>
              <a:ext cx="190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traight Connector 232"/>
            <p:cNvSpPr/>
            <p:nvPr/>
          </p:nvSpPr>
          <p:spPr>
            <a:xfrm flipH="1" flipV="1">
              <a:off x="7245720" y="3238920"/>
              <a:ext cx="151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Straight Connector 233"/>
            <p:cNvSpPr/>
            <p:nvPr/>
          </p:nvSpPr>
          <p:spPr>
            <a:xfrm flipH="1" flipV="1">
              <a:off x="7313760" y="3234600"/>
              <a:ext cx="1260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Straight Connector 234"/>
            <p:cNvSpPr/>
            <p:nvPr/>
          </p:nvSpPr>
          <p:spPr>
            <a:xfrm flipH="1" flipV="1">
              <a:off x="7355520" y="3218400"/>
              <a:ext cx="151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traight Connector 235"/>
            <p:cNvSpPr/>
            <p:nvPr/>
          </p:nvSpPr>
          <p:spPr>
            <a:xfrm flipH="1" flipV="1">
              <a:off x="7417080" y="3218760"/>
              <a:ext cx="12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Straight Connector 236"/>
            <p:cNvSpPr/>
            <p:nvPr/>
          </p:nvSpPr>
          <p:spPr>
            <a:xfrm flipH="1" flipV="1">
              <a:off x="7471080" y="3215880"/>
              <a:ext cx="1188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Straight Connector 237"/>
            <p:cNvSpPr/>
            <p:nvPr/>
          </p:nvSpPr>
          <p:spPr>
            <a:xfrm flipH="1" flipV="1">
              <a:off x="7522200" y="3195000"/>
              <a:ext cx="122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Straight Connector 238"/>
            <p:cNvSpPr/>
            <p:nvPr/>
          </p:nvSpPr>
          <p:spPr>
            <a:xfrm flipH="1" flipV="1">
              <a:off x="7588800" y="3211200"/>
              <a:ext cx="1116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Straight Connector 239"/>
            <p:cNvSpPr/>
            <p:nvPr/>
          </p:nvSpPr>
          <p:spPr>
            <a:xfrm flipH="1" flipV="1">
              <a:off x="7643880" y="3210840"/>
              <a:ext cx="576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Straight Connector 240"/>
            <p:cNvSpPr/>
            <p:nvPr/>
          </p:nvSpPr>
          <p:spPr>
            <a:xfrm flipH="1" flipV="1">
              <a:off x="7696440" y="3198960"/>
              <a:ext cx="900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Straight Connector 241"/>
            <p:cNvSpPr/>
            <p:nvPr/>
          </p:nvSpPr>
          <p:spPr>
            <a:xfrm flipH="1" flipV="1">
              <a:off x="7749720" y="3185640"/>
              <a:ext cx="122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Straight Connector 242"/>
            <p:cNvSpPr/>
            <p:nvPr/>
          </p:nvSpPr>
          <p:spPr>
            <a:xfrm flipH="1" flipV="1">
              <a:off x="7809120" y="3190320"/>
              <a:ext cx="432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Straight Connector 243"/>
            <p:cNvSpPr/>
            <p:nvPr/>
          </p:nvSpPr>
          <p:spPr>
            <a:xfrm flipH="1" flipV="1">
              <a:off x="7847640" y="3179520"/>
              <a:ext cx="12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Straight Connector 244"/>
            <p:cNvSpPr/>
            <p:nvPr/>
          </p:nvSpPr>
          <p:spPr>
            <a:xfrm flipH="1" flipV="1">
              <a:off x="7913880" y="3174840"/>
              <a:ext cx="39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Straight Connector 245"/>
            <p:cNvSpPr/>
            <p:nvPr/>
          </p:nvSpPr>
          <p:spPr>
            <a:xfrm flipH="1" flipV="1">
              <a:off x="7972560" y="3168720"/>
              <a:ext cx="288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traight Connector 246"/>
            <p:cNvSpPr/>
            <p:nvPr/>
          </p:nvSpPr>
          <p:spPr>
            <a:xfrm flipH="1" flipV="1">
              <a:off x="8020440" y="3165840"/>
              <a:ext cx="900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traight Connector 247"/>
            <p:cNvSpPr/>
            <p:nvPr/>
          </p:nvSpPr>
          <p:spPr>
            <a:xfrm flipH="1" flipV="1">
              <a:off x="8080560" y="3151440"/>
              <a:ext cx="288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Straight Connector 248"/>
            <p:cNvSpPr/>
            <p:nvPr/>
          </p:nvSpPr>
          <p:spPr>
            <a:xfrm flipH="1" flipV="1">
              <a:off x="8133120" y="314856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Straight Connector 249"/>
            <p:cNvSpPr/>
            <p:nvPr/>
          </p:nvSpPr>
          <p:spPr>
            <a:xfrm flipH="1" flipV="1">
              <a:off x="8187120" y="314388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traight Connector 250"/>
            <p:cNvSpPr/>
            <p:nvPr/>
          </p:nvSpPr>
          <p:spPr>
            <a:xfrm flipH="1" flipV="1">
              <a:off x="8239680" y="313416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Straight Connector 251"/>
            <p:cNvSpPr/>
            <p:nvPr/>
          </p:nvSpPr>
          <p:spPr>
            <a:xfrm flipH="1" flipV="1">
              <a:off x="8303400" y="3138840"/>
              <a:ext cx="252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Straight Connector 252"/>
            <p:cNvSpPr/>
            <p:nvPr/>
          </p:nvSpPr>
          <p:spPr>
            <a:xfrm flipH="1" flipV="1">
              <a:off x="8350920" y="3127680"/>
              <a:ext cx="39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Straight Connector 253"/>
            <p:cNvSpPr/>
            <p:nvPr/>
          </p:nvSpPr>
          <p:spPr>
            <a:xfrm flipH="1" flipV="1">
              <a:off x="8408160" y="312660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traight Connector 254"/>
            <p:cNvSpPr/>
            <p:nvPr/>
          </p:nvSpPr>
          <p:spPr>
            <a:xfrm flipV="1">
              <a:off x="8462520" y="3119760"/>
              <a:ext cx="540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traight Connector 255"/>
            <p:cNvSpPr/>
            <p:nvPr/>
          </p:nvSpPr>
          <p:spPr>
            <a:xfrm flipH="1" flipV="1">
              <a:off x="8517600" y="3115440"/>
              <a:ext cx="288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Straight Connector 256"/>
            <p:cNvSpPr/>
            <p:nvPr/>
          </p:nvSpPr>
          <p:spPr>
            <a:xfrm flipV="1">
              <a:off x="8565480" y="3104280"/>
              <a:ext cx="612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Straight Connector 257"/>
            <p:cNvSpPr/>
            <p:nvPr/>
          </p:nvSpPr>
          <p:spPr>
            <a:xfrm flipV="1">
              <a:off x="8622360" y="3102480"/>
              <a:ext cx="3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Straight Connector 258"/>
            <p:cNvSpPr/>
            <p:nvPr/>
          </p:nvSpPr>
          <p:spPr>
            <a:xfrm flipH="1" flipV="1">
              <a:off x="8681040" y="3092040"/>
              <a:ext cx="36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Straight Connector 259"/>
            <p:cNvSpPr/>
            <p:nvPr/>
          </p:nvSpPr>
          <p:spPr>
            <a:xfrm flipV="1">
              <a:off x="8730720" y="3083760"/>
              <a:ext cx="432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traight Connector 260"/>
            <p:cNvSpPr/>
            <p:nvPr/>
          </p:nvSpPr>
          <p:spPr>
            <a:xfrm flipV="1">
              <a:off x="8780040" y="3079800"/>
              <a:ext cx="75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Straight Connector 261"/>
            <p:cNvSpPr/>
            <p:nvPr/>
          </p:nvSpPr>
          <p:spPr>
            <a:xfrm flipV="1">
              <a:off x="8837640" y="3077640"/>
              <a:ext cx="684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820"/>
            </a:gs>
            <a:gs pos="100000">
              <a:srgbClr val="ffff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269120" y="3530520"/>
            <a:ext cx="2197080" cy="1766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3340080"/>
            <a:ext cx="2262240" cy="18208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0" y="841320"/>
            <a:ext cx="5727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Was ist dein Lieblingsfach?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Mein Lieblingsfach ist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Ich mag ...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Ich mag …..…... nicht.             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115"/>
          <p:cNvGrpSpPr/>
          <p:nvPr/>
        </p:nvGrpSpPr>
        <p:grpSpPr>
          <a:xfrm>
            <a:off x="7726680" y="321840"/>
            <a:ext cx="2313720" cy="2348640"/>
            <a:chOff x="7726680" y="321840"/>
            <a:chExt cx="2313720" cy="2348640"/>
          </a:xfrm>
        </p:grpSpPr>
        <p:grpSp>
          <p:nvGrpSpPr>
            <p:cNvPr id="409" name="Group 106"/>
            <p:cNvGrpSpPr/>
            <p:nvPr/>
          </p:nvGrpSpPr>
          <p:grpSpPr>
            <a:xfrm>
              <a:off x="7726680" y="321840"/>
              <a:ext cx="2313720" cy="2348640"/>
              <a:chOff x="7726680" y="321840"/>
              <a:chExt cx="2313720" cy="2348640"/>
            </a:xfrm>
          </p:grpSpPr>
          <p:pic>
            <p:nvPicPr>
              <p:cNvPr id="410" name="Picture 7" descr=""/>
              <p:cNvPicPr/>
              <p:nvPr/>
            </p:nvPicPr>
            <p:blipFill>
              <a:blip r:embed="rId3">
                <a:alphaModFix amt="0"/>
              </a:blip>
              <a:stretch/>
            </p:blipFill>
            <p:spPr>
              <a:xfrm rot="274200">
                <a:off x="7805520" y="521280"/>
                <a:ext cx="2081520" cy="206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1" name="Group 22"/>
              <p:cNvGrpSpPr/>
              <p:nvPr/>
            </p:nvGrpSpPr>
            <p:grpSpPr>
              <a:xfrm>
                <a:off x="9225000" y="321840"/>
                <a:ext cx="815400" cy="639000"/>
                <a:chOff x="9225000" y="321840"/>
                <a:chExt cx="815400" cy="639000"/>
              </a:xfrm>
            </p:grpSpPr>
            <p:sp>
              <p:nvSpPr>
                <p:cNvPr id="412" name="Freeform: Shape 8"/>
                <p:cNvSpPr/>
                <p:nvPr/>
              </p:nvSpPr>
              <p:spPr>
                <a:xfrm rot="10800000">
                  <a:off x="9877680" y="463320"/>
                  <a:ext cx="135720" cy="13464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15954" h="250312">
                      <a:moveTo>
                        <a:pt x="17559" y="242366"/>
                      </a:moveTo>
                      <a:lnTo>
                        <a:pt x="13219" y="234120"/>
                      </a:lnTo>
                      <a:lnTo>
                        <a:pt x="9485" y="225673"/>
                      </a:lnTo>
                      <a:lnTo>
                        <a:pt x="6357" y="217023"/>
                      </a:lnTo>
                      <a:lnTo>
                        <a:pt x="3936" y="208073"/>
                      </a:lnTo>
                      <a:lnTo>
                        <a:pt x="2018" y="199022"/>
                      </a:lnTo>
                      <a:lnTo>
                        <a:pt x="0" y="180518"/>
                      </a:lnTo>
                      <a:lnTo>
                        <a:pt x="303" y="161712"/>
                      </a:lnTo>
                      <a:lnTo>
                        <a:pt x="2826" y="142805"/>
                      </a:lnTo>
                      <a:lnTo>
                        <a:pt x="7567" y="123999"/>
                      </a:lnTo>
                      <a:lnTo>
                        <a:pt x="14430" y="105696"/>
                      </a:lnTo>
                      <a:lnTo>
                        <a:pt x="23211" y="87996"/>
                      </a:lnTo>
                      <a:lnTo>
                        <a:pt x="33906" y="71100"/>
                      </a:lnTo>
                      <a:lnTo>
                        <a:pt x="46622" y="55412"/>
                      </a:lnTo>
                      <a:lnTo>
                        <a:pt x="53584" y="47971"/>
                      </a:lnTo>
                      <a:lnTo>
                        <a:pt x="61051" y="40930"/>
                      </a:lnTo>
                      <a:lnTo>
                        <a:pt x="68924" y="34293"/>
                      </a:lnTo>
                      <a:lnTo>
                        <a:pt x="77198" y="28058"/>
                      </a:lnTo>
                      <a:lnTo>
                        <a:pt x="85977" y="22326"/>
                      </a:lnTo>
                      <a:lnTo>
                        <a:pt x="95160" y="16995"/>
                      </a:lnTo>
                      <a:lnTo>
                        <a:pt x="104647" y="12168"/>
                      </a:lnTo>
                      <a:lnTo>
                        <a:pt x="114636" y="7944"/>
                      </a:lnTo>
                      <a:lnTo>
                        <a:pt x="124930" y="4223"/>
                      </a:lnTo>
                      <a:lnTo>
                        <a:pt x="135627" y="1106"/>
                      </a:lnTo>
                      <a:lnTo>
                        <a:pt x="142287" y="101"/>
                      </a:lnTo>
                      <a:lnTo>
                        <a:pt x="148745" y="0"/>
                      </a:lnTo>
                      <a:lnTo>
                        <a:pt x="155002" y="904"/>
                      </a:lnTo>
                      <a:lnTo>
                        <a:pt x="161158" y="2614"/>
                      </a:lnTo>
                      <a:lnTo>
                        <a:pt x="167111" y="5128"/>
                      </a:lnTo>
                      <a:lnTo>
                        <a:pt x="172863" y="8447"/>
                      </a:lnTo>
                      <a:lnTo>
                        <a:pt x="178413" y="12369"/>
                      </a:lnTo>
                      <a:lnTo>
                        <a:pt x="183762" y="16895"/>
                      </a:lnTo>
                      <a:lnTo>
                        <a:pt x="193752" y="27555"/>
                      </a:lnTo>
                      <a:lnTo>
                        <a:pt x="202430" y="39623"/>
                      </a:lnTo>
                      <a:lnTo>
                        <a:pt x="209999" y="52898"/>
                      </a:lnTo>
                      <a:lnTo>
                        <a:pt x="215953" y="66475"/>
                      </a:lnTo>
                      <a:lnTo>
                        <a:pt x="215953" y="74520"/>
                      </a:lnTo>
                      <a:lnTo>
                        <a:pt x="215045" y="81760"/>
                      </a:lnTo>
                      <a:lnTo>
                        <a:pt x="213429" y="88399"/>
                      </a:lnTo>
                      <a:lnTo>
                        <a:pt x="211210" y="94432"/>
                      </a:lnTo>
                      <a:lnTo>
                        <a:pt x="208183" y="99963"/>
                      </a:lnTo>
                      <a:lnTo>
                        <a:pt x="204650" y="104891"/>
                      </a:lnTo>
                      <a:lnTo>
                        <a:pt x="200512" y="109417"/>
                      </a:lnTo>
                      <a:lnTo>
                        <a:pt x="195771" y="113539"/>
                      </a:lnTo>
                      <a:lnTo>
                        <a:pt x="184770" y="120982"/>
                      </a:lnTo>
                      <a:lnTo>
                        <a:pt x="172157" y="127418"/>
                      </a:lnTo>
                      <a:lnTo>
                        <a:pt x="158029" y="133654"/>
                      </a:lnTo>
                      <a:lnTo>
                        <a:pt x="142993" y="139888"/>
                      </a:lnTo>
                      <a:lnTo>
                        <a:pt x="127149" y="146727"/>
                      </a:lnTo>
                      <a:lnTo>
                        <a:pt x="110902" y="154672"/>
                      </a:lnTo>
                      <a:lnTo>
                        <a:pt x="94555" y="164024"/>
                      </a:lnTo>
                      <a:lnTo>
                        <a:pt x="78408" y="175489"/>
                      </a:lnTo>
                      <a:lnTo>
                        <a:pt x="70538" y="182026"/>
                      </a:lnTo>
                      <a:lnTo>
                        <a:pt x="62867" y="189267"/>
                      </a:lnTo>
                      <a:lnTo>
                        <a:pt x="55301" y="197312"/>
                      </a:lnTo>
                      <a:lnTo>
                        <a:pt x="48034" y="206062"/>
                      </a:lnTo>
                      <a:lnTo>
                        <a:pt x="41171" y="215716"/>
                      </a:lnTo>
                      <a:lnTo>
                        <a:pt x="34512" y="226276"/>
                      </a:lnTo>
                      <a:lnTo>
                        <a:pt x="28254" y="237740"/>
                      </a:lnTo>
                      <a:lnTo>
                        <a:pt x="22503" y="250311"/>
                      </a:lnTo>
                      <a:lnTo>
                        <a:pt x="17559" y="2423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3" name="Freeform: Shape 9"/>
                <p:cNvSpPr/>
                <p:nvPr/>
              </p:nvSpPr>
              <p:spPr>
                <a:xfrm rot="10800000">
                  <a:off x="9776880" y="556200"/>
                  <a:ext cx="153360" cy="11232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244812" h="207572">
                      <a:moveTo>
                        <a:pt x="1917" y="109719"/>
                      </a:moveTo>
                      <a:lnTo>
                        <a:pt x="3734" y="106501"/>
                      </a:lnTo>
                      <a:lnTo>
                        <a:pt x="6054" y="103081"/>
                      </a:lnTo>
                      <a:lnTo>
                        <a:pt x="8981" y="99360"/>
                      </a:lnTo>
                      <a:lnTo>
                        <a:pt x="16247" y="91316"/>
                      </a:lnTo>
                      <a:lnTo>
                        <a:pt x="25228" y="82465"/>
                      </a:lnTo>
                      <a:lnTo>
                        <a:pt x="35520" y="73414"/>
                      </a:lnTo>
                      <a:lnTo>
                        <a:pt x="46924" y="63961"/>
                      </a:lnTo>
                      <a:lnTo>
                        <a:pt x="71445" y="45155"/>
                      </a:lnTo>
                      <a:lnTo>
                        <a:pt x="83958" y="36204"/>
                      </a:lnTo>
                      <a:lnTo>
                        <a:pt x="96270" y="27756"/>
                      </a:lnTo>
                      <a:lnTo>
                        <a:pt x="107975" y="20113"/>
                      </a:lnTo>
                      <a:lnTo>
                        <a:pt x="118772" y="13376"/>
                      </a:lnTo>
                      <a:lnTo>
                        <a:pt x="128360" y="7843"/>
                      </a:lnTo>
                      <a:lnTo>
                        <a:pt x="132598" y="5531"/>
                      </a:lnTo>
                      <a:lnTo>
                        <a:pt x="136330" y="3519"/>
                      </a:lnTo>
                      <a:lnTo>
                        <a:pt x="139762" y="2010"/>
                      </a:lnTo>
                      <a:lnTo>
                        <a:pt x="142588" y="904"/>
                      </a:lnTo>
                      <a:lnTo>
                        <a:pt x="144910" y="201"/>
                      </a:lnTo>
                      <a:lnTo>
                        <a:pt x="146523" y="0"/>
                      </a:lnTo>
                      <a:lnTo>
                        <a:pt x="150257" y="2413"/>
                      </a:lnTo>
                      <a:lnTo>
                        <a:pt x="154597" y="5531"/>
                      </a:lnTo>
                      <a:lnTo>
                        <a:pt x="159440" y="9252"/>
                      </a:lnTo>
                      <a:lnTo>
                        <a:pt x="164889" y="13476"/>
                      </a:lnTo>
                      <a:lnTo>
                        <a:pt x="170641" y="18403"/>
                      </a:lnTo>
                      <a:lnTo>
                        <a:pt x="176898" y="23934"/>
                      </a:lnTo>
                      <a:lnTo>
                        <a:pt x="183356" y="30170"/>
                      </a:lnTo>
                      <a:lnTo>
                        <a:pt x="190116" y="37009"/>
                      </a:lnTo>
                      <a:lnTo>
                        <a:pt x="196979" y="44652"/>
                      </a:lnTo>
                      <a:lnTo>
                        <a:pt x="204043" y="52898"/>
                      </a:lnTo>
                      <a:lnTo>
                        <a:pt x="211107" y="61949"/>
                      </a:lnTo>
                      <a:lnTo>
                        <a:pt x="218170" y="71704"/>
                      </a:lnTo>
                      <a:lnTo>
                        <a:pt x="225134" y="82264"/>
                      </a:lnTo>
                      <a:lnTo>
                        <a:pt x="231894" y="93528"/>
                      </a:lnTo>
                      <a:lnTo>
                        <a:pt x="238453" y="105595"/>
                      </a:lnTo>
                      <a:lnTo>
                        <a:pt x="244811" y="118568"/>
                      </a:lnTo>
                      <a:lnTo>
                        <a:pt x="232602" y="126614"/>
                      </a:lnTo>
                      <a:lnTo>
                        <a:pt x="220693" y="133956"/>
                      </a:lnTo>
                      <a:lnTo>
                        <a:pt x="197585" y="147129"/>
                      </a:lnTo>
                      <a:lnTo>
                        <a:pt x="175081" y="158393"/>
                      </a:lnTo>
                      <a:lnTo>
                        <a:pt x="152880" y="168551"/>
                      </a:lnTo>
                      <a:lnTo>
                        <a:pt x="108783" y="187357"/>
                      </a:lnTo>
                      <a:lnTo>
                        <a:pt x="86278" y="197011"/>
                      </a:lnTo>
                      <a:lnTo>
                        <a:pt x="63271" y="207571"/>
                      </a:lnTo>
                      <a:lnTo>
                        <a:pt x="59537" y="199827"/>
                      </a:lnTo>
                      <a:lnTo>
                        <a:pt x="55399" y="193089"/>
                      </a:lnTo>
                      <a:lnTo>
                        <a:pt x="50859" y="187056"/>
                      </a:lnTo>
                      <a:lnTo>
                        <a:pt x="46218" y="181826"/>
                      </a:lnTo>
                      <a:lnTo>
                        <a:pt x="36429" y="172975"/>
                      </a:lnTo>
                      <a:lnTo>
                        <a:pt x="26539" y="165433"/>
                      </a:lnTo>
                      <a:lnTo>
                        <a:pt x="17457" y="158393"/>
                      </a:lnTo>
                      <a:lnTo>
                        <a:pt x="9586" y="151052"/>
                      </a:lnTo>
                      <a:lnTo>
                        <a:pt x="6358" y="146929"/>
                      </a:lnTo>
                      <a:lnTo>
                        <a:pt x="3734" y="142302"/>
                      </a:lnTo>
                      <a:lnTo>
                        <a:pt x="1715" y="137174"/>
                      </a:lnTo>
                      <a:lnTo>
                        <a:pt x="606" y="131341"/>
                      </a:lnTo>
                      <a:lnTo>
                        <a:pt x="0" y="121887"/>
                      </a:lnTo>
                      <a:lnTo>
                        <a:pt x="806" y="112635"/>
                      </a:lnTo>
                      <a:lnTo>
                        <a:pt x="1917" y="10971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4" name="Freeform: Shape 10"/>
                <p:cNvSpPr/>
                <p:nvPr/>
              </p:nvSpPr>
              <p:spPr>
                <a:xfrm rot="10800000">
                  <a:off x="9231120" y="596520"/>
                  <a:ext cx="614160" cy="3614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361440"/>
                    <a:gd name="textAreaBottom" fmla="*/ 361800 h 361440"/>
                  </a:gdLst>
                  <a:ahLst/>
                  <a:rect l="textAreaLeft" t="textAreaTop" r="textAreaRight" b="textAreaBottom"/>
                  <a:pathLst>
                    <a:path w="972391" h="670987">
                      <a:moveTo>
                        <a:pt x="8376" y="551009"/>
                      </a:moveTo>
                      <a:lnTo>
                        <a:pt x="17457" y="543567"/>
                      </a:lnTo>
                      <a:lnTo>
                        <a:pt x="27045" y="536024"/>
                      </a:lnTo>
                      <a:lnTo>
                        <a:pt x="37338" y="528179"/>
                      </a:lnTo>
                      <a:lnTo>
                        <a:pt x="59438" y="511988"/>
                      </a:lnTo>
                      <a:lnTo>
                        <a:pt x="83656" y="495093"/>
                      </a:lnTo>
                      <a:lnTo>
                        <a:pt x="109894" y="477696"/>
                      </a:lnTo>
                      <a:lnTo>
                        <a:pt x="137644" y="459693"/>
                      </a:lnTo>
                      <a:lnTo>
                        <a:pt x="167110" y="441190"/>
                      </a:lnTo>
                      <a:lnTo>
                        <a:pt x="197889" y="422283"/>
                      </a:lnTo>
                      <a:lnTo>
                        <a:pt x="229879" y="402974"/>
                      </a:lnTo>
                      <a:lnTo>
                        <a:pt x="262776" y="383565"/>
                      </a:lnTo>
                      <a:lnTo>
                        <a:pt x="296581" y="363853"/>
                      </a:lnTo>
                      <a:lnTo>
                        <a:pt x="330992" y="344041"/>
                      </a:lnTo>
                      <a:lnTo>
                        <a:pt x="401126" y="304318"/>
                      </a:lnTo>
                      <a:lnTo>
                        <a:pt x="471562" y="264996"/>
                      </a:lnTo>
                      <a:lnTo>
                        <a:pt x="506579" y="245687"/>
                      </a:lnTo>
                      <a:lnTo>
                        <a:pt x="541091" y="226579"/>
                      </a:lnTo>
                      <a:lnTo>
                        <a:pt x="575098" y="207874"/>
                      </a:lnTo>
                      <a:lnTo>
                        <a:pt x="608298" y="189570"/>
                      </a:lnTo>
                      <a:lnTo>
                        <a:pt x="640489" y="171769"/>
                      </a:lnTo>
                      <a:lnTo>
                        <a:pt x="671570" y="154674"/>
                      </a:lnTo>
                      <a:lnTo>
                        <a:pt x="701238" y="138080"/>
                      </a:lnTo>
                      <a:lnTo>
                        <a:pt x="729493" y="122291"/>
                      </a:lnTo>
                      <a:lnTo>
                        <a:pt x="756034" y="107205"/>
                      </a:lnTo>
                      <a:lnTo>
                        <a:pt x="780756" y="93025"/>
                      </a:lnTo>
                      <a:lnTo>
                        <a:pt x="792262" y="86388"/>
                      </a:lnTo>
                      <a:lnTo>
                        <a:pt x="803361" y="79852"/>
                      </a:lnTo>
                      <a:lnTo>
                        <a:pt x="813857" y="73516"/>
                      </a:lnTo>
                      <a:lnTo>
                        <a:pt x="823847" y="67582"/>
                      </a:lnTo>
                      <a:lnTo>
                        <a:pt x="833130" y="61849"/>
                      </a:lnTo>
                      <a:lnTo>
                        <a:pt x="841910" y="56319"/>
                      </a:lnTo>
                      <a:lnTo>
                        <a:pt x="849983" y="51189"/>
                      </a:lnTo>
                      <a:lnTo>
                        <a:pt x="857349" y="46261"/>
                      </a:lnTo>
                      <a:lnTo>
                        <a:pt x="864110" y="41736"/>
                      </a:lnTo>
                      <a:lnTo>
                        <a:pt x="870064" y="37412"/>
                      </a:lnTo>
                      <a:lnTo>
                        <a:pt x="875312" y="33389"/>
                      </a:lnTo>
                      <a:lnTo>
                        <a:pt x="879852" y="29769"/>
                      </a:lnTo>
                      <a:lnTo>
                        <a:pt x="889339" y="25143"/>
                      </a:lnTo>
                      <a:lnTo>
                        <a:pt x="898017" y="20718"/>
                      </a:lnTo>
                      <a:lnTo>
                        <a:pt x="906091" y="16594"/>
                      </a:lnTo>
                      <a:lnTo>
                        <a:pt x="913658" y="12773"/>
                      </a:lnTo>
                      <a:lnTo>
                        <a:pt x="920622" y="9454"/>
                      </a:lnTo>
                      <a:lnTo>
                        <a:pt x="926979" y="6437"/>
                      </a:lnTo>
                      <a:lnTo>
                        <a:pt x="932932" y="3922"/>
                      </a:lnTo>
                      <a:lnTo>
                        <a:pt x="938382" y="2012"/>
                      </a:lnTo>
                      <a:lnTo>
                        <a:pt x="943429" y="705"/>
                      </a:lnTo>
                      <a:lnTo>
                        <a:pt x="948069" y="0"/>
                      </a:lnTo>
                      <a:lnTo>
                        <a:pt x="952409" y="0"/>
                      </a:lnTo>
                      <a:lnTo>
                        <a:pt x="956445" y="806"/>
                      </a:lnTo>
                      <a:lnTo>
                        <a:pt x="960078" y="2415"/>
                      </a:lnTo>
                      <a:lnTo>
                        <a:pt x="963610" y="4828"/>
                      </a:lnTo>
                      <a:lnTo>
                        <a:pt x="966940" y="8248"/>
                      </a:lnTo>
                      <a:lnTo>
                        <a:pt x="970069" y="12572"/>
                      </a:lnTo>
                      <a:lnTo>
                        <a:pt x="972187" y="17298"/>
                      </a:lnTo>
                      <a:lnTo>
                        <a:pt x="972390" y="21724"/>
                      </a:lnTo>
                      <a:lnTo>
                        <a:pt x="970976" y="26148"/>
                      </a:lnTo>
                      <a:lnTo>
                        <a:pt x="968252" y="30373"/>
                      </a:lnTo>
                      <a:lnTo>
                        <a:pt x="964317" y="34597"/>
                      </a:lnTo>
                      <a:lnTo>
                        <a:pt x="959574" y="38719"/>
                      </a:lnTo>
                      <a:lnTo>
                        <a:pt x="948273" y="47067"/>
                      </a:lnTo>
                      <a:lnTo>
                        <a:pt x="936465" y="55715"/>
                      </a:lnTo>
                      <a:lnTo>
                        <a:pt x="930916" y="60240"/>
                      </a:lnTo>
                      <a:lnTo>
                        <a:pt x="925970" y="64967"/>
                      </a:lnTo>
                      <a:lnTo>
                        <a:pt x="921732" y="69995"/>
                      </a:lnTo>
                      <a:lnTo>
                        <a:pt x="918602" y="75225"/>
                      </a:lnTo>
                      <a:lnTo>
                        <a:pt x="916786" y="80756"/>
                      </a:lnTo>
                      <a:lnTo>
                        <a:pt x="916586" y="86689"/>
                      </a:lnTo>
                      <a:lnTo>
                        <a:pt x="872284" y="122592"/>
                      </a:lnTo>
                      <a:lnTo>
                        <a:pt x="826471" y="159098"/>
                      </a:lnTo>
                      <a:lnTo>
                        <a:pt x="779546" y="196108"/>
                      </a:lnTo>
                      <a:lnTo>
                        <a:pt x="731311" y="233418"/>
                      </a:lnTo>
                      <a:lnTo>
                        <a:pt x="682267" y="271130"/>
                      </a:lnTo>
                      <a:lnTo>
                        <a:pt x="632315" y="308843"/>
                      </a:lnTo>
                      <a:lnTo>
                        <a:pt x="530798" y="384368"/>
                      </a:lnTo>
                      <a:lnTo>
                        <a:pt x="427969" y="459292"/>
                      </a:lnTo>
                      <a:lnTo>
                        <a:pt x="325239" y="532505"/>
                      </a:lnTo>
                      <a:lnTo>
                        <a:pt x="274280" y="568306"/>
                      </a:lnTo>
                      <a:lnTo>
                        <a:pt x="223722" y="603404"/>
                      </a:lnTo>
                      <a:lnTo>
                        <a:pt x="173973" y="637598"/>
                      </a:lnTo>
                      <a:lnTo>
                        <a:pt x="124930" y="670986"/>
                      </a:lnTo>
                      <a:lnTo>
                        <a:pt x="115040" y="669377"/>
                      </a:lnTo>
                      <a:lnTo>
                        <a:pt x="106463" y="666762"/>
                      </a:lnTo>
                      <a:lnTo>
                        <a:pt x="98995" y="662940"/>
                      </a:lnTo>
                      <a:lnTo>
                        <a:pt x="92436" y="658213"/>
                      </a:lnTo>
                      <a:lnTo>
                        <a:pt x="86482" y="652683"/>
                      </a:lnTo>
                      <a:lnTo>
                        <a:pt x="80830" y="646347"/>
                      </a:lnTo>
                      <a:lnTo>
                        <a:pt x="70235" y="631563"/>
                      </a:lnTo>
                      <a:lnTo>
                        <a:pt x="64685" y="623316"/>
                      </a:lnTo>
                      <a:lnTo>
                        <a:pt x="58529" y="614768"/>
                      </a:lnTo>
                      <a:lnTo>
                        <a:pt x="51768" y="605717"/>
                      </a:lnTo>
                      <a:lnTo>
                        <a:pt x="44100" y="596465"/>
                      </a:lnTo>
                      <a:lnTo>
                        <a:pt x="35320" y="586911"/>
                      </a:lnTo>
                      <a:lnTo>
                        <a:pt x="25229" y="577358"/>
                      </a:lnTo>
                      <a:lnTo>
                        <a:pt x="13421" y="567804"/>
                      </a:lnTo>
                      <a:lnTo>
                        <a:pt x="0" y="558249"/>
                      </a:lnTo>
                      <a:lnTo>
                        <a:pt x="8376" y="551009"/>
                      </a:lnTo>
                      <a:close/>
                    </a:path>
                  </a:pathLst>
                </a:custGeom>
                <a:solidFill>
                  <a:srgbClr val="aa7700"/>
                </a:solidFill>
                <a:ln w="0">
                  <a:solidFill>
                    <a:srgbClr val="aa77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5" name="Freeform: Shape 11"/>
                <p:cNvSpPr/>
                <p:nvPr/>
              </p:nvSpPr>
              <p:spPr>
                <a:xfrm rot="10800000">
                  <a:off x="9225000" y="425880"/>
                  <a:ext cx="815400" cy="534600"/>
                </a:xfrm>
                <a:custGeom>
                  <a:avLst/>
                  <a:gdLst>
                    <a:gd name="textAreaLeft" fmla="*/ 0 w 815400"/>
                    <a:gd name="textAreaRight" fmla="*/ 815760 w 815400"/>
                    <a:gd name="textAreaTop" fmla="*/ 0 h 534600"/>
                    <a:gd name="textAreaBottom" fmla="*/ 534960 h 534600"/>
                  </a:gdLst>
                  <a:ahLst/>
                  <a:rect l="textAreaLeft" t="textAreaTop" r="textAreaRight" b="textAreaBottom"/>
                  <a:pathLst>
                    <a:path w="1288448" h="988574">
                      <a:moveTo>
                        <a:pt x="302232" y="573331"/>
                      </a:moveTo>
                      <a:lnTo>
                        <a:pt x="302838" y="572225"/>
                      </a:lnTo>
                      <a:lnTo>
                        <a:pt x="303444" y="570113"/>
                      </a:lnTo>
                      <a:lnTo>
                        <a:pt x="304252" y="564280"/>
                      </a:lnTo>
                      <a:lnTo>
                        <a:pt x="304958" y="558448"/>
                      </a:lnTo>
                      <a:lnTo>
                        <a:pt x="305058" y="556437"/>
                      </a:lnTo>
                      <a:lnTo>
                        <a:pt x="305260" y="555531"/>
                      </a:lnTo>
                      <a:lnTo>
                        <a:pt x="306672" y="553319"/>
                      </a:lnTo>
                      <a:lnTo>
                        <a:pt x="308692" y="550906"/>
                      </a:lnTo>
                      <a:lnTo>
                        <a:pt x="314443" y="545073"/>
                      </a:lnTo>
                      <a:lnTo>
                        <a:pt x="322011" y="538636"/>
                      </a:lnTo>
                      <a:lnTo>
                        <a:pt x="331295" y="531395"/>
                      </a:lnTo>
                      <a:lnTo>
                        <a:pt x="341892" y="523652"/>
                      </a:lnTo>
                      <a:lnTo>
                        <a:pt x="353597" y="515405"/>
                      </a:lnTo>
                      <a:lnTo>
                        <a:pt x="379026" y="498409"/>
                      </a:lnTo>
                      <a:lnTo>
                        <a:pt x="405265" y="481615"/>
                      </a:lnTo>
                      <a:lnTo>
                        <a:pt x="417979" y="473469"/>
                      </a:lnTo>
                      <a:lnTo>
                        <a:pt x="430088" y="465926"/>
                      </a:lnTo>
                      <a:lnTo>
                        <a:pt x="441189" y="458987"/>
                      </a:lnTo>
                      <a:lnTo>
                        <a:pt x="451078" y="452651"/>
                      </a:lnTo>
                      <a:lnTo>
                        <a:pt x="459353" y="447220"/>
                      </a:lnTo>
                      <a:lnTo>
                        <a:pt x="462885" y="444908"/>
                      </a:lnTo>
                      <a:lnTo>
                        <a:pt x="466012" y="442796"/>
                      </a:lnTo>
                      <a:lnTo>
                        <a:pt x="480142" y="433644"/>
                      </a:lnTo>
                      <a:lnTo>
                        <a:pt x="494773" y="424895"/>
                      </a:lnTo>
                      <a:lnTo>
                        <a:pt x="525147" y="408402"/>
                      </a:lnTo>
                      <a:lnTo>
                        <a:pt x="555622" y="392110"/>
                      </a:lnTo>
                      <a:lnTo>
                        <a:pt x="570457" y="383662"/>
                      </a:lnTo>
                      <a:lnTo>
                        <a:pt x="584989" y="374612"/>
                      </a:lnTo>
                      <a:lnTo>
                        <a:pt x="610924" y="358421"/>
                      </a:lnTo>
                      <a:lnTo>
                        <a:pt x="637261" y="343033"/>
                      </a:lnTo>
                      <a:lnTo>
                        <a:pt x="651188" y="335290"/>
                      </a:lnTo>
                      <a:lnTo>
                        <a:pt x="665719" y="327245"/>
                      </a:lnTo>
                      <a:lnTo>
                        <a:pt x="681360" y="318596"/>
                      </a:lnTo>
                      <a:lnTo>
                        <a:pt x="698111" y="309344"/>
                      </a:lnTo>
                      <a:lnTo>
                        <a:pt x="830912" y="235025"/>
                      </a:lnTo>
                      <a:lnTo>
                        <a:pt x="962904" y="161107"/>
                      </a:lnTo>
                      <a:lnTo>
                        <a:pt x="988738" y="147631"/>
                      </a:lnTo>
                      <a:lnTo>
                        <a:pt x="1015177" y="134760"/>
                      </a:lnTo>
                      <a:lnTo>
                        <a:pt x="1041414" y="121785"/>
                      </a:lnTo>
                      <a:lnTo>
                        <a:pt x="1067148" y="107706"/>
                      </a:lnTo>
                      <a:lnTo>
                        <a:pt x="1070276" y="105796"/>
                      </a:lnTo>
                      <a:lnTo>
                        <a:pt x="1074110" y="103483"/>
                      </a:lnTo>
                      <a:lnTo>
                        <a:pt x="1082788" y="97951"/>
                      </a:lnTo>
                      <a:lnTo>
                        <a:pt x="1093082" y="91314"/>
                      </a:lnTo>
                      <a:lnTo>
                        <a:pt x="1104586" y="83872"/>
                      </a:lnTo>
                      <a:lnTo>
                        <a:pt x="1117098" y="75726"/>
                      </a:lnTo>
                      <a:lnTo>
                        <a:pt x="1130317" y="67078"/>
                      </a:lnTo>
                      <a:lnTo>
                        <a:pt x="1158070" y="49277"/>
                      </a:lnTo>
                      <a:lnTo>
                        <a:pt x="1171996" y="40528"/>
                      </a:lnTo>
                      <a:lnTo>
                        <a:pt x="1185517" y="32080"/>
                      </a:lnTo>
                      <a:lnTo>
                        <a:pt x="1198534" y="24337"/>
                      </a:lnTo>
                      <a:lnTo>
                        <a:pt x="1210746" y="17196"/>
                      </a:lnTo>
                      <a:lnTo>
                        <a:pt x="1221744" y="11162"/>
                      </a:lnTo>
                      <a:lnTo>
                        <a:pt x="1231433" y="6335"/>
                      </a:lnTo>
                      <a:lnTo>
                        <a:pt x="1235671" y="4425"/>
                      </a:lnTo>
                      <a:lnTo>
                        <a:pt x="1239505" y="2816"/>
                      </a:lnTo>
                      <a:lnTo>
                        <a:pt x="1242836" y="1709"/>
                      </a:lnTo>
                      <a:lnTo>
                        <a:pt x="1245661" y="1006"/>
                      </a:lnTo>
                      <a:lnTo>
                        <a:pt x="1253229" y="0"/>
                      </a:lnTo>
                      <a:lnTo>
                        <a:pt x="1260596" y="0"/>
                      </a:lnTo>
                      <a:lnTo>
                        <a:pt x="1267457" y="1006"/>
                      </a:lnTo>
                      <a:lnTo>
                        <a:pt x="1273613" y="3117"/>
                      </a:lnTo>
                      <a:lnTo>
                        <a:pt x="1278963" y="6134"/>
                      </a:lnTo>
                      <a:lnTo>
                        <a:pt x="1283200" y="10258"/>
                      </a:lnTo>
                      <a:lnTo>
                        <a:pt x="1286026" y="15486"/>
                      </a:lnTo>
                      <a:lnTo>
                        <a:pt x="1287337" y="21722"/>
                      </a:lnTo>
                      <a:lnTo>
                        <a:pt x="1288447" y="26347"/>
                      </a:lnTo>
                      <a:lnTo>
                        <a:pt x="1287842" y="31678"/>
                      </a:lnTo>
                      <a:lnTo>
                        <a:pt x="1285520" y="37511"/>
                      </a:lnTo>
                      <a:lnTo>
                        <a:pt x="1281686" y="43947"/>
                      </a:lnTo>
                      <a:lnTo>
                        <a:pt x="1276641" y="50686"/>
                      </a:lnTo>
                      <a:lnTo>
                        <a:pt x="1270586" y="57725"/>
                      </a:lnTo>
                      <a:lnTo>
                        <a:pt x="1263523" y="64966"/>
                      </a:lnTo>
                      <a:lnTo>
                        <a:pt x="1255853" y="72307"/>
                      </a:lnTo>
                      <a:lnTo>
                        <a:pt x="1239304" y="86990"/>
                      </a:lnTo>
                      <a:lnTo>
                        <a:pt x="1222249" y="101069"/>
                      </a:lnTo>
                      <a:lnTo>
                        <a:pt x="1214076" y="107706"/>
                      </a:lnTo>
                      <a:lnTo>
                        <a:pt x="1206406" y="113741"/>
                      </a:lnTo>
                      <a:lnTo>
                        <a:pt x="1199444" y="119372"/>
                      </a:lnTo>
                      <a:lnTo>
                        <a:pt x="1193389" y="124300"/>
                      </a:lnTo>
                      <a:lnTo>
                        <a:pt x="1175224" y="140190"/>
                      </a:lnTo>
                      <a:lnTo>
                        <a:pt x="1157262" y="156482"/>
                      </a:lnTo>
                      <a:lnTo>
                        <a:pt x="1139199" y="172673"/>
                      </a:lnTo>
                      <a:lnTo>
                        <a:pt x="1120630" y="187858"/>
                      </a:lnTo>
                      <a:lnTo>
                        <a:pt x="1051607" y="240455"/>
                      </a:lnTo>
                      <a:lnTo>
                        <a:pt x="1017296" y="267306"/>
                      </a:lnTo>
                      <a:lnTo>
                        <a:pt x="983794" y="294560"/>
                      </a:lnTo>
                      <a:lnTo>
                        <a:pt x="935760" y="334888"/>
                      </a:lnTo>
                      <a:lnTo>
                        <a:pt x="887423" y="375215"/>
                      </a:lnTo>
                      <a:lnTo>
                        <a:pt x="863002" y="395128"/>
                      </a:lnTo>
                      <a:lnTo>
                        <a:pt x="838177" y="414637"/>
                      </a:lnTo>
                      <a:lnTo>
                        <a:pt x="812950" y="433544"/>
                      </a:lnTo>
                      <a:lnTo>
                        <a:pt x="787417" y="451747"/>
                      </a:lnTo>
                      <a:lnTo>
                        <a:pt x="716781" y="500018"/>
                      </a:lnTo>
                      <a:lnTo>
                        <a:pt x="681764" y="524557"/>
                      </a:lnTo>
                      <a:lnTo>
                        <a:pt x="647454" y="549598"/>
                      </a:lnTo>
                      <a:lnTo>
                        <a:pt x="601336" y="585501"/>
                      </a:lnTo>
                      <a:lnTo>
                        <a:pt x="554614" y="621805"/>
                      </a:lnTo>
                      <a:lnTo>
                        <a:pt x="530899" y="639605"/>
                      </a:lnTo>
                      <a:lnTo>
                        <a:pt x="506782" y="656802"/>
                      </a:lnTo>
                      <a:lnTo>
                        <a:pt x="482259" y="673396"/>
                      </a:lnTo>
                      <a:lnTo>
                        <a:pt x="457031" y="688984"/>
                      </a:lnTo>
                      <a:lnTo>
                        <a:pt x="445831" y="695218"/>
                      </a:lnTo>
                      <a:lnTo>
                        <a:pt x="434528" y="700751"/>
                      </a:lnTo>
                      <a:lnTo>
                        <a:pt x="411621" y="711109"/>
                      </a:lnTo>
                      <a:lnTo>
                        <a:pt x="389118" y="721467"/>
                      </a:lnTo>
                      <a:lnTo>
                        <a:pt x="378218" y="727199"/>
                      </a:lnTo>
                      <a:lnTo>
                        <a:pt x="367724" y="733535"/>
                      </a:lnTo>
                      <a:lnTo>
                        <a:pt x="361971" y="736954"/>
                      </a:lnTo>
                      <a:lnTo>
                        <a:pt x="354809" y="740876"/>
                      </a:lnTo>
                      <a:lnTo>
                        <a:pt x="346432" y="745100"/>
                      </a:lnTo>
                      <a:lnTo>
                        <a:pt x="337249" y="749525"/>
                      </a:lnTo>
                      <a:lnTo>
                        <a:pt x="316966" y="758777"/>
                      </a:lnTo>
                      <a:lnTo>
                        <a:pt x="295471" y="768431"/>
                      </a:lnTo>
                      <a:lnTo>
                        <a:pt x="274481" y="777985"/>
                      </a:lnTo>
                      <a:lnTo>
                        <a:pt x="264592" y="782612"/>
                      </a:lnTo>
                      <a:lnTo>
                        <a:pt x="255612" y="787037"/>
                      </a:lnTo>
                      <a:lnTo>
                        <a:pt x="247436" y="791260"/>
                      </a:lnTo>
                      <a:lnTo>
                        <a:pt x="240475" y="795082"/>
                      </a:lnTo>
                      <a:lnTo>
                        <a:pt x="234925" y="798601"/>
                      </a:lnTo>
                      <a:lnTo>
                        <a:pt x="230787" y="801719"/>
                      </a:lnTo>
                      <a:lnTo>
                        <a:pt x="226649" y="805843"/>
                      </a:lnTo>
                      <a:lnTo>
                        <a:pt x="223015" y="809765"/>
                      </a:lnTo>
                      <a:lnTo>
                        <a:pt x="217365" y="817408"/>
                      </a:lnTo>
                      <a:lnTo>
                        <a:pt x="208081" y="831689"/>
                      </a:lnTo>
                      <a:lnTo>
                        <a:pt x="202632" y="838728"/>
                      </a:lnTo>
                      <a:lnTo>
                        <a:pt x="195367" y="845868"/>
                      </a:lnTo>
                      <a:lnTo>
                        <a:pt x="190724" y="849489"/>
                      </a:lnTo>
                      <a:lnTo>
                        <a:pt x="185175" y="853209"/>
                      </a:lnTo>
                      <a:lnTo>
                        <a:pt x="178816" y="857032"/>
                      </a:lnTo>
                      <a:lnTo>
                        <a:pt x="171350" y="861054"/>
                      </a:lnTo>
                      <a:lnTo>
                        <a:pt x="162873" y="864675"/>
                      </a:lnTo>
                      <a:lnTo>
                        <a:pt x="153893" y="867792"/>
                      </a:lnTo>
                      <a:lnTo>
                        <a:pt x="134719" y="873524"/>
                      </a:lnTo>
                      <a:lnTo>
                        <a:pt x="125132" y="876341"/>
                      </a:lnTo>
                      <a:lnTo>
                        <a:pt x="116049" y="879558"/>
                      </a:lnTo>
                      <a:lnTo>
                        <a:pt x="107472" y="883279"/>
                      </a:lnTo>
                      <a:lnTo>
                        <a:pt x="99904" y="887703"/>
                      </a:lnTo>
                      <a:lnTo>
                        <a:pt x="94050" y="892129"/>
                      </a:lnTo>
                      <a:lnTo>
                        <a:pt x="88500" y="896957"/>
                      </a:lnTo>
                      <a:lnTo>
                        <a:pt x="78510" y="907717"/>
                      </a:lnTo>
                      <a:lnTo>
                        <a:pt x="69529" y="919685"/>
                      </a:lnTo>
                      <a:lnTo>
                        <a:pt x="61659" y="932658"/>
                      </a:lnTo>
                      <a:lnTo>
                        <a:pt x="54291" y="946234"/>
                      </a:lnTo>
                      <a:lnTo>
                        <a:pt x="47530" y="960313"/>
                      </a:lnTo>
                      <a:lnTo>
                        <a:pt x="34412" y="988573"/>
                      </a:lnTo>
                      <a:lnTo>
                        <a:pt x="31486" y="987265"/>
                      </a:lnTo>
                      <a:lnTo>
                        <a:pt x="28558" y="984852"/>
                      </a:lnTo>
                      <a:lnTo>
                        <a:pt x="25733" y="981634"/>
                      </a:lnTo>
                      <a:lnTo>
                        <a:pt x="23008" y="977610"/>
                      </a:lnTo>
                      <a:lnTo>
                        <a:pt x="17761" y="967856"/>
                      </a:lnTo>
                      <a:lnTo>
                        <a:pt x="13019" y="956391"/>
                      </a:lnTo>
                      <a:lnTo>
                        <a:pt x="8881" y="944424"/>
                      </a:lnTo>
                      <a:lnTo>
                        <a:pt x="5550" y="932758"/>
                      </a:lnTo>
                      <a:lnTo>
                        <a:pt x="3027" y="922500"/>
                      </a:lnTo>
                      <a:lnTo>
                        <a:pt x="2220" y="918075"/>
                      </a:lnTo>
                      <a:lnTo>
                        <a:pt x="1716" y="914354"/>
                      </a:lnTo>
                      <a:lnTo>
                        <a:pt x="606" y="903594"/>
                      </a:lnTo>
                      <a:lnTo>
                        <a:pt x="0" y="893135"/>
                      </a:lnTo>
                      <a:lnTo>
                        <a:pt x="202" y="882877"/>
                      </a:lnTo>
                      <a:lnTo>
                        <a:pt x="808" y="872921"/>
                      </a:lnTo>
                      <a:lnTo>
                        <a:pt x="1917" y="863266"/>
                      </a:lnTo>
                      <a:lnTo>
                        <a:pt x="3733" y="853813"/>
                      </a:lnTo>
                      <a:lnTo>
                        <a:pt x="8577" y="835912"/>
                      </a:lnTo>
                      <a:lnTo>
                        <a:pt x="15137" y="819117"/>
                      </a:lnTo>
                      <a:lnTo>
                        <a:pt x="23412" y="803429"/>
                      </a:lnTo>
                      <a:lnTo>
                        <a:pt x="33100" y="788746"/>
                      </a:lnTo>
                      <a:lnTo>
                        <a:pt x="44099" y="775170"/>
                      </a:lnTo>
                      <a:lnTo>
                        <a:pt x="56209" y="762700"/>
                      </a:lnTo>
                      <a:lnTo>
                        <a:pt x="69226" y="751234"/>
                      </a:lnTo>
                      <a:lnTo>
                        <a:pt x="82950" y="740876"/>
                      </a:lnTo>
                      <a:lnTo>
                        <a:pt x="97280" y="731524"/>
                      </a:lnTo>
                      <a:lnTo>
                        <a:pt x="111912" y="723076"/>
                      </a:lnTo>
                      <a:lnTo>
                        <a:pt x="126746" y="715634"/>
                      </a:lnTo>
                      <a:lnTo>
                        <a:pt x="141681" y="709299"/>
                      </a:lnTo>
                      <a:lnTo>
                        <a:pt x="156414" y="703867"/>
                      </a:lnTo>
                      <a:lnTo>
                        <a:pt x="157928" y="701655"/>
                      </a:lnTo>
                      <a:lnTo>
                        <a:pt x="158836" y="698839"/>
                      </a:lnTo>
                      <a:lnTo>
                        <a:pt x="159643" y="692202"/>
                      </a:lnTo>
                      <a:lnTo>
                        <a:pt x="160450" y="685464"/>
                      </a:lnTo>
                      <a:lnTo>
                        <a:pt x="161156" y="682548"/>
                      </a:lnTo>
                      <a:lnTo>
                        <a:pt x="162469" y="680133"/>
                      </a:lnTo>
                      <a:lnTo>
                        <a:pt x="163176" y="679229"/>
                      </a:lnTo>
                      <a:lnTo>
                        <a:pt x="164386" y="677921"/>
                      </a:lnTo>
                      <a:lnTo>
                        <a:pt x="168222" y="674301"/>
                      </a:lnTo>
                      <a:lnTo>
                        <a:pt x="173670" y="669574"/>
                      </a:lnTo>
                      <a:lnTo>
                        <a:pt x="180532" y="663741"/>
                      </a:lnTo>
                      <a:lnTo>
                        <a:pt x="188403" y="657205"/>
                      </a:lnTo>
                      <a:lnTo>
                        <a:pt x="196981" y="649963"/>
                      </a:lnTo>
                      <a:lnTo>
                        <a:pt x="215952" y="634677"/>
                      </a:lnTo>
                      <a:lnTo>
                        <a:pt x="235227" y="619290"/>
                      </a:lnTo>
                      <a:lnTo>
                        <a:pt x="244409" y="612050"/>
                      </a:lnTo>
                      <a:lnTo>
                        <a:pt x="252886" y="605313"/>
                      </a:lnTo>
                      <a:lnTo>
                        <a:pt x="260556" y="599379"/>
                      </a:lnTo>
                      <a:lnTo>
                        <a:pt x="267015" y="594450"/>
                      </a:lnTo>
                      <a:lnTo>
                        <a:pt x="272060" y="590629"/>
                      </a:lnTo>
                      <a:lnTo>
                        <a:pt x="273977" y="589222"/>
                      </a:lnTo>
                      <a:lnTo>
                        <a:pt x="275491" y="588216"/>
                      </a:lnTo>
                      <a:lnTo>
                        <a:pt x="281848" y="584294"/>
                      </a:lnTo>
                      <a:lnTo>
                        <a:pt x="288711" y="580673"/>
                      </a:lnTo>
                      <a:lnTo>
                        <a:pt x="1267457" y="24135"/>
                      </a:lnTo>
                      <a:lnTo>
                        <a:pt x="1267659" y="26650"/>
                      </a:lnTo>
                      <a:lnTo>
                        <a:pt x="1267053" y="29265"/>
                      </a:lnTo>
                      <a:lnTo>
                        <a:pt x="1265743" y="31980"/>
                      </a:lnTo>
                      <a:lnTo>
                        <a:pt x="1261504" y="37611"/>
                      </a:lnTo>
                      <a:lnTo>
                        <a:pt x="1255550" y="43444"/>
                      </a:lnTo>
                      <a:lnTo>
                        <a:pt x="1241120" y="55110"/>
                      </a:lnTo>
                      <a:lnTo>
                        <a:pt x="1234157" y="60641"/>
                      </a:lnTo>
                      <a:lnTo>
                        <a:pt x="1228103" y="65871"/>
                      </a:lnTo>
                      <a:lnTo>
                        <a:pt x="1212260" y="80051"/>
                      </a:lnTo>
                      <a:lnTo>
                        <a:pt x="1195810" y="93627"/>
                      </a:lnTo>
                      <a:lnTo>
                        <a:pt x="1161702" y="119172"/>
                      </a:lnTo>
                      <a:lnTo>
                        <a:pt x="1127190" y="144212"/>
                      </a:lnTo>
                      <a:lnTo>
                        <a:pt x="1110236" y="156884"/>
                      </a:lnTo>
                      <a:lnTo>
                        <a:pt x="1093889" y="170058"/>
                      </a:lnTo>
                      <a:lnTo>
                        <a:pt x="1066845" y="191982"/>
                      </a:lnTo>
                      <a:lnTo>
                        <a:pt x="1039296" y="213704"/>
                      </a:lnTo>
                      <a:lnTo>
                        <a:pt x="983794" y="255943"/>
                      </a:lnTo>
                      <a:lnTo>
                        <a:pt x="928090" y="297476"/>
                      </a:lnTo>
                      <a:lnTo>
                        <a:pt x="872285" y="338407"/>
                      </a:lnTo>
                      <a:lnTo>
                        <a:pt x="816380" y="380545"/>
                      </a:lnTo>
                      <a:lnTo>
                        <a:pt x="788427" y="402368"/>
                      </a:lnTo>
                      <a:lnTo>
                        <a:pt x="760575" y="424995"/>
                      </a:lnTo>
                      <a:lnTo>
                        <a:pt x="733632" y="446215"/>
                      </a:lnTo>
                      <a:lnTo>
                        <a:pt x="705579" y="466731"/>
                      </a:lnTo>
                      <a:lnTo>
                        <a:pt x="691047" y="477190"/>
                      </a:lnTo>
                      <a:lnTo>
                        <a:pt x="675910" y="487951"/>
                      </a:lnTo>
                      <a:lnTo>
                        <a:pt x="660471" y="499114"/>
                      </a:lnTo>
                      <a:lnTo>
                        <a:pt x="644528" y="511081"/>
                      </a:lnTo>
                      <a:lnTo>
                        <a:pt x="588419" y="553218"/>
                      </a:lnTo>
                      <a:lnTo>
                        <a:pt x="560064" y="573935"/>
                      </a:lnTo>
                      <a:lnTo>
                        <a:pt x="531405" y="594049"/>
                      </a:lnTo>
                      <a:lnTo>
                        <a:pt x="527267" y="596965"/>
                      </a:lnTo>
                      <a:lnTo>
                        <a:pt x="522221" y="600586"/>
                      </a:lnTo>
                      <a:lnTo>
                        <a:pt x="516267" y="604709"/>
                      </a:lnTo>
                      <a:lnTo>
                        <a:pt x="509506" y="609335"/>
                      </a:lnTo>
                      <a:lnTo>
                        <a:pt x="494369" y="619190"/>
                      </a:lnTo>
                      <a:lnTo>
                        <a:pt x="477518" y="629147"/>
                      </a:lnTo>
                      <a:lnTo>
                        <a:pt x="459958" y="638098"/>
                      </a:lnTo>
                      <a:lnTo>
                        <a:pt x="451279" y="641817"/>
                      </a:lnTo>
                      <a:lnTo>
                        <a:pt x="442702" y="644835"/>
                      </a:lnTo>
                      <a:lnTo>
                        <a:pt x="434427" y="647047"/>
                      </a:lnTo>
                      <a:lnTo>
                        <a:pt x="426454" y="648355"/>
                      </a:lnTo>
                      <a:lnTo>
                        <a:pt x="419089" y="648556"/>
                      </a:lnTo>
                      <a:lnTo>
                        <a:pt x="412429" y="647450"/>
                      </a:lnTo>
                      <a:lnTo>
                        <a:pt x="408089" y="645740"/>
                      </a:lnTo>
                      <a:lnTo>
                        <a:pt x="403549" y="642522"/>
                      </a:lnTo>
                      <a:lnTo>
                        <a:pt x="398705" y="638298"/>
                      </a:lnTo>
                      <a:lnTo>
                        <a:pt x="393658" y="633068"/>
                      </a:lnTo>
                      <a:lnTo>
                        <a:pt x="388412" y="627135"/>
                      </a:lnTo>
                      <a:lnTo>
                        <a:pt x="383062" y="620598"/>
                      </a:lnTo>
                      <a:lnTo>
                        <a:pt x="371862" y="606619"/>
                      </a:lnTo>
                      <a:lnTo>
                        <a:pt x="360359" y="592540"/>
                      </a:lnTo>
                      <a:lnTo>
                        <a:pt x="348752" y="579768"/>
                      </a:lnTo>
                      <a:lnTo>
                        <a:pt x="343002" y="574438"/>
                      </a:lnTo>
                      <a:lnTo>
                        <a:pt x="337249" y="570013"/>
                      </a:lnTo>
                      <a:lnTo>
                        <a:pt x="331598" y="566594"/>
                      </a:lnTo>
                      <a:lnTo>
                        <a:pt x="326049" y="564482"/>
                      </a:lnTo>
                      <a:lnTo>
                        <a:pt x="326049" y="552615"/>
                      </a:lnTo>
                      <a:lnTo>
                        <a:pt x="347240" y="535719"/>
                      </a:lnTo>
                      <a:lnTo>
                        <a:pt x="369339" y="519528"/>
                      </a:lnTo>
                      <a:lnTo>
                        <a:pt x="391944" y="503840"/>
                      </a:lnTo>
                      <a:lnTo>
                        <a:pt x="415254" y="488754"/>
                      </a:lnTo>
                      <a:lnTo>
                        <a:pt x="462682" y="459490"/>
                      </a:lnTo>
                      <a:lnTo>
                        <a:pt x="510617" y="431029"/>
                      </a:lnTo>
                      <a:lnTo>
                        <a:pt x="631913" y="359928"/>
                      </a:lnTo>
                      <a:lnTo>
                        <a:pt x="693066" y="325233"/>
                      </a:lnTo>
                      <a:lnTo>
                        <a:pt x="754621" y="291543"/>
                      </a:lnTo>
                      <a:lnTo>
                        <a:pt x="823142" y="254434"/>
                      </a:lnTo>
                      <a:lnTo>
                        <a:pt x="890248" y="217123"/>
                      </a:lnTo>
                      <a:lnTo>
                        <a:pt x="956547" y="180015"/>
                      </a:lnTo>
                      <a:lnTo>
                        <a:pt x="1022444" y="143308"/>
                      </a:lnTo>
                      <a:lnTo>
                        <a:pt x="1062807" y="120479"/>
                      </a:lnTo>
                      <a:lnTo>
                        <a:pt x="1102365" y="97550"/>
                      </a:lnTo>
                      <a:lnTo>
                        <a:pt x="1180169" y="51389"/>
                      </a:lnTo>
                      <a:lnTo>
                        <a:pt x="1183903" y="49077"/>
                      </a:lnTo>
                      <a:lnTo>
                        <a:pt x="1188545" y="46059"/>
                      </a:lnTo>
                      <a:lnTo>
                        <a:pt x="1193793" y="42640"/>
                      </a:lnTo>
                      <a:lnTo>
                        <a:pt x="1199644" y="38919"/>
                      </a:lnTo>
                      <a:lnTo>
                        <a:pt x="1212460" y="30974"/>
                      </a:lnTo>
                      <a:lnTo>
                        <a:pt x="1226084" y="23432"/>
                      </a:lnTo>
                      <a:lnTo>
                        <a:pt x="1232743" y="20213"/>
                      </a:lnTo>
                      <a:lnTo>
                        <a:pt x="1239202" y="17598"/>
                      </a:lnTo>
                      <a:lnTo>
                        <a:pt x="1245358" y="15688"/>
                      </a:lnTo>
                      <a:lnTo>
                        <a:pt x="1251110" y="14582"/>
                      </a:lnTo>
                      <a:lnTo>
                        <a:pt x="1256155" y="14482"/>
                      </a:lnTo>
                      <a:lnTo>
                        <a:pt x="1260496" y="15587"/>
                      </a:lnTo>
                      <a:lnTo>
                        <a:pt x="1263927" y="17901"/>
                      </a:lnTo>
                      <a:lnTo>
                        <a:pt x="1266449" y="21722"/>
                      </a:lnTo>
                      <a:lnTo>
                        <a:pt x="365303" y="715735"/>
                      </a:lnTo>
                      <a:lnTo>
                        <a:pt x="348955" y="724785"/>
                      </a:lnTo>
                      <a:lnTo>
                        <a:pt x="317471" y="742988"/>
                      </a:lnTo>
                      <a:lnTo>
                        <a:pt x="301325" y="751839"/>
                      </a:lnTo>
                      <a:lnTo>
                        <a:pt x="284372" y="760085"/>
                      </a:lnTo>
                      <a:lnTo>
                        <a:pt x="265904" y="767928"/>
                      </a:lnTo>
                      <a:lnTo>
                        <a:pt x="245722" y="775070"/>
                      </a:lnTo>
                      <a:lnTo>
                        <a:pt x="241283" y="772455"/>
                      </a:lnTo>
                      <a:lnTo>
                        <a:pt x="236035" y="768934"/>
                      </a:lnTo>
                      <a:lnTo>
                        <a:pt x="230383" y="764610"/>
                      </a:lnTo>
                      <a:lnTo>
                        <a:pt x="224429" y="759582"/>
                      </a:lnTo>
                      <a:lnTo>
                        <a:pt x="212118" y="747815"/>
                      </a:lnTo>
                      <a:lnTo>
                        <a:pt x="200412" y="734540"/>
                      </a:lnTo>
                      <a:lnTo>
                        <a:pt x="190321" y="720663"/>
                      </a:lnTo>
                      <a:lnTo>
                        <a:pt x="186385" y="713724"/>
                      </a:lnTo>
                      <a:lnTo>
                        <a:pt x="183359" y="706885"/>
                      </a:lnTo>
                      <a:lnTo>
                        <a:pt x="181340" y="700348"/>
                      </a:lnTo>
                      <a:lnTo>
                        <a:pt x="180532" y="694012"/>
                      </a:lnTo>
                      <a:lnTo>
                        <a:pt x="181137" y="688280"/>
                      </a:lnTo>
                      <a:lnTo>
                        <a:pt x="183257" y="683051"/>
                      </a:lnTo>
                      <a:lnTo>
                        <a:pt x="184165" y="681844"/>
                      </a:lnTo>
                      <a:lnTo>
                        <a:pt x="185679" y="680133"/>
                      </a:lnTo>
                      <a:lnTo>
                        <a:pt x="187697" y="678123"/>
                      </a:lnTo>
                      <a:lnTo>
                        <a:pt x="190321" y="675709"/>
                      </a:lnTo>
                      <a:lnTo>
                        <a:pt x="196678" y="670178"/>
                      </a:lnTo>
                      <a:lnTo>
                        <a:pt x="204651" y="663641"/>
                      </a:lnTo>
                      <a:lnTo>
                        <a:pt x="213732" y="656400"/>
                      </a:lnTo>
                      <a:lnTo>
                        <a:pt x="223823" y="648757"/>
                      </a:lnTo>
                      <a:lnTo>
                        <a:pt x="245419" y="632666"/>
                      </a:lnTo>
                      <a:lnTo>
                        <a:pt x="256318" y="624722"/>
                      </a:lnTo>
                      <a:lnTo>
                        <a:pt x="267015" y="617078"/>
                      </a:lnTo>
                      <a:lnTo>
                        <a:pt x="277105" y="610038"/>
                      </a:lnTo>
                      <a:lnTo>
                        <a:pt x="286288" y="603804"/>
                      </a:lnTo>
                      <a:lnTo>
                        <a:pt x="294260" y="598674"/>
                      </a:lnTo>
                      <a:lnTo>
                        <a:pt x="300820" y="594652"/>
                      </a:lnTo>
                      <a:lnTo>
                        <a:pt x="303444" y="593143"/>
                      </a:lnTo>
                      <a:lnTo>
                        <a:pt x="305562" y="592037"/>
                      </a:lnTo>
                      <a:lnTo>
                        <a:pt x="307178" y="591334"/>
                      </a:lnTo>
                      <a:lnTo>
                        <a:pt x="308185" y="591132"/>
                      </a:lnTo>
                      <a:lnTo>
                        <a:pt x="314645" y="592037"/>
                      </a:lnTo>
                      <a:lnTo>
                        <a:pt x="321709" y="594753"/>
                      </a:lnTo>
                      <a:lnTo>
                        <a:pt x="328873" y="598876"/>
                      </a:lnTo>
                      <a:lnTo>
                        <a:pt x="336240" y="604307"/>
                      </a:lnTo>
                      <a:lnTo>
                        <a:pt x="343708" y="610944"/>
                      </a:lnTo>
                      <a:lnTo>
                        <a:pt x="350872" y="618587"/>
                      </a:lnTo>
                      <a:lnTo>
                        <a:pt x="357735" y="626934"/>
                      </a:lnTo>
                      <a:lnTo>
                        <a:pt x="364293" y="635984"/>
                      </a:lnTo>
                      <a:lnTo>
                        <a:pt x="370045" y="645338"/>
                      </a:lnTo>
                      <a:lnTo>
                        <a:pt x="375293" y="654992"/>
                      </a:lnTo>
                      <a:lnTo>
                        <a:pt x="379531" y="664545"/>
                      </a:lnTo>
                      <a:lnTo>
                        <a:pt x="382862" y="674100"/>
                      </a:lnTo>
                      <a:lnTo>
                        <a:pt x="384880" y="683251"/>
                      </a:lnTo>
                      <a:lnTo>
                        <a:pt x="385586" y="691900"/>
                      </a:lnTo>
                      <a:lnTo>
                        <a:pt x="384880" y="699845"/>
                      </a:lnTo>
                      <a:lnTo>
                        <a:pt x="382558" y="706784"/>
                      </a:lnTo>
                      <a:lnTo>
                        <a:pt x="215448" y="787237"/>
                      </a:lnTo>
                      <a:lnTo>
                        <a:pt x="213632" y="797998"/>
                      </a:lnTo>
                      <a:lnTo>
                        <a:pt x="210604" y="807452"/>
                      </a:lnTo>
                      <a:lnTo>
                        <a:pt x="206466" y="815698"/>
                      </a:lnTo>
                      <a:lnTo>
                        <a:pt x="201321" y="822938"/>
                      </a:lnTo>
                      <a:lnTo>
                        <a:pt x="195266" y="829174"/>
                      </a:lnTo>
                      <a:lnTo>
                        <a:pt x="188403" y="834705"/>
                      </a:lnTo>
                      <a:lnTo>
                        <a:pt x="180936" y="839432"/>
                      </a:lnTo>
                      <a:lnTo>
                        <a:pt x="172762" y="843556"/>
                      </a:lnTo>
                      <a:lnTo>
                        <a:pt x="164184" y="847377"/>
                      </a:lnTo>
                      <a:lnTo>
                        <a:pt x="146021" y="853914"/>
                      </a:lnTo>
                      <a:lnTo>
                        <a:pt x="127352" y="860148"/>
                      </a:lnTo>
                      <a:lnTo>
                        <a:pt x="108884" y="866987"/>
                      </a:lnTo>
                      <a:lnTo>
                        <a:pt x="101519" y="870306"/>
                      </a:lnTo>
                      <a:lnTo>
                        <a:pt x="94757" y="874127"/>
                      </a:lnTo>
                      <a:lnTo>
                        <a:pt x="88500" y="878351"/>
                      </a:lnTo>
                      <a:lnTo>
                        <a:pt x="82648" y="882877"/>
                      </a:lnTo>
                      <a:lnTo>
                        <a:pt x="72153" y="893034"/>
                      </a:lnTo>
                      <a:lnTo>
                        <a:pt x="62869" y="904398"/>
                      </a:lnTo>
                      <a:lnTo>
                        <a:pt x="54493" y="916567"/>
                      </a:lnTo>
                      <a:lnTo>
                        <a:pt x="46723" y="929439"/>
                      </a:lnTo>
                      <a:lnTo>
                        <a:pt x="31486" y="955888"/>
                      </a:lnTo>
                      <a:lnTo>
                        <a:pt x="26742" y="945027"/>
                      </a:lnTo>
                      <a:lnTo>
                        <a:pt x="23109" y="933563"/>
                      </a:lnTo>
                      <a:lnTo>
                        <a:pt x="20485" y="921797"/>
                      </a:lnTo>
                      <a:lnTo>
                        <a:pt x="18769" y="909627"/>
                      </a:lnTo>
                      <a:lnTo>
                        <a:pt x="18063" y="897359"/>
                      </a:lnTo>
                      <a:lnTo>
                        <a:pt x="18063" y="884989"/>
                      </a:lnTo>
                      <a:lnTo>
                        <a:pt x="19073" y="872820"/>
                      </a:lnTo>
                      <a:lnTo>
                        <a:pt x="20889" y="860551"/>
                      </a:lnTo>
                      <a:lnTo>
                        <a:pt x="23311" y="848684"/>
                      </a:lnTo>
                      <a:lnTo>
                        <a:pt x="26541" y="837119"/>
                      </a:lnTo>
                      <a:lnTo>
                        <a:pt x="30376" y="826056"/>
                      </a:lnTo>
                      <a:lnTo>
                        <a:pt x="34916" y="815496"/>
                      </a:lnTo>
                      <a:lnTo>
                        <a:pt x="39962" y="805541"/>
                      </a:lnTo>
                      <a:lnTo>
                        <a:pt x="45512" y="796489"/>
                      </a:lnTo>
                      <a:lnTo>
                        <a:pt x="51668" y="788243"/>
                      </a:lnTo>
                      <a:lnTo>
                        <a:pt x="58227" y="780901"/>
                      </a:lnTo>
                      <a:lnTo>
                        <a:pt x="77703" y="762700"/>
                      </a:lnTo>
                      <a:lnTo>
                        <a:pt x="87592" y="754452"/>
                      </a:lnTo>
                      <a:lnTo>
                        <a:pt x="97583" y="747010"/>
                      </a:lnTo>
                      <a:lnTo>
                        <a:pt x="107673" y="740474"/>
                      </a:lnTo>
                      <a:lnTo>
                        <a:pt x="117766" y="735043"/>
                      </a:lnTo>
                      <a:lnTo>
                        <a:pt x="127856" y="730820"/>
                      </a:lnTo>
                      <a:lnTo>
                        <a:pt x="138049" y="728104"/>
                      </a:lnTo>
                      <a:lnTo>
                        <a:pt x="148139" y="726797"/>
                      </a:lnTo>
                      <a:lnTo>
                        <a:pt x="158129" y="727300"/>
                      </a:lnTo>
                      <a:lnTo>
                        <a:pt x="168120" y="729713"/>
                      </a:lnTo>
                      <a:lnTo>
                        <a:pt x="177909" y="734139"/>
                      </a:lnTo>
                      <a:lnTo>
                        <a:pt x="187697" y="740776"/>
                      </a:lnTo>
                      <a:lnTo>
                        <a:pt x="197284" y="749625"/>
                      </a:lnTo>
                      <a:lnTo>
                        <a:pt x="206668" y="760989"/>
                      </a:lnTo>
                      <a:lnTo>
                        <a:pt x="215952" y="775070"/>
                      </a:lnTo>
                      <a:lnTo>
                        <a:pt x="302232" y="573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6" name="Freeform: Shape 12"/>
                <p:cNvSpPr/>
                <p:nvPr/>
              </p:nvSpPr>
              <p:spPr>
                <a:xfrm rot="10800000">
                  <a:off x="9835920" y="633600"/>
                  <a:ext cx="38160" cy="255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9439" h="47468">
                      <a:moveTo>
                        <a:pt x="0" y="-28729"/>
                      </a:moveTo>
                      <a:lnTo>
                        <a:pt x="13320" y="27756"/>
                      </a:lnTo>
                      <a:lnTo>
                        <a:pt x="26540" y="17901"/>
                      </a:lnTo>
                      <a:lnTo>
                        <a:pt x="-24868" y="8246"/>
                      </a:lnTo>
                      <a:lnTo>
                        <a:pt x="-17299" y="3923"/>
                      </a:lnTo>
                      <a:lnTo>
                        <a:pt x="-9126" y="0"/>
                      </a:lnTo>
                      <a:lnTo>
                        <a:pt x="-6098" y="8851"/>
                      </a:lnTo>
                      <a:lnTo>
                        <a:pt x="-11851" y="13276"/>
                      </a:lnTo>
                      <a:lnTo>
                        <a:pt x="-18208" y="18103"/>
                      </a:lnTo>
                      <a:lnTo>
                        <a:pt x="-32235" y="28259"/>
                      </a:lnTo>
                      <a:lnTo>
                        <a:pt x="18870" y="-27119"/>
                      </a:lnTo>
                      <a:lnTo>
                        <a:pt x="12109" y="-22393"/>
                      </a:lnTo>
                      <a:lnTo>
                        <a:pt x="5853" y="-18069"/>
                      </a:lnTo>
                      <a:lnTo>
                        <a:pt x="4641" y="-20683"/>
                      </a:lnTo>
                      <a:lnTo>
                        <a:pt x="3127" y="-23097"/>
                      </a:lnTo>
                      <a:lnTo>
                        <a:pt x="1613" y="-25510"/>
                      </a:lnTo>
                      <a:lnTo>
                        <a:pt x="0" y="-287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" name="Freeform: Shape 13"/>
                <p:cNvSpPr/>
                <p:nvPr/>
              </p:nvSpPr>
              <p:spPr>
                <a:xfrm rot="10800000">
                  <a:off x="9833040" y="620640"/>
                  <a:ext cx="34920" cy="223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57420" h="40229">
                      <a:moveTo>
                        <a:pt x="-8117" y="9253"/>
                      </a:moveTo>
                      <a:lnTo>
                        <a:pt x="-13163" y="11767"/>
                      </a:lnTo>
                      <a:lnTo>
                        <a:pt x="-19218" y="15287"/>
                      </a:lnTo>
                      <a:lnTo>
                        <a:pt x="-25878" y="19611"/>
                      </a:lnTo>
                      <a:lnTo>
                        <a:pt x="32595" y="24238"/>
                      </a:lnTo>
                      <a:lnTo>
                        <a:pt x="17963" y="-32046"/>
                      </a:lnTo>
                      <a:lnTo>
                        <a:pt x="10899" y="-28225"/>
                      </a:lnTo>
                      <a:lnTo>
                        <a:pt x="4340" y="-25308"/>
                      </a:lnTo>
                      <a:lnTo>
                        <a:pt x="0" y="-31342"/>
                      </a:lnTo>
                      <a:lnTo>
                        <a:pt x="4541" y="30473"/>
                      </a:lnTo>
                      <a:lnTo>
                        <a:pt x="10294" y="26149"/>
                      </a:lnTo>
                      <a:lnTo>
                        <a:pt x="16853" y="21522"/>
                      </a:lnTo>
                      <a:lnTo>
                        <a:pt x="24118" y="16695"/>
                      </a:lnTo>
                      <a:lnTo>
                        <a:pt x="-26281" y="7341"/>
                      </a:lnTo>
                      <a:lnTo>
                        <a:pt x="-19116" y="3319"/>
                      </a:lnTo>
                      <a:lnTo>
                        <a:pt x="-12558" y="0"/>
                      </a:lnTo>
                      <a:lnTo>
                        <a:pt x="-10438" y="1609"/>
                      </a:lnTo>
                      <a:lnTo>
                        <a:pt x="-9429" y="3822"/>
                      </a:lnTo>
                      <a:lnTo>
                        <a:pt x="-8117" y="92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Freeform: Shape 14"/>
                <p:cNvSpPr/>
                <p:nvPr/>
              </p:nvSpPr>
              <p:spPr>
                <a:xfrm rot="10800000">
                  <a:off x="9820080" y="609480"/>
                  <a:ext cx="38160" cy="223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61152" h="39625">
                      <a:moveTo>
                        <a:pt x="0" y="31478"/>
                      </a:moveTo>
                      <a:lnTo>
                        <a:pt x="4542" y="28863"/>
                      </a:lnTo>
                      <a:lnTo>
                        <a:pt x="10092" y="25344"/>
                      </a:lnTo>
                      <a:lnTo>
                        <a:pt x="16550" y="21221"/>
                      </a:lnTo>
                      <a:lnTo>
                        <a:pt x="23714" y="16694"/>
                      </a:lnTo>
                      <a:lnTo>
                        <a:pt x="-26382" y="7543"/>
                      </a:lnTo>
                      <a:lnTo>
                        <a:pt x="-18209" y="3519"/>
                      </a:lnTo>
                      <a:lnTo>
                        <a:pt x="-10238" y="0"/>
                      </a:lnTo>
                      <a:lnTo>
                        <a:pt x="-4385" y="7945"/>
                      </a:lnTo>
                      <a:lnTo>
                        <a:pt x="-18209" y="15488"/>
                      </a:lnTo>
                      <a:lnTo>
                        <a:pt x="-32235" y="23735"/>
                      </a:lnTo>
                      <a:lnTo>
                        <a:pt x="19274" y="31881"/>
                      </a:lnTo>
                      <a:lnTo>
                        <a:pt x="5652" y="-25912"/>
                      </a:lnTo>
                      <a:lnTo>
                        <a:pt x="0" y="314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" name="Freeform: Shape 15"/>
                <p:cNvSpPr/>
                <p:nvPr/>
              </p:nvSpPr>
              <p:spPr>
                <a:xfrm rot="10800000">
                  <a:off x="9805680" y="580320"/>
                  <a:ext cx="34920" cy="208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55806" h="36203">
                      <a:moveTo>
                        <a:pt x="-15080" y="0"/>
                      </a:moveTo>
                      <a:lnTo>
                        <a:pt x="-9731" y="6738"/>
                      </a:lnTo>
                      <a:lnTo>
                        <a:pt x="-13868" y="9554"/>
                      </a:lnTo>
                      <a:lnTo>
                        <a:pt x="-19520" y="13175"/>
                      </a:lnTo>
                      <a:lnTo>
                        <a:pt x="-26180" y="17297"/>
                      </a:lnTo>
                      <a:lnTo>
                        <a:pt x="32091" y="21722"/>
                      </a:lnTo>
                      <a:lnTo>
                        <a:pt x="17357" y="30169"/>
                      </a:lnTo>
                      <a:lnTo>
                        <a:pt x="10596" y="-31847"/>
                      </a:lnTo>
                      <a:lnTo>
                        <a:pt x="5046" y="-29334"/>
                      </a:lnTo>
                      <a:lnTo>
                        <a:pt x="0" y="28962"/>
                      </a:lnTo>
                      <a:lnTo>
                        <a:pt x="5550" y="25342"/>
                      </a:lnTo>
                      <a:lnTo>
                        <a:pt x="12311" y="21319"/>
                      </a:lnTo>
                      <a:lnTo>
                        <a:pt x="27044" y="12872"/>
                      </a:lnTo>
                      <a:lnTo>
                        <a:pt x="-31225" y="8750"/>
                      </a:lnTo>
                      <a:lnTo>
                        <a:pt x="-24768" y="5129"/>
                      </a:lnTo>
                      <a:lnTo>
                        <a:pt x="-19218" y="2212"/>
                      </a:lnTo>
                      <a:lnTo>
                        <a:pt x="-150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" name="Freeform: Shape 16"/>
                <p:cNvSpPr/>
                <p:nvPr/>
              </p:nvSpPr>
              <p:spPr>
                <a:xfrm rot="10800000">
                  <a:off x="9801000" y="573840"/>
                  <a:ext cx="31680" cy="176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0155" h="32282">
                      <a:moveTo>
                        <a:pt x="0" y="25846"/>
                      </a:moveTo>
                      <a:lnTo>
                        <a:pt x="23008" y="12068"/>
                      </a:lnTo>
                      <a:lnTo>
                        <a:pt x="-30923" y="5632"/>
                      </a:lnTo>
                      <a:lnTo>
                        <a:pt x="-18711" y="0"/>
                      </a:lnTo>
                      <a:lnTo>
                        <a:pt x="-15382" y="9553"/>
                      </a:lnTo>
                      <a:lnTo>
                        <a:pt x="-20124" y="11665"/>
                      </a:lnTo>
                      <a:lnTo>
                        <a:pt x="-25574" y="14180"/>
                      </a:lnTo>
                      <a:lnTo>
                        <a:pt x="27954" y="20113"/>
                      </a:lnTo>
                      <a:lnTo>
                        <a:pt x="16448" y="26349"/>
                      </a:lnTo>
                      <a:lnTo>
                        <a:pt x="11403" y="29466"/>
                      </a:lnTo>
                      <a:lnTo>
                        <a:pt x="7365" y="32281"/>
                      </a:lnTo>
                      <a:lnTo>
                        <a:pt x="4844" y="30974"/>
                      </a:lnTo>
                      <a:lnTo>
                        <a:pt x="2926" y="29666"/>
                      </a:lnTo>
                      <a:lnTo>
                        <a:pt x="0" y="258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" name="Freeform: Shape 17"/>
                <p:cNvSpPr/>
                <p:nvPr/>
              </p:nvSpPr>
              <p:spPr>
                <a:xfrm rot="10800000">
                  <a:off x="9947880" y="527760"/>
                  <a:ext cx="52560" cy="446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1337" h="83876">
                      <a:moveTo>
                        <a:pt x="75383" y="403"/>
                      </a:moveTo>
                      <a:lnTo>
                        <a:pt x="78006" y="0"/>
                      </a:lnTo>
                      <a:lnTo>
                        <a:pt x="79822" y="102"/>
                      </a:lnTo>
                      <a:lnTo>
                        <a:pt x="80832" y="806"/>
                      </a:lnTo>
                      <a:lnTo>
                        <a:pt x="81336" y="1912"/>
                      </a:lnTo>
                      <a:lnTo>
                        <a:pt x="81336" y="5331"/>
                      </a:lnTo>
                      <a:lnTo>
                        <a:pt x="81236" y="9254"/>
                      </a:lnTo>
                      <a:lnTo>
                        <a:pt x="73668" y="16193"/>
                      </a:lnTo>
                      <a:lnTo>
                        <a:pt x="66602" y="22126"/>
                      </a:lnTo>
                      <a:lnTo>
                        <a:pt x="53484" y="33088"/>
                      </a:lnTo>
                      <a:lnTo>
                        <a:pt x="40567" y="44151"/>
                      </a:lnTo>
                      <a:lnTo>
                        <a:pt x="33704" y="50386"/>
                      </a:lnTo>
                      <a:lnTo>
                        <a:pt x="26339" y="57526"/>
                      </a:lnTo>
                      <a:lnTo>
                        <a:pt x="0" y="83875"/>
                      </a:lnTo>
                      <a:lnTo>
                        <a:pt x="7064" y="69996"/>
                      </a:lnTo>
                      <a:lnTo>
                        <a:pt x="15136" y="57023"/>
                      </a:lnTo>
                      <a:lnTo>
                        <a:pt x="24017" y="44955"/>
                      </a:lnTo>
                      <a:lnTo>
                        <a:pt x="33604" y="33691"/>
                      </a:lnTo>
                      <a:lnTo>
                        <a:pt x="43696" y="23635"/>
                      </a:lnTo>
                      <a:lnTo>
                        <a:pt x="54089" y="14684"/>
                      </a:lnTo>
                      <a:lnTo>
                        <a:pt x="64685" y="6940"/>
                      </a:lnTo>
                      <a:lnTo>
                        <a:pt x="75383" y="40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2" name="Freeform: Shape 18"/>
                <p:cNvSpPr/>
                <p:nvPr/>
              </p:nvSpPr>
              <p:spPr>
                <a:xfrm rot="10800000">
                  <a:off x="9911160" y="468000"/>
                  <a:ext cx="108720" cy="9792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0642" h="180921">
                      <a:moveTo>
                        <a:pt x="108177" y="0"/>
                      </a:moveTo>
                      <a:lnTo>
                        <a:pt x="119681" y="806"/>
                      </a:lnTo>
                      <a:lnTo>
                        <a:pt x="129872" y="2918"/>
                      </a:lnTo>
                      <a:lnTo>
                        <a:pt x="138752" y="6336"/>
                      </a:lnTo>
                      <a:lnTo>
                        <a:pt x="146624" y="10661"/>
                      </a:lnTo>
                      <a:lnTo>
                        <a:pt x="153486" y="15891"/>
                      </a:lnTo>
                      <a:lnTo>
                        <a:pt x="159743" y="21924"/>
                      </a:lnTo>
                      <a:lnTo>
                        <a:pt x="165393" y="28461"/>
                      </a:lnTo>
                      <a:lnTo>
                        <a:pt x="170641" y="35601"/>
                      </a:lnTo>
                      <a:lnTo>
                        <a:pt x="170035" y="43546"/>
                      </a:lnTo>
                      <a:lnTo>
                        <a:pt x="168219" y="50988"/>
                      </a:lnTo>
                      <a:lnTo>
                        <a:pt x="165493" y="57928"/>
                      </a:lnTo>
                      <a:lnTo>
                        <a:pt x="162063" y="64262"/>
                      </a:lnTo>
                      <a:lnTo>
                        <a:pt x="158027" y="69895"/>
                      </a:lnTo>
                      <a:lnTo>
                        <a:pt x="153486" y="74923"/>
                      </a:lnTo>
                      <a:lnTo>
                        <a:pt x="148743" y="79348"/>
                      </a:lnTo>
                      <a:lnTo>
                        <a:pt x="143798" y="82968"/>
                      </a:lnTo>
                      <a:lnTo>
                        <a:pt x="134716" y="89002"/>
                      </a:lnTo>
                      <a:lnTo>
                        <a:pt x="125231" y="94533"/>
                      </a:lnTo>
                      <a:lnTo>
                        <a:pt x="105554" y="104690"/>
                      </a:lnTo>
                      <a:lnTo>
                        <a:pt x="85674" y="114245"/>
                      </a:lnTo>
                      <a:lnTo>
                        <a:pt x="66197" y="124100"/>
                      </a:lnTo>
                      <a:lnTo>
                        <a:pt x="47529" y="134860"/>
                      </a:lnTo>
                      <a:lnTo>
                        <a:pt x="38851" y="140894"/>
                      </a:lnTo>
                      <a:lnTo>
                        <a:pt x="30576" y="147431"/>
                      </a:lnTo>
                      <a:lnTo>
                        <a:pt x="22907" y="154572"/>
                      </a:lnTo>
                      <a:lnTo>
                        <a:pt x="15843" y="162416"/>
                      </a:lnTo>
                      <a:lnTo>
                        <a:pt x="9486" y="171266"/>
                      </a:lnTo>
                      <a:lnTo>
                        <a:pt x="4036" y="180920"/>
                      </a:lnTo>
                      <a:lnTo>
                        <a:pt x="2220" y="173277"/>
                      </a:lnTo>
                      <a:lnTo>
                        <a:pt x="1110" y="166036"/>
                      </a:lnTo>
                      <a:lnTo>
                        <a:pt x="0" y="152258"/>
                      </a:lnTo>
                      <a:lnTo>
                        <a:pt x="908" y="139285"/>
                      </a:lnTo>
                      <a:lnTo>
                        <a:pt x="3230" y="127218"/>
                      </a:lnTo>
                      <a:lnTo>
                        <a:pt x="6963" y="115954"/>
                      </a:lnTo>
                      <a:lnTo>
                        <a:pt x="12007" y="105395"/>
                      </a:lnTo>
                      <a:lnTo>
                        <a:pt x="18164" y="95438"/>
                      </a:lnTo>
                      <a:lnTo>
                        <a:pt x="25227" y="86186"/>
                      </a:lnTo>
                      <a:lnTo>
                        <a:pt x="32997" y="77337"/>
                      </a:lnTo>
                      <a:lnTo>
                        <a:pt x="41272" y="68989"/>
                      </a:lnTo>
                      <a:lnTo>
                        <a:pt x="58932" y="53201"/>
                      </a:lnTo>
                      <a:lnTo>
                        <a:pt x="76693" y="38316"/>
                      </a:lnTo>
                      <a:lnTo>
                        <a:pt x="93342" y="23634"/>
                      </a:lnTo>
                      <a:lnTo>
                        <a:pt x="102727" y="26148"/>
                      </a:lnTo>
                      <a:lnTo>
                        <a:pt x="111204" y="29668"/>
                      </a:lnTo>
                      <a:lnTo>
                        <a:pt x="112111" y="34697"/>
                      </a:lnTo>
                      <a:lnTo>
                        <a:pt x="111809" y="39422"/>
                      </a:lnTo>
                      <a:lnTo>
                        <a:pt x="110597" y="43747"/>
                      </a:lnTo>
                      <a:lnTo>
                        <a:pt x="108884" y="47670"/>
                      </a:lnTo>
                      <a:lnTo>
                        <a:pt x="107370" y="51289"/>
                      </a:lnTo>
                      <a:lnTo>
                        <a:pt x="106361" y="54307"/>
                      </a:lnTo>
                      <a:lnTo>
                        <a:pt x="106461" y="57123"/>
                      </a:lnTo>
                      <a:lnTo>
                        <a:pt x="108177" y="59235"/>
                      </a:lnTo>
                      <a:lnTo>
                        <a:pt x="112111" y="53704"/>
                      </a:lnTo>
                      <a:lnTo>
                        <a:pt x="116551" y="48474"/>
                      </a:lnTo>
                      <a:lnTo>
                        <a:pt x="120589" y="42741"/>
                      </a:lnTo>
                      <a:lnTo>
                        <a:pt x="122103" y="39322"/>
                      </a:lnTo>
                      <a:lnTo>
                        <a:pt x="123011" y="35601"/>
                      </a:lnTo>
                      <a:lnTo>
                        <a:pt x="118671" y="29668"/>
                      </a:lnTo>
                      <a:lnTo>
                        <a:pt x="114837" y="22930"/>
                      </a:lnTo>
                      <a:lnTo>
                        <a:pt x="110699" y="16695"/>
                      </a:lnTo>
                      <a:lnTo>
                        <a:pt x="108177" y="13979"/>
                      </a:lnTo>
                      <a:lnTo>
                        <a:pt x="105150" y="11867"/>
                      </a:lnTo>
                      <a:lnTo>
                        <a:pt x="104746" y="9454"/>
                      </a:lnTo>
                      <a:lnTo>
                        <a:pt x="104746" y="7543"/>
                      </a:lnTo>
                      <a:lnTo>
                        <a:pt x="105554" y="4727"/>
                      </a:lnTo>
                      <a:lnTo>
                        <a:pt x="106966" y="2515"/>
                      </a:lnTo>
                      <a:lnTo>
                        <a:pt x="10817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3" name="Freeform: Shape 19"/>
                <p:cNvSpPr/>
                <p:nvPr/>
              </p:nvSpPr>
              <p:spPr>
                <a:xfrm rot="10800000">
                  <a:off x="9970560" y="333000"/>
                  <a:ext cx="52560" cy="993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84669" h="186552">
                      <a:moveTo>
                        <a:pt x="31083" y="0"/>
                      </a:moveTo>
                      <a:lnTo>
                        <a:pt x="41578" y="14280"/>
                      </a:lnTo>
                      <a:lnTo>
                        <a:pt x="50861" y="29064"/>
                      </a:lnTo>
                      <a:lnTo>
                        <a:pt x="59035" y="44652"/>
                      </a:lnTo>
                      <a:lnTo>
                        <a:pt x="66099" y="61144"/>
                      </a:lnTo>
                      <a:lnTo>
                        <a:pt x="72256" y="78744"/>
                      </a:lnTo>
                      <a:lnTo>
                        <a:pt x="77300" y="97450"/>
                      </a:lnTo>
                      <a:lnTo>
                        <a:pt x="81338" y="117663"/>
                      </a:lnTo>
                      <a:lnTo>
                        <a:pt x="84668" y="139386"/>
                      </a:lnTo>
                      <a:lnTo>
                        <a:pt x="83154" y="144314"/>
                      </a:lnTo>
                      <a:lnTo>
                        <a:pt x="81237" y="149342"/>
                      </a:lnTo>
                      <a:lnTo>
                        <a:pt x="75586" y="159399"/>
                      </a:lnTo>
                      <a:lnTo>
                        <a:pt x="68017" y="168853"/>
                      </a:lnTo>
                      <a:lnTo>
                        <a:pt x="63677" y="173177"/>
                      </a:lnTo>
                      <a:lnTo>
                        <a:pt x="58833" y="176999"/>
                      </a:lnTo>
                      <a:lnTo>
                        <a:pt x="53889" y="180317"/>
                      </a:lnTo>
                      <a:lnTo>
                        <a:pt x="48541" y="183032"/>
                      </a:lnTo>
                      <a:lnTo>
                        <a:pt x="42990" y="185044"/>
                      </a:lnTo>
                      <a:lnTo>
                        <a:pt x="37238" y="186250"/>
                      </a:lnTo>
                      <a:lnTo>
                        <a:pt x="31284" y="186551"/>
                      </a:lnTo>
                      <a:lnTo>
                        <a:pt x="25330" y="185748"/>
                      </a:lnTo>
                      <a:lnTo>
                        <a:pt x="19275" y="183938"/>
                      </a:lnTo>
                      <a:lnTo>
                        <a:pt x="13220" y="180920"/>
                      </a:lnTo>
                      <a:lnTo>
                        <a:pt x="6156" y="170461"/>
                      </a:lnTo>
                      <a:lnTo>
                        <a:pt x="2019" y="160002"/>
                      </a:lnTo>
                      <a:lnTo>
                        <a:pt x="0" y="149442"/>
                      </a:lnTo>
                      <a:lnTo>
                        <a:pt x="101" y="138984"/>
                      </a:lnTo>
                      <a:lnTo>
                        <a:pt x="1816" y="128424"/>
                      </a:lnTo>
                      <a:lnTo>
                        <a:pt x="4844" y="117865"/>
                      </a:lnTo>
                      <a:lnTo>
                        <a:pt x="8780" y="107104"/>
                      </a:lnTo>
                      <a:lnTo>
                        <a:pt x="13422" y="96243"/>
                      </a:lnTo>
                      <a:lnTo>
                        <a:pt x="23110" y="73816"/>
                      </a:lnTo>
                      <a:lnTo>
                        <a:pt x="27449" y="62351"/>
                      </a:lnTo>
                      <a:lnTo>
                        <a:pt x="31183" y="50585"/>
                      </a:lnTo>
                      <a:lnTo>
                        <a:pt x="33605" y="38416"/>
                      </a:lnTo>
                      <a:lnTo>
                        <a:pt x="34715" y="25946"/>
                      </a:lnTo>
                      <a:lnTo>
                        <a:pt x="34009" y="13174"/>
                      </a:lnTo>
                      <a:lnTo>
                        <a:pt x="53688" y="79146"/>
                      </a:lnTo>
                      <a:lnTo>
                        <a:pt x="56209" y="85180"/>
                      </a:lnTo>
                      <a:lnTo>
                        <a:pt x="58329" y="93025"/>
                      </a:lnTo>
                      <a:lnTo>
                        <a:pt x="60045" y="102176"/>
                      </a:lnTo>
                      <a:lnTo>
                        <a:pt x="60953" y="112434"/>
                      </a:lnTo>
                      <a:lnTo>
                        <a:pt x="60852" y="123596"/>
                      </a:lnTo>
                      <a:lnTo>
                        <a:pt x="59641" y="135363"/>
                      </a:lnTo>
                      <a:lnTo>
                        <a:pt x="57119" y="147532"/>
                      </a:lnTo>
                      <a:lnTo>
                        <a:pt x="51468" y="152963"/>
                      </a:lnTo>
                      <a:lnTo>
                        <a:pt x="46926" y="156985"/>
                      </a:lnTo>
                      <a:lnTo>
                        <a:pt x="43091" y="159600"/>
                      </a:lnTo>
                      <a:lnTo>
                        <a:pt x="39962" y="160605"/>
                      </a:lnTo>
                      <a:lnTo>
                        <a:pt x="37238" y="160102"/>
                      </a:lnTo>
                      <a:lnTo>
                        <a:pt x="34917" y="157990"/>
                      </a:lnTo>
                      <a:lnTo>
                        <a:pt x="32597" y="154371"/>
                      </a:lnTo>
                      <a:lnTo>
                        <a:pt x="30275" y="149041"/>
                      </a:lnTo>
                      <a:lnTo>
                        <a:pt x="32495" y="140392"/>
                      </a:lnTo>
                      <a:lnTo>
                        <a:pt x="35523" y="132245"/>
                      </a:lnTo>
                      <a:lnTo>
                        <a:pt x="42586" y="115753"/>
                      </a:lnTo>
                      <a:lnTo>
                        <a:pt x="45916" y="107002"/>
                      </a:lnTo>
                      <a:lnTo>
                        <a:pt x="48641" y="97450"/>
                      </a:lnTo>
                      <a:lnTo>
                        <a:pt x="50558" y="86889"/>
                      </a:lnTo>
                      <a:lnTo>
                        <a:pt x="51165" y="74822"/>
                      </a:lnTo>
                      <a:lnTo>
                        <a:pt x="310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Freeform: Shape 20"/>
                <p:cNvSpPr/>
                <p:nvPr/>
              </p:nvSpPr>
              <p:spPr>
                <a:xfrm rot="10800000">
                  <a:off x="9999000" y="321840"/>
                  <a:ext cx="41400" cy="720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66606" h="132549">
                      <a:moveTo>
                        <a:pt x="44909" y="13576"/>
                      </a:moveTo>
                      <a:lnTo>
                        <a:pt x="51871" y="28158"/>
                      </a:lnTo>
                      <a:lnTo>
                        <a:pt x="58028" y="43445"/>
                      </a:lnTo>
                      <a:lnTo>
                        <a:pt x="62972" y="59033"/>
                      </a:lnTo>
                      <a:lnTo>
                        <a:pt x="66000" y="74521"/>
                      </a:lnTo>
                      <a:lnTo>
                        <a:pt x="66605" y="82063"/>
                      </a:lnTo>
                      <a:lnTo>
                        <a:pt x="66504" y="89505"/>
                      </a:lnTo>
                      <a:lnTo>
                        <a:pt x="65698" y="96746"/>
                      </a:lnTo>
                      <a:lnTo>
                        <a:pt x="63982" y="103685"/>
                      </a:lnTo>
                      <a:lnTo>
                        <a:pt x="61358" y="110424"/>
                      </a:lnTo>
                      <a:lnTo>
                        <a:pt x="57725" y="116658"/>
                      </a:lnTo>
                      <a:lnTo>
                        <a:pt x="53587" y="121485"/>
                      </a:lnTo>
                      <a:lnTo>
                        <a:pt x="48037" y="125609"/>
                      </a:lnTo>
                      <a:lnTo>
                        <a:pt x="41679" y="129130"/>
                      </a:lnTo>
                      <a:lnTo>
                        <a:pt x="34716" y="131342"/>
                      </a:lnTo>
                      <a:lnTo>
                        <a:pt x="27753" y="132548"/>
                      </a:lnTo>
                      <a:lnTo>
                        <a:pt x="20991" y="132448"/>
                      </a:lnTo>
                      <a:lnTo>
                        <a:pt x="14937" y="130739"/>
                      </a:lnTo>
                      <a:lnTo>
                        <a:pt x="12313" y="129330"/>
                      </a:lnTo>
                      <a:lnTo>
                        <a:pt x="9890" y="127419"/>
                      </a:lnTo>
                      <a:lnTo>
                        <a:pt x="5046" y="121184"/>
                      </a:lnTo>
                      <a:lnTo>
                        <a:pt x="1918" y="114245"/>
                      </a:lnTo>
                      <a:lnTo>
                        <a:pt x="304" y="106703"/>
                      </a:lnTo>
                      <a:lnTo>
                        <a:pt x="0" y="98657"/>
                      </a:lnTo>
                      <a:lnTo>
                        <a:pt x="909" y="90008"/>
                      </a:lnTo>
                      <a:lnTo>
                        <a:pt x="2826" y="81258"/>
                      </a:lnTo>
                      <a:lnTo>
                        <a:pt x="5552" y="72107"/>
                      </a:lnTo>
                      <a:lnTo>
                        <a:pt x="8983" y="63055"/>
                      </a:lnTo>
                      <a:lnTo>
                        <a:pt x="16955" y="44852"/>
                      </a:lnTo>
                      <a:lnTo>
                        <a:pt x="25432" y="27756"/>
                      </a:lnTo>
                      <a:lnTo>
                        <a:pt x="29368" y="19812"/>
                      </a:lnTo>
                      <a:lnTo>
                        <a:pt x="32898" y="12470"/>
                      </a:lnTo>
                      <a:lnTo>
                        <a:pt x="35826" y="5832"/>
                      </a:lnTo>
                      <a:lnTo>
                        <a:pt x="37945" y="0"/>
                      </a:lnTo>
                      <a:lnTo>
                        <a:pt x="44909" y="1357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Freeform: Shape 21"/>
                <p:cNvSpPr/>
                <p:nvPr/>
              </p:nvSpPr>
              <p:spPr>
                <a:xfrm rot="10800000">
                  <a:off x="10008720" y="352080"/>
                  <a:ext cx="15840" cy="417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25429" h="77741">
                      <a:moveTo>
                        <a:pt x="19476" y="8548"/>
                      </a:moveTo>
                      <a:lnTo>
                        <a:pt x="20887" y="16090"/>
                      </a:lnTo>
                      <a:lnTo>
                        <a:pt x="22100" y="22829"/>
                      </a:lnTo>
                      <a:lnTo>
                        <a:pt x="23209" y="28863"/>
                      </a:lnTo>
                      <a:lnTo>
                        <a:pt x="24016" y="34193"/>
                      </a:lnTo>
                      <a:lnTo>
                        <a:pt x="24722" y="39020"/>
                      </a:lnTo>
                      <a:lnTo>
                        <a:pt x="25428" y="47166"/>
                      </a:lnTo>
                      <a:lnTo>
                        <a:pt x="25025" y="54105"/>
                      </a:lnTo>
                      <a:lnTo>
                        <a:pt x="23511" y="60441"/>
                      </a:lnTo>
                      <a:lnTo>
                        <a:pt x="20686" y="66878"/>
                      </a:lnTo>
                      <a:lnTo>
                        <a:pt x="16347" y="73919"/>
                      </a:lnTo>
                      <a:lnTo>
                        <a:pt x="14834" y="75728"/>
                      </a:lnTo>
                      <a:lnTo>
                        <a:pt x="12916" y="77137"/>
                      </a:lnTo>
                      <a:lnTo>
                        <a:pt x="10797" y="77740"/>
                      </a:lnTo>
                      <a:lnTo>
                        <a:pt x="8981" y="77237"/>
                      </a:lnTo>
                      <a:lnTo>
                        <a:pt x="5550" y="74220"/>
                      </a:lnTo>
                      <a:lnTo>
                        <a:pt x="2927" y="70699"/>
                      </a:lnTo>
                      <a:lnTo>
                        <a:pt x="1212" y="66979"/>
                      </a:lnTo>
                      <a:lnTo>
                        <a:pt x="303" y="62856"/>
                      </a:lnTo>
                      <a:lnTo>
                        <a:pt x="0" y="58331"/>
                      </a:lnTo>
                      <a:lnTo>
                        <a:pt x="202" y="53704"/>
                      </a:lnTo>
                      <a:lnTo>
                        <a:pt x="2220" y="43647"/>
                      </a:lnTo>
                      <a:lnTo>
                        <a:pt x="5652" y="33087"/>
                      </a:lnTo>
                      <a:lnTo>
                        <a:pt x="9788" y="22125"/>
                      </a:lnTo>
                      <a:lnTo>
                        <a:pt x="14127" y="10962"/>
                      </a:lnTo>
                      <a:lnTo>
                        <a:pt x="17962" y="0"/>
                      </a:lnTo>
                      <a:lnTo>
                        <a:pt x="19476" y="85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6" name="Group 105"/>
              <p:cNvGrpSpPr/>
              <p:nvPr/>
            </p:nvGrpSpPr>
            <p:grpSpPr>
              <a:xfrm>
                <a:off x="8686440" y="1260720"/>
                <a:ext cx="484560" cy="528840"/>
                <a:chOff x="8686440" y="1260720"/>
                <a:chExt cx="484560" cy="528840"/>
              </a:xfrm>
            </p:grpSpPr>
            <p:sp>
              <p:nvSpPr>
                <p:cNvPr id="427" name="Freeform: Shape 23"/>
                <p:cNvSpPr/>
                <p:nvPr/>
              </p:nvSpPr>
              <p:spPr>
                <a:xfrm rot="19440600">
                  <a:off x="8802360" y="1290600"/>
                  <a:ext cx="254880" cy="468720"/>
                </a:xfrm>
                <a:custGeom>
                  <a:avLst/>
                  <a:gdLst>
                    <a:gd name="textAreaLeft" fmla="*/ 0 w 254880"/>
                    <a:gd name="textAreaRight" fmla="*/ 255240 w 254880"/>
                    <a:gd name="textAreaTop" fmla="*/ 0 h 468720"/>
                    <a:gd name="textAreaBottom" fmla="*/ 469080 h 468720"/>
                  </a:gdLst>
                  <a:ahLst/>
                  <a:rect l="textAreaLeft" t="textAreaTop" r="textAreaRight" b="textAreaBottom"/>
                  <a:pathLst>
                    <a:path w="411688" h="879880">
                      <a:moveTo>
                        <a:pt x="0" y="860158"/>
                      </a:moveTo>
                      <a:lnTo>
                        <a:pt x="395026" y="859454"/>
                      </a:lnTo>
                      <a:lnTo>
                        <a:pt x="395697" y="0"/>
                      </a:lnTo>
                      <a:lnTo>
                        <a:pt x="411687" y="19515"/>
                      </a:lnTo>
                      <a:lnTo>
                        <a:pt x="411687" y="879879"/>
                      </a:lnTo>
                      <a:lnTo>
                        <a:pt x="15990" y="879879"/>
                      </a:lnTo>
                      <a:lnTo>
                        <a:pt x="0" y="860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8" name="Freeform: Shape 24"/>
                <p:cNvSpPr/>
                <p:nvPr/>
              </p:nvSpPr>
              <p:spPr>
                <a:xfrm rot="19440600">
                  <a:off x="8802360" y="1290600"/>
                  <a:ext cx="254880" cy="468720"/>
                </a:xfrm>
                <a:custGeom>
                  <a:avLst/>
                  <a:gdLst>
                    <a:gd name="textAreaLeft" fmla="*/ 0 w 254880"/>
                    <a:gd name="textAreaRight" fmla="*/ 255240 w 254880"/>
                    <a:gd name="textAreaTop" fmla="*/ 0 h 468720"/>
                    <a:gd name="textAreaBottom" fmla="*/ 469080 h 468720"/>
                  </a:gdLst>
                  <a:ahLst/>
                  <a:rect l="textAreaLeft" t="textAreaTop" r="textAreaRight" b="textAreaBottom"/>
                  <a:pathLst>
                    <a:path w="411653" h="879798">
                      <a:moveTo>
                        <a:pt x="16091" y="879797"/>
                      </a:moveTo>
                      <a:lnTo>
                        <a:pt x="411652" y="879797"/>
                      </a:lnTo>
                      <a:lnTo>
                        <a:pt x="411652" y="19431"/>
                      </a:lnTo>
                      <a:lnTo>
                        <a:pt x="395896" y="0"/>
                      </a:lnTo>
                      <a:lnTo>
                        <a:pt x="395226" y="859126"/>
                      </a:lnTo>
                      <a:lnTo>
                        <a:pt x="0" y="859952"/>
                      </a:lnTo>
                      <a:lnTo>
                        <a:pt x="16091" y="879797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9" name="Freeform: Shape 25"/>
                <p:cNvSpPr/>
                <p:nvPr/>
              </p:nvSpPr>
              <p:spPr>
                <a:xfrm rot="19440600">
                  <a:off x="8796600" y="1295640"/>
                  <a:ext cx="248400" cy="45612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395736" h="860450">
                      <a:moveTo>
                        <a:pt x="0" y="0"/>
                      </a:moveTo>
                      <a:lnTo>
                        <a:pt x="395735" y="0"/>
                      </a:lnTo>
                      <a:lnTo>
                        <a:pt x="395735" y="860449"/>
                      </a:lnTo>
                      <a:lnTo>
                        <a:pt x="0" y="8604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0" name="Freeform: Shape 26"/>
                <p:cNvSpPr/>
                <p:nvPr/>
              </p:nvSpPr>
              <p:spPr>
                <a:xfrm rot="19440600">
                  <a:off x="8796600" y="1295640"/>
                  <a:ext cx="248400" cy="45612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395901" h="860365">
                      <a:moveTo>
                        <a:pt x="0" y="860364"/>
                      </a:moveTo>
                      <a:lnTo>
                        <a:pt x="395900" y="860364"/>
                      </a:lnTo>
                      <a:lnTo>
                        <a:pt x="395900" y="0"/>
                      </a:lnTo>
                      <a:lnTo>
                        <a:pt x="0" y="0"/>
                      </a:lnTo>
                      <a:lnTo>
                        <a:pt x="0" y="860364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1" name="Freeform: Shape 27"/>
                <p:cNvSpPr/>
                <p:nvPr/>
              </p:nvSpPr>
              <p:spPr>
                <a:xfrm rot="19440600">
                  <a:off x="8790840" y="149148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9964"/>
                      </a:moveTo>
                      <a:lnTo>
                        <a:pt x="638" y="6078"/>
                      </a:lnTo>
                      <a:lnTo>
                        <a:pt x="2382" y="2935"/>
                      </a:lnTo>
                      <a:lnTo>
                        <a:pt x="4928" y="785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85"/>
                      </a:lnTo>
                      <a:lnTo>
                        <a:pt x="-5662" y="2935"/>
                      </a:lnTo>
                      <a:lnTo>
                        <a:pt x="-3886" y="6078"/>
                      </a:lnTo>
                      <a:lnTo>
                        <a:pt x="-3248" y="9964"/>
                      </a:lnTo>
                      <a:lnTo>
                        <a:pt x="-3248" y="-13769"/>
                      </a:lnTo>
                      <a:lnTo>
                        <a:pt x="-3886" y="-9883"/>
                      </a:lnTo>
                      <a:lnTo>
                        <a:pt x="-5662" y="-6699"/>
                      </a:lnTo>
                      <a:lnTo>
                        <a:pt x="-8210" y="-4509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28" y="-4509"/>
                      </a:lnTo>
                      <a:lnTo>
                        <a:pt x="2382" y="-6699"/>
                      </a:lnTo>
                      <a:lnTo>
                        <a:pt x="638" y="-9883"/>
                      </a:lnTo>
                      <a:lnTo>
                        <a:pt x="0" y="-13769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2" name="Freeform: Shape 28"/>
                <p:cNvSpPr/>
                <p:nvPr/>
              </p:nvSpPr>
              <p:spPr>
                <a:xfrm rot="19440600">
                  <a:off x="8814600" y="152496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38" y="6160"/>
                      </a:lnTo>
                      <a:lnTo>
                        <a:pt x="2382" y="2935"/>
                      </a:lnTo>
                      <a:lnTo>
                        <a:pt x="4928" y="78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84"/>
                      </a:lnTo>
                      <a:lnTo>
                        <a:pt x="-5662" y="2935"/>
                      </a:lnTo>
                      <a:lnTo>
                        <a:pt x="-3886" y="6160"/>
                      </a:lnTo>
                      <a:lnTo>
                        <a:pt x="-3248" y="10005"/>
                      </a:lnTo>
                      <a:lnTo>
                        <a:pt x="-3248" y="-13731"/>
                      </a:lnTo>
                      <a:lnTo>
                        <a:pt x="-3886" y="-9803"/>
                      </a:lnTo>
                      <a:lnTo>
                        <a:pt x="-5662" y="-6660"/>
                      </a:lnTo>
                      <a:lnTo>
                        <a:pt x="-8210" y="-4510"/>
                      </a:lnTo>
                      <a:lnTo>
                        <a:pt x="-11361" y="-3726"/>
                      </a:lnTo>
                      <a:lnTo>
                        <a:pt x="8113" y="-3726"/>
                      </a:lnTo>
                      <a:lnTo>
                        <a:pt x="4928" y="-4510"/>
                      </a:lnTo>
                      <a:lnTo>
                        <a:pt x="2382" y="-6660"/>
                      </a:lnTo>
                      <a:lnTo>
                        <a:pt x="638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3" name="Freeform: Shape 29"/>
                <p:cNvSpPr/>
                <p:nvPr/>
              </p:nvSpPr>
              <p:spPr>
                <a:xfrm rot="19440600">
                  <a:off x="8849880" y="157284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38" y="6120"/>
                      </a:lnTo>
                      <a:lnTo>
                        <a:pt x="2382" y="2895"/>
                      </a:lnTo>
                      <a:lnTo>
                        <a:pt x="4928" y="74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44"/>
                      </a:lnTo>
                      <a:lnTo>
                        <a:pt x="-5662" y="2895"/>
                      </a:lnTo>
                      <a:lnTo>
                        <a:pt x="-3886" y="6120"/>
                      </a:lnTo>
                      <a:lnTo>
                        <a:pt x="-3248" y="10007"/>
                      </a:lnTo>
                      <a:lnTo>
                        <a:pt x="-3248" y="-13727"/>
                      </a:lnTo>
                      <a:lnTo>
                        <a:pt x="-3886" y="-9841"/>
                      </a:lnTo>
                      <a:lnTo>
                        <a:pt x="-5662" y="-6657"/>
                      </a:lnTo>
                      <a:lnTo>
                        <a:pt x="-8210" y="-4507"/>
                      </a:lnTo>
                      <a:lnTo>
                        <a:pt x="-11361" y="-3763"/>
                      </a:lnTo>
                      <a:lnTo>
                        <a:pt x="8113" y="-3763"/>
                      </a:lnTo>
                      <a:lnTo>
                        <a:pt x="4928" y="-4507"/>
                      </a:lnTo>
                      <a:lnTo>
                        <a:pt x="2382" y="-6657"/>
                      </a:lnTo>
                      <a:lnTo>
                        <a:pt x="638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4" name="Freeform: Shape 30"/>
                <p:cNvSpPr/>
                <p:nvPr/>
              </p:nvSpPr>
              <p:spPr>
                <a:xfrm rot="19440600">
                  <a:off x="8877960" y="160920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38" y="6119"/>
                      </a:lnTo>
                      <a:lnTo>
                        <a:pt x="2382" y="2935"/>
                      </a:lnTo>
                      <a:lnTo>
                        <a:pt x="4928" y="827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827"/>
                      </a:lnTo>
                      <a:lnTo>
                        <a:pt x="-5662" y="2935"/>
                      </a:lnTo>
                      <a:lnTo>
                        <a:pt x="-3886" y="6119"/>
                      </a:lnTo>
                      <a:lnTo>
                        <a:pt x="-3248" y="10006"/>
                      </a:lnTo>
                      <a:lnTo>
                        <a:pt x="-3248" y="-13693"/>
                      </a:lnTo>
                      <a:lnTo>
                        <a:pt x="-3886" y="-9847"/>
                      </a:lnTo>
                      <a:lnTo>
                        <a:pt x="-5662" y="-6665"/>
                      </a:lnTo>
                      <a:lnTo>
                        <a:pt x="-8210" y="-4515"/>
                      </a:lnTo>
                      <a:lnTo>
                        <a:pt x="-11361" y="-3688"/>
                      </a:lnTo>
                      <a:lnTo>
                        <a:pt x="8113" y="-3688"/>
                      </a:lnTo>
                      <a:lnTo>
                        <a:pt x="4928" y="-4515"/>
                      </a:lnTo>
                      <a:lnTo>
                        <a:pt x="2382" y="-6665"/>
                      </a:lnTo>
                      <a:lnTo>
                        <a:pt x="638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5" name="Freeform: Shape 31"/>
                <p:cNvSpPr/>
                <p:nvPr/>
              </p:nvSpPr>
              <p:spPr>
                <a:xfrm rot="19440600">
                  <a:off x="8899200" y="1653840"/>
                  <a:ext cx="40320" cy="316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48">
                      <a:moveTo>
                        <a:pt x="0" y="-13694"/>
                      </a:moveTo>
                      <a:lnTo>
                        <a:pt x="0" y="10045"/>
                      </a:lnTo>
                      <a:lnTo>
                        <a:pt x="638" y="6159"/>
                      </a:lnTo>
                      <a:lnTo>
                        <a:pt x="2382" y="2977"/>
                      </a:lnTo>
                      <a:lnTo>
                        <a:pt x="4928" y="82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826"/>
                      </a:lnTo>
                      <a:lnTo>
                        <a:pt x="-5662" y="2977"/>
                      </a:lnTo>
                      <a:lnTo>
                        <a:pt x="-3886" y="6159"/>
                      </a:lnTo>
                      <a:lnTo>
                        <a:pt x="-3248" y="10045"/>
                      </a:lnTo>
                      <a:lnTo>
                        <a:pt x="-3248" y="-13694"/>
                      </a:lnTo>
                      <a:lnTo>
                        <a:pt x="-3886" y="-9808"/>
                      </a:lnTo>
                      <a:lnTo>
                        <a:pt x="-5662" y="-6666"/>
                      </a:lnTo>
                      <a:lnTo>
                        <a:pt x="-8210" y="-4515"/>
                      </a:lnTo>
                      <a:lnTo>
                        <a:pt x="-11361" y="-3689"/>
                      </a:lnTo>
                      <a:lnTo>
                        <a:pt x="8113" y="-3689"/>
                      </a:lnTo>
                      <a:lnTo>
                        <a:pt x="4928" y="-4515"/>
                      </a:lnTo>
                      <a:lnTo>
                        <a:pt x="2382" y="-6666"/>
                      </a:lnTo>
                      <a:lnTo>
                        <a:pt x="638" y="-9808"/>
                      </a:lnTo>
                      <a:lnTo>
                        <a:pt x="0" y="-13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6" name="Freeform: Shape 32"/>
                <p:cNvSpPr/>
                <p:nvPr/>
              </p:nvSpPr>
              <p:spPr>
                <a:xfrm rot="19440600">
                  <a:off x="8944560" y="169668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9964"/>
                      </a:moveTo>
                      <a:lnTo>
                        <a:pt x="638" y="6078"/>
                      </a:lnTo>
                      <a:lnTo>
                        <a:pt x="2382" y="2936"/>
                      </a:lnTo>
                      <a:lnTo>
                        <a:pt x="4928" y="78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86"/>
                      </a:lnTo>
                      <a:lnTo>
                        <a:pt x="-5662" y="2936"/>
                      </a:lnTo>
                      <a:lnTo>
                        <a:pt x="-3886" y="6078"/>
                      </a:lnTo>
                      <a:lnTo>
                        <a:pt x="-3248" y="9964"/>
                      </a:lnTo>
                      <a:lnTo>
                        <a:pt x="-3248" y="-13770"/>
                      </a:lnTo>
                      <a:lnTo>
                        <a:pt x="-3886" y="-9884"/>
                      </a:lnTo>
                      <a:lnTo>
                        <a:pt x="-5662" y="-6658"/>
                      </a:lnTo>
                      <a:lnTo>
                        <a:pt x="-8210" y="-4508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28" y="-4508"/>
                      </a:lnTo>
                      <a:lnTo>
                        <a:pt x="2382" y="-6658"/>
                      </a:lnTo>
                      <a:lnTo>
                        <a:pt x="638" y="-9884"/>
                      </a:lnTo>
                      <a:lnTo>
                        <a:pt x="0" y="-13770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Freeform: Shape 33"/>
                <p:cNvSpPr/>
                <p:nvPr/>
              </p:nvSpPr>
              <p:spPr>
                <a:xfrm rot="19440600">
                  <a:off x="8835840" y="145548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69"/>
                      </a:moveTo>
                      <a:lnTo>
                        <a:pt x="0" y="9964"/>
                      </a:lnTo>
                      <a:lnTo>
                        <a:pt x="603" y="6078"/>
                      </a:lnTo>
                      <a:lnTo>
                        <a:pt x="2346" y="2935"/>
                      </a:lnTo>
                      <a:lnTo>
                        <a:pt x="4928" y="785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85"/>
                      </a:lnTo>
                      <a:lnTo>
                        <a:pt x="-5629" y="2935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69"/>
                      </a:lnTo>
                      <a:lnTo>
                        <a:pt x="-3885" y="-9883"/>
                      </a:lnTo>
                      <a:lnTo>
                        <a:pt x="-5629" y="-6699"/>
                      </a:lnTo>
                      <a:lnTo>
                        <a:pt x="-8211" y="-4509"/>
                      </a:lnTo>
                      <a:lnTo>
                        <a:pt x="-11362" y="-3764"/>
                      </a:lnTo>
                      <a:lnTo>
                        <a:pt x="8113" y="-3764"/>
                      </a:lnTo>
                      <a:lnTo>
                        <a:pt x="4928" y="-4509"/>
                      </a:lnTo>
                      <a:lnTo>
                        <a:pt x="2346" y="-6699"/>
                      </a:lnTo>
                      <a:lnTo>
                        <a:pt x="603" y="-9883"/>
                      </a:lnTo>
                      <a:lnTo>
                        <a:pt x="0" y="-13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8" name="Freeform: Shape 34"/>
                <p:cNvSpPr/>
                <p:nvPr/>
              </p:nvSpPr>
              <p:spPr>
                <a:xfrm rot="19440600">
                  <a:off x="8864640" y="150300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03" y="6160"/>
                      </a:lnTo>
                      <a:lnTo>
                        <a:pt x="2346" y="2935"/>
                      </a:lnTo>
                      <a:lnTo>
                        <a:pt x="4928" y="784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84"/>
                      </a:lnTo>
                      <a:lnTo>
                        <a:pt x="-5629" y="2935"/>
                      </a:lnTo>
                      <a:lnTo>
                        <a:pt x="-3885" y="6160"/>
                      </a:lnTo>
                      <a:lnTo>
                        <a:pt x="-3248" y="10005"/>
                      </a:lnTo>
                      <a:lnTo>
                        <a:pt x="-3248" y="-13731"/>
                      </a:lnTo>
                      <a:lnTo>
                        <a:pt x="-3885" y="-9803"/>
                      </a:lnTo>
                      <a:lnTo>
                        <a:pt x="-5629" y="-6660"/>
                      </a:lnTo>
                      <a:lnTo>
                        <a:pt x="-8211" y="-4510"/>
                      </a:lnTo>
                      <a:lnTo>
                        <a:pt x="-11362" y="-3726"/>
                      </a:lnTo>
                      <a:lnTo>
                        <a:pt x="8113" y="-3726"/>
                      </a:lnTo>
                      <a:lnTo>
                        <a:pt x="4928" y="-4510"/>
                      </a:lnTo>
                      <a:lnTo>
                        <a:pt x="2346" y="-6660"/>
                      </a:lnTo>
                      <a:lnTo>
                        <a:pt x="603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9" name="Freeform: Shape 35"/>
                <p:cNvSpPr/>
                <p:nvPr/>
              </p:nvSpPr>
              <p:spPr>
                <a:xfrm rot="19440600">
                  <a:off x="8899560" y="1541520"/>
                  <a:ext cx="37440" cy="33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03" y="6120"/>
                      </a:lnTo>
                      <a:lnTo>
                        <a:pt x="2346" y="2895"/>
                      </a:lnTo>
                      <a:lnTo>
                        <a:pt x="4928" y="744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44"/>
                      </a:lnTo>
                      <a:lnTo>
                        <a:pt x="-5629" y="2895"/>
                      </a:lnTo>
                      <a:lnTo>
                        <a:pt x="-3885" y="6120"/>
                      </a:lnTo>
                      <a:lnTo>
                        <a:pt x="-3248" y="10007"/>
                      </a:lnTo>
                      <a:lnTo>
                        <a:pt x="-3248" y="-13727"/>
                      </a:lnTo>
                      <a:lnTo>
                        <a:pt x="-3885" y="-9841"/>
                      </a:lnTo>
                      <a:lnTo>
                        <a:pt x="-5629" y="-6657"/>
                      </a:lnTo>
                      <a:lnTo>
                        <a:pt x="-8211" y="-4507"/>
                      </a:lnTo>
                      <a:lnTo>
                        <a:pt x="-11362" y="-3763"/>
                      </a:lnTo>
                      <a:lnTo>
                        <a:pt x="8113" y="-3763"/>
                      </a:lnTo>
                      <a:lnTo>
                        <a:pt x="4928" y="-4507"/>
                      </a:lnTo>
                      <a:lnTo>
                        <a:pt x="2346" y="-6657"/>
                      </a:lnTo>
                      <a:lnTo>
                        <a:pt x="603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0" name="Freeform: Shape 36"/>
                <p:cNvSpPr/>
                <p:nvPr/>
              </p:nvSpPr>
              <p:spPr>
                <a:xfrm rot="19440600">
                  <a:off x="8928360" y="158292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03" y="6119"/>
                      </a:lnTo>
                      <a:lnTo>
                        <a:pt x="2346" y="2935"/>
                      </a:lnTo>
                      <a:lnTo>
                        <a:pt x="4928" y="827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827"/>
                      </a:lnTo>
                      <a:lnTo>
                        <a:pt x="-5629" y="2935"/>
                      </a:lnTo>
                      <a:lnTo>
                        <a:pt x="-3885" y="6119"/>
                      </a:lnTo>
                      <a:lnTo>
                        <a:pt x="-3248" y="10006"/>
                      </a:lnTo>
                      <a:lnTo>
                        <a:pt x="-3248" y="-13693"/>
                      </a:lnTo>
                      <a:lnTo>
                        <a:pt x="-3885" y="-9847"/>
                      </a:lnTo>
                      <a:lnTo>
                        <a:pt x="-5629" y="-6665"/>
                      </a:lnTo>
                      <a:lnTo>
                        <a:pt x="-8211" y="-4515"/>
                      </a:lnTo>
                      <a:lnTo>
                        <a:pt x="-11362" y="-3688"/>
                      </a:lnTo>
                      <a:lnTo>
                        <a:pt x="8113" y="-3688"/>
                      </a:lnTo>
                      <a:lnTo>
                        <a:pt x="4928" y="-4515"/>
                      </a:lnTo>
                      <a:lnTo>
                        <a:pt x="2346" y="-6665"/>
                      </a:lnTo>
                      <a:lnTo>
                        <a:pt x="603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1" name="Freeform: Shape 37"/>
                <p:cNvSpPr/>
                <p:nvPr/>
              </p:nvSpPr>
              <p:spPr>
                <a:xfrm rot="19440600">
                  <a:off x="8957160" y="1624320"/>
                  <a:ext cx="37440" cy="33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48">
                      <a:moveTo>
                        <a:pt x="0" y="-13694"/>
                      </a:moveTo>
                      <a:lnTo>
                        <a:pt x="0" y="10045"/>
                      </a:lnTo>
                      <a:lnTo>
                        <a:pt x="603" y="6159"/>
                      </a:lnTo>
                      <a:lnTo>
                        <a:pt x="2346" y="2977"/>
                      </a:lnTo>
                      <a:lnTo>
                        <a:pt x="4928" y="826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826"/>
                      </a:lnTo>
                      <a:lnTo>
                        <a:pt x="-5629" y="2977"/>
                      </a:lnTo>
                      <a:lnTo>
                        <a:pt x="-3885" y="6159"/>
                      </a:lnTo>
                      <a:lnTo>
                        <a:pt x="-3248" y="10045"/>
                      </a:lnTo>
                      <a:lnTo>
                        <a:pt x="-3248" y="-13694"/>
                      </a:lnTo>
                      <a:lnTo>
                        <a:pt x="-3885" y="-9808"/>
                      </a:lnTo>
                      <a:lnTo>
                        <a:pt x="-5629" y="-6666"/>
                      </a:lnTo>
                      <a:lnTo>
                        <a:pt x="-8211" y="-4515"/>
                      </a:lnTo>
                      <a:lnTo>
                        <a:pt x="-11362" y="-3689"/>
                      </a:lnTo>
                      <a:lnTo>
                        <a:pt x="8113" y="-3689"/>
                      </a:lnTo>
                      <a:lnTo>
                        <a:pt x="4928" y="-4515"/>
                      </a:lnTo>
                      <a:lnTo>
                        <a:pt x="2346" y="-6666"/>
                      </a:lnTo>
                      <a:lnTo>
                        <a:pt x="603" y="-9808"/>
                      </a:lnTo>
                      <a:lnTo>
                        <a:pt x="0" y="-13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2" name="Freeform: Shape 38"/>
                <p:cNvSpPr/>
                <p:nvPr/>
              </p:nvSpPr>
              <p:spPr>
                <a:xfrm rot="19440600">
                  <a:off x="8988480" y="166716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70"/>
                      </a:moveTo>
                      <a:lnTo>
                        <a:pt x="0" y="9964"/>
                      </a:lnTo>
                      <a:lnTo>
                        <a:pt x="603" y="6078"/>
                      </a:lnTo>
                      <a:lnTo>
                        <a:pt x="2346" y="2936"/>
                      </a:lnTo>
                      <a:lnTo>
                        <a:pt x="4928" y="786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86"/>
                      </a:lnTo>
                      <a:lnTo>
                        <a:pt x="-5629" y="2936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70"/>
                      </a:lnTo>
                      <a:lnTo>
                        <a:pt x="-3885" y="-9884"/>
                      </a:lnTo>
                      <a:lnTo>
                        <a:pt x="-5629" y="-6658"/>
                      </a:lnTo>
                      <a:lnTo>
                        <a:pt x="-8211" y="-4508"/>
                      </a:lnTo>
                      <a:lnTo>
                        <a:pt x="-11362" y="-3764"/>
                      </a:lnTo>
                      <a:lnTo>
                        <a:pt x="8113" y="-3764"/>
                      </a:lnTo>
                      <a:lnTo>
                        <a:pt x="4928" y="-4508"/>
                      </a:lnTo>
                      <a:lnTo>
                        <a:pt x="2346" y="-6658"/>
                      </a:lnTo>
                      <a:lnTo>
                        <a:pt x="603" y="-9884"/>
                      </a:lnTo>
                      <a:lnTo>
                        <a:pt x="0" y="-137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3" name="Freeform: Shape 39"/>
                <p:cNvSpPr/>
                <p:nvPr/>
              </p:nvSpPr>
              <p:spPr>
                <a:xfrm rot="19440600">
                  <a:off x="8881560" y="1429200"/>
                  <a:ext cx="37440" cy="33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69"/>
                      </a:moveTo>
                      <a:lnTo>
                        <a:pt x="0" y="9964"/>
                      </a:lnTo>
                      <a:lnTo>
                        <a:pt x="638" y="6078"/>
                      </a:lnTo>
                      <a:lnTo>
                        <a:pt x="2380" y="2935"/>
                      </a:lnTo>
                      <a:lnTo>
                        <a:pt x="4962" y="785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85"/>
                      </a:lnTo>
                      <a:lnTo>
                        <a:pt x="-5594" y="2935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69"/>
                      </a:lnTo>
                      <a:lnTo>
                        <a:pt x="-3885" y="-9883"/>
                      </a:lnTo>
                      <a:lnTo>
                        <a:pt x="-5594" y="-6699"/>
                      </a:lnTo>
                      <a:lnTo>
                        <a:pt x="-8176" y="-4509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62" y="-4509"/>
                      </a:lnTo>
                      <a:lnTo>
                        <a:pt x="2380" y="-6699"/>
                      </a:lnTo>
                      <a:lnTo>
                        <a:pt x="638" y="-9883"/>
                      </a:lnTo>
                      <a:lnTo>
                        <a:pt x="0" y="-13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4" name="Freeform: Shape 40"/>
                <p:cNvSpPr/>
                <p:nvPr/>
              </p:nvSpPr>
              <p:spPr>
                <a:xfrm rot="19440600">
                  <a:off x="8905320" y="1467360"/>
                  <a:ext cx="40320" cy="298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62289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38" y="6160"/>
                      </a:lnTo>
                      <a:lnTo>
                        <a:pt x="2380" y="2935"/>
                      </a:lnTo>
                      <a:lnTo>
                        <a:pt x="4962" y="78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84"/>
                      </a:lnTo>
                      <a:lnTo>
                        <a:pt x="-5594" y="2935"/>
                      </a:lnTo>
                      <a:lnTo>
                        <a:pt x="-3885" y="6160"/>
                      </a:lnTo>
                      <a:lnTo>
                        <a:pt x="-3248" y="10005"/>
                      </a:lnTo>
                      <a:lnTo>
                        <a:pt x="-3248" y="-13731"/>
                      </a:lnTo>
                      <a:lnTo>
                        <a:pt x="-3885" y="-9803"/>
                      </a:lnTo>
                      <a:lnTo>
                        <a:pt x="-5594" y="-6660"/>
                      </a:lnTo>
                      <a:lnTo>
                        <a:pt x="-8176" y="-4510"/>
                      </a:lnTo>
                      <a:lnTo>
                        <a:pt x="-11361" y="-3726"/>
                      </a:lnTo>
                      <a:lnTo>
                        <a:pt x="8113" y="-3726"/>
                      </a:lnTo>
                      <a:lnTo>
                        <a:pt x="4962" y="-4510"/>
                      </a:lnTo>
                      <a:lnTo>
                        <a:pt x="2380" y="-6660"/>
                      </a:lnTo>
                      <a:lnTo>
                        <a:pt x="638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5" name="Freeform: Shape 41"/>
                <p:cNvSpPr/>
                <p:nvPr/>
              </p:nvSpPr>
              <p:spPr>
                <a:xfrm rot="19440600">
                  <a:off x="8938800" y="150876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38" y="6120"/>
                      </a:lnTo>
                      <a:lnTo>
                        <a:pt x="2380" y="2895"/>
                      </a:lnTo>
                      <a:lnTo>
                        <a:pt x="4962" y="74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44"/>
                      </a:lnTo>
                      <a:lnTo>
                        <a:pt x="-5594" y="2895"/>
                      </a:lnTo>
                      <a:lnTo>
                        <a:pt x="-3885" y="6120"/>
                      </a:lnTo>
                      <a:lnTo>
                        <a:pt x="-3248" y="10007"/>
                      </a:lnTo>
                      <a:lnTo>
                        <a:pt x="-3248" y="-13727"/>
                      </a:lnTo>
                      <a:lnTo>
                        <a:pt x="-3885" y="-9841"/>
                      </a:lnTo>
                      <a:lnTo>
                        <a:pt x="-5594" y="-6657"/>
                      </a:lnTo>
                      <a:lnTo>
                        <a:pt x="-8176" y="-4507"/>
                      </a:lnTo>
                      <a:lnTo>
                        <a:pt x="-11361" y="-3763"/>
                      </a:lnTo>
                      <a:lnTo>
                        <a:pt x="8113" y="-3763"/>
                      </a:lnTo>
                      <a:lnTo>
                        <a:pt x="4962" y="-4507"/>
                      </a:lnTo>
                      <a:lnTo>
                        <a:pt x="2380" y="-6657"/>
                      </a:lnTo>
                      <a:lnTo>
                        <a:pt x="638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Freeform: Shape 42"/>
                <p:cNvSpPr/>
                <p:nvPr/>
              </p:nvSpPr>
              <p:spPr>
                <a:xfrm rot="19440600">
                  <a:off x="8971920" y="155484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38" y="6119"/>
                      </a:lnTo>
                      <a:lnTo>
                        <a:pt x="2380" y="2935"/>
                      </a:lnTo>
                      <a:lnTo>
                        <a:pt x="4962" y="827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827"/>
                      </a:lnTo>
                      <a:lnTo>
                        <a:pt x="-5594" y="2935"/>
                      </a:lnTo>
                      <a:lnTo>
                        <a:pt x="-3885" y="6119"/>
                      </a:lnTo>
                      <a:lnTo>
                        <a:pt x="-3248" y="10006"/>
                      </a:lnTo>
                      <a:lnTo>
                        <a:pt x="-3248" y="-13693"/>
                      </a:lnTo>
                      <a:lnTo>
                        <a:pt x="-3885" y="-9847"/>
                      </a:lnTo>
                      <a:lnTo>
                        <a:pt x="-5594" y="-6665"/>
                      </a:lnTo>
                      <a:lnTo>
                        <a:pt x="-8176" y="-4515"/>
                      </a:lnTo>
                      <a:lnTo>
                        <a:pt x="-11361" y="-3688"/>
                      </a:lnTo>
                      <a:lnTo>
                        <a:pt x="8113" y="-3688"/>
                      </a:lnTo>
                      <a:lnTo>
                        <a:pt x="4962" y="-4515"/>
                      </a:lnTo>
                      <a:lnTo>
                        <a:pt x="2380" y="-6665"/>
                      </a:lnTo>
                      <a:lnTo>
                        <a:pt x="638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7" name="Freeform: Shape 43"/>
                <p:cNvSpPr/>
                <p:nvPr/>
              </p:nvSpPr>
              <p:spPr>
                <a:xfrm rot="19440600">
                  <a:off x="8994600" y="1591200"/>
                  <a:ext cx="40320" cy="316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48">
                      <a:moveTo>
                        <a:pt x="0" y="-13694"/>
                      </a:moveTo>
                      <a:lnTo>
                        <a:pt x="0" y="10045"/>
                      </a:lnTo>
                      <a:lnTo>
                        <a:pt x="638" y="6159"/>
                      </a:lnTo>
                      <a:lnTo>
                        <a:pt x="2380" y="2977"/>
                      </a:lnTo>
                      <a:lnTo>
                        <a:pt x="4962" y="82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826"/>
                      </a:lnTo>
                      <a:lnTo>
                        <a:pt x="-5594" y="2977"/>
                      </a:lnTo>
                      <a:lnTo>
                        <a:pt x="-3885" y="6159"/>
                      </a:lnTo>
                      <a:lnTo>
                        <a:pt x="-3248" y="10045"/>
                      </a:lnTo>
                      <a:lnTo>
                        <a:pt x="-3248" y="-13694"/>
                      </a:lnTo>
                      <a:lnTo>
                        <a:pt x="-3885" y="-9808"/>
                      </a:lnTo>
                      <a:lnTo>
                        <a:pt x="-5594" y="-6666"/>
                      </a:lnTo>
                      <a:lnTo>
                        <a:pt x="-8176" y="-4515"/>
                      </a:lnTo>
                      <a:lnTo>
                        <a:pt x="-11361" y="-3689"/>
                      </a:lnTo>
                      <a:lnTo>
                        <a:pt x="8113" y="-3689"/>
                      </a:lnTo>
                      <a:lnTo>
                        <a:pt x="4962" y="-4515"/>
                      </a:lnTo>
                      <a:lnTo>
                        <a:pt x="2380" y="-6666"/>
                      </a:lnTo>
                      <a:lnTo>
                        <a:pt x="638" y="-9808"/>
                      </a:lnTo>
                      <a:lnTo>
                        <a:pt x="0" y="-13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8" name="Freeform: Shape 44"/>
                <p:cNvSpPr/>
                <p:nvPr/>
              </p:nvSpPr>
              <p:spPr>
                <a:xfrm rot="19440600">
                  <a:off x="9030960" y="163404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70"/>
                      </a:moveTo>
                      <a:lnTo>
                        <a:pt x="0" y="9964"/>
                      </a:lnTo>
                      <a:lnTo>
                        <a:pt x="638" y="6078"/>
                      </a:lnTo>
                      <a:lnTo>
                        <a:pt x="2380" y="2936"/>
                      </a:lnTo>
                      <a:lnTo>
                        <a:pt x="4962" y="78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86"/>
                      </a:lnTo>
                      <a:lnTo>
                        <a:pt x="-5594" y="2936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70"/>
                      </a:lnTo>
                      <a:lnTo>
                        <a:pt x="-3885" y="-9884"/>
                      </a:lnTo>
                      <a:lnTo>
                        <a:pt x="-5594" y="-6658"/>
                      </a:lnTo>
                      <a:lnTo>
                        <a:pt x="-8176" y="-4508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62" y="-4508"/>
                      </a:lnTo>
                      <a:lnTo>
                        <a:pt x="2380" y="-6658"/>
                      </a:lnTo>
                      <a:lnTo>
                        <a:pt x="638" y="-9884"/>
                      </a:lnTo>
                      <a:lnTo>
                        <a:pt x="0" y="-137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Freeform: Shape 45"/>
                <p:cNvSpPr/>
                <p:nvPr/>
              </p:nvSpPr>
              <p:spPr>
                <a:xfrm rot="19440600">
                  <a:off x="8923680" y="139644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8" h="61773">
                      <a:moveTo>
                        <a:pt x="0" y="9964"/>
                      </a:moveTo>
                      <a:lnTo>
                        <a:pt x="669" y="6078"/>
                      </a:lnTo>
                      <a:lnTo>
                        <a:pt x="2413" y="2935"/>
                      </a:lnTo>
                      <a:lnTo>
                        <a:pt x="4960" y="785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785"/>
                      </a:lnTo>
                      <a:lnTo>
                        <a:pt x="-5629" y="2935"/>
                      </a:lnTo>
                      <a:lnTo>
                        <a:pt x="-3885" y="6078"/>
                      </a:lnTo>
                      <a:lnTo>
                        <a:pt x="-3249" y="9964"/>
                      </a:lnTo>
                      <a:lnTo>
                        <a:pt x="-3249" y="-13769"/>
                      </a:lnTo>
                      <a:lnTo>
                        <a:pt x="-3885" y="-9883"/>
                      </a:lnTo>
                      <a:lnTo>
                        <a:pt x="-5629" y="-6699"/>
                      </a:lnTo>
                      <a:lnTo>
                        <a:pt x="-8177" y="-4509"/>
                      </a:lnTo>
                      <a:lnTo>
                        <a:pt x="-11362" y="-3764"/>
                      </a:lnTo>
                      <a:lnTo>
                        <a:pt x="8111" y="-3764"/>
                      </a:lnTo>
                      <a:lnTo>
                        <a:pt x="4960" y="-4509"/>
                      </a:lnTo>
                      <a:lnTo>
                        <a:pt x="2413" y="-6699"/>
                      </a:lnTo>
                      <a:lnTo>
                        <a:pt x="669" y="-9883"/>
                      </a:lnTo>
                      <a:lnTo>
                        <a:pt x="0" y="-13769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Freeform: Shape 46"/>
                <p:cNvSpPr/>
                <p:nvPr/>
              </p:nvSpPr>
              <p:spPr>
                <a:xfrm rot="19440600">
                  <a:off x="8952480" y="143892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8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69" y="6160"/>
                      </a:lnTo>
                      <a:lnTo>
                        <a:pt x="2413" y="2935"/>
                      </a:lnTo>
                      <a:lnTo>
                        <a:pt x="4960" y="784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784"/>
                      </a:lnTo>
                      <a:lnTo>
                        <a:pt x="-5629" y="2935"/>
                      </a:lnTo>
                      <a:lnTo>
                        <a:pt x="-3885" y="6160"/>
                      </a:lnTo>
                      <a:lnTo>
                        <a:pt x="-3249" y="10005"/>
                      </a:lnTo>
                      <a:lnTo>
                        <a:pt x="-3249" y="-13731"/>
                      </a:lnTo>
                      <a:lnTo>
                        <a:pt x="-3885" y="-9803"/>
                      </a:lnTo>
                      <a:lnTo>
                        <a:pt x="-5629" y="-6660"/>
                      </a:lnTo>
                      <a:lnTo>
                        <a:pt x="-8177" y="-4510"/>
                      </a:lnTo>
                      <a:lnTo>
                        <a:pt x="-11362" y="-3726"/>
                      </a:lnTo>
                      <a:lnTo>
                        <a:pt x="8111" y="-3726"/>
                      </a:lnTo>
                      <a:lnTo>
                        <a:pt x="4960" y="-4510"/>
                      </a:lnTo>
                      <a:lnTo>
                        <a:pt x="2413" y="-6660"/>
                      </a:lnTo>
                      <a:lnTo>
                        <a:pt x="669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Freeform: Shape 47"/>
                <p:cNvSpPr/>
                <p:nvPr/>
              </p:nvSpPr>
              <p:spPr>
                <a:xfrm rot="19440600">
                  <a:off x="8982360" y="147744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8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69" y="6120"/>
                      </a:lnTo>
                      <a:lnTo>
                        <a:pt x="2413" y="2895"/>
                      </a:lnTo>
                      <a:lnTo>
                        <a:pt x="4960" y="744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744"/>
                      </a:lnTo>
                      <a:lnTo>
                        <a:pt x="-5629" y="2895"/>
                      </a:lnTo>
                      <a:lnTo>
                        <a:pt x="-3885" y="6120"/>
                      </a:lnTo>
                      <a:lnTo>
                        <a:pt x="-3249" y="10007"/>
                      </a:lnTo>
                      <a:lnTo>
                        <a:pt x="-3249" y="-13727"/>
                      </a:lnTo>
                      <a:lnTo>
                        <a:pt x="-3885" y="-9841"/>
                      </a:lnTo>
                      <a:lnTo>
                        <a:pt x="-5629" y="-6657"/>
                      </a:lnTo>
                      <a:lnTo>
                        <a:pt x="-8177" y="-4507"/>
                      </a:lnTo>
                      <a:lnTo>
                        <a:pt x="-11362" y="-3763"/>
                      </a:lnTo>
                      <a:lnTo>
                        <a:pt x="8111" y="-3763"/>
                      </a:lnTo>
                      <a:lnTo>
                        <a:pt x="4960" y="-4507"/>
                      </a:lnTo>
                      <a:lnTo>
                        <a:pt x="2413" y="-6657"/>
                      </a:lnTo>
                      <a:lnTo>
                        <a:pt x="669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Freeform: Shape 48"/>
                <p:cNvSpPr/>
                <p:nvPr/>
              </p:nvSpPr>
              <p:spPr>
                <a:xfrm rot="19440600">
                  <a:off x="9015840" y="151740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8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69" y="6119"/>
                      </a:lnTo>
                      <a:lnTo>
                        <a:pt x="2413" y="2935"/>
                      </a:lnTo>
                      <a:lnTo>
                        <a:pt x="4960" y="827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827"/>
                      </a:lnTo>
                      <a:lnTo>
                        <a:pt x="-5629" y="2935"/>
                      </a:lnTo>
                      <a:lnTo>
                        <a:pt x="-3885" y="6119"/>
                      </a:lnTo>
                      <a:lnTo>
                        <a:pt x="-3249" y="10006"/>
                      </a:lnTo>
                      <a:lnTo>
                        <a:pt x="-3249" y="-13693"/>
                      </a:lnTo>
                      <a:lnTo>
                        <a:pt x="-3885" y="-9847"/>
                      </a:lnTo>
                      <a:lnTo>
                        <a:pt x="-5629" y="-6665"/>
                      </a:lnTo>
                      <a:lnTo>
                        <a:pt x="-8177" y="-4515"/>
                      </a:lnTo>
                      <a:lnTo>
                        <a:pt x="-11362" y="-3688"/>
                      </a:lnTo>
                      <a:lnTo>
                        <a:pt x="8111" y="-3688"/>
                      </a:lnTo>
                      <a:lnTo>
                        <a:pt x="4960" y="-4515"/>
                      </a:lnTo>
                      <a:lnTo>
                        <a:pt x="2413" y="-6665"/>
                      </a:lnTo>
                      <a:lnTo>
                        <a:pt x="669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3" name="Freeform: Shape 49"/>
                <p:cNvSpPr/>
                <p:nvPr/>
              </p:nvSpPr>
              <p:spPr>
                <a:xfrm rot="19440600">
                  <a:off x="9046080" y="1548720"/>
                  <a:ext cx="38880" cy="8244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62288" h="158179">
                      <a:moveTo>
                        <a:pt x="0" y="9964"/>
                      </a:moveTo>
                      <a:lnTo>
                        <a:pt x="669" y="6078"/>
                      </a:lnTo>
                      <a:lnTo>
                        <a:pt x="2413" y="2894"/>
                      </a:lnTo>
                      <a:lnTo>
                        <a:pt x="4960" y="744"/>
                      </a:lnTo>
                      <a:lnTo>
                        <a:pt x="8111" y="0"/>
                      </a:lnTo>
                      <a:lnTo>
                        <a:pt x="54174" y="0"/>
                      </a:lnTo>
                      <a:lnTo>
                        <a:pt x="57359" y="786"/>
                      </a:lnTo>
                      <a:lnTo>
                        <a:pt x="59907" y="2894"/>
                      </a:lnTo>
                      <a:lnTo>
                        <a:pt x="61651" y="6078"/>
                      </a:lnTo>
                      <a:lnTo>
                        <a:pt x="62287" y="9964"/>
                      </a:lnTo>
                      <a:lnTo>
                        <a:pt x="62287" y="148173"/>
                      </a:lnTo>
                      <a:lnTo>
                        <a:pt x="61651" y="152059"/>
                      </a:lnTo>
                      <a:lnTo>
                        <a:pt x="59907" y="155285"/>
                      </a:lnTo>
                      <a:lnTo>
                        <a:pt x="57359" y="157434"/>
                      </a:lnTo>
                      <a:lnTo>
                        <a:pt x="54174" y="158178"/>
                      </a:lnTo>
                      <a:lnTo>
                        <a:pt x="8111" y="158178"/>
                      </a:lnTo>
                      <a:lnTo>
                        <a:pt x="4960" y="157434"/>
                      </a:lnTo>
                      <a:lnTo>
                        <a:pt x="2413" y="155285"/>
                      </a:lnTo>
                      <a:lnTo>
                        <a:pt x="669" y="152059"/>
                      </a:lnTo>
                      <a:lnTo>
                        <a:pt x="0" y="148173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4" name="Freeform: Shape 50"/>
                <p:cNvSpPr/>
                <p:nvPr/>
              </p:nvSpPr>
              <p:spPr>
                <a:xfrm rot="19440600">
                  <a:off x="8914320" y="1381680"/>
                  <a:ext cx="12240" cy="126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0447" h="24563">
                      <a:moveTo>
                        <a:pt x="333" y="9427"/>
                      </a:moveTo>
                      <a:lnTo>
                        <a:pt x="1138" y="6657"/>
                      </a:lnTo>
                      <a:lnTo>
                        <a:pt x="2279" y="4465"/>
                      </a:lnTo>
                      <a:lnTo>
                        <a:pt x="3719" y="2770"/>
                      </a:lnTo>
                      <a:lnTo>
                        <a:pt x="5295" y="1530"/>
                      </a:lnTo>
                      <a:lnTo>
                        <a:pt x="6971" y="662"/>
                      </a:lnTo>
                      <a:lnTo>
                        <a:pt x="10323" y="0"/>
                      </a:lnTo>
                      <a:lnTo>
                        <a:pt x="13005" y="414"/>
                      </a:lnTo>
                      <a:lnTo>
                        <a:pt x="15251" y="1530"/>
                      </a:lnTo>
                      <a:lnTo>
                        <a:pt x="17060" y="3101"/>
                      </a:lnTo>
                      <a:lnTo>
                        <a:pt x="18501" y="5127"/>
                      </a:lnTo>
                      <a:lnTo>
                        <a:pt x="20146" y="9469"/>
                      </a:lnTo>
                      <a:lnTo>
                        <a:pt x="20446" y="11454"/>
                      </a:lnTo>
                      <a:lnTo>
                        <a:pt x="20446" y="13232"/>
                      </a:lnTo>
                      <a:lnTo>
                        <a:pt x="19843" y="16706"/>
                      </a:lnTo>
                      <a:lnTo>
                        <a:pt x="18201" y="20427"/>
                      </a:lnTo>
                      <a:lnTo>
                        <a:pt x="16826" y="22080"/>
                      </a:lnTo>
                      <a:lnTo>
                        <a:pt x="15050" y="23362"/>
                      </a:lnTo>
                      <a:lnTo>
                        <a:pt x="12770" y="24272"/>
                      </a:lnTo>
                      <a:lnTo>
                        <a:pt x="9955" y="24562"/>
                      </a:lnTo>
                      <a:lnTo>
                        <a:pt x="7407" y="24190"/>
                      </a:lnTo>
                      <a:lnTo>
                        <a:pt x="5328" y="23238"/>
                      </a:lnTo>
                      <a:lnTo>
                        <a:pt x="3619" y="21832"/>
                      </a:lnTo>
                      <a:lnTo>
                        <a:pt x="2244" y="20054"/>
                      </a:lnTo>
                      <a:lnTo>
                        <a:pt x="535" y="16167"/>
                      </a:lnTo>
                      <a:lnTo>
                        <a:pt x="133" y="14307"/>
                      </a:lnTo>
                      <a:lnTo>
                        <a:pt x="0" y="12735"/>
                      </a:lnTo>
                      <a:lnTo>
                        <a:pt x="3754" y="12735"/>
                      </a:lnTo>
                      <a:lnTo>
                        <a:pt x="3988" y="10461"/>
                      </a:lnTo>
                      <a:lnTo>
                        <a:pt x="4557" y="8600"/>
                      </a:lnTo>
                      <a:lnTo>
                        <a:pt x="5363" y="7112"/>
                      </a:lnTo>
                      <a:lnTo>
                        <a:pt x="6334" y="5996"/>
                      </a:lnTo>
                      <a:lnTo>
                        <a:pt x="8446" y="4672"/>
                      </a:lnTo>
                      <a:lnTo>
                        <a:pt x="10323" y="4259"/>
                      </a:lnTo>
                      <a:lnTo>
                        <a:pt x="12703" y="4962"/>
                      </a:lnTo>
                      <a:lnTo>
                        <a:pt x="14782" y="6822"/>
                      </a:lnTo>
                      <a:lnTo>
                        <a:pt x="16189" y="9386"/>
                      </a:lnTo>
                      <a:lnTo>
                        <a:pt x="16692" y="12198"/>
                      </a:lnTo>
                      <a:lnTo>
                        <a:pt x="16223" y="15258"/>
                      </a:lnTo>
                      <a:lnTo>
                        <a:pt x="14848" y="17739"/>
                      </a:lnTo>
                      <a:lnTo>
                        <a:pt x="12737" y="19475"/>
                      </a:lnTo>
                      <a:lnTo>
                        <a:pt x="9955" y="20095"/>
                      </a:lnTo>
                      <a:lnTo>
                        <a:pt x="8313" y="19723"/>
                      </a:lnTo>
                      <a:lnTo>
                        <a:pt x="6367" y="18524"/>
                      </a:lnTo>
                      <a:lnTo>
                        <a:pt x="4625" y="16209"/>
                      </a:lnTo>
                      <a:lnTo>
                        <a:pt x="4056" y="14596"/>
                      </a:lnTo>
                      <a:lnTo>
                        <a:pt x="333" y="94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5" name="Freeform: Shape 51"/>
                <p:cNvSpPr/>
                <p:nvPr/>
              </p:nvSpPr>
              <p:spPr>
                <a:xfrm rot="19440600">
                  <a:off x="8926560" y="137880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5660" h="24101">
                      <a:moveTo>
                        <a:pt x="3890" y="0"/>
                      </a:moveTo>
                      <a:lnTo>
                        <a:pt x="12139" y="17733"/>
                      </a:lnTo>
                      <a:lnTo>
                        <a:pt x="12139" y="0"/>
                      </a:lnTo>
                      <a:lnTo>
                        <a:pt x="15659" y="0"/>
                      </a:lnTo>
                      <a:lnTo>
                        <a:pt x="15659" y="24100"/>
                      </a:lnTo>
                      <a:lnTo>
                        <a:pt x="11769" y="24100"/>
                      </a:lnTo>
                      <a:lnTo>
                        <a:pt x="3723" y="6862"/>
                      </a:lnTo>
                      <a:lnTo>
                        <a:pt x="3723" y="24100"/>
                      </a:lnTo>
                      <a:lnTo>
                        <a:pt x="0" y="24100"/>
                      </a:lnTo>
                      <a:lnTo>
                        <a:pt x="0" y="0"/>
                      </a:lnTo>
                      <a:lnTo>
                        <a:pt x="38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Freeform: Shape 52"/>
                <p:cNvSpPr/>
                <p:nvPr/>
              </p:nvSpPr>
              <p:spPr>
                <a:xfrm rot="19440600">
                  <a:off x="8804880" y="1499760"/>
                  <a:ext cx="18720" cy="187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29163" h="34067">
                      <a:moveTo>
                        <a:pt x="8346" y="537"/>
                      </a:moveTo>
                      <a:lnTo>
                        <a:pt x="9788" y="1281"/>
                      </a:lnTo>
                      <a:lnTo>
                        <a:pt x="11765" y="3472"/>
                      </a:lnTo>
                      <a:lnTo>
                        <a:pt x="12770" y="5705"/>
                      </a:lnTo>
                      <a:lnTo>
                        <a:pt x="13006" y="7318"/>
                      </a:lnTo>
                      <a:lnTo>
                        <a:pt x="12905" y="10170"/>
                      </a:lnTo>
                      <a:lnTo>
                        <a:pt x="11765" y="13022"/>
                      </a:lnTo>
                      <a:lnTo>
                        <a:pt x="9620" y="15338"/>
                      </a:lnTo>
                      <a:lnTo>
                        <a:pt x="8212" y="16041"/>
                      </a:lnTo>
                      <a:lnTo>
                        <a:pt x="6537" y="16371"/>
                      </a:lnTo>
                      <a:lnTo>
                        <a:pt x="4155" y="15917"/>
                      </a:lnTo>
                      <a:lnTo>
                        <a:pt x="2044" y="14511"/>
                      </a:lnTo>
                      <a:lnTo>
                        <a:pt x="569" y="12031"/>
                      </a:lnTo>
                      <a:lnTo>
                        <a:pt x="100" y="10377"/>
                      </a:lnTo>
                      <a:lnTo>
                        <a:pt x="0" y="8434"/>
                      </a:lnTo>
                      <a:lnTo>
                        <a:pt x="235" y="6242"/>
                      </a:lnTo>
                      <a:lnTo>
                        <a:pt x="1239" y="3555"/>
                      </a:lnTo>
                      <a:lnTo>
                        <a:pt x="2111" y="2273"/>
                      </a:lnTo>
                      <a:lnTo>
                        <a:pt x="3217" y="1239"/>
                      </a:lnTo>
                      <a:lnTo>
                        <a:pt x="4693" y="413"/>
                      </a:lnTo>
                      <a:lnTo>
                        <a:pt x="6537" y="0"/>
                      </a:lnTo>
                      <a:lnTo>
                        <a:pt x="18067" y="785"/>
                      </a:lnTo>
                      <a:lnTo>
                        <a:pt x="21754" y="785"/>
                      </a:lnTo>
                      <a:lnTo>
                        <a:pt x="10726" y="-32089"/>
                      </a:lnTo>
                      <a:lnTo>
                        <a:pt x="7307" y="-32089"/>
                      </a:lnTo>
                      <a:lnTo>
                        <a:pt x="25140" y="19018"/>
                      </a:lnTo>
                      <a:lnTo>
                        <a:pt x="27051" y="20424"/>
                      </a:lnTo>
                      <a:lnTo>
                        <a:pt x="28326" y="22615"/>
                      </a:lnTo>
                      <a:lnTo>
                        <a:pt x="29162" y="25467"/>
                      </a:lnTo>
                      <a:lnTo>
                        <a:pt x="29162" y="28196"/>
                      </a:lnTo>
                      <a:lnTo>
                        <a:pt x="28124" y="30966"/>
                      </a:lnTo>
                      <a:lnTo>
                        <a:pt x="26112" y="-32503"/>
                      </a:lnTo>
                      <a:lnTo>
                        <a:pt x="24873" y="-31800"/>
                      </a:lnTo>
                      <a:lnTo>
                        <a:pt x="23431" y="-31470"/>
                      </a:lnTo>
                      <a:lnTo>
                        <a:pt x="21017" y="-31800"/>
                      </a:lnTo>
                      <a:lnTo>
                        <a:pt x="18671" y="32372"/>
                      </a:lnTo>
                      <a:lnTo>
                        <a:pt x="17698" y="31214"/>
                      </a:lnTo>
                      <a:lnTo>
                        <a:pt x="16928" y="29808"/>
                      </a:lnTo>
                      <a:lnTo>
                        <a:pt x="16492" y="28155"/>
                      </a:lnTo>
                      <a:lnTo>
                        <a:pt x="16391" y="26171"/>
                      </a:lnTo>
                      <a:lnTo>
                        <a:pt x="16424" y="25550"/>
                      </a:lnTo>
                      <a:lnTo>
                        <a:pt x="16627" y="24516"/>
                      </a:lnTo>
                      <a:lnTo>
                        <a:pt x="17598" y="21953"/>
                      </a:lnTo>
                      <a:lnTo>
                        <a:pt x="18436" y="20672"/>
                      </a:lnTo>
                      <a:lnTo>
                        <a:pt x="19510" y="19555"/>
                      </a:lnTo>
                      <a:lnTo>
                        <a:pt x="20884" y="18811"/>
                      </a:lnTo>
                      <a:lnTo>
                        <a:pt x="22593" y="18522"/>
                      </a:lnTo>
                      <a:lnTo>
                        <a:pt x="3921" y="7648"/>
                      </a:lnTo>
                      <a:lnTo>
                        <a:pt x="4492" y="6408"/>
                      </a:lnTo>
                      <a:lnTo>
                        <a:pt x="5162" y="5622"/>
                      </a:lnTo>
                      <a:lnTo>
                        <a:pt x="6804" y="5375"/>
                      </a:lnTo>
                      <a:lnTo>
                        <a:pt x="8178" y="6201"/>
                      </a:lnTo>
                      <a:lnTo>
                        <a:pt x="8781" y="7648"/>
                      </a:lnTo>
                      <a:lnTo>
                        <a:pt x="8614" y="9136"/>
                      </a:lnTo>
                      <a:lnTo>
                        <a:pt x="8178" y="10212"/>
                      </a:lnTo>
                      <a:lnTo>
                        <a:pt x="7442" y="10914"/>
                      </a:lnTo>
                      <a:lnTo>
                        <a:pt x="6537" y="11162"/>
                      </a:lnTo>
                      <a:lnTo>
                        <a:pt x="5665" y="10997"/>
                      </a:lnTo>
                      <a:lnTo>
                        <a:pt x="4893" y="10460"/>
                      </a:lnTo>
                      <a:lnTo>
                        <a:pt x="4290" y="9426"/>
                      </a:lnTo>
                      <a:lnTo>
                        <a:pt x="23163" y="23814"/>
                      </a:lnTo>
                      <a:lnTo>
                        <a:pt x="24202" y="24186"/>
                      </a:lnTo>
                      <a:lnTo>
                        <a:pt x="24838" y="25053"/>
                      </a:lnTo>
                      <a:lnTo>
                        <a:pt x="25106" y="26129"/>
                      </a:lnTo>
                      <a:lnTo>
                        <a:pt x="25208" y="26873"/>
                      </a:lnTo>
                      <a:lnTo>
                        <a:pt x="24838" y="28072"/>
                      </a:lnTo>
                      <a:lnTo>
                        <a:pt x="24167" y="28816"/>
                      </a:lnTo>
                      <a:lnTo>
                        <a:pt x="22593" y="29064"/>
                      </a:lnTo>
                      <a:lnTo>
                        <a:pt x="21151" y="28320"/>
                      </a:lnTo>
                      <a:lnTo>
                        <a:pt x="20648" y="26873"/>
                      </a:lnTo>
                      <a:lnTo>
                        <a:pt x="20648" y="25425"/>
                      </a:lnTo>
                      <a:lnTo>
                        <a:pt x="21252" y="24268"/>
                      </a:lnTo>
                      <a:lnTo>
                        <a:pt x="22190" y="23648"/>
                      </a:lnTo>
                      <a:lnTo>
                        <a:pt x="8346" y="5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" name="Freeform: Shape 53"/>
                <p:cNvSpPr/>
                <p:nvPr/>
              </p:nvSpPr>
              <p:spPr>
                <a:xfrm rot="19440600">
                  <a:off x="8865000" y="1579320"/>
                  <a:ext cx="12240" cy="1584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5589" h="32710">
                      <a:moveTo>
                        <a:pt x="15588" y="0"/>
                      </a:moveTo>
                      <a:lnTo>
                        <a:pt x="15588" y="6244"/>
                      </a:lnTo>
                      <a:lnTo>
                        <a:pt x="6235" y="32709"/>
                      </a:lnTo>
                      <a:lnTo>
                        <a:pt x="1174" y="32709"/>
                      </a:lnTo>
                      <a:lnTo>
                        <a:pt x="10727" y="5500"/>
                      </a:lnTo>
                      <a:lnTo>
                        <a:pt x="0" y="5500"/>
                      </a:lnTo>
                      <a:lnTo>
                        <a:pt x="0" y="0"/>
                      </a:lnTo>
                      <a:lnTo>
                        <a:pt x="1558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Freeform: Shape 54"/>
                <p:cNvSpPr/>
                <p:nvPr/>
              </p:nvSpPr>
              <p:spPr>
                <a:xfrm rot="19440600">
                  <a:off x="8890920" y="1622160"/>
                  <a:ext cx="23400" cy="1728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6107" h="33031">
                      <a:moveTo>
                        <a:pt x="-29430" y="25382"/>
                      </a:moveTo>
                      <a:lnTo>
                        <a:pt x="15991" y="0"/>
                      </a:lnTo>
                      <a:lnTo>
                        <a:pt x="15991" y="22282"/>
                      </a:lnTo>
                      <a:lnTo>
                        <a:pt x="18807" y="22282"/>
                      </a:lnTo>
                      <a:lnTo>
                        <a:pt x="18807" y="27863"/>
                      </a:lnTo>
                      <a:lnTo>
                        <a:pt x="15991" y="27863"/>
                      </a:lnTo>
                      <a:lnTo>
                        <a:pt x="15991" y="-32506"/>
                      </a:lnTo>
                      <a:lnTo>
                        <a:pt x="11230" y="-32506"/>
                      </a:lnTo>
                      <a:lnTo>
                        <a:pt x="11230" y="27863"/>
                      </a:lnTo>
                      <a:lnTo>
                        <a:pt x="0" y="27863"/>
                      </a:lnTo>
                      <a:lnTo>
                        <a:pt x="0" y="22282"/>
                      </a:lnTo>
                      <a:lnTo>
                        <a:pt x="11767" y="0"/>
                      </a:lnTo>
                      <a:lnTo>
                        <a:pt x="11230" y="10376"/>
                      </a:lnTo>
                      <a:lnTo>
                        <a:pt x="11230" y="22282"/>
                      </a:lnTo>
                      <a:lnTo>
                        <a:pt x="4995" y="22282"/>
                      </a:lnTo>
                      <a:lnTo>
                        <a:pt x="-29430" y="253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Freeform: Shape 55"/>
                <p:cNvSpPr/>
                <p:nvPr/>
              </p:nvSpPr>
              <p:spPr>
                <a:xfrm rot="19440600">
                  <a:off x="8928720" y="166320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8214" h="33031">
                      <a:moveTo>
                        <a:pt x="8213" y="0"/>
                      </a:moveTo>
                      <a:lnTo>
                        <a:pt x="8213" y="-32506"/>
                      </a:lnTo>
                      <a:lnTo>
                        <a:pt x="3687" y="-32506"/>
                      </a:lnTo>
                      <a:lnTo>
                        <a:pt x="3687" y="5829"/>
                      </a:lnTo>
                      <a:lnTo>
                        <a:pt x="0" y="5829"/>
                      </a:lnTo>
                      <a:lnTo>
                        <a:pt x="0" y="0"/>
                      </a:lnTo>
                      <a:lnTo>
                        <a:pt x="82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" name="Freeform: Shape 56"/>
                <p:cNvSpPr/>
                <p:nvPr/>
              </p:nvSpPr>
              <p:spPr>
                <a:xfrm rot="19440600">
                  <a:off x="8960400" y="1707840"/>
                  <a:ext cx="9360" cy="17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801" h="34733">
                      <a:moveTo>
                        <a:pt x="168" y="8146"/>
                      </a:moveTo>
                      <a:lnTo>
                        <a:pt x="671" y="6036"/>
                      </a:lnTo>
                      <a:lnTo>
                        <a:pt x="1440" y="4258"/>
                      </a:lnTo>
                      <a:lnTo>
                        <a:pt x="2481" y="2729"/>
                      </a:lnTo>
                      <a:lnTo>
                        <a:pt x="3787" y="1529"/>
                      </a:lnTo>
                      <a:lnTo>
                        <a:pt x="5262" y="702"/>
                      </a:lnTo>
                      <a:lnTo>
                        <a:pt x="6938" y="207"/>
                      </a:lnTo>
                      <a:lnTo>
                        <a:pt x="8816" y="0"/>
                      </a:lnTo>
                      <a:lnTo>
                        <a:pt x="10793" y="123"/>
                      </a:lnTo>
                      <a:lnTo>
                        <a:pt x="12602" y="744"/>
                      </a:lnTo>
                      <a:lnTo>
                        <a:pt x="14213" y="1778"/>
                      </a:lnTo>
                      <a:lnTo>
                        <a:pt x="15520" y="3142"/>
                      </a:lnTo>
                      <a:lnTo>
                        <a:pt x="16559" y="4796"/>
                      </a:lnTo>
                      <a:lnTo>
                        <a:pt x="17329" y="6574"/>
                      </a:lnTo>
                      <a:lnTo>
                        <a:pt x="17800" y="10502"/>
                      </a:lnTo>
                      <a:lnTo>
                        <a:pt x="17800" y="22988"/>
                      </a:lnTo>
                      <a:lnTo>
                        <a:pt x="17364" y="27288"/>
                      </a:lnTo>
                      <a:lnTo>
                        <a:pt x="16760" y="29233"/>
                      </a:lnTo>
                      <a:lnTo>
                        <a:pt x="15888" y="30969"/>
                      </a:lnTo>
                      <a:lnTo>
                        <a:pt x="14681" y="32415"/>
                      </a:lnTo>
                      <a:lnTo>
                        <a:pt x="13173" y="-31962"/>
                      </a:lnTo>
                      <a:lnTo>
                        <a:pt x="11295" y="-31176"/>
                      </a:lnTo>
                      <a:lnTo>
                        <a:pt x="9083" y="-30804"/>
                      </a:lnTo>
                      <a:lnTo>
                        <a:pt x="5766" y="-31466"/>
                      </a:lnTo>
                      <a:lnTo>
                        <a:pt x="4225" y="-32252"/>
                      </a:lnTo>
                      <a:lnTo>
                        <a:pt x="2849" y="32085"/>
                      </a:lnTo>
                      <a:lnTo>
                        <a:pt x="1675" y="30597"/>
                      </a:lnTo>
                      <a:lnTo>
                        <a:pt x="771" y="28694"/>
                      </a:lnTo>
                      <a:lnTo>
                        <a:pt x="201" y="26379"/>
                      </a:lnTo>
                      <a:lnTo>
                        <a:pt x="0" y="23732"/>
                      </a:lnTo>
                      <a:lnTo>
                        <a:pt x="0" y="10502"/>
                      </a:lnTo>
                      <a:lnTo>
                        <a:pt x="4826" y="12114"/>
                      </a:lnTo>
                      <a:lnTo>
                        <a:pt x="5027" y="9882"/>
                      </a:lnTo>
                      <a:lnTo>
                        <a:pt x="5632" y="7897"/>
                      </a:lnTo>
                      <a:lnTo>
                        <a:pt x="6838" y="6491"/>
                      </a:lnTo>
                      <a:lnTo>
                        <a:pt x="8816" y="5954"/>
                      </a:lnTo>
                      <a:lnTo>
                        <a:pt x="10827" y="6450"/>
                      </a:lnTo>
                      <a:lnTo>
                        <a:pt x="12033" y="7732"/>
                      </a:lnTo>
                      <a:lnTo>
                        <a:pt x="12602" y="9592"/>
                      </a:lnTo>
                      <a:lnTo>
                        <a:pt x="12771" y="11784"/>
                      </a:lnTo>
                      <a:lnTo>
                        <a:pt x="12771" y="22286"/>
                      </a:lnTo>
                      <a:lnTo>
                        <a:pt x="12602" y="24891"/>
                      </a:lnTo>
                      <a:lnTo>
                        <a:pt x="12033" y="26876"/>
                      </a:lnTo>
                      <a:lnTo>
                        <a:pt x="10827" y="28199"/>
                      </a:lnTo>
                      <a:lnTo>
                        <a:pt x="8816" y="28654"/>
                      </a:lnTo>
                      <a:lnTo>
                        <a:pt x="7341" y="28282"/>
                      </a:lnTo>
                      <a:lnTo>
                        <a:pt x="6034" y="27165"/>
                      </a:lnTo>
                      <a:lnTo>
                        <a:pt x="5162" y="25345"/>
                      </a:lnTo>
                      <a:lnTo>
                        <a:pt x="4826" y="22616"/>
                      </a:lnTo>
                      <a:lnTo>
                        <a:pt x="168" y="81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" name="Freeform: Shape 57"/>
                <p:cNvSpPr/>
                <p:nvPr/>
              </p:nvSpPr>
              <p:spPr>
                <a:xfrm rot="19440600">
                  <a:off x="8986680" y="1671840"/>
                  <a:ext cx="6120" cy="61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8682" h="10175">
                      <a:moveTo>
                        <a:pt x="0" y="0"/>
                      </a:moveTo>
                      <a:lnTo>
                        <a:pt x="8681" y="0"/>
                      </a:lnTo>
                      <a:lnTo>
                        <a:pt x="8681" y="10174"/>
                      </a:lnTo>
                      <a:lnTo>
                        <a:pt x="0" y="101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Freeform: Shape 58"/>
                <p:cNvSpPr/>
                <p:nvPr/>
              </p:nvSpPr>
              <p:spPr>
                <a:xfrm rot="19440600">
                  <a:off x="9033840" y="1642320"/>
                  <a:ext cx="15480" cy="1080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26076" h="20173">
                      <a:moveTo>
                        <a:pt x="26075" y="0"/>
                      </a:moveTo>
                      <a:lnTo>
                        <a:pt x="26075" y="7564"/>
                      </a:lnTo>
                      <a:lnTo>
                        <a:pt x="0" y="7564"/>
                      </a:lnTo>
                      <a:lnTo>
                        <a:pt x="0" y="0"/>
                      </a:lnTo>
                      <a:lnTo>
                        <a:pt x="26075" y="12608"/>
                      </a:lnTo>
                      <a:lnTo>
                        <a:pt x="26075" y="20172"/>
                      </a:lnTo>
                      <a:lnTo>
                        <a:pt x="0" y="20172"/>
                      </a:lnTo>
                      <a:lnTo>
                        <a:pt x="0" y="12608"/>
                      </a:lnTo>
                      <a:lnTo>
                        <a:pt x="260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3" name="Freeform: Shape 59"/>
                <p:cNvSpPr/>
                <p:nvPr/>
              </p:nvSpPr>
              <p:spPr>
                <a:xfrm rot="19440600">
                  <a:off x="9069480" y="1587240"/>
                  <a:ext cx="15480" cy="172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6044" h="33160">
                      <a:moveTo>
                        <a:pt x="16289" y="0"/>
                      </a:moveTo>
                      <a:lnTo>
                        <a:pt x="16289" y="12569"/>
                      </a:lnTo>
                      <a:lnTo>
                        <a:pt x="26043" y="12569"/>
                      </a:lnTo>
                      <a:lnTo>
                        <a:pt x="26043" y="20094"/>
                      </a:lnTo>
                      <a:lnTo>
                        <a:pt x="16289" y="20094"/>
                      </a:lnTo>
                      <a:lnTo>
                        <a:pt x="16289" y="-32377"/>
                      </a:lnTo>
                      <a:lnTo>
                        <a:pt x="10155" y="-32377"/>
                      </a:lnTo>
                      <a:lnTo>
                        <a:pt x="10155" y="20094"/>
                      </a:lnTo>
                      <a:lnTo>
                        <a:pt x="0" y="20094"/>
                      </a:lnTo>
                      <a:lnTo>
                        <a:pt x="0" y="12569"/>
                      </a:lnTo>
                      <a:lnTo>
                        <a:pt x="10155" y="12569"/>
                      </a:lnTo>
                      <a:lnTo>
                        <a:pt x="10155" y="0"/>
                      </a:lnTo>
                      <a:lnTo>
                        <a:pt x="162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4" name="Freeform: Shape 60"/>
                <p:cNvSpPr/>
                <p:nvPr/>
              </p:nvSpPr>
              <p:spPr>
                <a:xfrm rot="19440600">
                  <a:off x="9025200" y="1533240"/>
                  <a:ext cx="10800" cy="28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9075" h="7200">
                      <a:moveTo>
                        <a:pt x="0" y="0"/>
                      </a:moveTo>
                      <a:lnTo>
                        <a:pt x="19074" y="0"/>
                      </a:lnTo>
                      <a:lnTo>
                        <a:pt x="19074" y="7199"/>
                      </a:lnTo>
                      <a:lnTo>
                        <a:pt x="0" y="71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Freeform: Shape 61"/>
                <p:cNvSpPr/>
                <p:nvPr/>
              </p:nvSpPr>
              <p:spPr>
                <a:xfrm rot="19440600">
                  <a:off x="8996400" y="1488240"/>
                  <a:ext cx="18720" cy="1404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29063" h="26012">
                      <a:moveTo>
                        <a:pt x="14279" y="6740"/>
                      </a:moveTo>
                      <a:lnTo>
                        <a:pt x="18771" y="0"/>
                      </a:lnTo>
                      <a:lnTo>
                        <a:pt x="27049" y="0"/>
                      </a:lnTo>
                      <a:lnTo>
                        <a:pt x="18368" y="12406"/>
                      </a:lnTo>
                      <a:lnTo>
                        <a:pt x="29062" y="26011"/>
                      </a:lnTo>
                      <a:lnTo>
                        <a:pt x="20011" y="26011"/>
                      </a:lnTo>
                      <a:lnTo>
                        <a:pt x="14279" y="17369"/>
                      </a:lnTo>
                      <a:lnTo>
                        <a:pt x="8514" y="26011"/>
                      </a:lnTo>
                      <a:lnTo>
                        <a:pt x="0" y="26011"/>
                      </a:lnTo>
                      <a:lnTo>
                        <a:pt x="9720" y="12406"/>
                      </a:lnTo>
                      <a:lnTo>
                        <a:pt x="1073" y="0"/>
                      </a:lnTo>
                      <a:lnTo>
                        <a:pt x="9319" y="0"/>
                      </a:lnTo>
                      <a:lnTo>
                        <a:pt x="14279" y="67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" name="Freeform: Shape 62"/>
                <p:cNvSpPr/>
                <p:nvPr/>
              </p:nvSpPr>
              <p:spPr>
                <a:xfrm rot="19440600">
                  <a:off x="8956080" y="151812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809" h="33073">
                      <a:moveTo>
                        <a:pt x="0" y="12196"/>
                      </a:moveTo>
                      <a:lnTo>
                        <a:pt x="235" y="9591"/>
                      </a:lnTo>
                      <a:lnTo>
                        <a:pt x="771" y="7194"/>
                      </a:lnTo>
                      <a:lnTo>
                        <a:pt x="1609" y="5168"/>
                      </a:lnTo>
                      <a:lnTo>
                        <a:pt x="2682" y="3391"/>
                      </a:lnTo>
                      <a:lnTo>
                        <a:pt x="4056" y="1985"/>
                      </a:lnTo>
                      <a:lnTo>
                        <a:pt x="5666" y="910"/>
                      </a:lnTo>
                      <a:lnTo>
                        <a:pt x="7542" y="249"/>
                      </a:lnTo>
                      <a:lnTo>
                        <a:pt x="9621" y="0"/>
                      </a:lnTo>
                      <a:lnTo>
                        <a:pt x="11901" y="455"/>
                      </a:lnTo>
                      <a:lnTo>
                        <a:pt x="14148" y="1654"/>
                      </a:lnTo>
                      <a:lnTo>
                        <a:pt x="16160" y="3556"/>
                      </a:lnTo>
                      <a:lnTo>
                        <a:pt x="17701" y="6119"/>
                      </a:lnTo>
                      <a:lnTo>
                        <a:pt x="18674" y="9219"/>
                      </a:lnTo>
                      <a:lnTo>
                        <a:pt x="18808" y="12816"/>
                      </a:lnTo>
                      <a:lnTo>
                        <a:pt x="17935" y="16867"/>
                      </a:lnTo>
                      <a:lnTo>
                        <a:pt x="15857" y="21249"/>
                      </a:lnTo>
                      <a:lnTo>
                        <a:pt x="9052" y="-32464"/>
                      </a:lnTo>
                      <a:lnTo>
                        <a:pt x="3151" y="-32464"/>
                      </a:lnTo>
                      <a:lnTo>
                        <a:pt x="9052" y="22696"/>
                      </a:lnTo>
                      <a:lnTo>
                        <a:pt x="6941" y="22407"/>
                      </a:lnTo>
                      <a:lnTo>
                        <a:pt x="5062" y="21663"/>
                      </a:lnTo>
                      <a:lnTo>
                        <a:pt x="3488" y="20505"/>
                      </a:lnTo>
                      <a:lnTo>
                        <a:pt x="2212" y="19016"/>
                      </a:lnTo>
                      <a:lnTo>
                        <a:pt x="570" y="15586"/>
                      </a:lnTo>
                      <a:lnTo>
                        <a:pt x="5565" y="9344"/>
                      </a:lnTo>
                      <a:lnTo>
                        <a:pt x="6571" y="7608"/>
                      </a:lnTo>
                      <a:lnTo>
                        <a:pt x="7945" y="6574"/>
                      </a:lnTo>
                      <a:lnTo>
                        <a:pt x="9488" y="6160"/>
                      </a:lnTo>
                      <a:lnTo>
                        <a:pt x="11030" y="6449"/>
                      </a:lnTo>
                      <a:lnTo>
                        <a:pt x="12304" y="7401"/>
                      </a:lnTo>
                      <a:lnTo>
                        <a:pt x="13242" y="8972"/>
                      </a:lnTo>
                      <a:lnTo>
                        <a:pt x="13610" y="11162"/>
                      </a:lnTo>
                      <a:lnTo>
                        <a:pt x="13309" y="13767"/>
                      </a:lnTo>
                      <a:lnTo>
                        <a:pt x="12404" y="15544"/>
                      </a:lnTo>
                      <a:lnTo>
                        <a:pt x="11063" y="16619"/>
                      </a:lnTo>
                      <a:lnTo>
                        <a:pt x="9488" y="16908"/>
                      </a:lnTo>
                      <a:lnTo>
                        <a:pt x="7912" y="16537"/>
                      </a:lnTo>
                      <a:lnTo>
                        <a:pt x="6470" y="15544"/>
                      </a:lnTo>
                      <a:lnTo>
                        <a:pt x="5497" y="13973"/>
                      </a:lnTo>
                      <a:lnTo>
                        <a:pt x="5097" y="11865"/>
                      </a:lnTo>
                      <a:lnTo>
                        <a:pt x="0" y="12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" name="Freeform: Shape 63"/>
                <p:cNvSpPr/>
                <p:nvPr/>
              </p:nvSpPr>
              <p:spPr>
                <a:xfrm rot="19440600">
                  <a:off x="8913960" y="154944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668" h="34112">
                      <a:moveTo>
                        <a:pt x="14181" y="15464"/>
                      </a:moveTo>
                      <a:lnTo>
                        <a:pt x="14817" y="16043"/>
                      </a:lnTo>
                      <a:lnTo>
                        <a:pt x="16661" y="18565"/>
                      </a:lnTo>
                      <a:lnTo>
                        <a:pt x="17364" y="20550"/>
                      </a:lnTo>
                      <a:lnTo>
                        <a:pt x="17667" y="22988"/>
                      </a:lnTo>
                      <a:lnTo>
                        <a:pt x="17231" y="26090"/>
                      </a:lnTo>
                      <a:lnTo>
                        <a:pt x="15991" y="29811"/>
                      </a:lnTo>
                      <a:lnTo>
                        <a:pt x="14817" y="31548"/>
                      </a:lnTo>
                      <a:lnTo>
                        <a:pt x="13208" y="-32624"/>
                      </a:lnTo>
                      <a:lnTo>
                        <a:pt x="11197" y="-31797"/>
                      </a:lnTo>
                      <a:lnTo>
                        <a:pt x="9018" y="-31425"/>
                      </a:lnTo>
                      <a:lnTo>
                        <a:pt x="6806" y="-31632"/>
                      </a:lnTo>
                      <a:lnTo>
                        <a:pt x="4692" y="-32541"/>
                      </a:lnTo>
                      <a:lnTo>
                        <a:pt x="2782" y="31382"/>
                      </a:lnTo>
                      <a:lnTo>
                        <a:pt x="1272" y="29109"/>
                      </a:lnTo>
                      <a:lnTo>
                        <a:pt x="134" y="25635"/>
                      </a:lnTo>
                      <a:lnTo>
                        <a:pt x="0" y="21914"/>
                      </a:lnTo>
                      <a:lnTo>
                        <a:pt x="335" y="20012"/>
                      </a:lnTo>
                      <a:lnTo>
                        <a:pt x="1072" y="18234"/>
                      </a:lnTo>
                      <a:lnTo>
                        <a:pt x="2213" y="16580"/>
                      </a:lnTo>
                      <a:lnTo>
                        <a:pt x="3787" y="15174"/>
                      </a:lnTo>
                      <a:lnTo>
                        <a:pt x="3554" y="14802"/>
                      </a:lnTo>
                      <a:lnTo>
                        <a:pt x="3017" y="13975"/>
                      </a:lnTo>
                      <a:lnTo>
                        <a:pt x="2012" y="11039"/>
                      </a:lnTo>
                      <a:lnTo>
                        <a:pt x="1810" y="9096"/>
                      </a:lnTo>
                      <a:lnTo>
                        <a:pt x="1978" y="6905"/>
                      </a:lnTo>
                      <a:lnTo>
                        <a:pt x="2648" y="4466"/>
                      </a:lnTo>
                      <a:lnTo>
                        <a:pt x="4057" y="1901"/>
                      </a:lnTo>
                      <a:lnTo>
                        <a:pt x="4995" y="992"/>
                      </a:lnTo>
                      <a:lnTo>
                        <a:pt x="6168" y="414"/>
                      </a:lnTo>
                      <a:lnTo>
                        <a:pt x="9018" y="0"/>
                      </a:lnTo>
                      <a:lnTo>
                        <a:pt x="11867" y="662"/>
                      </a:lnTo>
                      <a:lnTo>
                        <a:pt x="13041" y="1324"/>
                      </a:lnTo>
                      <a:lnTo>
                        <a:pt x="13979" y="2275"/>
                      </a:lnTo>
                      <a:lnTo>
                        <a:pt x="15254" y="4962"/>
                      </a:lnTo>
                      <a:lnTo>
                        <a:pt x="15991" y="8434"/>
                      </a:lnTo>
                      <a:lnTo>
                        <a:pt x="15657" y="12032"/>
                      </a:lnTo>
                      <a:lnTo>
                        <a:pt x="15019" y="13686"/>
                      </a:lnTo>
                      <a:lnTo>
                        <a:pt x="13979" y="15174"/>
                      </a:lnTo>
                      <a:lnTo>
                        <a:pt x="6101" y="8559"/>
                      </a:lnTo>
                      <a:lnTo>
                        <a:pt x="6269" y="7360"/>
                      </a:lnTo>
                      <a:lnTo>
                        <a:pt x="6872" y="6491"/>
                      </a:lnTo>
                      <a:lnTo>
                        <a:pt x="7744" y="5996"/>
                      </a:lnTo>
                      <a:lnTo>
                        <a:pt x="8884" y="5789"/>
                      </a:lnTo>
                      <a:lnTo>
                        <a:pt x="10024" y="6078"/>
                      </a:lnTo>
                      <a:lnTo>
                        <a:pt x="10928" y="6698"/>
                      </a:lnTo>
                      <a:lnTo>
                        <a:pt x="11531" y="7649"/>
                      </a:lnTo>
                      <a:lnTo>
                        <a:pt x="11734" y="8890"/>
                      </a:lnTo>
                      <a:lnTo>
                        <a:pt x="11531" y="10172"/>
                      </a:lnTo>
                      <a:lnTo>
                        <a:pt x="11063" y="11329"/>
                      </a:lnTo>
                      <a:lnTo>
                        <a:pt x="10157" y="12115"/>
                      </a:lnTo>
                      <a:lnTo>
                        <a:pt x="8884" y="12404"/>
                      </a:lnTo>
                      <a:lnTo>
                        <a:pt x="7610" y="12032"/>
                      </a:lnTo>
                      <a:lnTo>
                        <a:pt x="6637" y="11246"/>
                      </a:lnTo>
                      <a:lnTo>
                        <a:pt x="6101" y="10007"/>
                      </a:lnTo>
                      <a:lnTo>
                        <a:pt x="4928" y="24891"/>
                      </a:lnTo>
                      <a:lnTo>
                        <a:pt x="4827" y="22286"/>
                      </a:lnTo>
                      <a:lnTo>
                        <a:pt x="5564" y="20178"/>
                      </a:lnTo>
                      <a:lnTo>
                        <a:pt x="6939" y="18813"/>
                      </a:lnTo>
                      <a:lnTo>
                        <a:pt x="8615" y="18316"/>
                      </a:lnTo>
                      <a:lnTo>
                        <a:pt x="10325" y="18772"/>
                      </a:lnTo>
                      <a:lnTo>
                        <a:pt x="11766" y="20054"/>
                      </a:lnTo>
                      <a:lnTo>
                        <a:pt x="12638" y="22121"/>
                      </a:lnTo>
                      <a:lnTo>
                        <a:pt x="12572" y="24891"/>
                      </a:lnTo>
                      <a:lnTo>
                        <a:pt x="12069" y="26297"/>
                      </a:lnTo>
                      <a:lnTo>
                        <a:pt x="11163" y="27371"/>
                      </a:lnTo>
                      <a:lnTo>
                        <a:pt x="10057" y="28033"/>
                      </a:lnTo>
                      <a:lnTo>
                        <a:pt x="8851" y="28322"/>
                      </a:lnTo>
                      <a:lnTo>
                        <a:pt x="7643" y="28157"/>
                      </a:lnTo>
                      <a:lnTo>
                        <a:pt x="6504" y="27538"/>
                      </a:lnTo>
                      <a:lnTo>
                        <a:pt x="5564" y="26504"/>
                      </a:lnTo>
                      <a:lnTo>
                        <a:pt x="14181" y="154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Freeform: Shape 64"/>
                <p:cNvSpPr/>
                <p:nvPr/>
              </p:nvSpPr>
              <p:spPr>
                <a:xfrm rot="19440600">
                  <a:off x="8940600" y="1592640"/>
                  <a:ext cx="12240" cy="1728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368" h="34029">
                      <a:moveTo>
                        <a:pt x="15888" y="0"/>
                      </a:moveTo>
                      <a:lnTo>
                        <a:pt x="15888" y="5830"/>
                      </a:lnTo>
                      <a:lnTo>
                        <a:pt x="7139" y="5830"/>
                      </a:lnTo>
                      <a:lnTo>
                        <a:pt x="6570" y="11784"/>
                      </a:lnTo>
                      <a:lnTo>
                        <a:pt x="8514" y="11122"/>
                      </a:lnTo>
                      <a:lnTo>
                        <a:pt x="10559" y="11122"/>
                      </a:lnTo>
                      <a:lnTo>
                        <a:pt x="12536" y="11784"/>
                      </a:lnTo>
                      <a:lnTo>
                        <a:pt x="14346" y="12942"/>
                      </a:lnTo>
                      <a:lnTo>
                        <a:pt x="15989" y="14595"/>
                      </a:lnTo>
                      <a:lnTo>
                        <a:pt x="17229" y="16580"/>
                      </a:lnTo>
                      <a:lnTo>
                        <a:pt x="18100" y="18978"/>
                      </a:lnTo>
                      <a:lnTo>
                        <a:pt x="18367" y="21583"/>
                      </a:lnTo>
                      <a:lnTo>
                        <a:pt x="18200" y="24230"/>
                      </a:lnTo>
                      <a:lnTo>
                        <a:pt x="17732" y="26585"/>
                      </a:lnTo>
                      <a:lnTo>
                        <a:pt x="16893" y="28735"/>
                      </a:lnTo>
                      <a:lnTo>
                        <a:pt x="15888" y="30513"/>
                      </a:lnTo>
                      <a:lnTo>
                        <a:pt x="14648" y="32044"/>
                      </a:lnTo>
                      <a:lnTo>
                        <a:pt x="13173" y="-32418"/>
                      </a:lnTo>
                      <a:lnTo>
                        <a:pt x="11631" y="-31756"/>
                      </a:lnTo>
                      <a:lnTo>
                        <a:pt x="9988" y="-31508"/>
                      </a:lnTo>
                      <a:lnTo>
                        <a:pt x="7543" y="-31714"/>
                      </a:lnTo>
                      <a:lnTo>
                        <a:pt x="4660" y="32498"/>
                      </a:lnTo>
                      <a:lnTo>
                        <a:pt x="3251" y="31258"/>
                      </a:lnTo>
                      <a:lnTo>
                        <a:pt x="1944" y="29357"/>
                      </a:lnTo>
                      <a:lnTo>
                        <a:pt x="871" y="26792"/>
                      </a:lnTo>
                      <a:lnTo>
                        <a:pt x="0" y="23319"/>
                      </a:lnTo>
                      <a:lnTo>
                        <a:pt x="4592" y="23319"/>
                      </a:lnTo>
                      <a:lnTo>
                        <a:pt x="5263" y="25139"/>
                      </a:lnTo>
                      <a:lnTo>
                        <a:pt x="6134" y="26420"/>
                      </a:lnTo>
                      <a:lnTo>
                        <a:pt x="7943" y="27786"/>
                      </a:lnTo>
                      <a:lnTo>
                        <a:pt x="9687" y="27909"/>
                      </a:lnTo>
                      <a:lnTo>
                        <a:pt x="11027" y="27537"/>
                      </a:lnTo>
                      <a:lnTo>
                        <a:pt x="11933" y="26834"/>
                      </a:lnTo>
                      <a:lnTo>
                        <a:pt x="12603" y="25841"/>
                      </a:lnTo>
                      <a:lnTo>
                        <a:pt x="13407" y="23278"/>
                      </a:lnTo>
                      <a:lnTo>
                        <a:pt x="13475" y="20674"/>
                      </a:lnTo>
                      <a:lnTo>
                        <a:pt x="12771" y="18813"/>
                      </a:lnTo>
                      <a:lnTo>
                        <a:pt x="12168" y="18069"/>
                      </a:lnTo>
                      <a:lnTo>
                        <a:pt x="10794" y="17118"/>
                      </a:lnTo>
                      <a:lnTo>
                        <a:pt x="9721" y="16870"/>
                      </a:lnTo>
                      <a:lnTo>
                        <a:pt x="8446" y="17035"/>
                      </a:lnTo>
                      <a:lnTo>
                        <a:pt x="6939" y="17614"/>
                      </a:lnTo>
                      <a:lnTo>
                        <a:pt x="5162" y="18813"/>
                      </a:lnTo>
                      <a:lnTo>
                        <a:pt x="1207" y="17779"/>
                      </a:lnTo>
                      <a:lnTo>
                        <a:pt x="3688" y="0"/>
                      </a:lnTo>
                      <a:lnTo>
                        <a:pt x="1588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" name="Freeform: Shape 65"/>
                <p:cNvSpPr/>
                <p:nvPr/>
              </p:nvSpPr>
              <p:spPr>
                <a:xfrm rot="19440600">
                  <a:off x="8986320" y="156096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707" h="32910">
                      <a:moveTo>
                        <a:pt x="15018" y="0"/>
                      </a:moveTo>
                      <a:lnTo>
                        <a:pt x="9420" y="10749"/>
                      </a:lnTo>
                      <a:lnTo>
                        <a:pt x="11231" y="10832"/>
                      </a:lnTo>
                      <a:lnTo>
                        <a:pt x="13008" y="11329"/>
                      </a:lnTo>
                      <a:lnTo>
                        <a:pt x="14650" y="12238"/>
                      </a:lnTo>
                      <a:lnTo>
                        <a:pt x="16058" y="13561"/>
                      </a:lnTo>
                      <a:lnTo>
                        <a:pt x="17199" y="15132"/>
                      </a:lnTo>
                      <a:lnTo>
                        <a:pt x="18070" y="17034"/>
                      </a:lnTo>
                      <a:lnTo>
                        <a:pt x="18573" y="19184"/>
                      </a:lnTo>
                      <a:lnTo>
                        <a:pt x="18706" y="21581"/>
                      </a:lnTo>
                      <a:lnTo>
                        <a:pt x="18405" y="23937"/>
                      </a:lnTo>
                      <a:lnTo>
                        <a:pt x="17835" y="26129"/>
                      </a:lnTo>
                      <a:lnTo>
                        <a:pt x="16997" y="28071"/>
                      </a:lnTo>
                      <a:lnTo>
                        <a:pt x="15891" y="29726"/>
                      </a:lnTo>
                      <a:lnTo>
                        <a:pt x="14516" y="31090"/>
                      </a:lnTo>
                      <a:lnTo>
                        <a:pt x="12941" y="32082"/>
                      </a:lnTo>
                      <a:lnTo>
                        <a:pt x="11097" y="32743"/>
                      </a:lnTo>
                      <a:lnTo>
                        <a:pt x="9118" y="-32627"/>
                      </a:lnTo>
                      <a:lnTo>
                        <a:pt x="7308" y="32661"/>
                      </a:lnTo>
                      <a:lnTo>
                        <a:pt x="5598" y="31957"/>
                      </a:lnTo>
                      <a:lnTo>
                        <a:pt x="4021" y="30925"/>
                      </a:lnTo>
                      <a:lnTo>
                        <a:pt x="2647" y="29477"/>
                      </a:lnTo>
                      <a:lnTo>
                        <a:pt x="1506" y="27783"/>
                      </a:lnTo>
                      <a:lnTo>
                        <a:pt x="670" y="25840"/>
                      </a:lnTo>
                      <a:lnTo>
                        <a:pt x="133" y="23772"/>
                      </a:lnTo>
                      <a:lnTo>
                        <a:pt x="0" y="21581"/>
                      </a:lnTo>
                      <a:lnTo>
                        <a:pt x="569" y="18357"/>
                      </a:lnTo>
                      <a:lnTo>
                        <a:pt x="1675" y="15048"/>
                      </a:lnTo>
                      <a:lnTo>
                        <a:pt x="4794" y="8559"/>
                      </a:lnTo>
                      <a:lnTo>
                        <a:pt x="6437" y="5706"/>
                      </a:lnTo>
                      <a:lnTo>
                        <a:pt x="8046" y="3184"/>
                      </a:lnTo>
                      <a:lnTo>
                        <a:pt x="9253" y="1241"/>
                      </a:lnTo>
                      <a:lnTo>
                        <a:pt x="9989" y="0"/>
                      </a:lnTo>
                      <a:lnTo>
                        <a:pt x="9118" y="16331"/>
                      </a:lnTo>
                      <a:lnTo>
                        <a:pt x="10794" y="16537"/>
                      </a:lnTo>
                      <a:lnTo>
                        <a:pt x="12338" y="17406"/>
                      </a:lnTo>
                      <a:lnTo>
                        <a:pt x="13376" y="19266"/>
                      </a:lnTo>
                      <a:lnTo>
                        <a:pt x="13611" y="20755"/>
                      </a:lnTo>
                      <a:lnTo>
                        <a:pt x="13679" y="22656"/>
                      </a:lnTo>
                      <a:lnTo>
                        <a:pt x="13241" y="24474"/>
                      </a:lnTo>
                      <a:lnTo>
                        <a:pt x="12403" y="25840"/>
                      </a:lnTo>
                      <a:lnTo>
                        <a:pt x="11197" y="26790"/>
                      </a:lnTo>
                      <a:lnTo>
                        <a:pt x="9823" y="27204"/>
                      </a:lnTo>
                      <a:lnTo>
                        <a:pt x="8415" y="27121"/>
                      </a:lnTo>
                      <a:lnTo>
                        <a:pt x="7006" y="26584"/>
                      </a:lnTo>
                      <a:lnTo>
                        <a:pt x="5933" y="25550"/>
                      </a:lnTo>
                      <a:lnTo>
                        <a:pt x="5162" y="23979"/>
                      </a:lnTo>
                      <a:lnTo>
                        <a:pt x="4794" y="22243"/>
                      </a:lnTo>
                      <a:lnTo>
                        <a:pt x="4826" y="20795"/>
                      </a:lnTo>
                      <a:lnTo>
                        <a:pt x="5732" y="18439"/>
                      </a:lnTo>
                      <a:lnTo>
                        <a:pt x="7341" y="16992"/>
                      </a:lnTo>
                      <a:lnTo>
                        <a:pt x="8515" y="15587"/>
                      </a:lnTo>
                      <a:lnTo>
                        <a:pt x="150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0" name="Freeform: Shape 66"/>
                <p:cNvSpPr/>
                <p:nvPr/>
              </p:nvSpPr>
              <p:spPr>
                <a:xfrm rot="19440600">
                  <a:off x="8969400" y="162900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837" h="33284">
                      <a:moveTo>
                        <a:pt x="705" y="7485"/>
                      </a:moveTo>
                      <a:lnTo>
                        <a:pt x="2046" y="4341"/>
                      </a:lnTo>
                      <a:lnTo>
                        <a:pt x="3823" y="2108"/>
                      </a:lnTo>
                      <a:lnTo>
                        <a:pt x="5800" y="662"/>
                      </a:lnTo>
                      <a:lnTo>
                        <a:pt x="7979" y="0"/>
                      </a:lnTo>
                      <a:lnTo>
                        <a:pt x="10159" y="42"/>
                      </a:lnTo>
                      <a:lnTo>
                        <a:pt x="12270" y="704"/>
                      </a:lnTo>
                      <a:lnTo>
                        <a:pt x="14115" y="1903"/>
                      </a:lnTo>
                      <a:lnTo>
                        <a:pt x="15590" y="3556"/>
                      </a:lnTo>
                      <a:lnTo>
                        <a:pt x="16730" y="5417"/>
                      </a:lnTo>
                      <a:lnTo>
                        <a:pt x="17468" y="7485"/>
                      </a:lnTo>
                      <a:lnTo>
                        <a:pt x="17836" y="9675"/>
                      </a:lnTo>
                      <a:lnTo>
                        <a:pt x="17367" y="13934"/>
                      </a:lnTo>
                      <a:lnTo>
                        <a:pt x="16664" y="15959"/>
                      </a:lnTo>
                      <a:lnTo>
                        <a:pt x="15556" y="17655"/>
                      </a:lnTo>
                      <a:lnTo>
                        <a:pt x="7041" y="27744"/>
                      </a:lnTo>
                      <a:lnTo>
                        <a:pt x="17602" y="27744"/>
                      </a:lnTo>
                      <a:lnTo>
                        <a:pt x="17602" y="-32253"/>
                      </a:lnTo>
                      <a:lnTo>
                        <a:pt x="570" y="-32253"/>
                      </a:lnTo>
                      <a:lnTo>
                        <a:pt x="570" y="27744"/>
                      </a:lnTo>
                      <a:lnTo>
                        <a:pt x="2180" y="25800"/>
                      </a:lnTo>
                      <a:lnTo>
                        <a:pt x="4393" y="23319"/>
                      </a:lnTo>
                      <a:lnTo>
                        <a:pt x="9421" y="17490"/>
                      </a:lnTo>
                      <a:lnTo>
                        <a:pt x="11467" y="14471"/>
                      </a:lnTo>
                      <a:lnTo>
                        <a:pt x="12706" y="11494"/>
                      </a:lnTo>
                      <a:lnTo>
                        <a:pt x="12774" y="8807"/>
                      </a:lnTo>
                      <a:lnTo>
                        <a:pt x="12236" y="7567"/>
                      </a:lnTo>
                      <a:lnTo>
                        <a:pt x="11298" y="6451"/>
                      </a:lnTo>
                      <a:lnTo>
                        <a:pt x="10058" y="5707"/>
                      </a:lnTo>
                      <a:lnTo>
                        <a:pt x="8818" y="5500"/>
                      </a:lnTo>
                      <a:lnTo>
                        <a:pt x="7712" y="5789"/>
                      </a:lnTo>
                      <a:lnTo>
                        <a:pt x="6739" y="6451"/>
                      </a:lnTo>
                      <a:lnTo>
                        <a:pt x="5331" y="8724"/>
                      </a:lnTo>
                      <a:lnTo>
                        <a:pt x="5097" y="11701"/>
                      </a:lnTo>
                      <a:lnTo>
                        <a:pt x="0" y="11701"/>
                      </a:lnTo>
                      <a:lnTo>
                        <a:pt x="705" y="74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Freeform: Shape 67"/>
                <p:cNvSpPr/>
                <p:nvPr/>
              </p:nvSpPr>
              <p:spPr>
                <a:xfrm rot="19440600">
                  <a:off x="8999280" y="1593000"/>
                  <a:ext cx="10800" cy="187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8065" h="34311">
                      <a:moveTo>
                        <a:pt x="2211" y="5705"/>
                      </a:moveTo>
                      <a:lnTo>
                        <a:pt x="3519" y="3183"/>
                      </a:lnTo>
                      <a:lnTo>
                        <a:pt x="5294" y="1364"/>
                      </a:lnTo>
                      <a:lnTo>
                        <a:pt x="7440" y="249"/>
                      </a:lnTo>
                      <a:lnTo>
                        <a:pt x="9754" y="0"/>
                      </a:lnTo>
                      <a:lnTo>
                        <a:pt x="11998" y="827"/>
                      </a:lnTo>
                      <a:lnTo>
                        <a:pt x="13976" y="2894"/>
                      </a:lnTo>
                      <a:lnTo>
                        <a:pt x="15551" y="6242"/>
                      </a:lnTo>
                      <a:lnTo>
                        <a:pt x="15921" y="8847"/>
                      </a:lnTo>
                      <a:lnTo>
                        <a:pt x="15551" y="11285"/>
                      </a:lnTo>
                      <a:lnTo>
                        <a:pt x="14882" y="13269"/>
                      </a:lnTo>
                      <a:lnTo>
                        <a:pt x="14109" y="14592"/>
                      </a:lnTo>
                      <a:lnTo>
                        <a:pt x="14144" y="14882"/>
                      </a:lnTo>
                      <a:lnTo>
                        <a:pt x="14512" y="15295"/>
                      </a:lnTo>
                      <a:lnTo>
                        <a:pt x="15887" y="16742"/>
                      </a:lnTo>
                      <a:lnTo>
                        <a:pt x="17395" y="19388"/>
                      </a:lnTo>
                      <a:lnTo>
                        <a:pt x="17864" y="21289"/>
                      </a:lnTo>
                      <a:lnTo>
                        <a:pt x="18064" y="23646"/>
                      </a:lnTo>
                      <a:lnTo>
                        <a:pt x="17998" y="24968"/>
                      </a:lnTo>
                      <a:lnTo>
                        <a:pt x="17696" y="26622"/>
                      </a:lnTo>
                      <a:lnTo>
                        <a:pt x="16321" y="30136"/>
                      </a:lnTo>
                      <a:lnTo>
                        <a:pt x="15115" y="31747"/>
                      </a:lnTo>
                      <a:lnTo>
                        <a:pt x="13574" y="-32465"/>
                      </a:lnTo>
                      <a:lnTo>
                        <a:pt x="11563" y="-31556"/>
                      </a:lnTo>
                      <a:lnTo>
                        <a:pt x="9083" y="-31226"/>
                      </a:lnTo>
                      <a:lnTo>
                        <a:pt x="8010" y="-31308"/>
                      </a:lnTo>
                      <a:lnTo>
                        <a:pt x="6736" y="-31598"/>
                      </a:lnTo>
                      <a:lnTo>
                        <a:pt x="3752" y="32367"/>
                      </a:lnTo>
                      <a:lnTo>
                        <a:pt x="2346" y="30963"/>
                      </a:lnTo>
                      <a:lnTo>
                        <a:pt x="1172" y="29144"/>
                      </a:lnTo>
                      <a:lnTo>
                        <a:pt x="368" y="26664"/>
                      </a:lnTo>
                      <a:lnTo>
                        <a:pt x="0" y="23646"/>
                      </a:lnTo>
                      <a:lnTo>
                        <a:pt x="4524" y="23646"/>
                      </a:lnTo>
                      <a:lnTo>
                        <a:pt x="5328" y="26250"/>
                      </a:lnTo>
                      <a:lnTo>
                        <a:pt x="6435" y="27821"/>
                      </a:lnTo>
                      <a:lnTo>
                        <a:pt x="7608" y="28647"/>
                      </a:lnTo>
                      <a:lnTo>
                        <a:pt x="8781" y="28854"/>
                      </a:lnTo>
                      <a:lnTo>
                        <a:pt x="9989" y="28523"/>
                      </a:lnTo>
                      <a:lnTo>
                        <a:pt x="11328" y="27573"/>
                      </a:lnTo>
                      <a:lnTo>
                        <a:pt x="12434" y="26084"/>
                      </a:lnTo>
                      <a:lnTo>
                        <a:pt x="13003" y="23976"/>
                      </a:lnTo>
                      <a:lnTo>
                        <a:pt x="12971" y="22240"/>
                      </a:lnTo>
                      <a:lnTo>
                        <a:pt x="12635" y="20834"/>
                      </a:lnTo>
                      <a:lnTo>
                        <a:pt x="12065" y="19842"/>
                      </a:lnTo>
                      <a:lnTo>
                        <a:pt x="11328" y="19056"/>
                      </a:lnTo>
                      <a:lnTo>
                        <a:pt x="9351" y="18229"/>
                      </a:lnTo>
                      <a:lnTo>
                        <a:pt x="7038" y="18024"/>
                      </a:lnTo>
                      <a:lnTo>
                        <a:pt x="7038" y="12443"/>
                      </a:lnTo>
                      <a:lnTo>
                        <a:pt x="8848" y="12319"/>
                      </a:lnTo>
                      <a:lnTo>
                        <a:pt x="10222" y="11533"/>
                      </a:lnTo>
                      <a:lnTo>
                        <a:pt x="10993" y="10128"/>
                      </a:lnTo>
                      <a:lnTo>
                        <a:pt x="11026" y="8268"/>
                      </a:lnTo>
                      <a:lnTo>
                        <a:pt x="10657" y="7400"/>
                      </a:lnTo>
                      <a:lnTo>
                        <a:pt x="10054" y="6738"/>
                      </a:lnTo>
                      <a:lnTo>
                        <a:pt x="8513" y="6242"/>
                      </a:lnTo>
                      <a:lnTo>
                        <a:pt x="7038" y="6904"/>
                      </a:lnTo>
                      <a:lnTo>
                        <a:pt x="6535" y="7606"/>
                      </a:lnTo>
                      <a:lnTo>
                        <a:pt x="6234" y="8640"/>
                      </a:lnTo>
                      <a:lnTo>
                        <a:pt x="1708" y="8640"/>
                      </a:lnTo>
                      <a:lnTo>
                        <a:pt x="2211" y="57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2" name="Freeform: Shape 68"/>
                <p:cNvSpPr/>
                <p:nvPr/>
              </p:nvSpPr>
              <p:spPr>
                <a:xfrm rot="19440600">
                  <a:off x="8872560" y="1508400"/>
                  <a:ext cx="16920" cy="172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958" h="33032">
                      <a:moveTo>
                        <a:pt x="0" y="0"/>
                      </a:moveTo>
                      <a:lnTo>
                        <a:pt x="6772" y="0"/>
                      </a:lnTo>
                      <a:lnTo>
                        <a:pt x="14113" y="25466"/>
                      </a:lnTo>
                      <a:lnTo>
                        <a:pt x="21453" y="0"/>
                      </a:lnTo>
                      <a:lnTo>
                        <a:pt x="27957" y="0"/>
                      </a:lnTo>
                      <a:lnTo>
                        <a:pt x="27957" y="-32505"/>
                      </a:lnTo>
                      <a:lnTo>
                        <a:pt x="22896" y="-32505"/>
                      </a:lnTo>
                      <a:lnTo>
                        <a:pt x="22896" y="9466"/>
                      </a:lnTo>
                      <a:lnTo>
                        <a:pt x="16124" y="-32505"/>
                      </a:lnTo>
                      <a:lnTo>
                        <a:pt x="12169" y="-32505"/>
                      </a:lnTo>
                      <a:lnTo>
                        <a:pt x="5129" y="9466"/>
                      </a:lnTo>
                      <a:lnTo>
                        <a:pt x="5129" y="-32505"/>
                      </a:lnTo>
                      <a:lnTo>
                        <a:pt x="0" y="-325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3" name="Freeform: Shape 69"/>
                <p:cNvSpPr/>
                <p:nvPr/>
              </p:nvSpPr>
              <p:spPr>
                <a:xfrm rot="19440600">
                  <a:off x="8889840" y="1508400"/>
                  <a:ext cx="7560" cy="2880"/>
                </a:xfrm>
                <a:custGeom>
                  <a:avLst/>
                  <a:gdLst>
                    <a:gd name="textAreaLeft" fmla="*/ 0 w 7560"/>
                    <a:gd name="textAreaRight" fmla="*/ 7560 w 75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9892" h="5211">
                      <a:moveTo>
                        <a:pt x="0" y="0"/>
                      </a:moveTo>
                      <a:lnTo>
                        <a:pt x="9891" y="0"/>
                      </a:lnTo>
                      <a:lnTo>
                        <a:pt x="9891" y="5210"/>
                      </a:lnTo>
                      <a:lnTo>
                        <a:pt x="0" y="52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4" name="Freeform: Shape 70"/>
                <p:cNvSpPr/>
                <p:nvPr/>
              </p:nvSpPr>
              <p:spPr>
                <a:xfrm rot="19440600">
                  <a:off x="8916480" y="1479960"/>
                  <a:ext cx="16920" cy="172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956" h="33032">
                      <a:moveTo>
                        <a:pt x="0" y="0"/>
                      </a:moveTo>
                      <a:lnTo>
                        <a:pt x="6804" y="0"/>
                      </a:lnTo>
                      <a:lnTo>
                        <a:pt x="14145" y="25466"/>
                      </a:lnTo>
                      <a:lnTo>
                        <a:pt x="21452" y="0"/>
                      </a:lnTo>
                      <a:lnTo>
                        <a:pt x="27955" y="0"/>
                      </a:lnTo>
                      <a:lnTo>
                        <a:pt x="27955" y="-32505"/>
                      </a:lnTo>
                      <a:lnTo>
                        <a:pt x="22927" y="-32505"/>
                      </a:lnTo>
                      <a:lnTo>
                        <a:pt x="22927" y="9466"/>
                      </a:lnTo>
                      <a:lnTo>
                        <a:pt x="16122" y="-32505"/>
                      </a:lnTo>
                      <a:lnTo>
                        <a:pt x="12201" y="-32505"/>
                      </a:lnTo>
                      <a:lnTo>
                        <a:pt x="5128" y="9466"/>
                      </a:lnTo>
                      <a:lnTo>
                        <a:pt x="5128" y="-32505"/>
                      </a:lnTo>
                      <a:lnTo>
                        <a:pt x="0" y="-325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Freeform: Shape 71"/>
                <p:cNvSpPr/>
                <p:nvPr/>
              </p:nvSpPr>
              <p:spPr>
                <a:xfrm rot="19440600">
                  <a:off x="8917920" y="1464120"/>
                  <a:ext cx="10800" cy="126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066" h="23035">
                      <a:moveTo>
                        <a:pt x="11294" y="0"/>
                      </a:moveTo>
                      <a:lnTo>
                        <a:pt x="11294" y="8725"/>
                      </a:lnTo>
                      <a:lnTo>
                        <a:pt x="18065" y="8725"/>
                      </a:lnTo>
                      <a:lnTo>
                        <a:pt x="18065" y="13936"/>
                      </a:lnTo>
                      <a:lnTo>
                        <a:pt x="11294" y="13936"/>
                      </a:lnTo>
                      <a:lnTo>
                        <a:pt x="11294" y="23034"/>
                      </a:lnTo>
                      <a:lnTo>
                        <a:pt x="7038" y="23034"/>
                      </a:lnTo>
                      <a:lnTo>
                        <a:pt x="7038" y="13936"/>
                      </a:lnTo>
                      <a:lnTo>
                        <a:pt x="0" y="13936"/>
                      </a:lnTo>
                      <a:lnTo>
                        <a:pt x="0" y="8725"/>
                      </a:lnTo>
                      <a:lnTo>
                        <a:pt x="7038" y="8725"/>
                      </a:lnTo>
                      <a:lnTo>
                        <a:pt x="7038" y="0"/>
                      </a:lnTo>
                      <a:lnTo>
                        <a:pt x="1129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6" name="Freeform: Shape 72"/>
                <p:cNvSpPr/>
                <p:nvPr/>
              </p:nvSpPr>
              <p:spPr>
                <a:xfrm rot="19440600">
                  <a:off x="8977320" y="1451880"/>
                  <a:ext cx="4680" cy="46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7275" h="7114">
                      <a:moveTo>
                        <a:pt x="0" y="0"/>
                      </a:moveTo>
                      <a:lnTo>
                        <a:pt x="7274" y="0"/>
                      </a:lnTo>
                      <a:lnTo>
                        <a:pt x="7274" y="7113"/>
                      </a:lnTo>
                      <a:lnTo>
                        <a:pt x="0" y="71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7" name="Freeform: Shape 73"/>
                <p:cNvSpPr/>
                <p:nvPr/>
              </p:nvSpPr>
              <p:spPr>
                <a:xfrm rot="19440600">
                  <a:off x="8966520" y="1448640"/>
                  <a:ext cx="14040" cy="468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2661" h="7320">
                      <a:moveTo>
                        <a:pt x="0" y="0"/>
                      </a:moveTo>
                      <a:lnTo>
                        <a:pt x="22660" y="0"/>
                      </a:lnTo>
                      <a:lnTo>
                        <a:pt x="22660" y="7319"/>
                      </a:lnTo>
                      <a:lnTo>
                        <a:pt x="0" y="73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Freeform: Shape 74"/>
                <p:cNvSpPr/>
                <p:nvPr/>
              </p:nvSpPr>
              <p:spPr>
                <a:xfrm rot="19440600">
                  <a:off x="8965080" y="1445400"/>
                  <a:ext cx="4680" cy="28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7275" h="7113">
                      <a:moveTo>
                        <a:pt x="0" y="0"/>
                      </a:moveTo>
                      <a:lnTo>
                        <a:pt x="7274" y="0"/>
                      </a:lnTo>
                      <a:lnTo>
                        <a:pt x="7274" y="7112"/>
                      </a:lnTo>
                      <a:lnTo>
                        <a:pt x="0" y="7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Freeform: Shape 75"/>
                <p:cNvSpPr/>
                <p:nvPr/>
              </p:nvSpPr>
              <p:spPr>
                <a:xfrm rot="19440600">
                  <a:off x="8940600" y="1415520"/>
                  <a:ext cx="1440" cy="2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3252" h="5876">
                      <a:moveTo>
                        <a:pt x="0" y="0"/>
                      </a:moveTo>
                      <a:lnTo>
                        <a:pt x="3251" y="0"/>
                      </a:lnTo>
                      <a:lnTo>
                        <a:pt x="3251" y="5875"/>
                      </a:lnTo>
                      <a:lnTo>
                        <a:pt x="0" y="58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0" name="Freeform: Shape 76"/>
                <p:cNvSpPr/>
                <p:nvPr/>
              </p:nvSpPr>
              <p:spPr>
                <a:xfrm rot="19440600">
                  <a:off x="8930160" y="1411920"/>
                  <a:ext cx="10800" cy="187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7028" h="33492">
                      <a:moveTo>
                        <a:pt x="67" y="13521"/>
                      </a:moveTo>
                      <a:lnTo>
                        <a:pt x="469" y="11081"/>
                      </a:lnTo>
                      <a:lnTo>
                        <a:pt x="2178" y="5830"/>
                      </a:lnTo>
                      <a:lnTo>
                        <a:pt x="3487" y="3473"/>
                      </a:lnTo>
                      <a:lnTo>
                        <a:pt x="5028" y="1612"/>
                      </a:lnTo>
                      <a:lnTo>
                        <a:pt x="6838" y="331"/>
                      </a:lnTo>
                      <a:lnTo>
                        <a:pt x="8916" y="0"/>
                      </a:lnTo>
                      <a:lnTo>
                        <a:pt x="11228" y="703"/>
                      </a:lnTo>
                      <a:lnTo>
                        <a:pt x="13607" y="2688"/>
                      </a:lnTo>
                      <a:lnTo>
                        <a:pt x="15686" y="5830"/>
                      </a:lnTo>
                      <a:lnTo>
                        <a:pt x="16490" y="7774"/>
                      </a:lnTo>
                      <a:lnTo>
                        <a:pt x="17027" y="10047"/>
                      </a:lnTo>
                      <a:lnTo>
                        <a:pt x="13205" y="10047"/>
                      </a:lnTo>
                      <a:lnTo>
                        <a:pt x="11530" y="7401"/>
                      </a:lnTo>
                      <a:lnTo>
                        <a:pt x="9887" y="6079"/>
                      </a:lnTo>
                      <a:lnTo>
                        <a:pt x="8212" y="6037"/>
                      </a:lnTo>
                      <a:lnTo>
                        <a:pt x="6703" y="6863"/>
                      </a:lnTo>
                      <a:lnTo>
                        <a:pt x="5396" y="8601"/>
                      </a:lnTo>
                      <a:lnTo>
                        <a:pt x="4323" y="10834"/>
                      </a:lnTo>
                      <a:lnTo>
                        <a:pt x="3687" y="13480"/>
                      </a:lnTo>
                      <a:lnTo>
                        <a:pt x="3452" y="16333"/>
                      </a:lnTo>
                      <a:lnTo>
                        <a:pt x="3652" y="19517"/>
                      </a:lnTo>
                      <a:lnTo>
                        <a:pt x="4358" y="22369"/>
                      </a:lnTo>
                      <a:lnTo>
                        <a:pt x="5464" y="24851"/>
                      </a:lnTo>
                      <a:lnTo>
                        <a:pt x="6871" y="26586"/>
                      </a:lnTo>
                      <a:lnTo>
                        <a:pt x="8413" y="27580"/>
                      </a:lnTo>
                      <a:lnTo>
                        <a:pt x="10055" y="27580"/>
                      </a:lnTo>
                      <a:lnTo>
                        <a:pt x="11629" y="26421"/>
                      </a:lnTo>
                      <a:lnTo>
                        <a:pt x="13038" y="23982"/>
                      </a:lnTo>
                      <a:lnTo>
                        <a:pt x="16792" y="23982"/>
                      </a:lnTo>
                      <a:lnTo>
                        <a:pt x="16457" y="26339"/>
                      </a:lnTo>
                      <a:lnTo>
                        <a:pt x="15586" y="28364"/>
                      </a:lnTo>
                      <a:lnTo>
                        <a:pt x="14512" y="30142"/>
                      </a:lnTo>
                      <a:lnTo>
                        <a:pt x="13205" y="31548"/>
                      </a:lnTo>
                      <a:lnTo>
                        <a:pt x="10525" y="-32292"/>
                      </a:lnTo>
                      <a:lnTo>
                        <a:pt x="9351" y="-32045"/>
                      </a:lnTo>
                      <a:lnTo>
                        <a:pt x="8513" y="-32250"/>
                      </a:lnTo>
                      <a:lnTo>
                        <a:pt x="6803" y="-32747"/>
                      </a:lnTo>
                      <a:lnTo>
                        <a:pt x="5128" y="31673"/>
                      </a:lnTo>
                      <a:lnTo>
                        <a:pt x="3687" y="30019"/>
                      </a:lnTo>
                      <a:lnTo>
                        <a:pt x="2380" y="27869"/>
                      </a:lnTo>
                      <a:lnTo>
                        <a:pt x="1307" y="25347"/>
                      </a:lnTo>
                      <a:lnTo>
                        <a:pt x="536" y="22451"/>
                      </a:lnTo>
                      <a:lnTo>
                        <a:pt x="67" y="19185"/>
                      </a:lnTo>
                      <a:lnTo>
                        <a:pt x="0" y="15629"/>
                      </a:lnTo>
                      <a:lnTo>
                        <a:pt x="67" y="135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Freeform: Shape 77"/>
                <p:cNvSpPr/>
                <p:nvPr/>
              </p:nvSpPr>
              <p:spPr>
                <a:xfrm rot="19440600">
                  <a:off x="8942400" y="1402560"/>
                  <a:ext cx="10800" cy="187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994" h="33492">
                      <a:moveTo>
                        <a:pt x="66" y="13521"/>
                      </a:moveTo>
                      <a:lnTo>
                        <a:pt x="469" y="11081"/>
                      </a:lnTo>
                      <a:lnTo>
                        <a:pt x="2179" y="5830"/>
                      </a:lnTo>
                      <a:lnTo>
                        <a:pt x="3485" y="3473"/>
                      </a:lnTo>
                      <a:lnTo>
                        <a:pt x="5027" y="1612"/>
                      </a:lnTo>
                      <a:lnTo>
                        <a:pt x="6836" y="331"/>
                      </a:lnTo>
                      <a:lnTo>
                        <a:pt x="8881" y="0"/>
                      </a:lnTo>
                      <a:lnTo>
                        <a:pt x="11227" y="703"/>
                      </a:lnTo>
                      <a:lnTo>
                        <a:pt x="13607" y="2688"/>
                      </a:lnTo>
                      <a:lnTo>
                        <a:pt x="15686" y="5830"/>
                      </a:lnTo>
                      <a:lnTo>
                        <a:pt x="16423" y="7774"/>
                      </a:lnTo>
                      <a:lnTo>
                        <a:pt x="16993" y="10047"/>
                      </a:lnTo>
                      <a:lnTo>
                        <a:pt x="13206" y="10047"/>
                      </a:lnTo>
                      <a:lnTo>
                        <a:pt x="11529" y="7401"/>
                      </a:lnTo>
                      <a:lnTo>
                        <a:pt x="9820" y="6079"/>
                      </a:lnTo>
                      <a:lnTo>
                        <a:pt x="8211" y="6037"/>
                      </a:lnTo>
                      <a:lnTo>
                        <a:pt x="6703" y="6863"/>
                      </a:lnTo>
                      <a:lnTo>
                        <a:pt x="5395" y="8601"/>
                      </a:lnTo>
                      <a:lnTo>
                        <a:pt x="4356" y="10834"/>
                      </a:lnTo>
                      <a:lnTo>
                        <a:pt x="3685" y="13480"/>
                      </a:lnTo>
                      <a:lnTo>
                        <a:pt x="3418" y="16333"/>
                      </a:lnTo>
                      <a:lnTo>
                        <a:pt x="3685" y="19517"/>
                      </a:lnTo>
                      <a:lnTo>
                        <a:pt x="4356" y="22369"/>
                      </a:lnTo>
                      <a:lnTo>
                        <a:pt x="5462" y="24851"/>
                      </a:lnTo>
                      <a:lnTo>
                        <a:pt x="6871" y="26586"/>
                      </a:lnTo>
                      <a:lnTo>
                        <a:pt x="8412" y="27580"/>
                      </a:lnTo>
                      <a:lnTo>
                        <a:pt x="10021" y="27580"/>
                      </a:lnTo>
                      <a:lnTo>
                        <a:pt x="11630" y="26421"/>
                      </a:lnTo>
                      <a:lnTo>
                        <a:pt x="13038" y="23982"/>
                      </a:lnTo>
                      <a:lnTo>
                        <a:pt x="16792" y="23982"/>
                      </a:lnTo>
                      <a:lnTo>
                        <a:pt x="16389" y="26339"/>
                      </a:lnTo>
                      <a:lnTo>
                        <a:pt x="15585" y="28364"/>
                      </a:lnTo>
                      <a:lnTo>
                        <a:pt x="14479" y="30142"/>
                      </a:lnTo>
                      <a:lnTo>
                        <a:pt x="13206" y="31548"/>
                      </a:lnTo>
                      <a:lnTo>
                        <a:pt x="10524" y="-32292"/>
                      </a:lnTo>
                      <a:lnTo>
                        <a:pt x="9351" y="-32045"/>
                      </a:lnTo>
                      <a:lnTo>
                        <a:pt x="8513" y="-32250"/>
                      </a:lnTo>
                      <a:lnTo>
                        <a:pt x="6769" y="-32747"/>
                      </a:lnTo>
                      <a:lnTo>
                        <a:pt x="5129" y="31673"/>
                      </a:lnTo>
                      <a:lnTo>
                        <a:pt x="3620" y="30019"/>
                      </a:lnTo>
                      <a:lnTo>
                        <a:pt x="2346" y="27869"/>
                      </a:lnTo>
                      <a:lnTo>
                        <a:pt x="1272" y="25347"/>
                      </a:lnTo>
                      <a:lnTo>
                        <a:pt x="502" y="22451"/>
                      </a:lnTo>
                      <a:lnTo>
                        <a:pt x="66" y="19185"/>
                      </a:lnTo>
                      <a:lnTo>
                        <a:pt x="0" y="15629"/>
                      </a:lnTo>
                      <a:lnTo>
                        <a:pt x="66" y="135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2" name="Freeform: Shape 78"/>
                <p:cNvSpPr/>
                <p:nvPr/>
              </p:nvSpPr>
              <p:spPr>
                <a:xfrm rot="19440600">
                  <a:off x="8951760" y="139824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019" h="32666">
                      <a:moveTo>
                        <a:pt x="9018" y="0"/>
                      </a:moveTo>
                      <a:lnTo>
                        <a:pt x="9018" y="5830"/>
                      </a:lnTo>
                      <a:lnTo>
                        <a:pt x="3085" y="5830"/>
                      </a:lnTo>
                      <a:lnTo>
                        <a:pt x="3085" y="13934"/>
                      </a:lnTo>
                      <a:lnTo>
                        <a:pt x="8850" y="13934"/>
                      </a:lnTo>
                      <a:lnTo>
                        <a:pt x="8850" y="19764"/>
                      </a:lnTo>
                      <a:lnTo>
                        <a:pt x="3085" y="19764"/>
                      </a:lnTo>
                      <a:lnTo>
                        <a:pt x="3085" y="27166"/>
                      </a:lnTo>
                      <a:lnTo>
                        <a:pt x="9018" y="27166"/>
                      </a:lnTo>
                      <a:lnTo>
                        <a:pt x="9018" y="32665"/>
                      </a:lnTo>
                      <a:lnTo>
                        <a:pt x="0" y="32665"/>
                      </a:lnTo>
                      <a:lnTo>
                        <a:pt x="0" y="0"/>
                      </a:lnTo>
                      <a:lnTo>
                        <a:pt x="90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Freeform: Shape 79"/>
                <p:cNvSpPr/>
                <p:nvPr/>
              </p:nvSpPr>
              <p:spPr>
                <a:xfrm rot="19440600">
                  <a:off x="8889480" y="1440360"/>
                  <a:ext cx="12240" cy="18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7904" h="33694">
                      <a:moveTo>
                        <a:pt x="268" y="12898"/>
                      </a:moveTo>
                      <a:lnTo>
                        <a:pt x="971" y="9096"/>
                      </a:lnTo>
                      <a:lnTo>
                        <a:pt x="1979" y="6119"/>
                      </a:lnTo>
                      <a:lnTo>
                        <a:pt x="3185" y="3762"/>
                      </a:lnTo>
                      <a:lnTo>
                        <a:pt x="4626" y="2068"/>
                      </a:lnTo>
                      <a:lnTo>
                        <a:pt x="6102" y="869"/>
                      </a:lnTo>
                      <a:lnTo>
                        <a:pt x="7609" y="207"/>
                      </a:lnTo>
                      <a:lnTo>
                        <a:pt x="9053" y="0"/>
                      </a:lnTo>
                      <a:lnTo>
                        <a:pt x="11399" y="579"/>
                      </a:lnTo>
                      <a:lnTo>
                        <a:pt x="13376" y="2068"/>
                      </a:lnTo>
                      <a:lnTo>
                        <a:pt x="14953" y="4259"/>
                      </a:lnTo>
                      <a:lnTo>
                        <a:pt x="16227" y="6946"/>
                      </a:lnTo>
                      <a:lnTo>
                        <a:pt x="17668" y="12940"/>
                      </a:lnTo>
                      <a:lnTo>
                        <a:pt x="17903" y="15752"/>
                      </a:lnTo>
                      <a:lnTo>
                        <a:pt x="17903" y="18150"/>
                      </a:lnTo>
                      <a:lnTo>
                        <a:pt x="17333" y="22903"/>
                      </a:lnTo>
                      <a:lnTo>
                        <a:pt x="15926" y="27988"/>
                      </a:lnTo>
                      <a:lnTo>
                        <a:pt x="14752" y="30262"/>
                      </a:lnTo>
                      <a:lnTo>
                        <a:pt x="13209" y="32040"/>
                      </a:lnTo>
                      <a:lnTo>
                        <a:pt x="11197" y="-32297"/>
                      </a:lnTo>
                      <a:lnTo>
                        <a:pt x="8683" y="-31843"/>
                      </a:lnTo>
                      <a:lnTo>
                        <a:pt x="6471" y="-32339"/>
                      </a:lnTo>
                      <a:lnTo>
                        <a:pt x="4659" y="31875"/>
                      </a:lnTo>
                      <a:lnTo>
                        <a:pt x="3117" y="29932"/>
                      </a:lnTo>
                      <a:lnTo>
                        <a:pt x="1944" y="27492"/>
                      </a:lnTo>
                      <a:lnTo>
                        <a:pt x="435" y="22201"/>
                      </a:lnTo>
                      <a:lnTo>
                        <a:pt x="67" y="19637"/>
                      </a:lnTo>
                      <a:lnTo>
                        <a:pt x="0" y="17446"/>
                      </a:lnTo>
                      <a:lnTo>
                        <a:pt x="3251" y="17446"/>
                      </a:lnTo>
                      <a:lnTo>
                        <a:pt x="3486" y="14346"/>
                      </a:lnTo>
                      <a:lnTo>
                        <a:pt x="3956" y="11824"/>
                      </a:lnTo>
                      <a:lnTo>
                        <a:pt x="4694" y="9798"/>
                      </a:lnTo>
                      <a:lnTo>
                        <a:pt x="5532" y="8269"/>
                      </a:lnTo>
                      <a:lnTo>
                        <a:pt x="7374" y="6409"/>
                      </a:lnTo>
                      <a:lnTo>
                        <a:pt x="9053" y="5871"/>
                      </a:lnTo>
                      <a:lnTo>
                        <a:pt x="11097" y="6821"/>
                      </a:lnTo>
                      <a:lnTo>
                        <a:pt x="12908" y="9302"/>
                      </a:lnTo>
                      <a:lnTo>
                        <a:pt x="14180" y="12816"/>
                      </a:lnTo>
                      <a:lnTo>
                        <a:pt x="14617" y="16702"/>
                      </a:lnTo>
                      <a:lnTo>
                        <a:pt x="14215" y="20918"/>
                      </a:lnTo>
                      <a:lnTo>
                        <a:pt x="13008" y="24350"/>
                      </a:lnTo>
                      <a:lnTo>
                        <a:pt x="11132" y="26707"/>
                      </a:lnTo>
                      <a:lnTo>
                        <a:pt x="9958" y="27369"/>
                      </a:lnTo>
                      <a:lnTo>
                        <a:pt x="8683" y="27574"/>
                      </a:lnTo>
                      <a:lnTo>
                        <a:pt x="7241" y="27037"/>
                      </a:lnTo>
                      <a:lnTo>
                        <a:pt x="5532" y="25343"/>
                      </a:lnTo>
                      <a:lnTo>
                        <a:pt x="4726" y="23978"/>
                      </a:lnTo>
                      <a:lnTo>
                        <a:pt x="4058" y="22242"/>
                      </a:lnTo>
                      <a:lnTo>
                        <a:pt x="3520" y="20051"/>
                      </a:lnTo>
                      <a:lnTo>
                        <a:pt x="268" y="128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Freeform: Shape 80"/>
                <p:cNvSpPr/>
                <p:nvPr/>
              </p:nvSpPr>
              <p:spPr>
                <a:xfrm rot="19440600">
                  <a:off x="8898480" y="1432440"/>
                  <a:ext cx="4680" cy="172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8278" h="32666">
                      <a:moveTo>
                        <a:pt x="8277" y="0"/>
                      </a:moveTo>
                      <a:lnTo>
                        <a:pt x="8277" y="5499"/>
                      </a:lnTo>
                      <a:lnTo>
                        <a:pt x="3251" y="5499"/>
                      </a:lnTo>
                      <a:lnTo>
                        <a:pt x="3251" y="13231"/>
                      </a:lnTo>
                      <a:lnTo>
                        <a:pt x="8277" y="13231"/>
                      </a:lnTo>
                      <a:lnTo>
                        <a:pt x="8277" y="18813"/>
                      </a:lnTo>
                      <a:lnTo>
                        <a:pt x="3251" y="18813"/>
                      </a:lnTo>
                      <a:lnTo>
                        <a:pt x="3251" y="32665"/>
                      </a:lnTo>
                      <a:lnTo>
                        <a:pt x="0" y="32665"/>
                      </a:lnTo>
                      <a:lnTo>
                        <a:pt x="0" y="0"/>
                      </a:lnTo>
                      <a:lnTo>
                        <a:pt x="82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5" name="Freeform: Shape 81"/>
                <p:cNvSpPr/>
                <p:nvPr/>
              </p:nvSpPr>
              <p:spPr>
                <a:xfrm rot="19440600">
                  <a:off x="8895240" y="1425960"/>
                  <a:ext cx="4680" cy="15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8312" h="32666">
                      <a:moveTo>
                        <a:pt x="8311" y="0"/>
                      </a:moveTo>
                      <a:lnTo>
                        <a:pt x="8311" y="5499"/>
                      </a:lnTo>
                      <a:lnTo>
                        <a:pt x="3284" y="5499"/>
                      </a:lnTo>
                      <a:lnTo>
                        <a:pt x="3284" y="13231"/>
                      </a:lnTo>
                      <a:lnTo>
                        <a:pt x="8311" y="13231"/>
                      </a:lnTo>
                      <a:lnTo>
                        <a:pt x="8311" y="18813"/>
                      </a:lnTo>
                      <a:lnTo>
                        <a:pt x="3284" y="18813"/>
                      </a:lnTo>
                      <a:lnTo>
                        <a:pt x="3284" y="32665"/>
                      </a:lnTo>
                      <a:lnTo>
                        <a:pt x="0" y="32665"/>
                      </a:lnTo>
                      <a:lnTo>
                        <a:pt x="0" y="0"/>
                      </a:lnTo>
                      <a:lnTo>
                        <a:pt x="83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6" name="Freeform: Shape 82"/>
                <p:cNvSpPr/>
                <p:nvPr/>
              </p:nvSpPr>
              <p:spPr>
                <a:xfrm rot="19440600">
                  <a:off x="8840880" y="1468440"/>
                  <a:ext cx="30960" cy="108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8606" h="23979">
                      <a:moveTo>
                        <a:pt x="-16931" y="0"/>
                      </a:moveTo>
                      <a:lnTo>
                        <a:pt x="11733" y="0"/>
                      </a:lnTo>
                      <a:lnTo>
                        <a:pt x="7710" y="23978"/>
                      </a:lnTo>
                      <a:lnTo>
                        <a:pt x="2012" y="14469"/>
                      </a:lnTo>
                      <a:lnTo>
                        <a:pt x="0" y="14469"/>
                      </a:ln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7" name="Freeform: Shape 83"/>
                <p:cNvSpPr/>
                <p:nvPr/>
              </p:nvSpPr>
              <p:spPr>
                <a:xfrm rot="19440600">
                  <a:off x="8830080" y="1550520"/>
                  <a:ext cx="1440" cy="2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3217" h="5876">
                      <a:moveTo>
                        <a:pt x="0" y="0"/>
                      </a:moveTo>
                      <a:lnTo>
                        <a:pt x="3216" y="0"/>
                      </a:lnTo>
                      <a:lnTo>
                        <a:pt x="3216" y="5875"/>
                      </a:lnTo>
                      <a:lnTo>
                        <a:pt x="0" y="58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8" name="Freeform: Shape 84"/>
                <p:cNvSpPr/>
                <p:nvPr/>
              </p:nvSpPr>
              <p:spPr>
                <a:xfrm rot="19440600">
                  <a:off x="8822880" y="1548720"/>
                  <a:ext cx="6120" cy="158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1432" h="32785">
                      <a:moveTo>
                        <a:pt x="3251" y="0"/>
                      </a:moveTo>
                      <a:lnTo>
                        <a:pt x="5766" y="413"/>
                      </a:lnTo>
                      <a:lnTo>
                        <a:pt x="7709" y="1281"/>
                      </a:lnTo>
                      <a:lnTo>
                        <a:pt x="9085" y="2605"/>
                      </a:lnTo>
                      <a:lnTo>
                        <a:pt x="10090" y="4299"/>
                      </a:lnTo>
                      <a:lnTo>
                        <a:pt x="10760" y="6407"/>
                      </a:lnTo>
                      <a:lnTo>
                        <a:pt x="11431" y="11617"/>
                      </a:lnTo>
                      <a:lnTo>
                        <a:pt x="11396" y="12608"/>
                      </a:lnTo>
                      <a:lnTo>
                        <a:pt x="11228" y="13974"/>
                      </a:lnTo>
                      <a:lnTo>
                        <a:pt x="10458" y="17033"/>
                      </a:lnTo>
                      <a:lnTo>
                        <a:pt x="9018" y="19678"/>
                      </a:lnTo>
                      <a:lnTo>
                        <a:pt x="8045" y="20465"/>
                      </a:lnTo>
                      <a:lnTo>
                        <a:pt x="6905" y="20630"/>
                      </a:lnTo>
                      <a:lnTo>
                        <a:pt x="11431" y="-32752"/>
                      </a:lnTo>
                      <a:lnTo>
                        <a:pt x="7642" y="-32752"/>
                      </a:lnTo>
                      <a:lnTo>
                        <a:pt x="3118" y="20298"/>
                      </a:lnTo>
                      <a:lnTo>
                        <a:pt x="3118" y="-32752"/>
                      </a:lnTo>
                      <a:lnTo>
                        <a:pt x="0" y="-32752"/>
                      </a:lnTo>
                      <a:lnTo>
                        <a:pt x="0" y="123"/>
                      </a:lnTo>
                      <a:lnTo>
                        <a:pt x="3118" y="6366"/>
                      </a:lnTo>
                      <a:lnTo>
                        <a:pt x="4626" y="6366"/>
                      </a:lnTo>
                      <a:lnTo>
                        <a:pt x="6235" y="6779"/>
                      </a:lnTo>
                      <a:lnTo>
                        <a:pt x="7542" y="8102"/>
                      </a:lnTo>
                      <a:lnTo>
                        <a:pt x="7944" y="9261"/>
                      </a:lnTo>
                      <a:lnTo>
                        <a:pt x="8146" y="10832"/>
                      </a:lnTo>
                      <a:lnTo>
                        <a:pt x="8112" y="12485"/>
                      </a:lnTo>
                      <a:lnTo>
                        <a:pt x="7844" y="13807"/>
                      </a:lnTo>
                      <a:lnTo>
                        <a:pt x="6771" y="15378"/>
                      </a:lnTo>
                      <a:lnTo>
                        <a:pt x="5129" y="15999"/>
                      </a:lnTo>
                      <a:lnTo>
                        <a:pt x="3118" y="15750"/>
                      </a:lnTo>
                      <a:lnTo>
                        <a:pt x="32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9" name="Freeform: Shape 85"/>
                <p:cNvSpPr/>
                <p:nvPr/>
              </p:nvSpPr>
              <p:spPr>
                <a:xfrm rot="19440600">
                  <a:off x="8827200" y="153288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6999" h="33531">
                      <a:moveTo>
                        <a:pt x="102" y="13562"/>
                      </a:moveTo>
                      <a:lnTo>
                        <a:pt x="470" y="11122"/>
                      </a:lnTo>
                      <a:lnTo>
                        <a:pt x="2214" y="5872"/>
                      </a:lnTo>
                      <a:lnTo>
                        <a:pt x="3488" y="3515"/>
                      </a:lnTo>
                      <a:lnTo>
                        <a:pt x="4995" y="1613"/>
                      </a:lnTo>
                      <a:lnTo>
                        <a:pt x="6839" y="415"/>
                      </a:lnTo>
                      <a:lnTo>
                        <a:pt x="8885" y="0"/>
                      </a:lnTo>
                      <a:lnTo>
                        <a:pt x="11198" y="704"/>
                      </a:lnTo>
                      <a:lnTo>
                        <a:pt x="13645" y="2688"/>
                      </a:lnTo>
                      <a:lnTo>
                        <a:pt x="15690" y="5872"/>
                      </a:lnTo>
                      <a:lnTo>
                        <a:pt x="16497" y="7855"/>
                      </a:lnTo>
                      <a:lnTo>
                        <a:pt x="16998" y="10048"/>
                      </a:lnTo>
                      <a:lnTo>
                        <a:pt x="13244" y="10048"/>
                      </a:lnTo>
                      <a:lnTo>
                        <a:pt x="11567" y="7401"/>
                      </a:lnTo>
                      <a:lnTo>
                        <a:pt x="9858" y="6161"/>
                      </a:lnTo>
                      <a:lnTo>
                        <a:pt x="8215" y="6079"/>
                      </a:lnTo>
                      <a:lnTo>
                        <a:pt x="6706" y="6946"/>
                      </a:lnTo>
                      <a:lnTo>
                        <a:pt x="5398" y="8600"/>
                      </a:lnTo>
                      <a:lnTo>
                        <a:pt x="4359" y="10915"/>
                      </a:lnTo>
                      <a:lnTo>
                        <a:pt x="3723" y="13562"/>
                      </a:lnTo>
                      <a:lnTo>
                        <a:pt x="3488" y="16372"/>
                      </a:lnTo>
                      <a:lnTo>
                        <a:pt x="3688" y="19556"/>
                      </a:lnTo>
                      <a:lnTo>
                        <a:pt x="4393" y="22408"/>
                      </a:lnTo>
                      <a:lnTo>
                        <a:pt x="5500" y="24848"/>
                      </a:lnTo>
                      <a:lnTo>
                        <a:pt x="6873" y="26667"/>
                      </a:lnTo>
                      <a:lnTo>
                        <a:pt x="8450" y="27618"/>
                      </a:lnTo>
                      <a:lnTo>
                        <a:pt x="10091" y="27618"/>
                      </a:lnTo>
                      <a:lnTo>
                        <a:pt x="11601" y="26502"/>
                      </a:lnTo>
                      <a:lnTo>
                        <a:pt x="13042" y="24021"/>
                      </a:lnTo>
                      <a:lnTo>
                        <a:pt x="16831" y="24021"/>
                      </a:lnTo>
                      <a:lnTo>
                        <a:pt x="16429" y="26419"/>
                      </a:lnTo>
                      <a:lnTo>
                        <a:pt x="15624" y="28445"/>
                      </a:lnTo>
                      <a:lnTo>
                        <a:pt x="14483" y="30181"/>
                      </a:lnTo>
                      <a:lnTo>
                        <a:pt x="13209" y="31587"/>
                      </a:lnTo>
                      <a:lnTo>
                        <a:pt x="10529" y="-32213"/>
                      </a:lnTo>
                      <a:lnTo>
                        <a:pt x="9388" y="-32006"/>
                      </a:lnTo>
                      <a:lnTo>
                        <a:pt x="8517" y="-32171"/>
                      </a:lnTo>
                      <a:lnTo>
                        <a:pt x="6806" y="-32750"/>
                      </a:lnTo>
                      <a:lnTo>
                        <a:pt x="5164" y="31711"/>
                      </a:lnTo>
                      <a:lnTo>
                        <a:pt x="3688" y="30056"/>
                      </a:lnTo>
                      <a:lnTo>
                        <a:pt x="2381" y="27948"/>
                      </a:lnTo>
                      <a:lnTo>
                        <a:pt x="1308" y="25385"/>
                      </a:lnTo>
                      <a:lnTo>
                        <a:pt x="503" y="22450"/>
                      </a:lnTo>
                      <a:lnTo>
                        <a:pt x="67" y="19226"/>
                      </a:lnTo>
                      <a:lnTo>
                        <a:pt x="0" y="15670"/>
                      </a:lnTo>
                      <a:lnTo>
                        <a:pt x="102" y="135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0" name="Freeform: Shape 86"/>
                <p:cNvSpPr/>
                <p:nvPr/>
              </p:nvSpPr>
              <p:spPr>
                <a:xfrm rot="19440600">
                  <a:off x="8846280" y="152676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869" h="33072">
                      <a:moveTo>
                        <a:pt x="0" y="0"/>
                      </a:moveTo>
                      <a:lnTo>
                        <a:pt x="4325" y="0"/>
                      </a:lnTo>
                      <a:lnTo>
                        <a:pt x="9018" y="25424"/>
                      </a:lnTo>
                      <a:lnTo>
                        <a:pt x="13710" y="0"/>
                      </a:lnTo>
                      <a:lnTo>
                        <a:pt x="17868" y="0"/>
                      </a:lnTo>
                      <a:lnTo>
                        <a:pt x="17868" y="-32465"/>
                      </a:lnTo>
                      <a:lnTo>
                        <a:pt x="14648" y="-32465"/>
                      </a:lnTo>
                      <a:lnTo>
                        <a:pt x="14648" y="9426"/>
                      </a:lnTo>
                      <a:lnTo>
                        <a:pt x="10325" y="-32465"/>
                      </a:lnTo>
                      <a:lnTo>
                        <a:pt x="7811" y="-32465"/>
                      </a:lnTo>
                      <a:lnTo>
                        <a:pt x="3251" y="9426"/>
                      </a:lnTo>
                      <a:lnTo>
                        <a:pt x="3251" y="-32465"/>
                      </a:lnTo>
                      <a:lnTo>
                        <a:pt x="0" y="-3246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1" name="Freeform: Shape 87"/>
                <p:cNvSpPr/>
                <p:nvPr/>
              </p:nvSpPr>
              <p:spPr>
                <a:xfrm rot="19440600">
                  <a:off x="8718120" y="1353960"/>
                  <a:ext cx="195480" cy="442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15247" h="88888">
                      <a:moveTo>
                        <a:pt x="315246" y="0"/>
                      </a:moveTo>
                      <a:lnTo>
                        <a:pt x="315246" y="88887"/>
                      </a:lnTo>
                      <a:lnTo>
                        <a:pt x="0" y="88887"/>
                      </a:lnTo>
                      <a:lnTo>
                        <a:pt x="0" y="0"/>
                      </a:lnTo>
                      <a:lnTo>
                        <a:pt x="315246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Freeform: Shape 88"/>
                <p:cNvSpPr/>
                <p:nvPr/>
              </p:nvSpPr>
              <p:spPr>
                <a:xfrm rot="19440600">
                  <a:off x="8718120" y="1353960"/>
                  <a:ext cx="195480" cy="442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15111" h="88474">
                      <a:moveTo>
                        <a:pt x="0" y="0"/>
                      </a:moveTo>
                      <a:lnTo>
                        <a:pt x="0" y="88473"/>
                      </a:lnTo>
                      <a:lnTo>
                        <a:pt x="315110" y="88473"/>
                      </a:lnTo>
                      <a:lnTo>
                        <a:pt x="3151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3" name="Freeform: Shape 89"/>
                <p:cNvSpPr/>
                <p:nvPr/>
              </p:nvSpPr>
              <p:spPr>
                <a:xfrm rot="19440600">
                  <a:off x="8699400" y="1338480"/>
                  <a:ext cx="225000" cy="8424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8687" h="157106">
                      <a:moveTo>
                        <a:pt x="0" y="0"/>
                      </a:moveTo>
                      <a:lnTo>
                        <a:pt x="0" y="157105"/>
                      </a:lnTo>
                      <a:lnTo>
                        <a:pt x="358686" y="157105"/>
                      </a:lnTo>
                      <a:lnTo>
                        <a:pt x="35868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Straight Connector 90"/>
                <p:cNvSpPr/>
                <p:nvPr/>
              </p:nvSpPr>
              <p:spPr>
                <a:xfrm flipV="1">
                  <a:off x="8822520" y="1339560"/>
                  <a:ext cx="11160" cy="79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Straight Connector 91"/>
                <p:cNvSpPr/>
                <p:nvPr/>
              </p:nvSpPr>
              <p:spPr>
                <a:xfrm>
                  <a:off x="8839800" y="1341720"/>
                  <a:ext cx="6480" cy="86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Straight Connector 92"/>
                <p:cNvSpPr/>
                <p:nvPr/>
              </p:nvSpPr>
              <p:spPr>
                <a:xfrm flipV="1">
                  <a:off x="8833680" y="1353600"/>
                  <a:ext cx="1116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Straight Connector 93"/>
                <p:cNvSpPr/>
                <p:nvPr/>
              </p:nvSpPr>
              <p:spPr>
                <a:xfrm>
                  <a:off x="8833320" y="1363680"/>
                  <a:ext cx="7200" cy="104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8" name="Straight Connector 94"/>
                <p:cNvSpPr/>
                <p:nvPr/>
              </p:nvSpPr>
              <p:spPr>
                <a:xfrm flipV="1">
                  <a:off x="8843040" y="1368000"/>
                  <a:ext cx="1152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Straight Connector 95"/>
                <p:cNvSpPr/>
                <p:nvPr/>
              </p:nvSpPr>
              <p:spPr>
                <a:xfrm flipV="1">
                  <a:off x="8841240" y="1323720"/>
                  <a:ext cx="1152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Straight Connector 96"/>
                <p:cNvSpPr/>
                <p:nvPr/>
              </p:nvSpPr>
              <p:spPr>
                <a:xfrm>
                  <a:off x="8844840" y="1336680"/>
                  <a:ext cx="6120" cy="86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1" name="Straight Connector 97"/>
                <p:cNvSpPr/>
                <p:nvPr/>
              </p:nvSpPr>
              <p:spPr>
                <a:xfrm flipV="1">
                  <a:off x="8853480" y="1340640"/>
                  <a:ext cx="8640" cy="61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2" name="Straight Connector 98"/>
                <p:cNvSpPr/>
                <p:nvPr/>
              </p:nvSpPr>
              <p:spPr>
                <a:xfrm>
                  <a:off x="8863920" y="1341720"/>
                  <a:ext cx="8280" cy="115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3" name="Straight Connector 99"/>
                <p:cNvSpPr/>
                <p:nvPr/>
              </p:nvSpPr>
              <p:spPr>
                <a:xfrm flipV="1">
                  <a:off x="8860680" y="1353960"/>
                  <a:ext cx="1116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4" name="Straight Connector 100"/>
                <p:cNvSpPr/>
                <p:nvPr/>
              </p:nvSpPr>
              <p:spPr>
                <a:xfrm>
                  <a:off x="8859960" y="1324440"/>
                  <a:ext cx="16560" cy="230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5" name="Straight Connector 101"/>
                <p:cNvSpPr/>
                <p:nvPr/>
              </p:nvSpPr>
              <p:spPr>
                <a:xfrm flipV="1">
                  <a:off x="8880480" y="1342080"/>
                  <a:ext cx="9720" cy="68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Straight Connector 102"/>
                <p:cNvSpPr/>
                <p:nvPr/>
              </p:nvSpPr>
              <p:spPr>
                <a:xfrm>
                  <a:off x="8875440" y="1313640"/>
                  <a:ext cx="16560" cy="230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7" name="Straight Connector 103"/>
                <p:cNvSpPr/>
                <p:nvPr/>
              </p:nvSpPr>
              <p:spPr>
                <a:xfrm flipV="1">
                  <a:off x="8862840" y="1313640"/>
                  <a:ext cx="10080" cy="720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8" name="Freeform: Shape 104"/>
                <p:cNvSpPr/>
                <p:nvPr/>
              </p:nvSpPr>
              <p:spPr>
                <a:xfrm rot="19440600">
                  <a:off x="8815320" y="1384200"/>
                  <a:ext cx="236160" cy="330480"/>
                </a:xfrm>
                <a:custGeom>
                  <a:avLst/>
                  <a:gdLst>
                    <a:gd name="textAreaLeft" fmla="*/ 0 w 236160"/>
                    <a:gd name="textAreaRight" fmla="*/ 236520 w 236160"/>
                    <a:gd name="textAreaTop" fmla="*/ 0 h 330480"/>
                    <a:gd name="textAreaBottom" fmla="*/ 330840 h 330480"/>
                  </a:gdLst>
                  <a:ahLst/>
                  <a:rect l="textAreaLeft" t="textAreaTop" r="textAreaRight" b="textAreaBottom"/>
                  <a:pathLst>
                    <a:path w="360368" h="642896">
                      <a:moveTo>
                        <a:pt x="0" y="0"/>
                      </a:moveTo>
                      <a:lnTo>
                        <a:pt x="0" y="642895"/>
                      </a:lnTo>
                      <a:lnTo>
                        <a:pt x="360367" y="642895"/>
                      </a:lnTo>
                      <a:lnTo>
                        <a:pt x="3603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09" name="Group 114"/>
            <p:cNvGrpSpPr/>
            <p:nvPr/>
          </p:nvGrpSpPr>
          <p:grpSpPr>
            <a:xfrm>
              <a:off x="8465400" y="1424880"/>
              <a:ext cx="506160" cy="544680"/>
              <a:chOff x="8465400" y="1424880"/>
              <a:chExt cx="506160" cy="544680"/>
            </a:xfrm>
          </p:grpSpPr>
          <p:sp>
            <p:nvSpPr>
              <p:cNvPr id="510" name="Freeform: Shape 107"/>
              <p:cNvSpPr/>
              <p:nvPr/>
            </p:nvSpPr>
            <p:spPr>
              <a:xfrm rot="17170200">
                <a:off x="8588880" y="1425600"/>
                <a:ext cx="51840" cy="666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96974" h="107265">
                    <a:moveTo>
                      <a:pt x="66382" y="32562"/>
                    </a:moveTo>
                    <a:lnTo>
                      <a:pt x="60526" y="27335"/>
                    </a:lnTo>
                    <a:lnTo>
                      <a:pt x="54210" y="23304"/>
                    </a:lnTo>
                    <a:lnTo>
                      <a:pt x="46908" y="20029"/>
                    </a:lnTo>
                    <a:lnTo>
                      <a:pt x="38289" y="17132"/>
                    </a:lnTo>
                    <a:lnTo>
                      <a:pt x="27829" y="14108"/>
                    </a:lnTo>
                    <a:lnTo>
                      <a:pt x="21842" y="12471"/>
                    </a:lnTo>
                    <a:lnTo>
                      <a:pt x="15197" y="10518"/>
                    </a:lnTo>
                    <a:lnTo>
                      <a:pt x="7961" y="8440"/>
                    </a:lnTo>
                    <a:lnTo>
                      <a:pt x="0" y="5983"/>
                    </a:lnTo>
                    <a:lnTo>
                      <a:pt x="9605" y="3149"/>
                    </a:lnTo>
                    <a:lnTo>
                      <a:pt x="18684" y="1259"/>
                    </a:lnTo>
                    <a:lnTo>
                      <a:pt x="27105" y="189"/>
                    </a:lnTo>
                    <a:lnTo>
                      <a:pt x="35065" y="0"/>
                    </a:lnTo>
                    <a:lnTo>
                      <a:pt x="42566" y="566"/>
                    </a:lnTo>
                    <a:lnTo>
                      <a:pt x="49408" y="1889"/>
                    </a:lnTo>
                    <a:lnTo>
                      <a:pt x="55723" y="3841"/>
                    </a:lnTo>
                    <a:lnTo>
                      <a:pt x="61645" y="6487"/>
                    </a:lnTo>
                    <a:lnTo>
                      <a:pt x="66974" y="9573"/>
                    </a:lnTo>
                    <a:lnTo>
                      <a:pt x="71843" y="13163"/>
                    </a:lnTo>
                    <a:lnTo>
                      <a:pt x="76251" y="17258"/>
                    </a:lnTo>
                    <a:lnTo>
                      <a:pt x="80197" y="21729"/>
                    </a:lnTo>
                    <a:lnTo>
                      <a:pt x="83684" y="26579"/>
                    </a:lnTo>
                    <a:lnTo>
                      <a:pt x="86777" y="31617"/>
                    </a:lnTo>
                    <a:lnTo>
                      <a:pt x="91645" y="42388"/>
                    </a:lnTo>
                    <a:lnTo>
                      <a:pt x="94934" y="53600"/>
                    </a:lnTo>
                    <a:lnTo>
                      <a:pt x="96645" y="64812"/>
                    </a:lnTo>
                    <a:lnTo>
                      <a:pt x="96973" y="75581"/>
                    </a:lnTo>
                    <a:lnTo>
                      <a:pt x="95987" y="85407"/>
                    </a:lnTo>
                    <a:lnTo>
                      <a:pt x="95067" y="89880"/>
                    </a:lnTo>
                    <a:lnTo>
                      <a:pt x="93750" y="93973"/>
                    </a:lnTo>
                    <a:lnTo>
                      <a:pt x="92237" y="97627"/>
                    </a:lnTo>
                    <a:lnTo>
                      <a:pt x="90396" y="100775"/>
                    </a:lnTo>
                    <a:lnTo>
                      <a:pt x="88291" y="103359"/>
                    </a:lnTo>
                    <a:lnTo>
                      <a:pt x="85921" y="105374"/>
                    </a:lnTo>
                    <a:lnTo>
                      <a:pt x="83356" y="106634"/>
                    </a:lnTo>
                    <a:lnTo>
                      <a:pt x="80526" y="107264"/>
                    </a:lnTo>
                    <a:lnTo>
                      <a:pt x="82435" y="99453"/>
                    </a:lnTo>
                    <a:lnTo>
                      <a:pt x="83684" y="91013"/>
                    </a:lnTo>
                    <a:lnTo>
                      <a:pt x="84144" y="82070"/>
                    </a:lnTo>
                    <a:lnTo>
                      <a:pt x="83750" y="72936"/>
                    </a:lnTo>
                    <a:lnTo>
                      <a:pt x="82435" y="63867"/>
                    </a:lnTo>
                    <a:lnTo>
                      <a:pt x="80133" y="55049"/>
                    </a:lnTo>
                    <a:lnTo>
                      <a:pt x="76711" y="46798"/>
                    </a:lnTo>
                    <a:lnTo>
                      <a:pt x="72104" y="39366"/>
                    </a:lnTo>
                    <a:lnTo>
                      <a:pt x="66382" y="3256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: Shape 108"/>
              <p:cNvSpPr/>
              <p:nvPr/>
            </p:nvSpPr>
            <p:spPr>
              <a:xfrm rot="17170200">
                <a:off x="8587800" y="1438920"/>
                <a:ext cx="70920" cy="77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32044" h="124272">
                    <a:moveTo>
                      <a:pt x="59014" y="883"/>
                    </a:moveTo>
                    <a:lnTo>
                      <a:pt x="71121" y="2520"/>
                    </a:lnTo>
                    <a:lnTo>
                      <a:pt x="81910" y="4914"/>
                    </a:lnTo>
                    <a:lnTo>
                      <a:pt x="91646" y="8062"/>
                    </a:lnTo>
                    <a:lnTo>
                      <a:pt x="100200" y="11842"/>
                    </a:lnTo>
                    <a:lnTo>
                      <a:pt x="107635" y="16377"/>
                    </a:lnTo>
                    <a:lnTo>
                      <a:pt x="113951" y="21479"/>
                    </a:lnTo>
                    <a:lnTo>
                      <a:pt x="119280" y="27210"/>
                    </a:lnTo>
                    <a:lnTo>
                      <a:pt x="123688" y="33446"/>
                    </a:lnTo>
                    <a:lnTo>
                      <a:pt x="127109" y="40248"/>
                    </a:lnTo>
                    <a:lnTo>
                      <a:pt x="129543" y="47492"/>
                    </a:lnTo>
                    <a:lnTo>
                      <a:pt x="131254" y="55176"/>
                    </a:lnTo>
                    <a:lnTo>
                      <a:pt x="132043" y="63301"/>
                    </a:lnTo>
                    <a:lnTo>
                      <a:pt x="132043" y="71804"/>
                    </a:lnTo>
                    <a:lnTo>
                      <a:pt x="131254" y="80623"/>
                    </a:lnTo>
                    <a:lnTo>
                      <a:pt x="129806" y="89755"/>
                    </a:lnTo>
                    <a:lnTo>
                      <a:pt x="125926" y="94668"/>
                    </a:lnTo>
                    <a:lnTo>
                      <a:pt x="122306" y="99077"/>
                    </a:lnTo>
                    <a:lnTo>
                      <a:pt x="114609" y="107077"/>
                    </a:lnTo>
                    <a:lnTo>
                      <a:pt x="110200" y="110981"/>
                    </a:lnTo>
                    <a:lnTo>
                      <a:pt x="105004" y="115012"/>
                    </a:lnTo>
                    <a:lnTo>
                      <a:pt x="98818" y="119359"/>
                    </a:lnTo>
                    <a:lnTo>
                      <a:pt x="91384" y="124271"/>
                    </a:lnTo>
                    <a:lnTo>
                      <a:pt x="89016" y="108462"/>
                    </a:lnTo>
                    <a:lnTo>
                      <a:pt x="87042" y="100777"/>
                    </a:lnTo>
                    <a:lnTo>
                      <a:pt x="84541" y="93156"/>
                    </a:lnTo>
                    <a:lnTo>
                      <a:pt x="81450" y="85850"/>
                    </a:lnTo>
                    <a:lnTo>
                      <a:pt x="77700" y="78669"/>
                    </a:lnTo>
                    <a:lnTo>
                      <a:pt x="73292" y="71867"/>
                    </a:lnTo>
                    <a:lnTo>
                      <a:pt x="68291" y="65317"/>
                    </a:lnTo>
                    <a:lnTo>
                      <a:pt x="62436" y="59144"/>
                    </a:lnTo>
                    <a:lnTo>
                      <a:pt x="55987" y="53349"/>
                    </a:lnTo>
                    <a:lnTo>
                      <a:pt x="48686" y="47933"/>
                    </a:lnTo>
                    <a:lnTo>
                      <a:pt x="40659" y="43083"/>
                    </a:lnTo>
                    <a:lnTo>
                      <a:pt x="31776" y="38674"/>
                    </a:lnTo>
                    <a:lnTo>
                      <a:pt x="22106" y="34831"/>
                    </a:lnTo>
                    <a:lnTo>
                      <a:pt x="11513" y="31494"/>
                    </a:lnTo>
                    <a:lnTo>
                      <a:pt x="0" y="28785"/>
                    </a:lnTo>
                    <a:lnTo>
                      <a:pt x="8486" y="22046"/>
                    </a:lnTo>
                    <a:lnTo>
                      <a:pt x="18355" y="15307"/>
                    </a:lnTo>
                    <a:lnTo>
                      <a:pt x="24079" y="11716"/>
                    </a:lnTo>
                    <a:lnTo>
                      <a:pt x="30461" y="8062"/>
                    </a:lnTo>
                    <a:lnTo>
                      <a:pt x="37566" y="4221"/>
                    </a:lnTo>
                    <a:lnTo>
                      <a:pt x="45725" y="0"/>
                    </a:lnTo>
                    <a:lnTo>
                      <a:pt x="59014" y="88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: Shape 109"/>
              <p:cNvSpPr/>
              <p:nvPr/>
            </p:nvSpPr>
            <p:spPr>
              <a:xfrm rot="17170200">
                <a:off x="8526600" y="1535040"/>
                <a:ext cx="346680" cy="284040"/>
              </a:xfrm>
              <a:custGeom>
                <a:avLst/>
                <a:gdLst>
                  <a:gd name="textAreaLeft" fmla="*/ 0 w 346680"/>
                  <a:gd name="textAreaRight" fmla="*/ 347040 w 34668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644160" h="482846">
                    <a:moveTo>
                      <a:pt x="644159" y="34516"/>
                    </a:moveTo>
                    <a:lnTo>
                      <a:pt x="628368" y="46860"/>
                    </a:lnTo>
                    <a:lnTo>
                      <a:pt x="611987" y="59458"/>
                    </a:lnTo>
                    <a:lnTo>
                      <a:pt x="595080" y="72433"/>
                    </a:lnTo>
                    <a:lnTo>
                      <a:pt x="577645" y="85597"/>
                    </a:lnTo>
                    <a:lnTo>
                      <a:pt x="559683" y="98949"/>
                    </a:lnTo>
                    <a:lnTo>
                      <a:pt x="541328" y="112555"/>
                    </a:lnTo>
                    <a:lnTo>
                      <a:pt x="503234" y="140395"/>
                    </a:lnTo>
                    <a:lnTo>
                      <a:pt x="463826" y="168801"/>
                    </a:lnTo>
                    <a:lnTo>
                      <a:pt x="423364" y="197773"/>
                    </a:lnTo>
                    <a:lnTo>
                      <a:pt x="382113" y="227062"/>
                    </a:lnTo>
                    <a:lnTo>
                      <a:pt x="340336" y="256602"/>
                    </a:lnTo>
                    <a:lnTo>
                      <a:pt x="256519" y="315619"/>
                    </a:lnTo>
                    <a:lnTo>
                      <a:pt x="215005" y="344844"/>
                    </a:lnTo>
                    <a:lnTo>
                      <a:pt x="174280" y="373629"/>
                    </a:lnTo>
                    <a:lnTo>
                      <a:pt x="134477" y="401971"/>
                    </a:lnTo>
                    <a:lnTo>
                      <a:pt x="95990" y="429560"/>
                    </a:lnTo>
                    <a:lnTo>
                      <a:pt x="77239" y="443038"/>
                    </a:lnTo>
                    <a:lnTo>
                      <a:pt x="59015" y="456329"/>
                    </a:lnTo>
                    <a:lnTo>
                      <a:pt x="41251" y="469366"/>
                    </a:lnTo>
                    <a:lnTo>
                      <a:pt x="23948" y="482089"/>
                    </a:lnTo>
                    <a:lnTo>
                      <a:pt x="22238" y="482719"/>
                    </a:lnTo>
                    <a:lnTo>
                      <a:pt x="20198" y="482845"/>
                    </a:lnTo>
                    <a:lnTo>
                      <a:pt x="18027" y="482467"/>
                    </a:lnTo>
                    <a:lnTo>
                      <a:pt x="15658" y="481649"/>
                    </a:lnTo>
                    <a:lnTo>
                      <a:pt x="10856" y="478688"/>
                    </a:lnTo>
                    <a:lnTo>
                      <a:pt x="6382" y="474217"/>
                    </a:lnTo>
                    <a:lnTo>
                      <a:pt x="4343" y="471382"/>
                    </a:lnTo>
                    <a:lnTo>
                      <a:pt x="2698" y="468232"/>
                    </a:lnTo>
                    <a:lnTo>
                      <a:pt x="1382" y="464706"/>
                    </a:lnTo>
                    <a:lnTo>
                      <a:pt x="460" y="460864"/>
                    </a:lnTo>
                    <a:lnTo>
                      <a:pt x="0" y="456769"/>
                    </a:lnTo>
                    <a:lnTo>
                      <a:pt x="133" y="452424"/>
                    </a:lnTo>
                    <a:lnTo>
                      <a:pt x="855" y="447825"/>
                    </a:lnTo>
                    <a:lnTo>
                      <a:pt x="2303" y="442976"/>
                    </a:lnTo>
                    <a:lnTo>
                      <a:pt x="17830" y="431512"/>
                    </a:lnTo>
                    <a:lnTo>
                      <a:pt x="33949" y="419482"/>
                    </a:lnTo>
                    <a:lnTo>
                      <a:pt x="50725" y="407137"/>
                    </a:lnTo>
                    <a:lnTo>
                      <a:pt x="67962" y="394224"/>
                    </a:lnTo>
                    <a:lnTo>
                      <a:pt x="85727" y="380935"/>
                    </a:lnTo>
                    <a:lnTo>
                      <a:pt x="103884" y="367330"/>
                    </a:lnTo>
                    <a:lnTo>
                      <a:pt x="122570" y="353347"/>
                    </a:lnTo>
                    <a:lnTo>
                      <a:pt x="141648" y="339113"/>
                    </a:lnTo>
                    <a:lnTo>
                      <a:pt x="180596" y="309888"/>
                    </a:lnTo>
                    <a:lnTo>
                      <a:pt x="220663" y="279969"/>
                    </a:lnTo>
                    <a:lnTo>
                      <a:pt x="261453" y="249547"/>
                    </a:lnTo>
                    <a:lnTo>
                      <a:pt x="302639" y="218937"/>
                    </a:lnTo>
                    <a:lnTo>
                      <a:pt x="343956" y="188389"/>
                    </a:lnTo>
                    <a:lnTo>
                      <a:pt x="385009" y="158156"/>
                    </a:lnTo>
                    <a:lnTo>
                      <a:pt x="425536" y="128553"/>
                    </a:lnTo>
                    <a:lnTo>
                      <a:pt x="465208" y="99894"/>
                    </a:lnTo>
                    <a:lnTo>
                      <a:pt x="484616" y="86037"/>
                    </a:lnTo>
                    <a:lnTo>
                      <a:pt x="503761" y="72495"/>
                    </a:lnTo>
                    <a:lnTo>
                      <a:pt x="522511" y="59332"/>
                    </a:lnTo>
                    <a:lnTo>
                      <a:pt x="540867" y="46483"/>
                    </a:lnTo>
                    <a:lnTo>
                      <a:pt x="558696" y="34138"/>
                    </a:lnTo>
                    <a:lnTo>
                      <a:pt x="576131" y="22234"/>
                    </a:lnTo>
                    <a:lnTo>
                      <a:pt x="592973" y="10833"/>
                    </a:lnTo>
                    <a:lnTo>
                      <a:pt x="609289" y="0"/>
                    </a:lnTo>
                    <a:lnTo>
                      <a:pt x="614092" y="2267"/>
                    </a:lnTo>
                    <a:lnTo>
                      <a:pt x="618435" y="4535"/>
                    </a:lnTo>
                    <a:lnTo>
                      <a:pt x="625344" y="8754"/>
                    </a:lnTo>
                    <a:lnTo>
                      <a:pt x="630540" y="12849"/>
                    </a:lnTo>
                    <a:lnTo>
                      <a:pt x="634356" y="16817"/>
                    </a:lnTo>
                    <a:lnTo>
                      <a:pt x="637185" y="20848"/>
                    </a:lnTo>
                    <a:lnTo>
                      <a:pt x="639554" y="25067"/>
                    </a:lnTo>
                    <a:lnTo>
                      <a:pt x="641725" y="29602"/>
                    </a:lnTo>
                    <a:lnTo>
                      <a:pt x="644159" y="345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: Shape 110"/>
              <p:cNvSpPr/>
              <p:nvPr/>
            </p:nvSpPr>
            <p:spPr>
              <a:xfrm rot="17170200">
                <a:off x="8506080" y="1554120"/>
                <a:ext cx="352800" cy="27468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646068" h="463068">
                    <a:moveTo>
                      <a:pt x="643501" y="24185"/>
                    </a:moveTo>
                    <a:lnTo>
                      <a:pt x="627777" y="36468"/>
                    </a:lnTo>
                    <a:lnTo>
                      <a:pt x="611659" y="49002"/>
                    </a:lnTo>
                    <a:lnTo>
                      <a:pt x="578103" y="74700"/>
                    </a:lnTo>
                    <a:lnTo>
                      <a:pt x="543104" y="101028"/>
                    </a:lnTo>
                    <a:lnTo>
                      <a:pt x="506722" y="128049"/>
                    </a:lnTo>
                    <a:lnTo>
                      <a:pt x="469353" y="155573"/>
                    </a:lnTo>
                    <a:lnTo>
                      <a:pt x="431128" y="183475"/>
                    </a:lnTo>
                    <a:lnTo>
                      <a:pt x="392244" y="211630"/>
                    </a:lnTo>
                    <a:lnTo>
                      <a:pt x="352902" y="239974"/>
                    </a:lnTo>
                    <a:lnTo>
                      <a:pt x="273953" y="296660"/>
                    </a:lnTo>
                    <a:lnTo>
                      <a:pt x="234743" y="324815"/>
                    </a:lnTo>
                    <a:lnTo>
                      <a:pt x="195925" y="352655"/>
                    </a:lnTo>
                    <a:lnTo>
                      <a:pt x="157831" y="380116"/>
                    </a:lnTo>
                    <a:lnTo>
                      <a:pt x="120662" y="407073"/>
                    </a:lnTo>
                    <a:lnTo>
                      <a:pt x="84541" y="433464"/>
                    </a:lnTo>
                    <a:lnTo>
                      <a:pt x="49738" y="459100"/>
                    </a:lnTo>
                    <a:lnTo>
                      <a:pt x="39935" y="461618"/>
                    </a:lnTo>
                    <a:lnTo>
                      <a:pt x="29869" y="463005"/>
                    </a:lnTo>
                    <a:lnTo>
                      <a:pt x="20329" y="463067"/>
                    </a:lnTo>
                    <a:lnTo>
                      <a:pt x="15921" y="462626"/>
                    </a:lnTo>
                    <a:lnTo>
                      <a:pt x="11907" y="461745"/>
                    </a:lnTo>
                    <a:lnTo>
                      <a:pt x="8289" y="460422"/>
                    </a:lnTo>
                    <a:lnTo>
                      <a:pt x="5262" y="458659"/>
                    </a:lnTo>
                    <a:lnTo>
                      <a:pt x="2829" y="456580"/>
                    </a:lnTo>
                    <a:lnTo>
                      <a:pt x="1053" y="453934"/>
                    </a:lnTo>
                    <a:lnTo>
                      <a:pt x="132" y="450848"/>
                    </a:lnTo>
                    <a:lnTo>
                      <a:pt x="0" y="447194"/>
                    </a:lnTo>
                    <a:lnTo>
                      <a:pt x="921" y="443101"/>
                    </a:lnTo>
                    <a:lnTo>
                      <a:pt x="2894" y="438439"/>
                    </a:lnTo>
                    <a:lnTo>
                      <a:pt x="18355" y="426914"/>
                    </a:lnTo>
                    <a:lnTo>
                      <a:pt x="34409" y="415009"/>
                    </a:lnTo>
                    <a:lnTo>
                      <a:pt x="51053" y="402664"/>
                    </a:lnTo>
                    <a:lnTo>
                      <a:pt x="68225" y="389815"/>
                    </a:lnTo>
                    <a:lnTo>
                      <a:pt x="85857" y="376651"/>
                    </a:lnTo>
                    <a:lnTo>
                      <a:pt x="103817" y="363173"/>
                    </a:lnTo>
                    <a:lnTo>
                      <a:pt x="122238" y="349379"/>
                    </a:lnTo>
                    <a:lnTo>
                      <a:pt x="140990" y="335271"/>
                    </a:lnTo>
                    <a:lnTo>
                      <a:pt x="179477" y="306423"/>
                    </a:lnTo>
                    <a:lnTo>
                      <a:pt x="218952" y="276820"/>
                    </a:lnTo>
                    <a:lnTo>
                      <a:pt x="259083" y="246838"/>
                    </a:lnTo>
                    <a:lnTo>
                      <a:pt x="299612" y="216606"/>
                    </a:lnTo>
                    <a:lnTo>
                      <a:pt x="340205" y="186499"/>
                    </a:lnTo>
                    <a:lnTo>
                      <a:pt x="380666" y="156706"/>
                    </a:lnTo>
                    <a:lnTo>
                      <a:pt x="420535" y="127544"/>
                    </a:lnTo>
                    <a:lnTo>
                      <a:pt x="459747" y="99264"/>
                    </a:lnTo>
                    <a:lnTo>
                      <a:pt x="478892" y="85471"/>
                    </a:lnTo>
                    <a:lnTo>
                      <a:pt x="497773" y="72054"/>
                    </a:lnTo>
                    <a:lnTo>
                      <a:pt x="516327" y="59016"/>
                    </a:lnTo>
                    <a:lnTo>
                      <a:pt x="534550" y="46294"/>
                    </a:lnTo>
                    <a:lnTo>
                      <a:pt x="552248" y="34012"/>
                    </a:lnTo>
                    <a:lnTo>
                      <a:pt x="569551" y="22233"/>
                    </a:lnTo>
                    <a:lnTo>
                      <a:pt x="586328" y="10896"/>
                    </a:lnTo>
                    <a:lnTo>
                      <a:pt x="602579" y="0"/>
                    </a:lnTo>
                    <a:lnTo>
                      <a:pt x="610473" y="1826"/>
                    </a:lnTo>
                    <a:lnTo>
                      <a:pt x="617447" y="3463"/>
                    </a:lnTo>
                    <a:lnTo>
                      <a:pt x="623435" y="4912"/>
                    </a:lnTo>
                    <a:lnTo>
                      <a:pt x="628632" y="6235"/>
                    </a:lnTo>
                    <a:lnTo>
                      <a:pt x="633105" y="7494"/>
                    </a:lnTo>
                    <a:lnTo>
                      <a:pt x="636790" y="8628"/>
                    </a:lnTo>
                    <a:lnTo>
                      <a:pt x="639817" y="9762"/>
                    </a:lnTo>
                    <a:lnTo>
                      <a:pt x="642184" y="10896"/>
                    </a:lnTo>
                    <a:lnTo>
                      <a:pt x="643961" y="12029"/>
                    </a:lnTo>
                    <a:lnTo>
                      <a:pt x="645146" y="13289"/>
                    </a:lnTo>
                    <a:lnTo>
                      <a:pt x="646067" y="16123"/>
                    </a:lnTo>
                    <a:lnTo>
                      <a:pt x="645409" y="19650"/>
                    </a:lnTo>
                    <a:lnTo>
                      <a:pt x="643501" y="24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: Shape 111"/>
              <p:cNvSpPr/>
              <p:nvPr/>
            </p:nvSpPr>
            <p:spPr>
              <a:xfrm rot="17170200">
                <a:off x="8558280" y="1536840"/>
                <a:ext cx="342000" cy="30168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635537" h="498215">
                    <a:moveTo>
                      <a:pt x="632773" y="44846"/>
                    </a:moveTo>
                    <a:lnTo>
                      <a:pt x="617049" y="57190"/>
                    </a:lnTo>
                    <a:lnTo>
                      <a:pt x="600864" y="69914"/>
                    </a:lnTo>
                    <a:lnTo>
                      <a:pt x="584088" y="82889"/>
                    </a:lnTo>
                    <a:lnTo>
                      <a:pt x="566851" y="96178"/>
                    </a:lnTo>
                    <a:lnTo>
                      <a:pt x="549087" y="109658"/>
                    </a:lnTo>
                    <a:lnTo>
                      <a:pt x="530995" y="123451"/>
                    </a:lnTo>
                    <a:lnTo>
                      <a:pt x="493691" y="151606"/>
                    </a:lnTo>
                    <a:lnTo>
                      <a:pt x="455073" y="180453"/>
                    </a:lnTo>
                    <a:lnTo>
                      <a:pt x="415467" y="209931"/>
                    </a:lnTo>
                    <a:lnTo>
                      <a:pt x="375268" y="239786"/>
                    </a:lnTo>
                    <a:lnTo>
                      <a:pt x="334479" y="269829"/>
                    </a:lnTo>
                    <a:lnTo>
                      <a:pt x="252570" y="329854"/>
                    </a:lnTo>
                    <a:lnTo>
                      <a:pt x="212044" y="359584"/>
                    </a:lnTo>
                    <a:lnTo>
                      <a:pt x="172043" y="388871"/>
                    </a:lnTo>
                    <a:lnTo>
                      <a:pt x="133029" y="417530"/>
                    </a:lnTo>
                    <a:lnTo>
                      <a:pt x="95001" y="445432"/>
                    </a:lnTo>
                    <a:lnTo>
                      <a:pt x="76515" y="459037"/>
                    </a:lnTo>
                    <a:lnTo>
                      <a:pt x="58423" y="472327"/>
                    </a:lnTo>
                    <a:lnTo>
                      <a:pt x="40724" y="485428"/>
                    </a:lnTo>
                    <a:lnTo>
                      <a:pt x="23488" y="498214"/>
                    </a:lnTo>
                    <a:lnTo>
                      <a:pt x="16843" y="495443"/>
                    </a:lnTo>
                    <a:lnTo>
                      <a:pt x="10988" y="491349"/>
                    </a:lnTo>
                    <a:lnTo>
                      <a:pt x="6119" y="486058"/>
                    </a:lnTo>
                    <a:lnTo>
                      <a:pt x="2501" y="479633"/>
                    </a:lnTo>
                    <a:lnTo>
                      <a:pt x="1251" y="476043"/>
                    </a:lnTo>
                    <a:lnTo>
                      <a:pt x="395" y="472265"/>
                    </a:lnTo>
                    <a:lnTo>
                      <a:pt x="0" y="468234"/>
                    </a:lnTo>
                    <a:lnTo>
                      <a:pt x="67" y="463950"/>
                    </a:lnTo>
                    <a:lnTo>
                      <a:pt x="593" y="459542"/>
                    </a:lnTo>
                    <a:lnTo>
                      <a:pt x="1646" y="454943"/>
                    </a:lnTo>
                    <a:lnTo>
                      <a:pt x="3225" y="450156"/>
                    </a:lnTo>
                    <a:lnTo>
                      <a:pt x="5395" y="445306"/>
                    </a:lnTo>
                    <a:lnTo>
                      <a:pt x="21119" y="433843"/>
                    </a:lnTo>
                    <a:lnTo>
                      <a:pt x="37633" y="421813"/>
                    </a:lnTo>
                    <a:lnTo>
                      <a:pt x="54935" y="409279"/>
                    </a:lnTo>
                    <a:lnTo>
                      <a:pt x="72961" y="396367"/>
                    </a:lnTo>
                    <a:lnTo>
                      <a:pt x="91712" y="383014"/>
                    </a:lnTo>
                    <a:lnTo>
                      <a:pt x="111054" y="369346"/>
                    </a:lnTo>
                    <a:lnTo>
                      <a:pt x="130990" y="355238"/>
                    </a:lnTo>
                    <a:lnTo>
                      <a:pt x="151384" y="340877"/>
                    </a:lnTo>
                    <a:lnTo>
                      <a:pt x="172240" y="326264"/>
                    </a:lnTo>
                    <a:lnTo>
                      <a:pt x="193491" y="311462"/>
                    </a:lnTo>
                    <a:lnTo>
                      <a:pt x="236780" y="281230"/>
                    </a:lnTo>
                    <a:lnTo>
                      <a:pt x="280794" y="250493"/>
                    </a:lnTo>
                    <a:lnTo>
                      <a:pt x="325137" y="219630"/>
                    </a:lnTo>
                    <a:lnTo>
                      <a:pt x="369216" y="188767"/>
                    </a:lnTo>
                    <a:lnTo>
                      <a:pt x="412572" y="158346"/>
                    </a:lnTo>
                    <a:lnTo>
                      <a:pt x="454809" y="128616"/>
                    </a:lnTo>
                    <a:lnTo>
                      <a:pt x="475203" y="114130"/>
                    </a:lnTo>
                    <a:lnTo>
                      <a:pt x="495205" y="99832"/>
                    </a:lnTo>
                    <a:lnTo>
                      <a:pt x="514679" y="85913"/>
                    </a:lnTo>
                    <a:lnTo>
                      <a:pt x="533560" y="72245"/>
                    </a:lnTo>
                    <a:lnTo>
                      <a:pt x="551719" y="59018"/>
                    </a:lnTo>
                    <a:lnTo>
                      <a:pt x="569154" y="46232"/>
                    </a:lnTo>
                    <a:lnTo>
                      <a:pt x="585797" y="33949"/>
                    </a:lnTo>
                    <a:lnTo>
                      <a:pt x="601654" y="22044"/>
                    </a:lnTo>
                    <a:lnTo>
                      <a:pt x="616522" y="10771"/>
                    </a:lnTo>
                    <a:lnTo>
                      <a:pt x="630404" y="0"/>
                    </a:lnTo>
                    <a:lnTo>
                      <a:pt x="631523" y="9007"/>
                    </a:lnTo>
                    <a:lnTo>
                      <a:pt x="632773" y="16251"/>
                    </a:lnTo>
                    <a:lnTo>
                      <a:pt x="633957" y="22234"/>
                    </a:lnTo>
                    <a:lnTo>
                      <a:pt x="634943" y="27273"/>
                    </a:lnTo>
                    <a:lnTo>
                      <a:pt x="635536" y="31619"/>
                    </a:lnTo>
                    <a:lnTo>
                      <a:pt x="635536" y="35839"/>
                    </a:lnTo>
                    <a:lnTo>
                      <a:pt x="634680" y="40122"/>
                    </a:lnTo>
                    <a:lnTo>
                      <a:pt x="632773" y="448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: Shape 112"/>
              <p:cNvSpPr/>
              <p:nvPr/>
            </p:nvSpPr>
            <p:spPr>
              <a:xfrm rot="17170200">
                <a:off x="8759880" y="1868040"/>
                <a:ext cx="83520" cy="806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54149" h="133718">
                    <a:moveTo>
                      <a:pt x="66187" y="0"/>
                    </a:moveTo>
                    <a:lnTo>
                      <a:pt x="67633" y="314"/>
                    </a:lnTo>
                    <a:lnTo>
                      <a:pt x="68357" y="1259"/>
                    </a:lnTo>
                    <a:lnTo>
                      <a:pt x="68620" y="2645"/>
                    </a:lnTo>
                    <a:lnTo>
                      <a:pt x="68226" y="6297"/>
                    </a:lnTo>
                    <a:lnTo>
                      <a:pt x="68357" y="10643"/>
                    </a:lnTo>
                    <a:lnTo>
                      <a:pt x="69147" y="12912"/>
                    </a:lnTo>
                    <a:lnTo>
                      <a:pt x="70594" y="15053"/>
                    </a:lnTo>
                    <a:lnTo>
                      <a:pt x="73028" y="17005"/>
                    </a:lnTo>
                    <a:lnTo>
                      <a:pt x="76580" y="18705"/>
                    </a:lnTo>
                    <a:lnTo>
                      <a:pt x="81581" y="20029"/>
                    </a:lnTo>
                    <a:lnTo>
                      <a:pt x="88226" y="20910"/>
                    </a:lnTo>
                    <a:lnTo>
                      <a:pt x="92107" y="21099"/>
                    </a:lnTo>
                    <a:lnTo>
                      <a:pt x="96581" y="21225"/>
                    </a:lnTo>
                    <a:lnTo>
                      <a:pt x="101516" y="21163"/>
                    </a:lnTo>
                    <a:lnTo>
                      <a:pt x="106977" y="20910"/>
                    </a:lnTo>
                    <a:lnTo>
                      <a:pt x="106977" y="27776"/>
                    </a:lnTo>
                    <a:lnTo>
                      <a:pt x="107305" y="33507"/>
                    </a:lnTo>
                    <a:lnTo>
                      <a:pt x="108028" y="38042"/>
                    </a:lnTo>
                    <a:lnTo>
                      <a:pt x="108950" y="41695"/>
                    </a:lnTo>
                    <a:lnTo>
                      <a:pt x="110200" y="44404"/>
                    </a:lnTo>
                    <a:lnTo>
                      <a:pt x="111778" y="46482"/>
                    </a:lnTo>
                    <a:lnTo>
                      <a:pt x="113424" y="47994"/>
                    </a:lnTo>
                    <a:lnTo>
                      <a:pt x="115200" y="48939"/>
                    </a:lnTo>
                    <a:lnTo>
                      <a:pt x="119213" y="50072"/>
                    </a:lnTo>
                    <a:lnTo>
                      <a:pt x="123425" y="50829"/>
                    </a:lnTo>
                    <a:lnTo>
                      <a:pt x="127438" y="52277"/>
                    </a:lnTo>
                    <a:lnTo>
                      <a:pt x="129279" y="53600"/>
                    </a:lnTo>
                    <a:lnTo>
                      <a:pt x="130990" y="55426"/>
                    </a:lnTo>
                    <a:lnTo>
                      <a:pt x="129411" y="61409"/>
                    </a:lnTo>
                    <a:lnTo>
                      <a:pt x="128162" y="66763"/>
                    </a:lnTo>
                    <a:lnTo>
                      <a:pt x="127239" y="71614"/>
                    </a:lnTo>
                    <a:lnTo>
                      <a:pt x="126714" y="75896"/>
                    </a:lnTo>
                    <a:lnTo>
                      <a:pt x="126385" y="79738"/>
                    </a:lnTo>
                    <a:lnTo>
                      <a:pt x="126385" y="83077"/>
                    </a:lnTo>
                    <a:lnTo>
                      <a:pt x="126648" y="86037"/>
                    </a:lnTo>
                    <a:lnTo>
                      <a:pt x="127175" y="88493"/>
                    </a:lnTo>
                    <a:lnTo>
                      <a:pt x="128753" y="92461"/>
                    </a:lnTo>
                    <a:lnTo>
                      <a:pt x="130990" y="95106"/>
                    </a:lnTo>
                    <a:lnTo>
                      <a:pt x="133819" y="96681"/>
                    </a:lnTo>
                    <a:lnTo>
                      <a:pt x="136978" y="97436"/>
                    </a:lnTo>
                    <a:lnTo>
                      <a:pt x="143623" y="97436"/>
                    </a:lnTo>
                    <a:lnTo>
                      <a:pt x="149543" y="96870"/>
                    </a:lnTo>
                    <a:lnTo>
                      <a:pt x="151845" y="96996"/>
                    </a:lnTo>
                    <a:lnTo>
                      <a:pt x="153424" y="97626"/>
                    </a:lnTo>
                    <a:lnTo>
                      <a:pt x="154148" y="99011"/>
                    </a:lnTo>
                    <a:lnTo>
                      <a:pt x="153886" y="101467"/>
                    </a:lnTo>
                    <a:lnTo>
                      <a:pt x="135990" y="109970"/>
                    </a:lnTo>
                    <a:lnTo>
                      <a:pt x="118424" y="116646"/>
                    </a:lnTo>
                    <a:lnTo>
                      <a:pt x="101319" y="121812"/>
                    </a:lnTo>
                    <a:lnTo>
                      <a:pt x="84410" y="125780"/>
                    </a:lnTo>
                    <a:lnTo>
                      <a:pt x="67896" y="128614"/>
                    </a:lnTo>
                    <a:lnTo>
                      <a:pt x="51777" y="130756"/>
                    </a:lnTo>
                    <a:lnTo>
                      <a:pt x="35989" y="132331"/>
                    </a:lnTo>
                    <a:lnTo>
                      <a:pt x="20462" y="133717"/>
                    </a:lnTo>
                    <a:lnTo>
                      <a:pt x="17764" y="128992"/>
                    </a:lnTo>
                    <a:lnTo>
                      <a:pt x="16645" y="124080"/>
                    </a:lnTo>
                    <a:lnTo>
                      <a:pt x="16054" y="113750"/>
                    </a:lnTo>
                    <a:lnTo>
                      <a:pt x="15000" y="108648"/>
                    </a:lnTo>
                    <a:lnTo>
                      <a:pt x="12500" y="103861"/>
                    </a:lnTo>
                    <a:lnTo>
                      <a:pt x="10462" y="101594"/>
                    </a:lnTo>
                    <a:lnTo>
                      <a:pt x="7698" y="99516"/>
                    </a:lnTo>
                    <a:lnTo>
                      <a:pt x="4343" y="97562"/>
                    </a:lnTo>
                    <a:lnTo>
                      <a:pt x="0" y="95674"/>
                    </a:lnTo>
                    <a:lnTo>
                      <a:pt x="7501" y="83077"/>
                    </a:lnTo>
                    <a:lnTo>
                      <a:pt x="15396" y="70228"/>
                    </a:lnTo>
                    <a:lnTo>
                      <a:pt x="31843" y="44970"/>
                    </a:lnTo>
                    <a:lnTo>
                      <a:pt x="40133" y="32814"/>
                    </a:lnTo>
                    <a:lnTo>
                      <a:pt x="48356" y="21163"/>
                    </a:lnTo>
                    <a:lnTo>
                      <a:pt x="56251" y="10266"/>
                    </a:lnTo>
                    <a:lnTo>
                      <a:pt x="63752" y="189"/>
                    </a:lnTo>
                    <a:lnTo>
                      <a:pt x="66187" y="0"/>
                    </a:lnTo>
                    <a:close/>
                  </a:path>
                </a:pathLst>
              </a:custGeom>
              <a:solidFill>
                <a:srgbClr val="ffcca5"/>
              </a:solidFill>
              <a:ln w="0">
                <a:solidFill>
                  <a:srgbClr val="ffcca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: Shape 113"/>
              <p:cNvSpPr/>
              <p:nvPr/>
            </p:nvSpPr>
            <p:spPr>
              <a:xfrm rot="17170200">
                <a:off x="8493840" y="1500120"/>
                <a:ext cx="448920" cy="39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847519" h="634137">
                    <a:moveTo>
                      <a:pt x="13617" y="634136"/>
                    </a:moveTo>
                    <a:lnTo>
                      <a:pt x="10066" y="632940"/>
                    </a:lnTo>
                    <a:lnTo>
                      <a:pt x="7039" y="631554"/>
                    </a:lnTo>
                    <a:lnTo>
                      <a:pt x="4539" y="629980"/>
                    </a:lnTo>
                    <a:lnTo>
                      <a:pt x="2631" y="628153"/>
                    </a:lnTo>
                    <a:lnTo>
                      <a:pt x="1185" y="625949"/>
                    </a:lnTo>
                    <a:lnTo>
                      <a:pt x="328" y="623492"/>
                    </a:lnTo>
                    <a:lnTo>
                      <a:pt x="0" y="620658"/>
                    </a:lnTo>
                    <a:lnTo>
                      <a:pt x="197" y="617445"/>
                    </a:lnTo>
                    <a:lnTo>
                      <a:pt x="1052" y="613729"/>
                    </a:lnTo>
                    <a:lnTo>
                      <a:pt x="2302" y="609572"/>
                    </a:lnTo>
                    <a:lnTo>
                      <a:pt x="4275" y="604974"/>
                    </a:lnTo>
                    <a:lnTo>
                      <a:pt x="6710" y="599809"/>
                    </a:lnTo>
                    <a:lnTo>
                      <a:pt x="9670" y="594078"/>
                    </a:lnTo>
                    <a:lnTo>
                      <a:pt x="13224" y="587716"/>
                    </a:lnTo>
                    <a:lnTo>
                      <a:pt x="17302" y="580725"/>
                    </a:lnTo>
                    <a:lnTo>
                      <a:pt x="22039" y="573104"/>
                    </a:lnTo>
                    <a:lnTo>
                      <a:pt x="23816" y="570648"/>
                    </a:lnTo>
                    <a:lnTo>
                      <a:pt x="26315" y="567183"/>
                    </a:lnTo>
                    <a:lnTo>
                      <a:pt x="29341" y="562711"/>
                    </a:lnTo>
                    <a:lnTo>
                      <a:pt x="32961" y="557483"/>
                    </a:lnTo>
                    <a:lnTo>
                      <a:pt x="36842" y="551562"/>
                    </a:lnTo>
                    <a:lnTo>
                      <a:pt x="41185" y="545011"/>
                    </a:lnTo>
                    <a:lnTo>
                      <a:pt x="50460" y="530903"/>
                    </a:lnTo>
                    <a:lnTo>
                      <a:pt x="60263" y="516165"/>
                    </a:lnTo>
                    <a:lnTo>
                      <a:pt x="69804" y="501867"/>
                    </a:lnTo>
                    <a:lnTo>
                      <a:pt x="74276" y="495191"/>
                    </a:lnTo>
                    <a:lnTo>
                      <a:pt x="78488" y="489018"/>
                    </a:lnTo>
                    <a:lnTo>
                      <a:pt x="82305" y="483476"/>
                    </a:lnTo>
                    <a:lnTo>
                      <a:pt x="85726" y="478752"/>
                    </a:lnTo>
                    <a:lnTo>
                      <a:pt x="87501" y="477428"/>
                    </a:lnTo>
                    <a:lnTo>
                      <a:pt x="90067" y="475540"/>
                    </a:lnTo>
                    <a:lnTo>
                      <a:pt x="93225" y="473146"/>
                    </a:lnTo>
                    <a:lnTo>
                      <a:pt x="97172" y="470249"/>
                    </a:lnTo>
                    <a:lnTo>
                      <a:pt x="101713" y="466847"/>
                    </a:lnTo>
                    <a:lnTo>
                      <a:pt x="106844" y="462943"/>
                    </a:lnTo>
                    <a:lnTo>
                      <a:pt x="112633" y="458597"/>
                    </a:lnTo>
                    <a:lnTo>
                      <a:pt x="119015" y="453809"/>
                    </a:lnTo>
                    <a:lnTo>
                      <a:pt x="125924" y="448582"/>
                    </a:lnTo>
                    <a:lnTo>
                      <a:pt x="133423" y="442912"/>
                    </a:lnTo>
                    <a:lnTo>
                      <a:pt x="141450" y="436929"/>
                    </a:lnTo>
                    <a:lnTo>
                      <a:pt x="149937" y="430568"/>
                    </a:lnTo>
                    <a:lnTo>
                      <a:pt x="158950" y="423766"/>
                    </a:lnTo>
                    <a:lnTo>
                      <a:pt x="168358" y="416647"/>
                    </a:lnTo>
                    <a:lnTo>
                      <a:pt x="178226" y="409215"/>
                    </a:lnTo>
                    <a:lnTo>
                      <a:pt x="188556" y="401532"/>
                    </a:lnTo>
                    <a:lnTo>
                      <a:pt x="199215" y="393532"/>
                    </a:lnTo>
                    <a:lnTo>
                      <a:pt x="210267" y="385219"/>
                    </a:lnTo>
                    <a:lnTo>
                      <a:pt x="233426" y="367834"/>
                    </a:lnTo>
                    <a:lnTo>
                      <a:pt x="257769" y="349632"/>
                    </a:lnTo>
                    <a:lnTo>
                      <a:pt x="283230" y="330736"/>
                    </a:lnTo>
                    <a:lnTo>
                      <a:pt x="309546" y="311147"/>
                    </a:lnTo>
                    <a:lnTo>
                      <a:pt x="336454" y="291118"/>
                    </a:lnTo>
                    <a:lnTo>
                      <a:pt x="364019" y="270774"/>
                    </a:lnTo>
                    <a:lnTo>
                      <a:pt x="391917" y="250241"/>
                    </a:lnTo>
                    <a:lnTo>
                      <a:pt x="448035" y="209112"/>
                    </a:lnTo>
                    <a:lnTo>
                      <a:pt x="475864" y="188830"/>
                    </a:lnTo>
                    <a:lnTo>
                      <a:pt x="503497" y="168926"/>
                    </a:lnTo>
                    <a:lnTo>
                      <a:pt x="530537" y="149465"/>
                    </a:lnTo>
                    <a:lnTo>
                      <a:pt x="556854" y="130694"/>
                    </a:lnTo>
                    <a:lnTo>
                      <a:pt x="582381" y="112618"/>
                    </a:lnTo>
                    <a:lnTo>
                      <a:pt x="606855" y="95548"/>
                    </a:lnTo>
                    <a:lnTo>
                      <a:pt x="618564" y="87424"/>
                    </a:lnTo>
                    <a:lnTo>
                      <a:pt x="630080" y="79488"/>
                    </a:lnTo>
                    <a:lnTo>
                      <a:pt x="641197" y="71929"/>
                    </a:lnTo>
                    <a:lnTo>
                      <a:pt x="651921" y="64624"/>
                    </a:lnTo>
                    <a:lnTo>
                      <a:pt x="662316" y="57695"/>
                    </a:lnTo>
                    <a:lnTo>
                      <a:pt x="672251" y="51082"/>
                    </a:lnTo>
                    <a:lnTo>
                      <a:pt x="681790" y="44908"/>
                    </a:lnTo>
                    <a:lnTo>
                      <a:pt x="690803" y="39051"/>
                    </a:lnTo>
                    <a:lnTo>
                      <a:pt x="699355" y="33571"/>
                    </a:lnTo>
                    <a:lnTo>
                      <a:pt x="707514" y="28533"/>
                    </a:lnTo>
                    <a:lnTo>
                      <a:pt x="715081" y="23998"/>
                    </a:lnTo>
                    <a:lnTo>
                      <a:pt x="722121" y="19841"/>
                    </a:lnTo>
                    <a:lnTo>
                      <a:pt x="728568" y="16124"/>
                    </a:lnTo>
                    <a:lnTo>
                      <a:pt x="734423" y="12975"/>
                    </a:lnTo>
                    <a:lnTo>
                      <a:pt x="739685" y="10330"/>
                    </a:lnTo>
                    <a:lnTo>
                      <a:pt x="744356" y="8125"/>
                    </a:lnTo>
                    <a:lnTo>
                      <a:pt x="754358" y="4284"/>
                    </a:lnTo>
                    <a:lnTo>
                      <a:pt x="763897" y="1638"/>
                    </a:lnTo>
                    <a:lnTo>
                      <a:pt x="772910" y="189"/>
                    </a:lnTo>
                    <a:lnTo>
                      <a:pt x="781529" y="0"/>
                    </a:lnTo>
                    <a:lnTo>
                      <a:pt x="789687" y="945"/>
                    </a:lnTo>
                    <a:lnTo>
                      <a:pt x="797386" y="2960"/>
                    </a:lnTo>
                    <a:lnTo>
                      <a:pt x="804688" y="6172"/>
                    </a:lnTo>
                    <a:lnTo>
                      <a:pt x="811662" y="10456"/>
                    </a:lnTo>
                    <a:lnTo>
                      <a:pt x="821266" y="18328"/>
                    </a:lnTo>
                    <a:lnTo>
                      <a:pt x="829688" y="27335"/>
                    </a:lnTo>
                    <a:lnTo>
                      <a:pt x="833439" y="32249"/>
                    </a:lnTo>
                    <a:lnTo>
                      <a:pt x="836793" y="37476"/>
                    </a:lnTo>
                    <a:lnTo>
                      <a:pt x="839820" y="42893"/>
                    </a:lnTo>
                    <a:lnTo>
                      <a:pt x="842321" y="48624"/>
                    </a:lnTo>
                    <a:lnTo>
                      <a:pt x="844425" y="54545"/>
                    </a:lnTo>
                    <a:lnTo>
                      <a:pt x="845939" y="60719"/>
                    </a:lnTo>
                    <a:lnTo>
                      <a:pt x="846992" y="67080"/>
                    </a:lnTo>
                    <a:lnTo>
                      <a:pt x="847518" y="73629"/>
                    </a:lnTo>
                    <a:lnTo>
                      <a:pt x="847452" y="80433"/>
                    </a:lnTo>
                    <a:lnTo>
                      <a:pt x="846794" y="87486"/>
                    </a:lnTo>
                    <a:lnTo>
                      <a:pt x="845478" y="94605"/>
                    </a:lnTo>
                    <a:lnTo>
                      <a:pt x="843504" y="101911"/>
                    </a:lnTo>
                    <a:lnTo>
                      <a:pt x="842847" y="103044"/>
                    </a:lnTo>
                    <a:lnTo>
                      <a:pt x="841202" y="104808"/>
                    </a:lnTo>
                    <a:lnTo>
                      <a:pt x="838637" y="107202"/>
                    </a:lnTo>
                    <a:lnTo>
                      <a:pt x="835280" y="110161"/>
                    </a:lnTo>
                    <a:lnTo>
                      <a:pt x="831004" y="113751"/>
                    </a:lnTo>
                    <a:lnTo>
                      <a:pt x="826003" y="117909"/>
                    </a:lnTo>
                    <a:lnTo>
                      <a:pt x="820215" y="122507"/>
                    </a:lnTo>
                    <a:lnTo>
                      <a:pt x="813701" y="127734"/>
                    </a:lnTo>
                    <a:lnTo>
                      <a:pt x="806398" y="133403"/>
                    </a:lnTo>
                    <a:lnTo>
                      <a:pt x="798503" y="139575"/>
                    </a:lnTo>
                    <a:lnTo>
                      <a:pt x="789885" y="146189"/>
                    </a:lnTo>
                    <a:lnTo>
                      <a:pt x="780675" y="153243"/>
                    </a:lnTo>
                    <a:lnTo>
                      <a:pt x="770872" y="160675"/>
                    </a:lnTo>
                    <a:lnTo>
                      <a:pt x="760543" y="168549"/>
                    </a:lnTo>
                    <a:lnTo>
                      <a:pt x="749620" y="176800"/>
                    </a:lnTo>
                    <a:lnTo>
                      <a:pt x="738239" y="185367"/>
                    </a:lnTo>
                    <a:lnTo>
                      <a:pt x="726330" y="194310"/>
                    </a:lnTo>
                    <a:lnTo>
                      <a:pt x="713961" y="203506"/>
                    </a:lnTo>
                    <a:lnTo>
                      <a:pt x="701198" y="212953"/>
                    </a:lnTo>
                    <a:lnTo>
                      <a:pt x="688106" y="222716"/>
                    </a:lnTo>
                    <a:lnTo>
                      <a:pt x="660738" y="242998"/>
                    </a:lnTo>
                    <a:lnTo>
                      <a:pt x="632184" y="264034"/>
                    </a:lnTo>
                    <a:lnTo>
                      <a:pt x="602776" y="285701"/>
                    </a:lnTo>
                    <a:lnTo>
                      <a:pt x="572446" y="307872"/>
                    </a:lnTo>
                    <a:lnTo>
                      <a:pt x="510800" y="353033"/>
                    </a:lnTo>
                    <a:lnTo>
                      <a:pt x="449022" y="398004"/>
                    </a:lnTo>
                    <a:lnTo>
                      <a:pt x="418693" y="420049"/>
                    </a:lnTo>
                    <a:lnTo>
                      <a:pt x="389087" y="441527"/>
                    </a:lnTo>
                    <a:lnTo>
                      <a:pt x="360336" y="462313"/>
                    </a:lnTo>
                    <a:lnTo>
                      <a:pt x="332770" y="482216"/>
                    </a:lnTo>
                    <a:lnTo>
                      <a:pt x="319481" y="491853"/>
                    </a:lnTo>
                    <a:lnTo>
                      <a:pt x="306585" y="501175"/>
                    </a:lnTo>
                    <a:lnTo>
                      <a:pt x="294151" y="510118"/>
                    </a:lnTo>
                    <a:lnTo>
                      <a:pt x="282111" y="518810"/>
                    </a:lnTo>
                    <a:lnTo>
                      <a:pt x="270533" y="527125"/>
                    </a:lnTo>
                    <a:lnTo>
                      <a:pt x="259413" y="535123"/>
                    </a:lnTo>
                    <a:lnTo>
                      <a:pt x="248821" y="542745"/>
                    </a:lnTo>
                    <a:lnTo>
                      <a:pt x="238821" y="549925"/>
                    </a:lnTo>
                    <a:lnTo>
                      <a:pt x="229412" y="556665"/>
                    </a:lnTo>
                    <a:lnTo>
                      <a:pt x="220596" y="562963"/>
                    </a:lnTo>
                    <a:lnTo>
                      <a:pt x="212504" y="568758"/>
                    </a:lnTo>
                    <a:lnTo>
                      <a:pt x="205004" y="574111"/>
                    </a:lnTo>
                    <a:lnTo>
                      <a:pt x="198161" y="578961"/>
                    </a:lnTo>
                    <a:lnTo>
                      <a:pt x="192175" y="583245"/>
                    </a:lnTo>
                    <a:lnTo>
                      <a:pt x="186846" y="586961"/>
                    </a:lnTo>
                    <a:lnTo>
                      <a:pt x="182307" y="590173"/>
                    </a:lnTo>
                    <a:lnTo>
                      <a:pt x="178689" y="592754"/>
                    </a:lnTo>
                    <a:lnTo>
                      <a:pt x="175859" y="594708"/>
                    </a:lnTo>
                    <a:lnTo>
                      <a:pt x="173952" y="596030"/>
                    </a:lnTo>
                    <a:lnTo>
                      <a:pt x="172832" y="596723"/>
                    </a:lnTo>
                    <a:lnTo>
                      <a:pt x="168687" y="598801"/>
                    </a:lnTo>
                    <a:lnTo>
                      <a:pt x="163555" y="600880"/>
                    </a:lnTo>
                    <a:lnTo>
                      <a:pt x="157371" y="603021"/>
                    </a:lnTo>
                    <a:lnTo>
                      <a:pt x="150462" y="605162"/>
                    </a:lnTo>
                    <a:lnTo>
                      <a:pt x="134935" y="609446"/>
                    </a:lnTo>
                    <a:lnTo>
                      <a:pt x="118028" y="613477"/>
                    </a:lnTo>
                    <a:lnTo>
                      <a:pt x="100923" y="617131"/>
                    </a:lnTo>
                    <a:lnTo>
                      <a:pt x="84804" y="620279"/>
                    </a:lnTo>
                    <a:lnTo>
                      <a:pt x="77369" y="621602"/>
                    </a:lnTo>
                    <a:lnTo>
                      <a:pt x="70725" y="622735"/>
                    </a:lnTo>
                    <a:lnTo>
                      <a:pt x="64804" y="623618"/>
                    </a:lnTo>
                    <a:lnTo>
                      <a:pt x="59870" y="624310"/>
                    </a:lnTo>
                    <a:lnTo>
                      <a:pt x="832321" y="94037"/>
                    </a:lnTo>
                    <a:lnTo>
                      <a:pt x="832648" y="86668"/>
                    </a:lnTo>
                    <a:lnTo>
                      <a:pt x="832582" y="79739"/>
                    </a:lnTo>
                    <a:lnTo>
                      <a:pt x="832057" y="73252"/>
                    </a:lnTo>
                    <a:lnTo>
                      <a:pt x="831202" y="67206"/>
                    </a:lnTo>
                    <a:lnTo>
                      <a:pt x="829950" y="61600"/>
                    </a:lnTo>
                    <a:lnTo>
                      <a:pt x="828306" y="56309"/>
                    </a:lnTo>
                    <a:lnTo>
                      <a:pt x="826333" y="51459"/>
                    </a:lnTo>
                    <a:lnTo>
                      <a:pt x="824162" y="46987"/>
                    </a:lnTo>
                    <a:lnTo>
                      <a:pt x="821662" y="42893"/>
                    </a:lnTo>
                    <a:lnTo>
                      <a:pt x="816004" y="35713"/>
                    </a:lnTo>
                    <a:lnTo>
                      <a:pt x="809622" y="29793"/>
                    </a:lnTo>
                    <a:lnTo>
                      <a:pt x="802648" y="25005"/>
                    </a:lnTo>
                    <a:lnTo>
                      <a:pt x="795346" y="21289"/>
                    </a:lnTo>
                    <a:lnTo>
                      <a:pt x="787911" y="18455"/>
                    </a:lnTo>
                    <a:lnTo>
                      <a:pt x="780608" y="16439"/>
                    </a:lnTo>
                    <a:lnTo>
                      <a:pt x="773569" y="15117"/>
                    </a:lnTo>
                    <a:lnTo>
                      <a:pt x="766989" y="14361"/>
                    </a:lnTo>
                    <a:lnTo>
                      <a:pt x="761069" y="14110"/>
                    </a:lnTo>
                    <a:lnTo>
                      <a:pt x="756069" y="14172"/>
                    </a:lnTo>
                    <a:lnTo>
                      <a:pt x="752186" y="14423"/>
                    </a:lnTo>
                    <a:lnTo>
                      <a:pt x="761791" y="10456"/>
                    </a:lnTo>
                    <a:lnTo>
                      <a:pt x="771463" y="8504"/>
                    </a:lnTo>
                    <a:lnTo>
                      <a:pt x="781002" y="8377"/>
                    </a:lnTo>
                    <a:lnTo>
                      <a:pt x="790477" y="9889"/>
                    </a:lnTo>
                    <a:lnTo>
                      <a:pt x="799490" y="12975"/>
                    </a:lnTo>
                    <a:lnTo>
                      <a:pt x="808043" y="17510"/>
                    </a:lnTo>
                    <a:lnTo>
                      <a:pt x="815871" y="23179"/>
                    </a:lnTo>
                    <a:lnTo>
                      <a:pt x="822977" y="29918"/>
                    </a:lnTo>
                    <a:lnTo>
                      <a:pt x="828964" y="37540"/>
                    </a:lnTo>
                    <a:lnTo>
                      <a:pt x="833899" y="45853"/>
                    </a:lnTo>
                    <a:lnTo>
                      <a:pt x="837583" y="54734"/>
                    </a:lnTo>
                    <a:lnTo>
                      <a:pt x="839820" y="63994"/>
                    </a:lnTo>
                    <a:lnTo>
                      <a:pt x="840478" y="73567"/>
                    </a:lnTo>
                    <a:lnTo>
                      <a:pt x="839425" y="83140"/>
                    </a:lnTo>
                    <a:lnTo>
                      <a:pt x="836465" y="92715"/>
                    </a:lnTo>
                    <a:lnTo>
                      <a:pt x="831531" y="101911"/>
                    </a:lnTo>
                    <a:lnTo>
                      <a:pt x="768634" y="35587"/>
                    </a:lnTo>
                    <a:lnTo>
                      <a:pt x="758173" y="42704"/>
                    </a:lnTo>
                    <a:lnTo>
                      <a:pt x="753239" y="45791"/>
                    </a:lnTo>
                    <a:lnTo>
                      <a:pt x="748568" y="48624"/>
                    </a:lnTo>
                    <a:lnTo>
                      <a:pt x="744356" y="51144"/>
                    </a:lnTo>
                    <a:lnTo>
                      <a:pt x="740805" y="53412"/>
                    </a:lnTo>
                    <a:lnTo>
                      <a:pt x="737186" y="52467"/>
                    </a:lnTo>
                    <a:lnTo>
                      <a:pt x="732977" y="51270"/>
                    </a:lnTo>
                    <a:lnTo>
                      <a:pt x="723370" y="48562"/>
                    </a:lnTo>
                    <a:lnTo>
                      <a:pt x="713304" y="45853"/>
                    </a:lnTo>
                    <a:lnTo>
                      <a:pt x="708500" y="44720"/>
                    </a:lnTo>
                    <a:lnTo>
                      <a:pt x="704291" y="43838"/>
                    </a:lnTo>
                    <a:lnTo>
                      <a:pt x="722580" y="31996"/>
                    </a:lnTo>
                    <a:lnTo>
                      <a:pt x="732056" y="27020"/>
                    </a:lnTo>
                    <a:lnTo>
                      <a:pt x="741529" y="23557"/>
                    </a:lnTo>
                    <a:lnTo>
                      <a:pt x="750147" y="22234"/>
                    </a:lnTo>
                    <a:lnTo>
                      <a:pt x="759029" y="22674"/>
                    </a:lnTo>
                    <a:lnTo>
                      <a:pt x="768569" y="24438"/>
                    </a:lnTo>
                    <a:lnTo>
                      <a:pt x="779227" y="27335"/>
                    </a:lnTo>
                    <a:lnTo>
                      <a:pt x="796662" y="35209"/>
                    </a:lnTo>
                    <a:lnTo>
                      <a:pt x="800280" y="37540"/>
                    </a:lnTo>
                    <a:lnTo>
                      <a:pt x="803768" y="40374"/>
                    </a:lnTo>
                    <a:lnTo>
                      <a:pt x="806991" y="43586"/>
                    </a:lnTo>
                    <a:lnTo>
                      <a:pt x="812583" y="50703"/>
                    </a:lnTo>
                    <a:lnTo>
                      <a:pt x="817123" y="58199"/>
                    </a:lnTo>
                    <a:lnTo>
                      <a:pt x="780805" y="84841"/>
                    </a:lnTo>
                    <a:lnTo>
                      <a:pt x="773700" y="78794"/>
                    </a:lnTo>
                    <a:lnTo>
                      <a:pt x="767449" y="72811"/>
                    </a:lnTo>
                    <a:lnTo>
                      <a:pt x="761200" y="66954"/>
                    </a:lnTo>
                    <a:lnTo>
                      <a:pt x="753963" y="61474"/>
                    </a:lnTo>
                    <a:lnTo>
                      <a:pt x="763700" y="54798"/>
                    </a:lnTo>
                    <a:lnTo>
                      <a:pt x="773831" y="47491"/>
                    </a:lnTo>
                    <a:lnTo>
                      <a:pt x="783832" y="40185"/>
                    </a:lnTo>
                    <a:lnTo>
                      <a:pt x="788503" y="36721"/>
                    </a:lnTo>
                    <a:lnTo>
                      <a:pt x="792845" y="33509"/>
                    </a:lnTo>
                    <a:lnTo>
                      <a:pt x="726265" y="64435"/>
                    </a:lnTo>
                    <a:lnTo>
                      <a:pt x="723699" y="66450"/>
                    </a:lnTo>
                    <a:lnTo>
                      <a:pt x="720476" y="69095"/>
                    </a:lnTo>
                    <a:lnTo>
                      <a:pt x="716593" y="72118"/>
                    </a:lnTo>
                    <a:lnTo>
                      <a:pt x="712055" y="75583"/>
                    </a:lnTo>
                    <a:lnTo>
                      <a:pt x="706922" y="79551"/>
                    </a:lnTo>
                    <a:lnTo>
                      <a:pt x="701264" y="83896"/>
                    </a:lnTo>
                    <a:lnTo>
                      <a:pt x="695014" y="88620"/>
                    </a:lnTo>
                    <a:lnTo>
                      <a:pt x="688171" y="93722"/>
                    </a:lnTo>
                    <a:lnTo>
                      <a:pt x="680934" y="99202"/>
                    </a:lnTo>
                    <a:lnTo>
                      <a:pt x="673106" y="104997"/>
                    </a:lnTo>
                    <a:lnTo>
                      <a:pt x="664882" y="111233"/>
                    </a:lnTo>
                    <a:lnTo>
                      <a:pt x="656132" y="117656"/>
                    </a:lnTo>
                    <a:lnTo>
                      <a:pt x="646987" y="124459"/>
                    </a:lnTo>
                    <a:lnTo>
                      <a:pt x="637382" y="131577"/>
                    </a:lnTo>
                    <a:lnTo>
                      <a:pt x="627447" y="138945"/>
                    </a:lnTo>
                    <a:lnTo>
                      <a:pt x="606460" y="154377"/>
                    </a:lnTo>
                    <a:lnTo>
                      <a:pt x="584289" y="170754"/>
                    </a:lnTo>
                    <a:lnTo>
                      <a:pt x="560933" y="187885"/>
                    </a:lnTo>
                    <a:lnTo>
                      <a:pt x="536720" y="205647"/>
                    </a:lnTo>
                    <a:lnTo>
                      <a:pt x="511720" y="223976"/>
                    </a:lnTo>
                    <a:lnTo>
                      <a:pt x="486194" y="242619"/>
                    </a:lnTo>
                    <a:lnTo>
                      <a:pt x="434088" y="280662"/>
                    </a:lnTo>
                    <a:lnTo>
                      <a:pt x="381784" y="318643"/>
                    </a:lnTo>
                    <a:lnTo>
                      <a:pt x="356061" y="337412"/>
                    </a:lnTo>
                    <a:lnTo>
                      <a:pt x="330731" y="355741"/>
                    </a:lnTo>
                    <a:lnTo>
                      <a:pt x="306190" y="373566"/>
                    </a:lnTo>
                    <a:lnTo>
                      <a:pt x="282374" y="390761"/>
                    </a:lnTo>
                    <a:lnTo>
                      <a:pt x="259677" y="407200"/>
                    </a:lnTo>
                    <a:lnTo>
                      <a:pt x="238097" y="422757"/>
                    </a:lnTo>
                    <a:lnTo>
                      <a:pt x="227834" y="430127"/>
                    </a:lnTo>
                    <a:lnTo>
                      <a:pt x="217899" y="437244"/>
                    </a:lnTo>
                    <a:lnTo>
                      <a:pt x="208360" y="444172"/>
                    </a:lnTo>
                    <a:lnTo>
                      <a:pt x="199215" y="450723"/>
                    </a:lnTo>
                    <a:lnTo>
                      <a:pt x="190530" y="456958"/>
                    </a:lnTo>
                    <a:lnTo>
                      <a:pt x="182240" y="462816"/>
                    </a:lnTo>
                    <a:lnTo>
                      <a:pt x="174542" y="468359"/>
                    </a:lnTo>
                    <a:lnTo>
                      <a:pt x="167306" y="473587"/>
                    </a:lnTo>
                    <a:lnTo>
                      <a:pt x="160529" y="478373"/>
                    </a:lnTo>
                    <a:lnTo>
                      <a:pt x="154279" y="482783"/>
                    </a:lnTo>
                    <a:lnTo>
                      <a:pt x="148686" y="486814"/>
                    </a:lnTo>
                    <a:lnTo>
                      <a:pt x="143621" y="490404"/>
                    </a:lnTo>
                    <a:lnTo>
                      <a:pt x="139147" y="493490"/>
                    </a:lnTo>
                    <a:lnTo>
                      <a:pt x="135332" y="496136"/>
                    </a:lnTo>
                    <a:lnTo>
                      <a:pt x="132041" y="498340"/>
                    </a:lnTo>
                    <a:lnTo>
                      <a:pt x="129608" y="500041"/>
                    </a:lnTo>
                    <a:lnTo>
                      <a:pt x="124935" y="501489"/>
                    </a:lnTo>
                    <a:lnTo>
                      <a:pt x="120463" y="502560"/>
                    </a:lnTo>
                    <a:lnTo>
                      <a:pt x="116450" y="503316"/>
                    </a:lnTo>
                    <a:lnTo>
                      <a:pt x="112700" y="503693"/>
                    </a:lnTo>
                    <a:lnTo>
                      <a:pt x="109344" y="503819"/>
                    </a:lnTo>
                    <a:lnTo>
                      <a:pt x="106318" y="503567"/>
                    </a:lnTo>
                    <a:lnTo>
                      <a:pt x="103620" y="503063"/>
                    </a:lnTo>
                    <a:lnTo>
                      <a:pt x="101317" y="502182"/>
                    </a:lnTo>
                    <a:lnTo>
                      <a:pt x="99476" y="501111"/>
                    </a:lnTo>
                    <a:lnTo>
                      <a:pt x="98028" y="499662"/>
                    </a:lnTo>
                    <a:lnTo>
                      <a:pt x="96909" y="498025"/>
                    </a:lnTo>
                    <a:lnTo>
                      <a:pt x="96318" y="496136"/>
                    </a:lnTo>
                    <a:lnTo>
                      <a:pt x="96119" y="494056"/>
                    </a:lnTo>
                    <a:lnTo>
                      <a:pt x="96382" y="491664"/>
                    </a:lnTo>
                    <a:lnTo>
                      <a:pt x="97106" y="489018"/>
                    </a:lnTo>
                    <a:lnTo>
                      <a:pt x="98357" y="486247"/>
                    </a:lnTo>
                    <a:lnTo>
                      <a:pt x="100002" y="484609"/>
                    </a:lnTo>
                    <a:lnTo>
                      <a:pt x="102370" y="482530"/>
                    </a:lnTo>
                    <a:lnTo>
                      <a:pt x="105461" y="479886"/>
                    </a:lnTo>
                    <a:lnTo>
                      <a:pt x="109146" y="476800"/>
                    </a:lnTo>
                    <a:lnTo>
                      <a:pt x="113490" y="473272"/>
                    </a:lnTo>
                    <a:lnTo>
                      <a:pt x="118489" y="469241"/>
                    </a:lnTo>
                    <a:lnTo>
                      <a:pt x="124081" y="464769"/>
                    </a:lnTo>
                    <a:lnTo>
                      <a:pt x="130200" y="459919"/>
                    </a:lnTo>
                    <a:lnTo>
                      <a:pt x="136911" y="454628"/>
                    </a:lnTo>
                    <a:lnTo>
                      <a:pt x="144081" y="448959"/>
                    </a:lnTo>
                    <a:lnTo>
                      <a:pt x="151910" y="442912"/>
                    </a:lnTo>
                    <a:lnTo>
                      <a:pt x="160069" y="436551"/>
                    </a:lnTo>
                    <a:lnTo>
                      <a:pt x="168754" y="429874"/>
                    </a:lnTo>
                    <a:lnTo>
                      <a:pt x="177832" y="422883"/>
                    </a:lnTo>
                    <a:lnTo>
                      <a:pt x="187372" y="415577"/>
                    </a:lnTo>
                    <a:lnTo>
                      <a:pt x="197307" y="407955"/>
                    </a:lnTo>
                    <a:lnTo>
                      <a:pt x="218229" y="392021"/>
                    </a:lnTo>
                    <a:lnTo>
                      <a:pt x="240465" y="375204"/>
                    </a:lnTo>
                    <a:lnTo>
                      <a:pt x="263754" y="357630"/>
                    </a:lnTo>
                    <a:lnTo>
                      <a:pt x="288033" y="339365"/>
                    </a:lnTo>
                    <a:lnTo>
                      <a:pt x="313033" y="320595"/>
                    </a:lnTo>
                    <a:lnTo>
                      <a:pt x="338626" y="301510"/>
                    </a:lnTo>
                    <a:lnTo>
                      <a:pt x="390797" y="262838"/>
                    </a:lnTo>
                    <a:lnTo>
                      <a:pt x="443101" y="224416"/>
                    </a:lnTo>
                    <a:lnTo>
                      <a:pt x="468825" y="205585"/>
                    </a:lnTo>
                    <a:lnTo>
                      <a:pt x="494023" y="187193"/>
                    </a:lnTo>
                    <a:lnTo>
                      <a:pt x="518497" y="169494"/>
                    </a:lnTo>
                    <a:lnTo>
                      <a:pt x="542181" y="152551"/>
                    </a:lnTo>
                    <a:lnTo>
                      <a:pt x="564682" y="136426"/>
                    </a:lnTo>
                    <a:lnTo>
                      <a:pt x="575538" y="128742"/>
                    </a:lnTo>
                    <a:lnTo>
                      <a:pt x="586065" y="121372"/>
                    </a:lnTo>
                    <a:lnTo>
                      <a:pt x="596131" y="114255"/>
                    </a:lnTo>
                    <a:lnTo>
                      <a:pt x="605934" y="107453"/>
                    </a:lnTo>
                    <a:lnTo>
                      <a:pt x="615277" y="101028"/>
                    </a:lnTo>
                    <a:lnTo>
                      <a:pt x="624289" y="94856"/>
                    </a:lnTo>
                    <a:lnTo>
                      <a:pt x="632711" y="89061"/>
                    </a:lnTo>
                    <a:lnTo>
                      <a:pt x="640802" y="83644"/>
                    </a:lnTo>
                    <a:lnTo>
                      <a:pt x="648303" y="78669"/>
                    </a:lnTo>
                    <a:lnTo>
                      <a:pt x="655342" y="74071"/>
                    </a:lnTo>
                    <a:lnTo>
                      <a:pt x="661790" y="69913"/>
                    </a:lnTo>
                    <a:lnTo>
                      <a:pt x="667777" y="66197"/>
                    </a:lnTo>
                    <a:lnTo>
                      <a:pt x="673106" y="62922"/>
                    </a:lnTo>
                    <a:lnTo>
                      <a:pt x="677777" y="60151"/>
                    </a:lnTo>
                    <a:lnTo>
                      <a:pt x="681921" y="57884"/>
                    </a:lnTo>
                    <a:lnTo>
                      <a:pt x="685344" y="56120"/>
                    </a:lnTo>
                    <a:lnTo>
                      <a:pt x="688171" y="54860"/>
                    </a:lnTo>
                    <a:lnTo>
                      <a:pt x="690278" y="54168"/>
                    </a:lnTo>
                    <a:lnTo>
                      <a:pt x="693436" y="54357"/>
                    </a:lnTo>
                    <a:lnTo>
                      <a:pt x="697121" y="54860"/>
                    </a:lnTo>
                    <a:lnTo>
                      <a:pt x="701330" y="55679"/>
                    </a:lnTo>
                    <a:lnTo>
                      <a:pt x="706001" y="56688"/>
                    </a:lnTo>
                    <a:lnTo>
                      <a:pt x="716396" y="59459"/>
                    </a:lnTo>
                    <a:lnTo>
                      <a:pt x="728107" y="62796"/>
                    </a:lnTo>
                    <a:lnTo>
                      <a:pt x="822386" y="77472"/>
                    </a:lnTo>
                    <a:lnTo>
                      <a:pt x="823503" y="86794"/>
                    </a:lnTo>
                    <a:lnTo>
                      <a:pt x="823373" y="95864"/>
                    </a:lnTo>
                    <a:lnTo>
                      <a:pt x="822452" y="104619"/>
                    </a:lnTo>
                    <a:lnTo>
                      <a:pt x="820608" y="108587"/>
                    </a:lnTo>
                    <a:lnTo>
                      <a:pt x="817584" y="112680"/>
                    </a:lnTo>
                    <a:lnTo>
                      <a:pt x="813503" y="116649"/>
                    </a:lnTo>
                    <a:lnTo>
                      <a:pt x="808832" y="120555"/>
                    </a:lnTo>
                    <a:lnTo>
                      <a:pt x="798503" y="127734"/>
                    </a:lnTo>
                    <a:lnTo>
                      <a:pt x="793437" y="130821"/>
                    </a:lnTo>
                    <a:lnTo>
                      <a:pt x="788832" y="133592"/>
                    </a:lnTo>
                    <a:lnTo>
                      <a:pt x="788110" y="126663"/>
                    </a:lnTo>
                    <a:lnTo>
                      <a:pt x="787581" y="120743"/>
                    </a:lnTo>
                    <a:lnTo>
                      <a:pt x="787121" y="115641"/>
                    </a:lnTo>
                    <a:lnTo>
                      <a:pt x="786727" y="111233"/>
                    </a:lnTo>
                    <a:lnTo>
                      <a:pt x="786003" y="103926"/>
                    </a:lnTo>
                    <a:lnTo>
                      <a:pt x="785214" y="97879"/>
                    </a:lnTo>
                    <a:lnTo>
                      <a:pt x="801990" y="83455"/>
                    </a:lnTo>
                    <a:lnTo>
                      <a:pt x="819622" y="68025"/>
                    </a:lnTo>
                    <a:lnTo>
                      <a:pt x="748766" y="73504"/>
                    </a:lnTo>
                    <a:lnTo>
                      <a:pt x="755082" y="78920"/>
                    </a:lnTo>
                    <a:lnTo>
                      <a:pt x="758305" y="82195"/>
                    </a:lnTo>
                    <a:lnTo>
                      <a:pt x="761594" y="85913"/>
                    </a:lnTo>
                    <a:lnTo>
                      <a:pt x="765214" y="90132"/>
                    </a:lnTo>
                    <a:lnTo>
                      <a:pt x="769029" y="95045"/>
                    </a:lnTo>
                    <a:lnTo>
                      <a:pt x="766989" y="96935"/>
                    </a:lnTo>
                    <a:lnTo>
                      <a:pt x="764358" y="99328"/>
                    </a:lnTo>
                    <a:lnTo>
                      <a:pt x="761003" y="102162"/>
                    </a:lnTo>
                    <a:lnTo>
                      <a:pt x="757056" y="105374"/>
                    </a:lnTo>
                    <a:lnTo>
                      <a:pt x="752451" y="109028"/>
                    </a:lnTo>
                    <a:lnTo>
                      <a:pt x="747318" y="113121"/>
                    </a:lnTo>
                    <a:lnTo>
                      <a:pt x="741529" y="117594"/>
                    </a:lnTo>
                    <a:lnTo>
                      <a:pt x="735279" y="122443"/>
                    </a:lnTo>
                    <a:lnTo>
                      <a:pt x="728436" y="127608"/>
                    </a:lnTo>
                    <a:lnTo>
                      <a:pt x="721067" y="133152"/>
                    </a:lnTo>
                    <a:lnTo>
                      <a:pt x="713238" y="139009"/>
                    </a:lnTo>
                    <a:lnTo>
                      <a:pt x="704949" y="145118"/>
                    </a:lnTo>
                    <a:lnTo>
                      <a:pt x="696200" y="151606"/>
                    </a:lnTo>
                    <a:lnTo>
                      <a:pt x="686988" y="158408"/>
                    </a:lnTo>
                    <a:lnTo>
                      <a:pt x="677448" y="165400"/>
                    </a:lnTo>
                    <a:lnTo>
                      <a:pt x="667448" y="172706"/>
                    </a:lnTo>
                    <a:lnTo>
                      <a:pt x="646528" y="187948"/>
                    </a:lnTo>
                    <a:lnTo>
                      <a:pt x="624354" y="204072"/>
                    </a:lnTo>
                    <a:lnTo>
                      <a:pt x="600933" y="220953"/>
                    </a:lnTo>
                    <a:lnTo>
                      <a:pt x="576657" y="238399"/>
                    </a:lnTo>
                    <a:lnTo>
                      <a:pt x="551656" y="256351"/>
                    </a:lnTo>
                    <a:lnTo>
                      <a:pt x="526064" y="274679"/>
                    </a:lnTo>
                    <a:lnTo>
                      <a:pt x="473761" y="312030"/>
                    </a:lnTo>
                    <a:lnTo>
                      <a:pt x="421127" y="349506"/>
                    </a:lnTo>
                    <a:lnTo>
                      <a:pt x="395074" y="368023"/>
                    </a:lnTo>
                    <a:lnTo>
                      <a:pt x="369547" y="386164"/>
                    </a:lnTo>
                    <a:lnTo>
                      <a:pt x="344611" y="403925"/>
                    </a:lnTo>
                    <a:lnTo>
                      <a:pt x="320402" y="420995"/>
                    </a:lnTo>
                    <a:lnTo>
                      <a:pt x="297177" y="437559"/>
                    </a:lnTo>
                    <a:lnTo>
                      <a:pt x="275137" y="453180"/>
                    </a:lnTo>
                    <a:lnTo>
                      <a:pt x="254282" y="468044"/>
                    </a:lnTo>
                    <a:lnTo>
                      <a:pt x="244413" y="475036"/>
                    </a:lnTo>
                    <a:lnTo>
                      <a:pt x="234939" y="481774"/>
                    </a:lnTo>
                    <a:lnTo>
                      <a:pt x="225794" y="488263"/>
                    </a:lnTo>
                    <a:lnTo>
                      <a:pt x="217175" y="494435"/>
                    </a:lnTo>
                    <a:lnTo>
                      <a:pt x="209017" y="500230"/>
                    </a:lnTo>
                    <a:lnTo>
                      <a:pt x="201254" y="505772"/>
                    </a:lnTo>
                    <a:lnTo>
                      <a:pt x="194017" y="510937"/>
                    </a:lnTo>
                    <a:lnTo>
                      <a:pt x="187305" y="515787"/>
                    </a:lnTo>
                    <a:lnTo>
                      <a:pt x="181122" y="520196"/>
                    </a:lnTo>
                    <a:lnTo>
                      <a:pt x="175530" y="524290"/>
                    </a:lnTo>
                    <a:lnTo>
                      <a:pt x="170464" y="527880"/>
                    </a:lnTo>
                    <a:lnTo>
                      <a:pt x="166056" y="531156"/>
                    </a:lnTo>
                    <a:lnTo>
                      <a:pt x="162239" y="533927"/>
                    </a:lnTo>
                    <a:lnTo>
                      <a:pt x="159016" y="536257"/>
                    </a:lnTo>
                    <a:lnTo>
                      <a:pt x="155398" y="536572"/>
                    </a:lnTo>
                    <a:lnTo>
                      <a:pt x="152173" y="536383"/>
                    </a:lnTo>
                    <a:lnTo>
                      <a:pt x="149345" y="535879"/>
                    </a:lnTo>
                    <a:lnTo>
                      <a:pt x="146911" y="535061"/>
                    </a:lnTo>
                    <a:lnTo>
                      <a:pt x="144805" y="533927"/>
                    </a:lnTo>
                    <a:lnTo>
                      <a:pt x="142964" y="532541"/>
                    </a:lnTo>
                    <a:lnTo>
                      <a:pt x="140331" y="529013"/>
                    </a:lnTo>
                    <a:lnTo>
                      <a:pt x="138752" y="524731"/>
                    </a:lnTo>
                    <a:lnTo>
                      <a:pt x="138160" y="519818"/>
                    </a:lnTo>
                    <a:lnTo>
                      <a:pt x="138359" y="514653"/>
                    </a:lnTo>
                    <a:lnTo>
                      <a:pt x="139213" y="509237"/>
                    </a:lnTo>
                    <a:lnTo>
                      <a:pt x="140266" y="508103"/>
                    </a:lnTo>
                    <a:lnTo>
                      <a:pt x="142107" y="506402"/>
                    </a:lnTo>
                    <a:lnTo>
                      <a:pt x="144740" y="504261"/>
                    </a:lnTo>
                    <a:lnTo>
                      <a:pt x="148094" y="501552"/>
                    </a:lnTo>
                    <a:lnTo>
                      <a:pt x="152109" y="498340"/>
                    </a:lnTo>
                    <a:lnTo>
                      <a:pt x="156910" y="494624"/>
                    </a:lnTo>
                    <a:lnTo>
                      <a:pt x="162305" y="490466"/>
                    </a:lnTo>
                    <a:lnTo>
                      <a:pt x="168292" y="485869"/>
                    </a:lnTo>
                    <a:lnTo>
                      <a:pt x="175004" y="480893"/>
                    </a:lnTo>
                    <a:lnTo>
                      <a:pt x="182240" y="475413"/>
                    </a:lnTo>
                    <a:lnTo>
                      <a:pt x="190003" y="469619"/>
                    </a:lnTo>
                    <a:lnTo>
                      <a:pt x="198358" y="463446"/>
                    </a:lnTo>
                    <a:lnTo>
                      <a:pt x="207176" y="456896"/>
                    </a:lnTo>
                    <a:lnTo>
                      <a:pt x="216518" y="450031"/>
                    </a:lnTo>
                    <a:lnTo>
                      <a:pt x="226255" y="442850"/>
                    </a:lnTo>
                    <a:lnTo>
                      <a:pt x="236584" y="435291"/>
                    </a:lnTo>
                    <a:lnTo>
                      <a:pt x="247176" y="427608"/>
                    </a:lnTo>
                    <a:lnTo>
                      <a:pt x="258229" y="419546"/>
                    </a:lnTo>
                    <a:lnTo>
                      <a:pt x="281255" y="402728"/>
                    </a:lnTo>
                    <a:lnTo>
                      <a:pt x="305532" y="385092"/>
                    </a:lnTo>
                    <a:lnTo>
                      <a:pt x="330862" y="366701"/>
                    </a:lnTo>
                    <a:lnTo>
                      <a:pt x="357048" y="347804"/>
                    </a:lnTo>
                    <a:lnTo>
                      <a:pt x="383824" y="328469"/>
                    </a:lnTo>
                    <a:lnTo>
                      <a:pt x="438430" y="289039"/>
                    </a:lnTo>
                    <a:lnTo>
                      <a:pt x="493102" y="249611"/>
                    </a:lnTo>
                    <a:lnTo>
                      <a:pt x="519945" y="230275"/>
                    </a:lnTo>
                    <a:lnTo>
                      <a:pt x="546261" y="211379"/>
                    </a:lnTo>
                    <a:lnTo>
                      <a:pt x="571657" y="192988"/>
                    </a:lnTo>
                    <a:lnTo>
                      <a:pt x="596196" y="175351"/>
                    </a:lnTo>
                    <a:lnTo>
                      <a:pt x="619487" y="158597"/>
                    </a:lnTo>
                    <a:lnTo>
                      <a:pt x="630605" y="150536"/>
                    </a:lnTo>
                    <a:lnTo>
                      <a:pt x="641394" y="142725"/>
                    </a:lnTo>
                    <a:lnTo>
                      <a:pt x="651724" y="135229"/>
                    </a:lnTo>
                    <a:lnTo>
                      <a:pt x="661658" y="128049"/>
                    </a:lnTo>
                    <a:lnTo>
                      <a:pt x="671198" y="121184"/>
                    </a:lnTo>
                    <a:lnTo>
                      <a:pt x="680212" y="114634"/>
                    </a:lnTo>
                    <a:lnTo>
                      <a:pt x="688633" y="108460"/>
                    </a:lnTo>
                    <a:lnTo>
                      <a:pt x="696659" y="102667"/>
                    </a:lnTo>
                    <a:lnTo>
                      <a:pt x="704092" y="97187"/>
                    </a:lnTo>
                    <a:lnTo>
                      <a:pt x="710937" y="92211"/>
                    </a:lnTo>
                    <a:lnTo>
                      <a:pt x="717186" y="87550"/>
                    </a:lnTo>
                    <a:lnTo>
                      <a:pt x="722778" y="83455"/>
                    </a:lnTo>
                    <a:lnTo>
                      <a:pt x="727778" y="79739"/>
                    </a:lnTo>
                    <a:lnTo>
                      <a:pt x="732056" y="76527"/>
                    </a:lnTo>
                    <a:lnTo>
                      <a:pt x="735674" y="73756"/>
                    </a:lnTo>
                    <a:lnTo>
                      <a:pt x="738502" y="71614"/>
                    </a:lnTo>
                    <a:lnTo>
                      <a:pt x="740608" y="69913"/>
                    </a:lnTo>
                    <a:lnTo>
                      <a:pt x="741989" y="68780"/>
                    </a:lnTo>
                    <a:lnTo>
                      <a:pt x="773896" y="123452"/>
                    </a:lnTo>
                    <a:lnTo>
                      <a:pt x="775082" y="132018"/>
                    </a:lnTo>
                    <a:lnTo>
                      <a:pt x="776200" y="141087"/>
                    </a:lnTo>
                    <a:lnTo>
                      <a:pt x="771463" y="145055"/>
                    </a:lnTo>
                    <a:lnTo>
                      <a:pt x="766265" y="149401"/>
                    </a:lnTo>
                    <a:lnTo>
                      <a:pt x="760543" y="154062"/>
                    </a:lnTo>
                    <a:lnTo>
                      <a:pt x="754358" y="159038"/>
                    </a:lnTo>
                    <a:lnTo>
                      <a:pt x="747647" y="164329"/>
                    </a:lnTo>
                    <a:lnTo>
                      <a:pt x="740475" y="169997"/>
                    </a:lnTo>
                    <a:lnTo>
                      <a:pt x="732910" y="175855"/>
                    </a:lnTo>
                    <a:lnTo>
                      <a:pt x="724884" y="182028"/>
                    </a:lnTo>
                    <a:lnTo>
                      <a:pt x="716462" y="188453"/>
                    </a:lnTo>
                    <a:lnTo>
                      <a:pt x="707646" y="195191"/>
                    </a:lnTo>
                    <a:lnTo>
                      <a:pt x="689028" y="209301"/>
                    </a:lnTo>
                    <a:lnTo>
                      <a:pt x="669093" y="224228"/>
                    </a:lnTo>
                    <a:lnTo>
                      <a:pt x="647908" y="239912"/>
                    </a:lnTo>
                    <a:lnTo>
                      <a:pt x="625802" y="256225"/>
                    </a:lnTo>
                    <a:lnTo>
                      <a:pt x="602776" y="273230"/>
                    </a:lnTo>
                    <a:lnTo>
                      <a:pt x="579091" y="290552"/>
                    </a:lnTo>
                    <a:lnTo>
                      <a:pt x="554748" y="308250"/>
                    </a:lnTo>
                    <a:lnTo>
                      <a:pt x="505011" y="344341"/>
                    </a:lnTo>
                    <a:lnTo>
                      <a:pt x="454680" y="380746"/>
                    </a:lnTo>
                    <a:lnTo>
                      <a:pt x="429746" y="398760"/>
                    </a:lnTo>
                    <a:lnTo>
                      <a:pt x="405007" y="416522"/>
                    </a:lnTo>
                    <a:lnTo>
                      <a:pt x="380864" y="433905"/>
                    </a:lnTo>
                    <a:lnTo>
                      <a:pt x="357178" y="450849"/>
                    </a:lnTo>
                    <a:lnTo>
                      <a:pt x="334282" y="467289"/>
                    </a:lnTo>
                    <a:lnTo>
                      <a:pt x="312309" y="483098"/>
                    </a:lnTo>
                    <a:lnTo>
                      <a:pt x="291321" y="498087"/>
                    </a:lnTo>
                    <a:lnTo>
                      <a:pt x="271519" y="512323"/>
                    </a:lnTo>
                    <a:lnTo>
                      <a:pt x="253098" y="525550"/>
                    </a:lnTo>
                    <a:lnTo>
                      <a:pt x="244413" y="531786"/>
                    </a:lnTo>
                    <a:lnTo>
                      <a:pt x="236123" y="537769"/>
                    </a:lnTo>
                    <a:lnTo>
                      <a:pt x="228228" y="543438"/>
                    </a:lnTo>
                    <a:lnTo>
                      <a:pt x="220794" y="548854"/>
                    </a:lnTo>
                    <a:lnTo>
                      <a:pt x="213755" y="553892"/>
                    </a:lnTo>
                    <a:lnTo>
                      <a:pt x="207176" y="558617"/>
                    </a:lnTo>
                    <a:lnTo>
                      <a:pt x="201055" y="563089"/>
                    </a:lnTo>
                    <a:lnTo>
                      <a:pt x="195530" y="567120"/>
                    </a:lnTo>
                    <a:lnTo>
                      <a:pt x="190464" y="570773"/>
                    </a:lnTo>
                    <a:lnTo>
                      <a:pt x="185925" y="574174"/>
                    </a:lnTo>
                    <a:lnTo>
                      <a:pt x="181910" y="577071"/>
                    </a:lnTo>
                    <a:lnTo>
                      <a:pt x="178556" y="579654"/>
                    </a:lnTo>
                    <a:lnTo>
                      <a:pt x="175661" y="581732"/>
                    </a:lnTo>
                    <a:lnTo>
                      <a:pt x="173491" y="583433"/>
                    </a:lnTo>
                    <a:lnTo>
                      <a:pt x="169608" y="583055"/>
                    </a:lnTo>
                    <a:lnTo>
                      <a:pt x="164872" y="581732"/>
                    </a:lnTo>
                    <a:lnTo>
                      <a:pt x="160003" y="579402"/>
                    </a:lnTo>
                    <a:lnTo>
                      <a:pt x="157831" y="577765"/>
                    </a:lnTo>
                    <a:lnTo>
                      <a:pt x="155990" y="575811"/>
                    </a:lnTo>
                    <a:lnTo>
                      <a:pt x="154411" y="573481"/>
                    </a:lnTo>
                    <a:lnTo>
                      <a:pt x="153423" y="570773"/>
                    </a:lnTo>
                    <a:lnTo>
                      <a:pt x="152963" y="567749"/>
                    </a:lnTo>
                    <a:lnTo>
                      <a:pt x="153226" y="564286"/>
                    </a:lnTo>
                    <a:lnTo>
                      <a:pt x="154345" y="560381"/>
                    </a:lnTo>
                    <a:lnTo>
                      <a:pt x="156253" y="556097"/>
                    </a:lnTo>
                    <a:lnTo>
                      <a:pt x="159213" y="551311"/>
                    </a:lnTo>
                    <a:lnTo>
                      <a:pt x="163226" y="546020"/>
                    </a:lnTo>
                    <a:lnTo>
                      <a:pt x="166517" y="543564"/>
                    </a:lnTo>
                    <a:lnTo>
                      <a:pt x="170398" y="540603"/>
                    </a:lnTo>
                    <a:lnTo>
                      <a:pt x="174938" y="537202"/>
                    </a:lnTo>
                    <a:lnTo>
                      <a:pt x="180069" y="533423"/>
                    </a:lnTo>
                    <a:lnTo>
                      <a:pt x="185793" y="529140"/>
                    </a:lnTo>
                    <a:lnTo>
                      <a:pt x="192109" y="524542"/>
                    </a:lnTo>
                    <a:lnTo>
                      <a:pt x="198951" y="519566"/>
                    </a:lnTo>
                    <a:lnTo>
                      <a:pt x="206320" y="514275"/>
                    </a:lnTo>
                    <a:lnTo>
                      <a:pt x="214148" y="508543"/>
                    </a:lnTo>
                    <a:lnTo>
                      <a:pt x="222505" y="502497"/>
                    </a:lnTo>
                    <a:lnTo>
                      <a:pt x="231320" y="496199"/>
                    </a:lnTo>
                    <a:lnTo>
                      <a:pt x="240531" y="489585"/>
                    </a:lnTo>
                    <a:lnTo>
                      <a:pt x="250202" y="482657"/>
                    </a:lnTo>
                    <a:lnTo>
                      <a:pt x="260268" y="475476"/>
                    </a:lnTo>
                    <a:lnTo>
                      <a:pt x="281387" y="460360"/>
                    </a:lnTo>
                    <a:lnTo>
                      <a:pt x="303757" y="444361"/>
                    </a:lnTo>
                    <a:lnTo>
                      <a:pt x="327375" y="427670"/>
                    </a:lnTo>
                    <a:lnTo>
                      <a:pt x="351914" y="410286"/>
                    </a:lnTo>
                    <a:lnTo>
                      <a:pt x="377180" y="392336"/>
                    </a:lnTo>
                    <a:lnTo>
                      <a:pt x="402970" y="373944"/>
                    </a:lnTo>
                    <a:lnTo>
                      <a:pt x="429285" y="355300"/>
                    </a:lnTo>
                    <a:lnTo>
                      <a:pt x="482313" y="317572"/>
                    </a:lnTo>
                    <a:lnTo>
                      <a:pt x="534879" y="280159"/>
                    </a:lnTo>
                    <a:lnTo>
                      <a:pt x="560603" y="261831"/>
                    </a:lnTo>
                    <a:lnTo>
                      <a:pt x="585604" y="243943"/>
                    </a:lnTo>
                    <a:lnTo>
                      <a:pt x="609815" y="226621"/>
                    </a:lnTo>
                    <a:lnTo>
                      <a:pt x="633038" y="209993"/>
                    </a:lnTo>
                    <a:lnTo>
                      <a:pt x="655080" y="194121"/>
                    </a:lnTo>
                    <a:lnTo>
                      <a:pt x="665606" y="186499"/>
                    </a:lnTo>
                    <a:lnTo>
                      <a:pt x="675737" y="179131"/>
                    </a:lnTo>
                    <a:lnTo>
                      <a:pt x="685541" y="172076"/>
                    </a:lnTo>
                    <a:lnTo>
                      <a:pt x="694883" y="165210"/>
                    </a:lnTo>
                    <a:lnTo>
                      <a:pt x="703895" y="158597"/>
                    </a:lnTo>
                    <a:lnTo>
                      <a:pt x="712383" y="152424"/>
                    </a:lnTo>
                    <a:lnTo>
                      <a:pt x="720410" y="146504"/>
                    </a:lnTo>
                    <a:lnTo>
                      <a:pt x="727975" y="140899"/>
                    </a:lnTo>
                    <a:lnTo>
                      <a:pt x="735016" y="135608"/>
                    </a:lnTo>
                    <a:lnTo>
                      <a:pt x="741462" y="130758"/>
                    </a:lnTo>
                    <a:lnTo>
                      <a:pt x="747384" y="126222"/>
                    </a:lnTo>
                    <a:lnTo>
                      <a:pt x="752712" y="122129"/>
                    </a:lnTo>
                    <a:lnTo>
                      <a:pt x="757450" y="118475"/>
                    </a:lnTo>
                    <a:lnTo>
                      <a:pt x="761594" y="115137"/>
                    </a:lnTo>
                    <a:lnTo>
                      <a:pt x="765082" y="112303"/>
                    </a:lnTo>
                    <a:lnTo>
                      <a:pt x="767845" y="109909"/>
                    </a:lnTo>
                    <a:lnTo>
                      <a:pt x="770015" y="107957"/>
                    </a:lnTo>
                    <a:lnTo>
                      <a:pt x="771397" y="106572"/>
                    </a:lnTo>
                    <a:lnTo>
                      <a:pt x="84870" y="503631"/>
                    </a:lnTo>
                    <a:lnTo>
                      <a:pt x="87700" y="507096"/>
                    </a:lnTo>
                    <a:lnTo>
                      <a:pt x="90594" y="510118"/>
                    </a:lnTo>
                    <a:lnTo>
                      <a:pt x="94015" y="512700"/>
                    </a:lnTo>
                    <a:lnTo>
                      <a:pt x="98488" y="514653"/>
                    </a:lnTo>
                    <a:lnTo>
                      <a:pt x="101317" y="515283"/>
                    </a:lnTo>
                    <a:lnTo>
                      <a:pt x="104607" y="515724"/>
                    </a:lnTo>
                    <a:lnTo>
                      <a:pt x="108423" y="515913"/>
                    </a:lnTo>
                    <a:lnTo>
                      <a:pt x="112896" y="515850"/>
                    </a:lnTo>
                    <a:lnTo>
                      <a:pt x="117964" y="515535"/>
                    </a:lnTo>
                    <a:lnTo>
                      <a:pt x="123818" y="514968"/>
                    </a:lnTo>
                    <a:lnTo>
                      <a:pt x="123292" y="522022"/>
                    </a:lnTo>
                    <a:lnTo>
                      <a:pt x="124081" y="528132"/>
                    </a:lnTo>
                    <a:lnTo>
                      <a:pt x="125924" y="533423"/>
                    </a:lnTo>
                    <a:lnTo>
                      <a:pt x="128752" y="537769"/>
                    </a:lnTo>
                    <a:lnTo>
                      <a:pt x="132502" y="541485"/>
                    </a:lnTo>
                    <a:lnTo>
                      <a:pt x="136845" y="544509"/>
                    </a:lnTo>
                    <a:lnTo>
                      <a:pt x="141713" y="546965"/>
                    </a:lnTo>
                    <a:lnTo>
                      <a:pt x="146977" y="548917"/>
                    </a:lnTo>
                    <a:lnTo>
                      <a:pt x="145398" y="552066"/>
                    </a:lnTo>
                    <a:lnTo>
                      <a:pt x="144279" y="555342"/>
                    </a:lnTo>
                    <a:lnTo>
                      <a:pt x="143292" y="562207"/>
                    </a:lnTo>
                    <a:lnTo>
                      <a:pt x="143687" y="569135"/>
                    </a:lnTo>
                    <a:lnTo>
                      <a:pt x="145332" y="575875"/>
                    </a:lnTo>
                    <a:lnTo>
                      <a:pt x="147963" y="582111"/>
                    </a:lnTo>
                    <a:lnTo>
                      <a:pt x="151516" y="587401"/>
                    </a:lnTo>
                    <a:lnTo>
                      <a:pt x="155661" y="591369"/>
                    </a:lnTo>
                    <a:lnTo>
                      <a:pt x="160266" y="593825"/>
                    </a:lnTo>
                    <a:lnTo>
                      <a:pt x="146515" y="597857"/>
                    </a:lnTo>
                    <a:lnTo>
                      <a:pt x="133489" y="601761"/>
                    </a:lnTo>
                    <a:lnTo>
                      <a:pt x="120988" y="605479"/>
                    </a:lnTo>
                    <a:lnTo>
                      <a:pt x="108752" y="608816"/>
                    </a:lnTo>
                    <a:lnTo>
                      <a:pt x="96449" y="611713"/>
                    </a:lnTo>
                    <a:lnTo>
                      <a:pt x="83883" y="614043"/>
                    </a:lnTo>
                    <a:lnTo>
                      <a:pt x="70725" y="615807"/>
                    </a:lnTo>
                    <a:lnTo>
                      <a:pt x="56908" y="616816"/>
                    </a:lnTo>
                    <a:lnTo>
                      <a:pt x="56777" y="610327"/>
                    </a:lnTo>
                    <a:lnTo>
                      <a:pt x="55330" y="603651"/>
                    </a:lnTo>
                    <a:lnTo>
                      <a:pt x="52895" y="597227"/>
                    </a:lnTo>
                    <a:lnTo>
                      <a:pt x="49473" y="591180"/>
                    </a:lnTo>
                    <a:lnTo>
                      <a:pt x="45396" y="585952"/>
                    </a:lnTo>
                    <a:lnTo>
                      <a:pt x="40855" y="581985"/>
                    </a:lnTo>
                    <a:lnTo>
                      <a:pt x="36250" y="579465"/>
                    </a:lnTo>
                    <a:lnTo>
                      <a:pt x="31646" y="578898"/>
                    </a:lnTo>
                    <a:lnTo>
                      <a:pt x="38027" y="567939"/>
                    </a:lnTo>
                    <a:lnTo>
                      <a:pt x="45132" y="556979"/>
                    </a:lnTo>
                    <a:lnTo>
                      <a:pt x="60001" y="535564"/>
                    </a:lnTo>
                    <a:lnTo>
                      <a:pt x="67040" y="525486"/>
                    </a:lnTo>
                    <a:lnTo>
                      <a:pt x="73225" y="516102"/>
                    </a:lnTo>
                    <a:lnTo>
                      <a:pt x="75857" y="511693"/>
                    </a:lnTo>
                    <a:lnTo>
                      <a:pt x="78159" y="507473"/>
                    </a:lnTo>
                    <a:lnTo>
                      <a:pt x="80067" y="503631"/>
                    </a:lnTo>
                    <a:lnTo>
                      <a:pt x="81515" y="500041"/>
                    </a:lnTo>
                    <a:lnTo>
                      <a:pt x="13617" y="634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7" name="TextBox 116"/>
          <p:cNvSpPr/>
          <p:nvPr/>
        </p:nvSpPr>
        <p:spPr>
          <a:xfrm>
            <a:off x="1359000" y="9474120"/>
            <a:ext cx="232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17"/>
          <p:cNvSpPr/>
          <p:nvPr/>
        </p:nvSpPr>
        <p:spPr>
          <a:xfrm>
            <a:off x="1117440" y="88772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18"/>
          <p:cNvSpPr/>
          <p:nvPr/>
        </p:nvSpPr>
        <p:spPr>
          <a:xfrm>
            <a:off x="3263760" y="8229600"/>
            <a:ext cx="154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19"/>
          <p:cNvSpPr/>
          <p:nvPr/>
        </p:nvSpPr>
        <p:spPr>
          <a:xfrm>
            <a:off x="5084640" y="818352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20"/>
          <p:cNvSpPr/>
          <p:nvPr/>
        </p:nvSpPr>
        <p:spPr>
          <a:xfrm>
            <a:off x="965160" y="8178840"/>
            <a:ext cx="15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Reli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21"/>
          <p:cNvSpPr/>
          <p:nvPr/>
        </p:nvSpPr>
        <p:spPr>
          <a:xfrm>
            <a:off x="6929280" y="8250120"/>
            <a:ext cx="12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22"/>
          <p:cNvSpPr/>
          <p:nvPr/>
        </p:nvSpPr>
        <p:spPr>
          <a:xfrm>
            <a:off x="3251160" y="8813880"/>
            <a:ext cx="154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23"/>
          <p:cNvSpPr/>
          <p:nvPr/>
        </p:nvSpPr>
        <p:spPr>
          <a:xfrm>
            <a:off x="4610160" y="9461520"/>
            <a:ext cx="118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24"/>
          <p:cNvSpPr/>
          <p:nvPr/>
        </p:nvSpPr>
        <p:spPr>
          <a:xfrm>
            <a:off x="6053040" y="9461520"/>
            <a:ext cx="167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25"/>
          <p:cNvSpPr/>
          <p:nvPr/>
        </p:nvSpPr>
        <p:spPr>
          <a:xfrm>
            <a:off x="5816520" y="8742240"/>
            <a:ext cx="25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Hausaufgab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26"/>
          <p:cNvSpPr/>
          <p:nvPr/>
        </p:nvSpPr>
        <p:spPr>
          <a:xfrm>
            <a:off x="241200" y="228600"/>
            <a:ext cx="708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8b"/>
                </a:solidFill>
                <a:latin typeface="Verdana"/>
                <a:ea typeface="Verdana"/>
              </a:rPr>
              <a:t>Make a sentence lik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81 0.02472 L 0.02172 0.31929 E">
                                      <p:cBhvr>
                                        <p:cTn id="244" dur="2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67 0.00152 L -0.32385 -0.29293 E">
                                      <p:cBhvr>
                                        <p:cTn id="248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3 0.10028 L 0.49219 0.31166 E">
                                      <p:cBhvr>
                                        <p:cTn id="252" dur="2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25 -0.00839 L 0.52797 -0.34737 E">
                                      <p:cBhvr>
                                        <p:cTn id="25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2"/>
          <p:cNvGrpSpPr/>
          <p:nvPr/>
        </p:nvGrpSpPr>
        <p:grpSpPr>
          <a:xfrm>
            <a:off x="341280" y="495360"/>
            <a:ext cx="9151920" cy="6340320"/>
            <a:chOff x="341280" y="495360"/>
            <a:chExt cx="9151920" cy="6340320"/>
          </a:xfrm>
        </p:grpSpPr>
        <p:grpSp>
          <p:nvGrpSpPr>
            <p:cNvPr id="529" name="Group 8"/>
            <p:cNvGrpSpPr/>
            <p:nvPr/>
          </p:nvGrpSpPr>
          <p:grpSpPr>
            <a:xfrm>
              <a:off x="341280" y="495360"/>
              <a:ext cx="9151920" cy="6340320"/>
              <a:chOff x="341280" y="495360"/>
              <a:chExt cx="9151920" cy="6340320"/>
            </a:xfrm>
          </p:grpSpPr>
          <p:grpSp>
            <p:nvGrpSpPr>
              <p:cNvPr id="530" name="Group 4"/>
              <p:cNvGrpSpPr/>
              <p:nvPr/>
            </p:nvGrpSpPr>
            <p:grpSpPr>
              <a:xfrm>
                <a:off x="341280" y="495360"/>
                <a:ext cx="9151920" cy="6340320"/>
                <a:chOff x="341280" y="495360"/>
                <a:chExt cx="9151920" cy="6340320"/>
              </a:xfrm>
            </p:grpSpPr>
            <p:pic>
              <p:nvPicPr>
                <p:cNvPr id="531" name="Picture 2" descr=""/>
                <p:cNvPicPr/>
                <p:nvPr/>
              </p:nvPicPr>
              <p:blipFill>
                <a:blip r:embed="rId1">
                  <a:alphaModFix amt="0"/>
                </a:blip>
                <a:stretch/>
              </p:blipFill>
              <p:spPr>
                <a:xfrm>
                  <a:off x="341280" y="495360"/>
                  <a:ext cx="9151920" cy="634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2" name="TextBox 3"/>
                <p:cNvSpPr/>
                <p:nvPr/>
              </p:nvSpPr>
              <p:spPr>
                <a:xfrm>
                  <a:off x="3517920" y="838080"/>
                  <a:ext cx="313776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0000"/>
                      </a:solidFill>
                      <a:latin typeface="Verdana"/>
                      <a:ea typeface="Verdana"/>
                    </a:rPr>
                    <a:t>Franzi's Kalender</a:t>
                  </a:r>
                  <a:endParaRPr b="0" lang="en-US" sz="1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3" name="Group 7"/>
              <p:cNvGrpSpPr/>
              <p:nvPr/>
            </p:nvGrpSpPr>
            <p:grpSpPr>
              <a:xfrm>
                <a:off x="2419920" y="838080"/>
                <a:ext cx="4995000" cy="578880"/>
                <a:chOff x="2419920" y="838080"/>
                <a:chExt cx="4995000" cy="578880"/>
              </a:xfrm>
            </p:grpSpPr>
            <p:sp>
              <p:nvSpPr>
                <p:cNvPr id="534" name="Freeform: Shape 5"/>
                <p:cNvSpPr/>
                <p:nvPr/>
              </p:nvSpPr>
              <p:spPr>
                <a:xfrm>
                  <a:off x="2419920" y="840960"/>
                  <a:ext cx="4995000" cy="576000"/>
                </a:xfrm>
                <a:custGeom>
                  <a:avLst/>
                  <a:gdLst>
                    <a:gd name="textAreaLeft" fmla="*/ 0 w 4995000"/>
                    <a:gd name="textAreaRight" fmla="*/ 4995360 w 499500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4995331" h="575488">
                      <a:moveTo>
                        <a:pt x="0" y="0"/>
                      </a:moveTo>
                      <a:lnTo>
                        <a:pt x="4995330" y="0"/>
                      </a:lnTo>
                      <a:lnTo>
                        <a:pt x="4995330" y="575487"/>
                      </a:lnTo>
                      <a:lnTo>
                        <a:pt x="0" y="5754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5" name="TextBox 6"/>
                <p:cNvSpPr/>
                <p:nvPr/>
              </p:nvSpPr>
              <p:spPr>
                <a:xfrm>
                  <a:off x="2540880" y="838080"/>
                  <a:ext cx="47750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0" spc="-1" strike="noStrike">
                      <a:solidFill>
                        <a:srgbClr val="000000"/>
                      </a:solidFill>
                      <a:latin typeface="Verdana"/>
                      <a:ea typeface="Verdana"/>
                    </a:rPr>
                    <a:t>Wir buchstabieren!</a:t>
                  </a:r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6" name="Group 11"/>
            <p:cNvGrpSpPr/>
            <p:nvPr/>
          </p:nvGrpSpPr>
          <p:grpSpPr>
            <a:xfrm>
              <a:off x="766440" y="799920"/>
              <a:ext cx="8009640" cy="617400"/>
              <a:chOff x="766440" y="799920"/>
              <a:chExt cx="8009640" cy="617400"/>
            </a:xfrm>
          </p:grpSpPr>
          <p:sp>
            <p:nvSpPr>
              <p:cNvPr id="537" name="Freeform: Shape 9"/>
              <p:cNvSpPr/>
              <p:nvPr/>
            </p:nvSpPr>
            <p:spPr>
              <a:xfrm>
                <a:off x="766440" y="799920"/>
                <a:ext cx="7828200" cy="617400"/>
              </a:xfrm>
              <a:custGeom>
                <a:avLst/>
                <a:gdLst>
                  <a:gd name="textAreaLeft" fmla="*/ 0 w 7828200"/>
                  <a:gd name="textAreaRight" fmla="*/ 7828560 w 782820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5245525" h="696888">
                    <a:moveTo>
                      <a:pt x="0" y="0"/>
                    </a:moveTo>
                    <a:lnTo>
                      <a:pt x="5245524" y="0"/>
                    </a:lnTo>
                    <a:lnTo>
                      <a:pt x="5245524" y="696887"/>
                    </a:lnTo>
                    <a:lnTo>
                      <a:pt x="0" y="696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TextBox 10"/>
              <p:cNvSpPr/>
              <p:nvPr/>
            </p:nvSpPr>
            <p:spPr>
              <a:xfrm>
                <a:off x="1979280" y="882000"/>
                <a:ext cx="67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Explain the words on the board!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6"/>
          <p:cNvGrpSpPr/>
          <p:nvPr/>
        </p:nvGrpSpPr>
        <p:grpSpPr>
          <a:xfrm>
            <a:off x="6775200" y="5740560"/>
            <a:ext cx="2981160" cy="4028760"/>
            <a:chOff x="6775200" y="5740560"/>
            <a:chExt cx="2981160" cy="4028760"/>
          </a:xfrm>
        </p:grpSpPr>
        <p:pic>
          <p:nvPicPr>
            <p:cNvPr id="540" name="Picture 14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 flipH="1">
              <a:off x="7238880" y="6821640"/>
              <a:ext cx="2517480" cy="29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Straight Connector 15"/>
            <p:cNvSpPr/>
            <p:nvPr/>
          </p:nvSpPr>
          <p:spPr>
            <a:xfrm flipH="1" flipV="1">
              <a:off x="6775200" y="5740560"/>
              <a:ext cx="1106280" cy="14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Box 15"/>
          <p:cNvSpPr/>
          <p:nvPr/>
        </p:nvSpPr>
        <p:spPr>
          <a:xfrm rot="823200">
            <a:off x="5653440" y="41004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43c0c"/>
                </a:solidFill>
                <a:latin typeface="Verdana"/>
                <a:ea typeface="Verdana"/>
              </a:rPr>
              <a:t>die Grundsch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6"/>
          <p:cNvSpPr/>
          <p:nvPr/>
        </p:nvSpPr>
        <p:spPr>
          <a:xfrm rot="358800">
            <a:off x="5730120" y="2373120"/>
            <a:ext cx="36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b7bc0"/>
                </a:solidFill>
                <a:latin typeface="Verdana"/>
                <a:ea typeface="Verdana"/>
              </a:rPr>
              <a:t>die Schuluni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7"/>
          <p:cNvSpPr/>
          <p:nvPr/>
        </p:nvSpPr>
        <p:spPr>
          <a:xfrm rot="21148800">
            <a:off x="1164960" y="2050560"/>
            <a:ext cx="35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Verdana"/>
              </a:rPr>
              <a:t>die Verkehrserzieh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8"/>
          <p:cNvSpPr/>
          <p:nvPr/>
        </p:nvSpPr>
        <p:spPr>
          <a:xfrm>
            <a:off x="2031840" y="3008160"/>
            <a:ext cx="31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820"/>
                </a:solidFill>
                <a:latin typeface="Verdana"/>
                <a:ea typeface="Verdana"/>
              </a:rPr>
              <a:t>der Schulgar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9"/>
          <p:cNvSpPr/>
          <p:nvPr/>
        </p:nvSpPr>
        <p:spPr>
          <a:xfrm rot="21370800">
            <a:off x="1836360" y="365904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f50"/>
                </a:solidFill>
                <a:latin typeface="Verdana"/>
                <a:ea typeface="Verdana"/>
              </a:rPr>
              <a:t>die Zuckertü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 rot="21223800">
            <a:off x="4762080" y="307656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  <a:ea typeface="Verdana"/>
              </a:rPr>
              <a:t>der Schulschlu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13"/>
          <p:cNvGrpSpPr/>
          <p:nvPr/>
        </p:nvGrpSpPr>
        <p:grpSpPr>
          <a:xfrm>
            <a:off x="0" y="5726880"/>
            <a:ext cx="2720520" cy="3074400"/>
            <a:chOff x="0" y="5726880"/>
            <a:chExt cx="2720520" cy="3074400"/>
          </a:xfrm>
        </p:grpSpPr>
        <p:pic>
          <p:nvPicPr>
            <p:cNvPr id="549" name="Picture 2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0" y="6470280"/>
              <a:ext cx="2392560" cy="233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0" name="Group 12"/>
            <p:cNvGrpSpPr/>
            <p:nvPr/>
          </p:nvGrpSpPr>
          <p:grpSpPr>
            <a:xfrm>
              <a:off x="1726200" y="5726880"/>
              <a:ext cx="994320" cy="1137960"/>
              <a:chOff x="1726200" y="5726880"/>
              <a:chExt cx="994320" cy="1137960"/>
            </a:xfrm>
          </p:grpSpPr>
          <p:grpSp>
            <p:nvGrpSpPr>
              <p:cNvPr id="551" name="Group 10"/>
              <p:cNvGrpSpPr/>
              <p:nvPr/>
            </p:nvGrpSpPr>
            <p:grpSpPr>
              <a:xfrm>
                <a:off x="1726200" y="5726880"/>
                <a:ext cx="994320" cy="639000"/>
                <a:chOff x="1726200" y="5726880"/>
                <a:chExt cx="994320" cy="639000"/>
              </a:xfrm>
            </p:grpSpPr>
            <p:sp>
              <p:nvSpPr>
                <p:cNvPr id="552" name="Freeform: Shape 273"/>
                <p:cNvSpPr/>
                <p:nvPr/>
              </p:nvSpPr>
              <p:spPr>
                <a:xfrm rot="21130200">
                  <a:off x="1756800" y="5787720"/>
                  <a:ext cx="932760" cy="516600"/>
                </a:xfrm>
                <a:custGeom>
                  <a:avLst/>
                  <a:gdLst>
                    <a:gd name="textAreaLeft" fmla="*/ 0 w 932760"/>
                    <a:gd name="textAreaRight" fmla="*/ 933120 w 932760"/>
                    <a:gd name="textAreaTop" fmla="*/ 0 h 516600"/>
                    <a:gd name="textAreaBottom" fmla="*/ 516960 h 516600"/>
                  </a:gdLst>
                  <a:ahLst/>
                  <a:rect l="textAreaLeft" t="textAreaTop" r="textAreaRight" b="textAreaBottom"/>
                  <a:pathLst>
                    <a:path w="1049032" h="614001">
                      <a:moveTo>
                        <a:pt x="1049031" y="0"/>
                      </a:moveTo>
                      <a:lnTo>
                        <a:pt x="1049031" y="614000"/>
                      </a:lnTo>
                      <a:lnTo>
                        <a:pt x="0" y="614000"/>
                      </a:lnTo>
                      <a:lnTo>
                        <a:pt x="0" y="0"/>
                      </a:lnTo>
                      <a:lnTo>
                        <a:pt x="1049031" y="0"/>
                      </a:lnTo>
                      <a:close/>
                    </a:path>
                  </a:pathLst>
                </a:custGeom>
                <a:solidFill>
                  <a:srgbClr val="323232"/>
                </a:solidFill>
                <a:ln w="0">
                  <a:solidFill>
                    <a:srgbClr val="32323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3" name="Freeform: Shape 274"/>
                <p:cNvSpPr/>
                <p:nvPr/>
              </p:nvSpPr>
              <p:spPr>
                <a:xfrm rot="21130200">
                  <a:off x="1783440" y="5965560"/>
                  <a:ext cx="878400" cy="15480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989490" h="186093">
                      <a:moveTo>
                        <a:pt x="989489" y="0"/>
                      </a:moveTo>
                      <a:lnTo>
                        <a:pt x="989489" y="186092"/>
                      </a:lnTo>
                      <a:lnTo>
                        <a:pt x="0" y="186092"/>
                      </a:lnTo>
                      <a:lnTo>
                        <a:pt x="0" y="0"/>
                      </a:lnTo>
                      <a:lnTo>
                        <a:pt x="98948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4" name="Freeform: Shape 275"/>
                <p:cNvSpPr/>
                <p:nvPr/>
              </p:nvSpPr>
              <p:spPr>
                <a:xfrm rot="21130200">
                  <a:off x="1783440" y="5965560"/>
                  <a:ext cx="878400" cy="15480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989714" h="186416">
                      <a:moveTo>
                        <a:pt x="0" y="0"/>
                      </a:moveTo>
                      <a:lnTo>
                        <a:pt x="0" y="186415"/>
                      </a:lnTo>
                      <a:lnTo>
                        <a:pt x="989713" y="186415"/>
                      </a:lnTo>
                      <a:lnTo>
                        <a:pt x="9897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240">
                  <a:solidFill>
                    <a:srgbClr val="fe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Freeform: Shape 276"/>
                <p:cNvSpPr/>
                <p:nvPr/>
              </p:nvSpPr>
              <p:spPr>
                <a:xfrm rot="21130200">
                  <a:off x="1757520" y="5808960"/>
                  <a:ext cx="879840" cy="156240"/>
                </a:xfrm>
                <a:custGeom>
                  <a:avLst/>
                  <a:gdLst>
                    <a:gd name="textAreaLeft" fmla="*/ 0 w 879840"/>
                    <a:gd name="textAreaRight" fmla="*/ 880200 w 879840"/>
                    <a:gd name="textAreaTop" fmla="*/ 0 h 156240"/>
                    <a:gd name="textAreaBottom" fmla="*/ 156240 h 156240"/>
                  </a:gdLst>
                  <a:ahLst/>
                  <a:rect l="textAreaLeft" t="textAreaTop" r="textAreaRight" b="textAreaBottom"/>
                  <a:pathLst>
                    <a:path w="989490" h="186257">
                      <a:moveTo>
                        <a:pt x="989489" y="0"/>
                      </a:moveTo>
                      <a:lnTo>
                        <a:pt x="989489" y="186256"/>
                      </a:lnTo>
                      <a:lnTo>
                        <a:pt x="0" y="186256"/>
                      </a:lnTo>
                      <a:lnTo>
                        <a:pt x="0" y="0"/>
                      </a:lnTo>
                      <a:lnTo>
                        <a:pt x="9894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6" name="Freeform: Shape 277"/>
                <p:cNvSpPr/>
                <p:nvPr/>
              </p:nvSpPr>
              <p:spPr>
                <a:xfrm rot="21130200">
                  <a:off x="1761840" y="5809320"/>
                  <a:ext cx="879840" cy="154800"/>
                </a:xfrm>
                <a:custGeom>
                  <a:avLst/>
                  <a:gdLst>
                    <a:gd name="textAreaLeft" fmla="*/ 0 w 879840"/>
                    <a:gd name="textAreaRight" fmla="*/ 880200 w 87984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989714" h="186013">
                      <a:moveTo>
                        <a:pt x="0" y="0"/>
                      </a:moveTo>
                      <a:lnTo>
                        <a:pt x="0" y="186012"/>
                      </a:lnTo>
                      <a:lnTo>
                        <a:pt x="989713" y="186012"/>
                      </a:lnTo>
                      <a:lnTo>
                        <a:pt x="9897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240">
                  <a:solidFill>
                    <a:srgbClr val="fe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7" name="Freeform: Shape 278"/>
                <p:cNvSpPr/>
                <p:nvPr/>
              </p:nvSpPr>
              <p:spPr>
                <a:xfrm rot="21130200">
                  <a:off x="1802880" y="6118560"/>
                  <a:ext cx="878400" cy="15804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989490" h="186294">
                      <a:moveTo>
                        <a:pt x="989489" y="0"/>
                      </a:moveTo>
                      <a:lnTo>
                        <a:pt x="989489" y="186293"/>
                      </a:lnTo>
                      <a:lnTo>
                        <a:pt x="0" y="186293"/>
                      </a:lnTo>
                      <a:lnTo>
                        <a:pt x="0" y="0"/>
                      </a:lnTo>
                      <a:lnTo>
                        <a:pt x="989489" y="0"/>
                      </a:lnTo>
                      <a:close/>
                    </a:path>
                  </a:pathLst>
                </a:custGeom>
                <a:solidFill>
                  <a:srgbClr val="ffbb00"/>
                </a:solidFill>
                <a:ln w="0">
                  <a:solidFill>
                    <a:srgbClr val="ffbb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Freeform: Shape 279"/>
                <p:cNvSpPr/>
                <p:nvPr/>
              </p:nvSpPr>
              <p:spPr>
                <a:xfrm rot="21130200">
                  <a:off x="1802880" y="6118560"/>
                  <a:ext cx="878400" cy="15624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989714" h="186013">
                      <a:moveTo>
                        <a:pt x="0" y="0"/>
                      </a:moveTo>
                      <a:lnTo>
                        <a:pt x="0" y="186012"/>
                      </a:lnTo>
                      <a:lnTo>
                        <a:pt x="989713" y="186012"/>
                      </a:lnTo>
                      <a:lnTo>
                        <a:pt x="9897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240">
                  <a:solidFill>
                    <a:srgbClr val="fe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9" name="Straight Connector 272"/>
              <p:cNvSpPr/>
              <p:nvPr/>
            </p:nvSpPr>
            <p:spPr>
              <a:xfrm>
                <a:off x="1789200" y="6360480"/>
                <a:ext cx="69480" cy="50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747960" y="25560"/>
            <a:ext cx="6373800" cy="103759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25"/>
          <p:cNvGrpSpPr/>
          <p:nvPr/>
        </p:nvGrpSpPr>
        <p:grpSpPr>
          <a:xfrm>
            <a:off x="50760" y="25560"/>
            <a:ext cx="2230560" cy="3201840"/>
            <a:chOff x="50760" y="25560"/>
            <a:chExt cx="2230560" cy="3201840"/>
          </a:xfrm>
        </p:grpSpPr>
        <p:grpSp>
          <p:nvGrpSpPr>
            <p:cNvPr id="562" name="Group 19"/>
            <p:cNvGrpSpPr/>
            <p:nvPr/>
          </p:nvGrpSpPr>
          <p:grpSpPr>
            <a:xfrm>
              <a:off x="50760" y="878760"/>
              <a:ext cx="2230560" cy="2348640"/>
              <a:chOff x="50760" y="878760"/>
              <a:chExt cx="2230560" cy="2348640"/>
            </a:xfrm>
          </p:grpSpPr>
          <p:pic>
            <p:nvPicPr>
              <p:cNvPr id="563" name="Picture 4" descr=""/>
              <p:cNvPicPr/>
              <p:nvPr/>
            </p:nvPicPr>
            <p:blipFill>
              <a:blip r:embed="rId2">
                <a:alphaModFix amt="0"/>
              </a:blip>
              <a:stretch/>
            </p:blipFill>
            <p:spPr>
              <a:xfrm>
                <a:off x="50760" y="878760"/>
                <a:ext cx="2230560" cy="2348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4" name="Group 18"/>
              <p:cNvGrpSpPr/>
              <p:nvPr/>
            </p:nvGrpSpPr>
            <p:grpSpPr>
              <a:xfrm>
                <a:off x="1420200" y="2158560"/>
                <a:ext cx="704880" cy="706320"/>
                <a:chOff x="1420200" y="2158560"/>
                <a:chExt cx="704880" cy="706320"/>
              </a:xfrm>
            </p:grpSpPr>
            <p:sp>
              <p:nvSpPr>
                <p:cNvPr id="565" name="Oval 5"/>
                <p:cNvSpPr/>
                <p:nvPr/>
              </p:nvSpPr>
              <p:spPr>
                <a:xfrm>
                  <a:off x="1420200" y="2158560"/>
                  <a:ext cx="704880" cy="706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Freeform: Shape 6"/>
                <p:cNvSpPr/>
                <p:nvPr/>
              </p:nvSpPr>
              <p:spPr>
                <a:xfrm>
                  <a:off x="1682280" y="2158560"/>
                  <a:ext cx="239760" cy="6876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39542" h="70805">
                      <a:moveTo>
                        <a:pt x="239541" y="44226"/>
                      </a:moveTo>
                      <a:lnTo>
                        <a:pt x="162318" y="70804"/>
                      </a:lnTo>
                      <a:lnTo>
                        <a:pt x="28932" y="51454"/>
                      </a:lnTo>
                      <a:lnTo>
                        <a:pt x="0" y="17648"/>
                      </a:lnTo>
                      <a:lnTo>
                        <a:pt x="57013" y="0"/>
                      </a:lnTo>
                      <a:lnTo>
                        <a:pt x="116579" y="0"/>
                      </a:lnTo>
                      <a:lnTo>
                        <a:pt x="184867" y="11269"/>
                      </a:lnTo>
                      <a:lnTo>
                        <a:pt x="239541" y="442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Freeform: Shape 7"/>
                <p:cNvSpPr/>
                <p:nvPr/>
              </p:nvSpPr>
              <p:spPr>
                <a:xfrm>
                  <a:off x="1632960" y="2217960"/>
                  <a:ext cx="253800" cy="21708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254011" h="199230">
                      <a:moveTo>
                        <a:pt x="247628" y="90791"/>
                      </a:moveTo>
                      <a:lnTo>
                        <a:pt x="254010" y="119708"/>
                      </a:lnTo>
                      <a:lnTo>
                        <a:pt x="164022" y="199229"/>
                      </a:lnTo>
                      <a:lnTo>
                        <a:pt x="32762" y="168824"/>
                      </a:lnTo>
                      <a:lnTo>
                        <a:pt x="0" y="70804"/>
                      </a:lnTo>
                      <a:lnTo>
                        <a:pt x="70630" y="0"/>
                      </a:lnTo>
                      <a:lnTo>
                        <a:pt x="212101" y="15309"/>
                      </a:lnTo>
                      <a:lnTo>
                        <a:pt x="247628" y="907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Freeform: Shape 8"/>
                <p:cNvSpPr/>
                <p:nvPr/>
              </p:nvSpPr>
              <p:spPr>
                <a:xfrm>
                  <a:off x="1443960" y="2256120"/>
                  <a:ext cx="87120" cy="16668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66680"/>
                    <a:gd name="textAreaBottom" fmla="*/ 167040 h 166680"/>
                  </a:gdLst>
                  <a:ahLst/>
                  <a:rect l="textAreaLeft" t="textAreaTop" r="textAreaRight" b="textAreaBottom"/>
                  <a:pathLst>
                    <a:path w="86805" h="146287">
                      <a:moveTo>
                        <a:pt x="2342" y="146286"/>
                      </a:moveTo>
                      <a:lnTo>
                        <a:pt x="0" y="126938"/>
                      </a:lnTo>
                      <a:lnTo>
                        <a:pt x="30637" y="59535"/>
                      </a:lnTo>
                      <a:lnTo>
                        <a:pt x="69146" y="11269"/>
                      </a:lnTo>
                      <a:lnTo>
                        <a:pt x="86804" y="0"/>
                      </a:lnTo>
                      <a:lnTo>
                        <a:pt x="86804" y="17648"/>
                      </a:lnTo>
                      <a:lnTo>
                        <a:pt x="44253" y="79522"/>
                      </a:lnTo>
                      <a:lnTo>
                        <a:pt x="2342" y="1462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9" name="Freeform: Shape 9"/>
                <p:cNvSpPr/>
                <p:nvPr/>
              </p:nvSpPr>
              <p:spPr>
                <a:xfrm>
                  <a:off x="1453320" y="2271600"/>
                  <a:ext cx="209520" cy="26748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267480"/>
                    <a:gd name="textAreaBottom" fmla="*/ 267840 h 267480"/>
                  </a:gdLst>
                  <a:ahLst/>
                  <a:rect l="textAreaLeft" t="textAreaTop" r="textAreaRight" b="textAreaBottom"/>
                  <a:pathLst>
                    <a:path w="210611" h="251535">
                      <a:moveTo>
                        <a:pt x="210610" y="119708"/>
                      </a:moveTo>
                      <a:lnTo>
                        <a:pt x="148702" y="237926"/>
                      </a:lnTo>
                      <a:lnTo>
                        <a:pt x="35314" y="251534"/>
                      </a:lnTo>
                      <a:lnTo>
                        <a:pt x="0" y="138206"/>
                      </a:lnTo>
                      <a:lnTo>
                        <a:pt x="37654" y="70591"/>
                      </a:lnTo>
                      <a:lnTo>
                        <a:pt x="85094" y="0"/>
                      </a:lnTo>
                      <a:lnTo>
                        <a:pt x="175295" y="19137"/>
                      </a:lnTo>
                      <a:lnTo>
                        <a:pt x="210610" y="1197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Freeform: Shape 10"/>
                <p:cNvSpPr/>
                <p:nvPr/>
              </p:nvSpPr>
              <p:spPr>
                <a:xfrm>
                  <a:off x="2006280" y="2338920"/>
                  <a:ext cx="106200" cy="2383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07005" h="247504">
                      <a:moveTo>
                        <a:pt x="36165" y="0"/>
                      </a:moveTo>
                      <a:lnTo>
                        <a:pt x="85305" y="58685"/>
                      </a:lnTo>
                      <a:lnTo>
                        <a:pt x="102961" y="134169"/>
                      </a:lnTo>
                      <a:lnTo>
                        <a:pt x="107004" y="201787"/>
                      </a:lnTo>
                      <a:lnTo>
                        <a:pt x="76370" y="247503"/>
                      </a:lnTo>
                      <a:lnTo>
                        <a:pt x="17018" y="201787"/>
                      </a:lnTo>
                      <a:lnTo>
                        <a:pt x="0" y="75483"/>
                      </a:lnTo>
                      <a:lnTo>
                        <a:pt x="361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1" name="Freeform: Shape 11"/>
                <p:cNvSpPr/>
                <p:nvPr/>
              </p:nvSpPr>
              <p:spPr>
                <a:xfrm>
                  <a:off x="1802880" y="2363400"/>
                  <a:ext cx="212760" cy="25992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2956" h="268333">
                      <a:moveTo>
                        <a:pt x="212955" y="181581"/>
                      </a:moveTo>
                      <a:lnTo>
                        <a:pt x="118072" y="268332"/>
                      </a:lnTo>
                      <a:lnTo>
                        <a:pt x="12764" y="204118"/>
                      </a:lnTo>
                      <a:lnTo>
                        <a:pt x="0" y="79521"/>
                      </a:lnTo>
                      <a:lnTo>
                        <a:pt x="89139" y="0"/>
                      </a:lnTo>
                      <a:lnTo>
                        <a:pt x="195297" y="48902"/>
                      </a:lnTo>
                      <a:lnTo>
                        <a:pt x="212955" y="1815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2" name="Freeform: Shape 12"/>
                <p:cNvSpPr/>
                <p:nvPr/>
              </p:nvSpPr>
              <p:spPr>
                <a:xfrm>
                  <a:off x="1472400" y="2534760"/>
                  <a:ext cx="210960" cy="22320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23200"/>
                    <a:gd name="textAreaBottom" fmla="*/ 223560 h 223200"/>
                  </a:gdLst>
                  <a:ahLst/>
                  <a:rect l="textAreaLeft" t="textAreaTop" r="textAreaRight" b="textAreaBottom"/>
                  <a:pathLst>
                    <a:path w="210824" h="231557">
                      <a:moveTo>
                        <a:pt x="12976" y="11270"/>
                      </a:moveTo>
                      <a:lnTo>
                        <a:pt x="129557" y="0"/>
                      </a:lnTo>
                      <a:lnTo>
                        <a:pt x="210823" y="95684"/>
                      </a:lnTo>
                      <a:lnTo>
                        <a:pt x="205930" y="215396"/>
                      </a:lnTo>
                      <a:lnTo>
                        <a:pt x="94881" y="231556"/>
                      </a:lnTo>
                      <a:lnTo>
                        <a:pt x="43611" y="192006"/>
                      </a:lnTo>
                      <a:lnTo>
                        <a:pt x="0" y="120562"/>
                      </a:lnTo>
                      <a:lnTo>
                        <a:pt x="12976" y="112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3" name="Freeform: Shape 13"/>
                <p:cNvSpPr/>
                <p:nvPr/>
              </p:nvSpPr>
              <p:spPr>
                <a:xfrm>
                  <a:off x="1686960" y="2569680"/>
                  <a:ext cx="225360" cy="22932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25080" h="237935">
                      <a:moveTo>
                        <a:pt x="225079" y="60175"/>
                      </a:moveTo>
                      <a:lnTo>
                        <a:pt x="223376" y="177547"/>
                      </a:lnTo>
                      <a:lnTo>
                        <a:pt x="105305" y="237934"/>
                      </a:lnTo>
                      <a:lnTo>
                        <a:pt x="0" y="180099"/>
                      </a:lnTo>
                      <a:lnTo>
                        <a:pt x="3829" y="56347"/>
                      </a:lnTo>
                      <a:lnTo>
                        <a:pt x="131685" y="0"/>
                      </a:lnTo>
                      <a:lnTo>
                        <a:pt x="225079" y="60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Freeform: Shape 14"/>
                <p:cNvSpPr/>
                <p:nvPr/>
              </p:nvSpPr>
              <p:spPr>
                <a:xfrm>
                  <a:off x="1459800" y="2653920"/>
                  <a:ext cx="104760" cy="1252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04459" h="130122">
                      <a:moveTo>
                        <a:pt x="5530" y="0"/>
                      </a:moveTo>
                      <a:lnTo>
                        <a:pt x="47442" y="67612"/>
                      </a:lnTo>
                      <a:lnTo>
                        <a:pt x="98926" y="107796"/>
                      </a:lnTo>
                      <a:lnTo>
                        <a:pt x="104458" y="130121"/>
                      </a:lnTo>
                      <a:lnTo>
                        <a:pt x="89141" y="124593"/>
                      </a:lnTo>
                      <a:lnTo>
                        <a:pt x="43399" y="82708"/>
                      </a:lnTo>
                      <a:lnTo>
                        <a:pt x="11273" y="37846"/>
                      </a:lnTo>
                      <a:lnTo>
                        <a:pt x="0" y="17009"/>
                      </a:lnTo>
                      <a:lnTo>
                        <a:pt x="553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Freeform: Shape 15"/>
                <p:cNvSpPr/>
                <p:nvPr/>
              </p:nvSpPr>
              <p:spPr>
                <a:xfrm>
                  <a:off x="1787040" y="2728800"/>
                  <a:ext cx="210960" cy="1144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0612" h="118858">
                      <a:moveTo>
                        <a:pt x="12765" y="81222"/>
                      </a:moveTo>
                      <a:lnTo>
                        <a:pt x="129345" y="22538"/>
                      </a:lnTo>
                      <a:lnTo>
                        <a:pt x="210611" y="0"/>
                      </a:lnTo>
                      <a:lnTo>
                        <a:pt x="210611" y="35296"/>
                      </a:lnTo>
                      <a:lnTo>
                        <a:pt x="186571" y="60173"/>
                      </a:lnTo>
                      <a:lnTo>
                        <a:pt x="122963" y="94831"/>
                      </a:lnTo>
                      <a:lnTo>
                        <a:pt x="81266" y="107588"/>
                      </a:lnTo>
                      <a:lnTo>
                        <a:pt x="41909" y="118857"/>
                      </a:lnTo>
                      <a:lnTo>
                        <a:pt x="0" y="114817"/>
                      </a:lnTo>
                      <a:lnTo>
                        <a:pt x="12765" y="81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Freeform: Shape 16"/>
                <p:cNvSpPr/>
                <p:nvPr/>
              </p:nvSpPr>
              <p:spPr>
                <a:xfrm>
                  <a:off x="1917360" y="2539080"/>
                  <a:ext cx="164880" cy="201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164022" h="208796">
                      <a:moveTo>
                        <a:pt x="164021" y="44862"/>
                      </a:moveTo>
                      <a:lnTo>
                        <a:pt x="158489" y="105248"/>
                      </a:lnTo>
                      <a:lnTo>
                        <a:pt x="86157" y="182430"/>
                      </a:lnTo>
                      <a:lnTo>
                        <a:pt x="0" y="208795"/>
                      </a:lnTo>
                      <a:lnTo>
                        <a:pt x="6594" y="93978"/>
                      </a:lnTo>
                      <a:lnTo>
                        <a:pt x="105305" y="0"/>
                      </a:lnTo>
                      <a:lnTo>
                        <a:pt x="164021" y="448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Freeform: Shape 17"/>
                <p:cNvSpPr/>
                <p:nvPr/>
              </p:nvSpPr>
              <p:spPr>
                <a:xfrm>
                  <a:off x="1420200" y="2433600"/>
                  <a:ext cx="55440" cy="2124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56165" h="219434">
                      <a:moveTo>
                        <a:pt x="56164" y="109291"/>
                      </a:moveTo>
                      <a:lnTo>
                        <a:pt x="45740" y="219433"/>
                      </a:lnTo>
                      <a:lnTo>
                        <a:pt x="17658" y="194343"/>
                      </a:lnTo>
                      <a:lnTo>
                        <a:pt x="0" y="128428"/>
                      </a:lnTo>
                      <a:lnTo>
                        <a:pt x="0" y="43376"/>
                      </a:lnTo>
                      <a:lnTo>
                        <a:pt x="21700" y="0"/>
                      </a:lnTo>
                      <a:lnTo>
                        <a:pt x="56164" y="1092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8" name="Group 24"/>
            <p:cNvGrpSpPr/>
            <p:nvPr/>
          </p:nvGrpSpPr>
          <p:grpSpPr>
            <a:xfrm>
              <a:off x="477360" y="25560"/>
              <a:ext cx="1496160" cy="1526760"/>
              <a:chOff x="477360" y="25560"/>
              <a:chExt cx="1496160" cy="1526760"/>
            </a:xfrm>
          </p:grpSpPr>
          <p:grpSp>
            <p:nvGrpSpPr>
              <p:cNvPr id="579" name="Group 22"/>
              <p:cNvGrpSpPr/>
              <p:nvPr/>
            </p:nvGrpSpPr>
            <p:grpSpPr>
              <a:xfrm>
                <a:off x="477360" y="25560"/>
                <a:ext cx="1496160" cy="1526760"/>
                <a:chOff x="477360" y="25560"/>
                <a:chExt cx="1496160" cy="1526760"/>
              </a:xfrm>
            </p:grpSpPr>
            <p:sp>
              <p:nvSpPr>
                <p:cNvPr id="580" name="Freeform: Shape 20"/>
                <p:cNvSpPr/>
                <p:nvPr/>
              </p:nvSpPr>
              <p:spPr>
                <a:xfrm>
                  <a:off x="477360" y="25560"/>
                  <a:ext cx="1496160" cy="1526760"/>
                </a:xfrm>
                <a:custGeom>
                  <a:avLst/>
                  <a:gdLst>
                    <a:gd name="textAreaLeft" fmla="*/ 0 w 1496160"/>
                    <a:gd name="textAreaRight" fmla="*/ 1496520 w 1496160"/>
                    <a:gd name="textAreaTop" fmla="*/ 0 h 1526760"/>
                    <a:gd name="textAreaBottom" fmla="*/ 1527120 h 1526760"/>
                  </a:gdLst>
                  <a:ahLst/>
                  <a:rect l="textAreaLeft" t="textAreaTop" r="textAreaRight" b="textAreaBottom"/>
                  <a:pathLst>
                    <a:path w="1496109" h="1526729">
                      <a:moveTo>
                        <a:pt x="889659" y="643"/>
                      </a:moveTo>
                      <a:lnTo>
                        <a:pt x="928489" y="2409"/>
                      </a:lnTo>
                      <a:lnTo>
                        <a:pt x="966437" y="5782"/>
                      </a:lnTo>
                      <a:lnTo>
                        <a:pt x="1002461" y="10279"/>
                      </a:lnTo>
                      <a:lnTo>
                        <a:pt x="1037360" y="15820"/>
                      </a:lnTo>
                      <a:lnTo>
                        <a:pt x="1070976" y="22727"/>
                      </a:lnTo>
                      <a:lnTo>
                        <a:pt x="1103147" y="30678"/>
                      </a:lnTo>
                      <a:lnTo>
                        <a:pt x="1133795" y="39431"/>
                      </a:lnTo>
                      <a:lnTo>
                        <a:pt x="1163159" y="49469"/>
                      </a:lnTo>
                      <a:lnTo>
                        <a:pt x="1191400" y="60712"/>
                      </a:lnTo>
                      <a:lnTo>
                        <a:pt x="1218115" y="72518"/>
                      </a:lnTo>
                      <a:lnTo>
                        <a:pt x="1243868" y="85287"/>
                      </a:lnTo>
                      <a:lnTo>
                        <a:pt x="1267777" y="98939"/>
                      </a:lnTo>
                      <a:lnTo>
                        <a:pt x="1290884" y="113233"/>
                      </a:lnTo>
                      <a:lnTo>
                        <a:pt x="1312385" y="128412"/>
                      </a:lnTo>
                      <a:lnTo>
                        <a:pt x="1333003" y="144474"/>
                      </a:lnTo>
                      <a:lnTo>
                        <a:pt x="1352098" y="160856"/>
                      </a:lnTo>
                      <a:lnTo>
                        <a:pt x="1369988" y="178203"/>
                      </a:lnTo>
                      <a:lnTo>
                        <a:pt x="1386676" y="196111"/>
                      </a:lnTo>
                      <a:lnTo>
                        <a:pt x="1402161" y="214260"/>
                      </a:lnTo>
                      <a:lnTo>
                        <a:pt x="1416361" y="233374"/>
                      </a:lnTo>
                      <a:lnTo>
                        <a:pt x="1429438" y="252567"/>
                      </a:lnTo>
                      <a:lnTo>
                        <a:pt x="1451902" y="292561"/>
                      </a:lnTo>
                      <a:lnTo>
                        <a:pt x="1469794" y="333839"/>
                      </a:lnTo>
                      <a:lnTo>
                        <a:pt x="1483111" y="376080"/>
                      </a:lnTo>
                      <a:lnTo>
                        <a:pt x="1491856" y="419205"/>
                      </a:lnTo>
                      <a:lnTo>
                        <a:pt x="1496108" y="462572"/>
                      </a:lnTo>
                      <a:lnTo>
                        <a:pt x="1496108" y="505697"/>
                      </a:lnTo>
                      <a:lnTo>
                        <a:pt x="1491856" y="548742"/>
                      </a:lnTo>
                      <a:lnTo>
                        <a:pt x="1483432" y="590984"/>
                      </a:lnTo>
                      <a:lnTo>
                        <a:pt x="1470996" y="632262"/>
                      </a:lnTo>
                      <a:lnTo>
                        <a:pt x="1454630" y="672335"/>
                      </a:lnTo>
                      <a:lnTo>
                        <a:pt x="1434253" y="710561"/>
                      </a:lnTo>
                      <a:lnTo>
                        <a:pt x="1410024" y="746700"/>
                      </a:lnTo>
                      <a:lnTo>
                        <a:pt x="1382104" y="780349"/>
                      </a:lnTo>
                      <a:lnTo>
                        <a:pt x="1350252" y="811588"/>
                      </a:lnTo>
                      <a:lnTo>
                        <a:pt x="1333325" y="825884"/>
                      </a:lnTo>
                      <a:lnTo>
                        <a:pt x="1315113" y="839536"/>
                      </a:lnTo>
                      <a:lnTo>
                        <a:pt x="1296339" y="852305"/>
                      </a:lnTo>
                      <a:lnTo>
                        <a:pt x="1276603" y="864431"/>
                      </a:lnTo>
                      <a:lnTo>
                        <a:pt x="1255984" y="875352"/>
                      </a:lnTo>
                      <a:lnTo>
                        <a:pt x="1234482" y="885392"/>
                      </a:lnTo>
                      <a:lnTo>
                        <a:pt x="1212339" y="894145"/>
                      </a:lnTo>
                      <a:lnTo>
                        <a:pt x="1189313" y="902095"/>
                      </a:lnTo>
                      <a:lnTo>
                        <a:pt x="1165325" y="909083"/>
                      </a:lnTo>
                      <a:lnTo>
                        <a:pt x="1140454" y="914543"/>
                      </a:lnTo>
                      <a:lnTo>
                        <a:pt x="1115022" y="919041"/>
                      </a:lnTo>
                      <a:lnTo>
                        <a:pt x="1088867" y="922414"/>
                      </a:lnTo>
                      <a:lnTo>
                        <a:pt x="1061911" y="924260"/>
                      </a:lnTo>
                      <a:lnTo>
                        <a:pt x="1033991" y="925144"/>
                      </a:lnTo>
                      <a:lnTo>
                        <a:pt x="1036719" y="968831"/>
                      </a:lnTo>
                      <a:lnTo>
                        <a:pt x="1034632" y="1013482"/>
                      </a:lnTo>
                      <a:lnTo>
                        <a:pt x="1028294" y="1058695"/>
                      </a:lnTo>
                      <a:lnTo>
                        <a:pt x="1017944" y="1103587"/>
                      </a:lnTo>
                      <a:lnTo>
                        <a:pt x="1003984" y="1148560"/>
                      </a:lnTo>
                      <a:lnTo>
                        <a:pt x="986414" y="1192889"/>
                      </a:lnTo>
                      <a:lnTo>
                        <a:pt x="965796" y="1235933"/>
                      </a:lnTo>
                      <a:lnTo>
                        <a:pt x="942449" y="1277855"/>
                      </a:lnTo>
                      <a:lnTo>
                        <a:pt x="916375" y="1318170"/>
                      </a:lnTo>
                      <a:lnTo>
                        <a:pt x="888455" y="1356717"/>
                      </a:lnTo>
                      <a:lnTo>
                        <a:pt x="858449" y="1392856"/>
                      </a:lnTo>
                      <a:lnTo>
                        <a:pt x="826920" y="1426263"/>
                      </a:lnTo>
                      <a:lnTo>
                        <a:pt x="794186" y="1456620"/>
                      </a:lnTo>
                      <a:lnTo>
                        <a:pt x="760490" y="1483603"/>
                      </a:lnTo>
                      <a:lnTo>
                        <a:pt x="726232" y="1507293"/>
                      </a:lnTo>
                      <a:lnTo>
                        <a:pt x="691653" y="1526728"/>
                      </a:lnTo>
                      <a:lnTo>
                        <a:pt x="724708" y="1476375"/>
                      </a:lnTo>
                      <a:lnTo>
                        <a:pt x="754473" y="1428672"/>
                      </a:lnTo>
                      <a:lnTo>
                        <a:pt x="781108" y="1384102"/>
                      </a:lnTo>
                      <a:lnTo>
                        <a:pt x="804455" y="1341539"/>
                      </a:lnTo>
                      <a:lnTo>
                        <a:pt x="824833" y="1301546"/>
                      </a:lnTo>
                      <a:lnTo>
                        <a:pt x="842082" y="1263238"/>
                      </a:lnTo>
                      <a:lnTo>
                        <a:pt x="856042" y="1226538"/>
                      </a:lnTo>
                      <a:lnTo>
                        <a:pt x="867274" y="1191364"/>
                      </a:lnTo>
                      <a:lnTo>
                        <a:pt x="875137" y="1157072"/>
                      </a:lnTo>
                      <a:lnTo>
                        <a:pt x="880271" y="1123664"/>
                      </a:lnTo>
                      <a:lnTo>
                        <a:pt x="882438" y="1090898"/>
                      </a:lnTo>
                      <a:lnTo>
                        <a:pt x="881475" y="1058052"/>
                      </a:lnTo>
                      <a:lnTo>
                        <a:pt x="877865" y="1025609"/>
                      </a:lnTo>
                      <a:lnTo>
                        <a:pt x="871206" y="992843"/>
                      </a:lnTo>
                      <a:lnTo>
                        <a:pt x="861498" y="959114"/>
                      </a:lnTo>
                      <a:lnTo>
                        <a:pt x="849062" y="925144"/>
                      </a:lnTo>
                      <a:lnTo>
                        <a:pt x="795951" y="924260"/>
                      </a:lnTo>
                      <a:lnTo>
                        <a:pt x="744445" y="922414"/>
                      </a:lnTo>
                      <a:lnTo>
                        <a:pt x="694703" y="919041"/>
                      </a:lnTo>
                      <a:lnTo>
                        <a:pt x="646485" y="914543"/>
                      </a:lnTo>
                      <a:lnTo>
                        <a:pt x="600433" y="909083"/>
                      </a:lnTo>
                      <a:lnTo>
                        <a:pt x="555826" y="902095"/>
                      </a:lnTo>
                      <a:lnTo>
                        <a:pt x="513063" y="894145"/>
                      </a:lnTo>
                      <a:lnTo>
                        <a:pt x="471827" y="885392"/>
                      </a:lnTo>
                      <a:lnTo>
                        <a:pt x="432755" y="875352"/>
                      </a:lnTo>
                      <a:lnTo>
                        <a:pt x="395127" y="864431"/>
                      </a:lnTo>
                      <a:lnTo>
                        <a:pt x="359345" y="852305"/>
                      </a:lnTo>
                      <a:lnTo>
                        <a:pt x="325088" y="839536"/>
                      </a:lnTo>
                      <a:lnTo>
                        <a:pt x="292595" y="825884"/>
                      </a:lnTo>
                      <a:lnTo>
                        <a:pt x="262028" y="811588"/>
                      </a:lnTo>
                      <a:lnTo>
                        <a:pt x="232905" y="796411"/>
                      </a:lnTo>
                      <a:lnTo>
                        <a:pt x="205868" y="780349"/>
                      </a:lnTo>
                      <a:lnTo>
                        <a:pt x="180114" y="763966"/>
                      </a:lnTo>
                      <a:lnTo>
                        <a:pt x="156446" y="746700"/>
                      </a:lnTo>
                      <a:lnTo>
                        <a:pt x="134384" y="728792"/>
                      </a:lnTo>
                      <a:lnTo>
                        <a:pt x="113765" y="710561"/>
                      </a:lnTo>
                      <a:lnTo>
                        <a:pt x="94911" y="691449"/>
                      </a:lnTo>
                      <a:lnTo>
                        <a:pt x="77983" y="672335"/>
                      </a:lnTo>
                      <a:lnTo>
                        <a:pt x="62819" y="652579"/>
                      </a:lnTo>
                      <a:lnTo>
                        <a:pt x="49101" y="632262"/>
                      </a:lnTo>
                      <a:lnTo>
                        <a:pt x="36986" y="611944"/>
                      </a:lnTo>
                      <a:lnTo>
                        <a:pt x="26717" y="590984"/>
                      </a:lnTo>
                      <a:lnTo>
                        <a:pt x="18212" y="570023"/>
                      </a:lnTo>
                      <a:lnTo>
                        <a:pt x="11232" y="548742"/>
                      </a:lnTo>
                      <a:lnTo>
                        <a:pt x="5777" y="527219"/>
                      </a:lnTo>
                      <a:lnTo>
                        <a:pt x="2167" y="505697"/>
                      </a:lnTo>
                      <a:lnTo>
                        <a:pt x="321" y="484095"/>
                      </a:lnTo>
                      <a:lnTo>
                        <a:pt x="0" y="462572"/>
                      </a:lnTo>
                      <a:lnTo>
                        <a:pt x="1204" y="440728"/>
                      </a:lnTo>
                      <a:lnTo>
                        <a:pt x="4252" y="419205"/>
                      </a:lnTo>
                      <a:lnTo>
                        <a:pt x="9146" y="397603"/>
                      </a:lnTo>
                      <a:lnTo>
                        <a:pt x="15485" y="376080"/>
                      </a:lnTo>
                      <a:lnTo>
                        <a:pt x="23346" y="354799"/>
                      </a:lnTo>
                      <a:lnTo>
                        <a:pt x="33054" y="333839"/>
                      </a:lnTo>
                      <a:lnTo>
                        <a:pt x="44286" y="312959"/>
                      </a:lnTo>
                      <a:lnTo>
                        <a:pt x="57043" y="292561"/>
                      </a:lnTo>
                      <a:lnTo>
                        <a:pt x="71564" y="272564"/>
                      </a:lnTo>
                      <a:lnTo>
                        <a:pt x="87931" y="252567"/>
                      </a:lnTo>
                      <a:lnTo>
                        <a:pt x="105501" y="233374"/>
                      </a:lnTo>
                      <a:lnTo>
                        <a:pt x="124917" y="214260"/>
                      </a:lnTo>
                      <a:lnTo>
                        <a:pt x="145857" y="196111"/>
                      </a:lnTo>
                      <a:lnTo>
                        <a:pt x="168642" y="178203"/>
                      </a:lnTo>
                      <a:lnTo>
                        <a:pt x="192871" y="160856"/>
                      </a:lnTo>
                      <a:lnTo>
                        <a:pt x="218624" y="144474"/>
                      </a:lnTo>
                      <a:lnTo>
                        <a:pt x="246222" y="128412"/>
                      </a:lnTo>
                      <a:lnTo>
                        <a:pt x="275346" y="113233"/>
                      </a:lnTo>
                      <a:lnTo>
                        <a:pt x="305994" y="98939"/>
                      </a:lnTo>
                      <a:lnTo>
                        <a:pt x="338405" y="85287"/>
                      </a:lnTo>
                      <a:lnTo>
                        <a:pt x="372102" y="72518"/>
                      </a:lnTo>
                      <a:lnTo>
                        <a:pt x="407563" y="60712"/>
                      </a:lnTo>
                      <a:lnTo>
                        <a:pt x="444548" y="49469"/>
                      </a:lnTo>
                      <a:lnTo>
                        <a:pt x="483380" y="39431"/>
                      </a:lnTo>
                      <a:lnTo>
                        <a:pt x="523654" y="30678"/>
                      </a:lnTo>
                      <a:lnTo>
                        <a:pt x="565212" y="22727"/>
                      </a:lnTo>
                      <a:lnTo>
                        <a:pt x="608617" y="15820"/>
                      </a:lnTo>
                      <a:lnTo>
                        <a:pt x="653786" y="10279"/>
                      </a:lnTo>
                      <a:lnTo>
                        <a:pt x="700157" y="5782"/>
                      </a:lnTo>
                      <a:lnTo>
                        <a:pt x="748375" y="2409"/>
                      </a:lnTo>
                      <a:lnTo>
                        <a:pt x="797796" y="643"/>
                      </a:lnTo>
                      <a:lnTo>
                        <a:pt x="849062" y="0"/>
                      </a:lnTo>
                      <a:lnTo>
                        <a:pt x="889659" y="6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1" name="Freeform: Shape 21"/>
                <p:cNvSpPr/>
                <p:nvPr/>
              </p:nvSpPr>
              <p:spPr>
                <a:xfrm>
                  <a:off x="477360" y="25560"/>
                  <a:ext cx="1496160" cy="1526760"/>
                </a:xfrm>
                <a:custGeom>
                  <a:avLst/>
                  <a:gdLst>
                    <a:gd name="textAreaLeft" fmla="*/ 0 w 1496160"/>
                    <a:gd name="textAreaRight" fmla="*/ 1496520 w 1496160"/>
                    <a:gd name="textAreaTop" fmla="*/ 0 h 1526760"/>
                    <a:gd name="textAreaBottom" fmla="*/ 1527120 h 1526760"/>
                  </a:gdLst>
                  <a:ahLst/>
                  <a:rect l="textAreaLeft" t="textAreaTop" r="textAreaRight" b="textAreaBottom"/>
                  <a:pathLst>
                    <a:path w="1496270" h="1526650">
                      <a:moveTo>
                        <a:pt x="848822" y="0"/>
                      </a:moveTo>
                      <a:lnTo>
                        <a:pt x="797476" y="803"/>
                      </a:lnTo>
                      <a:lnTo>
                        <a:pt x="748536" y="2409"/>
                      </a:lnTo>
                      <a:lnTo>
                        <a:pt x="700399" y="5622"/>
                      </a:lnTo>
                      <a:lnTo>
                        <a:pt x="653866" y="10440"/>
                      </a:lnTo>
                      <a:lnTo>
                        <a:pt x="608938" y="16062"/>
                      </a:lnTo>
                      <a:lnTo>
                        <a:pt x="565614" y="22486"/>
                      </a:lnTo>
                      <a:lnTo>
                        <a:pt x="523895" y="30517"/>
                      </a:lnTo>
                      <a:lnTo>
                        <a:pt x="483781" y="39351"/>
                      </a:lnTo>
                      <a:lnTo>
                        <a:pt x="444468" y="49791"/>
                      </a:lnTo>
                      <a:lnTo>
                        <a:pt x="407563" y="61034"/>
                      </a:lnTo>
                      <a:lnTo>
                        <a:pt x="372262" y="72277"/>
                      </a:lnTo>
                      <a:lnTo>
                        <a:pt x="338566" y="85126"/>
                      </a:lnTo>
                      <a:lnTo>
                        <a:pt x="305672" y="98778"/>
                      </a:lnTo>
                      <a:lnTo>
                        <a:pt x="275185" y="113234"/>
                      </a:lnTo>
                      <a:lnTo>
                        <a:pt x="246303" y="128492"/>
                      </a:lnTo>
                      <a:lnTo>
                        <a:pt x="219025" y="144554"/>
                      </a:lnTo>
                      <a:lnTo>
                        <a:pt x="192550" y="160615"/>
                      </a:lnTo>
                      <a:lnTo>
                        <a:pt x="168481" y="178283"/>
                      </a:lnTo>
                      <a:lnTo>
                        <a:pt x="146017" y="195951"/>
                      </a:lnTo>
                      <a:lnTo>
                        <a:pt x="125157" y="214421"/>
                      </a:lnTo>
                      <a:lnTo>
                        <a:pt x="105902" y="233695"/>
                      </a:lnTo>
                      <a:lnTo>
                        <a:pt x="88252" y="252969"/>
                      </a:lnTo>
                      <a:lnTo>
                        <a:pt x="71404" y="272243"/>
                      </a:lnTo>
                      <a:lnTo>
                        <a:pt x="56963" y="292320"/>
                      </a:lnTo>
                      <a:lnTo>
                        <a:pt x="44126" y="313200"/>
                      </a:lnTo>
                      <a:lnTo>
                        <a:pt x="32894" y="334080"/>
                      </a:lnTo>
                      <a:lnTo>
                        <a:pt x="23267" y="354960"/>
                      </a:lnTo>
                      <a:lnTo>
                        <a:pt x="15244" y="375840"/>
                      </a:lnTo>
                      <a:lnTo>
                        <a:pt x="8825" y="397523"/>
                      </a:lnTo>
                      <a:lnTo>
                        <a:pt x="4012" y="419206"/>
                      </a:lnTo>
                      <a:lnTo>
                        <a:pt x="1605" y="440889"/>
                      </a:lnTo>
                      <a:lnTo>
                        <a:pt x="0" y="462572"/>
                      </a:lnTo>
                      <a:lnTo>
                        <a:pt x="0" y="484255"/>
                      </a:lnTo>
                      <a:lnTo>
                        <a:pt x="2407" y="505938"/>
                      </a:lnTo>
                      <a:lnTo>
                        <a:pt x="5616" y="527621"/>
                      </a:lnTo>
                      <a:lnTo>
                        <a:pt x="11232" y="548501"/>
                      </a:lnTo>
                      <a:lnTo>
                        <a:pt x="18453" y="570184"/>
                      </a:lnTo>
                      <a:lnTo>
                        <a:pt x="26476" y="591064"/>
                      </a:lnTo>
                      <a:lnTo>
                        <a:pt x="36906" y="611944"/>
                      </a:lnTo>
                      <a:lnTo>
                        <a:pt x="48940" y="632021"/>
                      </a:lnTo>
                      <a:lnTo>
                        <a:pt x="62579" y="652901"/>
                      </a:lnTo>
                      <a:lnTo>
                        <a:pt x="77822" y="672175"/>
                      </a:lnTo>
                      <a:lnTo>
                        <a:pt x="94670" y="691449"/>
                      </a:lnTo>
                      <a:lnTo>
                        <a:pt x="113925" y="710723"/>
                      </a:lnTo>
                      <a:lnTo>
                        <a:pt x="134785" y="729194"/>
                      </a:lnTo>
                      <a:lnTo>
                        <a:pt x="156447" y="746861"/>
                      </a:lnTo>
                      <a:lnTo>
                        <a:pt x="180515" y="763726"/>
                      </a:lnTo>
                      <a:lnTo>
                        <a:pt x="206189" y="780590"/>
                      </a:lnTo>
                      <a:lnTo>
                        <a:pt x="232664" y="796652"/>
                      </a:lnTo>
                      <a:lnTo>
                        <a:pt x="262349" y="811910"/>
                      </a:lnTo>
                      <a:lnTo>
                        <a:pt x="292836" y="825563"/>
                      </a:lnTo>
                      <a:lnTo>
                        <a:pt x="324927" y="839215"/>
                      </a:lnTo>
                      <a:lnTo>
                        <a:pt x="359426" y="852064"/>
                      </a:lnTo>
                      <a:lnTo>
                        <a:pt x="395529" y="864110"/>
                      </a:lnTo>
                      <a:lnTo>
                        <a:pt x="432434" y="875354"/>
                      </a:lnTo>
                      <a:lnTo>
                        <a:pt x="471746" y="885794"/>
                      </a:lnTo>
                      <a:lnTo>
                        <a:pt x="513465" y="893824"/>
                      </a:lnTo>
                      <a:lnTo>
                        <a:pt x="555987" y="901855"/>
                      </a:lnTo>
                      <a:lnTo>
                        <a:pt x="600112" y="909083"/>
                      </a:lnTo>
                      <a:lnTo>
                        <a:pt x="646645" y="914704"/>
                      </a:lnTo>
                      <a:lnTo>
                        <a:pt x="694783" y="918720"/>
                      </a:lnTo>
                      <a:lnTo>
                        <a:pt x="744525" y="922735"/>
                      </a:lnTo>
                      <a:lnTo>
                        <a:pt x="795871" y="924341"/>
                      </a:lnTo>
                      <a:lnTo>
                        <a:pt x="848822" y="925144"/>
                      </a:lnTo>
                      <a:lnTo>
                        <a:pt x="861659" y="958873"/>
                      </a:lnTo>
                      <a:lnTo>
                        <a:pt x="871286" y="992603"/>
                      </a:lnTo>
                      <a:lnTo>
                        <a:pt x="877704" y="1025529"/>
                      </a:lnTo>
                      <a:lnTo>
                        <a:pt x="881716" y="1058455"/>
                      </a:lnTo>
                      <a:lnTo>
                        <a:pt x="882518" y="1090578"/>
                      </a:lnTo>
                      <a:lnTo>
                        <a:pt x="880111" y="1123504"/>
                      </a:lnTo>
                      <a:lnTo>
                        <a:pt x="875298" y="1157233"/>
                      </a:lnTo>
                      <a:lnTo>
                        <a:pt x="867275" y="1191766"/>
                      </a:lnTo>
                      <a:lnTo>
                        <a:pt x="856043" y="1226298"/>
                      </a:lnTo>
                      <a:lnTo>
                        <a:pt x="842404" y="1263240"/>
                      </a:lnTo>
                      <a:lnTo>
                        <a:pt x="824753" y="1301787"/>
                      </a:lnTo>
                      <a:lnTo>
                        <a:pt x="804696" y="1341941"/>
                      </a:lnTo>
                      <a:lnTo>
                        <a:pt x="781430" y="1384504"/>
                      </a:lnTo>
                      <a:lnTo>
                        <a:pt x="754152" y="1428673"/>
                      </a:lnTo>
                      <a:lnTo>
                        <a:pt x="724467" y="1476055"/>
                      </a:lnTo>
                      <a:lnTo>
                        <a:pt x="691573" y="1526649"/>
                      </a:lnTo>
                      <a:lnTo>
                        <a:pt x="726072" y="1507375"/>
                      </a:lnTo>
                      <a:lnTo>
                        <a:pt x="760570" y="1483282"/>
                      </a:lnTo>
                      <a:lnTo>
                        <a:pt x="794266" y="1456781"/>
                      </a:lnTo>
                      <a:lnTo>
                        <a:pt x="827160" y="1426264"/>
                      </a:lnTo>
                      <a:lnTo>
                        <a:pt x="858449" y="1392535"/>
                      </a:lnTo>
                      <a:lnTo>
                        <a:pt x="888134" y="1356396"/>
                      </a:lnTo>
                      <a:lnTo>
                        <a:pt x="916214" y="1317849"/>
                      </a:lnTo>
                      <a:lnTo>
                        <a:pt x="942690" y="1277695"/>
                      </a:lnTo>
                      <a:lnTo>
                        <a:pt x="965956" y="1235935"/>
                      </a:lnTo>
                      <a:lnTo>
                        <a:pt x="986816" y="1192569"/>
                      </a:lnTo>
                      <a:lnTo>
                        <a:pt x="1003664" y="1148399"/>
                      </a:lnTo>
                      <a:lnTo>
                        <a:pt x="1018105" y="1103427"/>
                      </a:lnTo>
                      <a:lnTo>
                        <a:pt x="1028535" y="1058455"/>
                      </a:lnTo>
                      <a:lnTo>
                        <a:pt x="1034953" y="1013483"/>
                      </a:lnTo>
                      <a:lnTo>
                        <a:pt x="1036558" y="968510"/>
                      </a:lnTo>
                      <a:lnTo>
                        <a:pt x="1034151" y="925144"/>
                      </a:lnTo>
                      <a:lnTo>
                        <a:pt x="1062231" y="924341"/>
                      </a:lnTo>
                      <a:lnTo>
                        <a:pt x="1088706" y="922735"/>
                      </a:lnTo>
                      <a:lnTo>
                        <a:pt x="1115182" y="918720"/>
                      </a:lnTo>
                      <a:lnTo>
                        <a:pt x="1140053" y="914704"/>
                      </a:lnTo>
                      <a:lnTo>
                        <a:pt x="1165726" y="909083"/>
                      </a:lnTo>
                      <a:lnTo>
                        <a:pt x="1188993" y="901855"/>
                      </a:lnTo>
                      <a:lnTo>
                        <a:pt x="1212259" y="893824"/>
                      </a:lnTo>
                      <a:lnTo>
                        <a:pt x="1234723" y="885794"/>
                      </a:lnTo>
                      <a:lnTo>
                        <a:pt x="1255582" y="875354"/>
                      </a:lnTo>
                      <a:lnTo>
                        <a:pt x="1276442" y="864110"/>
                      </a:lnTo>
                      <a:lnTo>
                        <a:pt x="1296499" y="852064"/>
                      </a:lnTo>
                      <a:lnTo>
                        <a:pt x="1314952" y="839215"/>
                      </a:lnTo>
                      <a:lnTo>
                        <a:pt x="1333404" y="825563"/>
                      </a:lnTo>
                      <a:lnTo>
                        <a:pt x="1350252" y="811910"/>
                      </a:lnTo>
                      <a:lnTo>
                        <a:pt x="1382344" y="780590"/>
                      </a:lnTo>
                      <a:lnTo>
                        <a:pt x="1410424" y="746861"/>
                      </a:lnTo>
                      <a:lnTo>
                        <a:pt x="1434493" y="710723"/>
                      </a:lnTo>
                      <a:lnTo>
                        <a:pt x="1454550" y="672175"/>
                      </a:lnTo>
                      <a:lnTo>
                        <a:pt x="1470596" y="632021"/>
                      </a:lnTo>
                      <a:lnTo>
                        <a:pt x="1483432" y="591064"/>
                      </a:lnTo>
                      <a:lnTo>
                        <a:pt x="1491455" y="548501"/>
                      </a:lnTo>
                      <a:lnTo>
                        <a:pt x="1496269" y="505938"/>
                      </a:lnTo>
                      <a:lnTo>
                        <a:pt x="1496269" y="462572"/>
                      </a:lnTo>
                      <a:lnTo>
                        <a:pt x="1491455" y="419206"/>
                      </a:lnTo>
                      <a:lnTo>
                        <a:pt x="1483432" y="375840"/>
                      </a:lnTo>
                      <a:lnTo>
                        <a:pt x="1469794" y="334080"/>
                      </a:lnTo>
                      <a:lnTo>
                        <a:pt x="1452143" y="292320"/>
                      </a:lnTo>
                      <a:lnTo>
                        <a:pt x="1429679" y="252969"/>
                      </a:lnTo>
                      <a:lnTo>
                        <a:pt x="1416040" y="233695"/>
                      </a:lnTo>
                      <a:lnTo>
                        <a:pt x="1402401" y="214421"/>
                      </a:lnTo>
                      <a:lnTo>
                        <a:pt x="1386356" y="195951"/>
                      </a:lnTo>
                      <a:lnTo>
                        <a:pt x="1370310" y="178283"/>
                      </a:lnTo>
                      <a:lnTo>
                        <a:pt x="1351857" y="160615"/>
                      </a:lnTo>
                      <a:lnTo>
                        <a:pt x="1332602" y="144554"/>
                      </a:lnTo>
                      <a:lnTo>
                        <a:pt x="1312545" y="128492"/>
                      </a:lnTo>
                      <a:lnTo>
                        <a:pt x="1290883" y="113234"/>
                      </a:lnTo>
                      <a:lnTo>
                        <a:pt x="1267617" y="98778"/>
                      </a:lnTo>
                      <a:lnTo>
                        <a:pt x="1243548" y="85126"/>
                      </a:lnTo>
                      <a:lnTo>
                        <a:pt x="1217875" y="72277"/>
                      </a:lnTo>
                      <a:lnTo>
                        <a:pt x="1191399" y="61034"/>
                      </a:lnTo>
                      <a:lnTo>
                        <a:pt x="1163319" y="49791"/>
                      </a:lnTo>
                      <a:lnTo>
                        <a:pt x="1133635" y="39351"/>
                      </a:lnTo>
                      <a:lnTo>
                        <a:pt x="1103148" y="30517"/>
                      </a:lnTo>
                      <a:lnTo>
                        <a:pt x="1071056" y="22486"/>
                      </a:lnTo>
                      <a:lnTo>
                        <a:pt x="1037360" y="16062"/>
                      </a:lnTo>
                      <a:lnTo>
                        <a:pt x="1002861" y="10440"/>
                      </a:lnTo>
                      <a:lnTo>
                        <a:pt x="966758" y="5622"/>
                      </a:lnTo>
                      <a:lnTo>
                        <a:pt x="928249" y="2409"/>
                      </a:lnTo>
                      <a:lnTo>
                        <a:pt x="889739" y="803"/>
                      </a:lnTo>
                      <a:lnTo>
                        <a:pt x="848822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82" name="TextBox 23"/>
              <p:cNvSpPr/>
              <p:nvPr/>
            </p:nvSpPr>
            <p:spPr>
              <a:xfrm>
                <a:off x="622080" y="254160"/>
                <a:ext cx="12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TOR !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3" name="TextBox 64"/>
          <p:cNvSpPr/>
          <p:nvPr/>
        </p:nvSpPr>
        <p:spPr>
          <a:xfrm>
            <a:off x="622440" y="4775040"/>
            <a:ext cx="3881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Geh ...!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nach rechts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nach links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chritte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geradeaus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ring ...!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chie</a:t>
            </a:r>
            <a:r>
              <a:rPr b="1" i="1" lang="el-GR" sz="1400" spc="-1" strike="noStrike">
                <a:solidFill>
                  <a:srgbClr val="000000"/>
                </a:solidFill>
                <a:latin typeface="Verdana"/>
                <a:ea typeface="Verdana"/>
              </a:rPr>
              <a:t>β ...!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or!               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65"/>
          <p:cNvSpPr/>
          <p:nvPr/>
        </p:nvSpPr>
        <p:spPr>
          <a:xfrm>
            <a:off x="291960" y="340344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Felix is running on the fie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Use the following words to describe his mo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Group 39"/>
          <p:cNvGrpSpPr/>
          <p:nvPr/>
        </p:nvGrpSpPr>
        <p:grpSpPr>
          <a:xfrm>
            <a:off x="4152960" y="774720"/>
            <a:ext cx="1596960" cy="1306440"/>
            <a:chOff x="4152960" y="774720"/>
            <a:chExt cx="1596960" cy="1306440"/>
          </a:xfrm>
        </p:grpSpPr>
        <p:pic>
          <p:nvPicPr>
            <p:cNvPr id="586" name="Picture 22" descr=""/>
            <p:cNvPicPr/>
            <p:nvPr/>
          </p:nvPicPr>
          <p:blipFill>
            <a:blip r:embed="rId3"/>
            <a:stretch/>
          </p:blipFill>
          <p:spPr>
            <a:xfrm flipH="1">
              <a:off x="4152960" y="774720"/>
              <a:ext cx="1570320" cy="109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7" name="Group 25"/>
            <p:cNvGrpSpPr/>
            <p:nvPr/>
          </p:nvGrpSpPr>
          <p:grpSpPr>
            <a:xfrm>
              <a:off x="5059440" y="1463400"/>
              <a:ext cx="690480" cy="617760"/>
              <a:chOff x="5059440" y="1463400"/>
              <a:chExt cx="690480" cy="617760"/>
            </a:xfrm>
          </p:grpSpPr>
          <p:sp>
            <p:nvSpPr>
              <p:cNvPr id="588" name="Oval 606"/>
              <p:cNvSpPr/>
              <p:nvPr/>
            </p:nvSpPr>
            <p:spPr>
              <a:xfrm>
                <a:off x="5059440" y="1463400"/>
                <a:ext cx="690480" cy="617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: Shape 607"/>
              <p:cNvSpPr/>
              <p:nvPr/>
            </p:nvSpPr>
            <p:spPr>
              <a:xfrm>
                <a:off x="5315040" y="1463400"/>
                <a:ext cx="234720" cy="619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: Shape 608"/>
              <p:cNvSpPr/>
              <p:nvPr/>
            </p:nvSpPr>
            <p:spPr>
              <a:xfrm>
                <a:off x="5267160" y="1517400"/>
                <a:ext cx="249120" cy="174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: Shape 609"/>
              <p:cNvSpPr/>
              <p:nvPr/>
            </p:nvSpPr>
            <p:spPr>
              <a:xfrm>
                <a:off x="5083200" y="155232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: Shape 610"/>
              <p:cNvSpPr/>
              <p:nvPr/>
            </p:nvSpPr>
            <p:spPr>
              <a:xfrm>
                <a:off x="5092560" y="1566360"/>
                <a:ext cx="204840" cy="2192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: Shape 611"/>
              <p:cNvSpPr/>
              <p:nvPr/>
            </p:nvSpPr>
            <p:spPr>
              <a:xfrm>
                <a:off x="5632560" y="1604520"/>
                <a:ext cx="104760" cy="2160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: Shape 612"/>
              <p:cNvSpPr/>
              <p:nvPr/>
            </p:nvSpPr>
            <p:spPr>
              <a:xfrm>
                <a:off x="5434200" y="1626840"/>
                <a:ext cx="207720" cy="2350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: Shape 613"/>
              <p:cNvSpPr/>
              <p:nvPr/>
            </p:nvSpPr>
            <p:spPr>
              <a:xfrm>
                <a:off x="5110200" y="178092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: Shape 614"/>
              <p:cNvSpPr/>
              <p:nvPr/>
            </p:nvSpPr>
            <p:spPr>
              <a:xfrm>
                <a:off x="5321160" y="1814400"/>
                <a:ext cx="220680" cy="2080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8080"/>
                  <a:gd name="textAreaBottom" fmla="*/ 208080 h 20808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: Shape 615"/>
              <p:cNvSpPr/>
              <p:nvPr/>
            </p:nvSpPr>
            <p:spPr>
              <a:xfrm>
                <a:off x="5099040" y="188892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: Shape 616"/>
              <p:cNvSpPr/>
              <p:nvPr/>
            </p:nvSpPr>
            <p:spPr>
              <a:xfrm>
                <a:off x="5419800" y="195732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: Shape 617"/>
              <p:cNvSpPr/>
              <p:nvPr/>
            </p:nvSpPr>
            <p:spPr>
              <a:xfrm>
                <a:off x="5546880" y="1785960"/>
                <a:ext cx="129960" cy="246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: Shape 618"/>
              <p:cNvSpPr/>
              <p:nvPr/>
            </p:nvSpPr>
            <p:spPr>
              <a:xfrm>
                <a:off x="5059440" y="1690560"/>
                <a:ext cx="55440" cy="1922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1" name="Group 135"/>
          <p:cNvGrpSpPr/>
          <p:nvPr/>
        </p:nvGrpSpPr>
        <p:grpSpPr>
          <a:xfrm>
            <a:off x="7661160" y="8697960"/>
            <a:ext cx="690840" cy="619200"/>
            <a:chOff x="7661160" y="8697960"/>
            <a:chExt cx="690840" cy="619200"/>
          </a:xfrm>
        </p:grpSpPr>
        <p:sp>
          <p:nvSpPr>
            <p:cNvPr id="602" name="Oval 648"/>
            <p:cNvSpPr/>
            <p:nvPr/>
          </p:nvSpPr>
          <p:spPr>
            <a:xfrm>
              <a:off x="7661160" y="8697960"/>
              <a:ext cx="690840" cy="61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: Shape 649"/>
            <p:cNvSpPr/>
            <p:nvPr/>
          </p:nvSpPr>
          <p:spPr>
            <a:xfrm>
              <a:off x="7916760" y="8697960"/>
              <a:ext cx="235080" cy="61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95113" h="87225">
                  <a:moveTo>
                    <a:pt x="295112" y="54482"/>
                  </a:moveTo>
                  <a:lnTo>
                    <a:pt x="199973" y="87224"/>
                  </a:lnTo>
                  <a:lnTo>
                    <a:pt x="35644" y="63388"/>
                  </a:lnTo>
                  <a:lnTo>
                    <a:pt x="0" y="21741"/>
                  </a:lnTo>
                  <a:lnTo>
                    <a:pt x="70238" y="0"/>
                  </a:lnTo>
                  <a:lnTo>
                    <a:pt x="143625" y="0"/>
                  </a:lnTo>
                  <a:lnTo>
                    <a:pt x="227754" y="13882"/>
                  </a:lnTo>
                  <a:lnTo>
                    <a:pt x="295112" y="54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: Shape 650"/>
            <p:cNvSpPr/>
            <p:nvPr/>
          </p:nvSpPr>
          <p:spPr>
            <a:xfrm>
              <a:off x="7869240" y="8751960"/>
              <a:ext cx="249120" cy="174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312936" h="245439">
                  <a:moveTo>
                    <a:pt x="305072" y="111847"/>
                  </a:moveTo>
                  <a:lnTo>
                    <a:pt x="312935" y="147472"/>
                  </a:lnTo>
                  <a:lnTo>
                    <a:pt x="202070" y="245438"/>
                  </a:lnTo>
                  <a:lnTo>
                    <a:pt x="40362" y="207980"/>
                  </a:lnTo>
                  <a:lnTo>
                    <a:pt x="0" y="87226"/>
                  </a:lnTo>
                  <a:lnTo>
                    <a:pt x="87014" y="0"/>
                  </a:lnTo>
                  <a:lnTo>
                    <a:pt x="261303" y="18859"/>
                  </a:lnTo>
                  <a:lnTo>
                    <a:pt x="305072" y="1118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: Shape 651"/>
            <p:cNvSpPr/>
            <p:nvPr/>
          </p:nvSpPr>
          <p:spPr>
            <a:xfrm>
              <a:off x="7684920" y="8786880"/>
              <a:ext cx="83880" cy="12852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6933" h="180214">
                  <a:moveTo>
                    <a:pt x="2883" y="180213"/>
                  </a:moveTo>
                  <a:lnTo>
                    <a:pt x="0" y="156376"/>
                  </a:lnTo>
                  <a:lnTo>
                    <a:pt x="37742" y="73342"/>
                  </a:lnTo>
                  <a:lnTo>
                    <a:pt x="85180" y="13882"/>
                  </a:lnTo>
                  <a:lnTo>
                    <a:pt x="106932" y="0"/>
                  </a:lnTo>
                  <a:lnTo>
                    <a:pt x="106932" y="21741"/>
                  </a:lnTo>
                  <a:lnTo>
                    <a:pt x="54514" y="97965"/>
                  </a:lnTo>
                  <a:lnTo>
                    <a:pt x="2883" y="1802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: Shape 652"/>
            <p:cNvSpPr/>
            <p:nvPr/>
          </p:nvSpPr>
          <p:spPr>
            <a:xfrm>
              <a:off x="7694280" y="8800920"/>
              <a:ext cx="204840" cy="220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9467" h="309875">
                  <a:moveTo>
                    <a:pt x="259466" y="147471"/>
                  </a:moveTo>
                  <a:lnTo>
                    <a:pt x="183199" y="293109"/>
                  </a:lnTo>
                  <a:lnTo>
                    <a:pt x="43508" y="309874"/>
                  </a:lnTo>
                  <a:lnTo>
                    <a:pt x="0" y="170260"/>
                  </a:lnTo>
                  <a:lnTo>
                    <a:pt x="46389" y="86963"/>
                  </a:lnTo>
                  <a:lnTo>
                    <a:pt x="104835" y="0"/>
                  </a:lnTo>
                  <a:lnTo>
                    <a:pt x="215960" y="23574"/>
                  </a:lnTo>
                  <a:lnTo>
                    <a:pt x="259466" y="1474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: Shape 653"/>
            <p:cNvSpPr/>
            <p:nvPr/>
          </p:nvSpPr>
          <p:spPr>
            <a:xfrm>
              <a:off x="8234640" y="8839080"/>
              <a:ext cx="104760" cy="217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31833" h="304896">
                  <a:moveTo>
                    <a:pt x="44555" y="0"/>
                  </a:moveTo>
                  <a:lnTo>
                    <a:pt x="105098" y="72295"/>
                  </a:lnTo>
                  <a:lnTo>
                    <a:pt x="126852" y="165283"/>
                  </a:lnTo>
                  <a:lnTo>
                    <a:pt x="131832" y="248578"/>
                  </a:lnTo>
                  <a:lnTo>
                    <a:pt x="94090" y="304895"/>
                  </a:lnTo>
                  <a:lnTo>
                    <a:pt x="20968" y="248578"/>
                  </a:lnTo>
                  <a:lnTo>
                    <a:pt x="0" y="92988"/>
                  </a:lnTo>
                  <a:lnTo>
                    <a:pt x="445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: Shape 654"/>
            <p:cNvSpPr/>
            <p:nvPr/>
          </p:nvSpPr>
          <p:spPr>
            <a:xfrm>
              <a:off x="8035920" y="8861400"/>
              <a:ext cx="208080" cy="235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62346" h="330569">
                  <a:moveTo>
                    <a:pt x="262345" y="223697"/>
                  </a:moveTo>
                  <a:lnTo>
                    <a:pt x="145457" y="330568"/>
                  </a:lnTo>
                  <a:lnTo>
                    <a:pt x="15725" y="251463"/>
                  </a:lnTo>
                  <a:lnTo>
                    <a:pt x="0" y="97966"/>
                  </a:lnTo>
                  <a:lnTo>
                    <a:pt x="109813" y="0"/>
                  </a:lnTo>
                  <a:lnTo>
                    <a:pt x="240592" y="60247"/>
                  </a:lnTo>
                  <a:lnTo>
                    <a:pt x="262345" y="2236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: Shape 655"/>
            <p:cNvSpPr/>
            <p:nvPr/>
          </p:nvSpPr>
          <p:spPr>
            <a:xfrm>
              <a:off x="7711920" y="901692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9724" h="285250">
                  <a:moveTo>
                    <a:pt x="15987" y="13883"/>
                  </a:moveTo>
                  <a:lnTo>
                    <a:pt x="159609" y="0"/>
                  </a:lnTo>
                  <a:lnTo>
                    <a:pt x="259723" y="117872"/>
                  </a:lnTo>
                  <a:lnTo>
                    <a:pt x="253696" y="265342"/>
                  </a:lnTo>
                  <a:lnTo>
                    <a:pt x="116889" y="285249"/>
                  </a:lnTo>
                  <a:lnTo>
                    <a:pt x="53728" y="236529"/>
                  </a:lnTo>
                  <a:lnTo>
                    <a:pt x="0" y="148518"/>
                  </a:lnTo>
                  <a:lnTo>
                    <a:pt x="15987" y="1388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: Shape 656"/>
            <p:cNvSpPr/>
            <p:nvPr/>
          </p:nvSpPr>
          <p:spPr>
            <a:xfrm>
              <a:off x="7923240" y="9048960"/>
              <a:ext cx="220680" cy="209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9520"/>
                <a:gd name="textAreaBottom" fmla="*/ 209520 h 209520"/>
              </a:gdLst>
              <a:ahLst/>
              <a:rect l="textAreaLeft" t="textAreaTop" r="textAreaRight" b="textAreaBottom"/>
              <a:pathLst>
                <a:path w="277290" h="293107">
                  <a:moveTo>
                    <a:pt x="277289" y="74127"/>
                  </a:moveTo>
                  <a:lnTo>
                    <a:pt x="275192" y="218715"/>
                  </a:lnTo>
                  <a:lnTo>
                    <a:pt x="129733" y="293106"/>
                  </a:lnTo>
                  <a:lnTo>
                    <a:pt x="0" y="221858"/>
                  </a:lnTo>
                  <a:lnTo>
                    <a:pt x="4719" y="69411"/>
                  </a:lnTo>
                  <a:lnTo>
                    <a:pt x="162233" y="0"/>
                  </a:lnTo>
                  <a:lnTo>
                    <a:pt x="277289" y="74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: Shape 657"/>
            <p:cNvSpPr/>
            <p:nvPr/>
          </p:nvSpPr>
          <p:spPr>
            <a:xfrm>
              <a:off x="7700760" y="9125280"/>
              <a:ext cx="101520" cy="11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w="128690" h="160308">
                  <a:moveTo>
                    <a:pt x="6815" y="0"/>
                  </a:moveTo>
                  <a:lnTo>
                    <a:pt x="58448" y="83296"/>
                  </a:lnTo>
                  <a:lnTo>
                    <a:pt x="121874" y="132803"/>
                  </a:lnTo>
                  <a:lnTo>
                    <a:pt x="128689" y="160307"/>
                  </a:lnTo>
                  <a:lnTo>
                    <a:pt x="109818" y="153497"/>
                  </a:lnTo>
                  <a:lnTo>
                    <a:pt x="53468" y="101894"/>
                  </a:lnTo>
                  <a:lnTo>
                    <a:pt x="13891" y="46625"/>
                  </a:lnTo>
                  <a:lnTo>
                    <a:pt x="0" y="20955"/>
                  </a:lnTo>
                  <a:lnTo>
                    <a:pt x="68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: Shape 658"/>
            <p:cNvSpPr/>
            <p:nvPr/>
          </p:nvSpPr>
          <p:spPr>
            <a:xfrm>
              <a:off x="8021520" y="9193320"/>
              <a:ext cx="206280" cy="102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59466" h="146424">
                  <a:moveTo>
                    <a:pt x="15725" y="100061"/>
                  </a:moveTo>
                  <a:lnTo>
                    <a:pt x="159348" y="27764"/>
                  </a:lnTo>
                  <a:lnTo>
                    <a:pt x="259465" y="0"/>
                  </a:lnTo>
                  <a:lnTo>
                    <a:pt x="259465" y="43481"/>
                  </a:lnTo>
                  <a:lnTo>
                    <a:pt x="229850" y="74128"/>
                  </a:lnTo>
                  <a:lnTo>
                    <a:pt x="151485" y="116825"/>
                  </a:lnTo>
                  <a:lnTo>
                    <a:pt x="100116" y="132541"/>
                  </a:lnTo>
                  <a:lnTo>
                    <a:pt x="51630" y="146423"/>
                  </a:lnTo>
                  <a:lnTo>
                    <a:pt x="0" y="141446"/>
                  </a:lnTo>
                  <a:lnTo>
                    <a:pt x="15725" y="1000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: Shape 659"/>
            <p:cNvSpPr/>
            <p:nvPr/>
          </p:nvSpPr>
          <p:spPr>
            <a:xfrm>
              <a:off x="8148960" y="9021960"/>
              <a:ext cx="160200" cy="1825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02070" h="257225">
                  <a:moveTo>
                    <a:pt x="202069" y="55269"/>
                  </a:moveTo>
                  <a:lnTo>
                    <a:pt x="195253" y="129659"/>
                  </a:lnTo>
                  <a:lnTo>
                    <a:pt x="106145" y="224743"/>
                  </a:lnTo>
                  <a:lnTo>
                    <a:pt x="0" y="257224"/>
                  </a:lnTo>
                  <a:lnTo>
                    <a:pt x="8125" y="115777"/>
                  </a:lnTo>
                  <a:lnTo>
                    <a:pt x="129733" y="0"/>
                  </a:lnTo>
                  <a:lnTo>
                    <a:pt x="202069" y="552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: Shape 660"/>
            <p:cNvSpPr/>
            <p:nvPr/>
          </p:nvSpPr>
          <p:spPr>
            <a:xfrm>
              <a:off x="7661160" y="8925120"/>
              <a:ext cx="55440" cy="193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9188" h="270321">
                  <a:moveTo>
                    <a:pt x="69187" y="134636"/>
                  </a:moveTo>
                  <a:lnTo>
                    <a:pt x="56345" y="270320"/>
                  </a:lnTo>
                  <a:lnTo>
                    <a:pt x="21753" y="239412"/>
                  </a:lnTo>
                  <a:lnTo>
                    <a:pt x="0" y="158210"/>
                  </a:lnTo>
                  <a:lnTo>
                    <a:pt x="0" y="53435"/>
                  </a:lnTo>
                  <a:lnTo>
                    <a:pt x="26731" y="0"/>
                  </a:lnTo>
                  <a:lnTo>
                    <a:pt x="69187" y="1346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5" name="Picture 661" descr=""/>
          <p:cNvPicPr/>
          <p:nvPr/>
        </p:nvPicPr>
        <p:blipFill>
          <a:blip r:embed="rId4"/>
          <a:stretch/>
        </p:blipFill>
        <p:spPr>
          <a:xfrm>
            <a:off x="7942320" y="7753320"/>
            <a:ext cx="1189080" cy="82728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62"/>
          <p:cNvGrpSpPr/>
          <p:nvPr/>
        </p:nvGrpSpPr>
        <p:grpSpPr>
          <a:xfrm>
            <a:off x="7832520" y="882720"/>
            <a:ext cx="1571400" cy="1241280"/>
            <a:chOff x="7832520" y="882720"/>
            <a:chExt cx="1571400" cy="1241280"/>
          </a:xfrm>
        </p:grpSpPr>
        <p:pic>
          <p:nvPicPr>
            <p:cNvPr id="617" name="Picture 677" descr=""/>
            <p:cNvPicPr/>
            <p:nvPr/>
          </p:nvPicPr>
          <p:blipFill>
            <a:blip r:embed="rId5"/>
            <a:stretch/>
          </p:blipFill>
          <p:spPr>
            <a:xfrm flipH="1">
              <a:off x="7832520" y="882720"/>
              <a:ext cx="1571400" cy="10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8" name="Group 135"/>
            <p:cNvGrpSpPr/>
            <p:nvPr/>
          </p:nvGrpSpPr>
          <p:grpSpPr>
            <a:xfrm>
              <a:off x="8575560" y="1506600"/>
              <a:ext cx="690840" cy="617400"/>
              <a:chOff x="8575560" y="1506600"/>
              <a:chExt cx="690840" cy="617400"/>
            </a:xfrm>
          </p:grpSpPr>
          <p:sp>
            <p:nvSpPr>
              <p:cNvPr id="619" name="Oval 634"/>
              <p:cNvSpPr/>
              <p:nvPr/>
            </p:nvSpPr>
            <p:spPr>
              <a:xfrm>
                <a:off x="8575560" y="1506600"/>
                <a:ext cx="690840" cy="617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: Shape 635"/>
              <p:cNvSpPr/>
              <p:nvPr/>
            </p:nvSpPr>
            <p:spPr>
              <a:xfrm>
                <a:off x="8831160" y="1506600"/>
                <a:ext cx="235080" cy="619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: Shape 636"/>
              <p:cNvSpPr/>
              <p:nvPr/>
            </p:nvSpPr>
            <p:spPr>
              <a:xfrm>
                <a:off x="8783640" y="1560240"/>
                <a:ext cx="249120" cy="174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: Shape 637"/>
              <p:cNvSpPr/>
              <p:nvPr/>
            </p:nvSpPr>
            <p:spPr>
              <a:xfrm>
                <a:off x="8599320" y="159552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: Shape 638"/>
              <p:cNvSpPr/>
              <p:nvPr/>
            </p:nvSpPr>
            <p:spPr>
              <a:xfrm>
                <a:off x="8608680" y="160956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: Shape 639"/>
              <p:cNvSpPr/>
              <p:nvPr/>
            </p:nvSpPr>
            <p:spPr>
              <a:xfrm>
                <a:off x="9149040" y="164772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: Shape 640"/>
              <p:cNvSpPr/>
              <p:nvPr/>
            </p:nvSpPr>
            <p:spPr>
              <a:xfrm>
                <a:off x="8950320" y="1670040"/>
                <a:ext cx="208080" cy="2347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: Shape 641"/>
              <p:cNvSpPr/>
              <p:nvPr/>
            </p:nvSpPr>
            <p:spPr>
              <a:xfrm>
                <a:off x="8626320" y="182412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: Shape 642"/>
              <p:cNvSpPr/>
              <p:nvPr/>
            </p:nvSpPr>
            <p:spPr>
              <a:xfrm>
                <a:off x="8837640" y="185724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: Shape 643"/>
              <p:cNvSpPr/>
              <p:nvPr/>
            </p:nvSpPr>
            <p:spPr>
              <a:xfrm>
                <a:off x="8615160" y="193212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: Shape 644"/>
              <p:cNvSpPr/>
              <p:nvPr/>
            </p:nvSpPr>
            <p:spPr>
              <a:xfrm>
                <a:off x="8935920" y="200016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: Shape 645"/>
              <p:cNvSpPr/>
              <p:nvPr/>
            </p:nvSpPr>
            <p:spPr>
              <a:xfrm>
                <a:off x="9063360" y="182880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: Shape 646"/>
              <p:cNvSpPr/>
              <p:nvPr/>
            </p:nvSpPr>
            <p:spPr>
              <a:xfrm>
                <a:off x="8575560" y="173340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2" name="Group 7168"/>
          <p:cNvGrpSpPr/>
          <p:nvPr/>
        </p:nvGrpSpPr>
        <p:grpSpPr>
          <a:xfrm>
            <a:off x="8062920" y="3916440"/>
            <a:ext cx="1571760" cy="1295280"/>
            <a:chOff x="8062920" y="3916440"/>
            <a:chExt cx="1571760" cy="1295280"/>
          </a:xfrm>
        </p:grpSpPr>
        <p:pic>
          <p:nvPicPr>
            <p:cNvPr id="633" name="Picture 676" descr=""/>
            <p:cNvPicPr/>
            <p:nvPr/>
          </p:nvPicPr>
          <p:blipFill>
            <a:blip r:embed="rId6"/>
            <a:stretch/>
          </p:blipFill>
          <p:spPr>
            <a:xfrm flipH="1">
              <a:off x="8062920" y="3916440"/>
              <a:ext cx="1571760" cy="109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Group 135"/>
            <p:cNvGrpSpPr/>
            <p:nvPr/>
          </p:nvGrpSpPr>
          <p:grpSpPr>
            <a:xfrm>
              <a:off x="8846640" y="4594680"/>
              <a:ext cx="691200" cy="617040"/>
              <a:chOff x="8846640" y="4594680"/>
              <a:chExt cx="691200" cy="617040"/>
            </a:xfrm>
          </p:grpSpPr>
          <p:sp>
            <p:nvSpPr>
              <p:cNvPr id="635" name="Oval 620"/>
              <p:cNvSpPr/>
              <p:nvPr/>
            </p:nvSpPr>
            <p:spPr>
              <a:xfrm>
                <a:off x="8846640" y="4594680"/>
                <a:ext cx="691200" cy="617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: Shape 621"/>
              <p:cNvSpPr/>
              <p:nvPr/>
            </p:nvSpPr>
            <p:spPr>
              <a:xfrm>
                <a:off x="9102240" y="4594680"/>
                <a:ext cx="235080" cy="615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: Shape 622"/>
              <p:cNvSpPr/>
              <p:nvPr/>
            </p:nvSpPr>
            <p:spPr>
              <a:xfrm>
                <a:off x="9054720" y="4648320"/>
                <a:ext cx="249480" cy="1742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: Shape 623"/>
              <p:cNvSpPr/>
              <p:nvPr/>
            </p:nvSpPr>
            <p:spPr>
              <a:xfrm>
                <a:off x="8870400" y="4683240"/>
                <a:ext cx="84240" cy="1285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: Shape 624"/>
              <p:cNvSpPr/>
              <p:nvPr/>
            </p:nvSpPr>
            <p:spPr>
              <a:xfrm>
                <a:off x="8879760" y="469764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: Shape 625"/>
              <p:cNvSpPr/>
              <p:nvPr/>
            </p:nvSpPr>
            <p:spPr>
              <a:xfrm>
                <a:off x="9420480" y="473580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: Shape 626"/>
              <p:cNvSpPr/>
              <p:nvPr/>
            </p:nvSpPr>
            <p:spPr>
              <a:xfrm>
                <a:off x="9221760" y="4758120"/>
                <a:ext cx="208080" cy="2347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: Shape 627"/>
              <p:cNvSpPr/>
              <p:nvPr/>
            </p:nvSpPr>
            <p:spPr>
              <a:xfrm>
                <a:off x="8897400" y="4911840"/>
                <a:ext cx="206640" cy="2030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: Shape 628"/>
              <p:cNvSpPr/>
              <p:nvPr/>
            </p:nvSpPr>
            <p:spPr>
              <a:xfrm>
                <a:off x="9108720" y="494532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: Shape 629"/>
              <p:cNvSpPr/>
              <p:nvPr/>
            </p:nvSpPr>
            <p:spPr>
              <a:xfrm>
                <a:off x="8886240" y="501984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: Shape 630"/>
              <p:cNvSpPr/>
              <p:nvPr/>
            </p:nvSpPr>
            <p:spPr>
              <a:xfrm>
                <a:off x="9207360" y="5088240"/>
                <a:ext cx="206640" cy="1029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: Shape 631"/>
              <p:cNvSpPr/>
              <p:nvPr/>
            </p:nvSpPr>
            <p:spPr>
              <a:xfrm>
                <a:off x="9334440" y="4916520"/>
                <a:ext cx="160560" cy="182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: Shape 632"/>
              <p:cNvSpPr/>
              <p:nvPr/>
            </p:nvSpPr>
            <p:spPr>
              <a:xfrm>
                <a:off x="8846640" y="482148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8" name="Group 7176"/>
          <p:cNvGrpSpPr/>
          <p:nvPr/>
        </p:nvGrpSpPr>
        <p:grpSpPr>
          <a:xfrm>
            <a:off x="7570800" y="7570800"/>
            <a:ext cx="1571760" cy="1282680"/>
            <a:chOff x="7570800" y="7570800"/>
            <a:chExt cx="1571760" cy="1282680"/>
          </a:xfrm>
        </p:grpSpPr>
        <p:pic>
          <p:nvPicPr>
            <p:cNvPr id="649" name="Picture 896" descr=""/>
            <p:cNvPicPr/>
            <p:nvPr/>
          </p:nvPicPr>
          <p:blipFill>
            <a:blip r:embed="rId7"/>
            <a:stretch/>
          </p:blipFill>
          <p:spPr>
            <a:xfrm flipH="1">
              <a:off x="7570800" y="7570800"/>
              <a:ext cx="1571760" cy="10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Group 135"/>
            <p:cNvGrpSpPr/>
            <p:nvPr/>
          </p:nvGrpSpPr>
          <p:grpSpPr>
            <a:xfrm>
              <a:off x="8392320" y="8236080"/>
              <a:ext cx="691200" cy="617400"/>
              <a:chOff x="8392320" y="8236080"/>
              <a:chExt cx="691200" cy="617400"/>
            </a:xfrm>
          </p:grpSpPr>
          <p:sp>
            <p:nvSpPr>
              <p:cNvPr id="651" name="Oval 679"/>
              <p:cNvSpPr/>
              <p:nvPr/>
            </p:nvSpPr>
            <p:spPr>
              <a:xfrm>
                <a:off x="8392320" y="8236080"/>
                <a:ext cx="691200" cy="617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: Shape 680"/>
              <p:cNvSpPr/>
              <p:nvPr/>
            </p:nvSpPr>
            <p:spPr>
              <a:xfrm>
                <a:off x="8649000" y="8236080"/>
                <a:ext cx="234720" cy="619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: Shape 681"/>
              <p:cNvSpPr/>
              <p:nvPr/>
            </p:nvSpPr>
            <p:spPr>
              <a:xfrm>
                <a:off x="8601480" y="8289720"/>
                <a:ext cx="248760" cy="1746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: Shape 682"/>
              <p:cNvSpPr/>
              <p:nvPr/>
            </p:nvSpPr>
            <p:spPr>
              <a:xfrm>
                <a:off x="8416080" y="8325000"/>
                <a:ext cx="85320" cy="12852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: Shape 683"/>
              <p:cNvSpPr/>
              <p:nvPr/>
            </p:nvSpPr>
            <p:spPr>
              <a:xfrm>
                <a:off x="8425440" y="8339040"/>
                <a:ext cx="205920" cy="2188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: Shape 684"/>
              <p:cNvSpPr/>
              <p:nvPr/>
            </p:nvSpPr>
            <p:spPr>
              <a:xfrm>
                <a:off x="8966160" y="8377200"/>
                <a:ext cx="104400" cy="2156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: Shape 685"/>
              <p:cNvSpPr/>
              <p:nvPr/>
            </p:nvSpPr>
            <p:spPr>
              <a:xfrm>
                <a:off x="8768160" y="8399520"/>
                <a:ext cx="207720" cy="2347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: Shape 686"/>
              <p:cNvSpPr/>
              <p:nvPr/>
            </p:nvSpPr>
            <p:spPr>
              <a:xfrm>
                <a:off x="8442720" y="8553600"/>
                <a:ext cx="207720" cy="20304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: Shape 687"/>
              <p:cNvSpPr/>
              <p:nvPr/>
            </p:nvSpPr>
            <p:spPr>
              <a:xfrm>
                <a:off x="8653680" y="8586720"/>
                <a:ext cx="220320" cy="2077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: Shape 688"/>
              <p:cNvSpPr/>
              <p:nvPr/>
            </p:nvSpPr>
            <p:spPr>
              <a:xfrm>
                <a:off x="8431920" y="8661600"/>
                <a:ext cx="101160" cy="1141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: Shape 689"/>
              <p:cNvSpPr/>
              <p:nvPr/>
            </p:nvSpPr>
            <p:spPr>
              <a:xfrm>
                <a:off x="8752320" y="8729640"/>
                <a:ext cx="207720" cy="1029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: Shape 690"/>
              <p:cNvSpPr/>
              <p:nvPr/>
            </p:nvSpPr>
            <p:spPr>
              <a:xfrm>
                <a:off x="8880840" y="855828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: Shape 691"/>
              <p:cNvSpPr/>
              <p:nvPr/>
            </p:nvSpPr>
            <p:spPr>
              <a:xfrm>
                <a:off x="8392320" y="846288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7175"/>
          <p:cNvGrpSpPr/>
          <p:nvPr/>
        </p:nvGrpSpPr>
        <p:grpSpPr>
          <a:xfrm>
            <a:off x="7063920" y="5283360"/>
            <a:ext cx="1569960" cy="1152360"/>
            <a:chOff x="7063920" y="5283360"/>
            <a:chExt cx="1569960" cy="1152360"/>
          </a:xfrm>
        </p:grpSpPr>
        <p:pic>
          <p:nvPicPr>
            <p:cNvPr id="665" name="Picture 675" descr=""/>
            <p:cNvPicPr/>
            <p:nvPr/>
          </p:nvPicPr>
          <p:blipFill>
            <a:blip r:embed="rId8"/>
            <a:stretch/>
          </p:blipFill>
          <p:spPr>
            <a:xfrm flipH="1">
              <a:off x="7063920" y="5283360"/>
              <a:ext cx="1569960" cy="10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Group 135"/>
            <p:cNvGrpSpPr/>
            <p:nvPr/>
          </p:nvGrpSpPr>
          <p:grpSpPr>
            <a:xfrm>
              <a:off x="7891920" y="5818320"/>
              <a:ext cx="690480" cy="617400"/>
              <a:chOff x="7891920" y="5818320"/>
              <a:chExt cx="690480" cy="617400"/>
            </a:xfrm>
          </p:grpSpPr>
          <p:sp>
            <p:nvSpPr>
              <p:cNvPr id="667" name="Oval 693"/>
              <p:cNvSpPr/>
              <p:nvPr/>
            </p:nvSpPr>
            <p:spPr>
              <a:xfrm>
                <a:off x="7891920" y="5818320"/>
                <a:ext cx="690480" cy="617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: Shape 694"/>
              <p:cNvSpPr/>
              <p:nvPr/>
            </p:nvSpPr>
            <p:spPr>
              <a:xfrm>
                <a:off x="8147520" y="5818320"/>
                <a:ext cx="234720" cy="619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: Shape 695"/>
              <p:cNvSpPr/>
              <p:nvPr/>
            </p:nvSpPr>
            <p:spPr>
              <a:xfrm>
                <a:off x="8099640" y="5871960"/>
                <a:ext cx="249120" cy="174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: Shape 696"/>
              <p:cNvSpPr/>
              <p:nvPr/>
            </p:nvSpPr>
            <p:spPr>
              <a:xfrm>
                <a:off x="7915680" y="590724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: Shape 697"/>
              <p:cNvSpPr/>
              <p:nvPr/>
            </p:nvSpPr>
            <p:spPr>
              <a:xfrm>
                <a:off x="7925040" y="592128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: Shape 698"/>
              <p:cNvSpPr/>
              <p:nvPr/>
            </p:nvSpPr>
            <p:spPr>
              <a:xfrm>
                <a:off x="8465040" y="595944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: Shape 699"/>
              <p:cNvSpPr/>
              <p:nvPr/>
            </p:nvSpPr>
            <p:spPr>
              <a:xfrm>
                <a:off x="8266680" y="5981760"/>
                <a:ext cx="207720" cy="2347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: Shape 701"/>
              <p:cNvSpPr/>
              <p:nvPr/>
            </p:nvSpPr>
            <p:spPr>
              <a:xfrm>
                <a:off x="7942680" y="613584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: Shape 702"/>
              <p:cNvSpPr/>
              <p:nvPr/>
            </p:nvSpPr>
            <p:spPr>
              <a:xfrm>
                <a:off x="8153640" y="616896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: Shape 739"/>
              <p:cNvSpPr/>
              <p:nvPr/>
            </p:nvSpPr>
            <p:spPr>
              <a:xfrm>
                <a:off x="7931520" y="624384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: Shape 740"/>
              <p:cNvSpPr/>
              <p:nvPr/>
            </p:nvSpPr>
            <p:spPr>
              <a:xfrm>
                <a:off x="8252280" y="631188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: Shape 777"/>
              <p:cNvSpPr/>
              <p:nvPr/>
            </p:nvSpPr>
            <p:spPr>
              <a:xfrm>
                <a:off x="8379360" y="614052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: Shape 778"/>
              <p:cNvSpPr/>
              <p:nvPr/>
            </p:nvSpPr>
            <p:spPr>
              <a:xfrm>
                <a:off x="7891920" y="604512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7174"/>
          <p:cNvGrpSpPr/>
          <p:nvPr/>
        </p:nvGrpSpPr>
        <p:grpSpPr>
          <a:xfrm>
            <a:off x="6694200" y="2703600"/>
            <a:ext cx="1571400" cy="1163520"/>
            <a:chOff x="6694200" y="2703600"/>
            <a:chExt cx="1571400" cy="1163520"/>
          </a:xfrm>
        </p:grpSpPr>
        <p:pic>
          <p:nvPicPr>
            <p:cNvPr id="681" name="Picture 671" descr=""/>
            <p:cNvPicPr/>
            <p:nvPr/>
          </p:nvPicPr>
          <p:blipFill>
            <a:blip r:embed="rId9"/>
            <a:stretch/>
          </p:blipFill>
          <p:spPr>
            <a:xfrm flipH="1">
              <a:off x="6694200" y="2703600"/>
              <a:ext cx="1571400" cy="109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Group 135"/>
            <p:cNvGrpSpPr/>
            <p:nvPr/>
          </p:nvGrpSpPr>
          <p:grpSpPr>
            <a:xfrm>
              <a:off x="7489800" y="3250080"/>
              <a:ext cx="690840" cy="617040"/>
              <a:chOff x="7489800" y="3250080"/>
              <a:chExt cx="690840" cy="617040"/>
            </a:xfrm>
          </p:grpSpPr>
          <p:sp>
            <p:nvSpPr>
              <p:cNvPr id="683" name="Oval 816"/>
              <p:cNvSpPr/>
              <p:nvPr/>
            </p:nvSpPr>
            <p:spPr>
              <a:xfrm>
                <a:off x="7489800" y="3250080"/>
                <a:ext cx="690840" cy="617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: Shape 852"/>
              <p:cNvSpPr/>
              <p:nvPr/>
            </p:nvSpPr>
            <p:spPr>
              <a:xfrm>
                <a:off x="7745400" y="3250080"/>
                <a:ext cx="235080" cy="615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: Shape 853"/>
              <p:cNvSpPr/>
              <p:nvPr/>
            </p:nvSpPr>
            <p:spPr>
              <a:xfrm>
                <a:off x="7697880" y="3303720"/>
                <a:ext cx="249120" cy="1742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: Shape 854"/>
              <p:cNvSpPr/>
              <p:nvPr/>
            </p:nvSpPr>
            <p:spPr>
              <a:xfrm>
                <a:off x="7513560" y="333864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: Shape 855"/>
              <p:cNvSpPr/>
              <p:nvPr/>
            </p:nvSpPr>
            <p:spPr>
              <a:xfrm>
                <a:off x="7522920" y="335304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: Shape 856"/>
              <p:cNvSpPr/>
              <p:nvPr/>
            </p:nvSpPr>
            <p:spPr>
              <a:xfrm>
                <a:off x="8063280" y="339120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: Shape 857"/>
              <p:cNvSpPr/>
              <p:nvPr/>
            </p:nvSpPr>
            <p:spPr>
              <a:xfrm>
                <a:off x="7864560" y="3413520"/>
                <a:ext cx="208080" cy="2347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: Shape 858"/>
              <p:cNvSpPr/>
              <p:nvPr/>
            </p:nvSpPr>
            <p:spPr>
              <a:xfrm>
                <a:off x="7540560" y="356724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: Shape 859"/>
              <p:cNvSpPr/>
              <p:nvPr/>
            </p:nvSpPr>
            <p:spPr>
              <a:xfrm>
                <a:off x="7751880" y="360072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: Shape 860"/>
              <p:cNvSpPr/>
              <p:nvPr/>
            </p:nvSpPr>
            <p:spPr>
              <a:xfrm>
                <a:off x="7529400" y="367524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: Shape 861"/>
              <p:cNvSpPr/>
              <p:nvPr/>
            </p:nvSpPr>
            <p:spPr>
              <a:xfrm>
                <a:off x="7850160" y="374364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: Shape 862"/>
              <p:cNvSpPr/>
              <p:nvPr/>
            </p:nvSpPr>
            <p:spPr>
              <a:xfrm>
                <a:off x="7977600" y="357192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: Shape 863"/>
              <p:cNvSpPr/>
              <p:nvPr/>
            </p:nvSpPr>
            <p:spPr>
              <a:xfrm>
                <a:off x="7489800" y="347688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Group 7173"/>
          <p:cNvGrpSpPr/>
          <p:nvPr/>
        </p:nvGrpSpPr>
        <p:grpSpPr>
          <a:xfrm>
            <a:off x="4223880" y="6550200"/>
            <a:ext cx="1569960" cy="1211040"/>
            <a:chOff x="4223880" y="6550200"/>
            <a:chExt cx="1569960" cy="1211040"/>
          </a:xfrm>
        </p:grpSpPr>
        <p:pic>
          <p:nvPicPr>
            <p:cNvPr id="697" name="Picture 672" descr=""/>
            <p:cNvPicPr/>
            <p:nvPr/>
          </p:nvPicPr>
          <p:blipFill>
            <a:blip r:embed="rId10"/>
            <a:stretch/>
          </p:blipFill>
          <p:spPr>
            <a:xfrm flipH="1">
              <a:off x="4223880" y="6550200"/>
              <a:ext cx="1569960" cy="109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Group 135"/>
            <p:cNvGrpSpPr/>
            <p:nvPr/>
          </p:nvGrpSpPr>
          <p:grpSpPr>
            <a:xfrm>
              <a:off x="4976280" y="7144200"/>
              <a:ext cx="690480" cy="617040"/>
              <a:chOff x="4976280" y="7144200"/>
              <a:chExt cx="690480" cy="617040"/>
            </a:xfrm>
          </p:grpSpPr>
          <p:sp>
            <p:nvSpPr>
              <p:cNvPr id="699" name="Oval 865"/>
              <p:cNvSpPr/>
              <p:nvPr/>
            </p:nvSpPr>
            <p:spPr>
              <a:xfrm>
                <a:off x="4976280" y="7144200"/>
                <a:ext cx="690480" cy="617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: Shape 866"/>
              <p:cNvSpPr/>
              <p:nvPr/>
            </p:nvSpPr>
            <p:spPr>
              <a:xfrm>
                <a:off x="5231880" y="7144200"/>
                <a:ext cx="234720" cy="615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: Shape 867"/>
              <p:cNvSpPr/>
              <p:nvPr/>
            </p:nvSpPr>
            <p:spPr>
              <a:xfrm>
                <a:off x="5184000" y="7197840"/>
                <a:ext cx="249120" cy="1742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: Shape 868"/>
              <p:cNvSpPr/>
              <p:nvPr/>
            </p:nvSpPr>
            <p:spPr>
              <a:xfrm>
                <a:off x="5000040" y="723276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: Shape 869"/>
              <p:cNvSpPr/>
              <p:nvPr/>
            </p:nvSpPr>
            <p:spPr>
              <a:xfrm>
                <a:off x="5009400" y="724716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: Shape 870"/>
              <p:cNvSpPr/>
              <p:nvPr/>
            </p:nvSpPr>
            <p:spPr>
              <a:xfrm>
                <a:off x="5549400" y="728532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: Shape 871"/>
              <p:cNvSpPr/>
              <p:nvPr/>
            </p:nvSpPr>
            <p:spPr>
              <a:xfrm>
                <a:off x="5351040" y="7307640"/>
                <a:ext cx="207720" cy="2347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: Shape 872"/>
              <p:cNvSpPr/>
              <p:nvPr/>
            </p:nvSpPr>
            <p:spPr>
              <a:xfrm>
                <a:off x="5027040" y="746136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: Shape 873"/>
              <p:cNvSpPr/>
              <p:nvPr/>
            </p:nvSpPr>
            <p:spPr>
              <a:xfrm>
                <a:off x="5238000" y="749484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: Shape 874"/>
              <p:cNvSpPr/>
              <p:nvPr/>
            </p:nvSpPr>
            <p:spPr>
              <a:xfrm>
                <a:off x="5015880" y="756936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: Shape 875"/>
              <p:cNvSpPr/>
              <p:nvPr/>
            </p:nvSpPr>
            <p:spPr>
              <a:xfrm>
                <a:off x="5336640" y="763776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: Shape 876"/>
              <p:cNvSpPr/>
              <p:nvPr/>
            </p:nvSpPr>
            <p:spPr>
              <a:xfrm>
                <a:off x="5463720" y="746604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: Shape 877"/>
              <p:cNvSpPr/>
              <p:nvPr/>
            </p:nvSpPr>
            <p:spPr>
              <a:xfrm>
                <a:off x="4976280" y="737100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2" name="Group 7172"/>
          <p:cNvGrpSpPr/>
          <p:nvPr/>
        </p:nvGrpSpPr>
        <p:grpSpPr>
          <a:xfrm>
            <a:off x="3948120" y="4065480"/>
            <a:ext cx="1571760" cy="1121040"/>
            <a:chOff x="3948120" y="4065480"/>
            <a:chExt cx="1571760" cy="1121040"/>
          </a:xfrm>
        </p:grpSpPr>
        <p:pic>
          <p:nvPicPr>
            <p:cNvPr id="713" name="Picture 674" descr=""/>
            <p:cNvPicPr/>
            <p:nvPr/>
          </p:nvPicPr>
          <p:blipFill>
            <a:blip r:embed="rId11"/>
            <a:stretch/>
          </p:blipFill>
          <p:spPr>
            <a:xfrm flipH="1">
              <a:off x="3948120" y="4065480"/>
              <a:ext cx="1571760" cy="109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Group 7170"/>
            <p:cNvGrpSpPr/>
            <p:nvPr/>
          </p:nvGrpSpPr>
          <p:grpSpPr>
            <a:xfrm>
              <a:off x="4557240" y="4568760"/>
              <a:ext cx="691200" cy="617760"/>
              <a:chOff x="4557240" y="4568760"/>
              <a:chExt cx="691200" cy="617760"/>
            </a:xfrm>
          </p:grpSpPr>
          <p:sp>
            <p:nvSpPr>
              <p:cNvPr id="715" name="Oval 879"/>
              <p:cNvSpPr/>
              <p:nvPr/>
            </p:nvSpPr>
            <p:spPr>
              <a:xfrm>
                <a:off x="4557240" y="4568760"/>
                <a:ext cx="691200" cy="617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: Shape 880"/>
              <p:cNvSpPr/>
              <p:nvPr/>
            </p:nvSpPr>
            <p:spPr>
              <a:xfrm>
                <a:off x="4812840" y="4568760"/>
                <a:ext cx="235080" cy="619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: Shape 881"/>
              <p:cNvSpPr/>
              <p:nvPr/>
            </p:nvSpPr>
            <p:spPr>
              <a:xfrm>
                <a:off x="4765320" y="4622760"/>
                <a:ext cx="249480" cy="17460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: Shape 882"/>
              <p:cNvSpPr/>
              <p:nvPr/>
            </p:nvSpPr>
            <p:spPr>
              <a:xfrm>
                <a:off x="4581000" y="4657680"/>
                <a:ext cx="84240" cy="1285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: Shape 883"/>
              <p:cNvSpPr/>
              <p:nvPr/>
            </p:nvSpPr>
            <p:spPr>
              <a:xfrm>
                <a:off x="4590360" y="4671720"/>
                <a:ext cx="204840" cy="2192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: Shape 884"/>
              <p:cNvSpPr/>
              <p:nvPr/>
            </p:nvSpPr>
            <p:spPr>
              <a:xfrm>
                <a:off x="5131080" y="4709880"/>
                <a:ext cx="104760" cy="2160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: Shape 885"/>
              <p:cNvSpPr/>
              <p:nvPr/>
            </p:nvSpPr>
            <p:spPr>
              <a:xfrm>
                <a:off x="4932360" y="4732200"/>
                <a:ext cx="208080" cy="2350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: Shape 886"/>
              <p:cNvSpPr/>
              <p:nvPr/>
            </p:nvSpPr>
            <p:spPr>
              <a:xfrm>
                <a:off x="4608000" y="4886280"/>
                <a:ext cx="206640" cy="2030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: Shape 887"/>
              <p:cNvSpPr/>
              <p:nvPr/>
            </p:nvSpPr>
            <p:spPr>
              <a:xfrm>
                <a:off x="4819320" y="4919760"/>
                <a:ext cx="220680" cy="2080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8080"/>
                  <a:gd name="textAreaBottom" fmla="*/ 208080 h 20808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: Shape 888"/>
              <p:cNvSpPr/>
              <p:nvPr/>
            </p:nvSpPr>
            <p:spPr>
              <a:xfrm>
                <a:off x="4596840" y="499428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: Shape 889"/>
              <p:cNvSpPr/>
              <p:nvPr/>
            </p:nvSpPr>
            <p:spPr>
              <a:xfrm>
                <a:off x="4917960" y="5062680"/>
                <a:ext cx="206640" cy="1029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: Shape 890"/>
              <p:cNvSpPr/>
              <p:nvPr/>
            </p:nvSpPr>
            <p:spPr>
              <a:xfrm>
                <a:off x="5045040" y="4891320"/>
                <a:ext cx="160560" cy="182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: Shape 891"/>
              <p:cNvSpPr/>
              <p:nvPr/>
            </p:nvSpPr>
            <p:spPr>
              <a:xfrm>
                <a:off x="4557240" y="4795920"/>
                <a:ext cx="55440" cy="1922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1.221E-008 L 0.37313 -0.009 E">
                                      <p:cBhvr>
                                        <p:cTn id="36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3.98046E-006 L 0.02219 0.30616 E">
                                      <p:cBhvr>
                                        <p:cTn id="373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862E-006 L -0.39063 0.01282 E">
                                      <p:cBhvr>
                                        <p:cTn id="387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97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56288E-006 L 0.18781 -0.36599 E">
                                      <p:cBhvr>
                                        <p:cTn id="409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9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67 C -0.049 0.081 -0.054 0.102 -0.054 0.124 C -0.054 0.149 -0.049 0.169 -0.04 0.183 L 0 0.25 E">
                                      <p:cBhvr>
                                        <p:cTn id="429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4.884E-006 L -0.09266 0.1108 E">
                                      <p:cBhvr>
                                        <p:cTn id="4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6T20:02:56Z</dcterms:created>
  <dc:creator>Vikas</dc:creator>
  <dc:description/>
  <dc:language>en-US</dc:language>
  <cp:lastModifiedBy>Caroline</cp:lastModifiedBy>
  <dcterms:modified xsi:type="dcterms:W3CDTF">2018-02-27T12:55:05Z</dcterms:modified>
  <cp:revision>79</cp:revision>
  <dc:subject/>
  <dc:title>PowerPoint Presentation</dc:title>
</cp:coreProperties>
</file>