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10782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74960" y="1142640"/>
            <a:ext cx="29080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84D-E05A-4D88-8F33-4C0B26C2EB8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24C-3C74-457E-8976-73D36FC626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grünen Kreis nach links un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gelben Kreis nach rechts o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as rosa Quadrat nach rechts un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lila Kreis zwischen den grünen Kreis und das rosa Quadr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ein hellblaues Oval nach links o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as andere hellblaue Oval oben in die Mit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etze das rote Dreieck auf das rosa Quadr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etze das lila Rechteck auf den lila und grünen Kre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ein dunkelblaues Quadrat in das lila Recht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noch ein blaues Quadrat in das lila Recht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11A-E663-4577-8BFD-463DBC7D299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C577-8E03-40ED-A934-C144330C3B5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081-231C-4803-831C-16458294922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D37-7A73-4699-B628-318BB0B6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644400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2A4-3D01-4C41-ACAF-8A4A7D8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F86-9F8C-4B76-A65F-CBA99FC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018-6FF0-439A-B605-BFEE1759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9BB-87FD-4061-A222-DA46D8B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018-4DBC-4580-9813-1AEA34E1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B91-CC36-46C9-A5D5-5C22F12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FA7-ED43-4931-88F5-3657AA4F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574560"/>
            <a:ext cx="8763120" cy="9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629-42EA-415A-A07C-35FB3C95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C88-9AC9-4827-A45D-24E4E0B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F15-2D8F-4850-9EAA-B147424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736-FFB1-49D5-BCD0-EF50379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9992880"/>
            <a:ext cx="2286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9992880"/>
            <a:ext cx="3429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9992880"/>
            <a:ext cx="2286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CAA-D914-4CA4-BC51-9D7D6E0AC301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281304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6726240"/>
            <a:ext cx="5680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9"/>
          <p:cNvSpPr/>
          <p:nvPr/>
        </p:nvSpPr>
        <p:spPr>
          <a:xfrm>
            <a:off x="378000" y="2589120"/>
            <a:ext cx="97819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e Mama arbeitet in einem / in einer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 Papa is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 Papa ist kein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e Papa arbeitet in einem / in einer 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33480" y="318960"/>
            <a:ext cx="242748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72"/>
          <p:cNvSpPr/>
          <p:nvPr/>
        </p:nvSpPr>
        <p:spPr>
          <a:xfrm>
            <a:off x="2158920" y="24120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Where do your parents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Grafik 1" descr=""/>
          <p:cNvPicPr/>
          <p:nvPr/>
        </p:nvPicPr>
        <p:blipFill>
          <a:blip r:embed="rId2"/>
          <a:stretch/>
        </p:blipFill>
        <p:spPr>
          <a:xfrm>
            <a:off x="7388280" y="6588000"/>
            <a:ext cx="1249200" cy="1249560"/>
          </a:xfrm>
          <a:prstGeom prst="rect">
            <a:avLst/>
          </a:prstGeom>
          <a:ln w="0">
            <a:noFill/>
          </a:ln>
        </p:spPr>
      </p:pic>
      <p:pic>
        <p:nvPicPr>
          <p:cNvPr id="258" name="Grafik 2" descr=""/>
          <p:cNvPicPr/>
          <p:nvPr/>
        </p:nvPicPr>
        <p:blipFill>
          <a:blip r:embed="rId3"/>
          <a:stretch/>
        </p:blipFill>
        <p:spPr>
          <a:xfrm>
            <a:off x="6929280" y="8956800"/>
            <a:ext cx="1621080" cy="1292040"/>
          </a:xfrm>
          <a:prstGeom prst="rect">
            <a:avLst/>
          </a:prstGeom>
          <a:ln w="0">
            <a:noFill/>
          </a:ln>
        </p:spPr>
      </p:pic>
      <p:pic>
        <p:nvPicPr>
          <p:cNvPr id="259" name="Grafik 3" descr=""/>
          <p:cNvPicPr/>
          <p:nvPr/>
        </p:nvPicPr>
        <p:blipFill>
          <a:blip r:embed="rId4"/>
          <a:stretch/>
        </p:blipFill>
        <p:spPr>
          <a:xfrm>
            <a:off x="4680000" y="8286840"/>
            <a:ext cx="2047680" cy="1539720"/>
          </a:xfrm>
          <a:prstGeom prst="rect">
            <a:avLst/>
          </a:prstGeom>
          <a:ln w="0">
            <a:noFill/>
          </a:ln>
        </p:spPr>
      </p:pic>
      <p:pic>
        <p:nvPicPr>
          <p:cNvPr id="260" name="Grafik 4" descr=""/>
          <p:cNvPicPr/>
          <p:nvPr/>
        </p:nvPicPr>
        <p:blipFill>
          <a:blip r:embed="rId5"/>
          <a:stretch/>
        </p:blipFill>
        <p:spPr>
          <a:xfrm>
            <a:off x="8621640" y="5251320"/>
            <a:ext cx="1427400" cy="1438560"/>
          </a:xfrm>
          <a:prstGeom prst="rect">
            <a:avLst/>
          </a:prstGeom>
          <a:ln w="0">
            <a:noFill/>
          </a:ln>
        </p:spPr>
      </p:pic>
      <p:pic>
        <p:nvPicPr>
          <p:cNvPr id="261" name="Grafik 5" descr=""/>
          <p:cNvPicPr/>
          <p:nvPr/>
        </p:nvPicPr>
        <p:blipFill>
          <a:blip r:embed="rId6"/>
          <a:stretch/>
        </p:blipFill>
        <p:spPr>
          <a:xfrm>
            <a:off x="2106720" y="88362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262" name="Grafik 6" descr=""/>
          <p:cNvPicPr/>
          <p:nvPr/>
        </p:nvPicPr>
        <p:blipFill>
          <a:blip r:embed="rId7"/>
          <a:stretch/>
        </p:blipFill>
        <p:spPr>
          <a:xfrm>
            <a:off x="378000" y="837576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63" name="Grafik 7" descr=""/>
          <p:cNvPicPr/>
          <p:nvPr/>
        </p:nvPicPr>
        <p:blipFill>
          <a:blip r:embed="rId8"/>
          <a:stretch/>
        </p:blipFill>
        <p:spPr>
          <a:xfrm>
            <a:off x="5380200" y="5141880"/>
            <a:ext cx="1920600" cy="1922400"/>
          </a:xfrm>
          <a:prstGeom prst="rect">
            <a:avLst/>
          </a:prstGeom>
          <a:ln w="0">
            <a:noFill/>
          </a:ln>
        </p:spPr>
      </p:pic>
      <p:pic>
        <p:nvPicPr>
          <p:cNvPr id="264" name="Grafik 8" descr=""/>
          <p:cNvPicPr/>
          <p:nvPr/>
        </p:nvPicPr>
        <p:blipFill>
          <a:blip r:embed="rId9"/>
          <a:stretch/>
        </p:blipFill>
        <p:spPr>
          <a:xfrm>
            <a:off x="1768320" y="5400720"/>
            <a:ext cx="1638360" cy="1635120"/>
          </a:xfrm>
          <a:prstGeom prst="rect">
            <a:avLst/>
          </a:prstGeom>
          <a:ln w="0">
            <a:noFill/>
          </a:ln>
        </p:spPr>
      </p:pic>
      <p:pic>
        <p:nvPicPr>
          <p:cNvPr id="265" name="Grafik 9" descr=""/>
          <p:cNvPicPr/>
          <p:nvPr/>
        </p:nvPicPr>
        <p:blipFill>
          <a:blip r:embed="rId10"/>
          <a:stretch/>
        </p:blipFill>
        <p:spPr>
          <a:xfrm>
            <a:off x="171360" y="6189840"/>
            <a:ext cx="1279440" cy="1277640"/>
          </a:xfrm>
          <a:prstGeom prst="rect">
            <a:avLst/>
          </a:prstGeom>
          <a:ln w="0">
            <a:noFill/>
          </a:ln>
        </p:spPr>
      </p:pic>
      <p:pic>
        <p:nvPicPr>
          <p:cNvPr id="266" name="Grafik 10" descr=""/>
          <p:cNvPicPr/>
          <p:nvPr/>
        </p:nvPicPr>
        <p:blipFill>
          <a:blip r:embed="rId11"/>
          <a:stretch/>
        </p:blipFill>
        <p:spPr>
          <a:xfrm>
            <a:off x="3371760" y="6391440"/>
            <a:ext cx="1992240" cy="1895400"/>
          </a:xfrm>
          <a:prstGeom prst="rect">
            <a:avLst/>
          </a:prstGeom>
          <a:ln w="0">
            <a:noFill/>
          </a:ln>
        </p:spPr>
      </p:pic>
      <p:sp>
        <p:nvSpPr>
          <p:cNvPr id="267" name="Rechteck 11"/>
          <p:cNvSpPr/>
          <p:nvPr/>
        </p:nvSpPr>
        <p:spPr>
          <a:xfrm>
            <a:off x="2513160" y="1144440"/>
            <a:ext cx="58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eine Mama ist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eine Mama ist kein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2027160" y="2820960"/>
            <a:ext cx="6680160" cy="621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: Shape 1"/>
          <p:cNvSpPr/>
          <p:nvPr/>
        </p:nvSpPr>
        <p:spPr>
          <a:xfrm>
            <a:off x="3521160" y="966780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: Shape 2"/>
          <p:cNvSpPr/>
          <p:nvPr/>
        </p:nvSpPr>
        <p:spPr>
          <a:xfrm>
            <a:off x="2133720" y="9731520"/>
            <a:ext cx="1089000" cy="946080"/>
          </a:xfrm>
          <a:prstGeom prst="pie">
            <a:avLst/>
          </a:pr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Verdana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6080" y="8829720"/>
            <a:ext cx="868320" cy="86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: Shape 4"/>
          <p:cNvSpPr/>
          <p:nvPr/>
        </p:nvSpPr>
        <p:spPr>
          <a:xfrm rot="20393400">
            <a:off x="8983800" y="3243240"/>
            <a:ext cx="974520" cy="974880"/>
          </a:xfrm>
          <a:custGeom>
            <a:avLst/>
            <a:gdLst>
              <a:gd name="textAreaLeft" fmla="*/ 0 w 974520"/>
              <a:gd name="textAreaRight" fmla="*/ 974880 w 9745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974345" h="974346">
                <a:moveTo>
                  <a:pt x="0" y="0"/>
                </a:moveTo>
                <a:lnTo>
                  <a:pt x="974344" y="0"/>
                </a:lnTo>
                <a:lnTo>
                  <a:pt x="974344" y="974345"/>
                </a:lnTo>
                <a:lnTo>
                  <a:pt x="0" y="9743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: Shape 5"/>
          <p:cNvSpPr/>
          <p:nvPr/>
        </p:nvSpPr>
        <p:spPr>
          <a:xfrm rot="1573200">
            <a:off x="263160" y="5105520"/>
            <a:ext cx="546120" cy="1019160"/>
          </a:xfrm>
          <a:custGeom>
            <a:avLst/>
            <a:gdLst>
              <a:gd name="textAreaLeft" fmla="*/ 0 w 546120"/>
              <a:gd name="textAreaRight" fmla="*/ 546480 w 5461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: Shape 6"/>
          <p:cNvSpPr/>
          <p:nvPr/>
        </p:nvSpPr>
        <p:spPr>
          <a:xfrm>
            <a:off x="114480" y="2655720"/>
            <a:ext cx="715680" cy="1293840"/>
          </a:xfrm>
          <a:custGeom>
            <a:avLst/>
            <a:gdLst>
              <a:gd name="textAreaLeft" fmla="*/ 0 w 715680"/>
              <a:gd name="textAreaRight" fmla="*/ 716040 w 71568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: Shape 7"/>
          <p:cNvSpPr/>
          <p:nvPr/>
        </p:nvSpPr>
        <p:spPr>
          <a:xfrm>
            <a:off x="8950320" y="4770360"/>
            <a:ext cx="1062000" cy="92088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061471" h="920971">
                <a:moveTo>
                  <a:pt x="530823" y="0"/>
                </a:moveTo>
                <a:lnTo>
                  <a:pt x="1061470" y="920970"/>
                </a:lnTo>
                <a:lnTo>
                  <a:pt x="0" y="920970"/>
                </a:lnTo>
                <a:lnTo>
                  <a:pt x="530823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: Shape 8"/>
          <p:cNvSpPr/>
          <p:nvPr/>
        </p:nvSpPr>
        <p:spPr>
          <a:xfrm rot="20179200">
            <a:off x="8961120" y="6316200"/>
            <a:ext cx="1022400" cy="10242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024200"/>
              <a:gd name="textAreaBottom" fmla="*/ 1024560 h 102420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9"/>
          <p:cNvSpPr/>
          <p:nvPr/>
        </p:nvSpPr>
        <p:spPr>
          <a:xfrm>
            <a:off x="8510760" y="9244080"/>
            <a:ext cx="1400040" cy="146844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4956120" y="9407520"/>
            <a:ext cx="133848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: Shape 11"/>
          <p:cNvSpPr/>
          <p:nvPr/>
        </p:nvSpPr>
        <p:spPr>
          <a:xfrm>
            <a:off x="46080" y="648180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: Shape 12"/>
          <p:cNvSpPr/>
          <p:nvPr/>
        </p:nvSpPr>
        <p:spPr>
          <a:xfrm rot="17995200">
            <a:off x="973080" y="9162720"/>
            <a:ext cx="1227240" cy="10681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: Shape 13"/>
          <p:cNvSpPr/>
          <p:nvPr/>
        </p:nvSpPr>
        <p:spPr>
          <a:xfrm rot="1774800">
            <a:off x="6822720" y="9229320"/>
            <a:ext cx="835200" cy="1486080"/>
          </a:xfrm>
          <a:custGeom>
            <a:avLst/>
            <a:gdLst>
              <a:gd name="textAreaLeft" fmla="*/ 0 w 835200"/>
              <a:gd name="textAreaRight" fmla="*/ 835560 w 83520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: Shape 14"/>
          <p:cNvSpPr/>
          <p:nvPr/>
        </p:nvSpPr>
        <p:spPr>
          <a:xfrm rot="4516800">
            <a:off x="82440" y="4198680"/>
            <a:ext cx="793800" cy="682560"/>
          </a:xfrm>
          <a:custGeom>
            <a:avLst/>
            <a:gdLst>
              <a:gd name="textAreaLeft" fmla="*/ 0 w 793800"/>
              <a:gd name="textAreaRight" fmla="*/ 794160 w 793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32"/>
          <p:cNvGrpSpPr/>
          <p:nvPr/>
        </p:nvGrpSpPr>
        <p:grpSpPr>
          <a:xfrm>
            <a:off x="-1903680" y="-442080"/>
            <a:ext cx="4061160" cy="4140720"/>
            <a:chOff x="-1903680" y="-442080"/>
            <a:chExt cx="4061160" cy="4140720"/>
          </a:xfrm>
        </p:grpSpPr>
        <p:pic>
          <p:nvPicPr>
            <p:cNvPr id="66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317800">
              <a:off x="-1171080" y="4680"/>
              <a:ext cx="2570040" cy="324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31"/>
            <p:cNvGrpSpPr/>
            <p:nvPr/>
          </p:nvGrpSpPr>
          <p:grpSpPr>
            <a:xfrm>
              <a:off x="869400" y="758160"/>
              <a:ext cx="1288080" cy="1187640"/>
              <a:chOff x="869400" y="758160"/>
              <a:chExt cx="1288080" cy="1187640"/>
            </a:xfrm>
          </p:grpSpPr>
          <p:sp>
            <p:nvSpPr>
              <p:cNvPr id="68" name="Freeform: Shape 17"/>
              <p:cNvSpPr/>
              <p:nvPr/>
            </p:nvSpPr>
            <p:spPr>
              <a:xfrm rot="10800000">
                <a:off x="1913040" y="1001160"/>
                <a:ext cx="207720" cy="2509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: Shape 18"/>
              <p:cNvSpPr/>
              <p:nvPr/>
            </p:nvSpPr>
            <p:spPr>
              <a:xfrm rot="10800000">
                <a:off x="1731240" y="1157400"/>
                <a:ext cx="235440" cy="2073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: Shape 19"/>
              <p:cNvSpPr/>
              <p:nvPr/>
            </p:nvSpPr>
            <p:spPr>
              <a:xfrm rot="10800000">
                <a:off x="901800" y="1266840"/>
                <a:ext cx="934200" cy="674280"/>
              </a:xfrm>
              <a:custGeom>
                <a:avLst/>
                <a:gdLst>
                  <a:gd name="textAreaLeft" fmla="*/ 0 w 934200"/>
                  <a:gd name="textAreaRight" fmla="*/ 934560 w 934200"/>
                  <a:gd name="textAreaTop" fmla="*/ 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: Shape 20"/>
              <p:cNvSpPr/>
              <p:nvPr/>
            </p:nvSpPr>
            <p:spPr>
              <a:xfrm rot="10800000">
                <a:off x="869400" y="952920"/>
                <a:ext cx="1239120" cy="992880"/>
              </a:xfrm>
              <a:custGeom>
                <a:avLst/>
                <a:gdLst>
                  <a:gd name="textAreaLeft" fmla="*/ 0 w 1239120"/>
                  <a:gd name="textAreaRight" fmla="*/ 1239480 w 123912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: Shape 21"/>
              <p:cNvSpPr/>
              <p:nvPr/>
            </p:nvSpPr>
            <p:spPr>
              <a:xfrm rot="10800000">
                <a:off x="1831320" y="1318320"/>
                <a:ext cx="56880" cy="48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: Shape 22"/>
              <p:cNvSpPr/>
              <p:nvPr/>
            </p:nvSpPr>
            <p:spPr>
              <a:xfrm rot="10800000">
                <a:off x="1817640" y="1278360"/>
                <a:ext cx="53640" cy="3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: Shape 23"/>
              <p:cNvSpPr/>
              <p:nvPr/>
            </p:nvSpPr>
            <p:spPr>
              <a:xfrm rot="10800000">
                <a:off x="1822320" y="1257120"/>
                <a:ext cx="58320" cy="39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: Shape 24"/>
              <p:cNvSpPr/>
              <p:nvPr/>
            </p:nvSpPr>
            <p:spPr>
              <a:xfrm rot="10800000">
                <a:off x="1783800" y="1239480"/>
                <a:ext cx="53640" cy="367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: Shape 25"/>
              <p:cNvSpPr/>
              <p:nvPr/>
            </p:nvSpPr>
            <p:spPr>
              <a:xfrm rot="10800000">
                <a:off x="1794600" y="1244160"/>
                <a:ext cx="48960" cy="320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Freeform: Shape 26"/>
              <p:cNvSpPr/>
              <p:nvPr/>
            </p:nvSpPr>
            <p:spPr>
              <a:xfrm rot="10800000">
                <a:off x="2020680" y="1104480"/>
                <a:ext cx="78480" cy="849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Freeform: Shape 27"/>
              <p:cNvSpPr/>
              <p:nvPr/>
            </p:nvSpPr>
            <p:spPr>
              <a:xfrm rot="10800000">
                <a:off x="1934640" y="1022040"/>
                <a:ext cx="164520" cy="18180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Freeform: Shape 28"/>
              <p:cNvSpPr/>
              <p:nvPr/>
            </p:nvSpPr>
            <p:spPr>
              <a:xfrm rot="10800000">
                <a:off x="2061000" y="767880"/>
                <a:ext cx="81360" cy="186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Freeform: Shape 29"/>
              <p:cNvSpPr/>
              <p:nvPr/>
            </p:nvSpPr>
            <p:spPr>
              <a:xfrm rot="10800000">
                <a:off x="2093040" y="758160"/>
                <a:ext cx="64440" cy="133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: Shape 30"/>
              <p:cNvSpPr/>
              <p:nvPr/>
            </p:nvSpPr>
            <p:spPr>
              <a:xfrm rot="10800000">
                <a:off x="2083680" y="777240"/>
                <a:ext cx="23040" cy="78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Oval 33"/>
          <p:cNvSpPr/>
          <p:nvPr/>
        </p:nvSpPr>
        <p:spPr>
          <a:xfrm rot="5400000">
            <a:off x="384120" y="7338960"/>
            <a:ext cx="990720" cy="16034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34"/>
          <p:cNvSpPr/>
          <p:nvPr/>
        </p:nvSpPr>
        <p:spPr>
          <a:xfrm rot="1563000">
            <a:off x="9107280" y="7641720"/>
            <a:ext cx="852480" cy="1470240"/>
          </a:xfrm>
          <a:prstGeom prst="ellipse">
            <a:avLst/>
          </a:prstGeom>
          <a:solidFill>
            <a:srgbClr val="e6e6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2152800" y="8064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Was ist d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as ist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ein Dreieck. Das Dreieck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st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 gel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Wo ist das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gelbe Dreieck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as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gelbe Dreieck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st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oben, unten, links, rechts, in der Mitt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1492200" y="95400"/>
            <a:ext cx="76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Name the shapes and say where they 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104 L -0.67532 0.30875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442 L -0.66906 -0.0243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884 L -0.12203 -0.59246 E">
                                      <p:cBhvr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7 4.11072E-006 L 0.69141 0.03563 E">
                                      <p:cBhvr>
                                        <p:cTn id="3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0.00221 L -0.01718 -0.40886 E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221 L 0.49281 -0.06272 E"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2.46172E-006 L 0.27172 -0.63546 E">
                                      <p:cBhvr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-3.4629E-006 L -0.68859 -0.24116 E">
                                      <p:cBhvr>
                                        <p:cTn id="8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2686E-007 L 0.7525 0.0215 E">
                                      <p:cBhvr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8809200" y="1866960"/>
            <a:ext cx="1230120" cy="1135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: Shape 1"/>
          <p:cNvSpPr/>
          <p:nvPr/>
        </p:nvSpPr>
        <p:spPr>
          <a:xfrm>
            <a:off x="4799160" y="962964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: Shape 2"/>
          <p:cNvSpPr/>
          <p:nvPr/>
        </p:nvSpPr>
        <p:spPr>
          <a:xfrm>
            <a:off x="66600" y="9379080"/>
            <a:ext cx="2729160" cy="134928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1349280"/>
              <a:gd name="textAreaBottom" fmla="*/ 1349280 h 1349280"/>
            </a:gdLst>
            <a:ahLst/>
            <a:rect l="textAreaLeft" t="textAreaTop" r="textAreaRight" b="textAreaBottom"/>
            <a:pathLst>
              <a:path w="1088314" h="944928">
                <a:moveTo>
                  <a:pt x="544247" y="0"/>
                </a:moveTo>
                <a:lnTo>
                  <a:pt x="1088313" y="944927"/>
                </a:lnTo>
                <a:lnTo>
                  <a:pt x="0" y="944927"/>
                </a:lnTo>
                <a:lnTo>
                  <a:pt x="544247" y="0"/>
                </a:lnTo>
                <a:close/>
              </a:path>
            </a:pathLst>
          </a:cu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87480" y="4675320"/>
            <a:ext cx="868320" cy="86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: Shape 5"/>
          <p:cNvSpPr/>
          <p:nvPr/>
        </p:nvSpPr>
        <p:spPr>
          <a:xfrm rot="5400000">
            <a:off x="2661120" y="8476200"/>
            <a:ext cx="481320" cy="1324080"/>
          </a:xfrm>
          <a:custGeom>
            <a:avLst/>
            <a:gdLst>
              <a:gd name="textAreaLeft" fmla="*/ 0 w 481320"/>
              <a:gd name="textAreaRight" fmla="*/ 481680 w 48132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: Shape 7"/>
          <p:cNvSpPr/>
          <p:nvPr/>
        </p:nvSpPr>
        <p:spPr>
          <a:xfrm rot="16200000">
            <a:off x="16560" y="7211160"/>
            <a:ext cx="1062000" cy="92052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Verdana"/>
              </a:rPr>
              <a:t>\\\\\\\\\\\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: Shape 8"/>
          <p:cNvSpPr/>
          <p:nvPr/>
        </p:nvSpPr>
        <p:spPr>
          <a:xfrm>
            <a:off x="6321600" y="9704520"/>
            <a:ext cx="1022040" cy="102384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237600" y="3735360"/>
            <a:ext cx="922320" cy="85248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: Shape 11"/>
          <p:cNvSpPr/>
          <p:nvPr/>
        </p:nvSpPr>
        <p:spPr>
          <a:xfrm>
            <a:off x="3005280" y="9655200"/>
            <a:ext cx="1125360" cy="107316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: Shape 12"/>
          <p:cNvSpPr/>
          <p:nvPr/>
        </p:nvSpPr>
        <p:spPr>
          <a:xfrm>
            <a:off x="9360" y="8312040"/>
            <a:ext cx="1268640" cy="95904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: Shape 13"/>
          <p:cNvSpPr/>
          <p:nvPr/>
        </p:nvSpPr>
        <p:spPr>
          <a:xfrm>
            <a:off x="7704000" y="9217080"/>
            <a:ext cx="2320920" cy="1485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: Shape 14"/>
          <p:cNvSpPr/>
          <p:nvPr/>
        </p:nvSpPr>
        <p:spPr>
          <a:xfrm>
            <a:off x="160200" y="3305160"/>
            <a:ext cx="698760" cy="870120"/>
          </a:xfrm>
          <a:custGeom>
            <a:avLst/>
            <a:gdLst>
              <a:gd name="textAreaLeft" fmla="*/ 0 w 698760"/>
              <a:gd name="textAreaRight" fmla="*/ 699120 w 6987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333f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32"/>
          <p:cNvGrpSpPr/>
          <p:nvPr/>
        </p:nvGrpSpPr>
        <p:grpSpPr>
          <a:xfrm>
            <a:off x="4320" y="92880"/>
            <a:ext cx="2413440" cy="2729520"/>
            <a:chOff x="4320" y="92880"/>
            <a:chExt cx="2413440" cy="2729520"/>
          </a:xfrm>
        </p:grpSpPr>
        <p:pic>
          <p:nvPicPr>
            <p:cNvPr id="99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1496200">
              <a:off x="39240" y="437760"/>
              <a:ext cx="2023560" cy="235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31"/>
            <p:cNvGrpSpPr/>
            <p:nvPr/>
          </p:nvGrpSpPr>
          <p:grpSpPr>
            <a:xfrm>
              <a:off x="1191960" y="92880"/>
              <a:ext cx="1225800" cy="1312920"/>
              <a:chOff x="1191960" y="92880"/>
              <a:chExt cx="1225800" cy="1312920"/>
            </a:xfrm>
          </p:grpSpPr>
          <p:sp>
            <p:nvSpPr>
              <p:cNvPr id="101" name="Freeform: Shape 17"/>
              <p:cNvSpPr/>
              <p:nvPr/>
            </p:nvSpPr>
            <p:spPr>
              <a:xfrm rot="8378400">
                <a:off x="1871640" y="266760"/>
                <a:ext cx="169200" cy="1814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: Shape 18"/>
              <p:cNvSpPr/>
              <p:nvPr/>
            </p:nvSpPr>
            <p:spPr>
              <a:xfrm rot="8378400">
                <a:off x="1839240" y="436680"/>
                <a:ext cx="189720" cy="1526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: Shape 19"/>
              <p:cNvSpPr/>
              <p:nvPr/>
            </p:nvSpPr>
            <p:spPr>
              <a:xfrm rot="8378400">
                <a:off x="1418040" y="716760"/>
                <a:ext cx="756000" cy="489960"/>
              </a:xfrm>
              <a:custGeom>
                <a:avLst/>
                <a:gdLst>
                  <a:gd name="textAreaLeft" fmla="*/ 0 w 756000"/>
                  <a:gd name="textAreaRight" fmla="*/ 756360 w 75600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: Shape 20"/>
              <p:cNvSpPr/>
              <p:nvPr/>
            </p:nvSpPr>
            <p:spPr>
              <a:xfrm rot="8378400">
                <a:off x="1303200" y="452880"/>
                <a:ext cx="1002960" cy="712800"/>
              </a:xfrm>
              <a:custGeom>
                <a:avLst/>
                <a:gdLst>
                  <a:gd name="textAreaLeft" fmla="*/ 0 w 1002960"/>
                  <a:gd name="textAreaRight" fmla="*/ 1003320 w 1002960"/>
                  <a:gd name="textAreaTop" fmla="*/ 0 h 712800"/>
                  <a:gd name="textAreaBottom" fmla="*/ 712800 h 71280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: Shape 21"/>
              <p:cNvSpPr/>
              <p:nvPr/>
            </p:nvSpPr>
            <p:spPr>
              <a:xfrm rot="8378400">
                <a:off x="1935720" y="54000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: Shape 22"/>
              <p:cNvSpPr/>
              <p:nvPr/>
            </p:nvSpPr>
            <p:spPr>
              <a:xfrm rot="8378400">
                <a:off x="1915200" y="538560"/>
                <a:ext cx="42480" cy="284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: Shape 23"/>
              <p:cNvSpPr/>
              <p:nvPr/>
            </p:nvSpPr>
            <p:spPr>
              <a:xfrm rot="8378400">
                <a:off x="1898280" y="533520"/>
                <a:ext cx="47160" cy="2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: Shape 24"/>
              <p:cNvSpPr/>
              <p:nvPr/>
            </p:nvSpPr>
            <p:spPr>
              <a:xfrm rot="8378400">
                <a:off x="1881720" y="511200"/>
                <a:ext cx="44280" cy="27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: Shape 25"/>
              <p:cNvSpPr/>
              <p:nvPr/>
            </p:nvSpPr>
            <p:spPr>
              <a:xfrm rot="8378400">
                <a:off x="1863000" y="533520"/>
                <a:ext cx="39240" cy="21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: Shape 26"/>
              <p:cNvSpPr/>
              <p:nvPr/>
            </p:nvSpPr>
            <p:spPr>
              <a:xfrm rot="8378400">
                <a:off x="1954080" y="304920"/>
                <a:ext cx="64800" cy="61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: Shape 27"/>
              <p:cNvSpPr/>
              <p:nvPr/>
            </p:nvSpPr>
            <p:spPr>
              <a:xfrm rot="8378400">
                <a:off x="1892520" y="295560"/>
                <a:ext cx="134280" cy="130320"/>
              </a:xfrm>
              <a:custGeom>
                <a:avLst/>
                <a:gdLst>
                  <a:gd name="textAreaLeft" fmla="*/ 0 w 134280"/>
                  <a:gd name="textAreaRight" fmla="*/ 134280 w 1342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: Shape 28"/>
              <p:cNvSpPr/>
              <p:nvPr/>
            </p:nvSpPr>
            <p:spPr>
              <a:xfrm rot="8378400">
                <a:off x="1853280" y="98280"/>
                <a:ext cx="66240" cy="133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: Shape 29"/>
              <p:cNvSpPr/>
              <p:nvPr/>
            </p:nvSpPr>
            <p:spPr>
              <a:xfrm rot="8378400">
                <a:off x="1853640" y="109440"/>
                <a:ext cx="52200" cy="954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: Shape 30"/>
              <p:cNvSpPr/>
              <p:nvPr/>
            </p:nvSpPr>
            <p:spPr>
              <a:xfrm rot="8378400">
                <a:off x="1864440" y="96840"/>
                <a:ext cx="18720" cy="55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5" name="Oval 33"/>
          <p:cNvSpPr/>
          <p:nvPr/>
        </p:nvSpPr>
        <p:spPr>
          <a:xfrm rot="5400000">
            <a:off x="9033480" y="5080680"/>
            <a:ext cx="663480" cy="15890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4"/>
          <p:cNvSpPr/>
          <p:nvPr/>
        </p:nvSpPr>
        <p:spPr>
          <a:xfrm rot="5400000">
            <a:off x="522720" y="5583960"/>
            <a:ext cx="644400" cy="1515960"/>
          </a:xfrm>
          <a:prstGeom prst="ellipse">
            <a:avLst/>
          </a:prstGeom>
          <a:solidFill>
            <a:srgbClr val="38572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2968560" y="95400"/>
            <a:ext cx="78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Your teacher is the painter! Describe the picture!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: Shape 6"/>
          <p:cNvSpPr/>
          <p:nvPr/>
        </p:nvSpPr>
        <p:spPr>
          <a:xfrm flipH="1">
            <a:off x="9096480" y="7454880"/>
            <a:ext cx="798480" cy="1260360"/>
          </a:xfrm>
          <a:custGeom>
            <a:avLst/>
            <a:gdLst>
              <a:gd name="textAreaLeft" fmla="*/ 360 w 798480"/>
              <a:gd name="textAreaRight" fmla="*/ 799200 w 7984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0.00221 L -0.62594 -0.36293 E">
                                      <p:cBhvr>
                                        <p:cTn id="10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04 -0.14973 L 0.37157 -0.40562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1.3192E-006 L 0.33062 -0.09776 E">
                                      <p:cBhvr>
                                        <p:cTn id="1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78 0.00221 L 0.09531 -0.52355 E">
                                      <p:cBhvr>
                                        <p:cTn id="1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0.08775 L -0.02812 -0.2818 E">
                                      <p:cBhvr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1 0.10542 L -0.09078 -0.27915 E">
                                      <p:cBhvr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396 L 0.16516 -0.04476 E">
                                      <p:cBhvr>
                                        <p:cTn id="12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-1.02473E-006 L 0.37516 -0.3376 E">
                                      <p:cBhvr>
                                        <p:cTn id="12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72 0.08996 L -0.23375 -0.38133 E">
                                      <p:cBhvr>
                                        <p:cTn id="12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0.08775 L -0.63375 0.36763 E">
                                      <p:cBhvr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1 0.10321 L 0.38 0.28313 E">
                                      <p:cBhvr>
                                        <p:cTn id="13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5 0.14929 L 0.71985 -0.65474 E">
                                      <p:cBhvr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72 0.04152 L -0.01312 -0.51251 E">
                                      <p:cBhvr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5 -0.01649 L -0.06265 -0.33171 E">
                                      <p:cBhvr>
                                        <p:cTn id="14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: Shape 1"/>
          <p:cNvSpPr/>
          <p:nvPr/>
        </p:nvSpPr>
        <p:spPr>
          <a:xfrm>
            <a:off x="9048600" y="786456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: Shape 2"/>
          <p:cNvSpPr/>
          <p:nvPr/>
        </p:nvSpPr>
        <p:spPr>
          <a:xfrm>
            <a:off x="2320920" y="9356760"/>
            <a:ext cx="1089000" cy="9460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088314" h="944928">
                <a:moveTo>
                  <a:pt x="544247" y="0"/>
                </a:moveTo>
                <a:lnTo>
                  <a:pt x="1088313" y="944927"/>
                </a:lnTo>
                <a:lnTo>
                  <a:pt x="0" y="944927"/>
                </a:lnTo>
                <a:lnTo>
                  <a:pt x="544247" y="0"/>
                </a:lnTo>
                <a:close/>
              </a:path>
            </a:pathLst>
          </a:cu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703440" y="9532800"/>
            <a:ext cx="868320" cy="868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: Shape 4"/>
          <p:cNvSpPr/>
          <p:nvPr/>
        </p:nvSpPr>
        <p:spPr>
          <a:xfrm rot="20393400">
            <a:off x="9100800" y="2585520"/>
            <a:ext cx="974880" cy="974880"/>
          </a:xfrm>
          <a:custGeom>
            <a:avLst/>
            <a:gdLst>
              <a:gd name="textAreaLeft" fmla="*/ 0 w 974880"/>
              <a:gd name="textAreaRight" fmla="*/ 975240 w 97488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974345" h="974346">
                <a:moveTo>
                  <a:pt x="0" y="0"/>
                </a:moveTo>
                <a:lnTo>
                  <a:pt x="974344" y="0"/>
                </a:lnTo>
                <a:lnTo>
                  <a:pt x="974344" y="974345"/>
                </a:lnTo>
                <a:lnTo>
                  <a:pt x="0" y="9743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: Shape 5"/>
          <p:cNvSpPr/>
          <p:nvPr/>
        </p:nvSpPr>
        <p:spPr>
          <a:xfrm rot="1573200">
            <a:off x="215640" y="8997840"/>
            <a:ext cx="546120" cy="1019160"/>
          </a:xfrm>
          <a:custGeom>
            <a:avLst/>
            <a:gdLst>
              <a:gd name="textAreaLeft" fmla="*/ 0 w 546120"/>
              <a:gd name="textAreaRight" fmla="*/ 546480 w 5461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: Shape 6"/>
          <p:cNvSpPr/>
          <p:nvPr/>
        </p:nvSpPr>
        <p:spPr>
          <a:xfrm>
            <a:off x="135000" y="6676920"/>
            <a:ext cx="716040" cy="1293840"/>
          </a:xfrm>
          <a:custGeom>
            <a:avLst/>
            <a:gdLst>
              <a:gd name="textAreaLeft" fmla="*/ 0 w 716040"/>
              <a:gd name="textAreaRight" fmla="*/ 716400 w 7160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: Shape 7"/>
          <p:cNvSpPr/>
          <p:nvPr/>
        </p:nvSpPr>
        <p:spPr>
          <a:xfrm>
            <a:off x="8950320" y="3832200"/>
            <a:ext cx="1062000" cy="92088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061471" h="920971">
                <a:moveTo>
                  <a:pt x="530823" y="0"/>
                </a:moveTo>
                <a:lnTo>
                  <a:pt x="1061470" y="920970"/>
                </a:lnTo>
                <a:lnTo>
                  <a:pt x="0" y="920970"/>
                </a:lnTo>
                <a:lnTo>
                  <a:pt x="530823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: Shape 8"/>
          <p:cNvSpPr/>
          <p:nvPr/>
        </p:nvSpPr>
        <p:spPr>
          <a:xfrm rot="20179200">
            <a:off x="8961120" y="5027400"/>
            <a:ext cx="1022400" cy="10238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8745480" y="9313920"/>
            <a:ext cx="1400400" cy="146844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6335640" y="9161640"/>
            <a:ext cx="1338480" cy="13363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: Shape 11"/>
          <p:cNvSpPr/>
          <p:nvPr/>
        </p:nvSpPr>
        <p:spPr>
          <a:xfrm>
            <a:off x="3486240" y="940104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: Shape 12"/>
          <p:cNvSpPr/>
          <p:nvPr/>
        </p:nvSpPr>
        <p:spPr>
          <a:xfrm rot="17995200">
            <a:off x="1371240" y="9162360"/>
            <a:ext cx="1227240" cy="106848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: Shape 13"/>
          <p:cNvSpPr/>
          <p:nvPr/>
        </p:nvSpPr>
        <p:spPr>
          <a:xfrm rot="1774800">
            <a:off x="7972560" y="8807400"/>
            <a:ext cx="834840" cy="1486080"/>
          </a:xfrm>
          <a:custGeom>
            <a:avLst/>
            <a:gdLst>
              <a:gd name="textAreaLeft" fmla="*/ 0 w 834840"/>
              <a:gd name="textAreaRight" fmla="*/ 835200 w 83484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: Shape 14"/>
          <p:cNvSpPr/>
          <p:nvPr/>
        </p:nvSpPr>
        <p:spPr>
          <a:xfrm rot="4516800">
            <a:off x="152280" y="8067600"/>
            <a:ext cx="793800" cy="682560"/>
          </a:xfrm>
          <a:custGeom>
            <a:avLst/>
            <a:gdLst>
              <a:gd name="textAreaLeft" fmla="*/ 0 w 793800"/>
              <a:gd name="textAreaRight" fmla="*/ 794160 w 793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33"/>
          <p:cNvSpPr/>
          <p:nvPr/>
        </p:nvSpPr>
        <p:spPr>
          <a:xfrm rot="5400000">
            <a:off x="4970520" y="9155160"/>
            <a:ext cx="990720" cy="16034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4"/>
          <p:cNvSpPr/>
          <p:nvPr/>
        </p:nvSpPr>
        <p:spPr>
          <a:xfrm rot="1563000">
            <a:off x="9107280" y="6235200"/>
            <a:ext cx="852480" cy="1470240"/>
          </a:xfrm>
          <a:prstGeom prst="ellipse">
            <a:avLst/>
          </a:prstGeom>
          <a:solidFill>
            <a:srgbClr val="e6e6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0" y="77760"/>
            <a:ext cx="102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You are the painter! Du bist der Maler! Create your own picture by dragging the shapes into the space! Describe your pictu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4320" y="1296000"/>
            <a:ext cx="2413440" cy="2729520"/>
            <a:chOff x="4320" y="1296000"/>
            <a:chExt cx="2413440" cy="2729520"/>
          </a:xfrm>
        </p:grpSpPr>
        <p:pic>
          <p:nvPicPr>
            <p:cNvPr id="137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1496200">
              <a:off x="39240" y="1641240"/>
              <a:ext cx="2023560" cy="235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31"/>
            <p:cNvGrpSpPr/>
            <p:nvPr/>
          </p:nvGrpSpPr>
          <p:grpSpPr>
            <a:xfrm>
              <a:off x="1191960" y="1296000"/>
              <a:ext cx="1225800" cy="1312920"/>
              <a:chOff x="1191960" y="1296000"/>
              <a:chExt cx="1225800" cy="1312920"/>
            </a:xfrm>
          </p:grpSpPr>
          <p:sp>
            <p:nvSpPr>
              <p:cNvPr id="139" name="Freeform: Shape 17"/>
              <p:cNvSpPr/>
              <p:nvPr/>
            </p:nvSpPr>
            <p:spPr>
              <a:xfrm rot="8378400">
                <a:off x="1871640" y="1469880"/>
                <a:ext cx="169200" cy="1814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: Shape 18"/>
              <p:cNvSpPr/>
              <p:nvPr/>
            </p:nvSpPr>
            <p:spPr>
              <a:xfrm rot="8378400">
                <a:off x="1839240" y="1639800"/>
                <a:ext cx="189720" cy="1526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: Shape 19"/>
              <p:cNvSpPr/>
              <p:nvPr/>
            </p:nvSpPr>
            <p:spPr>
              <a:xfrm rot="8378400">
                <a:off x="1418040" y="1919880"/>
                <a:ext cx="756000" cy="489960"/>
              </a:xfrm>
              <a:custGeom>
                <a:avLst/>
                <a:gdLst>
                  <a:gd name="textAreaLeft" fmla="*/ 0 w 756000"/>
                  <a:gd name="textAreaRight" fmla="*/ 756360 w 75600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: Shape 20"/>
              <p:cNvSpPr/>
              <p:nvPr/>
            </p:nvSpPr>
            <p:spPr>
              <a:xfrm rot="8378400">
                <a:off x="1303200" y="1656000"/>
                <a:ext cx="1002960" cy="712800"/>
              </a:xfrm>
              <a:custGeom>
                <a:avLst/>
                <a:gdLst>
                  <a:gd name="textAreaLeft" fmla="*/ 0 w 1002960"/>
                  <a:gd name="textAreaRight" fmla="*/ 1003320 w 1002960"/>
                  <a:gd name="textAreaTop" fmla="*/ 0 h 712800"/>
                  <a:gd name="textAreaBottom" fmla="*/ 712800 h 71280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: Shape 21"/>
              <p:cNvSpPr/>
              <p:nvPr/>
            </p:nvSpPr>
            <p:spPr>
              <a:xfrm rot="8378400">
                <a:off x="1935720" y="17431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: Shape 22"/>
              <p:cNvSpPr/>
              <p:nvPr/>
            </p:nvSpPr>
            <p:spPr>
              <a:xfrm rot="8378400">
                <a:off x="1915200" y="1741680"/>
                <a:ext cx="42480" cy="284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: Shape 23"/>
              <p:cNvSpPr/>
              <p:nvPr/>
            </p:nvSpPr>
            <p:spPr>
              <a:xfrm rot="8378400">
                <a:off x="1898280" y="1736640"/>
                <a:ext cx="47160" cy="2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: Shape 24"/>
              <p:cNvSpPr/>
              <p:nvPr/>
            </p:nvSpPr>
            <p:spPr>
              <a:xfrm rot="8378400">
                <a:off x="1881720" y="1714320"/>
                <a:ext cx="44280" cy="27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: Shape 25"/>
              <p:cNvSpPr/>
              <p:nvPr/>
            </p:nvSpPr>
            <p:spPr>
              <a:xfrm rot="8378400">
                <a:off x="1863000" y="1736640"/>
                <a:ext cx="39240" cy="21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: Shape 26"/>
              <p:cNvSpPr/>
              <p:nvPr/>
            </p:nvSpPr>
            <p:spPr>
              <a:xfrm rot="8378400">
                <a:off x="1954080" y="1508040"/>
                <a:ext cx="64800" cy="61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: Shape 27"/>
              <p:cNvSpPr/>
              <p:nvPr/>
            </p:nvSpPr>
            <p:spPr>
              <a:xfrm rot="8378400">
                <a:off x="1892520" y="1498680"/>
                <a:ext cx="134280" cy="130320"/>
              </a:xfrm>
              <a:custGeom>
                <a:avLst/>
                <a:gdLst>
                  <a:gd name="textAreaLeft" fmla="*/ 0 w 134280"/>
                  <a:gd name="textAreaRight" fmla="*/ 134280 w 1342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: Shape 28"/>
              <p:cNvSpPr/>
              <p:nvPr/>
            </p:nvSpPr>
            <p:spPr>
              <a:xfrm rot="8378400">
                <a:off x="1853280" y="1301400"/>
                <a:ext cx="66240" cy="133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: Shape 29"/>
              <p:cNvSpPr/>
              <p:nvPr/>
            </p:nvSpPr>
            <p:spPr>
              <a:xfrm rot="8378400">
                <a:off x="1853640" y="1312560"/>
                <a:ext cx="52200" cy="954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: Shape 30"/>
              <p:cNvSpPr/>
              <p:nvPr/>
            </p:nvSpPr>
            <p:spPr>
              <a:xfrm rot="8378400">
                <a:off x="1864440" y="1299960"/>
                <a:ext cx="18720" cy="55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: Shape 1"/>
          <p:cNvSpPr/>
          <p:nvPr/>
        </p:nvSpPr>
        <p:spPr>
          <a:xfrm>
            <a:off x="1028880" y="8597880"/>
            <a:ext cx="2012760" cy="201312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013752" h="2013752">
                <a:moveTo>
                  <a:pt x="0" y="0"/>
                </a:moveTo>
                <a:lnTo>
                  <a:pt x="2013751" y="0"/>
                </a:lnTo>
                <a:lnTo>
                  <a:pt x="2013751" y="2013751"/>
                </a:lnTo>
                <a:lnTo>
                  <a:pt x="0" y="2013751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: Shape 2"/>
          <p:cNvSpPr/>
          <p:nvPr/>
        </p:nvSpPr>
        <p:spPr>
          <a:xfrm>
            <a:off x="511200" y="8731080"/>
            <a:ext cx="2016000" cy="17719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2016050" h="1771923">
                <a:moveTo>
                  <a:pt x="1008193" y="0"/>
                </a:moveTo>
                <a:lnTo>
                  <a:pt x="2016049" y="1771922"/>
                </a:lnTo>
                <a:lnTo>
                  <a:pt x="0" y="1771922"/>
                </a:lnTo>
                <a:lnTo>
                  <a:pt x="1008193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: Shape 3"/>
          <p:cNvSpPr/>
          <p:nvPr/>
        </p:nvSpPr>
        <p:spPr>
          <a:xfrm rot="5400000">
            <a:off x="5780520" y="7860240"/>
            <a:ext cx="2117880" cy="354816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3548160"/>
              <a:gd name="textAreaBottom" fmla="*/ 3548520 h 3548160"/>
            </a:gdLst>
            <a:ahLst/>
            <a:rect l="textAreaLeft" t="textAreaTop" r="textAreaRight" b="textAreaBottom"/>
            <a:pathLst>
              <a:path w="2117227" h="3547762">
                <a:moveTo>
                  <a:pt x="0" y="0"/>
                </a:moveTo>
                <a:lnTo>
                  <a:pt x="2117226" y="0"/>
                </a:lnTo>
                <a:lnTo>
                  <a:pt x="2117226" y="3547761"/>
                </a:lnTo>
                <a:lnTo>
                  <a:pt x="0" y="3547761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8577360" y="9315360"/>
            <a:ext cx="1382760" cy="138456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757680" y="9174240"/>
            <a:ext cx="133812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: Shape 6"/>
          <p:cNvSpPr/>
          <p:nvPr/>
        </p:nvSpPr>
        <p:spPr>
          <a:xfrm>
            <a:off x="3276720" y="9550440"/>
            <a:ext cx="1041120" cy="1041480"/>
          </a:xfrm>
          <a:custGeom>
            <a:avLst/>
            <a:gdLst>
              <a:gd name="textAreaLeft" fmla="*/ 0 w 1041120"/>
              <a:gd name="textAreaRight" fmla="*/ 1041480 w 10411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0240" y="139680"/>
            <a:ext cx="1812960" cy="2041560"/>
            <a:chOff x="30240" y="139680"/>
            <a:chExt cx="1812960" cy="2041560"/>
          </a:xfrm>
        </p:grpSpPr>
        <p:pic>
          <p:nvPicPr>
            <p:cNvPr id="160" name="Picture 8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146160" y="139680"/>
              <a:ext cx="169704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9"/>
            <p:cNvSpPr/>
            <p:nvPr/>
          </p:nvSpPr>
          <p:spPr>
            <a:xfrm>
              <a:off x="153720" y="704880"/>
              <a:ext cx="309600" cy="299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: Shape 10"/>
            <p:cNvSpPr/>
            <p:nvPr/>
          </p:nvSpPr>
          <p:spPr>
            <a:xfrm>
              <a:off x="66600" y="141120"/>
              <a:ext cx="361800" cy="276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43408" h="191765">
                  <a:moveTo>
                    <a:pt x="121723" y="0"/>
                  </a:moveTo>
                  <a:lnTo>
                    <a:pt x="243407" y="191764"/>
                  </a:lnTo>
                  <a:lnTo>
                    <a:pt x="0" y="191764"/>
                  </a:lnTo>
                  <a:lnTo>
                    <a:pt x="121723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: Shape 11"/>
            <p:cNvSpPr/>
            <p:nvPr/>
          </p:nvSpPr>
          <p:spPr>
            <a:xfrm rot="20179200">
              <a:off x="72720" y="470880"/>
              <a:ext cx="284040" cy="2714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89482" h="189480">
                  <a:moveTo>
                    <a:pt x="0" y="0"/>
                  </a:moveTo>
                  <a:lnTo>
                    <a:pt x="189481" y="0"/>
                  </a:lnTo>
                  <a:lnTo>
                    <a:pt x="189481" y="189479"/>
                  </a:lnTo>
                  <a:lnTo>
                    <a:pt x="0" y="1894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: Shape 12"/>
            <p:cNvSpPr/>
            <p:nvPr/>
          </p:nvSpPr>
          <p:spPr>
            <a:xfrm rot="1774800">
              <a:off x="451800" y="287280"/>
              <a:ext cx="266760" cy="6174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179843" h="430977">
                  <a:moveTo>
                    <a:pt x="0" y="0"/>
                  </a:moveTo>
                  <a:lnTo>
                    <a:pt x="179842" y="0"/>
                  </a:lnTo>
                  <a:lnTo>
                    <a:pt x="179842" y="430976"/>
                  </a:lnTo>
                  <a:lnTo>
                    <a:pt x="0" y="430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Oval 15"/>
          <p:cNvSpPr/>
          <p:nvPr/>
        </p:nvSpPr>
        <p:spPr>
          <a:xfrm rot="5400000">
            <a:off x="2208240" y="8153280"/>
            <a:ext cx="1223640" cy="195408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: Shape 16"/>
          <p:cNvSpPr/>
          <p:nvPr/>
        </p:nvSpPr>
        <p:spPr>
          <a:xfrm>
            <a:off x="4381560" y="852156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2162160" y="210960"/>
            <a:ext cx="808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ollow the instructions which your teacher will tell you in German! The teacher will find the instructions below (when not in presentation mode).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escribe the picture. What can you see?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heck on the next sl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22320" y="7732800"/>
            <a:ext cx="1147680" cy="11491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9"/>
          <p:cNvSpPr/>
          <p:nvPr/>
        </p:nvSpPr>
        <p:spPr>
          <a:xfrm rot="5400000">
            <a:off x="8988480" y="8146800"/>
            <a:ext cx="860400" cy="147024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7"/>
          <p:cNvGrpSpPr/>
          <p:nvPr/>
        </p:nvGrpSpPr>
        <p:grpSpPr>
          <a:xfrm>
            <a:off x="94320" y="203040"/>
            <a:ext cx="1312200" cy="1536840"/>
            <a:chOff x="94320" y="203040"/>
            <a:chExt cx="1312200" cy="1536840"/>
          </a:xfrm>
        </p:grpSpPr>
        <p:pic>
          <p:nvPicPr>
            <p:cNvPr id="171" name="Picture 2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178200" y="203040"/>
              <a:ext cx="122832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Oval 3"/>
            <p:cNvSpPr/>
            <p:nvPr/>
          </p:nvSpPr>
          <p:spPr>
            <a:xfrm>
              <a:off x="182520" y="628560"/>
              <a:ext cx="225360" cy="2253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: Shape 4"/>
            <p:cNvSpPr/>
            <p:nvPr/>
          </p:nvSpPr>
          <p:spPr>
            <a:xfrm>
              <a:off x="120600" y="204480"/>
              <a:ext cx="261720" cy="2077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262710" h="206973">
                  <a:moveTo>
                    <a:pt x="131375" y="0"/>
                  </a:moveTo>
                  <a:lnTo>
                    <a:pt x="262709" y="206972"/>
                  </a:lnTo>
                  <a:lnTo>
                    <a:pt x="0" y="206972"/>
                  </a:lnTo>
                  <a:lnTo>
                    <a:pt x="131375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: Shape 5"/>
            <p:cNvSpPr/>
            <p:nvPr/>
          </p:nvSpPr>
          <p:spPr>
            <a:xfrm rot="20179200">
              <a:off x="126720" y="451800"/>
              <a:ext cx="203040" cy="2048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4510" h="204507">
                  <a:moveTo>
                    <a:pt x="0" y="0"/>
                  </a:moveTo>
                  <a:lnTo>
                    <a:pt x="204509" y="0"/>
                  </a:lnTo>
                  <a:lnTo>
                    <a:pt x="204509" y="204506"/>
                  </a:lnTo>
                  <a:lnTo>
                    <a:pt x="0" y="2045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: Shape 6"/>
            <p:cNvSpPr/>
            <p:nvPr/>
          </p:nvSpPr>
          <p:spPr>
            <a:xfrm rot="1774800">
              <a:off x="397800" y="313560"/>
              <a:ext cx="195120" cy="465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94107" h="465155">
                  <a:moveTo>
                    <a:pt x="0" y="0"/>
                  </a:moveTo>
                  <a:lnTo>
                    <a:pt x="194106" y="0"/>
                  </a:lnTo>
                  <a:lnTo>
                    <a:pt x="194106" y="465154"/>
                  </a:lnTo>
                  <a:lnTo>
                    <a:pt x="0" y="465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Freeform: Shape 8"/>
          <p:cNvSpPr/>
          <p:nvPr/>
        </p:nvSpPr>
        <p:spPr>
          <a:xfrm>
            <a:off x="6603840" y="4287960"/>
            <a:ext cx="2013120" cy="201276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2013753" h="2013752">
                <a:moveTo>
                  <a:pt x="0" y="0"/>
                </a:moveTo>
                <a:lnTo>
                  <a:pt x="2013752" y="0"/>
                </a:lnTo>
                <a:lnTo>
                  <a:pt x="2013752" y="2013751"/>
                </a:lnTo>
                <a:lnTo>
                  <a:pt x="0" y="2013751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: Shape 9"/>
          <p:cNvSpPr/>
          <p:nvPr/>
        </p:nvSpPr>
        <p:spPr>
          <a:xfrm>
            <a:off x="6607080" y="2516040"/>
            <a:ext cx="2016360" cy="177192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2016050" h="1771923">
                <a:moveTo>
                  <a:pt x="1008193" y="0"/>
                </a:moveTo>
                <a:lnTo>
                  <a:pt x="2016049" y="1771922"/>
                </a:lnTo>
                <a:lnTo>
                  <a:pt x="0" y="1771922"/>
                </a:lnTo>
                <a:lnTo>
                  <a:pt x="1008193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7427880" y="1181160"/>
            <a:ext cx="1147680" cy="11491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: Shape 11"/>
          <p:cNvSpPr/>
          <p:nvPr/>
        </p:nvSpPr>
        <p:spPr>
          <a:xfrm rot="5400000">
            <a:off x="2567520" y="2153160"/>
            <a:ext cx="2117880" cy="354816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3548160"/>
              <a:gd name="textAreaBottom" fmla="*/ 3548520 h 3548160"/>
            </a:gdLst>
            <a:ahLst/>
            <a:rect l="textAreaLeft" t="textAreaTop" r="textAreaRight" b="textAreaBottom"/>
            <a:pathLst>
              <a:path w="2117229" h="3547761">
                <a:moveTo>
                  <a:pt x="0" y="0"/>
                </a:moveTo>
                <a:lnTo>
                  <a:pt x="2117228" y="0"/>
                </a:lnTo>
                <a:lnTo>
                  <a:pt x="2117228" y="3547760"/>
                </a:lnTo>
                <a:lnTo>
                  <a:pt x="0" y="3547760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4430880" y="4952880"/>
            <a:ext cx="1382400" cy="138456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1496880" y="4965840"/>
            <a:ext cx="133848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: Shape 14"/>
          <p:cNvSpPr/>
          <p:nvPr/>
        </p:nvSpPr>
        <p:spPr>
          <a:xfrm>
            <a:off x="2273400" y="3284640"/>
            <a:ext cx="1041480" cy="104112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5"/>
          <p:cNvSpPr/>
          <p:nvPr/>
        </p:nvSpPr>
        <p:spPr>
          <a:xfrm rot="5400000">
            <a:off x="4545000" y="972720"/>
            <a:ext cx="1224000" cy="195408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: Shape 16"/>
          <p:cNvSpPr/>
          <p:nvPr/>
        </p:nvSpPr>
        <p:spPr>
          <a:xfrm>
            <a:off x="1463760" y="1109520"/>
            <a:ext cx="7184880" cy="5222880"/>
          </a:xfrm>
          <a:custGeom>
            <a:avLst/>
            <a:gdLst>
              <a:gd name="textAreaLeft" fmla="*/ 0 w 7184880"/>
              <a:gd name="textAreaRight" fmla="*/ 7185240 w 7184880"/>
              <a:gd name="textAreaTop" fmla="*/ 0 h 5222880"/>
              <a:gd name="textAreaBottom" fmla="*/ 5223240 h 5222880"/>
            </a:gdLst>
            <a:ahLst/>
            <a:rect l="textAreaLeft" t="textAreaTop" r="textAreaRight" b="textAreaBottom"/>
            <a:pathLst>
              <a:path w="7184711" h="5223504">
                <a:moveTo>
                  <a:pt x="0" y="0"/>
                </a:moveTo>
                <a:lnTo>
                  <a:pt x="7184710" y="0"/>
                </a:lnTo>
                <a:lnTo>
                  <a:pt x="7184710" y="5223503"/>
                </a:lnTo>
                <a:lnTo>
                  <a:pt x="0" y="5223503"/>
                </a:lnTo>
                <a:lnTo>
                  <a:pt x="0" y="0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17"/>
          <p:cNvSpPr/>
          <p:nvPr/>
        </p:nvSpPr>
        <p:spPr>
          <a:xfrm>
            <a:off x="8648640" y="1195560"/>
            <a:ext cx="360" cy="4752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18"/>
          <p:cNvSpPr/>
          <p:nvPr/>
        </p:nvSpPr>
        <p:spPr>
          <a:xfrm rot="5400000">
            <a:off x="2004840" y="934560"/>
            <a:ext cx="1223640" cy="195444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: Shape 19"/>
          <p:cNvSpPr/>
          <p:nvPr/>
        </p:nvSpPr>
        <p:spPr>
          <a:xfrm>
            <a:off x="3860640" y="3284640"/>
            <a:ext cx="1041480" cy="104112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09760" y="120600"/>
            <a:ext cx="8623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Did you get it right? Use the shapes and create another picture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Use the pens and draw what you need! Speak while you create your picture! </a:t>
            </a:r>
            <a:r>
              <a:rPr b="1" i="1" lang="de-DE" sz="1300" spc="-1" strike="noStrike">
                <a:solidFill>
                  <a:srgbClr val="000000"/>
                </a:solidFill>
                <a:latin typeface="Verdana"/>
                <a:ea typeface="Verdana"/>
              </a:rPr>
              <a:t>Ich schiebe das braune Oval in die Mitte. Ich male zwei rote Rechtecke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: Shape 21"/>
          <p:cNvSpPr/>
          <p:nvPr/>
        </p:nvSpPr>
        <p:spPr>
          <a:xfrm>
            <a:off x="141120" y="6059520"/>
            <a:ext cx="1044720" cy="9064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44605" h="906222">
                <a:moveTo>
                  <a:pt x="522388" y="0"/>
                </a:moveTo>
                <a:lnTo>
                  <a:pt x="1044604" y="906221"/>
                </a:lnTo>
                <a:lnTo>
                  <a:pt x="0" y="906221"/>
                </a:lnTo>
                <a:lnTo>
                  <a:pt x="52238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: Shape 22"/>
          <p:cNvSpPr/>
          <p:nvPr/>
        </p:nvSpPr>
        <p:spPr>
          <a:xfrm rot="1573200">
            <a:off x="2830680" y="6540480"/>
            <a:ext cx="738000" cy="1327320"/>
          </a:xfrm>
          <a:custGeom>
            <a:avLst/>
            <a:gdLst>
              <a:gd name="textAreaLeft" fmla="*/ 0 w 738000"/>
              <a:gd name="textAreaRight" fmla="*/ 738360 w 7380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738127" h="1327441">
                <a:moveTo>
                  <a:pt x="0" y="0"/>
                </a:moveTo>
                <a:lnTo>
                  <a:pt x="738126" y="0"/>
                </a:lnTo>
                <a:lnTo>
                  <a:pt x="738126" y="1327440"/>
                </a:lnTo>
                <a:lnTo>
                  <a:pt x="0" y="1327440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: Shape 23"/>
          <p:cNvSpPr/>
          <p:nvPr/>
        </p:nvSpPr>
        <p:spPr>
          <a:xfrm rot="5400000">
            <a:off x="4973760" y="6401520"/>
            <a:ext cx="1054080" cy="18399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1054225" h="1838452">
                <a:moveTo>
                  <a:pt x="0" y="0"/>
                </a:moveTo>
                <a:lnTo>
                  <a:pt x="1054224" y="0"/>
                </a:lnTo>
                <a:lnTo>
                  <a:pt x="1054224" y="1838451"/>
                </a:lnTo>
                <a:lnTo>
                  <a:pt x="0" y="1838451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24"/>
          <p:cNvSpPr/>
          <p:nvPr/>
        </p:nvSpPr>
        <p:spPr>
          <a:xfrm>
            <a:off x="8693280" y="5940360"/>
            <a:ext cx="1295280" cy="206388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: Shape 25"/>
          <p:cNvSpPr/>
          <p:nvPr/>
        </p:nvSpPr>
        <p:spPr>
          <a:xfrm rot="17995200">
            <a:off x="6889680" y="6697440"/>
            <a:ext cx="1227240" cy="10681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: Shape 26"/>
          <p:cNvSpPr/>
          <p:nvPr/>
        </p:nvSpPr>
        <p:spPr>
          <a:xfrm rot="2674800">
            <a:off x="1011240" y="6632640"/>
            <a:ext cx="1523880" cy="1333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523959" h="1333223">
                <a:moveTo>
                  <a:pt x="762105" y="0"/>
                </a:moveTo>
                <a:lnTo>
                  <a:pt x="1523958" y="1333222"/>
                </a:lnTo>
                <a:lnTo>
                  <a:pt x="0" y="1333222"/>
                </a:lnTo>
                <a:lnTo>
                  <a:pt x="762105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: Shape 27"/>
          <p:cNvSpPr/>
          <p:nvPr/>
        </p:nvSpPr>
        <p:spPr>
          <a:xfrm>
            <a:off x="8929800" y="4470480"/>
            <a:ext cx="1000080" cy="10000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000052" h="1000053">
                <a:moveTo>
                  <a:pt x="0" y="0"/>
                </a:moveTo>
                <a:lnTo>
                  <a:pt x="1000051" y="0"/>
                </a:lnTo>
                <a:lnTo>
                  <a:pt x="1000051" y="1000052"/>
                </a:lnTo>
                <a:lnTo>
                  <a:pt x="0" y="100005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196920" y="4657680"/>
            <a:ext cx="1020600" cy="1020960"/>
          </a:xfrm>
          <a:prstGeom prst="ellipse">
            <a:avLst/>
          </a:pr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: Shape 29"/>
          <p:cNvSpPr/>
          <p:nvPr/>
        </p:nvSpPr>
        <p:spPr>
          <a:xfrm>
            <a:off x="166680" y="3376440"/>
            <a:ext cx="1023840" cy="102420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24200"/>
              <a:gd name="textAreaBottom" fmla="*/ 1024560 h 1024200"/>
            </a:gdLst>
            <a:ahLst/>
            <a:rect l="textAreaLeft" t="textAreaTop" r="textAreaRight" b="textAreaBottom"/>
            <a:pathLst>
              <a:path w="1023655" h="1023655">
                <a:moveTo>
                  <a:pt x="0" y="0"/>
                </a:moveTo>
                <a:lnTo>
                  <a:pt x="1023654" y="0"/>
                </a:lnTo>
                <a:lnTo>
                  <a:pt x="1023654" y="1023654"/>
                </a:lnTo>
                <a:lnTo>
                  <a:pt x="0" y="1023654"/>
                </a:lnTo>
                <a:lnTo>
                  <a:pt x="0" y="0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c0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0" y="0"/>
            <a:ext cx="7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5960" y="9158400"/>
            <a:ext cx="5237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iografie von Franz Marc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813800" y="851544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Name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5095800" y="779940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ranz Ma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585200" y="777384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Geboren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3152880" y="10339560"/>
            <a:ext cx="64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8. Februar 1880 in München, Deutsch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301840" y="76723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Ausbildung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45960" y="8294760"/>
            <a:ext cx="98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r studierte an der Akademie der Bildenenden Künste in Münc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187720" y="8713800"/>
            <a:ext cx="16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Beruf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165800" y="9577440"/>
            <a:ext cx="267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Künstler, Ma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45960" y="76849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Verdienst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345960" y="9844200"/>
            <a:ext cx="699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r war Mitglied der Gruppe ‘Der Blaue Reiter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172120" y="9145440"/>
            <a:ext cx="23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Gestor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45960" y="7151760"/>
            <a:ext cx="99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4. März 1916 in Verdun, Frankreich während des Ersten Weltkrie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5727600" y="222120"/>
            <a:ext cx="4333320" cy="3495600"/>
            <a:chOff x="5727600" y="222120"/>
            <a:chExt cx="4333320" cy="3495600"/>
          </a:xfrm>
        </p:grpSpPr>
        <p:grpSp>
          <p:nvGrpSpPr>
            <p:cNvPr id="213" name="Group 32"/>
            <p:cNvGrpSpPr/>
            <p:nvPr/>
          </p:nvGrpSpPr>
          <p:grpSpPr>
            <a:xfrm>
              <a:off x="7890120" y="1215360"/>
              <a:ext cx="2170800" cy="2502360"/>
              <a:chOff x="7890120" y="1215360"/>
              <a:chExt cx="2170800" cy="2502360"/>
            </a:xfrm>
          </p:grpSpPr>
          <p:pic>
            <p:nvPicPr>
              <p:cNvPr id="214" name="Picture 16" descr=""/>
              <p:cNvPicPr/>
              <p:nvPr/>
            </p:nvPicPr>
            <p:blipFill>
              <a:blip r:embed="rId1">
                <a:alphaModFix amt="0"/>
              </a:blip>
              <a:stretch/>
            </p:blipFill>
            <p:spPr>
              <a:xfrm rot="274200">
                <a:off x="7972920" y="1479600"/>
                <a:ext cx="1906200" cy="2165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5" name="Group 31"/>
              <p:cNvGrpSpPr/>
              <p:nvPr/>
            </p:nvGrpSpPr>
            <p:grpSpPr>
              <a:xfrm>
                <a:off x="9271800" y="1215360"/>
                <a:ext cx="789120" cy="762480"/>
                <a:chOff x="9271800" y="1215360"/>
                <a:chExt cx="789120" cy="762480"/>
              </a:xfrm>
            </p:grpSpPr>
            <p:sp>
              <p:nvSpPr>
                <p:cNvPr id="216" name="Freeform: Shape 17"/>
                <p:cNvSpPr/>
                <p:nvPr/>
              </p:nvSpPr>
              <p:spPr>
                <a:xfrm rot="10201200">
                  <a:off x="9856440" y="1372320"/>
                  <a:ext cx="119160" cy="1317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39882" h="162043">
                      <a:moveTo>
                        <a:pt x="11375" y="156898"/>
                      </a:moveTo>
                      <a:lnTo>
                        <a:pt x="8563" y="151561"/>
                      </a:lnTo>
                      <a:lnTo>
                        <a:pt x="6145" y="146092"/>
                      </a:lnTo>
                      <a:lnTo>
                        <a:pt x="4119" y="140493"/>
                      </a:lnTo>
                      <a:lnTo>
                        <a:pt x="2549" y="134699"/>
                      </a:lnTo>
                      <a:lnTo>
                        <a:pt x="1309" y="128839"/>
                      </a:lnTo>
                      <a:lnTo>
                        <a:pt x="0" y="116860"/>
                      </a:lnTo>
                      <a:lnTo>
                        <a:pt x="196" y="104686"/>
                      </a:lnTo>
                      <a:lnTo>
                        <a:pt x="1830" y="92447"/>
                      </a:lnTo>
                      <a:lnTo>
                        <a:pt x="4902" y="80273"/>
                      </a:lnTo>
                      <a:lnTo>
                        <a:pt x="9348" y="68424"/>
                      </a:lnTo>
                      <a:lnTo>
                        <a:pt x="15035" y="56966"/>
                      </a:lnTo>
                      <a:lnTo>
                        <a:pt x="21963" y="46029"/>
                      </a:lnTo>
                      <a:lnTo>
                        <a:pt x="30199" y="35873"/>
                      </a:lnTo>
                      <a:lnTo>
                        <a:pt x="34710" y="31055"/>
                      </a:lnTo>
                      <a:lnTo>
                        <a:pt x="39546" y="26497"/>
                      </a:lnTo>
                      <a:lnTo>
                        <a:pt x="44645" y="22201"/>
                      </a:lnTo>
                      <a:lnTo>
                        <a:pt x="50004" y="18165"/>
                      </a:lnTo>
                      <a:lnTo>
                        <a:pt x="55692" y="14454"/>
                      </a:lnTo>
                      <a:lnTo>
                        <a:pt x="61638" y="11003"/>
                      </a:lnTo>
                      <a:lnTo>
                        <a:pt x="67784" y="7878"/>
                      </a:lnTo>
                      <a:lnTo>
                        <a:pt x="74255" y="5144"/>
                      </a:lnTo>
                      <a:lnTo>
                        <a:pt x="80923" y="2734"/>
                      </a:lnTo>
                      <a:lnTo>
                        <a:pt x="87852" y="716"/>
                      </a:lnTo>
                      <a:lnTo>
                        <a:pt x="92164" y="66"/>
                      </a:lnTo>
                      <a:lnTo>
                        <a:pt x="96348" y="0"/>
                      </a:lnTo>
                      <a:lnTo>
                        <a:pt x="100400" y="587"/>
                      </a:lnTo>
                      <a:lnTo>
                        <a:pt x="104388" y="1693"/>
                      </a:lnTo>
                      <a:lnTo>
                        <a:pt x="108244" y="3321"/>
                      </a:lnTo>
                      <a:lnTo>
                        <a:pt x="111970" y="5469"/>
                      </a:lnTo>
                      <a:lnTo>
                        <a:pt x="115565" y="8009"/>
                      </a:lnTo>
                      <a:lnTo>
                        <a:pt x="119030" y="10939"/>
                      </a:lnTo>
                      <a:lnTo>
                        <a:pt x="125500" y="17839"/>
                      </a:lnTo>
                      <a:lnTo>
                        <a:pt x="131122" y="25652"/>
                      </a:lnTo>
                      <a:lnTo>
                        <a:pt x="136025" y="34244"/>
                      </a:lnTo>
                      <a:lnTo>
                        <a:pt x="139881" y="43034"/>
                      </a:lnTo>
                      <a:lnTo>
                        <a:pt x="139881" y="48242"/>
                      </a:lnTo>
                      <a:lnTo>
                        <a:pt x="139293" y="52930"/>
                      </a:lnTo>
                      <a:lnTo>
                        <a:pt x="138248" y="57226"/>
                      </a:lnTo>
                      <a:lnTo>
                        <a:pt x="136808" y="61133"/>
                      </a:lnTo>
                      <a:lnTo>
                        <a:pt x="134848" y="64713"/>
                      </a:lnTo>
                      <a:lnTo>
                        <a:pt x="132560" y="67903"/>
                      </a:lnTo>
                      <a:lnTo>
                        <a:pt x="129879" y="70833"/>
                      </a:lnTo>
                      <a:lnTo>
                        <a:pt x="126809" y="73501"/>
                      </a:lnTo>
                      <a:lnTo>
                        <a:pt x="119683" y="78320"/>
                      </a:lnTo>
                      <a:lnTo>
                        <a:pt x="111513" y="82487"/>
                      </a:lnTo>
                      <a:lnTo>
                        <a:pt x="102362" y="86523"/>
                      </a:lnTo>
                      <a:lnTo>
                        <a:pt x="92623" y="90559"/>
                      </a:lnTo>
                      <a:lnTo>
                        <a:pt x="82360" y="94986"/>
                      </a:lnTo>
                      <a:lnTo>
                        <a:pt x="71837" y="100129"/>
                      </a:lnTo>
                      <a:lnTo>
                        <a:pt x="61248" y="106184"/>
                      </a:lnTo>
                      <a:lnTo>
                        <a:pt x="50789" y="113605"/>
                      </a:lnTo>
                      <a:lnTo>
                        <a:pt x="45690" y="117837"/>
                      </a:lnTo>
                      <a:lnTo>
                        <a:pt x="40723" y="122525"/>
                      </a:lnTo>
                      <a:lnTo>
                        <a:pt x="35820" y="127733"/>
                      </a:lnTo>
                      <a:lnTo>
                        <a:pt x="31114" y="133397"/>
                      </a:lnTo>
                      <a:lnTo>
                        <a:pt x="26669" y="139647"/>
                      </a:lnTo>
                      <a:lnTo>
                        <a:pt x="22355" y="146482"/>
                      </a:lnTo>
                      <a:lnTo>
                        <a:pt x="18302" y="153904"/>
                      </a:lnTo>
                      <a:lnTo>
                        <a:pt x="14578" y="162042"/>
                      </a:lnTo>
                      <a:lnTo>
                        <a:pt x="11375" y="15689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: Shape 18"/>
                <p:cNvSpPr/>
                <p:nvPr/>
              </p:nvSpPr>
              <p:spPr>
                <a:xfrm rot="10201200">
                  <a:off x="9768600" y="1460160"/>
                  <a:ext cx="135000" cy="11196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58593" h="134374">
                      <a:moveTo>
                        <a:pt x="1242" y="71027"/>
                      </a:moveTo>
                      <a:lnTo>
                        <a:pt x="2418" y="68945"/>
                      </a:lnTo>
                      <a:lnTo>
                        <a:pt x="3922" y="66731"/>
                      </a:lnTo>
                      <a:lnTo>
                        <a:pt x="5818" y="64322"/>
                      </a:lnTo>
                      <a:lnTo>
                        <a:pt x="10525" y="59114"/>
                      </a:lnTo>
                      <a:lnTo>
                        <a:pt x="16344" y="53385"/>
                      </a:lnTo>
                      <a:lnTo>
                        <a:pt x="23011" y="47525"/>
                      </a:lnTo>
                      <a:lnTo>
                        <a:pt x="30398" y="41406"/>
                      </a:lnTo>
                      <a:lnTo>
                        <a:pt x="46284" y="29232"/>
                      </a:lnTo>
                      <a:lnTo>
                        <a:pt x="54389" y="23437"/>
                      </a:lnTo>
                      <a:lnTo>
                        <a:pt x="62365" y="17969"/>
                      </a:lnTo>
                      <a:lnTo>
                        <a:pt x="69948" y="13020"/>
                      </a:lnTo>
                      <a:lnTo>
                        <a:pt x="76942" y="8659"/>
                      </a:lnTo>
                      <a:lnTo>
                        <a:pt x="83153" y="5079"/>
                      </a:lnTo>
                      <a:lnTo>
                        <a:pt x="85898" y="3580"/>
                      </a:lnTo>
                      <a:lnTo>
                        <a:pt x="88318" y="2279"/>
                      </a:lnTo>
                      <a:lnTo>
                        <a:pt x="90540" y="1302"/>
                      </a:lnTo>
                      <a:lnTo>
                        <a:pt x="92370" y="587"/>
                      </a:lnTo>
                      <a:lnTo>
                        <a:pt x="93874" y="131"/>
                      </a:lnTo>
                      <a:lnTo>
                        <a:pt x="94919" y="0"/>
                      </a:lnTo>
                      <a:lnTo>
                        <a:pt x="97338" y="1562"/>
                      </a:lnTo>
                      <a:lnTo>
                        <a:pt x="100149" y="3580"/>
                      </a:lnTo>
                      <a:lnTo>
                        <a:pt x="103287" y="5990"/>
                      </a:lnTo>
                      <a:lnTo>
                        <a:pt x="106817" y="8724"/>
                      </a:lnTo>
                      <a:lnTo>
                        <a:pt x="110544" y="11914"/>
                      </a:lnTo>
                      <a:lnTo>
                        <a:pt x="114597" y="15494"/>
                      </a:lnTo>
                      <a:lnTo>
                        <a:pt x="118780" y="19532"/>
                      </a:lnTo>
                      <a:lnTo>
                        <a:pt x="123160" y="23959"/>
                      </a:lnTo>
                      <a:lnTo>
                        <a:pt x="127606" y="28905"/>
                      </a:lnTo>
                      <a:lnTo>
                        <a:pt x="132182" y="34245"/>
                      </a:lnTo>
                      <a:lnTo>
                        <a:pt x="136758" y="40104"/>
                      </a:lnTo>
                      <a:lnTo>
                        <a:pt x="141334" y="46419"/>
                      </a:lnTo>
                      <a:lnTo>
                        <a:pt x="145845" y="53254"/>
                      </a:lnTo>
                      <a:lnTo>
                        <a:pt x="150224" y="60546"/>
                      </a:lnTo>
                      <a:lnTo>
                        <a:pt x="154473" y="68358"/>
                      </a:lnTo>
                      <a:lnTo>
                        <a:pt x="158592" y="76757"/>
                      </a:lnTo>
                      <a:lnTo>
                        <a:pt x="150682" y="81965"/>
                      </a:lnTo>
                      <a:lnTo>
                        <a:pt x="142968" y="86717"/>
                      </a:lnTo>
                      <a:lnTo>
                        <a:pt x="127999" y="95245"/>
                      </a:lnTo>
                      <a:lnTo>
                        <a:pt x="113421" y="102538"/>
                      </a:lnTo>
                      <a:lnTo>
                        <a:pt x="99038" y="109112"/>
                      </a:lnTo>
                      <a:lnTo>
                        <a:pt x="70470" y="121287"/>
                      </a:lnTo>
                      <a:lnTo>
                        <a:pt x="55893" y="127536"/>
                      </a:lnTo>
                      <a:lnTo>
                        <a:pt x="40989" y="134373"/>
                      </a:lnTo>
                      <a:lnTo>
                        <a:pt x="38569" y="129360"/>
                      </a:lnTo>
                      <a:lnTo>
                        <a:pt x="35889" y="124997"/>
                      </a:lnTo>
                      <a:lnTo>
                        <a:pt x="32947" y="121092"/>
                      </a:lnTo>
                      <a:lnTo>
                        <a:pt x="29940" y="117706"/>
                      </a:lnTo>
                      <a:lnTo>
                        <a:pt x="23600" y="111977"/>
                      </a:lnTo>
                      <a:lnTo>
                        <a:pt x="17194" y="107094"/>
                      </a:lnTo>
                      <a:lnTo>
                        <a:pt x="11310" y="102538"/>
                      </a:lnTo>
                      <a:lnTo>
                        <a:pt x="6211" y="97785"/>
                      </a:lnTo>
                      <a:lnTo>
                        <a:pt x="4119" y="95116"/>
                      </a:lnTo>
                      <a:lnTo>
                        <a:pt x="2418" y="92121"/>
                      </a:lnTo>
                      <a:lnTo>
                        <a:pt x="1112" y="88801"/>
                      </a:lnTo>
                      <a:lnTo>
                        <a:pt x="393" y="85024"/>
                      </a:lnTo>
                      <a:lnTo>
                        <a:pt x="0" y="78905"/>
                      </a:lnTo>
                      <a:lnTo>
                        <a:pt x="524" y="72916"/>
                      </a:lnTo>
                      <a:lnTo>
                        <a:pt x="1242" y="710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: Shape 19"/>
                <p:cNvSpPr/>
                <p:nvPr/>
              </p:nvSpPr>
              <p:spPr>
                <a:xfrm rot="10201200">
                  <a:off x="9333720" y="1559880"/>
                  <a:ext cx="529200" cy="35316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629884" h="434365">
                      <a:moveTo>
                        <a:pt x="5426" y="356696"/>
                      </a:moveTo>
                      <a:lnTo>
                        <a:pt x="11308" y="351879"/>
                      </a:lnTo>
                      <a:lnTo>
                        <a:pt x="17519" y="346996"/>
                      </a:lnTo>
                      <a:lnTo>
                        <a:pt x="24186" y="341919"/>
                      </a:lnTo>
                      <a:lnTo>
                        <a:pt x="38501" y="331437"/>
                      </a:lnTo>
                      <a:lnTo>
                        <a:pt x="54190" y="320500"/>
                      </a:lnTo>
                      <a:lnTo>
                        <a:pt x="71185" y="309237"/>
                      </a:lnTo>
                      <a:lnTo>
                        <a:pt x="89162" y="297583"/>
                      </a:lnTo>
                      <a:lnTo>
                        <a:pt x="108249" y="285604"/>
                      </a:lnTo>
                      <a:lnTo>
                        <a:pt x="128187" y="273365"/>
                      </a:lnTo>
                      <a:lnTo>
                        <a:pt x="148908" y="260866"/>
                      </a:lnTo>
                      <a:lnTo>
                        <a:pt x="170217" y="248301"/>
                      </a:lnTo>
                      <a:lnTo>
                        <a:pt x="192116" y="235541"/>
                      </a:lnTo>
                      <a:lnTo>
                        <a:pt x="214407" y="222715"/>
                      </a:lnTo>
                      <a:lnTo>
                        <a:pt x="259838" y="197000"/>
                      </a:lnTo>
                      <a:lnTo>
                        <a:pt x="305463" y="171546"/>
                      </a:lnTo>
                      <a:lnTo>
                        <a:pt x="328147" y="159045"/>
                      </a:lnTo>
                      <a:lnTo>
                        <a:pt x="350501" y="146677"/>
                      </a:lnTo>
                      <a:lnTo>
                        <a:pt x="372531" y="134567"/>
                      </a:lnTo>
                      <a:lnTo>
                        <a:pt x="394037" y="122718"/>
                      </a:lnTo>
                      <a:lnTo>
                        <a:pt x="414889" y="111195"/>
                      </a:lnTo>
                      <a:lnTo>
                        <a:pt x="435022" y="100127"/>
                      </a:lnTo>
                      <a:lnTo>
                        <a:pt x="454240" y="89386"/>
                      </a:lnTo>
                      <a:lnTo>
                        <a:pt x="472545" y="79165"/>
                      </a:lnTo>
                      <a:lnTo>
                        <a:pt x="489735" y="69400"/>
                      </a:lnTo>
                      <a:lnTo>
                        <a:pt x="505750" y="60220"/>
                      </a:lnTo>
                      <a:lnTo>
                        <a:pt x="513202" y="55922"/>
                      </a:lnTo>
                      <a:lnTo>
                        <a:pt x="520393" y="51692"/>
                      </a:lnTo>
                      <a:lnTo>
                        <a:pt x="527191" y="47590"/>
                      </a:lnTo>
                      <a:lnTo>
                        <a:pt x="533663" y="43749"/>
                      </a:lnTo>
                      <a:lnTo>
                        <a:pt x="539676" y="40038"/>
                      </a:lnTo>
                      <a:lnTo>
                        <a:pt x="545363" y="36457"/>
                      </a:lnTo>
                      <a:lnTo>
                        <a:pt x="550593" y="33137"/>
                      </a:lnTo>
                      <a:lnTo>
                        <a:pt x="555365" y="29947"/>
                      </a:lnTo>
                      <a:lnTo>
                        <a:pt x="559744" y="27017"/>
                      </a:lnTo>
                      <a:lnTo>
                        <a:pt x="563601" y="24218"/>
                      </a:lnTo>
                      <a:lnTo>
                        <a:pt x="567001" y="21613"/>
                      </a:lnTo>
                      <a:lnTo>
                        <a:pt x="569942" y="19270"/>
                      </a:lnTo>
                      <a:lnTo>
                        <a:pt x="576086" y="16275"/>
                      </a:lnTo>
                      <a:lnTo>
                        <a:pt x="581707" y="13412"/>
                      </a:lnTo>
                      <a:lnTo>
                        <a:pt x="586937" y="10742"/>
                      </a:lnTo>
                      <a:lnTo>
                        <a:pt x="591839" y="8268"/>
                      </a:lnTo>
                      <a:lnTo>
                        <a:pt x="596350" y="6119"/>
                      </a:lnTo>
                      <a:lnTo>
                        <a:pt x="600469" y="4166"/>
                      </a:lnTo>
                      <a:lnTo>
                        <a:pt x="604325" y="2539"/>
                      </a:lnTo>
                      <a:lnTo>
                        <a:pt x="607855" y="1302"/>
                      </a:lnTo>
                      <a:lnTo>
                        <a:pt x="611123" y="455"/>
                      </a:lnTo>
                      <a:lnTo>
                        <a:pt x="614131" y="0"/>
                      </a:lnTo>
                      <a:lnTo>
                        <a:pt x="616941" y="0"/>
                      </a:lnTo>
                      <a:lnTo>
                        <a:pt x="619556" y="521"/>
                      </a:lnTo>
                      <a:lnTo>
                        <a:pt x="621909" y="1563"/>
                      </a:lnTo>
                      <a:lnTo>
                        <a:pt x="624197" y="3125"/>
                      </a:lnTo>
                      <a:lnTo>
                        <a:pt x="626354" y="5338"/>
                      </a:lnTo>
                      <a:lnTo>
                        <a:pt x="628380" y="8137"/>
                      </a:lnTo>
                      <a:lnTo>
                        <a:pt x="629753" y="11198"/>
                      </a:lnTo>
                      <a:lnTo>
                        <a:pt x="629883" y="14062"/>
                      </a:lnTo>
                      <a:lnTo>
                        <a:pt x="628969" y="16927"/>
                      </a:lnTo>
                      <a:lnTo>
                        <a:pt x="627203" y="19661"/>
                      </a:lnTo>
                      <a:lnTo>
                        <a:pt x="624655" y="22396"/>
                      </a:lnTo>
                      <a:lnTo>
                        <a:pt x="621583" y="25064"/>
                      </a:lnTo>
                      <a:lnTo>
                        <a:pt x="614261" y="30468"/>
                      </a:lnTo>
                      <a:lnTo>
                        <a:pt x="606613" y="36067"/>
                      </a:lnTo>
                      <a:lnTo>
                        <a:pt x="603018" y="38996"/>
                      </a:lnTo>
                      <a:lnTo>
                        <a:pt x="599815" y="42056"/>
                      </a:lnTo>
                      <a:lnTo>
                        <a:pt x="597069" y="45311"/>
                      </a:lnTo>
                      <a:lnTo>
                        <a:pt x="595043" y="48696"/>
                      </a:lnTo>
                      <a:lnTo>
                        <a:pt x="593866" y="52277"/>
                      </a:lnTo>
                      <a:lnTo>
                        <a:pt x="593736" y="56118"/>
                      </a:lnTo>
                      <a:lnTo>
                        <a:pt x="565038" y="79360"/>
                      </a:lnTo>
                      <a:lnTo>
                        <a:pt x="535361" y="102992"/>
                      </a:lnTo>
                      <a:lnTo>
                        <a:pt x="504966" y="126950"/>
                      </a:lnTo>
                      <a:lnTo>
                        <a:pt x="473721" y="151103"/>
                      </a:lnTo>
                      <a:lnTo>
                        <a:pt x="441951" y="175517"/>
                      </a:lnTo>
                      <a:lnTo>
                        <a:pt x="409594" y="199930"/>
                      </a:lnTo>
                      <a:lnTo>
                        <a:pt x="343835" y="248821"/>
                      </a:lnTo>
                      <a:lnTo>
                        <a:pt x="277225" y="297323"/>
                      </a:lnTo>
                      <a:lnTo>
                        <a:pt x="210681" y="344718"/>
                      </a:lnTo>
                      <a:lnTo>
                        <a:pt x="177670" y="367894"/>
                      </a:lnTo>
                      <a:lnTo>
                        <a:pt x="144920" y="390616"/>
                      </a:lnTo>
                      <a:lnTo>
                        <a:pt x="112694" y="412751"/>
                      </a:lnTo>
                      <a:lnTo>
                        <a:pt x="80924" y="434364"/>
                      </a:lnTo>
                      <a:lnTo>
                        <a:pt x="74519" y="433322"/>
                      </a:lnTo>
                      <a:lnTo>
                        <a:pt x="68962" y="431630"/>
                      </a:lnTo>
                      <a:lnTo>
                        <a:pt x="64125" y="429156"/>
                      </a:lnTo>
                      <a:lnTo>
                        <a:pt x="59877" y="426096"/>
                      </a:lnTo>
                      <a:lnTo>
                        <a:pt x="56020" y="422515"/>
                      </a:lnTo>
                      <a:lnTo>
                        <a:pt x="52359" y="418413"/>
                      </a:lnTo>
                      <a:lnTo>
                        <a:pt x="45496" y="408844"/>
                      </a:lnTo>
                      <a:lnTo>
                        <a:pt x="41900" y="403505"/>
                      </a:lnTo>
                      <a:lnTo>
                        <a:pt x="37914" y="397971"/>
                      </a:lnTo>
                      <a:lnTo>
                        <a:pt x="33533" y="392113"/>
                      </a:lnTo>
                      <a:lnTo>
                        <a:pt x="28565" y="386124"/>
                      </a:lnTo>
                      <a:lnTo>
                        <a:pt x="22878" y="379939"/>
                      </a:lnTo>
                      <a:lnTo>
                        <a:pt x="16342" y="373754"/>
                      </a:lnTo>
                      <a:lnTo>
                        <a:pt x="8693" y="367569"/>
                      </a:lnTo>
                      <a:lnTo>
                        <a:pt x="0" y="361384"/>
                      </a:lnTo>
                      <a:lnTo>
                        <a:pt x="5426" y="356696"/>
                      </a:lnTo>
                      <a:close/>
                    </a:path>
                  </a:pathLst>
                </a:custGeom>
                <a:solidFill>
                  <a:srgbClr val="aa7700"/>
                </a:solidFill>
                <a:ln w="0">
                  <a:solidFill>
                    <a:srgbClr val="aa77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Freeform: Shape 20"/>
                <p:cNvSpPr/>
                <p:nvPr/>
              </p:nvSpPr>
              <p:spPr>
                <a:xfrm rot="10201200">
                  <a:off x="9311760" y="1395360"/>
                  <a:ext cx="708840" cy="524880"/>
                </a:xfrm>
                <a:custGeom>
                  <a:avLst/>
                  <a:gdLst>
                    <a:gd name="textAreaLeft" fmla="*/ 0 w 708840"/>
                    <a:gd name="textAreaRight" fmla="*/ 709200 w 708840"/>
                    <a:gd name="textAreaTop" fmla="*/ 0 h 524880"/>
                    <a:gd name="textAreaBottom" fmla="*/ 525240 h 524880"/>
                  </a:gdLst>
                  <a:ahLst/>
                  <a:rect l="textAreaLeft" t="textAreaTop" r="textAreaRight" b="textAreaBottom"/>
                  <a:pathLst>
                    <a:path w="834618" h="639958">
                      <a:moveTo>
                        <a:pt x="195776" y="371148"/>
                      </a:moveTo>
                      <a:lnTo>
                        <a:pt x="196169" y="370432"/>
                      </a:lnTo>
                      <a:lnTo>
                        <a:pt x="196562" y="369065"/>
                      </a:lnTo>
                      <a:lnTo>
                        <a:pt x="197085" y="365289"/>
                      </a:lnTo>
                      <a:lnTo>
                        <a:pt x="197542" y="361513"/>
                      </a:lnTo>
                      <a:lnTo>
                        <a:pt x="197608" y="360211"/>
                      </a:lnTo>
                      <a:lnTo>
                        <a:pt x="197737" y="359626"/>
                      </a:lnTo>
                      <a:lnTo>
                        <a:pt x="198653" y="358193"/>
                      </a:lnTo>
                      <a:lnTo>
                        <a:pt x="199960" y="356631"/>
                      </a:lnTo>
                      <a:lnTo>
                        <a:pt x="203686" y="352854"/>
                      </a:lnTo>
                      <a:lnTo>
                        <a:pt x="208588" y="348688"/>
                      </a:lnTo>
                      <a:lnTo>
                        <a:pt x="214602" y="344001"/>
                      </a:lnTo>
                      <a:lnTo>
                        <a:pt x="221466" y="338988"/>
                      </a:lnTo>
                      <a:lnTo>
                        <a:pt x="229049" y="333649"/>
                      </a:lnTo>
                      <a:lnTo>
                        <a:pt x="245521" y="322647"/>
                      </a:lnTo>
                      <a:lnTo>
                        <a:pt x="262517" y="311775"/>
                      </a:lnTo>
                      <a:lnTo>
                        <a:pt x="270753" y="306501"/>
                      </a:lnTo>
                      <a:lnTo>
                        <a:pt x="278597" y="301618"/>
                      </a:lnTo>
                      <a:lnTo>
                        <a:pt x="285788" y="297126"/>
                      </a:lnTo>
                      <a:lnTo>
                        <a:pt x="292195" y="293026"/>
                      </a:lnTo>
                      <a:lnTo>
                        <a:pt x="297555" y="289510"/>
                      </a:lnTo>
                      <a:lnTo>
                        <a:pt x="299841" y="288013"/>
                      </a:lnTo>
                      <a:lnTo>
                        <a:pt x="301868" y="286645"/>
                      </a:lnTo>
                      <a:lnTo>
                        <a:pt x="311020" y="280720"/>
                      </a:lnTo>
                      <a:lnTo>
                        <a:pt x="320498" y="275058"/>
                      </a:lnTo>
                      <a:lnTo>
                        <a:pt x="340174" y="264381"/>
                      </a:lnTo>
                      <a:lnTo>
                        <a:pt x="359915" y="253833"/>
                      </a:lnTo>
                      <a:lnTo>
                        <a:pt x="369524" y="248365"/>
                      </a:lnTo>
                      <a:lnTo>
                        <a:pt x="378937" y="242506"/>
                      </a:lnTo>
                      <a:lnTo>
                        <a:pt x="395737" y="232025"/>
                      </a:lnTo>
                      <a:lnTo>
                        <a:pt x="412798" y="222064"/>
                      </a:lnTo>
                      <a:lnTo>
                        <a:pt x="421819" y="217050"/>
                      </a:lnTo>
                      <a:lnTo>
                        <a:pt x="431232" y="211843"/>
                      </a:lnTo>
                      <a:lnTo>
                        <a:pt x="441364" y="206244"/>
                      </a:lnTo>
                      <a:lnTo>
                        <a:pt x="452213" y="200255"/>
                      </a:lnTo>
                      <a:lnTo>
                        <a:pt x="538238" y="152144"/>
                      </a:lnTo>
                      <a:lnTo>
                        <a:pt x="623740" y="104293"/>
                      </a:lnTo>
                      <a:lnTo>
                        <a:pt x="640473" y="95570"/>
                      </a:lnTo>
                      <a:lnTo>
                        <a:pt x="657601" y="87237"/>
                      </a:lnTo>
                      <a:lnTo>
                        <a:pt x="674596" y="78839"/>
                      </a:lnTo>
                      <a:lnTo>
                        <a:pt x="691265" y="69724"/>
                      </a:lnTo>
                      <a:lnTo>
                        <a:pt x="693292" y="68487"/>
                      </a:lnTo>
                      <a:lnTo>
                        <a:pt x="695775" y="66990"/>
                      </a:lnTo>
                      <a:lnTo>
                        <a:pt x="701397" y="63410"/>
                      </a:lnTo>
                      <a:lnTo>
                        <a:pt x="708064" y="59112"/>
                      </a:lnTo>
                      <a:lnTo>
                        <a:pt x="715517" y="54295"/>
                      </a:lnTo>
                      <a:lnTo>
                        <a:pt x="723622" y="49022"/>
                      </a:lnTo>
                      <a:lnTo>
                        <a:pt x="732185" y="43422"/>
                      </a:lnTo>
                      <a:lnTo>
                        <a:pt x="750161" y="31900"/>
                      </a:lnTo>
                      <a:lnTo>
                        <a:pt x="759181" y="26235"/>
                      </a:lnTo>
                      <a:lnTo>
                        <a:pt x="767942" y="20767"/>
                      </a:lnTo>
                      <a:lnTo>
                        <a:pt x="776373" y="15754"/>
                      </a:lnTo>
                      <a:lnTo>
                        <a:pt x="784283" y="11133"/>
                      </a:lnTo>
                      <a:lnTo>
                        <a:pt x="791407" y="7226"/>
                      </a:lnTo>
                      <a:lnTo>
                        <a:pt x="797684" y="4101"/>
                      </a:lnTo>
                      <a:lnTo>
                        <a:pt x="800429" y="2864"/>
                      </a:lnTo>
                      <a:lnTo>
                        <a:pt x="802913" y="1822"/>
                      </a:lnTo>
                      <a:lnTo>
                        <a:pt x="805070" y="1106"/>
                      </a:lnTo>
                      <a:lnTo>
                        <a:pt x="806900" y="650"/>
                      </a:lnTo>
                      <a:lnTo>
                        <a:pt x="811803" y="0"/>
                      </a:lnTo>
                      <a:lnTo>
                        <a:pt x="816576" y="0"/>
                      </a:lnTo>
                      <a:lnTo>
                        <a:pt x="821019" y="650"/>
                      </a:lnTo>
                      <a:lnTo>
                        <a:pt x="825007" y="2018"/>
                      </a:lnTo>
                      <a:lnTo>
                        <a:pt x="828472" y="3971"/>
                      </a:lnTo>
                      <a:lnTo>
                        <a:pt x="831217" y="6641"/>
                      </a:lnTo>
                      <a:lnTo>
                        <a:pt x="833047" y="10025"/>
                      </a:lnTo>
                      <a:lnTo>
                        <a:pt x="833897" y="14061"/>
                      </a:lnTo>
                      <a:lnTo>
                        <a:pt x="834617" y="17056"/>
                      </a:lnTo>
                      <a:lnTo>
                        <a:pt x="834224" y="20506"/>
                      </a:lnTo>
                      <a:lnTo>
                        <a:pt x="832721" y="24282"/>
                      </a:lnTo>
                      <a:lnTo>
                        <a:pt x="830237" y="28449"/>
                      </a:lnTo>
                      <a:lnTo>
                        <a:pt x="826968" y="32811"/>
                      </a:lnTo>
                      <a:lnTo>
                        <a:pt x="823046" y="37368"/>
                      </a:lnTo>
                      <a:lnTo>
                        <a:pt x="818472" y="42056"/>
                      </a:lnTo>
                      <a:lnTo>
                        <a:pt x="813502" y="46808"/>
                      </a:lnTo>
                      <a:lnTo>
                        <a:pt x="802782" y="56313"/>
                      </a:lnTo>
                      <a:lnTo>
                        <a:pt x="791735" y="65428"/>
                      </a:lnTo>
                      <a:lnTo>
                        <a:pt x="786441" y="69724"/>
                      </a:lnTo>
                      <a:lnTo>
                        <a:pt x="781472" y="73631"/>
                      </a:lnTo>
                      <a:lnTo>
                        <a:pt x="776962" y="77275"/>
                      </a:lnTo>
                      <a:lnTo>
                        <a:pt x="773040" y="80466"/>
                      </a:lnTo>
                      <a:lnTo>
                        <a:pt x="761274" y="90753"/>
                      </a:lnTo>
                      <a:lnTo>
                        <a:pt x="749637" y="101299"/>
                      </a:lnTo>
                      <a:lnTo>
                        <a:pt x="737937" y="111780"/>
                      </a:lnTo>
                      <a:lnTo>
                        <a:pt x="725910" y="121611"/>
                      </a:lnTo>
                      <a:lnTo>
                        <a:pt x="681199" y="155660"/>
                      </a:lnTo>
                      <a:lnTo>
                        <a:pt x="658974" y="173042"/>
                      </a:lnTo>
                      <a:lnTo>
                        <a:pt x="637272" y="190684"/>
                      </a:lnTo>
                      <a:lnTo>
                        <a:pt x="606155" y="216790"/>
                      </a:lnTo>
                      <a:lnTo>
                        <a:pt x="574845" y="242896"/>
                      </a:lnTo>
                      <a:lnTo>
                        <a:pt x="559025" y="255787"/>
                      </a:lnTo>
                      <a:lnTo>
                        <a:pt x="542945" y="268417"/>
                      </a:lnTo>
                      <a:lnTo>
                        <a:pt x="526604" y="280656"/>
                      </a:lnTo>
                      <a:lnTo>
                        <a:pt x="510065" y="292440"/>
                      </a:lnTo>
                      <a:lnTo>
                        <a:pt x="464308" y="323688"/>
                      </a:lnTo>
                      <a:lnTo>
                        <a:pt x="441624" y="339574"/>
                      </a:lnTo>
                      <a:lnTo>
                        <a:pt x="419399" y="355784"/>
                      </a:lnTo>
                      <a:lnTo>
                        <a:pt x="389526" y="379026"/>
                      </a:lnTo>
                      <a:lnTo>
                        <a:pt x="359261" y="402527"/>
                      </a:lnTo>
                      <a:lnTo>
                        <a:pt x="343901" y="414050"/>
                      </a:lnTo>
                      <a:lnTo>
                        <a:pt x="328278" y="425183"/>
                      </a:lnTo>
                      <a:lnTo>
                        <a:pt x="312393" y="435925"/>
                      </a:lnTo>
                      <a:lnTo>
                        <a:pt x="296051" y="446016"/>
                      </a:lnTo>
                      <a:lnTo>
                        <a:pt x="288795" y="450052"/>
                      </a:lnTo>
                      <a:lnTo>
                        <a:pt x="281473" y="453634"/>
                      </a:lnTo>
                      <a:lnTo>
                        <a:pt x="266636" y="460339"/>
                      </a:lnTo>
                      <a:lnTo>
                        <a:pt x="252058" y="467045"/>
                      </a:lnTo>
                      <a:lnTo>
                        <a:pt x="244999" y="470754"/>
                      </a:lnTo>
                      <a:lnTo>
                        <a:pt x="238199" y="474857"/>
                      </a:lnTo>
                      <a:lnTo>
                        <a:pt x="234473" y="477070"/>
                      </a:lnTo>
                      <a:lnTo>
                        <a:pt x="229833" y="479609"/>
                      </a:lnTo>
                      <a:lnTo>
                        <a:pt x="224407" y="482343"/>
                      </a:lnTo>
                      <a:lnTo>
                        <a:pt x="218460" y="485208"/>
                      </a:lnTo>
                      <a:lnTo>
                        <a:pt x="205321" y="491198"/>
                      </a:lnTo>
                      <a:lnTo>
                        <a:pt x="191396" y="497447"/>
                      </a:lnTo>
                      <a:lnTo>
                        <a:pt x="177801" y="503632"/>
                      </a:lnTo>
                      <a:lnTo>
                        <a:pt x="171394" y="506627"/>
                      </a:lnTo>
                      <a:lnTo>
                        <a:pt x="165577" y="509491"/>
                      </a:lnTo>
                      <a:lnTo>
                        <a:pt x="160282" y="512225"/>
                      </a:lnTo>
                      <a:lnTo>
                        <a:pt x="155772" y="514699"/>
                      </a:lnTo>
                      <a:lnTo>
                        <a:pt x="152176" y="516977"/>
                      </a:lnTo>
                      <a:lnTo>
                        <a:pt x="149496" y="518995"/>
                      </a:lnTo>
                      <a:lnTo>
                        <a:pt x="146816" y="521665"/>
                      </a:lnTo>
                      <a:lnTo>
                        <a:pt x="144463" y="524204"/>
                      </a:lnTo>
                      <a:lnTo>
                        <a:pt x="140802" y="529152"/>
                      </a:lnTo>
                      <a:lnTo>
                        <a:pt x="134789" y="538396"/>
                      </a:lnTo>
                      <a:lnTo>
                        <a:pt x="131258" y="542954"/>
                      </a:lnTo>
                      <a:lnTo>
                        <a:pt x="126551" y="547576"/>
                      </a:lnTo>
                      <a:lnTo>
                        <a:pt x="123545" y="549920"/>
                      </a:lnTo>
                      <a:lnTo>
                        <a:pt x="119950" y="552328"/>
                      </a:lnTo>
                      <a:lnTo>
                        <a:pt x="115832" y="554802"/>
                      </a:lnTo>
                      <a:lnTo>
                        <a:pt x="110995" y="557407"/>
                      </a:lnTo>
                      <a:lnTo>
                        <a:pt x="105504" y="559750"/>
                      </a:lnTo>
                      <a:lnTo>
                        <a:pt x="99686" y="561768"/>
                      </a:lnTo>
                      <a:lnTo>
                        <a:pt x="87267" y="565479"/>
                      </a:lnTo>
                      <a:lnTo>
                        <a:pt x="81056" y="567302"/>
                      </a:lnTo>
                      <a:lnTo>
                        <a:pt x="75172" y="569385"/>
                      </a:lnTo>
                      <a:lnTo>
                        <a:pt x="69616" y="571794"/>
                      </a:lnTo>
                      <a:lnTo>
                        <a:pt x="64714" y="574658"/>
                      </a:lnTo>
                      <a:lnTo>
                        <a:pt x="60923" y="577523"/>
                      </a:lnTo>
                      <a:lnTo>
                        <a:pt x="57327" y="580648"/>
                      </a:lnTo>
                      <a:lnTo>
                        <a:pt x="50856" y="587613"/>
                      </a:lnTo>
                      <a:lnTo>
                        <a:pt x="45037" y="595360"/>
                      </a:lnTo>
                      <a:lnTo>
                        <a:pt x="39940" y="603759"/>
                      </a:lnTo>
                      <a:lnTo>
                        <a:pt x="35167" y="612549"/>
                      </a:lnTo>
                      <a:lnTo>
                        <a:pt x="30788" y="621662"/>
                      </a:lnTo>
                      <a:lnTo>
                        <a:pt x="22289" y="639957"/>
                      </a:lnTo>
                      <a:lnTo>
                        <a:pt x="20395" y="639109"/>
                      </a:lnTo>
                      <a:lnTo>
                        <a:pt x="18499" y="637547"/>
                      </a:lnTo>
                      <a:lnTo>
                        <a:pt x="16669" y="635465"/>
                      </a:lnTo>
                      <a:lnTo>
                        <a:pt x="14903" y="632860"/>
                      </a:lnTo>
                      <a:lnTo>
                        <a:pt x="11505" y="626545"/>
                      </a:lnTo>
                      <a:lnTo>
                        <a:pt x="8433" y="619123"/>
                      </a:lnTo>
                      <a:lnTo>
                        <a:pt x="5753" y="611376"/>
                      </a:lnTo>
                      <a:lnTo>
                        <a:pt x="3595" y="603825"/>
                      </a:lnTo>
                      <a:lnTo>
                        <a:pt x="1960" y="597184"/>
                      </a:lnTo>
                      <a:lnTo>
                        <a:pt x="1437" y="594319"/>
                      </a:lnTo>
                      <a:lnTo>
                        <a:pt x="1111" y="591911"/>
                      </a:lnTo>
                      <a:lnTo>
                        <a:pt x="392" y="584944"/>
                      </a:lnTo>
                      <a:lnTo>
                        <a:pt x="0" y="578174"/>
                      </a:lnTo>
                      <a:lnTo>
                        <a:pt x="130" y="571534"/>
                      </a:lnTo>
                      <a:lnTo>
                        <a:pt x="523" y="565089"/>
                      </a:lnTo>
                      <a:lnTo>
                        <a:pt x="1242" y="558839"/>
                      </a:lnTo>
                      <a:lnTo>
                        <a:pt x="2418" y="552719"/>
                      </a:lnTo>
                      <a:lnTo>
                        <a:pt x="5556" y="541130"/>
                      </a:lnTo>
                      <a:lnTo>
                        <a:pt x="9805" y="530259"/>
                      </a:lnTo>
                      <a:lnTo>
                        <a:pt x="15165" y="520103"/>
                      </a:lnTo>
                      <a:lnTo>
                        <a:pt x="21441" y="510598"/>
                      </a:lnTo>
                      <a:lnTo>
                        <a:pt x="28566" y="501809"/>
                      </a:lnTo>
                      <a:lnTo>
                        <a:pt x="36411" y="493736"/>
                      </a:lnTo>
                      <a:lnTo>
                        <a:pt x="44842" y="486315"/>
                      </a:lnTo>
                      <a:lnTo>
                        <a:pt x="53732" y="479609"/>
                      </a:lnTo>
                      <a:lnTo>
                        <a:pt x="63015" y="473555"/>
                      </a:lnTo>
                      <a:lnTo>
                        <a:pt x="72492" y="468086"/>
                      </a:lnTo>
                      <a:lnTo>
                        <a:pt x="82101" y="463268"/>
                      </a:lnTo>
                      <a:lnTo>
                        <a:pt x="91776" y="459167"/>
                      </a:lnTo>
                      <a:lnTo>
                        <a:pt x="101320" y="455652"/>
                      </a:lnTo>
                      <a:lnTo>
                        <a:pt x="102301" y="454219"/>
                      </a:lnTo>
                      <a:lnTo>
                        <a:pt x="102889" y="452397"/>
                      </a:lnTo>
                      <a:lnTo>
                        <a:pt x="103412" y="448099"/>
                      </a:lnTo>
                      <a:lnTo>
                        <a:pt x="103935" y="443738"/>
                      </a:lnTo>
                      <a:lnTo>
                        <a:pt x="104393" y="441849"/>
                      </a:lnTo>
                      <a:lnTo>
                        <a:pt x="105242" y="440287"/>
                      </a:lnTo>
                      <a:lnTo>
                        <a:pt x="105699" y="439702"/>
                      </a:lnTo>
                      <a:lnTo>
                        <a:pt x="106484" y="438855"/>
                      </a:lnTo>
                      <a:lnTo>
                        <a:pt x="108968" y="436511"/>
                      </a:lnTo>
                      <a:lnTo>
                        <a:pt x="112498" y="433451"/>
                      </a:lnTo>
                      <a:lnTo>
                        <a:pt x="116942" y="429675"/>
                      </a:lnTo>
                      <a:lnTo>
                        <a:pt x="122041" y="425443"/>
                      </a:lnTo>
                      <a:lnTo>
                        <a:pt x="127598" y="420756"/>
                      </a:lnTo>
                      <a:lnTo>
                        <a:pt x="139887" y="410861"/>
                      </a:lnTo>
                      <a:lnTo>
                        <a:pt x="152372" y="400901"/>
                      </a:lnTo>
                      <a:lnTo>
                        <a:pt x="158320" y="396213"/>
                      </a:lnTo>
                      <a:lnTo>
                        <a:pt x="163812" y="391851"/>
                      </a:lnTo>
                      <a:lnTo>
                        <a:pt x="168780" y="388010"/>
                      </a:lnTo>
                      <a:lnTo>
                        <a:pt x="172964" y="384820"/>
                      </a:lnTo>
                      <a:lnTo>
                        <a:pt x="176231" y="382346"/>
                      </a:lnTo>
                      <a:lnTo>
                        <a:pt x="177474" y="381434"/>
                      </a:lnTo>
                      <a:lnTo>
                        <a:pt x="178453" y="380784"/>
                      </a:lnTo>
                      <a:lnTo>
                        <a:pt x="182572" y="378244"/>
                      </a:lnTo>
                      <a:lnTo>
                        <a:pt x="187017" y="375901"/>
                      </a:lnTo>
                      <a:lnTo>
                        <a:pt x="821019" y="15625"/>
                      </a:lnTo>
                      <a:lnTo>
                        <a:pt x="821151" y="17251"/>
                      </a:lnTo>
                      <a:lnTo>
                        <a:pt x="820759" y="18944"/>
                      </a:lnTo>
                      <a:lnTo>
                        <a:pt x="819909" y="20702"/>
                      </a:lnTo>
                      <a:lnTo>
                        <a:pt x="817163" y="24348"/>
                      </a:lnTo>
                      <a:lnTo>
                        <a:pt x="813306" y="28124"/>
                      </a:lnTo>
                      <a:lnTo>
                        <a:pt x="803959" y="35675"/>
                      </a:lnTo>
                      <a:lnTo>
                        <a:pt x="799448" y="39257"/>
                      </a:lnTo>
                      <a:lnTo>
                        <a:pt x="795527" y="42641"/>
                      </a:lnTo>
                      <a:lnTo>
                        <a:pt x="785264" y="51821"/>
                      </a:lnTo>
                      <a:lnTo>
                        <a:pt x="774608" y="60609"/>
                      </a:lnTo>
                      <a:lnTo>
                        <a:pt x="752514" y="77146"/>
                      </a:lnTo>
                      <a:lnTo>
                        <a:pt x="730158" y="93356"/>
                      </a:lnTo>
                      <a:lnTo>
                        <a:pt x="719176" y="101559"/>
                      </a:lnTo>
                      <a:lnTo>
                        <a:pt x="708587" y="110087"/>
                      </a:lnTo>
                      <a:lnTo>
                        <a:pt x="691069" y="124279"/>
                      </a:lnTo>
                      <a:lnTo>
                        <a:pt x="673223" y="138342"/>
                      </a:lnTo>
                      <a:lnTo>
                        <a:pt x="637272" y="165685"/>
                      </a:lnTo>
                      <a:lnTo>
                        <a:pt x="601189" y="192572"/>
                      </a:lnTo>
                      <a:lnTo>
                        <a:pt x="565041" y="219070"/>
                      </a:lnTo>
                      <a:lnTo>
                        <a:pt x="528827" y="246347"/>
                      </a:lnTo>
                      <a:lnTo>
                        <a:pt x="510719" y="260474"/>
                      </a:lnTo>
                      <a:lnTo>
                        <a:pt x="492677" y="275122"/>
                      </a:lnTo>
                      <a:lnTo>
                        <a:pt x="475224" y="288859"/>
                      </a:lnTo>
                      <a:lnTo>
                        <a:pt x="457053" y="302140"/>
                      </a:lnTo>
                      <a:lnTo>
                        <a:pt x="447639" y="308911"/>
                      </a:lnTo>
                      <a:lnTo>
                        <a:pt x="437834" y="315877"/>
                      </a:lnTo>
                      <a:lnTo>
                        <a:pt x="427832" y="323103"/>
                      </a:lnTo>
                      <a:lnTo>
                        <a:pt x="417505" y="330850"/>
                      </a:lnTo>
                      <a:lnTo>
                        <a:pt x="381160" y="358128"/>
                      </a:lnTo>
                      <a:lnTo>
                        <a:pt x="362792" y="371540"/>
                      </a:lnTo>
                      <a:lnTo>
                        <a:pt x="344227" y="384560"/>
                      </a:lnTo>
                      <a:lnTo>
                        <a:pt x="341547" y="386447"/>
                      </a:lnTo>
                      <a:lnTo>
                        <a:pt x="338278" y="388791"/>
                      </a:lnTo>
                      <a:lnTo>
                        <a:pt x="334421" y="391461"/>
                      </a:lnTo>
                      <a:lnTo>
                        <a:pt x="330043" y="394455"/>
                      </a:lnTo>
                      <a:lnTo>
                        <a:pt x="320236" y="400835"/>
                      </a:lnTo>
                      <a:lnTo>
                        <a:pt x="309321" y="407280"/>
                      </a:lnTo>
                      <a:lnTo>
                        <a:pt x="297947" y="413075"/>
                      </a:lnTo>
                      <a:lnTo>
                        <a:pt x="292325" y="415483"/>
                      </a:lnTo>
                      <a:lnTo>
                        <a:pt x="286768" y="417436"/>
                      </a:lnTo>
                      <a:lnTo>
                        <a:pt x="281409" y="418869"/>
                      </a:lnTo>
                      <a:lnTo>
                        <a:pt x="276243" y="419714"/>
                      </a:lnTo>
                      <a:lnTo>
                        <a:pt x="271472" y="419845"/>
                      </a:lnTo>
                      <a:lnTo>
                        <a:pt x="267158" y="419129"/>
                      </a:lnTo>
                      <a:lnTo>
                        <a:pt x="264347" y="418021"/>
                      </a:lnTo>
                      <a:lnTo>
                        <a:pt x="261405" y="415939"/>
                      </a:lnTo>
                      <a:lnTo>
                        <a:pt x="258268" y="413204"/>
                      </a:lnTo>
                      <a:lnTo>
                        <a:pt x="255001" y="409820"/>
                      </a:lnTo>
                      <a:lnTo>
                        <a:pt x="251601" y="405978"/>
                      </a:lnTo>
                      <a:lnTo>
                        <a:pt x="248136" y="401746"/>
                      </a:lnTo>
                      <a:lnTo>
                        <a:pt x="240881" y="392698"/>
                      </a:lnTo>
                      <a:lnTo>
                        <a:pt x="233428" y="383583"/>
                      </a:lnTo>
                      <a:lnTo>
                        <a:pt x="225911" y="375315"/>
                      </a:lnTo>
                      <a:lnTo>
                        <a:pt x="222185" y="371865"/>
                      </a:lnTo>
                      <a:lnTo>
                        <a:pt x="218460" y="368999"/>
                      </a:lnTo>
                      <a:lnTo>
                        <a:pt x="214798" y="366787"/>
                      </a:lnTo>
                      <a:lnTo>
                        <a:pt x="211203" y="365419"/>
                      </a:lnTo>
                      <a:lnTo>
                        <a:pt x="211203" y="357737"/>
                      </a:lnTo>
                      <a:lnTo>
                        <a:pt x="224930" y="346800"/>
                      </a:lnTo>
                      <a:lnTo>
                        <a:pt x="239246" y="336319"/>
                      </a:lnTo>
                      <a:lnTo>
                        <a:pt x="253888" y="326162"/>
                      </a:lnTo>
                      <a:lnTo>
                        <a:pt x="268988" y="316397"/>
                      </a:lnTo>
                      <a:lnTo>
                        <a:pt x="299711" y="297453"/>
                      </a:lnTo>
                      <a:lnTo>
                        <a:pt x="330761" y="279029"/>
                      </a:lnTo>
                      <a:lnTo>
                        <a:pt x="409333" y="233002"/>
                      </a:lnTo>
                      <a:lnTo>
                        <a:pt x="448946" y="210540"/>
                      </a:lnTo>
                      <a:lnTo>
                        <a:pt x="488820" y="188732"/>
                      </a:lnTo>
                      <a:lnTo>
                        <a:pt x="533205" y="164709"/>
                      </a:lnTo>
                      <a:lnTo>
                        <a:pt x="576675" y="140556"/>
                      </a:lnTo>
                      <a:lnTo>
                        <a:pt x="619621" y="116532"/>
                      </a:lnTo>
                      <a:lnTo>
                        <a:pt x="662308" y="92771"/>
                      </a:lnTo>
                      <a:lnTo>
                        <a:pt x="688454" y="77992"/>
                      </a:lnTo>
                      <a:lnTo>
                        <a:pt x="714077" y="63149"/>
                      </a:lnTo>
                      <a:lnTo>
                        <a:pt x="764476" y="33267"/>
                      </a:lnTo>
                      <a:lnTo>
                        <a:pt x="766896" y="31770"/>
                      </a:lnTo>
                      <a:lnTo>
                        <a:pt x="769902" y="29817"/>
                      </a:lnTo>
                      <a:lnTo>
                        <a:pt x="773302" y="27603"/>
                      </a:lnTo>
                      <a:lnTo>
                        <a:pt x="777092" y="25194"/>
                      </a:lnTo>
                      <a:lnTo>
                        <a:pt x="785395" y="20050"/>
                      </a:lnTo>
                      <a:lnTo>
                        <a:pt x="794218" y="15169"/>
                      </a:lnTo>
                      <a:lnTo>
                        <a:pt x="798534" y="13085"/>
                      </a:lnTo>
                      <a:lnTo>
                        <a:pt x="802717" y="11393"/>
                      </a:lnTo>
                      <a:lnTo>
                        <a:pt x="806703" y="10156"/>
                      </a:lnTo>
                      <a:lnTo>
                        <a:pt x="810429" y="9440"/>
                      </a:lnTo>
                      <a:lnTo>
                        <a:pt x="813699" y="9374"/>
                      </a:lnTo>
                      <a:lnTo>
                        <a:pt x="816509" y="10090"/>
                      </a:lnTo>
                      <a:lnTo>
                        <a:pt x="818732" y="11587"/>
                      </a:lnTo>
                      <a:lnTo>
                        <a:pt x="820366" y="14061"/>
                      </a:lnTo>
                      <a:lnTo>
                        <a:pt x="236631" y="463334"/>
                      </a:lnTo>
                      <a:lnTo>
                        <a:pt x="226042" y="469192"/>
                      </a:lnTo>
                      <a:lnTo>
                        <a:pt x="205647" y="480977"/>
                      </a:lnTo>
                      <a:lnTo>
                        <a:pt x="195189" y="486706"/>
                      </a:lnTo>
                      <a:lnTo>
                        <a:pt x="184206" y="492043"/>
                      </a:lnTo>
                      <a:lnTo>
                        <a:pt x="172244" y="497121"/>
                      </a:lnTo>
                      <a:lnTo>
                        <a:pt x="159172" y="501744"/>
                      </a:lnTo>
                      <a:lnTo>
                        <a:pt x="156295" y="500051"/>
                      </a:lnTo>
                      <a:lnTo>
                        <a:pt x="152895" y="497772"/>
                      </a:lnTo>
                      <a:lnTo>
                        <a:pt x="149235" y="494973"/>
                      </a:lnTo>
                      <a:lnTo>
                        <a:pt x="145378" y="491718"/>
                      </a:lnTo>
                      <a:lnTo>
                        <a:pt x="137403" y="484101"/>
                      </a:lnTo>
                      <a:lnTo>
                        <a:pt x="129821" y="475508"/>
                      </a:lnTo>
                      <a:lnTo>
                        <a:pt x="123284" y="466524"/>
                      </a:lnTo>
                      <a:lnTo>
                        <a:pt x="120734" y="462031"/>
                      </a:lnTo>
                      <a:lnTo>
                        <a:pt x="118774" y="457605"/>
                      </a:lnTo>
                      <a:lnTo>
                        <a:pt x="117466" y="453373"/>
                      </a:lnTo>
                      <a:lnTo>
                        <a:pt x="116942" y="449271"/>
                      </a:lnTo>
                      <a:lnTo>
                        <a:pt x="117335" y="445560"/>
                      </a:lnTo>
                      <a:lnTo>
                        <a:pt x="118708" y="442174"/>
                      </a:lnTo>
                      <a:lnTo>
                        <a:pt x="119297" y="441393"/>
                      </a:lnTo>
                      <a:lnTo>
                        <a:pt x="120278" y="440287"/>
                      </a:lnTo>
                      <a:lnTo>
                        <a:pt x="121585" y="438985"/>
                      </a:lnTo>
                      <a:lnTo>
                        <a:pt x="123284" y="437422"/>
                      </a:lnTo>
                      <a:lnTo>
                        <a:pt x="127401" y="433842"/>
                      </a:lnTo>
                      <a:lnTo>
                        <a:pt x="132566" y="429610"/>
                      </a:lnTo>
                      <a:lnTo>
                        <a:pt x="138449" y="424923"/>
                      </a:lnTo>
                      <a:lnTo>
                        <a:pt x="144986" y="419975"/>
                      </a:lnTo>
                      <a:lnTo>
                        <a:pt x="158975" y="409558"/>
                      </a:lnTo>
                      <a:lnTo>
                        <a:pt x="166035" y="404416"/>
                      </a:lnTo>
                      <a:lnTo>
                        <a:pt x="172964" y="399468"/>
                      </a:lnTo>
                      <a:lnTo>
                        <a:pt x="179501" y="394911"/>
                      </a:lnTo>
                      <a:lnTo>
                        <a:pt x="185449" y="390874"/>
                      </a:lnTo>
                      <a:lnTo>
                        <a:pt x="190613" y="387554"/>
                      </a:lnTo>
                      <a:lnTo>
                        <a:pt x="194862" y="384949"/>
                      </a:lnTo>
                      <a:lnTo>
                        <a:pt x="196562" y="383974"/>
                      </a:lnTo>
                      <a:lnTo>
                        <a:pt x="197933" y="383258"/>
                      </a:lnTo>
                      <a:lnTo>
                        <a:pt x="198979" y="382802"/>
                      </a:lnTo>
                      <a:lnTo>
                        <a:pt x="199633" y="382671"/>
                      </a:lnTo>
                      <a:lnTo>
                        <a:pt x="203817" y="383258"/>
                      </a:lnTo>
                      <a:lnTo>
                        <a:pt x="208393" y="385015"/>
                      </a:lnTo>
                      <a:lnTo>
                        <a:pt x="213033" y="387684"/>
                      </a:lnTo>
                      <a:lnTo>
                        <a:pt x="217804" y="391200"/>
                      </a:lnTo>
                      <a:lnTo>
                        <a:pt x="222644" y="395497"/>
                      </a:lnTo>
                      <a:lnTo>
                        <a:pt x="227284" y="400445"/>
                      </a:lnTo>
                      <a:lnTo>
                        <a:pt x="231729" y="405849"/>
                      </a:lnTo>
                      <a:lnTo>
                        <a:pt x="235978" y="411707"/>
                      </a:lnTo>
                      <a:lnTo>
                        <a:pt x="239703" y="417761"/>
                      </a:lnTo>
                      <a:lnTo>
                        <a:pt x="243103" y="424011"/>
                      </a:lnTo>
                      <a:lnTo>
                        <a:pt x="245848" y="430196"/>
                      </a:lnTo>
                      <a:lnTo>
                        <a:pt x="248005" y="436381"/>
                      </a:lnTo>
                      <a:lnTo>
                        <a:pt x="249312" y="442305"/>
                      </a:lnTo>
                      <a:lnTo>
                        <a:pt x="249771" y="447905"/>
                      </a:lnTo>
                      <a:lnTo>
                        <a:pt x="249312" y="453047"/>
                      </a:lnTo>
                      <a:lnTo>
                        <a:pt x="247810" y="457539"/>
                      </a:lnTo>
                      <a:lnTo>
                        <a:pt x="139560" y="509621"/>
                      </a:lnTo>
                      <a:lnTo>
                        <a:pt x="138384" y="516587"/>
                      </a:lnTo>
                      <a:lnTo>
                        <a:pt x="136423" y="522706"/>
                      </a:lnTo>
                      <a:lnTo>
                        <a:pt x="133742" y="528045"/>
                      </a:lnTo>
                      <a:lnTo>
                        <a:pt x="130410" y="532733"/>
                      </a:lnTo>
                      <a:lnTo>
                        <a:pt x="126487" y="536769"/>
                      </a:lnTo>
                      <a:lnTo>
                        <a:pt x="122041" y="540349"/>
                      </a:lnTo>
                      <a:lnTo>
                        <a:pt x="117204" y="543410"/>
                      </a:lnTo>
                      <a:lnTo>
                        <a:pt x="111909" y="546078"/>
                      </a:lnTo>
                      <a:lnTo>
                        <a:pt x="106353" y="548552"/>
                      </a:lnTo>
                      <a:lnTo>
                        <a:pt x="94586" y="552784"/>
                      </a:lnTo>
                      <a:lnTo>
                        <a:pt x="82494" y="556820"/>
                      </a:lnTo>
                      <a:lnTo>
                        <a:pt x="70532" y="561247"/>
                      </a:lnTo>
                      <a:lnTo>
                        <a:pt x="65760" y="563396"/>
                      </a:lnTo>
                      <a:lnTo>
                        <a:pt x="61380" y="565870"/>
                      </a:lnTo>
                      <a:lnTo>
                        <a:pt x="57327" y="568604"/>
                      </a:lnTo>
                      <a:lnTo>
                        <a:pt x="53536" y="571534"/>
                      </a:lnTo>
                      <a:lnTo>
                        <a:pt x="46738" y="578109"/>
                      </a:lnTo>
                      <a:lnTo>
                        <a:pt x="40724" y="585466"/>
                      </a:lnTo>
                      <a:lnTo>
                        <a:pt x="35298" y="593342"/>
                      </a:lnTo>
                      <a:lnTo>
                        <a:pt x="30265" y="601676"/>
                      </a:lnTo>
                      <a:lnTo>
                        <a:pt x="20395" y="618798"/>
                      </a:lnTo>
                      <a:lnTo>
                        <a:pt x="17322" y="611766"/>
                      </a:lnTo>
                      <a:lnTo>
                        <a:pt x="14969" y="604346"/>
                      </a:lnTo>
                      <a:lnTo>
                        <a:pt x="13270" y="596728"/>
                      </a:lnTo>
                      <a:lnTo>
                        <a:pt x="12159" y="588851"/>
                      </a:lnTo>
                      <a:lnTo>
                        <a:pt x="11700" y="580908"/>
                      </a:lnTo>
                      <a:lnTo>
                        <a:pt x="11700" y="572901"/>
                      </a:lnTo>
                      <a:lnTo>
                        <a:pt x="12354" y="565023"/>
                      </a:lnTo>
                      <a:lnTo>
                        <a:pt x="13530" y="557080"/>
                      </a:lnTo>
                      <a:lnTo>
                        <a:pt x="15100" y="549399"/>
                      </a:lnTo>
                      <a:lnTo>
                        <a:pt x="17192" y="541912"/>
                      </a:lnTo>
                      <a:lnTo>
                        <a:pt x="19675" y="534751"/>
                      </a:lnTo>
                      <a:lnTo>
                        <a:pt x="22617" y="527915"/>
                      </a:lnTo>
                      <a:lnTo>
                        <a:pt x="25886" y="521469"/>
                      </a:lnTo>
                      <a:lnTo>
                        <a:pt x="29482" y="515611"/>
                      </a:lnTo>
                      <a:lnTo>
                        <a:pt x="33468" y="510272"/>
                      </a:lnTo>
                      <a:lnTo>
                        <a:pt x="37718" y="505519"/>
                      </a:lnTo>
                      <a:lnTo>
                        <a:pt x="50333" y="493736"/>
                      </a:lnTo>
                      <a:lnTo>
                        <a:pt x="56739" y="488397"/>
                      </a:lnTo>
                      <a:lnTo>
                        <a:pt x="63212" y="483580"/>
                      </a:lnTo>
                      <a:lnTo>
                        <a:pt x="69748" y="479348"/>
                      </a:lnTo>
                      <a:lnTo>
                        <a:pt x="76284" y="475833"/>
                      </a:lnTo>
                      <a:lnTo>
                        <a:pt x="82821" y="473099"/>
                      </a:lnTo>
                      <a:lnTo>
                        <a:pt x="89423" y="471341"/>
                      </a:lnTo>
                      <a:lnTo>
                        <a:pt x="95960" y="470494"/>
                      </a:lnTo>
                      <a:lnTo>
                        <a:pt x="102432" y="470821"/>
                      </a:lnTo>
                      <a:lnTo>
                        <a:pt x="108902" y="472383"/>
                      </a:lnTo>
                      <a:lnTo>
                        <a:pt x="115243" y="475246"/>
                      </a:lnTo>
                      <a:lnTo>
                        <a:pt x="121585" y="479544"/>
                      </a:lnTo>
                      <a:lnTo>
                        <a:pt x="127794" y="485273"/>
                      </a:lnTo>
                      <a:lnTo>
                        <a:pt x="133873" y="492629"/>
                      </a:lnTo>
                      <a:lnTo>
                        <a:pt x="139887" y="501744"/>
                      </a:lnTo>
                      <a:lnTo>
                        <a:pt x="195776" y="371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" name="Freeform: Shape 21"/>
                <p:cNvSpPr/>
                <p:nvPr/>
              </p:nvSpPr>
              <p:spPr>
                <a:xfrm rot="10201200">
                  <a:off x="9836640" y="1552680"/>
                  <a:ext cx="23760" cy="24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8508" h="30729">
                      <a:moveTo>
                        <a:pt x="0" y="23827"/>
                      </a:moveTo>
                      <a:lnTo>
                        <a:pt x="8629" y="17968"/>
                      </a:lnTo>
                      <a:lnTo>
                        <a:pt x="17195" y="11588"/>
                      </a:lnTo>
                      <a:lnTo>
                        <a:pt x="26348" y="5338"/>
                      </a:lnTo>
                      <a:lnTo>
                        <a:pt x="31250" y="2539"/>
                      </a:lnTo>
                      <a:lnTo>
                        <a:pt x="-28990" y="0"/>
                      </a:lnTo>
                      <a:lnTo>
                        <a:pt x="-27029" y="5729"/>
                      </a:lnTo>
                      <a:lnTo>
                        <a:pt x="-30756" y="8593"/>
                      </a:lnTo>
                      <a:lnTo>
                        <a:pt x="30661" y="11719"/>
                      </a:lnTo>
                      <a:lnTo>
                        <a:pt x="21574" y="18293"/>
                      </a:lnTo>
                      <a:lnTo>
                        <a:pt x="12225" y="24868"/>
                      </a:lnTo>
                      <a:lnTo>
                        <a:pt x="7845" y="27929"/>
                      </a:lnTo>
                      <a:lnTo>
                        <a:pt x="3793" y="30728"/>
                      </a:lnTo>
                      <a:lnTo>
                        <a:pt x="3007" y="29035"/>
                      </a:lnTo>
                      <a:lnTo>
                        <a:pt x="2027" y="27473"/>
                      </a:lnTo>
                      <a:lnTo>
                        <a:pt x="1045" y="25911"/>
                      </a:lnTo>
                      <a:lnTo>
                        <a:pt x="0" y="238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Freeform: Shape 22"/>
                <p:cNvSpPr/>
                <p:nvPr/>
              </p:nvSpPr>
              <p:spPr>
                <a:xfrm rot="10201200">
                  <a:off x="9826920" y="1529640"/>
                  <a:ext cx="31680" cy="198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37197" h="26044">
                      <a:moveTo>
                        <a:pt x="-28340" y="5991"/>
                      </a:moveTo>
                      <a:lnTo>
                        <a:pt x="-31609" y="7618"/>
                      </a:lnTo>
                      <a:lnTo>
                        <a:pt x="30006" y="9896"/>
                      </a:lnTo>
                      <a:lnTo>
                        <a:pt x="25690" y="12697"/>
                      </a:lnTo>
                      <a:lnTo>
                        <a:pt x="21115" y="15691"/>
                      </a:lnTo>
                      <a:lnTo>
                        <a:pt x="11636" y="21680"/>
                      </a:lnTo>
                      <a:lnTo>
                        <a:pt x="7060" y="24154"/>
                      </a:lnTo>
                      <a:lnTo>
                        <a:pt x="2810" y="26043"/>
                      </a:lnTo>
                      <a:lnTo>
                        <a:pt x="0" y="22136"/>
                      </a:lnTo>
                      <a:lnTo>
                        <a:pt x="2941" y="19727"/>
                      </a:lnTo>
                      <a:lnTo>
                        <a:pt x="6667" y="16928"/>
                      </a:lnTo>
                      <a:lnTo>
                        <a:pt x="10917" y="13933"/>
                      </a:lnTo>
                      <a:lnTo>
                        <a:pt x="15623" y="10808"/>
                      </a:lnTo>
                      <a:lnTo>
                        <a:pt x="25429" y="4754"/>
                      </a:lnTo>
                      <a:lnTo>
                        <a:pt x="30071" y="2149"/>
                      </a:lnTo>
                      <a:lnTo>
                        <a:pt x="-31217" y="0"/>
                      </a:lnTo>
                      <a:lnTo>
                        <a:pt x="-29844" y="1043"/>
                      </a:lnTo>
                      <a:lnTo>
                        <a:pt x="-29190" y="2474"/>
                      </a:lnTo>
                      <a:lnTo>
                        <a:pt x="-28340" y="59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Freeform: Shape 23"/>
                <p:cNvSpPr/>
                <p:nvPr/>
              </p:nvSpPr>
              <p:spPr>
                <a:xfrm rot="10201200">
                  <a:off x="9809640" y="1532880"/>
                  <a:ext cx="34920" cy="212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39613" h="25650">
                      <a:moveTo>
                        <a:pt x="0" y="20376"/>
                      </a:moveTo>
                      <a:lnTo>
                        <a:pt x="2941" y="18683"/>
                      </a:lnTo>
                      <a:lnTo>
                        <a:pt x="6537" y="16404"/>
                      </a:lnTo>
                      <a:lnTo>
                        <a:pt x="10720" y="13736"/>
                      </a:lnTo>
                      <a:lnTo>
                        <a:pt x="15360" y="10806"/>
                      </a:lnTo>
                      <a:lnTo>
                        <a:pt x="25362" y="4882"/>
                      </a:lnTo>
                      <a:lnTo>
                        <a:pt x="30656" y="2278"/>
                      </a:lnTo>
                      <a:lnTo>
                        <a:pt x="-29717" y="0"/>
                      </a:lnTo>
                      <a:lnTo>
                        <a:pt x="-25924" y="5142"/>
                      </a:lnTo>
                      <a:lnTo>
                        <a:pt x="30656" y="10025"/>
                      </a:lnTo>
                      <a:lnTo>
                        <a:pt x="21569" y="15363"/>
                      </a:lnTo>
                      <a:lnTo>
                        <a:pt x="12484" y="20636"/>
                      </a:lnTo>
                      <a:lnTo>
                        <a:pt x="3660" y="25649"/>
                      </a:lnTo>
                      <a:lnTo>
                        <a:pt x="0" y="20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Freeform: Shape 24"/>
                <p:cNvSpPr/>
                <p:nvPr/>
              </p:nvSpPr>
              <p:spPr>
                <a:xfrm rot="10201200">
                  <a:off x="9814680" y="1522080"/>
                  <a:ext cx="31680" cy="18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6151" h="23439">
                      <a:moveTo>
                        <a:pt x="32686" y="0"/>
                      </a:moveTo>
                      <a:lnTo>
                        <a:pt x="-29386" y="4362"/>
                      </a:lnTo>
                      <a:lnTo>
                        <a:pt x="-32065" y="6185"/>
                      </a:lnTo>
                      <a:lnTo>
                        <a:pt x="29810" y="8529"/>
                      </a:lnTo>
                      <a:lnTo>
                        <a:pt x="25495" y="11197"/>
                      </a:lnTo>
                      <a:lnTo>
                        <a:pt x="20788" y="14063"/>
                      </a:lnTo>
                      <a:lnTo>
                        <a:pt x="11245" y="19531"/>
                      </a:lnTo>
                      <a:lnTo>
                        <a:pt x="6864" y="21810"/>
                      </a:lnTo>
                      <a:lnTo>
                        <a:pt x="3269" y="23438"/>
                      </a:lnTo>
                      <a:lnTo>
                        <a:pt x="0" y="18750"/>
                      </a:lnTo>
                      <a:lnTo>
                        <a:pt x="3596" y="16406"/>
                      </a:lnTo>
                      <a:lnTo>
                        <a:pt x="7975" y="13802"/>
                      </a:lnTo>
                      <a:lnTo>
                        <a:pt x="17520" y="8334"/>
                      </a:lnTo>
                      <a:lnTo>
                        <a:pt x="22226" y="5664"/>
                      </a:lnTo>
                      <a:lnTo>
                        <a:pt x="26411" y="3321"/>
                      </a:lnTo>
                      <a:lnTo>
                        <a:pt x="30006" y="1432"/>
                      </a:lnTo>
                      <a:lnTo>
                        <a:pt x="3268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Freeform: Shape 25"/>
                <p:cNvSpPr/>
                <p:nvPr/>
              </p:nvSpPr>
              <p:spPr>
                <a:xfrm rot="10201200">
                  <a:off x="9790920" y="1523160"/>
                  <a:ext cx="27000" cy="18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2490" h="20899">
                      <a:moveTo>
                        <a:pt x="0" y="16732"/>
                      </a:moveTo>
                      <a:lnTo>
                        <a:pt x="14904" y="7813"/>
                      </a:lnTo>
                      <a:lnTo>
                        <a:pt x="22421" y="3646"/>
                      </a:lnTo>
                      <a:lnTo>
                        <a:pt x="30331" y="0"/>
                      </a:lnTo>
                      <a:lnTo>
                        <a:pt x="32489" y="6185"/>
                      </a:lnTo>
                      <a:lnTo>
                        <a:pt x="29416" y="7552"/>
                      </a:lnTo>
                      <a:lnTo>
                        <a:pt x="25886" y="9179"/>
                      </a:lnTo>
                      <a:lnTo>
                        <a:pt x="18108" y="13021"/>
                      </a:lnTo>
                      <a:lnTo>
                        <a:pt x="10655" y="17057"/>
                      </a:lnTo>
                      <a:lnTo>
                        <a:pt x="7388" y="19075"/>
                      </a:lnTo>
                      <a:lnTo>
                        <a:pt x="4771" y="20898"/>
                      </a:lnTo>
                      <a:lnTo>
                        <a:pt x="3138" y="20052"/>
                      </a:lnTo>
                      <a:lnTo>
                        <a:pt x="1896" y="19205"/>
                      </a:lnTo>
                      <a:lnTo>
                        <a:pt x="0" y="16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Freeform: Shape 26"/>
                <p:cNvSpPr/>
                <p:nvPr/>
              </p:nvSpPr>
              <p:spPr>
                <a:xfrm rot="10201200">
                  <a:off x="9910440" y="1416960"/>
                  <a:ext cx="44280" cy="457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52693" h="54298">
                      <a:moveTo>
                        <a:pt x="-16700" y="261"/>
                      </a:moveTo>
                      <a:lnTo>
                        <a:pt x="-15000" y="0"/>
                      </a:lnTo>
                      <a:lnTo>
                        <a:pt x="-13824" y="65"/>
                      </a:lnTo>
                      <a:lnTo>
                        <a:pt x="-13170" y="521"/>
                      </a:lnTo>
                      <a:lnTo>
                        <a:pt x="-12844" y="1237"/>
                      </a:lnTo>
                      <a:lnTo>
                        <a:pt x="-12844" y="3451"/>
                      </a:lnTo>
                      <a:lnTo>
                        <a:pt x="-12908" y="5990"/>
                      </a:lnTo>
                      <a:lnTo>
                        <a:pt x="-17812" y="10482"/>
                      </a:lnTo>
                      <a:lnTo>
                        <a:pt x="-22387" y="14323"/>
                      </a:lnTo>
                      <a:lnTo>
                        <a:pt x="-30886" y="21420"/>
                      </a:lnTo>
                      <a:lnTo>
                        <a:pt x="26282" y="28580"/>
                      </a:lnTo>
                      <a:lnTo>
                        <a:pt x="21837" y="32618"/>
                      </a:lnTo>
                      <a:lnTo>
                        <a:pt x="17064" y="-28297"/>
                      </a:lnTo>
                      <a:lnTo>
                        <a:pt x="0" y="-11239"/>
                      </a:lnTo>
                      <a:lnTo>
                        <a:pt x="4576" y="-20223"/>
                      </a:lnTo>
                      <a:lnTo>
                        <a:pt x="9806" y="-28622"/>
                      </a:lnTo>
                      <a:lnTo>
                        <a:pt x="15561" y="29102"/>
                      </a:lnTo>
                      <a:lnTo>
                        <a:pt x="21771" y="21810"/>
                      </a:lnTo>
                      <a:lnTo>
                        <a:pt x="28307" y="15300"/>
                      </a:lnTo>
                      <a:lnTo>
                        <a:pt x="-30495" y="9505"/>
                      </a:lnTo>
                      <a:lnTo>
                        <a:pt x="-23630" y="4492"/>
                      </a:lnTo>
                      <a:lnTo>
                        <a:pt x="-16700" y="2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Freeform: Shape 27"/>
                <p:cNvSpPr/>
                <p:nvPr/>
              </p:nvSpPr>
              <p:spPr>
                <a:xfrm rot="10201200">
                  <a:off x="9878760" y="137844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10545" h="117121">
                      <a:moveTo>
                        <a:pt x="70078" y="0"/>
                      </a:moveTo>
                      <a:lnTo>
                        <a:pt x="77532" y="521"/>
                      </a:lnTo>
                      <a:lnTo>
                        <a:pt x="84133" y="1887"/>
                      </a:lnTo>
                      <a:lnTo>
                        <a:pt x="89886" y="4101"/>
                      </a:lnTo>
                      <a:lnTo>
                        <a:pt x="94985" y="6901"/>
                      </a:lnTo>
                      <a:lnTo>
                        <a:pt x="99431" y="10286"/>
                      </a:lnTo>
                      <a:lnTo>
                        <a:pt x="103484" y="14192"/>
                      </a:lnTo>
                      <a:lnTo>
                        <a:pt x="107144" y="18424"/>
                      </a:lnTo>
                      <a:lnTo>
                        <a:pt x="110544" y="23047"/>
                      </a:lnTo>
                      <a:lnTo>
                        <a:pt x="110152" y="28189"/>
                      </a:lnTo>
                      <a:lnTo>
                        <a:pt x="108974" y="33008"/>
                      </a:lnTo>
                      <a:lnTo>
                        <a:pt x="107211" y="37500"/>
                      </a:lnTo>
                      <a:lnTo>
                        <a:pt x="104988" y="41600"/>
                      </a:lnTo>
                      <a:lnTo>
                        <a:pt x="102372" y="45247"/>
                      </a:lnTo>
                      <a:lnTo>
                        <a:pt x="99431" y="48502"/>
                      </a:lnTo>
                      <a:lnTo>
                        <a:pt x="96358" y="51367"/>
                      </a:lnTo>
                      <a:lnTo>
                        <a:pt x="93155" y="53710"/>
                      </a:lnTo>
                      <a:lnTo>
                        <a:pt x="87272" y="57616"/>
                      </a:lnTo>
                      <a:lnTo>
                        <a:pt x="81126" y="61197"/>
                      </a:lnTo>
                      <a:lnTo>
                        <a:pt x="68379" y="67773"/>
                      </a:lnTo>
                      <a:lnTo>
                        <a:pt x="55501" y="73957"/>
                      </a:lnTo>
                      <a:lnTo>
                        <a:pt x="42884" y="80337"/>
                      </a:lnTo>
                      <a:lnTo>
                        <a:pt x="30789" y="87303"/>
                      </a:lnTo>
                      <a:lnTo>
                        <a:pt x="25167" y="91209"/>
                      </a:lnTo>
                      <a:lnTo>
                        <a:pt x="19808" y="95441"/>
                      </a:lnTo>
                      <a:lnTo>
                        <a:pt x="14840" y="100064"/>
                      </a:lnTo>
                      <a:lnTo>
                        <a:pt x="10264" y="105141"/>
                      </a:lnTo>
                      <a:lnTo>
                        <a:pt x="6145" y="110870"/>
                      </a:lnTo>
                      <a:lnTo>
                        <a:pt x="2615" y="117120"/>
                      </a:lnTo>
                      <a:lnTo>
                        <a:pt x="1437" y="112172"/>
                      </a:lnTo>
                      <a:lnTo>
                        <a:pt x="718" y="107485"/>
                      </a:lnTo>
                      <a:lnTo>
                        <a:pt x="0" y="98566"/>
                      </a:lnTo>
                      <a:lnTo>
                        <a:pt x="588" y="90168"/>
                      </a:lnTo>
                      <a:lnTo>
                        <a:pt x="2092" y="82355"/>
                      </a:lnTo>
                      <a:lnTo>
                        <a:pt x="4511" y="75064"/>
                      </a:lnTo>
                      <a:lnTo>
                        <a:pt x="7778" y="68227"/>
                      </a:lnTo>
                      <a:lnTo>
                        <a:pt x="11766" y="61782"/>
                      </a:lnTo>
                      <a:lnTo>
                        <a:pt x="16343" y="55793"/>
                      </a:lnTo>
                      <a:lnTo>
                        <a:pt x="21377" y="50064"/>
                      </a:lnTo>
                      <a:lnTo>
                        <a:pt x="26737" y="44661"/>
                      </a:lnTo>
                      <a:lnTo>
                        <a:pt x="38177" y="34439"/>
                      </a:lnTo>
                      <a:lnTo>
                        <a:pt x="49682" y="24805"/>
                      </a:lnTo>
                      <a:lnTo>
                        <a:pt x="60468" y="15299"/>
                      </a:lnTo>
                      <a:lnTo>
                        <a:pt x="66547" y="16927"/>
                      </a:lnTo>
                      <a:lnTo>
                        <a:pt x="72040" y="19205"/>
                      </a:lnTo>
                      <a:lnTo>
                        <a:pt x="72628" y="22460"/>
                      </a:lnTo>
                      <a:lnTo>
                        <a:pt x="72433" y="25520"/>
                      </a:lnTo>
                      <a:lnTo>
                        <a:pt x="71646" y="28320"/>
                      </a:lnTo>
                      <a:lnTo>
                        <a:pt x="70536" y="30859"/>
                      </a:lnTo>
                      <a:lnTo>
                        <a:pt x="69557" y="33202"/>
                      </a:lnTo>
                      <a:lnTo>
                        <a:pt x="68901" y="35155"/>
                      </a:lnTo>
                      <a:lnTo>
                        <a:pt x="68967" y="36979"/>
                      </a:lnTo>
                      <a:lnTo>
                        <a:pt x="70078" y="38345"/>
                      </a:lnTo>
                      <a:lnTo>
                        <a:pt x="72628" y="34765"/>
                      </a:lnTo>
                      <a:lnTo>
                        <a:pt x="75503" y="31379"/>
                      </a:lnTo>
                      <a:lnTo>
                        <a:pt x="78120" y="27668"/>
                      </a:lnTo>
                      <a:lnTo>
                        <a:pt x="79100" y="25455"/>
                      </a:lnTo>
                      <a:lnTo>
                        <a:pt x="79688" y="23047"/>
                      </a:lnTo>
                      <a:lnTo>
                        <a:pt x="76876" y="19205"/>
                      </a:lnTo>
                      <a:lnTo>
                        <a:pt x="74393" y="14844"/>
                      </a:lnTo>
                      <a:lnTo>
                        <a:pt x="71713" y="10807"/>
                      </a:lnTo>
                      <a:lnTo>
                        <a:pt x="70078" y="9049"/>
                      </a:lnTo>
                      <a:lnTo>
                        <a:pt x="68117" y="7682"/>
                      </a:lnTo>
                      <a:lnTo>
                        <a:pt x="67856" y="6119"/>
                      </a:lnTo>
                      <a:lnTo>
                        <a:pt x="67856" y="4882"/>
                      </a:lnTo>
                      <a:lnTo>
                        <a:pt x="68379" y="3060"/>
                      </a:lnTo>
                      <a:lnTo>
                        <a:pt x="69293" y="1627"/>
                      </a:lnTo>
                      <a:lnTo>
                        <a:pt x="700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Freeform: Shape 28"/>
                <p:cNvSpPr/>
                <p:nvPr/>
              </p:nvSpPr>
              <p:spPr>
                <a:xfrm rot="10201200">
                  <a:off x="9923760" y="1218600"/>
                  <a:ext cx="47520" cy="964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54843" h="120766">
                      <a:moveTo>
                        <a:pt x="20133" y="0"/>
                      </a:moveTo>
                      <a:lnTo>
                        <a:pt x="26930" y="9245"/>
                      </a:lnTo>
                      <a:lnTo>
                        <a:pt x="32945" y="18815"/>
                      </a:lnTo>
                      <a:lnTo>
                        <a:pt x="38240" y="28906"/>
                      </a:lnTo>
                      <a:lnTo>
                        <a:pt x="42815" y="39583"/>
                      </a:lnTo>
                      <a:lnTo>
                        <a:pt x="46802" y="50975"/>
                      </a:lnTo>
                      <a:lnTo>
                        <a:pt x="50071" y="63084"/>
                      </a:lnTo>
                      <a:lnTo>
                        <a:pt x="52684" y="76170"/>
                      </a:lnTo>
                      <a:lnTo>
                        <a:pt x="54842" y="90232"/>
                      </a:lnTo>
                      <a:lnTo>
                        <a:pt x="53862" y="93422"/>
                      </a:lnTo>
                      <a:lnTo>
                        <a:pt x="52620" y="96677"/>
                      </a:lnTo>
                      <a:lnTo>
                        <a:pt x="48958" y="103187"/>
                      </a:lnTo>
                      <a:lnTo>
                        <a:pt x="44058" y="109307"/>
                      </a:lnTo>
                      <a:lnTo>
                        <a:pt x="41246" y="112106"/>
                      </a:lnTo>
                      <a:lnTo>
                        <a:pt x="38109" y="114580"/>
                      </a:lnTo>
                      <a:lnTo>
                        <a:pt x="34906" y="116729"/>
                      </a:lnTo>
                      <a:lnTo>
                        <a:pt x="31442" y="118487"/>
                      </a:lnTo>
                      <a:lnTo>
                        <a:pt x="27846" y="119789"/>
                      </a:lnTo>
                      <a:lnTo>
                        <a:pt x="24120" y="120570"/>
                      </a:lnTo>
                      <a:lnTo>
                        <a:pt x="20264" y="120765"/>
                      </a:lnTo>
                      <a:lnTo>
                        <a:pt x="16407" y="120245"/>
                      </a:lnTo>
                      <a:lnTo>
                        <a:pt x="12485" y="119072"/>
                      </a:lnTo>
                      <a:lnTo>
                        <a:pt x="8564" y="117119"/>
                      </a:lnTo>
                      <a:lnTo>
                        <a:pt x="3987" y="110349"/>
                      </a:lnTo>
                      <a:lnTo>
                        <a:pt x="1308" y="103578"/>
                      </a:lnTo>
                      <a:lnTo>
                        <a:pt x="0" y="96742"/>
                      </a:lnTo>
                      <a:lnTo>
                        <a:pt x="64" y="89972"/>
                      </a:lnTo>
                      <a:lnTo>
                        <a:pt x="1178" y="83137"/>
                      </a:lnTo>
                      <a:lnTo>
                        <a:pt x="3138" y="76300"/>
                      </a:lnTo>
                      <a:lnTo>
                        <a:pt x="5687" y="69334"/>
                      </a:lnTo>
                      <a:lnTo>
                        <a:pt x="8694" y="62303"/>
                      </a:lnTo>
                      <a:lnTo>
                        <a:pt x="14970" y="47785"/>
                      </a:lnTo>
                      <a:lnTo>
                        <a:pt x="17780" y="40364"/>
                      </a:lnTo>
                      <a:lnTo>
                        <a:pt x="20198" y="32747"/>
                      </a:lnTo>
                      <a:lnTo>
                        <a:pt x="21766" y="24869"/>
                      </a:lnTo>
                      <a:lnTo>
                        <a:pt x="22486" y="16797"/>
                      </a:lnTo>
                      <a:lnTo>
                        <a:pt x="22028" y="8529"/>
                      </a:lnTo>
                      <a:lnTo>
                        <a:pt x="34775" y="51235"/>
                      </a:lnTo>
                      <a:lnTo>
                        <a:pt x="36409" y="55142"/>
                      </a:lnTo>
                      <a:lnTo>
                        <a:pt x="37781" y="60221"/>
                      </a:lnTo>
                      <a:lnTo>
                        <a:pt x="38892" y="66144"/>
                      </a:lnTo>
                      <a:lnTo>
                        <a:pt x="39481" y="72785"/>
                      </a:lnTo>
                      <a:lnTo>
                        <a:pt x="39415" y="80011"/>
                      </a:lnTo>
                      <a:lnTo>
                        <a:pt x="38632" y="87628"/>
                      </a:lnTo>
                      <a:lnTo>
                        <a:pt x="36998" y="95505"/>
                      </a:lnTo>
                      <a:lnTo>
                        <a:pt x="33336" y="99022"/>
                      </a:lnTo>
                      <a:lnTo>
                        <a:pt x="30395" y="101625"/>
                      </a:lnTo>
                      <a:lnTo>
                        <a:pt x="27912" y="103318"/>
                      </a:lnTo>
                      <a:lnTo>
                        <a:pt x="25885" y="103968"/>
                      </a:lnTo>
                      <a:lnTo>
                        <a:pt x="24120" y="103643"/>
                      </a:lnTo>
                      <a:lnTo>
                        <a:pt x="22617" y="102277"/>
                      </a:lnTo>
                      <a:lnTo>
                        <a:pt x="21114" y="99932"/>
                      </a:lnTo>
                      <a:lnTo>
                        <a:pt x="19610" y="96482"/>
                      </a:lnTo>
                      <a:lnTo>
                        <a:pt x="21049" y="90884"/>
                      </a:lnTo>
                      <a:lnTo>
                        <a:pt x="23009" y="85610"/>
                      </a:lnTo>
                      <a:lnTo>
                        <a:pt x="27584" y="74934"/>
                      </a:lnTo>
                      <a:lnTo>
                        <a:pt x="29742" y="69269"/>
                      </a:lnTo>
                      <a:lnTo>
                        <a:pt x="31506" y="63084"/>
                      </a:lnTo>
                      <a:lnTo>
                        <a:pt x="32748" y="56249"/>
                      </a:lnTo>
                      <a:lnTo>
                        <a:pt x="33141" y="48436"/>
                      </a:lnTo>
                      <a:lnTo>
                        <a:pt x="20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Freeform: Shape 29"/>
                <p:cNvSpPr/>
                <p:nvPr/>
              </p:nvSpPr>
              <p:spPr>
                <a:xfrm rot="10201200">
                  <a:off x="9914760" y="1232280"/>
                  <a:ext cx="36360" cy="720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3131" h="85806">
                      <a:moveTo>
                        <a:pt x="29080" y="8789"/>
                      </a:moveTo>
                      <a:lnTo>
                        <a:pt x="33588" y="18228"/>
                      </a:lnTo>
                      <a:lnTo>
                        <a:pt x="37575" y="28124"/>
                      </a:lnTo>
                      <a:lnTo>
                        <a:pt x="40776" y="38215"/>
                      </a:lnTo>
                      <a:lnTo>
                        <a:pt x="42737" y="48240"/>
                      </a:lnTo>
                      <a:lnTo>
                        <a:pt x="43130" y="53124"/>
                      </a:lnTo>
                      <a:lnTo>
                        <a:pt x="43065" y="57941"/>
                      </a:lnTo>
                      <a:lnTo>
                        <a:pt x="42542" y="62628"/>
                      </a:lnTo>
                      <a:lnTo>
                        <a:pt x="41431" y="67120"/>
                      </a:lnTo>
                      <a:lnTo>
                        <a:pt x="39731" y="71481"/>
                      </a:lnTo>
                      <a:lnTo>
                        <a:pt x="37380" y="75518"/>
                      </a:lnTo>
                      <a:lnTo>
                        <a:pt x="34700" y="78643"/>
                      </a:lnTo>
                      <a:lnTo>
                        <a:pt x="31106" y="81313"/>
                      </a:lnTo>
                      <a:lnTo>
                        <a:pt x="26988" y="83591"/>
                      </a:lnTo>
                      <a:lnTo>
                        <a:pt x="22478" y="85022"/>
                      </a:lnTo>
                      <a:lnTo>
                        <a:pt x="17970" y="85805"/>
                      </a:lnTo>
                      <a:lnTo>
                        <a:pt x="13592" y="85739"/>
                      </a:lnTo>
                      <a:lnTo>
                        <a:pt x="9671" y="84632"/>
                      </a:lnTo>
                      <a:lnTo>
                        <a:pt x="7971" y="83720"/>
                      </a:lnTo>
                      <a:lnTo>
                        <a:pt x="6402" y="82483"/>
                      </a:lnTo>
                      <a:lnTo>
                        <a:pt x="3266" y="78447"/>
                      </a:lnTo>
                      <a:lnTo>
                        <a:pt x="1240" y="73956"/>
                      </a:lnTo>
                      <a:lnTo>
                        <a:pt x="195" y="69072"/>
                      </a:lnTo>
                      <a:lnTo>
                        <a:pt x="0" y="63865"/>
                      </a:lnTo>
                      <a:lnTo>
                        <a:pt x="587" y="58266"/>
                      </a:lnTo>
                      <a:lnTo>
                        <a:pt x="1830" y="52602"/>
                      </a:lnTo>
                      <a:lnTo>
                        <a:pt x="3593" y="46678"/>
                      </a:lnTo>
                      <a:lnTo>
                        <a:pt x="5815" y="40819"/>
                      </a:lnTo>
                      <a:lnTo>
                        <a:pt x="10977" y="29036"/>
                      </a:lnTo>
                      <a:lnTo>
                        <a:pt x="16468" y="17967"/>
                      </a:lnTo>
                      <a:lnTo>
                        <a:pt x="19015" y="12825"/>
                      </a:lnTo>
                      <a:lnTo>
                        <a:pt x="21304" y="8073"/>
                      </a:lnTo>
                      <a:lnTo>
                        <a:pt x="23198" y="3775"/>
                      </a:lnTo>
                      <a:lnTo>
                        <a:pt x="24570" y="0"/>
                      </a:lnTo>
                      <a:lnTo>
                        <a:pt x="29080" y="878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Freeform: Shape 30"/>
                <p:cNvSpPr/>
                <p:nvPr/>
              </p:nvSpPr>
              <p:spPr>
                <a:xfrm rot="10201200">
                  <a:off x="9939960" y="1242720"/>
                  <a:ext cx="12600" cy="4140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6479" h="50326">
                      <a:moveTo>
                        <a:pt x="12622" y="5533"/>
                      </a:moveTo>
                      <a:lnTo>
                        <a:pt x="13536" y="10416"/>
                      </a:lnTo>
                      <a:lnTo>
                        <a:pt x="14321" y="14779"/>
                      </a:lnTo>
                      <a:lnTo>
                        <a:pt x="15041" y="18685"/>
                      </a:lnTo>
                      <a:lnTo>
                        <a:pt x="15565" y="22135"/>
                      </a:lnTo>
                      <a:lnTo>
                        <a:pt x="16022" y="25260"/>
                      </a:lnTo>
                      <a:lnTo>
                        <a:pt x="16478" y="30533"/>
                      </a:lnTo>
                      <a:lnTo>
                        <a:pt x="16219" y="-30511"/>
                      </a:lnTo>
                      <a:lnTo>
                        <a:pt x="15237" y="-26409"/>
                      </a:lnTo>
                      <a:lnTo>
                        <a:pt x="13405" y="-22242"/>
                      </a:lnTo>
                      <a:lnTo>
                        <a:pt x="10595" y="-17685"/>
                      </a:lnTo>
                      <a:lnTo>
                        <a:pt x="9613" y="-16513"/>
                      </a:lnTo>
                      <a:lnTo>
                        <a:pt x="8370" y="-15603"/>
                      </a:lnTo>
                      <a:lnTo>
                        <a:pt x="6998" y="-15211"/>
                      </a:lnTo>
                      <a:lnTo>
                        <a:pt x="5819" y="-15536"/>
                      </a:lnTo>
                      <a:lnTo>
                        <a:pt x="3597" y="-17490"/>
                      </a:lnTo>
                      <a:lnTo>
                        <a:pt x="1896" y="-19768"/>
                      </a:lnTo>
                      <a:lnTo>
                        <a:pt x="786" y="-22177"/>
                      </a:lnTo>
                      <a:lnTo>
                        <a:pt x="196" y="-24847"/>
                      </a:lnTo>
                      <a:lnTo>
                        <a:pt x="0" y="-27777"/>
                      </a:lnTo>
                      <a:lnTo>
                        <a:pt x="131" y="-30771"/>
                      </a:lnTo>
                      <a:lnTo>
                        <a:pt x="1439" y="28255"/>
                      </a:lnTo>
                      <a:lnTo>
                        <a:pt x="3662" y="21420"/>
                      </a:lnTo>
                      <a:lnTo>
                        <a:pt x="6343" y="14323"/>
                      </a:lnTo>
                      <a:lnTo>
                        <a:pt x="9156" y="7096"/>
                      </a:lnTo>
                      <a:lnTo>
                        <a:pt x="11640" y="0"/>
                      </a:lnTo>
                      <a:lnTo>
                        <a:pt x="12622" y="55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0" name="Group 35"/>
            <p:cNvGrpSpPr/>
            <p:nvPr/>
          </p:nvGrpSpPr>
          <p:grpSpPr>
            <a:xfrm>
              <a:off x="5727600" y="222120"/>
              <a:ext cx="4075200" cy="1906560"/>
              <a:chOff x="5727600" y="222120"/>
              <a:chExt cx="4075200" cy="1906560"/>
            </a:xfrm>
          </p:grpSpPr>
          <p:sp>
            <p:nvSpPr>
              <p:cNvPr id="231" name="Freeform: Shape 33"/>
              <p:cNvSpPr/>
              <p:nvPr/>
            </p:nvSpPr>
            <p:spPr>
              <a:xfrm flipH="1">
                <a:off x="5727600" y="222120"/>
                <a:ext cx="4075200" cy="1906560"/>
              </a:xfrm>
              <a:custGeom>
                <a:avLst/>
                <a:gdLst>
                  <a:gd name="textAreaLeft" fmla="*/ 360 w 4075200"/>
                  <a:gd name="textAreaRight" fmla="*/ 4075920 w 4075200"/>
                  <a:gd name="textAreaTop" fmla="*/ 0 h 1906560"/>
                  <a:gd name="textAreaBottom" fmla="*/ 1906920 h 1906560"/>
                </a:gdLst>
                <a:ahLst/>
                <a:rect l="textAreaLeft" t="textAreaTop" r="textAreaRight" b="textAreaBottom"/>
                <a:pathLst>
                  <a:path w="4744670" h="2856320">
                    <a:moveTo>
                      <a:pt x="174838" y="550486"/>
                    </a:moveTo>
                    <a:lnTo>
                      <a:pt x="324329" y="435098"/>
                    </a:lnTo>
                    <a:lnTo>
                      <a:pt x="543363" y="326229"/>
                    </a:lnTo>
                    <a:lnTo>
                      <a:pt x="846241" y="214675"/>
                    </a:lnTo>
                    <a:lnTo>
                      <a:pt x="1211515" y="127654"/>
                    </a:lnTo>
                    <a:lnTo>
                      <a:pt x="1546893" y="72836"/>
                    </a:lnTo>
                    <a:lnTo>
                      <a:pt x="1955713" y="25685"/>
                    </a:lnTo>
                    <a:lnTo>
                      <a:pt x="2377534" y="1917"/>
                    </a:lnTo>
                    <a:lnTo>
                      <a:pt x="2715510" y="0"/>
                    </a:lnTo>
                    <a:lnTo>
                      <a:pt x="3150330" y="13800"/>
                    </a:lnTo>
                    <a:lnTo>
                      <a:pt x="3468158" y="53286"/>
                    </a:lnTo>
                    <a:lnTo>
                      <a:pt x="3835382" y="125354"/>
                    </a:lnTo>
                    <a:lnTo>
                      <a:pt x="4201956" y="257610"/>
                    </a:lnTo>
                    <a:lnTo>
                      <a:pt x="4373545" y="349612"/>
                    </a:lnTo>
                    <a:lnTo>
                      <a:pt x="4510036" y="445833"/>
                    </a:lnTo>
                    <a:lnTo>
                      <a:pt x="4618577" y="558153"/>
                    </a:lnTo>
                    <a:lnTo>
                      <a:pt x="4700472" y="686959"/>
                    </a:lnTo>
                    <a:lnTo>
                      <a:pt x="4744669" y="865980"/>
                    </a:lnTo>
                    <a:lnTo>
                      <a:pt x="4732970" y="1012804"/>
                    </a:lnTo>
                    <a:lnTo>
                      <a:pt x="4668623" y="1189142"/>
                    </a:lnTo>
                    <a:lnTo>
                      <a:pt x="4562683" y="1317180"/>
                    </a:lnTo>
                    <a:lnTo>
                      <a:pt x="4431391" y="1427201"/>
                    </a:lnTo>
                    <a:lnTo>
                      <a:pt x="4283851" y="1514987"/>
                    </a:lnTo>
                    <a:lnTo>
                      <a:pt x="4079764" y="1611973"/>
                    </a:lnTo>
                    <a:lnTo>
                      <a:pt x="3826933" y="1677909"/>
                    </a:lnTo>
                    <a:lnTo>
                      <a:pt x="3565002" y="1717011"/>
                    </a:lnTo>
                    <a:lnTo>
                      <a:pt x="3279670" y="1731962"/>
                    </a:lnTo>
                    <a:lnTo>
                      <a:pt x="3288120" y="1889900"/>
                    </a:lnTo>
                    <a:lnTo>
                      <a:pt x="3231575" y="2050522"/>
                    </a:lnTo>
                    <a:lnTo>
                      <a:pt x="3133431" y="2227629"/>
                    </a:lnTo>
                    <a:lnTo>
                      <a:pt x="2996941" y="2378667"/>
                    </a:lnTo>
                    <a:lnTo>
                      <a:pt x="2787006" y="2562291"/>
                    </a:lnTo>
                    <a:lnTo>
                      <a:pt x="2624517" y="2667328"/>
                    </a:lnTo>
                    <a:lnTo>
                      <a:pt x="2425631" y="2767766"/>
                    </a:lnTo>
                    <a:lnTo>
                      <a:pt x="2193597" y="2856319"/>
                    </a:lnTo>
                    <a:lnTo>
                      <a:pt x="2408733" y="2656978"/>
                    </a:lnTo>
                    <a:lnTo>
                      <a:pt x="2648565" y="2396685"/>
                    </a:lnTo>
                    <a:lnTo>
                      <a:pt x="2738259" y="2249864"/>
                    </a:lnTo>
                    <a:lnTo>
                      <a:pt x="2792856" y="2094991"/>
                    </a:lnTo>
                    <a:lnTo>
                      <a:pt x="2799354" y="1967719"/>
                    </a:lnTo>
                    <a:lnTo>
                      <a:pt x="2764906" y="1855399"/>
                    </a:lnTo>
                    <a:lnTo>
                      <a:pt x="2691463" y="1732729"/>
                    </a:lnTo>
                    <a:lnTo>
                      <a:pt x="2202046" y="1719311"/>
                    </a:lnTo>
                    <a:lnTo>
                      <a:pt x="1819873" y="1693244"/>
                    </a:lnTo>
                    <a:lnTo>
                      <a:pt x="1454599" y="1651075"/>
                    </a:lnTo>
                    <a:lnTo>
                      <a:pt x="1197866" y="1606224"/>
                    </a:lnTo>
                    <a:lnTo>
                      <a:pt x="915785" y="1538755"/>
                    </a:lnTo>
                    <a:lnTo>
                      <a:pt x="698701" y="1480486"/>
                    </a:lnTo>
                    <a:lnTo>
                      <a:pt x="458868" y="1381582"/>
                    </a:lnTo>
                    <a:lnTo>
                      <a:pt x="210586" y="1231310"/>
                    </a:lnTo>
                    <a:lnTo>
                      <a:pt x="116342" y="1160774"/>
                    </a:lnTo>
                    <a:lnTo>
                      <a:pt x="47447" y="1082189"/>
                    </a:lnTo>
                    <a:lnTo>
                      <a:pt x="0" y="983285"/>
                    </a:lnTo>
                    <a:lnTo>
                      <a:pt x="4550" y="858697"/>
                    </a:lnTo>
                    <a:lnTo>
                      <a:pt x="16249" y="763244"/>
                    </a:lnTo>
                    <a:lnTo>
                      <a:pt x="84496" y="648623"/>
                    </a:lnTo>
                    <a:lnTo>
                      <a:pt x="174838" y="550486"/>
                    </a:lnTo>
                    <a:close/>
                  </a:path>
                </a:pathLst>
              </a:custGeom>
              <a:solidFill>
                <a:srgbClr val="ffe4e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TextBox 34"/>
              <p:cNvSpPr/>
              <p:nvPr/>
            </p:nvSpPr>
            <p:spPr>
              <a:xfrm>
                <a:off x="6011280" y="431280"/>
                <a:ext cx="33944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Oh, nein! Alles ist durcheinander! </a:t>
                </a:r>
                <a:r>
                  <a:rPr b="1" lang="en-GB" sz="1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Can you help and put Franz Marc's biography back into the correct order? Read it aloud! 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0.14163 L -0.03109 -0.47262 E">
                                      <p:cBhvr>
                                        <p:cTn id="16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6 0.14458 L -0.7461 -0.37161 E">
                                      <p:cBhvr>
                                        <p:cTn id="16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6032 0.13928 L -0.39594 -0.30536 E">
                                      <p:cBhvr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14193 L -0.72547 -0.27252 E">
                                      <p:cBhvr>
                                        <p:cTn id="175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437 0.14193 L -0.18063 -0.50884 E">
                                      <p:cBhvr>
                                        <p:cTn id="17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97 0.14164 L -0.20562 -0.23425 E">
                                      <p:cBhvr>
                                        <p:cTn id="18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12 0.12545 L 0.13187 -0.29122 E">
                                      <p:cBhvr>
                                        <p:cTn id="19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5 0.14164 L -0.195 -0.3005 E">
                                      <p:cBhvr>
                                        <p:cTn id="19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875 0.14458 L -0.60813 -0.38074 E">
                                      <p:cBhvr>
                                        <p:cTn id="20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85 0.14163 L -0.015 -0.17639 E">
                                      <p:cBhvr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813 0.1387 L 0.10766 -0.37647 E">
                                      <p:cBhvr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13133 L -0.49187 -0.28269 E">
                                      <p:cBhvr>
                                        <p:cTn id="21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81 0.149 L 0.11234 -0.09806 E">
                                      <p:cBhvr>
                                        <p:cTn id="223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8"/>
          <p:cNvSpPr/>
          <p:nvPr/>
        </p:nvSpPr>
        <p:spPr>
          <a:xfrm>
            <a:off x="343080" y="10064880"/>
            <a:ext cx="14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Ko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936720" y="9499680"/>
            <a:ext cx="177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Maler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201240" y="101160"/>
            <a:ext cx="2193840" cy="2386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72"/>
          <p:cNvSpPr/>
          <p:nvPr/>
        </p:nvSpPr>
        <p:spPr>
          <a:xfrm>
            <a:off x="2311560" y="163440"/>
            <a:ext cx="70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Who needs what? Match pictures and job titles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6" descr=""/>
          <p:cNvPicPr/>
          <p:nvPr/>
        </p:nvPicPr>
        <p:blipFill>
          <a:blip r:embed="rId2"/>
          <a:stretch/>
        </p:blipFill>
        <p:spPr>
          <a:xfrm>
            <a:off x="8513640" y="9085320"/>
            <a:ext cx="1597320" cy="1647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6"/>
          <p:cNvSpPr/>
          <p:nvPr/>
        </p:nvSpPr>
        <p:spPr>
          <a:xfrm>
            <a:off x="4282920" y="9425160"/>
            <a:ext cx="284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Polizist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0" descr=""/>
          <p:cNvPicPr/>
          <p:nvPr/>
        </p:nvPicPr>
        <p:blipFill>
          <a:blip r:embed="rId3"/>
          <a:stretch/>
        </p:blipFill>
        <p:spPr>
          <a:xfrm>
            <a:off x="8339040" y="4179960"/>
            <a:ext cx="1648080" cy="171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7"/>
          <p:cNvSpPr/>
          <p:nvPr/>
        </p:nvSpPr>
        <p:spPr>
          <a:xfrm>
            <a:off x="2085840" y="10012320"/>
            <a:ext cx="526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Krankenpfle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2" descr=""/>
          <p:cNvPicPr/>
          <p:nvPr/>
        </p:nvPicPr>
        <p:blipFill>
          <a:blip r:embed="rId4"/>
          <a:stretch/>
        </p:blipFill>
        <p:spPr>
          <a:xfrm>
            <a:off x="7902720" y="64342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6"/>
          <p:cNvSpPr/>
          <p:nvPr/>
        </p:nvSpPr>
        <p:spPr>
          <a:xfrm>
            <a:off x="2362320" y="9088560"/>
            <a:ext cx="212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Lehrer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182" descr=""/>
          <p:cNvPicPr/>
          <p:nvPr/>
        </p:nvPicPr>
        <p:blipFill>
          <a:blip r:embed="rId5"/>
          <a:stretch/>
        </p:blipFill>
        <p:spPr>
          <a:xfrm>
            <a:off x="6537240" y="8910720"/>
            <a:ext cx="1827360" cy="178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184" descr=""/>
          <p:cNvPicPr/>
          <p:nvPr/>
        </p:nvPicPr>
        <p:blipFill>
          <a:blip r:embed="rId6"/>
          <a:stretch/>
        </p:blipFill>
        <p:spPr>
          <a:xfrm>
            <a:off x="8634240" y="1182600"/>
            <a:ext cx="1476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8504E-006 L -0.73407 -0.36573 E">
                                      <p:cBhvr>
                                        <p:cTn id="23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3887 L -0.73968 -0.39576 E">
                                      <p:cBhvr>
                                        <p:cTn id="23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959 C -0.01406 0.0134 -0.06203 -0.00309 -0.07922 -0.00309 C -0.18578 -0.00309 -0.29625 0.25206 -0.29625 0.50736 C -0.29625 0.37868 -0.35109 0.25206 -0.40281 0.25206 C -0.45766 0.25206 -0.50937 0.38074 -0.50937 0.50736 C -0.50937 0.4439 -0.53687 0.37868 -0.56422 0.37868 C -0.59172 0.37868 -0.61922 0.44199 -0.61922 0.50736 C -0.61922 0.47453 -0.63328 0.4439 -0.64672 0.4439 C -0.66062 0.4439 -0.67406 0.47659 -0.67406 0.50736 C -0.67406 0.49102 -0.68109 0.47453 -0.68812 0.47453 C -0.69141 0.47453 -0.70219 0.49072 -0.70219 0.50736 C -0.70219 0.49912 -0.70531 0.49102 -0.70906 0.49102 C -0.70906 0.48896 -0.71609 0.49912 -0.71609 0.50736 C -0.71609 0.50309 -0.71609 0.49912 -0.71937 0.49912 C -0.71937 0.50132 -0.7225 0.50339 -0.7225 0.50736 C -0.7225 0.50515 -0.7225 0.50309 -0.7225 0.50132 C -0.72578 0.50132 -0.72578 0.50339 -0.72578 0.50545 C -0.72906 0.50545 -0.72906 0.50339 -0.72906 0.50132 C -0.73219 0.50132 -0.73219 0.50339 -0.73219 0.50545 E">
                                      <p:cBhvr>
                                        <p:cTn id="2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4.93522E-006 L -0.0764 -0.64768 E">
                                      <p:cBhvr>
                                        <p:cTn id="2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12 2.74441E-006 L -0.28813 2.74441E-006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41814E-007 L 0.05469 -0.53048 E">
                                      <p:cBhvr>
                                        <p:cTn id="25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4 -3.7338E-006 L -0.15078 -0.37544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37 -0.00648 L 0.2386 -0.2313 E">
                                      <p:cBhvr>
                                        <p:cTn id="2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 -0.01295 L 0.68828 -0.64958 E">
                                      <p:cBhvr>
                                        <p:cTn id="26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7 4.1225E-007 L 0.47203 -0.48498 E">
                                      <p:cBhvr>
                                        <p:cTn id="26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9"/>
          <p:cNvSpPr/>
          <p:nvPr/>
        </p:nvSpPr>
        <p:spPr>
          <a:xfrm>
            <a:off x="378000" y="2625840"/>
            <a:ext cx="48909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Ich bi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Du bi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Er i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Wir sind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Ihr seid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Sie sind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195120" y="76320"/>
            <a:ext cx="2058840" cy="2385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72"/>
          <p:cNvSpPr/>
          <p:nvPr/>
        </p:nvSpPr>
        <p:spPr>
          <a:xfrm>
            <a:off x="2158920" y="19224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ake sentenc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6" descr=""/>
          <p:cNvPicPr/>
          <p:nvPr/>
        </p:nvPicPr>
        <p:blipFill>
          <a:blip r:embed="rId2"/>
          <a:stretch/>
        </p:blipFill>
        <p:spPr>
          <a:xfrm>
            <a:off x="7365960" y="270000"/>
            <a:ext cx="1289160" cy="128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8" descr=""/>
          <p:cNvPicPr/>
          <p:nvPr/>
        </p:nvPicPr>
        <p:blipFill>
          <a:blip r:embed="rId3"/>
          <a:stretch/>
        </p:blipFill>
        <p:spPr>
          <a:xfrm>
            <a:off x="8647200" y="7429680"/>
            <a:ext cx="1200240" cy="123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9" descr=""/>
          <p:cNvPicPr/>
          <p:nvPr/>
        </p:nvPicPr>
        <p:blipFill>
          <a:blip r:embed="rId4"/>
          <a:stretch/>
        </p:blipFill>
        <p:spPr>
          <a:xfrm>
            <a:off x="8513640" y="3598920"/>
            <a:ext cx="1052640" cy="1096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0" descr=""/>
          <p:cNvPicPr/>
          <p:nvPr/>
        </p:nvPicPr>
        <p:blipFill>
          <a:blip r:embed="rId5"/>
          <a:stretch/>
        </p:blipFill>
        <p:spPr>
          <a:xfrm>
            <a:off x="8558280" y="5676840"/>
            <a:ext cx="1515960" cy="1515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71" descr=""/>
          <p:cNvPicPr/>
          <p:nvPr/>
        </p:nvPicPr>
        <p:blipFill>
          <a:blip r:embed="rId6"/>
          <a:stretch/>
        </p:blipFill>
        <p:spPr>
          <a:xfrm>
            <a:off x="8720280" y="9456840"/>
            <a:ext cx="1353960" cy="1325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72" descr=""/>
          <p:cNvPicPr/>
          <p:nvPr/>
        </p:nvPicPr>
        <p:blipFill>
          <a:blip r:embed="rId7"/>
          <a:stretch/>
        </p:blipFill>
        <p:spPr>
          <a:xfrm>
            <a:off x="8913960" y="1228680"/>
            <a:ext cx="933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62 0.00132 L -0.35843 0.19376 E">
                                      <p:cBhvr>
                                        <p:cTn id="27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2618E-006 4.80047E-006 L -0.45193 -0.54661 E">
                                      <p:cBhvr>
                                        <p:cTn id="27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28 -0.38389 C -0.07519 -0.40849 -0.10489 -0.43322 -0.11536 -0.43322 C -0.18149 -0.43322 -0.24949 -0.04801 -0.24949 0.33706 C -0.24949 0.14283 -0.28325 -0.04801 -0.31561 -0.04801 C -0.34938 -0.04801 -0.38127 0.14607 -0.38127 0.33706 C -0.38127 0.24149 -0.39846 0.14283 -0.41535 0.14283 C -0.43239 0.14283 -0.44927 0.23869 -0.44927 0.33706 C -0.44927 0.28758 -0.45771 0.24149 -0.46615 0.24149 C -0.47475 0.24149 -0.48319 0.29082 -0.48319 0.33706 C -0.48319 0.31262 -0.48757 0.28758 -0.49179 0.28758 C -0.49382 0.28758 -0.50039 0.31217 -0.50039 0.33706 C -0.50039 0.32484 -0.50242 0.31262 -0.50476 0.31262 C -0.50476 0.30952 -0.5093 0.32484 -0.5093 0.33706 C -0.5093 0.33087 -0.5093 0.32484 -0.51117 0.32484 C -0.51117 0.32793 -0.51321 0.33132 -0.51321 0.33706 C -0.51321 0.33397 -0.51321 0.33087 -0.51321 0.32793 C -0.51508 0.32793 -0.51508 0.33132 -0.51508 0.33426 C -0.51711 0.33426 -0.51711 0.33132 -0.51711 0.32793 C -0.51883 0.32793 -0.51883 0.33132 -0.51883 0.33426 E">
                                      <p:cBhvr>
                                        <p:cTn id="28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8 -0.019 L -0.44985 -0.07568 E">
                                      <p:cBhvr>
                                        <p:cTn id="2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4211 L -0.44328 0.40459 E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8671E-006 6.80312E-007 L -0.44958 0.30334 E">
                                      <p:cBhvr>
                                        <p:cTn id="29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1T17:28:30Z</dcterms:created>
  <dc:creator>Vikas</dc:creator>
  <dc:description/>
  <dc:language>en-US</dc:language>
  <cp:lastModifiedBy>Schultz, Roma</cp:lastModifiedBy>
  <dcterms:modified xsi:type="dcterms:W3CDTF">2018-03-09T16:28:09Z</dcterms:modified>
  <cp:revision>75</cp:revision>
  <dc:subject/>
  <dc:title>PowerPoint Presentation</dc:title>
</cp:coreProperties>
</file>