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5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158413" cy="10782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74960" y="1142640"/>
            <a:ext cx="29080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E41F-95B8-4985-A532-9FAF2B25A43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974960" y="1143000"/>
            <a:ext cx="2908080" cy="30862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31CE-3662-41A5-B3BB-5BAE51D0B31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974960" y="1143000"/>
            <a:ext cx="2908080" cy="3086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en grünen Kreis nach links un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en gelben Kreis nach rechts ob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as rosa Quadrat nach rechts un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en lila Kreis zwischen den grünen Kreis und das rosa Quadr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ein hellblaues Oval nach links ob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das andere hellblaue Oval oben in die Mit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etze das rote Dreieck auf das rosa Quadr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etze das lila Rechteck auf den lila und grünen Kre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ein dunkelblaues Quadrat in das lila Recht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Verdana"/>
              </a:rPr>
              <a:t>Schiebe noch ein blaues Quadrat in das lila Recht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AFC4-BDED-4932-92D3-940A47B781F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974960" y="1143000"/>
            <a:ext cx="2908080" cy="3086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4C97-C3B4-409A-977E-F3DB3CF2640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974960" y="1143000"/>
            <a:ext cx="2908080" cy="308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C385-3759-4DED-BBB7-FCC254350EA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03D-C697-4D32-A20E-99AC7890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87631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6444000"/>
            <a:ext cx="87631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BF0-2FB1-412D-A26F-4396DE98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644400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644400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0E1-DAE5-4991-AD31-3A7B7341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1200" y="287028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000" y="287028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644400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1200" y="644400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4000" y="6444000"/>
            <a:ext cx="28213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1CE-817B-482C-A6A7-070AEA54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2870280"/>
            <a:ext cx="8763120" cy="68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36"/>
              </a:spcBef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A46-3629-42A2-82C1-0978004A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876312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D73-06E7-4607-8A30-2ACCEBF6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6E7-7F34-496A-99C2-0C75BF6F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B55-AE99-4A01-9644-47B686D6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8400" y="574560"/>
            <a:ext cx="8763120" cy="96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36"/>
              </a:spcBef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DA4-21FA-41E5-8535-A63BDFDA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644400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31A-0DF9-471C-806C-4BB05337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644400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F37-F3A4-4D6C-84E4-EE4132B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2870280"/>
            <a:ext cx="427608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6444000"/>
            <a:ext cx="8763120" cy="32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36"/>
              </a:spcBef>
              <a:buNone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1BE-4384-47E7-8C54-8CAEB4CE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574560"/>
            <a:ext cx="87631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2870280"/>
            <a:ext cx="8763120" cy="68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lnSpc>
                <a:spcPct val="90000"/>
              </a:lnSpc>
              <a:spcBef>
                <a:spcPts val="836"/>
              </a:spcBef>
              <a:buClr>
                <a:srgbClr val="000000"/>
              </a:buClr>
              <a:buFont typeface="Arial"/>
              <a:buChar char="•"/>
              <a:tabLst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8400" y="9992880"/>
            <a:ext cx="2286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5280" y="9992880"/>
            <a:ext cx="3429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5520" y="9992880"/>
            <a:ext cx="22860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4EEB-71C9-47A4-AFA4-8AFAABE7F9A8}" type="slidenum">
              <a:rPr b="0" lang="en-GB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hteck 1"/>
          <p:cNvSpPr/>
          <p:nvPr/>
        </p:nvSpPr>
        <p:spPr>
          <a:xfrm>
            <a:off x="1477800" y="2813040"/>
            <a:ext cx="752796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oethe FF Clan"/>
              </a:rPr>
              <a:t>© Goethe-Institut London 20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THIS POWERPOINT IS PART OF THE TEACHING RESOURCES “DEUTSCH MIT FELIX &amp; FRANZI” DEVELOPED BY THE GOETHE-INSTITUT LONDON. THE LESSON PLANS AND ALL ACCOMPANYING MATERIALS ARE PRODUCED FOR PRIMARY SCHOOL TEACHERS OF GERMAN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WW.GOETHE.DE/FELIXUNDFRANZI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WE THANK THE AUTHORS KATJA NEUMANN, NIGEL PEARSON AND EMMA WHITTLE FOR THEIR CONTRIBUTION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A THANK YOU TO BRITTA SCHELLENS AND NAOMI SCHÖNHAGEN FOR THEIR WORK WITH THE WHITEBOARD APPS AND POWERPOI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PROJECT MANAGEMENT: ROMA FRANZISKA SCHULTZ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SELECTED ILLUSTRATIONS: FRIEDERIKE SCHUHMAN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oethe FF Cl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Grafik 2" descr=""/>
          <p:cNvPicPr/>
          <p:nvPr/>
        </p:nvPicPr>
        <p:blipFill>
          <a:blip r:embed="rId1"/>
          <a:stretch/>
        </p:blipFill>
        <p:spPr>
          <a:xfrm>
            <a:off x="1219320" y="6726240"/>
            <a:ext cx="56800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ffff"/>
            </a:gs>
            <a:gs pos="100000">
              <a:srgbClr val="98fb9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9"/>
          <p:cNvSpPr/>
          <p:nvPr/>
        </p:nvSpPr>
        <p:spPr>
          <a:xfrm>
            <a:off x="378000" y="2589120"/>
            <a:ext cx="978192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Verdana"/>
                <a:ea typeface="Verdana"/>
              </a:rPr>
              <a:t>Meine Mama arbeitet in einem / in einer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Verdana"/>
                <a:ea typeface="Verdana"/>
              </a:rPr>
              <a:t>Mein Papa ist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Verdana"/>
                <a:ea typeface="Verdana"/>
              </a:rPr>
              <a:t>Mein Papa ist kein 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Verdana"/>
                <a:ea typeface="Verdana"/>
              </a:rPr>
              <a:t>Meine Papa arbeitet in einem / in einer 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71" descr=""/>
          <p:cNvPicPr/>
          <p:nvPr/>
        </p:nvPicPr>
        <p:blipFill>
          <a:blip r:embed="rId1">
            <a:alphaModFix amt="0"/>
          </a:blip>
          <a:stretch/>
        </p:blipFill>
        <p:spPr>
          <a:xfrm rot="1376400">
            <a:off x="-33480" y="318960"/>
            <a:ext cx="2427480" cy="23860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72"/>
          <p:cNvSpPr/>
          <p:nvPr/>
        </p:nvSpPr>
        <p:spPr>
          <a:xfrm>
            <a:off x="2158920" y="241200"/>
            <a:ext cx="82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Where do your parents 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Grafik 1" descr=""/>
          <p:cNvPicPr/>
          <p:nvPr/>
        </p:nvPicPr>
        <p:blipFill>
          <a:blip r:embed="rId2"/>
          <a:stretch/>
        </p:blipFill>
        <p:spPr>
          <a:xfrm>
            <a:off x="7388280" y="6588000"/>
            <a:ext cx="1249200" cy="1249560"/>
          </a:xfrm>
          <a:prstGeom prst="rect">
            <a:avLst/>
          </a:prstGeom>
          <a:ln w="0">
            <a:noFill/>
          </a:ln>
        </p:spPr>
      </p:pic>
      <p:pic>
        <p:nvPicPr>
          <p:cNvPr id="258" name="Grafik 2" descr=""/>
          <p:cNvPicPr/>
          <p:nvPr/>
        </p:nvPicPr>
        <p:blipFill>
          <a:blip r:embed="rId3"/>
          <a:stretch/>
        </p:blipFill>
        <p:spPr>
          <a:xfrm>
            <a:off x="6929280" y="8956800"/>
            <a:ext cx="1621080" cy="1292040"/>
          </a:xfrm>
          <a:prstGeom prst="rect">
            <a:avLst/>
          </a:prstGeom>
          <a:ln w="0">
            <a:noFill/>
          </a:ln>
        </p:spPr>
      </p:pic>
      <p:pic>
        <p:nvPicPr>
          <p:cNvPr id="259" name="Grafik 3" descr=""/>
          <p:cNvPicPr/>
          <p:nvPr/>
        </p:nvPicPr>
        <p:blipFill>
          <a:blip r:embed="rId4"/>
          <a:stretch/>
        </p:blipFill>
        <p:spPr>
          <a:xfrm>
            <a:off x="4680000" y="8286840"/>
            <a:ext cx="2047680" cy="1539720"/>
          </a:xfrm>
          <a:prstGeom prst="rect">
            <a:avLst/>
          </a:prstGeom>
          <a:ln w="0">
            <a:noFill/>
          </a:ln>
        </p:spPr>
      </p:pic>
      <p:pic>
        <p:nvPicPr>
          <p:cNvPr id="260" name="Grafik 4" descr=""/>
          <p:cNvPicPr/>
          <p:nvPr/>
        </p:nvPicPr>
        <p:blipFill>
          <a:blip r:embed="rId5"/>
          <a:stretch/>
        </p:blipFill>
        <p:spPr>
          <a:xfrm>
            <a:off x="8621640" y="5251320"/>
            <a:ext cx="1427400" cy="1438560"/>
          </a:xfrm>
          <a:prstGeom prst="rect">
            <a:avLst/>
          </a:prstGeom>
          <a:ln w="0">
            <a:noFill/>
          </a:ln>
        </p:spPr>
      </p:pic>
      <p:pic>
        <p:nvPicPr>
          <p:cNvPr id="261" name="Grafik 5" descr=""/>
          <p:cNvPicPr/>
          <p:nvPr/>
        </p:nvPicPr>
        <p:blipFill>
          <a:blip r:embed="rId6"/>
          <a:stretch/>
        </p:blipFill>
        <p:spPr>
          <a:xfrm>
            <a:off x="2106720" y="8836200"/>
            <a:ext cx="1636560" cy="1636560"/>
          </a:xfrm>
          <a:prstGeom prst="rect">
            <a:avLst/>
          </a:prstGeom>
          <a:ln w="0">
            <a:noFill/>
          </a:ln>
        </p:spPr>
      </p:pic>
      <p:pic>
        <p:nvPicPr>
          <p:cNvPr id="262" name="Grafik 6" descr=""/>
          <p:cNvPicPr/>
          <p:nvPr/>
        </p:nvPicPr>
        <p:blipFill>
          <a:blip r:embed="rId7"/>
          <a:stretch/>
        </p:blipFill>
        <p:spPr>
          <a:xfrm>
            <a:off x="378000" y="837576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263" name="Grafik 7" descr=""/>
          <p:cNvPicPr/>
          <p:nvPr/>
        </p:nvPicPr>
        <p:blipFill>
          <a:blip r:embed="rId8"/>
          <a:stretch/>
        </p:blipFill>
        <p:spPr>
          <a:xfrm>
            <a:off x="5380200" y="5141880"/>
            <a:ext cx="1920600" cy="1922400"/>
          </a:xfrm>
          <a:prstGeom prst="rect">
            <a:avLst/>
          </a:prstGeom>
          <a:ln w="0">
            <a:noFill/>
          </a:ln>
        </p:spPr>
      </p:pic>
      <p:pic>
        <p:nvPicPr>
          <p:cNvPr id="264" name="Grafik 8" descr=""/>
          <p:cNvPicPr/>
          <p:nvPr/>
        </p:nvPicPr>
        <p:blipFill>
          <a:blip r:embed="rId9"/>
          <a:stretch/>
        </p:blipFill>
        <p:spPr>
          <a:xfrm>
            <a:off x="1768320" y="5400720"/>
            <a:ext cx="1638360" cy="1635120"/>
          </a:xfrm>
          <a:prstGeom prst="rect">
            <a:avLst/>
          </a:prstGeom>
          <a:ln w="0">
            <a:noFill/>
          </a:ln>
        </p:spPr>
      </p:pic>
      <p:pic>
        <p:nvPicPr>
          <p:cNvPr id="265" name="Grafik 9" descr=""/>
          <p:cNvPicPr/>
          <p:nvPr/>
        </p:nvPicPr>
        <p:blipFill>
          <a:blip r:embed="rId10"/>
          <a:stretch/>
        </p:blipFill>
        <p:spPr>
          <a:xfrm>
            <a:off x="171360" y="6189840"/>
            <a:ext cx="1279440" cy="1277640"/>
          </a:xfrm>
          <a:prstGeom prst="rect">
            <a:avLst/>
          </a:prstGeom>
          <a:ln w="0">
            <a:noFill/>
          </a:ln>
        </p:spPr>
      </p:pic>
      <p:pic>
        <p:nvPicPr>
          <p:cNvPr id="266" name="Grafik 10" descr=""/>
          <p:cNvPicPr/>
          <p:nvPr/>
        </p:nvPicPr>
        <p:blipFill>
          <a:blip r:embed="rId11"/>
          <a:stretch/>
        </p:blipFill>
        <p:spPr>
          <a:xfrm>
            <a:off x="3371760" y="6391440"/>
            <a:ext cx="1992240" cy="1895400"/>
          </a:xfrm>
          <a:prstGeom prst="rect">
            <a:avLst/>
          </a:prstGeom>
          <a:ln w="0">
            <a:noFill/>
          </a:ln>
        </p:spPr>
      </p:pic>
      <p:sp>
        <p:nvSpPr>
          <p:cNvPr id="267" name="Rechteck 11"/>
          <p:cNvSpPr/>
          <p:nvPr/>
        </p:nvSpPr>
        <p:spPr>
          <a:xfrm>
            <a:off x="2513160" y="1144440"/>
            <a:ext cx="584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Meine Mama ist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Meine Mama ist keine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5"/>
          <p:cNvSpPr/>
          <p:nvPr/>
        </p:nvSpPr>
        <p:spPr>
          <a:xfrm>
            <a:off x="2027160" y="2820960"/>
            <a:ext cx="6680160" cy="6213600"/>
          </a:xfrm>
          <a:prstGeom prst="rect">
            <a:avLst/>
          </a:prstGeom>
          <a:solidFill>
            <a:srgbClr val="f2f2f2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: Shape 1"/>
          <p:cNvSpPr/>
          <p:nvPr/>
        </p:nvSpPr>
        <p:spPr>
          <a:xfrm>
            <a:off x="3521160" y="9667800"/>
            <a:ext cx="1073160" cy="10731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72887" h="1072887">
                <a:moveTo>
                  <a:pt x="0" y="0"/>
                </a:moveTo>
                <a:lnTo>
                  <a:pt x="1072886" y="0"/>
                </a:lnTo>
                <a:lnTo>
                  <a:pt x="1072886" y="1072886"/>
                </a:lnTo>
                <a:lnTo>
                  <a:pt x="0" y="107288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: Shape 2"/>
          <p:cNvSpPr/>
          <p:nvPr/>
        </p:nvSpPr>
        <p:spPr>
          <a:xfrm>
            <a:off x="2133720" y="9731520"/>
            <a:ext cx="1089000" cy="946080"/>
          </a:xfrm>
          <a:prstGeom prst="pie">
            <a:avLst/>
          </a:prstGeom>
          <a:solidFill>
            <a:srgbClr val="c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Verdana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3"/>
          <p:cNvSpPr/>
          <p:nvPr/>
        </p:nvSpPr>
        <p:spPr>
          <a:xfrm>
            <a:off x="46080" y="8829720"/>
            <a:ext cx="868320" cy="868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: Shape 4"/>
          <p:cNvSpPr/>
          <p:nvPr/>
        </p:nvSpPr>
        <p:spPr>
          <a:xfrm rot="20393400">
            <a:off x="8983800" y="3243240"/>
            <a:ext cx="974520" cy="974880"/>
          </a:xfrm>
          <a:custGeom>
            <a:avLst/>
            <a:gdLst>
              <a:gd name="textAreaLeft" fmla="*/ 0 w 974520"/>
              <a:gd name="textAreaRight" fmla="*/ 974880 w 9745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974345" h="974346">
                <a:moveTo>
                  <a:pt x="0" y="0"/>
                </a:moveTo>
                <a:lnTo>
                  <a:pt x="974344" y="0"/>
                </a:lnTo>
                <a:lnTo>
                  <a:pt x="974344" y="974345"/>
                </a:lnTo>
                <a:lnTo>
                  <a:pt x="0" y="9743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: Shape 5"/>
          <p:cNvSpPr/>
          <p:nvPr/>
        </p:nvSpPr>
        <p:spPr>
          <a:xfrm rot="1573200">
            <a:off x="263160" y="5105520"/>
            <a:ext cx="546120" cy="1019160"/>
          </a:xfrm>
          <a:custGeom>
            <a:avLst/>
            <a:gdLst>
              <a:gd name="textAreaLeft" fmla="*/ 0 w 546120"/>
              <a:gd name="textAreaRight" fmla="*/ 546480 w 5461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545485" h="1017785">
                <a:moveTo>
                  <a:pt x="0" y="0"/>
                </a:moveTo>
                <a:lnTo>
                  <a:pt x="545484" y="0"/>
                </a:lnTo>
                <a:lnTo>
                  <a:pt x="545484" y="1017784"/>
                </a:lnTo>
                <a:lnTo>
                  <a:pt x="0" y="1017784"/>
                </a:lnTo>
                <a:lnTo>
                  <a:pt x="0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: Shape 6"/>
          <p:cNvSpPr/>
          <p:nvPr/>
        </p:nvSpPr>
        <p:spPr>
          <a:xfrm>
            <a:off x="114480" y="2655720"/>
            <a:ext cx="715680" cy="1293840"/>
          </a:xfrm>
          <a:custGeom>
            <a:avLst/>
            <a:gdLst>
              <a:gd name="textAreaLeft" fmla="*/ 0 w 715680"/>
              <a:gd name="textAreaRight" fmla="*/ 716040 w 71568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716495" h="1294098">
                <a:moveTo>
                  <a:pt x="0" y="0"/>
                </a:moveTo>
                <a:lnTo>
                  <a:pt x="716494" y="0"/>
                </a:lnTo>
                <a:lnTo>
                  <a:pt x="716494" y="1294097"/>
                </a:lnTo>
                <a:lnTo>
                  <a:pt x="0" y="1294097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: Shape 7"/>
          <p:cNvSpPr/>
          <p:nvPr/>
        </p:nvSpPr>
        <p:spPr>
          <a:xfrm>
            <a:off x="8950320" y="4770360"/>
            <a:ext cx="1062000" cy="92088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061471" h="920971">
                <a:moveTo>
                  <a:pt x="530823" y="0"/>
                </a:moveTo>
                <a:lnTo>
                  <a:pt x="1061470" y="920970"/>
                </a:lnTo>
                <a:lnTo>
                  <a:pt x="0" y="920970"/>
                </a:lnTo>
                <a:lnTo>
                  <a:pt x="530823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: Shape 8"/>
          <p:cNvSpPr/>
          <p:nvPr/>
        </p:nvSpPr>
        <p:spPr>
          <a:xfrm rot="20179200">
            <a:off x="8961120" y="6316200"/>
            <a:ext cx="1022400" cy="10242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024200"/>
              <a:gd name="textAreaBottom" fmla="*/ 1024560 h 1024200"/>
            </a:gdLst>
            <a:ahLst/>
            <a:rect l="textAreaLeft" t="textAreaTop" r="textAreaRight" b="textAreaBottom"/>
            <a:pathLst>
              <a:path w="1022755" h="1022751">
                <a:moveTo>
                  <a:pt x="0" y="0"/>
                </a:moveTo>
                <a:lnTo>
                  <a:pt x="1022754" y="0"/>
                </a:lnTo>
                <a:lnTo>
                  <a:pt x="1022754" y="1022750"/>
                </a:lnTo>
                <a:lnTo>
                  <a:pt x="0" y="102275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9"/>
          <p:cNvSpPr/>
          <p:nvPr/>
        </p:nvSpPr>
        <p:spPr>
          <a:xfrm>
            <a:off x="8510760" y="9244080"/>
            <a:ext cx="1400040" cy="146844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4956120" y="9407520"/>
            <a:ext cx="1338480" cy="13381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: Shape 11"/>
          <p:cNvSpPr/>
          <p:nvPr/>
        </p:nvSpPr>
        <p:spPr>
          <a:xfrm>
            <a:off x="46080" y="6481800"/>
            <a:ext cx="1041480" cy="104148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: Shape 12"/>
          <p:cNvSpPr/>
          <p:nvPr/>
        </p:nvSpPr>
        <p:spPr>
          <a:xfrm rot="17995200">
            <a:off x="973080" y="9162720"/>
            <a:ext cx="1227240" cy="10681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1226293" h="1067747">
                <a:moveTo>
                  <a:pt x="613248" y="0"/>
                </a:moveTo>
                <a:lnTo>
                  <a:pt x="1226292" y="1067746"/>
                </a:lnTo>
                <a:lnTo>
                  <a:pt x="0" y="1067746"/>
                </a:lnTo>
                <a:lnTo>
                  <a:pt x="613248" y="0"/>
                </a:lnTo>
                <a:close/>
              </a:path>
            </a:pathLst>
          </a:custGeom>
          <a:solidFill>
            <a:srgbClr val="005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: Shape 13"/>
          <p:cNvSpPr/>
          <p:nvPr/>
        </p:nvSpPr>
        <p:spPr>
          <a:xfrm rot="1774800">
            <a:off x="6822720" y="9229320"/>
            <a:ext cx="835200" cy="1486080"/>
          </a:xfrm>
          <a:custGeom>
            <a:avLst/>
            <a:gdLst>
              <a:gd name="textAreaLeft" fmla="*/ 0 w 835200"/>
              <a:gd name="textAreaRight" fmla="*/ 835560 w 83520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834468" h="1484715">
                <a:moveTo>
                  <a:pt x="0" y="0"/>
                </a:moveTo>
                <a:lnTo>
                  <a:pt x="834467" y="0"/>
                </a:lnTo>
                <a:lnTo>
                  <a:pt x="834467" y="1484714"/>
                </a:lnTo>
                <a:lnTo>
                  <a:pt x="0" y="1484714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: Shape 14"/>
          <p:cNvSpPr/>
          <p:nvPr/>
        </p:nvSpPr>
        <p:spPr>
          <a:xfrm rot="4516800">
            <a:off x="82440" y="4198680"/>
            <a:ext cx="793800" cy="682560"/>
          </a:xfrm>
          <a:custGeom>
            <a:avLst/>
            <a:gdLst>
              <a:gd name="textAreaLeft" fmla="*/ 0 w 793800"/>
              <a:gd name="textAreaRight" fmla="*/ 794160 w 7938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794097" h="682870">
                <a:moveTo>
                  <a:pt x="397114" y="0"/>
                </a:moveTo>
                <a:lnTo>
                  <a:pt x="794096" y="682869"/>
                </a:lnTo>
                <a:lnTo>
                  <a:pt x="0" y="682869"/>
                </a:lnTo>
                <a:lnTo>
                  <a:pt x="397114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32"/>
          <p:cNvGrpSpPr/>
          <p:nvPr/>
        </p:nvGrpSpPr>
        <p:grpSpPr>
          <a:xfrm>
            <a:off x="-1903680" y="-442080"/>
            <a:ext cx="4061160" cy="4140720"/>
            <a:chOff x="-1903680" y="-442080"/>
            <a:chExt cx="4061160" cy="4140720"/>
          </a:xfrm>
        </p:grpSpPr>
        <p:pic>
          <p:nvPicPr>
            <p:cNvPr id="66" name="Picture 16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 rot="2317800">
              <a:off x="-1171080" y="4680"/>
              <a:ext cx="2570040" cy="324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Group 31"/>
            <p:cNvGrpSpPr/>
            <p:nvPr/>
          </p:nvGrpSpPr>
          <p:grpSpPr>
            <a:xfrm>
              <a:off x="869400" y="758160"/>
              <a:ext cx="1288080" cy="1187640"/>
              <a:chOff x="869400" y="758160"/>
              <a:chExt cx="1288080" cy="1187640"/>
            </a:xfrm>
          </p:grpSpPr>
          <p:sp>
            <p:nvSpPr>
              <p:cNvPr id="68" name="Freeform: Shape 17"/>
              <p:cNvSpPr/>
              <p:nvPr/>
            </p:nvSpPr>
            <p:spPr>
              <a:xfrm rot="10800000">
                <a:off x="1913040" y="1001160"/>
                <a:ext cx="207720" cy="25092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213981" h="247966">
                    <a:moveTo>
                      <a:pt x="17399" y="240095"/>
                    </a:moveTo>
                    <a:lnTo>
                      <a:pt x="13099" y="231925"/>
                    </a:lnTo>
                    <a:lnTo>
                      <a:pt x="9399" y="223557"/>
                    </a:lnTo>
                    <a:lnTo>
                      <a:pt x="6300" y="214990"/>
                    </a:lnTo>
                    <a:lnTo>
                      <a:pt x="3900" y="206122"/>
                    </a:lnTo>
                    <a:lnTo>
                      <a:pt x="2000" y="197156"/>
                    </a:lnTo>
                    <a:lnTo>
                      <a:pt x="0" y="178825"/>
                    </a:lnTo>
                    <a:lnTo>
                      <a:pt x="301" y="160195"/>
                    </a:lnTo>
                    <a:lnTo>
                      <a:pt x="2800" y="141467"/>
                    </a:lnTo>
                    <a:lnTo>
                      <a:pt x="7499" y="122837"/>
                    </a:lnTo>
                    <a:lnTo>
                      <a:pt x="14299" y="104705"/>
                    </a:lnTo>
                    <a:lnTo>
                      <a:pt x="22998" y="87172"/>
                    </a:lnTo>
                    <a:lnTo>
                      <a:pt x="33598" y="70434"/>
                    </a:lnTo>
                    <a:lnTo>
                      <a:pt x="46196" y="54893"/>
                    </a:lnTo>
                    <a:lnTo>
                      <a:pt x="53095" y="47521"/>
                    </a:lnTo>
                    <a:lnTo>
                      <a:pt x="60495" y="40547"/>
                    </a:lnTo>
                    <a:lnTo>
                      <a:pt x="68294" y="33973"/>
                    </a:lnTo>
                    <a:lnTo>
                      <a:pt x="76493" y="27795"/>
                    </a:lnTo>
                    <a:lnTo>
                      <a:pt x="85193" y="22117"/>
                    </a:lnTo>
                    <a:lnTo>
                      <a:pt x="94291" y="16837"/>
                    </a:lnTo>
                    <a:lnTo>
                      <a:pt x="103690" y="12055"/>
                    </a:lnTo>
                    <a:lnTo>
                      <a:pt x="113590" y="7870"/>
                    </a:lnTo>
                    <a:lnTo>
                      <a:pt x="123788" y="4185"/>
                    </a:lnTo>
                    <a:lnTo>
                      <a:pt x="134387" y="1096"/>
                    </a:lnTo>
                    <a:lnTo>
                      <a:pt x="140986" y="101"/>
                    </a:lnTo>
                    <a:lnTo>
                      <a:pt x="147386" y="0"/>
                    </a:lnTo>
                    <a:lnTo>
                      <a:pt x="153586" y="897"/>
                    </a:lnTo>
                    <a:lnTo>
                      <a:pt x="159685" y="2591"/>
                    </a:lnTo>
                    <a:lnTo>
                      <a:pt x="165585" y="5081"/>
                    </a:lnTo>
                    <a:lnTo>
                      <a:pt x="171283" y="8370"/>
                    </a:lnTo>
                    <a:lnTo>
                      <a:pt x="176784" y="12254"/>
                    </a:lnTo>
                    <a:lnTo>
                      <a:pt x="182082" y="16738"/>
                    </a:lnTo>
                    <a:lnTo>
                      <a:pt x="191982" y="27298"/>
                    </a:lnTo>
                    <a:lnTo>
                      <a:pt x="200581" y="39252"/>
                    </a:lnTo>
                    <a:lnTo>
                      <a:pt x="208080" y="52403"/>
                    </a:lnTo>
                    <a:lnTo>
                      <a:pt x="213980" y="65852"/>
                    </a:lnTo>
                    <a:lnTo>
                      <a:pt x="213980" y="73822"/>
                    </a:lnTo>
                    <a:lnTo>
                      <a:pt x="213080" y="80994"/>
                    </a:lnTo>
                    <a:lnTo>
                      <a:pt x="211480" y="87570"/>
                    </a:lnTo>
                    <a:lnTo>
                      <a:pt x="209281" y="93547"/>
                    </a:lnTo>
                    <a:lnTo>
                      <a:pt x="206281" y="99027"/>
                    </a:lnTo>
                    <a:lnTo>
                      <a:pt x="202781" y="103908"/>
                    </a:lnTo>
                    <a:lnTo>
                      <a:pt x="198681" y="108391"/>
                    </a:lnTo>
                    <a:lnTo>
                      <a:pt x="193982" y="112477"/>
                    </a:lnTo>
                    <a:lnTo>
                      <a:pt x="183083" y="119849"/>
                    </a:lnTo>
                    <a:lnTo>
                      <a:pt x="170584" y="126224"/>
                    </a:lnTo>
                    <a:lnTo>
                      <a:pt x="156586" y="132400"/>
                    </a:lnTo>
                    <a:lnTo>
                      <a:pt x="141687" y="138578"/>
                    </a:lnTo>
                    <a:lnTo>
                      <a:pt x="125989" y="145352"/>
                    </a:lnTo>
                    <a:lnTo>
                      <a:pt x="109890" y="153222"/>
                    </a:lnTo>
                    <a:lnTo>
                      <a:pt x="93691" y="162488"/>
                    </a:lnTo>
                    <a:lnTo>
                      <a:pt x="77693" y="173844"/>
                    </a:lnTo>
                    <a:lnTo>
                      <a:pt x="69894" y="180320"/>
                    </a:lnTo>
                    <a:lnTo>
                      <a:pt x="62295" y="187493"/>
                    </a:lnTo>
                    <a:lnTo>
                      <a:pt x="54795" y="195463"/>
                    </a:lnTo>
                    <a:lnTo>
                      <a:pt x="47596" y="204130"/>
                    </a:lnTo>
                    <a:lnTo>
                      <a:pt x="40796" y="213694"/>
                    </a:lnTo>
                    <a:lnTo>
                      <a:pt x="34197" y="224154"/>
                    </a:lnTo>
                    <a:lnTo>
                      <a:pt x="27998" y="235512"/>
                    </a:lnTo>
                    <a:lnTo>
                      <a:pt x="22298" y="247965"/>
                    </a:lnTo>
                    <a:lnTo>
                      <a:pt x="17399" y="24009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Freeform: Shape 18"/>
              <p:cNvSpPr/>
              <p:nvPr/>
            </p:nvSpPr>
            <p:spPr>
              <a:xfrm rot="10800000">
                <a:off x="1731240" y="1157400"/>
                <a:ext cx="235440" cy="20736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42577" h="205624">
                    <a:moveTo>
                      <a:pt x="1900" y="108689"/>
                    </a:moveTo>
                    <a:lnTo>
                      <a:pt x="3699" y="105502"/>
                    </a:lnTo>
                    <a:lnTo>
                      <a:pt x="5999" y="102115"/>
                    </a:lnTo>
                    <a:lnTo>
                      <a:pt x="8899" y="98429"/>
                    </a:lnTo>
                    <a:lnTo>
                      <a:pt x="16099" y="90458"/>
                    </a:lnTo>
                    <a:lnTo>
                      <a:pt x="24997" y="81692"/>
                    </a:lnTo>
                    <a:lnTo>
                      <a:pt x="35197" y="72725"/>
                    </a:lnTo>
                    <a:lnTo>
                      <a:pt x="46496" y="63361"/>
                    </a:lnTo>
                    <a:lnTo>
                      <a:pt x="70794" y="44731"/>
                    </a:lnTo>
                    <a:lnTo>
                      <a:pt x="83191" y="35865"/>
                    </a:lnTo>
                    <a:lnTo>
                      <a:pt x="95391" y="27497"/>
                    </a:lnTo>
                    <a:lnTo>
                      <a:pt x="106990" y="19925"/>
                    </a:lnTo>
                    <a:lnTo>
                      <a:pt x="117688" y="13250"/>
                    </a:lnTo>
                    <a:lnTo>
                      <a:pt x="127188" y="7771"/>
                    </a:lnTo>
                    <a:lnTo>
                      <a:pt x="131388" y="5479"/>
                    </a:lnTo>
                    <a:lnTo>
                      <a:pt x="135087" y="3488"/>
                    </a:lnTo>
                    <a:lnTo>
                      <a:pt x="138487" y="1993"/>
                    </a:lnTo>
                    <a:lnTo>
                      <a:pt x="141286" y="897"/>
                    </a:lnTo>
                    <a:lnTo>
                      <a:pt x="143586" y="200"/>
                    </a:lnTo>
                    <a:lnTo>
                      <a:pt x="145186" y="0"/>
                    </a:lnTo>
                    <a:lnTo>
                      <a:pt x="148886" y="2392"/>
                    </a:lnTo>
                    <a:lnTo>
                      <a:pt x="153185" y="5479"/>
                    </a:lnTo>
                    <a:lnTo>
                      <a:pt x="157984" y="9166"/>
                    </a:lnTo>
                    <a:lnTo>
                      <a:pt x="163384" y="13350"/>
                    </a:lnTo>
                    <a:lnTo>
                      <a:pt x="169084" y="18231"/>
                    </a:lnTo>
                    <a:lnTo>
                      <a:pt x="175283" y="23711"/>
                    </a:lnTo>
                    <a:lnTo>
                      <a:pt x="181682" y="29887"/>
                    </a:lnTo>
                    <a:lnTo>
                      <a:pt x="188382" y="36661"/>
                    </a:lnTo>
                    <a:lnTo>
                      <a:pt x="195181" y="44233"/>
                    </a:lnTo>
                    <a:lnTo>
                      <a:pt x="202180" y="52403"/>
                    </a:lnTo>
                    <a:lnTo>
                      <a:pt x="209179" y="61369"/>
                    </a:lnTo>
                    <a:lnTo>
                      <a:pt x="216179" y="71033"/>
                    </a:lnTo>
                    <a:lnTo>
                      <a:pt x="223078" y="81492"/>
                    </a:lnTo>
                    <a:lnTo>
                      <a:pt x="229777" y="92650"/>
                    </a:lnTo>
                    <a:lnTo>
                      <a:pt x="236277" y="104605"/>
                    </a:lnTo>
                    <a:lnTo>
                      <a:pt x="242576" y="117456"/>
                    </a:lnTo>
                    <a:lnTo>
                      <a:pt x="230478" y="125427"/>
                    </a:lnTo>
                    <a:lnTo>
                      <a:pt x="218679" y="132699"/>
                    </a:lnTo>
                    <a:lnTo>
                      <a:pt x="195781" y="145749"/>
                    </a:lnTo>
                    <a:lnTo>
                      <a:pt x="173483" y="156907"/>
                    </a:lnTo>
                    <a:lnTo>
                      <a:pt x="151486" y="166970"/>
                    </a:lnTo>
                    <a:lnTo>
                      <a:pt x="107790" y="185599"/>
                    </a:lnTo>
                    <a:lnTo>
                      <a:pt x="85491" y="195164"/>
                    </a:lnTo>
                    <a:lnTo>
                      <a:pt x="62694" y="205623"/>
                    </a:lnTo>
                    <a:lnTo>
                      <a:pt x="58994" y="197952"/>
                    </a:lnTo>
                    <a:lnTo>
                      <a:pt x="54894" y="191277"/>
                    </a:lnTo>
                    <a:lnTo>
                      <a:pt x="50395" y="185301"/>
                    </a:lnTo>
                    <a:lnTo>
                      <a:pt x="45795" y="180120"/>
                    </a:lnTo>
                    <a:lnTo>
                      <a:pt x="36096" y="171354"/>
                    </a:lnTo>
                    <a:lnTo>
                      <a:pt x="26297" y="163881"/>
                    </a:lnTo>
                    <a:lnTo>
                      <a:pt x="17299" y="156907"/>
                    </a:lnTo>
                    <a:lnTo>
                      <a:pt x="9498" y="149635"/>
                    </a:lnTo>
                    <a:lnTo>
                      <a:pt x="6299" y="145551"/>
                    </a:lnTo>
                    <a:lnTo>
                      <a:pt x="3699" y="140968"/>
                    </a:lnTo>
                    <a:lnTo>
                      <a:pt x="1699" y="135888"/>
                    </a:lnTo>
                    <a:lnTo>
                      <a:pt x="599" y="130109"/>
                    </a:lnTo>
                    <a:lnTo>
                      <a:pt x="0" y="120744"/>
                    </a:lnTo>
                    <a:lnTo>
                      <a:pt x="800" y="111579"/>
                    </a:lnTo>
                    <a:lnTo>
                      <a:pt x="1900" y="10868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solidFill>
                  <a:srgbClr val="e5e5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Freeform: Shape 19"/>
              <p:cNvSpPr/>
              <p:nvPr/>
            </p:nvSpPr>
            <p:spPr>
              <a:xfrm rot="10800000">
                <a:off x="901800" y="1266840"/>
                <a:ext cx="934200" cy="674280"/>
              </a:xfrm>
              <a:custGeom>
                <a:avLst/>
                <a:gdLst>
                  <a:gd name="textAreaLeft" fmla="*/ 0 w 934200"/>
                  <a:gd name="textAreaRight" fmla="*/ 934560 w 934200"/>
                  <a:gd name="textAreaTop" fmla="*/ 0 h 674280"/>
                  <a:gd name="textAreaBottom" fmla="*/ 674280 h 674280"/>
                </a:gdLst>
                <a:ahLst/>
                <a:rect l="textAreaLeft" t="textAreaTop" r="textAreaRight" b="textAreaBottom"/>
                <a:pathLst>
                  <a:path w="963509" h="664690">
                    <a:moveTo>
                      <a:pt x="8299" y="545839"/>
                    </a:moveTo>
                    <a:lnTo>
                      <a:pt x="17299" y="538466"/>
                    </a:lnTo>
                    <a:lnTo>
                      <a:pt x="26797" y="530995"/>
                    </a:lnTo>
                    <a:lnTo>
                      <a:pt x="36996" y="523224"/>
                    </a:lnTo>
                    <a:lnTo>
                      <a:pt x="58895" y="507184"/>
                    </a:lnTo>
                    <a:lnTo>
                      <a:pt x="82892" y="490448"/>
                    </a:lnTo>
                    <a:lnTo>
                      <a:pt x="108890" y="473213"/>
                    </a:lnTo>
                    <a:lnTo>
                      <a:pt x="136387" y="455381"/>
                    </a:lnTo>
                    <a:lnTo>
                      <a:pt x="165584" y="437049"/>
                    </a:lnTo>
                    <a:lnTo>
                      <a:pt x="196082" y="418319"/>
                    </a:lnTo>
                    <a:lnTo>
                      <a:pt x="227778" y="399192"/>
                    </a:lnTo>
                    <a:lnTo>
                      <a:pt x="260375" y="379965"/>
                    </a:lnTo>
                    <a:lnTo>
                      <a:pt x="293872" y="360439"/>
                    </a:lnTo>
                    <a:lnTo>
                      <a:pt x="327969" y="340813"/>
                    </a:lnTo>
                    <a:lnTo>
                      <a:pt x="397462" y="301462"/>
                    </a:lnTo>
                    <a:lnTo>
                      <a:pt x="467256" y="262508"/>
                    </a:lnTo>
                    <a:lnTo>
                      <a:pt x="501952" y="243381"/>
                    </a:lnTo>
                    <a:lnTo>
                      <a:pt x="536148" y="224453"/>
                    </a:lnTo>
                    <a:lnTo>
                      <a:pt x="569845" y="205922"/>
                    </a:lnTo>
                    <a:lnTo>
                      <a:pt x="602742" y="187790"/>
                    </a:lnTo>
                    <a:lnTo>
                      <a:pt x="634639" y="170158"/>
                    </a:lnTo>
                    <a:lnTo>
                      <a:pt x="665437" y="153221"/>
                    </a:lnTo>
                    <a:lnTo>
                      <a:pt x="694834" y="136783"/>
                    </a:lnTo>
                    <a:lnTo>
                      <a:pt x="722831" y="121142"/>
                    </a:lnTo>
                    <a:lnTo>
                      <a:pt x="749128" y="106199"/>
                    </a:lnTo>
                    <a:lnTo>
                      <a:pt x="773626" y="92152"/>
                    </a:lnTo>
                    <a:lnTo>
                      <a:pt x="785025" y="85577"/>
                    </a:lnTo>
                    <a:lnTo>
                      <a:pt x="796023" y="79101"/>
                    </a:lnTo>
                    <a:lnTo>
                      <a:pt x="806423" y="72825"/>
                    </a:lnTo>
                    <a:lnTo>
                      <a:pt x="816322" y="66947"/>
                    </a:lnTo>
                    <a:lnTo>
                      <a:pt x="825522" y="61269"/>
                    </a:lnTo>
                    <a:lnTo>
                      <a:pt x="834220" y="55789"/>
                    </a:lnTo>
                    <a:lnTo>
                      <a:pt x="842220" y="50709"/>
                    </a:lnTo>
                    <a:lnTo>
                      <a:pt x="849518" y="45827"/>
                    </a:lnTo>
                    <a:lnTo>
                      <a:pt x="856217" y="41344"/>
                    </a:lnTo>
                    <a:lnTo>
                      <a:pt x="862118" y="37060"/>
                    </a:lnTo>
                    <a:lnTo>
                      <a:pt x="867317" y="33075"/>
                    </a:lnTo>
                    <a:lnTo>
                      <a:pt x="871817" y="29489"/>
                    </a:lnTo>
                    <a:lnTo>
                      <a:pt x="881216" y="24906"/>
                    </a:lnTo>
                    <a:lnTo>
                      <a:pt x="889815" y="20522"/>
                    </a:lnTo>
                    <a:lnTo>
                      <a:pt x="897814" y="16438"/>
                    </a:lnTo>
                    <a:lnTo>
                      <a:pt x="905313" y="12652"/>
                    </a:lnTo>
                    <a:lnTo>
                      <a:pt x="912213" y="9364"/>
                    </a:lnTo>
                    <a:lnTo>
                      <a:pt x="918512" y="6376"/>
                    </a:lnTo>
                    <a:lnTo>
                      <a:pt x="924411" y="3885"/>
                    </a:lnTo>
                    <a:lnTo>
                      <a:pt x="929811" y="1992"/>
                    </a:lnTo>
                    <a:lnTo>
                      <a:pt x="934810" y="698"/>
                    </a:lnTo>
                    <a:lnTo>
                      <a:pt x="939410" y="0"/>
                    </a:lnTo>
                    <a:lnTo>
                      <a:pt x="943709" y="0"/>
                    </a:lnTo>
                    <a:lnTo>
                      <a:pt x="947710" y="797"/>
                    </a:lnTo>
                    <a:lnTo>
                      <a:pt x="951309" y="2391"/>
                    </a:lnTo>
                    <a:lnTo>
                      <a:pt x="954809" y="4782"/>
                    </a:lnTo>
                    <a:lnTo>
                      <a:pt x="958108" y="8169"/>
                    </a:lnTo>
                    <a:lnTo>
                      <a:pt x="961208" y="12453"/>
                    </a:lnTo>
                    <a:lnTo>
                      <a:pt x="963308" y="17135"/>
                    </a:lnTo>
                    <a:lnTo>
                      <a:pt x="963508" y="21518"/>
                    </a:lnTo>
                    <a:lnTo>
                      <a:pt x="962108" y="25902"/>
                    </a:lnTo>
                    <a:lnTo>
                      <a:pt x="959409" y="30087"/>
                    </a:lnTo>
                    <a:lnTo>
                      <a:pt x="955509" y="34270"/>
                    </a:lnTo>
                    <a:lnTo>
                      <a:pt x="950808" y="38354"/>
                    </a:lnTo>
                    <a:lnTo>
                      <a:pt x="939611" y="46623"/>
                    </a:lnTo>
                    <a:lnTo>
                      <a:pt x="927912" y="55192"/>
                    </a:lnTo>
                    <a:lnTo>
                      <a:pt x="922411" y="59675"/>
                    </a:lnTo>
                    <a:lnTo>
                      <a:pt x="917513" y="64356"/>
                    </a:lnTo>
                    <a:lnTo>
                      <a:pt x="913313" y="69339"/>
                    </a:lnTo>
                    <a:lnTo>
                      <a:pt x="910213" y="74519"/>
                    </a:lnTo>
                    <a:lnTo>
                      <a:pt x="908413" y="79998"/>
                    </a:lnTo>
                    <a:lnTo>
                      <a:pt x="908213" y="85875"/>
                    </a:lnTo>
                    <a:lnTo>
                      <a:pt x="864318" y="121442"/>
                    </a:lnTo>
                    <a:lnTo>
                      <a:pt x="818922" y="157605"/>
                    </a:lnTo>
                    <a:lnTo>
                      <a:pt x="772427" y="194266"/>
                    </a:lnTo>
                    <a:lnTo>
                      <a:pt x="724630" y="231227"/>
                    </a:lnTo>
                    <a:lnTo>
                      <a:pt x="676035" y="268585"/>
                    </a:lnTo>
                    <a:lnTo>
                      <a:pt x="626541" y="305945"/>
                    </a:lnTo>
                    <a:lnTo>
                      <a:pt x="525950" y="380762"/>
                    </a:lnTo>
                    <a:lnTo>
                      <a:pt x="424059" y="454982"/>
                    </a:lnTo>
                    <a:lnTo>
                      <a:pt x="322269" y="527508"/>
                    </a:lnTo>
                    <a:lnTo>
                      <a:pt x="271774" y="562974"/>
                    </a:lnTo>
                    <a:lnTo>
                      <a:pt x="221679" y="597742"/>
                    </a:lnTo>
                    <a:lnTo>
                      <a:pt x="172383" y="631615"/>
                    </a:lnTo>
                    <a:lnTo>
                      <a:pt x="123788" y="664689"/>
                    </a:lnTo>
                    <a:lnTo>
                      <a:pt x="113989" y="663095"/>
                    </a:lnTo>
                    <a:lnTo>
                      <a:pt x="105490" y="660506"/>
                    </a:lnTo>
                    <a:lnTo>
                      <a:pt x="98091" y="656720"/>
                    </a:lnTo>
                    <a:lnTo>
                      <a:pt x="91591" y="652038"/>
                    </a:lnTo>
                    <a:lnTo>
                      <a:pt x="85692" y="646559"/>
                    </a:lnTo>
                    <a:lnTo>
                      <a:pt x="80093" y="640282"/>
                    </a:lnTo>
                    <a:lnTo>
                      <a:pt x="69594" y="625637"/>
                    </a:lnTo>
                    <a:lnTo>
                      <a:pt x="64094" y="617468"/>
                    </a:lnTo>
                    <a:lnTo>
                      <a:pt x="57995" y="609000"/>
                    </a:lnTo>
                    <a:lnTo>
                      <a:pt x="51295" y="600034"/>
                    </a:lnTo>
                    <a:lnTo>
                      <a:pt x="43696" y="590868"/>
                    </a:lnTo>
                    <a:lnTo>
                      <a:pt x="34997" y="581404"/>
                    </a:lnTo>
                    <a:lnTo>
                      <a:pt x="24997" y="571940"/>
                    </a:lnTo>
                    <a:lnTo>
                      <a:pt x="13299" y="562476"/>
                    </a:lnTo>
                    <a:lnTo>
                      <a:pt x="0" y="553012"/>
                    </a:lnTo>
                    <a:lnTo>
                      <a:pt x="8299" y="545839"/>
                    </a:lnTo>
                    <a:close/>
                  </a:path>
                </a:pathLst>
              </a:custGeom>
              <a:solidFill>
                <a:srgbClr val="aa7700"/>
              </a:solidFill>
              <a:ln w="0">
                <a:solidFill>
                  <a:srgbClr val="aa77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Freeform: Shape 20"/>
              <p:cNvSpPr/>
              <p:nvPr/>
            </p:nvSpPr>
            <p:spPr>
              <a:xfrm rot="10800000">
                <a:off x="869400" y="952920"/>
                <a:ext cx="1239120" cy="992880"/>
              </a:xfrm>
              <a:custGeom>
                <a:avLst/>
                <a:gdLst>
                  <a:gd name="textAreaLeft" fmla="*/ 0 w 1239120"/>
                  <a:gd name="textAreaRight" fmla="*/ 1239480 w 1239120"/>
                  <a:gd name="textAreaTop" fmla="*/ 0 h 992880"/>
                  <a:gd name="textAreaBottom" fmla="*/ 993240 h 992880"/>
                </a:gdLst>
                <a:ahLst/>
                <a:rect l="textAreaLeft" t="textAreaTop" r="textAreaRight" b="textAreaBottom"/>
                <a:pathLst>
                  <a:path w="1276679" h="979302">
                    <a:moveTo>
                      <a:pt x="299471" y="567954"/>
                    </a:moveTo>
                    <a:lnTo>
                      <a:pt x="300071" y="566858"/>
                    </a:lnTo>
                    <a:lnTo>
                      <a:pt x="300671" y="564766"/>
                    </a:lnTo>
                    <a:lnTo>
                      <a:pt x="301472" y="558988"/>
                    </a:lnTo>
                    <a:lnTo>
                      <a:pt x="302171" y="553211"/>
                    </a:lnTo>
                    <a:lnTo>
                      <a:pt x="302270" y="551218"/>
                    </a:lnTo>
                    <a:lnTo>
                      <a:pt x="302471" y="550321"/>
                    </a:lnTo>
                    <a:lnTo>
                      <a:pt x="303871" y="548129"/>
                    </a:lnTo>
                    <a:lnTo>
                      <a:pt x="305871" y="545738"/>
                    </a:lnTo>
                    <a:lnTo>
                      <a:pt x="311571" y="539959"/>
                    </a:lnTo>
                    <a:lnTo>
                      <a:pt x="319070" y="533584"/>
                    </a:lnTo>
                    <a:lnTo>
                      <a:pt x="328269" y="526411"/>
                    </a:lnTo>
                    <a:lnTo>
                      <a:pt x="338768" y="518740"/>
                    </a:lnTo>
                    <a:lnTo>
                      <a:pt x="350367" y="510572"/>
                    </a:lnTo>
                    <a:lnTo>
                      <a:pt x="375563" y="493735"/>
                    </a:lnTo>
                    <a:lnTo>
                      <a:pt x="401562" y="477097"/>
                    </a:lnTo>
                    <a:lnTo>
                      <a:pt x="414160" y="469027"/>
                    </a:lnTo>
                    <a:lnTo>
                      <a:pt x="426159" y="461556"/>
                    </a:lnTo>
                    <a:lnTo>
                      <a:pt x="437158" y="454682"/>
                    </a:lnTo>
                    <a:lnTo>
                      <a:pt x="446958" y="448406"/>
                    </a:lnTo>
                    <a:lnTo>
                      <a:pt x="455157" y="443027"/>
                    </a:lnTo>
                    <a:lnTo>
                      <a:pt x="458656" y="440734"/>
                    </a:lnTo>
                    <a:lnTo>
                      <a:pt x="461756" y="438643"/>
                    </a:lnTo>
                    <a:lnTo>
                      <a:pt x="475755" y="429577"/>
                    </a:lnTo>
                    <a:lnTo>
                      <a:pt x="490253" y="420910"/>
                    </a:lnTo>
                    <a:lnTo>
                      <a:pt x="520350" y="404571"/>
                    </a:lnTo>
                    <a:lnTo>
                      <a:pt x="550548" y="388432"/>
                    </a:lnTo>
                    <a:lnTo>
                      <a:pt x="565245" y="380064"/>
                    </a:lnTo>
                    <a:lnTo>
                      <a:pt x="579645" y="371098"/>
                    </a:lnTo>
                    <a:lnTo>
                      <a:pt x="605342" y="355059"/>
                    </a:lnTo>
                    <a:lnTo>
                      <a:pt x="631439" y="339816"/>
                    </a:lnTo>
                    <a:lnTo>
                      <a:pt x="645238" y="332145"/>
                    </a:lnTo>
                    <a:lnTo>
                      <a:pt x="659637" y="324175"/>
                    </a:lnTo>
                    <a:lnTo>
                      <a:pt x="675136" y="315608"/>
                    </a:lnTo>
                    <a:lnTo>
                      <a:pt x="691734" y="306442"/>
                    </a:lnTo>
                    <a:lnTo>
                      <a:pt x="823321" y="232820"/>
                    </a:lnTo>
                    <a:lnTo>
                      <a:pt x="954109" y="159597"/>
                    </a:lnTo>
                    <a:lnTo>
                      <a:pt x="979706" y="146247"/>
                    </a:lnTo>
                    <a:lnTo>
                      <a:pt x="1005904" y="133495"/>
                    </a:lnTo>
                    <a:lnTo>
                      <a:pt x="1031901" y="120644"/>
                    </a:lnTo>
                    <a:lnTo>
                      <a:pt x="1057398" y="106696"/>
                    </a:lnTo>
                    <a:lnTo>
                      <a:pt x="1060499" y="104804"/>
                    </a:lnTo>
                    <a:lnTo>
                      <a:pt x="1064298" y="102512"/>
                    </a:lnTo>
                    <a:lnTo>
                      <a:pt x="1072898" y="97033"/>
                    </a:lnTo>
                    <a:lnTo>
                      <a:pt x="1083097" y="90458"/>
                    </a:lnTo>
                    <a:lnTo>
                      <a:pt x="1094495" y="83086"/>
                    </a:lnTo>
                    <a:lnTo>
                      <a:pt x="1106894" y="75016"/>
                    </a:lnTo>
                    <a:lnTo>
                      <a:pt x="1119993" y="66449"/>
                    </a:lnTo>
                    <a:lnTo>
                      <a:pt x="1147490" y="48815"/>
                    </a:lnTo>
                    <a:lnTo>
                      <a:pt x="1161289" y="40147"/>
                    </a:lnTo>
                    <a:lnTo>
                      <a:pt x="1174688" y="31779"/>
                    </a:lnTo>
                    <a:lnTo>
                      <a:pt x="1187586" y="24108"/>
                    </a:lnTo>
                    <a:lnTo>
                      <a:pt x="1199686" y="17036"/>
                    </a:lnTo>
                    <a:lnTo>
                      <a:pt x="1210584" y="11058"/>
                    </a:lnTo>
                    <a:lnTo>
                      <a:pt x="1220183" y="6276"/>
                    </a:lnTo>
                    <a:lnTo>
                      <a:pt x="1224383" y="4383"/>
                    </a:lnTo>
                    <a:lnTo>
                      <a:pt x="1228183" y="2789"/>
                    </a:lnTo>
                    <a:lnTo>
                      <a:pt x="1231482" y="1693"/>
                    </a:lnTo>
                    <a:lnTo>
                      <a:pt x="1234283" y="996"/>
                    </a:lnTo>
                    <a:lnTo>
                      <a:pt x="1241781" y="0"/>
                    </a:lnTo>
                    <a:lnTo>
                      <a:pt x="1249081" y="0"/>
                    </a:lnTo>
                    <a:lnTo>
                      <a:pt x="1255881" y="996"/>
                    </a:lnTo>
                    <a:lnTo>
                      <a:pt x="1261979" y="3087"/>
                    </a:lnTo>
                    <a:lnTo>
                      <a:pt x="1267279" y="6077"/>
                    </a:lnTo>
                    <a:lnTo>
                      <a:pt x="1271478" y="10161"/>
                    </a:lnTo>
                    <a:lnTo>
                      <a:pt x="1274278" y="15341"/>
                    </a:lnTo>
                    <a:lnTo>
                      <a:pt x="1275578" y="21518"/>
                    </a:lnTo>
                    <a:lnTo>
                      <a:pt x="1276678" y="26101"/>
                    </a:lnTo>
                    <a:lnTo>
                      <a:pt x="1276079" y="31380"/>
                    </a:lnTo>
                    <a:lnTo>
                      <a:pt x="1273779" y="37159"/>
                    </a:lnTo>
                    <a:lnTo>
                      <a:pt x="1269979" y="43536"/>
                    </a:lnTo>
                    <a:lnTo>
                      <a:pt x="1264979" y="50209"/>
                    </a:lnTo>
                    <a:lnTo>
                      <a:pt x="1258979" y="57183"/>
                    </a:lnTo>
                    <a:lnTo>
                      <a:pt x="1251980" y="64356"/>
                    </a:lnTo>
                    <a:lnTo>
                      <a:pt x="1244380" y="71629"/>
                    </a:lnTo>
                    <a:lnTo>
                      <a:pt x="1227982" y="86174"/>
                    </a:lnTo>
                    <a:lnTo>
                      <a:pt x="1211085" y="100122"/>
                    </a:lnTo>
                    <a:lnTo>
                      <a:pt x="1202985" y="106696"/>
                    </a:lnTo>
                    <a:lnTo>
                      <a:pt x="1195385" y="112674"/>
                    </a:lnTo>
                    <a:lnTo>
                      <a:pt x="1188487" y="118253"/>
                    </a:lnTo>
                    <a:lnTo>
                      <a:pt x="1182487" y="123134"/>
                    </a:lnTo>
                    <a:lnTo>
                      <a:pt x="1164489" y="138874"/>
                    </a:lnTo>
                    <a:lnTo>
                      <a:pt x="1146691" y="155014"/>
                    </a:lnTo>
                    <a:lnTo>
                      <a:pt x="1128791" y="171054"/>
                    </a:lnTo>
                    <a:lnTo>
                      <a:pt x="1110394" y="186097"/>
                    </a:lnTo>
                    <a:lnTo>
                      <a:pt x="1042001" y="238200"/>
                    </a:lnTo>
                    <a:lnTo>
                      <a:pt x="1008004" y="264799"/>
                    </a:lnTo>
                    <a:lnTo>
                      <a:pt x="974807" y="291798"/>
                    </a:lnTo>
                    <a:lnTo>
                      <a:pt x="927211" y="331747"/>
                    </a:lnTo>
                    <a:lnTo>
                      <a:pt x="879315" y="371696"/>
                    </a:lnTo>
                    <a:lnTo>
                      <a:pt x="855118" y="391422"/>
                    </a:lnTo>
                    <a:lnTo>
                      <a:pt x="830520" y="410748"/>
                    </a:lnTo>
                    <a:lnTo>
                      <a:pt x="805523" y="429477"/>
                    </a:lnTo>
                    <a:lnTo>
                      <a:pt x="780225" y="447510"/>
                    </a:lnTo>
                    <a:lnTo>
                      <a:pt x="710233" y="495329"/>
                    </a:lnTo>
                    <a:lnTo>
                      <a:pt x="675535" y="519637"/>
                    </a:lnTo>
                    <a:lnTo>
                      <a:pt x="641538" y="544444"/>
                    </a:lnTo>
                    <a:lnTo>
                      <a:pt x="595844" y="580009"/>
                    </a:lnTo>
                    <a:lnTo>
                      <a:pt x="549547" y="615973"/>
                    </a:lnTo>
                    <a:lnTo>
                      <a:pt x="526049" y="633607"/>
                    </a:lnTo>
                    <a:lnTo>
                      <a:pt x="502152" y="650643"/>
                    </a:lnTo>
                    <a:lnTo>
                      <a:pt x="477854" y="667080"/>
                    </a:lnTo>
                    <a:lnTo>
                      <a:pt x="452857" y="682522"/>
                    </a:lnTo>
                    <a:lnTo>
                      <a:pt x="441757" y="688698"/>
                    </a:lnTo>
                    <a:lnTo>
                      <a:pt x="430558" y="694178"/>
                    </a:lnTo>
                    <a:lnTo>
                      <a:pt x="407861" y="704438"/>
                    </a:lnTo>
                    <a:lnTo>
                      <a:pt x="385563" y="714700"/>
                    </a:lnTo>
                    <a:lnTo>
                      <a:pt x="374765" y="720378"/>
                    </a:lnTo>
                    <a:lnTo>
                      <a:pt x="364364" y="726655"/>
                    </a:lnTo>
                    <a:lnTo>
                      <a:pt x="358666" y="730042"/>
                    </a:lnTo>
                    <a:lnTo>
                      <a:pt x="351567" y="733928"/>
                    </a:lnTo>
                    <a:lnTo>
                      <a:pt x="343267" y="738111"/>
                    </a:lnTo>
                    <a:lnTo>
                      <a:pt x="334168" y="742495"/>
                    </a:lnTo>
                    <a:lnTo>
                      <a:pt x="314070" y="751661"/>
                    </a:lnTo>
                    <a:lnTo>
                      <a:pt x="292772" y="761224"/>
                    </a:lnTo>
                    <a:lnTo>
                      <a:pt x="271973" y="770689"/>
                    </a:lnTo>
                    <a:lnTo>
                      <a:pt x="262175" y="775271"/>
                    </a:lnTo>
                    <a:lnTo>
                      <a:pt x="253276" y="779655"/>
                    </a:lnTo>
                    <a:lnTo>
                      <a:pt x="245176" y="783839"/>
                    </a:lnTo>
                    <a:lnTo>
                      <a:pt x="238278" y="787625"/>
                    </a:lnTo>
                    <a:lnTo>
                      <a:pt x="232777" y="791112"/>
                    </a:lnTo>
                    <a:lnTo>
                      <a:pt x="228678" y="794200"/>
                    </a:lnTo>
                    <a:lnTo>
                      <a:pt x="224578" y="798284"/>
                    </a:lnTo>
                    <a:lnTo>
                      <a:pt x="220979" y="802170"/>
                    </a:lnTo>
                    <a:lnTo>
                      <a:pt x="215380" y="809742"/>
                    </a:lnTo>
                    <a:lnTo>
                      <a:pt x="206180" y="823888"/>
                    </a:lnTo>
                    <a:lnTo>
                      <a:pt x="200781" y="830862"/>
                    </a:lnTo>
                    <a:lnTo>
                      <a:pt x="193581" y="837934"/>
                    </a:lnTo>
                    <a:lnTo>
                      <a:pt x="188981" y="841521"/>
                    </a:lnTo>
                    <a:lnTo>
                      <a:pt x="183482" y="845208"/>
                    </a:lnTo>
                    <a:lnTo>
                      <a:pt x="177183" y="848994"/>
                    </a:lnTo>
                    <a:lnTo>
                      <a:pt x="169784" y="852978"/>
                    </a:lnTo>
                    <a:lnTo>
                      <a:pt x="161384" y="856564"/>
                    </a:lnTo>
                    <a:lnTo>
                      <a:pt x="152485" y="859653"/>
                    </a:lnTo>
                    <a:lnTo>
                      <a:pt x="133487" y="865331"/>
                    </a:lnTo>
                    <a:lnTo>
                      <a:pt x="123988" y="868121"/>
                    </a:lnTo>
                    <a:lnTo>
                      <a:pt x="114989" y="871309"/>
                    </a:lnTo>
                    <a:lnTo>
                      <a:pt x="106490" y="874994"/>
                    </a:lnTo>
                    <a:lnTo>
                      <a:pt x="98990" y="879378"/>
                    </a:lnTo>
                    <a:lnTo>
                      <a:pt x="93192" y="883761"/>
                    </a:lnTo>
                    <a:lnTo>
                      <a:pt x="87691" y="888544"/>
                    </a:lnTo>
                    <a:lnTo>
                      <a:pt x="77793" y="899203"/>
                    </a:lnTo>
                    <a:lnTo>
                      <a:pt x="68893" y="911059"/>
                    </a:lnTo>
                    <a:lnTo>
                      <a:pt x="61094" y="923910"/>
                    </a:lnTo>
                    <a:lnTo>
                      <a:pt x="53795" y="937359"/>
                    </a:lnTo>
                    <a:lnTo>
                      <a:pt x="47096" y="951306"/>
                    </a:lnTo>
                    <a:lnTo>
                      <a:pt x="34097" y="979301"/>
                    </a:lnTo>
                    <a:lnTo>
                      <a:pt x="31197" y="978005"/>
                    </a:lnTo>
                    <a:lnTo>
                      <a:pt x="28297" y="975615"/>
                    </a:lnTo>
                    <a:lnTo>
                      <a:pt x="25498" y="972427"/>
                    </a:lnTo>
                    <a:lnTo>
                      <a:pt x="22798" y="968442"/>
                    </a:lnTo>
                    <a:lnTo>
                      <a:pt x="17599" y="958779"/>
                    </a:lnTo>
                    <a:lnTo>
                      <a:pt x="12898" y="947421"/>
                    </a:lnTo>
                    <a:lnTo>
                      <a:pt x="8799" y="935566"/>
                    </a:lnTo>
                    <a:lnTo>
                      <a:pt x="5499" y="924010"/>
                    </a:lnTo>
                    <a:lnTo>
                      <a:pt x="3000" y="913847"/>
                    </a:lnTo>
                    <a:lnTo>
                      <a:pt x="2200" y="909465"/>
                    </a:lnTo>
                    <a:lnTo>
                      <a:pt x="1700" y="905779"/>
                    </a:lnTo>
                    <a:lnTo>
                      <a:pt x="600" y="895119"/>
                    </a:lnTo>
                    <a:lnTo>
                      <a:pt x="0" y="884758"/>
                    </a:lnTo>
                    <a:lnTo>
                      <a:pt x="200" y="874597"/>
                    </a:lnTo>
                    <a:lnTo>
                      <a:pt x="800" y="864734"/>
                    </a:lnTo>
                    <a:lnTo>
                      <a:pt x="1900" y="855170"/>
                    </a:lnTo>
                    <a:lnTo>
                      <a:pt x="3700" y="845805"/>
                    </a:lnTo>
                    <a:lnTo>
                      <a:pt x="8499" y="828072"/>
                    </a:lnTo>
                    <a:lnTo>
                      <a:pt x="14999" y="811435"/>
                    </a:lnTo>
                    <a:lnTo>
                      <a:pt x="23198" y="795894"/>
                    </a:lnTo>
                    <a:lnTo>
                      <a:pt x="32797" y="781348"/>
                    </a:lnTo>
                    <a:lnTo>
                      <a:pt x="43696" y="767899"/>
                    </a:lnTo>
                    <a:lnTo>
                      <a:pt x="55695" y="755546"/>
                    </a:lnTo>
                    <a:lnTo>
                      <a:pt x="68593" y="744188"/>
                    </a:lnTo>
                    <a:lnTo>
                      <a:pt x="82192" y="733928"/>
                    </a:lnTo>
                    <a:lnTo>
                      <a:pt x="96391" y="724662"/>
                    </a:lnTo>
                    <a:lnTo>
                      <a:pt x="110889" y="716294"/>
                    </a:lnTo>
                    <a:lnTo>
                      <a:pt x="125588" y="708922"/>
                    </a:lnTo>
                    <a:lnTo>
                      <a:pt x="140386" y="702645"/>
                    </a:lnTo>
                    <a:lnTo>
                      <a:pt x="154985" y="697265"/>
                    </a:lnTo>
                    <a:lnTo>
                      <a:pt x="156485" y="695075"/>
                    </a:lnTo>
                    <a:lnTo>
                      <a:pt x="157385" y="692285"/>
                    </a:lnTo>
                    <a:lnTo>
                      <a:pt x="158185" y="685710"/>
                    </a:lnTo>
                    <a:lnTo>
                      <a:pt x="158985" y="679035"/>
                    </a:lnTo>
                    <a:lnTo>
                      <a:pt x="159685" y="676145"/>
                    </a:lnTo>
                    <a:lnTo>
                      <a:pt x="160984" y="673755"/>
                    </a:lnTo>
                    <a:lnTo>
                      <a:pt x="161684" y="672859"/>
                    </a:lnTo>
                    <a:lnTo>
                      <a:pt x="162884" y="671563"/>
                    </a:lnTo>
                    <a:lnTo>
                      <a:pt x="166684" y="667977"/>
                    </a:lnTo>
                    <a:lnTo>
                      <a:pt x="172084" y="663294"/>
                    </a:lnTo>
                    <a:lnTo>
                      <a:pt x="178882" y="657516"/>
                    </a:lnTo>
                    <a:lnTo>
                      <a:pt x="186683" y="651040"/>
                    </a:lnTo>
                    <a:lnTo>
                      <a:pt x="195182" y="643867"/>
                    </a:lnTo>
                    <a:lnTo>
                      <a:pt x="213980" y="628725"/>
                    </a:lnTo>
                    <a:lnTo>
                      <a:pt x="233078" y="613482"/>
                    </a:lnTo>
                    <a:lnTo>
                      <a:pt x="242177" y="606309"/>
                    </a:lnTo>
                    <a:lnTo>
                      <a:pt x="250576" y="599634"/>
                    </a:lnTo>
                    <a:lnTo>
                      <a:pt x="258175" y="593757"/>
                    </a:lnTo>
                    <a:lnTo>
                      <a:pt x="264574" y="588875"/>
                    </a:lnTo>
                    <a:lnTo>
                      <a:pt x="269574" y="585090"/>
                    </a:lnTo>
                    <a:lnTo>
                      <a:pt x="271474" y="583694"/>
                    </a:lnTo>
                    <a:lnTo>
                      <a:pt x="272974" y="582699"/>
                    </a:lnTo>
                    <a:lnTo>
                      <a:pt x="279273" y="578814"/>
                    </a:lnTo>
                    <a:lnTo>
                      <a:pt x="286073" y="575227"/>
                    </a:lnTo>
                    <a:lnTo>
                      <a:pt x="1255881" y="23909"/>
                    </a:lnTo>
                    <a:lnTo>
                      <a:pt x="1256080" y="26399"/>
                    </a:lnTo>
                    <a:lnTo>
                      <a:pt x="1255480" y="28990"/>
                    </a:lnTo>
                    <a:lnTo>
                      <a:pt x="1254180" y="31680"/>
                    </a:lnTo>
                    <a:lnTo>
                      <a:pt x="1249980" y="37259"/>
                    </a:lnTo>
                    <a:lnTo>
                      <a:pt x="1244081" y="43036"/>
                    </a:lnTo>
                    <a:lnTo>
                      <a:pt x="1229782" y="54593"/>
                    </a:lnTo>
                    <a:lnTo>
                      <a:pt x="1222883" y="60072"/>
                    </a:lnTo>
                    <a:lnTo>
                      <a:pt x="1216884" y="65252"/>
                    </a:lnTo>
                    <a:lnTo>
                      <a:pt x="1201185" y="79300"/>
                    </a:lnTo>
                    <a:lnTo>
                      <a:pt x="1184886" y="92749"/>
                    </a:lnTo>
                    <a:lnTo>
                      <a:pt x="1151090" y="118054"/>
                    </a:lnTo>
                    <a:lnTo>
                      <a:pt x="1116893" y="142860"/>
                    </a:lnTo>
                    <a:lnTo>
                      <a:pt x="1100095" y="155412"/>
                    </a:lnTo>
                    <a:lnTo>
                      <a:pt x="1083897" y="168463"/>
                    </a:lnTo>
                    <a:lnTo>
                      <a:pt x="1057099" y="190181"/>
                    </a:lnTo>
                    <a:lnTo>
                      <a:pt x="1029801" y="211700"/>
                    </a:lnTo>
                    <a:lnTo>
                      <a:pt x="974807" y="253541"/>
                    </a:lnTo>
                    <a:lnTo>
                      <a:pt x="919612" y="294687"/>
                    </a:lnTo>
                    <a:lnTo>
                      <a:pt x="864318" y="335233"/>
                    </a:lnTo>
                    <a:lnTo>
                      <a:pt x="808923" y="376975"/>
                    </a:lnTo>
                    <a:lnTo>
                      <a:pt x="781225" y="398594"/>
                    </a:lnTo>
                    <a:lnTo>
                      <a:pt x="753628" y="421010"/>
                    </a:lnTo>
                    <a:lnTo>
                      <a:pt x="726930" y="442030"/>
                    </a:lnTo>
                    <a:lnTo>
                      <a:pt x="699133" y="462354"/>
                    </a:lnTo>
                    <a:lnTo>
                      <a:pt x="684735" y="472714"/>
                    </a:lnTo>
                    <a:lnTo>
                      <a:pt x="669736" y="483373"/>
                    </a:lnTo>
                    <a:lnTo>
                      <a:pt x="654438" y="494432"/>
                    </a:lnTo>
                    <a:lnTo>
                      <a:pt x="638639" y="506287"/>
                    </a:lnTo>
                    <a:lnTo>
                      <a:pt x="583045" y="548029"/>
                    </a:lnTo>
                    <a:lnTo>
                      <a:pt x="554947" y="568552"/>
                    </a:lnTo>
                    <a:lnTo>
                      <a:pt x="526550" y="588477"/>
                    </a:lnTo>
                    <a:lnTo>
                      <a:pt x="522450" y="591366"/>
                    </a:lnTo>
                    <a:lnTo>
                      <a:pt x="517450" y="594953"/>
                    </a:lnTo>
                    <a:lnTo>
                      <a:pt x="511551" y="599037"/>
                    </a:lnTo>
                    <a:lnTo>
                      <a:pt x="504852" y="603619"/>
                    </a:lnTo>
                    <a:lnTo>
                      <a:pt x="489853" y="613383"/>
                    </a:lnTo>
                    <a:lnTo>
                      <a:pt x="473155" y="623246"/>
                    </a:lnTo>
                    <a:lnTo>
                      <a:pt x="455756" y="632112"/>
                    </a:lnTo>
                    <a:lnTo>
                      <a:pt x="447157" y="635799"/>
                    </a:lnTo>
                    <a:lnTo>
                      <a:pt x="438658" y="638787"/>
                    </a:lnTo>
                    <a:lnTo>
                      <a:pt x="430459" y="640979"/>
                    </a:lnTo>
                    <a:lnTo>
                      <a:pt x="422560" y="642273"/>
                    </a:lnTo>
                    <a:lnTo>
                      <a:pt x="415260" y="642473"/>
                    </a:lnTo>
                    <a:lnTo>
                      <a:pt x="408661" y="641377"/>
                    </a:lnTo>
                    <a:lnTo>
                      <a:pt x="404362" y="639684"/>
                    </a:lnTo>
                    <a:lnTo>
                      <a:pt x="399862" y="636496"/>
                    </a:lnTo>
                    <a:lnTo>
                      <a:pt x="395062" y="632311"/>
                    </a:lnTo>
                    <a:lnTo>
                      <a:pt x="390063" y="627131"/>
                    </a:lnTo>
                    <a:lnTo>
                      <a:pt x="384864" y="621253"/>
                    </a:lnTo>
                    <a:lnTo>
                      <a:pt x="379564" y="614778"/>
                    </a:lnTo>
                    <a:lnTo>
                      <a:pt x="368465" y="600930"/>
                    </a:lnTo>
                    <a:lnTo>
                      <a:pt x="357066" y="586982"/>
                    </a:lnTo>
                    <a:lnTo>
                      <a:pt x="345567" y="574331"/>
                    </a:lnTo>
                    <a:lnTo>
                      <a:pt x="339867" y="569050"/>
                    </a:lnTo>
                    <a:lnTo>
                      <a:pt x="334168" y="564667"/>
                    </a:lnTo>
                    <a:lnTo>
                      <a:pt x="328568" y="561280"/>
                    </a:lnTo>
                    <a:lnTo>
                      <a:pt x="323069" y="559187"/>
                    </a:lnTo>
                    <a:lnTo>
                      <a:pt x="323069" y="547432"/>
                    </a:lnTo>
                    <a:lnTo>
                      <a:pt x="344067" y="530695"/>
                    </a:lnTo>
                    <a:lnTo>
                      <a:pt x="365965" y="514656"/>
                    </a:lnTo>
                    <a:lnTo>
                      <a:pt x="388362" y="499115"/>
                    </a:lnTo>
                    <a:lnTo>
                      <a:pt x="411461" y="484171"/>
                    </a:lnTo>
                    <a:lnTo>
                      <a:pt x="458456" y="455181"/>
                    </a:lnTo>
                    <a:lnTo>
                      <a:pt x="505952" y="426987"/>
                    </a:lnTo>
                    <a:lnTo>
                      <a:pt x="626140" y="356552"/>
                    </a:lnTo>
                    <a:lnTo>
                      <a:pt x="686735" y="322182"/>
                    </a:lnTo>
                    <a:lnTo>
                      <a:pt x="747728" y="288808"/>
                    </a:lnTo>
                    <a:lnTo>
                      <a:pt x="815622" y="252048"/>
                    </a:lnTo>
                    <a:lnTo>
                      <a:pt x="882116" y="215087"/>
                    </a:lnTo>
                    <a:lnTo>
                      <a:pt x="947809" y="178326"/>
                    </a:lnTo>
                    <a:lnTo>
                      <a:pt x="1013103" y="141963"/>
                    </a:lnTo>
                    <a:lnTo>
                      <a:pt x="1053099" y="119348"/>
                    </a:lnTo>
                    <a:lnTo>
                      <a:pt x="1092296" y="96634"/>
                    </a:lnTo>
                    <a:lnTo>
                      <a:pt x="1169388" y="50907"/>
                    </a:lnTo>
                    <a:lnTo>
                      <a:pt x="1173088" y="48616"/>
                    </a:lnTo>
                    <a:lnTo>
                      <a:pt x="1177688" y="45627"/>
                    </a:lnTo>
                    <a:lnTo>
                      <a:pt x="1182887" y="42240"/>
                    </a:lnTo>
                    <a:lnTo>
                      <a:pt x="1188686" y="38553"/>
                    </a:lnTo>
                    <a:lnTo>
                      <a:pt x="1201385" y="30683"/>
                    </a:lnTo>
                    <a:lnTo>
                      <a:pt x="1214883" y="23212"/>
                    </a:lnTo>
                    <a:lnTo>
                      <a:pt x="1221484" y="20024"/>
                    </a:lnTo>
                    <a:lnTo>
                      <a:pt x="1227882" y="17433"/>
                    </a:lnTo>
                    <a:lnTo>
                      <a:pt x="1233982" y="15541"/>
                    </a:lnTo>
                    <a:lnTo>
                      <a:pt x="1239682" y="14445"/>
                    </a:lnTo>
                    <a:lnTo>
                      <a:pt x="1244682" y="14346"/>
                    </a:lnTo>
                    <a:lnTo>
                      <a:pt x="1248981" y="15441"/>
                    </a:lnTo>
                    <a:lnTo>
                      <a:pt x="1252380" y="17733"/>
                    </a:lnTo>
                    <a:lnTo>
                      <a:pt x="1254880" y="21518"/>
                    </a:lnTo>
                    <a:lnTo>
                      <a:pt x="361966" y="709022"/>
                    </a:lnTo>
                    <a:lnTo>
                      <a:pt x="345767" y="717988"/>
                    </a:lnTo>
                    <a:lnTo>
                      <a:pt x="314570" y="736020"/>
                    </a:lnTo>
                    <a:lnTo>
                      <a:pt x="298571" y="744786"/>
                    </a:lnTo>
                    <a:lnTo>
                      <a:pt x="281773" y="752956"/>
                    </a:lnTo>
                    <a:lnTo>
                      <a:pt x="263474" y="760726"/>
                    </a:lnTo>
                    <a:lnTo>
                      <a:pt x="243477" y="767800"/>
                    </a:lnTo>
                    <a:lnTo>
                      <a:pt x="239077" y="765209"/>
                    </a:lnTo>
                    <a:lnTo>
                      <a:pt x="233877" y="761723"/>
                    </a:lnTo>
                    <a:lnTo>
                      <a:pt x="228278" y="757439"/>
                    </a:lnTo>
                    <a:lnTo>
                      <a:pt x="222378" y="752457"/>
                    </a:lnTo>
                    <a:lnTo>
                      <a:pt x="210180" y="740801"/>
                    </a:lnTo>
                    <a:lnTo>
                      <a:pt x="198581" y="727651"/>
                    </a:lnTo>
                    <a:lnTo>
                      <a:pt x="188583" y="713904"/>
                    </a:lnTo>
                    <a:lnTo>
                      <a:pt x="184682" y="707029"/>
                    </a:lnTo>
                    <a:lnTo>
                      <a:pt x="181683" y="700255"/>
                    </a:lnTo>
                    <a:lnTo>
                      <a:pt x="179682" y="693779"/>
                    </a:lnTo>
                    <a:lnTo>
                      <a:pt x="178882" y="687503"/>
                    </a:lnTo>
                    <a:lnTo>
                      <a:pt x="179483" y="681825"/>
                    </a:lnTo>
                    <a:lnTo>
                      <a:pt x="181582" y="676644"/>
                    </a:lnTo>
                    <a:lnTo>
                      <a:pt x="182483" y="675448"/>
                    </a:lnTo>
                    <a:lnTo>
                      <a:pt x="183983" y="673755"/>
                    </a:lnTo>
                    <a:lnTo>
                      <a:pt x="185982" y="671763"/>
                    </a:lnTo>
                    <a:lnTo>
                      <a:pt x="188583" y="669371"/>
                    </a:lnTo>
                    <a:lnTo>
                      <a:pt x="194882" y="663892"/>
                    </a:lnTo>
                    <a:lnTo>
                      <a:pt x="202781" y="657417"/>
                    </a:lnTo>
                    <a:lnTo>
                      <a:pt x="211779" y="650244"/>
                    </a:lnTo>
                    <a:lnTo>
                      <a:pt x="221779" y="642672"/>
                    </a:lnTo>
                    <a:lnTo>
                      <a:pt x="243176" y="626732"/>
                    </a:lnTo>
                    <a:lnTo>
                      <a:pt x="253976" y="618862"/>
                    </a:lnTo>
                    <a:lnTo>
                      <a:pt x="264574" y="611290"/>
                    </a:lnTo>
                    <a:lnTo>
                      <a:pt x="274574" y="604317"/>
                    </a:lnTo>
                    <a:lnTo>
                      <a:pt x="283673" y="598141"/>
                    </a:lnTo>
                    <a:lnTo>
                      <a:pt x="291572" y="593059"/>
                    </a:lnTo>
                    <a:lnTo>
                      <a:pt x="298072" y="589074"/>
                    </a:lnTo>
                    <a:lnTo>
                      <a:pt x="300671" y="587581"/>
                    </a:lnTo>
                    <a:lnTo>
                      <a:pt x="302771" y="586485"/>
                    </a:lnTo>
                    <a:lnTo>
                      <a:pt x="304371" y="585787"/>
                    </a:lnTo>
                    <a:lnTo>
                      <a:pt x="305371" y="585588"/>
                    </a:lnTo>
                    <a:lnTo>
                      <a:pt x="311770" y="586485"/>
                    </a:lnTo>
                    <a:lnTo>
                      <a:pt x="318769" y="589174"/>
                    </a:lnTo>
                    <a:lnTo>
                      <a:pt x="325868" y="593259"/>
                    </a:lnTo>
                    <a:lnTo>
                      <a:pt x="333168" y="598639"/>
                    </a:lnTo>
                    <a:lnTo>
                      <a:pt x="340567" y="605213"/>
                    </a:lnTo>
                    <a:lnTo>
                      <a:pt x="347667" y="612785"/>
                    </a:lnTo>
                    <a:lnTo>
                      <a:pt x="354466" y="621054"/>
                    </a:lnTo>
                    <a:lnTo>
                      <a:pt x="360966" y="630020"/>
                    </a:lnTo>
                    <a:lnTo>
                      <a:pt x="366664" y="639285"/>
                    </a:lnTo>
                    <a:lnTo>
                      <a:pt x="371864" y="648849"/>
                    </a:lnTo>
                    <a:lnTo>
                      <a:pt x="376064" y="658313"/>
                    </a:lnTo>
                    <a:lnTo>
                      <a:pt x="379363" y="667777"/>
                    </a:lnTo>
                    <a:lnTo>
                      <a:pt x="381363" y="676843"/>
                    </a:lnTo>
                    <a:lnTo>
                      <a:pt x="382063" y="685411"/>
                    </a:lnTo>
                    <a:lnTo>
                      <a:pt x="381363" y="693281"/>
                    </a:lnTo>
                    <a:lnTo>
                      <a:pt x="379064" y="700155"/>
                    </a:lnTo>
                    <a:lnTo>
                      <a:pt x="213480" y="779854"/>
                    </a:lnTo>
                    <a:lnTo>
                      <a:pt x="211680" y="790514"/>
                    </a:lnTo>
                    <a:lnTo>
                      <a:pt x="208680" y="799879"/>
                    </a:lnTo>
                    <a:lnTo>
                      <a:pt x="204581" y="808048"/>
                    </a:lnTo>
                    <a:lnTo>
                      <a:pt x="199480" y="815221"/>
                    </a:lnTo>
                    <a:lnTo>
                      <a:pt x="193481" y="821397"/>
                    </a:lnTo>
                    <a:lnTo>
                      <a:pt x="186683" y="826877"/>
                    </a:lnTo>
                    <a:lnTo>
                      <a:pt x="179282" y="831559"/>
                    </a:lnTo>
                    <a:lnTo>
                      <a:pt x="171184" y="835643"/>
                    </a:lnTo>
                    <a:lnTo>
                      <a:pt x="162685" y="839429"/>
                    </a:lnTo>
                    <a:lnTo>
                      <a:pt x="144686" y="845905"/>
                    </a:lnTo>
                    <a:lnTo>
                      <a:pt x="126187" y="852081"/>
                    </a:lnTo>
                    <a:lnTo>
                      <a:pt x="107889" y="858855"/>
                    </a:lnTo>
                    <a:lnTo>
                      <a:pt x="100591" y="862143"/>
                    </a:lnTo>
                    <a:lnTo>
                      <a:pt x="93891" y="865929"/>
                    </a:lnTo>
                    <a:lnTo>
                      <a:pt x="87691" y="870114"/>
                    </a:lnTo>
                    <a:lnTo>
                      <a:pt x="81892" y="874597"/>
                    </a:lnTo>
                    <a:lnTo>
                      <a:pt x="71494" y="884658"/>
                    </a:lnTo>
                    <a:lnTo>
                      <a:pt x="62294" y="895915"/>
                    </a:lnTo>
                    <a:lnTo>
                      <a:pt x="53994" y="907970"/>
                    </a:lnTo>
                    <a:lnTo>
                      <a:pt x="46296" y="920722"/>
                    </a:lnTo>
                    <a:lnTo>
                      <a:pt x="31197" y="946923"/>
                    </a:lnTo>
                    <a:lnTo>
                      <a:pt x="26498" y="936164"/>
                    </a:lnTo>
                    <a:lnTo>
                      <a:pt x="22898" y="924806"/>
                    </a:lnTo>
                    <a:lnTo>
                      <a:pt x="20297" y="913150"/>
                    </a:lnTo>
                    <a:lnTo>
                      <a:pt x="18598" y="901097"/>
                    </a:lnTo>
                    <a:lnTo>
                      <a:pt x="17898" y="888941"/>
                    </a:lnTo>
                    <a:lnTo>
                      <a:pt x="17898" y="876689"/>
                    </a:lnTo>
                    <a:lnTo>
                      <a:pt x="18898" y="864634"/>
                    </a:lnTo>
                    <a:lnTo>
                      <a:pt x="20697" y="852480"/>
                    </a:lnTo>
                    <a:lnTo>
                      <a:pt x="23098" y="840725"/>
                    </a:lnTo>
                    <a:lnTo>
                      <a:pt x="26297" y="829268"/>
                    </a:lnTo>
                    <a:lnTo>
                      <a:pt x="30097" y="818309"/>
                    </a:lnTo>
                    <a:lnTo>
                      <a:pt x="34596" y="807848"/>
                    </a:lnTo>
                    <a:lnTo>
                      <a:pt x="39596" y="797985"/>
                    </a:lnTo>
                    <a:lnTo>
                      <a:pt x="45095" y="789019"/>
                    </a:lnTo>
                    <a:lnTo>
                      <a:pt x="51195" y="780851"/>
                    </a:lnTo>
                    <a:lnTo>
                      <a:pt x="57694" y="773577"/>
                    </a:lnTo>
                    <a:lnTo>
                      <a:pt x="76993" y="755546"/>
                    </a:lnTo>
                    <a:lnTo>
                      <a:pt x="86792" y="747377"/>
                    </a:lnTo>
                    <a:lnTo>
                      <a:pt x="96690" y="740005"/>
                    </a:lnTo>
                    <a:lnTo>
                      <a:pt x="106689" y="733529"/>
                    </a:lnTo>
                    <a:lnTo>
                      <a:pt x="116689" y="728149"/>
                    </a:lnTo>
                    <a:lnTo>
                      <a:pt x="126688" y="723965"/>
                    </a:lnTo>
                    <a:lnTo>
                      <a:pt x="136787" y="721275"/>
                    </a:lnTo>
                    <a:lnTo>
                      <a:pt x="146786" y="719981"/>
                    </a:lnTo>
                    <a:lnTo>
                      <a:pt x="156685" y="720478"/>
                    </a:lnTo>
                    <a:lnTo>
                      <a:pt x="166584" y="722869"/>
                    </a:lnTo>
                    <a:lnTo>
                      <a:pt x="176283" y="727253"/>
                    </a:lnTo>
                    <a:lnTo>
                      <a:pt x="185982" y="733827"/>
                    </a:lnTo>
                    <a:lnTo>
                      <a:pt x="195481" y="742594"/>
                    </a:lnTo>
                    <a:lnTo>
                      <a:pt x="204780" y="753853"/>
                    </a:lnTo>
                    <a:lnTo>
                      <a:pt x="213980" y="767800"/>
                    </a:lnTo>
                    <a:lnTo>
                      <a:pt x="299471" y="567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Freeform: Shape 21"/>
              <p:cNvSpPr/>
              <p:nvPr/>
            </p:nvSpPr>
            <p:spPr>
              <a:xfrm rot="10800000">
                <a:off x="1831320" y="1318320"/>
                <a:ext cx="56880" cy="48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58895" h="47023">
                    <a:moveTo>
                      <a:pt x="0" y="-29074"/>
                    </a:moveTo>
                    <a:lnTo>
                      <a:pt x="13198" y="27496"/>
                    </a:lnTo>
                    <a:lnTo>
                      <a:pt x="26297" y="17733"/>
                    </a:lnTo>
                    <a:lnTo>
                      <a:pt x="-25240" y="8169"/>
                    </a:lnTo>
                    <a:lnTo>
                      <a:pt x="-17741" y="3885"/>
                    </a:lnTo>
                    <a:lnTo>
                      <a:pt x="-9642" y="0"/>
                    </a:lnTo>
                    <a:lnTo>
                      <a:pt x="-6642" y="8767"/>
                    </a:lnTo>
                    <a:lnTo>
                      <a:pt x="-12342" y="13151"/>
                    </a:lnTo>
                    <a:lnTo>
                      <a:pt x="-18641" y="17933"/>
                    </a:lnTo>
                    <a:lnTo>
                      <a:pt x="-32540" y="27995"/>
                    </a:lnTo>
                    <a:lnTo>
                      <a:pt x="18698" y="-27479"/>
                    </a:lnTo>
                    <a:lnTo>
                      <a:pt x="11999" y="-22798"/>
                    </a:lnTo>
                    <a:lnTo>
                      <a:pt x="5799" y="-18514"/>
                    </a:lnTo>
                    <a:lnTo>
                      <a:pt x="4599" y="-21104"/>
                    </a:lnTo>
                    <a:lnTo>
                      <a:pt x="3099" y="-23495"/>
                    </a:lnTo>
                    <a:lnTo>
                      <a:pt x="1599" y="-25885"/>
                    </a:lnTo>
                    <a:lnTo>
                      <a:pt x="0" y="-290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Freeform: Shape 22"/>
              <p:cNvSpPr/>
              <p:nvPr/>
            </p:nvSpPr>
            <p:spPr>
              <a:xfrm rot="10800000">
                <a:off x="1817640" y="1278360"/>
                <a:ext cx="53640" cy="399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56896" h="39852">
                    <a:moveTo>
                      <a:pt x="-8641" y="9166"/>
                    </a:moveTo>
                    <a:lnTo>
                      <a:pt x="-13640" y="11657"/>
                    </a:lnTo>
                    <a:lnTo>
                      <a:pt x="-19640" y="15144"/>
                    </a:lnTo>
                    <a:lnTo>
                      <a:pt x="-26240" y="19428"/>
                    </a:lnTo>
                    <a:lnTo>
                      <a:pt x="32297" y="24010"/>
                    </a:lnTo>
                    <a:lnTo>
                      <a:pt x="17799" y="-32361"/>
                    </a:lnTo>
                    <a:lnTo>
                      <a:pt x="10799" y="-28575"/>
                    </a:lnTo>
                    <a:lnTo>
                      <a:pt x="4300" y="-25685"/>
                    </a:lnTo>
                    <a:lnTo>
                      <a:pt x="0" y="-31663"/>
                    </a:lnTo>
                    <a:lnTo>
                      <a:pt x="4500" y="30187"/>
                    </a:lnTo>
                    <a:lnTo>
                      <a:pt x="10199" y="25903"/>
                    </a:lnTo>
                    <a:lnTo>
                      <a:pt x="16699" y="21320"/>
                    </a:lnTo>
                    <a:lnTo>
                      <a:pt x="23897" y="16538"/>
                    </a:lnTo>
                    <a:lnTo>
                      <a:pt x="-26640" y="7274"/>
                    </a:lnTo>
                    <a:lnTo>
                      <a:pt x="-19541" y="3289"/>
                    </a:lnTo>
                    <a:lnTo>
                      <a:pt x="-13041" y="0"/>
                    </a:lnTo>
                    <a:lnTo>
                      <a:pt x="-10941" y="1596"/>
                    </a:lnTo>
                    <a:lnTo>
                      <a:pt x="-9941" y="3786"/>
                    </a:lnTo>
                    <a:lnTo>
                      <a:pt x="-8641" y="9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Freeform: Shape 23"/>
              <p:cNvSpPr/>
              <p:nvPr/>
            </p:nvSpPr>
            <p:spPr>
              <a:xfrm rot="10800000">
                <a:off x="1822320" y="1257120"/>
                <a:ext cx="58320" cy="399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60595" h="39253">
                    <a:moveTo>
                      <a:pt x="0" y="31182"/>
                    </a:moveTo>
                    <a:lnTo>
                      <a:pt x="4500" y="28591"/>
                    </a:lnTo>
                    <a:lnTo>
                      <a:pt x="9999" y="25105"/>
                    </a:lnTo>
                    <a:lnTo>
                      <a:pt x="16398" y="21020"/>
                    </a:lnTo>
                    <a:lnTo>
                      <a:pt x="23498" y="16538"/>
                    </a:lnTo>
                    <a:lnTo>
                      <a:pt x="-26740" y="7471"/>
                    </a:lnTo>
                    <a:lnTo>
                      <a:pt x="-18641" y="3486"/>
                    </a:lnTo>
                    <a:lnTo>
                      <a:pt x="-10742" y="0"/>
                    </a:lnTo>
                    <a:lnTo>
                      <a:pt x="-4942" y="7870"/>
                    </a:lnTo>
                    <a:lnTo>
                      <a:pt x="-18641" y="15341"/>
                    </a:lnTo>
                    <a:lnTo>
                      <a:pt x="-32539" y="23511"/>
                    </a:lnTo>
                    <a:lnTo>
                      <a:pt x="19098" y="31580"/>
                    </a:lnTo>
                    <a:lnTo>
                      <a:pt x="5599" y="-26284"/>
                    </a:lnTo>
                    <a:lnTo>
                      <a:pt x="0" y="3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Freeform: Shape 24"/>
              <p:cNvSpPr/>
              <p:nvPr/>
            </p:nvSpPr>
            <p:spPr>
              <a:xfrm rot="10800000">
                <a:off x="1783800" y="1239480"/>
                <a:ext cx="53640" cy="367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5295" h="35866">
                    <a:moveTo>
                      <a:pt x="-15542" y="0"/>
                    </a:moveTo>
                    <a:lnTo>
                      <a:pt x="-10242" y="6675"/>
                    </a:lnTo>
                    <a:lnTo>
                      <a:pt x="-14342" y="9464"/>
                    </a:lnTo>
                    <a:lnTo>
                      <a:pt x="-19941" y="13050"/>
                    </a:lnTo>
                    <a:lnTo>
                      <a:pt x="-26541" y="17135"/>
                    </a:lnTo>
                    <a:lnTo>
                      <a:pt x="31797" y="21519"/>
                    </a:lnTo>
                    <a:lnTo>
                      <a:pt x="17198" y="29887"/>
                    </a:lnTo>
                    <a:lnTo>
                      <a:pt x="10499" y="-32162"/>
                    </a:lnTo>
                    <a:lnTo>
                      <a:pt x="4998" y="-29671"/>
                    </a:lnTo>
                    <a:lnTo>
                      <a:pt x="0" y="28692"/>
                    </a:lnTo>
                    <a:lnTo>
                      <a:pt x="5499" y="25105"/>
                    </a:lnTo>
                    <a:lnTo>
                      <a:pt x="12198" y="21120"/>
                    </a:lnTo>
                    <a:lnTo>
                      <a:pt x="26797" y="12752"/>
                    </a:lnTo>
                    <a:lnTo>
                      <a:pt x="-31540" y="8668"/>
                    </a:lnTo>
                    <a:lnTo>
                      <a:pt x="-25140" y="5081"/>
                    </a:lnTo>
                    <a:lnTo>
                      <a:pt x="-19641" y="2192"/>
                    </a:lnTo>
                    <a:lnTo>
                      <a:pt x="-155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Freeform: Shape 25"/>
              <p:cNvSpPr/>
              <p:nvPr/>
            </p:nvSpPr>
            <p:spPr>
              <a:xfrm rot="10800000">
                <a:off x="1794600" y="1244160"/>
                <a:ext cx="48960" cy="320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49696" h="31980">
                    <a:moveTo>
                      <a:pt x="0" y="25603"/>
                    </a:moveTo>
                    <a:lnTo>
                      <a:pt x="22798" y="11955"/>
                    </a:lnTo>
                    <a:lnTo>
                      <a:pt x="-31239" y="5579"/>
                    </a:lnTo>
                    <a:lnTo>
                      <a:pt x="-19141" y="0"/>
                    </a:lnTo>
                    <a:lnTo>
                      <a:pt x="-15841" y="9464"/>
                    </a:lnTo>
                    <a:lnTo>
                      <a:pt x="-20540" y="11556"/>
                    </a:lnTo>
                    <a:lnTo>
                      <a:pt x="-25940" y="14046"/>
                    </a:lnTo>
                    <a:lnTo>
                      <a:pt x="27697" y="19925"/>
                    </a:lnTo>
                    <a:lnTo>
                      <a:pt x="16299" y="26101"/>
                    </a:lnTo>
                    <a:lnTo>
                      <a:pt x="11299" y="29190"/>
                    </a:lnTo>
                    <a:lnTo>
                      <a:pt x="7300" y="31979"/>
                    </a:lnTo>
                    <a:lnTo>
                      <a:pt x="4799" y="30683"/>
                    </a:lnTo>
                    <a:lnTo>
                      <a:pt x="2899" y="29389"/>
                    </a:lnTo>
                    <a:lnTo>
                      <a:pt x="0" y="25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Freeform: Shape 26"/>
              <p:cNvSpPr/>
              <p:nvPr/>
            </p:nvSpPr>
            <p:spPr>
              <a:xfrm rot="10800000">
                <a:off x="2020680" y="1104480"/>
                <a:ext cx="78480" cy="849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80594" h="83087">
                    <a:moveTo>
                      <a:pt x="74692" y="399"/>
                    </a:moveTo>
                    <a:lnTo>
                      <a:pt x="77292" y="0"/>
                    </a:lnTo>
                    <a:lnTo>
                      <a:pt x="79093" y="99"/>
                    </a:lnTo>
                    <a:lnTo>
                      <a:pt x="80092" y="797"/>
                    </a:lnTo>
                    <a:lnTo>
                      <a:pt x="80593" y="1892"/>
                    </a:lnTo>
                    <a:lnTo>
                      <a:pt x="80593" y="5279"/>
                    </a:lnTo>
                    <a:lnTo>
                      <a:pt x="80492" y="9165"/>
                    </a:lnTo>
                    <a:lnTo>
                      <a:pt x="72993" y="16039"/>
                    </a:lnTo>
                    <a:lnTo>
                      <a:pt x="65994" y="21917"/>
                    </a:lnTo>
                    <a:lnTo>
                      <a:pt x="52994" y="32776"/>
                    </a:lnTo>
                    <a:lnTo>
                      <a:pt x="40197" y="43735"/>
                    </a:lnTo>
                    <a:lnTo>
                      <a:pt x="33397" y="49911"/>
                    </a:lnTo>
                    <a:lnTo>
                      <a:pt x="26097" y="56985"/>
                    </a:lnTo>
                    <a:lnTo>
                      <a:pt x="0" y="83086"/>
                    </a:lnTo>
                    <a:lnTo>
                      <a:pt x="6999" y="69338"/>
                    </a:lnTo>
                    <a:lnTo>
                      <a:pt x="14999" y="56487"/>
                    </a:lnTo>
                    <a:lnTo>
                      <a:pt x="23797" y="44531"/>
                    </a:lnTo>
                    <a:lnTo>
                      <a:pt x="33297" y="33374"/>
                    </a:lnTo>
                    <a:lnTo>
                      <a:pt x="43295" y="23411"/>
                    </a:lnTo>
                    <a:lnTo>
                      <a:pt x="53595" y="14545"/>
                    </a:lnTo>
                    <a:lnTo>
                      <a:pt x="64094" y="6874"/>
                    </a:lnTo>
                    <a:lnTo>
                      <a:pt x="74692" y="39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Freeform: Shape 27"/>
              <p:cNvSpPr/>
              <p:nvPr/>
            </p:nvSpPr>
            <p:spPr>
              <a:xfrm rot="10800000">
                <a:off x="1934640" y="1022040"/>
                <a:ext cx="164520" cy="18180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169085" h="179225">
                    <a:moveTo>
                      <a:pt x="107190" y="0"/>
                    </a:moveTo>
                    <a:lnTo>
                      <a:pt x="118588" y="798"/>
                    </a:lnTo>
                    <a:lnTo>
                      <a:pt x="128687" y="2889"/>
                    </a:lnTo>
                    <a:lnTo>
                      <a:pt x="137487" y="6276"/>
                    </a:lnTo>
                    <a:lnTo>
                      <a:pt x="145286" y="10561"/>
                    </a:lnTo>
                    <a:lnTo>
                      <a:pt x="152086" y="15742"/>
                    </a:lnTo>
                    <a:lnTo>
                      <a:pt x="158285" y="21718"/>
                    </a:lnTo>
                    <a:lnTo>
                      <a:pt x="163884" y="28194"/>
                    </a:lnTo>
                    <a:lnTo>
                      <a:pt x="169084" y="35268"/>
                    </a:lnTo>
                    <a:lnTo>
                      <a:pt x="168484" y="43138"/>
                    </a:lnTo>
                    <a:lnTo>
                      <a:pt x="166685" y="50510"/>
                    </a:lnTo>
                    <a:lnTo>
                      <a:pt x="163985" y="57384"/>
                    </a:lnTo>
                    <a:lnTo>
                      <a:pt x="160585" y="63660"/>
                    </a:lnTo>
                    <a:lnTo>
                      <a:pt x="156586" y="69239"/>
                    </a:lnTo>
                    <a:lnTo>
                      <a:pt x="152086" y="74220"/>
                    </a:lnTo>
                    <a:lnTo>
                      <a:pt x="147386" y="78604"/>
                    </a:lnTo>
                    <a:lnTo>
                      <a:pt x="142486" y="82191"/>
                    </a:lnTo>
                    <a:lnTo>
                      <a:pt x="133488" y="88167"/>
                    </a:lnTo>
                    <a:lnTo>
                      <a:pt x="124089" y="93647"/>
                    </a:lnTo>
                    <a:lnTo>
                      <a:pt x="104590" y="103709"/>
                    </a:lnTo>
                    <a:lnTo>
                      <a:pt x="84892" y="113174"/>
                    </a:lnTo>
                    <a:lnTo>
                      <a:pt x="65594" y="122936"/>
                    </a:lnTo>
                    <a:lnTo>
                      <a:pt x="47096" y="133596"/>
                    </a:lnTo>
                    <a:lnTo>
                      <a:pt x="38496" y="139574"/>
                    </a:lnTo>
                    <a:lnTo>
                      <a:pt x="30297" y="146049"/>
                    </a:lnTo>
                    <a:lnTo>
                      <a:pt x="22698" y="153123"/>
                    </a:lnTo>
                    <a:lnTo>
                      <a:pt x="15698" y="160894"/>
                    </a:lnTo>
                    <a:lnTo>
                      <a:pt x="9399" y="169660"/>
                    </a:lnTo>
                    <a:lnTo>
                      <a:pt x="4000" y="179224"/>
                    </a:lnTo>
                    <a:lnTo>
                      <a:pt x="2201" y="171653"/>
                    </a:lnTo>
                    <a:lnTo>
                      <a:pt x="1101" y="164480"/>
                    </a:lnTo>
                    <a:lnTo>
                      <a:pt x="0" y="150832"/>
                    </a:lnTo>
                    <a:lnTo>
                      <a:pt x="900" y="137979"/>
                    </a:lnTo>
                    <a:lnTo>
                      <a:pt x="3200" y="126025"/>
                    </a:lnTo>
                    <a:lnTo>
                      <a:pt x="6900" y="114866"/>
                    </a:lnTo>
                    <a:lnTo>
                      <a:pt x="11899" y="104407"/>
                    </a:lnTo>
                    <a:lnTo>
                      <a:pt x="17998" y="94544"/>
                    </a:lnTo>
                    <a:lnTo>
                      <a:pt x="24998" y="85378"/>
                    </a:lnTo>
                    <a:lnTo>
                      <a:pt x="32697" y="76612"/>
                    </a:lnTo>
                    <a:lnTo>
                      <a:pt x="40896" y="68343"/>
                    </a:lnTo>
                    <a:lnTo>
                      <a:pt x="58394" y="52701"/>
                    </a:lnTo>
                    <a:lnTo>
                      <a:pt x="75993" y="37958"/>
                    </a:lnTo>
                    <a:lnTo>
                      <a:pt x="92491" y="23412"/>
                    </a:lnTo>
                    <a:lnTo>
                      <a:pt x="101790" y="25903"/>
                    </a:lnTo>
                    <a:lnTo>
                      <a:pt x="110190" y="29389"/>
                    </a:lnTo>
                    <a:lnTo>
                      <a:pt x="111089" y="34371"/>
                    </a:lnTo>
                    <a:lnTo>
                      <a:pt x="110789" y="39054"/>
                    </a:lnTo>
                    <a:lnTo>
                      <a:pt x="109589" y="43337"/>
                    </a:lnTo>
                    <a:lnTo>
                      <a:pt x="107890" y="47222"/>
                    </a:lnTo>
                    <a:lnTo>
                      <a:pt x="106390" y="50809"/>
                    </a:lnTo>
                    <a:lnTo>
                      <a:pt x="105391" y="53797"/>
                    </a:lnTo>
                    <a:lnTo>
                      <a:pt x="105490" y="56587"/>
                    </a:lnTo>
                    <a:lnTo>
                      <a:pt x="107190" y="58679"/>
                    </a:lnTo>
                    <a:lnTo>
                      <a:pt x="111089" y="53200"/>
                    </a:lnTo>
                    <a:lnTo>
                      <a:pt x="115490" y="48020"/>
                    </a:lnTo>
                    <a:lnTo>
                      <a:pt x="119489" y="42341"/>
                    </a:lnTo>
                    <a:lnTo>
                      <a:pt x="120989" y="38953"/>
                    </a:lnTo>
                    <a:lnTo>
                      <a:pt x="121889" y="35268"/>
                    </a:lnTo>
                    <a:lnTo>
                      <a:pt x="117589" y="29389"/>
                    </a:lnTo>
                    <a:lnTo>
                      <a:pt x="113789" y="22715"/>
                    </a:lnTo>
                    <a:lnTo>
                      <a:pt x="109690" y="16538"/>
                    </a:lnTo>
                    <a:lnTo>
                      <a:pt x="107190" y="13848"/>
                    </a:lnTo>
                    <a:lnTo>
                      <a:pt x="104190" y="11756"/>
                    </a:lnTo>
                    <a:lnTo>
                      <a:pt x="103790" y="9365"/>
                    </a:lnTo>
                    <a:lnTo>
                      <a:pt x="103790" y="7473"/>
                    </a:lnTo>
                    <a:lnTo>
                      <a:pt x="104590" y="4682"/>
                    </a:lnTo>
                    <a:lnTo>
                      <a:pt x="105990" y="2492"/>
                    </a:lnTo>
                    <a:lnTo>
                      <a:pt x="10719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Freeform: Shape 28"/>
              <p:cNvSpPr/>
              <p:nvPr/>
            </p:nvSpPr>
            <p:spPr>
              <a:xfrm rot="10800000">
                <a:off x="2061000" y="767880"/>
                <a:ext cx="81360" cy="1864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83893" h="184803">
                    <a:moveTo>
                      <a:pt x="30797" y="0"/>
                    </a:moveTo>
                    <a:lnTo>
                      <a:pt x="41196" y="14147"/>
                    </a:lnTo>
                    <a:lnTo>
                      <a:pt x="50396" y="28791"/>
                    </a:lnTo>
                    <a:lnTo>
                      <a:pt x="58495" y="44233"/>
                    </a:lnTo>
                    <a:lnTo>
                      <a:pt x="65494" y="60572"/>
                    </a:lnTo>
                    <a:lnTo>
                      <a:pt x="71594" y="78006"/>
                    </a:lnTo>
                    <a:lnTo>
                      <a:pt x="76594" y="96535"/>
                    </a:lnTo>
                    <a:lnTo>
                      <a:pt x="80593" y="116560"/>
                    </a:lnTo>
                    <a:lnTo>
                      <a:pt x="83892" y="138078"/>
                    </a:lnTo>
                    <a:lnTo>
                      <a:pt x="82392" y="142960"/>
                    </a:lnTo>
                    <a:lnTo>
                      <a:pt x="80492" y="147941"/>
                    </a:lnTo>
                    <a:lnTo>
                      <a:pt x="74893" y="157904"/>
                    </a:lnTo>
                    <a:lnTo>
                      <a:pt x="67394" y="167268"/>
                    </a:lnTo>
                    <a:lnTo>
                      <a:pt x="63095" y="171552"/>
                    </a:lnTo>
                    <a:lnTo>
                      <a:pt x="58294" y="175338"/>
                    </a:lnTo>
                    <a:lnTo>
                      <a:pt x="53396" y="178626"/>
                    </a:lnTo>
                    <a:lnTo>
                      <a:pt x="48096" y="181316"/>
                    </a:lnTo>
                    <a:lnTo>
                      <a:pt x="42596" y="183308"/>
                    </a:lnTo>
                    <a:lnTo>
                      <a:pt x="36897" y="184503"/>
                    </a:lnTo>
                    <a:lnTo>
                      <a:pt x="30997" y="184802"/>
                    </a:lnTo>
                    <a:lnTo>
                      <a:pt x="25098" y="184005"/>
                    </a:lnTo>
                    <a:lnTo>
                      <a:pt x="19098" y="182212"/>
                    </a:lnTo>
                    <a:lnTo>
                      <a:pt x="13099" y="179224"/>
                    </a:lnTo>
                    <a:lnTo>
                      <a:pt x="6100" y="168862"/>
                    </a:lnTo>
                    <a:lnTo>
                      <a:pt x="2000" y="158501"/>
                    </a:lnTo>
                    <a:lnTo>
                      <a:pt x="0" y="148042"/>
                    </a:lnTo>
                    <a:lnTo>
                      <a:pt x="100" y="137681"/>
                    </a:lnTo>
                    <a:lnTo>
                      <a:pt x="1801" y="127220"/>
                    </a:lnTo>
                    <a:lnTo>
                      <a:pt x="4800" y="116759"/>
                    </a:lnTo>
                    <a:lnTo>
                      <a:pt x="8699" y="106100"/>
                    </a:lnTo>
                    <a:lnTo>
                      <a:pt x="13299" y="95340"/>
                    </a:lnTo>
                    <a:lnTo>
                      <a:pt x="22898" y="73124"/>
                    </a:lnTo>
                    <a:lnTo>
                      <a:pt x="27198" y="61767"/>
                    </a:lnTo>
                    <a:lnTo>
                      <a:pt x="30898" y="50111"/>
                    </a:lnTo>
                    <a:lnTo>
                      <a:pt x="33297" y="38057"/>
                    </a:lnTo>
                    <a:lnTo>
                      <a:pt x="34397" y="25703"/>
                    </a:lnTo>
                    <a:lnTo>
                      <a:pt x="33697" y="13051"/>
                    </a:lnTo>
                    <a:lnTo>
                      <a:pt x="53195" y="78404"/>
                    </a:lnTo>
                    <a:lnTo>
                      <a:pt x="55694" y="84382"/>
                    </a:lnTo>
                    <a:lnTo>
                      <a:pt x="57795" y="92153"/>
                    </a:lnTo>
                    <a:lnTo>
                      <a:pt x="59494" y="101218"/>
                    </a:lnTo>
                    <a:lnTo>
                      <a:pt x="60395" y="111379"/>
                    </a:lnTo>
                    <a:lnTo>
                      <a:pt x="60294" y="122437"/>
                    </a:lnTo>
                    <a:lnTo>
                      <a:pt x="59094" y="134093"/>
                    </a:lnTo>
                    <a:lnTo>
                      <a:pt x="56595" y="146148"/>
                    </a:lnTo>
                    <a:lnTo>
                      <a:pt x="50996" y="151528"/>
                    </a:lnTo>
                    <a:lnTo>
                      <a:pt x="46496" y="155513"/>
                    </a:lnTo>
                    <a:lnTo>
                      <a:pt x="42696" y="158104"/>
                    </a:lnTo>
                    <a:lnTo>
                      <a:pt x="39596" y="159099"/>
                    </a:lnTo>
                    <a:lnTo>
                      <a:pt x="36897" y="158602"/>
                    </a:lnTo>
                    <a:lnTo>
                      <a:pt x="34597" y="156509"/>
                    </a:lnTo>
                    <a:lnTo>
                      <a:pt x="32297" y="152922"/>
                    </a:lnTo>
                    <a:lnTo>
                      <a:pt x="29997" y="147643"/>
                    </a:lnTo>
                    <a:lnTo>
                      <a:pt x="32197" y="139075"/>
                    </a:lnTo>
                    <a:lnTo>
                      <a:pt x="35197" y="131006"/>
                    </a:lnTo>
                    <a:lnTo>
                      <a:pt x="42196" y="114667"/>
                    </a:lnTo>
                    <a:lnTo>
                      <a:pt x="45496" y="106000"/>
                    </a:lnTo>
                    <a:lnTo>
                      <a:pt x="48195" y="96535"/>
                    </a:lnTo>
                    <a:lnTo>
                      <a:pt x="50095" y="86076"/>
                    </a:lnTo>
                    <a:lnTo>
                      <a:pt x="50696" y="74120"/>
                    </a:lnTo>
                    <a:lnTo>
                      <a:pt x="307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Freeform: Shape 29"/>
              <p:cNvSpPr/>
              <p:nvPr/>
            </p:nvSpPr>
            <p:spPr>
              <a:xfrm rot="10800000">
                <a:off x="2093040" y="758160"/>
                <a:ext cx="64440" cy="1335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65995" h="131305">
                    <a:moveTo>
                      <a:pt x="44496" y="13450"/>
                    </a:moveTo>
                    <a:lnTo>
                      <a:pt x="51396" y="27895"/>
                    </a:lnTo>
                    <a:lnTo>
                      <a:pt x="57496" y="43038"/>
                    </a:lnTo>
                    <a:lnTo>
                      <a:pt x="62394" y="58480"/>
                    </a:lnTo>
                    <a:lnTo>
                      <a:pt x="65394" y="73822"/>
                    </a:lnTo>
                    <a:lnTo>
                      <a:pt x="65994" y="81293"/>
                    </a:lnTo>
                    <a:lnTo>
                      <a:pt x="65894" y="88665"/>
                    </a:lnTo>
                    <a:lnTo>
                      <a:pt x="65094" y="95838"/>
                    </a:lnTo>
                    <a:lnTo>
                      <a:pt x="63395" y="102713"/>
                    </a:lnTo>
                    <a:lnTo>
                      <a:pt x="60795" y="109387"/>
                    </a:lnTo>
                    <a:lnTo>
                      <a:pt x="57195" y="115564"/>
                    </a:lnTo>
                    <a:lnTo>
                      <a:pt x="53095" y="120346"/>
                    </a:lnTo>
                    <a:lnTo>
                      <a:pt x="47596" y="124430"/>
                    </a:lnTo>
                    <a:lnTo>
                      <a:pt x="41297" y="127917"/>
                    </a:lnTo>
                    <a:lnTo>
                      <a:pt x="34397" y="130109"/>
                    </a:lnTo>
                    <a:lnTo>
                      <a:pt x="27498" y="131304"/>
                    </a:lnTo>
                    <a:lnTo>
                      <a:pt x="20799" y="131204"/>
                    </a:lnTo>
                    <a:lnTo>
                      <a:pt x="14799" y="129511"/>
                    </a:lnTo>
                    <a:lnTo>
                      <a:pt x="12200" y="128117"/>
                    </a:lnTo>
                    <a:lnTo>
                      <a:pt x="9799" y="126223"/>
                    </a:lnTo>
                    <a:lnTo>
                      <a:pt x="5000" y="120047"/>
                    </a:lnTo>
                    <a:lnTo>
                      <a:pt x="1900" y="113173"/>
                    </a:lnTo>
                    <a:lnTo>
                      <a:pt x="300" y="105701"/>
                    </a:lnTo>
                    <a:lnTo>
                      <a:pt x="0" y="97732"/>
                    </a:lnTo>
                    <a:lnTo>
                      <a:pt x="901" y="89163"/>
                    </a:lnTo>
                    <a:lnTo>
                      <a:pt x="2800" y="80497"/>
                    </a:lnTo>
                    <a:lnTo>
                      <a:pt x="5499" y="71430"/>
                    </a:lnTo>
                    <a:lnTo>
                      <a:pt x="8899" y="62464"/>
                    </a:lnTo>
                    <a:lnTo>
                      <a:pt x="16798" y="44433"/>
                    </a:lnTo>
                    <a:lnTo>
                      <a:pt x="25198" y="27497"/>
                    </a:lnTo>
                    <a:lnTo>
                      <a:pt x="29097" y="19627"/>
                    </a:lnTo>
                    <a:lnTo>
                      <a:pt x="32597" y="12354"/>
                    </a:lnTo>
                    <a:lnTo>
                      <a:pt x="35497" y="5779"/>
                    </a:lnTo>
                    <a:lnTo>
                      <a:pt x="37597" y="0"/>
                    </a:lnTo>
                    <a:lnTo>
                      <a:pt x="44496" y="1345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Freeform: Shape 30"/>
              <p:cNvSpPr/>
              <p:nvPr/>
            </p:nvSpPr>
            <p:spPr>
              <a:xfrm rot="10800000">
                <a:off x="2083680" y="777240"/>
                <a:ext cx="23040" cy="788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25199" h="77010">
                    <a:moveTo>
                      <a:pt x="19299" y="8469"/>
                    </a:moveTo>
                    <a:lnTo>
                      <a:pt x="20698" y="15940"/>
                    </a:lnTo>
                    <a:lnTo>
                      <a:pt x="21899" y="22615"/>
                    </a:lnTo>
                    <a:lnTo>
                      <a:pt x="22998" y="28592"/>
                    </a:lnTo>
                    <a:lnTo>
                      <a:pt x="23798" y="33873"/>
                    </a:lnTo>
                    <a:lnTo>
                      <a:pt x="24498" y="38654"/>
                    </a:lnTo>
                    <a:lnTo>
                      <a:pt x="25198" y="46724"/>
                    </a:lnTo>
                    <a:lnTo>
                      <a:pt x="24798" y="53598"/>
                    </a:lnTo>
                    <a:lnTo>
                      <a:pt x="23298" y="59875"/>
                    </a:lnTo>
                    <a:lnTo>
                      <a:pt x="20498" y="66250"/>
                    </a:lnTo>
                    <a:lnTo>
                      <a:pt x="16199" y="73224"/>
                    </a:lnTo>
                    <a:lnTo>
                      <a:pt x="14699" y="75017"/>
                    </a:lnTo>
                    <a:lnTo>
                      <a:pt x="12799" y="76411"/>
                    </a:lnTo>
                    <a:lnTo>
                      <a:pt x="10700" y="77009"/>
                    </a:lnTo>
                    <a:lnTo>
                      <a:pt x="8899" y="76512"/>
                    </a:lnTo>
                    <a:lnTo>
                      <a:pt x="5499" y="73522"/>
                    </a:lnTo>
                    <a:lnTo>
                      <a:pt x="2899" y="70036"/>
                    </a:lnTo>
                    <a:lnTo>
                      <a:pt x="1200" y="66349"/>
                    </a:lnTo>
                    <a:lnTo>
                      <a:pt x="300" y="62265"/>
                    </a:lnTo>
                    <a:lnTo>
                      <a:pt x="0" y="57782"/>
                    </a:lnTo>
                    <a:lnTo>
                      <a:pt x="201" y="53200"/>
                    </a:lnTo>
                    <a:lnTo>
                      <a:pt x="2200" y="43236"/>
                    </a:lnTo>
                    <a:lnTo>
                      <a:pt x="5599" y="32777"/>
                    </a:lnTo>
                    <a:lnTo>
                      <a:pt x="9699" y="21918"/>
                    </a:lnTo>
                    <a:lnTo>
                      <a:pt x="13999" y="10859"/>
                    </a:lnTo>
                    <a:lnTo>
                      <a:pt x="17799" y="0"/>
                    </a:lnTo>
                    <a:lnTo>
                      <a:pt x="19299" y="846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2" name="Oval 33"/>
          <p:cNvSpPr/>
          <p:nvPr/>
        </p:nvSpPr>
        <p:spPr>
          <a:xfrm rot="5400000">
            <a:off x="384120" y="7338960"/>
            <a:ext cx="990720" cy="1603440"/>
          </a:xfrm>
          <a:prstGeom prst="ellipse">
            <a:avLst/>
          </a:prstGeom>
          <a:solidFill>
            <a:srgbClr val="a52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34"/>
          <p:cNvSpPr/>
          <p:nvPr/>
        </p:nvSpPr>
        <p:spPr>
          <a:xfrm rot="1563000">
            <a:off x="9107280" y="7641720"/>
            <a:ext cx="852480" cy="1470240"/>
          </a:xfrm>
          <a:prstGeom prst="ellipse">
            <a:avLst/>
          </a:prstGeom>
          <a:solidFill>
            <a:srgbClr val="e6e6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2152800" y="80640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Was ist d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Das ist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ein Dreieck. Das Dreieck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ist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 gelb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Wo ist das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gelbe Dreieck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Das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gelbe Dreieck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ist </a:t>
            </a:r>
            <a:r>
              <a:rPr b="1" lang="en-GB" sz="1800" spc="-1" strike="noStrike">
                <a:solidFill>
                  <a:srgbClr val="0000ff"/>
                </a:solidFill>
                <a:latin typeface="Verdana"/>
                <a:ea typeface="Verdana"/>
              </a:rPr>
              <a:t>oben, unten, links, rechts, in der Mitte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6"/>
          <p:cNvSpPr/>
          <p:nvPr/>
        </p:nvSpPr>
        <p:spPr>
          <a:xfrm>
            <a:off x="1492200" y="95400"/>
            <a:ext cx="76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Name the shapes and say where they a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1104 L -0.67532 0.30875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442 L -0.66906 -0.0243 E">
                                      <p:cBhvr>
                                        <p:cTn id="1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884 L -0.12203 -0.59246 E">
                                      <p:cBhvr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7 4.11072E-006 L 0.69141 0.03563 E">
                                      <p:cBhvr>
                                        <p:cTn id="3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0.00221 L -0.01718 -0.40886 E">
                                      <p:cBhvr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221 L 0.49281 -0.06272 E">
                                      <p:cBhvr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2.46172E-006 L 0.27172 -0.63546 E">
                                      <p:cBhvr>
                                        <p:cTn id="6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-3.4629E-006 L -0.68859 -0.24116 E">
                                      <p:cBhvr>
                                        <p:cTn id="8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82686E-007 L 0.7525 0.0215 E">
                                      <p:cBhvr>
                                        <p:cTn id="9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10"/>
          <p:cNvSpPr/>
          <p:nvPr/>
        </p:nvSpPr>
        <p:spPr>
          <a:xfrm>
            <a:off x="8809200" y="1866960"/>
            <a:ext cx="1230120" cy="11350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: Shape 1"/>
          <p:cNvSpPr/>
          <p:nvPr/>
        </p:nvSpPr>
        <p:spPr>
          <a:xfrm>
            <a:off x="4799160" y="9629640"/>
            <a:ext cx="1073160" cy="10731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72887" h="1072887">
                <a:moveTo>
                  <a:pt x="0" y="0"/>
                </a:moveTo>
                <a:lnTo>
                  <a:pt x="1072886" y="0"/>
                </a:lnTo>
                <a:lnTo>
                  <a:pt x="1072886" y="1072886"/>
                </a:lnTo>
                <a:lnTo>
                  <a:pt x="0" y="107288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: Shape 2"/>
          <p:cNvSpPr/>
          <p:nvPr/>
        </p:nvSpPr>
        <p:spPr>
          <a:xfrm>
            <a:off x="66600" y="9379080"/>
            <a:ext cx="2729160" cy="1349280"/>
          </a:xfrm>
          <a:custGeom>
            <a:avLst/>
            <a:gdLst>
              <a:gd name="textAreaLeft" fmla="*/ 0 w 2729160"/>
              <a:gd name="textAreaRight" fmla="*/ 2729520 w 2729160"/>
              <a:gd name="textAreaTop" fmla="*/ 0 h 1349280"/>
              <a:gd name="textAreaBottom" fmla="*/ 1349280 h 1349280"/>
            </a:gdLst>
            <a:ahLst/>
            <a:rect l="textAreaLeft" t="textAreaTop" r="textAreaRight" b="textAreaBottom"/>
            <a:pathLst>
              <a:path w="1088314" h="944928">
                <a:moveTo>
                  <a:pt x="544247" y="0"/>
                </a:moveTo>
                <a:lnTo>
                  <a:pt x="1088313" y="944927"/>
                </a:lnTo>
                <a:lnTo>
                  <a:pt x="0" y="944927"/>
                </a:lnTo>
                <a:lnTo>
                  <a:pt x="544247" y="0"/>
                </a:lnTo>
                <a:close/>
              </a:path>
            </a:pathLst>
          </a:custGeom>
          <a:solidFill>
            <a:srgbClr val="c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3"/>
          <p:cNvSpPr/>
          <p:nvPr/>
        </p:nvSpPr>
        <p:spPr>
          <a:xfrm>
            <a:off x="87480" y="4675320"/>
            <a:ext cx="868320" cy="868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: Shape 5"/>
          <p:cNvSpPr/>
          <p:nvPr/>
        </p:nvSpPr>
        <p:spPr>
          <a:xfrm rot="5400000">
            <a:off x="2661120" y="8476200"/>
            <a:ext cx="481320" cy="1324080"/>
          </a:xfrm>
          <a:custGeom>
            <a:avLst/>
            <a:gdLst>
              <a:gd name="textAreaLeft" fmla="*/ 0 w 481320"/>
              <a:gd name="textAreaRight" fmla="*/ 481680 w 481320"/>
              <a:gd name="textAreaTop" fmla="*/ 0 h 1324080"/>
              <a:gd name="textAreaBottom" fmla="*/ 1324440 h 1324080"/>
            </a:gdLst>
            <a:ahLst/>
            <a:rect l="textAreaLeft" t="textAreaTop" r="textAreaRight" b="textAreaBottom"/>
            <a:pathLst>
              <a:path w="545485" h="1017785">
                <a:moveTo>
                  <a:pt x="0" y="0"/>
                </a:moveTo>
                <a:lnTo>
                  <a:pt x="545484" y="0"/>
                </a:lnTo>
                <a:lnTo>
                  <a:pt x="545484" y="1017784"/>
                </a:lnTo>
                <a:lnTo>
                  <a:pt x="0" y="1017784"/>
                </a:lnTo>
                <a:lnTo>
                  <a:pt x="0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: Shape 7"/>
          <p:cNvSpPr/>
          <p:nvPr/>
        </p:nvSpPr>
        <p:spPr>
          <a:xfrm rot="16200000">
            <a:off x="16560" y="7211160"/>
            <a:ext cx="1062000" cy="92052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Verdana"/>
              </a:rPr>
              <a:t>\\\\\\\\\\\\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: Shape 8"/>
          <p:cNvSpPr/>
          <p:nvPr/>
        </p:nvSpPr>
        <p:spPr>
          <a:xfrm>
            <a:off x="6321600" y="9704520"/>
            <a:ext cx="1022040" cy="102384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1022755" h="1022751">
                <a:moveTo>
                  <a:pt x="0" y="0"/>
                </a:moveTo>
                <a:lnTo>
                  <a:pt x="1022754" y="0"/>
                </a:lnTo>
                <a:lnTo>
                  <a:pt x="1022754" y="1022750"/>
                </a:lnTo>
                <a:lnTo>
                  <a:pt x="0" y="102275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237600" y="3735360"/>
            <a:ext cx="922320" cy="85248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: Shape 11"/>
          <p:cNvSpPr/>
          <p:nvPr/>
        </p:nvSpPr>
        <p:spPr>
          <a:xfrm>
            <a:off x="3005280" y="9655200"/>
            <a:ext cx="1125360" cy="107316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: Shape 12"/>
          <p:cNvSpPr/>
          <p:nvPr/>
        </p:nvSpPr>
        <p:spPr>
          <a:xfrm>
            <a:off x="9360" y="8312040"/>
            <a:ext cx="1268640" cy="95904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959040"/>
              <a:gd name="textAreaBottom" fmla="*/ 959400 h 959040"/>
            </a:gdLst>
            <a:ahLst/>
            <a:rect l="textAreaLeft" t="textAreaTop" r="textAreaRight" b="textAreaBottom"/>
            <a:pathLst>
              <a:path w="1226293" h="1067747">
                <a:moveTo>
                  <a:pt x="613248" y="0"/>
                </a:moveTo>
                <a:lnTo>
                  <a:pt x="1226292" y="1067746"/>
                </a:lnTo>
                <a:lnTo>
                  <a:pt x="0" y="1067746"/>
                </a:lnTo>
                <a:lnTo>
                  <a:pt x="613248" y="0"/>
                </a:lnTo>
                <a:close/>
              </a:path>
            </a:pathLst>
          </a:custGeom>
          <a:solidFill>
            <a:srgbClr val="005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: Shape 13"/>
          <p:cNvSpPr/>
          <p:nvPr/>
        </p:nvSpPr>
        <p:spPr>
          <a:xfrm>
            <a:off x="7704000" y="9217080"/>
            <a:ext cx="2320920" cy="148572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485720"/>
              <a:gd name="textAreaBottom" fmla="*/ 1486080 h 1485720"/>
            </a:gdLst>
            <a:ahLst/>
            <a:rect l="textAreaLeft" t="textAreaTop" r="textAreaRight" b="textAreaBottom"/>
            <a:pathLst>
              <a:path w="834468" h="1484715">
                <a:moveTo>
                  <a:pt x="0" y="0"/>
                </a:moveTo>
                <a:lnTo>
                  <a:pt x="834467" y="0"/>
                </a:lnTo>
                <a:lnTo>
                  <a:pt x="834467" y="1484714"/>
                </a:lnTo>
                <a:lnTo>
                  <a:pt x="0" y="1484714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: Shape 14"/>
          <p:cNvSpPr/>
          <p:nvPr/>
        </p:nvSpPr>
        <p:spPr>
          <a:xfrm>
            <a:off x="160200" y="3305160"/>
            <a:ext cx="698760" cy="870120"/>
          </a:xfrm>
          <a:custGeom>
            <a:avLst/>
            <a:gdLst>
              <a:gd name="textAreaLeft" fmla="*/ 0 w 698760"/>
              <a:gd name="textAreaRight" fmla="*/ 699120 w 698760"/>
              <a:gd name="textAreaTop" fmla="*/ 0 h 870120"/>
              <a:gd name="textAreaBottom" fmla="*/ 870480 h 870120"/>
            </a:gdLst>
            <a:ahLst/>
            <a:rect l="textAreaLeft" t="textAreaTop" r="textAreaRight" b="textAreaBottom"/>
            <a:pathLst>
              <a:path w="794097" h="682870">
                <a:moveTo>
                  <a:pt x="397114" y="0"/>
                </a:moveTo>
                <a:lnTo>
                  <a:pt x="794096" y="682869"/>
                </a:lnTo>
                <a:lnTo>
                  <a:pt x="0" y="682869"/>
                </a:lnTo>
                <a:lnTo>
                  <a:pt x="397114" y="0"/>
                </a:lnTo>
                <a:close/>
              </a:path>
            </a:pathLst>
          </a:custGeom>
          <a:solidFill>
            <a:srgbClr val="333f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32"/>
          <p:cNvGrpSpPr/>
          <p:nvPr/>
        </p:nvGrpSpPr>
        <p:grpSpPr>
          <a:xfrm>
            <a:off x="4320" y="92880"/>
            <a:ext cx="2413440" cy="2729520"/>
            <a:chOff x="4320" y="92880"/>
            <a:chExt cx="2413440" cy="2729520"/>
          </a:xfrm>
        </p:grpSpPr>
        <p:pic>
          <p:nvPicPr>
            <p:cNvPr id="99" name="Picture 16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 rot="21496200">
              <a:off x="39240" y="437760"/>
              <a:ext cx="2023560" cy="235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Group 31"/>
            <p:cNvGrpSpPr/>
            <p:nvPr/>
          </p:nvGrpSpPr>
          <p:grpSpPr>
            <a:xfrm>
              <a:off x="1191960" y="92880"/>
              <a:ext cx="1225800" cy="1312920"/>
              <a:chOff x="1191960" y="92880"/>
              <a:chExt cx="1225800" cy="1312920"/>
            </a:xfrm>
          </p:grpSpPr>
          <p:sp>
            <p:nvSpPr>
              <p:cNvPr id="101" name="Freeform: Shape 17"/>
              <p:cNvSpPr/>
              <p:nvPr/>
            </p:nvSpPr>
            <p:spPr>
              <a:xfrm rot="8378400">
                <a:off x="1871640" y="266760"/>
                <a:ext cx="169200" cy="18144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13981" h="247966">
                    <a:moveTo>
                      <a:pt x="17399" y="240095"/>
                    </a:moveTo>
                    <a:lnTo>
                      <a:pt x="13099" y="231925"/>
                    </a:lnTo>
                    <a:lnTo>
                      <a:pt x="9399" y="223557"/>
                    </a:lnTo>
                    <a:lnTo>
                      <a:pt x="6300" y="214990"/>
                    </a:lnTo>
                    <a:lnTo>
                      <a:pt x="3900" y="206122"/>
                    </a:lnTo>
                    <a:lnTo>
                      <a:pt x="2000" y="197156"/>
                    </a:lnTo>
                    <a:lnTo>
                      <a:pt x="0" y="178825"/>
                    </a:lnTo>
                    <a:lnTo>
                      <a:pt x="301" y="160195"/>
                    </a:lnTo>
                    <a:lnTo>
                      <a:pt x="2800" y="141467"/>
                    </a:lnTo>
                    <a:lnTo>
                      <a:pt x="7499" y="122837"/>
                    </a:lnTo>
                    <a:lnTo>
                      <a:pt x="14299" y="104705"/>
                    </a:lnTo>
                    <a:lnTo>
                      <a:pt x="22998" y="87172"/>
                    </a:lnTo>
                    <a:lnTo>
                      <a:pt x="33598" y="70434"/>
                    </a:lnTo>
                    <a:lnTo>
                      <a:pt x="46196" y="54893"/>
                    </a:lnTo>
                    <a:lnTo>
                      <a:pt x="53095" y="47521"/>
                    </a:lnTo>
                    <a:lnTo>
                      <a:pt x="60495" y="40547"/>
                    </a:lnTo>
                    <a:lnTo>
                      <a:pt x="68294" y="33973"/>
                    </a:lnTo>
                    <a:lnTo>
                      <a:pt x="76493" y="27795"/>
                    </a:lnTo>
                    <a:lnTo>
                      <a:pt x="85193" y="22117"/>
                    </a:lnTo>
                    <a:lnTo>
                      <a:pt x="94291" y="16837"/>
                    </a:lnTo>
                    <a:lnTo>
                      <a:pt x="103690" y="12055"/>
                    </a:lnTo>
                    <a:lnTo>
                      <a:pt x="113590" y="7870"/>
                    </a:lnTo>
                    <a:lnTo>
                      <a:pt x="123788" y="4185"/>
                    </a:lnTo>
                    <a:lnTo>
                      <a:pt x="134387" y="1096"/>
                    </a:lnTo>
                    <a:lnTo>
                      <a:pt x="140986" y="101"/>
                    </a:lnTo>
                    <a:lnTo>
                      <a:pt x="147386" y="0"/>
                    </a:lnTo>
                    <a:lnTo>
                      <a:pt x="153586" y="897"/>
                    </a:lnTo>
                    <a:lnTo>
                      <a:pt x="159685" y="2591"/>
                    </a:lnTo>
                    <a:lnTo>
                      <a:pt x="165585" y="5081"/>
                    </a:lnTo>
                    <a:lnTo>
                      <a:pt x="171283" y="8370"/>
                    </a:lnTo>
                    <a:lnTo>
                      <a:pt x="176784" y="12254"/>
                    </a:lnTo>
                    <a:lnTo>
                      <a:pt x="182082" y="16738"/>
                    </a:lnTo>
                    <a:lnTo>
                      <a:pt x="191982" y="27298"/>
                    </a:lnTo>
                    <a:lnTo>
                      <a:pt x="200581" y="39252"/>
                    </a:lnTo>
                    <a:lnTo>
                      <a:pt x="208080" y="52403"/>
                    </a:lnTo>
                    <a:lnTo>
                      <a:pt x="213980" y="65852"/>
                    </a:lnTo>
                    <a:lnTo>
                      <a:pt x="213980" y="73822"/>
                    </a:lnTo>
                    <a:lnTo>
                      <a:pt x="213080" y="80994"/>
                    </a:lnTo>
                    <a:lnTo>
                      <a:pt x="211480" y="87570"/>
                    </a:lnTo>
                    <a:lnTo>
                      <a:pt x="209281" y="93547"/>
                    </a:lnTo>
                    <a:lnTo>
                      <a:pt x="206281" y="99027"/>
                    </a:lnTo>
                    <a:lnTo>
                      <a:pt x="202781" y="103908"/>
                    </a:lnTo>
                    <a:lnTo>
                      <a:pt x="198681" y="108391"/>
                    </a:lnTo>
                    <a:lnTo>
                      <a:pt x="193982" y="112477"/>
                    </a:lnTo>
                    <a:lnTo>
                      <a:pt x="183083" y="119849"/>
                    </a:lnTo>
                    <a:lnTo>
                      <a:pt x="170584" y="126224"/>
                    </a:lnTo>
                    <a:lnTo>
                      <a:pt x="156586" y="132400"/>
                    </a:lnTo>
                    <a:lnTo>
                      <a:pt x="141687" y="138578"/>
                    </a:lnTo>
                    <a:lnTo>
                      <a:pt x="125989" y="145352"/>
                    </a:lnTo>
                    <a:lnTo>
                      <a:pt x="109890" y="153222"/>
                    </a:lnTo>
                    <a:lnTo>
                      <a:pt x="93691" y="162488"/>
                    </a:lnTo>
                    <a:lnTo>
                      <a:pt x="77693" y="173844"/>
                    </a:lnTo>
                    <a:lnTo>
                      <a:pt x="69894" y="180320"/>
                    </a:lnTo>
                    <a:lnTo>
                      <a:pt x="62295" y="187493"/>
                    </a:lnTo>
                    <a:lnTo>
                      <a:pt x="54795" y="195463"/>
                    </a:lnTo>
                    <a:lnTo>
                      <a:pt x="47596" y="204130"/>
                    </a:lnTo>
                    <a:lnTo>
                      <a:pt x="40796" y="213694"/>
                    </a:lnTo>
                    <a:lnTo>
                      <a:pt x="34197" y="224154"/>
                    </a:lnTo>
                    <a:lnTo>
                      <a:pt x="27998" y="235512"/>
                    </a:lnTo>
                    <a:lnTo>
                      <a:pt x="22298" y="247965"/>
                    </a:lnTo>
                    <a:lnTo>
                      <a:pt x="17399" y="24009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: Shape 18"/>
              <p:cNvSpPr/>
              <p:nvPr/>
            </p:nvSpPr>
            <p:spPr>
              <a:xfrm rot="8378400">
                <a:off x="1839240" y="436680"/>
                <a:ext cx="189720" cy="1526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2577" h="205624">
                    <a:moveTo>
                      <a:pt x="1900" y="108689"/>
                    </a:moveTo>
                    <a:lnTo>
                      <a:pt x="3699" y="105502"/>
                    </a:lnTo>
                    <a:lnTo>
                      <a:pt x="5999" y="102115"/>
                    </a:lnTo>
                    <a:lnTo>
                      <a:pt x="8899" y="98429"/>
                    </a:lnTo>
                    <a:lnTo>
                      <a:pt x="16099" y="90458"/>
                    </a:lnTo>
                    <a:lnTo>
                      <a:pt x="24997" y="81692"/>
                    </a:lnTo>
                    <a:lnTo>
                      <a:pt x="35197" y="72725"/>
                    </a:lnTo>
                    <a:lnTo>
                      <a:pt x="46496" y="63361"/>
                    </a:lnTo>
                    <a:lnTo>
                      <a:pt x="70794" y="44731"/>
                    </a:lnTo>
                    <a:lnTo>
                      <a:pt x="83191" y="35865"/>
                    </a:lnTo>
                    <a:lnTo>
                      <a:pt x="95391" y="27497"/>
                    </a:lnTo>
                    <a:lnTo>
                      <a:pt x="106990" y="19925"/>
                    </a:lnTo>
                    <a:lnTo>
                      <a:pt x="117688" y="13250"/>
                    </a:lnTo>
                    <a:lnTo>
                      <a:pt x="127188" y="7771"/>
                    </a:lnTo>
                    <a:lnTo>
                      <a:pt x="131388" y="5479"/>
                    </a:lnTo>
                    <a:lnTo>
                      <a:pt x="135087" y="3488"/>
                    </a:lnTo>
                    <a:lnTo>
                      <a:pt x="138487" y="1993"/>
                    </a:lnTo>
                    <a:lnTo>
                      <a:pt x="141286" y="897"/>
                    </a:lnTo>
                    <a:lnTo>
                      <a:pt x="143586" y="200"/>
                    </a:lnTo>
                    <a:lnTo>
                      <a:pt x="145186" y="0"/>
                    </a:lnTo>
                    <a:lnTo>
                      <a:pt x="148886" y="2392"/>
                    </a:lnTo>
                    <a:lnTo>
                      <a:pt x="153185" y="5479"/>
                    </a:lnTo>
                    <a:lnTo>
                      <a:pt x="157984" y="9166"/>
                    </a:lnTo>
                    <a:lnTo>
                      <a:pt x="163384" y="13350"/>
                    </a:lnTo>
                    <a:lnTo>
                      <a:pt x="169084" y="18231"/>
                    </a:lnTo>
                    <a:lnTo>
                      <a:pt x="175283" y="23711"/>
                    </a:lnTo>
                    <a:lnTo>
                      <a:pt x="181682" y="29887"/>
                    </a:lnTo>
                    <a:lnTo>
                      <a:pt x="188382" y="36661"/>
                    </a:lnTo>
                    <a:lnTo>
                      <a:pt x="195181" y="44233"/>
                    </a:lnTo>
                    <a:lnTo>
                      <a:pt x="202180" y="52403"/>
                    </a:lnTo>
                    <a:lnTo>
                      <a:pt x="209179" y="61369"/>
                    </a:lnTo>
                    <a:lnTo>
                      <a:pt x="216179" y="71033"/>
                    </a:lnTo>
                    <a:lnTo>
                      <a:pt x="223078" y="81492"/>
                    </a:lnTo>
                    <a:lnTo>
                      <a:pt x="229777" y="92650"/>
                    </a:lnTo>
                    <a:lnTo>
                      <a:pt x="236277" y="104605"/>
                    </a:lnTo>
                    <a:lnTo>
                      <a:pt x="242576" y="117456"/>
                    </a:lnTo>
                    <a:lnTo>
                      <a:pt x="230478" y="125427"/>
                    </a:lnTo>
                    <a:lnTo>
                      <a:pt x="218679" y="132699"/>
                    </a:lnTo>
                    <a:lnTo>
                      <a:pt x="195781" y="145749"/>
                    </a:lnTo>
                    <a:lnTo>
                      <a:pt x="173483" y="156907"/>
                    </a:lnTo>
                    <a:lnTo>
                      <a:pt x="151486" y="166970"/>
                    </a:lnTo>
                    <a:lnTo>
                      <a:pt x="107790" y="185599"/>
                    </a:lnTo>
                    <a:lnTo>
                      <a:pt x="85491" y="195164"/>
                    </a:lnTo>
                    <a:lnTo>
                      <a:pt x="62694" y="205623"/>
                    </a:lnTo>
                    <a:lnTo>
                      <a:pt x="58994" y="197952"/>
                    </a:lnTo>
                    <a:lnTo>
                      <a:pt x="54894" y="191277"/>
                    </a:lnTo>
                    <a:lnTo>
                      <a:pt x="50395" y="185301"/>
                    </a:lnTo>
                    <a:lnTo>
                      <a:pt x="45795" y="180120"/>
                    </a:lnTo>
                    <a:lnTo>
                      <a:pt x="36096" y="171354"/>
                    </a:lnTo>
                    <a:lnTo>
                      <a:pt x="26297" y="163881"/>
                    </a:lnTo>
                    <a:lnTo>
                      <a:pt x="17299" y="156907"/>
                    </a:lnTo>
                    <a:lnTo>
                      <a:pt x="9498" y="149635"/>
                    </a:lnTo>
                    <a:lnTo>
                      <a:pt x="6299" y="145551"/>
                    </a:lnTo>
                    <a:lnTo>
                      <a:pt x="3699" y="140968"/>
                    </a:lnTo>
                    <a:lnTo>
                      <a:pt x="1699" y="135888"/>
                    </a:lnTo>
                    <a:lnTo>
                      <a:pt x="599" y="130109"/>
                    </a:lnTo>
                    <a:lnTo>
                      <a:pt x="0" y="120744"/>
                    </a:lnTo>
                    <a:lnTo>
                      <a:pt x="800" y="111579"/>
                    </a:lnTo>
                    <a:lnTo>
                      <a:pt x="1900" y="10868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solidFill>
                  <a:srgbClr val="e5e5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: Shape 19"/>
              <p:cNvSpPr/>
              <p:nvPr/>
            </p:nvSpPr>
            <p:spPr>
              <a:xfrm rot="8378400">
                <a:off x="1418040" y="716760"/>
                <a:ext cx="756000" cy="489960"/>
              </a:xfrm>
              <a:custGeom>
                <a:avLst/>
                <a:gdLst>
                  <a:gd name="textAreaLeft" fmla="*/ 0 w 756000"/>
                  <a:gd name="textAreaRight" fmla="*/ 756360 w 756000"/>
                  <a:gd name="textAreaTop" fmla="*/ 0 h 489960"/>
                  <a:gd name="textAreaBottom" fmla="*/ 490320 h 489960"/>
                </a:gdLst>
                <a:ahLst/>
                <a:rect l="textAreaLeft" t="textAreaTop" r="textAreaRight" b="textAreaBottom"/>
                <a:pathLst>
                  <a:path w="963509" h="664690">
                    <a:moveTo>
                      <a:pt x="8299" y="545839"/>
                    </a:moveTo>
                    <a:lnTo>
                      <a:pt x="17299" y="538466"/>
                    </a:lnTo>
                    <a:lnTo>
                      <a:pt x="26797" y="530995"/>
                    </a:lnTo>
                    <a:lnTo>
                      <a:pt x="36996" y="523224"/>
                    </a:lnTo>
                    <a:lnTo>
                      <a:pt x="58895" y="507184"/>
                    </a:lnTo>
                    <a:lnTo>
                      <a:pt x="82892" y="490448"/>
                    </a:lnTo>
                    <a:lnTo>
                      <a:pt x="108890" y="473213"/>
                    </a:lnTo>
                    <a:lnTo>
                      <a:pt x="136387" y="455381"/>
                    </a:lnTo>
                    <a:lnTo>
                      <a:pt x="165584" y="437049"/>
                    </a:lnTo>
                    <a:lnTo>
                      <a:pt x="196082" y="418319"/>
                    </a:lnTo>
                    <a:lnTo>
                      <a:pt x="227778" y="399192"/>
                    </a:lnTo>
                    <a:lnTo>
                      <a:pt x="260375" y="379965"/>
                    </a:lnTo>
                    <a:lnTo>
                      <a:pt x="293872" y="360439"/>
                    </a:lnTo>
                    <a:lnTo>
                      <a:pt x="327969" y="340813"/>
                    </a:lnTo>
                    <a:lnTo>
                      <a:pt x="397462" y="301462"/>
                    </a:lnTo>
                    <a:lnTo>
                      <a:pt x="467256" y="262508"/>
                    </a:lnTo>
                    <a:lnTo>
                      <a:pt x="501952" y="243381"/>
                    </a:lnTo>
                    <a:lnTo>
                      <a:pt x="536148" y="224453"/>
                    </a:lnTo>
                    <a:lnTo>
                      <a:pt x="569845" y="205922"/>
                    </a:lnTo>
                    <a:lnTo>
                      <a:pt x="602742" y="187790"/>
                    </a:lnTo>
                    <a:lnTo>
                      <a:pt x="634639" y="170158"/>
                    </a:lnTo>
                    <a:lnTo>
                      <a:pt x="665437" y="153221"/>
                    </a:lnTo>
                    <a:lnTo>
                      <a:pt x="694834" y="136783"/>
                    </a:lnTo>
                    <a:lnTo>
                      <a:pt x="722831" y="121142"/>
                    </a:lnTo>
                    <a:lnTo>
                      <a:pt x="749128" y="106199"/>
                    </a:lnTo>
                    <a:lnTo>
                      <a:pt x="773626" y="92152"/>
                    </a:lnTo>
                    <a:lnTo>
                      <a:pt x="785025" y="85577"/>
                    </a:lnTo>
                    <a:lnTo>
                      <a:pt x="796023" y="79101"/>
                    </a:lnTo>
                    <a:lnTo>
                      <a:pt x="806423" y="72825"/>
                    </a:lnTo>
                    <a:lnTo>
                      <a:pt x="816322" y="66947"/>
                    </a:lnTo>
                    <a:lnTo>
                      <a:pt x="825522" y="61269"/>
                    </a:lnTo>
                    <a:lnTo>
                      <a:pt x="834220" y="55789"/>
                    </a:lnTo>
                    <a:lnTo>
                      <a:pt x="842220" y="50709"/>
                    </a:lnTo>
                    <a:lnTo>
                      <a:pt x="849518" y="45827"/>
                    </a:lnTo>
                    <a:lnTo>
                      <a:pt x="856217" y="41344"/>
                    </a:lnTo>
                    <a:lnTo>
                      <a:pt x="862118" y="37060"/>
                    </a:lnTo>
                    <a:lnTo>
                      <a:pt x="867317" y="33075"/>
                    </a:lnTo>
                    <a:lnTo>
                      <a:pt x="871817" y="29489"/>
                    </a:lnTo>
                    <a:lnTo>
                      <a:pt x="881216" y="24906"/>
                    </a:lnTo>
                    <a:lnTo>
                      <a:pt x="889815" y="20522"/>
                    </a:lnTo>
                    <a:lnTo>
                      <a:pt x="897814" y="16438"/>
                    </a:lnTo>
                    <a:lnTo>
                      <a:pt x="905313" y="12652"/>
                    </a:lnTo>
                    <a:lnTo>
                      <a:pt x="912213" y="9364"/>
                    </a:lnTo>
                    <a:lnTo>
                      <a:pt x="918512" y="6376"/>
                    </a:lnTo>
                    <a:lnTo>
                      <a:pt x="924411" y="3885"/>
                    </a:lnTo>
                    <a:lnTo>
                      <a:pt x="929811" y="1992"/>
                    </a:lnTo>
                    <a:lnTo>
                      <a:pt x="934810" y="698"/>
                    </a:lnTo>
                    <a:lnTo>
                      <a:pt x="939410" y="0"/>
                    </a:lnTo>
                    <a:lnTo>
                      <a:pt x="943709" y="0"/>
                    </a:lnTo>
                    <a:lnTo>
                      <a:pt x="947710" y="797"/>
                    </a:lnTo>
                    <a:lnTo>
                      <a:pt x="951309" y="2391"/>
                    </a:lnTo>
                    <a:lnTo>
                      <a:pt x="954809" y="4782"/>
                    </a:lnTo>
                    <a:lnTo>
                      <a:pt x="958108" y="8169"/>
                    </a:lnTo>
                    <a:lnTo>
                      <a:pt x="961208" y="12453"/>
                    </a:lnTo>
                    <a:lnTo>
                      <a:pt x="963308" y="17135"/>
                    </a:lnTo>
                    <a:lnTo>
                      <a:pt x="963508" y="21518"/>
                    </a:lnTo>
                    <a:lnTo>
                      <a:pt x="962108" y="25902"/>
                    </a:lnTo>
                    <a:lnTo>
                      <a:pt x="959409" y="30087"/>
                    </a:lnTo>
                    <a:lnTo>
                      <a:pt x="955509" y="34270"/>
                    </a:lnTo>
                    <a:lnTo>
                      <a:pt x="950808" y="38354"/>
                    </a:lnTo>
                    <a:lnTo>
                      <a:pt x="939611" y="46623"/>
                    </a:lnTo>
                    <a:lnTo>
                      <a:pt x="927912" y="55192"/>
                    </a:lnTo>
                    <a:lnTo>
                      <a:pt x="922411" y="59675"/>
                    </a:lnTo>
                    <a:lnTo>
                      <a:pt x="917513" y="64356"/>
                    </a:lnTo>
                    <a:lnTo>
                      <a:pt x="913313" y="69339"/>
                    </a:lnTo>
                    <a:lnTo>
                      <a:pt x="910213" y="74519"/>
                    </a:lnTo>
                    <a:lnTo>
                      <a:pt x="908413" y="79998"/>
                    </a:lnTo>
                    <a:lnTo>
                      <a:pt x="908213" y="85875"/>
                    </a:lnTo>
                    <a:lnTo>
                      <a:pt x="864318" y="121442"/>
                    </a:lnTo>
                    <a:lnTo>
                      <a:pt x="818922" y="157605"/>
                    </a:lnTo>
                    <a:lnTo>
                      <a:pt x="772427" y="194266"/>
                    </a:lnTo>
                    <a:lnTo>
                      <a:pt x="724630" y="231227"/>
                    </a:lnTo>
                    <a:lnTo>
                      <a:pt x="676035" y="268585"/>
                    </a:lnTo>
                    <a:lnTo>
                      <a:pt x="626541" y="305945"/>
                    </a:lnTo>
                    <a:lnTo>
                      <a:pt x="525950" y="380762"/>
                    </a:lnTo>
                    <a:lnTo>
                      <a:pt x="424059" y="454982"/>
                    </a:lnTo>
                    <a:lnTo>
                      <a:pt x="322269" y="527508"/>
                    </a:lnTo>
                    <a:lnTo>
                      <a:pt x="271774" y="562974"/>
                    </a:lnTo>
                    <a:lnTo>
                      <a:pt x="221679" y="597742"/>
                    </a:lnTo>
                    <a:lnTo>
                      <a:pt x="172383" y="631615"/>
                    </a:lnTo>
                    <a:lnTo>
                      <a:pt x="123788" y="664689"/>
                    </a:lnTo>
                    <a:lnTo>
                      <a:pt x="113989" y="663095"/>
                    </a:lnTo>
                    <a:lnTo>
                      <a:pt x="105490" y="660506"/>
                    </a:lnTo>
                    <a:lnTo>
                      <a:pt x="98091" y="656720"/>
                    </a:lnTo>
                    <a:lnTo>
                      <a:pt x="91591" y="652038"/>
                    </a:lnTo>
                    <a:lnTo>
                      <a:pt x="85692" y="646559"/>
                    </a:lnTo>
                    <a:lnTo>
                      <a:pt x="80093" y="640282"/>
                    </a:lnTo>
                    <a:lnTo>
                      <a:pt x="69594" y="625637"/>
                    </a:lnTo>
                    <a:lnTo>
                      <a:pt x="64094" y="617468"/>
                    </a:lnTo>
                    <a:lnTo>
                      <a:pt x="57995" y="609000"/>
                    </a:lnTo>
                    <a:lnTo>
                      <a:pt x="51295" y="600034"/>
                    </a:lnTo>
                    <a:lnTo>
                      <a:pt x="43696" y="590868"/>
                    </a:lnTo>
                    <a:lnTo>
                      <a:pt x="34997" y="581404"/>
                    </a:lnTo>
                    <a:lnTo>
                      <a:pt x="24997" y="571940"/>
                    </a:lnTo>
                    <a:lnTo>
                      <a:pt x="13299" y="562476"/>
                    </a:lnTo>
                    <a:lnTo>
                      <a:pt x="0" y="553012"/>
                    </a:lnTo>
                    <a:lnTo>
                      <a:pt x="8299" y="545839"/>
                    </a:lnTo>
                    <a:close/>
                  </a:path>
                </a:pathLst>
              </a:custGeom>
              <a:solidFill>
                <a:srgbClr val="aa7700"/>
              </a:solidFill>
              <a:ln w="0">
                <a:solidFill>
                  <a:srgbClr val="aa77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: Shape 20"/>
              <p:cNvSpPr/>
              <p:nvPr/>
            </p:nvSpPr>
            <p:spPr>
              <a:xfrm rot="8378400">
                <a:off x="1303200" y="452880"/>
                <a:ext cx="1002960" cy="712800"/>
              </a:xfrm>
              <a:custGeom>
                <a:avLst/>
                <a:gdLst>
                  <a:gd name="textAreaLeft" fmla="*/ 0 w 1002960"/>
                  <a:gd name="textAreaRight" fmla="*/ 1003320 w 1002960"/>
                  <a:gd name="textAreaTop" fmla="*/ 0 h 712800"/>
                  <a:gd name="textAreaBottom" fmla="*/ 712800 h 712800"/>
                </a:gdLst>
                <a:ahLst/>
                <a:rect l="textAreaLeft" t="textAreaTop" r="textAreaRight" b="textAreaBottom"/>
                <a:pathLst>
                  <a:path w="1276679" h="979302">
                    <a:moveTo>
                      <a:pt x="299471" y="567954"/>
                    </a:moveTo>
                    <a:lnTo>
                      <a:pt x="300071" y="566858"/>
                    </a:lnTo>
                    <a:lnTo>
                      <a:pt x="300671" y="564766"/>
                    </a:lnTo>
                    <a:lnTo>
                      <a:pt x="301472" y="558988"/>
                    </a:lnTo>
                    <a:lnTo>
                      <a:pt x="302171" y="553211"/>
                    </a:lnTo>
                    <a:lnTo>
                      <a:pt x="302270" y="551218"/>
                    </a:lnTo>
                    <a:lnTo>
                      <a:pt x="302471" y="550321"/>
                    </a:lnTo>
                    <a:lnTo>
                      <a:pt x="303871" y="548129"/>
                    </a:lnTo>
                    <a:lnTo>
                      <a:pt x="305871" y="545738"/>
                    </a:lnTo>
                    <a:lnTo>
                      <a:pt x="311571" y="539959"/>
                    </a:lnTo>
                    <a:lnTo>
                      <a:pt x="319070" y="533584"/>
                    </a:lnTo>
                    <a:lnTo>
                      <a:pt x="328269" y="526411"/>
                    </a:lnTo>
                    <a:lnTo>
                      <a:pt x="338768" y="518740"/>
                    </a:lnTo>
                    <a:lnTo>
                      <a:pt x="350367" y="510572"/>
                    </a:lnTo>
                    <a:lnTo>
                      <a:pt x="375563" y="493735"/>
                    </a:lnTo>
                    <a:lnTo>
                      <a:pt x="401562" y="477097"/>
                    </a:lnTo>
                    <a:lnTo>
                      <a:pt x="414160" y="469027"/>
                    </a:lnTo>
                    <a:lnTo>
                      <a:pt x="426159" y="461556"/>
                    </a:lnTo>
                    <a:lnTo>
                      <a:pt x="437158" y="454682"/>
                    </a:lnTo>
                    <a:lnTo>
                      <a:pt x="446958" y="448406"/>
                    </a:lnTo>
                    <a:lnTo>
                      <a:pt x="455157" y="443027"/>
                    </a:lnTo>
                    <a:lnTo>
                      <a:pt x="458656" y="440734"/>
                    </a:lnTo>
                    <a:lnTo>
                      <a:pt x="461756" y="438643"/>
                    </a:lnTo>
                    <a:lnTo>
                      <a:pt x="475755" y="429577"/>
                    </a:lnTo>
                    <a:lnTo>
                      <a:pt x="490253" y="420910"/>
                    </a:lnTo>
                    <a:lnTo>
                      <a:pt x="520350" y="404571"/>
                    </a:lnTo>
                    <a:lnTo>
                      <a:pt x="550548" y="388432"/>
                    </a:lnTo>
                    <a:lnTo>
                      <a:pt x="565245" y="380064"/>
                    </a:lnTo>
                    <a:lnTo>
                      <a:pt x="579645" y="371098"/>
                    </a:lnTo>
                    <a:lnTo>
                      <a:pt x="605342" y="355059"/>
                    </a:lnTo>
                    <a:lnTo>
                      <a:pt x="631439" y="339816"/>
                    </a:lnTo>
                    <a:lnTo>
                      <a:pt x="645238" y="332145"/>
                    </a:lnTo>
                    <a:lnTo>
                      <a:pt x="659637" y="324175"/>
                    </a:lnTo>
                    <a:lnTo>
                      <a:pt x="675136" y="315608"/>
                    </a:lnTo>
                    <a:lnTo>
                      <a:pt x="691734" y="306442"/>
                    </a:lnTo>
                    <a:lnTo>
                      <a:pt x="823321" y="232820"/>
                    </a:lnTo>
                    <a:lnTo>
                      <a:pt x="954109" y="159597"/>
                    </a:lnTo>
                    <a:lnTo>
                      <a:pt x="979706" y="146247"/>
                    </a:lnTo>
                    <a:lnTo>
                      <a:pt x="1005904" y="133495"/>
                    </a:lnTo>
                    <a:lnTo>
                      <a:pt x="1031901" y="120644"/>
                    </a:lnTo>
                    <a:lnTo>
                      <a:pt x="1057398" y="106696"/>
                    </a:lnTo>
                    <a:lnTo>
                      <a:pt x="1060499" y="104804"/>
                    </a:lnTo>
                    <a:lnTo>
                      <a:pt x="1064298" y="102512"/>
                    </a:lnTo>
                    <a:lnTo>
                      <a:pt x="1072898" y="97033"/>
                    </a:lnTo>
                    <a:lnTo>
                      <a:pt x="1083097" y="90458"/>
                    </a:lnTo>
                    <a:lnTo>
                      <a:pt x="1094495" y="83086"/>
                    </a:lnTo>
                    <a:lnTo>
                      <a:pt x="1106894" y="75016"/>
                    </a:lnTo>
                    <a:lnTo>
                      <a:pt x="1119993" y="66449"/>
                    </a:lnTo>
                    <a:lnTo>
                      <a:pt x="1147490" y="48815"/>
                    </a:lnTo>
                    <a:lnTo>
                      <a:pt x="1161289" y="40147"/>
                    </a:lnTo>
                    <a:lnTo>
                      <a:pt x="1174688" y="31779"/>
                    </a:lnTo>
                    <a:lnTo>
                      <a:pt x="1187586" y="24108"/>
                    </a:lnTo>
                    <a:lnTo>
                      <a:pt x="1199686" y="17036"/>
                    </a:lnTo>
                    <a:lnTo>
                      <a:pt x="1210584" y="11058"/>
                    </a:lnTo>
                    <a:lnTo>
                      <a:pt x="1220183" y="6276"/>
                    </a:lnTo>
                    <a:lnTo>
                      <a:pt x="1224383" y="4383"/>
                    </a:lnTo>
                    <a:lnTo>
                      <a:pt x="1228183" y="2789"/>
                    </a:lnTo>
                    <a:lnTo>
                      <a:pt x="1231482" y="1693"/>
                    </a:lnTo>
                    <a:lnTo>
                      <a:pt x="1234283" y="996"/>
                    </a:lnTo>
                    <a:lnTo>
                      <a:pt x="1241781" y="0"/>
                    </a:lnTo>
                    <a:lnTo>
                      <a:pt x="1249081" y="0"/>
                    </a:lnTo>
                    <a:lnTo>
                      <a:pt x="1255881" y="996"/>
                    </a:lnTo>
                    <a:lnTo>
                      <a:pt x="1261979" y="3087"/>
                    </a:lnTo>
                    <a:lnTo>
                      <a:pt x="1267279" y="6077"/>
                    </a:lnTo>
                    <a:lnTo>
                      <a:pt x="1271478" y="10161"/>
                    </a:lnTo>
                    <a:lnTo>
                      <a:pt x="1274278" y="15341"/>
                    </a:lnTo>
                    <a:lnTo>
                      <a:pt x="1275578" y="21518"/>
                    </a:lnTo>
                    <a:lnTo>
                      <a:pt x="1276678" y="26101"/>
                    </a:lnTo>
                    <a:lnTo>
                      <a:pt x="1276079" y="31380"/>
                    </a:lnTo>
                    <a:lnTo>
                      <a:pt x="1273779" y="37159"/>
                    </a:lnTo>
                    <a:lnTo>
                      <a:pt x="1269979" y="43536"/>
                    </a:lnTo>
                    <a:lnTo>
                      <a:pt x="1264979" y="50209"/>
                    </a:lnTo>
                    <a:lnTo>
                      <a:pt x="1258979" y="57183"/>
                    </a:lnTo>
                    <a:lnTo>
                      <a:pt x="1251980" y="64356"/>
                    </a:lnTo>
                    <a:lnTo>
                      <a:pt x="1244380" y="71629"/>
                    </a:lnTo>
                    <a:lnTo>
                      <a:pt x="1227982" y="86174"/>
                    </a:lnTo>
                    <a:lnTo>
                      <a:pt x="1211085" y="100122"/>
                    </a:lnTo>
                    <a:lnTo>
                      <a:pt x="1202985" y="106696"/>
                    </a:lnTo>
                    <a:lnTo>
                      <a:pt x="1195385" y="112674"/>
                    </a:lnTo>
                    <a:lnTo>
                      <a:pt x="1188487" y="118253"/>
                    </a:lnTo>
                    <a:lnTo>
                      <a:pt x="1182487" y="123134"/>
                    </a:lnTo>
                    <a:lnTo>
                      <a:pt x="1164489" y="138874"/>
                    </a:lnTo>
                    <a:lnTo>
                      <a:pt x="1146691" y="155014"/>
                    </a:lnTo>
                    <a:lnTo>
                      <a:pt x="1128791" y="171054"/>
                    </a:lnTo>
                    <a:lnTo>
                      <a:pt x="1110394" y="186097"/>
                    </a:lnTo>
                    <a:lnTo>
                      <a:pt x="1042001" y="238200"/>
                    </a:lnTo>
                    <a:lnTo>
                      <a:pt x="1008004" y="264799"/>
                    </a:lnTo>
                    <a:lnTo>
                      <a:pt x="974807" y="291798"/>
                    </a:lnTo>
                    <a:lnTo>
                      <a:pt x="927211" y="331747"/>
                    </a:lnTo>
                    <a:lnTo>
                      <a:pt x="879315" y="371696"/>
                    </a:lnTo>
                    <a:lnTo>
                      <a:pt x="855118" y="391422"/>
                    </a:lnTo>
                    <a:lnTo>
                      <a:pt x="830520" y="410748"/>
                    </a:lnTo>
                    <a:lnTo>
                      <a:pt x="805523" y="429477"/>
                    </a:lnTo>
                    <a:lnTo>
                      <a:pt x="780225" y="447510"/>
                    </a:lnTo>
                    <a:lnTo>
                      <a:pt x="710233" y="495329"/>
                    </a:lnTo>
                    <a:lnTo>
                      <a:pt x="675535" y="519637"/>
                    </a:lnTo>
                    <a:lnTo>
                      <a:pt x="641538" y="544444"/>
                    </a:lnTo>
                    <a:lnTo>
                      <a:pt x="595844" y="580009"/>
                    </a:lnTo>
                    <a:lnTo>
                      <a:pt x="549547" y="615973"/>
                    </a:lnTo>
                    <a:lnTo>
                      <a:pt x="526049" y="633607"/>
                    </a:lnTo>
                    <a:lnTo>
                      <a:pt x="502152" y="650643"/>
                    </a:lnTo>
                    <a:lnTo>
                      <a:pt x="477854" y="667080"/>
                    </a:lnTo>
                    <a:lnTo>
                      <a:pt x="452857" y="682522"/>
                    </a:lnTo>
                    <a:lnTo>
                      <a:pt x="441757" y="688698"/>
                    </a:lnTo>
                    <a:lnTo>
                      <a:pt x="430558" y="694178"/>
                    </a:lnTo>
                    <a:lnTo>
                      <a:pt x="407861" y="704438"/>
                    </a:lnTo>
                    <a:lnTo>
                      <a:pt x="385563" y="714700"/>
                    </a:lnTo>
                    <a:lnTo>
                      <a:pt x="374765" y="720378"/>
                    </a:lnTo>
                    <a:lnTo>
                      <a:pt x="364364" y="726655"/>
                    </a:lnTo>
                    <a:lnTo>
                      <a:pt x="358666" y="730042"/>
                    </a:lnTo>
                    <a:lnTo>
                      <a:pt x="351567" y="733928"/>
                    </a:lnTo>
                    <a:lnTo>
                      <a:pt x="343267" y="738111"/>
                    </a:lnTo>
                    <a:lnTo>
                      <a:pt x="334168" y="742495"/>
                    </a:lnTo>
                    <a:lnTo>
                      <a:pt x="314070" y="751661"/>
                    </a:lnTo>
                    <a:lnTo>
                      <a:pt x="292772" y="761224"/>
                    </a:lnTo>
                    <a:lnTo>
                      <a:pt x="271973" y="770689"/>
                    </a:lnTo>
                    <a:lnTo>
                      <a:pt x="262175" y="775271"/>
                    </a:lnTo>
                    <a:lnTo>
                      <a:pt x="253276" y="779655"/>
                    </a:lnTo>
                    <a:lnTo>
                      <a:pt x="245176" y="783839"/>
                    </a:lnTo>
                    <a:lnTo>
                      <a:pt x="238278" y="787625"/>
                    </a:lnTo>
                    <a:lnTo>
                      <a:pt x="232777" y="791112"/>
                    </a:lnTo>
                    <a:lnTo>
                      <a:pt x="228678" y="794200"/>
                    </a:lnTo>
                    <a:lnTo>
                      <a:pt x="224578" y="798284"/>
                    </a:lnTo>
                    <a:lnTo>
                      <a:pt x="220979" y="802170"/>
                    </a:lnTo>
                    <a:lnTo>
                      <a:pt x="215380" y="809742"/>
                    </a:lnTo>
                    <a:lnTo>
                      <a:pt x="206180" y="823888"/>
                    </a:lnTo>
                    <a:lnTo>
                      <a:pt x="200781" y="830862"/>
                    </a:lnTo>
                    <a:lnTo>
                      <a:pt x="193581" y="837934"/>
                    </a:lnTo>
                    <a:lnTo>
                      <a:pt x="188981" y="841521"/>
                    </a:lnTo>
                    <a:lnTo>
                      <a:pt x="183482" y="845208"/>
                    </a:lnTo>
                    <a:lnTo>
                      <a:pt x="177183" y="848994"/>
                    </a:lnTo>
                    <a:lnTo>
                      <a:pt x="169784" y="852978"/>
                    </a:lnTo>
                    <a:lnTo>
                      <a:pt x="161384" y="856564"/>
                    </a:lnTo>
                    <a:lnTo>
                      <a:pt x="152485" y="859653"/>
                    </a:lnTo>
                    <a:lnTo>
                      <a:pt x="133487" y="865331"/>
                    </a:lnTo>
                    <a:lnTo>
                      <a:pt x="123988" y="868121"/>
                    </a:lnTo>
                    <a:lnTo>
                      <a:pt x="114989" y="871309"/>
                    </a:lnTo>
                    <a:lnTo>
                      <a:pt x="106490" y="874994"/>
                    </a:lnTo>
                    <a:lnTo>
                      <a:pt x="98990" y="879378"/>
                    </a:lnTo>
                    <a:lnTo>
                      <a:pt x="93192" y="883761"/>
                    </a:lnTo>
                    <a:lnTo>
                      <a:pt x="87691" y="888544"/>
                    </a:lnTo>
                    <a:lnTo>
                      <a:pt x="77793" y="899203"/>
                    </a:lnTo>
                    <a:lnTo>
                      <a:pt x="68893" y="911059"/>
                    </a:lnTo>
                    <a:lnTo>
                      <a:pt x="61094" y="923910"/>
                    </a:lnTo>
                    <a:lnTo>
                      <a:pt x="53795" y="937359"/>
                    </a:lnTo>
                    <a:lnTo>
                      <a:pt x="47096" y="951306"/>
                    </a:lnTo>
                    <a:lnTo>
                      <a:pt x="34097" y="979301"/>
                    </a:lnTo>
                    <a:lnTo>
                      <a:pt x="31197" y="978005"/>
                    </a:lnTo>
                    <a:lnTo>
                      <a:pt x="28297" y="975615"/>
                    </a:lnTo>
                    <a:lnTo>
                      <a:pt x="25498" y="972427"/>
                    </a:lnTo>
                    <a:lnTo>
                      <a:pt x="22798" y="968442"/>
                    </a:lnTo>
                    <a:lnTo>
                      <a:pt x="17599" y="958779"/>
                    </a:lnTo>
                    <a:lnTo>
                      <a:pt x="12898" y="947421"/>
                    </a:lnTo>
                    <a:lnTo>
                      <a:pt x="8799" y="935566"/>
                    </a:lnTo>
                    <a:lnTo>
                      <a:pt x="5499" y="924010"/>
                    </a:lnTo>
                    <a:lnTo>
                      <a:pt x="3000" y="913847"/>
                    </a:lnTo>
                    <a:lnTo>
                      <a:pt x="2200" y="909465"/>
                    </a:lnTo>
                    <a:lnTo>
                      <a:pt x="1700" y="905779"/>
                    </a:lnTo>
                    <a:lnTo>
                      <a:pt x="600" y="895119"/>
                    </a:lnTo>
                    <a:lnTo>
                      <a:pt x="0" y="884758"/>
                    </a:lnTo>
                    <a:lnTo>
                      <a:pt x="200" y="874597"/>
                    </a:lnTo>
                    <a:lnTo>
                      <a:pt x="800" y="864734"/>
                    </a:lnTo>
                    <a:lnTo>
                      <a:pt x="1900" y="855170"/>
                    </a:lnTo>
                    <a:lnTo>
                      <a:pt x="3700" y="845805"/>
                    </a:lnTo>
                    <a:lnTo>
                      <a:pt x="8499" y="828072"/>
                    </a:lnTo>
                    <a:lnTo>
                      <a:pt x="14999" y="811435"/>
                    </a:lnTo>
                    <a:lnTo>
                      <a:pt x="23198" y="795894"/>
                    </a:lnTo>
                    <a:lnTo>
                      <a:pt x="32797" y="781348"/>
                    </a:lnTo>
                    <a:lnTo>
                      <a:pt x="43696" y="767899"/>
                    </a:lnTo>
                    <a:lnTo>
                      <a:pt x="55695" y="755546"/>
                    </a:lnTo>
                    <a:lnTo>
                      <a:pt x="68593" y="744188"/>
                    </a:lnTo>
                    <a:lnTo>
                      <a:pt x="82192" y="733928"/>
                    </a:lnTo>
                    <a:lnTo>
                      <a:pt x="96391" y="724662"/>
                    </a:lnTo>
                    <a:lnTo>
                      <a:pt x="110889" y="716294"/>
                    </a:lnTo>
                    <a:lnTo>
                      <a:pt x="125588" y="708922"/>
                    </a:lnTo>
                    <a:lnTo>
                      <a:pt x="140386" y="702645"/>
                    </a:lnTo>
                    <a:lnTo>
                      <a:pt x="154985" y="697265"/>
                    </a:lnTo>
                    <a:lnTo>
                      <a:pt x="156485" y="695075"/>
                    </a:lnTo>
                    <a:lnTo>
                      <a:pt x="157385" y="692285"/>
                    </a:lnTo>
                    <a:lnTo>
                      <a:pt x="158185" y="685710"/>
                    </a:lnTo>
                    <a:lnTo>
                      <a:pt x="158985" y="679035"/>
                    </a:lnTo>
                    <a:lnTo>
                      <a:pt x="159685" y="676145"/>
                    </a:lnTo>
                    <a:lnTo>
                      <a:pt x="160984" y="673755"/>
                    </a:lnTo>
                    <a:lnTo>
                      <a:pt x="161684" y="672859"/>
                    </a:lnTo>
                    <a:lnTo>
                      <a:pt x="162884" y="671563"/>
                    </a:lnTo>
                    <a:lnTo>
                      <a:pt x="166684" y="667977"/>
                    </a:lnTo>
                    <a:lnTo>
                      <a:pt x="172084" y="663294"/>
                    </a:lnTo>
                    <a:lnTo>
                      <a:pt x="178882" y="657516"/>
                    </a:lnTo>
                    <a:lnTo>
                      <a:pt x="186683" y="651040"/>
                    </a:lnTo>
                    <a:lnTo>
                      <a:pt x="195182" y="643867"/>
                    </a:lnTo>
                    <a:lnTo>
                      <a:pt x="213980" y="628725"/>
                    </a:lnTo>
                    <a:lnTo>
                      <a:pt x="233078" y="613482"/>
                    </a:lnTo>
                    <a:lnTo>
                      <a:pt x="242177" y="606309"/>
                    </a:lnTo>
                    <a:lnTo>
                      <a:pt x="250576" y="599634"/>
                    </a:lnTo>
                    <a:lnTo>
                      <a:pt x="258175" y="593757"/>
                    </a:lnTo>
                    <a:lnTo>
                      <a:pt x="264574" y="588875"/>
                    </a:lnTo>
                    <a:lnTo>
                      <a:pt x="269574" y="585090"/>
                    </a:lnTo>
                    <a:lnTo>
                      <a:pt x="271474" y="583694"/>
                    </a:lnTo>
                    <a:lnTo>
                      <a:pt x="272974" y="582699"/>
                    </a:lnTo>
                    <a:lnTo>
                      <a:pt x="279273" y="578814"/>
                    </a:lnTo>
                    <a:lnTo>
                      <a:pt x="286073" y="575227"/>
                    </a:lnTo>
                    <a:lnTo>
                      <a:pt x="1255881" y="23909"/>
                    </a:lnTo>
                    <a:lnTo>
                      <a:pt x="1256080" y="26399"/>
                    </a:lnTo>
                    <a:lnTo>
                      <a:pt x="1255480" y="28990"/>
                    </a:lnTo>
                    <a:lnTo>
                      <a:pt x="1254180" y="31680"/>
                    </a:lnTo>
                    <a:lnTo>
                      <a:pt x="1249980" y="37259"/>
                    </a:lnTo>
                    <a:lnTo>
                      <a:pt x="1244081" y="43036"/>
                    </a:lnTo>
                    <a:lnTo>
                      <a:pt x="1229782" y="54593"/>
                    </a:lnTo>
                    <a:lnTo>
                      <a:pt x="1222883" y="60072"/>
                    </a:lnTo>
                    <a:lnTo>
                      <a:pt x="1216884" y="65252"/>
                    </a:lnTo>
                    <a:lnTo>
                      <a:pt x="1201185" y="79300"/>
                    </a:lnTo>
                    <a:lnTo>
                      <a:pt x="1184886" y="92749"/>
                    </a:lnTo>
                    <a:lnTo>
                      <a:pt x="1151090" y="118054"/>
                    </a:lnTo>
                    <a:lnTo>
                      <a:pt x="1116893" y="142860"/>
                    </a:lnTo>
                    <a:lnTo>
                      <a:pt x="1100095" y="155412"/>
                    </a:lnTo>
                    <a:lnTo>
                      <a:pt x="1083897" y="168463"/>
                    </a:lnTo>
                    <a:lnTo>
                      <a:pt x="1057099" y="190181"/>
                    </a:lnTo>
                    <a:lnTo>
                      <a:pt x="1029801" y="211700"/>
                    </a:lnTo>
                    <a:lnTo>
                      <a:pt x="974807" y="253541"/>
                    </a:lnTo>
                    <a:lnTo>
                      <a:pt x="919612" y="294687"/>
                    </a:lnTo>
                    <a:lnTo>
                      <a:pt x="864318" y="335233"/>
                    </a:lnTo>
                    <a:lnTo>
                      <a:pt x="808923" y="376975"/>
                    </a:lnTo>
                    <a:lnTo>
                      <a:pt x="781225" y="398594"/>
                    </a:lnTo>
                    <a:lnTo>
                      <a:pt x="753628" y="421010"/>
                    </a:lnTo>
                    <a:lnTo>
                      <a:pt x="726930" y="442030"/>
                    </a:lnTo>
                    <a:lnTo>
                      <a:pt x="699133" y="462354"/>
                    </a:lnTo>
                    <a:lnTo>
                      <a:pt x="684735" y="472714"/>
                    </a:lnTo>
                    <a:lnTo>
                      <a:pt x="669736" y="483373"/>
                    </a:lnTo>
                    <a:lnTo>
                      <a:pt x="654438" y="494432"/>
                    </a:lnTo>
                    <a:lnTo>
                      <a:pt x="638639" y="506287"/>
                    </a:lnTo>
                    <a:lnTo>
                      <a:pt x="583045" y="548029"/>
                    </a:lnTo>
                    <a:lnTo>
                      <a:pt x="554947" y="568552"/>
                    </a:lnTo>
                    <a:lnTo>
                      <a:pt x="526550" y="588477"/>
                    </a:lnTo>
                    <a:lnTo>
                      <a:pt x="522450" y="591366"/>
                    </a:lnTo>
                    <a:lnTo>
                      <a:pt x="517450" y="594953"/>
                    </a:lnTo>
                    <a:lnTo>
                      <a:pt x="511551" y="599037"/>
                    </a:lnTo>
                    <a:lnTo>
                      <a:pt x="504852" y="603619"/>
                    </a:lnTo>
                    <a:lnTo>
                      <a:pt x="489853" y="613383"/>
                    </a:lnTo>
                    <a:lnTo>
                      <a:pt x="473155" y="623246"/>
                    </a:lnTo>
                    <a:lnTo>
                      <a:pt x="455756" y="632112"/>
                    </a:lnTo>
                    <a:lnTo>
                      <a:pt x="447157" y="635799"/>
                    </a:lnTo>
                    <a:lnTo>
                      <a:pt x="438658" y="638787"/>
                    </a:lnTo>
                    <a:lnTo>
                      <a:pt x="430459" y="640979"/>
                    </a:lnTo>
                    <a:lnTo>
                      <a:pt x="422560" y="642273"/>
                    </a:lnTo>
                    <a:lnTo>
                      <a:pt x="415260" y="642473"/>
                    </a:lnTo>
                    <a:lnTo>
                      <a:pt x="408661" y="641377"/>
                    </a:lnTo>
                    <a:lnTo>
                      <a:pt x="404362" y="639684"/>
                    </a:lnTo>
                    <a:lnTo>
                      <a:pt x="399862" y="636496"/>
                    </a:lnTo>
                    <a:lnTo>
                      <a:pt x="395062" y="632311"/>
                    </a:lnTo>
                    <a:lnTo>
                      <a:pt x="390063" y="627131"/>
                    </a:lnTo>
                    <a:lnTo>
                      <a:pt x="384864" y="621253"/>
                    </a:lnTo>
                    <a:lnTo>
                      <a:pt x="379564" y="614778"/>
                    </a:lnTo>
                    <a:lnTo>
                      <a:pt x="368465" y="600930"/>
                    </a:lnTo>
                    <a:lnTo>
                      <a:pt x="357066" y="586982"/>
                    </a:lnTo>
                    <a:lnTo>
                      <a:pt x="345567" y="574331"/>
                    </a:lnTo>
                    <a:lnTo>
                      <a:pt x="339867" y="569050"/>
                    </a:lnTo>
                    <a:lnTo>
                      <a:pt x="334168" y="564667"/>
                    </a:lnTo>
                    <a:lnTo>
                      <a:pt x="328568" y="561280"/>
                    </a:lnTo>
                    <a:lnTo>
                      <a:pt x="323069" y="559187"/>
                    </a:lnTo>
                    <a:lnTo>
                      <a:pt x="323069" y="547432"/>
                    </a:lnTo>
                    <a:lnTo>
                      <a:pt x="344067" y="530695"/>
                    </a:lnTo>
                    <a:lnTo>
                      <a:pt x="365965" y="514656"/>
                    </a:lnTo>
                    <a:lnTo>
                      <a:pt x="388362" y="499115"/>
                    </a:lnTo>
                    <a:lnTo>
                      <a:pt x="411461" y="484171"/>
                    </a:lnTo>
                    <a:lnTo>
                      <a:pt x="458456" y="455181"/>
                    </a:lnTo>
                    <a:lnTo>
                      <a:pt x="505952" y="426987"/>
                    </a:lnTo>
                    <a:lnTo>
                      <a:pt x="626140" y="356552"/>
                    </a:lnTo>
                    <a:lnTo>
                      <a:pt x="686735" y="322182"/>
                    </a:lnTo>
                    <a:lnTo>
                      <a:pt x="747728" y="288808"/>
                    </a:lnTo>
                    <a:lnTo>
                      <a:pt x="815622" y="252048"/>
                    </a:lnTo>
                    <a:lnTo>
                      <a:pt x="882116" y="215087"/>
                    </a:lnTo>
                    <a:lnTo>
                      <a:pt x="947809" y="178326"/>
                    </a:lnTo>
                    <a:lnTo>
                      <a:pt x="1013103" y="141963"/>
                    </a:lnTo>
                    <a:lnTo>
                      <a:pt x="1053099" y="119348"/>
                    </a:lnTo>
                    <a:lnTo>
                      <a:pt x="1092296" y="96634"/>
                    </a:lnTo>
                    <a:lnTo>
                      <a:pt x="1169388" y="50907"/>
                    </a:lnTo>
                    <a:lnTo>
                      <a:pt x="1173088" y="48616"/>
                    </a:lnTo>
                    <a:lnTo>
                      <a:pt x="1177688" y="45627"/>
                    </a:lnTo>
                    <a:lnTo>
                      <a:pt x="1182887" y="42240"/>
                    </a:lnTo>
                    <a:lnTo>
                      <a:pt x="1188686" y="38553"/>
                    </a:lnTo>
                    <a:lnTo>
                      <a:pt x="1201385" y="30683"/>
                    </a:lnTo>
                    <a:lnTo>
                      <a:pt x="1214883" y="23212"/>
                    </a:lnTo>
                    <a:lnTo>
                      <a:pt x="1221484" y="20024"/>
                    </a:lnTo>
                    <a:lnTo>
                      <a:pt x="1227882" y="17433"/>
                    </a:lnTo>
                    <a:lnTo>
                      <a:pt x="1233982" y="15541"/>
                    </a:lnTo>
                    <a:lnTo>
                      <a:pt x="1239682" y="14445"/>
                    </a:lnTo>
                    <a:lnTo>
                      <a:pt x="1244682" y="14346"/>
                    </a:lnTo>
                    <a:lnTo>
                      <a:pt x="1248981" y="15441"/>
                    </a:lnTo>
                    <a:lnTo>
                      <a:pt x="1252380" y="17733"/>
                    </a:lnTo>
                    <a:lnTo>
                      <a:pt x="1254880" y="21518"/>
                    </a:lnTo>
                    <a:lnTo>
                      <a:pt x="361966" y="709022"/>
                    </a:lnTo>
                    <a:lnTo>
                      <a:pt x="345767" y="717988"/>
                    </a:lnTo>
                    <a:lnTo>
                      <a:pt x="314570" y="736020"/>
                    </a:lnTo>
                    <a:lnTo>
                      <a:pt x="298571" y="744786"/>
                    </a:lnTo>
                    <a:lnTo>
                      <a:pt x="281773" y="752956"/>
                    </a:lnTo>
                    <a:lnTo>
                      <a:pt x="263474" y="760726"/>
                    </a:lnTo>
                    <a:lnTo>
                      <a:pt x="243477" y="767800"/>
                    </a:lnTo>
                    <a:lnTo>
                      <a:pt x="239077" y="765209"/>
                    </a:lnTo>
                    <a:lnTo>
                      <a:pt x="233877" y="761723"/>
                    </a:lnTo>
                    <a:lnTo>
                      <a:pt x="228278" y="757439"/>
                    </a:lnTo>
                    <a:lnTo>
                      <a:pt x="222378" y="752457"/>
                    </a:lnTo>
                    <a:lnTo>
                      <a:pt x="210180" y="740801"/>
                    </a:lnTo>
                    <a:lnTo>
                      <a:pt x="198581" y="727651"/>
                    </a:lnTo>
                    <a:lnTo>
                      <a:pt x="188583" y="713904"/>
                    </a:lnTo>
                    <a:lnTo>
                      <a:pt x="184682" y="707029"/>
                    </a:lnTo>
                    <a:lnTo>
                      <a:pt x="181683" y="700255"/>
                    </a:lnTo>
                    <a:lnTo>
                      <a:pt x="179682" y="693779"/>
                    </a:lnTo>
                    <a:lnTo>
                      <a:pt x="178882" y="687503"/>
                    </a:lnTo>
                    <a:lnTo>
                      <a:pt x="179483" y="681825"/>
                    </a:lnTo>
                    <a:lnTo>
                      <a:pt x="181582" y="676644"/>
                    </a:lnTo>
                    <a:lnTo>
                      <a:pt x="182483" y="675448"/>
                    </a:lnTo>
                    <a:lnTo>
                      <a:pt x="183983" y="673755"/>
                    </a:lnTo>
                    <a:lnTo>
                      <a:pt x="185982" y="671763"/>
                    </a:lnTo>
                    <a:lnTo>
                      <a:pt x="188583" y="669371"/>
                    </a:lnTo>
                    <a:lnTo>
                      <a:pt x="194882" y="663892"/>
                    </a:lnTo>
                    <a:lnTo>
                      <a:pt x="202781" y="657417"/>
                    </a:lnTo>
                    <a:lnTo>
                      <a:pt x="211779" y="650244"/>
                    </a:lnTo>
                    <a:lnTo>
                      <a:pt x="221779" y="642672"/>
                    </a:lnTo>
                    <a:lnTo>
                      <a:pt x="243176" y="626732"/>
                    </a:lnTo>
                    <a:lnTo>
                      <a:pt x="253976" y="618862"/>
                    </a:lnTo>
                    <a:lnTo>
                      <a:pt x="264574" y="611290"/>
                    </a:lnTo>
                    <a:lnTo>
                      <a:pt x="274574" y="604317"/>
                    </a:lnTo>
                    <a:lnTo>
                      <a:pt x="283673" y="598141"/>
                    </a:lnTo>
                    <a:lnTo>
                      <a:pt x="291572" y="593059"/>
                    </a:lnTo>
                    <a:lnTo>
                      <a:pt x="298072" y="589074"/>
                    </a:lnTo>
                    <a:lnTo>
                      <a:pt x="300671" y="587581"/>
                    </a:lnTo>
                    <a:lnTo>
                      <a:pt x="302771" y="586485"/>
                    </a:lnTo>
                    <a:lnTo>
                      <a:pt x="304371" y="585787"/>
                    </a:lnTo>
                    <a:lnTo>
                      <a:pt x="305371" y="585588"/>
                    </a:lnTo>
                    <a:lnTo>
                      <a:pt x="311770" y="586485"/>
                    </a:lnTo>
                    <a:lnTo>
                      <a:pt x="318769" y="589174"/>
                    </a:lnTo>
                    <a:lnTo>
                      <a:pt x="325868" y="593259"/>
                    </a:lnTo>
                    <a:lnTo>
                      <a:pt x="333168" y="598639"/>
                    </a:lnTo>
                    <a:lnTo>
                      <a:pt x="340567" y="605213"/>
                    </a:lnTo>
                    <a:lnTo>
                      <a:pt x="347667" y="612785"/>
                    </a:lnTo>
                    <a:lnTo>
                      <a:pt x="354466" y="621054"/>
                    </a:lnTo>
                    <a:lnTo>
                      <a:pt x="360966" y="630020"/>
                    </a:lnTo>
                    <a:lnTo>
                      <a:pt x="366664" y="639285"/>
                    </a:lnTo>
                    <a:lnTo>
                      <a:pt x="371864" y="648849"/>
                    </a:lnTo>
                    <a:lnTo>
                      <a:pt x="376064" y="658313"/>
                    </a:lnTo>
                    <a:lnTo>
                      <a:pt x="379363" y="667777"/>
                    </a:lnTo>
                    <a:lnTo>
                      <a:pt x="381363" y="676843"/>
                    </a:lnTo>
                    <a:lnTo>
                      <a:pt x="382063" y="685411"/>
                    </a:lnTo>
                    <a:lnTo>
                      <a:pt x="381363" y="693281"/>
                    </a:lnTo>
                    <a:lnTo>
                      <a:pt x="379064" y="700155"/>
                    </a:lnTo>
                    <a:lnTo>
                      <a:pt x="213480" y="779854"/>
                    </a:lnTo>
                    <a:lnTo>
                      <a:pt x="211680" y="790514"/>
                    </a:lnTo>
                    <a:lnTo>
                      <a:pt x="208680" y="799879"/>
                    </a:lnTo>
                    <a:lnTo>
                      <a:pt x="204581" y="808048"/>
                    </a:lnTo>
                    <a:lnTo>
                      <a:pt x="199480" y="815221"/>
                    </a:lnTo>
                    <a:lnTo>
                      <a:pt x="193481" y="821397"/>
                    </a:lnTo>
                    <a:lnTo>
                      <a:pt x="186683" y="826877"/>
                    </a:lnTo>
                    <a:lnTo>
                      <a:pt x="179282" y="831559"/>
                    </a:lnTo>
                    <a:lnTo>
                      <a:pt x="171184" y="835643"/>
                    </a:lnTo>
                    <a:lnTo>
                      <a:pt x="162685" y="839429"/>
                    </a:lnTo>
                    <a:lnTo>
                      <a:pt x="144686" y="845905"/>
                    </a:lnTo>
                    <a:lnTo>
                      <a:pt x="126187" y="852081"/>
                    </a:lnTo>
                    <a:lnTo>
                      <a:pt x="107889" y="858855"/>
                    </a:lnTo>
                    <a:lnTo>
                      <a:pt x="100591" y="862143"/>
                    </a:lnTo>
                    <a:lnTo>
                      <a:pt x="93891" y="865929"/>
                    </a:lnTo>
                    <a:lnTo>
                      <a:pt x="87691" y="870114"/>
                    </a:lnTo>
                    <a:lnTo>
                      <a:pt x="81892" y="874597"/>
                    </a:lnTo>
                    <a:lnTo>
                      <a:pt x="71494" y="884658"/>
                    </a:lnTo>
                    <a:lnTo>
                      <a:pt x="62294" y="895915"/>
                    </a:lnTo>
                    <a:lnTo>
                      <a:pt x="53994" y="907970"/>
                    </a:lnTo>
                    <a:lnTo>
                      <a:pt x="46296" y="920722"/>
                    </a:lnTo>
                    <a:lnTo>
                      <a:pt x="31197" y="946923"/>
                    </a:lnTo>
                    <a:lnTo>
                      <a:pt x="26498" y="936164"/>
                    </a:lnTo>
                    <a:lnTo>
                      <a:pt x="22898" y="924806"/>
                    </a:lnTo>
                    <a:lnTo>
                      <a:pt x="20297" y="913150"/>
                    </a:lnTo>
                    <a:lnTo>
                      <a:pt x="18598" y="901097"/>
                    </a:lnTo>
                    <a:lnTo>
                      <a:pt x="17898" y="888941"/>
                    </a:lnTo>
                    <a:lnTo>
                      <a:pt x="17898" y="876689"/>
                    </a:lnTo>
                    <a:lnTo>
                      <a:pt x="18898" y="864634"/>
                    </a:lnTo>
                    <a:lnTo>
                      <a:pt x="20697" y="852480"/>
                    </a:lnTo>
                    <a:lnTo>
                      <a:pt x="23098" y="840725"/>
                    </a:lnTo>
                    <a:lnTo>
                      <a:pt x="26297" y="829268"/>
                    </a:lnTo>
                    <a:lnTo>
                      <a:pt x="30097" y="818309"/>
                    </a:lnTo>
                    <a:lnTo>
                      <a:pt x="34596" y="807848"/>
                    </a:lnTo>
                    <a:lnTo>
                      <a:pt x="39596" y="797985"/>
                    </a:lnTo>
                    <a:lnTo>
                      <a:pt x="45095" y="789019"/>
                    </a:lnTo>
                    <a:lnTo>
                      <a:pt x="51195" y="780851"/>
                    </a:lnTo>
                    <a:lnTo>
                      <a:pt x="57694" y="773577"/>
                    </a:lnTo>
                    <a:lnTo>
                      <a:pt x="76993" y="755546"/>
                    </a:lnTo>
                    <a:lnTo>
                      <a:pt x="86792" y="747377"/>
                    </a:lnTo>
                    <a:lnTo>
                      <a:pt x="96690" y="740005"/>
                    </a:lnTo>
                    <a:lnTo>
                      <a:pt x="106689" y="733529"/>
                    </a:lnTo>
                    <a:lnTo>
                      <a:pt x="116689" y="728149"/>
                    </a:lnTo>
                    <a:lnTo>
                      <a:pt x="126688" y="723965"/>
                    </a:lnTo>
                    <a:lnTo>
                      <a:pt x="136787" y="721275"/>
                    </a:lnTo>
                    <a:lnTo>
                      <a:pt x="146786" y="719981"/>
                    </a:lnTo>
                    <a:lnTo>
                      <a:pt x="156685" y="720478"/>
                    </a:lnTo>
                    <a:lnTo>
                      <a:pt x="166584" y="722869"/>
                    </a:lnTo>
                    <a:lnTo>
                      <a:pt x="176283" y="727253"/>
                    </a:lnTo>
                    <a:lnTo>
                      <a:pt x="185982" y="733827"/>
                    </a:lnTo>
                    <a:lnTo>
                      <a:pt x="195481" y="742594"/>
                    </a:lnTo>
                    <a:lnTo>
                      <a:pt x="204780" y="753853"/>
                    </a:lnTo>
                    <a:lnTo>
                      <a:pt x="213980" y="767800"/>
                    </a:lnTo>
                    <a:lnTo>
                      <a:pt x="299471" y="567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: Shape 21"/>
              <p:cNvSpPr/>
              <p:nvPr/>
            </p:nvSpPr>
            <p:spPr>
              <a:xfrm rot="8378400">
                <a:off x="1935720" y="54000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8895" h="47023">
                    <a:moveTo>
                      <a:pt x="0" y="-29074"/>
                    </a:moveTo>
                    <a:lnTo>
                      <a:pt x="13198" y="27496"/>
                    </a:lnTo>
                    <a:lnTo>
                      <a:pt x="26297" y="17733"/>
                    </a:lnTo>
                    <a:lnTo>
                      <a:pt x="-25240" y="8169"/>
                    </a:lnTo>
                    <a:lnTo>
                      <a:pt x="-17741" y="3885"/>
                    </a:lnTo>
                    <a:lnTo>
                      <a:pt x="-9642" y="0"/>
                    </a:lnTo>
                    <a:lnTo>
                      <a:pt x="-6642" y="8767"/>
                    </a:lnTo>
                    <a:lnTo>
                      <a:pt x="-12342" y="13151"/>
                    </a:lnTo>
                    <a:lnTo>
                      <a:pt x="-18641" y="17933"/>
                    </a:lnTo>
                    <a:lnTo>
                      <a:pt x="-32540" y="27995"/>
                    </a:lnTo>
                    <a:lnTo>
                      <a:pt x="18698" y="-27479"/>
                    </a:lnTo>
                    <a:lnTo>
                      <a:pt x="11999" y="-22798"/>
                    </a:lnTo>
                    <a:lnTo>
                      <a:pt x="5799" y="-18514"/>
                    </a:lnTo>
                    <a:lnTo>
                      <a:pt x="4599" y="-21104"/>
                    </a:lnTo>
                    <a:lnTo>
                      <a:pt x="3099" y="-23495"/>
                    </a:lnTo>
                    <a:lnTo>
                      <a:pt x="1599" y="-25885"/>
                    </a:lnTo>
                    <a:lnTo>
                      <a:pt x="0" y="-290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: Shape 22"/>
              <p:cNvSpPr/>
              <p:nvPr/>
            </p:nvSpPr>
            <p:spPr>
              <a:xfrm rot="8378400">
                <a:off x="1915200" y="538560"/>
                <a:ext cx="42480" cy="284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56896" h="39852">
                    <a:moveTo>
                      <a:pt x="-8641" y="9166"/>
                    </a:moveTo>
                    <a:lnTo>
                      <a:pt x="-13640" y="11657"/>
                    </a:lnTo>
                    <a:lnTo>
                      <a:pt x="-19640" y="15144"/>
                    </a:lnTo>
                    <a:lnTo>
                      <a:pt x="-26240" y="19428"/>
                    </a:lnTo>
                    <a:lnTo>
                      <a:pt x="32297" y="24010"/>
                    </a:lnTo>
                    <a:lnTo>
                      <a:pt x="17799" y="-32361"/>
                    </a:lnTo>
                    <a:lnTo>
                      <a:pt x="10799" y="-28575"/>
                    </a:lnTo>
                    <a:lnTo>
                      <a:pt x="4300" y="-25685"/>
                    </a:lnTo>
                    <a:lnTo>
                      <a:pt x="0" y="-31663"/>
                    </a:lnTo>
                    <a:lnTo>
                      <a:pt x="4500" y="30187"/>
                    </a:lnTo>
                    <a:lnTo>
                      <a:pt x="10199" y="25903"/>
                    </a:lnTo>
                    <a:lnTo>
                      <a:pt x="16699" y="21320"/>
                    </a:lnTo>
                    <a:lnTo>
                      <a:pt x="23897" y="16538"/>
                    </a:lnTo>
                    <a:lnTo>
                      <a:pt x="-26640" y="7274"/>
                    </a:lnTo>
                    <a:lnTo>
                      <a:pt x="-19541" y="3289"/>
                    </a:lnTo>
                    <a:lnTo>
                      <a:pt x="-13041" y="0"/>
                    </a:lnTo>
                    <a:lnTo>
                      <a:pt x="-10941" y="1596"/>
                    </a:lnTo>
                    <a:lnTo>
                      <a:pt x="-9941" y="3786"/>
                    </a:lnTo>
                    <a:lnTo>
                      <a:pt x="-8641" y="9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: Shape 23"/>
              <p:cNvSpPr/>
              <p:nvPr/>
            </p:nvSpPr>
            <p:spPr>
              <a:xfrm rot="8378400">
                <a:off x="1898280" y="533520"/>
                <a:ext cx="47160" cy="28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60595" h="39253">
                    <a:moveTo>
                      <a:pt x="0" y="31182"/>
                    </a:moveTo>
                    <a:lnTo>
                      <a:pt x="4500" y="28591"/>
                    </a:lnTo>
                    <a:lnTo>
                      <a:pt x="9999" y="25105"/>
                    </a:lnTo>
                    <a:lnTo>
                      <a:pt x="16398" y="21020"/>
                    </a:lnTo>
                    <a:lnTo>
                      <a:pt x="23498" y="16538"/>
                    </a:lnTo>
                    <a:lnTo>
                      <a:pt x="-26740" y="7471"/>
                    </a:lnTo>
                    <a:lnTo>
                      <a:pt x="-18641" y="3486"/>
                    </a:lnTo>
                    <a:lnTo>
                      <a:pt x="-10742" y="0"/>
                    </a:lnTo>
                    <a:lnTo>
                      <a:pt x="-4942" y="7870"/>
                    </a:lnTo>
                    <a:lnTo>
                      <a:pt x="-18641" y="15341"/>
                    </a:lnTo>
                    <a:lnTo>
                      <a:pt x="-32539" y="23511"/>
                    </a:lnTo>
                    <a:lnTo>
                      <a:pt x="19098" y="31580"/>
                    </a:lnTo>
                    <a:lnTo>
                      <a:pt x="5599" y="-26284"/>
                    </a:lnTo>
                    <a:lnTo>
                      <a:pt x="0" y="3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: Shape 24"/>
              <p:cNvSpPr/>
              <p:nvPr/>
            </p:nvSpPr>
            <p:spPr>
              <a:xfrm rot="8378400">
                <a:off x="1881720" y="511200"/>
                <a:ext cx="44280" cy="270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5295" h="35866">
                    <a:moveTo>
                      <a:pt x="-15542" y="0"/>
                    </a:moveTo>
                    <a:lnTo>
                      <a:pt x="-10242" y="6675"/>
                    </a:lnTo>
                    <a:lnTo>
                      <a:pt x="-14342" y="9464"/>
                    </a:lnTo>
                    <a:lnTo>
                      <a:pt x="-19941" y="13050"/>
                    </a:lnTo>
                    <a:lnTo>
                      <a:pt x="-26541" y="17135"/>
                    </a:lnTo>
                    <a:lnTo>
                      <a:pt x="31797" y="21519"/>
                    </a:lnTo>
                    <a:lnTo>
                      <a:pt x="17198" y="29887"/>
                    </a:lnTo>
                    <a:lnTo>
                      <a:pt x="10499" y="-32162"/>
                    </a:lnTo>
                    <a:lnTo>
                      <a:pt x="4998" y="-29671"/>
                    </a:lnTo>
                    <a:lnTo>
                      <a:pt x="0" y="28692"/>
                    </a:lnTo>
                    <a:lnTo>
                      <a:pt x="5499" y="25105"/>
                    </a:lnTo>
                    <a:lnTo>
                      <a:pt x="12198" y="21120"/>
                    </a:lnTo>
                    <a:lnTo>
                      <a:pt x="26797" y="12752"/>
                    </a:lnTo>
                    <a:lnTo>
                      <a:pt x="-31540" y="8668"/>
                    </a:lnTo>
                    <a:lnTo>
                      <a:pt x="-25140" y="5081"/>
                    </a:lnTo>
                    <a:lnTo>
                      <a:pt x="-19641" y="2192"/>
                    </a:lnTo>
                    <a:lnTo>
                      <a:pt x="-155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: Shape 25"/>
              <p:cNvSpPr/>
              <p:nvPr/>
            </p:nvSpPr>
            <p:spPr>
              <a:xfrm rot="8378400">
                <a:off x="1863000" y="533520"/>
                <a:ext cx="39240" cy="219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9696" h="31980">
                    <a:moveTo>
                      <a:pt x="0" y="25603"/>
                    </a:moveTo>
                    <a:lnTo>
                      <a:pt x="22798" y="11955"/>
                    </a:lnTo>
                    <a:lnTo>
                      <a:pt x="-31239" y="5579"/>
                    </a:lnTo>
                    <a:lnTo>
                      <a:pt x="-19141" y="0"/>
                    </a:lnTo>
                    <a:lnTo>
                      <a:pt x="-15841" y="9464"/>
                    </a:lnTo>
                    <a:lnTo>
                      <a:pt x="-20540" y="11556"/>
                    </a:lnTo>
                    <a:lnTo>
                      <a:pt x="-25940" y="14046"/>
                    </a:lnTo>
                    <a:lnTo>
                      <a:pt x="27697" y="19925"/>
                    </a:lnTo>
                    <a:lnTo>
                      <a:pt x="16299" y="26101"/>
                    </a:lnTo>
                    <a:lnTo>
                      <a:pt x="11299" y="29190"/>
                    </a:lnTo>
                    <a:lnTo>
                      <a:pt x="7300" y="31979"/>
                    </a:lnTo>
                    <a:lnTo>
                      <a:pt x="4799" y="30683"/>
                    </a:lnTo>
                    <a:lnTo>
                      <a:pt x="2899" y="29389"/>
                    </a:lnTo>
                    <a:lnTo>
                      <a:pt x="0" y="25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: Shape 26"/>
              <p:cNvSpPr/>
              <p:nvPr/>
            </p:nvSpPr>
            <p:spPr>
              <a:xfrm rot="8378400">
                <a:off x="1954080" y="304920"/>
                <a:ext cx="64800" cy="6192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80594" h="83087">
                    <a:moveTo>
                      <a:pt x="74692" y="399"/>
                    </a:moveTo>
                    <a:lnTo>
                      <a:pt x="77292" y="0"/>
                    </a:lnTo>
                    <a:lnTo>
                      <a:pt x="79093" y="99"/>
                    </a:lnTo>
                    <a:lnTo>
                      <a:pt x="80092" y="797"/>
                    </a:lnTo>
                    <a:lnTo>
                      <a:pt x="80593" y="1892"/>
                    </a:lnTo>
                    <a:lnTo>
                      <a:pt x="80593" y="5279"/>
                    </a:lnTo>
                    <a:lnTo>
                      <a:pt x="80492" y="9165"/>
                    </a:lnTo>
                    <a:lnTo>
                      <a:pt x="72993" y="16039"/>
                    </a:lnTo>
                    <a:lnTo>
                      <a:pt x="65994" y="21917"/>
                    </a:lnTo>
                    <a:lnTo>
                      <a:pt x="52994" y="32776"/>
                    </a:lnTo>
                    <a:lnTo>
                      <a:pt x="40197" y="43735"/>
                    </a:lnTo>
                    <a:lnTo>
                      <a:pt x="33397" y="49911"/>
                    </a:lnTo>
                    <a:lnTo>
                      <a:pt x="26097" y="56985"/>
                    </a:lnTo>
                    <a:lnTo>
                      <a:pt x="0" y="83086"/>
                    </a:lnTo>
                    <a:lnTo>
                      <a:pt x="6999" y="69338"/>
                    </a:lnTo>
                    <a:lnTo>
                      <a:pt x="14999" y="56487"/>
                    </a:lnTo>
                    <a:lnTo>
                      <a:pt x="23797" y="44531"/>
                    </a:lnTo>
                    <a:lnTo>
                      <a:pt x="33297" y="33374"/>
                    </a:lnTo>
                    <a:lnTo>
                      <a:pt x="43295" y="23411"/>
                    </a:lnTo>
                    <a:lnTo>
                      <a:pt x="53595" y="14545"/>
                    </a:lnTo>
                    <a:lnTo>
                      <a:pt x="64094" y="6874"/>
                    </a:lnTo>
                    <a:lnTo>
                      <a:pt x="74692" y="39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: Shape 27"/>
              <p:cNvSpPr/>
              <p:nvPr/>
            </p:nvSpPr>
            <p:spPr>
              <a:xfrm rot="8378400">
                <a:off x="1892520" y="295560"/>
                <a:ext cx="134280" cy="130320"/>
              </a:xfrm>
              <a:custGeom>
                <a:avLst/>
                <a:gdLst>
                  <a:gd name="textAreaLeft" fmla="*/ 0 w 134280"/>
                  <a:gd name="textAreaRight" fmla="*/ 134280 w 1342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69085" h="179225">
                    <a:moveTo>
                      <a:pt x="107190" y="0"/>
                    </a:moveTo>
                    <a:lnTo>
                      <a:pt x="118588" y="798"/>
                    </a:lnTo>
                    <a:lnTo>
                      <a:pt x="128687" y="2889"/>
                    </a:lnTo>
                    <a:lnTo>
                      <a:pt x="137487" y="6276"/>
                    </a:lnTo>
                    <a:lnTo>
                      <a:pt x="145286" y="10561"/>
                    </a:lnTo>
                    <a:lnTo>
                      <a:pt x="152086" y="15742"/>
                    </a:lnTo>
                    <a:lnTo>
                      <a:pt x="158285" y="21718"/>
                    </a:lnTo>
                    <a:lnTo>
                      <a:pt x="163884" y="28194"/>
                    </a:lnTo>
                    <a:lnTo>
                      <a:pt x="169084" y="35268"/>
                    </a:lnTo>
                    <a:lnTo>
                      <a:pt x="168484" y="43138"/>
                    </a:lnTo>
                    <a:lnTo>
                      <a:pt x="166685" y="50510"/>
                    </a:lnTo>
                    <a:lnTo>
                      <a:pt x="163985" y="57384"/>
                    </a:lnTo>
                    <a:lnTo>
                      <a:pt x="160585" y="63660"/>
                    </a:lnTo>
                    <a:lnTo>
                      <a:pt x="156586" y="69239"/>
                    </a:lnTo>
                    <a:lnTo>
                      <a:pt x="152086" y="74220"/>
                    </a:lnTo>
                    <a:lnTo>
                      <a:pt x="147386" y="78604"/>
                    </a:lnTo>
                    <a:lnTo>
                      <a:pt x="142486" y="82191"/>
                    </a:lnTo>
                    <a:lnTo>
                      <a:pt x="133488" y="88167"/>
                    </a:lnTo>
                    <a:lnTo>
                      <a:pt x="124089" y="93647"/>
                    </a:lnTo>
                    <a:lnTo>
                      <a:pt x="104590" y="103709"/>
                    </a:lnTo>
                    <a:lnTo>
                      <a:pt x="84892" y="113174"/>
                    </a:lnTo>
                    <a:lnTo>
                      <a:pt x="65594" y="122936"/>
                    </a:lnTo>
                    <a:lnTo>
                      <a:pt x="47096" y="133596"/>
                    </a:lnTo>
                    <a:lnTo>
                      <a:pt x="38496" y="139574"/>
                    </a:lnTo>
                    <a:lnTo>
                      <a:pt x="30297" y="146049"/>
                    </a:lnTo>
                    <a:lnTo>
                      <a:pt x="22698" y="153123"/>
                    </a:lnTo>
                    <a:lnTo>
                      <a:pt x="15698" y="160894"/>
                    </a:lnTo>
                    <a:lnTo>
                      <a:pt x="9399" y="169660"/>
                    </a:lnTo>
                    <a:lnTo>
                      <a:pt x="4000" y="179224"/>
                    </a:lnTo>
                    <a:lnTo>
                      <a:pt x="2201" y="171653"/>
                    </a:lnTo>
                    <a:lnTo>
                      <a:pt x="1101" y="164480"/>
                    </a:lnTo>
                    <a:lnTo>
                      <a:pt x="0" y="150832"/>
                    </a:lnTo>
                    <a:lnTo>
                      <a:pt x="900" y="137979"/>
                    </a:lnTo>
                    <a:lnTo>
                      <a:pt x="3200" y="126025"/>
                    </a:lnTo>
                    <a:lnTo>
                      <a:pt x="6900" y="114866"/>
                    </a:lnTo>
                    <a:lnTo>
                      <a:pt x="11899" y="104407"/>
                    </a:lnTo>
                    <a:lnTo>
                      <a:pt x="17998" y="94544"/>
                    </a:lnTo>
                    <a:lnTo>
                      <a:pt x="24998" y="85378"/>
                    </a:lnTo>
                    <a:lnTo>
                      <a:pt x="32697" y="76612"/>
                    </a:lnTo>
                    <a:lnTo>
                      <a:pt x="40896" y="68343"/>
                    </a:lnTo>
                    <a:lnTo>
                      <a:pt x="58394" y="52701"/>
                    </a:lnTo>
                    <a:lnTo>
                      <a:pt x="75993" y="37958"/>
                    </a:lnTo>
                    <a:lnTo>
                      <a:pt x="92491" y="23412"/>
                    </a:lnTo>
                    <a:lnTo>
                      <a:pt x="101790" y="25903"/>
                    </a:lnTo>
                    <a:lnTo>
                      <a:pt x="110190" y="29389"/>
                    </a:lnTo>
                    <a:lnTo>
                      <a:pt x="111089" y="34371"/>
                    </a:lnTo>
                    <a:lnTo>
                      <a:pt x="110789" y="39054"/>
                    </a:lnTo>
                    <a:lnTo>
                      <a:pt x="109589" y="43337"/>
                    </a:lnTo>
                    <a:lnTo>
                      <a:pt x="107890" y="47222"/>
                    </a:lnTo>
                    <a:lnTo>
                      <a:pt x="106390" y="50809"/>
                    </a:lnTo>
                    <a:lnTo>
                      <a:pt x="105391" y="53797"/>
                    </a:lnTo>
                    <a:lnTo>
                      <a:pt x="105490" y="56587"/>
                    </a:lnTo>
                    <a:lnTo>
                      <a:pt x="107190" y="58679"/>
                    </a:lnTo>
                    <a:lnTo>
                      <a:pt x="111089" y="53200"/>
                    </a:lnTo>
                    <a:lnTo>
                      <a:pt x="115490" y="48020"/>
                    </a:lnTo>
                    <a:lnTo>
                      <a:pt x="119489" y="42341"/>
                    </a:lnTo>
                    <a:lnTo>
                      <a:pt x="120989" y="38953"/>
                    </a:lnTo>
                    <a:lnTo>
                      <a:pt x="121889" y="35268"/>
                    </a:lnTo>
                    <a:lnTo>
                      <a:pt x="117589" y="29389"/>
                    </a:lnTo>
                    <a:lnTo>
                      <a:pt x="113789" y="22715"/>
                    </a:lnTo>
                    <a:lnTo>
                      <a:pt x="109690" y="16538"/>
                    </a:lnTo>
                    <a:lnTo>
                      <a:pt x="107190" y="13848"/>
                    </a:lnTo>
                    <a:lnTo>
                      <a:pt x="104190" y="11756"/>
                    </a:lnTo>
                    <a:lnTo>
                      <a:pt x="103790" y="9365"/>
                    </a:lnTo>
                    <a:lnTo>
                      <a:pt x="103790" y="7473"/>
                    </a:lnTo>
                    <a:lnTo>
                      <a:pt x="104590" y="4682"/>
                    </a:lnTo>
                    <a:lnTo>
                      <a:pt x="105990" y="2492"/>
                    </a:lnTo>
                    <a:lnTo>
                      <a:pt x="10719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: Shape 28"/>
              <p:cNvSpPr/>
              <p:nvPr/>
            </p:nvSpPr>
            <p:spPr>
              <a:xfrm rot="8378400">
                <a:off x="1853280" y="98280"/>
                <a:ext cx="66240" cy="133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83893" h="184803">
                    <a:moveTo>
                      <a:pt x="30797" y="0"/>
                    </a:moveTo>
                    <a:lnTo>
                      <a:pt x="41196" y="14147"/>
                    </a:lnTo>
                    <a:lnTo>
                      <a:pt x="50396" y="28791"/>
                    </a:lnTo>
                    <a:lnTo>
                      <a:pt x="58495" y="44233"/>
                    </a:lnTo>
                    <a:lnTo>
                      <a:pt x="65494" y="60572"/>
                    </a:lnTo>
                    <a:lnTo>
                      <a:pt x="71594" y="78006"/>
                    </a:lnTo>
                    <a:lnTo>
                      <a:pt x="76594" y="96535"/>
                    </a:lnTo>
                    <a:lnTo>
                      <a:pt x="80593" y="116560"/>
                    </a:lnTo>
                    <a:lnTo>
                      <a:pt x="83892" y="138078"/>
                    </a:lnTo>
                    <a:lnTo>
                      <a:pt x="82392" y="142960"/>
                    </a:lnTo>
                    <a:lnTo>
                      <a:pt x="80492" y="147941"/>
                    </a:lnTo>
                    <a:lnTo>
                      <a:pt x="74893" y="157904"/>
                    </a:lnTo>
                    <a:lnTo>
                      <a:pt x="67394" y="167268"/>
                    </a:lnTo>
                    <a:lnTo>
                      <a:pt x="63095" y="171552"/>
                    </a:lnTo>
                    <a:lnTo>
                      <a:pt x="58294" y="175338"/>
                    </a:lnTo>
                    <a:lnTo>
                      <a:pt x="53396" y="178626"/>
                    </a:lnTo>
                    <a:lnTo>
                      <a:pt x="48096" y="181316"/>
                    </a:lnTo>
                    <a:lnTo>
                      <a:pt x="42596" y="183308"/>
                    </a:lnTo>
                    <a:lnTo>
                      <a:pt x="36897" y="184503"/>
                    </a:lnTo>
                    <a:lnTo>
                      <a:pt x="30997" y="184802"/>
                    </a:lnTo>
                    <a:lnTo>
                      <a:pt x="25098" y="184005"/>
                    </a:lnTo>
                    <a:lnTo>
                      <a:pt x="19098" y="182212"/>
                    </a:lnTo>
                    <a:lnTo>
                      <a:pt x="13099" y="179224"/>
                    </a:lnTo>
                    <a:lnTo>
                      <a:pt x="6100" y="168862"/>
                    </a:lnTo>
                    <a:lnTo>
                      <a:pt x="2000" y="158501"/>
                    </a:lnTo>
                    <a:lnTo>
                      <a:pt x="0" y="148042"/>
                    </a:lnTo>
                    <a:lnTo>
                      <a:pt x="100" y="137681"/>
                    </a:lnTo>
                    <a:lnTo>
                      <a:pt x="1801" y="127220"/>
                    </a:lnTo>
                    <a:lnTo>
                      <a:pt x="4800" y="116759"/>
                    </a:lnTo>
                    <a:lnTo>
                      <a:pt x="8699" y="106100"/>
                    </a:lnTo>
                    <a:lnTo>
                      <a:pt x="13299" y="95340"/>
                    </a:lnTo>
                    <a:lnTo>
                      <a:pt x="22898" y="73124"/>
                    </a:lnTo>
                    <a:lnTo>
                      <a:pt x="27198" y="61767"/>
                    </a:lnTo>
                    <a:lnTo>
                      <a:pt x="30898" y="50111"/>
                    </a:lnTo>
                    <a:lnTo>
                      <a:pt x="33297" y="38057"/>
                    </a:lnTo>
                    <a:lnTo>
                      <a:pt x="34397" y="25703"/>
                    </a:lnTo>
                    <a:lnTo>
                      <a:pt x="33697" y="13051"/>
                    </a:lnTo>
                    <a:lnTo>
                      <a:pt x="53195" y="78404"/>
                    </a:lnTo>
                    <a:lnTo>
                      <a:pt x="55694" y="84382"/>
                    </a:lnTo>
                    <a:lnTo>
                      <a:pt x="57795" y="92153"/>
                    </a:lnTo>
                    <a:lnTo>
                      <a:pt x="59494" y="101218"/>
                    </a:lnTo>
                    <a:lnTo>
                      <a:pt x="60395" y="111379"/>
                    </a:lnTo>
                    <a:lnTo>
                      <a:pt x="60294" y="122437"/>
                    </a:lnTo>
                    <a:lnTo>
                      <a:pt x="59094" y="134093"/>
                    </a:lnTo>
                    <a:lnTo>
                      <a:pt x="56595" y="146148"/>
                    </a:lnTo>
                    <a:lnTo>
                      <a:pt x="50996" y="151528"/>
                    </a:lnTo>
                    <a:lnTo>
                      <a:pt x="46496" y="155513"/>
                    </a:lnTo>
                    <a:lnTo>
                      <a:pt x="42696" y="158104"/>
                    </a:lnTo>
                    <a:lnTo>
                      <a:pt x="39596" y="159099"/>
                    </a:lnTo>
                    <a:lnTo>
                      <a:pt x="36897" y="158602"/>
                    </a:lnTo>
                    <a:lnTo>
                      <a:pt x="34597" y="156509"/>
                    </a:lnTo>
                    <a:lnTo>
                      <a:pt x="32297" y="152922"/>
                    </a:lnTo>
                    <a:lnTo>
                      <a:pt x="29997" y="147643"/>
                    </a:lnTo>
                    <a:lnTo>
                      <a:pt x="32197" y="139075"/>
                    </a:lnTo>
                    <a:lnTo>
                      <a:pt x="35197" y="131006"/>
                    </a:lnTo>
                    <a:lnTo>
                      <a:pt x="42196" y="114667"/>
                    </a:lnTo>
                    <a:lnTo>
                      <a:pt x="45496" y="106000"/>
                    </a:lnTo>
                    <a:lnTo>
                      <a:pt x="48195" y="96535"/>
                    </a:lnTo>
                    <a:lnTo>
                      <a:pt x="50095" y="86076"/>
                    </a:lnTo>
                    <a:lnTo>
                      <a:pt x="50696" y="74120"/>
                    </a:lnTo>
                    <a:lnTo>
                      <a:pt x="307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: Shape 29"/>
              <p:cNvSpPr/>
              <p:nvPr/>
            </p:nvSpPr>
            <p:spPr>
              <a:xfrm rot="8378400">
                <a:off x="1853640" y="109440"/>
                <a:ext cx="52200" cy="954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5995" h="131305">
                    <a:moveTo>
                      <a:pt x="44496" y="13450"/>
                    </a:moveTo>
                    <a:lnTo>
                      <a:pt x="51396" y="27895"/>
                    </a:lnTo>
                    <a:lnTo>
                      <a:pt x="57496" y="43038"/>
                    </a:lnTo>
                    <a:lnTo>
                      <a:pt x="62394" y="58480"/>
                    </a:lnTo>
                    <a:lnTo>
                      <a:pt x="65394" y="73822"/>
                    </a:lnTo>
                    <a:lnTo>
                      <a:pt x="65994" y="81293"/>
                    </a:lnTo>
                    <a:lnTo>
                      <a:pt x="65894" y="88665"/>
                    </a:lnTo>
                    <a:lnTo>
                      <a:pt x="65094" y="95838"/>
                    </a:lnTo>
                    <a:lnTo>
                      <a:pt x="63395" y="102713"/>
                    </a:lnTo>
                    <a:lnTo>
                      <a:pt x="60795" y="109387"/>
                    </a:lnTo>
                    <a:lnTo>
                      <a:pt x="57195" y="115564"/>
                    </a:lnTo>
                    <a:lnTo>
                      <a:pt x="53095" y="120346"/>
                    </a:lnTo>
                    <a:lnTo>
                      <a:pt x="47596" y="124430"/>
                    </a:lnTo>
                    <a:lnTo>
                      <a:pt x="41297" y="127917"/>
                    </a:lnTo>
                    <a:lnTo>
                      <a:pt x="34397" y="130109"/>
                    </a:lnTo>
                    <a:lnTo>
                      <a:pt x="27498" y="131304"/>
                    </a:lnTo>
                    <a:lnTo>
                      <a:pt x="20799" y="131204"/>
                    </a:lnTo>
                    <a:lnTo>
                      <a:pt x="14799" y="129511"/>
                    </a:lnTo>
                    <a:lnTo>
                      <a:pt x="12200" y="128117"/>
                    </a:lnTo>
                    <a:lnTo>
                      <a:pt x="9799" y="126223"/>
                    </a:lnTo>
                    <a:lnTo>
                      <a:pt x="5000" y="120047"/>
                    </a:lnTo>
                    <a:lnTo>
                      <a:pt x="1900" y="113173"/>
                    </a:lnTo>
                    <a:lnTo>
                      <a:pt x="300" y="105701"/>
                    </a:lnTo>
                    <a:lnTo>
                      <a:pt x="0" y="97732"/>
                    </a:lnTo>
                    <a:lnTo>
                      <a:pt x="901" y="89163"/>
                    </a:lnTo>
                    <a:lnTo>
                      <a:pt x="2800" y="80497"/>
                    </a:lnTo>
                    <a:lnTo>
                      <a:pt x="5499" y="71430"/>
                    </a:lnTo>
                    <a:lnTo>
                      <a:pt x="8899" y="62464"/>
                    </a:lnTo>
                    <a:lnTo>
                      <a:pt x="16798" y="44433"/>
                    </a:lnTo>
                    <a:lnTo>
                      <a:pt x="25198" y="27497"/>
                    </a:lnTo>
                    <a:lnTo>
                      <a:pt x="29097" y="19627"/>
                    </a:lnTo>
                    <a:lnTo>
                      <a:pt x="32597" y="12354"/>
                    </a:lnTo>
                    <a:lnTo>
                      <a:pt x="35497" y="5779"/>
                    </a:lnTo>
                    <a:lnTo>
                      <a:pt x="37597" y="0"/>
                    </a:lnTo>
                    <a:lnTo>
                      <a:pt x="44496" y="1345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: Shape 30"/>
              <p:cNvSpPr/>
              <p:nvPr/>
            </p:nvSpPr>
            <p:spPr>
              <a:xfrm rot="8378400">
                <a:off x="1864440" y="96840"/>
                <a:ext cx="18720" cy="55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5199" h="77010">
                    <a:moveTo>
                      <a:pt x="19299" y="8469"/>
                    </a:moveTo>
                    <a:lnTo>
                      <a:pt x="20698" y="15940"/>
                    </a:lnTo>
                    <a:lnTo>
                      <a:pt x="21899" y="22615"/>
                    </a:lnTo>
                    <a:lnTo>
                      <a:pt x="22998" y="28592"/>
                    </a:lnTo>
                    <a:lnTo>
                      <a:pt x="23798" y="33873"/>
                    </a:lnTo>
                    <a:lnTo>
                      <a:pt x="24498" y="38654"/>
                    </a:lnTo>
                    <a:lnTo>
                      <a:pt x="25198" y="46724"/>
                    </a:lnTo>
                    <a:lnTo>
                      <a:pt x="24798" y="53598"/>
                    </a:lnTo>
                    <a:lnTo>
                      <a:pt x="23298" y="59875"/>
                    </a:lnTo>
                    <a:lnTo>
                      <a:pt x="20498" y="66250"/>
                    </a:lnTo>
                    <a:lnTo>
                      <a:pt x="16199" y="73224"/>
                    </a:lnTo>
                    <a:lnTo>
                      <a:pt x="14699" y="75017"/>
                    </a:lnTo>
                    <a:lnTo>
                      <a:pt x="12799" y="76411"/>
                    </a:lnTo>
                    <a:lnTo>
                      <a:pt x="10700" y="77009"/>
                    </a:lnTo>
                    <a:lnTo>
                      <a:pt x="8899" y="76512"/>
                    </a:lnTo>
                    <a:lnTo>
                      <a:pt x="5499" y="73522"/>
                    </a:lnTo>
                    <a:lnTo>
                      <a:pt x="2899" y="70036"/>
                    </a:lnTo>
                    <a:lnTo>
                      <a:pt x="1200" y="66349"/>
                    </a:lnTo>
                    <a:lnTo>
                      <a:pt x="300" y="62265"/>
                    </a:lnTo>
                    <a:lnTo>
                      <a:pt x="0" y="57782"/>
                    </a:lnTo>
                    <a:lnTo>
                      <a:pt x="201" y="53200"/>
                    </a:lnTo>
                    <a:lnTo>
                      <a:pt x="2200" y="43236"/>
                    </a:lnTo>
                    <a:lnTo>
                      <a:pt x="5599" y="32777"/>
                    </a:lnTo>
                    <a:lnTo>
                      <a:pt x="9699" y="21918"/>
                    </a:lnTo>
                    <a:lnTo>
                      <a:pt x="13999" y="10859"/>
                    </a:lnTo>
                    <a:lnTo>
                      <a:pt x="17799" y="0"/>
                    </a:lnTo>
                    <a:lnTo>
                      <a:pt x="19299" y="846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5" name="Oval 33"/>
          <p:cNvSpPr/>
          <p:nvPr/>
        </p:nvSpPr>
        <p:spPr>
          <a:xfrm rot="5400000">
            <a:off x="9033480" y="5080680"/>
            <a:ext cx="663480" cy="1589040"/>
          </a:xfrm>
          <a:prstGeom prst="ellipse">
            <a:avLst/>
          </a:prstGeom>
          <a:solidFill>
            <a:srgbClr val="a52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34"/>
          <p:cNvSpPr/>
          <p:nvPr/>
        </p:nvSpPr>
        <p:spPr>
          <a:xfrm rot="5400000">
            <a:off x="522720" y="5583960"/>
            <a:ext cx="644400" cy="1515960"/>
          </a:xfrm>
          <a:prstGeom prst="ellipse">
            <a:avLst/>
          </a:prstGeom>
          <a:solidFill>
            <a:srgbClr val="38572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2968560" y="95400"/>
            <a:ext cx="78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  <a:ea typeface="Verdana"/>
              </a:rPr>
              <a:t>Your teacher is the painter! Describe the picture!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: Shape 6"/>
          <p:cNvSpPr/>
          <p:nvPr/>
        </p:nvSpPr>
        <p:spPr>
          <a:xfrm flipH="1">
            <a:off x="9096480" y="7454880"/>
            <a:ext cx="798480" cy="1260360"/>
          </a:xfrm>
          <a:custGeom>
            <a:avLst/>
            <a:gdLst>
              <a:gd name="textAreaLeft" fmla="*/ 360 w 798480"/>
              <a:gd name="textAreaRight" fmla="*/ 799200 w 79848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16495" h="1294098">
                <a:moveTo>
                  <a:pt x="0" y="0"/>
                </a:moveTo>
                <a:lnTo>
                  <a:pt x="716494" y="0"/>
                </a:lnTo>
                <a:lnTo>
                  <a:pt x="716494" y="1294097"/>
                </a:lnTo>
                <a:lnTo>
                  <a:pt x="0" y="1294097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0.00221 L -0.62594 -0.36293 E">
                                      <p:cBhvr>
                                        <p:cTn id="10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04 -0.14973 L 0.37157 -0.40562 E"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1.3192E-006 L 0.33062 -0.09776 E">
                                      <p:cBhvr>
                                        <p:cTn id="11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78 0.00221 L 0.09531 -0.52355 E">
                                      <p:cBhvr>
                                        <p:cTn id="11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0.08775 L -0.02812 -0.2818 E">
                                      <p:cBhvr>
                                        <p:cTn id="11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41 0.10542 L -0.09078 -0.27915 E">
                                      <p:cBhvr>
                                        <p:cTn id="12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396 L 0.16516 -0.04476 E">
                                      <p:cBhvr>
                                        <p:cTn id="12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-1.02473E-006 L 0.37516 -0.3376 E">
                                      <p:cBhvr>
                                        <p:cTn id="12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72 0.08996 L -0.23375 -0.38133 E">
                                      <p:cBhvr>
                                        <p:cTn id="12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0.08775 L -0.63375 0.36763 E">
                                      <p:cBhvr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41 0.10321 L 0.38 0.28313 E">
                                      <p:cBhvr>
                                        <p:cTn id="13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5 0.14929 L 0.71985 -0.65474 E">
                                      <p:cBhvr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72 0.04152 L -0.01312 -0.51251 E">
                                      <p:cBhvr>
                                        <p:cTn id="14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5 -0.01649 L -0.06265 -0.33171 E">
                                      <p:cBhvr>
                                        <p:cTn id="14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: Shape 1"/>
          <p:cNvSpPr/>
          <p:nvPr/>
        </p:nvSpPr>
        <p:spPr>
          <a:xfrm>
            <a:off x="9048600" y="7864560"/>
            <a:ext cx="1073160" cy="107316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72887" h="1072887">
                <a:moveTo>
                  <a:pt x="0" y="0"/>
                </a:moveTo>
                <a:lnTo>
                  <a:pt x="1072886" y="0"/>
                </a:lnTo>
                <a:lnTo>
                  <a:pt x="1072886" y="1072886"/>
                </a:lnTo>
                <a:lnTo>
                  <a:pt x="0" y="107288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: Shape 2"/>
          <p:cNvSpPr/>
          <p:nvPr/>
        </p:nvSpPr>
        <p:spPr>
          <a:xfrm>
            <a:off x="2320920" y="9356760"/>
            <a:ext cx="1089000" cy="94608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1088314" h="944928">
                <a:moveTo>
                  <a:pt x="544247" y="0"/>
                </a:moveTo>
                <a:lnTo>
                  <a:pt x="1088313" y="944927"/>
                </a:lnTo>
                <a:lnTo>
                  <a:pt x="0" y="944927"/>
                </a:lnTo>
                <a:lnTo>
                  <a:pt x="544247" y="0"/>
                </a:lnTo>
                <a:close/>
              </a:path>
            </a:pathLst>
          </a:custGeom>
          <a:solidFill>
            <a:srgbClr val="c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3"/>
          <p:cNvSpPr/>
          <p:nvPr/>
        </p:nvSpPr>
        <p:spPr>
          <a:xfrm>
            <a:off x="703440" y="9532800"/>
            <a:ext cx="868320" cy="8686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: Shape 4"/>
          <p:cNvSpPr/>
          <p:nvPr/>
        </p:nvSpPr>
        <p:spPr>
          <a:xfrm rot="20393400">
            <a:off x="9100800" y="2585520"/>
            <a:ext cx="974880" cy="974880"/>
          </a:xfrm>
          <a:custGeom>
            <a:avLst/>
            <a:gdLst>
              <a:gd name="textAreaLeft" fmla="*/ 0 w 974880"/>
              <a:gd name="textAreaRight" fmla="*/ 975240 w 97488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974345" h="974346">
                <a:moveTo>
                  <a:pt x="0" y="0"/>
                </a:moveTo>
                <a:lnTo>
                  <a:pt x="974344" y="0"/>
                </a:lnTo>
                <a:lnTo>
                  <a:pt x="974344" y="974345"/>
                </a:lnTo>
                <a:lnTo>
                  <a:pt x="0" y="9743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: Shape 5"/>
          <p:cNvSpPr/>
          <p:nvPr/>
        </p:nvSpPr>
        <p:spPr>
          <a:xfrm rot="1573200">
            <a:off x="215640" y="8997840"/>
            <a:ext cx="546120" cy="1019160"/>
          </a:xfrm>
          <a:custGeom>
            <a:avLst/>
            <a:gdLst>
              <a:gd name="textAreaLeft" fmla="*/ 0 w 546120"/>
              <a:gd name="textAreaRight" fmla="*/ 546480 w 5461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545485" h="1017785">
                <a:moveTo>
                  <a:pt x="0" y="0"/>
                </a:moveTo>
                <a:lnTo>
                  <a:pt x="545484" y="0"/>
                </a:lnTo>
                <a:lnTo>
                  <a:pt x="545484" y="1017784"/>
                </a:lnTo>
                <a:lnTo>
                  <a:pt x="0" y="1017784"/>
                </a:lnTo>
                <a:lnTo>
                  <a:pt x="0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: Shape 6"/>
          <p:cNvSpPr/>
          <p:nvPr/>
        </p:nvSpPr>
        <p:spPr>
          <a:xfrm>
            <a:off x="135000" y="6676920"/>
            <a:ext cx="716040" cy="1293840"/>
          </a:xfrm>
          <a:custGeom>
            <a:avLst/>
            <a:gdLst>
              <a:gd name="textAreaLeft" fmla="*/ 0 w 716040"/>
              <a:gd name="textAreaRight" fmla="*/ 716400 w 7160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716495" h="1294098">
                <a:moveTo>
                  <a:pt x="0" y="0"/>
                </a:moveTo>
                <a:lnTo>
                  <a:pt x="716494" y="0"/>
                </a:lnTo>
                <a:lnTo>
                  <a:pt x="716494" y="1294097"/>
                </a:lnTo>
                <a:lnTo>
                  <a:pt x="0" y="1294097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: Shape 7"/>
          <p:cNvSpPr/>
          <p:nvPr/>
        </p:nvSpPr>
        <p:spPr>
          <a:xfrm>
            <a:off x="8950320" y="3832200"/>
            <a:ext cx="1062000" cy="92088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061471" h="920971">
                <a:moveTo>
                  <a:pt x="530823" y="0"/>
                </a:moveTo>
                <a:lnTo>
                  <a:pt x="1061470" y="920970"/>
                </a:lnTo>
                <a:lnTo>
                  <a:pt x="0" y="920970"/>
                </a:lnTo>
                <a:lnTo>
                  <a:pt x="530823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: Shape 8"/>
          <p:cNvSpPr/>
          <p:nvPr/>
        </p:nvSpPr>
        <p:spPr>
          <a:xfrm rot="20179200">
            <a:off x="8961120" y="5027400"/>
            <a:ext cx="1022400" cy="102384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1022755" h="1022751">
                <a:moveTo>
                  <a:pt x="0" y="0"/>
                </a:moveTo>
                <a:lnTo>
                  <a:pt x="1022754" y="0"/>
                </a:lnTo>
                <a:lnTo>
                  <a:pt x="1022754" y="1022750"/>
                </a:lnTo>
                <a:lnTo>
                  <a:pt x="0" y="102275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8745480" y="9313920"/>
            <a:ext cx="1400400" cy="146844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6335640" y="9161640"/>
            <a:ext cx="1338480" cy="13363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: Shape 11"/>
          <p:cNvSpPr/>
          <p:nvPr/>
        </p:nvSpPr>
        <p:spPr>
          <a:xfrm>
            <a:off x="3486240" y="9401040"/>
            <a:ext cx="1041480" cy="104148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: Shape 12"/>
          <p:cNvSpPr/>
          <p:nvPr/>
        </p:nvSpPr>
        <p:spPr>
          <a:xfrm rot="17995200">
            <a:off x="1371240" y="9162360"/>
            <a:ext cx="1227240" cy="106848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226293" h="1067747">
                <a:moveTo>
                  <a:pt x="613248" y="0"/>
                </a:moveTo>
                <a:lnTo>
                  <a:pt x="1226292" y="1067746"/>
                </a:lnTo>
                <a:lnTo>
                  <a:pt x="0" y="1067746"/>
                </a:lnTo>
                <a:lnTo>
                  <a:pt x="613248" y="0"/>
                </a:lnTo>
                <a:close/>
              </a:path>
            </a:pathLst>
          </a:custGeom>
          <a:solidFill>
            <a:srgbClr val="005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: Shape 13"/>
          <p:cNvSpPr/>
          <p:nvPr/>
        </p:nvSpPr>
        <p:spPr>
          <a:xfrm rot="1774800">
            <a:off x="7972560" y="8807400"/>
            <a:ext cx="834840" cy="1486080"/>
          </a:xfrm>
          <a:custGeom>
            <a:avLst/>
            <a:gdLst>
              <a:gd name="textAreaLeft" fmla="*/ 0 w 834840"/>
              <a:gd name="textAreaRight" fmla="*/ 835200 w 834840"/>
              <a:gd name="textAreaTop" fmla="*/ 0 h 1486080"/>
              <a:gd name="textAreaBottom" fmla="*/ 1486440 h 1486080"/>
            </a:gdLst>
            <a:ahLst/>
            <a:rect l="textAreaLeft" t="textAreaTop" r="textAreaRight" b="textAreaBottom"/>
            <a:pathLst>
              <a:path w="834468" h="1484715">
                <a:moveTo>
                  <a:pt x="0" y="0"/>
                </a:moveTo>
                <a:lnTo>
                  <a:pt x="834467" y="0"/>
                </a:lnTo>
                <a:lnTo>
                  <a:pt x="834467" y="1484714"/>
                </a:lnTo>
                <a:lnTo>
                  <a:pt x="0" y="1484714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: Shape 14"/>
          <p:cNvSpPr/>
          <p:nvPr/>
        </p:nvSpPr>
        <p:spPr>
          <a:xfrm rot="4516800">
            <a:off x="152280" y="8067600"/>
            <a:ext cx="793800" cy="682560"/>
          </a:xfrm>
          <a:custGeom>
            <a:avLst/>
            <a:gdLst>
              <a:gd name="textAreaLeft" fmla="*/ 0 w 793800"/>
              <a:gd name="textAreaRight" fmla="*/ 794160 w 79380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794097" h="682870">
                <a:moveTo>
                  <a:pt x="397114" y="0"/>
                </a:moveTo>
                <a:lnTo>
                  <a:pt x="794096" y="682869"/>
                </a:lnTo>
                <a:lnTo>
                  <a:pt x="0" y="682869"/>
                </a:lnTo>
                <a:lnTo>
                  <a:pt x="397114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33"/>
          <p:cNvSpPr/>
          <p:nvPr/>
        </p:nvSpPr>
        <p:spPr>
          <a:xfrm rot="5400000">
            <a:off x="4970520" y="9155160"/>
            <a:ext cx="990720" cy="1603440"/>
          </a:xfrm>
          <a:prstGeom prst="ellipse">
            <a:avLst/>
          </a:prstGeom>
          <a:solidFill>
            <a:srgbClr val="a52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34"/>
          <p:cNvSpPr/>
          <p:nvPr/>
        </p:nvSpPr>
        <p:spPr>
          <a:xfrm rot="1563000">
            <a:off x="9107280" y="6235200"/>
            <a:ext cx="852480" cy="1470240"/>
          </a:xfrm>
          <a:prstGeom prst="ellipse">
            <a:avLst/>
          </a:prstGeom>
          <a:solidFill>
            <a:srgbClr val="e6e6f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6"/>
          <p:cNvSpPr/>
          <p:nvPr/>
        </p:nvSpPr>
        <p:spPr>
          <a:xfrm>
            <a:off x="0" y="77760"/>
            <a:ext cx="1028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You are the painter! Du bist der Maler! Create your own picture by dragging the shapes into the space! Describe your pictur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32"/>
          <p:cNvGrpSpPr/>
          <p:nvPr/>
        </p:nvGrpSpPr>
        <p:grpSpPr>
          <a:xfrm>
            <a:off x="4320" y="1296000"/>
            <a:ext cx="2413440" cy="2729520"/>
            <a:chOff x="4320" y="1296000"/>
            <a:chExt cx="2413440" cy="2729520"/>
          </a:xfrm>
        </p:grpSpPr>
        <p:pic>
          <p:nvPicPr>
            <p:cNvPr id="137" name="Picture 16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 rot="21496200">
              <a:off x="39240" y="1641240"/>
              <a:ext cx="2023560" cy="2354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31"/>
            <p:cNvGrpSpPr/>
            <p:nvPr/>
          </p:nvGrpSpPr>
          <p:grpSpPr>
            <a:xfrm>
              <a:off x="1191960" y="1296000"/>
              <a:ext cx="1225800" cy="1312920"/>
              <a:chOff x="1191960" y="1296000"/>
              <a:chExt cx="1225800" cy="1312920"/>
            </a:xfrm>
          </p:grpSpPr>
          <p:sp>
            <p:nvSpPr>
              <p:cNvPr id="139" name="Freeform: Shape 17"/>
              <p:cNvSpPr/>
              <p:nvPr/>
            </p:nvSpPr>
            <p:spPr>
              <a:xfrm rot="8378400">
                <a:off x="1871640" y="1469880"/>
                <a:ext cx="169200" cy="18144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13981" h="247966">
                    <a:moveTo>
                      <a:pt x="17399" y="240095"/>
                    </a:moveTo>
                    <a:lnTo>
                      <a:pt x="13099" y="231925"/>
                    </a:lnTo>
                    <a:lnTo>
                      <a:pt x="9399" y="223557"/>
                    </a:lnTo>
                    <a:lnTo>
                      <a:pt x="6300" y="214990"/>
                    </a:lnTo>
                    <a:lnTo>
                      <a:pt x="3900" y="206122"/>
                    </a:lnTo>
                    <a:lnTo>
                      <a:pt x="2000" y="197156"/>
                    </a:lnTo>
                    <a:lnTo>
                      <a:pt x="0" y="178825"/>
                    </a:lnTo>
                    <a:lnTo>
                      <a:pt x="301" y="160195"/>
                    </a:lnTo>
                    <a:lnTo>
                      <a:pt x="2800" y="141467"/>
                    </a:lnTo>
                    <a:lnTo>
                      <a:pt x="7499" y="122837"/>
                    </a:lnTo>
                    <a:lnTo>
                      <a:pt x="14299" y="104705"/>
                    </a:lnTo>
                    <a:lnTo>
                      <a:pt x="22998" y="87172"/>
                    </a:lnTo>
                    <a:lnTo>
                      <a:pt x="33598" y="70434"/>
                    </a:lnTo>
                    <a:lnTo>
                      <a:pt x="46196" y="54893"/>
                    </a:lnTo>
                    <a:lnTo>
                      <a:pt x="53095" y="47521"/>
                    </a:lnTo>
                    <a:lnTo>
                      <a:pt x="60495" y="40547"/>
                    </a:lnTo>
                    <a:lnTo>
                      <a:pt x="68294" y="33973"/>
                    </a:lnTo>
                    <a:lnTo>
                      <a:pt x="76493" y="27795"/>
                    </a:lnTo>
                    <a:lnTo>
                      <a:pt x="85193" y="22117"/>
                    </a:lnTo>
                    <a:lnTo>
                      <a:pt x="94291" y="16837"/>
                    </a:lnTo>
                    <a:lnTo>
                      <a:pt x="103690" y="12055"/>
                    </a:lnTo>
                    <a:lnTo>
                      <a:pt x="113590" y="7870"/>
                    </a:lnTo>
                    <a:lnTo>
                      <a:pt x="123788" y="4185"/>
                    </a:lnTo>
                    <a:lnTo>
                      <a:pt x="134387" y="1096"/>
                    </a:lnTo>
                    <a:lnTo>
                      <a:pt x="140986" y="101"/>
                    </a:lnTo>
                    <a:lnTo>
                      <a:pt x="147386" y="0"/>
                    </a:lnTo>
                    <a:lnTo>
                      <a:pt x="153586" y="897"/>
                    </a:lnTo>
                    <a:lnTo>
                      <a:pt x="159685" y="2591"/>
                    </a:lnTo>
                    <a:lnTo>
                      <a:pt x="165585" y="5081"/>
                    </a:lnTo>
                    <a:lnTo>
                      <a:pt x="171283" y="8370"/>
                    </a:lnTo>
                    <a:lnTo>
                      <a:pt x="176784" y="12254"/>
                    </a:lnTo>
                    <a:lnTo>
                      <a:pt x="182082" y="16738"/>
                    </a:lnTo>
                    <a:lnTo>
                      <a:pt x="191982" y="27298"/>
                    </a:lnTo>
                    <a:lnTo>
                      <a:pt x="200581" y="39252"/>
                    </a:lnTo>
                    <a:lnTo>
                      <a:pt x="208080" y="52403"/>
                    </a:lnTo>
                    <a:lnTo>
                      <a:pt x="213980" y="65852"/>
                    </a:lnTo>
                    <a:lnTo>
                      <a:pt x="213980" y="73822"/>
                    </a:lnTo>
                    <a:lnTo>
                      <a:pt x="213080" y="80994"/>
                    </a:lnTo>
                    <a:lnTo>
                      <a:pt x="211480" y="87570"/>
                    </a:lnTo>
                    <a:lnTo>
                      <a:pt x="209281" y="93547"/>
                    </a:lnTo>
                    <a:lnTo>
                      <a:pt x="206281" y="99027"/>
                    </a:lnTo>
                    <a:lnTo>
                      <a:pt x="202781" y="103908"/>
                    </a:lnTo>
                    <a:lnTo>
                      <a:pt x="198681" y="108391"/>
                    </a:lnTo>
                    <a:lnTo>
                      <a:pt x="193982" y="112477"/>
                    </a:lnTo>
                    <a:lnTo>
                      <a:pt x="183083" y="119849"/>
                    </a:lnTo>
                    <a:lnTo>
                      <a:pt x="170584" y="126224"/>
                    </a:lnTo>
                    <a:lnTo>
                      <a:pt x="156586" y="132400"/>
                    </a:lnTo>
                    <a:lnTo>
                      <a:pt x="141687" y="138578"/>
                    </a:lnTo>
                    <a:lnTo>
                      <a:pt x="125989" y="145352"/>
                    </a:lnTo>
                    <a:lnTo>
                      <a:pt x="109890" y="153222"/>
                    </a:lnTo>
                    <a:lnTo>
                      <a:pt x="93691" y="162488"/>
                    </a:lnTo>
                    <a:lnTo>
                      <a:pt x="77693" y="173844"/>
                    </a:lnTo>
                    <a:lnTo>
                      <a:pt x="69894" y="180320"/>
                    </a:lnTo>
                    <a:lnTo>
                      <a:pt x="62295" y="187493"/>
                    </a:lnTo>
                    <a:lnTo>
                      <a:pt x="54795" y="195463"/>
                    </a:lnTo>
                    <a:lnTo>
                      <a:pt x="47596" y="204130"/>
                    </a:lnTo>
                    <a:lnTo>
                      <a:pt x="40796" y="213694"/>
                    </a:lnTo>
                    <a:lnTo>
                      <a:pt x="34197" y="224154"/>
                    </a:lnTo>
                    <a:lnTo>
                      <a:pt x="27998" y="235512"/>
                    </a:lnTo>
                    <a:lnTo>
                      <a:pt x="22298" y="247965"/>
                    </a:lnTo>
                    <a:lnTo>
                      <a:pt x="17399" y="24009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: Shape 18"/>
              <p:cNvSpPr/>
              <p:nvPr/>
            </p:nvSpPr>
            <p:spPr>
              <a:xfrm rot="8378400">
                <a:off x="1839240" y="1639800"/>
                <a:ext cx="189720" cy="1526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242577" h="205624">
                    <a:moveTo>
                      <a:pt x="1900" y="108689"/>
                    </a:moveTo>
                    <a:lnTo>
                      <a:pt x="3699" y="105502"/>
                    </a:lnTo>
                    <a:lnTo>
                      <a:pt x="5999" y="102115"/>
                    </a:lnTo>
                    <a:lnTo>
                      <a:pt x="8899" y="98429"/>
                    </a:lnTo>
                    <a:lnTo>
                      <a:pt x="16099" y="90458"/>
                    </a:lnTo>
                    <a:lnTo>
                      <a:pt x="24997" y="81692"/>
                    </a:lnTo>
                    <a:lnTo>
                      <a:pt x="35197" y="72725"/>
                    </a:lnTo>
                    <a:lnTo>
                      <a:pt x="46496" y="63361"/>
                    </a:lnTo>
                    <a:lnTo>
                      <a:pt x="70794" y="44731"/>
                    </a:lnTo>
                    <a:lnTo>
                      <a:pt x="83191" y="35865"/>
                    </a:lnTo>
                    <a:lnTo>
                      <a:pt x="95391" y="27497"/>
                    </a:lnTo>
                    <a:lnTo>
                      <a:pt x="106990" y="19925"/>
                    </a:lnTo>
                    <a:lnTo>
                      <a:pt x="117688" y="13250"/>
                    </a:lnTo>
                    <a:lnTo>
                      <a:pt x="127188" y="7771"/>
                    </a:lnTo>
                    <a:lnTo>
                      <a:pt x="131388" y="5479"/>
                    </a:lnTo>
                    <a:lnTo>
                      <a:pt x="135087" y="3488"/>
                    </a:lnTo>
                    <a:lnTo>
                      <a:pt x="138487" y="1993"/>
                    </a:lnTo>
                    <a:lnTo>
                      <a:pt x="141286" y="897"/>
                    </a:lnTo>
                    <a:lnTo>
                      <a:pt x="143586" y="200"/>
                    </a:lnTo>
                    <a:lnTo>
                      <a:pt x="145186" y="0"/>
                    </a:lnTo>
                    <a:lnTo>
                      <a:pt x="148886" y="2392"/>
                    </a:lnTo>
                    <a:lnTo>
                      <a:pt x="153185" y="5479"/>
                    </a:lnTo>
                    <a:lnTo>
                      <a:pt x="157984" y="9166"/>
                    </a:lnTo>
                    <a:lnTo>
                      <a:pt x="163384" y="13350"/>
                    </a:lnTo>
                    <a:lnTo>
                      <a:pt x="169084" y="18231"/>
                    </a:lnTo>
                    <a:lnTo>
                      <a:pt x="175283" y="23711"/>
                    </a:lnTo>
                    <a:lnTo>
                      <a:pt x="181682" y="29887"/>
                    </a:lnTo>
                    <a:lnTo>
                      <a:pt x="188382" y="36661"/>
                    </a:lnTo>
                    <a:lnTo>
                      <a:pt x="195181" y="44233"/>
                    </a:lnTo>
                    <a:lnTo>
                      <a:pt x="202180" y="52403"/>
                    </a:lnTo>
                    <a:lnTo>
                      <a:pt x="209179" y="61369"/>
                    </a:lnTo>
                    <a:lnTo>
                      <a:pt x="216179" y="71033"/>
                    </a:lnTo>
                    <a:lnTo>
                      <a:pt x="223078" y="81492"/>
                    </a:lnTo>
                    <a:lnTo>
                      <a:pt x="229777" y="92650"/>
                    </a:lnTo>
                    <a:lnTo>
                      <a:pt x="236277" y="104605"/>
                    </a:lnTo>
                    <a:lnTo>
                      <a:pt x="242576" y="117456"/>
                    </a:lnTo>
                    <a:lnTo>
                      <a:pt x="230478" y="125427"/>
                    </a:lnTo>
                    <a:lnTo>
                      <a:pt x="218679" y="132699"/>
                    </a:lnTo>
                    <a:lnTo>
                      <a:pt x="195781" y="145749"/>
                    </a:lnTo>
                    <a:lnTo>
                      <a:pt x="173483" y="156907"/>
                    </a:lnTo>
                    <a:lnTo>
                      <a:pt x="151486" y="166970"/>
                    </a:lnTo>
                    <a:lnTo>
                      <a:pt x="107790" y="185599"/>
                    </a:lnTo>
                    <a:lnTo>
                      <a:pt x="85491" y="195164"/>
                    </a:lnTo>
                    <a:lnTo>
                      <a:pt x="62694" y="205623"/>
                    </a:lnTo>
                    <a:lnTo>
                      <a:pt x="58994" y="197952"/>
                    </a:lnTo>
                    <a:lnTo>
                      <a:pt x="54894" y="191277"/>
                    </a:lnTo>
                    <a:lnTo>
                      <a:pt x="50395" y="185301"/>
                    </a:lnTo>
                    <a:lnTo>
                      <a:pt x="45795" y="180120"/>
                    </a:lnTo>
                    <a:lnTo>
                      <a:pt x="36096" y="171354"/>
                    </a:lnTo>
                    <a:lnTo>
                      <a:pt x="26297" y="163881"/>
                    </a:lnTo>
                    <a:lnTo>
                      <a:pt x="17299" y="156907"/>
                    </a:lnTo>
                    <a:lnTo>
                      <a:pt x="9498" y="149635"/>
                    </a:lnTo>
                    <a:lnTo>
                      <a:pt x="6299" y="145551"/>
                    </a:lnTo>
                    <a:lnTo>
                      <a:pt x="3699" y="140968"/>
                    </a:lnTo>
                    <a:lnTo>
                      <a:pt x="1699" y="135888"/>
                    </a:lnTo>
                    <a:lnTo>
                      <a:pt x="599" y="130109"/>
                    </a:lnTo>
                    <a:lnTo>
                      <a:pt x="0" y="120744"/>
                    </a:lnTo>
                    <a:lnTo>
                      <a:pt x="800" y="111579"/>
                    </a:lnTo>
                    <a:lnTo>
                      <a:pt x="1900" y="10868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solidFill>
                  <a:srgbClr val="e5e5e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: Shape 19"/>
              <p:cNvSpPr/>
              <p:nvPr/>
            </p:nvSpPr>
            <p:spPr>
              <a:xfrm rot="8378400">
                <a:off x="1418040" y="1919880"/>
                <a:ext cx="756000" cy="489960"/>
              </a:xfrm>
              <a:custGeom>
                <a:avLst/>
                <a:gdLst>
                  <a:gd name="textAreaLeft" fmla="*/ 0 w 756000"/>
                  <a:gd name="textAreaRight" fmla="*/ 756360 w 756000"/>
                  <a:gd name="textAreaTop" fmla="*/ 0 h 489960"/>
                  <a:gd name="textAreaBottom" fmla="*/ 490320 h 489960"/>
                </a:gdLst>
                <a:ahLst/>
                <a:rect l="textAreaLeft" t="textAreaTop" r="textAreaRight" b="textAreaBottom"/>
                <a:pathLst>
                  <a:path w="963509" h="664690">
                    <a:moveTo>
                      <a:pt x="8299" y="545839"/>
                    </a:moveTo>
                    <a:lnTo>
                      <a:pt x="17299" y="538466"/>
                    </a:lnTo>
                    <a:lnTo>
                      <a:pt x="26797" y="530995"/>
                    </a:lnTo>
                    <a:lnTo>
                      <a:pt x="36996" y="523224"/>
                    </a:lnTo>
                    <a:lnTo>
                      <a:pt x="58895" y="507184"/>
                    </a:lnTo>
                    <a:lnTo>
                      <a:pt x="82892" y="490448"/>
                    </a:lnTo>
                    <a:lnTo>
                      <a:pt x="108890" y="473213"/>
                    </a:lnTo>
                    <a:lnTo>
                      <a:pt x="136387" y="455381"/>
                    </a:lnTo>
                    <a:lnTo>
                      <a:pt x="165584" y="437049"/>
                    </a:lnTo>
                    <a:lnTo>
                      <a:pt x="196082" y="418319"/>
                    </a:lnTo>
                    <a:lnTo>
                      <a:pt x="227778" y="399192"/>
                    </a:lnTo>
                    <a:lnTo>
                      <a:pt x="260375" y="379965"/>
                    </a:lnTo>
                    <a:lnTo>
                      <a:pt x="293872" y="360439"/>
                    </a:lnTo>
                    <a:lnTo>
                      <a:pt x="327969" y="340813"/>
                    </a:lnTo>
                    <a:lnTo>
                      <a:pt x="397462" y="301462"/>
                    </a:lnTo>
                    <a:lnTo>
                      <a:pt x="467256" y="262508"/>
                    </a:lnTo>
                    <a:lnTo>
                      <a:pt x="501952" y="243381"/>
                    </a:lnTo>
                    <a:lnTo>
                      <a:pt x="536148" y="224453"/>
                    </a:lnTo>
                    <a:lnTo>
                      <a:pt x="569845" y="205922"/>
                    </a:lnTo>
                    <a:lnTo>
                      <a:pt x="602742" y="187790"/>
                    </a:lnTo>
                    <a:lnTo>
                      <a:pt x="634639" y="170158"/>
                    </a:lnTo>
                    <a:lnTo>
                      <a:pt x="665437" y="153221"/>
                    </a:lnTo>
                    <a:lnTo>
                      <a:pt x="694834" y="136783"/>
                    </a:lnTo>
                    <a:lnTo>
                      <a:pt x="722831" y="121142"/>
                    </a:lnTo>
                    <a:lnTo>
                      <a:pt x="749128" y="106199"/>
                    </a:lnTo>
                    <a:lnTo>
                      <a:pt x="773626" y="92152"/>
                    </a:lnTo>
                    <a:lnTo>
                      <a:pt x="785025" y="85577"/>
                    </a:lnTo>
                    <a:lnTo>
                      <a:pt x="796023" y="79101"/>
                    </a:lnTo>
                    <a:lnTo>
                      <a:pt x="806423" y="72825"/>
                    </a:lnTo>
                    <a:lnTo>
                      <a:pt x="816322" y="66947"/>
                    </a:lnTo>
                    <a:lnTo>
                      <a:pt x="825522" y="61269"/>
                    </a:lnTo>
                    <a:lnTo>
                      <a:pt x="834220" y="55789"/>
                    </a:lnTo>
                    <a:lnTo>
                      <a:pt x="842220" y="50709"/>
                    </a:lnTo>
                    <a:lnTo>
                      <a:pt x="849518" y="45827"/>
                    </a:lnTo>
                    <a:lnTo>
                      <a:pt x="856217" y="41344"/>
                    </a:lnTo>
                    <a:lnTo>
                      <a:pt x="862118" y="37060"/>
                    </a:lnTo>
                    <a:lnTo>
                      <a:pt x="867317" y="33075"/>
                    </a:lnTo>
                    <a:lnTo>
                      <a:pt x="871817" y="29489"/>
                    </a:lnTo>
                    <a:lnTo>
                      <a:pt x="881216" y="24906"/>
                    </a:lnTo>
                    <a:lnTo>
                      <a:pt x="889815" y="20522"/>
                    </a:lnTo>
                    <a:lnTo>
                      <a:pt x="897814" y="16438"/>
                    </a:lnTo>
                    <a:lnTo>
                      <a:pt x="905313" y="12652"/>
                    </a:lnTo>
                    <a:lnTo>
                      <a:pt x="912213" y="9364"/>
                    </a:lnTo>
                    <a:lnTo>
                      <a:pt x="918512" y="6376"/>
                    </a:lnTo>
                    <a:lnTo>
                      <a:pt x="924411" y="3885"/>
                    </a:lnTo>
                    <a:lnTo>
                      <a:pt x="929811" y="1992"/>
                    </a:lnTo>
                    <a:lnTo>
                      <a:pt x="934810" y="698"/>
                    </a:lnTo>
                    <a:lnTo>
                      <a:pt x="939410" y="0"/>
                    </a:lnTo>
                    <a:lnTo>
                      <a:pt x="943709" y="0"/>
                    </a:lnTo>
                    <a:lnTo>
                      <a:pt x="947710" y="797"/>
                    </a:lnTo>
                    <a:lnTo>
                      <a:pt x="951309" y="2391"/>
                    </a:lnTo>
                    <a:lnTo>
                      <a:pt x="954809" y="4782"/>
                    </a:lnTo>
                    <a:lnTo>
                      <a:pt x="958108" y="8169"/>
                    </a:lnTo>
                    <a:lnTo>
                      <a:pt x="961208" y="12453"/>
                    </a:lnTo>
                    <a:lnTo>
                      <a:pt x="963308" y="17135"/>
                    </a:lnTo>
                    <a:lnTo>
                      <a:pt x="963508" y="21518"/>
                    </a:lnTo>
                    <a:lnTo>
                      <a:pt x="962108" y="25902"/>
                    </a:lnTo>
                    <a:lnTo>
                      <a:pt x="959409" y="30087"/>
                    </a:lnTo>
                    <a:lnTo>
                      <a:pt x="955509" y="34270"/>
                    </a:lnTo>
                    <a:lnTo>
                      <a:pt x="950808" y="38354"/>
                    </a:lnTo>
                    <a:lnTo>
                      <a:pt x="939611" y="46623"/>
                    </a:lnTo>
                    <a:lnTo>
                      <a:pt x="927912" y="55192"/>
                    </a:lnTo>
                    <a:lnTo>
                      <a:pt x="922411" y="59675"/>
                    </a:lnTo>
                    <a:lnTo>
                      <a:pt x="917513" y="64356"/>
                    </a:lnTo>
                    <a:lnTo>
                      <a:pt x="913313" y="69339"/>
                    </a:lnTo>
                    <a:lnTo>
                      <a:pt x="910213" y="74519"/>
                    </a:lnTo>
                    <a:lnTo>
                      <a:pt x="908413" y="79998"/>
                    </a:lnTo>
                    <a:lnTo>
                      <a:pt x="908213" y="85875"/>
                    </a:lnTo>
                    <a:lnTo>
                      <a:pt x="864318" y="121442"/>
                    </a:lnTo>
                    <a:lnTo>
                      <a:pt x="818922" y="157605"/>
                    </a:lnTo>
                    <a:lnTo>
                      <a:pt x="772427" y="194266"/>
                    </a:lnTo>
                    <a:lnTo>
                      <a:pt x="724630" y="231227"/>
                    </a:lnTo>
                    <a:lnTo>
                      <a:pt x="676035" y="268585"/>
                    </a:lnTo>
                    <a:lnTo>
                      <a:pt x="626541" y="305945"/>
                    </a:lnTo>
                    <a:lnTo>
                      <a:pt x="525950" y="380762"/>
                    </a:lnTo>
                    <a:lnTo>
                      <a:pt x="424059" y="454982"/>
                    </a:lnTo>
                    <a:lnTo>
                      <a:pt x="322269" y="527508"/>
                    </a:lnTo>
                    <a:lnTo>
                      <a:pt x="271774" y="562974"/>
                    </a:lnTo>
                    <a:lnTo>
                      <a:pt x="221679" y="597742"/>
                    </a:lnTo>
                    <a:lnTo>
                      <a:pt x="172383" y="631615"/>
                    </a:lnTo>
                    <a:lnTo>
                      <a:pt x="123788" y="664689"/>
                    </a:lnTo>
                    <a:lnTo>
                      <a:pt x="113989" y="663095"/>
                    </a:lnTo>
                    <a:lnTo>
                      <a:pt x="105490" y="660506"/>
                    </a:lnTo>
                    <a:lnTo>
                      <a:pt x="98091" y="656720"/>
                    </a:lnTo>
                    <a:lnTo>
                      <a:pt x="91591" y="652038"/>
                    </a:lnTo>
                    <a:lnTo>
                      <a:pt x="85692" y="646559"/>
                    </a:lnTo>
                    <a:lnTo>
                      <a:pt x="80093" y="640282"/>
                    </a:lnTo>
                    <a:lnTo>
                      <a:pt x="69594" y="625637"/>
                    </a:lnTo>
                    <a:lnTo>
                      <a:pt x="64094" y="617468"/>
                    </a:lnTo>
                    <a:lnTo>
                      <a:pt x="57995" y="609000"/>
                    </a:lnTo>
                    <a:lnTo>
                      <a:pt x="51295" y="600034"/>
                    </a:lnTo>
                    <a:lnTo>
                      <a:pt x="43696" y="590868"/>
                    </a:lnTo>
                    <a:lnTo>
                      <a:pt x="34997" y="581404"/>
                    </a:lnTo>
                    <a:lnTo>
                      <a:pt x="24997" y="571940"/>
                    </a:lnTo>
                    <a:lnTo>
                      <a:pt x="13299" y="562476"/>
                    </a:lnTo>
                    <a:lnTo>
                      <a:pt x="0" y="553012"/>
                    </a:lnTo>
                    <a:lnTo>
                      <a:pt x="8299" y="545839"/>
                    </a:lnTo>
                    <a:close/>
                  </a:path>
                </a:pathLst>
              </a:custGeom>
              <a:solidFill>
                <a:srgbClr val="aa7700"/>
              </a:solidFill>
              <a:ln w="0">
                <a:solidFill>
                  <a:srgbClr val="aa77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: Shape 20"/>
              <p:cNvSpPr/>
              <p:nvPr/>
            </p:nvSpPr>
            <p:spPr>
              <a:xfrm rot="8378400">
                <a:off x="1303200" y="1656000"/>
                <a:ext cx="1002960" cy="712800"/>
              </a:xfrm>
              <a:custGeom>
                <a:avLst/>
                <a:gdLst>
                  <a:gd name="textAreaLeft" fmla="*/ 0 w 1002960"/>
                  <a:gd name="textAreaRight" fmla="*/ 1003320 w 1002960"/>
                  <a:gd name="textAreaTop" fmla="*/ 0 h 712800"/>
                  <a:gd name="textAreaBottom" fmla="*/ 712800 h 712800"/>
                </a:gdLst>
                <a:ahLst/>
                <a:rect l="textAreaLeft" t="textAreaTop" r="textAreaRight" b="textAreaBottom"/>
                <a:pathLst>
                  <a:path w="1276679" h="979302">
                    <a:moveTo>
                      <a:pt x="299471" y="567954"/>
                    </a:moveTo>
                    <a:lnTo>
                      <a:pt x="300071" y="566858"/>
                    </a:lnTo>
                    <a:lnTo>
                      <a:pt x="300671" y="564766"/>
                    </a:lnTo>
                    <a:lnTo>
                      <a:pt x="301472" y="558988"/>
                    </a:lnTo>
                    <a:lnTo>
                      <a:pt x="302171" y="553211"/>
                    </a:lnTo>
                    <a:lnTo>
                      <a:pt x="302270" y="551218"/>
                    </a:lnTo>
                    <a:lnTo>
                      <a:pt x="302471" y="550321"/>
                    </a:lnTo>
                    <a:lnTo>
                      <a:pt x="303871" y="548129"/>
                    </a:lnTo>
                    <a:lnTo>
                      <a:pt x="305871" y="545738"/>
                    </a:lnTo>
                    <a:lnTo>
                      <a:pt x="311571" y="539959"/>
                    </a:lnTo>
                    <a:lnTo>
                      <a:pt x="319070" y="533584"/>
                    </a:lnTo>
                    <a:lnTo>
                      <a:pt x="328269" y="526411"/>
                    </a:lnTo>
                    <a:lnTo>
                      <a:pt x="338768" y="518740"/>
                    </a:lnTo>
                    <a:lnTo>
                      <a:pt x="350367" y="510572"/>
                    </a:lnTo>
                    <a:lnTo>
                      <a:pt x="375563" y="493735"/>
                    </a:lnTo>
                    <a:lnTo>
                      <a:pt x="401562" y="477097"/>
                    </a:lnTo>
                    <a:lnTo>
                      <a:pt x="414160" y="469027"/>
                    </a:lnTo>
                    <a:lnTo>
                      <a:pt x="426159" y="461556"/>
                    </a:lnTo>
                    <a:lnTo>
                      <a:pt x="437158" y="454682"/>
                    </a:lnTo>
                    <a:lnTo>
                      <a:pt x="446958" y="448406"/>
                    </a:lnTo>
                    <a:lnTo>
                      <a:pt x="455157" y="443027"/>
                    </a:lnTo>
                    <a:lnTo>
                      <a:pt x="458656" y="440734"/>
                    </a:lnTo>
                    <a:lnTo>
                      <a:pt x="461756" y="438643"/>
                    </a:lnTo>
                    <a:lnTo>
                      <a:pt x="475755" y="429577"/>
                    </a:lnTo>
                    <a:lnTo>
                      <a:pt x="490253" y="420910"/>
                    </a:lnTo>
                    <a:lnTo>
                      <a:pt x="520350" y="404571"/>
                    </a:lnTo>
                    <a:lnTo>
                      <a:pt x="550548" y="388432"/>
                    </a:lnTo>
                    <a:lnTo>
                      <a:pt x="565245" y="380064"/>
                    </a:lnTo>
                    <a:lnTo>
                      <a:pt x="579645" y="371098"/>
                    </a:lnTo>
                    <a:lnTo>
                      <a:pt x="605342" y="355059"/>
                    </a:lnTo>
                    <a:lnTo>
                      <a:pt x="631439" y="339816"/>
                    </a:lnTo>
                    <a:lnTo>
                      <a:pt x="645238" y="332145"/>
                    </a:lnTo>
                    <a:lnTo>
                      <a:pt x="659637" y="324175"/>
                    </a:lnTo>
                    <a:lnTo>
                      <a:pt x="675136" y="315608"/>
                    </a:lnTo>
                    <a:lnTo>
                      <a:pt x="691734" y="306442"/>
                    </a:lnTo>
                    <a:lnTo>
                      <a:pt x="823321" y="232820"/>
                    </a:lnTo>
                    <a:lnTo>
                      <a:pt x="954109" y="159597"/>
                    </a:lnTo>
                    <a:lnTo>
                      <a:pt x="979706" y="146247"/>
                    </a:lnTo>
                    <a:lnTo>
                      <a:pt x="1005904" y="133495"/>
                    </a:lnTo>
                    <a:lnTo>
                      <a:pt x="1031901" y="120644"/>
                    </a:lnTo>
                    <a:lnTo>
                      <a:pt x="1057398" y="106696"/>
                    </a:lnTo>
                    <a:lnTo>
                      <a:pt x="1060499" y="104804"/>
                    </a:lnTo>
                    <a:lnTo>
                      <a:pt x="1064298" y="102512"/>
                    </a:lnTo>
                    <a:lnTo>
                      <a:pt x="1072898" y="97033"/>
                    </a:lnTo>
                    <a:lnTo>
                      <a:pt x="1083097" y="90458"/>
                    </a:lnTo>
                    <a:lnTo>
                      <a:pt x="1094495" y="83086"/>
                    </a:lnTo>
                    <a:lnTo>
                      <a:pt x="1106894" y="75016"/>
                    </a:lnTo>
                    <a:lnTo>
                      <a:pt x="1119993" y="66449"/>
                    </a:lnTo>
                    <a:lnTo>
                      <a:pt x="1147490" y="48815"/>
                    </a:lnTo>
                    <a:lnTo>
                      <a:pt x="1161289" y="40147"/>
                    </a:lnTo>
                    <a:lnTo>
                      <a:pt x="1174688" y="31779"/>
                    </a:lnTo>
                    <a:lnTo>
                      <a:pt x="1187586" y="24108"/>
                    </a:lnTo>
                    <a:lnTo>
                      <a:pt x="1199686" y="17036"/>
                    </a:lnTo>
                    <a:lnTo>
                      <a:pt x="1210584" y="11058"/>
                    </a:lnTo>
                    <a:lnTo>
                      <a:pt x="1220183" y="6276"/>
                    </a:lnTo>
                    <a:lnTo>
                      <a:pt x="1224383" y="4383"/>
                    </a:lnTo>
                    <a:lnTo>
                      <a:pt x="1228183" y="2789"/>
                    </a:lnTo>
                    <a:lnTo>
                      <a:pt x="1231482" y="1693"/>
                    </a:lnTo>
                    <a:lnTo>
                      <a:pt x="1234283" y="996"/>
                    </a:lnTo>
                    <a:lnTo>
                      <a:pt x="1241781" y="0"/>
                    </a:lnTo>
                    <a:lnTo>
                      <a:pt x="1249081" y="0"/>
                    </a:lnTo>
                    <a:lnTo>
                      <a:pt x="1255881" y="996"/>
                    </a:lnTo>
                    <a:lnTo>
                      <a:pt x="1261979" y="3087"/>
                    </a:lnTo>
                    <a:lnTo>
                      <a:pt x="1267279" y="6077"/>
                    </a:lnTo>
                    <a:lnTo>
                      <a:pt x="1271478" y="10161"/>
                    </a:lnTo>
                    <a:lnTo>
                      <a:pt x="1274278" y="15341"/>
                    </a:lnTo>
                    <a:lnTo>
                      <a:pt x="1275578" y="21518"/>
                    </a:lnTo>
                    <a:lnTo>
                      <a:pt x="1276678" y="26101"/>
                    </a:lnTo>
                    <a:lnTo>
                      <a:pt x="1276079" y="31380"/>
                    </a:lnTo>
                    <a:lnTo>
                      <a:pt x="1273779" y="37159"/>
                    </a:lnTo>
                    <a:lnTo>
                      <a:pt x="1269979" y="43536"/>
                    </a:lnTo>
                    <a:lnTo>
                      <a:pt x="1264979" y="50209"/>
                    </a:lnTo>
                    <a:lnTo>
                      <a:pt x="1258979" y="57183"/>
                    </a:lnTo>
                    <a:lnTo>
                      <a:pt x="1251980" y="64356"/>
                    </a:lnTo>
                    <a:lnTo>
                      <a:pt x="1244380" y="71629"/>
                    </a:lnTo>
                    <a:lnTo>
                      <a:pt x="1227982" y="86174"/>
                    </a:lnTo>
                    <a:lnTo>
                      <a:pt x="1211085" y="100122"/>
                    </a:lnTo>
                    <a:lnTo>
                      <a:pt x="1202985" y="106696"/>
                    </a:lnTo>
                    <a:lnTo>
                      <a:pt x="1195385" y="112674"/>
                    </a:lnTo>
                    <a:lnTo>
                      <a:pt x="1188487" y="118253"/>
                    </a:lnTo>
                    <a:lnTo>
                      <a:pt x="1182487" y="123134"/>
                    </a:lnTo>
                    <a:lnTo>
                      <a:pt x="1164489" y="138874"/>
                    </a:lnTo>
                    <a:lnTo>
                      <a:pt x="1146691" y="155014"/>
                    </a:lnTo>
                    <a:lnTo>
                      <a:pt x="1128791" y="171054"/>
                    </a:lnTo>
                    <a:lnTo>
                      <a:pt x="1110394" y="186097"/>
                    </a:lnTo>
                    <a:lnTo>
                      <a:pt x="1042001" y="238200"/>
                    </a:lnTo>
                    <a:lnTo>
                      <a:pt x="1008004" y="264799"/>
                    </a:lnTo>
                    <a:lnTo>
                      <a:pt x="974807" y="291798"/>
                    </a:lnTo>
                    <a:lnTo>
                      <a:pt x="927211" y="331747"/>
                    </a:lnTo>
                    <a:lnTo>
                      <a:pt x="879315" y="371696"/>
                    </a:lnTo>
                    <a:lnTo>
                      <a:pt x="855118" y="391422"/>
                    </a:lnTo>
                    <a:lnTo>
                      <a:pt x="830520" y="410748"/>
                    </a:lnTo>
                    <a:lnTo>
                      <a:pt x="805523" y="429477"/>
                    </a:lnTo>
                    <a:lnTo>
                      <a:pt x="780225" y="447510"/>
                    </a:lnTo>
                    <a:lnTo>
                      <a:pt x="710233" y="495329"/>
                    </a:lnTo>
                    <a:lnTo>
                      <a:pt x="675535" y="519637"/>
                    </a:lnTo>
                    <a:lnTo>
                      <a:pt x="641538" y="544444"/>
                    </a:lnTo>
                    <a:lnTo>
                      <a:pt x="595844" y="580009"/>
                    </a:lnTo>
                    <a:lnTo>
                      <a:pt x="549547" y="615973"/>
                    </a:lnTo>
                    <a:lnTo>
                      <a:pt x="526049" y="633607"/>
                    </a:lnTo>
                    <a:lnTo>
                      <a:pt x="502152" y="650643"/>
                    </a:lnTo>
                    <a:lnTo>
                      <a:pt x="477854" y="667080"/>
                    </a:lnTo>
                    <a:lnTo>
                      <a:pt x="452857" y="682522"/>
                    </a:lnTo>
                    <a:lnTo>
                      <a:pt x="441757" y="688698"/>
                    </a:lnTo>
                    <a:lnTo>
                      <a:pt x="430558" y="694178"/>
                    </a:lnTo>
                    <a:lnTo>
                      <a:pt x="407861" y="704438"/>
                    </a:lnTo>
                    <a:lnTo>
                      <a:pt x="385563" y="714700"/>
                    </a:lnTo>
                    <a:lnTo>
                      <a:pt x="374765" y="720378"/>
                    </a:lnTo>
                    <a:lnTo>
                      <a:pt x="364364" y="726655"/>
                    </a:lnTo>
                    <a:lnTo>
                      <a:pt x="358666" y="730042"/>
                    </a:lnTo>
                    <a:lnTo>
                      <a:pt x="351567" y="733928"/>
                    </a:lnTo>
                    <a:lnTo>
                      <a:pt x="343267" y="738111"/>
                    </a:lnTo>
                    <a:lnTo>
                      <a:pt x="334168" y="742495"/>
                    </a:lnTo>
                    <a:lnTo>
                      <a:pt x="314070" y="751661"/>
                    </a:lnTo>
                    <a:lnTo>
                      <a:pt x="292772" y="761224"/>
                    </a:lnTo>
                    <a:lnTo>
                      <a:pt x="271973" y="770689"/>
                    </a:lnTo>
                    <a:lnTo>
                      <a:pt x="262175" y="775271"/>
                    </a:lnTo>
                    <a:lnTo>
                      <a:pt x="253276" y="779655"/>
                    </a:lnTo>
                    <a:lnTo>
                      <a:pt x="245176" y="783839"/>
                    </a:lnTo>
                    <a:lnTo>
                      <a:pt x="238278" y="787625"/>
                    </a:lnTo>
                    <a:lnTo>
                      <a:pt x="232777" y="791112"/>
                    </a:lnTo>
                    <a:lnTo>
                      <a:pt x="228678" y="794200"/>
                    </a:lnTo>
                    <a:lnTo>
                      <a:pt x="224578" y="798284"/>
                    </a:lnTo>
                    <a:lnTo>
                      <a:pt x="220979" y="802170"/>
                    </a:lnTo>
                    <a:lnTo>
                      <a:pt x="215380" y="809742"/>
                    </a:lnTo>
                    <a:lnTo>
                      <a:pt x="206180" y="823888"/>
                    </a:lnTo>
                    <a:lnTo>
                      <a:pt x="200781" y="830862"/>
                    </a:lnTo>
                    <a:lnTo>
                      <a:pt x="193581" y="837934"/>
                    </a:lnTo>
                    <a:lnTo>
                      <a:pt x="188981" y="841521"/>
                    </a:lnTo>
                    <a:lnTo>
                      <a:pt x="183482" y="845208"/>
                    </a:lnTo>
                    <a:lnTo>
                      <a:pt x="177183" y="848994"/>
                    </a:lnTo>
                    <a:lnTo>
                      <a:pt x="169784" y="852978"/>
                    </a:lnTo>
                    <a:lnTo>
                      <a:pt x="161384" y="856564"/>
                    </a:lnTo>
                    <a:lnTo>
                      <a:pt x="152485" y="859653"/>
                    </a:lnTo>
                    <a:lnTo>
                      <a:pt x="133487" y="865331"/>
                    </a:lnTo>
                    <a:lnTo>
                      <a:pt x="123988" y="868121"/>
                    </a:lnTo>
                    <a:lnTo>
                      <a:pt x="114989" y="871309"/>
                    </a:lnTo>
                    <a:lnTo>
                      <a:pt x="106490" y="874994"/>
                    </a:lnTo>
                    <a:lnTo>
                      <a:pt x="98990" y="879378"/>
                    </a:lnTo>
                    <a:lnTo>
                      <a:pt x="93192" y="883761"/>
                    </a:lnTo>
                    <a:lnTo>
                      <a:pt x="87691" y="888544"/>
                    </a:lnTo>
                    <a:lnTo>
                      <a:pt x="77793" y="899203"/>
                    </a:lnTo>
                    <a:lnTo>
                      <a:pt x="68893" y="911059"/>
                    </a:lnTo>
                    <a:lnTo>
                      <a:pt x="61094" y="923910"/>
                    </a:lnTo>
                    <a:lnTo>
                      <a:pt x="53795" y="937359"/>
                    </a:lnTo>
                    <a:lnTo>
                      <a:pt x="47096" y="951306"/>
                    </a:lnTo>
                    <a:lnTo>
                      <a:pt x="34097" y="979301"/>
                    </a:lnTo>
                    <a:lnTo>
                      <a:pt x="31197" y="978005"/>
                    </a:lnTo>
                    <a:lnTo>
                      <a:pt x="28297" y="975615"/>
                    </a:lnTo>
                    <a:lnTo>
                      <a:pt x="25498" y="972427"/>
                    </a:lnTo>
                    <a:lnTo>
                      <a:pt x="22798" y="968442"/>
                    </a:lnTo>
                    <a:lnTo>
                      <a:pt x="17599" y="958779"/>
                    </a:lnTo>
                    <a:lnTo>
                      <a:pt x="12898" y="947421"/>
                    </a:lnTo>
                    <a:lnTo>
                      <a:pt x="8799" y="935566"/>
                    </a:lnTo>
                    <a:lnTo>
                      <a:pt x="5499" y="924010"/>
                    </a:lnTo>
                    <a:lnTo>
                      <a:pt x="3000" y="913847"/>
                    </a:lnTo>
                    <a:lnTo>
                      <a:pt x="2200" y="909465"/>
                    </a:lnTo>
                    <a:lnTo>
                      <a:pt x="1700" y="905779"/>
                    </a:lnTo>
                    <a:lnTo>
                      <a:pt x="600" y="895119"/>
                    </a:lnTo>
                    <a:lnTo>
                      <a:pt x="0" y="884758"/>
                    </a:lnTo>
                    <a:lnTo>
                      <a:pt x="200" y="874597"/>
                    </a:lnTo>
                    <a:lnTo>
                      <a:pt x="800" y="864734"/>
                    </a:lnTo>
                    <a:lnTo>
                      <a:pt x="1900" y="855170"/>
                    </a:lnTo>
                    <a:lnTo>
                      <a:pt x="3700" y="845805"/>
                    </a:lnTo>
                    <a:lnTo>
                      <a:pt x="8499" y="828072"/>
                    </a:lnTo>
                    <a:lnTo>
                      <a:pt x="14999" y="811435"/>
                    </a:lnTo>
                    <a:lnTo>
                      <a:pt x="23198" y="795894"/>
                    </a:lnTo>
                    <a:lnTo>
                      <a:pt x="32797" y="781348"/>
                    </a:lnTo>
                    <a:lnTo>
                      <a:pt x="43696" y="767899"/>
                    </a:lnTo>
                    <a:lnTo>
                      <a:pt x="55695" y="755546"/>
                    </a:lnTo>
                    <a:lnTo>
                      <a:pt x="68593" y="744188"/>
                    </a:lnTo>
                    <a:lnTo>
                      <a:pt x="82192" y="733928"/>
                    </a:lnTo>
                    <a:lnTo>
                      <a:pt x="96391" y="724662"/>
                    </a:lnTo>
                    <a:lnTo>
                      <a:pt x="110889" y="716294"/>
                    </a:lnTo>
                    <a:lnTo>
                      <a:pt x="125588" y="708922"/>
                    </a:lnTo>
                    <a:lnTo>
                      <a:pt x="140386" y="702645"/>
                    </a:lnTo>
                    <a:lnTo>
                      <a:pt x="154985" y="697265"/>
                    </a:lnTo>
                    <a:lnTo>
                      <a:pt x="156485" y="695075"/>
                    </a:lnTo>
                    <a:lnTo>
                      <a:pt x="157385" y="692285"/>
                    </a:lnTo>
                    <a:lnTo>
                      <a:pt x="158185" y="685710"/>
                    </a:lnTo>
                    <a:lnTo>
                      <a:pt x="158985" y="679035"/>
                    </a:lnTo>
                    <a:lnTo>
                      <a:pt x="159685" y="676145"/>
                    </a:lnTo>
                    <a:lnTo>
                      <a:pt x="160984" y="673755"/>
                    </a:lnTo>
                    <a:lnTo>
                      <a:pt x="161684" y="672859"/>
                    </a:lnTo>
                    <a:lnTo>
                      <a:pt x="162884" y="671563"/>
                    </a:lnTo>
                    <a:lnTo>
                      <a:pt x="166684" y="667977"/>
                    </a:lnTo>
                    <a:lnTo>
                      <a:pt x="172084" y="663294"/>
                    </a:lnTo>
                    <a:lnTo>
                      <a:pt x="178882" y="657516"/>
                    </a:lnTo>
                    <a:lnTo>
                      <a:pt x="186683" y="651040"/>
                    </a:lnTo>
                    <a:lnTo>
                      <a:pt x="195182" y="643867"/>
                    </a:lnTo>
                    <a:lnTo>
                      <a:pt x="213980" y="628725"/>
                    </a:lnTo>
                    <a:lnTo>
                      <a:pt x="233078" y="613482"/>
                    </a:lnTo>
                    <a:lnTo>
                      <a:pt x="242177" y="606309"/>
                    </a:lnTo>
                    <a:lnTo>
                      <a:pt x="250576" y="599634"/>
                    </a:lnTo>
                    <a:lnTo>
                      <a:pt x="258175" y="593757"/>
                    </a:lnTo>
                    <a:lnTo>
                      <a:pt x="264574" y="588875"/>
                    </a:lnTo>
                    <a:lnTo>
                      <a:pt x="269574" y="585090"/>
                    </a:lnTo>
                    <a:lnTo>
                      <a:pt x="271474" y="583694"/>
                    </a:lnTo>
                    <a:lnTo>
                      <a:pt x="272974" y="582699"/>
                    </a:lnTo>
                    <a:lnTo>
                      <a:pt x="279273" y="578814"/>
                    </a:lnTo>
                    <a:lnTo>
                      <a:pt x="286073" y="575227"/>
                    </a:lnTo>
                    <a:lnTo>
                      <a:pt x="1255881" y="23909"/>
                    </a:lnTo>
                    <a:lnTo>
                      <a:pt x="1256080" y="26399"/>
                    </a:lnTo>
                    <a:lnTo>
                      <a:pt x="1255480" y="28990"/>
                    </a:lnTo>
                    <a:lnTo>
                      <a:pt x="1254180" y="31680"/>
                    </a:lnTo>
                    <a:lnTo>
                      <a:pt x="1249980" y="37259"/>
                    </a:lnTo>
                    <a:lnTo>
                      <a:pt x="1244081" y="43036"/>
                    </a:lnTo>
                    <a:lnTo>
                      <a:pt x="1229782" y="54593"/>
                    </a:lnTo>
                    <a:lnTo>
                      <a:pt x="1222883" y="60072"/>
                    </a:lnTo>
                    <a:lnTo>
                      <a:pt x="1216884" y="65252"/>
                    </a:lnTo>
                    <a:lnTo>
                      <a:pt x="1201185" y="79300"/>
                    </a:lnTo>
                    <a:lnTo>
                      <a:pt x="1184886" y="92749"/>
                    </a:lnTo>
                    <a:lnTo>
                      <a:pt x="1151090" y="118054"/>
                    </a:lnTo>
                    <a:lnTo>
                      <a:pt x="1116893" y="142860"/>
                    </a:lnTo>
                    <a:lnTo>
                      <a:pt x="1100095" y="155412"/>
                    </a:lnTo>
                    <a:lnTo>
                      <a:pt x="1083897" y="168463"/>
                    </a:lnTo>
                    <a:lnTo>
                      <a:pt x="1057099" y="190181"/>
                    </a:lnTo>
                    <a:lnTo>
                      <a:pt x="1029801" y="211700"/>
                    </a:lnTo>
                    <a:lnTo>
                      <a:pt x="974807" y="253541"/>
                    </a:lnTo>
                    <a:lnTo>
                      <a:pt x="919612" y="294687"/>
                    </a:lnTo>
                    <a:lnTo>
                      <a:pt x="864318" y="335233"/>
                    </a:lnTo>
                    <a:lnTo>
                      <a:pt x="808923" y="376975"/>
                    </a:lnTo>
                    <a:lnTo>
                      <a:pt x="781225" y="398594"/>
                    </a:lnTo>
                    <a:lnTo>
                      <a:pt x="753628" y="421010"/>
                    </a:lnTo>
                    <a:lnTo>
                      <a:pt x="726930" y="442030"/>
                    </a:lnTo>
                    <a:lnTo>
                      <a:pt x="699133" y="462354"/>
                    </a:lnTo>
                    <a:lnTo>
                      <a:pt x="684735" y="472714"/>
                    </a:lnTo>
                    <a:lnTo>
                      <a:pt x="669736" y="483373"/>
                    </a:lnTo>
                    <a:lnTo>
                      <a:pt x="654438" y="494432"/>
                    </a:lnTo>
                    <a:lnTo>
                      <a:pt x="638639" y="506287"/>
                    </a:lnTo>
                    <a:lnTo>
                      <a:pt x="583045" y="548029"/>
                    </a:lnTo>
                    <a:lnTo>
                      <a:pt x="554947" y="568552"/>
                    </a:lnTo>
                    <a:lnTo>
                      <a:pt x="526550" y="588477"/>
                    </a:lnTo>
                    <a:lnTo>
                      <a:pt x="522450" y="591366"/>
                    </a:lnTo>
                    <a:lnTo>
                      <a:pt x="517450" y="594953"/>
                    </a:lnTo>
                    <a:lnTo>
                      <a:pt x="511551" y="599037"/>
                    </a:lnTo>
                    <a:lnTo>
                      <a:pt x="504852" y="603619"/>
                    </a:lnTo>
                    <a:lnTo>
                      <a:pt x="489853" y="613383"/>
                    </a:lnTo>
                    <a:lnTo>
                      <a:pt x="473155" y="623246"/>
                    </a:lnTo>
                    <a:lnTo>
                      <a:pt x="455756" y="632112"/>
                    </a:lnTo>
                    <a:lnTo>
                      <a:pt x="447157" y="635799"/>
                    </a:lnTo>
                    <a:lnTo>
                      <a:pt x="438658" y="638787"/>
                    </a:lnTo>
                    <a:lnTo>
                      <a:pt x="430459" y="640979"/>
                    </a:lnTo>
                    <a:lnTo>
                      <a:pt x="422560" y="642273"/>
                    </a:lnTo>
                    <a:lnTo>
                      <a:pt x="415260" y="642473"/>
                    </a:lnTo>
                    <a:lnTo>
                      <a:pt x="408661" y="641377"/>
                    </a:lnTo>
                    <a:lnTo>
                      <a:pt x="404362" y="639684"/>
                    </a:lnTo>
                    <a:lnTo>
                      <a:pt x="399862" y="636496"/>
                    </a:lnTo>
                    <a:lnTo>
                      <a:pt x="395062" y="632311"/>
                    </a:lnTo>
                    <a:lnTo>
                      <a:pt x="390063" y="627131"/>
                    </a:lnTo>
                    <a:lnTo>
                      <a:pt x="384864" y="621253"/>
                    </a:lnTo>
                    <a:lnTo>
                      <a:pt x="379564" y="614778"/>
                    </a:lnTo>
                    <a:lnTo>
                      <a:pt x="368465" y="600930"/>
                    </a:lnTo>
                    <a:lnTo>
                      <a:pt x="357066" y="586982"/>
                    </a:lnTo>
                    <a:lnTo>
                      <a:pt x="345567" y="574331"/>
                    </a:lnTo>
                    <a:lnTo>
                      <a:pt x="339867" y="569050"/>
                    </a:lnTo>
                    <a:lnTo>
                      <a:pt x="334168" y="564667"/>
                    </a:lnTo>
                    <a:lnTo>
                      <a:pt x="328568" y="561280"/>
                    </a:lnTo>
                    <a:lnTo>
                      <a:pt x="323069" y="559187"/>
                    </a:lnTo>
                    <a:lnTo>
                      <a:pt x="323069" y="547432"/>
                    </a:lnTo>
                    <a:lnTo>
                      <a:pt x="344067" y="530695"/>
                    </a:lnTo>
                    <a:lnTo>
                      <a:pt x="365965" y="514656"/>
                    </a:lnTo>
                    <a:lnTo>
                      <a:pt x="388362" y="499115"/>
                    </a:lnTo>
                    <a:lnTo>
                      <a:pt x="411461" y="484171"/>
                    </a:lnTo>
                    <a:lnTo>
                      <a:pt x="458456" y="455181"/>
                    </a:lnTo>
                    <a:lnTo>
                      <a:pt x="505952" y="426987"/>
                    </a:lnTo>
                    <a:lnTo>
                      <a:pt x="626140" y="356552"/>
                    </a:lnTo>
                    <a:lnTo>
                      <a:pt x="686735" y="322182"/>
                    </a:lnTo>
                    <a:lnTo>
                      <a:pt x="747728" y="288808"/>
                    </a:lnTo>
                    <a:lnTo>
                      <a:pt x="815622" y="252048"/>
                    </a:lnTo>
                    <a:lnTo>
                      <a:pt x="882116" y="215087"/>
                    </a:lnTo>
                    <a:lnTo>
                      <a:pt x="947809" y="178326"/>
                    </a:lnTo>
                    <a:lnTo>
                      <a:pt x="1013103" y="141963"/>
                    </a:lnTo>
                    <a:lnTo>
                      <a:pt x="1053099" y="119348"/>
                    </a:lnTo>
                    <a:lnTo>
                      <a:pt x="1092296" y="96634"/>
                    </a:lnTo>
                    <a:lnTo>
                      <a:pt x="1169388" y="50907"/>
                    </a:lnTo>
                    <a:lnTo>
                      <a:pt x="1173088" y="48616"/>
                    </a:lnTo>
                    <a:lnTo>
                      <a:pt x="1177688" y="45627"/>
                    </a:lnTo>
                    <a:lnTo>
                      <a:pt x="1182887" y="42240"/>
                    </a:lnTo>
                    <a:lnTo>
                      <a:pt x="1188686" y="38553"/>
                    </a:lnTo>
                    <a:lnTo>
                      <a:pt x="1201385" y="30683"/>
                    </a:lnTo>
                    <a:lnTo>
                      <a:pt x="1214883" y="23212"/>
                    </a:lnTo>
                    <a:lnTo>
                      <a:pt x="1221484" y="20024"/>
                    </a:lnTo>
                    <a:lnTo>
                      <a:pt x="1227882" y="17433"/>
                    </a:lnTo>
                    <a:lnTo>
                      <a:pt x="1233982" y="15541"/>
                    </a:lnTo>
                    <a:lnTo>
                      <a:pt x="1239682" y="14445"/>
                    </a:lnTo>
                    <a:lnTo>
                      <a:pt x="1244682" y="14346"/>
                    </a:lnTo>
                    <a:lnTo>
                      <a:pt x="1248981" y="15441"/>
                    </a:lnTo>
                    <a:lnTo>
                      <a:pt x="1252380" y="17733"/>
                    </a:lnTo>
                    <a:lnTo>
                      <a:pt x="1254880" y="21518"/>
                    </a:lnTo>
                    <a:lnTo>
                      <a:pt x="361966" y="709022"/>
                    </a:lnTo>
                    <a:lnTo>
                      <a:pt x="345767" y="717988"/>
                    </a:lnTo>
                    <a:lnTo>
                      <a:pt x="314570" y="736020"/>
                    </a:lnTo>
                    <a:lnTo>
                      <a:pt x="298571" y="744786"/>
                    </a:lnTo>
                    <a:lnTo>
                      <a:pt x="281773" y="752956"/>
                    </a:lnTo>
                    <a:lnTo>
                      <a:pt x="263474" y="760726"/>
                    </a:lnTo>
                    <a:lnTo>
                      <a:pt x="243477" y="767800"/>
                    </a:lnTo>
                    <a:lnTo>
                      <a:pt x="239077" y="765209"/>
                    </a:lnTo>
                    <a:lnTo>
                      <a:pt x="233877" y="761723"/>
                    </a:lnTo>
                    <a:lnTo>
                      <a:pt x="228278" y="757439"/>
                    </a:lnTo>
                    <a:lnTo>
                      <a:pt x="222378" y="752457"/>
                    </a:lnTo>
                    <a:lnTo>
                      <a:pt x="210180" y="740801"/>
                    </a:lnTo>
                    <a:lnTo>
                      <a:pt x="198581" y="727651"/>
                    </a:lnTo>
                    <a:lnTo>
                      <a:pt x="188583" y="713904"/>
                    </a:lnTo>
                    <a:lnTo>
                      <a:pt x="184682" y="707029"/>
                    </a:lnTo>
                    <a:lnTo>
                      <a:pt x="181683" y="700255"/>
                    </a:lnTo>
                    <a:lnTo>
                      <a:pt x="179682" y="693779"/>
                    </a:lnTo>
                    <a:lnTo>
                      <a:pt x="178882" y="687503"/>
                    </a:lnTo>
                    <a:lnTo>
                      <a:pt x="179483" y="681825"/>
                    </a:lnTo>
                    <a:lnTo>
                      <a:pt x="181582" y="676644"/>
                    </a:lnTo>
                    <a:lnTo>
                      <a:pt x="182483" y="675448"/>
                    </a:lnTo>
                    <a:lnTo>
                      <a:pt x="183983" y="673755"/>
                    </a:lnTo>
                    <a:lnTo>
                      <a:pt x="185982" y="671763"/>
                    </a:lnTo>
                    <a:lnTo>
                      <a:pt x="188583" y="669371"/>
                    </a:lnTo>
                    <a:lnTo>
                      <a:pt x="194882" y="663892"/>
                    </a:lnTo>
                    <a:lnTo>
                      <a:pt x="202781" y="657417"/>
                    </a:lnTo>
                    <a:lnTo>
                      <a:pt x="211779" y="650244"/>
                    </a:lnTo>
                    <a:lnTo>
                      <a:pt x="221779" y="642672"/>
                    </a:lnTo>
                    <a:lnTo>
                      <a:pt x="243176" y="626732"/>
                    </a:lnTo>
                    <a:lnTo>
                      <a:pt x="253976" y="618862"/>
                    </a:lnTo>
                    <a:lnTo>
                      <a:pt x="264574" y="611290"/>
                    </a:lnTo>
                    <a:lnTo>
                      <a:pt x="274574" y="604317"/>
                    </a:lnTo>
                    <a:lnTo>
                      <a:pt x="283673" y="598141"/>
                    </a:lnTo>
                    <a:lnTo>
                      <a:pt x="291572" y="593059"/>
                    </a:lnTo>
                    <a:lnTo>
                      <a:pt x="298072" y="589074"/>
                    </a:lnTo>
                    <a:lnTo>
                      <a:pt x="300671" y="587581"/>
                    </a:lnTo>
                    <a:lnTo>
                      <a:pt x="302771" y="586485"/>
                    </a:lnTo>
                    <a:lnTo>
                      <a:pt x="304371" y="585787"/>
                    </a:lnTo>
                    <a:lnTo>
                      <a:pt x="305371" y="585588"/>
                    </a:lnTo>
                    <a:lnTo>
                      <a:pt x="311770" y="586485"/>
                    </a:lnTo>
                    <a:lnTo>
                      <a:pt x="318769" y="589174"/>
                    </a:lnTo>
                    <a:lnTo>
                      <a:pt x="325868" y="593259"/>
                    </a:lnTo>
                    <a:lnTo>
                      <a:pt x="333168" y="598639"/>
                    </a:lnTo>
                    <a:lnTo>
                      <a:pt x="340567" y="605213"/>
                    </a:lnTo>
                    <a:lnTo>
                      <a:pt x="347667" y="612785"/>
                    </a:lnTo>
                    <a:lnTo>
                      <a:pt x="354466" y="621054"/>
                    </a:lnTo>
                    <a:lnTo>
                      <a:pt x="360966" y="630020"/>
                    </a:lnTo>
                    <a:lnTo>
                      <a:pt x="366664" y="639285"/>
                    </a:lnTo>
                    <a:lnTo>
                      <a:pt x="371864" y="648849"/>
                    </a:lnTo>
                    <a:lnTo>
                      <a:pt x="376064" y="658313"/>
                    </a:lnTo>
                    <a:lnTo>
                      <a:pt x="379363" y="667777"/>
                    </a:lnTo>
                    <a:lnTo>
                      <a:pt x="381363" y="676843"/>
                    </a:lnTo>
                    <a:lnTo>
                      <a:pt x="382063" y="685411"/>
                    </a:lnTo>
                    <a:lnTo>
                      <a:pt x="381363" y="693281"/>
                    </a:lnTo>
                    <a:lnTo>
                      <a:pt x="379064" y="700155"/>
                    </a:lnTo>
                    <a:lnTo>
                      <a:pt x="213480" y="779854"/>
                    </a:lnTo>
                    <a:lnTo>
                      <a:pt x="211680" y="790514"/>
                    </a:lnTo>
                    <a:lnTo>
                      <a:pt x="208680" y="799879"/>
                    </a:lnTo>
                    <a:lnTo>
                      <a:pt x="204581" y="808048"/>
                    </a:lnTo>
                    <a:lnTo>
                      <a:pt x="199480" y="815221"/>
                    </a:lnTo>
                    <a:lnTo>
                      <a:pt x="193481" y="821397"/>
                    </a:lnTo>
                    <a:lnTo>
                      <a:pt x="186683" y="826877"/>
                    </a:lnTo>
                    <a:lnTo>
                      <a:pt x="179282" y="831559"/>
                    </a:lnTo>
                    <a:lnTo>
                      <a:pt x="171184" y="835643"/>
                    </a:lnTo>
                    <a:lnTo>
                      <a:pt x="162685" y="839429"/>
                    </a:lnTo>
                    <a:lnTo>
                      <a:pt x="144686" y="845905"/>
                    </a:lnTo>
                    <a:lnTo>
                      <a:pt x="126187" y="852081"/>
                    </a:lnTo>
                    <a:lnTo>
                      <a:pt x="107889" y="858855"/>
                    </a:lnTo>
                    <a:lnTo>
                      <a:pt x="100591" y="862143"/>
                    </a:lnTo>
                    <a:lnTo>
                      <a:pt x="93891" y="865929"/>
                    </a:lnTo>
                    <a:lnTo>
                      <a:pt x="87691" y="870114"/>
                    </a:lnTo>
                    <a:lnTo>
                      <a:pt x="81892" y="874597"/>
                    </a:lnTo>
                    <a:lnTo>
                      <a:pt x="71494" y="884658"/>
                    </a:lnTo>
                    <a:lnTo>
                      <a:pt x="62294" y="895915"/>
                    </a:lnTo>
                    <a:lnTo>
                      <a:pt x="53994" y="907970"/>
                    </a:lnTo>
                    <a:lnTo>
                      <a:pt x="46296" y="920722"/>
                    </a:lnTo>
                    <a:lnTo>
                      <a:pt x="31197" y="946923"/>
                    </a:lnTo>
                    <a:lnTo>
                      <a:pt x="26498" y="936164"/>
                    </a:lnTo>
                    <a:lnTo>
                      <a:pt x="22898" y="924806"/>
                    </a:lnTo>
                    <a:lnTo>
                      <a:pt x="20297" y="913150"/>
                    </a:lnTo>
                    <a:lnTo>
                      <a:pt x="18598" y="901097"/>
                    </a:lnTo>
                    <a:lnTo>
                      <a:pt x="17898" y="888941"/>
                    </a:lnTo>
                    <a:lnTo>
                      <a:pt x="17898" y="876689"/>
                    </a:lnTo>
                    <a:lnTo>
                      <a:pt x="18898" y="864634"/>
                    </a:lnTo>
                    <a:lnTo>
                      <a:pt x="20697" y="852480"/>
                    </a:lnTo>
                    <a:lnTo>
                      <a:pt x="23098" y="840725"/>
                    </a:lnTo>
                    <a:lnTo>
                      <a:pt x="26297" y="829268"/>
                    </a:lnTo>
                    <a:lnTo>
                      <a:pt x="30097" y="818309"/>
                    </a:lnTo>
                    <a:lnTo>
                      <a:pt x="34596" y="807848"/>
                    </a:lnTo>
                    <a:lnTo>
                      <a:pt x="39596" y="797985"/>
                    </a:lnTo>
                    <a:lnTo>
                      <a:pt x="45095" y="789019"/>
                    </a:lnTo>
                    <a:lnTo>
                      <a:pt x="51195" y="780851"/>
                    </a:lnTo>
                    <a:lnTo>
                      <a:pt x="57694" y="773577"/>
                    </a:lnTo>
                    <a:lnTo>
                      <a:pt x="76993" y="755546"/>
                    </a:lnTo>
                    <a:lnTo>
                      <a:pt x="86792" y="747377"/>
                    </a:lnTo>
                    <a:lnTo>
                      <a:pt x="96690" y="740005"/>
                    </a:lnTo>
                    <a:lnTo>
                      <a:pt x="106689" y="733529"/>
                    </a:lnTo>
                    <a:lnTo>
                      <a:pt x="116689" y="728149"/>
                    </a:lnTo>
                    <a:lnTo>
                      <a:pt x="126688" y="723965"/>
                    </a:lnTo>
                    <a:lnTo>
                      <a:pt x="136787" y="721275"/>
                    </a:lnTo>
                    <a:lnTo>
                      <a:pt x="146786" y="719981"/>
                    </a:lnTo>
                    <a:lnTo>
                      <a:pt x="156685" y="720478"/>
                    </a:lnTo>
                    <a:lnTo>
                      <a:pt x="166584" y="722869"/>
                    </a:lnTo>
                    <a:lnTo>
                      <a:pt x="176283" y="727253"/>
                    </a:lnTo>
                    <a:lnTo>
                      <a:pt x="185982" y="733827"/>
                    </a:lnTo>
                    <a:lnTo>
                      <a:pt x="195481" y="742594"/>
                    </a:lnTo>
                    <a:lnTo>
                      <a:pt x="204780" y="753853"/>
                    </a:lnTo>
                    <a:lnTo>
                      <a:pt x="213980" y="767800"/>
                    </a:lnTo>
                    <a:lnTo>
                      <a:pt x="299471" y="5679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: Shape 21"/>
              <p:cNvSpPr/>
              <p:nvPr/>
            </p:nvSpPr>
            <p:spPr>
              <a:xfrm rot="8378400">
                <a:off x="1935720" y="1743120"/>
                <a:ext cx="45720" cy="34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58895" h="47023">
                    <a:moveTo>
                      <a:pt x="0" y="-29074"/>
                    </a:moveTo>
                    <a:lnTo>
                      <a:pt x="13198" y="27496"/>
                    </a:lnTo>
                    <a:lnTo>
                      <a:pt x="26297" y="17733"/>
                    </a:lnTo>
                    <a:lnTo>
                      <a:pt x="-25240" y="8169"/>
                    </a:lnTo>
                    <a:lnTo>
                      <a:pt x="-17741" y="3885"/>
                    </a:lnTo>
                    <a:lnTo>
                      <a:pt x="-9642" y="0"/>
                    </a:lnTo>
                    <a:lnTo>
                      <a:pt x="-6642" y="8767"/>
                    </a:lnTo>
                    <a:lnTo>
                      <a:pt x="-12342" y="13151"/>
                    </a:lnTo>
                    <a:lnTo>
                      <a:pt x="-18641" y="17933"/>
                    </a:lnTo>
                    <a:lnTo>
                      <a:pt x="-32540" y="27995"/>
                    </a:lnTo>
                    <a:lnTo>
                      <a:pt x="18698" y="-27479"/>
                    </a:lnTo>
                    <a:lnTo>
                      <a:pt x="11999" y="-22798"/>
                    </a:lnTo>
                    <a:lnTo>
                      <a:pt x="5799" y="-18514"/>
                    </a:lnTo>
                    <a:lnTo>
                      <a:pt x="4599" y="-21104"/>
                    </a:lnTo>
                    <a:lnTo>
                      <a:pt x="3099" y="-23495"/>
                    </a:lnTo>
                    <a:lnTo>
                      <a:pt x="1599" y="-25885"/>
                    </a:lnTo>
                    <a:lnTo>
                      <a:pt x="0" y="-290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: Shape 22"/>
              <p:cNvSpPr/>
              <p:nvPr/>
            </p:nvSpPr>
            <p:spPr>
              <a:xfrm rot="8378400">
                <a:off x="1915200" y="1741680"/>
                <a:ext cx="42480" cy="284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56896" h="39852">
                    <a:moveTo>
                      <a:pt x="-8641" y="9166"/>
                    </a:moveTo>
                    <a:lnTo>
                      <a:pt x="-13640" y="11657"/>
                    </a:lnTo>
                    <a:lnTo>
                      <a:pt x="-19640" y="15144"/>
                    </a:lnTo>
                    <a:lnTo>
                      <a:pt x="-26240" y="19428"/>
                    </a:lnTo>
                    <a:lnTo>
                      <a:pt x="32297" y="24010"/>
                    </a:lnTo>
                    <a:lnTo>
                      <a:pt x="17799" y="-32361"/>
                    </a:lnTo>
                    <a:lnTo>
                      <a:pt x="10799" y="-28575"/>
                    </a:lnTo>
                    <a:lnTo>
                      <a:pt x="4300" y="-25685"/>
                    </a:lnTo>
                    <a:lnTo>
                      <a:pt x="0" y="-31663"/>
                    </a:lnTo>
                    <a:lnTo>
                      <a:pt x="4500" y="30187"/>
                    </a:lnTo>
                    <a:lnTo>
                      <a:pt x="10199" y="25903"/>
                    </a:lnTo>
                    <a:lnTo>
                      <a:pt x="16699" y="21320"/>
                    </a:lnTo>
                    <a:lnTo>
                      <a:pt x="23897" y="16538"/>
                    </a:lnTo>
                    <a:lnTo>
                      <a:pt x="-26640" y="7274"/>
                    </a:lnTo>
                    <a:lnTo>
                      <a:pt x="-19541" y="3289"/>
                    </a:lnTo>
                    <a:lnTo>
                      <a:pt x="-13041" y="0"/>
                    </a:lnTo>
                    <a:lnTo>
                      <a:pt x="-10941" y="1596"/>
                    </a:lnTo>
                    <a:lnTo>
                      <a:pt x="-9941" y="3786"/>
                    </a:lnTo>
                    <a:lnTo>
                      <a:pt x="-8641" y="9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: Shape 23"/>
              <p:cNvSpPr/>
              <p:nvPr/>
            </p:nvSpPr>
            <p:spPr>
              <a:xfrm rot="8378400">
                <a:off x="1898280" y="1736640"/>
                <a:ext cx="47160" cy="28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60595" h="39253">
                    <a:moveTo>
                      <a:pt x="0" y="31182"/>
                    </a:moveTo>
                    <a:lnTo>
                      <a:pt x="4500" y="28591"/>
                    </a:lnTo>
                    <a:lnTo>
                      <a:pt x="9999" y="25105"/>
                    </a:lnTo>
                    <a:lnTo>
                      <a:pt x="16398" y="21020"/>
                    </a:lnTo>
                    <a:lnTo>
                      <a:pt x="23498" y="16538"/>
                    </a:lnTo>
                    <a:lnTo>
                      <a:pt x="-26740" y="7471"/>
                    </a:lnTo>
                    <a:lnTo>
                      <a:pt x="-18641" y="3486"/>
                    </a:lnTo>
                    <a:lnTo>
                      <a:pt x="-10742" y="0"/>
                    </a:lnTo>
                    <a:lnTo>
                      <a:pt x="-4942" y="7870"/>
                    </a:lnTo>
                    <a:lnTo>
                      <a:pt x="-18641" y="15341"/>
                    </a:lnTo>
                    <a:lnTo>
                      <a:pt x="-32539" y="23511"/>
                    </a:lnTo>
                    <a:lnTo>
                      <a:pt x="19098" y="31580"/>
                    </a:lnTo>
                    <a:lnTo>
                      <a:pt x="5599" y="-26284"/>
                    </a:lnTo>
                    <a:lnTo>
                      <a:pt x="0" y="3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: Shape 24"/>
              <p:cNvSpPr/>
              <p:nvPr/>
            </p:nvSpPr>
            <p:spPr>
              <a:xfrm rot="8378400">
                <a:off x="1881720" y="1714320"/>
                <a:ext cx="44280" cy="2700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5295" h="35866">
                    <a:moveTo>
                      <a:pt x="-15542" y="0"/>
                    </a:moveTo>
                    <a:lnTo>
                      <a:pt x="-10242" y="6675"/>
                    </a:lnTo>
                    <a:lnTo>
                      <a:pt x="-14342" y="9464"/>
                    </a:lnTo>
                    <a:lnTo>
                      <a:pt x="-19941" y="13050"/>
                    </a:lnTo>
                    <a:lnTo>
                      <a:pt x="-26541" y="17135"/>
                    </a:lnTo>
                    <a:lnTo>
                      <a:pt x="31797" y="21519"/>
                    </a:lnTo>
                    <a:lnTo>
                      <a:pt x="17198" y="29887"/>
                    </a:lnTo>
                    <a:lnTo>
                      <a:pt x="10499" y="-32162"/>
                    </a:lnTo>
                    <a:lnTo>
                      <a:pt x="4998" y="-29671"/>
                    </a:lnTo>
                    <a:lnTo>
                      <a:pt x="0" y="28692"/>
                    </a:lnTo>
                    <a:lnTo>
                      <a:pt x="5499" y="25105"/>
                    </a:lnTo>
                    <a:lnTo>
                      <a:pt x="12198" y="21120"/>
                    </a:lnTo>
                    <a:lnTo>
                      <a:pt x="26797" y="12752"/>
                    </a:lnTo>
                    <a:lnTo>
                      <a:pt x="-31540" y="8668"/>
                    </a:lnTo>
                    <a:lnTo>
                      <a:pt x="-25140" y="5081"/>
                    </a:lnTo>
                    <a:lnTo>
                      <a:pt x="-19641" y="2192"/>
                    </a:lnTo>
                    <a:lnTo>
                      <a:pt x="-155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: Shape 25"/>
              <p:cNvSpPr/>
              <p:nvPr/>
            </p:nvSpPr>
            <p:spPr>
              <a:xfrm rot="8378400">
                <a:off x="1863000" y="1736640"/>
                <a:ext cx="39240" cy="2196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9696" h="31980">
                    <a:moveTo>
                      <a:pt x="0" y="25603"/>
                    </a:moveTo>
                    <a:lnTo>
                      <a:pt x="22798" y="11955"/>
                    </a:lnTo>
                    <a:lnTo>
                      <a:pt x="-31239" y="5579"/>
                    </a:lnTo>
                    <a:lnTo>
                      <a:pt x="-19141" y="0"/>
                    </a:lnTo>
                    <a:lnTo>
                      <a:pt x="-15841" y="9464"/>
                    </a:lnTo>
                    <a:lnTo>
                      <a:pt x="-20540" y="11556"/>
                    </a:lnTo>
                    <a:lnTo>
                      <a:pt x="-25940" y="14046"/>
                    </a:lnTo>
                    <a:lnTo>
                      <a:pt x="27697" y="19925"/>
                    </a:lnTo>
                    <a:lnTo>
                      <a:pt x="16299" y="26101"/>
                    </a:lnTo>
                    <a:lnTo>
                      <a:pt x="11299" y="29190"/>
                    </a:lnTo>
                    <a:lnTo>
                      <a:pt x="7300" y="31979"/>
                    </a:lnTo>
                    <a:lnTo>
                      <a:pt x="4799" y="30683"/>
                    </a:lnTo>
                    <a:lnTo>
                      <a:pt x="2899" y="29389"/>
                    </a:lnTo>
                    <a:lnTo>
                      <a:pt x="0" y="25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: Shape 26"/>
              <p:cNvSpPr/>
              <p:nvPr/>
            </p:nvSpPr>
            <p:spPr>
              <a:xfrm rot="8378400">
                <a:off x="1954080" y="1508040"/>
                <a:ext cx="64800" cy="6192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80594" h="83087">
                    <a:moveTo>
                      <a:pt x="74692" y="399"/>
                    </a:moveTo>
                    <a:lnTo>
                      <a:pt x="77292" y="0"/>
                    </a:lnTo>
                    <a:lnTo>
                      <a:pt x="79093" y="99"/>
                    </a:lnTo>
                    <a:lnTo>
                      <a:pt x="80092" y="797"/>
                    </a:lnTo>
                    <a:lnTo>
                      <a:pt x="80593" y="1892"/>
                    </a:lnTo>
                    <a:lnTo>
                      <a:pt x="80593" y="5279"/>
                    </a:lnTo>
                    <a:lnTo>
                      <a:pt x="80492" y="9165"/>
                    </a:lnTo>
                    <a:lnTo>
                      <a:pt x="72993" y="16039"/>
                    </a:lnTo>
                    <a:lnTo>
                      <a:pt x="65994" y="21917"/>
                    </a:lnTo>
                    <a:lnTo>
                      <a:pt x="52994" y="32776"/>
                    </a:lnTo>
                    <a:lnTo>
                      <a:pt x="40197" y="43735"/>
                    </a:lnTo>
                    <a:lnTo>
                      <a:pt x="33397" y="49911"/>
                    </a:lnTo>
                    <a:lnTo>
                      <a:pt x="26097" y="56985"/>
                    </a:lnTo>
                    <a:lnTo>
                      <a:pt x="0" y="83086"/>
                    </a:lnTo>
                    <a:lnTo>
                      <a:pt x="6999" y="69338"/>
                    </a:lnTo>
                    <a:lnTo>
                      <a:pt x="14999" y="56487"/>
                    </a:lnTo>
                    <a:lnTo>
                      <a:pt x="23797" y="44531"/>
                    </a:lnTo>
                    <a:lnTo>
                      <a:pt x="33297" y="33374"/>
                    </a:lnTo>
                    <a:lnTo>
                      <a:pt x="43295" y="23411"/>
                    </a:lnTo>
                    <a:lnTo>
                      <a:pt x="53595" y="14545"/>
                    </a:lnTo>
                    <a:lnTo>
                      <a:pt x="64094" y="6874"/>
                    </a:lnTo>
                    <a:lnTo>
                      <a:pt x="74692" y="39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: Shape 27"/>
              <p:cNvSpPr/>
              <p:nvPr/>
            </p:nvSpPr>
            <p:spPr>
              <a:xfrm rot="8378400">
                <a:off x="1892520" y="1498680"/>
                <a:ext cx="134280" cy="130320"/>
              </a:xfrm>
              <a:custGeom>
                <a:avLst/>
                <a:gdLst>
                  <a:gd name="textAreaLeft" fmla="*/ 0 w 134280"/>
                  <a:gd name="textAreaRight" fmla="*/ 134280 w 1342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69085" h="179225">
                    <a:moveTo>
                      <a:pt x="107190" y="0"/>
                    </a:moveTo>
                    <a:lnTo>
                      <a:pt x="118588" y="798"/>
                    </a:lnTo>
                    <a:lnTo>
                      <a:pt x="128687" y="2889"/>
                    </a:lnTo>
                    <a:lnTo>
                      <a:pt x="137487" y="6276"/>
                    </a:lnTo>
                    <a:lnTo>
                      <a:pt x="145286" y="10561"/>
                    </a:lnTo>
                    <a:lnTo>
                      <a:pt x="152086" y="15742"/>
                    </a:lnTo>
                    <a:lnTo>
                      <a:pt x="158285" y="21718"/>
                    </a:lnTo>
                    <a:lnTo>
                      <a:pt x="163884" y="28194"/>
                    </a:lnTo>
                    <a:lnTo>
                      <a:pt x="169084" y="35268"/>
                    </a:lnTo>
                    <a:lnTo>
                      <a:pt x="168484" y="43138"/>
                    </a:lnTo>
                    <a:lnTo>
                      <a:pt x="166685" y="50510"/>
                    </a:lnTo>
                    <a:lnTo>
                      <a:pt x="163985" y="57384"/>
                    </a:lnTo>
                    <a:lnTo>
                      <a:pt x="160585" y="63660"/>
                    </a:lnTo>
                    <a:lnTo>
                      <a:pt x="156586" y="69239"/>
                    </a:lnTo>
                    <a:lnTo>
                      <a:pt x="152086" y="74220"/>
                    </a:lnTo>
                    <a:lnTo>
                      <a:pt x="147386" y="78604"/>
                    </a:lnTo>
                    <a:lnTo>
                      <a:pt x="142486" y="82191"/>
                    </a:lnTo>
                    <a:lnTo>
                      <a:pt x="133488" y="88167"/>
                    </a:lnTo>
                    <a:lnTo>
                      <a:pt x="124089" y="93647"/>
                    </a:lnTo>
                    <a:lnTo>
                      <a:pt x="104590" y="103709"/>
                    </a:lnTo>
                    <a:lnTo>
                      <a:pt x="84892" y="113174"/>
                    </a:lnTo>
                    <a:lnTo>
                      <a:pt x="65594" y="122936"/>
                    </a:lnTo>
                    <a:lnTo>
                      <a:pt x="47096" y="133596"/>
                    </a:lnTo>
                    <a:lnTo>
                      <a:pt x="38496" y="139574"/>
                    </a:lnTo>
                    <a:lnTo>
                      <a:pt x="30297" y="146049"/>
                    </a:lnTo>
                    <a:lnTo>
                      <a:pt x="22698" y="153123"/>
                    </a:lnTo>
                    <a:lnTo>
                      <a:pt x="15698" y="160894"/>
                    </a:lnTo>
                    <a:lnTo>
                      <a:pt x="9399" y="169660"/>
                    </a:lnTo>
                    <a:lnTo>
                      <a:pt x="4000" y="179224"/>
                    </a:lnTo>
                    <a:lnTo>
                      <a:pt x="2201" y="171653"/>
                    </a:lnTo>
                    <a:lnTo>
                      <a:pt x="1101" y="164480"/>
                    </a:lnTo>
                    <a:lnTo>
                      <a:pt x="0" y="150832"/>
                    </a:lnTo>
                    <a:lnTo>
                      <a:pt x="900" y="137979"/>
                    </a:lnTo>
                    <a:lnTo>
                      <a:pt x="3200" y="126025"/>
                    </a:lnTo>
                    <a:lnTo>
                      <a:pt x="6900" y="114866"/>
                    </a:lnTo>
                    <a:lnTo>
                      <a:pt x="11899" y="104407"/>
                    </a:lnTo>
                    <a:lnTo>
                      <a:pt x="17998" y="94544"/>
                    </a:lnTo>
                    <a:lnTo>
                      <a:pt x="24998" y="85378"/>
                    </a:lnTo>
                    <a:lnTo>
                      <a:pt x="32697" y="76612"/>
                    </a:lnTo>
                    <a:lnTo>
                      <a:pt x="40896" y="68343"/>
                    </a:lnTo>
                    <a:lnTo>
                      <a:pt x="58394" y="52701"/>
                    </a:lnTo>
                    <a:lnTo>
                      <a:pt x="75993" y="37958"/>
                    </a:lnTo>
                    <a:lnTo>
                      <a:pt x="92491" y="23412"/>
                    </a:lnTo>
                    <a:lnTo>
                      <a:pt x="101790" y="25903"/>
                    </a:lnTo>
                    <a:lnTo>
                      <a:pt x="110190" y="29389"/>
                    </a:lnTo>
                    <a:lnTo>
                      <a:pt x="111089" y="34371"/>
                    </a:lnTo>
                    <a:lnTo>
                      <a:pt x="110789" y="39054"/>
                    </a:lnTo>
                    <a:lnTo>
                      <a:pt x="109589" y="43337"/>
                    </a:lnTo>
                    <a:lnTo>
                      <a:pt x="107890" y="47222"/>
                    </a:lnTo>
                    <a:lnTo>
                      <a:pt x="106390" y="50809"/>
                    </a:lnTo>
                    <a:lnTo>
                      <a:pt x="105391" y="53797"/>
                    </a:lnTo>
                    <a:lnTo>
                      <a:pt x="105490" y="56587"/>
                    </a:lnTo>
                    <a:lnTo>
                      <a:pt x="107190" y="58679"/>
                    </a:lnTo>
                    <a:lnTo>
                      <a:pt x="111089" y="53200"/>
                    </a:lnTo>
                    <a:lnTo>
                      <a:pt x="115490" y="48020"/>
                    </a:lnTo>
                    <a:lnTo>
                      <a:pt x="119489" y="42341"/>
                    </a:lnTo>
                    <a:lnTo>
                      <a:pt x="120989" y="38953"/>
                    </a:lnTo>
                    <a:lnTo>
                      <a:pt x="121889" y="35268"/>
                    </a:lnTo>
                    <a:lnTo>
                      <a:pt x="117589" y="29389"/>
                    </a:lnTo>
                    <a:lnTo>
                      <a:pt x="113789" y="22715"/>
                    </a:lnTo>
                    <a:lnTo>
                      <a:pt x="109690" y="16538"/>
                    </a:lnTo>
                    <a:lnTo>
                      <a:pt x="107190" y="13848"/>
                    </a:lnTo>
                    <a:lnTo>
                      <a:pt x="104190" y="11756"/>
                    </a:lnTo>
                    <a:lnTo>
                      <a:pt x="103790" y="9365"/>
                    </a:lnTo>
                    <a:lnTo>
                      <a:pt x="103790" y="7473"/>
                    </a:lnTo>
                    <a:lnTo>
                      <a:pt x="104590" y="4682"/>
                    </a:lnTo>
                    <a:lnTo>
                      <a:pt x="105990" y="2492"/>
                    </a:lnTo>
                    <a:lnTo>
                      <a:pt x="10719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: Shape 28"/>
              <p:cNvSpPr/>
              <p:nvPr/>
            </p:nvSpPr>
            <p:spPr>
              <a:xfrm rot="8378400">
                <a:off x="1853280" y="1301400"/>
                <a:ext cx="66240" cy="133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83893" h="184803">
                    <a:moveTo>
                      <a:pt x="30797" y="0"/>
                    </a:moveTo>
                    <a:lnTo>
                      <a:pt x="41196" y="14147"/>
                    </a:lnTo>
                    <a:lnTo>
                      <a:pt x="50396" y="28791"/>
                    </a:lnTo>
                    <a:lnTo>
                      <a:pt x="58495" y="44233"/>
                    </a:lnTo>
                    <a:lnTo>
                      <a:pt x="65494" y="60572"/>
                    </a:lnTo>
                    <a:lnTo>
                      <a:pt x="71594" y="78006"/>
                    </a:lnTo>
                    <a:lnTo>
                      <a:pt x="76594" y="96535"/>
                    </a:lnTo>
                    <a:lnTo>
                      <a:pt x="80593" y="116560"/>
                    </a:lnTo>
                    <a:lnTo>
                      <a:pt x="83892" y="138078"/>
                    </a:lnTo>
                    <a:lnTo>
                      <a:pt x="82392" y="142960"/>
                    </a:lnTo>
                    <a:lnTo>
                      <a:pt x="80492" y="147941"/>
                    </a:lnTo>
                    <a:lnTo>
                      <a:pt x="74893" y="157904"/>
                    </a:lnTo>
                    <a:lnTo>
                      <a:pt x="67394" y="167268"/>
                    </a:lnTo>
                    <a:lnTo>
                      <a:pt x="63095" y="171552"/>
                    </a:lnTo>
                    <a:lnTo>
                      <a:pt x="58294" y="175338"/>
                    </a:lnTo>
                    <a:lnTo>
                      <a:pt x="53396" y="178626"/>
                    </a:lnTo>
                    <a:lnTo>
                      <a:pt x="48096" y="181316"/>
                    </a:lnTo>
                    <a:lnTo>
                      <a:pt x="42596" y="183308"/>
                    </a:lnTo>
                    <a:lnTo>
                      <a:pt x="36897" y="184503"/>
                    </a:lnTo>
                    <a:lnTo>
                      <a:pt x="30997" y="184802"/>
                    </a:lnTo>
                    <a:lnTo>
                      <a:pt x="25098" y="184005"/>
                    </a:lnTo>
                    <a:lnTo>
                      <a:pt x="19098" y="182212"/>
                    </a:lnTo>
                    <a:lnTo>
                      <a:pt x="13099" y="179224"/>
                    </a:lnTo>
                    <a:lnTo>
                      <a:pt x="6100" y="168862"/>
                    </a:lnTo>
                    <a:lnTo>
                      <a:pt x="2000" y="158501"/>
                    </a:lnTo>
                    <a:lnTo>
                      <a:pt x="0" y="148042"/>
                    </a:lnTo>
                    <a:lnTo>
                      <a:pt x="100" y="137681"/>
                    </a:lnTo>
                    <a:lnTo>
                      <a:pt x="1801" y="127220"/>
                    </a:lnTo>
                    <a:lnTo>
                      <a:pt x="4800" y="116759"/>
                    </a:lnTo>
                    <a:lnTo>
                      <a:pt x="8699" y="106100"/>
                    </a:lnTo>
                    <a:lnTo>
                      <a:pt x="13299" y="95340"/>
                    </a:lnTo>
                    <a:lnTo>
                      <a:pt x="22898" y="73124"/>
                    </a:lnTo>
                    <a:lnTo>
                      <a:pt x="27198" y="61767"/>
                    </a:lnTo>
                    <a:lnTo>
                      <a:pt x="30898" y="50111"/>
                    </a:lnTo>
                    <a:lnTo>
                      <a:pt x="33297" y="38057"/>
                    </a:lnTo>
                    <a:lnTo>
                      <a:pt x="34397" y="25703"/>
                    </a:lnTo>
                    <a:lnTo>
                      <a:pt x="33697" y="13051"/>
                    </a:lnTo>
                    <a:lnTo>
                      <a:pt x="53195" y="78404"/>
                    </a:lnTo>
                    <a:lnTo>
                      <a:pt x="55694" y="84382"/>
                    </a:lnTo>
                    <a:lnTo>
                      <a:pt x="57795" y="92153"/>
                    </a:lnTo>
                    <a:lnTo>
                      <a:pt x="59494" y="101218"/>
                    </a:lnTo>
                    <a:lnTo>
                      <a:pt x="60395" y="111379"/>
                    </a:lnTo>
                    <a:lnTo>
                      <a:pt x="60294" y="122437"/>
                    </a:lnTo>
                    <a:lnTo>
                      <a:pt x="59094" y="134093"/>
                    </a:lnTo>
                    <a:lnTo>
                      <a:pt x="56595" y="146148"/>
                    </a:lnTo>
                    <a:lnTo>
                      <a:pt x="50996" y="151528"/>
                    </a:lnTo>
                    <a:lnTo>
                      <a:pt x="46496" y="155513"/>
                    </a:lnTo>
                    <a:lnTo>
                      <a:pt x="42696" y="158104"/>
                    </a:lnTo>
                    <a:lnTo>
                      <a:pt x="39596" y="159099"/>
                    </a:lnTo>
                    <a:lnTo>
                      <a:pt x="36897" y="158602"/>
                    </a:lnTo>
                    <a:lnTo>
                      <a:pt x="34597" y="156509"/>
                    </a:lnTo>
                    <a:lnTo>
                      <a:pt x="32297" y="152922"/>
                    </a:lnTo>
                    <a:lnTo>
                      <a:pt x="29997" y="147643"/>
                    </a:lnTo>
                    <a:lnTo>
                      <a:pt x="32197" y="139075"/>
                    </a:lnTo>
                    <a:lnTo>
                      <a:pt x="35197" y="131006"/>
                    </a:lnTo>
                    <a:lnTo>
                      <a:pt x="42196" y="114667"/>
                    </a:lnTo>
                    <a:lnTo>
                      <a:pt x="45496" y="106000"/>
                    </a:lnTo>
                    <a:lnTo>
                      <a:pt x="48195" y="96535"/>
                    </a:lnTo>
                    <a:lnTo>
                      <a:pt x="50095" y="86076"/>
                    </a:lnTo>
                    <a:lnTo>
                      <a:pt x="50696" y="74120"/>
                    </a:lnTo>
                    <a:lnTo>
                      <a:pt x="307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: Shape 29"/>
              <p:cNvSpPr/>
              <p:nvPr/>
            </p:nvSpPr>
            <p:spPr>
              <a:xfrm rot="8378400">
                <a:off x="1853640" y="1312560"/>
                <a:ext cx="52200" cy="954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5995" h="131305">
                    <a:moveTo>
                      <a:pt x="44496" y="13450"/>
                    </a:moveTo>
                    <a:lnTo>
                      <a:pt x="51396" y="27895"/>
                    </a:lnTo>
                    <a:lnTo>
                      <a:pt x="57496" y="43038"/>
                    </a:lnTo>
                    <a:lnTo>
                      <a:pt x="62394" y="58480"/>
                    </a:lnTo>
                    <a:lnTo>
                      <a:pt x="65394" y="73822"/>
                    </a:lnTo>
                    <a:lnTo>
                      <a:pt x="65994" y="81293"/>
                    </a:lnTo>
                    <a:lnTo>
                      <a:pt x="65894" y="88665"/>
                    </a:lnTo>
                    <a:lnTo>
                      <a:pt x="65094" y="95838"/>
                    </a:lnTo>
                    <a:lnTo>
                      <a:pt x="63395" y="102713"/>
                    </a:lnTo>
                    <a:lnTo>
                      <a:pt x="60795" y="109387"/>
                    </a:lnTo>
                    <a:lnTo>
                      <a:pt x="57195" y="115564"/>
                    </a:lnTo>
                    <a:lnTo>
                      <a:pt x="53095" y="120346"/>
                    </a:lnTo>
                    <a:lnTo>
                      <a:pt x="47596" y="124430"/>
                    </a:lnTo>
                    <a:lnTo>
                      <a:pt x="41297" y="127917"/>
                    </a:lnTo>
                    <a:lnTo>
                      <a:pt x="34397" y="130109"/>
                    </a:lnTo>
                    <a:lnTo>
                      <a:pt x="27498" y="131304"/>
                    </a:lnTo>
                    <a:lnTo>
                      <a:pt x="20799" y="131204"/>
                    </a:lnTo>
                    <a:lnTo>
                      <a:pt x="14799" y="129511"/>
                    </a:lnTo>
                    <a:lnTo>
                      <a:pt x="12200" y="128117"/>
                    </a:lnTo>
                    <a:lnTo>
                      <a:pt x="9799" y="126223"/>
                    </a:lnTo>
                    <a:lnTo>
                      <a:pt x="5000" y="120047"/>
                    </a:lnTo>
                    <a:lnTo>
                      <a:pt x="1900" y="113173"/>
                    </a:lnTo>
                    <a:lnTo>
                      <a:pt x="300" y="105701"/>
                    </a:lnTo>
                    <a:lnTo>
                      <a:pt x="0" y="97732"/>
                    </a:lnTo>
                    <a:lnTo>
                      <a:pt x="901" y="89163"/>
                    </a:lnTo>
                    <a:lnTo>
                      <a:pt x="2800" y="80497"/>
                    </a:lnTo>
                    <a:lnTo>
                      <a:pt x="5499" y="71430"/>
                    </a:lnTo>
                    <a:lnTo>
                      <a:pt x="8899" y="62464"/>
                    </a:lnTo>
                    <a:lnTo>
                      <a:pt x="16798" y="44433"/>
                    </a:lnTo>
                    <a:lnTo>
                      <a:pt x="25198" y="27497"/>
                    </a:lnTo>
                    <a:lnTo>
                      <a:pt x="29097" y="19627"/>
                    </a:lnTo>
                    <a:lnTo>
                      <a:pt x="32597" y="12354"/>
                    </a:lnTo>
                    <a:lnTo>
                      <a:pt x="35497" y="5779"/>
                    </a:lnTo>
                    <a:lnTo>
                      <a:pt x="37597" y="0"/>
                    </a:lnTo>
                    <a:lnTo>
                      <a:pt x="44496" y="1345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: Shape 30"/>
              <p:cNvSpPr/>
              <p:nvPr/>
            </p:nvSpPr>
            <p:spPr>
              <a:xfrm rot="8378400">
                <a:off x="1864440" y="1299960"/>
                <a:ext cx="18720" cy="554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25199" h="77010">
                    <a:moveTo>
                      <a:pt x="19299" y="8469"/>
                    </a:moveTo>
                    <a:lnTo>
                      <a:pt x="20698" y="15940"/>
                    </a:lnTo>
                    <a:lnTo>
                      <a:pt x="21899" y="22615"/>
                    </a:lnTo>
                    <a:lnTo>
                      <a:pt x="22998" y="28592"/>
                    </a:lnTo>
                    <a:lnTo>
                      <a:pt x="23798" y="33873"/>
                    </a:lnTo>
                    <a:lnTo>
                      <a:pt x="24498" y="38654"/>
                    </a:lnTo>
                    <a:lnTo>
                      <a:pt x="25198" y="46724"/>
                    </a:lnTo>
                    <a:lnTo>
                      <a:pt x="24798" y="53598"/>
                    </a:lnTo>
                    <a:lnTo>
                      <a:pt x="23298" y="59875"/>
                    </a:lnTo>
                    <a:lnTo>
                      <a:pt x="20498" y="66250"/>
                    </a:lnTo>
                    <a:lnTo>
                      <a:pt x="16199" y="73224"/>
                    </a:lnTo>
                    <a:lnTo>
                      <a:pt x="14699" y="75017"/>
                    </a:lnTo>
                    <a:lnTo>
                      <a:pt x="12799" y="76411"/>
                    </a:lnTo>
                    <a:lnTo>
                      <a:pt x="10700" y="77009"/>
                    </a:lnTo>
                    <a:lnTo>
                      <a:pt x="8899" y="76512"/>
                    </a:lnTo>
                    <a:lnTo>
                      <a:pt x="5499" y="73522"/>
                    </a:lnTo>
                    <a:lnTo>
                      <a:pt x="2899" y="70036"/>
                    </a:lnTo>
                    <a:lnTo>
                      <a:pt x="1200" y="66349"/>
                    </a:lnTo>
                    <a:lnTo>
                      <a:pt x="300" y="62265"/>
                    </a:lnTo>
                    <a:lnTo>
                      <a:pt x="0" y="57782"/>
                    </a:lnTo>
                    <a:lnTo>
                      <a:pt x="201" y="53200"/>
                    </a:lnTo>
                    <a:lnTo>
                      <a:pt x="2200" y="43236"/>
                    </a:lnTo>
                    <a:lnTo>
                      <a:pt x="5599" y="32777"/>
                    </a:lnTo>
                    <a:lnTo>
                      <a:pt x="9699" y="21918"/>
                    </a:lnTo>
                    <a:lnTo>
                      <a:pt x="13999" y="10859"/>
                    </a:lnTo>
                    <a:lnTo>
                      <a:pt x="17799" y="0"/>
                    </a:lnTo>
                    <a:lnTo>
                      <a:pt x="19299" y="846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: Shape 1"/>
          <p:cNvSpPr/>
          <p:nvPr/>
        </p:nvSpPr>
        <p:spPr>
          <a:xfrm>
            <a:off x="1028880" y="8597880"/>
            <a:ext cx="2012760" cy="2013120"/>
          </a:xfrm>
          <a:custGeom>
            <a:avLst/>
            <a:gdLst>
              <a:gd name="textAreaLeft" fmla="*/ 0 w 2012760"/>
              <a:gd name="textAreaRight" fmla="*/ 2013120 w 2012760"/>
              <a:gd name="textAreaTop" fmla="*/ 0 h 2013120"/>
              <a:gd name="textAreaBottom" fmla="*/ 2013480 h 2013120"/>
            </a:gdLst>
            <a:ahLst/>
            <a:rect l="textAreaLeft" t="textAreaTop" r="textAreaRight" b="textAreaBottom"/>
            <a:pathLst>
              <a:path w="2013752" h="2013752">
                <a:moveTo>
                  <a:pt x="0" y="0"/>
                </a:moveTo>
                <a:lnTo>
                  <a:pt x="2013751" y="0"/>
                </a:lnTo>
                <a:lnTo>
                  <a:pt x="2013751" y="2013751"/>
                </a:lnTo>
                <a:lnTo>
                  <a:pt x="0" y="2013751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: Shape 2"/>
          <p:cNvSpPr/>
          <p:nvPr/>
        </p:nvSpPr>
        <p:spPr>
          <a:xfrm>
            <a:off x="511200" y="8731080"/>
            <a:ext cx="2016000" cy="17719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2016050" h="1771923">
                <a:moveTo>
                  <a:pt x="1008193" y="0"/>
                </a:moveTo>
                <a:lnTo>
                  <a:pt x="2016049" y="1771922"/>
                </a:lnTo>
                <a:lnTo>
                  <a:pt x="0" y="1771922"/>
                </a:lnTo>
                <a:lnTo>
                  <a:pt x="1008193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: Shape 3"/>
          <p:cNvSpPr/>
          <p:nvPr/>
        </p:nvSpPr>
        <p:spPr>
          <a:xfrm rot="5400000">
            <a:off x="5780520" y="7860240"/>
            <a:ext cx="2117880" cy="354816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3548160"/>
              <a:gd name="textAreaBottom" fmla="*/ 3548520 h 3548160"/>
            </a:gdLst>
            <a:ahLst/>
            <a:rect l="textAreaLeft" t="textAreaTop" r="textAreaRight" b="textAreaBottom"/>
            <a:pathLst>
              <a:path w="2117227" h="3547762">
                <a:moveTo>
                  <a:pt x="0" y="0"/>
                </a:moveTo>
                <a:lnTo>
                  <a:pt x="2117226" y="0"/>
                </a:lnTo>
                <a:lnTo>
                  <a:pt x="2117226" y="3547761"/>
                </a:lnTo>
                <a:lnTo>
                  <a:pt x="0" y="3547761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8577360" y="9315360"/>
            <a:ext cx="1382760" cy="138456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3757680" y="9174240"/>
            <a:ext cx="1338120" cy="13381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: Shape 6"/>
          <p:cNvSpPr/>
          <p:nvPr/>
        </p:nvSpPr>
        <p:spPr>
          <a:xfrm>
            <a:off x="3276720" y="9550440"/>
            <a:ext cx="1041120" cy="1041480"/>
          </a:xfrm>
          <a:custGeom>
            <a:avLst/>
            <a:gdLst>
              <a:gd name="textAreaLeft" fmla="*/ 0 w 1041120"/>
              <a:gd name="textAreaRight" fmla="*/ 1041480 w 10411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30240" y="139680"/>
            <a:ext cx="1812960" cy="2041560"/>
            <a:chOff x="30240" y="139680"/>
            <a:chExt cx="1812960" cy="2041560"/>
          </a:xfrm>
        </p:grpSpPr>
        <p:pic>
          <p:nvPicPr>
            <p:cNvPr id="160" name="Picture 8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146160" y="139680"/>
              <a:ext cx="169704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Oval 9"/>
            <p:cNvSpPr/>
            <p:nvPr/>
          </p:nvSpPr>
          <p:spPr>
            <a:xfrm>
              <a:off x="153720" y="704880"/>
              <a:ext cx="309600" cy="2998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: Shape 10"/>
            <p:cNvSpPr/>
            <p:nvPr/>
          </p:nvSpPr>
          <p:spPr>
            <a:xfrm>
              <a:off x="66600" y="141120"/>
              <a:ext cx="361800" cy="276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43408" h="191765">
                  <a:moveTo>
                    <a:pt x="121723" y="0"/>
                  </a:moveTo>
                  <a:lnTo>
                    <a:pt x="243407" y="191764"/>
                  </a:lnTo>
                  <a:lnTo>
                    <a:pt x="0" y="191764"/>
                  </a:lnTo>
                  <a:lnTo>
                    <a:pt x="121723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: Shape 11"/>
            <p:cNvSpPr/>
            <p:nvPr/>
          </p:nvSpPr>
          <p:spPr>
            <a:xfrm rot="20179200">
              <a:off x="72720" y="470880"/>
              <a:ext cx="284040" cy="2714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89482" h="189480">
                  <a:moveTo>
                    <a:pt x="0" y="0"/>
                  </a:moveTo>
                  <a:lnTo>
                    <a:pt x="189481" y="0"/>
                  </a:lnTo>
                  <a:lnTo>
                    <a:pt x="189481" y="189479"/>
                  </a:lnTo>
                  <a:lnTo>
                    <a:pt x="0" y="1894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: Shape 12"/>
            <p:cNvSpPr/>
            <p:nvPr/>
          </p:nvSpPr>
          <p:spPr>
            <a:xfrm rot="1774800">
              <a:off x="451800" y="287280"/>
              <a:ext cx="266760" cy="6174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179843" h="430977">
                  <a:moveTo>
                    <a:pt x="0" y="0"/>
                  </a:moveTo>
                  <a:lnTo>
                    <a:pt x="179842" y="0"/>
                  </a:lnTo>
                  <a:lnTo>
                    <a:pt x="179842" y="430976"/>
                  </a:lnTo>
                  <a:lnTo>
                    <a:pt x="0" y="4309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Oval 15"/>
          <p:cNvSpPr/>
          <p:nvPr/>
        </p:nvSpPr>
        <p:spPr>
          <a:xfrm rot="5400000">
            <a:off x="2208240" y="8153280"/>
            <a:ext cx="1223640" cy="195408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: Shape 16"/>
          <p:cNvSpPr/>
          <p:nvPr/>
        </p:nvSpPr>
        <p:spPr>
          <a:xfrm>
            <a:off x="4381560" y="8521560"/>
            <a:ext cx="1041480" cy="104148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2162160" y="210960"/>
            <a:ext cx="808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Follow the instructions which your teacher will tell you in German! The teacher will find the instructions below (when not in presentation mode).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Describe the picture. What can you see?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Check on the next sl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8"/>
          <p:cNvSpPr/>
          <p:nvPr/>
        </p:nvSpPr>
        <p:spPr>
          <a:xfrm>
            <a:off x="22320" y="7732800"/>
            <a:ext cx="1147680" cy="11491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9"/>
          <p:cNvSpPr/>
          <p:nvPr/>
        </p:nvSpPr>
        <p:spPr>
          <a:xfrm rot="5400000">
            <a:off x="8988480" y="8146800"/>
            <a:ext cx="860400" cy="147024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7"/>
          <p:cNvGrpSpPr/>
          <p:nvPr/>
        </p:nvGrpSpPr>
        <p:grpSpPr>
          <a:xfrm>
            <a:off x="94320" y="203040"/>
            <a:ext cx="1312200" cy="1536840"/>
            <a:chOff x="94320" y="203040"/>
            <a:chExt cx="1312200" cy="1536840"/>
          </a:xfrm>
        </p:grpSpPr>
        <p:pic>
          <p:nvPicPr>
            <p:cNvPr id="171" name="Picture 2" descr=""/>
            <p:cNvPicPr/>
            <p:nvPr/>
          </p:nvPicPr>
          <p:blipFill>
            <a:blip r:embed="rId1">
              <a:alphaModFix amt="0"/>
            </a:blip>
            <a:stretch/>
          </p:blipFill>
          <p:spPr>
            <a:xfrm>
              <a:off x="178200" y="203040"/>
              <a:ext cx="122832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Oval 3"/>
            <p:cNvSpPr/>
            <p:nvPr/>
          </p:nvSpPr>
          <p:spPr>
            <a:xfrm>
              <a:off x="182520" y="628560"/>
              <a:ext cx="225360" cy="2253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: Shape 4"/>
            <p:cNvSpPr/>
            <p:nvPr/>
          </p:nvSpPr>
          <p:spPr>
            <a:xfrm>
              <a:off x="120600" y="204480"/>
              <a:ext cx="261720" cy="2077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262710" h="206973">
                  <a:moveTo>
                    <a:pt x="131375" y="0"/>
                  </a:moveTo>
                  <a:lnTo>
                    <a:pt x="262709" y="206972"/>
                  </a:lnTo>
                  <a:lnTo>
                    <a:pt x="0" y="206972"/>
                  </a:lnTo>
                  <a:lnTo>
                    <a:pt x="131375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: Shape 5"/>
            <p:cNvSpPr/>
            <p:nvPr/>
          </p:nvSpPr>
          <p:spPr>
            <a:xfrm rot="20179200">
              <a:off x="126720" y="451800"/>
              <a:ext cx="203040" cy="2048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04510" h="204507">
                  <a:moveTo>
                    <a:pt x="0" y="0"/>
                  </a:moveTo>
                  <a:lnTo>
                    <a:pt x="204509" y="0"/>
                  </a:lnTo>
                  <a:lnTo>
                    <a:pt x="204509" y="204506"/>
                  </a:lnTo>
                  <a:lnTo>
                    <a:pt x="0" y="2045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: Shape 6"/>
            <p:cNvSpPr/>
            <p:nvPr/>
          </p:nvSpPr>
          <p:spPr>
            <a:xfrm rot="1774800">
              <a:off x="397800" y="313560"/>
              <a:ext cx="195120" cy="4651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94107" h="465155">
                  <a:moveTo>
                    <a:pt x="0" y="0"/>
                  </a:moveTo>
                  <a:lnTo>
                    <a:pt x="194106" y="0"/>
                  </a:lnTo>
                  <a:lnTo>
                    <a:pt x="194106" y="465154"/>
                  </a:lnTo>
                  <a:lnTo>
                    <a:pt x="0" y="465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Freeform: Shape 8"/>
          <p:cNvSpPr/>
          <p:nvPr/>
        </p:nvSpPr>
        <p:spPr>
          <a:xfrm>
            <a:off x="6603840" y="4287960"/>
            <a:ext cx="2013120" cy="2012760"/>
          </a:xfrm>
          <a:custGeom>
            <a:avLst/>
            <a:gdLst>
              <a:gd name="textAreaLeft" fmla="*/ 0 w 2013120"/>
              <a:gd name="textAreaRight" fmla="*/ 2013480 w 2013120"/>
              <a:gd name="textAreaTop" fmla="*/ 0 h 2012760"/>
              <a:gd name="textAreaBottom" fmla="*/ 2013120 h 2012760"/>
            </a:gdLst>
            <a:ahLst/>
            <a:rect l="textAreaLeft" t="textAreaTop" r="textAreaRight" b="textAreaBottom"/>
            <a:pathLst>
              <a:path w="2013753" h="2013752">
                <a:moveTo>
                  <a:pt x="0" y="0"/>
                </a:moveTo>
                <a:lnTo>
                  <a:pt x="2013752" y="0"/>
                </a:lnTo>
                <a:lnTo>
                  <a:pt x="2013752" y="2013751"/>
                </a:lnTo>
                <a:lnTo>
                  <a:pt x="0" y="2013751"/>
                </a:lnTo>
                <a:lnTo>
                  <a:pt x="0" y="0"/>
                </a:lnTo>
                <a:close/>
              </a:path>
            </a:pathLst>
          </a:custGeom>
          <a:solidFill>
            <a:srgbClr val="ffc0c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: Shape 9"/>
          <p:cNvSpPr/>
          <p:nvPr/>
        </p:nvSpPr>
        <p:spPr>
          <a:xfrm>
            <a:off x="6607080" y="2516040"/>
            <a:ext cx="2016360" cy="177192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1771920"/>
              <a:gd name="textAreaBottom" fmla="*/ 1772280 h 1771920"/>
            </a:gdLst>
            <a:ahLst/>
            <a:rect l="textAreaLeft" t="textAreaTop" r="textAreaRight" b="textAreaBottom"/>
            <a:pathLst>
              <a:path w="2016050" h="1771923">
                <a:moveTo>
                  <a:pt x="1008193" y="0"/>
                </a:moveTo>
                <a:lnTo>
                  <a:pt x="2016049" y="1771922"/>
                </a:lnTo>
                <a:lnTo>
                  <a:pt x="0" y="1771922"/>
                </a:lnTo>
                <a:lnTo>
                  <a:pt x="1008193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val 10"/>
          <p:cNvSpPr/>
          <p:nvPr/>
        </p:nvSpPr>
        <p:spPr>
          <a:xfrm>
            <a:off x="7427880" y="1181160"/>
            <a:ext cx="1147680" cy="11491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: Shape 11"/>
          <p:cNvSpPr/>
          <p:nvPr/>
        </p:nvSpPr>
        <p:spPr>
          <a:xfrm rot="5400000">
            <a:off x="2567520" y="2153160"/>
            <a:ext cx="2117880" cy="354816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3548160"/>
              <a:gd name="textAreaBottom" fmla="*/ 3548520 h 3548160"/>
            </a:gdLst>
            <a:ahLst/>
            <a:rect l="textAreaLeft" t="textAreaTop" r="textAreaRight" b="textAreaBottom"/>
            <a:pathLst>
              <a:path w="2117229" h="3547761">
                <a:moveTo>
                  <a:pt x="0" y="0"/>
                </a:moveTo>
                <a:lnTo>
                  <a:pt x="2117228" y="0"/>
                </a:lnTo>
                <a:lnTo>
                  <a:pt x="2117228" y="3547760"/>
                </a:lnTo>
                <a:lnTo>
                  <a:pt x="0" y="3547760"/>
                </a:lnTo>
                <a:lnTo>
                  <a:pt x="0" y="0"/>
                </a:lnTo>
                <a:close/>
              </a:path>
            </a:pathLst>
          </a:custGeom>
          <a:solidFill>
            <a:srgbClr val="800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Oval 12"/>
          <p:cNvSpPr/>
          <p:nvPr/>
        </p:nvSpPr>
        <p:spPr>
          <a:xfrm>
            <a:off x="4430880" y="4952880"/>
            <a:ext cx="1382400" cy="1384560"/>
          </a:xfrm>
          <a:prstGeom prst="ellipse">
            <a:avLst/>
          </a:prstGeom>
          <a:solidFill>
            <a:srgbClr val="7b7b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1496880" y="4965840"/>
            <a:ext cx="1338480" cy="13381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: Shape 14"/>
          <p:cNvSpPr/>
          <p:nvPr/>
        </p:nvSpPr>
        <p:spPr>
          <a:xfrm>
            <a:off x="2273400" y="3284640"/>
            <a:ext cx="1041480" cy="104112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15"/>
          <p:cNvSpPr/>
          <p:nvPr/>
        </p:nvSpPr>
        <p:spPr>
          <a:xfrm rot="5400000">
            <a:off x="4545000" y="972720"/>
            <a:ext cx="1224000" cy="195408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: Shape 16"/>
          <p:cNvSpPr/>
          <p:nvPr/>
        </p:nvSpPr>
        <p:spPr>
          <a:xfrm>
            <a:off x="1463760" y="1109520"/>
            <a:ext cx="7184880" cy="5222880"/>
          </a:xfrm>
          <a:custGeom>
            <a:avLst/>
            <a:gdLst>
              <a:gd name="textAreaLeft" fmla="*/ 0 w 7184880"/>
              <a:gd name="textAreaRight" fmla="*/ 7185240 w 7184880"/>
              <a:gd name="textAreaTop" fmla="*/ 0 h 5222880"/>
              <a:gd name="textAreaBottom" fmla="*/ 5223240 h 5222880"/>
            </a:gdLst>
            <a:ahLst/>
            <a:rect l="textAreaLeft" t="textAreaTop" r="textAreaRight" b="textAreaBottom"/>
            <a:pathLst>
              <a:path w="7184711" h="5223504">
                <a:moveTo>
                  <a:pt x="0" y="0"/>
                </a:moveTo>
                <a:lnTo>
                  <a:pt x="7184710" y="0"/>
                </a:lnTo>
                <a:lnTo>
                  <a:pt x="7184710" y="5223503"/>
                </a:lnTo>
                <a:lnTo>
                  <a:pt x="0" y="5223503"/>
                </a:lnTo>
                <a:lnTo>
                  <a:pt x="0" y="0"/>
                </a:lnTo>
                <a:close/>
              </a:path>
            </a:pathLst>
          </a:custGeom>
          <a:solidFill>
            <a:srgbClr val="4472c4">
              <a:alpha val="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17"/>
          <p:cNvSpPr/>
          <p:nvPr/>
        </p:nvSpPr>
        <p:spPr>
          <a:xfrm>
            <a:off x="8648640" y="1195560"/>
            <a:ext cx="360" cy="4752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18"/>
          <p:cNvSpPr/>
          <p:nvPr/>
        </p:nvSpPr>
        <p:spPr>
          <a:xfrm rot="5400000">
            <a:off x="2004840" y="934560"/>
            <a:ext cx="1223640" cy="1954440"/>
          </a:xfrm>
          <a:prstGeom prst="ellipse">
            <a:avLst/>
          </a:prstGeom>
          <a:solidFill>
            <a:srgbClr val="afee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: Shape 19"/>
          <p:cNvSpPr/>
          <p:nvPr/>
        </p:nvSpPr>
        <p:spPr>
          <a:xfrm>
            <a:off x="3860640" y="3284640"/>
            <a:ext cx="1041480" cy="104112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41120"/>
              <a:gd name="textAreaBottom" fmla="*/ 1041480 h 1041120"/>
            </a:gdLst>
            <a:ahLst/>
            <a:rect l="textAreaLeft" t="textAreaTop" r="textAreaRight" b="textAreaBottom"/>
            <a:pathLst>
              <a:path w="1041137" h="1041137">
                <a:moveTo>
                  <a:pt x="0" y="0"/>
                </a:moveTo>
                <a:lnTo>
                  <a:pt x="1041136" y="0"/>
                </a:lnTo>
                <a:lnTo>
                  <a:pt x="1041136" y="1041136"/>
                </a:lnTo>
                <a:lnTo>
                  <a:pt x="0" y="10411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09760" y="120600"/>
            <a:ext cx="8623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Did you get it right? Use the shapes and create another picture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Verdana"/>
                <a:ea typeface="Verdana"/>
              </a:rPr>
              <a:t>Use the pens and draw what you need! Speak while you create your picture! </a:t>
            </a:r>
            <a:r>
              <a:rPr b="1" i="1" lang="de-DE" sz="1300" spc="-1" strike="noStrike">
                <a:solidFill>
                  <a:srgbClr val="000000"/>
                </a:solidFill>
                <a:latin typeface="Verdana"/>
                <a:ea typeface="Verdana"/>
              </a:rPr>
              <a:t>Ich schiebe das braune Oval in die Mitte. Ich male zwei rote Rechtecke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: Shape 21"/>
          <p:cNvSpPr/>
          <p:nvPr/>
        </p:nvSpPr>
        <p:spPr>
          <a:xfrm>
            <a:off x="141120" y="6059520"/>
            <a:ext cx="1044720" cy="9064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44605" h="906222">
                <a:moveTo>
                  <a:pt x="522388" y="0"/>
                </a:moveTo>
                <a:lnTo>
                  <a:pt x="1044604" y="906221"/>
                </a:lnTo>
                <a:lnTo>
                  <a:pt x="0" y="906221"/>
                </a:lnTo>
                <a:lnTo>
                  <a:pt x="522388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: Shape 22"/>
          <p:cNvSpPr/>
          <p:nvPr/>
        </p:nvSpPr>
        <p:spPr>
          <a:xfrm rot="1573200">
            <a:off x="2830680" y="6540480"/>
            <a:ext cx="738000" cy="1327320"/>
          </a:xfrm>
          <a:custGeom>
            <a:avLst/>
            <a:gdLst>
              <a:gd name="textAreaLeft" fmla="*/ 0 w 738000"/>
              <a:gd name="textAreaRight" fmla="*/ 738360 w 7380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738127" h="1327441">
                <a:moveTo>
                  <a:pt x="0" y="0"/>
                </a:moveTo>
                <a:lnTo>
                  <a:pt x="738126" y="0"/>
                </a:lnTo>
                <a:lnTo>
                  <a:pt x="738126" y="1327440"/>
                </a:lnTo>
                <a:lnTo>
                  <a:pt x="0" y="1327440"/>
                </a:lnTo>
                <a:lnTo>
                  <a:pt x="0" y="0"/>
                </a:lnTo>
                <a:close/>
              </a:path>
            </a:pathLst>
          </a:custGeom>
          <a:solidFill>
            <a:srgbClr val="ff682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: Shape 23"/>
          <p:cNvSpPr/>
          <p:nvPr/>
        </p:nvSpPr>
        <p:spPr>
          <a:xfrm rot="5400000">
            <a:off x="4973760" y="6401520"/>
            <a:ext cx="1054080" cy="183996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1839960"/>
              <a:gd name="textAreaBottom" fmla="*/ 1840320 h 1839960"/>
            </a:gdLst>
            <a:ahLst/>
            <a:rect l="textAreaLeft" t="textAreaTop" r="textAreaRight" b="textAreaBottom"/>
            <a:pathLst>
              <a:path w="1054225" h="1838452">
                <a:moveTo>
                  <a:pt x="0" y="0"/>
                </a:moveTo>
                <a:lnTo>
                  <a:pt x="1054224" y="0"/>
                </a:lnTo>
                <a:lnTo>
                  <a:pt x="1054224" y="1838451"/>
                </a:lnTo>
                <a:lnTo>
                  <a:pt x="0" y="1838451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val 24"/>
          <p:cNvSpPr/>
          <p:nvPr/>
        </p:nvSpPr>
        <p:spPr>
          <a:xfrm>
            <a:off x="8693280" y="5940360"/>
            <a:ext cx="1295280" cy="2063880"/>
          </a:xfrm>
          <a:prstGeom prst="ellipse">
            <a:avLst/>
          </a:prstGeom>
          <a:solidFill>
            <a:srgbClr val="a52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: Shape 25"/>
          <p:cNvSpPr/>
          <p:nvPr/>
        </p:nvSpPr>
        <p:spPr>
          <a:xfrm rot="17995200">
            <a:off x="6889680" y="6697440"/>
            <a:ext cx="1227240" cy="10681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1226293" h="1067747">
                <a:moveTo>
                  <a:pt x="613248" y="0"/>
                </a:moveTo>
                <a:lnTo>
                  <a:pt x="1226292" y="1067746"/>
                </a:lnTo>
                <a:lnTo>
                  <a:pt x="0" y="1067746"/>
                </a:lnTo>
                <a:lnTo>
                  <a:pt x="613248" y="0"/>
                </a:lnTo>
                <a:close/>
              </a:path>
            </a:pathLst>
          </a:custGeom>
          <a:solidFill>
            <a:srgbClr val="005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: Shape 26"/>
          <p:cNvSpPr/>
          <p:nvPr/>
        </p:nvSpPr>
        <p:spPr>
          <a:xfrm rot="2674800">
            <a:off x="1011240" y="6632640"/>
            <a:ext cx="1523880" cy="13334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333440"/>
              <a:gd name="textAreaBottom" fmla="*/ 1333800 h 1333440"/>
            </a:gdLst>
            <a:ahLst/>
            <a:rect l="textAreaLeft" t="textAreaTop" r="textAreaRight" b="textAreaBottom"/>
            <a:pathLst>
              <a:path w="1523959" h="1333223">
                <a:moveTo>
                  <a:pt x="762105" y="0"/>
                </a:moveTo>
                <a:lnTo>
                  <a:pt x="1523958" y="1333222"/>
                </a:lnTo>
                <a:lnTo>
                  <a:pt x="0" y="1333222"/>
                </a:lnTo>
                <a:lnTo>
                  <a:pt x="762105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: Shape 27"/>
          <p:cNvSpPr/>
          <p:nvPr/>
        </p:nvSpPr>
        <p:spPr>
          <a:xfrm>
            <a:off x="8929800" y="4470480"/>
            <a:ext cx="1000080" cy="100008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000052" h="1000053">
                <a:moveTo>
                  <a:pt x="0" y="0"/>
                </a:moveTo>
                <a:lnTo>
                  <a:pt x="1000051" y="0"/>
                </a:lnTo>
                <a:lnTo>
                  <a:pt x="1000051" y="1000052"/>
                </a:lnTo>
                <a:lnTo>
                  <a:pt x="0" y="100005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28"/>
          <p:cNvSpPr/>
          <p:nvPr/>
        </p:nvSpPr>
        <p:spPr>
          <a:xfrm>
            <a:off x="196920" y="4657680"/>
            <a:ext cx="1020600" cy="1020960"/>
          </a:xfrm>
          <a:prstGeom prst="ellipse">
            <a:avLst/>
          </a:prstGeom>
          <a:solidFill>
            <a:srgbClr val="4472c4">
              <a:alpha val="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: Shape 29"/>
          <p:cNvSpPr/>
          <p:nvPr/>
        </p:nvSpPr>
        <p:spPr>
          <a:xfrm>
            <a:off x="166680" y="3376440"/>
            <a:ext cx="1023840" cy="102420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24200"/>
              <a:gd name="textAreaBottom" fmla="*/ 1024560 h 1024200"/>
            </a:gdLst>
            <a:ahLst/>
            <a:rect l="textAreaLeft" t="textAreaTop" r="textAreaRight" b="textAreaBottom"/>
            <a:pathLst>
              <a:path w="1023655" h="1023655">
                <a:moveTo>
                  <a:pt x="0" y="0"/>
                </a:moveTo>
                <a:lnTo>
                  <a:pt x="1023654" y="0"/>
                </a:lnTo>
                <a:lnTo>
                  <a:pt x="1023654" y="1023654"/>
                </a:lnTo>
                <a:lnTo>
                  <a:pt x="0" y="1023654"/>
                </a:lnTo>
                <a:lnTo>
                  <a:pt x="0" y="0"/>
                </a:lnTo>
                <a:close/>
              </a:path>
            </a:pathLst>
          </a:custGeom>
          <a:solidFill>
            <a:srgbClr val="4472c4">
              <a:alpha val="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b7bc0"/>
            </a:gs>
            <a:gs pos="100000">
              <a:srgbClr val="ffff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0" y="0"/>
            <a:ext cx="78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5960" y="9158400"/>
            <a:ext cx="5237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Biografie von Franz Marc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7813800" y="851544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Name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5095800" y="779940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Franz Mar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7585200" y="7773840"/>
            <a:ext cx="21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Geboren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3152880" y="10339560"/>
            <a:ext cx="648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8. Februar 1880 in München, Deutsch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2301840" y="767232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Ausbildung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345960" y="8294760"/>
            <a:ext cx="98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Er studierte an der Akademie der Bildenenden Künste in Münch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2187720" y="8713800"/>
            <a:ext cx="16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Beruf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7165800" y="9577440"/>
            <a:ext cx="267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Künstler, Mal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345960" y="7684920"/>
            <a:ext cx="230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Verdienst: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345960" y="9844200"/>
            <a:ext cx="699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Er war Mitglied der Gruppe ‘Der Blaue Reiter’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5172120" y="9145440"/>
            <a:ext cx="23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  <a:ea typeface="Verdana"/>
              </a:rPr>
              <a:t>Gestorbe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345960" y="7151760"/>
            <a:ext cx="99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Verdana"/>
              </a:rPr>
              <a:t>4. März 1916 in Verdun, Frankreich während des Ersten Weltkrie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Group 36"/>
          <p:cNvGrpSpPr/>
          <p:nvPr/>
        </p:nvGrpSpPr>
        <p:grpSpPr>
          <a:xfrm>
            <a:off x="5727600" y="222120"/>
            <a:ext cx="4333320" cy="3495600"/>
            <a:chOff x="5727600" y="222120"/>
            <a:chExt cx="4333320" cy="3495600"/>
          </a:xfrm>
        </p:grpSpPr>
        <p:grpSp>
          <p:nvGrpSpPr>
            <p:cNvPr id="213" name="Group 32"/>
            <p:cNvGrpSpPr/>
            <p:nvPr/>
          </p:nvGrpSpPr>
          <p:grpSpPr>
            <a:xfrm>
              <a:off x="7890120" y="1215360"/>
              <a:ext cx="2170800" cy="2502360"/>
              <a:chOff x="7890120" y="1215360"/>
              <a:chExt cx="2170800" cy="2502360"/>
            </a:xfrm>
          </p:grpSpPr>
          <p:pic>
            <p:nvPicPr>
              <p:cNvPr id="214" name="Picture 16" descr=""/>
              <p:cNvPicPr/>
              <p:nvPr/>
            </p:nvPicPr>
            <p:blipFill>
              <a:blip r:embed="rId1">
                <a:alphaModFix amt="0"/>
              </a:blip>
              <a:stretch/>
            </p:blipFill>
            <p:spPr>
              <a:xfrm rot="274200">
                <a:off x="7972920" y="1479600"/>
                <a:ext cx="1906200" cy="2165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5" name="Group 31"/>
              <p:cNvGrpSpPr/>
              <p:nvPr/>
            </p:nvGrpSpPr>
            <p:grpSpPr>
              <a:xfrm>
                <a:off x="9271800" y="1215360"/>
                <a:ext cx="789120" cy="762480"/>
                <a:chOff x="9271800" y="1215360"/>
                <a:chExt cx="789120" cy="762480"/>
              </a:xfrm>
            </p:grpSpPr>
            <p:sp>
              <p:nvSpPr>
                <p:cNvPr id="216" name="Freeform: Shape 17"/>
                <p:cNvSpPr/>
                <p:nvPr/>
              </p:nvSpPr>
              <p:spPr>
                <a:xfrm rot="10201200">
                  <a:off x="9856440" y="1372320"/>
                  <a:ext cx="119160" cy="13176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139882" h="162043">
                      <a:moveTo>
                        <a:pt x="11375" y="156898"/>
                      </a:moveTo>
                      <a:lnTo>
                        <a:pt x="8563" y="151561"/>
                      </a:lnTo>
                      <a:lnTo>
                        <a:pt x="6145" y="146092"/>
                      </a:lnTo>
                      <a:lnTo>
                        <a:pt x="4119" y="140493"/>
                      </a:lnTo>
                      <a:lnTo>
                        <a:pt x="2549" y="134699"/>
                      </a:lnTo>
                      <a:lnTo>
                        <a:pt x="1309" y="128839"/>
                      </a:lnTo>
                      <a:lnTo>
                        <a:pt x="0" y="116860"/>
                      </a:lnTo>
                      <a:lnTo>
                        <a:pt x="196" y="104686"/>
                      </a:lnTo>
                      <a:lnTo>
                        <a:pt x="1830" y="92447"/>
                      </a:lnTo>
                      <a:lnTo>
                        <a:pt x="4902" y="80273"/>
                      </a:lnTo>
                      <a:lnTo>
                        <a:pt x="9348" y="68424"/>
                      </a:lnTo>
                      <a:lnTo>
                        <a:pt x="15035" y="56966"/>
                      </a:lnTo>
                      <a:lnTo>
                        <a:pt x="21963" y="46029"/>
                      </a:lnTo>
                      <a:lnTo>
                        <a:pt x="30199" y="35873"/>
                      </a:lnTo>
                      <a:lnTo>
                        <a:pt x="34710" y="31055"/>
                      </a:lnTo>
                      <a:lnTo>
                        <a:pt x="39546" y="26497"/>
                      </a:lnTo>
                      <a:lnTo>
                        <a:pt x="44645" y="22201"/>
                      </a:lnTo>
                      <a:lnTo>
                        <a:pt x="50004" y="18165"/>
                      </a:lnTo>
                      <a:lnTo>
                        <a:pt x="55692" y="14454"/>
                      </a:lnTo>
                      <a:lnTo>
                        <a:pt x="61638" y="11003"/>
                      </a:lnTo>
                      <a:lnTo>
                        <a:pt x="67784" y="7878"/>
                      </a:lnTo>
                      <a:lnTo>
                        <a:pt x="74255" y="5144"/>
                      </a:lnTo>
                      <a:lnTo>
                        <a:pt x="80923" y="2734"/>
                      </a:lnTo>
                      <a:lnTo>
                        <a:pt x="87852" y="716"/>
                      </a:lnTo>
                      <a:lnTo>
                        <a:pt x="92164" y="66"/>
                      </a:lnTo>
                      <a:lnTo>
                        <a:pt x="96348" y="0"/>
                      </a:lnTo>
                      <a:lnTo>
                        <a:pt x="100400" y="587"/>
                      </a:lnTo>
                      <a:lnTo>
                        <a:pt x="104388" y="1693"/>
                      </a:lnTo>
                      <a:lnTo>
                        <a:pt x="108244" y="3321"/>
                      </a:lnTo>
                      <a:lnTo>
                        <a:pt x="111970" y="5469"/>
                      </a:lnTo>
                      <a:lnTo>
                        <a:pt x="115565" y="8009"/>
                      </a:lnTo>
                      <a:lnTo>
                        <a:pt x="119030" y="10939"/>
                      </a:lnTo>
                      <a:lnTo>
                        <a:pt x="125500" y="17839"/>
                      </a:lnTo>
                      <a:lnTo>
                        <a:pt x="131122" y="25652"/>
                      </a:lnTo>
                      <a:lnTo>
                        <a:pt x="136025" y="34244"/>
                      </a:lnTo>
                      <a:lnTo>
                        <a:pt x="139881" y="43034"/>
                      </a:lnTo>
                      <a:lnTo>
                        <a:pt x="139881" y="48242"/>
                      </a:lnTo>
                      <a:lnTo>
                        <a:pt x="139293" y="52930"/>
                      </a:lnTo>
                      <a:lnTo>
                        <a:pt x="138248" y="57226"/>
                      </a:lnTo>
                      <a:lnTo>
                        <a:pt x="136808" y="61133"/>
                      </a:lnTo>
                      <a:lnTo>
                        <a:pt x="134848" y="64713"/>
                      </a:lnTo>
                      <a:lnTo>
                        <a:pt x="132560" y="67903"/>
                      </a:lnTo>
                      <a:lnTo>
                        <a:pt x="129879" y="70833"/>
                      </a:lnTo>
                      <a:lnTo>
                        <a:pt x="126809" y="73501"/>
                      </a:lnTo>
                      <a:lnTo>
                        <a:pt x="119683" y="78320"/>
                      </a:lnTo>
                      <a:lnTo>
                        <a:pt x="111513" y="82487"/>
                      </a:lnTo>
                      <a:lnTo>
                        <a:pt x="102362" y="86523"/>
                      </a:lnTo>
                      <a:lnTo>
                        <a:pt x="92623" y="90559"/>
                      </a:lnTo>
                      <a:lnTo>
                        <a:pt x="82360" y="94986"/>
                      </a:lnTo>
                      <a:lnTo>
                        <a:pt x="71837" y="100129"/>
                      </a:lnTo>
                      <a:lnTo>
                        <a:pt x="61248" y="106184"/>
                      </a:lnTo>
                      <a:lnTo>
                        <a:pt x="50789" y="113605"/>
                      </a:lnTo>
                      <a:lnTo>
                        <a:pt x="45690" y="117837"/>
                      </a:lnTo>
                      <a:lnTo>
                        <a:pt x="40723" y="122525"/>
                      </a:lnTo>
                      <a:lnTo>
                        <a:pt x="35820" y="127733"/>
                      </a:lnTo>
                      <a:lnTo>
                        <a:pt x="31114" y="133397"/>
                      </a:lnTo>
                      <a:lnTo>
                        <a:pt x="26669" y="139647"/>
                      </a:lnTo>
                      <a:lnTo>
                        <a:pt x="22355" y="146482"/>
                      </a:lnTo>
                      <a:lnTo>
                        <a:pt x="18302" y="153904"/>
                      </a:lnTo>
                      <a:lnTo>
                        <a:pt x="14578" y="162042"/>
                      </a:lnTo>
                      <a:lnTo>
                        <a:pt x="11375" y="15689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Freeform: Shape 18"/>
                <p:cNvSpPr/>
                <p:nvPr/>
              </p:nvSpPr>
              <p:spPr>
                <a:xfrm rot="10201200">
                  <a:off x="9768600" y="1460160"/>
                  <a:ext cx="135000" cy="11196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58593" h="134374">
                      <a:moveTo>
                        <a:pt x="1242" y="71027"/>
                      </a:moveTo>
                      <a:lnTo>
                        <a:pt x="2418" y="68945"/>
                      </a:lnTo>
                      <a:lnTo>
                        <a:pt x="3922" y="66731"/>
                      </a:lnTo>
                      <a:lnTo>
                        <a:pt x="5818" y="64322"/>
                      </a:lnTo>
                      <a:lnTo>
                        <a:pt x="10525" y="59114"/>
                      </a:lnTo>
                      <a:lnTo>
                        <a:pt x="16344" y="53385"/>
                      </a:lnTo>
                      <a:lnTo>
                        <a:pt x="23011" y="47525"/>
                      </a:lnTo>
                      <a:lnTo>
                        <a:pt x="30398" y="41406"/>
                      </a:lnTo>
                      <a:lnTo>
                        <a:pt x="46284" y="29232"/>
                      </a:lnTo>
                      <a:lnTo>
                        <a:pt x="54389" y="23437"/>
                      </a:lnTo>
                      <a:lnTo>
                        <a:pt x="62365" y="17969"/>
                      </a:lnTo>
                      <a:lnTo>
                        <a:pt x="69948" y="13020"/>
                      </a:lnTo>
                      <a:lnTo>
                        <a:pt x="76942" y="8659"/>
                      </a:lnTo>
                      <a:lnTo>
                        <a:pt x="83153" y="5079"/>
                      </a:lnTo>
                      <a:lnTo>
                        <a:pt x="85898" y="3580"/>
                      </a:lnTo>
                      <a:lnTo>
                        <a:pt x="88318" y="2279"/>
                      </a:lnTo>
                      <a:lnTo>
                        <a:pt x="90540" y="1302"/>
                      </a:lnTo>
                      <a:lnTo>
                        <a:pt x="92370" y="587"/>
                      </a:lnTo>
                      <a:lnTo>
                        <a:pt x="93874" y="131"/>
                      </a:lnTo>
                      <a:lnTo>
                        <a:pt x="94919" y="0"/>
                      </a:lnTo>
                      <a:lnTo>
                        <a:pt x="97338" y="1562"/>
                      </a:lnTo>
                      <a:lnTo>
                        <a:pt x="100149" y="3580"/>
                      </a:lnTo>
                      <a:lnTo>
                        <a:pt x="103287" y="5990"/>
                      </a:lnTo>
                      <a:lnTo>
                        <a:pt x="106817" y="8724"/>
                      </a:lnTo>
                      <a:lnTo>
                        <a:pt x="110544" y="11914"/>
                      </a:lnTo>
                      <a:lnTo>
                        <a:pt x="114597" y="15494"/>
                      </a:lnTo>
                      <a:lnTo>
                        <a:pt x="118780" y="19532"/>
                      </a:lnTo>
                      <a:lnTo>
                        <a:pt x="123160" y="23959"/>
                      </a:lnTo>
                      <a:lnTo>
                        <a:pt x="127606" y="28905"/>
                      </a:lnTo>
                      <a:lnTo>
                        <a:pt x="132182" y="34245"/>
                      </a:lnTo>
                      <a:lnTo>
                        <a:pt x="136758" y="40104"/>
                      </a:lnTo>
                      <a:lnTo>
                        <a:pt x="141334" y="46419"/>
                      </a:lnTo>
                      <a:lnTo>
                        <a:pt x="145845" y="53254"/>
                      </a:lnTo>
                      <a:lnTo>
                        <a:pt x="150224" y="60546"/>
                      </a:lnTo>
                      <a:lnTo>
                        <a:pt x="154473" y="68358"/>
                      </a:lnTo>
                      <a:lnTo>
                        <a:pt x="158592" y="76757"/>
                      </a:lnTo>
                      <a:lnTo>
                        <a:pt x="150682" y="81965"/>
                      </a:lnTo>
                      <a:lnTo>
                        <a:pt x="142968" y="86717"/>
                      </a:lnTo>
                      <a:lnTo>
                        <a:pt x="127999" y="95245"/>
                      </a:lnTo>
                      <a:lnTo>
                        <a:pt x="113421" y="102538"/>
                      </a:lnTo>
                      <a:lnTo>
                        <a:pt x="99038" y="109112"/>
                      </a:lnTo>
                      <a:lnTo>
                        <a:pt x="70470" y="121287"/>
                      </a:lnTo>
                      <a:lnTo>
                        <a:pt x="55893" y="127536"/>
                      </a:lnTo>
                      <a:lnTo>
                        <a:pt x="40989" y="134373"/>
                      </a:lnTo>
                      <a:lnTo>
                        <a:pt x="38569" y="129360"/>
                      </a:lnTo>
                      <a:lnTo>
                        <a:pt x="35889" y="124997"/>
                      </a:lnTo>
                      <a:lnTo>
                        <a:pt x="32947" y="121092"/>
                      </a:lnTo>
                      <a:lnTo>
                        <a:pt x="29940" y="117706"/>
                      </a:lnTo>
                      <a:lnTo>
                        <a:pt x="23600" y="111977"/>
                      </a:lnTo>
                      <a:lnTo>
                        <a:pt x="17194" y="107094"/>
                      </a:lnTo>
                      <a:lnTo>
                        <a:pt x="11310" y="102538"/>
                      </a:lnTo>
                      <a:lnTo>
                        <a:pt x="6211" y="97785"/>
                      </a:lnTo>
                      <a:lnTo>
                        <a:pt x="4119" y="95116"/>
                      </a:lnTo>
                      <a:lnTo>
                        <a:pt x="2418" y="92121"/>
                      </a:lnTo>
                      <a:lnTo>
                        <a:pt x="1112" y="88801"/>
                      </a:lnTo>
                      <a:lnTo>
                        <a:pt x="393" y="85024"/>
                      </a:lnTo>
                      <a:lnTo>
                        <a:pt x="0" y="78905"/>
                      </a:lnTo>
                      <a:lnTo>
                        <a:pt x="524" y="72916"/>
                      </a:lnTo>
                      <a:lnTo>
                        <a:pt x="1242" y="7102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Freeform: Shape 19"/>
                <p:cNvSpPr/>
                <p:nvPr/>
              </p:nvSpPr>
              <p:spPr>
                <a:xfrm rot="10201200">
                  <a:off x="9333720" y="1559880"/>
                  <a:ext cx="529200" cy="353160"/>
                </a:xfrm>
                <a:custGeom>
                  <a:avLst/>
                  <a:gdLst>
                    <a:gd name="textAreaLeft" fmla="*/ 0 w 529200"/>
                    <a:gd name="textAreaRight" fmla="*/ 529560 w 529200"/>
                    <a:gd name="textAreaTop" fmla="*/ 0 h 353160"/>
                    <a:gd name="textAreaBottom" fmla="*/ 353520 h 353160"/>
                  </a:gdLst>
                  <a:ahLst/>
                  <a:rect l="textAreaLeft" t="textAreaTop" r="textAreaRight" b="textAreaBottom"/>
                  <a:pathLst>
                    <a:path w="629884" h="434365">
                      <a:moveTo>
                        <a:pt x="5426" y="356696"/>
                      </a:moveTo>
                      <a:lnTo>
                        <a:pt x="11308" y="351879"/>
                      </a:lnTo>
                      <a:lnTo>
                        <a:pt x="17519" y="346996"/>
                      </a:lnTo>
                      <a:lnTo>
                        <a:pt x="24186" y="341919"/>
                      </a:lnTo>
                      <a:lnTo>
                        <a:pt x="38501" y="331437"/>
                      </a:lnTo>
                      <a:lnTo>
                        <a:pt x="54190" y="320500"/>
                      </a:lnTo>
                      <a:lnTo>
                        <a:pt x="71185" y="309237"/>
                      </a:lnTo>
                      <a:lnTo>
                        <a:pt x="89162" y="297583"/>
                      </a:lnTo>
                      <a:lnTo>
                        <a:pt x="108249" y="285604"/>
                      </a:lnTo>
                      <a:lnTo>
                        <a:pt x="128187" y="273365"/>
                      </a:lnTo>
                      <a:lnTo>
                        <a:pt x="148908" y="260866"/>
                      </a:lnTo>
                      <a:lnTo>
                        <a:pt x="170217" y="248301"/>
                      </a:lnTo>
                      <a:lnTo>
                        <a:pt x="192116" y="235541"/>
                      </a:lnTo>
                      <a:lnTo>
                        <a:pt x="214407" y="222715"/>
                      </a:lnTo>
                      <a:lnTo>
                        <a:pt x="259838" y="197000"/>
                      </a:lnTo>
                      <a:lnTo>
                        <a:pt x="305463" y="171546"/>
                      </a:lnTo>
                      <a:lnTo>
                        <a:pt x="328147" y="159045"/>
                      </a:lnTo>
                      <a:lnTo>
                        <a:pt x="350501" y="146677"/>
                      </a:lnTo>
                      <a:lnTo>
                        <a:pt x="372531" y="134567"/>
                      </a:lnTo>
                      <a:lnTo>
                        <a:pt x="394037" y="122718"/>
                      </a:lnTo>
                      <a:lnTo>
                        <a:pt x="414889" y="111195"/>
                      </a:lnTo>
                      <a:lnTo>
                        <a:pt x="435022" y="100127"/>
                      </a:lnTo>
                      <a:lnTo>
                        <a:pt x="454240" y="89386"/>
                      </a:lnTo>
                      <a:lnTo>
                        <a:pt x="472545" y="79165"/>
                      </a:lnTo>
                      <a:lnTo>
                        <a:pt x="489735" y="69400"/>
                      </a:lnTo>
                      <a:lnTo>
                        <a:pt x="505750" y="60220"/>
                      </a:lnTo>
                      <a:lnTo>
                        <a:pt x="513202" y="55922"/>
                      </a:lnTo>
                      <a:lnTo>
                        <a:pt x="520393" y="51692"/>
                      </a:lnTo>
                      <a:lnTo>
                        <a:pt x="527191" y="47590"/>
                      </a:lnTo>
                      <a:lnTo>
                        <a:pt x="533663" y="43749"/>
                      </a:lnTo>
                      <a:lnTo>
                        <a:pt x="539676" y="40038"/>
                      </a:lnTo>
                      <a:lnTo>
                        <a:pt x="545363" y="36457"/>
                      </a:lnTo>
                      <a:lnTo>
                        <a:pt x="550593" y="33137"/>
                      </a:lnTo>
                      <a:lnTo>
                        <a:pt x="555365" y="29947"/>
                      </a:lnTo>
                      <a:lnTo>
                        <a:pt x="559744" y="27017"/>
                      </a:lnTo>
                      <a:lnTo>
                        <a:pt x="563601" y="24218"/>
                      </a:lnTo>
                      <a:lnTo>
                        <a:pt x="567001" y="21613"/>
                      </a:lnTo>
                      <a:lnTo>
                        <a:pt x="569942" y="19270"/>
                      </a:lnTo>
                      <a:lnTo>
                        <a:pt x="576086" y="16275"/>
                      </a:lnTo>
                      <a:lnTo>
                        <a:pt x="581707" y="13412"/>
                      </a:lnTo>
                      <a:lnTo>
                        <a:pt x="586937" y="10742"/>
                      </a:lnTo>
                      <a:lnTo>
                        <a:pt x="591839" y="8268"/>
                      </a:lnTo>
                      <a:lnTo>
                        <a:pt x="596350" y="6119"/>
                      </a:lnTo>
                      <a:lnTo>
                        <a:pt x="600469" y="4166"/>
                      </a:lnTo>
                      <a:lnTo>
                        <a:pt x="604325" y="2539"/>
                      </a:lnTo>
                      <a:lnTo>
                        <a:pt x="607855" y="1302"/>
                      </a:lnTo>
                      <a:lnTo>
                        <a:pt x="611123" y="455"/>
                      </a:lnTo>
                      <a:lnTo>
                        <a:pt x="614131" y="0"/>
                      </a:lnTo>
                      <a:lnTo>
                        <a:pt x="616941" y="0"/>
                      </a:lnTo>
                      <a:lnTo>
                        <a:pt x="619556" y="521"/>
                      </a:lnTo>
                      <a:lnTo>
                        <a:pt x="621909" y="1563"/>
                      </a:lnTo>
                      <a:lnTo>
                        <a:pt x="624197" y="3125"/>
                      </a:lnTo>
                      <a:lnTo>
                        <a:pt x="626354" y="5338"/>
                      </a:lnTo>
                      <a:lnTo>
                        <a:pt x="628380" y="8137"/>
                      </a:lnTo>
                      <a:lnTo>
                        <a:pt x="629753" y="11198"/>
                      </a:lnTo>
                      <a:lnTo>
                        <a:pt x="629883" y="14062"/>
                      </a:lnTo>
                      <a:lnTo>
                        <a:pt x="628969" y="16927"/>
                      </a:lnTo>
                      <a:lnTo>
                        <a:pt x="627203" y="19661"/>
                      </a:lnTo>
                      <a:lnTo>
                        <a:pt x="624655" y="22396"/>
                      </a:lnTo>
                      <a:lnTo>
                        <a:pt x="621583" y="25064"/>
                      </a:lnTo>
                      <a:lnTo>
                        <a:pt x="614261" y="30468"/>
                      </a:lnTo>
                      <a:lnTo>
                        <a:pt x="606613" y="36067"/>
                      </a:lnTo>
                      <a:lnTo>
                        <a:pt x="603018" y="38996"/>
                      </a:lnTo>
                      <a:lnTo>
                        <a:pt x="599815" y="42056"/>
                      </a:lnTo>
                      <a:lnTo>
                        <a:pt x="597069" y="45311"/>
                      </a:lnTo>
                      <a:lnTo>
                        <a:pt x="595043" y="48696"/>
                      </a:lnTo>
                      <a:lnTo>
                        <a:pt x="593866" y="52277"/>
                      </a:lnTo>
                      <a:lnTo>
                        <a:pt x="593736" y="56118"/>
                      </a:lnTo>
                      <a:lnTo>
                        <a:pt x="565038" y="79360"/>
                      </a:lnTo>
                      <a:lnTo>
                        <a:pt x="535361" y="102992"/>
                      </a:lnTo>
                      <a:lnTo>
                        <a:pt x="504966" y="126950"/>
                      </a:lnTo>
                      <a:lnTo>
                        <a:pt x="473721" y="151103"/>
                      </a:lnTo>
                      <a:lnTo>
                        <a:pt x="441951" y="175517"/>
                      </a:lnTo>
                      <a:lnTo>
                        <a:pt x="409594" y="199930"/>
                      </a:lnTo>
                      <a:lnTo>
                        <a:pt x="343835" y="248821"/>
                      </a:lnTo>
                      <a:lnTo>
                        <a:pt x="277225" y="297323"/>
                      </a:lnTo>
                      <a:lnTo>
                        <a:pt x="210681" y="344718"/>
                      </a:lnTo>
                      <a:lnTo>
                        <a:pt x="177670" y="367894"/>
                      </a:lnTo>
                      <a:lnTo>
                        <a:pt x="144920" y="390616"/>
                      </a:lnTo>
                      <a:lnTo>
                        <a:pt x="112694" y="412751"/>
                      </a:lnTo>
                      <a:lnTo>
                        <a:pt x="80924" y="434364"/>
                      </a:lnTo>
                      <a:lnTo>
                        <a:pt x="74519" y="433322"/>
                      </a:lnTo>
                      <a:lnTo>
                        <a:pt x="68962" y="431630"/>
                      </a:lnTo>
                      <a:lnTo>
                        <a:pt x="64125" y="429156"/>
                      </a:lnTo>
                      <a:lnTo>
                        <a:pt x="59877" y="426096"/>
                      </a:lnTo>
                      <a:lnTo>
                        <a:pt x="56020" y="422515"/>
                      </a:lnTo>
                      <a:lnTo>
                        <a:pt x="52359" y="418413"/>
                      </a:lnTo>
                      <a:lnTo>
                        <a:pt x="45496" y="408844"/>
                      </a:lnTo>
                      <a:lnTo>
                        <a:pt x="41900" y="403505"/>
                      </a:lnTo>
                      <a:lnTo>
                        <a:pt x="37914" y="397971"/>
                      </a:lnTo>
                      <a:lnTo>
                        <a:pt x="33533" y="392113"/>
                      </a:lnTo>
                      <a:lnTo>
                        <a:pt x="28565" y="386124"/>
                      </a:lnTo>
                      <a:lnTo>
                        <a:pt x="22878" y="379939"/>
                      </a:lnTo>
                      <a:lnTo>
                        <a:pt x="16342" y="373754"/>
                      </a:lnTo>
                      <a:lnTo>
                        <a:pt x="8693" y="367569"/>
                      </a:lnTo>
                      <a:lnTo>
                        <a:pt x="0" y="361384"/>
                      </a:lnTo>
                      <a:lnTo>
                        <a:pt x="5426" y="356696"/>
                      </a:lnTo>
                      <a:close/>
                    </a:path>
                  </a:pathLst>
                </a:custGeom>
                <a:solidFill>
                  <a:srgbClr val="aa7700"/>
                </a:solidFill>
                <a:ln w="0">
                  <a:solidFill>
                    <a:srgbClr val="aa77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" name="Freeform: Shape 20"/>
                <p:cNvSpPr/>
                <p:nvPr/>
              </p:nvSpPr>
              <p:spPr>
                <a:xfrm rot="10201200">
                  <a:off x="9311760" y="1395360"/>
                  <a:ext cx="708840" cy="524880"/>
                </a:xfrm>
                <a:custGeom>
                  <a:avLst/>
                  <a:gdLst>
                    <a:gd name="textAreaLeft" fmla="*/ 0 w 708840"/>
                    <a:gd name="textAreaRight" fmla="*/ 709200 w 708840"/>
                    <a:gd name="textAreaTop" fmla="*/ 0 h 524880"/>
                    <a:gd name="textAreaBottom" fmla="*/ 525240 h 524880"/>
                  </a:gdLst>
                  <a:ahLst/>
                  <a:rect l="textAreaLeft" t="textAreaTop" r="textAreaRight" b="textAreaBottom"/>
                  <a:pathLst>
                    <a:path w="834618" h="639958">
                      <a:moveTo>
                        <a:pt x="195776" y="371148"/>
                      </a:moveTo>
                      <a:lnTo>
                        <a:pt x="196169" y="370432"/>
                      </a:lnTo>
                      <a:lnTo>
                        <a:pt x="196562" y="369065"/>
                      </a:lnTo>
                      <a:lnTo>
                        <a:pt x="197085" y="365289"/>
                      </a:lnTo>
                      <a:lnTo>
                        <a:pt x="197542" y="361513"/>
                      </a:lnTo>
                      <a:lnTo>
                        <a:pt x="197608" y="360211"/>
                      </a:lnTo>
                      <a:lnTo>
                        <a:pt x="197737" y="359626"/>
                      </a:lnTo>
                      <a:lnTo>
                        <a:pt x="198653" y="358193"/>
                      </a:lnTo>
                      <a:lnTo>
                        <a:pt x="199960" y="356631"/>
                      </a:lnTo>
                      <a:lnTo>
                        <a:pt x="203686" y="352854"/>
                      </a:lnTo>
                      <a:lnTo>
                        <a:pt x="208588" y="348688"/>
                      </a:lnTo>
                      <a:lnTo>
                        <a:pt x="214602" y="344001"/>
                      </a:lnTo>
                      <a:lnTo>
                        <a:pt x="221466" y="338988"/>
                      </a:lnTo>
                      <a:lnTo>
                        <a:pt x="229049" y="333649"/>
                      </a:lnTo>
                      <a:lnTo>
                        <a:pt x="245521" y="322647"/>
                      </a:lnTo>
                      <a:lnTo>
                        <a:pt x="262517" y="311775"/>
                      </a:lnTo>
                      <a:lnTo>
                        <a:pt x="270753" y="306501"/>
                      </a:lnTo>
                      <a:lnTo>
                        <a:pt x="278597" y="301618"/>
                      </a:lnTo>
                      <a:lnTo>
                        <a:pt x="285788" y="297126"/>
                      </a:lnTo>
                      <a:lnTo>
                        <a:pt x="292195" y="293026"/>
                      </a:lnTo>
                      <a:lnTo>
                        <a:pt x="297555" y="289510"/>
                      </a:lnTo>
                      <a:lnTo>
                        <a:pt x="299841" y="288013"/>
                      </a:lnTo>
                      <a:lnTo>
                        <a:pt x="301868" y="286645"/>
                      </a:lnTo>
                      <a:lnTo>
                        <a:pt x="311020" y="280720"/>
                      </a:lnTo>
                      <a:lnTo>
                        <a:pt x="320498" y="275058"/>
                      </a:lnTo>
                      <a:lnTo>
                        <a:pt x="340174" y="264381"/>
                      </a:lnTo>
                      <a:lnTo>
                        <a:pt x="359915" y="253833"/>
                      </a:lnTo>
                      <a:lnTo>
                        <a:pt x="369524" y="248365"/>
                      </a:lnTo>
                      <a:lnTo>
                        <a:pt x="378937" y="242506"/>
                      </a:lnTo>
                      <a:lnTo>
                        <a:pt x="395737" y="232025"/>
                      </a:lnTo>
                      <a:lnTo>
                        <a:pt x="412798" y="222064"/>
                      </a:lnTo>
                      <a:lnTo>
                        <a:pt x="421819" y="217050"/>
                      </a:lnTo>
                      <a:lnTo>
                        <a:pt x="431232" y="211843"/>
                      </a:lnTo>
                      <a:lnTo>
                        <a:pt x="441364" y="206244"/>
                      </a:lnTo>
                      <a:lnTo>
                        <a:pt x="452213" y="200255"/>
                      </a:lnTo>
                      <a:lnTo>
                        <a:pt x="538238" y="152144"/>
                      </a:lnTo>
                      <a:lnTo>
                        <a:pt x="623740" y="104293"/>
                      </a:lnTo>
                      <a:lnTo>
                        <a:pt x="640473" y="95570"/>
                      </a:lnTo>
                      <a:lnTo>
                        <a:pt x="657601" y="87237"/>
                      </a:lnTo>
                      <a:lnTo>
                        <a:pt x="674596" y="78839"/>
                      </a:lnTo>
                      <a:lnTo>
                        <a:pt x="691265" y="69724"/>
                      </a:lnTo>
                      <a:lnTo>
                        <a:pt x="693292" y="68487"/>
                      </a:lnTo>
                      <a:lnTo>
                        <a:pt x="695775" y="66990"/>
                      </a:lnTo>
                      <a:lnTo>
                        <a:pt x="701397" y="63410"/>
                      </a:lnTo>
                      <a:lnTo>
                        <a:pt x="708064" y="59112"/>
                      </a:lnTo>
                      <a:lnTo>
                        <a:pt x="715517" y="54295"/>
                      </a:lnTo>
                      <a:lnTo>
                        <a:pt x="723622" y="49022"/>
                      </a:lnTo>
                      <a:lnTo>
                        <a:pt x="732185" y="43422"/>
                      </a:lnTo>
                      <a:lnTo>
                        <a:pt x="750161" y="31900"/>
                      </a:lnTo>
                      <a:lnTo>
                        <a:pt x="759181" y="26235"/>
                      </a:lnTo>
                      <a:lnTo>
                        <a:pt x="767942" y="20767"/>
                      </a:lnTo>
                      <a:lnTo>
                        <a:pt x="776373" y="15754"/>
                      </a:lnTo>
                      <a:lnTo>
                        <a:pt x="784283" y="11133"/>
                      </a:lnTo>
                      <a:lnTo>
                        <a:pt x="791407" y="7226"/>
                      </a:lnTo>
                      <a:lnTo>
                        <a:pt x="797684" y="4101"/>
                      </a:lnTo>
                      <a:lnTo>
                        <a:pt x="800429" y="2864"/>
                      </a:lnTo>
                      <a:lnTo>
                        <a:pt x="802913" y="1822"/>
                      </a:lnTo>
                      <a:lnTo>
                        <a:pt x="805070" y="1106"/>
                      </a:lnTo>
                      <a:lnTo>
                        <a:pt x="806900" y="650"/>
                      </a:lnTo>
                      <a:lnTo>
                        <a:pt x="811803" y="0"/>
                      </a:lnTo>
                      <a:lnTo>
                        <a:pt x="816576" y="0"/>
                      </a:lnTo>
                      <a:lnTo>
                        <a:pt x="821019" y="650"/>
                      </a:lnTo>
                      <a:lnTo>
                        <a:pt x="825007" y="2018"/>
                      </a:lnTo>
                      <a:lnTo>
                        <a:pt x="828472" y="3971"/>
                      </a:lnTo>
                      <a:lnTo>
                        <a:pt x="831217" y="6641"/>
                      </a:lnTo>
                      <a:lnTo>
                        <a:pt x="833047" y="10025"/>
                      </a:lnTo>
                      <a:lnTo>
                        <a:pt x="833897" y="14061"/>
                      </a:lnTo>
                      <a:lnTo>
                        <a:pt x="834617" y="17056"/>
                      </a:lnTo>
                      <a:lnTo>
                        <a:pt x="834224" y="20506"/>
                      </a:lnTo>
                      <a:lnTo>
                        <a:pt x="832721" y="24282"/>
                      </a:lnTo>
                      <a:lnTo>
                        <a:pt x="830237" y="28449"/>
                      </a:lnTo>
                      <a:lnTo>
                        <a:pt x="826968" y="32811"/>
                      </a:lnTo>
                      <a:lnTo>
                        <a:pt x="823046" y="37368"/>
                      </a:lnTo>
                      <a:lnTo>
                        <a:pt x="818472" y="42056"/>
                      </a:lnTo>
                      <a:lnTo>
                        <a:pt x="813502" y="46808"/>
                      </a:lnTo>
                      <a:lnTo>
                        <a:pt x="802782" y="56313"/>
                      </a:lnTo>
                      <a:lnTo>
                        <a:pt x="791735" y="65428"/>
                      </a:lnTo>
                      <a:lnTo>
                        <a:pt x="786441" y="69724"/>
                      </a:lnTo>
                      <a:lnTo>
                        <a:pt x="781472" y="73631"/>
                      </a:lnTo>
                      <a:lnTo>
                        <a:pt x="776962" y="77275"/>
                      </a:lnTo>
                      <a:lnTo>
                        <a:pt x="773040" y="80466"/>
                      </a:lnTo>
                      <a:lnTo>
                        <a:pt x="761274" y="90753"/>
                      </a:lnTo>
                      <a:lnTo>
                        <a:pt x="749637" y="101299"/>
                      </a:lnTo>
                      <a:lnTo>
                        <a:pt x="737937" y="111780"/>
                      </a:lnTo>
                      <a:lnTo>
                        <a:pt x="725910" y="121611"/>
                      </a:lnTo>
                      <a:lnTo>
                        <a:pt x="681199" y="155660"/>
                      </a:lnTo>
                      <a:lnTo>
                        <a:pt x="658974" y="173042"/>
                      </a:lnTo>
                      <a:lnTo>
                        <a:pt x="637272" y="190684"/>
                      </a:lnTo>
                      <a:lnTo>
                        <a:pt x="606155" y="216790"/>
                      </a:lnTo>
                      <a:lnTo>
                        <a:pt x="574845" y="242896"/>
                      </a:lnTo>
                      <a:lnTo>
                        <a:pt x="559025" y="255787"/>
                      </a:lnTo>
                      <a:lnTo>
                        <a:pt x="542945" y="268417"/>
                      </a:lnTo>
                      <a:lnTo>
                        <a:pt x="526604" y="280656"/>
                      </a:lnTo>
                      <a:lnTo>
                        <a:pt x="510065" y="292440"/>
                      </a:lnTo>
                      <a:lnTo>
                        <a:pt x="464308" y="323688"/>
                      </a:lnTo>
                      <a:lnTo>
                        <a:pt x="441624" y="339574"/>
                      </a:lnTo>
                      <a:lnTo>
                        <a:pt x="419399" y="355784"/>
                      </a:lnTo>
                      <a:lnTo>
                        <a:pt x="389526" y="379026"/>
                      </a:lnTo>
                      <a:lnTo>
                        <a:pt x="359261" y="402527"/>
                      </a:lnTo>
                      <a:lnTo>
                        <a:pt x="343901" y="414050"/>
                      </a:lnTo>
                      <a:lnTo>
                        <a:pt x="328278" y="425183"/>
                      </a:lnTo>
                      <a:lnTo>
                        <a:pt x="312393" y="435925"/>
                      </a:lnTo>
                      <a:lnTo>
                        <a:pt x="296051" y="446016"/>
                      </a:lnTo>
                      <a:lnTo>
                        <a:pt x="288795" y="450052"/>
                      </a:lnTo>
                      <a:lnTo>
                        <a:pt x="281473" y="453634"/>
                      </a:lnTo>
                      <a:lnTo>
                        <a:pt x="266636" y="460339"/>
                      </a:lnTo>
                      <a:lnTo>
                        <a:pt x="252058" y="467045"/>
                      </a:lnTo>
                      <a:lnTo>
                        <a:pt x="244999" y="470754"/>
                      </a:lnTo>
                      <a:lnTo>
                        <a:pt x="238199" y="474857"/>
                      </a:lnTo>
                      <a:lnTo>
                        <a:pt x="234473" y="477070"/>
                      </a:lnTo>
                      <a:lnTo>
                        <a:pt x="229833" y="479609"/>
                      </a:lnTo>
                      <a:lnTo>
                        <a:pt x="224407" y="482343"/>
                      </a:lnTo>
                      <a:lnTo>
                        <a:pt x="218460" y="485208"/>
                      </a:lnTo>
                      <a:lnTo>
                        <a:pt x="205321" y="491198"/>
                      </a:lnTo>
                      <a:lnTo>
                        <a:pt x="191396" y="497447"/>
                      </a:lnTo>
                      <a:lnTo>
                        <a:pt x="177801" y="503632"/>
                      </a:lnTo>
                      <a:lnTo>
                        <a:pt x="171394" y="506627"/>
                      </a:lnTo>
                      <a:lnTo>
                        <a:pt x="165577" y="509491"/>
                      </a:lnTo>
                      <a:lnTo>
                        <a:pt x="160282" y="512225"/>
                      </a:lnTo>
                      <a:lnTo>
                        <a:pt x="155772" y="514699"/>
                      </a:lnTo>
                      <a:lnTo>
                        <a:pt x="152176" y="516977"/>
                      </a:lnTo>
                      <a:lnTo>
                        <a:pt x="149496" y="518995"/>
                      </a:lnTo>
                      <a:lnTo>
                        <a:pt x="146816" y="521665"/>
                      </a:lnTo>
                      <a:lnTo>
                        <a:pt x="144463" y="524204"/>
                      </a:lnTo>
                      <a:lnTo>
                        <a:pt x="140802" y="529152"/>
                      </a:lnTo>
                      <a:lnTo>
                        <a:pt x="134789" y="538396"/>
                      </a:lnTo>
                      <a:lnTo>
                        <a:pt x="131258" y="542954"/>
                      </a:lnTo>
                      <a:lnTo>
                        <a:pt x="126551" y="547576"/>
                      </a:lnTo>
                      <a:lnTo>
                        <a:pt x="123545" y="549920"/>
                      </a:lnTo>
                      <a:lnTo>
                        <a:pt x="119950" y="552328"/>
                      </a:lnTo>
                      <a:lnTo>
                        <a:pt x="115832" y="554802"/>
                      </a:lnTo>
                      <a:lnTo>
                        <a:pt x="110995" y="557407"/>
                      </a:lnTo>
                      <a:lnTo>
                        <a:pt x="105504" y="559750"/>
                      </a:lnTo>
                      <a:lnTo>
                        <a:pt x="99686" y="561768"/>
                      </a:lnTo>
                      <a:lnTo>
                        <a:pt x="87267" y="565479"/>
                      </a:lnTo>
                      <a:lnTo>
                        <a:pt x="81056" y="567302"/>
                      </a:lnTo>
                      <a:lnTo>
                        <a:pt x="75172" y="569385"/>
                      </a:lnTo>
                      <a:lnTo>
                        <a:pt x="69616" y="571794"/>
                      </a:lnTo>
                      <a:lnTo>
                        <a:pt x="64714" y="574658"/>
                      </a:lnTo>
                      <a:lnTo>
                        <a:pt x="60923" y="577523"/>
                      </a:lnTo>
                      <a:lnTo>
                        <a:pt x="57327" y="580648"/>
                      </a:lnTo>
                      <a:lnTo>
                        <a:pt x="50856" y="587613"/>
                      </a:lnTo>
                      <a:lnTo>
                        <a:pt x="45037" y="595360"/>
                      </a:lnTo>
                      <a:lnTo>
                        <a:pt x="39940" y="603759"/>
                      </a:lnTo>
                      <a:lnTo>
                        <a:pt x="35167" y="612549"/>
                      </a:lnTo>
                      <a:lnTo>
                        <a:pt x="30788" y="621662"/>
                      </a:lnTo>
                      <a:lnTo>
                        <a:pt x="22289" y="639957"/>
                      </a:lnTo>
                      <a:lnTo>
                        <a:pt x="20395" y="639109"/>
                      </a:lnTo>
                      <a:lnTo>
                        <a:pt x="18499" y="637547"/>
                      </a:lnTo>
                      <a:lnTo>
                        <a:pt x="16669" y="635465"/>
                      </a:lnTo>
                      <a:lnTo>
                        <a:pt x="14903" y="632860"/>
                      </a:lnTo>
                      <a:lnTo>
                        <a:pt x="11505" y="626545"/>
                      </a:lnTo>
                      <a:lnTo>
                        <a:pt x="8433" y="619123"/>
                      </a:lnTo>
                      <a:lnTo>
                        <a:pt x="5753" y="611376"/>
                      </a:lnTo>
                      <a:lnTo>
                        <a:pt x="3595" y="603825"/>
                      </a:lnTo>
                      <a:lnTo>
                        <a:pt x="1960" y="597184"/>
                      </a:lnTo>
                      <a:lnTo>
                        <a:pt x="1437" y="594319"/>
                      </a:lnTo>
                      <a:lnTo>
                        <a:pt x="1111" y="591911"/>
                      </a:lnTo>
                      <a:lnTo>
                        <a:pt x="392" y="584944"/>
                      </a:lnTo>
                      <a:lnTo>
                        <a:pt x="0" y="578174"/>
                      </a:lnTo>
                      <a:lnTo>
                        <a:pt x="130" y="571534"/>
                      </a:lnTo>
                      <a:lnTo>
                        <a:pt x="523" y="565089"/>
                      </a:lnTo>
                      <a:lnTo>
                        <a:pt x="1242" y="558839"/>
                      </a:lnTo>
                      <a:lnTo>
                        <a:pt x="2418" y="552719"/>
                      </a:lnTo>
                      <a:lnTo>
                        <a:pt x="5556" y="541130"/>
                      </a:lnTo>
                      <a:lnTo>
                        <a:pt x="9805" y="530259"/>
                      </a:lnTo>
                      <a:lnTo>
                        <a:pt x="15165" y="520103"/>
                      </a:lnTo>
                      <a:lnTo>
                        <a:pt x="21441" y="510598"/>
                      </a:lnTo>
                      <a:lnTo>
                        <a:pt x="28566" y="501809"/>
                      </a:lnTo>
                      <a:lnTo>
                        <a:pt x="36411" y="493736"/>
                      </a:lnTo>
                      <a:lnTo>
                        <a:pt x="44842" y="486315"/>
                      </a:lnTo>
                      <a:lnTo>
                        <a:pt x="53732" y="479609"/>
                      </a:lnTo>
                      <a:lnTo>
                        <a:pt x="63015" y="473555"/>
                      </a:lnTo>
                      <a:lnTo>
                        <a:pt x="72492" y="468086"/>
                      </a:lnTo>
                      <a:lnTo>
                        <a:pt x="82101" y="463268"/>
                      </a:lnTo>
                      <a:lnTo>
                        <a:pt x="91776" y="459167"/>
                      </a:lnTo>
                      <a:lnTo>
                        <a:pt x="101320" y="455652"/>
                      </a:lnTo>
                      <a:lnTo>
                        <a:pt x="102301" y="454219"/>
                      </a:lnTo>
                      <a:lnTo>
                        <a:pt x="102889" y="452397"/>
                      </a:lnTo>
                      <a:lnTo>
                        <a:pt x="103412" y="448099"/>
                      </a:lnTo>
                      <a:lnTo>
                        <a:pt x="103935" y="443738"/>
                      </a:lnTo>
                      <a:lnTo>
                        <a:pt x="104393" y="441849"/>
                      </a:lnTo>
                      <a:lnTo>
                        <a:pt x="105242" y="440287"/>
                      </a:lnTo>
                      <a:lnTo>
                        <a:pt x="105699" y="439702"/>
                      </a:lnTo>
                      <a:lnTo>
                        <a:pt x="106484" y="438855"/>
                      </a:lnTo>
                      <a:lnTo>
                        <a:pt x="108968" y="436511"/>
                      </a:lnTo>
                      <a:lnTo>
                        <a:pt x="112498" y="433451"/>
                      </a:lnTo>
                      <a:lnTo>
                        <a:pt x="116942" y="429675"/>
                      </a:lnTo>
                      <a:lnTo>
                        <a:pt x="122041" y="425443"/>
                      </a:lnTo>
                      <a:lnTo>
                        <a:pt x="127598" y="420756"/>
                      </a:lnTo>
                      <a:lnTo>
                        <a:pt x="139887" y="410861"/>
                      </a:lnTo>
                      <a:lnTo>
                        <a:pt x="152372" y="400901"/>
                      </a:lnTo>
                      <a:lnTo>
                        <a:pt x="158320" y="396213"/>
                      </a:lnTo>
                      <a:lnTo>
                        <a:pt x="163812" y="391851"/>
                      </a:lnTo>
                      <a:lnTo>
                        <a:pt x="168780" y="388010"/>
                      </a:lnTo>
                      <a:lnTo>
                        <a:pt x="172964" y="384820"/>
                      </a:lnTo>
                      <a:lnTo>
                        <a:pt x="176231" y="382346"/>
                      </a:lnTo>
                      <a:lnTo>
                        <a:pt x="177474" y="381434"/>
                      </a:lnTo>
                      <a:lnTo>
                        <a:pt x="178453" y="380784"/>
                      </a:lnTo>
                      <a:lnTo>
                        <a:pt x="182572" y="378244"/>
                      </a:lnTo>
                      <a:lnTo>
                        <a:pt x="187017" y="375901"/>
                      </a:lnTo>
                      <a:lnTo>
                        <a:pt x="821019" y="15625"/>
                      </a:lnTo>
                      <a:lnTo>
                        <a:pt x="821151" y="17251"/>
                      </a:lnTo>
                      <a:lnTo>
                        <a:pt x="820759" y="18944"/>
                      </a:lnTo>
                      <a:lnTo>
                        <a:pt x="819909" y="20702"/>
                      </a:lnTo>
                      <a:lnTo>
                        <a:pt x="817163" y="24348"/>
                      </a:lnTo>
                      <a:lnTo>
                        <a:pt x="813306" y="28124"/>
                      </a:lnTo>
                      <a:lnTo>
                        <a:pt x="803959" y="35675"/>
                      </a:lnTo>
                      <a:lnTo>
                        <a:pt x="799448" y="39257"/>
                      </a:lnTo>
                      <a:lnTo>
                        <a:pt x="795527" y="42641"/>
                      </a:lnTo>
                      <a:lnTo>
                        <a:pt x="785264" y="51821"/>
                      </a:lnTo>
                      <a:lnTo>
                        <a:pt x="774608" y="60609"/>
                      </a:lnTo>
                      <a:lnTo>
                        <a:pt x="752514" y="77146"/>
                      </a:lnTo>
                      <a:lnTo>
                        <a:pt x="730158" y="93356"/>
                      </a:lnTo>
                      <a:lnTo>
                        <a:pt x="719176" y="101559"/>
                      </a:lnTo>
                      <a:lnTo>
                        <a:pt x="708587" y="110087"/>
                      </a:lnTo>
                      <a:lnTo>
                        <a:pt x="691069" y="124279"/>
                      </a:lnTo>
                      <a:lnTo>
                        <a:pt x="673223" y="138342"/>
                      </a:lnTo>
                      <a:lnTo>
                        <a:pt x="637272" y="165685"/>
                      </a:lnTo>
                      <a:lnTo>
                        <a:pt x="601189" y="192572"/>
                      </a:lnTo>
                      <a:lnTo>
                        <a:pt x="565041" y="219070"/>
                      </a:lnTo>
                      <a:lnTo>
                        <a:pt x="528827" y="246347"/>
                      </a:lnTo>
                      <a:lnTo>
                        <a:pt x="510719" y="260474"/>
                      </a:lnTo>
                      <a:lnTo>
                        <a:pt x="492677" y="275122"/>
                      </a:lnTo>
                      <a:lnTo>
                        <a:pt x="475224" y="288859"/>
                      </a:lnTo>
                      <a:lnTo>
                        <a:pt x="457053" y="302140"/>
                      </a:lnTo>
                      <a:lnTo>
                        <a:pt x="447639" y="308911"/>
                      </a:lnTo>
                      <a:lnTo>
                        <a:pt x="437834" y="315877"/>
                      </a:lnTo>
                      <a:lnTo>
                        <a:pt x="427832" y="323103"/>
                      </a:lnTo>
                      <a:lnTo>
                        <a:pt x="417505" y="330850"/>
                      </a:lnTo>
                      <a:lnTo>
                        <a:pt x="381160" y="358128"/>
                      </a:lnTo>
                      <a:lnTo>
                        <a:pt x="362792" y="371540"/>
                      </a:lnTo>
                      <a:lnTo>
                        <a:pt x="344227" y="384560"/>
                      </a:lnTo>
                      <a:lnTo>
                        <a:pt x="341547" y="386447"/>
                      </a:lnTo>
                      <a:lnTo>
                        <a:pt x="338278" y="388791"/>
                      </a:lnTo>
                      <a:lnTo>
                        <a:pt x="334421" y="391461"/>
                      </a:lnTo>
                      <a:lnTo>
                        <a:pt x="330043" y="394455"/>
                      </a:lnTo>
                      <a:lnTo>
                        <a:pt x="320236" y="400835"/>
                      </a:lnTo>
                      <a:lnTo>
                        <a:pt x="309321" y="407280"/>
                      </a:lnTo>
                      <a:lnTo>
                        <a:pt x="297947" y="413075"/>
                      </a:lnTo>
                      <a:lnTo>
                        <a:pt x="292325" y="415483"/>
                      </a:lnTo>
                      <a:lnTo>
                        <a:pt x="286768" y="417436"/>
                      </a:lnTo>
                      <a:lnTo>
                        <a:pt x="281409" y="418869"/>
                      </a:lnTo>
                      <a:lnTo>
                        <a:pt x="276243" y="419714"/>
                      </a:lnTo>
                      <a:lnTo>
                        <a:pt x="271472" y="419845"/>
                      </a:lnTo>
                      <a:lnTo>
                        <a:pt x="267158" y="419129"/>
                      </a:lnTo>
                      <a:lnTo>
                        <a:pt x="264347" y="418021"/>
                      </a:lnTo>
                      <a:lnTo>
                        <a:pt x="261405" y="415939"/>
                      </a:lnTo>
                      <a:lnTo>
                        <a:pt x="258268" y="413204"/>
                      </a:lnTo>
                      <a:lnTo>
                        <a:pt x="255001" y="409820"/>
                      </a:lnTo>
                      <a:lnTo>
                        <a:pt x="251601" y="405978"/>
                      </a:lnTo>
                      <a:lnTo>
                        <a:pt x="248136" y="401746"/>
                      </a:lnTo>
                      <a:lnTo>
                        <a:pt x="240881" y="392698"/>
                      </a:lnTo>
                      <a:lnTo>
                        <a:pt x="233428" y="383583"/>
                      </a:lnTo>
                      <a:lnTo>
                        <a:pt x="225911" y="375315"/>
                      </a:lnTo>
                      <a:lnTo>
                        <a:pt x="222185" y="371865"/>
                      </a:lnTo>
                      <a:lnTo>
                        <a:pt x="218460" y="368999"/>
                      </a:lnTo>
                      <a:lnTo>
                        <a:pt x="214798" y="366787"/>
                      </a:lnTo>
                      <a:lnTo>
                        <a:pt x="211203" y="365419"/>
                      </a:lnTo>
                      <a:lnTo>
                        <a:pt x="211203" y="357737"/>
                      </a:lnTo>
                      <a:lnTo>
                        <a:pt x="224930" y="346800"/>
                      </a:lnTo>
                      <a:lnTo>
                        <a:pt x="239246" y="336319"/>
                      </a:lnTo>
                      <a:lnTo>
                        <a:pt x="253888" y="326162"/>
                      </a:lnTo>
                      <a:lnTo>
                        <a:pt x="268988" y="316397"/>
                      </a:lnTo>
                      <a:lnTo>
                        <a:pt x="299711" y="297453"/>
                      </a:lnTo>
                      <a:lnTo>
                        <a:pt x="330761" y="279029"/>
                      </a:lnTo>
                      <a:lnTo>
                        <a:pt x="409333" y="233002"/>
                      </a:lnTo>
                      <a:lnTo>
                        <a:pt x="448946" y="210540"/>
                      </a:lnTo>
                      <a:lnTo>
                        <a:pt x="488820" y="188732"/>
                      </a:lnTo>
                      <a:lnTo>
                        <a:pt x="533205" y="164709"/>
                      </a:lnTo>
                      <a:lnTo>
                        <a:pt x="576675" y="140556"/>
                      </a:lnTo>
                      <a:lnTo>
                        <a:pt x="619621" y="116532"/>
                      </a:lnTo>
                      <a:lnTo>
                        <a:pt x="662308" y="92771"/>
                      </a:lnTo>
                      <a:lnTo>
                        <a:pt x="688454" y="77992"/>
                      </a:lnTo>
                      <a:lnTo>
                        <a:pt x="714077" y="63149"/>
                      </a:lnTo>
                      <a:lnTo>
                        <a:pt x="764476" y="33267"/>
                      </a:lnTo>
                      <a:lnTo>
                        <a:pt x="766896" y="31770"/>
                      </a:lnTo>
                      <a:lnTo>
                        <a:pt x="769902" y="29817"/>
                      </a:lnTo>
                      <a:lnTo>
                        <a:pt x="773302" y="27603"/>
                      </a:lnTo>
                      <a:lnTo>
                        <a:pt x="777092" y="25194"/>
                      </a:lnTo>
                      <a:lnTo>
                        <a:pt x="785395" y="20050"/>
                      </a:lnTo>
                      <a:lnTo>
                        <a:pt x="794218" y="15169"/>
                      </a:lnTo>
                      <a:lnTo>
                        <a:pt x="798534" y="13085"/>
                      </a:lnTo>
                      <a:lnTo>
                        <a:pt x="802717" y="11393"/>
                      </a:lnTo>
                      <a:lnTo>
                        <a:pt x="806703" y="10156"/>
                      </a:lnTo>
                      <a:lnTo>
                        <a:pt x="810429" y="9440"/>
                      </a:lnTo>
                      <a:lnTo>
                        <a:pt x="813699" y="9374"/>
                      </a:lnTo>
                      <a:lnTo>
                        <a:pt x="816509" y="10090"/>
                      </a:lnTo>
                      <a:lnTo>
                        <a:pt x="818732" y="11587"/>
                      </a:lnTo>
                      <a:lnTo>
                        <a:pt x="820366" y="14061"/>
                      </a:lnTo>
                      <a:lnTo>
                        <a:pt x="236631" y="463334"/>
                      </a:lnTo>
                      <a:lnTo>
                        <a:pt x="226042" y="469192"/>
                      </a:lnTo>
                      <a:lnTo>
                        <a:pt x="205647" y="480977"/>
                      </a:lnTo>
                      <a:lnTo>
                        <a:pt x="195189" y="486706"/>
                      </a:lnTo>
                      <a:lnTo>
                        <a:pt x="184206" y="492043"/>
                      </a:lnTo>
                      <a:lnTo>
                        <a:pt x="172244" y="497121"/>
                      </a:lnTo>
                      <a:lnTo>
                        <a:pt x="159172" y="501744"/>
                      </a:lnTo>
                      <a:lnTo>
                        <a:pt x="156295" y="500051"/>
                      </a:lnTo>
                      <a:lnTo>
                        <a:pt x="152895" y="497772"/>
                      </a:lnTo>
                      <a:lnTo>
                        <a:pt x="149235" y="494973"/>
                      </a:lnTo>
                      <a:lnTo>
                        <a:pt x="145378" y="491718"/>
                      </a:lnTo>
                      <a:lnTo>
                        <a:pt x="137403" y="484101"/>
                      </a:lnTo>
                      <a:lnTo>
                        <a:pt x="129821" y="475508"/>
                      </a:lnTo>
                      <a:lnTo>
                        <a:pt x="123284" y="466524"/>
                      </a:lnTo>
                      <a:lnTo>
                        <a:pt x="120734" y="462031"/>
                      </a:lnTo>
                      <a:lnTo>
                        <a:pt x="118774" y="457605"/>
                      </a:lnTo>
                      <a:lnTo>
                        <a:pt x="117466" y="453373"/>
                      </a:lnTo>
                      <a:lnTo>
                        <a:pt x="116942" y="449271"/>
                      </a:lnTo>
                      <a:lnTo>
                        <a:pt x="117335" y="445560"/>
                      </a:lnTo>
                      <a:lnTo>
                        <a:pt x="118708" y="442174"/>
                      </a:lnTo>
                      <a:lnTo>
                        <a:pt x="119297" y="441393"/>
                      </a:lnTo>
                      <a:lnTo>
                        <a:pt x="120278" y="440287"/>
                      </a:lnTo>
                      <a:lnTo>
                        <a:pt x="121585" y="438985"/>
                      </a:lnTo>
                      <a:lnTo>
                        <a:pt x="123284" y="437422"/>
                      </a:lnTo>
                      <a:lnTo>
                        <a:pt x="127401" y="433842"/>
                      </a:lnTo>
                      <a:lnTo>
                        <a:pt x="132566" y="429610"/>
                      </a:lnTo>
                      <a:lnTo>
                        <a:pt x="138449" y="424923"/>
                      </a:lnTo>
                      <a:lnTo>
                        <a:pt x="144986" y="419975"/>
                      </a:lnTo>
                      <a:lnTo>
                        <a:pt x="158975" y="409558"/>
                      </a:lnTo>
                      <a:lnTo>
                        <a:pt x="166035" y="404416"/>
                      </a:lnTo>
                      <a:lnTo>
                        <a:pt x="172964" y="399468"/>
                      </a:lnTo>
                      <a:lnTo>
                        <a:pt x="179501" y="394911"/>
                      </a:lnTo>
                      <a:lnTo>
                        <a:pt x="185449" y="390874"/>
                      </a:lnTo>
                      <a:lnTo>
                        <a:pt x="190613" y="387554"/>
                      </a:lnTo>
                      <a:lnTo>
                        <a:pt x="194862" y="384949"/>
                      </a:lnTo>
                      <a:lnTo>
                        <a:pt x="196562" y="383974"/>
                      </a:lnTo>
                      <a:lnTo>
                        <a:pt x="197933" y="383258"/>
                      </a:lnTo>
                      <a:lnTo>
                        <a:pt x="198979" y="382802"/>
                      </a:lnTo>
                      <a:lnTo>
                        <a:pt x="199633" y="382671"/>
                      </a:lnTo>
                      <a:lnTo>
                        <a:pt x="203817" y="383258"/>
                      </a:lnTo>
                      <a:lnTo>
                        <a:pt x="208393" y="385015"/>
                      </a:lnTo>
                      <a:lnTo>
                        <a:pt x="213033" y="387684"/>
                      </a:lnTo>
                      <a:lnTo>
                        <a:pt x="217804" y="391200"/>
                      </a:lnTo>
                      <a:lnTo>
                        <a:pt x="222644" y="395497"/>
                      </a:lnTo>
                      <a:lnTo>
                        <a:pt x="227284" y="400445"/>
                      </a:lnTo>
                      <a:lnTo>
                        <a:pt x="231729" y="405849"/>
                      </a:lnTo>
                      <a:lnTo>
                        <a:pt x="235978" y="411707"/>
                      </a:lnTo>
                      <a:lnTo>
                        <a:pt x="239703" y="417761"/>
                      </a:lnTo>
                      <a:lnTo>
                        <a:pt x="243103" y="424011"/>
                      </a:lnTo>
                      <a:lnTo>
                        <a:pt x="245848" y="430196"/>
                      </a:lnTo>
                      <a:lnTo>
                        <a:pt x="248005" y="436381"/>
                      </a:lnTo>
                      <a:lnTo>
                        <a:pt x="249312" y="442305"/>
                      </a:lnTo>
                      <a:lnTo>
                        <a:pt x="249771" y="447905"/>
                      </a:lnTo>
                      <a:lnTo>
                        <a:pt x="249312" y="453047"/>
                      </a:lnTo>
                      <a:lnTo>
                        <a:pt x="247810" y="457539"/>
                      </a:lnTo>
                      <a:lnTo>
                        <a:pt x="139560" y="509621"/>
                      </a:lnTo>
                      <a:lnTo>
                        <a:pt x="138384" y="516587"/>
                      </a:lnTo>
                      <a:lnTo>
                        <a:pt x="136423" y="522706"/>
                      </a:lnTo>
                      <a:lnTo>
                        <a:pt x="133742" y="528045"/>
                      </a:lnTo>
                      <a:lnTo>
                        <a:pt x="130410" y="532733"/>
                      </a:lnTo>
                      <a:lnTo>
                        <a:pt x="126487" y="536769"/>
                      </a:lnTo>
                      <a:lnTo>
                        <a:pt x="122041" y="540349"/>
                      </a:lnTo>
                      <a:lnTo>
                        <a:pt x="117204" y="543410"/>
                      </a:lnTo>
                      <a:lnTo>
                        <a:pt x="111909" y="546078"/>
                      </a:lnTo>
                      <a:lnTo>
                        <a:pt x="106353" y="548552"/>
                      </a:lnTo>
                      <a:lnTo>
                        <a:pt x="94586" y="552784"/>
                      </a:lnTo>
                      <a:lnTo>
                        <a:pt x="82494" y="556820"/>
                      </a:lnTo>
                      <a:lnTo>
                        <a:pt x="70532" y="561247"/>
                      </a:lnTo>
                      <a:lnTo>
                        <a:pt x="65760" y="563396"/>
                      </a:lnTo>
                      <a:lnTo>
                        <a:pt x="61380" y="565870"/>
                      </a:lnTo>
                      <a:lnTo>
                        <a:pt x="57327" y="568604"/>
                      </a:lnTo>
                      <a:lnTo>
                        <a:pt x="53536" y="571534"/>
                      </a:lnTo>
                      <a:lnTo>
                        <a:pt x="46738" y="578109"/>
                      </a:lnTo>
                      <a:lnTo>
                        <a:pt x="40724" y="585466"/>
                      </a:lnTo>
                      <a:lnTo>
                        <a:pt x="35298" y="593342"/>
                      </a:lnTo>
                      <a:lnTo>
                        <a:pt x="30265" y="601676"/>
                      </a:lnTo>
                      <a:lnTo>
                        <a:pt x="20395" y="618798"/>
                      </a:lnTo>
                      <a:lnTo>
                        <a:pt x="17322" y="611766"/>
                      </a:lnTo>
                      <a:lnTo>
                        <a:pt x="14969" y="604346"/>
                      </a:lnTo>
                      <a:lnTo>
                        <a:pt x="13270" y="596728"/>
                      </a:lnTo>
                      <a:lnTo>
                        <a:pt x="12159" y="588851"/>
                      </a:lnTo>
                      <a:lnTo>
                        <a:pt x="11700" y="580908"/>
                      </a:lnTo>
                      <a:lnTo>
                        <a:pt x="11700" y="572901"/>
                      </a:lnTo>
                      <a:lnTo>
                        <a:pt x="12354" y="565023"/>
                      </a:lnTo>
                      <a:lnTo>
                        <a:pt x="13530" y="557080"/>
                      </a:lnTo>
                      <a:lnTo>
                        <a:pt x="15100" y="549399"/>
                      </a:lnTo>
                      <a:lnTo>
                        <a:pt x="17192" y="541912"/>
                      </a:lnTo>
                      <a:lnTo>
                        <a:pt x="19675" y="534751"/>
                      </a:lnTo>
                      <a:lnTo>
                        <a:pt x="22617" y="527915"/>
                      </a:lnTo>
                      <a:lnTo>
                        <a:pt x="25886" y="521469"/>
                      </a:lnTo>
                      <a:lnTo>
                        <a:pt x="29482" y="515611"/>
                      </a:lnTo>
                      <a:lnTo>
                        <a:pt x="33468" y="510272"/>
                      </a:lnTo>
                      <a:lnTo>
                        <a:pt x="37718" y="505519"/>
                      </a:lnTo>
                      <a:lnTo>
                        <a:pt x="50333" y="493736"/>
                      </a:lnTo>
                      <a:lnTo>
                        <a:pt x="56739" y="488397"/>
                      </a:lnTo>
                      <a:lnTo>
                        <a:pt x="63212" y="483580"/>
                      </a:lnTo>
                      <a:lnTo>
                        <a:pt x="69748" y="479348"/>
                      </a:lnTo>
                      <a:lnTo>
                        <a:pt x="76284" y="475833"/>
                      </a:lnTo>
                      <a:lnTo>
                        <a:pt x="82821" y="473099"/>
                      </a:lnTo>
                      <a:lnTo>
                        <a:pt x="89423" y="471341"/>
                      </a:lnTo>
                      <a:lnTo>
                        <a:pt x="95960" y="470494"/>
                      </a:lnTo>
                      <a:lnTo>
                        <a:pt x="102432" y="470821"/>
                      </a:lnTo>
                      <a:lnTo>
                        <a:pt x="108902" y="472383"/>
                      </a:lnTo>
                      <a:lnTo>
                        <a:pt x="115243" y="475246"/>
                      </a:lnTo>
                      <a:lnTo>
                        <a:pt x="121585" y="479544"/>
                      </a:lnTo>
                      <a:lnTo>
                        <a:pt x="127794" y="485273"/>
                      </a:lnTo>
                      <a:lnTo>
                        <a:pt x="133873" y="492629"/>
                      </a:lnTo>
                      <a:lnTo>
                        <a:pt x="139887" y="501744"/>
                      </a:lnTo>
                      <a:lnTo>
                        <a:pt x="195776" y="3711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" name="Freeform: Shape 21"/>
                <p:cNvSpPr/>
                <p:nvPr/>
              </p:nvSpPr>
              <p:spPr>
                <a:xfrm rot="10201200">
                  <a:off x="9836640" y="1552680"/>
                  <a:ext cx="23760" cy="244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8508" h="30729">
                      <a:moveTo>
                        <a:pt x="0" y="23827"/>
                      </a:moveTo>
                      <a:lnTo>
                        <a:pt x="8629" y="17968"/>
                      </a:lnTo>
                      <a:lnTo>
                        <a:pt x="17195" y="11588"/>
                      </a:lnTo>
                      <a:lnTo>
                        <a:pt x="26348" y="5338"/>
                      </a:lnTo>
                      <a:lnTo>
                        <a:pt x="31250" y="2539"/>
                      </a:lnTo>
                      <a:lnTo>
                        <a:pt x="-28990" y="0"/>
                      </a:lnTo>
                      <a:lnTo>
                        <a:pt x="-27029" y="5729"/>
                      </a:lnTo>
                      <a:lnTo>
                        <a:pt x="-30756" y="8593"/>
                      </a:lnTo>
                      <a:lnTo>
                        <a:pt x="30661" y="11719"/>
                      </a:lnTo>
                      <a:lnTo>
                        <a:pt x="21574" y="18293"/>
                      </a:lnTo>
                      <a:lnTo>
                        <a:pt x="12225" y="24868"/>
                      </a:lnTo>
                      <a:lnTo>
                        <a:pt x="7845" y="27929"/>
                      </a:lnTo>
                      <a:lnTo>
                        <a:pt x="3793" y="30728"/>
                      </a:lnTo>
                      <a:lnTo>
                        <a:pt x="3007" y="29035"/>
                      </a:lnTo>
                      <a:lnTo>
                        <a:pt x="2027" y="27473"/>
                      </a:lnTo>
                      <a:lnTo>
                        <a:pt x="1045" y="25911"/>
                      </a:lnTo>
                      <a:lnTo>
                        <a:pt x="0" y="238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Freeform: Shape 22"/>
                <p:cNvSpPr/>
                <p:nvPr/>
              </p:nvSpPr>
              <p:spPr>
                <a:xfrm rot="10201200">
                  <a:off x="9826920" y="1529640"/>
                  <a:ext cx="31680" cy="1980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37197" h="26044">
                      <a:moveTo>
                        <a:pt x="-28340" y="5991"/>
                      </a:moveTo>
                      <a:lnTo>
                        <a:pt x="-31609" y="7618"/>
                      </a:lnTo>
                      <a:lnTo>
                        <a:pt x="30006" y="9896"/>
                      </a:lnTo>
                      <a:lnTo>
                        <a:pt x="25690" y="12697"/>
                      </a:lnTo>
                      <a:lnTo>
                        <a:pt x="21115" y="15691"/>
                      </a:lnTo>
                      <a:lnTo>
                        <a:pt x="11636" y="21680"/>
                      </a:lnTo>
                      <a:lnTo>
                        <a:pt x="7060" y="24154"/>
                      </a:lnTo>
                      <a:lnTo>
                        <a:pt x="2810" y="26043"/>
                      </a:lnTo>
                      <a:lnTo>
                        <a:pt x="0" y="22136"/>
                      </a:lnTo>
                      <a:lnTo>
                        <a:pt x="2941" y="19727"/>
                      </a:lnTo>
                      <a:lnTo>
                        <a:pt x="6667" y="16928"/>
                      </a:lnTo>
                      <a:lnTo>
                        <a:pt x="10917" y="13933"/>
                      </a:lnTo>
                      <a:lnTo>
                        <a:pt x="15623" y="10808"/>
                      </a:lnTo>
                      <a:lnTo>
                        <a:pt x="25429" y="4754"/>
                      </a:lnTo>
                      <a:lnTo>
                        <a:pt x="30071" y="2149"/>
                      </a:lnTo>
                      <a:lnTo>
                        <a:pt x="-31217" y="0"/>
                      </a:lnTo>
                      <a:lnTo>
                        <a:pt x="-29844" y="1043"/>
                      </a:lnTo>
                      <a:lnTo>
                        <a:pt x="-29190" y="2474"/>
                      </a:lnTo>
                      <a:lnTo>
                        <a:pt x="-28340" y="59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Freeform: Shape 23"/>
                <p:cNvSpPr/>
                <p:nvPr/>
              </p:nvSpPr>
              <p:spPr>
                <a:xfrm rot="10201200">
                  <a:off x="9809640" y="1532880"/>
                  <a:ext cx="34920" cy="21240"/>
                </a:xfrm>
                <a:custGeom>
                  <a:avLst/>
                  <a:gdLst>
                    <a:gd name="textAreaLeft" fmla="*/ 0 w 34920"/>
                    <a:gd name="textAreaRight" fmla="*/ 35280 w 349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39613" h="25650">
                      <a:moveTo>
                        <a:pt x="0" y="20376"/>
                      </a:moveTo>
                      <a:lnTo>
                        <a:pt x="2941" y="18683"/>
                      </a:lnTo>
                      <a:lnTo>
                        <a:pt x="6537" y="16404"/>
                      </a:lnTo>
                      <a:lnTo>
                        <a:pt x="10720" y="13736"/>
                      </a:lnTo>
                      <a:lnTo>
                        <a:pt x="15360" y="10806"/>
                      </a:lnTo>
                      <a:lnTo>
                        <a:pt x="25362" y="4882"/>
                      </a:lnTo>
                      <a:lnTo>
                        <a:pt x="30656" y="2278"/>
                      </a:lnTo>
                      <a:lnTo>
                        <a:pt x="-29717" y="0"/>
                      </a:lnTo>
                      <a:lnTo>
                        <a:pt x="-25924" y="5142"/>
                      </a:lnTo>
                      <a:lnTo>
                        <a:pt x="30656" y="10025"/>
                      </a:lnTo>
                      <a:lnTo>
                        <a:pt x="21569" y="15363"/>
                      </a:lnTo>
                      <a:lnTo>
                        <a:pt x="12484" y="20636"/>
                      </a:lnTo>
                      <a:lnTo>
                        <a:pt x="3660" y="25649"/>
                      </a:lnTo>
                      <a:lnTo>
                        <a:pt x="0" y="20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Freeform: Shape 24"/>
                <p:cNvSpPr/>
                <p:nvPr/>
              </p:nvSpPr>
              <p:spPr>
                <a:xfrm rot="10201200">
                  <a:off x="9814680" y="1522080"/>
                  <a:ext cx="31680" cy="183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6151" h="23439">
                      <a:moveTo>
                        <a:pt x="32686" y="0"/>
                      </a:moveTo>
                      <a:lnTo>
                        <a:pt x="-29386" y="4362"/>
                      </a:lnTo>
                      <a:lnTo>
                        <a:pt x="-32065" y="6185"/>
                      </a:lnTo>
                      <a:lnTo>
                        <a:pt x="29810" y="8529"/>
                      </a:lnTo>
                      <a:lnTo>
                        <a:pt x="25495" y="11197"/>
                      </a:lnTo>
                      <a:lnTo>
                        <a:pt x="20788" y="14063"/>
                      </a:lnTo>
                      <a:lnTo>
                        <a:pt x="11245" y="19531"/>
                      </a:lnTo>
                      <a:lnTo>
                        <a:pt x="6864" y="21810"/>
                      </a:lnTo>
                      <a:lnTo>
                        <a:pt x="3269" y="23438"/>
                      </a:lnTo>
                      <a:lnTo>
                        <a:pt x="0" y="18750"/>
                      </a:lnTo>
                      <a:lnTo>
                        <a:pt x="3596" y="16406"/>
                      </a:lnTo>
                      <a:lnTo>
                        <a:pt x="7975" y="13802"/>
                      </a:lnTo>
                      <a:lnTo>
                        <a:pt x="17520" y="8334"/>
                      </a:lnTo>
                      <a:lnTo>
                        <a:pt x="22226" y="5664"/>
                      </a:lnTo>
                      <a:lnTo>
                        <a:pt x="26411" y="3321"/>
                      </a:lnTo>
                      <a:lnTo>
                        <a:pt x="30006" y="1432"/>
                      </a:lnTo>
                      <a:lnTo>
                        <a:pt x="3268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" name="Freeform: Shape 25"/>
                <p:cNvSpPr/>
                <p:nvPr/>
              </p:nvSpPr>
              <p:spPr>
                <a:xfrm rot="10201200">
                  <a:off x="9790920" y="1523160"/>
                  <a:ext cx="27000" cy="1836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8360"/>
                    <a:gd name="textAreaBottom" fmla="*/ 18720 h 18360"/>
                  </a:gdLst>
                  <a:ahLst/>
                  <a:rect l="textAreaLeft" t="textAreaTop" r="textAreaRight" b="textAreaBottom"/>
                  <a:pathLst>
                    <a:path w="32490" h="20899">
                      <a:moveTo>
                        <a:pt x="0" y="16732"/>
                      </a:moveTo>
                      <a:lnTo>
                        <a:pt x="14904" y="7813"/>
                      </a:lnTo>
                      <a:lnTo>
                        <a:pt x="22421" y="3646"/>
                      </a:lnTo>
                      <a:lnTo>
                        <a:pt x="30331" y="0"/>
                      </a:lnTo>
                      <a:lnTo>
                        <a:pt x="32489" y="6185"/>
                      </a:lnTo>
                      <a:lnTo>
                        <a:pt x="29416" y="7552"/>
                      </a:lnTo>
                      <a:lnTo>
                        <a:pt x="25886" y="9179"/>
                      </a:lnTo>
                      <a:lnTo>
                        <a:pt x="18108" y="13021"/>
                      </a:lnTo>
                      <a:lnTo>
                        <a:pt x="10655" y="17057"/>
                      </a:lnTo>
                      <a:lnTo>
                        <a:pt x="7388" y="19075"/>
                      </a:lnTo>
                      <a:lnTo>
                        <a:pt x="4771" y="20898"/>
                      </a:lnTo>
                      <a:lnTo>
                        <a:pt x="3138" y="20052"/>
                      </a:lnTo>
                      <a:lnTo>
                        <a:pt x="1896" y="19205"/>
                      </a:lnTo>
                      <a:lnTo>
                        <a:pt x="0" y="167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Freeform: Shape 26"/>
                <p:cNvSpPr/>
                <p:nvPr/>
              </p:nvSpPr>
              <p:spPr>
                <a:xfrm rot="10201200">
                  <a:off x="9910440" y="1416960"/>
                  <a:ext cx="44280" cy="45720"/>
                </a:xfrm>
                <a:custGeom>
                  <a:avLst/>
                  <a:gdLst>
                    <a:gd name="textAreaLeft" fmla="*/ 0 w 44280"/>
                    <a:gd name="textAreaRight" fmla="*/ 44640 w 442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52693" h="54298">
                      <a:moveTo>
                        <a:pt x="-16700" y="261"/>
                      </a:moveTo>
                      <a:lnTo>
                        <a:pt x="-15000" y="0"/>
                      </a:lnTo>
                      <a:lnTo>
                        <a:pt x="-13824" y="65"/>
                      </a:lnTo>
                      <a:lnTo>
                        <a:pt x="-13170" y="521"/>
                      </a:lnTo>
                      <a:lnTo>
                        <a:pt x="-12844" y="1237"/>
                      </a:lnTo>
                      <a:lnTo>
                        <a:pt x="-12844" y="3451"/>
                      </a:lnTo>
                      <a:lnTo>
                        <a:pt x="-12908" y="5990"/>
                      </a:lnTo>
                      <a:lnTo>
                        <a:pt x="-17812" y="10482"/>
                      </a:lnTo>
                      <a:lnTo>
                        <a:pt x="-22387" y="14323"/>
                      </a:lnTo>
                      <a:lnTo>
                        <a:pt x="-30886" y="21420"/>
                      </a:lnTo>
                      <a:lnTo>
                        <a:pt x="26282" y="28580"/>
                      </a:lnTo>
                      <a:lnTo>
                        <a:pt x="21837" y="32618"/>
                      </a:lnTo>
                      <a:lnTo>
                        <a:pt x="17064" y="-28297"/>
                      </a:lnTo>
                      <a:lnTo>
                        <a:pt x="0" y="-11239"/>
                      </a:lnTo>
                      <a:lnTo>
                        <a:pt x="4576" y="-20223"/>
                      </a:lnTo>
                      <a:lnTo>
                        <a:pt x="9806" y="-28622"/>
                      </a:lnTo>
                      <a:lnTo>
                        <a:pt x="15561" y="29102"/>
                      </a:lnTo>
                      <a:lnTo>
                        <a:pt x="21771" y="21810"/>
                      </a:lnTo>
                      <a:lnTo>
                        <a:pt x="28307" y="15300"/>
                      </a:lnTo>
                      <a:lnTo>
                        <a:pt x="-30495" y="9505"/>
                      </a:lnTo>
                      <a:lnTo>
                        <a:pt x="-23630" y="4492"/>
                      </a:lnTo>
                      <a:lnTo>
                        <a:pt x="-16700" y="26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" name="Freeform: Shape 27"/>
                <p:cNvSpPr/>
                <p:nvPr/>
              </p:nvSpPr>
              <p:spPr>
                <a:xfrm rot="10201200">
                  <a:off x="9878760" y="1378440"/>
                  <a:ext cx="93600" cy="93600"/>
                </a:xfrm>
                <a:custGeom>
                  <a:avLst/>
                  <a:gdLst>
                    <a:gd name="textAreaLeft" fmla="*/ 0 w 93600"/>
                    <a:gd name="textAreaRight" fmla="*/ 93960 w 9360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110545" h="117121">
                      <a:moveTo>
                        <a:pt x="70078" y="0"/>
                      </a:moveTo>
                      <a:lnTo>
                        <a:pt x="77532" y="521"/>
                      </a:lnTo>
                      <a:lnTo>
                        <a:pt x="84133" y="1887"/>
                      </a:lnTo>
                      <a:lnTo>
                        <a:pt x="89886" y="4101"/>
                      </a:lnTo>
                      <a:lnTo>
                        <a:pt x="94985" y="6901"/>
                      </a:lnTo>
                      <a:lnTo>
                        <a:pt x="99431" y="10286"/>
                      </a:lnTo>
                      <a:lnTo>
                        <a:pt x="103484" y="14192"/>
                      </a:lnTo>
                      <a:lnTo>
                        <a:pt x="107144" y="18424"/>
                      </a:lnTo>
                      <a:lnTo>
                        <a:pt x="110544" y="23047"/>
                      </a:lnTo>
                      <a:lnTo>
                        <a:pt x="110152" y="28189"/>
                      </a:lnTo>
                      <a:lnTo>
                        <a:pt x="108974" y="33008"/>
                      </a:lnTo>
                      <a:lnTo>
                        <a:pt x="107211" y="37500"/>
                      </a:lnTo>
                      <a:lnTo>
                        <a:pt x="104988" y="41600"/>
                      </a:lnTo>
                      <a:lnTo>
                        <a:pt x="102372" y="45247"/>
                      </a:lnTo>
                      <a:lnTo>
                        <a:pt x="99431" y="48502"/>
                      </a:lnTo>
                      <a:lnTo>
                        <a:pt x="96358" y="51367"/>
                      </a:lnTo>
                      <a:lnTo>
                        <a:pt x="93155" y="53710"/>
                      </a:lnTo>
                      <a:lnTo>
                        <a:pt x="87272" y="57616"/>
                      </a:lnTo>
                      <a:lnTo>
                        <a:pt x="81126" y="61197"/>
                      </a:lnTo>
                      <a:lnTo>
                        <a:pt x="68379" y="67773"/>
                      </a:lnTo>
                      <a:lnTo>
                        <a:pt x="55501" y="73957"/>
                      </a:lnTo>
                      <a:lnTo>
                        <a:pt x="42884" y="80337"/>
                      </a:lnTo>
                      <a:lnTo>
                        <a:pt x="30789" y="87303"/>
                      </a:lnTo>
                      <a:lnTo>
                        <a:pt x="25167" y="91209"/>
                      </a:lnTo>
                      <a:lnTo>
                        <a:pt x="19808" y="95441"/>
                      </a:lnTo>
                      <a:lnTo>
                        <a:pt x="14840" y="100064"/>
                      </a:lnTo>
                      <a:lnTo>
                        <a:pt x="10264" y="105141"/>
                      </a:lnTo>
                      <a:lnTo>
                        <a:pt x="6145" y="110870"/>
                      </a:lnTo>
                      <a:lnTo>
                        <a:pt x="2615" y="117120"/>
                      </a:lnTo>
                      <a:lnTo>
                        <a:pt x="1437" y="112172"/>
                      </a:lnTo>
                      <a:lnTo>
                        <a:pt x="718" y="107485"/>
                      </a:lnTo>
                      <a:lnTo>
                        <a:pt x="0" y="98566"/>
                      </a:lnTo>
                      <a:lnTo>
                        <a:pt x="588" y="90168"/>
                      </a:lnTo>
                      <a:lnTo>
                        <a:pt x="2092" y="82355"/>
                      </a:lnTo>
                      <a:lnTo>
                        <a:pt x="4511" y="75064"/>
                      </a:lnTo>
                      <a:lnTo>
                        <a:pt x="7778" y="68227"/>
                      </a:lnTo>
                      <a:lnTo>
                        <a:pt x="11766" y="61782"/>
                      </a:lnTo>
                      <a:lnTo>
                        <a:pt x="16343" y="55793"/>
                      </a:lnTo>
                      <a:lnTo>
                        <a:pt x="21377" y="50064"/>
                      </a:lnTo>
                      <a:lnTo>
                        <a:pt x="26737" y="44661"/>
                      </a:lnTo>
                      <a:lnTo>
                        <a:pt x="38177" y="34439"/>
                      </a:lnTo>
                      <a:lnTo>
                        <a:pt x="49682" y="24805"/>
                      </a:lnTo>
                      <a:lnTo>
                        <a:pt x="60468" y="15299"/>
                      </a:lnTo>
                      <a:lnTo>
                        <a:pt x="66547" y="16927"/>
                      </a:lnTo>
                      <a:lnTo>
                        <a:pt x="72040" y="19205"/>
                      </a:lnTo>
                      <a:lnTo>
                        <a:pt x="72628" y="22460"/>
                      </a:lnTo>
                      <a:lnTo>
                        <a:pt x="72433" y="25520"/>
                      </a:lnTo>
                      <a:lnTo>
                        <a:pt x="71646" y="28320"/>
                      </a:lnTo>
                      <a:lnTo>
                        <a:pt x="70536" y="30859"/>
                      </a:lnTo>
                      <a:lnTo>
                        <a:pt x="69557" y="33202"/>
                      </a:lnTo>
                      <a:lnTo>
                        <a:pt x="68901" y="35155"/>
                      </a:lnTo>
                      <a:lnTo>
                        <a:pt x="68967" y="36979"/>
                      </a:lnTo>
                      <a:lnTo>
                        <a:pt x="70078" y="38345"/>
                      </a:lnTo>
                      <a:lnTo>
                        <a:pt x="72628" y="34765"/>
                      </a:lnTo>
                      <a:lnTo>
                        <a:pt x="75503" y="31379"/>
                      </a:lnTo>
                      <a:lnTo>
                        <a:pt x="78120" y="27668"/>
                      </a:lnTo>
                      <a:lnTo>
                        <a:pt x="79100" y="25455"/>
                      </a:lnTo>
                      <a:lnTo>
                        <a:pt x="79688" y="23047"/>
                      </a:lnTo>
                      <a:lnTo>
                        <a:pt x="76876" y="19205"/>
                      </a:lnTo>
                      <a:lnTo>
                        <a:pt x="74393" y="14844"/>
                      </a:lnTo>
                      <a:lnTo>
                        <a:pt x="71713" y="10807"/>
                      </a:lnTo>
                      <a:lnTo>
                        <a:pt x="70078" y="9049"/>
                      </a:lnTo>
                      <a:lnTo>
                        <a:pt x="68117" y="7682"/>
                      </a:lnTo>
                      <a:lnTo>
                        <a:pt x="67856" y="6119"/>
                      </a:lnTo>
                      <a:lnTo>
                        <a:pt x="67856" y="4882"/>
                      </a:lnTo>
                      <a:lnTo>
                        <a:pt x="68379" y="3060"/>
                      </a:lnTo>
                      <a:lnTo>
                        <a:pt x="69293" y="1627"/>
                      </a:lnTo>
                      <a:lnTo>
                        <a:pt x="70078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" name="Freeform: Shape 28"/>
                <p:cNvSpPr/>
                <p:nvPr/>
              </p:nvSpPr>
              <p:spPr>
                <a:xfrm rot="10201200">
                  <a:off x="9923760" y="1218600"/>
                  <a:ext cx="47520" cy="9648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54843" h="120766">
                      <a:moveTo>
                        <a:pt x="20133" y="0"/>
                      </a:moveTo>
                      <a:lnTo>
                        <a:pt x="26930" y="9245"/>
                      </a:lnTo>
                      <a:lnTo>
                        <a:pt x="32945" y="18815"/>
                      </a:lnTo>
                      <a:lnTo>
                        <a:pt x="38240" y="28906"/>
                      </a:lnTo>
                      <a:lnTo>
                        <a:pt x="42815" y="39583"/>
                      </a:lnTo>
                      <a:lnTo>
                        <a:pt x="46802" y="50975"/>
                      </a:lnTo>
                      <a:lnTo>
                        <a:pt x="50071" y="63084"/>
                      </a:lnTo>
                      <a:lnTo>
                        <a:pt x="52684" y="76170"/>
                      </a:lnTo>
                      <a:lnTo>
                        <a:pt x="54842" y="90232"/>
                      </a:lnTo>
                      <a:lnTo>
                        <a:pt x="53862" y="93422"/>
                      </a:lnTo>
                      <a:lnTo>
                        <a:pt x="52620" y="96677"/>
                      </a:lnTo>
                      <a:lnTo>
                        <a:pt x="48958" y="103187"/>
                      </a:lnTo>
                      <a:lnTo>
                        <a:pt x="44058" y="109307"/>
                      </a:lnTo>
                      <a:lnTo>
                        <a:pt x="41246" y="112106"/>
                      </a:lnTo>
                      <a:lnTo>
                        <a:pt x="38109" y="114580"/>
                      </a:lnTo>
                      <a:lnTo>
                        <a:pt x="34906" y="116729"/>
                      </a:lnTo>
                      <a:lnTo>
                        <a:pt x="31442" y="118487"/>
                      </a:lnTo>
                      <a:lnTo>
                        <a:pt x="27846" y="119789"/>
                      </a:lnTo>
                      <a:lnTo>
                        <a:pt x="24120" y="120570"/>
                      </a:lnTo>
                      <a:lnTo>
                        <a:pt x="20264" y="120765"/>
                      </a:lnTo>
                      <a:lnTo>
                        <a:pt x="16407" y="120245"/>
                      </a:lnTo>
                      <a:lnTo>
                        <a:pt x="12485" y="119072"/>
                      </a:lnTo>
                      <a:lnTo>
                        <a:pt x="8564" y="117119"/>
                      </a:lnTo>
                      <a:lnTo>
                        <a:pt x="3987" y="110349"/>
                      </a:lnTo>
                      <a:lnTo>
                        <a:pt x="1308" y="103578"/>
                      </a:lnTo>
                      <a:lnTo>
                        <a:pt x="0" y="96742"/>
                      </a:lnTo>
                      <a:lnTo>
                        <a:pt x="64" y="89972"/>
                      </a:lnTo>
                      <a:lnTo>
                        <a:pt x="1178" y="83137"/>
                      </a:lnTo>
                      <a:lnTo>
                        <a:pt x="3138" y="76300"/>
                      </a:lnTo>
                      <a:lnTo>
                        <a:pt x="5687" y="69334"/>
                      </a:lnTo>
                      <a:lnTo>
                        <a:pt x="8694" y="62303"/>
                      </a:lnTo>
                      <a:lnTo>
                        <a:pt x="14970" y="47785"/>
                      </a:lnTo>
                      <a:lnTo>
                        <a:pt x="17780" y="40364"/>
                      </a:lnTo>
                      <a:lnTo>
                        <a:pt x="20198" y="32747"/>
                      </a:lnTo>
                      <a:lnTo>
                        <a:pt x="21766" y="24869"/>
                      </a:lnTo>
                      <a:lnTo>
                        <a:pt x="22486" y="16797"/>
                      </a:lnTo>
                      <a:lnTo>
                        <a:pt x="22028" y="8529"/>
                      </a:lnTo>
                      <a:lnTo>
                        <a:pt x="34775" y="51235"/>
                      </a:lnTo>
                      <a:lnTo>
                        <a:pt x="36409" y="55142"/>
                      </a:lnTo>
                      <a:lnTo>
                        <a:pt x="37781" y="60221"/>
                      </a:lnTo>
                      <a:lnTo>
                        <a:pt x="38892" y="66144"/>
                      </a:lnTo>
                      <a:lnTo>
                        <a:pt x="39481" y="72785"/>
                      </a:lnTo>
                      <a:lnTo>
                        <a:pt x="39415" y="80011"/>
                      </a:lnTo>
                      <a:lnTo>
                        <a:pt x="38632" y="87628"/>
                      </a:lnTo>
                      <a:lnTo>
                        <a:pt x="36998" y="95505"/>
                      </a:lnTo>
                      <a:lnTo>
                        <a:pt x="33336" y="99022"/>
                      </a:lnTo>
                      <a:lnTo>
                        <a:pt x="30395" y="101625"/>
                      </a:lnTo>
                      <a:lnTo>
                        <a:pt x="27912" y="103318"/>
                      </a:lnTo>
                      <a:lnTo>
                        <a:pt x="25885" y="103968"/>
                      </a:lnTo>
                      <a:lnTo>
                        <a:pt x="24120" y="103643"/>
                      </a:lnTo>
                      <a:lnTo>
                        <a:pt x="22617" y="102277"/>
                      </a:lnTo>
                      <a:lnTo>
                        <a:pt x="21114" y="99932"/>
                      </a:lnTo>
                      <a:lnTo>
                        <a:pt x="19610" y="96482"/>
                      </a:lnTo>
                      <a:lnTo>
                        <a:pt x="21049" y="90884"/>
                      </a:lnTo>
                      <a:lnTo>
                        <a:pt x="23009" y="85610"/>
                      </a:lnTo>
                      <a:lnTo>
                        <a:pt x="27584" y="74934"/>
                      </a:lnTo>
                      <a:lnTo>
                        <a:pt x="29742" y="69269"/>
                      </a:lnTo>
                      <a:lnTo>
                        <a:pt x="31506" y="63084"/>
                      </a:lnTo>
                      <a:lnTo>
                        <a:pt x="32748" y="56249"/>
                      </a:lnTo>
                      <a:lnTo>
                        <a:pt x="33141" y="48436"/>
                      </a:lnTo>
                      <a:lnTo>
                        <a:pt x="201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Freeform: Shape 29"/>
                <p:cNvSpPr/>
                <p:nvPr/>
              </p:nvSpPr>
              <p:spPr>
                <a:xfrm rot="10201200">
                  <a:off x="9914760" y="1232280"/>
                  <a:ext cx="36360" cy="7200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3131" h="85806">
                      <a:moveTo>
                        <a:pt x="29080" y="8789"/>
                      </a:moveTo>
                      <a:lnTo>
                        <a:pt x="33588" y="18228"/>
                      </a:lnTo>
                      <a:lnTo>
                        <a:pt x="37575" y="28124"/>
                      </a:lnTo>
                      <a:lnTo>
                        <a:pt x="40776" y="38215"/>
                      </a:lnTo>
                      <a:lnTo>
                        <a:pt x="42737" y="48240"/>
                      </a:lnTo>
                      <a:lnTo>
                        <a:pt x="43130" y="53124"/>
                      </a:lnTo>
                      <a:lnTo>
                        <a:pt x="43065" y="57941"/>
                      </a:lnTo>
                      <a:lnTo>
                        <a:pt x="42542" y="62628"/>
                      </a:lnTo>
                      <a:lnTo>
                        <a:pt x="41431" y="67120"/>
                      </a:lnTo>
                      <a:lnTo>
                        <a:pt x="39731" y="71481"/>
                      </a:lnTo>
                      <a:lnTo>
                        <a:pt x="37380" y="75518"/>
                      </a:lnTo>
                      <a:lnTo>
                        <a:pt x="34700" y="78643"/>
                      </a:lnTo>
                      <a:lnTo>
                        <a:pt x="31106" y="81313"/>
                      </a:lnTo>
                      <a:lnTo>
                        <a:pt x="26988" y="83591"/>
                      </a:lnTo>
                      <a:lnTo>
                        <a:pt x="22478" y="85022"/>
                      </a:lnTo>
                      <a:lnTo>
                        <a:pt x="17970" y="85805"/>
                      </a:lnTo>
                      <a:lnTo>
                        <a:pt x="13592" y="85739"/>
                      </a:lnTo>
                      <a:lnTo>
                        <a:pt x="9671" y="84632"/>
                      </a:lnTo>
                      <a:lnTo>
                        <a:pt x="7971" y="83720"/>
                      </a:lnTo>
                      <a:lnTo>
                        <a:pt x="6402" y="82483"/>
                      </a:lnTo>
                      <a:lnTo>
                        <a:pt x="3266" y="78447"/>
                      </a:lnTo>
                      <a:lnTo>
                        <a:pt x="1240" y="73956"/>
                      </a:lnTo>
                      <a:lnTo>
                        <a:pt x="195" y="69072"/>
                      </a:lnTo>
                      <a:lnTo>
                        <a:pt x="0" y="63865"/>
                      </a:lnTo>
                      <a:lnTo>
                        <a:pt x="587" y="58266"/>
                      </a:lnTo>
                      <a:lnTo>
                        <a:pt x="1830" y="52602"/>
                      </a:lnTo>
                      <a:lnTo>
                        <a:pt x="3593" y="46678"/>
                      </a:lnTo>
                      <a:lnTo>
                        <a:pt x="5815" y="40819"/>
                      </a:lnTo>
                      <a:lnTo>
                        <a:pt x="10977" y="29036"/>
                      </a:lnTo>
                      <a:lnTo>
                        <a:pt x="16468" y="17967"/>
                      </a:lnTo>
                      <a:lnTo>
                        <a:pt x="19015" y="12825"/>
                      </a:lnTo>
                      <a:lnTo>
                        <a:pt x="21304" y="8073"/>
                      </a:lnTo>
                      <a:lnTo>
                        <a:pt x="23198" y="3775"/>
                      </a:lnTo>
                      <a:lnTo>
                        <a:pt x="24570" y="0"/>
                      </a:lnTo>
                      <a:lnTo>
                        <a:pt x="29080" y="8789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Freeform: Shape 30"/>
                <p:cNvSpPr/>
                <p:nvPr/>
              </p:nvSpPr>
              <p:spPr>
                <a:xfrm rot="10201200">
                  <a:off x="9939960" y="1242720"/>
                  <a:ext cx="12600" cy="4140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16479" h="50326">
                      <a:moveTo>
                        <a:pt x="12622" y="5533"/>
                      </a:moveTo>
                      <a:lnTo>
                        <a:pt x="13536" y="10416"/>
                      </a:lnTo>
                      <a:lnTo>
                        <a:pt x="14321" y="14779"/>
                      </a:lnTo>
                      <a:lnTo>
                        <a:pt x="15041" y="18685"/>
                      </a:lnTo>
                      <a:lnTo>
                        <a:pt x="15565" y="22135"/>
                      </a:lnTo>
                      <a:lnTo>
                        <a:pt x="16022" y="25260"/>
                      </a:lnTo>
                      <a:lnTo>
                        <a:pt x="16478" y="30533"/>
                      </a:lnTo>
                      <a:lnTo>
                        <a:pt x="16219" y="-30511"/>
                      </a:lnTo>
                      <a:lnTo>
                        <a:pt x="15237" y="-26409"/>
                      </a:lnTo>
                      <a:lnTo>
                        <a:pt x="13405" y="-22242"/>
                      </a:lnTo>
                      <a:lnTo>
                        <a:pt x="10595" y="-17685"/>
                      </a:lnTo>
                      <a:lnTo>
                        <a:pt x="9613" y="-16513"/>
                      </a:lnTo>
                      <a:lnTo>
                        <a:pt x="8370" y="-15603"/>
                      </a:lnTo>
                      <a:lnTo>
                        <a:pt x="6998" y="-15211"/>
                      </a:lnTo>
                      <a:lnTo>
                        <a:pt x="5819" y="-15536"/>
                      </a:lnTo>
                      <a:lnTo>
                        <a:pt x="3597" y="-17490"/>
                      </a:lnTo>
                      <a:lnTo>
                        <a:pt x="1896" y="-19768"/>
                      </a:lnTo>
                      <a:lnTo>
                        <a:pt x="786" y="-22177"/>
                      </a:lnTo>
                      <a:lnTo>
                        <a:pt x="196" y="-24847"/>
                      </a:lnTo>
                      <a:lnTo>
                        <a:pt x="0" y="-27777"/>
                      </a:lnTo>
                      <a:lnTo>
                        <a:pt x="131" y="-30771"/>
                      </a:lnTo>
                      <a:lnTo>
                        <a:pt x="1439" y="28255"/>
                      </a:lnTo>
                      <a:lnTo>
                        <a:pt x="3662" y="21420"/>
                      </a:lnTo>
                      <a:lnTo>
                        <a:pt x="6343" y="14323"/>
                      </a:lnTo>
                      <a:lnTo>
                        <a:pt x="9156" y="7096"/>
                      </a:lnTo>
                      <a:lnTo>
                        <a:pt x="11640" y="0"/>
                      </a:lnTo>
                      <a:lnTo>
                        <a:pt x="12622" y="55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solidFill>
                    <a:srgbClr val="0000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30" name="Group 35"/>
            <p:cNvGrpSpPr/>
            <p:nvPr/>
          </p:nvGrpSpPr>
          <p:grpSpPr>
            <a:xfrm>
              <a:off x="5727600" y="222120"/>
              <a:ext cx="4075200" cy="1906560"/>
              <a:chOff x="5727600" y="222120"/>
              <a:chExt cx="4075200" cy="1906560"/>
            </a:xfrm>
          </p:grpSpPr>
          <p:sp>
            <p:nvSpPr>
              <p:cNvPr id="231" name="Freeform: Shape 33"/>
              <p:cNvSpPr/>
              <p:nvPr/>
            </p:nvSpPr>
            <p:spPr>
              <a:xfrm flipH="1">
                <a:off x="5727600" y="222120"/>
                <a:ext cx="4075200" cy="1906560"/>
              </a:xfrm>
              <a:custGeom>
                <a:avLst/>
                <a:gdLst>
                  <a:gd name="textAreaLeft" fmla="*/ 360 w 4075200"/>
                  <a:gd name="textAreaRight" fmla="*/ 4075920 w 4075200"/>
                  <a:gd name="textAreaTop" fmla="*/ 0 h 1906560"/>
                  <a:gd name="textAreaBottom" fmla="*/ 1906920 h 1906560"/>
                </a:gdLst>
                <a:ahLst/>
                <a:rect l="textAreaLeft" t="textAreaTop" r="textAreaRight" b="textAreaBottom"/>
                <a:pathLst>
                  <a:path w="4744670" h="2856320">
                    <a:moveTo>
                      <a:pt x="174838" y="550486"/>
                    </a:moveTo>
                    <a:lnTo>
                      <a:pt x="324329" y="435098"/>
                    </a:lnTo>
                    <a:lnTo>
                      <a:pt x="543363" y="326229"/>
                    </a:lnTo>
                    <a:lnTo>
                      <a:pt x="846241" y="214675"/>
                    </a:lnTo>
                    <a:lnTo>
                      <a:pt x="1211515" y="127654"/>
                    </a:lnTo>
                    <a:lnTo>
                      <a:pt x="1546893" y="72836"/>
                    </a:lnTo>
                    <a:lnTo>
                      <a:pt x="1955713" y="25685"/>
                    </a:lnTo>
                    <a:lnTo>
                      <a:pt x="2377534" y="1917"/>
                    </a:lnTo>
                    <a:lnTo>
                      <a:pt x="2715510" y="0"/>
                    </a:lnTo>
                    <a:lnTo>
                      <a:pt x="3150330" y="13800"/>
                    </a:lnTo>
                    <a:lnTo>
                      <a:pt x="3468158" y="53286"/>
                    </a:lnTo>
                    <a:lnTo>
                      <a:pt x="3835382" y="125354"/>
                    </a:lnTo>
                    <a:lnTo>
                      <a:pt x="4201956" y="257610"/>
                    </a:lnTo>
                    <a:lnTo>
                      <a:pt x="4373545" y="349612"/>
                    </a:lnTo>
                    <a:lnTo>
                      <a:pt x="4510036" y="445833"/>
                    </a:lnTo>
                    <a:lnTo>
                      <a:pt x="4618577" y="558153"/>
                    </a:lnTo>
                    <a:lnTo>
                      <a:pt x="4700472" y="686959"/>
                    </a:lnTo>
                    <a:lnTo>
                      <a:pt x="4744669" y="865980"/>
                    </a:lnTo>
                    <a:lnTo>
                      <a:pt x="4732970" y="1012804"/>
                    </a:lnTo>
                    <a:lnTo>
                      <a:pt x="4668623" y="1189142"/>
                    </a:lnTo>
                    <a:lnTo>
                      <a:pt x="4562683" y="1317180"/>
                    </a:lnTo>
                    <a:lnTo>
                      <a:pt x="4431391" y="1427201"/>
                    </a:lnTo>
                    <a:lnTo>
                      <a:pt x="4283851" y="1514987"/>
                    </a:lnTo>
                    <a:lnTo>
                      <a:pt x="4079764" y="1611973"/>
                    </a:lnTo>
                    <a:lnTo>
                      <a:pt x="3826933" y="1677909"/>
                    </a:lnTo>
                    <a:lnTo>
                      <a:pt x="3565002" y="1717011"/>
                    </a:lnTo>
                    <a:lnTo>
                      <a:pt x="3279670" y="1731962"/>
                    </a:lnTo>
                    <a:lnTo>
                      <a:pt x="3288120" y="1889900"/>
                    </a:lnTo>
                    <a:lnTo>
                      <a:pt x="3231575" y="2050522"/>
                    </a:lnTo>
                    <a:lnTo>
                      <a:pt x="3133431" y="2227629"/>
                    </a:lnTo>
                    <a:lnTo>
                      <a:pt x="2996941" y="2378667"/>
                    </a:lnTo>
                    <a:lnTo>
                      <a:pt x="2787006" y="2562291"/>
                    </a:lnTo>
                    <a:lnTo>
                      <a:pt x="2624517" y="2667328"/>
                    </a:lnTo>
                    <a:lnTo>
                      <a:pt x="2425631" y="2767766"/>
                    </a:lnTo>
                    <a:lnTo>
                      <a:pt x="2193597" y="2856319"/>
                    </a:lnTo>
                    <a:lnTo>
                      <a:pt x="2408733" y="2656978"/>
                    </a:lnTo>
                    <a:lnTo>
                      <a:pt x="2648565" y="2396685"/>
                    </a:lnTo>
                    <a:lnTo>
                      <a:pt x="2738259" y="2249864"/>
                    </a:lnTo>
                    <a:lnTo>
                      <a:pt x="2792856" y="2094991"/>
                    </a:lnTo>
                    <a:lnTo>
                      <a:pt x="2799354" y="1967719"/>
                    </a:lnTo>
                    <a:lnTo>
                      <a:pt x="2764906" y="1855399"/>
                    </a:lnTo>
                    <a:lnTo>
                      <a:pt x="2691463" y="1732729"/>
                    </a:lnTo>
                    <a:lnTo>
                      <a:pt x="2202046" y="1719311"/>
                    </a:lnTo>
                    <a:lnTo>
                      <a:pt x="1819873" y="1693244"/>
                    </a:lnTo>
                    <a:lnTo>
                      <a:pt x="1454599" y="1651075"/>
                    </a:lnTo>
                    <a:lnTo>
                      <a:pt x="1197866" y="1606224"/>
                    </a:lnTo>
                    <a:lnTo>
                      <a:pt x="915785" y="1538755"/>
                    </a:lnTo>
                    <a:lnTo>
                      <a:pt x="698701" y="1480486"/>
                    </a:lnTo>
                    <a:lnTo>
                      <a:pt x="458868" y="1381582"/>
                    </a:lnTo>
                    <a:lnTo>
                      <a:pt x="210586" y="1231310"/>
                    </a:lnTo>
                    <a:lnTo>
                      <a:pt x="116342" y="1160774"/>
                    </a:lnTo>
                    <a:lnTo>
                      <a:pt x="47447" y="1082189"/>
                    </a:lnTo>
                    <a:lnTo>
                      <a:pt x="0" y="983285"/>
                    </a:lnTo>
                    <a:lnTo>
                      <a:pt x="4550" y="858697"/>
                    </a:lnTo>
                    <a:lnTo>
                      <a:pt x="16249" y="763244"/>
                    </a:lnTo>
                    <a:lnTo>
                      <a:pt x="84496" y="648623"/>
                    </a:lnTo>
                    <a:lnTo>
                      <a:pt x="174838" y="550486"/>
                    </a:lnTo>
                    <a:close/>
                  </a:path>
                </a:pathLst>
              </a:custGeom>
              <a:solidFill>
                <a:srgbClr val="ffe4e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TextBox 34"/>
              <p:cNvSpPr/>
              <p:nvPr/>
            </p:nvSpPr>
            <p:spPr>
              <a:xfrm>
                <a:off x="6011280" y="431280"/>
                <a:ext cx="339444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Oh, nein! Alles ist durcheinander! </a:t>
                </a:r>
                <a:r>
                  <a:rPr b="1" lang="en-GB" sz="1300" spc="-1" strike="noStrike">
                    <a:solidFill>
                      <a:srgbClr val="000000"/>
                    </a:solidFill>
                    <a:latin typeface="Verdana"/>
                    <a:ea typeface="Verdana"/>
                  </a:rPr>
                  <a:t>Can you help and put Franz Marc's biography back into the correct order? Read it aloud! </a:t>
                </a:r>
                <a:endParaRPr b="0" lang="en-US" sz="13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5E-006 0.14163 L -0.03109 -0.47262 E">
                                      <p:cBhvr>
                                        <p:cTn id="16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6 0.14458 L -0.7461 -0.37161 E">
                                      <p:cBhvr>
                                        <p:cTn id="16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6032 0.13928 L -0.39594 -0.30536 E">
                                      <p:cBhvr>
                                        <p:cTn id="168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14193 L -0.72547 -0.27252 E">
                                      <p:cBhvr>
                                        <p:cTn id="175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437 0.14193 L -0.18063 -0.50884 E">
                                      <p:cBhvr>
                                        <p:cTn id="179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97 0.14164 L -0.20562 -0.23425 E">
                                      <p:cBhvr>
                                        <p:cTn id="18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312 0.12545 L 0.13187 -0.29122 E">
                                      <p:cBhvr>
                                        <p:cTn id="190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5 0.14164 L -0.195 -0.3005 E">
                                      <p:cBhvr>
                                        <p:cTn id="197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875 0.14458 L -0.60813 -0.38074 E">
                                      <p:cBhvr>
                                        <p:cTn id="20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indefinit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85 0.14163 L -0.015 -0.17639 E">
                                      <p:cBhvr>
                                        <p:cTn id="20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813 0.1387 L 0.10766 -0.37647 E">
                                      <p:cBhvr>
                                        <p:cTn id="21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13133 L -0.49187 -0.28269 E">
                                      <p:cBhvr>
                                        <p:cTn id="219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781 0.149 L 0.11234 -0.09806 E">
                                      <p:cBhvr>
                                        <p:cTn id="223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ffff"/>
            </a:gs>
            <a:gs pos="100000">
              <a:srgbClr val="98fb9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8"/>
          <p:cNvSpPr/>
          <p:nvPr/>
        </p:nvSpPr>
        <p:spPr>
          <a:xfrm>
            <a:off x="343080" y="10064880"/>
            <a:ext cx="145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Ko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9"/>
          <p:cNvSpPr/>
          <p:nvPr/>
        </p:nvSpPr>
        <p:spPr>
          <a:xfrm>
            <a:off x="936720" y="9499680"/>
            <a:ext cx="177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Maler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71" descr=""/>
          <p:cNvPicPr/>
          <p:nvPr/>
        </p:nvPicPr>
        <p:blipFill>
          <a:blip r:embed="rId1">
            <a:alphaModFix amt="0"/>
          </a:blip>
          <a:stretch/>
        </p:blipFill>
        <p:spPr>
          <a:xfrm rot="1376400">
            <a:off x="-201240" y="101160"/>
            <a:ext cx="2193840" cy="23860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72"/>
          <p:cNvSpPr/>
          <p:nvPr/>
        </p:nvSpPr>
        <p:spPr>
          <a:xfrm>
            <a:off x="2311560" y="163440"/>
            <a:ext cx="70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Who needs what? Match pictures and job titles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6" descr=""/>
          <p:cNvPicPr/>
          <p:nvPr/>
        </p:nvPicPr>
        <p:blipFill>
          <a:blip r:embed="rId2"/>
          <a:stretch/>
        </p:blipFill>
        <p:spPr>
          <a:xfrm>
            <a:off x="8513640" y="9085320"/>
            <a:ext cx="1597320" cy="1647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6"/>
          <p:cNvSpPr/>
          <p:nvPr/>
        </p:nvSpPr>
        <p:spPr>
          <a:xfrm>
            <a:off x="4282920" y="9425160"/>
            <a:ext cx="284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Polizist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0" descr=""/>
          <p:cNvPicPr/>
          <p:nvPr/>
        </p:nvPicPr>
        <p:blipFill>
          <a:blip r:embed="rId3"/>
          <a:stretch/>
        </p:blipFill>
        <p:spPr>
          <a:xfrm>
            <a:off x="8339040" y="4179960"/>
            <a:ext cx="1648080" cy="1716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7"/>
          <p:cNvSpPr/>
          <p:nvPr/>
        </p:nvSpPr>
        <p:spPr>
          <a:xfrm>
            <a:off x="2085840" y="10012320"/>
            <a:ext cx="526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Krankenpfle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2" descr=""/>
          <p:cNvPicPr/>
          <p:nvPr/>
        </p:nvPicPr>
        <p:blipFill>
          <a:blip r:embed="rId4"/>
          <a:stretch/>
        </p:blipFill>
        <p:spPr>
          <a:xfrm>
            <a:off x="7902720" y="643428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6"/>
          <p:cNvSpPr/>
          <p:nvPr/>
        </p:nvSpPr>
        <p:spPr>
          <a:xfrm>
            <a:off x="2362320" y="9088560"/>
            <a:ext cx="2127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Verdana"/>
                <a:ea typeface="Verdana"/>
              </a:rPr>
              <a:t>Lehrer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7182" descr=""/>
          <p:cNvPicPr/>
          <p:nvPr/>
        </p:nvPicPr>
        <p:blipFill>
          <a:blip r:embed="rId5"/>
          <a:stretch/>
        </p:blipFill>
        <p:spPr>
          <a:xfrm>
            <a:off x="6537240" y="8910720"/>
            <a:ext cx="1827360" cy="178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184" descr=""/>
          <p:cNvPicPr/>
          <p:nvPr/>
        </p:nvPicPr>
        <p:blipFill>
          <a:blip r:embed="rId6"/>
          <a:stretch/>
        </p:blipFill>
        <p:spPr>
          <a:xfrm>
            <a:off x="8634240" y="1182600"/>
            <a:ext cx="14767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8504E-006 L -0.73407 -0.36573 E">
                                      <p:cBhvr>
                                        <p:cTn id="23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3887 L -0.73968 -0.39576 E">
                                      <p:cBhvr>
                                        <p:cTn id="236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959 C -0.01406 0.0134 -0.06203 -0.00309 -0.07922 -0.00309 C -0.18578 -0.00309 -0.29625 0.25206 -0.29625 0.50736 C -0.29625 0.37868 -0.35109 0.25206 -0.40281 0.25206 C -0.45766 0.25206 -0.50937 0.38074 -0.50937 0.50736 C -0.50937 0.4439 -0.53687 0.37868 -0.56422 0.37868 C -0.59172 0.37868 -0.61922 0.44199 -0.61922 0.50736 C -0.61922 0.47453 -0.63328 0.4439 -0.64672 0.4439 C -0.66062 0.4439 -0.67406 0.47659 -0.67406 0.50736 C -0.67406 0.49102 -0.68109 0.47453 -0.68812 0.47453 C -0.69141 0.47453 -0.70219 0.49072 -0.70219 0.50736 C -0.70219 0.49912 -0.70531 0.49102 -0.70906 0.49102 C -0.70906 0.48896 -0.71609 0.49912 -0.71609 0.50736 C -0.71609 0.50309 -0.71609 0.49912 -0.71937 0.49912 C -0.71937 0.50132 -0.7225 0.50339 -0.7225 0.50736 C -0.7225 0.50515 -0.7225 0.50309 -0.7225 0.50132 C -0.72578 0.50132 -0.72578 0.50339 -0.72578 0.50545 C -0.72906 0.50545 -0.72906 0.50339 -0.72906 0.50132 C -0.73219 0.50132 -0.73219 0.50339 -0.73219 0.50545 E">
                                      <p:cBhvr>
                                        <p:cTn id="24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4.93522E-006 L -0.0764 -0.64768 E">
                                      <p:cBhvr>
                                        <p:cTn id="24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12 2.74441E-006 L -0.28813 2.74441E-006 E">
                                      <p:cBhvr>
                                        <p:cTn id="24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41814E-007 L 0.05469 -0.53048 E">
                                      <p:cBhvr>
                                        <p:cTn id="25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94 -3.7338E-006 L -0.15078 -0.37544 E">
                                      <p:cBhvr>
                                        <p:cTn id="25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37 -0.00648 L 0.2386 -0.2313 E">
                                      <p:cBhvr>
                                        <p:cTn id="260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 -0.01295 L 0.68828 -0.64958 E">
                                      <p:cBhvr>
                                        <p:cTn id="26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7 4.1225E-007 L 0.47203 -0.48498 E">
                                      <p:cBhvr>
                                        <p:cTn id="268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ffff"/>
            </a:gs>
            <a:gs pos="100000">
              <a:srgbClr val="98fb9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9"/>
          <p:cNvSpPr/>
          <p:nvPr/>
        </p:nvSpPr>
        <p:spPr>
          <a:xfrm>
            <a:off x="378000" y="2625840"/>
            <a:ext cx="489096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Ich bi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Du bi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Er i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Wir sind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Ihr seid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  <a:ea typeface="Verdana"/>
              </a:rPr>
              <a:t>Sie sind 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71" descr=""/>
          <p:cNvPicPr/>
          <p:nvPr/>
        </p:nvPicPr>
        <p:blipFill>
          <a:blip r:embed="rId1">
            <a:alphaModFix amt="0"/>
          </a:blip>
          <a:stretch/>
        </p:blipFill>
        <p:spPr>
          <a:xfrm rot="1376400">
            <a:off x="-195120" y="76320"/>
            <a:ext cx="2058840" cy="2385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72"/>
          <p:cNvSpPr/>
          <p:nvPr/>
        </p:nvSpPr>
        <p:spPr>
          <a:xfrm>
            <a:off x="2158920" y="192240"/>
            <a:ext cx="82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Verdana"/>
              </a:rPr>
              <a:t>Make sentenc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16" descr=""/>
          <p:cNvPicPr/>
          <p:nvPr/>
        </p:nvPicPr>
        <p:blipFill>
          <a:blip r:embed="rId2"/>
          <a:stretch/>
        </p:blipFill>
        <p:spPr>
          <a:xfrm>
            <a:off x="7365960" y="270000"/>
            <a:ext cx="1289160" cy="1288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8" descr=""/>
          <p:cNvPicPr/>
          <p:nvPr/>
        </p:nvPicPr>
        <p:blipFill>
          <a:blip r:embed="rId3"/>
          <a:stretch/>
        </p:blipFill>
        <p:spPr>
          <a:xfrm>
            <a:off x="8647200" y="7429680"/>
            <a:ext cx="1200240" cy="1239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69" descr=""/>
          <p:cNvPicPr/>
          <p:nvPr/>
        </p:nvPicPr>
        <p:blipFill>
          <a:blip r:embed="rId4"/>
          <a:stretch/>
        </p:blipFill>
        <p:spPr>
          <a:xfrm>
            <a:off x="8513640" y="3598920"/>
            <a:ext cx="1052640" cy="1096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70" descr=""/>
          <p:cNvPicPr/>
          <p:nvPr/>
        </p:nvPicPr>
        <p:blipFill>
          <a:blip r:embed="rId5"/>
          <a:stretch/>
        </p:blipFill>
        <p:spPr>
          <a:xfrm>
            <a:off x="8558280" y="5676840"/>
            <a:ext cx="1515960" cy="1515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71" descr=""/>
          <p:cNvPicPr/>
          <p:nvPr/>
        </p:nvPicPr>
        <p:blipFill>
          <a:blip r:embed="rId6"/>
          <a:stretch/>
        </p:blipFill>
        <p:spPr>
          <a:xfrm>
            <a:off x="8720280" y="9456840"/>
            <a:ext cx="1353960" cy="1325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72" descr=""/>
          <p:cNvPicPr/>
          <p:nvPr/>
        </p:nvPicPr>
        <p:blipFill>
          <a:blip r:embed="rId7"/>
          <a:stretch/>
        </p:blipFill>
        <p:spPr>
          <a:xfrm>
            <a:off x="8913960" y="1228680"/>
            <a:ext cx="9334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62 0.00132 L -0.35843 0.19376 E">
                                      <p:cBhvr>
                                        <p:cTn id="27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2618E-006 4.80047E-006 L -0.45193 -0.54661 E">
                                      <p:cBhvr>
                                        <p:cTn id="278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28 -0.38389 C -0.07519 -0.40849 -0.10489 -0.43322 -0.11536 -0.43322 C -0.18149 -0.43322 -0.24949 -0.04801 -0.24949 0.33706 C -0.24949 0.14283 -0.28325 -0.04801 -0.31561 -0.04801 C -0.34938 -0.04801 -0.38127 0.14607 -0.38127 0.33706 C -0.38127 0.24149 -0.39846 0.14283 -0.41535 0.14283 C -0.43239 0.14283 -0.44927 0.23869 -0.44927 0.33706 C -0.44927 0.28758 -0.45771 0.24149 -0.46615 0.24149 C -0.47475 0.24149 -0.48319 0.29082 -0.48319 0.33706 C -0.48319 0.31262 -0.48757 0.28758 -0.49179 0.28758 C -0.49382 0.28758 -0.50039 0.31217 -0.50039 0.33706 C -0.50039 0.32484 -0.50242 0.31262 -0.50476 0.31262 C -0.50476 0.30952 -0.5093 0.32484 -0.5093 0.33706 C -0.5093 0.33087 -0.5093 0.32484 -0.51117 0.32484 C -0.51117 0.32793 -0.51321 0.33132 -0.51321 0.33706 C -0.51321 0.33397 -0.51321 0.33087 -0.51321 0.32793 C -0.51508 0.32793 -0.51508 0.33132 -0.51508 0.33426 C -0.51711 0.33426 -0.51711 0.33132 -0.51711 0.32793 C -0.51883 0.32793 -0.51883 0.33132 -0.51883 0.33426 E">
                                      <p:cBhvr>
                                        <p:cTn id="28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38 -0.019 L -0.44985 -0.07568 E">
                                      <p:cBhvr>
                                        <p:cTn id="2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4211 L -0.44328 0.40459 E">
                                      <p:cBhvr>
                                        <p:cTn id="29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98671E-006 6.80312E-007 L -0.44958 0.30334 E">
                                      <p:cBhvr>
                                        <p:cTn id="294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1T17:28:30Z</dcterms:created>
  <dc:creator>Vikas</dc:creator>
  <dc:description/>
  <dc:language>en-US</dc:language>
  <cp:lastModifiedBy>Schultz, Roma</cp:lastModifiedBy>
  <dcterms:modified xsi:type="dcterms:W3CDTF">2018-03-09T16:28:09Z</dcterms:modified>
  <cp:revision>75</cp:revision>
  <dc:subject/>
  <dc:title>PowerPoint Presentation</dc:title>
</cp:coreProperties>
</file>